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8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10.png" ContentType="image/pn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8.png" ContentType="image/png"/>
  <Override PartName="/ppt/media/image39.jpeg" ContentType="image/jpeg"/>
  <Override PartName="/ppt/media/image7.png" ContentType="image/png"/>
  <Override PartName="/ppt/media/image37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13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dt" idx="7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Arial Black"/>
              </a:rPr>
              <a:t>Click to move the slide</a:t>
            </a: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 type="sldNum" idx="7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E9F6-A8B0-4027-9856-98561E1920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灯片编号占位符 3"/>
          <p:cNvSpPr/>
          <p:nvPr/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D120-3A60-47C5-A8AF-763D554BD126}" type="slidenum">
              <a:rPr b="0" lang="zh-CN" sz="1200" spc="-1" strike="noStrike">
                <a:solidFill>
                  <a:srgbClr val="5f5f5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BF07D1-989C-4789-9E16-8E4F81C1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3FEC48-A776-4702-BB39-2F140779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CFCACF-8C79-46D6-941E-ABBF0D84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DA41DF-52BF-4828-AACE-FD8D378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D84F9C-3886-4246-9B24-DD92502D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0BF95A-54EB-43F8-AC2E-273CC0A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0EA0FA-1E78-40FB-83F7-97DC9662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D841FD-017A-4408-A761-66BEABD7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9EECD8-71FE-4656-97FB-A373566B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6E71DA-81D7-4C05-8271-870A6535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1FF6F1-5AE4-4784-83F5-E651B82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CC7E9D-BAF6-4518-A81F-72F9CC3B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693649-696B-4021-99D6-91A00B90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9BB491-11E0-4E6E-8777-E5D23DB8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77EDA7-2FB1-40E6-816A-BB0FC011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6C8B77-FA1A-4678-970E-DAB26882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76FFA7-A765-4973-A8FC-BAF2F1DE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130CC0-3952-49EF-B2A1-89B73066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9DB5FD-1365-4323-9AD2-44BE4BE9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65460F-BABF-4532-91F9-7A0D8454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04521A-1422-4141-8F48-00C8E2DD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4AD123-E269-461F-9F5E-5DB2F614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588715-698B-40C4-8E64-C4AE7F0E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9F52EB-99D9-4335-BB42-C5C5EA8E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93BC8B-EB1F-4A01-92E1-82443057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049FF3-6CE8-481C-9267-9FF19BA6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F4AE8B-B2D6-49F2-A713-2591927C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D285FB-5591-4272-A134-77FFE696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078E3B-DA9F-492F-A6A8-80E7DC0C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2B2DA2-4637-4B32-83EE-56423C7B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A72F6-D722-4D14-96C6-41563002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F2BE18-7E69-4993-A656-240453F0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175F0E-18EE-4AFE-8211-2CC12760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82E596-BCBA-4D16-B760-A8918A8C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4AB8FC-12DF-4D87-AC2E-AB6ECD16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3D90D0-5A98-4B2A-BC6C-794A1016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C26F58-BBA9-4672-91D2-884A6100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6944CB-A866-4833-BA05-C6B9CE7A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59223A-705F-4609-8486-87A0C5FD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D98E68-124D-42EB-8238-26F86459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AE392F-0AFA-423B-BA2B-19994B93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1A223-F162-469E-9D08-0CDA79E7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497A1B-EF76-4B0F-B6C1-0883B31A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538886-2A4A-411D-890B-84EBCCF5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B1D88A-9C64-4259-BB2F-CAD57CA1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0633EF-F103-44E5-985C-D7DDDDB0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BC5262-ECD5-44F0-9175-150341B7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8DFDEA-6017-444F-A311-D4355A70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12FAE8-FE96-48F8-8D60-E69919D5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6B60C8-3F7F-4637-AE7B-0259BDD5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79118C-C4E6-476C-86F4-6A54003A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0C3E43-B97B-4FBA-97AA-36A39C8B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320B1-ADE9-436C-BED0-56671713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0ECFBC-030A-4AF3-845F-99DFDDB7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2F8258-66E9-4436-A4B7-33365041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F5D277-4DF8-45F8-9AB9-E5881F4D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9D5278-8F77-4ADE-B069-F017927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4FDAEB-8F3C-4714-AAD6-A7FEE714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AE2BD2-8DB6-4CC1-9A01-6D291BDA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53CB26-1619-4A33-94B5-26C247EA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E0A4E6-D7AD-49E7-B80F-3C404CD8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5DFCFB-099E-46A6-8F05-EEA0E6A5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AAB118-E5A1-4FEA-97CF-4FA343AB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5AA9C-D7D0-453E-97C9-29EAB1E0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4AB022-44D3-4D53-A1B0-E85D83B3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8584C1-2E3F-4455-B32E-81027659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6725DE-C9AC-4C90-A10A-A993050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E73B20-630B-4E1A-B905-41772355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E19B36-04BA-4F4D-A819-90EC8648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A4EB37-CDDD-4003-AB65-E0C36093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79838C-7DB2-4CEF-AD84-E98B664E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B13AC2-6371-4648-A610-89B47166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EE79A1-58A6-48B4-8407-4979A5AE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8A42C-F70D-46A4-B687-0CE1F47044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55F8E-DCCD-4A52-9A48-E2C25777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D050C-518A-4A25-8E40-41C0F257459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9F93F-3044-4384-BDF9-8A3B9AA362C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4E34F-4121-41B3-8682-357F305F76A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87C37-1486-40D2-A8CD-5CF4AA4EF46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3B843-0EB4-4C3A-8DEF-87563904EFF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EB178-39A3-40AB-8BEC-07C8A1B5585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1FFD9-BCE2-4196-9CF4-36A7407FE38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12DAF-7156-4788-A02A-FADD84EFDC7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5276B-F13D-4A46-8F66-611DE75D071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422EA-B089-4E57-A428-0071029091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F1A2B-2EB5-4C33-88D3-8C744959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38B0F-7750-43A6-8C10-FBFCE2A2D99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C6580-EE3F-42B9-86E1-08234C1F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94A43-F163-462C-A43E-462F7EF9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D8588-EEB2-41ED-AEFB-55DA21F9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9CF3F-1443-4E75-8903-8F7B8054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A146F-E786-4038-A8F6-17AD09D8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56C8D-8D7B-4DDF-AC81-DB09EC4B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175F6-4924-43CB-9AA4-7BB8F631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34C2E-80D9-4A87-823B-8DB5AF24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527E2-3B3C-4943-8DFF-F1FC329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C093C-3610-4BCD-84ED-55E33E27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4229C-9E28-4BB4-BEDE-AB2C8231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FCBF2-0043-4AEB-B251-1DEE992F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31435-DBD4-4D67-9850-DF7A8D37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50ECD-0F45-42EF-A51D-6D543C93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6FF52-0623-4055-A0CB-7F1D9CB3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09969-EB1D-4959-B34F-2BE2712C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2B553-CB4C-49C5-BB70-EB6BFE7C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4DCA3-F175-48CF-AED9-B1441D34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55B76-0D1D-446C-A76D-C065C667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527B57-5AC7-4BF7-82FE-F97273DA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42398-1DF2-40C9-B181-8032BB31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88759-CCCC-46E4-BF06-9B87D54C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51E37-A96E-4310-813F-8BA4E847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17649-D390-4A2D-9028-9BD1016D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ED2BD-F278-49B1-B2E5-947DCF59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EB6D3-FF26-48F4-BFC2-E2D9552B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FC53A-D5D7-4EA7-8E77-DA08BF88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58E0D-D09C-4BB2-A14C-010F948A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A68B5C-3A13-456A-98A0-3810F2D8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9CE49-2BEA-44B4-8348-1AE90FD7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E3F8D0-882F-4AAC-AD23-38573268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667BA-C435-41AD-9D54-D674575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1B114-6B76-426C-8C42-F27BD828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1176D-160D-4B07-8B1F-2E3B518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F448C-A19C-4568-9949-78B511EE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36C91-8877-46FD-A2A5-FD945EB0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8495A-7346-4827-AF02-3B73E2E4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206C6-2490-44F2-867A-16A952C2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510D2-EE69-43F5-A265-C44D3AC1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9F88B9-5E9C-4321-A0F1-46DFEFCF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B1EA7-D4DB-4CAE-BDEE-B85A9165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FF706-E280-4287-9EC8-3C1B4B22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398F2-5EC9-4CFF-9F3B-31399581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6C8CC-7CCC-4BBA-BF31-A2B436BD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D0377-C64F-4BF9-A0DD-63C9652B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7FF33-7E68-4706-8D08-BD4ACF2B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27946-DD85-487B-B84E-B822AF0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A98E5-8744-4217-818F-1287749D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7FA407-AE93-471D-8916-16ED2B28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8DAF2-78D8-40F8-A2D2-B8074721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E841B-E048-43EF-8840-D074F919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EC575-C246-4509-B6D2-924FF1A6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E716BD-B5D6-4ACD-ADF1-DCF440A5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918F6-8F6C-4B27-AED2-63BC39A7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A1A194-9875-4AFF-A23A-01790581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1CB08-50D8-42B9-A794-E24806BF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DA69D-F6A8-49D5-926A-908B84BE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299C27-FE49-44DD-9EBF-BEC2C308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C573B6-C3E4-41A7-820F-703B8210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E3E8F-6019-4E65-803F-86E0865B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E4F60-B01F-4E66-8611-8D56D94E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9FE4A7-55F3-4CCB-9BEE-BE713128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99332-ED57-405D-B4F4-A5123323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B98FFA-BDDA-40E2-83F9-D132DAA2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3A648-8463-4109-957D-6FD8009B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CB99D-89CE-4CE4-A239-99327E81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F7236-03E2-48F3-A064-1CA92B1F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A486CA-47FF-4EF6-B62E-F99A73E5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0ED13-A3AB-4844-9E68-B5714D24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61B2EE-89C2-4988-9474-D69152EE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7E2E68-8373-48A2-B3CC-2E8E96A7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01DCCB-D284-4D0A-ADDB-EF46A683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B7BD5E-B84F-4E77-AF19-758D5146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1426BC-C9A7-4F16-9310-B648712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41BAE-4725-47A6-BB20-CE3F9CF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D462A-44CE-4417-8A1E-73E3B3E6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CC114-C4A5-4133-877C-72F8F2A1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325086-CE6D-43A2-8A36-CE51DA78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A51BC-0255-4EEC-9F22-B147CBC3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A00CA-A5D1-4F1A-9641-75601A27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76ADF-07C4-4BE1-AF8E-8BB52986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BC0C9-1D35-4944-8DC0-AA1A80F2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2971F-FEF3-49FD-9345-199B42F4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86E70-EEBA-43F9-BB6E-22C08F34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D149B-5AA7-4ADD-9DDA-C3155DE8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84B58B-9BD3-4A10-83BF-C925D19D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AC698A-FB78-455D-BDF8-65EDD995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00B73C-4B75-4701-B712-F5286F10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9D2286-6908-460B-8704-3EB89D6E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B6C61-88FE-4333-ADA4-B7CE5329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111CB-186A-4FE5-B696-F27B4851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EF4F04-98A8-4071-AC44-ED0EC24C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270F56-FF3E-4571-BB4C-65E10B65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153B98-CD58-4D51-929E-B51F77C9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3E8DE6-A197-49B0-971A-96C43A86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A3EA58-87ED-4368-80AA-54DCDB25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9C08C-FC8A-49B2-835A-5F5022A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60C901-797D-40D6-8CE6-BA84F47A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9333F-C83D-4708-B2D1-AF40A3B8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B31C9F-E492-423D-A154-46D35F5C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4DE33-5F16-474D-B290-2643CFED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2EEEEE-71BB-4EC0-8D9C-A2786F44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BB1E2E-F9BD-4F7E-8208-BCC0BF5B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413E3E-D3A2-4639-977A-BFD8B30B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D54399-FE20-4BF5-850D-E0A03493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506918-256F-4619-B59C-6AE97C99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30EE40-8CE7-48B5-958E-511E953E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BA2CA3-1DF3-4C6D-8381-FC8433E2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CBBC5D-A44A-4C95-887B-93C38CFB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299A6A-B054-46A9-9438-210E727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E47D31-4D8D-43A7-85B3-74A46B34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24A1E4-5486-400F-B5C3-AEBAC683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F2A03D-A072-468F-AFFA-78191DC3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9250CE-D17A-4B01-A52E-C572EDC6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18296D-2237-41D1-A159-10E4A296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CC4174-9CD6-4A87-80E4-F04F2BF1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81267D-2F84-4A49-B8BA-1A5D7D34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D3AD5B-4055-45C7-BDC7-8D4D2EEF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AB0802-07DC-4D88-85B6-A643A424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882F0C-BB4A-4EBB-9E3A-F4F57908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DED612-E8B6-483C-B7FD-1783A51D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679CD4-27F1-4E75-9699-34C28A43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C1B8C2-88C1-4370-A8C5-8EF7FF8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24B115-C638-4380-8824-1913D782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99EF32-2336-4C2B-A156-E4AFE8AE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04FA6E-EE8D-41B6-ABFC-FCBBEC96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273263-F408-49FE-A76F-6D276B08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C94D9E-F9F7-4FEF-9866-BF0C8AF8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E51335-8CE4-4CF2-A565-A33D5DC5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E57463-5DC1-40D7-9EBE-20DC687E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CF5FDE-5B96-4527-81BE-91D1B5BE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A3C2AF-7B1C-4BC5-9A20-81C3E380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781430-80A3-4D74-9637-7DD4589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2D791A-E033-47A9-8AD2-4321FC51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84814B-72B4-4951-BFCE-0FB342D6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7A3130-FB04-4514-B620-4241E98D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D792B2-8E0E-487C-8962-51610D37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CFABD8-BEF6-4336-A756-962CA628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32F0D-AA98-4486-8E1D-8E431784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6871C-E07D-4E00-B367-A55F3A0E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3B669-A98D-48EB-B7C5-FA65E43C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A50F3-AA25-412B-A73F-78826290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C1810-0AAF-4412-8525-993CA204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CA4DB-C8CE-48CB-A051-E5C79FDF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AEDDA-296A-4DFF-8801-571D6781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A5C24-D392-4D6B-B4FA-8F0C2907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2A193-7723-423D-BF12-B11E55C4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8E02B-8A00-495E-9196-7F8F0E97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9B5C1-0165-4C88-BE1D-13DDE037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A7CB6-020D-4A6A-8CA4-DFB5A9A3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CEA9B-21E4-401C-9E6B-55258993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6A56D-0836-495B-BFE0-756E09FD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C3AE5-CE15-42A1-8DE0-438F6594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439B2-9885-4C86-B051-F94C22F5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72756-297C-4CD9-92B6-DA737A90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C4430-55E9-419B-9B37-403B6844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D552A-9B54-4440-BE01-B89629B4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DB951-2D36-4F6F-AD20-EAC31BCE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136CC-E086-44D5-B5D8-4514741F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AFEC4-0F39-4028-8E78-BD54AFC3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3C042-782C-4757-975F-F6BC002E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0A4DB-4024-4ADD-9D8E-5AFF4AF2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C2645-4DD3-4567-8627-0BD14FDB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4E94A-FA2B-47BA-8EF7-0F6787A7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BFDEC-2538-4EFB-82F9-957B6EAE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998EB-45D2-45D9-9B75-33BF9972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6CFD0-3A77-4E4E-9DC9-5C19EE13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ACF9C-3E13-4463-8636-74633321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1805D-5BBE-48FF-9175-079F7D2E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9499C-E1C1-4E35-94CC-27844823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6DB45-8234-4959-9AEB-29FB2DF4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9E1DB-AD44-425A-BB89-D2BF4376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8A98F-0C53-4B99-994F-622154F0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5BAED-1AFF-4419-8D9C-EF7E3B30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799BD-EC6A-4B42-9E23-222C1563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22B73-9C40-4B8D-8004-28BE4E09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CC9E7-C543-4E4B-AF8F-9452B8EC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4DC63-5AD0-4242-BE85-E0E2A07C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45812-B7B1-4E01-B70B-BB6A8533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81270-72A5-4138-BF04-38E52469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C8406-F906-461A-AC20-78E57019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19F18-603D-47AB-A13E-BFF9247A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89FFD-31C2-44E6-BB6A-3133DFEF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E083B-F9A5-42AD-9C3D-C70A3C8F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422F2-0908-4607-B4AA-01F5D4AC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B5D23-DC89-4C8F-B448-7FF0450B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57D8F-63C6-471F-B6C3-0A546404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F9020-096B-4F11-8489-95FB6AB8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F3902-FEA0-4619-AFDA-E380E02E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55952-866D-4D6A-A528-8E74178D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6C0DF-5828-4A42-87A9-E3C8BD4F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BFCF2-B49F-416F-8052-EDACBDE0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CDD15-C857-450D-9641-55CBC81D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ECB05D-021E-4785-A508-245BD1B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70E95-F6D0-45A8-BD9B-8CB5091F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E7244-838E-43B2-9E59-A871AC6B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0E064-0A5A-4CD1-9B1E-24032ED5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952B7-6F2B-4C42-B701-C4DE3E69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6D3C9C-17EC-49EB-A598-64F237C2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0AAE8-D8D9-43EB-84E1-2044AE7A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DAD38A-970E-487E-997C-7AE42771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6C7C-9E2E-4394-969B-168834636003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8614-495C-47EA-8525-E53F9E7DEC83}" type="datetime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F259-FD01-47E9-83CB-5EB48EAEEDEA}" type="slidenum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3BF3-108A-4CEF-800E-2AB662F90D80}" type="datetime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F529-F0BA-4945-AD46-988C40BC3618}" type="slidenum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F018-48B7-4CD7-98ED-2E6CCFEE32C2}" type="datetime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6F4-4CBD-4F5C-AA0F-7B6E4CF5A144}" type="slidenum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1A23-8AAF-4676-94FC-8F997F638470}" type="datetime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F49D-D474-48BE-BBC7-FAF194270D44}" type="slidenum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9161-ABD2-40E0-BA4E-AF7D407D21E3}" type="datetime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DC69-0287-4839-87EB-2EB9947A5F79}" type="slidenum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sldNum" idx="39"/>
          </p:nvPr>
        </p:nvSpPr>
        <p:spPr>
          <a:xfrm>
            <a:off x="8664120" y="6716520"/>
            <a:ext cx="142920" cy="1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B1CA-8533-41A7-B221-C29ACC160CB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03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04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05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06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07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08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F0A5-DC9E-4AC3-A14B-7C2458FB08B2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42"/>
          </p:nvPr>
        </p:nvSpPr>
        <p:spPr>
          <a:xfrm>
            <a:off x="6227280" y="6064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4DD5-CFB4-4B71-A7AB-9C1A3130AA0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49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50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51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52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53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54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D959-B198-4A3E-B6EA-B0C264390B77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Num" idx="45"/>
          </p:nvPr>
        </p:nvSpPr>
        <p:spPr>
          <a:xfrm>
            <a:off x="6227280" y="6064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83F7-BF3D-4FA5-A485-07959A27A72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96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97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98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99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00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841D-A8BF-4D79-878F-151924C1820D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48"/>
          </p:nvPr>
        </p:nvSpPr>
        <p:spPr>
          <a:xfrm>
            <a:off x="6227280" y="6064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56C9-1404-4598-BDF0-886D9716EC7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41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42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43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44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45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46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ABF-9CF3-46B1-8833-F487F10ACFA6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51"/>
          </p:nvPr>
        </p:nvSpPr>
        <p:spPr>
          <a:xfrm>
            <a:off x="6227280" y="6064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0E28-5421-4D94-B14A-1C04EBDC258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9"/>
          <p:cNvGrpSpPr/>
          <p:nvPr/>
        </p:nvGrpSpPr>
        <p:grpSpPr>
          <a:xfrm>
            <a:off x="0" y="2039760"/>
            <a:ext cx="9144000" cy="4826160"/>
            <a:chOff x="0" y="2039760"/>
            <a:chExt cx="9144000" cy="4826160"/>
          </a:xfrm>
        </p:grpSpPr>
        <p:pic>
          <p:nvPicPr>
            <p:cNvPr id="46" name="图片 10" descr=""/>
            <p:cNvPicPr/>
            <p:nvPr/>
          </p:nvPicPr>
          <p:blipFill>
            <a:blip r:embed="rId2"/>
            <a:srcRect l="0" t="49655" r="0" b="0"/>
            <a:stretch/>
          </p:blipFill>
          <p:spPr>
            <a:xfrm>
              <a:off x="0" y="2222280"/>
              <a:ext cx="9144000" cy="46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矩形 17"/>
            <p:cNvSpPr/>
            <p:nvPr/>
          </p:nvSpPr>
          <p:spPr>
            <a:xfrm>
              <a:off x="0" y="2039760"/>
              <a:ext cx="9144000" cy="48261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FC15-E435-482E-8B77-E3CA2AD0B1CB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753C-46D6-4D1A-AAC5-3B647A7AF3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87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88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89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90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91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92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43CB-1668-4A06-BEE0-4779682F9B1C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sldNum" idx="54"/>
          </p:nvPr>
        </p:nvSpPr>
        <p:spPr>
          <a:xfrm>
            <a:off x="6227280" y="6064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C4AF-E81E-482F-9C11-194549F6FFB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33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34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35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36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37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38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EA19-9D90-45B4-939C-50AAE9AC80B3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Num" idx="57"/>
          </p:nvPr>
        </p:nvSpPr>
        <p:spPr>
          <a:xfrm>
            <a:off x="6227280" y="6064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663C-3BCA-4769-8927-C5A4E54B0EF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79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80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81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82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83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84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1811-A5B6-4C84-910F-D0581D7575AA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sldNum" idx="60"/>
          </p:nvPr>
        </p:nvSpPr>
        <p:spPr>
          <a:xfrm>
            <a:off x="6227280" y="6064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534A-2463-497B-97F4-EDB4379D095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Arial Black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0890d0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90d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890d0"/>
              </a:solidFill>
              <a:latin typeface="Arial"/>
            </a:endParaRPr>
          </a:p>
          <a:p>
            <a:pPr lvl="1" marL="357120" indent="-357120">
              <a:lnSpc>
                <a:spcPct val="130000"/>
              </a:lnSpc>
              <a:spcAft>
                <a:spcPts val="601"/>
              </a:spcAft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27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28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29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30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31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32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DADD-9B90-4B7F-81DE-596BF43FF20F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sldNum" idx="63"/>
          </p:nvPr>
        </p:nvSpPr>
        <p:spPr>
          <a:xfrm>
            <a:off x="6227280" y="6064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57FA-F5CB-443F-BFCE-7A40C40DD42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3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4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5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6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7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8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0D45-8E54-4BB0-8CF9-82ED35D54342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sldNum" idx="66"/>
          </p:nvPr>
        </p:nvSpPr>
        <p:spPr>
          <a:xfrm>
            <a:off x="6227280" y="6064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2A0A-EE5C-4142-9093-1FF3C1D6986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19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20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21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22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23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24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EB5E-01D6-4F2D-BE5E-F35DC01BB7AF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69"/>
          </p:nvPr>
        </p:nvSpPr>
        <p:spPr>
          <a:xfrm>
            <a:off x="6227280" y="6064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214F-7B1C-49B9-9F9A-193A6A2CA9C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65" name="矩形 6"/>
          <p:cNvSpPr/>
          <p:nvPr/>
        </p:nvSpPr>
        <p:spPr>
          <a:xfrm>
            <a:off x="0" y="-33480"/>
            <a:ext cx="9144000" cy="635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66" name="直接连接符 2"/>
          <p:cNvSpPr/>
          <p:nvPr/>
        </p:nvSpPr>
        <p:spPr>
          <a:xfrm>
            <a:off x="4959360" y="544680"/>
            <a:ext cx="41767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67" name="矩形 9"/>
          <p:cNvSpPr/>
          <p:nvPr/>
        </p:nvSpPr>
        <p:spPr>
          <a:xfrm>
            <a:off x="7477920" y="64562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7a7a7"/>
                </a:solidFill>
                <a:latin typeface="Calibri Light"/>
                <a:ea typeface="BatangChe"/>
              </a:rPr>
              <a:t>LOGO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68" name="直接连接符 10"/>
          <p:cNvSpPr/>
          <p:nvPr/>
        </p:nvSpPr>
        <p:spPr>
          <a:xfrm>
            <a:off x="8285040" y="6534000"/>
            <a:ext cx="0" cy="10800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69" name="椭圆 3"/>
          <p:cNvSpPr/>
          <p:nvPr/>
        </p:nvSpPr>
        <p:spPr>
          <a:xfrm flipH="1" flipV="1" rot="16200000">
            <a:off x="-300600" y="287280"/>
            <a:ext cx="2114640" cy="1533240"/>
          </a:xfrm>
          <a:prstGeom prst="rtTriangle">
            <a:avLst/>
          </a:prstGeom>
          <a:solidFill>
            <a:srgbClr val="bf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70" name="文本框 1"/>
          <p:cNvSpPr/>
          <p:nvPr/>
        </p:nvSpPr>
        <p:spPr>
          <a:xfrm>
            <a:off x="76320" y="3240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8CEB-6A62-42B5-BD04-B421B802C292}" type="datetime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sldNum" idx="72"/>
          </p:nvPr>
        </p:nvSpPr>
        <p:spPr>
          <a:xfrm>
            <a:off x="6227280" y="6064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3FBD-2EAE-4E07-ACDC-42B68DE65075}" type="slidenum">
              <a:rPr b="0" lang="zh-CN" sz="2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7602-37D1-4889-8397-10AB9F254B4C}" type="datetime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19D8-2F56-4F54-A014-F881868FD62F}" type="slidenum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8849-9F3D-4AE5-874A-49D6BA22D5E6}" type="datetime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989E-58F0-4F89-BAD3-A02E10DCB186}" type="slidenum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AFDB-C598-427D-94F0-9C139F7FC0E6}" type="datetime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331C-AEEA-487D-80DE-B3DF283B27DA}" type="slidenum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9579-165B-4F7A-9036-F421CF80BE3C}" type="datetime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C774-9CB3-4006-B835-A116468C1172}" type="slidenum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C5DF-1EB3-4B83-9EF2-CB2E6291E862}" type="datetime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A686-45F0-4DC9-9C22-746FCD650B22}" type="slidenum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1" descr=""/>
          <p:cNvPicPr/>
          <p:nvPr/>
        </p:nvPicPr>
        <p:blipFill>
          <a:blip r:embed="rId2"/>
          <a:srcRect l="52798" t="0" r="0" b="0"/>
          <a:stretch/>
        </p:blipFill>
        <p:spPr>
          <a:xfrm>
            <a:off x="7953480" y="189000"/>
            <a:ext cx="852480" cy="3636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19A8-37E4-450A-A4E3-BECF10E82CC4}" type="datetime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2DFA-60B7-4BAB-BEB6-98BC221FD3ED}" type="slidenum">
              <a:rPr b="0" lang="zh-CN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2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17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pic>
        <p:nvPicPr>
          <p:cNvPr id="1118" name="图片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14880"/>
          </a:xfrm>
          <a:prstGeom prst="rect">
            <a:avLst/>
          </a:prstGeom>
          <a:ln w="0">
            <a:noFill/>
          </a:ln>
        </p:spPr>
      </p:pic>
      <p:sp>
        <p:nvSpPr>
          <p:cNvPr id="1119" name="圆角矩形 3"/>
          <p:cNvSpPr/>
          <p:nvPr/>
        </p:nvSpPr>
        <p:spPr>
          <a:xfrm>
            <a:off x="1582560" y="4311720"/>
            <a:ext cx="6031080" cy="81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20" name="KSO_Shape"/>
          <p:cNvSpPr/>
          <p:nvPr/>
        </p:nvSpPr>
        <p:spPr>
          <a:xfrm rot="5400000">
            <a:off x="7076520" y="4532400"/>
            <a:ext cx="428760" cy="438120"/>
          </a:xfrm>
          <a:custGeom>
            <a:avLst/>
            <a:gdLst>
              <a:gd name="textAreaLeft" fmla="*/ 0 w 428760"/>
              <a:gd name="textAreaRight" fmla="*/ 429120 w 4287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05200" h="413075">
                <a:moveTo>
                  <a:pt x="150612" y="52389"/>
                </a:moveTo>
                <a:cubicBezTo>
                  <a:pt x="96365" y="52389"/>
                  <a:pt x="52389" y="96365"/>
                  <a:pt x="52389" y="150612"/>
                </a:cubicBezTo>
                <a:cubicBezTo>
                  <a:pt x="52389" y="204860"/>
                  <a:pt x="96365" y="248836"/>
                  <a:pt x="150612" y="248836"/>
                </a:cubicBezTo>
                <a:cubicBezTo>
                  <a:pt x="204860" y="248836"/>
                  <a:pt x="248836" y="204860"/>
                  <a:pt x="248836" y="150612"/>
                </a:cubicBezTo>
                <a:cubicBezTo>
                  <a:pt x="248836" y="96365"/>
                  <a:pt x="204860" y="52389"/>
                  <a:pt x="150612" y="52389"/>
                </a:cubicBezTo>
                <a:close/>
                <a:moveTo>
                  <a:pt x="150612" y="0"/>
                </a:moveTo>
                <a:cubicBezTo>
                  <a:pt x="233793" y="0"/>
                  <a:pt x="301225" y="67431"/>
                  <a:pt x="301225" y="150612"/>
                </a:cubicBezTo>
                <a:cubicBezTo>
                  <a:pt x="301225" y="180842"/>
                  <a:pt x="292319" y="208992"/>
                  <a:pt x="276789" y="232452"/>
                </a:cubicBezTo>
                <a:cubicBezTo>
                  <a:pt x="277931" y="232774"/>
                  <a:pt x="278722" y="233519"/>
                  <a:pt x="279486" y="234307"/>
                </a:cubicBezTo>
                <a:lnTo>
                  <a:pt x="395404" y="354065"/>
                </a:lnTo>
                <a:cubicBezTo>
                  <a:pt x="408773" y="367877"/>
                  <a:pt x="408414" y="389911"/>
                  <a:pt x="394603" y="403280"/>
                </a:cubicBezTo>
                <a:cubicBezTo>
                  <a:pt x="380791" y="416648"/>
                  <a:pt x="358757" y="416289"/>
                  <a:pt x="345389" y="402478"/>
                </a:cubicBezTo>
                <a:lnTo>
                  <a:pt x="229470" y="282720"/>
                </a:lnTo>
                <a:lnTo>
                  <a:pt x="227420" y="279520"/>
                </a:lnTo>
                <a:cubicBezTo>
                  <a:pt x="205163" y="293486"/>
                  <a:pt x="178791" y="301225"/>
                  <a:pt x="150612" y="301225"/>
                </a:cubicBezTo>
                <a:cubicBezTo>
                  <a:pt x="67431" y="301225"/>
                  <a:pt x="0" y="233793"/>
                  <a:pt x="0" y="150612"/>
                </a:cubicBezTo>
                <a:cubicBezTo>
                  <a:pt x="0" y="67431"/>
                  <a:pt x="67431" y="0"/>
                  <a:pt x="150612" y="0"/>
                </a:cubicBezTo>
                <a:close/>
              </a:path>
            </a:pathLst>
          </a:custGeom>
          <a:solidFill>
            <a:srgbClr val="454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21" name="矩形 5"/>
          <p:cNvSpPr/>
          <p:nvPr/>
        </p:nvSpPr>
        <p:spPr>
          <a:xfrm>
            <a:off x="1924560" y="4373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54749"/>
                </a:solidFill>
                <a:latin typeface="Arial"/>
                <a:ea typeface="微软雅黑"/>
              </a:rPr>
              <a:t>商务卧床通用</a:t>
            </a:r>
            <a:r>
              <a:rPr b="1" lang="en-US" sz="4000" spc="-1" strike="noStrike">
                <a:solidFill>
                  <a:srgbClr val="454749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454749"/>
                </a:solidFill>
                <a:latin typeface="Arial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22" name="KSO_Shape"/>
          <p:cNvSpPr/>
          <p:nvPr/>
        </p:nvSpPr>
        <p:spPr>
          <a:xfrm>
            <a:off x="7072200" y="5261040"/>
            <a:ext cx="168480" cy="249120"/>
          </a:xfrm>
          <a:custGeom>
            <a:avLst/>
            <a:gdLst>
              <a:gd name="textAreaLeft" fmla="*/ 0 w 168480"/>
              <a:gd name="textAreaRight" fmla="*/ 168840 w 1684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662152" h="977462">
                <a:moveTo>
                  <a:pt x="252248" y="583324"/>
                </a:moveTo>
                <a:lnTo>
                  <a:pt x="63062" y="835573"/>
                </a:lnTo>
                <a:lnTo>
                  <a:pt x="0" y="0"/>
                </a:lnTo>
                <a:lnTo>
                  <a:pt x="662152" y="472966"/>
                </a:lnTo>
                <a:lnTo>
                  <a:pt x="362607" y="520262"/>
                </a:lnTo>
                <a:lnTo>
                  <a:pt x="583324" y="898635"/>
                </a:lnTo>
                <a:lnTo>
                  <a:pt x="441434" y="977462"/>
                </a:lnTo>
                <a:lnTo>
                  <a:pt x="252248" y="5833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454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23" name="矩形 14"/>
          <p:cNvSpPr/>
          <p:nvPr/>
        </p:nvSpPr>
        <p:spPr>
          <a:xfrm>
            <a:off x="2997360" y="5216400"/>
            <a:ext cx="34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24" name="文本框 45"/>
          <p:cNvSpPr/>
          <p:nvPr/>
        </p:nvSpPr>
        <p:spPr>
          <a:xfrm>
            <a:off x="5105520" y="3994200"/>
            <a:ext cx="26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alibri"/>
                <a:ea typeface="微软雅黑"/>
              </a:rPr>
              <a:t>ENTER YUOR CONTENT HERE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25" name="矩形 14"/>
          <p:cNvSpPr/>
          <p:nvPr/>
        </p:nvSpPr>
        <p:spPr>
          <a:xfrm>
            <a:off x="3060360" y="5913360"/>
            <a:ext cx="31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26" name="矩形 15"/>
          <p:cNvSpPr/>
          <p:nvPr/>
        </p:nvSpPr>
        <p:spPr>
          <a:xfrm>
            <a:off x="4006800" y="6254640"/>
            <a:ext cx="16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fbfbf"/>
                </a:solidFill>
                <a:latin typeface="Arial"/>
                <a:ea typeface="宋体"/>
              </a:rPr>
              <a:t>ENTER YUOR CONTENT HERE</a:t>
            </a:r>
            <a:endParaRPr b="0" lang="en-US" sz="7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2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直接连接符 16"/>
          <p:cNvSpPr/>
          <p:nvPr/>
        </p:nvSpPr>
        <p:spPr>
          <a:xfrm>
            <a:off x="4621320" y="2701800"/>
            <a:ext cx="2495520" cy="0"/>
          </a:xfrm>
          <a:prstGeom prst="line">
            <a:avLst/>
          </a:prstGeom>
          <a:ln w="12600">
            <a:solidFill>
              <a:srgbClr val="4aa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72" name="直接连接符 6"/>
          <p:cNvSpPr/>
          <p:nvPr/>
        </p:nvSpPr>
        <p:spPr>
          <a:xfrm flipH="1">
            <a:off x="2052720" y="3846600"/>
            <a:ext cx="2411280" cy="0"/>
          </a:xfrm>
          <a:prstGeom prst="line">
            <a:avLst/>
          </a:prstGeom>
          <a:ln w="12600">
            <a:solidFill>
              <a:srgbClr val="4aa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73" name="直接连接符 21"/>
          <p:cNvSpPr/>
          <p:nvPr/>
        </p:nvSpPr>
        <p:spPr>
          <a:xfrm>
            <a:off x="4621320" y="4995720"/>
            <a:ext cx="2495520" cy="0"/>
          </a:xfrm>
          <a:prstGeom prst="line">
            <a:avLst/>
          </a:prstGeom>
          <a:ln w="12600">
            <a:solidFill>
              <a:srgbClr val="4aa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74" name="椭圆 90"/>
          <p:cNvSpPr/>
          <p:nvPr/>
        </p:nvSpPr>
        <p:spPr>
          <a:xfrm>
            <a:off x="4743360" y="1487520"/>
            <a:ext cx="1365480" cy="1365120"/>
          </a:xfrm>
          <a:prstGeom prst="ellipse">
            <a:avLst/>
          </a:prstGeom>
          <a:solidFill>
            <a:srgbClr val="0890d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75" name="AutoShape 14"/>
          <p:cNvSpPr/>
          <p:nvPr/>
        </p:nvSpPr>
        <p:spPr>
          <a:xfrm>
            <a:off x="4281480" y="1890720"/>
            <a:ext cx="511200" cy="408636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890d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76" name="椭圆 101"/>
          <p:cNvSpPr/>
          <p:nvPr/>
        </p:nvSpPr>
        <p:spPr>
          <a:xfrm>
            <a:off x="4464000" y="2619360"/>
            <a:ext cx="176400" cy="177840"/>
          </a:xfrm>
          <a:prstGeom prst="ellipse">
            <a:avLst/>
          </a:prstGeom>
          <a:solidFill>
            <a:srgbClr val="4ba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77" name="椭圆 102"/>
          <p:cNvSpPr/>
          <p:nvPr/>
        </p:nvSpPr>
        <p:spPr>
          <a:xfrm flipH="1">
            <a:off x="4444920" y="3759120"/>
            <a:ext cx="176400" cy="176400"/>
          </a:xfrm>
          <a:prstGeom prst="ellipse">
            <a:avLst/>
          </a:prstGeom>
          <a:solidFill>
            <a:srgbClr val="4ba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78" name="椭圆 104"/>
          <p:cNvSpPr/>
          <p:nvPr/>
        </p:nvSpPr>
        <p:spPr>
          <a:xfrm>
            <a:off x="4464000" y="4915080"/>
            <a:ext cx="176400" cy="176040"/>
          </a:xfrm>
          <a:prstGeom prst="ellipse">
            <a:avLst/>
          </a:prstGeom>
          <a:solidFill>
            <a:srgbClr val="4ba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79" name="任意多边形 33"/>
          <p:cNvSpPr/>
          <p:nvPr/>
        </p:nvSpPr>
        <p:spPr>
          <a:xfrm>
            <a:off x="7095960" y="2378160"/>
            <a:ext cx="817560" cy="711000"/>
          </a:xfrm>
          <a:prstGeom prst="pie">
            <a:avLst/>
          </a:prstGeom>
          <a:noFill/>
          <a:ln w="12600">
            <a:solidFill>
              <a:srgbClr val="4aa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aac4"/>
                </a:solidFill>
                <a:latin typeface="Arial"/>
                <a:ea typeface="微软雅黑"/>
              </a:rPr>
              <a:t>A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80" name="任意多边形 34"/>
          <p:cNvSpPr/>
          <p:nvPr/>
        </p:nvSpPr>
        <p:spPr>
          <a:xfrm>
            <a:off x="7095960" y="4672080"/>
            <a:ext cx="817560" cy="711000"/>
          </a:xfrm>
          <a:prstGeom prst="pie">
            <a:avLst/>
          </a:prstGeom>
          <a:noFill/>
          <a:ln w="12600">
            <a:solidFill>
              <a:srgbClr val="4aa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aac4"/>
                </a:solidFill>
                <a:latin typeface="Arial"/>
                <a:ea typeface="微软雅黑"/>
              </a:rPr>
              <a:t>C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81" name="任意多边形 35"/>
          <p:cNvSpPr/>
          <p:nvPr/>
        </p:nvSpPr>
        <p:spPr>
          <a:xfrm>
            <a:off x="1246320" y="3513240"/>
            <a:ext cx="817560" cy="709560"/>
          </a:xfrm>
          <a:prstGeom prst="pie">
            <a:avLst/>
          </a:prstGeom>
          <a:noFill/>
          <a:ln w="12600">
            <a:solidFill>
              <a:srgbClr val="4aa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aac4"/>
                </a:solidFill>
                <a:latin typeface="Arial"/>
                <a:ea typeface="微软雅黑"/>
              </a:rPr>
              <a:t>B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282" name="图片 109" descr=""/>
          <p:cNvPicPr/>
          <p:nvPr/>
        </p:nvPicPr>
        <p:blipFill>
          <a:blip r:embed="rId1"/>
          <a:srcRect l="0" t="0" r="13041" b="0"/>
          <a:stretch/>
        </p:blipFill>
        <p:spPr>
          <a:xfrm>
            <a:off x="4797360" y="1666800"/>
            <a:ext cx="1257480" cy="816120"/>
          </a:xfrm>
          <a:prstGeom prst="rect">
            <a:avLst/>
          </a:prstGeom>
          <a:ln w="0">
            <a:noFill/>
          </a:ln>
        </p:spPr>
      </p:pic>
      <p:pic>
        <p:nvPicPr>
          <p:cNvPr id="1283" name="Picture 5" descr="效果正面"/>
          <p:cNvPicPr/>
          <p:nvPr/>
        </p:nvPicPr>
        <p:blipFill>
          <a:blip r:embed="rId2"/>
          <a:stretch/>
        </p:blipFill>
        <p:spPr>
          <a:xfrm>
            <a:off x="4821120" y="1695600"/>
            <a:ext cx="768600" cy="961920"/>
          </a:xfrm>
          <a:prstGeom prst="rect">
            <a:avLst/>
          </a:prstGeom>
          <a:ln w="0">
            <a:noFill/>
          </a:ln>
        </p:spPr>
      </p:pic>
      <p:sp>
        <p:nvSpPr>
          <p:cNvPr id="1284" name="椭圆 90"/>
          <p:cNvSpPr/>
          <p:nvPr/>
        </p:nvSpPr>
        <p:spPr>
          <a:xfrm>
            <a:off x="2678040" y="2685960"/>
            <a:ext cx="1365480" cy="1365480"/>
          </a:xfrm>
          <a:prstGeom prst="ellipse">
            <a:avLst/>
          </a:prstGeom>
          <a:solidFill>
            <a:srgbClr val="0890d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285" name="图片 1" descr=""/>
          <p:cNvPicPr/>
          <p:nvPr/>
        </p:nvPicPr>
        <p:blipFill>
          <a:blip r:embed="rId3"/>
          <a:stretch/>
        </p:blipFill>
        <p:spPr>
          <a:xfrm>
            <a:off x="2900520" y="2928960"/>
            <a:ext cx="811080" cy="878040"/>
          </a:xfrm>
          <a:prstGeom prst="rect">
            <a:avLst/>
          </a:prstGeom>
          <a:ln w="0">
            <a:noFill/>
          </a:ln>
        </p:spPr>
      </p:pic>
      <p:sp>
        <p:nvSpPr>
          <p:cNvPr id="1286" name="椭圆 91"/>
          <p:cNvSpPr/>
          <p:nvPr/>
        </p:nvSpPr>
        <p:spPr>
          <a:xfrm>
            <a:off x="4743360" y="3933720"/>
            <a:ext cx="1328760" cy="1330560"/>
          </a:xfrm>
          <a:prstGeom prst="ellipse">
            <a:avLst/>
          </a:prstGeom>
          <a:solidFill>
            <a:srgbClr val="0890d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287" name="图片 114" descr=""/>
          <p:cNvPicPr/>
          <p:nvPr/>
        </p:nvPicPr>
        <p:blipFill>
          <a:blip r:embed="rId4"/>
          <a:stretch/>
        </p:blipFill>
        <p:spPr>
          <a:xfrm>
            <a:off x="4973760" y="4302000"/>
            <a:ext cx="868320" cy="673200"/>
          </a:xfrm>
          <a:prstGeom prst="rect">
            <a:avLst/>
          </a:prstGeom>
          <a:ln w="0">
            <a:noFill/>
          </a:ln>
        </p:spPr>
      </p:pic>
      <p:sp>
        <p:nvSpPr>
          <p:cNvPr id="1288" name="矩形 116"/>
          <p:cNvSpPr/>
          <p:nvPr/>
        </p:nvSpPr>
        <p:spPr>
          <a:xfrm>
            <a:off x="1127160" y="430200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89" name="矩形 22"/>
          <p:cNvSpPr/>
          <p:nvPr/>
        </p:nvSpPr>
        <p:spPr>
          <a:xfrm>
            <a:off x="1635120" y="105732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90" name="文本框 23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91" name="矩形 116"/>
          <p:cNvSpPr/>
          <p:nvPr/>
        </p:nvSpPr>
        <p:spPr>
          <a:xfrm>
            <a:off x="4973760" y="3186000"/>
            <a:ext cx="31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92" name="矩形 116"/>
          <p:cNvSpPr/>
          <p:nvPr/>
        </p:nvSpPr>
        <p:spPr>
          <a:xfrm>
            <a:off x="4973760" y="5562720"/>
            <a:ext cx="31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Freeform 5"/>
          <p:cNvSpPr/>
          <p:nvPr/>
        </p:nvSpPr>
        <p:spPr>
          <a:xfrm>
            <a:off x="2954160" y="1144440"/>
            <a:ext cx="5186520" cy="5443560"/>
          </a:xfrm>
          <a:custGeom>
            <a:avLst/>
            <a:gdLst>
              <a:gd name="textAreaLeft" fmla="*/ 0 w 5186520"/>
              <a:gd name="textAreaRight" fmla="*/ 5186520 w 5186520"/>
              <a:gd name="textAreaTop" fmla="*/ 0 h 5443560"/>
              <a:gd name="textAreaBottom" fmla="*/ 5443920 h 5443560"/>
            </a:gdLst>
            <a:ahLst/>
            <a:rect l="textAreaLeft" t="textAreaTop" r="textAreaRight" b="textAreaBottom"/>
            <a:pathLst>
              <a:path w="5814" h="6100">
                <a:moveTo>
                  <a:pt x="5086" y="1698"/>
                </a:moveTo>
                <a:cubicBezTo>
                  <a:pt x="4853" y="1280"/>
                  <a:pt x="4525" y="949"/>
                  <a:pt x="4144" y="715"/>
                </a:cubicBezTo>
                <a:cubicBezTo>
                  <a:pt x="4144" y="715"/>
                  <a:pt x="4143" y="714"/>
                  <a:pt x="4143" y="714"/>
                </a:cubicBezTo>
                <a:cubicBezTo>
                  <a:pt x="4109" y="694"/>
                  <a:pt x="4076" y="674"/>
                  <a:pt x="4042" y="655"/>
                </a:cubicBezTo>
                <a:cubicBezTo>
                  <a:pt x="4040" y="654"/>
                  <a:pt x="4038" y="653"/>
                  <a:pt x="4037" y="652"/>
                </a:cubicBezTo>
                <a:cubicBezTo>
                  <a:pt x="4029" y="648"/>
                  <a:pt x="4021" y="644"/>
                  <a:pt x="4014" y="640"/>
                </a:cubicBezTo>
                <a:cubicBezTo>
                  <a:pt x="4012" y="639"/>
                  <a:pt x="4011" y="638"/>
                  <a:pt x="4010" y="638"/>
                </a:cubicBezTo>
                <a:cubicBezTo>
                  <a:pt x="3986" y="625"/>
                  <a:pt x="3961" y="612"/>
                  <a:pt x="3937" y="600"/>
                </a:cubicBezTo>
                <a:cubicBezTo>
                  <a:pt x="3935" y="599"/>
                  <a:pt x="3932" y="597"/>
                  <a:pt x="3930" y="596"/>
                </a:cubicBezTo>
                <a:cubicBezTo>
                  <a:pt x="3923" y="593"/>
                  <a:pt x="3916" y="589"/>
                  <a:pt x="3909" y="586"/>
                </a:cubicBezTo>
                <a:cubicBezTo>
                  <a:pt x="3906" y="584"/>
                  <a:pt x="3903" y="583"/>
                  <a:pt x="3900" y="582"/>
                </a:cubicBezTo>
                <a:cubicBezTo>
                  <a:pt x="3893" y="578"/>
                  <a:pt x="3885" y="575"/>
                  <a:pt x="3878" y="571"/>
                </a:cubicBezTo>
                <a:cubicBezTo>
                  <a:pt x="3877" y="571"/>
                  <a:pt x="3875" y="570"/>
                  <a:pt x="3873" y="569"/>
                </a:cubicBezTo>
                <a:cubicBezTo>
                  <a:pt x="3859" y="562"/>
                  <a:pt x="3845" y="556"/>
                  <a:pt x="3830" y="549"/>
                </a:cubicBezTo>
                <a:cubicBezTo>
                  <a:pt x="3827" y="548"/>
                  <a:pt x="3824" y="547"/>
                  <a:pt x="3821" y="546"/>
                </a:cubicBezTo>
                <a:cubicBezTo>
                  <a:pt x="3815" y="543"/>
                  <a:pt x="3808" y="540"/>
                  <a:pt x="3802" y="537"/>
                </a:cubicBezTo>
                <a:cubicBezTo>
                  <a:pt x="3798" y="535"/>
                  <a:pt x="3794" y="534"/>
                  <a:pt x="3790" y="532"/>
                </a:cubicBezTo>
                <a:cubicBezTo>
                  <a:pt x="3784" y="529"/>
                  <a:pt x="3777" y="526"/>
                  <a:pt x="3771" y="524"/>
                </a:cubicBezTo>
                <a:cubicBezTo>
                  <a:pt x="3767" y="522"/>
                  <a:pt x="3762" y="520"/>
                  <a:pt x="3758" y="519"/>
                </a:cubicBezTo>
                <a:cubicBezTo>
                  <a:pt x="3747" y="514"/>
                  <a:pt x="3736" y="509"/>
                  <a:pt x="3725" y="505"/>
                </a:cubicBezTo>
                <a:cubicBezTo>
                  <a:pt x="3720" y="503"/>
                  <a:pt x="3716" y="501"/>
                  <a:pt x="3711" y="500"/>
                </a:cubicBezTo>
                <a:cubicBezTo>
                  <a:pt x="3706" y="497"/>
                  <a:pt x="3700" y="495"/>
                  <a:pt x="3694" y="493"/>
                </a:cubicBezTo>
                <a:cubicBezTo>
                  <a:pt x="3689" y="491"/>
                  <a:pt x="3684" y="489"/>
                  <a:pt x="3679" y="487"/>
                </a:cubicBezTo>
                <a:cubicBezTo>
                  <a:pt x="3673" y="485"/>
                  <a:pt x="3667" y="483"/>
                  <a:pt x="3662" y="481"/>
                </a:cubicBezTo>
                <a:cubicBezTo>
                  <a:pt x="3656" y="479"/>
                  <a:pt x="3651" y="477"/>
                  <a:pt x="3646" y="475"/>
                </a:cubicBezTo>
                <a:cubicBezTo>
                  <a:pt x="3640" y="473"/>
                  <a:pt x="3635" y="471"/>
                  <a:pt x="3629" y="469"/>
                </a:cubicBezTo>
                <a:cubicBezTo>
                  <a:pt x="3623" y="467"/>
                  <a:pt x="3616" y="465"/>
                  <a:pt x="3609" y="462"/>
                </a:cubicBezTo>
                <a:cubicBezTo>
                  <a:pt x="3602" y="460"/>
                  <a:pt x="3595" y="457"/>
                  <a:pt x="3587" y="455"/>
                </a:cubicBezTo>
                <a:cubicBezTo>
                  <a:pt x="3580" y="453"/>
                  <a:pt x="3574" y="450"/>
                  <a:pt x="3567" y="448"/>
                </a:cubicBezTo>
                <a:cubicBezTo>
                  <a:pt x="3562" y="446"/>
                  <a:pt x="3557" y="445"/>
                  <a:pt x="3552" y="443"/>
                </a:cubicBezTo>
                <a:cubicBezTo>
                  <a:pt x="3545" y="441"/>
                  <a:pt x="3539" y="439"/>
                  <a:pt x="3533" y="437"/>
                </a:cubicBezTo>
                <a:cubicBezTo>
                  <a:pt x="3528" y="436"/>
                  <a:pt x="3523" y="434"/>
                  <a:pt x="3518" y="433"/>
                </a:cubicBezTo>
                <a:cubicBezTo>
                  <a:pt x="3511" y="431"/>
                  <a:pt x="3504" y="429"/>
                  <a:pt x="3497" y="426"/>
                </a:cubicBezTo>
                <a:cubicBezTo>
                  <a:pt x="3493" y="425"/>
                  <a:pt x="3489" y="424"/>
                  <a:pt x="3485" y="423"/>
                </a:cubicBezTo>
                <a:cubicBezTo>
                  <a:pt x="3474" y="420"/>
                  <a:pt x="3464" y="417"/>
                  <a:pt x="3453" y="414"/>
                </a:cubicBezTo>
                <a:cubicBezTo>
                  <a:pt x="3449" y="413"/>
                  <a:pt x="3445" y="412"/>
                  <a:pt x="3441" y="410"/>
                </a:cubicBezTo>
                <a:cubicBezTo>
                  <a:pt x="3434" y="408"/>
                  <a:pt x="3427" y="406"/>
                  <a:pt x="3419" y="404"/>
                </a:cubicBezTo>
                <a:cubicBezTo>
                  <a:pt x="3415" y="403"/>
                  <a:pt x="3410" y="402"/>
                  <a:pt x="3406" y="401"/>
                </a:cubicBezTo>
                <a:cubicBezTo>
                  <a:pt x="3398" y="399"/>
                  <a:pt x="3391" y="397"/>
                  <a:pt x="3384" y="395"/>
                </a:cubicBezTo>
                <a:cubicBezTo>
                  <a:pt x="3380" y="394"/>
                  <a:pt x="3376" y="393"/>
                  <a:pt x="3371" y="392"/>
                </a:cubicBezTo>
                <a:cubicBezTo>
                  <a:pt x="3361" y="390"/>
                  <a:pt x="3351" y="387"/>
                  <a:pt x="3341" y="385"/>
                </a:cubicBezTo>
                <a:cubicBezTo>
                  <a:pt x="3339" y="384"/>
                  <a:pt x="3337" y="384"/>
                  <a:pt x="3334" y="384"/>
                </a:cubicBezTo>
                <a:cubicBezTo>
                  <a:pt x="3324" y="381"/>
                  <a:pt x="3314" y="379"/>
                  <a:pt x="3304" y="377"/>
                </a:cubicBezTo>
                <a:cubicBezTo>
                  <a:pt x="3300" y="376"/>
                  <a:pt x="3296" y="375"/>
                  <a:pt x="3292" y="374"/>
                </a:cubicBezTo>
                <a:cubicBezTo>
                  <a:pt x="3285" y="373"/>
                  <a:pt x="3277" y="371"/>
                  <a:pt x="3269" y="369"/>
                </a:cubicBezTo>
                <a:cubicBezTo>
                  <a:pt x="3265" y="368"/>
                  <a:pt x="3261" y="368"/>
                  <a:pt x="3257" y="367"/>
                </a:cubicBezTo>
                <a:cubicBezTo>
                  <a:pt x="3248" y="365"/>
                  <a:pt x="3240" y="363"/>
                  <a:pt x="3231" y="362"/>
                </a:cubicBezTo>
                <a:cubicBezTo>
                  <a:pt x="3228" y="361"/>
                  <a:pt x="3225" y="361"/>
                  <a:pt x="3222" y="360"/>
                </a:cubicBezTo>
                <a:cubicBezTo>
                  <a:pt x="3214" y="358"/>
                  <a:pt x="3205" y="357"/>
                  <a:pt x="3196" y="355"/>
                </a:cubicBezTo>
                <a:cubicBezTo>
                  <a:pt x="3195" y="25"/>
                  <a:pt x="3195" y="25"/>
                  <a:pt x="3195" y="25"/>
                </a:cubicBezTo>
                <a:cubicBezTo>
                  <a:pt x="3195" y="0"/>
                  <a:pt x="3195" y="0"/>
                  <a:pt x="3195" y="0"/>
                </a:cubicBezTo>
                <a:cubicBezTo>
                  <a:pt x="3177" y="17"/>
                  <a:pt x="3177" y="17"/>
                  <a:pt x="3177" y="17"/>
                </a:cubicBezTo>
                <a:cubicBezTo>
                  <a:pt x="2924" y="263"/>
                  <a:pt x="2924" y="263"/>
                  <a:pt x="2924" y="263"/>
                </a:cubicBezTo>
                <a:cubicBezTo>
                  <a:pt x="1986" y="1167"/>
                  <a:pt x="1986" y="1167"/>
                  <a:pt x="1986" y="1167"/>
                </a:cubicBezTo>
                <a:cubicBezTo>
                  <a:pt x="2921" y="2061"/>
                  <a:pt x="2921" y="2061"/>
                  <a:pt x="2921" y="2061"/>
                </a:cubicBezTo>
                <a:cubicBezTo>
                  <a:pt x="3181" y="2312"/>
                  <a:pt x="3181" y="2312"/>
                  <a:pt x="3181" y="2312"/>
                </a:cubicBezTo>
                <a:cubicBezTo>
                  <a:pt x="3199" y="2329"/>
                  <a:pt x="3199" y="2329"/>
                  <a:pt x="3199" y="2329"/>
                </a:cubicBezTo>
                <a:cubicBezTo>
                  <a:pt x="3199" y="2304"/>
                  <a:pt x="3199" y="2304"/>
                  <a:pt x="3199" y="2304"/>
                </a:cubicBezTo>
                <a:cubicBezTo>
                  <a:pt x="3199" y="2080"/>
                  <a:pt x="3199" y="2080"/>
                  <a:pt x="3199" y="2080"/>
                </a:cubicBezTo>
                <a:cubicBezTo>
                  <a:pt x="3380" y="2170"/>
                  <a:pt x="3536" y="2314"/>
                  <a:pt x="3643" y="2504"/>
                </a:cubicBezTo>
                <a:cubicBezTo>
                  <a:pt x="3659" y="2534"/>
                  <a:pt x="3674" y="2564"/>
                  <a:pt x="3688" y="2595"/>
                </a:cubicBezTo>
                <a:cubicBezTo>
                  <a:pt x="3688" y="2595"/>
                  <a:pt x="3688" y="2595"/>
                  <a:pt x="3688" y="2595"/>
                </a:cubicBezTo>
                <a:cubicBezTo>
                  <a:pt x="3902" y="3083"/>
                  <a:pt x="3715" y="3664"/>
                  <a:pt x="3239" y="3929"/>
                </a:cubicBezTo>
                <a:cubicBezTo>
                  <a:pt x="2768" y="4192"/>
                  <a:pt x="2182" y="4053"/>
                  <a:pt x="1876" y="3623"/>
                </a:cubicBezTo>
                <a:cubicBezTo>
                  <a:pt x="1876" y="3623"/>
                  <a:pt x="1876" y="3623"/>
                  <a:pt x="1876" y="3623"/>
                </a:cubicBezTo>
                <a:cubicBezTo>
                  <a:pt x="1854" y="3592"/>
                  <a:pt x="1833" y="3560"/>
                  <a:pt x="1814" y="3526"/>
                </a:cubicBezTo>
                <a:cubicBezTo>
                  <a:pt x="1688" y="3300"/>
                  <a:pt x="1655" y="3047"/>
                  <a:pt x="1701" y="2812"/>
                </a:cubicBezTo>
                <a:cubicBezTo>
                  <a:pt x="1642" y="2850"/>
                  <a:pt x="1572" y="2872"/>
                  <a:pt x="1497" y="2872"/>
                </a:cubicBezTo>
                <a:cubicBezTo>
                  <a:pt x="1453" y="2872"/>
                  <a:pt x="1453" y="2872"/>
                  <a:pt x="1453" y="2872"/>
                </a:cubicBezTo>
                <a:cubicBezTo>
                  <a:pt x="1445" y="2933"/>
                  <a:pt x="1392" y="2981"/>
                  <a:pt x="1329" y="2981"/>
                </a:cubicBezTo>
                <a:cubicBezTo>
                  <a:pt x="362" y="2981"/>
                  <a:pt x="362" y="2981"/>
                  <a:pt x="362" y="2981"/>
                </a:cubicBezTo>
                <a:cubicBezTo>
                  <a:pt x="298" y="2981"/>
                  <a:pt x="246" y="2933"/>
                  <a:pt x="238" y="2872"/>
                </a:cubicBezTo>
                <a:cubicBezTo>
                  <a:pt x="191" y="2872"/>
                  <a:pt x="191" y="2872"/>
                  <a:pt x="191" y="2872"/>
                </a:cubicBezTo>
                <a:cubicBezTo>
                  <a:pt x="135" y="2872"/>
                  <a:pt x="82" y="2860"/>
                  <a:pt x="34" y="2838"/>
                </a:cubicBezTo>
                <a:cubicBezTo>
                  <a:pt x="0" y="3341"/>
                  <a:pt x="107" y="3859"/>
                  <a:pt x="371" y="4332"/>
                </a:cubicBezTo>
                <a:cubicBezTo>
                  <a:pt x="1098" y="5634"/>
                  <a:pt x="2743" y="6100"/>
                  <a:pt x="4046" y="5373"/>
                </a:cubicBezTo>
                <a:cubicBezTo>
                  <a:pt x="5348" y="4645"/>
                  <a:pt x="5814" y="3000"/>
                  <a:pt x="5086" y="1698"/>
                </a:cubicBezTo>
              </a:path>
            </a:pathLst>
          </a:custGeom>
          <a:solidFill>
            <a:srgbClr val="008b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294" name="组合 141"/>
          <p:cNvGrpSpPr/>
          <p:nvPr/>
        </p:nvGrpSpPr>
        <p:grpSpPr>
          <a:xfrm>
            <a:off x="3535200" y="2139840"/>
            <a:ext cx="271800" cy="274680"/>
            <a:chOff x="3535200" y="2139840"/>
            <a:chExt cx="271800" cy="274680"/>
          </a:xfrm>
        </p:grpSpPr>
        <p:sp>
          <p:nvSpPr>
            <p:cNvPr id="1295" name="Freeform 20"/>
            <p:cNvSpPr/>
            <p:nvPr/>
          </p:nvSpPr>
          <p:spPr>
            <a:xfrm>
              <a:off x="3535200" y="2139840"/>
              <a:ext cx="164160" cy="1432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84" h="160">
                  <a:moveTo>
                    <a:pt x="96" y="155"/>
                  </a:moveTo>
                  <a:cubicBezTo>
                    <a:pt x="81" y="149"/>
                    <a:pt x="71" y="140"/>
                    <a:pt x="64" y="129"/>
                  </a:cubicBezTo>
                  <a:cubicBezTo>
                    <a:pt x="73" y="131"/>
                    <a:pt x="83" y="133"/>
                    <a:pt x="93" y="133"/>
                  </a:cubicBezTo>
                  <a:cubicBezTo>
                    <a:pt x="143" y="133"/>
                    <a:pt x="184" y="103"/>
                    <a:pt x="184" y="66"/>
                  </a:cubicBezTo>
                  <a:cubicBezTo>
                    <a:pt x="184" y="30"/>
                    <a:pt x="143" y="0"/>
                    <a:pt x="93" y="0"/>
                  </a:cubicBezTo>
                  <a:cubicBezTo>
                    <a:pt x="44" y="0"/>
                    <a:pt x="0" y="27"/>
                    <a:pt x="0" y="68"/>
                  </a:cubicBezTo>
                  <a:cubicBezTo>
                    <a:pt x="0" y="117"/>
                    <a:pt x="54" y="160"/>
                    <a:pt x="96" y="155"/>
                  </a:cubicBez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296" name="Freeform 21"/>
            <p:cNvSpPr/>
            <p:nvPr/>
          </p:nvSpPr>
          <p:spPr>
            <a:xfrm>
              <a:off x="3647520" y="2194200"/>
              <a:ext cx="110880" cy="1137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24" h="126">
                  <a:moveTo>
                    <a:pt x="0" y="81"/>
                  </a:moveTo>
                  <a:cubicBezTo>
                    <a:pt x="8" y="107"/>
                    <a:pt x="32" y="126"/>
                    <a:pt x="61" y="126"/>
                  </a:cubicBezTo>
                  <a:cubicBezTo>
                    <a:pt x="96" y="126"/>
                    <a:pt x="124" y="97"/>
                    <a:pt x="124" y="62"/>
                  </a:cubicBezTo>
                  <a:cubicBezTo>
                    <a:pt x="124" y="31"/>
                    <a:pt x="101" y="5"/>
                    <a:pt x="71" y="0"/>
                  </a:cubicBezTo>
                  <a:cubicBezTo>
                    <a:pt x="72" y="1"/>
                    <a:pt x="72" y="3"/>
                    <a:pt x="72" y="5"/>
                  </a:cubicBezTo>
                  <a:cubicBezTo>
                    <a:pt x="72" y="41"/>
                    <a:pt x="42" y="71"/>
                    <a:pt x="0" y="81"/>
                  </a:cubicBez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297" name="Freeform 22"/>
            <p:cNvSpPr/>
            <p:nvPr/>
          </p:nvSpPr>
          <p:spPr>
            <a:xfrm>
              <a:off x="3596400" y="2300760"/>
              <a:ext cx="210600" cy="113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36" h="128">
                  <a:moveTo>
                    <a:pt x="181" y="0"/>
                  </a:moveTo>
                  <a:cubicBezTo>
                    <a:pt x="166" y="18"/>
                    <a:pt x="143" y="29"/>
                    <a:pt x="118" y="29"/>
                  </a:cubicBezTo>
                  <a:cubicBezTo>
                    <a:pt x="92" y="29"/>
                    <a:pt x="70" y="18"/>
                    <a:pt x="54" y="0"/>
                  </a:cubicBezTo>
                  <a:cubicBezTo>
                    <a:pt x="21" y="21"/>
                    <a:pt x="0" y="58"/>
                    <a:pt x="0" y="100"/>
                  </a:cubicBezTo>
                  <a:cubicBezTo>
                    <a:pt x="0" y="109"/>
                    <a:pt x="1" y="119"/>
                    <a:pt x="3" y="128"/>
                  </a:cubicBezTo>
                  <a:cubicBezTo>
                    <a:pt x="232" y="128"/>
                    <a:pt x="232" y="128"/>
                    <a:pt x="232" y="128"/>
                  </a:cubicBezTo>
                  <a:cubicBezTo>
                    <a:pt x="234" y="119"/>
                    <a:pt x="236" y="109"/>
                    <a:pt x="236" y="100"/>
                  </a:cubicBezTo>
                  <a:cubicBezTo>
                    <a:pt x="236" y="58"/>
                    <a:pt x="214" y="21"/>
                    <a:pt x="181" y="0"/>
                  </a:cubicBez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298" name="文本框 87"/>
          <p:cNvSpPr/>
          <p:nvPr/>
        </p:nvSpPr>
        <p:spPr>
          <a:xfrm>
            <a:off x="2819520" y="2449440"/>
            <a:ext cx="18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体验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99" name="矩形 8"/>
          <p:cNvSpPr/>
          <p:nvPr/>
        </p:nvSpPr>
        <p:spPr>
          <a:xfrm>
            <a:off x="725400" y="1270080"/>
            <a:ext cx="44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00" name="文本框 9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301" name="椭圆 10"/>
          <p:cNvGrpSpPr/>
          <p:nvPr/>
        </p:nvGrpSpPr>
        <p:grpSpPr>
          <a:xfrm>
            <a:off x="5578560" y="4773600"/>
            <a:ext cx="1120680" cy="1127160"/>
            <a:chOff x="5578560" y="4773600"/>
            <a:chExt cx="1120680" cy="1127160"/>
          </a:xfrm>
        </p:grpSpPr>
        <p:pic>
          <p:nvPicPr>
            <p:cNvPr id="1302" name="椭圆 10" descr=""/>
            <p:cNvPicPr/>
            <p:nvPr/>
          </p:nvPicPr>
          <p:blipFill>
            <a:blip r:embed="rId1"/>
            <a:stretch/>
          </p:blipFill>
          <p:spPr>
            <a:xfrm>
              <a:off x="5578560" y="4773600"/>
              <a:ext cx="11206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>
              <a:off x="5742000" y="4940280"/>
              <a:ext cx="79524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304" name="椭圆 11"/>
          <p:cNvGrpSpPr/>
          <p:nvPr/>
        </p:nvGrpSpPr>
        <p:grpSpPr>
          <a:xfrm>
            <a:off x="4260960" y="4870440"/>
            <a:ext cx="1122120" cy="1122480"/>
            <a:chOff x="4260960" y="4870440"/>
            <a:chExt cx="1122120" cy="1122480"/>
          </a:xfrm>
        </p:grpSpPr>
        <p:pic>
          <p:nvPicPr>
            <p:cNvPr id="1305" name="椭圆 11" descr=""/>
            <p:cNvPicPr/>
            <p:nvPr/>
          </p:nvPicPr>
          <p:blipFill>
            <a:blip r:embed="rId2"/>
            <a:stretch/>
          </p:blipFill>
          <p:spPr>
            <a:xfrm>
              <a:off x="4260960" y="4870440"/>
              <a:ext cx="11221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6" name=""/>
            <p:cNvSpPr/>
            <p:nvPr/>
          </p:nvSpPr>
          <p:spPr>
            <a:xfrm>
              <a:off x="4424400" y="5035680"/>
              <a:ext cx="7952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307" name="椭圆 12"/>
          <p:cNvGrpSpPr/>
          <p:nvPr/>
        </p:nvGrpSpPr>
        <p:grpSpPr>
          <a:xfrm>
            <a:off x="3286080" y="3992400"/>
            <a:ext cx="1127160" cy="1122480"/>
            <a:chOff x="3286080" y="3992400"/>
            <a:chExt cx="1127160" cy="1122480"/>
          </a:xfrm>
        </p:grpSpPr>
        <p:pic>
          <p:nvPicPr>
            <p:cNvPr id="1308" name="椭圆 12" descr=""/>
            <p:cNvPicPr/>
            <p:nvPr/>
          </p:nvPicPr>
          <p:blipFill>
            <a:blip r:embed="rId3"/>
            <a:stretch/>
          </p:blipFill>
          <p:spPr>
            <a:xfrm>
              <a:off x="3286080" y="3992400"/>
              <a:ext cx="11271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3452760" y="4157640"/>
              <a:ext cx="7952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310" name="椭圆 13"/>
          <p:cNvGrpSpPr/>
          <p:nvPr/>
        </p:nvGrpSpPr>
        <p:grpSpPr>
          <a:xfrm>
            <a:off x="6437160" y="3797280"/>
            <a:ext cx="1122480" cy="1122480"/>
            <a:chOff x="6437160" y="3797280"/>
            <a:chExt cx="1122480" cy="1122480"/>
          </a:xfrm>
        </p:grpSpPr>
        <p:pic>
          <p:nvPicPr>
            <p:cNvPr id="1311" name="椭圆 13" descr=""/>
            <p:cNvPicPr/>
            <p:nvPr/>
          </p:nvPicPr>
          <p:blipFill>
            <a:blip r:embed="rId4"/>
            <a:stretch/>
          </p:blipFill>
          <p:spPr>
            <a:xfrm>
              <a:off x="6437160" y="3797280"/>
              <a:ext cx="11224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6599160" y="3960720"/>
              <a:ext cx="79524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313" name="椭圆 14"/>
          <p:cNvGrpSpPr/>
          <p:nvPr/>
        </p:nvGrpSpPr>
        <p:grpSpPr>
          <a:xfrm>
            <a:off x="6297480" y="2505240"/>
            <a:ext cx="1127160" cy="1122120"/>
            <a:chOff x="6297480" y="2505240"/>
            <a:chExt cx="1127160" cy="1122120"/>
          </a:xfrm>
        </p:grpSpPr>
        <p:pic>
          <p:nvPicPr>
            <p:cNvPr id="1314" name="椭圆 14" descr=""/>
            <p:cNvPicPr/>
            <p:nvPr/>
          </p:nvPicPr>
          <p:blipFill>
            <a:blip r:embed="rId5"/>
            <a:stretch/>
          </p:blipFill>
          <p:spPr>
            <a:xfrm>
              <a:off x="6297480" y="2505240"/>
              <a:ext cx="112716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5" name=""/>
            <p:cNvSpPr/>
            <p:nvPr/>
          </p:nvSpPr>
          <p:spPr>
            <a:xfrm>
              <a:off x="6462720" y="2666880"/>
              <a:ext cx="79524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316" name="Freeform 6"/>
          <p:cNvSpPr/>
          <p:nvPr/>
        </p:nvSpPr>
        <p:spPr>
          <a:xfrm>
            <a:off x="2817720" y="2006640"/>
            <a:ext cx="1766880" cy="169236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1979" h="1898">
                <a:moveTo>
                  <a:pt x="1643" y="0"/>
                </a:moveTo>
                <a:cubicBezTo>
                  <a:pt x="337" y="0"/>
                  <a:pt x="337" y="0"/>
                  <a:pt x="337" y="0"/>
                </a:cubicBezTo>
                <a:cubicBezTo>
                  <a:pt x="151" y="0"/>
                  <a:pt x="0" y="151"/>
                  <a:pt x="0" y="338"/>
                </a:cubicBezTo>
                <a:cubicBezTo>
                  <a:pt x="0" y="1560"/>
                  <a:pt x="0" y="1560"/>
                  <a:pt x="0" y="1560"/>
                </a:cubicBezTo>
                <a:cubicBezTo>
                  <a:pt x="0" y="1746"/>
                  <a:pt x="151" y="1898"/>
                  <a:pt x="337" y="1898"/>
                </a:cubicBezTo>
                <a:cubicBezTo>
                  <a:pt x="371" y="1898"/>
                  <a:pt x="371" y="1898"/>
                  <a:pt x="371" y="1898"/>
                </a:cubicBezTo>
                <a:cubicBezTo>
                  <a:pt x="371" y="1737"/>
                  <a:pt x="371" y="1737"/>
                  <a:pt x="371" y="1737"/>
                </a:cubicBezTo>
                <a:cubicBezTo>
                  <a:pt x="371" y="1664"/>
                  <a:pt x="430" y="1605"/>
                  <a:pt x="503" y="1605"/>
                </a:cubicBezTo>
                <a:cubicBezTo>
                  <a:pt x="1470" y="1605"/>
                  <a:pt x="1470" y="1605"/>
                  <a:pt x="1470" y="1605"/>
                </a:cubicBezTo>
                <a:cubicBezTo>
                  <a:pt x="1543" y="1605"/>
                  <a:pt x="1603" y="1664"/>
                  <a:pt x="1603" y="1737"/>
                </a:cubicBezTo>
                <a:cubicBezTo>
                  <a:pt x="1603" y="1898"/>
                  <a:pt x="1603" y="1898"/>
                  <a:pt x="1603" y="1898"/>
                </a:cubicBezTo>
                <a:cubicBezTo>
                  <a:pt x="1643" y="1898"/>
                  <a:pt x="1643" y="1898"/>
                  <a:pt x="1643" y="1898"/>
                </a:cubicBezTo>
                <a:cubicBezTo>
                  <a:pt x="1828" y="1898"/>
                  <a:pt x="1979" y="1746"/>
                  <a:pt x="1979" y="1560"/>
                </a:cubicBezTo>
                <a:cubicBezTo>
                  <a:pt x="1979" y="338"/>
                  <a:pt x="1979" y="338"/>
                  <a:pt x="1979" y="338"/>
                </a:cubicBezTo>
                <a:cubicBezTo>
                  <a:pt x="1979" y="151"/>
                  <a:pt x="1828" y="0"/>
                  <a:pt x="1643" y="0"/>
                </a:cubicBezTo>
              </a:path>
            </a:pathLst>
          </a:custGeom>
          <a:solidFill>
            <a:srgbClr val="008b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317" name="组合 140"/>
          <p:cNvGrpSpPr/>
          <p:nvPr/>
        </p:nvGrpSpPr>
        <p:grpSpPr>
          <a:xfrm>
            <a:off x="3198960" y="3478320"/>
            <a:ext cx="1008000" cy="317520"/>
            <a:chOff x="3198960" y="3478320"/>
            <a:chExt cx="1008000" cy="317520"/>
          </a:xfrm>
        </p:grpSpPr>
        <p:sp>
          <p:nvSpPr>
            <p:cNvPr id="1318" name="Freeform 7"/>
            <p:cNvSpPr/>
            <p:nvPr/>
          </p:nvSpPr>
          <p:spPr>
            <a:xfrm>
              <a:off x="3198960" y="3478320"/>
              <a:ext cx="1008000" cy="3175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1131" h="356">
                  <a:moveTo>
                    <a:pt x="1049" y="0"/>
                  </a:moveTo>
                  <a:cubicBezTo>
                    <a:pt x="1094" y="0"/>
                    <a:pt x="1131" y="37"/>
                    <a:pt x="1131" y="82"/>
                  </a:cubicBezTo>
                  <a:cubicBezTo>
                    <a:pt x="1131" y="274"/>
                    <a:pt x="1131" y="274"/>
                    <a:pt x="1131" y="274"/>
                  </a:cubicBezTo>
                  <a:cubicBezTo>
                    <a:pt x="1131" y="320"/>
                    <a:pt x="1094" y="356"/>
                    <a:pt x="1049" y="356"/>
                  </a:cubicBezTo>
                  <a:cubicBezTo>
                    <a:pt x="82" y="356"/>
                    <a:pt x="82" y="356"/>
                    <a:pt x="82" y="356"/>
                  </a:cubicBezTo>
                  <a:cubicBezTo>
                    <a:pt x="37" y="356"/>
                    <a:pt x="0" y="320"/>
                    <a:pt x="0" y="274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37"/>
                    <a:pt x="37" y="0"/>
                    <a:pt x="82" y="0"/>
                  </a:cubicBezTo>
                  <a:lnTo>
                    <a:pt x="1049" y="0"/>
                  </a:lnTo>
                  <a:close/>
                </a:path>
              </a:pathLst>
            </a:custGeom>
            <a:solidFill>
              <a:srgbClr val="008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3983040" y="3564360"/>
              <a:ext cx="146160" cy="146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0"/>
                  </a:moveTo>
                  <a:cubicBezTo>
                    <a:pt x="37" y="0"/>
                    <a:pt x="0" y="37"/>
                    <a:pt x="0" y="82"/>
                  </a:cubicBezTo>
                  <a:cubicBezTo>
                    <a:pt x="0" y="128"/>
                    <a:pt x="37" y="164"/>
                    <a:pt x="82" y="164"/>
                  </a:cubicBezTo>
                  <a:cubicBezTo>
                    <a:pt x="127" y="164"/>
                    <a:pt x="164" y="128"/>
                    <a:pt x="164" y="82"/>
                  </a:cubicBezTo>
                  <a:cubicBezTo>
                    <a:pt x="164" y="37"/>
                    <a:pt x="127" y="0"/>
                    <a:pt x="82" y="0"/>
                  </a:cubicBezTo>
                  <a:close/>
                  <a:moveTo>
                    <a:pt x="49" y="132"/>
                  </a:moveTo>
                  <a:cubicBezTo>
                    <a:pt x="49" y="33"/>
                    <a:pt x="49" y="33"/>
                    <a:pt x="49" y="33"/>
                  </a:cubicBezTo>
                  <a:cubicBezTo>
                    <a:pt x="135" y="82"/>
                    <a:pt x="135" y="82"/>
                    <a:pt x="135" y="82"/>
                  </a:cubicBezTo>
                  <a:lnTo>
                    <a:pt x="49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320" name="组合 141"/>
          <p:cNvGrpSpPr/>
          <p:nvPr/>
        </p:nvGrpSpPr>
        <p:grpSpPr>
          <a:xfrm>
            <a:off x="3535200" y="2139840"/>
            <a:ext cx="271800" cy="274680"/>
            <a:chOff x="3535200" y="2139840"/>
            <a:chExt cx="271800" cy="274680"/>
          </a:xfrm>
        </p:grpSpPr>
        <p:sp>
          <p:nvSpPr>
            <p:cNvPr id="1321" name="Freeform 20"/>
            <p:cNvSpPr/>
            <p:nvPr/>
          </p:nvSpPr>
          <p:spPr>
            <a:xfrm>
              <a:off x="3535200" y="2139840"/>
              <a:ext cx="164160" cy="1432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84" h="160">
                  <a:moveTo>
                    <a:pt x="96" y="155"/>
                  </a:moveTo>
                  <a:cubicBezTo>
                    <a:pt x="81" y="149"/>
                    <a:pt x="71" y="140"/>
                    <a:pt x="64" y="129"/>
                  </a:cubicBezTo>
                  <a:cubicBezTo>
                    <a:pt x="73" y="131"/>
                    <a:pt x="83" y="133"/>
                    <a:pt x="93" y="133"/>
                  </a:cubicBezTo>
                  <a:cubicBezTo>
                    <a:pt x="143" y="133"/>
                    <a:pt x="184" y="103"/>
                    <a:pt x="184" y="66"/>
                  </a:cubicBezTo>
                  <a:cubicBezTo>
                    <a:pt x="184" y="30"/>
                    <a:pt x="143" y="0"/>
                    <a:pt x="93" y="0"/>
                  </a:cubicBezTo>
                  <a:cubicBezTo>
                    <a:pt x="44" y="0"/>
                    <a:pt x="0" y="27"/>
                    <a:pt x="0" y="68"/>
                  </a:cubicBezTo>
                  <a:cubicBezTo>
                    <a:pt x="0" y="117"/>
                    <a:pt x="54" y="160"/>
                    <a:pt x="96" y="155"/>
                  </a:cubicBez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22" name="Freeform 21"/>
            <p:cNvSpPr/>
            <p:nvPr/>
          </p:nvSpPr>
          <p:spPr>
            <a:xfrm>
              <a:off x="3647520" y="2194200"/>
              <a:ext cx="110880" cy="1137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24" h="126">
                  <a:moveTo>
                    <a:pt x="0" y="81"/>
                  </a:moveTo>
                  <a:cubicBezTo>
                    <a:pt x="8" y="107"/>
                    <a:pt x="32" y="126"/>
                    <a:pt x="61" y="126"/>
                  </a:cubicBezTo>
                  <a:cubicBezTo>
                    <a:pt x="96" y="126"/>
                    <a:pt x="124" y="97"/>
                    <a:pt x="124" y="62"/>
                  </a:cubicBezTo>
                  <a:cubicBezTo>
                    <a:pt x="124" y="31"/>
                    <a:pt x="101" y="5"/>
                    <a:pt x="71" y="0"/>
                  </a:cubicBezTo>
                  <a:cubicBezTo>
                    <a:pt x="72" y="1"/>
                    <a:pt x="72" y="3"/>
                    <a:pt x="72" y="5"/>
                  </a:cubicBezTo>
                  <a:cubicBezTo>
                    <a:pt x="72" y="41"/>
                    <a:pt x="42" y="71"/>
                    <a:pt x="0" y="81"/>
                  </a:cubicBez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23" name="Freeform 22"/>
            <p:cNvSpPr/>
            <p:nvPr/>
          </p:nvSpPr>
          <p:spPr>
            <a:xfrm>
              <a:off x="3596400" y="2300760"/>
              <a:ext cx="210600" cy="1137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36" h="128">
                  <a:moveTo>
                    <a:pt x="181" y="0"/>
                  </a:moveTo>
                  <a:cubicBezTo>
                    <a:pt x="166" y="18"/>
                    <a:pt x="143" y="29"/>
                    <a:pt x="118" y="29"/>
                  </a:cubicBezTo>
                  <a:cubicBezTo>
                    <a:pt x="92" y="29"/>
                    <a:pt x="70" y="18"/>
                    <a:pt x="54" y="0"/>
                  </a:cubicBezTo>
                  <a:cubicBezTo>
                    <a:pt x="21" y="21"/>
                    <a:pt x="0" y="58"/>
                    <a:pt x="0" y="100"/>
                  </a:cubicBezTo>
                  <a:cubicBezTo>
                    <a:pt x="0" y="109"/>
                    <a:pt x="1" y="119"/>
                    <a:pt x="3" y="128"/>
                  </a:cubicBezTo>
                  <a:cubicBezTo>
                    <a:pt x="232" y="128"/>
                    <a:pt x="232" y="128"/>
                    <a:pt x="232" y="128"/>
                  </a:cubicBezTo>
                  <a:cubicBezTo>
                    <a:pt x="234" y="119"/>
                    <a:pt x="236" y="109"/>
                    <a:pt x="236" y="100"/>
                  </a:cubicBezTo>
                  <a:cubicBezTo>
                    <a:pt x="236" y="58"/>
                    <a:pt x="214" y="21"/>
                    <a:pt x="181" y="0"/>
                  </a:cubicBezTo>
                  <a:close/>
                </a:path>
              </a:pathLst>
            </a:custGeom>
            <a:solidFill>
              <a:srgbClr val="f6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324" name="组合 142"/>
          <p:cNvGrpSpPr/>
          <p:nvPr/>
        </p:nvGrpSpPr>
        <p:grpSpPr>
          <a:xfrm>
            <a:off x="3581280" y="4145040"/>
            <a:ext cx="584280" cy="263520"/>
            <a:chOff x="3581280" y="4145040"/>
            <a:chExt cx="584280" cy="263520"/>
          </a:xfrm>
        </p:grpSpPr>
        <p:sp>
          <p:nvSpPr>
            <p:cNvPr id="1325" name="Oval 23"/>
            <p:cNvSpPr/>
            <p:nvPr/>
          </p:nvSpPr>
          <p:spPr>
            <a:xfrm>
              <a:off x="3976920" y="4154400"/>
              <a:ext cx="90720" cy="89640"/>
            </a:xfrm>
            <a:prstGeom prst="ellipse">
              <a:avLst/>
            </a:pr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26" name="Freeform 24"/>
            <p:cNvSpPr/>
            <p:nvPr/>
          </p:nvSpPr>
          <p:spPr>
            <a:xfrm>
              <a:off x="4039200" y="4255920"/>
              <a:ext cx="82440" cy="106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2" h="119">
                  <a:moveTo>
                    <a:pt x="76" y="32"/>
                  </a:moveTo>
                  <a:cubicBezTo>
                    <a:pt x="69" y="10"/>
                    <a:pt x="58" y="0"/>
                    <a:pt x="3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92" y="118"/>
                    <a:pt x="92" y="118"/>
                    <a:pt x="92" y="118"/>
                  </a:cubicBezTo>
                  <a:lnTo>
                    <a:pt x="76" y="32"/>
                  </a:lnTo>
                  <a:close/>
                  <a:moveTo>
                    <a:pt x="61" y="65"/>
                  </a:moveTo>
                  <a:cubicBezTo>
                    <a:pt x="27" y="65"/>
                    <a:pt x="27" y="65"/>
                    <a:pt x="27" y="65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61" y="58"/>
                    <a:pt x="61" y="58"/>
                    <a:pt x="61" y="58"/>
                  </a:cubicBezTo>
                  <a:lnTo>
                    <a:pt x="61" y="65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27" name="Freeform 25"/>
            <p:cNvSpPr/>
            <p:nvPr/>
          </p:nvSpPr>
          <p:spPr>
            <a:xfrm>
              <a:off x="3923640" y="4255920"/>
              <a:ext cx="82440" cy="106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3" h="119">
                  <a:moveTo>
                    <a:pt x="55" y="0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93" y="119"/>
                    <a:pt x="93" y="119"/>
                    <a:pt x="93" y="119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23" y="10"/>
                    <a:pt x="34" y="0"/>
                    <a:pt x="55" y="0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28" name="Freeform 26"/>
            <p:cNvSpPr/>
            <p:nvPr/>
          </p:nvSpPr>
          <p:spPr>
            <a:xfrm>
              <a:off x="4000320" y="4254840"/>
              <a:ext cx="42480" cy="1062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6" h="90">
                  <a:moveTo>
                    <a:pt x="16" y="0"/>
                  </a:moveTo>
                  <a:lnTo>
                    <a:pt x="0" y="27"/>
                  </a:lnTo>
                  <a:lnTo>
                    <a:pt x="14" y="90"/>
                  </a:lnTo>
                  <a:lnTo>
                    <a:pt x="22" y="90"/>
                  </a:lnTo>
                  <a:lnTo>
                    <a:pt x="36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29" name="Freeform 27"/>
            <p:cNvSpPr/>
            <p:nvPr/>
          </p:nvSpPr>
          <p:spPr>
            <a:xfrm>
              <a:off x="3624840" y="4145040"/>
              <a:ext cx="146160" cy="2271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64" h="255">
                  <a:moveTo>
                    <a:pt x="0" y="126"/>
                  </a:moveTo>
                  <a:cubicBezTo>
                    <a:pt x="0" y="36"/>
                    <a:pt x="29" y="0"/>
                    <a:pt x="81" y="0"/>
                  </a:cubicBezTo>
                  <a:cubicBezTo>
                    <a:pt x="132" y="0"/>
                    <a:pt x="164" y="36"/>
                    <a:pt x="164" y="125"/>
                  </a:cubicBezTo>
                  <a:cubicBezTo>
                    <a:pt x="164" y="214"/>
                    <a:pt x="132" y="255"/>
                    <a:pt x="81" y="255"/>
                  </a:cubicBezTo>
                  <a:cubicBezTo>
                    <a:pt x="29" y="255"/>
                    <a:pt x="0" y="216"/>
                    <a:pt x="0" y="126"/>
                  </a:cubicBezTo>
                  <a:close/>
                  <a:moveTo>
                    <a:pt x="116" y="127"/>
                  </a:moveTo>
                  <a:cubicBezTo>
                    <a:pt x="116" y="61"/>
                    <a:pt x="105" y="37"/>
                    <a:pt x="82" y="37"/>
                  </a:cubicBezTo>
                  <a:cubicBezTo>
                    <a:pt x="60" y="37"/>
                    <a:pt x="48" y="61"/>
                    <a:pt x="48" y="127"/>
                  </a:cubicBezTo>
                  <a:cubicBezTo>
                    <a:pt x="48" y="193"/>
                    <a:pt x="60" y="217"/>
                    <a:pt x="82" y="217"/>
                  </a:cubicBezTo>
                  <a:cubicBezTo>
                    <a:pt x="105" y="217"/>
                    <a:pt x="116" y="192"/>
                    <a:pt x="116" y="127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30" name="Freeform 28"/>
            <p:cNvSpPr/>
            <p:nvPr/>
          </p:nvSpPr>
          <p:spPr>
            <a:xfrm>
              <a:off x="3776040" y="4150800"/>
              <a:ext cx="86040" cy="2138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96" h="239">
                  <a:moveTo>
                    <a:pt x="49" y="239"/>
                  </a:moveTo>
                  <a:cubicBezTo>
                    <a:pt x="49" y="74"/>
                    <a:pt x="49" y="74"/>
                    <a:pt x="49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1" y="42"/>
                    <a:pt x="55" y="28"/>
                    <a:pt x="58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96" y="239"/>
                    <a:pt x="96" y="239"/>
                    <a:pt x="96" y="239"/>
                  </a:cubicBezTo>
                  <a:lnTo>
                    <a:pt x="49" y="239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31" name="Rectangle 29"/>
            <p:cNvSpPr/>
            <p:nvPr/>
          </p:nvSpPr>
          <p:spPr>
            <a:xfrm>
              <a:off x="3581280" y="4401720"/>
              <a:ext cx="584280" cy="684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332" name="组合 143"/>
          <p:cNvGrpSpPr/>
          <p:nvPr/>
        </p:nvGrpSpPr>
        <p:grpSpPr>
          <a:xfrm>
            <a:off x="5837400" y="4884840"/>
            <a:ext cx="583920" cy="266760"/>
            <a:chOff x="5837400" y="4884840"/>
            <a:chExt cx="583920" cy="266760"/>
          </a:xfrm>
        </p:grpSpPr>
        <p:sp>
          <p:nvSpPr>
            <p:cNvPr id="1333" name="Freeform 30"/>
            <p:cNvSpPr/>
            <p:nvPr/>
          </p:nvSpPr>
          <p:spPr>
            <a:xfrm>
              <a:off x="6208920" y="4894200"/>
              <a:ext cx="196920" cy="184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21" h="206">
                  <a:moveTo>
                    <a:pt x="186" y="0"/>
                  </a:moveTo>
                  <a:cubicBezTo>
                    <a:pt x="211" y="0"/>
                    <a:pt x="211" y="0"/>
                    <a:pt x="211" y="0"/>
                  </a:cubicBezTo>
                  <a:cubicBezTo>
                    <a:pt x="216" y="0"/>
                    <a:pt x="221" y="6"/>
                    <a:pt x="221" y="12"/>
                  </a:cubicBezTo>
                  <a:cubicBezTo>
                    <a:pt x="221" y="205"/>
                    <a:pt x="221" y="205"/>
                    <a:pt x="221" y="205"/>
                  </a:cubicBezTo>
                  <a:cubicBezTo>
                    <a:pt x="176" y="205"/>
                    <a:pt x="176" y="205"/>
                    <a:pt x="176" y="205"/>
                  </a:cubicBezTo>
                  <a:cubicBezTo>
                    <a:pt x="176" y="12"/>
                    <a:pt x="176" y="12"/>
                    <a:pt x="176" y="12"/>
                  </a:cubicBezTo>
                  <a:cubicBezTo>
                    <a:pt x="176" y="6"/>
                    <a:pt x="181" y="0"/>
                    <a:pt x="186" y="0"/>
                  </a:cubicBezTo>
                  <a:close/>
                  <a:moveTo>
                    <a:pt x="127" y="85"/>
                  </a:moveTo>
                  <a:cubicBezTo>
                    <a:pt x="152" y="85"/>
                    <a:pt x="152" y="85"/>
                    <a:pt x="152" y="85"/>
                  </a:cubicBezTo>
                  <a:cubicBezTo>
                    <a:pt x="158" y="85"/>
                    <a:pt x="162" y="90"/>
                    <a:pt x="162" y="96"/>
                  </a:cubicBezTo>
                  <a:cubicBezTo>
                    <a:pt x="162" y="206"/>
                    <a:pt x="162" y="206"/>
                    <a:pt x="162" y="206"/>
                  </a:cubicBezTo>
                  <a:cubicBezTo>
                    <a:pt x="117" y="206"/>
                    <a:pt x="117" y="206"/>
                    <a:pt x="117" y="206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7" y="90"/>
                    <a:pt x="122" y="85"/>
                    <a:pt x="127" y="85"/>
                  </a:cubicBezTo>
                  <a:close/>
                  <a:moveTo>
                    <a:pt x="69" y="123"/>
                  </a:moveTo>
                  <a:cubicBezTo>
                    <a:pt x="94" y="123"/>
                    <a:pt x="94" y="123"/>
                    <a:pt x="94" y="123"/>
                  </a:cubicBezTo>
                  <a:cubicBezTo>
                    <a:pt x="99" y="123"/>
                    <a:pt x="104" y="128"/>
                    <a:pt x="104" y="134"/>
                  </a:cubicBezTo>
                  <a:cubicBezTo>
                    <a:pt x="104" y="206"/>
                    <a:pt x="104" y="206"/>
                    <a:pt x="104" y="206"/>
                  </a:cubicBezTo>
                  <a:cubicBezTo>
                    <a:pt x="59" y="206"/>
                    <a:pt x="59" y="206"/>
                    <a:pt x="59" y="206"/>
                  </a:cubicBezTo>
                  <a:cubicBezTo>
                    <a:pt x="59" y="134"/>
                    <a:pt x="59" y="134"/>
                    <a:pt x="59" y="134"/>
                  </a:cubicBezTo>
                  <a:cubicBezTo>
                    <a:pt x="59" y="128"/>
                    <a:pt x="64" y="123"/>
                    <a:pt x="69" y="123"/>
                  </a:cubicBezTo>
                  <a:close/>
                  <a:moveTo>
                    <a:pt x="10" y="151"/>
                  </a:moveTo>
                  <a:cubicBezTo>
                    <a:pt x="35" y="151"/>
                    <a:pt x="35" y="151"/>
                    <a:pt x="35" y="151"/>
                  </a:cubicBezTo>
                  <a:cubicBezTo>
                    <a:pt x="41" y="151"/>
                    <a:pt x="45" y="155"/>
                    <a:pt x="45" y="161"/>
                  </a:cubicBezTo>
                  <a:cubicBezTo>
                    <a:pt x="45" y="206"/>
                    <a:pt x="45" y="206"/>
                    <a:pt x="45" y="206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0" y="155"/>
                    <a:pt x="5" y="151"/>
                    <a:pt x="10" y="151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34" name="Freeform 31"/>
            <p:cNvSpPr/>
            <p:nvPr/>
          </p:nvSpPr>
          <p:spPr>
            <a:xfrm>
              <a:off x="6183000" y="4915440"/>
              <a:ext cx="234720" cy="186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262" h="208">
                  <a:moveTo>
                    <a:pt x="256" y="195"/>
                  </a:moveTo>
                  <a:cubicBezTo>
                    <a:pt x="13" y="195"/>
                    <a:pt x="13" y="195"/>
                    <a:pt x="13" y="195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3"/>
                    <a:pt x="10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2" y="0"/>
                    <a:pt x="0" y="3"/>
                    <a:pt x="0" y="6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0" y="206"/>
                    <a:pt x="2" y="208"/>
                    <a:pt x="6" y="208"/>
                  </a:cubicBezTo>
                  <a:cubicBezTo>
                    <a:pt x="6" y="208"/>
                    <a:pt x="6" y="208"/>
                    <a:pt x="6" y="208"/>
                  </a:cubicBezTo>
                  <a:cubicBezTo>
                    <a:pt x="8" y="208"/>
                    <a:pt x="8" y="208"/>
                    <a:pt x="8" y="208"/>
                  </a:cubicBezTo>
                  <a:cubicBezTo>
                    <a:pt x="256" y="208"/>
                    <a:pt x="256" y="208"/>
                    <a:pt x="256" y="208"/>
                  </a:cubicBezTo>
                  <a:cubicBezTo>
                    <a:pt x="259" y="208"/>
                    <a:pt x="262" y="205"/>
                    <a:pt x="262" y="202"/>
                  </a:cubicBezTo>
                  <a:cubicBezTo>
                    <a:pt x="262" y="201"/>
                    <a:pt x="262" y="201"/>
                    <a:pt x="262" y="201"/>
                  </a:cubicBezTo>
                  <a:cubicBezTo>
                    <a:pt x="262" y="198"/>
                    <a:pt x="259" y="195"/>
                    <a:pt x="256" y="195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35" name="Freeform 32"/>
            <p:cNvSpPr/>
            <p:nvPr/>
          </p:nvSpPr>
          <p:spPr>
            <a:xfrm>
              <a:off x="5840640" y="4884840"/>
              <a:ext cx="146160" cy="227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64" h="255">
                  <a:moveTo>
                    <a:pt x="0" y="126"/>
                  </a:moveTo>
                  <a:cubicBezTo>
                    <a:pt x="0" y="36"/>
                    <a:pt x="30" y="0"/>
                    <a:pt x="81" y="0"/>
                  </a:cubicBezTo>
                  <a:cubicBezTo>
                    <a:pt x="133" y="0"/>
                    <a:pt x="164" y="36"/>
                    <a:pt x="164" y="125"/>
                  </a:cubicBezTo>
                  <a:cubicBezTo>
                    <a:pt x="164" y="214"/>
                    <a:pt x="133" y="255"/>
                    <a:pt x="81" y="255"/>
                  </a:cubicBezTo>
                  <a:cubicBezTo>
                    <a:pt x="30" y="255"/>
                    <a:pt x="0" y="216"/>
                    <a:pt x="0" y="126"/>
                  </a:cubicBezTo>
                  <a:close/>
                  <a:moveTo>
                    <a:pt x="117" y="128"/>
                  </a:moveTo>
                  <a:cubicBezTo>
                    <a:pt x="117" y="61"/>
                    <a:pt x="106" y="37"/>
                    <a:pt x="83" y="37"/>
                  </a:cubicBezTo>
                  <a:cubicBezTo>
                    <a:pt x="60" y="37"/>
                    <a:pt x="49" y="61"/>
                    <a:pt x="49" y="127"/>
                  </a:cubicBezTo>
                  <a:cubicBezTo>
                    <a:pt x="49" y="193"/>
                    <a:pt x="60" y="217"/>
                    <a:pt x="83" y="217"/>
                  </a:cubicBezTo>
                  <a:cubicBezTo>
                    <a:pt x="106" y="217"/>
                    <a:pt x="117" y="193"/>
                    <a:pt x="117" y="128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36" name="Freeform 33"/>
            <p:cNvSpPr/>
            <p:nvPr/>
          </p:nvSpPr>
          <p:spPr>
            <a:xfrm>
              <a:off x="5995440" y="4884840"/>
              <a:ext cx="145080" cy="2278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63" h="255">
                  <a:moveTo>
                    <a:pt x="62" y="107"/>
                  </a:moveTo>
                  <a:cubicBezTo>
                    <a:pt x="102" y="107"/>
                    <a:pt x="110" y="92"/>
                    <a:pt x="110" y="74"/>
                  </a:cubicBezTo>
                  <a:cubicBezTo>
                    <a:pt x="110" y="50"/>
                    <a:pt x="101" y="37"/>
                    <a:pt x="79" y="37"/>
                  </a:cubicBezTo>
                  <a:cubicBezTo>
                    <a:pt x="61" y="37"/>
                    <a:pt x="48" y="52"/>
                    <a:pt x="48" y="76"/>
                  </a:cubicBezTo>
                  <a:cubicBezTo>
                    <a:pt x="4" y="76"/>
                    <a:pt x="4" y="76"/>
                    <a:pt x="4" y="76"/>
                  </a:cubicBezTo>
                  <a:cubicBezTo>
                    <a:pt x="4" y="31"/>
                    <a:pt x="36" y="0"/>
                    <a:pt x="81" y="0"/>
                  </a:cubicBezTo>
                  <a:cubicBezTo>
                    <a:pt x="123" y="0"/>
                    <a:pt x="155" y="26"/>
                    <a:pt x="155" y="65"/>
                  </a:cubicBezTo>
                  <a:cubicBezTo>
                    <a:pt x="155" y="86"/>
                    <a:pt x="146" y="108"/>
                    <a:pt x="127" y="119"/>
                  </a:cubicBezTo>
                  <a:cubicBezTo>
                    <a:pt x="150" y="128"/>
                    <a:pt x="163" y="147"/>
                    <a:pt x="163" y="178"/>
                  </a:cubicBezTo>
                  <a:cubicBezTo>
                    <a:pt x="163" y="225"/>
                    <a:pt x="129" y="255"/>
                    <a:pt x="79" y="255"/>
                  </a:cubicBezTo>
                  <a:cubicBezTo>
                    <a:pt x="29" y="255"/>
                    <a:pt x="0" y="225"/>
                    <a:pt x="0" y="176"/>
                  </a:cubicBezTo>
                  <a:cubicBezTo>
                    <a:pt x="45" y="176"/>
                    <a:pt x="45" y="176"/>
                    <a:pt x="45" y="176"/>
                  </a:cubicBezTo>
                  <a:cubicBezTo>
                    <a:pt x="45" y="204"/>
                    <a:pt x="57" y="216"/>
                    <a:pt x="81" y="216"/>
                  </a:cubicBezTo>
                  <a:cubicBezTo>
                    <a:pt x="100" y="216"/>
                    <a:pt x="115" y="202"/>
                    <a:pt x="115" y="177"/>
                  </a:cubicBezTo>
                  <a:cubicBezTo>
                    <a:pt x="115" y="149"/>
                    <a:pt x="101" y="139"/>
                    <a:pt x="62" y="139"/>
                  </a:cubicBezTo>
                  <a:lnTo>
                    <a:pt x="62" y="107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37" name="Rectangle 34"/>
            <p:cNvSpPr/>
            <p:nvPr/>
          </p:nvSpPr>
          <p:spPr>
            <a:xfrm>
              <a:off x="5837400" y="5143680"/>
              <a:ext cx="583920" cy="792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338" name="组合 144"/>
          <p:cNvGrpSpPr/>
          <p:nvPr/>
        </p:nvGrpSpPr>
        <p:grpSpPr>
          <a:xfrm>
            <a:off x="4543560" y="5027760"/>
            <a:ext cx="598320" cy="261720"/>
            <a:chOff x="4543560" y="5027760"/>
            <a:chExt cx="598320" cy="261720"/>
          </a:xfrm>
        </p:grpSpPr>
        <p:sp>
          <p:nvSpPr>
            <p:cNvPr id="1339" name="Freeform 35"/>
            <p:cNvSpPr/>
            <p:nvPr/>
          </p:nvSpPr>
          <p:spPr>
            <a:xfrm>
              <a:off x="4860000" y="5065200"/>
              <a:ext cx="183960" cy="183960"/>
            </a:xfrm>
            <a:custGeom>
              <a:avLst/>
              <a:gdLst/>
              <a:ahLst/>
              <a:rect l="l" t="t" r="r" b="b"/>
              <a:pathLst>
                <a:path w="206" h="206">
                  <a:moveTo>
                    <a:pt x="103" y="0"/>
                  </a:moveTo>
                  <a:cubicBezTo>
                    <a:pt x="46" y="0"/>
                    <a:pt x="0" y="46"/>
                    <a:pt x="0" y="103"/>
                  </a:cubicBezTo>
                  <a:cubicBezTo>
                    <a:pt x="0" y="160"/>
                    <a:pt x="46" y="206"/>
                    <a:pt x="103" y="206"/>
                  </a:cubicBezTo>
                  <a:cubicBezTo>
                    <a:pt x="160" y="206"/>
                    <a:pt x="206" y="160"/>
                    <a:pt x="206" y="103"/>
                  </a:cubicBezTo>
                  <a:cubicBezTo>
                    <a:pt x="206" y="46"/>
                    <a:pt x="160" y="0"/>
                    <a:pt x="103" y="0"/>
                  </a:cubicBezTo>
                  <a:close/>
                  <a:moveTo>
                    <a:pt x="71" y="24"/>
                  </a:moveTo>
                  <a:cubicBezTo>
                    <a:pt x="65" y="32"/>
                    <a:pt x="58" y="44"/>
                    <a:pt x="54" y="58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40" y="43"/>
                    <a:pt x="54" y="31"/>
                    <a:pt x="71" y="24"/>
                  </a:cubicBezTo>
                  <a:close/>
                  <a:moveTo>
                    <a:pt x="27" y="65"/>
                  </a:moveTo>
                  <a:cubicBezTo>
                    <a:pt x="52" y="65"/>
                    <a:pt x="52" y="65"/>
                    <a:pt x="52" y="65"/>
                  </a:cubicBezTo>
                  <a:cubicBezTo>
                    <a:pt x="50" y="75"/>
                    <a:pt x="48" y="87"/>
                    <a:pt x="48" y="101"/>
                  </a:cubicBezTo>
                  <a:cubicBezTo>
                    <a:pt x="18" y="101"/>
                    <a:pt x="18" y="101"/>
                    <a:pt x="18" y="101"/>
                  </a:cubicBezTo>
                  <a:cubicBezTo>
                    <a:pt x="18" y="88"/>
                    <a:pt x="21" y="76"/>
                    <a:pt x="27" y="65"/>
                  </a:cubicBezTo>
                  <a:close/>
                  <a:moveTo>
                    <a:pt x="28" y="145"/>
                  </a:moveTo>
                  <a:cubicBezTo>
                    <a:pt x="22" y="134"/>
                    <a:pt x="18" y="121"/>
                    <a:pt x="18" y="108"/>
                  </a:cubicBezTo>
                  <a:cubicBezTo>
                    <a:pt x="48" y="108"/>
                    <a:pt x="48" y="108"/>
                    <a:pt x="48" y="108"/>
                  </a:cubicBezTo>
                  <a:cubicBezTo>
                    <a:pt x="49" y="122"/>
                    <a:pt x="51" y="134"/>
                    <a:pt x="53" y="145"/>
                  </a:cubicBezTo>
                  <a:lnTo>
                    <a:pt x="28" y="145"/>
                  </a:lnTo>
                  <a:close/>
                  <a:moveTo>
                    <a:pt x="32" y="151"/>
                  </a:moveTo>
                  <a:cubicBezTo>
                    <a:pt x="56" y="151"/>
                    <a:pt x="56" y="151"/>
                    <a:pt x="56" y="151"/>
                  </a:cubicBezTo>
                  <a:cubicBezTo>
                    <a:pt x="60" y="165"/>
                    <a:pt x="67" y="176"/>
                    <a:pt x="73" y="183"/>
                  </a:cubicBezTo>
                  <a:cubicBezTo>
                    <a:pt x="57" y="177"/>
                    <a:pt x="42" y="166"/>
                    <a:pt x="32" y="151"/>
                  </a:cubicBezTo>
                  <a:close/>
                  <a:moveTo>
                    <a:pt x="97" y="188"/>
                  </a:moveTo>
                  <a:cubicBezTo>
                    <a:pt x="89" y="182"/>
                    <a:pt x="77" y="171"/>
                    <a:pt x="69" y="151"/>
                  </a:cubicBezTo>
                  <a:cubicBezTo>
                    <a:pt x="97" y="151"/>
                    <a:pt x="97" y="151"/>
                    <a:pt x="97" y="151"/>
                  </a:cubicBezTo>
                  <a:lnTo>
                    <a:pt x="97" y="188"/>
                  </a:lnTo>
                  <a:close/>
                  <a:moveTo>
                    <a:pt x="97" y="145"/>
                  </a:moveTo>
                  <a:cubicBezTo>
                    <a:pt x="67" y="145"/>
                    <a:pt x="67" y="145"/>
                    <a:pt x="67" y="145"/>
                  </a:cubicBezTo>
                  <a:cubicBezTo>
                    <a:pt x="64" y="135"/>
                    <a:pt x="62" y="122"/>
                    <a:pt x="61" y="108"/>
                  </a:cubicBezTo>
                  <a:cubicBezTo>
                    <a:pt x="97" y="108"/>
                    <a:pt x="97" y="108"/>
                    <a:pt x="97" y="108"/>
                  </a:cubicBezTo>
                  <a:lnTo>
                    <a:pt x="97" y="145"/>
                  </a:lnTo>
                  <a:close/>
                  <a:moveTo>
                    <a:pt x="97" y="101"/>
                  </a:moveTo>
                  <a:cubicBezTo>
                    <a:pt x="61" y="101"/>
                    <a:pt x="61" y="101"/>
                    <a:pt x="61" y="101"/>
                  </a:cubicBezTo>
                  <a:cubicBezTo>
                    <a:pt x="61" y="87"/>
                    <a:pt x="63" y="75"/>
                    <a:pt x="66" y="65"/>
                  </a:cubicBezTo>
                  <a:cubicBezTo>
                    <a:pt x="97" y="65"/>
                    <a:pt x="97" y="65"/>
                    <a:pt x="97" y="65"/>
                  </a:cubicBezTo>
                  <a:lnTo>
                    <a:pt x="97" y="101"/>
                  </a:lnTo>
                  <a:close/>
                  <a:moveTo>
                    <a:pt x="97" y="58"/>
                  </a:moveTo>
                  <a:cubicBezTo>
                    <a:pt x="68" y="58"/>
                    <a:pt x="68" y="58"/>
                    <a:pt x="68" y="58"/>
                  </a:cubicBezTo>
                  <a:cubicBezTo>
                    <a:pt x="75" y="36"/>
                    <a:pt x="87" y="24"/>
                    <a:pt x="96" y="18"/>
                  </a:cubicBezTo>
                  <a:cubicBezTo>
                    <a:pt x="96" y="18"/>
                    <a:pt x="96" y="18"/>
                    <a:pt x="97" y="18"/>
                  </a:cubicBezTo>
                  <a:lnTo>
                    <a:pt x="97" y="58"/>
                  </a:lnTo>
                  <a:close/>
                  <a:moveTo>
                    <a:pt x="179" y="65"/>
                  </a:moveTo>
                  <a:cubicBezTo>
                    <a:pt x="185" y="76"/>
                    <a:pt x="188" y="88"/>
                    <a:pt x="189" y="101"/>
                  </a:cubicBezTo>
                  <a:cubicBezTo>
                    <a:pt x="158" y="101"/>
                    <a:pt x="158" y="101"/>
                    <a:pt x="158" y="101"/>
                  </a:cubicBezTo>
                  <a:cubicBezTo>
                    <a:pt x="158" y="87"/>
                    <a:pt x="156" y="75"/>
                    <a:pt x="154" y="65"/>
                  </a:cubicBezTo>
                  <a:lnTo>
                    <a:pt x="179" y="65"/>
                  </a:lnTo>
                  <a:close/>
                  <a:moveTo>
                    <a:pt x="176" y="58"/>
                  </a:moveTo>
                  <a:cubicBezTo>
                    <a:pt x="152" y="58"/>
                    <a:pt x="152" y="58"/>
                    <a:pt x="152" y="58"/>
                  </a:cubicBezTo>
                  <a:cubicBezTo>
                    <a:pt x="147" y="43"/>
                    <a:pt x="141" y="32"/>
                    <a:pt x="134" y="24"/>
                  </a:cubicBezTo>
                  <a:cubicBezTo>
                    <a:pt x="152" y="31"/>
                    <a:pt x="166" y="43"/>
                    <a:pt x="176" y="58"/>
                  </a:cubicBezTo>
                  <a:close/>
                  <a:moveTo>
                    <a:pt x="110" y="18"/>
                  </a:moveTo>
                  <a:cubicBezTo>
                    <a:pt x="110" y="18"/>
                    <a:pt x="110" y="18"/>
                    <a:pt x="110" y="18"/>
                  </a:cubicBezTo>
                  <a:cubicBezTo>
                    <a:pt x="118" y="24"/>
                    <a:pt x="131" y="36"/>
                    <a:pt x="138" y="58"/>
                  </a:cubicBezTo>
                  <a:cubicBezTo>
                    <a:pt x="110" y="58"/>
                    <a:pt x="110" y="58"/>
                    <a:pt x="110" y="58"/>
                  </a:cubicBezTo>
                  <a:lnTo>
                    <a:pt x="110" y="18"/>
                  </a:lnTo>
                  <a:close/>
                  <a:moveTo>
                    <a:pt x="110" y="65"/>
                  </a:moveTo>
                  <a:cubicBezTo>
                    <a:pt x="140" y="65"/>
                    <a:pt x="140" y="65"/>
                    <a:pt x="140" y="65"/>
                  </a:cubicBezTo>
                  <a:cubicBezTo>
                    <a:pt x="143" y="75"/>
                    <a:pt x="145" y="87"/>
                    <a:pt x="145" y="101"/>
                  </a:cubicBezTo>
                  <a:cubicBezTo>
                    <a:pt x="110" y="101"/>
                    <a:pt x="110" y="101"/>
                    <a:pt x="110" y="101"/>
                  </a:cubicBezTo>
                  <a:lnTo>
                    <a:pt x="110" y="65"/>
                  </a:lnTo>
                  <a:close/>
                  <a:moveTo>
                    <a:pt x="110" y="108"/>
                  </a:moveTo>
                  <a:cubicBezTo>
                    <a:pt x="145" y="108"/>
                    <a:pt x="145" y="108"/>
                    <a:pt x="145" y="108"/>
                  </a:cubicBezTo>
                  <a:cubicBezTo>
                    <a:pt x="144" y="122"/>
                    <a:pt x="142" y="135"/>
                    <a:pt x="139" y="145"/>
                  </a:cubicBezTo>
                  <a:cubicBezTo>
                    <a:pt x="110" y="145"/>
                    <a:pt x="110" y="145"/>
                    <a:pt x="110" y="145"/>
                  </a:cubicBezTo>
                  <a:lnTo>
                    <a:pt x="110" y="108"/>
                  </a:lnTo>
                  <a:close/>
                  <a:moveTo>
                    <a:pt x="110" y="187"/>
                  </a:moveTo>
                  <a:cubicBezTo>
                    <a:pt x="110" y="151"/>
                    <a:pt x="110" y="151"/>
                    <a:pt x="110" y="151"/>
                  </a:cubicBezTo>
                  <a:cubicBezTo>
                    <a:pt x="136" y="151"/>
                    <a:pt x="136" y="151"/>
                    <a:pt x="136" y="151"/>
                  </a:cubicBezTo>
                  <a:cubicBezTo>
                    <a:pt x="129" y="171"/>
                    <a:pt x="117" y="182"/>
                    <a:pt x="110" y="187"/>
                  </a:cubicBezTo>
                  <a:close/>
                  <a:moveTo>
                    <a:pt x="133" y="184"/>
                  </a:moveTo>
                  <a:cubicBezTo>
                    <a:pt x="139" y="176"/>
                    <a:pt x="146" y="165"/>
                    <a:pt x="150" y="151"/>
                  </a:cubicBezTo>
                  <a:cubicBezTo>
                    <a:pt x="174" y="151"/>
                    <a:pt x="174" y="151"/>
                    <a:pt x="174" y="151"/>
                  </a:cubicBezTo>
                  <a:cubicBezTo>
                    <a:pt x="164" y="166"/>
                    <a:pt x="150" y="177"/>
                    <a:pt x="133" y="184"/>
                  </a:cubicBezTo>
                  <a:close/>
                  <a:moveTo>
                    <a:pt x="178" y="145"/>
                  </a:moveTo>
                  <a:cubicBezTo>
                    <a:pt x="152" y="145"/>
                    <a:pt x="152" y="145"/>
                    <a:pt x="152" y="145"/>
                  </a:cubicBezTo>
                  <a:cubicBezTo>
                    <a:pt x="155" y="134"/>
                    <a:pt x="157" y="122"/>
                    <a:pt x="158" y="108"/>
                  </a:cubicBezTo>
                  <a:cubicBezTo>
                    <a:pt x="188" y="108"/>
                    <a:pt x="188" y="108"/>
                    <a:pt x="188" y="108"/>
                  </a:cubicBezTo>
                  <a:cubicBezTo>
                    <a:pt x="188" y="121"/>
                    <a:pt x="184" y="134"/>
                    <a:pt x="178" y="145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40" name="Freeform 36"/>
            <p:cNvSpPr/>
            <p:nvPr/>
          </p:nvSpPr>
          <p:spPr>
            <a:xfrm>
              <a:off x="4970880" y="5033520"/>
              <a:ext cx="161640" cy="1828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81" h="206">
                  <a:moveTo>
                    <a:pt x="78" y="0"/>
                  </a:moveTo>
                  <a:cubicBezTo>
                    <a:pt x="46" y="0"/>
                    <a:pt x="18" y="14"/>
                    <a:pt x="0" y="36"/>
                  </a:cubicBezTo>
                  <a:cubicBezTo>
                    <a:pt x="6" y="37"/>
                    <a:pt x="12" y="39"/>
                    <a:pt x="18" y="41"/>
                  </a:cubicBezTo>
                  <a:cubicBezTo>
                    <a:pt x="26" y="34"/>
                    <a:pt x="36" y="28"/>
                    <a:pt x="46" y="24"/>
                  </a:cubicBezTo>
                  <a:cubicBezTo>
                    <a:pt x="41" y="30"/>
                    <a:pt x="36" y="38"/>
                    <a:pt x="32" y="48"/>
                  </a:cubicBezTo>
                  <a:cubicBezTo>
                    <a:pt x="36" y="50"/>
                    <a:pt x="40" y="53"/>
                    <a:pt x="43" y="56"/>
                  </a:cubicBezTo>
                  <a:cubicBezTo>
                    <a:pt x="51" y="35"/>
                    <a:pt x="62" y="24"/>
                    <a:pt x="70" y="18"/>
                  </a:cubicBezTo>
                  <a:cubicBezTo>
                    <a:pt x="70" y="18"/>
                    <a:pt x="71" y="18"/>
                    <a:pt x="71" y="18"/>
                  </a:cubicBezTo>
                  <a:cubicBezTo>
                    <a:pt x="71" y="58"/>
                    <a:pt x="71" y="58"/>
                    <a:pt x="71" y="5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8" y="60"/>
                    <a:pt x="51" y="62"/>
                    <a:pt x="53" y="64"/>
                  </a:cubicBezTo>
                  <a:cubicBezTo>
                    <a:pt x="71" y="64"/>
                    <a:pt x="71" y="64"/>
                    <a:pt x="71" y="64"/>
                  </a:cubicBezTo>
                  <a:cubicBezTo>
                    <a:pt x="71" y="88"/>
                    <a:pt x="71" y="88"/>
                    <a:pt x="71" y="88"/>
                  </a:cubicBezTo>
                  <a:cubicBezTo>
                    <a:pt x="78" y="99"/>
                    <a:pt x="82" y="111"/>
                    <a:pt x="84" y="124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119" y="107"/>
                    <a:pt x="119" y="107"/>
                    <a:pt x="119" y="107"/>
                  </a:cubicBezTo>
                  <a:cubicBezTo>
                    <a:pt x="119" y="122"/>
                    <a:pt x="117" y="134"/>
                    <a:pt x="113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7"/>
                    <a:pt x="85" y="149"/>
                    <a:pt x="85" y="151"/>
                  </a:cubicBezTo>
                  <a:cubicBezTo>
                    <a:pt x="111" y="151"/>
                    <a:pt x="111" y="151"/>
                    <a:pt x="111" y="151"/>
                  </a:cubicBezTo>
                  <a:cubicBezTo>
                    <a:pt x="103" y="171"/>
                    <a:pt x="92" y="182"/>
                    <a:pt x="84" y="187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1" y="176"/>
                    <a:pt x="75" y="192"/>
                    <a:pt x="65" y="205"/>
                  </a:cubicBezTo>
                  <a:cubicBezTo>
                    <a:pt x="69" y="206"/>
                    <a:pt x="73" y="206"/>
                    <a:pt x="78" y="206"/>
                  </a:cubicBezTo>
                  <a:cubicBezTo>
                    <a:pt x="135" y="206"/>
                    <a:pt x="181" y="160"/>
                    <a:pt x="181" y="103"/>
                  </a:cubicBezTo>
                  <a:cubicBezTo>
                    <a:pt x="181" y="46"/>
                    <a:pt x="135" y="0"/>
                    <a:pt x="78" y="0"/>
                  </a:cubicBezTo>
                  <a:close/>
                  <a:moveTo>
                    <a:pt x="154" y="64"/>
                  </a:moveTo>
                  <a:cubicBezTo>
                    <a:pt x="160" y="75"/>
                    <a:pt x="163" y="88"/>
                    <a:pt x="163" y="101"/>
                  </a:cubicBezTo>
                  <a:cubicBezTo>
                    <a:pt x="132" y="101"/>
                    <a:pt x="132" y="101"/>
                    <a:pt x="132" y="101"/>
                  </a:cubicBezTo>
                  <a:cubicBezTo>
                    <a:pt x="132" y="87"/>
                    <a:pt x="131" y="75"/>
                    <a:pt x="128" y="64"/>
                  </a:cubicBezTo>
                  <a:lnTo>
                    <a:pt x="154" y="64"/>
                  </a:lnTo>
                  <a:close/>
                  <a:moveTo>
                    <a:pt x="150" y="58"/>
                  </a:moveTo>
                  <a:cubicBezTo>
                    <a:pt x="126" y="58"/>
                    <a:pt x="126" y="58"/>
                    <a:pt x="126" y="58"/>
                  </a:cubicBezTo>
                  <a:cubicBezTo>
                    <a:pt x="122" y="43"/>
                    <a:pt x="116" y="32"/>
                    <a:pt x="109" y="23"/>
                  </a:cubicBezTo>
                  <a:cubicBezTo>
                    <a:pt x="126" y="30"/>
                    <a:pt x="141" y="42"/>
                    <a:pt x="150" y="58"/>
                  </a:cubicBezTo>
                  <a:close/>
                  <a:moveTo>
                    <a:pt x="84" y="18"/>
                  </a:moveTo>
                  <a:cubicBezTo>
                    <a:pt x="85" y="18"/>
                    <a:pt x="85" y="18"/>
                    <a:pt x="85" y="18"/>
                  </a:cubicBezTo>
                  <a:cubicBezTo>
                    <a:pt x="93" y="24"/>
                    <a:pt x="105" y="36"/>
                    <a:pt x="113" y="58"/>
                  </a:cubicBezTo>
                  <a:cubicBezTo>
                    <a:pt x="84" y="58"/>
                    <a:pt x="84" y="58"/>
                    <a:pt x="84" y="58"/>
                  </a:cubicBezTo>
                  <a:lnTo>
                    <a:pt x="84" y="18"/>
                  </a:lnTo>
                  <a:close/>
                  <a:moveTo>
                    <a:pt x="84" y="101"/>
                  </a:moveTo>
                  <a:cubicBezTo>
                    <a:pt x="84" y="64"/>
                    <a:pt x="84" y="64"/>
                    <a:pt x="84" y="64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7" y="75"/>
                    <a:pt x="119" y="87"/>
                    <a:pt x="119" y="101"/>
                  </a:cubicBezTo>
                  <a:lnTo>
                    <a:pt x="84" y="101"/>
                  </a:lnTo>
                  <a:close/>
                  <a:moveTo>
                    <a:pt x="107" y="183"/>
                  </a:moveTo>
                  <a:cubicBezTo>
                    <a:pt x="114" y="175"/>
                    <a:pt x="120" y="165"/>
                    <a:pt x="125" y="151"/>
                  </a:cubicBezTo>
                  <a:cubicBezTo>
                    <a:pt x="148" y="151"/>
                    <a:pt x="148" y="151"/>
                    <a:pt x="148" y="151"/>
                  </a:cubicBezTo>
                  <a:cubicBezTo>
                    <a:pt x="138" y="165"/>
                    <a:pt x="124" y="177"/>
                    <a:pt x="107" y="183"/>
                  </a:cubicBezTo>
                  <a:close/>
                  <a:moveTo>
                    <a:pt x="152" y="144"/>
                  </a:moveTo>
                  <a:cubicBezTo>
                    <a:pt x="127" y="144"/>
                    <a:pt x="127" y="144"/>
                    <a:pt x="127" y="144"/>
                  </a:cubicBezTo>
                  <a:cubicBezTo>
                    <a:pt x="130" y="134"/>
                    <a:pt x="132" y="122"/>
                    <a:pt x="132" y="107"/>
                  </a:cubicBezTo>
                  <a:cubicBezTo>
                    <a:pt x="163" y="107"/>
                    <a:pt x="163" y="107"/>
                    <a:pt x="163" y="107"/>
                  </a:cubicBezTo>
                  <a:cubicBezTo>
                    <a:pt x="162" y="121"/>
                    <a:pt x="159" y="133"/>
                    <a:pt x="152" y="144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41" name="Freeform 37"/>
            <p:cNvSpPr/>
            <p:nvPr/>
          </p:nvSpPr>
          <p:spPr>
            <a:xfrm>
              <a:off x="4543560" y="5027760"/>
              <a:ext cx="145080" cy="22752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64" h="255">
                  <a:moveTo>
                    <a:pt x="0" y="126"/>
                  </a:moveTo>
                  <a:cubicBezTo>
                    <a:pt x="0" y="36"/>
                    <a:pt x="30" y="0"/>
                    <a:pt x="81" y="0"/>
                  </a:cubicBezTo>
                  <a:cubicBezTo>
                    <a:pt x="133" y="0"/>
                    <a:pt x="164" y="36"/>
                    <a:pt x="164" y="125"/>
                  </a:cubicBezTo>
                  <a:cubicBezTo>
                    <a:pt x="164" y="214"/>
                    <a:pt x="133" y="255"/>
                    <a:pt x="81" y="255"/>
                  </a:cubicBezTo>
                  <a:cubicBezTo>
                    <a:pt x="30" y="255"/>
                    <a:pt x="0" y="216"/>
                    <a:pt x="0" y="126"/>
                  </a:cubicBezTo>
                  <a:close/>
                  <a:moveTo>
                    <a:pt x="116" y="127"/>
                  </a:moveTo>
                  <a:cubicBezTo>
                    <a:pt x="116" y="61"/>
                    <a:pt x="105" y="37"/>
                    <a:pt x="83" y="37"/>
                  </a:cubicBezTo>
                  <a:cubicBezTo>
                    <a:pt x="60" y="37"/>
                    <a:pt x="48" y="61"/>
                    <a:pt x="48" y="127"/>
                  </a:cubicBezTo>
                  <a:cubicBezTo>
                    <a:pt x="48" y="193"/>
                    <a:pt x="60" y="217"/>
                    <a:pt x="83" y="217"/>
                  </a:cubicBezTo>
                  <a:cubicBezTo>
                    <a:pt x="105" y="217"/>
                    <a:pt x="116" y="192"/>
                    <a:pt x="116" y="127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42" name="Freeform 38"/>
            <p:cNvSpPr/>
            <p:nvPr/>
          </p:nvSpPr>
          <p:spPr>
            <a:xfrm>
              <a:off x="4694400" y="5027760"/>
              <a:ext cx="144000" cy="2192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62" h="246">
                  <a:moveTo>
                    <a:pt x="0" y="246"/>
                  </a:moveTo>
                  <a:cubicBezTo>
                    <a:pt x="0" y="202"/>
                    <a:pt x="10" y="172"/>
                    <a:pt x="72" y="128"/>
                  </a:cubicBezTo>
                  <a:cubicBezTo>
                    <a:pt x="106" y="103"/>
                    <a:pt x="116" y="91"/>
                    <a:pt x="116" y="71"/>
                  </a:cubicBezTo>
                  <a:cubicBezTo>
                    <a:pt x="116" y="47"/>
                    <a:pt x="101" y="40"/>
                    <a:pt x="83" y="40"/>
                  </a:cubicBezTo>
                  <a:cubicBezTo>
                    <a:pt x="62" y="40"/>
                    <a:pt x="48" y="50"/>
                    <a:pt x="48" y="82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31"/>
                    <a:pt x="32" y="0"/>
                    <a:pt x="81" y="0"/>
                  </a:cubicBezTo>
                  <a:cubicBezTo>
                    <a:pt x="129" y="0"/>
                    <a:pt x="162" y="22"/>
                    <a:pt x="162" y="69"/>
                  </a:cubicBezTo>
                  <a:cubicBezTo>
                    <a:pt x="162" y="106"/>
                    <a:pt x="144" y="127"/>
                    <a:pt x="93" y="163"/>
                  </a:cubicBezTo>
                  <a:cubicBezTo>
                    <a:pt x="74" y="176"/>
                    <a:pt x="60" y="194"/>
                    <a:pt x="59" y="206"/>
                  </a:cubicBezTo>
                  <a:cubicBezTo>
                    <a:pt x="162" y="206"/>
                    <a:pt x="162" y="206"/>
                    <a:pt x="162" y="206"/>
                  </a:cubicBezTo>
                  <a:cubicBezTo>
                    <a:pt x="162" y="246"/>
                    <a:pt x="162" y="246"/>
                    <a:pt x="162" y="246"/>
                  </a:cubicBezTo>
                  <a:lnTo>
                    <a:pt x="0" y="246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43" name="Rectangle 39"/>
            <p:cNvSpPr/>
            <p:nvPr/>
          </p:nvSpPr>
          <p:spPr>
            <a:xfrm>
              <a:off x="4559760" y="5281560"/>
              <a:ext cx="582120" cy="792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344" name="Freeform 46"/>
          <p:cNvSpPr/>
          <p:nvPr/>
        </p:nvSpPr>
        <p:spPr>
          <a:xfrm>
            <a:off x="6684840" y="3935520"/>
            <a:ext cx="146160" cy="228600"/>
          </a:xfrm>
          <a:custGeom>
            <a:avLst/>
            <a:gdLst>
              <a:gd name="textAreaLeft" fmla="*/ 0 w 146160"/>
              <a:gd name="textAreaRight" fmla="*/ 146520 w 146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64" h="255">
                <a:moveTo>
                  <a:pt x="0" y="126"/>
                </a:moveTo>
                <a:cubicBezTo>
                  <a:pt x="0" y="37"/>
                  <a:pt x="30" y="0"/>
                  <a:pt x="81" y="0"/>
                </a:cubicBezTo>
                <a:cubicBezTo>
                  <a:pt x="133" y="0"/>
                  <a:pt x="164" y="37"/>
                  <a:pt x="164" y="126"/>
                </a:cubicBezTo>
                <a:cubicBezTo>
                  <a:pt x="164" y="215"/>
                  <a:pt x="133" y="255"/>
                  <a:pt x="81" y="255"/>
                </a:cubicBezTo>
                <a:cubicBezTo>
                  <a:pt x="30" y="255"/>
                  <a:pt x="0" y="216"/>
                  <a:pt x="0" y="126"/>
                </a:cubicBezTo>
                <a:close/>
                <a:moveTo>
                  <a:pt x="117" y="128"/>
                </a:moveTo>
                <a:cubicBezTo>
                  <a:pt x="117" y="62"/>
                  <a:pt x="105" y="38"/>
                  <a:pt x="83" y="38"/>
                </a:cubicBezTo>
                <a:cubicBezTo>
                  <a:pt x="60" y="38"/>
                  <a:pt x="49" y="61"/>
                  <a:pt x="49" y="127"/>
                </a:cubicBezTo>
                <a:cubicBezTo>
                  <a:pt x="49" y="194"/>
                  <a:pt x="60" y="217"/>
                  <a:pt x="83" y="217"/>
                </a:cubicBezTo>
                <a:cubicBezTo>
                  <a:pt x="105" y="217"/>
                  <a:pt x="117" y="193"/>
                  <a:pt x="117" y="128"/>
                </a:cubicBezTo>
                <a:close/>
              </a:path>
            </a:pathLst>
          </a:custGeom>
          <a:solidFill>
            <a:srgbClr val="1855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45" name="Freeform 47"/>
          <p:cNvSpPr/>
          <p:nvPr/>
        </p:nvSpPr>
        <p:spPr>
          <a:xfrm>
            <a:off x="6837480" y="3943440"/>
            <a:ext cx="149040" cy="212760"/>
          </a:xfrm>
          <a:custGeom>
            <a:avLst/>
            <a:gdLst>
              <a:gd name="textAreaLeft" fmla="*/ 0 w 149040"/>
              <a:gd name="textAreaRight" fmla="*/ 149400 w 1490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6" h="180">
                <a:moveTo>
                  <a:pt x="70" y="180"/>
                </a:moveTo>
                <a:lnTo>
                  <a:pt x="70" y="141"/>
                </a:lnTo>
                <a:lnTo>
                  <a:pt x="0" y="141"/>
                </a:lnTo>
                <a:lnTo>
                  <a:pt x="0" y="110"/>
                </a:lnTo>
                <a:lnTo>
                  <a:pt x="65" y="0"/>
                </a:lnTo>
                <a:lnTo>
                  <a:pt x="105" y="0"/>
                </a:lnTo>
                <a:lnTo>
                  <a:pt x="105" y="113"/>
                </a:lnTo>
                <a:lnTo>
                  <a:pt x="126" y="113"/>
                </a:lnTo>
                <a:lnTo>
                  <a:pt x="126" y="141"/>
                </a:lnTo>
                <a:lnTo>
                  <a:pt x="105" y="141"/>
                </a:lnTo>
                <a:lnTo>
                  <a:pt x="105" y="180"/>
                </a:lnTo>
                <a:lnTo>
                  <a:pt x="70" y="180"/>
                </a:lnTo>
                <a:close/>
                <a:moveTo>
                  <a:pt x="71" y="50"/>
                </a:moveTo>
                <a:lnTo>
                  <a:pt x="34" y="113"/>
                </a:lnTo>
                <a:lnTo>
                  <a:pt x="71" y="113"/>
                </a:lnTo>
                <a:lnTo>
                  <a:pt x="71" y="50"/>
                </a:lnTo>
                <a:close/>
              </a:path>
            </a:pathLst>
          </a:custGeom>
          <a:solidFill>
            <a:srgbClr val="1855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46" name="Rectangle 48"/>
          <p:cNvSpPr/>
          <p:nvPr/>
        </p:nvSpPr>
        <p:spPr>
          <a:xfrm>
            <a:off x="6697800" y="4191120"/>
            <a:ext cx="583920" cy="7920"/>
          </a:xfrm>
          <a:prstGeom prst="rect">
            <a:avLst/>
          </a:pr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347" name="组合 146"/>
          <p:cNvGrpSpPr/>
          <p:nvPr/>
        </p:nvGrpSpPr>
        <p:grpSpPr>
          <a:xfrm>
            <a:off x="6559560" y="2679840"/>
            <a:ext cx="598320" cy="252360"/>
            <a:chOff x="6559560" y="2679840"/>
            <a:chExt cx="598320" cy="252360"/>
          </a:xfrm>
        </p:grpSpPr>
        <p:sp>
          <p:nvSpPr>
            <p:cNvPr id="1348" name="Rectangle 49"/>
            <p:cNvSpPr/>
            <p:nvPr/>
          </p:nvSpPr>
          <p:spPr>
            <a:xfrm>
              <a:off x="6559560" y="2924280"/>
              <a:ext cx="582120" cy="7920"/>
            </a:xfrm>
            <a:prstGeom prst="rect">
              <a:avLst/>
            </a:prstGeom>
            <a:solidFill>
              <a:srgbClr val="585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49" name="Freeform 50"/>
            <p:cNvSpPr/>
            <p:nvPr/>
          </p:nvSpPr>
          <p:spPr>
            <a:xfrm>
              <a:off x="6921720" y="2756520"/>
              <a:ext cx="84960" cy="1321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95" h="148">
                  <a:moveTo>
                    <a:pt x="42" y="74"/>
                  </a:moveTo>
                  <a:cubicBezTo>
                    <a:pt x="42" y="40"/>
                    <a:pt x="64" y="12"/>
                    <a:pt x="95" y="3"/>
                  </a:cubicBezTo>
                  <a:cubicBezTo>
                    <a:pt x="88" y="1"/>
                    <a:pt x="81" y="0"/>
                    <a:pt x="74" y="0"/>
                  </a:cubicBezTo>
                  <a:cubicBezTo>
                    <a:pt x="33" y="0"/>
                    <a:pt x="0" y="33"/>
                    <a:pt x="0" y="74"/>
                  </a:cubicBezTo>
                  <a:cubicBezTo>
                    <a:pt x="0" y="115"/>
                    <a:pt x="33" y="148"/>
                    <a:pt x="74" y="148"/>
                  </a:cubicBezTo>
                  <a:cubicBezTo>
                    <a:pt x="81" y="148"/>
                    <a:pt x="88" y="147"/>
                    <a:pt x="95" y="145"/>
                  </a:cubicBezTo>
                  <a:cubicBezTo>
                    <a:pt x="64" y="136"/>
                    <a:pt x="42" y="107"/>
                    <a:pt x="42" y="74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50" name="Freeform 51"/>
            <p:cNvSpPr/>
            <p:nvPr/>
          </p:nvSpPr>
          <p:spPr>
            <a:xfrm>
              <a:off x="6978600" y="2682000"/>
              <a:ext cx="179280" cy="2113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01" h="236">
                  <a:moveTo>
                    <a:pt x="201" y="142"/>
                  </a:moveTo>
                  <a:cubicBezTo>
                    <a:pt x="201" y="134"/>
                    <a:pt x="194" y="127"/>
                    <a:pt x="183" y="123"/>
                  </a:cubicBezTo>
                  <a:cubicBezTo>
                    <a:pt x="188" y="119"/>
                    <a:pt x="192" y="114"/>
                    <a:pt x="191" y="109"/>
                  </a:cubicBezTo>
                  <a:cubicBezTo>
                    <a:pt x="190" y="89"/>
                    <a:pt x="140" y="90"/>
                    <a:pt x="113" y="90"/>
                  </a:cubicBezTo>
                  <a:cubicBezTo>
                    <a:pt x="112" y="90"/>
                    <a:pt x="110" y="90"/>
                    <a:pt x="109" y="90"/>
                  </a:cubicBezTo>
                  <a:cubicBezTo>
                    <a:pt x="109" y="85"/>
                    <a:pt x="123" y="79"/>
                    <a:pt x="124" y="74"/>
                  </a:cubicBezTo>
                  <a:cubicBezTo>
                    <a:pt x="131" y="69"/>
                    <a:pt x="137" y="57"/>
                    <a:pt x="139" y="44"/>
                  </a:cubicBezTo>
                  <a:cubicBezTo>
                    <a:pt x="142" y="23"/>
                    <a:pt x="135" y="4"/>
                    <a:pt x="123" y="2"/>
                  </a:cubicBezTo>
                  <a:cubicBezTo>
                    <a:pt x="111" y="0"/>
                    <a:pt x="107" y="12"/>
                    <a:pt x="104" y="33"/>
                  </a:cubicBezTo>
                  <a:cubicBezTo>
                    <a:pt x="103" y="36"/>
                    <a:pt x="95" y="43"/>
                    <a:pt x="95" y="46"/>
                  </a:cubicBezTo>
                  <a:cubicBezTo>
                    <a:pt x="71" y="54"/>
                    <a:pt x="59" y="74"/>
                    <a:pt x="44" y="82"/>
                  </a:cubicBezTo>
                  <a:cubicBezTo>
                    <a:pt x="12" y="94"/>
                    <a:pt x="0" y="128"/>
                    <a:pt x="0" y="163"/>
                  </a:cubicBezTo>
                  <a:cubicBezTo>
                    <a:pt x="0" y="208"/>
                    <a:pt x="33" y="236"/>
                    <a:pt x="80" y="236"/>
                  </a:cubicBezTo>
                  <a:cubicBezTo>
                    <a:pt x="99" y="236"/>
                    <a:pt x="122" y="234"/>
                    <a:pt x="137" y="224"/>
                  </a:cubicBezTo>
                  <a:cubicBezTo>
                    <a:pt x="156" y="221"/>
                    <a:pt x="171" y="217"/>
                    <a:pt x="171" y="206"/>
                  </a:cubicBezTo>
                  <a:cubicBezTo>
                    <a:pt x="171" y="203"/>
                    <a:pt x="170" y="200"/>
                    <a:pt x="168" y="198"/>
                  </a:cubicBezTo>
                  <a:cubicBezTo>
                    <a:pt x="182" y="193"/>
                    <a:pt x="191" y="186"/>
                    <a:pt x="191" y="177"/>
                  </a:cubicBezTo>
                  <a:cubicBezTo>
                    <a:pt x="191" y="171"/>
                    <a:pt x="187" y="166"/>
                    <a:pt x="180" y="162"/>
                  </a:cubicBezTo>
                  <a:cubicBezTo>
                    <a:pt x="193" y="157"/>
                    <a:pt x="201" y="150"/>
                    <a:pt x="201" y="142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51" name="Freeform 52"/>
            <p:cNvSpPr/>
            <p:nvPr/>
          </p:nvSpPr>
          <p:spPr>
            <a:xfrm>
              <a:off x="6572520" y="2679840"/>
              <a:ext cx="140400" cy="2181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158" h="244">
                  <a:moveTo>
                    <a:pt x="0" y="121"/>
                  </a:moveTo>
                  <a:cubicBezTo>
                    <a:pt x="0" y="35"/>
                    <a:pt x="29" y="0"/>
                    <a:pt x="78" y="0"/>
                  </a:cubicBezTo>
                  <a:cubicBezTo>
                    <a:pt x="128" y="0"/>
                    <a:pt x="158" y="35"/>
                    <a:pt x="158" y="120"/>
                  </a:cubicBezTo>
                  <a:cubicBezTo>
                    <a:pt x="158" y="205"/>
                    <a:pt x="128" y="244"/>
                    <a:pt x="78" y="244"/>
                  </a:cubicBezTo>
                  <a:cubicBezTo>
                    <a:pt x="29" y="244"/>
                    <a:pt x="0" y="207"/>
                    <a:pt x="0" y="121"/>
                  </a:cubicBezTo>
                  <a:close/>
                  <a:moveTo>
                    <a:pt x="112" y="122"/>
                  </a:moveTo>
                  <a:cubicBezTo>
                    <a:pt x="112" y="59"/>
                    <a:pt x="101" y="36"/>
                    <a:pt x="80" y="36"/>
                  </a:cubicBezTo>
                  <a:cubicBezTo>
                    <a:pt x="58" y="36"/>
                    <a:pt x="47" y="58"/>
                    <a:pt x="47" y="122"/>
                  </a:cubicBezTo>
                  <a:cubicBezTo>
                    <a:pt x="47" y="185"/>
                    <a:pt x="58" y="208"/>
                    <a:pt x="80" y="208"/>
                  </a:cubicBezTo>
                  <a:cubicBezTo>
                    <a:pt x="101" y="208"/>
                    <a:pt x="112" y="185"/>
                    <a:pt x="112" y="122"/>
                  </a:cubicBez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52" name="Freeform 53"/>
            <p:cNvSpPr/>
            <p:nvPr/>
          </p:nvSpPr>
          <p:spPr>
            <a:xfrm>
              <a:off x="6724800" y="2686680"/>
              <a:ext cx="137880" cy="2113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155" h="237">
                  <a:moveTo>
                    <a:pt x="0" y="139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146" y="0"/>
                    <a:pt x="146" y="0"/>
                    <a:pt x="146" y="0"/>
                  </a:cubicBezTo>
                  <a:cubicBezTo>
                    <a:pt x="146" y="38"/>
                    <a:pt x="146" y="38"/>
                    <a:pt x="146" y="38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55" y="87"/>
                    <a:pt x="72" y="84"/>
                    <a:pt x="89" y="84"/>
                  </a:cubicBezTo>
                  <a:cubicBezTo>
                    <a:pt x="126" y="84"/>
                    <a:pt x="155" y="110"/>
                    <a:pt x="155" y="156"/>
                  </a:cubicBezTo>
                  <a:cubicBezTo>
                    <a:pt x="155" y="205"/>
                    <a:pt x="122" y="237"/>
                    <a:pt x="76" y="237"/>
                  </a:cubicBezTo>
                  <a:cubicBezTo>
                    <a:pt x="34" y="237"/>
                    <a:pt x="1" y="210"/>
                    <a:pt x="0" y="170"/>
                  </a:cubicBezTo>
                  <a:cubicBezTo>
                    <a:pt x="45" y="170"/>
                    <a:pt x="45" y="170"/>
                    <a:pt x="45" y="170"/>
                  </a:cubicBezTo>
                  <a:cubicBezTo>
                    <a:pt x="46" y="189"/>
                    <a:pt x="58" y="201"/>
                    <a:pt x="76" y="201"/>
                  </a:cubicBezTo>
                  <a:cubicBezTo>
                    <a:pt x="101" y="201"/>
                    <a:pt x="110" y="183"/>
                    <a:pt x="110" y="158"/>
                  </a:cubicBezTo>
                  <a:cubicBezTo>
                    <a:pt x="110" y="134"/>
                    <a:pt x="100" y="120"/>
                    <a:pt x="79" y="120"/>
                  </a:cubicBezTo>
                  <a:cubicBezTo>
                    <a:pt x="62" y="120"/>
                    <a:pt x="53" y="127"/>
                    <a:pt x="47" y="139"/>
                  </a:cubicBezTo>
                  <a:lnTo>
                    <a:pt x="0" y="139"/>
                  </a:lnTo>
                  <a:close/>
                </a:path>
              </a:pathLst>
            </a:custGeom>
            <a:solidFill>
              <a:srgbClr val="185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353" name="文本框 87"/>
          <p:cNvSpPr/>
          <p:nvPr/>
        </p:nvSpPr>
        <p:spPr>
          <a:xfrm>
            <a:off x="2809800" y="275580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354" name="组合 10"/>
          <p:cNvGrpSpPr/>
          <p:nvPr/>
        </p:nvGrpSpPr>
        <p:grpSpPr>
          <a:xfrm>
            <a:off x="4745160" y="3139920"/>
            <a:ext cx="1174680" cy="1141560"/>
            <a:chOff x="4745160" y="3139920"/>
            <a:chExt cx="1174680" cy="1141560"/>
          </a:xfrm>
        </p:grpSpPr>
        <p:sp>
          <p:nvSpPr>
            <p:cNvPr id="1355" name="Freeform 15"/>
            <p:cNvSpPr/>
            <p:nvPr/>
          </p:nvSpPr>
          <p:spPr>
            <a:xfrm>
              <a:off x="4898880" y="3616920"/>
              <a:ext cx="478440" cy="65412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158" h="216">
                  <a:moveTo>
                    <a:pt x="106" y="85"/>
                  </a:moveTo>
                  <a:cubicBezTo>
                    <a:pt x="106" y="190"/>
                    <a:pt x="106" y="190"/>
                    <a:pt x="106" y="190"/>
                  </a:cubicBezTo>
                  <a:cubicBezTo>
                    <a:pt x="106" y="204"/>
                    <a:pt x="94" y="216"/>
                    <a:pt x="80" y="216"/>
                  </a:cubicBezTo>
                  <a:cubicBezTo>
                    <a:pt x="80" y="216"/>
                    <a:pt x="80" y="216"/>
                    <a:pt x="80" y="216"/>
                  </a:cubicBezTo>
                  <a:cubicBezTo>
                    <a:pt x="65" y="216"/>
                    <a:pt x="54" y="204"/>
                    <a:pt x="54" y="190"/>
                  </a:cubicBezTo>
                  <a:cubicBezTo>
                    <a:pt x="54" y="85"/>
                    <a:pt x="54" y="85"/>
                    <a:pt x="54" y="85"/>
                  </a:cubicBezTo>
                  <a:cubicBezTo>
                    <a:pt x="18" y="85"/>
                    <a:pt x="18" y="85"/>
                    <a:pt x="18" y="85"/>
                  </a:cubicBezTo>
                  <a:cubicBezTo>
                    <a:pt x="3" y="85"/>
                    <a:pt x="0" y="72"/>
                    <a:pt x="11" y="6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73" y="0"/>
                    <a:pt x="85" y="0"/>
                    <a:pt x="98" y="12"/>
                  </a:cubicBezTo>
                  <a:cubicBezTo>
                    <a:pt x="149" y="62"/>
                    <a:pt x="149" y="62"/>
                    <a:pt x="149" y="62"/>
                  </a:cubicBezTo>
                  <a:cubicBezTo>
                    <a:pt x="158" y="71"/>
                    <a:pt x="157" y="85"/>
                    <a:pt x="139" y="85"/>
                  </a:cubicBezTo>
                  <a:lnTo>
                    <a:pt x="106" y="85"/>
                  </a:lnTo>
                  <a:close/>
                </a:path>
              </a:pathLst>
            </a:custGeom>
            <a:solidFill>
              <a:srgbClr val="f06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56" name="Freeform 16"/>
            <p:cNvSpPr/>
            <p:nvPr/>
          </p:nvSpPr>
          <p:spPr>
            <a:xfrm>
              <a:off x="4745160" y="3139920"/>
              <a:ext cx="1174680" cy="82476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824760"/>
                <a:gd name="textAreaBottom" fmla="*/ 825120 h 824760"/>
              </a:gdLst>
              <a:ahLst/>
              <a:rect l="textAreaLeft" t="textAreaTop" r="textAreaRight" b="textAreaBottom"/>
              <a:pathLst>
                <a:path w="388" h="272">
                  <a:moveTo>
                    <a:pt x="308" y="99"/>
                  </a:moveTo>
                  <a:cubicBezTo>
                    <a:pt x="354" y="108"/>
                    <a:pt x="388" y="143"/>
                    <a:pt x="388" y="184"/>
                  </a:cubicBezTo>
                  <a:cubicBezTo>
                    <a:pt x="388" y="184"/>
                    <a:pt x="388" y="184"/>
                    <a:pt x="388" y="184"/>
                  </a:cubicBezTo>
                  <a:cubicBezTo>
                    <a:pt x="388" y="227"/>
                    <a:pt x="352" y="262"/>
                    <a:pt x="304" y="270"/>
                  </a:cubicBezTo>
                  <a:cubicBezTo>
                    <a:pt x="304" y="186"/>
                    <a:pt x="304" y="186"/>
                    <a:pt x="304" y="186"/>
                  </a:cubicBezTo>
                  <a:cubicBezTo>
                    <a:pt x="304" y="175"/>
                    <a:pt x="300" y="165"/>
                    <a:pt x="293" y="158"/>
                  </a:cubicBezTo>
                  <a:cubicBezTo>
                    <a:pt x="286" y="151"/>
                    <a:pt x="276" y="147"/>
                    <a:pt x="266" y="147"/>
                  </a:cubicBezTo>
                  <a:cubicBezTo>
                    <a:pt x="255" y="147"/>
                    <a:pt x="245" y="151"/>
                    <a:pt x="238" y="158"/>
                  </a:cubicBezTo>
                  <a:cubicBezTo>
                    <a:pt x="231" y="165"/>
                    <a:pt x="227" y="175"/>
                    <a:pt x="227" y="186"/>
                  </a:cubicBezTo>
                  <a:cubicBezTo>
                    <a:pt x="227" y="272"/>
                    <a:pt x="227" y="272"/>
                    <a:pt x="227" y="272"/>
                  </a:cubicBezTo>
                  <a:cubicBezTo>
                    <a:pt x="170" y="272"/>
                    <a:pt x="170" y="272"/>
                    <a:pt x="170" y="272"/>
                  </a:cubicBezTo>
                  <a:cubicBezTo>
                    <a:pt x="170" y="255"/>
                    <a:pt x="170" y="255"/>
                    <a:pt x="170" y="255"/>
                  </a:cubicBezTo>
                  <a:cubicBezTo>
                    <a:pt x="190" y="255"/>
                    <a:pt x="190" y="255"/>
                    <a:pt x="190" y="255"/>
                  </a:cubicBezTo>
                  <a:cubicBezTo>
                    <a:pt x="196" y="255"/>
                    <a:pt x="202" y="253"/>
                    <a:pt x="206" y="251"/>
                  </a:cubicBezTo>
                  <a:cubicBezTo>
                    <a:pt x="211" y="248"/>
                    <a:pt x="215" y="244"/>
                    <a:pt x="217" y="239"/>
                  </a:cubicBezTo>
                  <a:cubicBezTo>
                    <a:pt x="218" y="234"/>
                    <a:pt x="219" y="229"/>
                    <a:pt x="217" y="224"/>
                  </a:cubicBezTo>
                  <a:cubicBezTo>
                    <a:pt x="216" y="219"/>
                    <a:pt x="213" y="214"/>
                    <a:pt x="209" y="210"/>
                  </a:cubicBezTo>
                  <a:cubicBezTo>
                    <a:pt x="158" y="160"/>
                    <a:pt x="158" y="160"/>
                    <a:pt x="158" y="160"/>
                  </a:cubicBezTo>
                  <a:cubicBezTo>
                    <a:pt x="149" y="151"/>
                    <a:pt x="140" y="147"/>
                    <a:pt x="131" y="147"/>
                  </a:cubicBezTo>
                  <a:cubicBezTo>
                    <a:pt x="121" y="147"/>
                    <a:pt x="112" y="152"/>
                    <a:pt x="103" y="160"/>
                  </a:cubicBezTo>
                  <a:cubicBezTo>
                    <a:pt x="53" y="210"/>
                    <a:pt x="53" y="210"/>
                    <a:pt x="53" y="210"/>
                  </a:cubicBezTo>
                  <a:cubicBezTo>
                    <a:pt x="48" y="215"/>
                    <a:pt x="45" y="220"/>
                    <a:pt x="44" y="225"/>
                  </a:cubicBezTo>
                  <a:cubicBezTo>
                    <a:pt x="42" y="230"/>
                    <a:pt x="42" y="235"/>
                    <a:pt x="44" y="239"/>
                  </a:cubicBezTo>
                  <a:cubicBezTo>
                    <a:pt x="46" y="244"/>
                    <a:pt x="49" y="248"/>
                    <a:pt x="54" y="251"/>
                  </a:cubicBezTo>
                  <a:cubicBezTo>
                    <a:pt x="58" y="253"/>
                    <a:pt x="63" y="255"/>
                    <a:pt x="69" y="255"/>
                  </a:cubicBezTo>
                  <a:cubicBezTo>
                    <a:pt x="92" y="255"/>
                    <a:pt x="92" y="255"/>
                    <a:pt x="92" y="255"/>
                  </a:cubicBezTo>
                  <a:cubicBezTo>
                    <a:pt x="92" y="271"/>
                    <a:pt x="92" y="271"/>
                    <a:pt x="92" y="271"/>
                  </a:cubicBezTo>
                  <a:cubicBezTo>
                    <a:pt x="40" y="266"/>
                    <a:pt x="0" y="229"/>
                    <a:pt x="0" y="184"/>
                  </a:cubicBezTo>
                  <a:cubicBezTo>
                    <a:pt x="0" y="184"/>
                    <a:pt x="0" y="184"/>
                    <a:pt x="0" y="184"/>
                  </a:cubicBezTo>
                  <a:cubicBezTo>
                    <a:pt x="0" y="143"/>
                    <a:pt x="34" y="108"/>
                    <a:pt x="80" y="99"/>
                  </a:cubicBezTo>
                  <a:cubicBezTo>
                    <a:pt x="80" y="98"/>
                    <a:pt x="80" y="97"/>
                    <a:pt x="80" y="96"/>
                  </a:cubicBezTo>
                  <a:cubicBezTo>
                    <a:pt x="80" y="43"/>
                    <a:pt x="131" y="0"/>
                    <a:pt x="194" y="0"/>
                  </a:cubicBezTo>
                  <a:cubicBezTo>
                    <a:pt x="257" y="0"/>
                    <a:pt x="308" y="43"/>
                    <a:pt x="308" y="96"/>
                  </a:cubicBezTo>
                  <a:cubicBezTo>
                    <a:pt x="308" y="97"/>
                    <a:pt x="308" y="98"/>
                    <a:pt x="308" y="99"/>
                  </a:cubicBezTo>
                  <a:close/>
                </a:path>
              </a:pathLst>
            </a:custGeom>
            <a:solidFill>
              <a:srgbClr val="089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57" name="Freeform 17"/>
            <p:cNvSpPr/>
            <p:nvPr/>
          </p:nvSpPr>
          <p:spPr>
            <a:xfrm>
              <a:off x="5307840" y="3625200"/>
              <a:ext cx="478440" cy="65628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656280"/>
                <a:gd name="textAreaBottom" fmla="*/ 656640 h 656280"/>
              </a:gdLst>
              <a:ahLst/>
              <a:rect l="textAreaLeft" t="textAreaTop" r="textAreaRight" b="textAreaBottom"/>
              <a:pathLst>
                <a:path w="158" h="216">
                  <a:moveTo>
                    <a:pt x="106" y="131"/>
                  </a:moveTo>
                  <a:cubicBezTo>
                    <a:pt x="106" y="26"/>
                    <a:pt x="106" y="26"/>
                    <a:pt x="106" y="26"/>
                  </a:cubicBezTo>
                  <a:cubicBezTo>
                    <a:pt x="106" y="12"/>
                    <a:pt x="94" y="0"/>
                    <a:pt x="8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65" y="0"/>
                    <a:pt x="54" y="12"/>
                    <a:pt x="54" y="26"/>
                  </a:cubicBezTo>
                  <a:cubicBezTo>
                    <a:pt x="54" y="131"/>
                    <a:pt x="54" y="131"/>
                    <a:pt x="54" y="131"/>
                  </a:cubicBezTo>
                  <a:cubicBezTo>
                    <a:pt x="18" y="131"/>
                    <a:pt x="18" y="131"/>
                    <a:pt x="18" y="131"/>
                  </a:cubicBezTo>
                  <a:cubicBezTo>
                    <a:pt x="3" y="131"/>
                    <a:pt x="0" y="143"/>
                    <a:pt x="10" y="153"/>
                  </a:cubicBezTo>
                  <a:cubicBezTo>
                    <a:pt x="61" y="203"/>
                    <a:pt x="61" y="203"/>
                    <a:pt x="61" y="203"/>
                  </a:cubicBezTo>
                  <a:cubicBezTo>
                    <a:pt x="73" y="216"/>
                    <a:pt x="85" y="216"/>
                    <a:pt x="98" y="203"/>
                  </a:cubicBezTo>
                  <a:cubicBezTo>
                    <a:pt x="149" y="153"/>
                    <a:pt x="149" y="153"/>
                    <a:pt x="149" y="153"/>
                  </a:cubicBezTo>
                  <a:cubicBezTo>
                    <a:pt x="158" y="144"/>
                    <a:pt x="156" y="131"/>
                    <a:pt x="138" y="131"/>
                  </a:cubicBezTo>
                  <a:lnTo>
                    <a:pt x="106" y="131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358" name="文本框 21"/>
          <p:cNvSpPr/>
          <p:nvPr/>
        </p:nvSpPr>
        <p:spPr>
          <a:xfrm>
            <a:off x="4786920" y="427356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428f"/>
                </a:solidFill>
                <a:latin typeface="微软雅黑"/>
                <a:ea typeface="微软雅黑"/>
              </a:rPr>
              <a:t>CONTENT 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359" name="图片 58" descr=""/>
          <p:cNvPicPr/>
          <p:nvPr/>
        </p:nvPicPr>
        <p:blipFill>
          <a:blip r:embed="rId6"/>
          <a:stretch/>
        </p:blipFill>
        <p:spPr>
          <a:xfrm>
            <a:off x="689040" y="2408400"/>
            <a:ext cx="24145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1360" name="椭圆 61"/>
          <p:cNvGrpSpPr/>
          <p:nvPr/>
        </p:nvGrpSpPr>
        <p:grpSpPr>
          <a:xfrm>
            <a:off x="5303880" y="1743120"/>
            <a:ext cx="1127160" cy="1122480"/>
            <a:chOff x="5303880" y="1743120"/>
            <a:chExt cx="1127160" cy="1122480"/>
          </a:xfrm>
        </p:grpSpPr>
        <p:pic>
          <p:nvPicPr>
            <p:cNvPr id="1361" name="椭圆 61" descr=""/>
            <p:cNvPicPr/>
            <p:nvPr/>
          </p:nvPicPr>
          <p:blipFill>
            <a:blip r:embed="rId7"/>
            <a:stretch/>
          </p:blipFill>
          <p:spPr>
            <a:xfrm>
              <a:off x="5303880" y="1743120"/>
              <a:ext cx="11271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2" name=""/>
            <p:cNvSpPr/>
            <p:nvPr/>
          </p:nvSpPr>
          <p:spPr>
            <a:xfrm>
              <a:off x="5468760" y="1908000"/>
              <a:ext cx="79560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363" name="Rectangle 49"/>
          <p:cNvSpPr/>
          <p:nvPr/>
        </p:nvSpPr>
        <p:spPr>
          <a:xfrm>
            <a:off x="5565600" y="2165400"/>
            <a:ext cx="582840" cy="7920"/>
          </a:xfrm>
          <a:prstGeom prst="rect">
            <a:avLst/>
          </a:pr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64" name="Freeform 52"/>
          <p:cNvSpPr/>
          <p:nvPr/>
        </p:nvSpPr>
        <p:spPr>
          <a:xfrm>
            <a:off x="5578560" y="1920960"/>
            <a:ext cx="141120" cy="217440"/>
          </a:xfrm>
          <a:custGeom>
            <a:avLst/>
            <a:gdLst>
              <a:gd name="textAreaLeft" fmla="*/ 0 w 141120"/>
              <a:gd name="textAreaRight" fmla="*/ 141480 w 1411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58" h="244">
                <a:moveTo>
                  <a:pt x="0" y="121"/>
                </a:moveTo>
                <a:cubicBezTo>
                  <a:pt x="0" y="35"/>
                  <a:pt x="29" y="0"/>
                  <a:pt x="78" y="0"/>
                </a:cubicBezTo>
                <a:cubicBezTo>
                  <a:pt x="128" y="0"/>
                  <a:pt x="158" y="35"/>
                  <a:pt x="158" y="120"/>
                </a:cubicBezTo>
                <a:cubicBezTo>
                  <a:pt x="158" y="205"/>
                  <a:pt x="128" y="244"/>
                  <a:pt x="78" y="244"/>
                </a:cubicBezTo>
                <a:cubicBezTo>
                  <a:pt x="29" y="244"/>
                  <a:pt x="0" y="207"/>
                  <a:pt x="0" y="121"/>
                </a:cubicBezTo>
                <a:close/>
                <a:moveTo>
                  <a:pt x="112" y="122"/>
                </a:moveTo>
                <a:cubicBezTo>
                  <a:pt x="112" y="59"/>
                  <a:pt x="101" y="36"/>
                  <a:pt x="80" y="36"/>
                </a:cubicBezTo>
                <a:cubicBezTo>
                  <a:pt x="58" y="36"/>
                  <a:pt x="47" y="58"/>
                  <a:pt x="47" y="122"/>
                </a:cubicBezTo>
                <a:cubicBezTo>
                  <a:pt x="47" y="185"/>
                  <a:pt x="58" y="208"/>
                  <a:pt x="80" y="208"/>
                </a:cubicBezTo>
                <a:cubicBezTo>
                  <a:pt x="101" y="208"/>
                  <a:pt x="112" y="185"/>
                  <a:pt x="112" y="122"/>
                </a:cubicBezTo>
                <a:close/>
              </a:path>
            </a:pathLst>
          </a:custGeom>
          <a:solidFill>
            <a:srgbClr val="1855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65" name="文本框 18"/>
          <p:cNvSpPr/>
          <p:nvPr/>
        </p:nvSpPr>
        <p:spPr>
          <a:xfrm>
            <a:off x="3373200" y="452592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54749"/>
                </a:solidFill>
                <a:latin typeface="Arial Black"/>
                <a:ea typeface="微软雅黑"/>
              </a:rPr>
              <a:t>CONTENT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66" name="矩形 223"/>
          <p:cNvSpPr/>
          <p:nvPr/>
        </p:nvSpPr>
        <p:spPr>
          <a:xfrm>
            <a:off x="5677200" y="534024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54749"/>
                </a:solidFill>
                <a:latin typeface="Arial Black"/>
                <a:ea typeface="微软雅黑"/>
              </a:rPr>
              <a:t>CONTENT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67" name="矩形 224"/>
          <p:cNvSpPr/>
          <p:nvPr/>
        </p:nvSpPr>
        <p:spPr>
          <a:xfrm>
            <a:off x="4327920" y="542124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54749"/>
                </a:solidFill>
                <a:latin typeface="Arial Black"/>
                <a:ea typeface="微软雅黑"/>
              </a:rPr>
              <a:t>CONTENT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68" name="文本框 19"/>
          <p:cNvSpPr/>
          <p:nvPr/>
        </p:nvSpPr>
        <p:spPr>
          <a:xfrm>
            <a:off x="6525000" y="433224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54749"/>
                </a:solidFill>
                <a:latin typeface="Arial Black"/>
                <a:ea typeface="微软雅黑"/>
              </a:rPr>
              <a:t>CONTENT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69" name="矩形 226"/>
          <p:cNvSpPr/>
          <p:nvPr/>
        </p:nvSpPr>
        <p:spPr>
          <a:xfrm>
            <a:off x="6391800" y="30528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54749"/>
                </a:solidFill>
                <a:latin typeface="Arial Black"/>
                <a:ea typeface="微软雅黑"/>
              </a:rPr>
              <a:t>CONTENT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70" name="文本框 227"/>
          <p:cNvSpPr/>
          <p:nvPr/>
        </p:nvSpPr>
        <p:spPr>
          <a:xfrm>
            <a:off x="5630760" y="176040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556f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71" name="KSO_Shape"/>
          <p:cNvSpPr/>
          <p:nvPr/>
        </p:nvSpPr>
        <p:spPr>
          <a:xfrm>
            <a:off x="5929200" y="1924200"/>
            <a:ext cx="297000" cy="209520"/>
          </a:xfrm>
          <a:custGeom>
            <a:avLst/>
            <a:gdLst/>
            <a:ahLst/>
            <a:rect l="l" t="t" r="r" b="b"/>
            <a:pathLst>
              <a:path w="2060576" h="1465263">
                <a:moveTo>
                  <a:pt x="1558363" y="990918"/>
                </a:moveTo>
                <a:lnTo>
                  <a:pt x="1525030" y="995998"/>
                </a:lnTo>
                <a:lnTo>
                  <a:pt x="1491381" y="1000126"/>
                </a:lnTo>
                <a:lnTo>
                  <a:pt x="1456779" y="1003301"/>
                </a:lnTo>
                <a:lnTo>
                  <a:pt x="1421224" y="1006158"/>
                </a:lnTo>
                <a:lnTo>
                  <a:pt x="1402812" y="1006793"/>
                </a:lnTo>
                <a:lnTo>
                  <a:pt x="1384717" y="1008063"/>
                </a:lnTo>
                <a:lnTo>
                  <a:pt x="1366305" y="1008381"/>
                </a:lnTo>
                <a:lnTo>
                  <a:pt x="1347893" y="1008698"/>
                </a:lnTo>
                <a:lnTo>
                  <a:pt x="1328846" y="1008698"/>
                </a:lnTo>
                <a:lnTo>
                  <a:pt x="1310117" y="1008381"/>
                </a:lnTo>
                <a:lnTo>
                  <a:pt x="1290752" y="1008063"/>
                </a:lnTo>
                <a:lnTo>
                  <a:pt x="1271388" y="1007111"/>
                </a:lnTo>
                <a:lnTo>
                  <a:pt x="1245992" y="1005841"/>
                </a:lnTo>
                <a:lnTo>
                  <a:pt x="1220278" y="1003301"/>
                </a:lnTo>
                <a:lnTo>
                  <a:pt x="1194247" y="1000443"/>
                </a:lnTo>
                <a:lnTo>
                  <a:pt x="1168217" y="996633"/>
                </a:lnTo>
                <a:lnTo>
                  <a:pt x="1162185" y="1257301"/>
                </a:lnTo>
                <a:lnTo>
                  <a:pt x="1189168" y="1260476"/>
                </a:lnTo>
                <a:lnTo>
                  <a:pt x="1215199" y="1263651"/>
                </a:lnTo>
                <a:lnTo>
                  <a:pt x="1241230" y="1265873"/>
                </a:lnTo>
                <a:lnTo>
                  <a:pt x="1266943" y="1267461"/>
                </a:lnTo>
                <a:lnTo>
                  <a:pt x="1286308" y="1268096"/>
                </a:lnTo>
                <a:lnTo>
                  <a:pt x="1305355" y="1268413"/>
                </a:lnTo>
                <a:lnTo>
                  <a:pt x="1324402" y="1268413"/>
                </a:lnTo>
                <a:lnTo>
                  <a:pt x="1343132" y="1268413"/>
                </a:lnTo>
                <a:lnTo>
                  <a:pt x="1361861" y="1268096"/>
                </a:lnTo>
                <a:lnTo>
                  <a:pt x="1379956" y="1267461"/>
                </a:lnTo>
                <a:lnTo>
                  <a:pt x="1398050" y="1266508"/>
                </a:lnTo>
                <a:lnTo>
                  <a:pt x="1416145" y="1265556"/>
                </a:lnTo>
                <a:lnTo>
                  <a:pt x="1433922" y="1264286"/>
                </a:lnTo>
                <a:lnTo>
                  <a:pt x="1451382" y="1262698"/>
                </a:lnTo>
                <a:lnTo>
                  <a:pt x="1485667" y="1259206"/>
                </a:lnTo>
                <a:lnTo>
                  <a:pt x="1519316" y="1254443"/>
                </a:lnTo>
                <a:lnTo>
                  <a:pt x="1552331" y="1249363"/>
                </a:lnTo>
                <a:lnTo>
                  <a:pt x="1558363" y="990918"/>
                </a:lnTo>
                <a:close/>
                <a:moveTo>
                  <a:pt x="678074" y="884873"/>
                </a:moveTo>
                <a:lnTo>
                  <a:pt x="672042" y="1155066"/>
                </a:lnTo>
                <a:lnTo>
                  <a:pt x="719977" y="1164908"/>
                </a:lnTo>
                <a:lnTo>
                  <a:pt x="768229" y="1176021"/>
                </a:lnTo>
                <a:lnTo>
                  <a:pt x="817117" y="1186816"/>
                </a:lnTo>
                <a:lnTo>
                  <a:pt x="866004" y="1198246"/>
                </a:lnTo>
                <a:lnTo>
                  <a:pt x="914574" y="1209041"/>
                </a:lnTo>
                <a:lnTo>
                  <a:pt x="963144" y="1220153"/>
                </a:lnTo>
                <a:lnTo>
                  <a:pt x="1011396" y="1230631"/>
                </a:lnTo>
                <a:lnTo>
                  <a:pt x="1059331" y="1240156"/>
                </a:lnTo>
                <a:lnTo>
                  <a:pt x="1065680" y="978218"/>
                </a:lnTo>
                <a:lnTo>
                  <a:pt x="1041554" y="972821"/>
                </a:lnTo>
                <a:lnTo>
                  <a:pt x="1017428" y="967106"/>
                </a:lnTo>
                <a:lnTo>
                  <a:pt x="968858" y="955358"/>
                </a:lnTo>
                <a:lnTo>
                  <a:pt x="920288" y="943293"/>
                </a:lnTo>
                <a:lnTo>
                  <a:pt x="871718" y="930911"/>
                </a:lnTo>
                <a:lnTo>
                  <a:pt x="822831" y="918528"/>
                </a:lnTo>
                <a:lnTo>
                  <a:pt x="774578" y="906146"/>
                </a:lnTo>
                <a:lnTo>
                  <a:pt x="726009" y="895033"/>
                </a:lnTo>
                <a:lnTo>
                  <a:pt x="702200" y="889636"/>
                </a:lnTo>
                <a:lnTo>
                  <a:pt x="678074" y="884873"/>
                </a:lnTo>
                <a:close/>
                <a:moveTo>
                  <a:pt x="1937716" y="876301"/>
                </a:moveTo>
                <a:lnTo>
                  <a:pt x="1911685" y="888048"/>
                </a:lnTo>
                <a:lnTo>
                  <a:pt x="1883114" y="900113"/>
                </a:lnTo>
                <a:lnTo>
                  <a:pt x="1852004" y="912813"/>
                </a:lnTo>
                <a:lnTo>
                  <a:pt x="1835814" y="918846"/>
                </a:lnTo>
                <a:lnTo>
                  <a:pt x="1818672" y="925196"/>
                </a:lnTo>
                <a:lnTo>
                  <a:pt x="1800895" y="931228"/>
                </a:lnTo>
                <a:lnTo>
                  <a:pt x="1782800" y="937261"/>
                </a:lnTo>
                <a:lnTo>
                  <a:pt x="1764070" y="943293"/>
                </a:lnTo>
                <a:lnTo>
                  <a:pt x="1744706" y="949008"/>
                </a:lnTo>
                <a:lnTo>
                  <a:pt x="1724707" y="955041"/>
                </a:lnTo>
                <a:lnTo>
                  <a:pt x="1704072" y="960438"/>
                </a:lnTo>
                <a:lnTo>
                  <a:pt x="1683438" y="966153"/>
                </a:lnTo>
                <a:lnTo>
                  <a:pt x="1661851" y="970916"/>
                </a:lnTo>
                <a:lnTo>
                  <a:pt x="1655820" y="1227773"/>
                </a:lnTo>
                <a:lnTo>
                  <a:pt x="1677724" y="1222058"/>
                </a:lnTo>
                <a:lnTo>
                  <a:pt x="1698993" y="1216026"/>
                </a:lnTo>
                <a:lnTo>
                  <a:pt x="1719627" y="1209993"/>
                </a:lnTo>
                <a:lnTo>
                  <a:pt x="1739627" y="1203326"/>
                </a:lnTo>
                <a:lnTo>
                  <a:pt x="1758991" y="1196976"/>
                </a:lnTo>
                <a:lnTo>
                  <a:pt x="1778038" y="1190626"/>
                </a:lnTo>
                <a:lnTo>
                  <a:pt x="1796133" y="1183958"/>
                </a:lnTo>
                <a:lnTo>
                  <a:pt x="1813910" y="1177291"/>
                </a:lnTo>
                <a:lnTo>
                  <a:pt x="1830735" y="1170623"/>
                </a:lnTo>
                <a:lnTo>
                  <a:pt x="1846925" y="1163638"/>
                </a:lnTo>
                <a:lnTo>
                  <a:pt x="1878035" y="1150303"/>
                </a:lnTo>
                <a:lnTo>
                  <a:pt x="1906288" y="1136968"/>
                </a:lnTo>
                <a:lnTo>
                  <a:pt x="1931684" y="1124586"/>
                </a:lnTo>
                <a:lnTo>
                  <a:pt x="1937716" y="876301"/>
                </a:lnTo>
                <a:close/>
                <a:moveTo>
                  <a:pt x="399987" y="852488"/>
                </a:moveTo>
                <a:lnTo>
                  <a:pt x="382845" y="853441"/>
                </a:lnTo>
                <a:lnTo>
                  <a:pt x="366338" y="854393"/>
                </a:lnTo>
                <a:lnTo>
                  <a:pt x="349513" y="856616"/>
                </a:lnTo>
                <a:lnTo>
                  <a:pt x="333005" y="859473"/>
                </a:lnTo>
                <a:lnTo>
                  <a:pt x="316815" y="863283"/>
                </a:lnTo>
                <a:lnTo>
                  <a:pt x="308879" y="865506"/>
                </a:lnTo>
                <a:lnTo>
                  <a:pt x="300625" y="867728"/>
                </a:lnTo>
                <a:lnTo>
                  <a:pt x="293324" y="1132841"/>
                </a:lnTo>
                <a:lnTo>
                  <a:pt x="309514" y="1129983"/>
                </a:lnTo>
                <a:lnTo>
                  <a:pt x="325704" y="1128078"/>
                </a:lnTo>
                <a:lnTo>
                  <a:pt x="342211" y="1126491"/>
                </a:lnTo>
                <a:lnTo>
                  <a:pt x="358719" y="1125221"/>
                </a:lnTo>
                <a:lnTo>
                  <a:pt x="375226" y="1123951"/>
                </a:lnTo>
                <a:lnTo>
                  <a:pt x="392368" y="1123633"/>
                </a:lnTo>
                <a:lnTo>
                  <a:pt x="409193" y="1123633"/>
                </a:lnTo>
                <a:lnTo>
                  <a:pt x="426653" y="1123951"/>
                </a:lnTo>
                <a:lnTo>
                  <a:pt x="444113" y="1124586"/>
                </a:lnTo>
                <a:lnTo>
                  <a:pt x="461573" y="1125538"/>
                </a:lnTo>
                <a:lnTo>
                  <a:pt x="479350" y="1126808"/>
                </a:lnTo>
                <a:lnTo>
                  <a:pt x="497127" y="1128078"/>
                </a:lnTo>
                <a:lnTo>
                  <a:pt x="514904" y="1129983"/>
                </a:lnTo>
                <a:lnTo>
                  <a:pt x="532999" y="1131888"/>
                </a:lnTo>
                <a:lnTo>
                  <a:pt x="569188" y="1136968"/>
                </a:lnTo>
                <a:lnTo>
                  <a:pt x="575220" y="867411"/>
                </a:lnTo>
                <a:lnTo>
                  <a:pt x="539348" y="862648"/>
                </a:lnTo>
                <a:lnTo>
                  <a:pt x="503476" y="858521"/>
                </a:lnTo>
                <a:lnTo>
                  <a:pt x="486016" y="856616"/>
                </a:lnTo>
                <a:lnTo>
                  <a:pt x="468239" y="854711"/>
                </a:lnTo>
                <a:lnTo>
                  <a:pt x="450779" y="853758"/>
                </a:lnTo>
                <a:lnTo>
                  <a:pt x="433954" y="853123"/>
                </a:lnTo>
                <a:lnTo>
                  <a:pt x="416812" y="852488"/>
                </a:lnTo>
                <a:lnTo>
                  <a:pt x="399987" y="852488"/>
                </a:lnTo>
                <a:close/>
                <a:moveTo>
                  <a:pt x="2019300" y="725488"/>
                </a:moveTo>
                <a:lnTo>
                  <a:pt x="2018348" y="787083"/>
                </a:lnTo>
                <a:lnTo>
                  <a:pt x="2018665" y="787083"/>
                </a:lnTo>
                <a:lnTo>
                  <a:pt x="2010729" y="1127761"/>
                </a:lnTo>
                <a:lnTo>
                  <a:pt x="2010094" y="1127761"/>
                </a:lnTo>
                <a:lnTo>
                  <a:pt x="2009142" y="1169353"/>
                </a:lnTo>
                <a:lnTo>
                  <a:pt x="2005650" y="1171576"/>
                </a:lnTo>
                <a:lnTo>
                  <a:pt x="1996126" y="1178561"/>
                </a:lnTo>
                <a:lnTo>
                  <a:pt x="1979301" y="1188721"/>
                </a:lnTo>
                <a:lnTo>
                  <a:pt x="1968826" y="1195071"/>
                </a:lnTo>
                <a:lnTo>
                  <a:pt x="1956763" y="1202056"/>
                </a:lnTo>
                <a:lnTo>
                  <a:pt x="1943112" y="1209676"/>
                </a:lnTo>
                <a:lnTo>
                  <a:pt x="1927557" y="1217931"/>
                </a:lnTo>
                <a:lnTo>
                  <a:pt x="1911050" y="1226186"/>
                </a:lnTo>
                <a:lnTo>
                  <a:pt x="1892638" y="1235393"/>
                </a:lnTo>
                <a:lnTo>
                  <a:pt x="1873591" y="1244283"/>
                </a:lnTo>
                <a:lnTo>
                  <a:pt x="1852321" y="1253491"/>
                </a:lnTo>
                <a:lnTo>
                  <a:pt x="1830100" y="1262698"/>
                </a:lnTo>
                <a:lnTo>
                  <a:pt x="1806291" y="1271906"/>
                </a:lnTo>
                <a:lnTo>
                  <a:pt x="1781213" y="1281431"/>
                </a:lnTo>
                <a:lnTo>
                  <a:pt x="1754864" y="1290321"/>
                </a:lnTo>
                <a:lnTo>
                  <a:pt x="1727246" y="1299211"/>
                </a:lnTo>
                <a:lnTo>
                  <a:pt x="1698041" y="1307466"/>
                </a:lnTo>
                <a:lnTo>
                  <a:pt x="1667883" y="1315721"/>
                </a:lnTo>
                <a:lnTo>
                  <a:pt x="1636455" y="1323341"/>
                </a:lnTo>
                <a:lnTo>
                  <a:pt x="1603758" y="1330008"/>
                </a:lnTo>
                <a:lnTo>
                  <a:pt x="1586933" y="1333501"/>
                </a:lnTo>
                <a:lnTo>
                  <a:pt x="1570108" y="1336676"/>
                </a:lnTo>
                <a:lnTo>
                  <a:pt x="1552649" y="1339533"/>
                </a:lnTo>
                <a:lnTo>
                  <a:pt x="1534871" y="1342391"/>
                </a:lnTo>
                <a:lnTo>
                  <a:pt x="1516777" y="1344613"/>
                </a:lnTo>
                <a:lnTo>
                  <a:pt x="1498682" y="1346836"/>
                </a:lnTo>
                <a:lnTo>
                  <a:pt x="1479952" y="1349058"/>
                </a:lnTo>
                <a:lnTo>
                  <a:pt x="1461223" y="1350646"/>
                </a:lnTo>
                <a:lnTo>
                  <a:pt x="1442176" y="1351916"/>
                </a:lnTo>
                <a:lnTo>
                  <a:pt x="1423129" y="1353503"/>
                </a:lnTo>
                <a:lnTo>
                  <a:pt x="1403447" y="1354773"/>
                </a:lnTo>
                <a:lnTo>
                  <a:pt x="1383448" y="1355091"/>
                </a:lnTo>
                <a:lnTo>
                  <a:pt x="1363131" y="1355726"/>
                </a:lnTo>
                <a:lnTo>
                  <a:pt x="1342814" y="1355726"/>
                </a:lnTo>
                <a:lnTo>
                  <a:pt x="1322180" y="1355726"/>
                </a:lnTo>
                <a:lnTo>
                  <a:pt x="1301228" y="1355091"/>
                </a:lnTo>
                <a:lnTo>
                  <a:pt x="1280276" y="1354456"/>
                </a:lnTo>
                <a:lnTo>
                  <a:pt x="1259007" y="1353186"/>
                </a:lnTo>
                <a:lnTo>
                  <a:pt x="1237103" y="1351598"/>
                </a:lnTo>
                <a:lnTo>
                  <a:pt x="1215517" y="1349693"/>
                </a:lnTo>
                <a:lnTo>
                  <a:pt x="1193295" y="1347153"/>
                </a:lnTo>
                <a:lnTo>
                  <a:pt x="1171391" y="1344613"/>
                </a:lnTo>
                <a:lnTo>
                  <a:pt x="1148852" y="1341438"/>
                </a:lnTo>
                <a:lnTo>
                  <a:pt x="1126631" y="1337628"/>
                </a:lnTo>
                <a:lnTo>
                  <a:pt x="1104092" y="1333818"/>
                </a:lnTo>
                <a:lnTo>
                  <a:pt x="1081235" y="1329691"/>
                </a:lnTo>
                <a:lnTo>
                  <a:pt x="1035840" y="1321118"/>
                </a:lnTo>
                <a:lnTo>
                  <a:pt x="989810" y="1311276"/>
                </a:lnTo>
                <a:lnTo>
                  <a:pt x="943779" y="1301116"/>
                </a:lnTo>
                <a:lnTo>
                  <a:pt x="897749" y="1290003"/>
                </a:lnTo>
                <a:lnTo>
                  <a:pt x="805371" y="1268413"/>
                </a:lnTo>
                <a:lnTo>
                  <a:pt x="759658" y="1257936"/>
                </a:lnTo>
                <a:lnTo>
                  <a:pt x="713945" y="1247776"/>
                </a:lnTo>
                <a:lnTo>
                  <a:pt x="668550" y="1237933"/>
                </a:lnTo>
                <a:lnTo>
                  <a:pt x="624107" y="1229678"/>
                </a:lnTo>
                <a:lnTo>
                  <a:pt x="601568" y="1225551"/>
                </a:lnTo>
                <a:lnTo>
                  <a:pt x="579664" y="1222058"/>
                </a:lnTo>
                <a:lnTo>
                  <a:pt x="557760" y="1218566"/>
                </a:lnTo>
                <a:lnTo>
                  <a:pt x="535856" y="1215708"/>
                </a:lnTo>
                <a:lnTo>
                  <a:pt x="514269" y="1212851"/>
                </a:lnTo>
                <a:lnTo>
                  <a:pt x="493000" y="1210946"/>
                </a:lnTo>
                <a:lnTo>
                  <a:pt x="471731" y="1209041"/>
                </a:lnTo>
                <a:lnTo>
                  <a:pt x="450779" y="1208088"/>
                </a:lnTo>
                <a:lnTo>
                  <a:pt x="430145" y="1207136"/>
                </a:lnTo>
                <a:lnTo>
                  <a:pt x="409828" y="1206818"/>
                </a:lnTo>
                <a:lnTo>
                  <a:pt x="389829" y="1207136"/>
                </a:lnTo>
                <a:lnTo>
                  <a:pt x="369512" y="1208088"/>
                </a:lnTo>
                <a:lnTo>
                  <a:pt x="350148" y="1209676"/>
                </a:lnTo>
                <a:lnTo>
                  <a:pt x="330466" y="1211263"/>
                </a:lnTo>
                <a:lnTo>
                  <a:pt x="311419" y="1214121"/>
                </a:lnTo>
                <a:lnTo>
                  <a:pt x="292689" y="1217613"/>
                </a:lnTo>
                <a:lnTo>
                  <a:pt x="273960" y="1221106"/>
                </a:lnTo>
                <a:lnTo>
                  <a:pt x="255865" y="1226186"/>
                </a:lnTo>
                <a:lnTo>
                  <a:pt x="238088" y="1231901"/>
                </a:lnTo>
                <a:lnTo>
                  <a:pt x="220628" y="1237933"/>
                </a:lnTo>
                <a:lnTo>
                  <a:pt x="203803" y="1244918"/>
                </a:lnTo>
                <a:lnTo>
                  <a:pt x="195549" y="1248728"/>
                </a:lnTo>
                <a:lnTo>
                  <a:pt x="186978" y="1252856"/>
                </a:lnTo>
                <a:lnTo>
                  <a:pt x="178725" y="1257301"/>
                </a:lnTo>
                <a:lnTo>
                  <a:pt x="170788" y="1261746"/>
                </a:lnTo>
                <a:lnTo>
                  <a:pt x="162852" y="1266191"/>
                </a:lnTo>
                <a:lnTo>
                  <a:pt x="154916" y="1271271"/>
                </a:lnTo>
                <a:lnTo>
                  <a:pt x="146980" y="1276351"/>
                </a:lnTo>
                <a:lnTo>
                  <a:pt x="139361" y="1281748"/>
                </a:lnTo>
                <a:lnTo>
                  <a:pt x="132059" y="1287463"/>
                </a:lnTo>
                <a:lnTo>
                  <a:pt x="124441" y="1293496"/>
                </a:lnTo>
                <a:lnTo>
                  <a:pt x="117139" y="1299528"/>
                </a:lnTo>
                <a:lnTo>
                  <a:pt x="109838" y="1305561"/>
                </a:lnTo>
                <a:lnTo>
                  <a:pt x="102854" y="1312228"/>
                </a:lnTo>
                <a:lnTo>
                  <a:pt x="95553" y="1319213"/>
                </a:lnTo>
                <a:lnTo>
                  <a:pt x="88886" y="1326516"/>
                </a:lnTo>
                <a:lnTo>
                  <a:pt x="81902" y="1333501"/>
                </a:lnTo>
                <a:lnTo>
                  <a:pt x="75236" y="1341121"/>
                </a:lnTo>
                <a:lnTo>
                  <a:pt x="68887" y="1349058"/>
                </a:lnTo>
                <a:lnTo>
                  <a:pt x="62220" y="1357313"/>
                </a:lnTo>
                <a:lnTo>
                  <a:pt x="55871" y="1365568"/>
                </a:lnTo>
                <a:lnTo>
                  <a:pt x="49840" y="1374458"/>
                </a:lnTo>
                <a:lnTo>
                  <a:pt x="43808" y="1383031"/>
                </a:lnTo>
                <a:lnTo>
                  <a:pt x="37777" y="1392556"/>
                </a:lnTo>
                <a:lnTo>
                  <a:pt x="32063" y="1402081"/>
                </a:lnTo>
                <a:lnTo>
                  <a:pt x="26348" y="1411923"/>
                </a:lnTo>
                <a:lnTo>
                  <a:pt x="20952" y="1422083"/>
                </a:lnTo>
                <a:lnTo>
                  <a:pt x="15555" y="1432243"/>
                </a:lnTo>
                <a:lnTo>
                  <a:pt x="10159" y="1442721"/>
                </a:lnTo>
                <a:lnTo>
                  <a:pt x="5079" y="1453833"/>
                </a:lnTo>
                <a:lnTo>
                  <a:pt x="0" y="1465263"/>
                </a:lnTo>
                <a:lnTo>
                  <a:pt x="1905" y="1387158"/>
                </a:lnTo>
                <a:lnTo>
                  <a:pt x="5714" y="1377316"/>
                </a:lnTo>
                <a:lnTo>
                  <a:pt x="9524" y="1368108"/>
                </a:lnTo>
                <a:lnTo>
                  <a:pt x="13968" y="1358583"/>
                </a:lnTo>
                <a:lnTo>
                  <a:pt x="18412" y="1349376"/>
                </a:lnTo>
                <a:lnTo>
                  <a:pt x="23174" y="1340486"/>
                </a:lnTo>
                <a:lnTo>
                  <a:pt x="28253" y="1331278"/>
                </a:lnTo>
                <a:lnTo>
                  <a:pt x="33650" y="1322706"/>
                </a:lnTo>
                <a:lnTo>
                  <a:pt x="39046" y="1313816"/>
                </a:lnTo>
                <a:lnTo>
                  <a:pt x="44761" y="1305243"/>
                </a:lnTo>
                <a:lnTo>
                  <a:pt x="50792" y="1296988"/>
                </a:lnTo>
                <a:lnTo>
                  <a:pt x="56824" y="1289051"/>
                </a:lnTo>
                <a:lnTo>
                  <a:pt x="63173" y="1281113"/>
                </a:lnTo>
                <a:lnTo>
                  <a:pt x="69522" y="1273176"/>
                </a:lnTo>
                <a:lnTo>
                  <a:pt x="75871" y="1265556"/>
                </a:lnTo>
                <a:lnTo>
                  <a:pt x="82855" y="1257936"/>
                </a:lnTo>
                <a:lnTo>
                  <a:pt x="89521" y="1250633"/>
                </a:lnTo>
                <a:lnTo>
                  <a:pt x="103489" y="1236981"/>
                </a:lnTo>
                <a:lnTo>
                  <a:pt x="117457" y="1224281"/>
                </a:lnTo>
                <a:lnTo>
                  <a:pt x="132059" y="1212533"/>
                </a:lnTo>
                <a:lnTo>
                  <a:pt x="146662" y="1201738"/>
                </a:lnTo>
                <a:lnTo>
                  <a:pt x="160947" y="1191896"/>
                </a:lnTo>
                <a:lnTo>
                  <a:pt x="175233" y="1183006"/>
                </a:lnTo>
                <a:lnTo>
                  <a:pt x="189518" y="1175386"/>
                </a:lnTo>
                <a:lnTo>
                  <a:pt x="196184" y="1172528"/>
                </a:lnTo>
                <a:lnTo>
                  <a:pt x="202851" y="1169353"/>
                </a:lnTo>
                <a:lnTo>
                  <a:pt x="208247" y="893446"/>
                </a:lnTo>
                <a:lnTo>
                  <a:pt x="196819" y="898208"/>
                </a:lnTo>
                <a:lnTo>
                  <a:pt x="185074" y="904241"/>
                </a:lnTo>
                <a:lnTo>
                  <a:pt x="173645" y="910908"/>
                </a:lnTo>
                <a:lnTo>
                  <a:pt x="160947" y="918846"/>
                </a:lnTo>
                <a:lnTo>
                  <a:pt x="148884" y="927736"/>
                </a:lnTo>
                <a:lnTo>
                  <a:pt x="142535" y="932816"/>
                </a:lnTo>
                <a:lnTo>
                  <a:pt x="136504" y="937896"/>
                </a:lnTo>
                <a:lnTo>
                  <a:pt x="130155" y="943611"/>
                </a:lnTo>
                <a:lnTo>
                  <a:pt x="123488" y="949643"/>
                </a:lnTo>
                <a:lnTo>
                  <a:pt x="117139" y="956311"/>
                </a:lnTo>
                <a:lnTo>
                  <a:pt x="111108" y="962978"/>
                </a:lnTo>
                <a:lnTo>
                  <a:pt x="104441" y="970281"/>
                </a:lnTo>
                <a:lnTo>
                  <a:pt x="97775" y="977901"/>
                </a:lnTo>
                <a:lnTo>
                  <a:pt x="91426" y="985838"/>
                </a:lnTo>
                <a:lnTo>
                  <a:pt x="85077" y="994093"/>
                </a:lnTo>
                <a:lnTo>
                  <a:pt x="78728" y="1002983"/>
                </a:lnTo>
                <a:lnTo>
                  <a:pt x="72061" y="1012508"/>
                </a:lnTo>
                <a:lnTo>
                  <a:pt x="65712" y="1022351"/>
                </a:lnTo>
                <a:lnTo>
                  <a:pt x="59363" y="1032511"/>
                </a:lnTo>
                <a:lnTo>
                  <a:pt x="52697" y="1043306"/>
                </a:lnTo>
                <a:lnTo>
                  <a:pt x="46030" y="1054418"/>
                </a:lnTo>
                <a:lnTo>
                  <a:pt x="39681" y="1066483"/>
                </a:lnTo>
                <a:lnTo>
                  <a:pt x="33332" y="1078548"/>
                </a:lnTo>
                <a:lnTo>
                  <a:pt x="26983" y="1091883"/>
                </a:lnTo>
                <a:lnTo>
                  <a:pt x="20317" y="1105218"/>
                </a:lnTo>
                <a:lnTo>
                  <a:pt x="13968" y="1119188"/>
                </a:lnTo>
                <a:lnTo>
                  <a:pt x="7936" y="1133793"/>
                </a:lnTo>
                <a:lnTo>
                  <a:pt x="10476" y="1021716"/>
                </a:lnTo>
                <a:lnTo>
                  <a:pt x="15555" y="1010286"/>
                </a:lnTo>
                <a:lnTo>
                  <a:pt x="20317" y="999173"/>
                </a:lnTo>
                <a:lnTo>
                  <a:pt x="25714" y="988696"/>
                </a:lnTo>
                <a:lnTo>
                  <a:pt x="31428" y="978536"/>
                </a:lnTo>
                <a:lnTo>
                  <a:pt x="36824" y="968376"/>
                </a:lnTo>
                <a:lnTo>
                  <a:pt x="42221" y="958533"/>
                </a:lnTo>
                <a:lnTo>
                  <a:pt x="48253" y="949008"/>
                </a:lnTo>
                <a:lnTo>
                  <a:pt x="53967" y="939483"/>
                </a:lnTo>
                <a:lnTo>
                  <a:pt x="59998" y="930911"/>
                </a:lnTo>
                <a:lnTo>
                  <a:pt x="66665" y="922021"/>
                </a:lnTo>
                <a:lnTo>
                  <a:pt x="72696" y="913766"/>
                </a:lnTo>
                <a:lnTo>
                  <a:pt x="79045" y="905511"/>
                </a:lnTo>
                <a:lnTo>
                  <a:pt x="85712" y="897573"/>
                </a:lnTo>
                <a:lnTo>
                  <a:pt x="92378" y="889953"/>
                </a:lnTo>
                <a:lnTo>
                  <a:pt x="99045" y="882968"/>
                </a:lnTo>
                <a:lnTo>
                  <a:pt x="106346" y="875666"/>
                </a:lnTo>
                <a:lnTo>
                  <a:pt x="113012" y="868998"/>
                </a:lnTo>
                <a:lnTo>
                  <a:pt x="120314" y="862331"/>
                </a:lnTo>
                <a:lnTo>
                  <a:pt x="127298" y="855981"/>
                </a:lnTo>
                <a:lnTo>
                  <a:pt x="134916" y="849948"/>
                </a:lnTo>
                <a:lnTo>
                  <a:pt x="142218" y="843916"/>
                </a:lnTo>
                <a:lnTo>
                  <a:pt x="149837" y="838201"/>
                </a:lnTo>
                <a:lnTo>
                  <a:pt x="157773" y="832803"/>
                </a:lnTo>
                <a:lnTo>
                  <a:pt x="165074" y="827723"/>
                </a:lnTo>
                <a:lnTo>
                  <a:pt x="173010" y="822643"/>
                </a:lnTo>
                <a:lnTo>
                  <a:pt x="180947" y="818198"/>
                </a:lnTo>
                <a:lnTo>
                  <a:pt x="189518" y="813753"/>
                </a:lnTo>
                <a:lnTo>
                  <a:pt x="197454" y="809626"/>
                </a:lnTo>
                <a:lnTo>
                  <a:pt x="205708" y="805181"/>
                </a:lnTo>
                <a:lnTo>
                  <a:pt x="213961" y="801688"/>
                </a:lnTo>
                <a:lnTo>
                  <a:pt x="231421" y="794386"/>
                </a:lnTo>
                <a:lnTo>
                  <a:pt x="248564" y="788353"/>
                </a:lnTo>
                <a:lnTo>
                  <a:pt x="266341" y="782638"/>
                </a:lnTo>
                <a:lnTo>
                  <a:pt x="284753" y="778193"/>
                </a:lnTo>
                <a:lnTo>
                  <a:pt x="303165" y="774066"/>
                </a:lnTo>
                <a:lnTo>
                  <a:pt x="321577" y="770573"/>
                </a:lnTo>
                <a:lnTo>
                  <a:pt x="340942" y="768033"/>
                </a:lnTo>
                <a:lnTo>
                  <a:pt x="360306" y="766128"/>
                </a:lnTo>
                <a:lnTo>
                  <a:pt x="379988" y="764541"/>
                </a:lnTo>
                <a:lnTo>
                  <a:pt x="399987" y="763588"/>
                </a:lnTo>
                <a:lnTo>
                  <a:pt x="419987" y="763271"/>
                </a:lnTo>
                <a:lnTo>
                  <a:pt x="440621" y="763588"/>
                </a:lnTo>
                <a:lnTo>
                  <a:pt x="461255" y="764541"/>
                </a:lnTo>
                <a:lnTo>
                  <a:pt x="482207" y="765493"/>
                </a:lnTo>
                <a:lnTo>
                  <a:pt x="503476" y="767398"/>
                </a:lnTo>
                <a:lnTo>
                  <a:pt x="524745" y="769938"/>
                </a:lnTo>
                <a:lnTo>
                  <a:pt x="546014" y="772161"/>
                </a:lnTo>
                <a:lnTo>
                  <a:pt x="567918" y="775018"/>
                </a:lnTo>
                <a:lnTo>
                  <a:pt x="590140" y="778511"/>
                </a:lnTo>
                <a:lnTo>
                  <a:pt x="612044" y="782003"/>
                </a:lnTo>
                <a:lnTo>
                  <a:pt x="634265" y="786131"/>
                </a:lnTo>
                <a:lnTo>
                  <a:pt x="679343" y="794703"/>
                </a:lnTo>
                <a:lnTo>
                  <a:pt x="724104" y="804228"/>
                </a:lnTo>
                <a:lnTo>
                  <a:pt x="769817" y="814388"/>
                </a:lnTo>
                <a:lnTo>
                  <a:pt x="816164" y="824866"/>
                </a:lnTo>
                <a:lnTo>
                  <a:pt x="908225" y="846456"/>
                </a:lnTo>
                <a:lnTo>
                  <a:pt x="954255" y="857568"/>
                </a:lnTo>
                <a:lnTo>
                  <a:pt x="999968" y="867728"/>
                </a:lnTo>
                <a:lnTo>
                  <a:pt x="1046316" y="877571"/>
                </a:lnTo>
                <a:lnTo>
                  <a:pt x="1091394" y="886143"/>
                </a:lnTo>
                <a:lnTo>
                  <a:pt x="1114250" y="890271"/>
                </a:lnTo>
                <a:lnTo>
                  <a:pt x="1136789" y="894081"/>
                </a:lnTo>
                <a:lnTo>
                  <a:pt x="1159328" y="897891"/>
                </a:lnTo>
                <a:lnTo>
                  <a:pt x="1181549" y="901066"/>
                </a:lnTo>
                <a:lnTo>
                  <a:pt x="1203453" y="903606"/>
                </a:lnTo>
                <a:lnTo>
                  <a:pt x="1225675" y="906146"/>
                </a:lnTo>
                <a:lnTo>
                  <a:pt x="1247262" y="908051"/>
                </a:lnTo>
                <a:lnTo>
                  <a:pt x="1269166" y="909638"/>
                </a:lnTo>
                <a:lnTo>
                  <a:pt x="1290435" y="910908"/>
                </a:lnTo>
                <a:lnTo>
                  <a:pt x="1311386" y="911543"/>
                </a:lnTo>
                <a:lnTo>
                  <a:pt x="1332656" y="912178"/>
                </a:lnTo>
                <a:lnTo>
                  <a:pt x="1352972" y="912178"/>
                </a:lnTo>
                <a:lnTo>
                  <a:pt x="1373607" y="912178"/>
                </a:lnTo>
                <a:lnTo>
                  <a:pt x="1393606" y="911543"/>
                </a:lnTo>
                <a:lnTo>
                  <a:pt x="1413605" y="910908"/>
                </a:lnTo>
                <a:lnTo>
                  <a:pt x="1433287" y="909956"/>
                </a:lnTo>
                <a:lnTo>
                  <a:pt x="1452334" y="908686"/>
                </a:lnTo>
                <a:lnTo>
                  <a:pt x="1471699" y="907098"/>
                </a:lnTo>
                <a:lnTo>
                  <a:pt x="1490428" y="905193"/>
                </a:lnTo>
                <a:lnTo>
                  <a:pt x="1508840" y="903288"/>
                </a:lnTo>
                <a:lnTo>
                  <a:pt x="1527253" y="901066"/>
                </a:lnTo>
                <a:lnTo>
                  <a:pt x="1545030" y="898843"/>
                </a:lnTo>
                <a:lnTo>
                  <a:pt x="1562807" y="895668"/>
                </a:lnTo>
                <a:lnTo>
                  <a:pt x="1580267" y="893128"/>
                </a:lnTo>
                <a:lnTo>
                  <a:pt x="1597092" y="889953"/>
                </a:lnTo>
                <a:lnTo>
                  <a:pt x="1613916" y="886778"/>
                </a:lnTo>
                <a:lnTo>
                  <a:pt x="1646614" y="879476"/>
                </a:lnTo>
                <a:lnTo>
                  <a:pt x="1678041" y="871856"/>
                </a:lnTo>
                <a:lnTo>
                  <a:pt x="1708199" y="863918"/>
                </a:lnTo>
                <a:lnTo>
                  <a:pt x="1737405" y="855663"/>
                </a:lnTo>
                <a:lnTo>
                  <a:pt x="1765023" y="846456"/>
                </a:lnTo>
                <a:lnTo>
                  <a:pt x="1791371" y="837566"/>
                </a:lnTo>
                <a:lnTo>
                  <a:pt x="1816450" y="828358"/>
                </a:lnTo>
                <a:lnTo>
                  <a:pt x="1840258" y="818833"/>
                </a:lnTo>
                <a:lnTo>
                  <a:pt x="1862480" y="809943"/>
                </a:lnTo>
                <a:lnTo>
                  <a:pt x="1883749" y="800418"/>
                </a:lnTo>
                <a:lnTo>
                  <a:pt x="1903113" y="791211"/>
                </a:lnTo>
                <a:lnTo>
                  <a:pt x="1921208" y="782638"/>
                </a:lnTo>
                <a:lnTo>
                  <a:pt x="1938033" y="774066"/>
                </a:lnTo>
                <a:lnTo>
                  <a:pt x="1953271" y="766128"/>
                </a:lnTo>
                <a:lnTo>
                  <a:pt x="1966921" y="758508"/>
                </a:lnTo>
                <a:lnTo>
                  <a:pt x="1978984" y="751523"/>
                </a:lnTo>
                <a:lnTo>
                  <a:pt x="1989460" y="745173"/>
                </a:lnTo>
                <a:lnTo>
                  <a:pt x="2006285" y="734696"/>
                </a:lnTo>
                <a:lnTo>
                  <a:pt x="2016126" y="728346"/>
                </a:lnTo>
                <a:lnTo>
                  <a:pt x="2019300" y="725488"/>
                </a:lnTo>
                <a:close/>
                <a:moveTo>
                  <a:pt x="1546743" y="504987"/>
                </a:moveTo>
                <a:lnTo>
                  <a:pt x="1538163" y="505305"/>
                </a:lnTo>
                <a:lnTo>
                  <a:pt x="1529265" y="505623"/>
                </a:lnTo>
                <a:lnTo>
                  <a:pt x="1520368" y="506259"/>
                </a:lnTo>
                <a:lnTo>
                  <a:pt x="1511470" y="507531"/>
                </a:lnTo>
                <a:lnTo>
                  <a:pt x="1502890" y="508803"/>
                </a:lnTo>
                <a:lnTo>
                  <a:pt x="1493993" y="510075"/>
                </a:lnTo>
                <a:lnTo>
                  <a:pt x="1485731" y="511983"/>
                </a:lnTo>
                <a:lnTo>
                  <a:pt x="1477469" y="513891"/>
                </a:lnTo>
                <a:lnTo>
                  <a:pt x="1469207" y="516117"/>
                </a:lnTo>
                <a:lnTo>
                  <a:pt x="1461263" y="518661"/>
                </a:lnTo>
                <a:lnTo>
                  <a:pt x="1453318" y="521523"/>
                </a:lnTo>
                <a:lnTo>
                  <a:pt x="1445692" y="524067"/>
                </a:lnTo>
                <a:lnTo>
                  <a:pt x="1438383" y="527247"/>
                </a:lnTo>
                <a:lnTo>
                  <a:pt x="1431392" y="530745"/>
                </a:lnTo>
                <a:lnTo>
                  <a:pt x="1425037" y="533925"/>
                </a:lnTo>
                <a:lnTo>
                  <a:pt x="1418681" y="537741"/>
                </a:lnTo>
                <a:lnTo>
                  <a:pt x="1413279" y="541239"/>
                </a:lnTo>
                <a:lnTo>
                  <a:pt x="1407877" y="545373"/>
                </a:lnTo>
                <a:lnTo>
                  <a:pt x="1402793" y="549189"/>
                </a:lnTo>
                <a:lnTo>
                  <a:pt x="1398344" y="553323"/>
                </a:lnTo>
                <a:lnTo>
                  <a:pt x="1394213" y="557457"/>
                </a:lnTo>
                <a:lnTo>
                  <a:pt x="1390400" y="561591"/>
                </a:lnTo>
                <a:lnTo>
                  <a:pt x="1386904" y="566361"/>
                </a:lnTo>
                <a:lnTo>
                  <a:pt x="1384044" y="570813"/>
                </a:lnTo>
                <a:lnTo>
                  <a:pt x="1381820" y="575265"/>
                </a:lnTo>
                <a:lnTo>
                  <a:pt x="1379596" y="580035"/>
                </a:lnTo>
                <a:lnTo>
                  <a:pt x="1378007" y="584487"/>
                </a:lnTo>
                <a:lnTo>
                  <a:pt x="1376418" y="589258"/>
                </a:lnTo>
                <a:lnTo>
                  <a:pt x="1375782" y="594028"/>
                </a:lnTo>
                <a:lnTo>
                  <a:pt x="1375465" y="598798"/>
                </a:lnTo>
                <a:lnTo>
                  <a:pt x="1375465" y="603250"/>
                </a:lnTo>
                <a:lnTo>
                  <a:pt x="1375782" y="608338"/>
                </a:lnTo>
                <a:lnTo>
                  <a:pt x="1376418" y="612790"/>
                </a:lnTo>
                <a:lnTo>
                  <a:pt x="1377689" y="617878"/>
                </a:lnTo>
                <a:lnTo>
                  <a:pt x="1379596" y="622648"/>
                </a:lnTo>
                <a:lnTo>
                  <a:pt x="1381820" y="627100"/>
                </a:lnTo>
                <a:lnTo>
                  <a:pt x="1384044" y="632188"/>
                </a:lnTo>
                <a:lnTo>
                  <a:pt x="1386904" y="636640"/>
                </a:lnTo>
                <a:lnTo>
                  <a:pt x="1390718" y="641092"/>
                </a:lnTo>
                <a:lnTo>
                  <a:pt x="1394531" y="645862"/>
                </a:lnTo>
                <a:lnTo>
                  <a:pt x="1399297" y="650314"/>
                </a:lnTo>
                <a:lnTo>
                  <a:pt x="1403746" y="654766"/>
                </a:lnTo>
                <a:lnTo>
                  <a:pt x="1409148" y="658900"/>
                </a:lnTo>
                <a:lnTo>
                  <a:pt x="1414550" y="663352"/>
                </a:lnTo>
                <a:lnTo>
                  <a:pt x="1420588" y="666850"/>
                </a:lnTo>
                <a:lnTo>
                  <a:pt x="1427261" y="670666"/>
                </a:lnTo>
                <a:lnTo>
                  <a:pt x="1433617" y="674482"/>
                </a:lnTo>
                <a:lnTo>
                  <a:pt x="1440290" y="677980"/>
                </a:lnTo>
                <a:lnTo>
                  <a:pt x="1447598" y="680842"/>
                </a:lnTo>
                <a:lnTo>
                  <a:pt x="1454907" y="684022"/>
                </a:lnTo>
                <a:lnTo>
                  <a:pt x="1462216" y="686566"/>
                </a:lnTo>
                <a:lnTo>
                  <a:pt x="1470160" y="689428"/>
                </a:lnTo>
                <a:lnTo>
                  <a:pt x="1478104" y="691654"/>
                </a:lnTo>
                <a:lnTo>
                  <a:pt x="1486049" y="693880"/>
                </a:lnTo>
                <a:lnTo>
                  <a:pt x="1494628" y="695788"/>
                </a:lnTo>
                <a:lnTo>
                  <a:pt x="1502890" y="697696"/>
                </a:lnTo>
                <a:lnTo>
                  <a:pt x="1511470" y="699286"/>
                </a:lnTo>
                <a:lnTo>
                  <a:pt x="1519732" y="700240"/>
                </a:lnTo>
                <a:lnTo>
                  <a:pt x="1528630" y="701512"/>
                </a:lnTo>
                <a:lnTo>
                  <a:pt x="1537527" y="702148"/>
                </a:lnTo>
                <a:lnTo>
                  <a:pt x="1546425" y="702466"/>
                </a:lnTo>
                <a:lnTo>
                  <a:pt x="1555005" y="703102"/>
                </a:lnTo>
                <a:lnTo>
                  <a:pt x="1564220" y="703420"/>
                </a:lnTo>
                <a:lnTo>
                  <a:pt x="1572800" y="703420"/>
                </a:lnTo>
                <a:lnTo>
                  <a:pt x="1582015" y="703102"/>
                </a:lnTo>
                <a:lnTo>
                  <a:pt x="1590595" y="702148"/>
                </a:lnTo>
                <a:lnTo>
                  <a:pt x="1599175" y="701512"/>
                </a:lnTo>
                <a:lnTo>
                  <a:pt x="1608390" y="700558"/>
                </a:lnTo>
                <a:lnTo>
                  <a:pt x="1616970" y="699286"/>
                </a:lnTo>
                <a:lnTo>
                  <a:pt x="1625549" y="697696"/>
                </a:lnTo>
                <a:lnTo>
                  <a:pt x="1634129" y="696106"/>
                </a:lnTo>
                <a:lnTo>
                  <a:pt x="1642391" y="694198"/>
                </a:lnTo>
                <a:lnTo>
                  <a:pt x="1650336" y="691972"/>
                </a:lnTo>
                <a:lnTo>
                  <a:pt x="1658598" y="689428"/>
                </a:lnTo>
                <a:lnTo>
                  <a:pt x="1666542" y="686566"/>
                </a:lnTo>
                <a:lnTo>
                  <a:pt x="1674168" y="683704"/>
                </a:lnTo>
                <a:lnTo>
                  <a:pt x="1681477" y="680524"/>
                </a:lnTo>
                <a:lnTo>
                  <a:pt x="1688150" y="677344"/>
                </a:lnTo>
                <a:lnTo>
                  <a:pt x="1694506" y="673846"/>
                </a:lnTo>
                <a:lnTo>
                  <a:pt x="1700543" y="670348"/>
                </a:lnTo>
                <a:lnTo>
                  <a:pt x="1706899" y="666532"/>
                </a:lnTo>
                <a:lnTo>
                  <a:pt x="1711983" y="662716"/>
                </a:lnTo>
                <a:lnTo>
                  <a:pt x="1717067" y="658582"/>
                </a:lnTo>
                <a:lnTo>
                  <a:pt x="1721516" y="654766"/>
                </a:lnTo>
                <a:lnTo>
                  <a:pt x="1725647" y="650632"/>
                </a:lnTo>
                <a:lnTo>
                  <a:pt x="1729460" y="646180"/>
                </a:lnTo>
                <a:lnTo>
                  <a:pt x="1732320" y="642046"/>
                </a:lnTo>
                <a:lnTo>
                  <a:pt x="1735498" y="637594"/>
                </a:lnTo>
                <a:lnTo>
                  <a:pt x="1738040" y="632824"/>
                </a:lnTo>
                <a:lnTo>
                  <a:pt x="1739947" y="628372"/>
                </a:lnTo>
                <a:lnTo>
                  <a:pt x="1741853" y="623284"/>
                </a:lnTo>
                <a:lnTo>
                  <a:pt x="1743124" y="618832"/>
                </a:lnTo>
                <a:lnTo>
                  <a:pt x="1744078" y="614380"/>
                </a:lnTo>
                <a:lnTo>
                  <a:pt x="1744713" y="609292"/>
                </a:lnTo>
                <a:lnTo>
                  <a:pt x="1744713" y="604522"/>
                </a:lnTo>
                <a:lnTo>
                  <a:pt x="1744078" y="600070"/>
                </a:lnTo>
                <a:lnTo>
                  <a:pt x="1743442" y="594982"/>
                </a:lnTo>
                <a:lnTo>
                  <a:pt x="1741853" y="590212"/>
                </a:lnTo>
                <a:lnTo>
                  <a:pt x="1740264" y="585441"/>
                </a:lnTo>
                <a:lnTo>
                  <a:pt x="1738040" y="580671"/>
                </a:lnTo>
                <a:lnTo>
                  <a:pt x="1735498" y="576219"/>
                </a:lnTo>
                <a:lnTo>
                  <a:pt x="1732320" y="571449"/>
                </a:lnTo>
                <a:lnTo>
                  <a:pt x="1729142" y="566679"/>
                </a:lnTo>
                <a:lnTo>
                  <a:pt x="1725329" y="562227"/>
                </a:lnTo>
                <a:lnTo>
                  <a:pt x="1720880" y="557457"/>
                </a:lnTo>
                <a:lnTo>
                  <a:pt x="1715796" y="553323"/>
                </a:lnTo>
                <a:lnTo>
                  <a:pt x="1710394" y="548871"/>
                </a:lnTo>
                <a:lnTo>
                  <a:pt x="1704992" y="544737"/>
                </a:lnTo>
                <a:lnTo>
                  <a:pt x="1698954" y="540921"/>
                </a:lnTo>
                <a:lnTo>
                  <a:pt x="1692599" y="537105"/>
                </a:lnTo>
                <a:lnTo>
                  <a:pt x="1685926" y="533289"/>
                </a:lnTo>
                <a:lnTo>
                  <a:pt x="1679253" y="529791"/>
                </a:lnTo>
                <a:lnTo>
                  <a:pt x="1672262" y="526929"/>
                </a:lnTo>
                <a:lnTo>
                  <a:pt x="1664635" y="523749"/>
                </a:lnTo>
                <a:lnTo>
                  <a:pt x="1657326" y="521205"/>
                </a:lnTo>
                <a:lnTo>
                  <a:pt x="1649700" y="518661"/>
                </a:lnTo>
                <a:lnTo>
                  <a:pt x="1641756" y="516117"/>
                </a:lnTo>
                <a:lnTo>
                  <a:pt x="1633494" y="513891"/>
                </a:lnTo>
                <a:lnTo>
                  <a:pt x="1625549" y="511983"/>
                </a:lnTo>
                <a:lnTo>
                  <a:pt x="1616652" y="510711"/>
                </a:lnTo>
                <a:lnTo>
                  <a:pt x="1608390" y="509121"/>
                </a:lnTo>
                <a:lnTo>
                  <a:pt x="1599810" y="507849"/>
                </a:lnTo>
                <a:lnTo>
                  <a:pt x="1590913" y="506895"/>
                </a:lnTo>
                <a:lnTo>
                  <a:pt x="1582333" y="505941"/>
                </a:lnTo>
                <a:lnTo>
                  <a:pt x="1573435" y="505305"/>
                </a:lnTo>
                <a:lnTo>
                  <a:pt x="1564538" y="504987"/>
                </a:lnTo>
                <a:lnTo>
                  <a:pt x="1555640" y="504987"/>
                </a:lnTo>
                <a:lnTo>
                  <a:pt x="1546743" y="504987"/>
                </a:lnTo>
                <a:close/>
                <a:moveTo>
                  <a:pt x="1042760" y="493221"/>
                </a:moveTo>
                <a:lnTo>
                  <a:pt x="1034180" y="493539"/>
                </a:lnTo>
                <a:lnTo>
                  <a:pt x="1024965" y="493857"/>
                </a:lnTo>
                <a:lnTo>
                  <a:pt x="1016385" y="494175"/>
                </a:lnTo>
                <a:lnTo>
                  <a:pt x="1007487" y="495447"/>
                </a:lnTo>
                <a:lnTo>
                  <a:pt x="999225" y="496719"/>
                </a:lnTo>
                <a:lnTo>
                  <a:pt x="990646" y="497673"/>
                </a:lnTo>
                <a:lnTo>
                  <a:pt x="982384" y="499263"/>
                </a:lnTo>
                <a:lnTo>
                  <a:pt x="974439" y="501171"/>
                </a:lnTo>
                <a:lnTo>
                  <a:pt x="965860" y="503079"/>
                </a:lnTo>
                <a:lnTo>
                  <a:pt x="958551" y="505305"/>
                </a:lnTo>
                <a:lnTo>
                  <a:pt x="950607" y="507849"/>
                </a:lnTo>
                <a:lnTo>
                  <a:pt x="943298" y="510711"/>
                </a:lnTo>
                <a:lnTo>
                  <a:pt x="935989" y="513255"/>
                </a:lnTo>
                <a:lnTo>
                  <a:pt x="928998" y="516117"/>
                </a:lnTo>
                <a:lnTo>
                  <a:pt x="922007" y="519615"/>
                </a:lnTo>
                <a:lnTo>
                  <a:pt x="915652" y="523113"/>
                </a:lnTo>
                <a:lnTo>
                  <a:pt x="909614" y="526929"/>
                </a:lnTo>
                <a:lnTo>
                  <a:pt x="903577" y="530745"/>
                </a:lnTo>
                <a:lnTo>
                  <a:pt x="898175" y="534879"/>
                </a:lnTo>
                <a:lnTo>
                  <a:pt x="893090" y="539013"/>
                </a:lnTo>
                <a:lnTo>
                  <a:pt x="888324" y="543147"/>
                </a:lnTo>
                <a:lnTo>
                  <a:pt x="884193" y="547599"/>
                </a:lnTo>
                <a:lnTo>
                  <a:pt x="880697" y="552369"/>
                </a:lnTo>
                <a:lnTo>
                  <a:pt x="877520" y="556821"/>
                </a:lnTo>
                <a:lnTo>
                  <a:pt x="874660" y="561273"/>
                </a:lnTo>
                <a:lnTo>
                  <a:pt x="872118" y="565725"/>
                </a:lnTo>
                <a:lnTo>
                  <a:pt x="870211" y="570495"/>
                </a:lnTo>
                <a:lnTo>
                  <a:pt x="868622" y="575265"/>
                </a:lnTo>
                <a:lnTo>
                  <a:pt x="867987" y="580035"/>
                </a:lnTo>
                <a:lnTo>
                  <a:pt x="867351" y="584805"/>
                </a:lnTo>
                <a:lnTo>
                  <a:pt x="866715" y="589576"/>
                </a:lnTo>
                <a:lnTo>
                  <a:pt x="867351" y="594346"/>
                </a:lnTo>
                <a:lnTo>
                  <a:pt x="867987" y="599116"/>
                </a:lnTo>
                <a:lnTo>
                  <a:pt x="868622" y="603886"/>
                </a:lnTo>
                <a:lnTo>
                  <a:pt x="870211" y="608656"/>
                </a:lnTo>
                <a:lnTo>
                  <a:pt x="872118" y="613108"/>
                </a:lnTo>
                <a:lnTo>
                  <a:pt x="874660" y="617878"/>
                </a:lnTo>
                <a:lnTo>
                  <a:pt x="877520" y="622330"/>
                </a:lnTo>
                <a:lnTo>
                  <a:pt x="880380" y="626782"/>
                </a:lnTo>
                <a:lnTo>
                  <a:pt x="883875" y="631234"/>
                </a:lnTo>
                <a:lnTo>
                  <a:pt x="888006" y="636004"/>
                </a:lnTo>
                <a:lnTo>
                  <a:pt x="892137" y="640138"/>
                </a:lnTo>
                <a:lnTo>
                  <a:pt x="897221" y="644272"/>
                </a:lnTo>
                <a:lnTo>
                  <a:pt x="901988" y="648406"/>
                </a:lnTo>
                <a:lnTo>
                  <a:pt x="907708" y="652222"/>
                </a:lnTo>
                <a:lnTo>
                  <a:pt x="913745" y="656038"/>
                </a:lnTo>
                <a:lnTo>
                  <a:pt x="919783" y="659854"/>
                </a:lnTo>
                <a:lnTo>
                  <a:pt x="926774" y="663670"/>
                </a:lnTo>
                <a:lnTo>
                  <a:pt x="933765" y="666850"/>
                </a:lnTo>
                <a:lnTo>
                  <a:pt x="941391" y="670030"/>
                </a:lnTo>
                <a:lnTo>
                  <a:pt x="949018" y="673528"/>
                </a:lnTo>
                <a:lnTo>
                  <a:pt x="956962" y="676072"/>
                </a:lnTo>
                <a:lnTo>
                  <a:pt x="965224" y="678616"/>
                </a:lnTo>
                <a:lnTo>
                  <a:pt x="973168" y="680842"/>
                </a:lnTo>
                <a:lnTo>
                  <a:pt x="981748" y="683386"/>
                </a:lnTo>
                <a:lnTo>
                  <a:pt x="990328" y="685294"/>
                </a:lnTo>
                <a:lnTo>
                  <a:pt x="998908" y="686566"/>
                </a:lnTo>
                <a:lnTo>
                  <a:pt x="1007487" y="688156"/>
                </a:lnTo>
                <a:lnTo>
                  <a:pt x="1016385" y="689428"/>
                </a:lnTo>
                <a:lnTo>
                  <a:pt x="1024965" y="690064"/>
                </a:lnTo>
                <a:lnTo>
                  <a:pt x="1034180" y="690700"/>
                </a:lnTo>
                <a:lnTo>
                  <a:pt x="1042760" y="691336"/>
                </a:lnTo>
                <a:lnTo>
                  <a:pt x="1051975" y="691654"/>
                </a:lnTo>
                <a:lnTo>
                  <a:pt x="1060555" y="691654"/>
                </a:lnTo>
                <a:lnTo>
                  <a:pt x="1069770" y="691336"/>
                </a:lnTo>
                <a:lnTo>
                  <a:pt x="1078350" y="690700"/>
                </a:lnTo>
                <a:lnTo>
                  <a:pt x="1086930" y="690382"/>
                </a:lnTo>
                <a:lnTo>
                  <a:pt x="1095827" y="689428"/>
                </a:lnTo>
                <a:lnTo>
                  <a:pt x="1104089" y="688156"/>
                </a:lnTo>
                <a:lnTo>
                  <a:pt x="1112669" y="687202"/>
                </a:lnTo>
                <a:lnTo>
                  <a:pt x="1121249" y="685612"/>
                </a:lnTo>
                <a:lnTo>
                  <a:pt x="1129193" y="683704"/>
                </a:lnTo>
                <a:lnTo>
                  <a:pt x="1137455" y="681796"/>
                </a:lnTo>
                <a:lnTo>
                  <a:pt x="1145082" y="679570"/>
                </a:lnTo>
                <a:lnTo>
                  <a:pt x="1153026" y="676708"/>
                </a:lnTo>
                <a:lnTo>
                  <a:pt x="1160017" y="674164"/>
                </a:lnTo>
                <a:lnTo>
                  <a:pt x="1167643" y="671620"/>
                </a:lnTo>
                <a:lnTo>
                  <a:pt x="1174316" y="668440"/>
                </a:lnTo>
                <a:lnTo>
                  <a:pt x="1181307" y="664942"/>
                </a:lnTo>
                <a:lnTo>
                  <a:pt x="1187663" y="661762"/>
                </a:lnTo>
                <a:lnTo>
                  <a:pt x="1193700" y="657946"/>
                </a:lnTo>
                <a:lnTo>
                  <a:pt x="1199738" y="654130"/>
                </a:lnTo>
                <a:lnTo>
                  <a:pt x="1205140" y="649996"/>
                </a:lnTo>
                <a:lnTo>
                  <a:pt x="1210224" y="645862"/>
                </a:lnTo>
                <a:lnTo>
                  <a:pt x="1214991" y="641728"/>
                </a:lnTo>
                <a:lnTo>
                  <a:pt x="1219122" y="636958"/>
                </a:lnTo>
                <a:lnTo>
                  <a:pt x="1222617" y="632506"/>
                </a:lnTo>
                <a:lnTo>
                  <a:pt x="1225795" y="628054"/>
                </a:lnTo>
                <a:lnTo>
                  <a:pt x="1228655" y="623284"/>
                </a:lnTo>
                <a:lnTo>
                  <a:pt x="1231197" y="618832"/>
                </a:lnTo>
                <a:lnTo>
                  <a:pt x="1233104" y="614380"/>
                </a:lnTo>
                <a:lnTo>
                  <a:pt x="1234693" y="609292"/>
                </a:lnTo>
                <a:lnTo>
                  <a:pt x="1235328" y="604840"/>
                </a:lnTo>
                <a:lnTo>
                  <a:pt x="1235964" y="600070"/>
                </a:lnTo>
                <a:lnTo>
                  <a:pt x="1236599" y="595300"/>
                </a:lnTo>
                <a:lnTo>
                  <a:pt x="1235964" y="590530"/>
                </a:lnTo>
                <a:lnTo>
                  <a:pt x="1235328" y="585441"/>
                </a:lnTo>
                <a:lnTo>
                  <a:pt x="1234693" y="580989"/>
                </a:lnTo>
                <a:lnTo>
                  <a:pt x="1233104" y="576219"/>
                </a:lnTo>
                <a:lnTo>
                  <a:pt x="1231197" y="571449"/>
                </a:lnTo>
                <a:lnTo>
                  <a:pt x="1228973" y="566997"/>
                </a:lnTo>
                <a:lnTo>
                  <a:pt x="1225795" y="562545"/>
                </a:lnTo>
                <a:lnTo>
                  <a:pt x="1222935" y="557775"/>
                </a:lnTo>
                <a:lnTo>
                  <a:pt x="1219440" y="553323"/>
                </a:lnTo>
                <a:lnTo>
                  <a:pt x="1215309" y="548871"/>
                </a:lnTo>
                <a:lnTo>
                  <a:pt x="1211178" y="544737"/>
                </a:lnTo>
                <a:lnTo>
                  <a:pt x="1206093" y="540603"/>
                </a:lnTo>
                <a:lnTo>
                  <a:pt x="1201327" y="536469"/>
                </a:lnTo>
                <a:lnTo>
                  <a:pt x="1195607" y="532653"/>
                </a:lnTo>
                <a:lnTo>
                  <a:pt x="1189569" y="528837"/>
                </a:lnTo>
                <a:lnTo>
                  <a:pt x="1183532" y="525021"/>
                </a:lnTo>
                <a:lnTo>
                  <a:pt x="1176859" y="521205"/>
                </a:lnTo>
                <a:lnTo>
                  <a:pt x="1169550" y="517707"/>
                </a:lnTo>
                <a:lnTo>
                  <a:pt x="1161923" y="514845"/>
                </a:lnTo>
                <a:lnTo>
                  <a:pt x="1154297" y="511347"/>
                </a:lnTo>
                <a:lnTo>
                  <a:pt x="1146353" y="508803"/>
                </a:lnTo>
                <a:lnTo>
                  <a:pt x="1138091" y="505941"/>
                </a:lnTo>
                <a:lnTo>
                  <a:pt x="1130147" y="503715"/>
                </a:lnTo>
                <a:lnTo>
                  <a:pt x="1121567" y="501489"/>
                </a:lnTo>
                <a:lnTo>
                  <a:pt x="1113305" y="499581"/>
                </a:lnTo>
                <a:lnTo>
                  <a:pt x="1104407" y="497991"/>
                </a:lnTo>
                <a:lnTo>
                  <a:pt x="1095827" y="496719"/>
                </a:lnTo>
                <a:lnTo>
                  <a:pt x="1086930" y="495447"/>
                </a:lnTo>
                <a:lnTo>
                  <a:pt x="1078350" y="494811"/>
                </a:lnTo>
                <a:lnTo>
                  <a:pt x="1069135" y="493857"/>
                </a:lnTo>
                <a:lnTo>
                  <a:pt x="1060555" y="493539"/>
                </a:lnTo>
                <a:lnTo>
                  <a:pt x="1051340" y="493221"/>
                </a:lnTo>
                <a:lnTo>
                  <a:pt x="1042760" y="493221"/>
                </a:lnTo>
                <a:close/>
                <a:moveTo>
                  <a:pt x="1705310" y="248995"/>
                </a:moveTo>
                <a:lnTo>
                  <a:pt x="1696094" y="249313"/>
                </a:lnTo>
                <a:lnTo>
                  <a:pt x="1687197" y="249949"/>
                </a:lnTo>
                <a:lnTo>
                  <a:pt x="1677664" y="251221"/>
                </a:lnTo>
                <a:lnTo>
                  <a:pt x="1668448" y="252175"/>
                </a:lnTo>
                <a:lnTo>
                  <a:pt x="1659551" y="253765"/>
                </a:lnTo>
                <a:lnTo>
                  <a:pt x="1650653" y="255673"/>
                </a:lnTo>
                <a:lnTo>
                  <a:pt x="1642391" y="257581"/>
                </a:lnTo>
                <a:lnTo>
                  <a:pt x="1634129" y="259807"/>
                </a:lnTo>
                <a:lnTo>
                  <a:pt x="1626185" y="262033"/>
                </a:lnTo>
                <a:lnTo>
                  <a:pt x="1618559" y="264896"/>
                </a:lnTo>
                <a:lnTo>
                  <a:pt x="1611568" y="267440"/>
                </a:lnTo>
                <a:lnTo>
                  <a:pt x="1604259" y="270620"/>
                </a:lnTo>
                <a:lnTo>
                  <a:pt x="1597268" y="273482"/>
                </a:lnTo>
                <a:lnTo>
                  <a:pt x="1591230" y="276980"/>
                </a:lnTo>
                <a:lnTo>
                  <a:pt x="1585193" y="280478"/>
                </a:lnTo>
                <a:lnTo>
                  <a:pt x="1579155" y="283658"/>
                </a:lnTo>
                <a:lnTo>
                  <a:pt x="1574071" y="287474"/>
                </a:lnTo>
                <a:lnTo>
                  <a:pt x="1568986" y="291290"/>
                </a:lnTo>
                <a:lnTo>
                  <a:pt x="1564538" y="295424"/>
                </a:lnTo>
                <a:lnTo>
                  <a:pt x="1560089" y="299240"/>
                </a:lnTo>
                <a:lnTo>
                  <a:pt x="1556276" y="303374"/>
                </a:lnTo>
                <a:lnTo>
                  <a:pt x="1552462" y="307826"/>
                </a:lnTo>
                <a:lnTo>
                  <a:pt x="1549285" y="312278"/>
                </a:lnTo>
                <a:lnTo>
                  <a:pt x="1546743" y="316730"/>
                </a:lnTo>
                <a:lnTo>
                  <a:pt x="1544200" y="321182"/>
                </a:lnTo>
                <a:lnTo>
                  <a:pt x="1542294" y="326270"/>
                </a:lnTo>
                <a:lnTo>
                  <a:pt x="1540705" y="330722"/>
                </a:lnTo>
                <a:lnTo>
                  <a:pt x="1539434" y="335492"/>
                </a:lnTo>
                <a:lnTo>
                  <a:pt x="1539116" y="340262"/>
                </a:lnTo>
                <a:lnTo>
                  <a:pt x="1538798" y="345032"/>
                </a:lnTo>
                <a:lnTo>
                  <a:pt x="1539116" y="350120"/>
                </a:lnTo>
                <a:lnTo>
                  <a:pt x="1539434" y="354890"/>
                </a:lnTo>
                <a:lnTo>
                  <a:pt x="1540705" y="359978"/>
                </a:lnTo>
                <a:lnTo>
                  <a:pt x="1542612" y="364748"/>
                </a:lnTo>
                <a:lnTo>
                  <a:pt x="1544518" y="369836"/>
                </a:lnTo>
                <a:lnTo>
                  <a:pt x="1547060" y="374606"/>
                </a:lnTo>
                <a:lnTo>
                  <a:pt x="1550238" y="379694"/>
                </a:lnTo>
                <a:lnTo>
                  <a:pt x="1553416" y="384464"/>
                </a:lnTo>
                <a:lnTo>
                  <a:pt x="1557547" y="388916"/>
                </a:lnTo>
                <a:lnTo>
                  <a:pt x="1561996" y="393686"/>
                </a:lnTo>
                <a:lnTo>
                  <a:pt x="1566444" y="397820"/>
                </a:lnTo>
                <a:lnTo>
                  <a:pt x="1571211" y="401954"/>
                </a:lnTo>
                <a:lnTo>
                  <a:pt x="1576613" y="406088"/>
                </a:lnTo>
                <a:lnTo>
                  <a:pt x="1582333" y="409904"/>
                </a:lnTo>
                <a:lnTo>
                  <a:pt x="1588370" y="413720"/>
                </a:lnTo>
                <a:lnTo>
                  <a:pt x="1594726" y="416900"/>
                </a:lnTo>
                <a:lnTo>
                  <a:pt x="1601081" y="420398"/>
                </a:lnTo>
                <a:lnTo>
                  <a:pt x="1608072" y="423578"/>
                </a:lnTo>
                <a:lnTo>
                  <a:pt x="1615063" y="426441"/>
                </a:lnTo>
                <a:lnTo>
                  <a:pt x="1622372" y="429621"/>
                </a:lnTo>
                <a:lnTo>
                  <a:pt x="1629998" y="432165"/>
                </a:lnTo>
                <a:lnTo>
                  <a:pt x="1637625" y="434391"/>
                </a:lnTo>
                <a:lnTo>
                  <a:pt x="1645569" y="436617"/>
                </a:lnTo>
                <a:lnTo>
                  <a:pt x="1653831" y="438525"/>
                </a:lnTo>
                <a:lnTo>
                  <a:pt x="1662093" y="440433"/>
                </a:lnTo>
                <a:lnTo>
                  <a:pt x="1670355" y="442341"/>
                </a:lnTo>
                <a:lnTo>
                  <a:pt x="1679253" y="443613"/>
                </a:lnTo>
                <a:lnTo>
                  <a:pt x="1687832" y="444567"/>
                </a:lnTo>
                <a:lnTo>
                  <a:pt x="1696412" y="445839"/>
                </a:lnTo>
                <a:lnTo>
                  <a:pt x="1705627" y="446475"/>
                </a:lnTo>
                <a:lnTo>
                  <a:pt x="1714207" y="447111"/>
                </a:lnTo>
                <a:lnTo>
                  <a:pt x="1723423" y="447429"/>
                </a:lnTo>
                <a:lnTo>
                  <a:pt x="1732320" y="447429"/>
                </a:lnTo>
                <a:lnTo>
                  <a:pt x="1741853" y="447111"/>
                </a:lnTo>
                <a:lnTo>
                  <a:pt x="1751069" y="446475"/>
                </a:lnTo>
                <a:lnTo>
                  <a:pt x="1759966" y="445839"/>
                </a:lnTo>
                <a:lnTo>
                  <a:pt x="1769181" y="444567"/>
                </a:lnTo>
                <a:lnTo>
                  <a:pt x="1778714" y="443613"/>
                </a:lnTo>
                <a:lnTo>
                  <a:pt x="1787294" y="442023"/>
                </a:lnTo>
                <a:lnTo>
                  <a:pt x="1796192" y="440115"/>
                </a:lnTo>
                <a:lnTo>
                  <a:pt x="1804772" y="438207"/>
                </a:lnTo>
                <a:lnTo>
                  <a:pt x="1812716" y="435981"/>
                </a:lnTo>
                <a:lnTo>
                  <a:pt x="1820660" y="433755"/>
                </a:lnTo>
                <a:lnTo>
                  <a:pt x="1828287" y="431211"/>
                </a:lnTo>
                <a:lnTo>
                  <a:pt x="1835913" y="428349"/>
                </a:lnTo>
                <a:lnTo>
                  <a:pt x="1842586" y="425805"/>
                </a:lnTo>
                <a:lnTo>
                  <a:pt x="1849259" y="422306"/>
                </a:lnTo>
                <a:lnTo>
                  <a:pt x="1855933" y="419444"/>
                </a:lnTo>
                <a:lnTo>
                  <a:pt x="1861970" y="415946"/>
                </a:lnTo>
                <a:lnTo>
                  <a:pt x="1867690" y="412130"/>
                </a:lnTo>
                <a:lnTo>
                  <a:pt x="1872774" y="408314"/>
                </a:lnTo>
                <a:lnTo>
                  <a:pt x="1878176" y="404498"/>
                </a:lnTo>
                <a:lnTo>
                  <a:pt x="1882625" y="400682"/>
                </a:lnTo>
                <a:lnTo>
                  <a:pt x="1886756" y="396548"/>
                </a:lnTo>
                <a:lnTo>
                  <a:pt x="1890887" y="392414"/>
                </a:lnTo>
                <a:lnTo>
                  <a:pt x="1894383" y="388280"/>
                </a:lnTo>
                <a:lnTo>
                  <a:pt x="1897560" y="383828"/>
                </a:lnTo>
                <a:lnTo>
                  <a:pt x="1900420" y="379058"/>
                </a:lnTo>
                <a:lnTo>
                  <a:pt x="1902645" y="374606"/>
                </a:lnTo>
                <a:lnTo>
                  <a:pt x="1904551" y="370154"/>
                </a:lnTo>
                <a:lnTo>
                  <a:pt x="1906140" y="365066"/>
                </a:lnTo>
                <a:lnTo>
                  <a:pt x="1907411" y="360614"/>
                </a:lnTo>
                <a:lnTo>
                  <a:pt x="1908047" y="355844"/>
                </a:lnTo>
                <a:lnTo>
                  <a:pt x="1908047" y="350756"/>
                </a:lnTo>
                <a:lnTo>
                  <a:pt x="1908047" y="345986"/>
                </a:lnTo>
                <a:lnTo>
                  <a:pt x="1907411" y="340898"/>
                </a:lnTo>
                <a:lnTo>
                  <a:pt x="1906140" y="336128"/>
                </a:lnTo>
                <a:lnTo>
                  <a:pt x="1904551" y="331040"/>
                </a:lnTo>
                <a:lnTo>
                  <a:pt x="1902327" y="326270"/>
                </a:lnTo>
                <a:lnTo>
                  <a:pt x="1899785" y="321182"/>
                </a:lnTo>
                <a:lnTo>
                  <a:pt x="1896607" y="316412"/>
                </a:lnTo>
                <a:lnTo>
                  <a:pt x="1893112" y="311642"/>
                </a:lnTo>
                <a:lnTo>
                  <a:pt x="1889616" y="307190"/>
                </a:lnTo>
                <a:lnTo>
                  <a:pt x="1884850" y="302738"/>
                </a:lnTo>
                <a:lnTo>
                  <a:pt x="1880401" y="298286"/>
                </a:lnTo>
                <a:lnTo>
                  <a:pt x="1875634" y="293834"/>
                </a:lnTo>
                <a:lnTo>
                  <a:pt x="1870232" y="290018"/>
                </a:lnTo>
                <a:lnTo>
                  <a:pt x="1864512" y="285884"/>
                </a:lnTo>
                <a:lnTo>
                  <a:pt x="1858475" y="282704"/>
                </a:lnTo>
                <a:lnTo>
                  <a:pt x="1852437" y="278888"/>
                </a:lnTo>
                <a:lnTo>
                  <a:pt x="1846082" y="275390"/>
                </a:lnTo>
                <a:lnTo>
                  <a:pt x="1839091" y="272528"/>
                </a:lnTo>
                <a:lnTo>
                  <a:pt x="1832100" y="269348"/>
                </a:lnTo>
                <a:lnTo>
                  <a:pt x="1824791" y="266804"/>
                </a:lnTo>
                <a:lnTo>
                  <a:pt x="1817165" y="263941"/>
                </a:lnTo>
                <a:lnTo>
                  <a:pt x="1809220" y="261397"/>
                </a:lnTo>
                <a:lnTo>
                  <a:pt x="1801276" y="259171"/>
                </a:lnTo>
                <a:lnTo>
                  <a:pt x="1793332" y="257263"/>
                </a:lnTo>
                <a:lnTo>
                  <a:pt x="1785070" y="255355"/>
                </a:lnTo>
                <a:lnTo>
                  <a:pt x="1776808" y="253765"/>
                </a:lnTo>
                <a:lnTo>
                  <a:pt x="1767910" y="252175"/>
                </a:lnTo>
                <a:lnTo>
                  <a:pt x="1759331" y="251221"/>
                </a:lnTo>
                <a:lnTo>
                  <a:pt x="1750751" y="250267"/>
                </a:lnTo>
                <a:lnTo>
                  <a:pt x="1741535" y="249631"/>
                </a:lnTo>
                <a:lnTo>
                  <a:pt x="1732320" y="248995"/>
                </a:lnTo>
                <a:lnTo>
                  <a:pt x="1723423" y="248995"/>
                </a:lnTo>
                <a:lnTo>
                  <a:pt x="1714207" y="248995"/>
                </a:lnTo>
                <a:lnTo>
                  <a:pt x="1705310" y="248995"/>
                </a:lnTo>
                <a:close/>
                <a:moveTo>
                  <a:pt x="887688" y="229915"/>
                </a:moveTo>
                <a:lnTo>
                  <a:pt x="878473" y="230233"/>
                </a:lnTo>
                <a:lnTo>
                  <a:pt x="869893" y="231187"/>
                </a:lnTo>
                <a:lnTo>
                  <a:pt x="861313" y="231823"/>
                </a:lnTo>
                <a:lnTo>
                  <a:pt x="852416" y="232459"/>
                </a:lnTo>
                <a:lnTo>
                  <a:pt x="844154" y="234049"/>
                </a:lnTo>
                <a:lnTo>
                  <a:pt x="835892" y="235639"/>
                </a:lnTo>
                <a:lnTo>
                  <a:pt x="827630" y="237229"/>
                </a:lnTo>
                <a:lnTo>
                  <a:pt x="819686" y="239137"/>
                </a:lnTo>
                <a:lnTo>
                  <a:pt x="811741" y="241045"/>
                </a:lnTo>
                <a:lnTo>
                  <a:pt x="804115" y="243271"/>
                </a:lnTo>
                <a:lnTo>
                  <a:pt x="796488" y="245815"/>
                </a:lnTo>
                <a:lnTo>
                  <a:pt x="789180" y="248359"/>
                </a:lnTo>
                <a:lnTo>
                  <a:pt x="782506" y="251539"/>
                </a:lnTo>
                <a:lnTo>
                  <a:pt x="775516" y="254719"/>
                </a:lnTo>
                <a:lnTo>
                  <a:pt x="769160" y="257581"/>
                </a:lnTo>
                <a:lnTo>
                  <a:pt x="763122" y="261079"/>
                </a:lnTo>
                <a:lnTo>
                  <a:pt x="757085" y="264896"/>
                </a:lnTo>
                <a:lnTo>
                  <a:pt x="751683" y="268712"/>
                </a:lnTo>
                <a:lnTo>
                  <a:pt x="746598" y="272528"/>
                </a:lnTo>
                <a:lnTo>
                  <a:pt x="741514" y="276662"/>
                </a:lnTo>
                <a:lnTo>
                  <a:pt x="737383" y="280796"/>
                </a:lnTo>
                <a:lnTo>
                  <a:pt x="733252" y="285248"/>
                </a:lnTo>
                <a:lnTo>
                  <a:pt x="729439" y="289700"/>
                </a:lnTo>
                <a:lnTo>
                  <a:pt x="726261" y="294788"/>
                </a:lnTo>
                <a:lnTo>
                  <a:pt x="723401" y="299558"/>
                </a:lnTo>
                <a:lnTo>
                  <a:pt x="721177" y="304328"/>
                </a:lnTo>
                <a:lnTo>
                  <a:pt x="719270" y="309098"/>
                </a:lnTo>
                <a:lnTo>
                  <a:pt x="717681" y="314186"/>
                </a:lnTo>
                <a:lnTo>
                  <a:pt x="717046" y="318956"/>
                </a:lnTo>
                <a:lnTo>
                  <a:pt x="716728" y="323726"/>
                </a:lnTo>
                <a:lnTo>
                  <a:pt x="716728" y="328814"/>
                </a:lnTo>
                <a:lnTo>
                  <a:pt x="717046" y="333584"/>
                </a:lnTo>
                <a:lnTo>
                  <a:pt x="717681" y="338354"/>
                </a:lnTo>
                <a:lnTo>
                  <a:pt x="719270" y="343124"/>
                </a:lnTo>
                <a:lnTo>
                  <a:pt x="720859" y="348212"/>
                </a:lnTo>
                <a:lnTo>
                  <a:pt x="723084" y="352664"/>
                </a:lnTo>
                <a:lnTo>
                  <a:pt x="725626" y="357116"/>
                </a:lnTo>
                <a:lnTo>
                  <a:pt x="728486" y="361886"/>
                </a:lnTo>
                <a:lnTo>
                  <a:pt x="731663" y="366338"/>
                </a:lnTo>
                <a:lnTo>
                  <a:pt x="735477" y="370472"/>
                </a:lnTo>
                <a:lnTo>
                  <a:pt x="739608" y="374924"/>
                </a:lnTo>
                <a:lnTo>
                  <a:pt x="744374" y="379058"/>
                </a:lnTo>
                <a:lnTo>
                  <a:pt x="749141" y="382874"/>
                </a:lnTo>
                <a:lnTo>
                  <a:pt x="754225" y="387008"/>
                </a:lnTo>
                <a:lnTo>
                  <a:pt x="759627" y="390824"/>
                </a:lnTo>
                <a:lnTo>
                  <a:pt x="765982" y="394640"/>
                </a:lnTo>
                <a:lnTo>
                  <a:pt x="772020" y="398138"/>
                </a:lnTo>
                <a:lnTo>
                  <a:pt x="778375" y="401636"/>
                </a:lnTo>
                <a:lnTo>
                  <a:pt x="785366" y="404816"/>
                </a:lnTo>
                <a:lnTo>
                  <a:pt x="792675" y="407996"/>
                </a:lnTo>
                <a:lnTo>
                  <a:pt x="799984" y="410540"/>
                </a:lnTo>
                <a:lnTo>
                  <a:pt x="807928" y="413402"/>
                </a:lnTo>
                <a:lnTo>
                  <a:pt x="815872" y="415946"/>
                </a:lnTo>
                <a:lnTo>
                  <a:pt x="824452" y="418172"/>
                </a:lnTo>
                <a:lnTo>
                  <a:pt x="832714" y="420398"/>
                </a:lnTo>
                <a:lnTo>
                  <a:pt x="841929" y="422306"/>
                </a:lnTo>
                <a:lnTo>
                  <a:pt x="850827" y="423896"/>
                </a:lnTo>
                <a:lnTo>
                  <a:pt x="860042" y="425487"/>
                </a:lnTo>
                <a:lnTo>
                  <a:pt x="869258" y="426441"/>
                </a:lnTo>
                <a:lnTo>
                  <a:pt x="878155" y="427395"/>
                </a:lnTo>
                <a:lnTo>
                  <a:pt x="887688" y="428031"/>
                </a:lnTo>
                <a:lnTo>
                  <a:pt x="896586" y="428349"/>
                </a:lnTo>
                <a:lnTo>
                  <a:pt x="905801" y="428349"/>
                </a:lnTo>
                <a:lnTo>
                  <a:pt x="914381" y="428349"/>
                </a:lnTo>
                <a:lnTo>
                  <a:pt x="923596" y="428031"/>
                </a:lnTo>
                <a:lnTo>
                  <a:pt x="932812" y="427713"/>
                </a:lnTo>
                <a:lnTo>
                  <a:pt x="941391" y="426759"/>
                </a:lnTo>
                <a:lnTo>
                  <a:pt x="949971" y="425805"/>
                </a:lnTo>
                <a:lnTo>
                  <a:pt x="958551" y="424532"/>
                </a:lnTo>
                <a:lnTo>
                  <a:pt x="966813" y="422942"/>
                </a:lnTo>
                <a:lnTo>
                  <a:pt x="975075" y="421352"/>
                </a:lnTo>
                <a:lnTo>
                  <a:pt x="983019" y="419762"/>
                </a:lnTo>
                <a:lnTo>
                  <a:pt x="990963" y="417536"/>
                </a:lnTo>
                <a:lnTo>
                  <a:pt x="998590" y="414992"/>
                </a:lnTo>
                <a:lnTo>
                  <a:pt x="1006216" y="412448"/>
                </a:lnTo>
                <a:lnTo>
                  <a:pt x="1013207" y="409904"/>
                </a:lnTo>
                <a:lnTo>
                  <a:pt x="1020198" y="407042"/>
                </a:lnTo>
                <a:lnTo>
                  <a:pt x="1026871" y="404180"/>
                </a:lnTo>
                <a:lnTo>
                  <a:pt x="1033227" y="400682"/>
                </a:lnTo>
                <a:lnTo>
                  <a:pt x="1039264" y="397502"/>
                </a:lnTo>
                <a:lnTo>
                  <a:pt x="1044984" y="393686"/>
                </a:lnTo>
                <a:lnTo>
                  <a:pt x="1050704" y="389870"/>
                </a:lnTo>
                <a:lnTo>
                  <a:pt x="1055788" y="386054"/>
                </a:lnTo>
                <a:lnTo>
                  <a:pt x="1060555" y="381920"/>
                </a:lnTo>
                <a:lnTo>
                  <a:pt x="1065004" y="377786"/>
                </a:lnTo>
                <a:lnTo>
                  <a:pt x="1069135" y="373016"/>
                </a:lnTo>
                <a:lnTo>
                  <a:pt x="1072630" y="368564"/>
                </a:lnTo>
                <a:lnTo>
                  <a:pt x="1076126" y="364112"/>
                </a:lnTo>
                <a:lnTo>
                  <a:pt x="1078668" y="359024"/>
                </a:lnTo>
                <a:lnTo>
                  <a:pt x="1081210" y="354254"/>
                </a:lnTo>
                <a:lnTo>
                  <a:pt x="1083117" y="349166"/>
                </a:lnTo>
                <a:lnTo>
                  <a:pt x="1084388" y="344396"/>
                </a:lnTo>
                <a:lnTo>
                  <a:pt x="1085659" y="339308"/>
                </a:lnTo>
                <a:lnTo>
                  <a:pt x="1085977" y="334538"/>
                </a:lnTo>
                <a:lnTo>
                  <a:pt x="1085977" y="329450"/>
                </a:lnTo>
                <a:lnTo>
                  <a:pt x="1085659" y="324998"/>
                </a:lnTo>
                <a:lnTo>
                  <a:pt x="1084705" y="320228"/>
                </a:lnTo>
                <a:lnTo>
                  <a:pt x="1083117" y="315140"/>
                </a:lnTo>
                <a:lnTo>
                  <a:pt x="1081846" y="310688"/>
                </a:lnTo>
                <a:lnTo>
                  <a:pt x="1079621" y="305600"/>
                </a:lnTo>
                <a:lnTo>
                  <a:pt x="1076761" y="301148"/>
                </a:lnTo>
                <a:lnTo>
                  <a:pt x="1073901" y="296696"/>
                </a:lnTo>
                <a:lnTo>
                  <a:pt x="1070406" y="291926"/>
                </a:lnTo>
                <a:lnTo>
                  <a:pt x="1066910" y="287792"/>
                </a:lnTo>
                <a:lnTo>
                  <a:pt x="1062779" y="283658"/>
                </a:lnTo>
                <a:lnTo>
                  <a:pt x="1058331" y="279524"/>
                </a:lnTo>
                <a:lnTo>
                  <a:pt x="1053246" y="275390"/>
                </a:lnTo>
                <a:lnTo>
                  <a:pt x="1048162" y="271256"/>
                </a:lnTo>
                <a:lnTo>
                  <a:pt x="1042760" y="267440"/>
                </a:lnTo>
                <a:lnTo>
                  <a:pt x="1036722" y="263941"/>
                </a:lnTo>
                <a:lnTo>
                  <a:pt x="1030367" y="260125"/>
                </a:lnTo>
                <a:lnTo>
                  <a:pt x="1024011" y="256945"/>
                </a:lnTo>
                <a:lnTo>
                  <a:pt x="1017020" y="253765"/>
                </a:lnTo>
                <a:lnTo>
                  <a:pt x="1009712" y="250267"/>
                </a:lnTo>
                <a:lnTo>
                  <a:pt x="1002403" y="247723"/>
                </a:lnTo>
                <a:lnTo>
                  <a:pt x="994459" y="245179"/>
                </a:lnTo>
                <a:lnTo>
                  <a:pt x="986515" y="242317"/>
                </a:lnTo>
                <a:lnTo>
                  <a:pt x="977935" y="240091"/>
                </a:lnTo>
                <a:lnTo>
                  <a:pt x="969355" y="237865"/>
                </a:lnTo>
                <a:lnTo>
                  <a:pt x="960457" y="235957"/>
                </a:lnTo>
                <a:lnTo>
                  <a:pt x="951242" y="234367"/>
                </a:lnTo>
                <a:lnTo>
                  <a:pt x="942027" y="233095"/>
                </a:lnTo>
                <a:lnTo>
                  <a:pt x="933129" y="231823"/>
                </a:lnTo>
                <a:lnTo>
                  <a:pt x="923914" y="231187"/>
                </a:lnTo>
                <a:lnTo>
                  <a:pt x="915016" y="230233"/>
                </a:lnTo>
                <a:lnTo>
                  <a:pt x="905801" y="229915"/>
                </a:lnTo>
                <a:lnTo>
                  <a:pt x="896586" y="229915"/>
                </a:lnTo>
                <a:lnTo>
                  <a:pt x="887688" y="229915"/>
                </a:lnTo>
                <a:close/>
                <a:moveTo>
                  <a:pt x="1309369" y="78864"/>
                </a:moveTo>
                <a:lnTo>
                  <a:pt x="1300153" y="79182"/>
                </a:lnTo>
                <a:lnTo>
                  <a:pt x="1290620" y="79500"/>
                </a:lnTo>
                <a:lnTo>
                  <a:pt x="1281405" y="80454"/>
                </a:lnTo>
                <a:lnTo>
                  <a:pt x="1272507" y="81090"/>
                </a:lnTo>
                <a:lnTo>
                  <a:pt x="1263610" y="82362"/>
                </a:lnTo>
                <a:lnTo>
                  <a:pt x="1255030" y="83634"/>
                </a:lnTo>
                <a:lnTo>
                  <a:pt x="1246768" y="85224"/>
                </a:lnTo>
                <a:lnTo>
                  <a:pt x="1238506" y="87132"/>
                </a:lnTo>
                <a:lnTo>
                  <a:pt x="1230562" y="89040"/>
                </a:lnTo>
                <a:lnTo>
                  <a:pt x="1222935" y="91266"/>
                </a:lnTo>
                <a:lnTo>
                  <a:pt x="1215309" y="93492"/>
                </a:lnTo>
                <a:lnTo>
                  <a:pt x="1207682" y="96354"/>
                </a:lnTo>
                <a:lnTo>
                  <a:pt x="1201009" y="99216"/>
                </a:lnTo>
                <a:lnTo>
                  <a:pt x="1194018" y="102079"/>
                </a:lnTo>
                <a:lnTo>
                  <a:pt x="1187663" y="105259"/>
                </a:lnTo>
                <a:lnTo>
                  <a:pt x="1181307" y="108439"/>
                </a:lnTo>
                <a:lnTo>
                  <a:pt x="1175588" y="112255"/>
                </a:lnTo>
                <a:lnTo>
                  <a:pt x="1169868" y="115435"/>
                </a:lnTo>
                <a:lnTo>
                  <a:pt x="1164466" y="119251"/>
                </a:lnTo>
                <a:lnTo>
                  <a:pt x="1159699" y="123067"/>
                </a:lnTo>
                <a:lnTo>
                  <a:pt x="1155250" y="127201"/>
                </a:lnTo>
                <a:lnTo>
                  <a:pt x="1151119" y="131653"/>
                </a:lnTo>
                <a:lnTo>
                  <a:pt x="1147306" y="136105"/>
                </a:lnTo>
                <a:lnTo>
                  <a:pt x="1143811" y="140239"/>
                </a:lnTo>
                <a:lnTo>
                  <a:pt x="1140633" y="144691"/>
                </a:lnTo>
                <a:lnTo>
                  <a:pt x="1138091" y="149143"/>
                </a:lnTo>
                <a:lnTo>
                  <a:pt x="1135866" y="154231"/>
                </a:lnTo>
                <a:lnTo>
                  <a:pt x="1134278" y="159001"/>
                </a:lnTo>
                <a:lnTo>
                  <a:pt x="1132689" y="164089"/>
                </a:lnTo>
                <a:lnTo>
                  <a:pt x="1132053" y="168859"/>
                </a:lnTo>
                <a:lnTo>
                  <a:pt x="1131735" y="173947"/>
                </a:lnTo>
                <a:lnTo>
                  <a:pt x="1132053" y="179353"/>
                </a:lnTo>
                <a:lnTo>
                  <a:pt x="1132371" y="184123"/>
                </a:lnTo>
                <a:lnTo>
                  <a:pt x="1133642" y="189211"/>
                </a:lnTo>
                <a:lnTo>
                  <a:pt x="1135231" y="193981"/>
                </a:lnTo>
                <a:lnTo>
                  <a:pt x="1137137" y="198751"/>
                </a:lnTo>
                <a:lnTo>
                  <a:pt x="1139362" y="203839"/>
                </a:lnTo>
                <a:lnTo>
                  <a:pt x="1142222" y="208291"/>
                </a:lnTo>
                <a:lnTo>
                  <a:pt x="1145399" y="213061"/>
                </a:lnTo>
                <a:lnTo>
                  <a:pt x="1149213" y="217513"/>
                </a:lnTo>
                <a:lnTo>
                  <a:pt x="1153026" y="221965"/>
                </a:lnTo>
                <a:lnTo>
                  <a:pt x="1157475" y="226099"/>
                </a:lnTo>
                <a:lnTo>
                  <a:pt x="1161923" y="230233"/>
                </a:lnTo>
                <a:lnTo>
                  <a:pt x="1167326" y="234049"/>
                </a:lnTo>
                <a:lnTo>
                  <a:pt x="1172410" y="237865"/>
                </a:lnTo>
                <a:lnTo>
                  <a:pt x="1178130" y="241681"/>
                </a:lnTo>
                <a:lnTo>
                  <a:pt x="1184167" y="245497"/>
                </a:lnTo>
                <a:lnTo>
                  <a:pt x="1190841" y="248995"/>
                </a:lnTo>
                <a:lnTo>
                  <a:pt x="1197196" y="251857"/>
                </a:lnTo>
                <a:lnTo>
                  <a:pt x="1204187" y="255355"/>
                </a:lnTo>
                <a:lnTo>
                  <a:pt x="1211496" y="257899"/>
                </a:lnTo>
                <a:lnTo>
                  <a:pt x="1218804" y="261079"/>
                </a:lnTo>
                <a:lnTo>
                  <a:pt x="1226748" y="263305"/>
                </a:lnTo>
                <a:lnTo>
                  <a:pt x="1234057" y="265850"/>
                </a:lnTo>
                <a:lnTo>
                  <a:pt x="1242637" y="267758"/>
                </a:lnTo>
                <a:lnTo>
                  <a:pt x="1250899" y="269984"/>
                </a:lnTo>
                <a:lnTo>
                  <a:pt x="1259479" y="271574"/>
                </a:lnTo>
                <a:lnTo>
                  <a:pt x="1268376" y="273164"/>
                </a:lnTo>
                <a:lnTo>
                  <a:pt x="1276956" y="274754"/>
                </a:lnTo>
                <a:lnTo>
                  <a:pt x="1286171" y="275708"/>
                </a:lnTo>
                <a:lnTo>
                  <a:pt x="1295387" y="276662"/>
                </a:lnTo>
                <a:lnTo>
                  <a:pt x="1304920" y="276980"/>
                </a:lnTo>
                <a:lnTo>
                  <a:pt x="1314453" y="277298"/>
                </a:lnTo>
                <a:lnTo>
                  <a:pt x="1323986" y="277616"/>
                </a:lnTo>
                <a:lnTo>
                  <a:pt x="1333201" y="277298"/>
                </a:lnTo>
                <a:lnTo>
                  <a:pt x="1342417" y="276980"/>
                </a:lnTo>
                <a:lnTo>
                  <a:pt x="1351632" y="276026"/>
                </a:lnTo>
                <a:lnTo>
                  <a:pt x="1360530" y="275390"/>
                </a:lnTo>
                <a:lnTo>
                  <a:pt x="1369427" y="274118"/>
                </a:lnTo>
                <a:lnTo>
                  <a:pt x="1378007" y="272846"/>
                </a:lnTo>
                <a:lnTo>
                  <a:pt x="1386269" y="271256"/>
                </a:lnTo>
                <a:lnTo>
                  <a:pt x="1394531" y="269348"/>
                </a:lnTo>
                <a:lnTo>
                  <a:pt x="1402475" y="267440"/>
                </a:lnTo>
                <a:lnTo>
                  <a:pt x="1410102" y="265214"/>
                </a:lnTo>
                <a:lnTo>
                  <a:pt x="1417728" y="262987"/>
                </a:lnTo>
                <a:lnTo>
                  <a:pt x="1425355" y="260125"/>
                </a:lnTo>
                <a:lnTo>
                  <a:pt x="1432028" y="257263"/>
                </a:lnTo>
                <a:lnTo>
                  <a:pt x="1439019" y="254083"/>
                </a:lnTo>
                <a:lnTo>
                  <a:pt x="1445374" y="251221"/>
                </a:lnTo>
                <a:lnTo>
                  <a:pt x="1451729" y="247723"/>
                </a:lnTo>
                <a:lnTo>
                  <a:pt x="1457449" y="244225"/>
                </a:lnTo>
                <a:lnTo>
                  <a:pt x="1463169" y="241045"/>
                </a:lnTo>
                <a:lnTo>
                  <a:pt x="1468253" y="237229"/>
                </a:lnTo>
                <a:lnTo>
                  <a:pt x="1473338" y="233095"/>
                </a:lnTo>
                <a:lnTo>
                  <a:pt x="1477787" y="229279"/>
                </a:lnTo>
                <a:lnTo>
                  <a:pt x="1481918" y="225145"/>
                </a:lnTo>
                <a:lnTo>
                  <a:pt x="1485731" y="220375"/>
                </a:lnTo>
                <a:lnTo>
                  <a:pt x="1489226" y="215923"/>
                </a:lnTo>
                <a:lnTo>
                  <a:pt x="1492086" y="211471"/>
                </a:lnTo>
                <a:lnTo>
                  <a:pt x="1494628" y="207019"/>
                </a:lnTo>
                <a:lnTo>
                  <a:pt x="1496853" y="202249"/>
                </a:lnTo>
                <a:lnTo>
                  <a:pt x="1498759" y="197479"/>
                </a:lnTo>
                <a:lnTo>
                  <a:pt x="1499713" y="192391"/>
                </a:lnTo>
                <a:lnTo>
                  <a:pt x="1500666" y="187621"/>
                </a:lnTo>
                <a:lnTo>
                  <a:pt x="1500984" y="182215"/>
                </a:lnTo>
                <a:lnTo>
                  <a:pt x="1500984" y="177445"/>
                </a:lnTo>
                <a:lnTo>
                  <a:pt x="1500030" y="172039"/>
                </a:lnTo>
                <a:lnTo>
                  <a:pt x="1499395" y="166951"/>
                </a:lnTo>
                <a:lnTo>
                  <a:pt x="1497806" y="162181"/>
                </a:lnTo>
                <a:lnTo>
                  <a:pt x="1495899" y="157093"/>
                </a:lnTo>
                <a:lnTo>
                  <a:pt x="1493357" y="152641"/>
                </a:lnTo>
                <a:lnTo>
                  <a:pt x="1490815" y="147871"/>
                </a:lnTo>
                <a:lnTo>
                  <a:pt x="1487320" y="143101"/>
                </a:lnTo>
                <a:lnTo>
                  <a:pt x="1483824" y="138967"/>
                </a:lnTo>
                <a:lnTo>
                  <a:pt x="1479693" y="134515"/>
                </a:lnTo>
                <a:lnTo>
                  <a:pt x="1475562" y="130381"/>
                </a:lnTo>
                <a:lnTo>
                  <a:pt x="1470796" y="126247"/>
                </a:lnTo>
                <a:lnTo>
                  <a:pt x="1465711" y="122113"/>
                </a:lnTo>
                <a:lnTo>
                  <a:pt x="1460309" y="118297"/>
                </a:lnTo>
                <a:lnTo>
                  <a:pt x="1454907" y="114481"/>
                </a:lnTo>
                <a:lnTo>
                  <a:pt x="1448870" y="110983"/>
                </a:lnTo>
                <a:lnTo>
                  <a:pt x="1442196" y="107485"/>
                </a:lnTo>
                <a:lnTo>
                  <a:pt x="1435841" y="104305"/>
                </a:lnTo>
                <a:lnTo>
                  <a:pt x="1428532" y="101124"/>
                </a:lnTo>
                <a:lnTo>
                  <a:pt x="1421541" y="98262"/>
                </a:lnTo>
                <a:lnTo>
                  <a:pt x="1414233" y="95400"/>
                </a:lnTo>
                <a:lnTo>
                  <a:pt x="1406606" y="92856"/>
                </a:lnTo>
                <a:lnTo>
                  <a:pt x="1398662" y="90630"/>
                </a:lnTo>
                <a:lnTo>
                  <a:pt x="1390400" y="88404"/>
                </a:lnTo>
                <a:lnTo>
                  <a:pt x="1382138" y="86496"/>
                </a:lnTo>
                <a:lnTo>
                  <a:pt x="1373876" y="84906"/>
                </a:lnTo>
                <a:lnTo>
                  <a:pt x="1364978" y="83316"/>
                </a:lnTo>
                <a:lnTo>
                  <a:pt x="1356081" y="82044"/>
                </a:lnTo>
                <a:lnTo>
                  <a:pt x="1346865" y="80772"/>
                </a:lnTo>
                <a:lnTo>
                  <a:pt x="1337968" y="80136"/>
                </a:lnTo>
                <a:lnTo>
                  <a:pt x="1328435" y="79500"/>
                </a:lnTo>
                <a:lnTo>
                  <a:pt x="1318902" y="79182"/>
                </a:lnTo>
                <a:lnTo>
                  <a:pt x="1309369" y="78864"/>
                </a:lnTo>
                <a:close/>
                <a:moveTo>
                  <a:pt x="1282994" y="0"/>
                </a:moveTo>
                <a:lnTo>
                  <a:pt x="1302060" y="0"/>
                </a:lnTo>
                <a:lnTo>
                  <a:pt x="1321126" y="318"/>
                </a:lnTo>
                <a:lnTo>
                  <a:pt x="1340828" y="1272"/>
                </a:lnTo>
                <a:lnTo>
                  <a:pt x="1359894" y="1908"/>
                </a:lnTo>
                <a:lnTo>
                  <a:pt x="1378960" y="3180"/>
                </a:lnTo>
                <a:lnTo>
                  <a:pt x="1398026" y="4134"/>
                </a:lnTo>
                <a:lnTo>
                  <a:pt x="1416457" y="5724"/>
                </a:lnTo>
                <a:lnTo>
                  <a:pt x="1435523" y="7632"/>
                </a:lnTo>
                <a:lnTo>
                  <a:pt x="1453636" y="9540"/>
                </a:lnTo>
                <a:lnTo>
                  <a:pt x="1472067" y="12084"/>
                </a:lnTo>
                <a:lnTo>
                  <a:pt x="1490497" y="14628"/>
                </a:lnTo>
                <a:lnTo>
                  <a:pt x="1507975" y="17490"/>
                </a:lnTo>
                <a:lnTo>
                  <a:pt x="1525770" y="20034"/>
                </a:lnTo>
                <a:lnTo>
                  <a:pt x="1543565" y="23532"/>
                </a:lnTo>
                <a:lnTo>
                  <a:pt x="1561042" y="27030"/>
                </a:lnTo>
                <a:lnTo>
                  <a:pt x="1578202" y="30846"/>
                </a:lnTo>
                <a:lnTo>
                  <a:pt x="1595044" y="34662"/>
                </a:lnTo>
                <a:lnTo>
                  <a:pt x="1612203" y="38796"/>
                </a:lnTo>
                <a:lnTo>
                  <a:pt x="1628727" y="42930"/>
                </a:lnTo>
                <a:lnTo>
                  <a:pt x="1644933" y="47382"/>
                </a:lnTo>
                <a:lnTo>
                  <a:pt x="1661457" y="51834"/>
                </a:lnTo>
                <a:lnTo>
                  <a:pt x="1677346" y="56922"/>
                </a:lnTo>
                <a:lnTo>
                  <a:pt x="1692599" y="62328"/>
                </a:lnTo>
                <a:lnTo>
                  <a:pt x="1708170" y="67416"/>
                </a:lnTo>
                <a:lnTo>
                  <a:pt x="1723423" y="72822"/>
                </a:lnTo>
                <a:lnTo>
                  <a:pt x="1738675" y="78546"/>
                </a:lnTo>
                <a:lnTo>
                  <a:pt x="1752975" y="84270"/>
                </a:lnTo>
                <a:lnTo>
                  <a:pt x="1767275" y="90312"/>
                </a:lnTo>
                <a:lnTo>
                  <a:pt x="1781574" y="96672"/>
                </a:lnTo>
                <a:lnTo>
                  <a:pt x="1795238" y="102715"/>
                </a:lnTo>
                <a:lnTo>
                  <a:pt x="1808903" y="109393"/>
                </a:lnTo>
                <a:lnTo>
                  <a:pt x="1822567" y="116071"/>
                </a:lnTo>
                <a:lnTo>
                  <a:pt x="1835277" y="122749"/>
                </a:lnTo>
                <a:lnTo>
                  <a:pt x="1847988" y="130063"/>
                </a:lnTo>
                <a:lnTo>
                  <a:pt x="1860381" y="137059"/>
                </a:lnTo>
                <a:lnTo>
                  <a:pt x="1872457" y="144373"/>
                </a:lnTo>
                <a:lnTo>
                  <a:pt x="1884214" y="152005"/>
                </a:lnTo>
                <a:lnTo>
                  <a:pt x="1895654" y="159637"/>
                </a:lnTo>
                <a:lnTo>
                  <a:pt x="1906776" y="167587"/>
                </a:lnTo>
                <a:lnTo>
                  <a:pt x="1917580" y="175537"/>
                </a:lnTo>
                <a:lnTo>
                  <a:pt x="1928066" y="183487"/>
                </a:lnTo>
                <a:lnTo>
                  <a:pt x="1937917" y="191755"/>
                </a:lnTo>
                <a:lnTo>
                  <a:pt x="1947768" y="199705"/>
                </a:lnTo>
                <a:lnTo>
                  <a:pt x="1957301" y="208291"/>
                </a:lnTo>
                <a:lnTo>
                  <a:pt x="1966199" y="216559"/>
                </a:lnTo>
                <a:lnTo>
                  <a:pt x="1974461" y="225463"/>
                </a:lnTo>
                <a:lnTo>
                  <a:pt x="1983040" y="234049"/>
                </a:lnTo>
                <a:lnTo>
                  <a:pt x="1990985" y="243271"/>
                </a:lnTo>
                <a:lnTo>
                  <a:pt x="1998293" y="252175"/>
                </a:lnTo>
                <a:lnTo>
                  <a:pt x="2005602" y="261397"/>
                </a:lnTo>
                <a:lnTo>
                  <a:pt x="2011957" y="270620"/>
                </a:lnTo>
                <a:lnTo>
                  <a:pt x="2018631" y="279842"/>
                </a:lnTo>
                <a:lnTo>
                  <a:pt x="2024033" y="289382"/>
                </a:lnTo>
                <a:lnTo>
                  <a:pt x="2029753" y="298922"/>
                </a:lnTo>
                <a:lnTo>
                  <a:pt x="2034837" y="308462"/>
                </a:lnTo>
                <a:lnTo>
                  <a:pt x="2039286" y="318320"/>
                </a:lnTo>
                <a:lnTo>
                  <a:pt x="2043417" y="328178"/>
                </a:lnTo>
                <a:lnTo>
                  <a:pt x="2047230" y="338036"/>
                </a:lnTo>
                <a:lnTo>
                  <a:pt x="2050725" y="347894"/>
                </a:lnTo>
                <a:lnTo>
                  <a:pt x="2053267" y="357434"/>
                </a:lnTo>
                <a:lnTo>
                  <a:pt x="2055810" y="367928"/>
                </a:lnTo>
                <a:lnTo>
                  <a:pt x="2057716" y="378104"/>
                </a:lnTo>
                <a:lnTo>
                  <a:pt x="2058987" y="388280"/>
                </a:lnTo>
                <a:lnTo>
                  <a:pt x="2060258" y="398456"/>
                </a:lnTo>
                <a:lnTo>
                  <a:pt x="2060576" y="408632"/>
                </a:lnTo>
                <a:lnTo>
                  <a:pt x="2060576" y="419444"/>
                </a:lnTo>
                <a:lnTo>
                  <a:pt x="2060258" y="429621"/>
                </a:lnTo>
                <a:lnTo>
                  <a:pt x="2059305" y="439797"/>
                </a:lnTo>
                <a:lnTo>
                  <a:pt x="2057716" y="449973"/>
                </a:lnTo>
                <a:lnTo>
                  <a:pt x="2055810" y="460149"/>
                </a:lnTo>
                <a:lnTo>
                  <a:pt x="2053267" y="470007"/>
                </a:lnTo>
                <a:lnTo>
                  <a:pt x="2050725" y="480183"/>
                </a:lnTo>
                <a:lnTo>
                  <a:pt x="2047230" y="490041"/>
                </a:lnTo>
                <a:lnTo>
                  <a:pt x="2043417" y="499899"/>
                </a:lnTo>
                <a:lnTo>
                  <a:pt x="2039286" y="509439"/>
                </a:lnTo>
                <a:lnTo>
                  <a:pt x="2034837" y="518979"/>
                </a:lnTo>
                <a:lnTo>
                  <a:pt x="2029753" y="528519"/>
                </a:lnTo>
                <a:lnTo>
                  <a:pt x="2024033" y="537741"/>
                </a:lnTo>
                <a:lnTo>
                  <a:pt x="2017995" y="547281"/>
                </a:lnTo>
                <a:lnTo>
                  <a:pt x="2011957" y="556503"/>
                </a:lnTo>
                <a:lnTo>
                  <a:pt x="2005284" y="565407"/>
                </a:lnTo>
                <a:lnTo>
                  <a:pt x="1997976" y="574311"/>
                </a:lnTo>
                <a:lnTo>
                  <a:pt x="1990349" y="582897"/>
                </a:lnTo>
                <a:lnTo>
                  <a:pt x="1983040" y="591484"/>
                </a:lnTo>
                <a:lnTo>
                  <a:pt x="1974461" y="600388"/>
                </a:lnTo>
                <a:lnTo>
                  <a:pt x="1965881" y="608656"/>
                </a:lnTo>
                <a:lnTo>
                  <a:pt x="1956983" y="616924"/>
                </a:lnTo>
                <a:lnTo>
                  <a:pt x="1947450" y="625192"/>
                </a:lnTo>
                <a:lnTo>
                  <a:pt x="1937599" y="633142"/>
                </a:lnTo>
                <a:lnTo>
                  <a:pt x="1927748" y="640774"/>
                </a:lnTo>
                <a:lnTo>
                  <a:pt x="1916944" y="648724"/>
                </a:lnTo>
                <a:lnTo>
                  <a:pt x="1906458" y="656356"/>
                </a:lnTo>
                <a:lnTo>
                  <a:pt x="1895018" y="663670"/>
                </a:lnTo>
                <a:lnTo>
                  <a:pt x="1883896" y="671302"/>
                </a:lnTo>
                <a:lnTo>
                  <a:pt x="1872139" y="677980"/>
                </a:lnTo>
                <a:lnTo>
                  <a:pt x="1860064" y="685294"/>
                </a:lnTo>
                <a:lnTo>
                  <a:pt x="1847353" y="691972"/>
                </a:lnTo>
                <a:lnTo>
                  <a:pt x="1834642" y="698332"/>
                </a:lnTo>
                <a:lnTo>
                  <a:pt x="1821613" y="705010"/>
                </a:lnTo>
                <a:lnTo>
                  <a:pt x="1808585" y="711370"/>
                </a:lnTo>
                <a:lnTo>
                  <a:pt x="1794921" y="717412"/>
                </a:lnTo>
                <a:lnTo>
                  <a:pt x="1780939" y="723454"/>
                </a:lnTo>
                <a:lnTo>
                  <a:pt x="1766957" y="729179"/>
                </a:lnTo>
                <a:lnTo>
                  <a:pt x="1752657" y="734267"/>
                </a:lnTo>
                <a:lnTo>
                  <a:pt x="1737722" y="739991"/>
                </a:lnTo>
                <a:lnTo>
                  <a:pt x="1723105" y="745079"/>
                </a:lnTo>
                <a:lnTo>
                  <a:pt x="1707852" y="750167"/>
                </a:lnTo>
                <a:lnTo>
                  <a:pt x="1692281" y="754937"/>
                </a:lnTo>
                <a:lnTo>
                  <a:pt x="1676393" y="759389"/>
                </a:lnTo>
                <a:lnTo>
                  <a:pt x="1660504" y="763841"/>
                </a:lnTo>
                <a:lnTo>
                  <a:pt x="1644616" y="767975"/>
                </a:lnTo>
                <a:lnTo>
                  <a:pt x="1628092" y="771791"/>
                </a:lnTo>
                <a:lnTo>
                  <a:pt x="1611885" y="775607"/>
                </a:lnTo>
                <a:lnTo>
                  <a:pt x="1594726" y="779423"/>
                </a:lnTo>
                <a:lnTo>
                  <a:pt x="1577884" y="782921"/>
                </a:lnTo>
                <a:lnTo>
                  <a:pt x="1560724" y="785783"/>
                </a:lnTo>
                <a:lnTo>
                  <a:pt x="1543247" y="788645"/>
                </a:lnTo>
                <a:lnTo>
                  <a:pt x="1525770" y="791189"/>
                </a:lnTo>
                <a:lnTo>
                  <a:pt x="1507975" y="793733"/>
                </a:lnTo>
                <a:lnTo>
                  <a:pt x="1490497" y="796277"/>
                </a:lnTo>
                <a:lnTo>
                  <a:pt x="1472067" y="797867"/>
                </a:lnTo>
                <a:lnTo>
                  <a:pt x="1453954" y="799457"/>
                </a:lnTo>
                <a:lnTo>
                  <a:pt x="1435523" y="801047"/>
                </a:lnTo>
                <a:lnTo>
                  <a:pt x="1417093" y="802637"/>
                </a:lnTo>
                <a:lnTo>
                  <a:pt x="1398026" y="803273"/>
                </a:lnTo>
                <a:lnTo>
                  <a:pt x="1379596" y="804227"/>
                </a:lnTo>
                <a:lnTo>
                  <a:pt x="1360530" y="804545"/>
                </a:lnTo>
                <a:lnTo>
                  <a:pt x="1341146" y="804863"/>
                </a:lnTo>
                <a:lnTo>
                  <a:pt x="1322079" y="804863"/>
                </a:lnTo>
                <a:lnTo>
                  <a:pt x="1302695" y="804545"/>
                </a:lnTo>
                <a:lnTo>
                  <a:pt x="1283311" y="804227"/>
                </a:lnTo>
                <a:lnTo>
                  <a:pt x="1264563" y="802955"/>
                </a:lnTo>
                <a:lnTo>
                  <a:pt x="1245179" y="802319"/>
                </a:lnTo>
                <a:lnTo>
                  <a:pt x="1226113" y="800729"/>
                </a:lnTo>
                <a:lnTo>
                  <a:pt x="1207365" y="799139"/>
                </a:lnTo>
                <a:lnTo>
                  <a:pt x="1188934" y="797231"/>
                </a:lnTo>
                <a:lnTo>
                  <a:pt x="1170185" y="795323"/>
                </a:lnTo>
                <a:lnTo>
                  <a:pt x="1152073" y="793097"/>
                </a:lnTo>
                <a:lnTo>
                  <a:pt x="1133960" y="790553"/>
                </a:lnTo>
                <a:lnTo>
                  <a:pt x="1115847" y="787691"/>
                </a:lnTo>
                <a:lnTo>
                  <a:pt x="1098052" y="784829"/>
                </a:lnTo>
                <a:lnTo>
                  <a:pt x="1080574" y="781331"/>
                </a:lnTo>
                <a:lnTo>
                  <a:pt x="1063097" y="777833"/>
                </a:lnTo>
                <a:lnTo>
                  <a:pt x="1045938" y="774653"/>
                </a:lnTo>
                <a:lnTo>
                  <a:pt x="1028778" y="770837"/>
                </a:lnTo>
                <a:lnTo>
                  <a:pt x="1012254" y="766703"/>
                </a:lnTo>
                <a:lnTo>
                  <a:pt x="995412" y="761933"/>
                </a:lnTo>
                <a:lnTo>
                  <a:pt x="979206" y="757799"/>
                </a:lnTo>
                <a:lnTo>
                  <a:pt x="963000" y="753029"/>
                </a:lnTo>
                <a:lnTo>
                  <a:pt x="947111" y="747941"/>
                </a:lnTo>
                <a:lnTo>
                  <a:pt x="931223" y="743171"/>
                </a:lnTo>
                <a:lnTo>
                  <a:pt x="915970" y="737765"/>
                </a:lnTo>
                <a:lnTo>
                  <a:pt x="900399" y="732041"/>
                </a:lnTo>
                <a:lnTo>
                  <a:pt x="885782" y="726317"/>
                </a:lnTo>
                <a:lnTo>
                  <a:pt x="871164" y="720910"/>
                </a:lnTo>
                <a:lnTo>
                  <a:pt x="856547" y="714550"/>
                </a:lnTo>
                <a:lnTo>
                  <a:pt x="842565" y="708508"/>
                </a:lnTo>
                <a:lnTo>
                  <a:pt x="828583" y="702148"/>
                </a:lnTo>
                <a:lnTo>
                  <a:pt x="814919" y="695788"/>
                </a:lnTo>
                <a:lnTo>
                  <a:pt x="801890" y="688792"/>
                </a:lnTo>
                <a:lnTo>
                  <a:pt x="788862" y="682114"/>
                </a:lnTo>
                <a:lnTo>
                  <a:pt x="776151" y="674800"/>
                </a:lnTo>
                <a:lnTo>
                  <a:pt x="763440" y="667804"/>
                </a:lnTo>
                <a:lnTo>
                  <a:pt x="751683" y="660490"/>
                </a:lnTo>
                <a:lnTo>
                  <a:pt x="739608" y="652858"/>
                </a:lnTo>
                <a:lnTo>
                  <a:pt x="728486" y="645544"/>
                </a:lnTo>
                <a:lnTo>
                  <a:pt x="717364" y="637912"/>
                </a:lnTo>
                <a:lnTo>
                  <a:pt x="706559" y="629962"/>
                </a:lnTo>
                <a:lnTo>
                  <a:pt x="696073" y="621694"/>
                </a:lnTo>
                <a:lnTo>
                  <a:pt x="685904" y="613744"/>
                </a:lnTo>
                <a:lnTo>
                  <a:pt x="676054" y="605158"/>
                </a:lnTo>
                <a:lnTo>
                  <a:pt x="667156" y="596890"/>
                </a:lnTo>
                <a:lnTo>
                  <a:pt x="657941" y="588303"/>
                </a:lnTo>
                <a:lnTo>
                  <a:pt x="649361" y="579399"/>
                </a:lnTo>
                <a:lnTo>
                  <a:pt x="641099" y="570813"/>
                </a:lnTo>
                <a:lnTo>
                  <a:pt x="633155" y="561591"/>
                </a:lnTo>
                <a:lnTo>
                  <a:pt x="625846" y="553005"/>
                </a:lnTo>
                <a:lnTo>
                  <a:pt x="618537" y="543783"/>
                </a:lnTo>
                <a:lnTo>
                  <a:pt x="611864" y="534561"/>
                </a:lnTo>
                <a:lnTo>
                  <a:pt x="605826" y="525339"/>
                </a:lnTo>
                <a:lnTo>
                  <a:pt x="599789" y="515799"/>
                </a:lnTo>
                <a:lnTo>
                  <a:pt x="594387" y="506259"/>
                </a:lnTo>
                <a:lnTo>
                  <a:pt x="589302" y="496719"/>
                </a:lnTo>
                <a:lnTo>
                  <a:pt x="584536" y="487179"/>
                </a:lnTo>
                <a:lnTo>
                  <a:pt x="580405" y="477321"/>
                </a:lnTo>
                <a:lnTo>
                  <a:pt x="576592" y="467463"/>
                </a:lnTo>
                <a:lnTo>
                  <a:pt x="573732" y="457287"/>
                </a:lnTo>
                <a:lnTo>
                  <a:pt x="570554" y="447429"/>
                </a:lnTo>
                <a:lnTo>
                  <a:pt x="568330" y="437253"/>
                </a:lnTo>
                <a:lnTo>
                  <a:pt x="566423" y="427395"/>
                </a:lnTo>
                <a:lnTo>
                  <a:pt x="564834" y="416900"/>
                </a:lnTo>
                <a:lnTo>
                  <a:pt x="563881" y="406724"/>
                </a:lnTo>
                <a:lnTo>
                  <a:pt x="563563" y="396230"/>
                </a:lnTo>
                <a:lnTo>
                  <a:pt x="563563" y="386054"/>
                </a:lnTo>
                <a:lnTo>
                  <a:pt x="563881" y="375242"/>
                </a:lnTo>
                <a:lnTo>
                  <a:pt x="564834" y="365066"/>
                </a:lnTo>
                <a:lnTo>
                  <a:pt x="566423" y="354890"/>
                </a:lnTo>
                <a:lnTo>
                  <a:pt x="568330" y="345032"/>
                </a:lnTo>
                <a:lnTo>
                  <a:pt x="570554" y="334856"/>
                </a:lnTo>
                <a:lnTo>
                  <a:pt x="573732" y="324998"/>
                </a:lnTo>
                <a:lnTo>
                  <a:pt x="576592" y="315140"/>
                </a:lnTo>
                <a:lnTo>
                  <a:pt x="580405" y="305282"/>
                </a:lnTo>
                <a:lnTo>
                  <a:pt x="584536" y="295424"/>
                </a:lnTo>
                <a:lnTo>
                  <a:pt x="589620" y="285884"/>
                </a:lnTo>
                <a:lnTo>
                  <a:pt x="594387" y="276662"/>
                </a:lnTo>
                <a:lnTo>
                  <a:pt x="599789" y="267122"/>
                </a:lnTo>
                <a:lnTo>
                  <a:pt x="605826" y="257899"/>
                </a:lnTo>
                <a:lnTo>
                  <a:pt x="612182" y="248995"/>
                </a:lnTo>
                <a:lnTo>
                  <a:pt x="618537" y="239773"/>
                </a:lnTo>
                <a:lnTo>
                  <a:pt x="625846" y="230869"/>
                </a:lnTo>
                <a:lnTo>
                  <a:pt x="633472" y="221965"/>
                </a:lnTo>
                <a:lnTo>
                  <a:pt x="641417" y="213379"/>
                </a:lnTo>
                <a:lnTo>
                  <a:pt x="649679" y="204475"/>
                </a:lnTo>
                <a:lnTo>
                  <a:pt x="658258" y="196207"/>
                </a:lnTo>
                <a:lnTo>
                  <a:pt x="667156" y="187939"/>
                </a:lnTo>
                <a:lnTo>
                  <a:pt x="676689" y="179989"/>
                </a:lnTo>
                <a:lnTo>
                  <a:pt x="686540" y="172039"/>
                </a:lnTo>
                <a:lnTo>
                  <a:pt x="696709" y="164089"/>
                </a:lnTo>
                <a:lnTo>
                  <a:pt x="706877" y="156457"/>
                </a:lnTo>
                <a:lnTo>
                  <a:pt x="717681" y="148825"/>
                </a:lnTo>
                <a:lnTo>
                  <a:pt x="728803" y="141193"/>
                </a:lnTo>
                <a:lnTo>
                  <a:pt x="740561" y="134197"/>
                </a:lnTo>
                <a:lnTo>
                  <a:pt x="752318" y="126883"/>
                </a:lnTo>
                <a:lnTo>
                  <a:pt x="764394" y="120205"/>
                </a:lnTo>
                <a:lnTo>
                  <a:pt x="776469" y="113209"/>
                </a:lnTo>
                <a:lnTo>
                  <a:pt x="789180" y="106531"/>
                </a:lnTo>
                <a:lnTo>
                  <a:pt x="802208" y="100170"/>
                </a:lnTo>
                <a:lnTo>
                  <a:pt x="815872" y="94128"/>
                </a:lnTo>
                <a:lnTo>
                  <a:pt x="828901" y="87450"/>
                </a:lnTo>
                <a:lnTo>
                  <a:pt x="842883" y="82044"/>
                </a:lnTo>
                <a:lnTo>
                  <a:pt x="857500" y="76320"/>
                </a:lnTo>
                <a:lnTo>
                  <a:pt x="871800" y="70596"/>
                </a:lnTo>
                <a:lnTo>
                  <a:pt x="886099" y="65190"/>
                </a:lnTo>
                <a:lnTo>
                  <a:pt x="901352" y="59784"/>
                </a:lnTo>
                <a:lnTo>
                  <a:pt x="916287" y="55014"/>
                </a:lnTo>
                <a:lnTo>
                  <a:pt x="931858" y="49926"/>
                </a:lnTo>
                <a:lnTo>
                  <a:pt x="947429" y="45474"/>
                </a:lnTo>
                <a:lnTo>
                  <a:pt x="963317" y="41340"/>
                </a:lnTo>
                <a:lnTo>
                  <a:pt x="979524" y="36888"/>
                </a:lnTo>
                <a:lnTo>
                  <a:pt x="995730" y="33072"/>
                </a:lnTo>
                <a:lnTo>
                  <a:pt x="1012572" y="29256"/>
                </a:lnTo>
                <a:lnTo>
                  <a:pt x="1029096" y="25758"/>
                </a:lnTo>
                <a:lnTo>
                  <a:pt x="1046255" y="22578"/>
                </a:lnTo>
                <a:lnTo>
                  <a:pt x="1063733" y="19398"/>
                </a:lnTo>
                <a:lnTo>
                  <a:pt x="1080892" y="16218"/>
                </a:lnTo>
                <a:lnTo>
                  <a:pt x="1098370" y="13674"/>
                </a:lnTo>
                <a:lnTo>
                  <a:pt x="1116165" y="11448"/>
                </a:lnTo>
                <a:lnTo>
                  <a:pt x="1133960" y="9222"/>
                </a:lnTo>
                <a:lnTo>
                  <a:pt x="1152073" y="7314"/>
                </a:lnTo>
                <a:lnTo>
                  <a:pt x="1170185" y="5406"/>
                </a:lnTo>
                <a:lnTo>
                  <a:pt x="1188934" y="3816"/>
                </a:lnTo>
                <a:lnTo>
                  <a:pt x="1207365" y="2862"/>
                </a:lnTo>
                <a:lnTo>
                  <a:pt x="1225795" y="1590"/>
                </a:lnTo>
                <a:lnTo>
                  <a:pt x="1244861" y="954"/>
                </a:lnTo>
                <a:lnTo>
                  <a:pt x="1263610" y="318"/>
                </a:lnTo>
                <a:lnTo>
                  <a:pt x="1282994" y="0"/>
                </a:lnTo>
                <a:close/>
              </a:path>
            </a:pathLst>
          </a:custGeom>
          <a:solidFill>
            <a:srgbClr val="1855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72" name="矩形 229"/>
          <p:cNvSpPr/>
          <p:nvPr/>
        </p:nvSpPr>
        <p:spPr>
          <a:xfrm>
            <a:off x="5391360" y="231768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54749"/>
                </a:solidFill>
                <a:latin typeface="Arial Black"/>
                <a:ea typeface="微软雅黑"/>
              </a:rPr>
              <a:t>CONTENT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373" name="组合 72" descr=""/>
          <p:cNvPicPr/>
          <p:nvPr/>
        </p:nvPicPr>
        <p:blipFill>
          <a:blip r:embed="rId8"/>
          <a:stretch/>
        </p:blipFill>
        <p:spPr>
          <a:xfrm>
            <a:off x="7034040" y="4017960"/>
            <a:ext cx="300240" cy="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圆角矩形 60"/>
          <p:cNvSpPr/>
          <p:nvPr/>
        </p:nvSpPr>
        <p:spPr>
          <a:xfrm>
            <a:off x="1608120" y="1731960"/>
            <a:ext cx="6107040" cy="577800"/>
          </a:xfrm>
          <a:prstGeom prst="roundRect">
            <a:avLst>
              <a:gd name="adj" fmla="val 16667"/>
            </a:avLst>
          </a:prstGeom>
          <a:solidFill>
            <a:srgbClr val="0890d0"/>
          </a:solidFill>
          <a:ln w="76320">
            <a:solidFill>
              <a:srgbClr val="5f5f5f">
                <a:alpha val="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375" name="组合 10"/>
          <p:cNvGrpSpPr/>
          <p:nvPr/>
        </p:nvGrpSpPr>
        <p:grpSpPr>
          <a:xfrm>
            <a:off x="3551400" y="2395440"/>
            <a:ext cx="2163600" cy="2005200"/>
            <a:chOff x="3551400" y="2395440"/>
            <a:chExt cx="2163600" cy="2005200"/>
          </a:xfrm>
        </p:grpSpPr>
        <p:pic>
          <p:nvPicPr>
            <p:cNvPr id="1376" name="图片 7" descr=""/>
            <p:cNvPicPr/>
            <p:nvPr/>
          </p:nvPicPr>
          <p:blipFill>
            <a:blip r:embed="rId1"/>
            <a:stretch/>
          </p:blipFill>
          <p:spPr>
            <a:xfrm>
              <a:off x="3551400" y="2395440"/>
              <a:ext cx="216360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矩形 5"/>
            <p:cNvSpPr/>
            <p:nvPr/>
          </p:nvSpPr>
          <p:spPr>
            <a:xfrm>
              <a:off x="3966840" y="327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03030"/>
                  </a:solidFill>
                  <a:latin typeface="微软雅黑"/>
                  <a:ea typeface="微软雅黑"/>
                </a:rPr>
                <a:t>CONTENT </a:t>
              </a: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378" name="矩形 6"/>
          <p:cNvSpPr/>
          <p:nvPr/>
        </p:nvSpPr>
        <p:spPr>
          <a:xfrm>
            <a:off x="3087720" y="1884240"/>
            <a:ext cx="30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79" name="Rectangle 41"/>
          <p:cNvSpPr/>
          <p:nvPr/>
        </p:nvSpPr>
        <p:spPr>
          <a:xfrm>
            <a:off x="3551400" y="5222880"/>
            <a:ext cx="1056960" cy="928800"/>
          </a:xfrm>
          <a:prstGeom prst="rect">
            <a:avLst/>
          </a:prstGeom>
          <a:solidFill>
            <a:srgbClr val="009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80" name="Rectangle 49"/>
          <p:cNvSpPr/>
          <p:nvPr/>
        </p:nvSpPr>
        <p:spPr>
          <a:xfrm>
            <a:off x="4716360" y="5222880"/>
            <a:ext cx="1057320" cy="928800"/>
          </a:xfrm>
          <a:prstGeom prst="rect">
            <a:avLst/>
          </a:prstGeom>
          <a:solidFill>
            <a:srgbClr val="009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81" name="Rectangle 56"/>
          <p:cNvSpPr/>
          <p:nvPr/>
        </p:nvSpPr>
        <p:spPr>
          <a:xfrm>
            <a:off x="5867280" y="5222880"/>
            <a:ext cx="1060560" cy="928800"/>
          </a:xfrm>
          <a:prstGeom prst="rect">
            <a:avLst/>
          </a:prstGeom>
          <a:solidFill>
            <a:srgbClr val="009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82" name="Rectangle 62"/>
          <p:cNvSpPr/>
          <p:nvPr/>
        </p:nvSpPr>
        <p:spPr>
          <a:xfrm>
            <a:off x="2384280" y="5222880"/>
            <a:ext cx="1059120" cy="928800"/>
          </a:xfrm>
          <a:prstGeom prst="rect">
            <a:avLst/>
          </a:prstGeom>
          <a:solidFill>
            <a:srgbClr val="009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383" name="组合 51"/>
          <p:cNvGrpSpPr/>
          <p:nvPr/>
        </p:nvGrpSpPr>
        <p:grpSpPr>
          <a:xfrm>
            <a:off x="3317760" y="4398840"/>
            <a:ext cx="2718000" cy="1089000"/>
            <a:chOff x="3317760" y="4398840"/>
            <a:chExt cx="2718000" cy="1089000"/>
          </a:xfrm>
        </p:grpSpPr>
        <p:sp>
          <p:nvSpPr>
            <p:cNvPr id="1384" name="Freeform 75"/>
            <p:cNvSpPr/>
            <p:nvPr/>
          </p:nvSpPr>
          <p:spPr>
            <a:xfrm>
              <a:off x="3317760" y="4398840"/>
              <a:ext cx="2718000" cy="1089000"/>
            </a:xfrm>
            <a:custGeom>
              <a:avLst/>
              <a:gdLst>
                <a:gd name="textAreaLeft" fmla="*/ 0 w 2718000"/>
                <a:gd name="textAreaRight" fmla="*/ 2718360 w 2718000"/>
                <a:gd name="textAreaTop" fmla="*/ 0 h 1089000"/>
                <a:gd name="textAreaBottom" fmla="*/ 1089360 h 1089000"/>
              </a:gdLst>
              <a:ahLst/>
              <a:rect l="textAreaLeft" t="textAreaTop" r="textAreaRight" b="textAreaBottom"/>
              <a:pathLst>
                <a:path w="560" h="115">
                  <a:moveTo>
                    <a:pt x="0" y="114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39" y="68"/>
                    <a:pt x="77" y="45"/>
                    <a:pt x="124" y="28"/>
                  </a:cubicBezTo>
                  <a:cubicBezTo>
                    <a:pt x="174" y="10"/>
                    <a:pt x="225" y="0"/>
                    <a:pt x="278" y="0"/>
                  </a:cubicBezTo>
                  <a:cubicBezTo>
                    <a:pt x="331" y="0"/>
                    <a:pt x="383" y="9"/>
                    <a:pt x="432" y="27"/>
                  </a:cubicBezTo>
                  <a:cubicBezTo>
                    <a:pt x="479" y="45"/>
                    <a:pt x="521" y="68"/>
                    <a:pt x="560" y="100"/>
                  </a:cubicBezTo>
                  <a:cubicBezTo>
                    <a:pt x="557" y="115"/>
                    <a:pt x="557" y="115"/>
                    <a:pt x="557" y="115"/>
                  </a:cubicBezTo>
                  <a:cubicBezTo>
                    <a:pt x="479" y="52"/>
                    <a:pt x="378" y="14"/>
                    <a:pt x="278" y="14"/>
                  </a:cubicBezTo>
                  <a:cubicBezTo>
                    <a:pt x="178" y="14"/>
                    <a:pt x="78" y="50"/>
                    <a:pt x="0" y="114"/>
                  </a:cubicBez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85" name="Freeform 76"/>
            <p:cNvSpPr/>
            <p:nvPr/>
          </p:nvSpPr>
          <p:spPr>
            <a:xfrm>
              <a:off x="4045320" y="4471920"/>
              <a:ext cx="1194840" cy="976320"/>
            </a:xfrm>
            <a:custGeom>
              <a:avLst/>
              <a:gdLst>
                <a:gd name="textAreaLeft" fmla="*/ 0 w 1194840"/>
                <a:gd name="textAreaRight" fmla="*/ 1195200 w 119484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46" h="110">
                  <a:moveTo>
                    <a:pt x="14" y="110"/>
                  </a:moveTo>
                  <a:cubicBezTo>
                    <a:pt x="0" y="108"/>
                    <a:pt x="0" y="108"/>
                    <a:pt x="0" y="108"/>
                  </a:cubicBezTo>
                  <a:cubicBezTo>
                    <a:pt x="8" y="46"/>
                    <a:pt x="61" y="0"/>
                    <a:pt x="123" y="0"/>
                  </a:cubicBezTo>
                  <a:cubicBezTo>
                    <a:pt x="185" y="0"/>
                    <a:pt x="238" y="45"/>
                    <a:pt x="246" y="106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25" y="54"/>
                    <a:pt x="178" y="13"/>
                    <a:pt x="123" y="13"/>
                  </a:cubicBezTo>
                  <a:cubicBezTo>
                    <a:pt x="67" y="13"/>
                    <a:pt x="20" y="55"/>
                    <a:pt x="14" y="110"/>
                  </a:cubicBez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386" name="矩形 17"/>
          <p:cNvSpPr/>
          <p:nvPr/>
        </p:nvSpPr>
        <p:spPr>
          <a:xfrm>
            <a:off x="2408400" y="584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</a:rPr>
              <a:t>CONTENT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87" name="矩形 18"/>
          <p:cNvSpPr/>
          <p:nvPr/>
        </p:nvSpPr>
        <p:spPr>
          <a:xfrm>
            <a:off x="3565080" y="584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</a:rPr>
              <a:t>CONTENT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88" name="矩形 19"/>
          <p:cNvSpPr/>
          <p:nvPr/>
        </p:nvSpPr>
        <p:spPr>
          <a:xfrm>
            <a:off x="4750200" y="58514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</a:rPr>
              <a:t>CONTENT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89" name="矩形 20"/>
          <p:cNvSpPr/>
          <p:nvPr/>
        </p:nvSpPr>
        <p:spPr>
          <a:xfrm>
            <a:off x="5949360" y="584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</a:rPr>
              <a:t>CONTENT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390" name="组合 21"/>
          <p:cNvGrpSpPr/>
          <p:nvPr/>
        </p:nvGrpSpPr>
        <p:grpSpPr>
          <a:xfrm>
            <a:off x="4973760" y="5424480"/>
            <a:ext cx="523800" cy="388800"/>
            <a:chOff x="4973760" y="5424480"/>
            <a:chExt cx="523800" cy="388800"/>
          </a:xfrm>
        </p:grpSpPr>
        <p:sp>
          <p:nvSpPr>
            <p:cNvPr id="1391" name="Freeform 38"/>
            <p:cNvSpPr/>
            <p:nvPr/>
          </p:nvSpPr>
          <p:spPr>
            <a:xfrm>
              <a:off x="4973760" y="5424480"/>
              <a:ext cx="523800" cy="3888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92" name="Freeform 40"/>
            <p:cNvSpPr/>
            <p:nvPr/>
          </p:nvSpPr>
          <p:spPr>
            <a:xfrm>
              <a:off x="5054040" y="5526000"/>
              <a:ext cx="363240" cy="18828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pic>
        <p:nvPicPr>
          <p:cNvPr id="1393" name="组合 24" descr=""/>
          <p:cNvPicPr/>
          <p:nvPr/>
        </p:nvPicPr>
        <p:blipFill>
          <a:blip r:embed="rId2"/>
          <a:stretch/>
        </p:blipFill>
        <p:spPr>
          <a:xfrm>
            <a:off x="2735280" y="5388120"/>
            <a:ext cx="358920" cy="463320"/>
          </a:xfrm>
          <a:prstGeom prst="rect">
            <a:avLst/>
          </a:prstGeom>
          <a:ln w="0">
            <a:noFill/>
          </a:ln>
        </p:spPr>
      </p:pic>
      <p:pic>
        <p:nvPicPr>
          <p:cNvPr id="1394" name="组合 31" descr=""/>
          <p:cNvPicPr/>
          <p:nvPr/>
        </p:nvPicPr>
        <p:blipFill>
          <a:blip r:embed="rId3"/>
          <a:stretch/>
        </p:blipFill>
        <p:spPr>
          <a:xfrm>
            <a:off x="6161040" y="5381640"/>
            <a:ext cx="480960" cy="476280"/>
          </a:xfrm>
          <a:prstGeom prst="rect">
            <a:avLst/>
          </a:prstGeom>
          <a:ln w="0">
            <a:noFill/>
          </a:ln>
        </p:spPr>
      </p:pic>
      <p:grpSp>
        <p:nvGrpSpPr>
          <p:cNvPr id="1395" name="组合 35"/>
          <p:cNvGrpSpPr/>
          <p:nvPr/>
        </p:nvGrpSpPr>
        <p:grpSpPr>
          <a:xfrm>
            <a:off x="3787920" y="5369040"/>
            <a:ext cx="482400" cy="500040"/>
            <a:chOff x="3787920" y="5369040"/>
            <a:chExt cx="482400" cy="500040"/>
          </a:xfrm>
        </p:grpSpPr>
        <p:sp>
          <p:nvSpPr>
            <p:cNvPr id="1396" name="Freeform 237"/>
            <p:cNvSpPr/>
            <p:nvPr/>
          </p:nvSpPr>
          <p:spPr>
            <a:xfrm>
              <a:off x="3981960" y="5369040"/>
              <a:ext cx="179640" cy="2372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26" h="166">
                  <a:moveTo>
                    <a:pt x="126" y="28"/>
                  </a:moveTo>
                  <a:lnTo>
                    <a:pt x="38" y="166"/>
                  </a:lnTo>
                  <a:lnTo>
                    <a:pt x="36" y="166"/>
                  </a:lnTo>
                  <a:lnTo>
                    <a:pt x="0" y="3"/>
                  </a:lnTo>
                  <a:lnTo>
                    <a:pt x="17" y="1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3" y="2"/>
                  </a:lnTo>
                  <a:lnTo>
                    <a:pt x="79" y="5"/>
                  </a:lnTo>
                  <a:lnTo>
                    <a:pt x="94" y="10"/>
                  </a:lnTo>
                  <a:lnTo>
                    <a:pt x="108" y="17"/>
                  </a:lnTo>
                  <a:lnTo>
                    <a:pt x="123" y="25"/>
                  </a:lnTo>
                  <a:lnTo>
                    <a:pt x="12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97" name="Freeform 238"/>
            <p:cNvSpPr/>
            <p:nvPr/>
          </p:nvSpPr>
          <p:spPr>
            <a:xfrm>
              <a:off x="4042080" y="5437440"/>
              <a:ext cx="228240" cy="4230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423000"/>
                <a:gd name="textAreaBottom" fmla="*/ 423360 h 423000"/>
              </a:gdLst>
              <a:ahLst/>
              <a:rect l="textAreaLeft" t="textAreaTop" r="textAreaRight" b="textAreaBottom"/>
              <a:pathLst>
                <a:path w="159" h="296">
                  <a:moveTo>
                    <a:pt x="155" y="101"/>
                  </a:moveTo>
                  <a:lnTo>
                    <a:pt x="155" y="101"/>
                  </a:lnTo>
                  <a:lnTo>
                    <a:pt x="156" y="105"/>
                  </a:lnTo>
                  <a:lnTo>
                    <a:pt x="158" y="120"/>
                  </a:lnTo>
                  <a:lnTo>
                    <a:pt x="159" y="136"/>
                  </a:lnTo>
                  <a:lnTo>
                    <a:pt x="158" y="151"/>
                  </a:lnTo>
                  <a:lnTo>
                    <a:pt x="157" y="166"/>
                  </a:lnTo>
                  <a:lnTo>
                    <a:pt x="153" y="182"/>
                  </a:lnTo>
                  <a:lnTo>
                    <a:pt x="149" y="196"/>
                  </a:lnTo>
                  <a:lnTo>
                    <a:pt x="141" y="211"/>
                  </a:lnTo>
                  <a:lnTo>
                    <a:pt x="133" y="225"/>
                  </a:lnTo>
                  <a:lnTo>
                    <a:pt x="124" y="238"/>
                  </a:lnTo>
                  <a:lnTo>
                    <a:pt x="114" y="250"/>
                  </a:lnTo>
                  <a:lnTo>
                    <a:pt x="103" y="261"/>
                  </a:lnTo>
                  <a:lnTo>
                    <a:pt x="91" y="271"/>
                  </a:lnTo>
                  <a:lnTo>
                    <a:pt x="78" y="278"/>
                  </a:lnTo>
                  <a:lnTo>
                    <a:pt x="64" y="286"/>
                  </a:lnTo>
                  <a:lnTo>
                    <a:pt x="50" y="291"/>
                  </a:lnTo>
                  <a:lnTo>
                    <a:pt x="34" y="296"/>
                  </a:lnTo>
                  <a:lnTo>
                    <a:pt x="0" y="138"/>
                  </a:lnTo>
                  <a:lnTo>
                    <a:pt x="88" y="0"/>
                  </a:lnTo>
                  <a:lnTo>
                    <a:pt x="101" y="10"/>
                  </a:lnTo>
                  <a:lnTo>
                    <a:pt x="112" y="21"/>
                  </a:lnTo>
                  <a:lnTo>
                    <a:pt x="122" y="32"/>
                  </a:lnTo>
                  <a:lnTo>
                    <a:pt x="131" y="44"/>
                  </a:lnTo>
                  <a:lnTo>
                    <a:pt x="139" y="57"/>
                  </a:lnTo>
                  <a:lnTo>
                    <a:pt x="146" y="71"/>
                  </a:lnTo>
                  <a:lnTo>
                    <a:pt x="151" y="86"/>
                  </a:lnTo>
                  <a:lnTo>
                    <a:pt x="155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398" name="Freeform 239"/>
            <p:cNvSpPr/>
            <p:nvPr/>
          </p:nvSpPr>
          <p:spPr>
            <a:xfrm>
              <a:off x="3787920" y="5406120"/>
              <a:ext cx="285480" cy="4629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01" h="323">
                  <a:moveTo>
                    <a:pt x="131" y="0"/>
                  </a:moveTo>
                  <a:lnTo>
                    <a:pt x="201" y="319"/>
                  </a:lnTo>
                  <a:lnTo>
                    <a:pt x="200" y="320"/>
                  </a:lnTo>
                  <a:lnTo>
                    <a:pt x="184" y="322"/>
                  </a:lnTo>
                  <a:lnTo>
                    <a:pt x="168" y="323"/>
                  </a:lnTo>
                  <a:lnTo>
                    <a:pt x="152" y="323"/>
                  </a:lnTo>
                  <a:lnTo>
                    <a:pt x="136" y="321"/>
                  </a:lnTo>
                  <a:lnTo>
                    <a:pt x="121" y="318"/>
                  </a:lnTo>
                  <a:lnTo>
                    <a:pt x="106" y="312"/>
                  </a:lnTo>
                  <a:lnTo>
                    <a:pt x="91" y="306"/>
                  </a:lnTo>
                  <a:lnTo>
                    <a:pt x="77" y="297"/>
                  </a:lnTo>
                  <a:lnTo>
                    <a:pt x="63" y="288"/>
                  </a:lnTo>
                  <a:lnTo>
                    <a:pt x="50" y="278"/>
                  </a:lnTo>
                  <a:lnTo>
                    <a:pt x="40" y="266"/>
                  </a:lnTo>
                  <a:lnTo>
                    <a:pt x="30" y="254"/>
                  </a:lnTo>
                  <a:lnTo>
                    <a:pt x="22" y="241"/>
                  </a:lnTo>
                  <a:lnTo>
                    <a:pt x="15" y="227"/>
                  </a:lnTo>
                  <a:lnTo>
                    <a:pt x="9" y="211"/>
                  </a:lnTo>
                  <a:lnTo>
                    <a:pt x="5" y="195"/>
                  </a:lnTo>
                  <a:lnTo>
                    <a:pt x="2" y="179"/>
                  </a:lnTo>
                  <a:lnTo>
                    <a:pt x="0" y="162"/>
                  </a:lnTo>
                  <a:lnTo>
                    <a:pt x="2" y="146"/>
                  </a:lnTo>
                  <a:lnTo>
                    <a:pt x="3" y="131"/>
                  </a:lnTo>
                  <a:lnTo>
                    <a:pt x="7" y="116"/>
                  </a:lnTo>
                  <a:lnTo>
                    <a:pt x="11" y="101"/>
                  </a:lnTo>
                  <a:lnTo>
                    <a:pt x="18" y="86"/>
                  </a:lnTo>
                  <a:lnTo>
                    <a:pt x="27" y="71"/>
                  </a:lnTo>
                  <a:lnTo>
                    <a:pt x="36" y="58"/>
                  </a:lnTo>
                  <a:lnTo>
                    <a:pt x="47" y="45"/>
                  </a:lnTo>
                  <a:lnTo>
                    <a:pt x="58" y="34"/>
                  </a:lnTo>
                  <a:lnTo>
                    <a:pt x="71" y="25"/>
                  </a:lnTo>
                  <a:lnTo>
                    <a:pt x="84" y="17"/>
                  </a:lnTo>
                  <a:lnTo>
                    <a:pt x="98" y="9"/>
                  </a:lnTo>
                  <a:lnTo>
                    <a:pt x="113" y="4"/>
                  </a:lnTo>
                  <a:lnTo>
                    <a:pt x="130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399" name="KSO_Shape"/>
          <p:cNvSpPr/>
          <p:nvPr/>
        </p:nvSpPr>
        <p:spPr>
          <a:xfrm>
            <a:off x="2384280" y="3056040"/>
            <a:ext cx="962280" cy="831600"/>
          </a:xfrm>
          <a:custGeom>
            <a:avLst/>
            <a:gdLst>
              <a:gd name="textAreaLeft" fmla="*/ 0 w 962280"/>
              <a:gd name="textAreaRight" fmla="*/ 962640 w 96228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1587500" h="1489075">
                <a:moveTo>
                  <a:pt x="1073150" y="344487"/>
                </a:moveTo>
                <a:lnTo>
                  <a:pt x="1084279" y="345123"/>
                </a:lnTo>
                <a:lnTo>
                  <a:pt x="1095725" y="345759"/>
                </a:lnTo>
                <a:lnTo>
                  <a:pt x="1106536" y="347031"/>
                </a:lnTo>
                <a:lnTo>
                  <a:pt x="1117347" y="349256"/>
                </a:lnTo>
                <a:lnTo>
                  <a:pt x="1127839" y="351482"/>
                </a:lnTo>
                <a:lnTo>
                  <a:pt x="1138014" y="354344"/>
                </a:lnTo>
                <a:lnTo>
                  <a:pt x="1148189" y="358159"/>
                </a:lnTo>
                <a:lnTo>
                  <a:pt x="1158364" y="361975"/>
                </a:lnTo>
                <a:lnTo>
                  <a:pt x="1167902" y="366426"/>
                </a:lnTo>
                <a:lnTo>
                  <a:pt x="1177441" y="371196"/>
                </a:lnTo>
                <a:lnTo>
                  <a:pt x="1186980" y="376601"/>
                </a:lnTo>
                <a:lnTo>
                  <a:pt x="1195565" y="382006"/>
                </a:lnTo>
                <a:lnTo>
                  <a:pt x="1204150" y="388366"/>
                </a:lnTo>
                <a:lnTo>
                  <a:pt x="1212735" y="394725"/>
                </a:lnTo>
                <a:lnTo>
                  <a:pt x="1220366" y="401720"/>
                </a:lnTo>
                <a:lnTo>
                  <a:pt x="1227997" y="409033"/>
                </a:lnTo>
                <a:lnTo>
                  <a:pt x="1235310" y="416664"/>
                </a:lnTo>
                <a:lnTo>
                  <a:pt x="1241987" y="424613"/>
                </a:lnTo>
                <a:lnTo>
                  <a:pt x="1248664" y="432880"/>
                </a:lnTo>
                <a:lnTo>
                  <a:pt x="1254706" y="441147"/>
                </a:lnTo>
                <a:lnTo>
                  <a:pt x="1260429" y="450368"/>
                </a:lnTo>
                <a:lnTo>
                  <a:pt x="1265516" y="459271"/>
                </a:lnTo>
                <a:lnTo>
                  <a:pt x="1270604" y="468810"/>
                </a:lnTo>
                <a:lnTo>
                  <a:pt x="1275055" y="478667"/>
                </a:lnTo>
                <a:lnTo>
                  <a:pt x="1279189" y="488523"/>
                </a:lnTo>
                <a:lnTo>
                  <a:pt x="1282368" y="498698"/>
                </a:lnTo>
                <a:lnTo>
                  <a:pt x="1285230" y="509191"/>
                </a:lnTo>
                <a:lnTo>
                  <a:pt x="1287774" y="519683"/>
                </a:lnTo>
                <a:lnTo>
                  <a:pt x="1289681" y="530494"/>
                </a:lnTo>
                <a:lnTo>
                  <a:pt x="1290953" y="541623"/>
                </a:lnTo>
                <a:lnTo>
                  <a:pt x="1291907" y="552433"/>
                </a:lnTo>
                <a:lnTo>
                  <a:pt x="1292225" y="564198"/>
                </a:lnTo>
                <a:lnTo>
                  <a:pt x="1291907" y="575327"/>
                </a:lnTo>
                <a:lnTo>
                  <a:pt x="1290953" y="586137"/>
                </a:lnTo>
                <a:lnTo>
                  <a:pt x="1289681" y="597266"/>
                </a:lnTo>
                <a:lnTo>
                  <a:pt x="1287774" y="608077"/>
                </a:lnTo>
                <a:lnTo>
                  <a:pt x="1285230" y="618569"/>
                </a:lnTo>
                <a:lnTo>
                  <a:pt x="1282368" y="629062"/>
                </a:lnTo>
                <a:lnTo>
                  <a:pt x="1279189" y="639237"/>
                </a:lnTo>
                <a:lnTo>
                  <a:pt x="1275055" y="649094"/>
                </a:lnTo>
                <a:lnTo>
                  <a:pt x="1270604" y="658950"/>
                </a:lnTo>
                <a:lnTo>
                  <a:pt x="1265516" y="668489"/>
                </a:lnTo>
                <a:lnTo>
                  <a:pt x="1260429" y="677392"/>
                </a:lnTo>
                <a:lnTo>
                  <a:pt x="1254706" y="686613"/>
                </a:lnTo>
                <a:lnTo>
                  <a:pt x="1248664" y="694880"/>
                </a:lnTo>
                <a:lnTo>
                  <a:pt x="1241987" y="703147"/>
                </a:lnTo>
                <a:lnTo>
                  <a:pt x="1235310" y="711096"/>
                </a:lnTo>
                <a:lnTo>
                  <a:pt x="1227997" y="718727"/>
                </a:lnTo>
                <a:lnTo>
                  <a:pt x="1220366" y="726040"/>
                </a:lnTo>
                <a:lnTo>
                  <a:pt x="1212735" y="733035"/>
                </a:lnTo>
                <a:lnTo>
                  <a:pt x="1204150" y="739394"/>
                </a:lnTo>
                <a:lnTo>
                  <a:pt x="1195565" y="745436"/>
                </a:lnTo>
                <a:lnTo>
                  <a:pt x="1186980" y="751159"/>
                </a:lnTo>
                <a:lnTo>
                  <a:pt x="1177441" y="756564"/>
                </a:lnTo>
                <a:lnTo>
                  <a:pt x="1167902" y="761334"/>
                </a:lnTo>
                <a:lnTo>
                  <a:pt x="1158364" y="765785"/>
                </a:lnTo>
                <a:lnTo>
                  <a:pt x="1148189" y="769601"/>
                </a:lnTo>
                <a:lnTo>
                  <a:pt x="1138014" y="773098"/>
                </a:lnTo>
                <a:lnTo>
                  <a:pt x="1127839" y="775960"/>
                </a:lnTo>
                <a:lnTo>
                  <a:pt x="1117347" y="778504"/>
                </a:lnTo>
                <a:lnTo>
                  <a:pt x="1106536" y="780093"/>
                </a:lnTo>
                <a:lnTo>
                  <a:pt x="1095725" y="781683"/>
                </a:lnTo>
                <a:lnTo>
                  <a:pt x="1084279" y="782637"/>
                </a:lnTo>
                <a:lnTo>
                  <a:pt x="1073150" y="782637"/>
                </a:lnTo>
                <a:lnTo>
                  <a:pt x="1062021" y="782637"/>
                </a:lnTo>
                <a:lnTo>
                  <a:pt x="1050575" y="781683"/>
                </a:lnTo>
                <a:lnTo>
                  <a:pt x="1039764" y="780093"/>
                </a:lnTo>
                <a:lnTo>
                  <a:pt x="1028953" y="778504"/>
                </a:lnTo>
                <a:lnTo>
                  <a:pt x="1018143" y="775960"/>
                </a:lnTo>
                <a:lnTo>
                  <a:pt x="1007968" y="773098"/>
                </a:lnTo>
                <a:lnTo>
                  <a:pt x="997793" y="769601"/>
                </a:lnTo>
                <a:lnTo>
                  <a:pt x="987619" y="765785"/>
                </a:lnTo>
                <a:lnTo>
                  <a:pt x="978080" y="761334"/>
                </a:lnTo>
                <a:lnTo>
                  <a:pt x="968541" y="756564"/>
                </a:lnTo>
                <a:lnTo>
                  <a:pt x="959320" y="751159"/>
                </a:lnTo>
                <a:lnTo>
                  <a:pt x="950735" y="745436"/>
                </a:lnTo>
                <a:lnTo>
                  <a:pt x="941832" y="739394"/>
                </a:lnTo>
                <a:lnTo>
                  <a:pt x="933565" y="733035"/>
                </a:lnTo>
                <a:lnTo>
                  <a:pt x="925616" y="726040"/>
                </a:lnTo>
                <a:lnTo>
                  <a:pt x="918303" y="718727"/>
                </a:lnTo>
                <a:lnTo>
                  <a:pt x="910990" y="711096"/>
                </a:lnTo>
                <a:lnTo>
                  <a:pt x="904313" y="703147"/>
                </a:lnTo>
                <a:lnTo>
                  <a:pt x="897636" y="694880"/>
                </a:lnTo>
                <a:lnTo>
                  <a:pt x="891594" y="686613"/>
                </a:lnTo>
                <a:lnTo>
                  <a:pt x="885553" y="677392"/>
                </a:lnTo>
                <a:lnTo>
                  <a:pt x="880466" y="668489"/>
                </a:lnTo>
                <a:lnTo>
                  <a:pt x="875378" y="658950"/>
                </a:lnTo>
                <a:lnTo>
                  <a:pt x="871245" y="649094"/>
                </a:lnTo>
                <a:lnTo>
                  <a:pt x="867429" y="639237"/>
                </a:lnTo>
                <a:lnTo>
                  <a:pt x="863932" y="629062"/>
                </a:lnTo>
                <a:lnTo>
                  <a:pt x="861070" y="618569"/>
                </a:lnTo>
                <a:lnTo>
                  <a:pt x="858526" y="608077"/>
                </a:lnTo>
                <a:lnTo>
                  <a:pt x="856619" y="597266"/>
                </a:lnTo>
                <a:lnTo>
                  <a:pt x="855029" y="586137"/>
                </a:lnTo>
                <a:lnTo>
                  <a:pt x="854393" y="575327"/>
                </a:lnTo>
                <a:lnTo>
                  <a:pt x="854075" y="564198"/>
                </a:lnTo>
                <a:lnTo>
                  <a:pt x="854393" y="552433"/>
                </a:lnTo>
                <a:lnTo>
                  <a:pt x="855029" y="541623"/>
                </a:lnTo>
                <a:lnTo>
                  <a:pt x="856619" y="530494"/>
                </a:lnTo>
                <a:lnTo>
                  <a:pt x="858526" y="519683"/>
                </a:lnTo>
                <a:lnTo>
                  <a:pt x="861070" y="509191"/>
                </a:lnTo>
                <a:lnTo>
                  <a:pt x="863932" y="498698"/>
                </a:lnTo>
                <a:lnTo>
                  <a:pt x="867429" y="488523"/>
                </a:lnTo>
                <a:lnTo>
                  <a:pt x="871245" y="478667"/>
                </a:lnTo>
                <a:lnTo>
                  <a:pt x="875378" y="468810"/>
                </a:lnTo>
                <a:lnTo>
                  <a:pt x="880466" y="459271"/>
                </a:lnTo>
                <a:lnTo>
                  <a:pt x="885553" y="450368"/>
                </a:lnTo>
                <a:lnTo>
                  <a:pt x="891594" y="441147"/>
                </a:lnTo>
                <a:lnTo>
                  <a:pt x="897636" y="432880"/>
                </a:lnTo>
                <a:lnTo>
                  <a:pt x="904313" y="424613"/>
                </a:lnTo>
                <a:lnTo>
                  <a:pt x="910990" y="416664"/>
                </a:lnTo>
                <a:lnTo>
                  <a:pt x="918303" y="409033"/>
                </a:lnTo>
                <a:lnTo>
                  <a:pt x="925616" y="401720"/>
                </a:lnTo>
                <a:lnTo>
                  <a:pt x="933565" y="394725"/>
                </a:lnTo>
                <a:lnTo>
                  <a:pt x="941832" y="388366"/>
                </a:lnTo>
                <a:lnTo>
                  <a:pt x="950735" y="382006"/>
                </a:lnTo>
                <a:lnTo>
                  <a:pt x="959320" y="376601"/>
                </a:lnTo>
                <a:lnTo>
                  <a:pt x="968541" y="371196"/>
                </a:lnTo>
                <a:lnTo>
                  <a:pt x="978080" y="366426"/>
                </a:lnTo>
                <a:lnTo>
                  <a:pt x="987619" y="361975"/>
                </a:lnTo>
                <a:lnTo>
                  <a:pt x="997793" y="358159"/>
                </a:lnTo>
                <a:lnTo>
                  <a:pt x="1007968" y="354344"/>
                </a:lnTo>
                <a:lnTo>
                  <a:pt x="1018143" y="351482"/>
                </a:lnTo>
                <a:lnTo>
                  <a:pt x="1028953" y="349256"/>
                </a:lnTo>
                <a:lnTo>
                  <a:pt x="1039764" y="347031"/>
                </a:lnTo>
                <a:lnTo>
                  <a:pt x="1050575" y="345759"/>
                </a:lnTo>
                <a:lnTo>
                  <a:pt x="1062021" y="345123"/>
                </a:lnTo>
                <a:lnTo>
                  <a:pt x="1073150" y="344487"/>
                </a:lnTo>
                <a:close/>
                <a:moveTo>
                  <a:pt x="1052940" y="50493"/>
                </a:moveTo>
                <a:lnTo>
                  <a:pt x="1041202" y="50811"/>
                </a:lnTo>
                <a:lnTo>
                  <a:pt x="1030098" y="51128"/>
                </a:lnTo>
                <a:lnTo>
                  <a:pt x="1018360" y="52081"/>
                </a:lnTo>
                <a:lnTo>
                  <a:pt x="1006939" y="53351"/>
                </a:lnTo>
                <a:lnTo>
                  <a:pt x="995519" y="54304"/>
                </a:lnTo>
                <a:lnTo>
                  <a:pt x="984098" y="56210"/>
                </a:lnTo>
                <a:lnTo>
                  <a:pt x="972677" y="58115"/>
                </a:lnTo>
                <a:lnTo>
                  <a:pt x="961573" y="60338"/>
                </a:lnTo>
                <a:lnTo>
                  <a:pt x="950470" y="62878"/>
                </a:lnTo>
                <a:lnTo>
                  <a:pt x="939049" y="65737"/>
                </a:lnTo>
                <a:lnTo>
                  <a:pt x="927945" y="68595"/>
                </a:lnTo>
                <a:lnTo>
                  <a:pt x="916524" y="71770"/>
                </a:lnTo>
                <a:lnTo>
                  <a:pt x="905738" y="75581"/>
                </a:lnTo>
                <a:lnTo>
                  <a:pt x="894634" y="79392"/>
                </a:lnTo>
                <a:lnTo>
                  <a:pt x="883531" y="83520"/>
                </a:lnTo>
                <a:lnTo>
                  <a:pt x="872744" y="88284"/>
                </a:lnTo>
                <a:lnTo>
                  <a:pt x="862275" y="92730"/>
                </a:lnTo>
                <a:lnTo>
                  <a:pt x="851489" y="97493"/>
                </a:lnTo>
                <a:lnTo>
                  <a:pt x="841020" y="102892"/>
                </a:lnTo>
                <a:lnTo>
                  <a:pt x="830233" y="108608"/>
                </a:lnTo>
                <a:lnTo>
                  <a:pt x="820081" y="114324"/>
                </a:lnTo>
                <a:lnTo>
                  <a:pt x="809612" y="120358"/>
                </a:lnTo>
                <a:lnTo>
                  <a:pt x="799460" y="127027"/>
                </a:lnTo>
                <a:lnTo>
                  <a:pt x="789626" y="133379"/>
                </a:lnTo>
                <a:lnTo>
                  <a:pt x="779474" y="140365"/>
                </a:lnTo>
                <a:lnTo>
                  <a:pt x="770274" y="147669"/>
                </a:lnTo>
                <a:lnTo>
                  <a:pt x="760439" y="155291"/>
                </a:lnTo>
                <a:lnTo>
                  <a:pt x="750922" y="162912"/>
                </a:lnTo>
                <a:lnTo>
                  <a:pt x="741722" y="171169"/>
                </a:lnTo>
                <a:lnTo>
                  <a:pt x="732522" y="179426"/>
                </a:lnTo>
                <a:lnTo>
                  <a:pt x="723956" y="188000"/>
                </a:lnTo>
                <a:lnTo>
                  <a:pt x="715073" y="196574"/>
                </a:lnTo>
                <a:lnTo>
                  <a:pt x="706825" y="205466"/>
                </a:lnTo>
                <a:lnTo>
                  <a:pt x="698893" y="214358"/>
                </a:lnTo>
                <a:lnTo>
                  <a:pt x="691280" y="223568"/>
                </a:lnTo>
                <a:lnTo>
                  <a:pt x="683666" y="232777"/>
                </a:lnTo>
                <a:lnTo>
                  <a:pt x="676369" y="242304"/>
                </a:lnTo>
                <a:lnTo>
                  <a:pt x="669390" y="252149"/>
                </a:lnTo>
                <a:lnTo>
                  <a:pt x="662410" y="261993"/>
                </a:lnTo>
                <a:lnTo>
                  <a:pt x="656065" y="271838"/>
                </a:lnTo>
                <a:lnTo>
                  <a:pt x="649720" y="281683"/>
                </a:lnTo>
                <a:lnTo>
                  <a:pt x="644010" y="291845"/>
                </a:lnTo>
                <a:lnTo>
                  <a:pt x="638299" y="302325"/>
                </a:lnTo>
                <a:lnTo>
                  <a:pt x="632906" y="312487"/>
                </a:lnTo>
                <a:lnTo>
                  <a:pt x="627830" y="322966"/>
                </a:lnTo>
                <a:lnTo>
                  <a:pt x="623072" y="333446"/>
                </a:lnTo>
                <a:lnTo>
                  <a:pt x="618313" y="344243"/>
                </a:lnTo>
                <a:lnTo>
                  <a:pt x="613871" y="354723"/>
                </a:lnTo>
                <a:lnTo>
                  <a:pt x="610064" y="365838"/>
                </a:lnTo>
                <a:lnTo>
                  <a:pt x="605940" y="376635"/>
                </a:lnTo>
                <a:lnTo>
                  <a:pt x="602768" y="387750"/>
                </a:lnTo>
                <a:lnTo>
                  <a:pt x="599595" y="398865"/>
                </a:lnTo>
                <a:lnTo>
                  <a:pt x="596740" y="409980"/>
                </a:lnTo>
                <a:lnTo>
                  <a:pt x="593568" y="421095"/>
                </a:lnTo>
                <a:lnTo>
                  <a:pt x="591030" y="432527"/>
                </a:lnTo>
                <a:lnTo>
                  <a:pt x="589126" y="443642"/>
                </a:lnTo>
                <a:lnTo>
                  <a:pt x="587223" y="455075"/>
                </a:lnTo>
                <a:lnTo>
                  <a:pt x="585636" y="466507"/>
                </a:lnTo>
                <a:lnTo>
                  <a:pt x="584368" y="477939"/>
                </a:lnTo>
                <a:lnTo>
                  <a:pt x="583098" y="489372"/>
                </a:lnTo>
                <a:lnTo>
                  <a:pt x="582464" y="500804"/>
                </a:lnTo>
                <a:lnTo>
                  <a:pt x="581830" y="512237"/>
                </a:lnTo>
                <a:lnTo>
                  <a:pt x="581830" y="523669"/>
                </a:lnTo>
                <a:lnTo>
                  <a:pt x="581830" y="535102"/>
                </a:lnTo>
                <a:lnTo>
                  <a:pt x="581830" y="546852"/>
                </a:lnTo>
                <a:lnTo>
                  <a:pt x="582464" y="557967"/>
                </a:lnTo>
                <a:lnTo>
                  <a:pt x="583098" y="569717"/>
                </a:lnTo>
                <a:lnTo>
                  <a:pt x="584368" y="581149"/>
                </a:lnTo>
                <a:lnTo>
                  <a:pt x="585636" y="592581"/>
                </a:lnTo>
                <a:lnTo>
                  <a:pt x="587540" y="604014"/>
                </a:lnTo>
                <a:lnTo>
                  <a:pt x="589443" y="615446"/>
                </a:lnTo>
                <a:lnTo>
                  <a:pt x="591664" y="626561"/>
                </a:lnTo>
                <a:lnTo>
                  <a:pt x="594202" y="637994"/>
                </a:lnTo>
                <a:lnTo>
                  <a:pt x="597057" y="649108"/>
                </a:lnTo>
                <a:lnTo>
                  <a:pt x="599913" y="660541"/>
                </a:lnTo>
                <a:lnTo>
                  <a:pt x="603085" y="671656"/>
                </a:lnTo>
                <a:lnTo>
                  <a:pt x="606575" y="682453"/>
                </a:lnTo>
                <a:lnTo>
                  <a:pt x="610699" y="693886"/>
                </a:lnTo>
                <a:lnTo>
                  <a:pt x="614823" y="704683"/>
                </a:lnTo>
                <a:lnTo>
                  <a:pt x="618947" y="715480"/>
                </a:lnTo>
                <a:lnTo>
                  <a:pt x="623706" y="725960"/>
                </a:lnTo>
                <a:lnTo>
                  <a:pt x="628782" y="737075"/>
                </a:lnTo>
                <a:lnTo>
                  <a:pt x="634175" y="747554"/>
                </a:lnTo>
                <a:lnTo>
                  <a:pt x="639568" y="758034"/>
                </a:lnTo>
                <a:lnTo>
                  <a:pt x="645596" y="768196"/>
                </a:lnTo>
                <a:lnTo>
                  <a:pt x="651624" y="778676"/>
                </a:lnTo>
                <a:lnTo>
                  <a:pt x="657969" y="788838"/>
                </a:lnTo>
                <a:lnTo>
                  <a:pt x="664631" y="798683"/>
                </a:lnTo>
                <a:lnTo>
                  <a:pt x="671610" y="808845"/>
                </a:lnTo>
                <a:lnTo>
                  <a:pt x="678907" y="818372"/>
                </a:lnTo>
                <a:lnTo>
                  <a:pt x="686521" y="827899"/>
                </a:lnTo>
                <a:lnTo>
                  <a:pt x="694135" y="837426"/>
                </a:lnTo>
                <a:lnTo>
                  <a:pt x="702066" y="846953"/>
                </a:lnTo>
                <a:lnTo>
                  <a:pt x="710314" y="855845"/>
                </a:lnTo>
                <a:lnTo>
                  <a:pt x="719197" y="864737"/>
                </a:lnTo>
                <a:lnTo>
                  <a:pt x="727763" y="873311"/>
                </a:lnTo>
                <a:lnTo>
                  <a:pt x="736646" y="881886"/>
                </a:lnTo>
                <a:lnTo>
                  <a:pt x="745529" y="889825"/>
                </a:lnTo>
                <a:lnTo>
                  <a:pt x="754729" y="897446"/>
                </a:lnTo>
                <a:lnTo>
                  <a:pt x="763929" y="905068"/>
                </a:lnTo>
                <a:lnTo>
                  <a:pt x="773446" y="912372"/>
                </a:lnTo>
                <a:lnTo>
                  <a:pt x="782964" y="919359"/>
                </a:lnTo>
                <a:lnTo>
                  <a:pt x="792798" y="926028"/>
                </a:lnTo>
                <a:lnTo>
                  <a:pt x="802316" y="932696"/>
                </a:lnTo>
                <a:lnTo>
                  <a:pt x="812468" y="938730"/>
                </a:lnTo>
                <a:lnTo>
                  <a:pt x="822619" y="944446"/>
                </a:lnTo>
                <a:lnTo>
                  <a:pt x="832771" y="950480"/>
                </a:lnTo>
                <a:lnTo>
                  <a:pt x="840816" y="954506"/>
                </a:lnTo>
                <a:lnTo>
                  <a:pt x="844150" y="950744"/>
                </a:lnTo>
                <a:lnTo>
                  <a:pt x="854300" y="939650"/>
                </a:lnTo>
                <a:lnTo>
                  <a:pt x="865084" y="929507"/>
                </a:lnTo>
                <a:lnTo>
                  <a:pt x="876502" y="919680"/>
                </a:lnTo>
                <a:lnTo>
                  <a:pt x="887920" y="910805"/>
                </a:lnTo>
                <a:lnTo>
                  <a:pt x="900290" y="901930"/>
                </a:lnTo>
                <a:lnTo>
                  <a:pt x="912660" y="894005"/>
                </a:lnTo>
                <a:lnTo>
                  <a:pt x="925664" y="886398"/>
                </a:lnTo>
                <a:lnTo>
                  <a:pt x="938986" y="879742"/>
                </a:lnTo>
                <a:lnTo>
                  <a:pt x="952941" y="873402"/>
                </a:lnTo>
                <a:lnTo>
                  <a:pt x="966580" y="868014"/>
                </a:lnTo>
                <a:lnTo>
                  <a:pt x="981170" y="863259"/>
                </a:lnTo>
                <a:lnTo>
                  <a:pt x="996077" y="858821"/>
                </a:lnTo>
                <a:lnTo>
                  <a:pt x="1010667" y="855652"/>
                </a:lnTo>
                <a:lnTo>
                  <a:pt x="1025891" y="852799"/>
                </a:lnTo>
                <a:lnTo>
                  <a:pt x="1041750" y="850897"/>
                </a:lnTo>
                <a:lnTo>
                  <a:pt x="1057292" y="849629"/>
                </a:lnTo>
                <a:lnTo>
                  <a:pt x="1073150" y="849312"/>
                </a:lnTo>
                <a:lnTo>
                  <a:pt x="1089009" y="849629"/>
                </a:lnTo>
                <a:lnTo>
                  <a:pt x="1104551" y="850897"/>
                </a:lnTo>
                <a:lnTo>
                  <a:pt x="1120092" y="852799"/>
                </a:lnTo>
                <a:lnTo>
                  <a:pt x="1135317" y="855652"/>
                </a:lnTo>
                <a:lnTo>
                  <a:pt x="1150224" y="858821"/>
                </a:lnTo>
                <a:lnTo>
                  <a:pt x="1165131" y="863259"/>
                </a:lnTo>
                <a:lnTo>
                  <a:pt x="1179721" y="868014"/>
                </a:lnTo>
                <a:lnTo>
                  <a:pt x="1193360" y="873402"/>
                </a:lnTo>
                <a:lnTo>
                  <a:pt x="1207315" y="879742"/>
                </a:lnTo>
                <a:lnTo>
                  <a:pt x="1220637" y="886398"/>
                </a:lnTo>
                <a:lnTo>
                  <a:pt x="1233641" y="894005"/>
                </a:lnTo>
                <a:lnTo>
                  <a:pt x="1246011" y="901930"/>
                </a:lnTo>
                <a:lnTo>
                  <a:pt x="1258381" y="910805"/>
                </a:lnTo>
                <a:lnTo>
                  <a:pt x="1269799" y="919680"/>
                </a:lnTo>
                <a:lnTo>
                  <a:pt x="1281217" y="929507"/>
                </a:lnTo>
                <a:lnTo>
                  <a:pt x="1292001" y="939650"/>
                </a:lnTo>
                <a:lnTo>
                  <a:pt x="1296444" y="944506"/>
                </a:lnTo>
                <a:lnTo>
                  <a:pt x="1298806" y="943176"/>
                </a:lnTo>
                <a:lnTo>
                  <a:pt x="1308958" y="936825"/>
                </a:lnTo>
                <a:lnTo>
                  <a:pt x="1319110" y="930791"/>
                </a:lnTo>
                <a:lnTo>
                  <a:pt x="1329262" y="923805"/>
                </a:lnTo>
                <a:lnTo>
                  <a:pt x="1338779" y="916818"/>
                </a:lnTo>
                <a:lnTo>
                  <a:pt x="1348614" y="909832"/>
                </a:lnTo>
                <a:lnTo>
                  <a:pt x="1358448" y="902528"/>
                </a:lnTo>
                <a:lnTo>
                  <a:pt x="1367966" y="894588"/>
                </a:lnTo>
                <a:lnTo>
                  <a:pt x="1376848" y="886332"/>
                </a:lnTo>
                <a:lnTo>
                  <a:pt x="1386366" y="878075"/>
                </a:lnTo>
                <a:lnTo>
                  <a:pt x="1395249" y="869500"/>
                </a:lnTo>
                <a:lnTo>
                  <a:pt x="1403814" y="860926"/>
                </a:lnTo>
                <a:lnTo>
                  <a:pt x="1411746" y="852034"/>
                </a:lnTo>
                <a:lnTo>
                  <a:pt x="1419994" y="842825"/>
                </a:lnTo>
                <a:lnTo>
                  <a:pt x="1427608" y="833933"/>
                </a:lnTo>
                <a:lnTo>
                  <a:pt x="1435222" y="824406"/>
                </a:lnTo>
                <a:lnTo>
                  <a:pt x="1442518" y="814879"/>
                </a:lnTo>
                <a:lnTo>
                  <a:pt x="1449498" y="805669"/>
                </a:lnTo>
                <a:lnTo>
                  <a:pt x="1456477" y="795825"/>
                </a:lnTo>
                <a:lnTo>
                  <a:pt x="1462822" y="785980"/>
                </a:lnTo>
                <a:lnTo>
                  <a:pt x="1469167" y="775818"/>
                </a:lnTo>
                <a:lnTo>
                  <a:pt x="1474878" y="765656"/>
                </a:lnTo>
                <a:lnTo>
                  <a:pt x="1480588" y="755494"/>
                </a:lnTo>
                <a:lnTo>
                  <a:pt x="1485664" y="745014"/>
                </a:lnTo>
                <a:lnTo>
                  <a:pt x="1491057" y="734534"/>
                </a:lnTo>
                <a:lnTo>
                  <a:pt x="1495816" y="723737"/>
                </a:lnTo>
                <a:lnTo>
                  <a:pt x="1500574" y="713257"/>
                </a:lnTo>
                <a:lnTo>
                  <a:pt x="1505016" y="702460"/>
                </a:lnTo>
                <a:lnTo>
                  <a:pt x="1508823" y="691663"/>
                </a:lnTo>
                <a:lnTo>
                  <a:pt x="1512630" y="680865"/>
                </a:lnTo>
                <a:lnTo>
                  <a:pt x="1516120" y="669750"/>
                </a:lnTo>
                <a:lnTo>
                  <a:pt x="1519292" y="658636"/>
                </a:lnTo>
                <a:lnTo>
                  <a:pt x="1522464" y="647203"/>
                </a:lnTo>
                <a:lnTo>
                  <a:pt x="1525320" y="636406"/>
                </a:lnTo>
                <a:lnTo>
                  <a:pt x="1527540" y="625291"/>
                </a:lnTo>
                <a:lnTo>
                  <a:pt x="1529444" y="613541"/>
                </a:lnTo>
                <a:lnTo>
                  <a:pt x="1531347" y="602426"/>
                </a:lnTo>
                <a:lnTo>
                  <a:pt x="1533251" y="590994"/>
                </a:lnTo>
                <a:lnTo>
                  <a:pt x="1534520" y="579561"/>
                </a:lnTo>
                <a:lnTo>
                  <a:pt x="1535789" y="568129"/>
                </a:lnTo>
                <a:lnTo>
                  <a:pt x="1536423" y="556696"/>
                </a:lnTo>
                <a:lnTo>
                  <a:pt x="1536741" y="545264"/>
                </a:lnTo>
                <a:lnTo>
                  <a:pt x="1537058" y="533831"/>
                </a:lnTo>
                <a:lnTo>
                  <a:pt x="1537058" y="522081"/>
                </a:lnTo>
                <a:lnTo>
                  <a:pt x="1536741" y="510967"/>
                </a:lnTo>
                <a:lnTo>
                  <a:pt x="1536423" y="499217"/>
                </a:lnTo>
                <a:lnTo>
                  <a:pt x="1535472" y="487784"/>
                </a:lnTo>
                <a:lnTo>
                  <a:pt x="1534203" y="476352"/>
                </a:lnTo>
                <a:lnTo>
                  <a:pt x="1532934" y="464919"/>
                </a:lnTo>
                <a:lnTo>
                  <a:pt x="1531347" y="453487"/>
                </a:lnTo>
                <a:lnTo>
                  <a:pt x="1529444" y="442054"/>
                </a:lnTo>
                <a:lnTo>
                  <a:pt x="1526906" y="430622"/>
                </a:lnTo>
                <a:lnTo>
                  <a:pt x="1525002" y="419507"/>
                </a:lnTo>
                <a:lnTo>
                  <a:pt x="1521830" y="408075"/>
                </a:lnTo>
                <a:lnTo>
                  <a:pt x="1518975" y="396960"/>
                </a:lnTo>
                <a:lnTo>
                  <a:pt x="1515485" y="386162"/>
                </a:lnTo>
                <a:lnTo>
                  <a:pt x="1512313" y="374730"/>
                </a:lnTo>
                <a:lnTo>
                  <a:pt x="1508188" y="363933"/>
                </a:lnTo>
                <a:lnTo>
                  <a:pt x="1503747" y="353135"/>
                </a:lnTo>
                <a:lnTo>
                  <a:pt x="1499623" y="342021"/>
                </a:lnTo>
                <a:lnTo>
                  <a:pt x="1494864" y="331223"/>
                </a:lnTo>
                <a:lnTo>
                  <a:pt x="1490105" y="320743"/>
                </a:lnTo>
                <a:lnTo>
                  <a:pt x="1484712" y="309946"/>
                </a:lnTo>
                <a:lnTo>
                  <a:pt x="1479319" y="299784"/>
                </a:lnTo>
                <a:lnTo>
                  <a:pt x="1473291" y="289304"/>
                </a:lnTo>
                <a:lnTo>
                  <a:pt x="1467264" y="279142"/>
                </a:lnTo>
                <a:lnTo>
                  <a:pt x="1460602" y="268980"/>
                </a:lnTo>
                <a:lnTo>
                  <a:pt x="1454257" y="258818"/>
                </a:lnTo>
                <a:lnTo>
                  <a:pt x="1447277" y="248973"/>
                </a:lnTo>
                <a:lnTo>
                  <a:pt x="1439980" y="239129"/>
                </a:lnTo>
                <a:lnTo>
                  <a:pt x="1432367" y="229601"/>
                </a:lnTo>
                <a:lnTo>
                  <a:pt x="1424753" y="220074"/>
                </a:lnTo>
                <a:lnTo>
                  <a:pt x="1416504" y="210865"/>
                </a:lnTo>
                <a:lnTo>
                  <a:pt x="1408256" y="201656"/>
                </a:lnTo>
                <a:lnTo>
                  <a:pt x="1399690" y="192764"/>
                </a:lnTo>
                <a:lnTo>
                  <a:pt x="1391125" y="184189"/>
                </a:lnTo>
                <a:lnTo>
                  <a:pt x="1382559" y="175933"/>
                </a:lnTo>
                <a:lnTo>
                  <a:pt x="1373359" y="167993"/>
                </a:lnTo>
                <a:lnTo>
                  <a:pt x="1364159" y="160054"/>
                </a:lnTo>
                <a:lnTo>
                  <a:pt x="1354958" y="152433"/>
                </a:lnTo>
                <a:lnTo>
                  <a:pt x="1345441" y="145128"/>
                </a:lnTo>
                <a:lnTo>
                  <a:pt x="1335606" y="138142"/>
                </a:lnTo>
                <a:lnTo>
                  <a:pt x="1325772" y="131473"/>
                </a:lnTo>
                <a:lnTo>
                  <a:pt x="1315937" y="125122"/>
                </a:lnTo>
                <a:lnTo>
                  <a:pt x="1306420" y="119088"/>
                </a:lnTo>
                <a:lnTo>
                  <a:pt x="1296268" y="112737"/>
                </a:lnTo>
                <a:lnTo>
                  <a:pt x="1285482" y="107338"/>
                </a:lnTo>
                <a:lnTo>
                  <a:pt x="1275330" y="101939"/>
                </a:lnTo>
                <a:lnTo>
                  <a:pt x="1264861" y="96541"/>
                </a:lnTo>
                <a:lnTo>
                  <a:pt x="1254392" y="91777"/>
                </a:lnTo>
                <a:lnTo>
                  <a:pt x="1243605" y="87014"/>
                </a:lnTo>
                <a:lnTo>
                  <a:pt x="1233136" y="82568"/>
                </a:lnTo>
                <a:lnTo>
                  <a:pt x="1222350" y="78757"/>
                </a:lnTo>
                <a:lnTo>
                  <a:pt x="1211246" y="74946"/>
                </a:lnTo>
                <a:lnTo>
                  <a:pt x="1200142" y="71453"/>
                </a:lnTo>
                <a:lnTo>
                  <a:pt x="1189356" y="68277"/>
                </a:lnTo>
                <a:lnTo>
                  <a:pt x="1177935" y="65419"/>
                </a:lnTo>
                <a:lnTo>
                  <a:pt x="1166832" y="62243"/>
                </a:lnTo>
                <a:lnTo>
                  <a:pt x="1155411" y="60338"/>
                </a:lnTo>
                <a:lnTo>
                  <a:pt x="1144307" y="58115"/>
                </a:lnTo>
                <a:lnTo>
                  <a:pt x="1132886" y="56210"/>
                </a:lnTo>
                <a:lnTo>
                  <a:pt x="1121465" y="54304"/>
                </a:lnTo>
                <a:lnTo>
                  <a:pt x="1110044" y="53034"/>
                </a:lnTo>
                <a:lnTo>
                  <a:pt x="1098624" y="51764"/>
                </a:lnTo>
                <a:lnTo>
                  <a:pt x="1087203" y="51128"/>
                </a:lnTo>
                <a:lnTo>
                  <a:pt x="1075782" y="50811"/>
                </a:lnTo>
                <a:lnTo>
                  <a:pt x="1064678" y="50493"/>
                </a:lnTo>
                <a:lnTo>
                  <a:pt x="1052940" y="50493"/>
                </a:lnTo>
                <a:close/>
                <a:moveTo>
                  <a:pt x="1052306" y="0"/>
                </a:moveTo>
                <a:lnTo>
                  <a:pt x="1064996" y="0"/>
                </a:lnTo>
                <a:lnTo>
                  <a:pt x="1077685" y="0"/>
                </a:lnTo>
                <a:lnTo>
                  <a:pt x="1090375" y="635"/>
                </a:lnTo>
                <a:lnTo>
                  <a:pt x="1103065" y="1905"/>
                </a:lnTo>
                <a:lnTo>
                  <a:pt x="1115755" y="2858"/>
                </a:lnTo>
                <a:lnTo>
                  <a:pt x="1128445" y="4446"/>
                </a:lnTo>
                <a:lnTo>
                  <a:pt x="1140500" y="6034"/>
                </a:lnTo>
                <a:lnTo>
                  <a:pt x="1153190" y="8257"/>
                </a:lnTo>
                <a:lnTo>
                  <a:pt x="1165562" y="10480"/>
                </a:lnTo>
                <a:lnTo>
                  <a:pt x="1177935" y="13338"/>
                </a:lnTo>
                <a:lnTo>
                  <a:pt x="1190308" y="16196"/>
                </a:lnTo>
                <a:lnTo>
                  <a:pt x="1202680" y="19689"/>
                </a:lnTo>
                <a:lnTo>
                  <a:pt x="1215053" y="23182"/>
                </a:lnTo>
                <a:lnTo>
                  <a:pt x="1227426" y="27311"/>
                </a:lnTo>
                <a:lnTo>
                  <a:pt x="1239164" y="31122"/>
                </a:lnTo>
                <a:lnTo>
                  <a:pt x="1251219" y="35885"/>
                </a:lnTo>
                <a:lnTo>
                  <a:pt x="1263274" y="40649"/>
                </a:lnTo>
                <a:lnTo>
                  <a:pt x="1274695" y="45730"/>
                </a:lnTo>
                <a:lnTo>
                  <a:pt x="1286433" y="51128"/>
                </a:lnTo>
                <a:lnTo>
                  <a:pt x="1297854" y="56527"/>
                </a:lnTo>
                <a:lnTo>
                  <a:pt x="1309592" y="62878"/>
                </a:lnTo>
                <a:lnTo>
                  <a:pt x="1320696" y="68912"/>
                </a:lnTo>
                <a:lnTo>
                  <a:pt x="1332117" y="75581"/>
                </a:lnTo>
                <a:lnTo>
                  <a:pt x="1343220" y="82250"/>
                </a:lnTo>
                <a:lnTo>
                  <a:pt x="1354007" y="89554"/>
                </a:lnTo>
                <a:lnTo>
                  <a:pt x="1364793" y="96858"/>
                </a:lnTo>
                <a:lnTo>
                  <a:pt x="1375580" y="104797"/>
                </a:lnTo>
                <a:lnTo>
                  <a:pt x="1386049" y="112737"/>
                </a:lnTo>
                <a:lnTo>
                  <a:pt x="1396200" y="121311"/>
                </a:lnTo>
                <a:lnTo>
                  <a:pt x="1406352" y="129885"/>
                </a:lnTo>
                <a:lnTo>
                  <a:pt x="1416187" y="138460"/>
                </a:lnTo>
                <a:lnTo>
                  <a:pt x="1426022" y="147987"/>
                </a:lnTo>
                <a:lnTo>
                  <a:pt x="1435539" y="157514"/>
                </a:lnTo>
                <a:lnTo>
                  <a:pt x="1445056" y="167358"/>
                </a:lnTo>
                <a:lnTo>
                  <a:pt x="1454257" y="176885"/>
                </a:lnTo>
                <a:lnTo>
                  <a:pt x="1463140" y="187683"/>
                </a:lnTo>
                <a:lnTo>
                  <a:pt x="1472022" y="198162"/>
                </a:lnTo>
                <a:lnTo>
                  <a:pt x="1479954" y="208642"/>
                </a:lnTo>
                <a:lnTo>
                  <a:pt x="1487885" y="219439"/>
                </a:lnTo>
                <a:lnTo>
                  <a:pt x="1495816" y="230237"/>
                </a:lnTo>
                <a:lnTo>
                  <a:pt x="1503112" y="241669"/>
                </a:lnTo>
                <a:lnTo>
                  <a:pt x="1510409" y="252466"/>
                </a:lnTo>
                <a:lnTo>
                  <a:pt x="1516754" y="264216"/>
                </a:lnTo>
                <a:lnTo>
                  <a:pt x="1523416" y="275331"/>
                </a:lnTo>
                <a:lnTo>
                  <a:pt x="1529444" y="287081"/>
                </a:lnTo>
                <a:lnTo>
                  <a:pt x="1535472" y="298514"/>
                </a:lnTo>
                <a:lnTo>
                  <a:pt x="1540865" y="310581"/>
                </a:lnTo>
                <a:lnTo>
                  <a:pt x="1545941" y="322649"/>
                </a:lnTo>
                <a:lnTo>
                  <a:pt x="1551017" y="334399"/>
                </a:lnTo>
                <a:lnTo>
                  <a:pt x="1555775" y="346466"/>
                </a:lnTo>
                <a:lnTo>
                  <a:pt x="1559582" y="358852"/>
                </a:lnTo>
                <a:lnTo>
                  <a:pt x="1563706" y="370919"/>
                </a:lnTo>
                <a:lnTo>
                  <a:pt x="1567514" y="383304"/>
                </a:lnTo>
                <a:lnTo>
                  <a:pt x="1571003" y="395372"/>
                </a:lnTo>
                <a:lnTo>
                  <a:pt x="1573858" y="408075"/>
                </a:lnTo>
                <a:lnTo>
                  <a:pt x="1576714" y="420460"/>
                </a:lnTo>
                <a:lnTo>
                  <a:pt x="1579252" y="433162"/>
                </a:lnTo>
                <a:lnTo>
                  <a:pt x="1581472" y="445548"/>
                </a:lnTo>
                <a:lnTo>
                  <a:pt x="1583058" y="458250"/>
                </a:lnTo>
                <a:lnTo>
                  <a:pt x="1584645" y="470953"/>
                </a:lnTo>
                <a:lnTo>
                  <a:pt x="1585596" y="483656"/>
                </a:lnTo>
                <a:lnTo>
                  <a:pt x="1586866" y="496358"/>
                </a:lnTo>
                <a:lnTo>
                  <a:pt x="1587183" y="509061"/>
                </a:lnTo>
                <a:lnTo>
                  <a:pt x="1587500" y="521764"/>
                </a:lnTo>
                <a:lnTo>
                  <a:pt x="1587500" y="534467"/>
                </a:lnTo>
                <a:lnTo>
                  <a:pt x="1587500" y="547169"/>
                </a:lnTo>
                <a:lnTo>
                  <a:pt x="1586866" y="559554"/>
                </a:lnTo>
                <a:lnTo>
                  <a:pt x="1585596" y="572257"/>
                </a:lnTo>
                <a:lnTo>
                  <a:pt x="1584645" y="584960"/>
                </a:lnTo>
                <a:lnTo>
                  <a:pt x="1583058" y="597663"/>
                </a:lnTo>
                <a:lnTo>
                  <a:pt x="1581472" y="610365"/>
                </a:lnTo>
                <a:lnTo>
                  <a:pt x="1579252" y="622750"/>
                </a:lnTo>
                <a:lnTo>
                  <a:pt x="1577031" y="635136"/>
                </a:lnTo>
                <a:lnTo>
                  <a:pt x="1574176" y="647838"/>
                </a:lnTo>
                <a:lnTo>
                  <a:pt x="1571320" y="659906"/>
                </a:lnTo>
                <a:lnTo>
                  <a:pt x="1567831" y="672291"/>
                </a:lnTo>
                <a:lnTo>
                  <a:pt x="1564341" y="684359"/>
                </a:lnTo>
                <a:lnTo>
                  <a:pt x="1560217" y="696744"/>
                </a:lnTo>
                <a:lnTo>
                  <a:pt x="1556410" y="708494"/>
                </a:lnTo>
                <a:lnTo>
                  <a:pt x="1551651" y="720561"/>
                </a:lnTo>
                <a:lnTo>
                  <a:pt x="1546892" y="732629"/>
                </a:lnTo>
                <a:lnTo>
                  <a:pt x="1541816" y="744696"/>
                </a:lnTo>
                <a:lnTo>
                  <a:pt x="1536423" y="756129"/>
                </a:lnTo>
                <a:lnTo>
                  <a:pt x="1531030" y="767879"/>
                </a:lnTo>
                <a:lnTo>
                  <a:pt x="1525002" y="778994"/>
                </a:lnTo>
                <a:lnTo>
                  <a:pt x="1518658" y="790426"/>
                </a:lnTo>
                <a:lnTo>
                  <a:pt x="1512313" y="801541"/>
                </a:lnTo>
                <a:lnTo>
                  <a:pt x="1505333" y="812656"/>
                </a:lnTo>
                <a:lnTo>
                  <a:pt x="1498037" y="823771"/>
                </a:lnTo>
                <a:lnTo>
                  <a:pt x="1490740" y="834568"/>
                </a:lnTo>
                <a:lnTo>
                  <a:pt x="1482809" y="845048"/>
                </a:lnTo>
                <a:lnTo>
                  <a:pt x="1474878" y="855528"/>
                </a:lnTo>
                <a:lnTo>
                  <a:pt x="1466629" y="865690"/>
                </a:lnTo>
                <a:lnTo>
                  <a:pt x="1457746" y="875852"/>
                </a:lnTo>
                <a:lnTo>
                  <a:pt x="1449181" y="886014"/>
                </a:lnTo>
                <a:lnTo>
                  <a:pt x="1439663" y="895859"/>
                </a:lnTo>
                <a:lnTo>
                  <a:pt x="1430146" y="905386"/>
                </a:lnTo>
                <a:lnTo>
                  <a:pt x="1420311" y="914913"/>
                </a:lnTo>
                <a:lnTo>
                  <a:pt x="1410159" y="923805"/>
                </a:lnTo>
                <a:lnTo>
                  <a:pt x="1400642" y="932696"/>
                </a:lnTo>
                <a:lnTo>
                  <a:pt x="1390807" y="940953"/>
                </a:lnTo>
                <a:lnTo>
                  <a:pt x="1380656" y="948892"/>
                </a:lnTo>
                <a:lnTo>
                  <a:pt x="1370186" y="956514"/>
                </a:lnTo>
                <a:lnTo>
                  <a:pt x="1359717" y="964136"/>
                </a:lnTo>
                <a:lnTo>
                  <a:pt x="1348931" y="971122"/>
                </a:lnTo>
                <a:lnTo>
                  <a:pt x="1338462" y="977791"/>
                </a:lnTo>
                <a:lnTo>
                  <a:pt x="1328514" y="983941"/>
                </a:lnTo>
                <a:lnTo>
                  <a:pt x="1329745" y="985611"/>
                </a:lnTo>
                <a:lnTo>
                  <a:pt x="1337674" y="997973"/>
                </a:lnTo>
                <a:lnTo>
                  <a:pt x="1345286" y="1010969"/>
                </a:lnTo>
                <a:lnTo>
                  <a:pt x="1352264" y="1024599"/>
                </a:lnTo>
                <a:lnTo>
                  <a:pt x="1358291" y="1038229"/>
                </a:lnTo>
                <a:lnTo>
                  <a:pt x="1363682" y="1052493"/>
                </a:lnTo>
                <a:lnTo>
                  <a:pt x="1368757" y="1066440"/>
                </a:lnTo>
                <a:lnTo>
                  <a:pt x="1372881" y="1081337"/>
                </a:lnTo>
                <a:lnTo>
                  <a:pt x="1376370" y="1096235"/>
                </a:lnTo>
                <a:lnTo>
                  <a:pt x="1378907" y="1111450"/>
                </a:lnTo>
                <a:lnTo>
                  <a:pt x="1381127" y="1126982"/>
                </a:lnTo>
                <a:lnTo>
                  <a:pt x="1382396" y="1142514"/>
                </a:lnTo>
                <a:lnTo>
                  <a:pt x="1382713" y="1158362"/>
                </a:lnTo>
                <a:lnTo>
                  <a:pt x="1382713" y="1423987"/>
                </a:lnTo>
                <a:lnTo>
                  <a:pt x="763588" y="1423987"/>
                </a:lnTo>
                <a:lnTo>
                  <a:pt x="763588" y="1158362"/>
                </a:lnTo>
                <a:lnTo>
                  <a:pt x="763905" y="1142514"/>
                </a:lnTo>
                <a:lnTo>
                  <a:pt x="765174" y="1126982"/>
                </a:lnTo>
                <a:lnTo>
                  <a:pt x="767394" y="1111450"/>
                </a:lnTo>
                <a:lnTo>
                  <a:pt x="769931" y="1096235"/>
                </a:lnTo>
                <a:lnTo>
                  <a:pt x="773420" y="1081337"/>
                </a:lnTo>
                <a:lnTo>
                  <a:pt x="777544" y="1066440"/>
                </a:lnTo>
                <a:lnTo>
                  <a:pt x="782618" y="1052493"/>
                </a:lnTo>
                <a:lnTo>
                  <a:pt x="788010" y="1038229"/>
                </a:lnTo>
                <a:lnTo>
                  <a:pt x="794037" y="1024599"/>
                </a:lnTo>
                <a:lnTo>
                  <a:pt x="801015" y="1010969"/>
                </a:lnTo>
                <a:lnTo>
                  <a:pt x="808627" y="997973"/>
                </a:lnTo>
                <a:lnTo>
                  <a:pt x="810606" y="994888"/>
                </a:lnTo>
                <a:lnTo>
                  <a:pt x="801047" y="989541"/>
                </a:lnTo>
                <a:lnTo>
                  <a:pt x="790260" y="983507"/>
                </a:lnTo>
                <a:lnTo>
                  <a:pt x="779474" y="976838"/>
                </a:lnTo>
                <a:lnTo>
                  <a:pt x="769005" y="970169"/>
                </a:lnTo>
                <a:lnTo>
                  <a:pt x="758853" y="963183"/>
                </a:lnTo>
                <a:lnTo>
                  <a:pt x="748384" y="955879"/>
                </a:lnTo>
                <a:lnTo>
                  <a:pt x="738232" y="948257"/>
                </a:lnTo>
                <a:lnTo>
                  <a:pt x="728397" y="940636"/>
                </a:lnTo>
                <a:lnTo>
                  <a:pt x="718880" y="932061"/>
                </a:lnTo>
                <a:lnTo>
                  <a:pt x="709045" y="923805"/>
                </a:lnTo>
                <a:lnTo>
                  <a:pt x="699528" y="915548"/>
                </a:lnTo>
                <a:lnTo>
                  <a:pt x="690328" y="906338"/>
                </a:lnTo>
                <a:lnTo>
                  <a:pt x="561843" y="1020663"/>
                </a:lnTo>
                <a:lnTo>
                  <a:pt x="610699" y="1075919"/>
                </a:lnTo>
                <a:lnTo>
                  <a:pt x="145933" y="1489075"/>
                </a:lnTo>
                <a:lnTo>
                  <a:pt x="0" y="1324575"/>
                </a:lnTo>
                <a:lnTo>
                  <a:pt x="464131" y="911102"/>
                </a:lnTo>
                <a:lnTo>
                  <a:pt x="513304" y="966041"/>
                </a:lnTo>
                <a:lnTo>
                  <a:pt x="641472" y="851717"/>
                </a:lnTo>
                <a:lnTo>
                  <a:pt x="633858" y="841555"/>
                </a:lnTo>
                <a:lnTo>
                  <a:pt x="626244" y="831075"/>
                </a:lnTo>
                <a:lnTo>
                  <a:pt x="619265" y="820277"/>
                </a:lnTo>
                <a:lnTo>
                  <a:pt x="612602" y="809798"/>
                </a:lnTo>
                <a:lnTo>
                  <a:pt x="605623" y="799000"/>
                </a:lnTo>
                <a:lnTo>
                  <a:pt x="599595" y="788203"/>
                </a:lnTo>
                <a:lnTo>
                  <a:pt x="593250" y="776771"/>
                </a:lnTo>
                <a:lnTo>
                  <a:pt x="587540" y="765973"/>
                </a:lnTo>
                <a:lnTo>
                  <a:pt x="582147" y="754859"/>
                </a:lnTo>
                <a:lnTo>
                  <a:pt x="577071" y="743109"/>
                </a:lnTo>
                <a:lnTo>
                  <a:pt x="571995" y="731994"/>
                </a:lnTo>
                <a:lnTo>
                  <a:pt x="567553" y="720244"/>
                </a:lnTo>
                <a:lnTo>
                  <a:pt x="563112" y="708494"/>
                </a:lnTo>
                <a:lnTo>
                  <a:pt x="558988" y="697061"/>
                </a:lnTo>
                <a:lnTo>
                  <a:pt x="555181" y="685311"/>
                </a:lnTo>
                <a:lnTo>
                  <a:pt x="551691" y="673561"/>
                </a:lnTo>
                <a:lnTo>
                  <a:pt x="548519" y="661811"/>
                </a:lnTo>
                <a:lnTo>
                  <a:pt x="545346" y="649744"/>
                </a:lnTo>
                <a:lnTo>
                  <a:pt x="542808" y="637994"/>
                </a:lnTo>
                <a:lnTo>
                  <a:pt x="540270" y="625926"/>
                </a:lnTo>
                <a:lnTo>
                  <a:pt x="538367" y="613858"/>
                </a:lnTo>
                <a:lnTo>
                  <a:pt x="536463" y="602108"/>
                </a:lnTo>
                <a:lnTo>
                  <a:pt x="534877" y="589723"/>
                </a:lnTo>
                <a:lnTo>
                  <a:pt x="533925" y="577656"/>
                </a:lnTo>
                <a:lnTo>
                  <a:pt x="532656" y="565588"/>
                </a:lnTo>
                <a:lnTo>
                  <a:pt x="532022" y="553203"/>
                </a:lnTo>
                <a:lnTo>
                  <a:pt x="531705" y="541453"/>
                </a:lnTo>
                <a:lnTo>
                  <a:pt x="531387" y="529068"/>
                </a:lnTo>
                <a:lnTo>
                  <a:pt x="531705" y="517000"/>
                </a:lnTo>
                <a:lnTo>
                  <a:pt x="532022" y="504615"/>
                </a:lnTo>
                <a:lnTo>
                  <a:pt x="532656" y="492865"/>
                </a:lnTo>
                <a:lnTo>
                  <a:pt x="533608" y="480480"/>
                </a:lnTo>
                <a:lnTo>
                  <a:pt x="534877" y="468412"/>
                </a:lnTo>
                <a:lnTo>
                  <a:pt x="536463" y="456345"/>
                </a:lnTo>
                <a:lnTo>
                  <a:pt x="538367" y="444595"/>
                </a:lnTo>
                <a:lnTo>
                  <a:pt x="539953" y="432527"/>
                </a:lnTo>
                <a:lnTo>
                  <a:pt x="542491" y="420460"/>
                </a:lnTo>
                <a:lnTo>
                  <a:pt x="545029" y="408710"/>
                </a:lnTo>
                <a:lnTo>
                  <a:pt x="547884" y="396642"/>
                </a:lnTo>
                <a:lnTo>
                  <a:pt x="551374" y="384892"/>
                </a:lnTo>
                <a:lnTo>
                  <a:pt x="554546" y="373460"/>
                </a:lnTo>
                <a:lnTo>
                  <a:pt x="558036" y="361710"/>
                </a:lnTo>
                <a:lnTo>
                  <a:pt x="562160" y="350277"/>
                </a:lnTo>
                <a:lnTo>
                  <a:pt x="566602" y="338527"/>
                </a:lnTo>
                <a:lnTo>
                  <a:pt x="570726" y="327412"/>
                </a:lnTo>
                <a:lnTo>
                  <a:pt x="575802" y="315980"/>
                </a:lnTo>
                <a:lnTo>
                  <a:pt x="580878" y="304865"/>
                </a:lnTo>
                <a:lnTo>
                  <a:pt x="585954" y="293433"/>
                </a:lnTo>
                <a:lnTo>
                  <a:pt x="591981" y="282635"/>
                </a:lnTo>
                <a:lnTo>
                  <a:pt x="597692" y="271838"/>
                </a:lnTo>
                <a:lnTo>
                  <a:pt x="603720" y="260723"/>
                </a:lnTo>
                <a:lnTo>
                  <a:pt x="610382" y="250243"/>
                </a:lnTo>
                <a:lnTo>
                  <a:pt x="616727" y="239764"/>
                </a:lnTo>
                <a:lnTo>
                  <a:pt x="623706" y="229284"/>
                </a:lnTo>
                <a:lnTo>
                  <a:pt x="631003" y="219122"/>
                </a:lnTo>
                <a:lnTo>
                  <a:pt x="638617" y="208960"/>
                </a:lnTo>
                <a:lnTo>
                  <a:pt x="646230" y="198797"/>
                </a:lnTo>
                <a:lnTo>
                  <a:pt x="654479" y="188953"/>
                </a:lnTo>
                <a:lnTo>
                  <a:pt x="663045" y="179108"/>
                </a:lnTo>
                <a:lnTo>
                  <a:pt x="671293" y="169899"/>
                </a:lnTo>
                <a:lnTo>
                  <a:pt x="680176" y="160372"/>
                </a:lnTo>
                <a:lnTo>
                  <a:pt x="689376" y="151162"/>
                </a:lnTo>
                <a:lnTo>
                  <a:pt x="698893" y="142270"/>
                </a:lnTo>
                <a:lnTo>
                  <a:pt x="708094" y="133379"/>
                </a:lnTo>
                <a:lnTo>
                  <a:pt x="718880" y="124487"/>
                </a:lnTo>
                <a:lnTo>
                  <a:pt x="729349" y="116230"/>
                </a:lnTo>
                <a:lnTo>
                  <a:pt x="739818" y="107655"/>
                </a:lnTo>
                <a:lnTo>
                  <a:pt x="750604" y="99716"/>
                </a:lnTo>
                <a:lnTo>
                  <a:pt x="761391" y="91777"/>
                </a:lnTo>
                <a:lnTo>
                  <a:pt x="772494" y="84473"/>
                </a:lnTo>
                <a:lnTo>
                  <a:pt x="783598" y="77487"/>
                </a:lnTo>
                <a:lnTo>
                  <a:pt x="794702" y="70818"/>
                </a:lnTo>
                <a:lnTo>
                  <a:pt x="806440" y="64149"/>
                </a:lnTo>
                <a:lnTo>
                  <a:pt x="818178" y="58115"/>
                </a:lnTo>
                <a:lnTo>
                  <a:pt x="829599" y="52081"/>
                </a:lnTo>
                <a:lnTo>
                  <a:pt x="841654" y="46682"/>
                </a:lnTo>
                <a:lnTo>
                  <a:pt x="853075" y="41601"/>
                </a:lnTo>
                <a:lnTo>
                  <a:pt x="865448" y="36520"/>
                </a:lnTo>
                <a:lnTo>
                  <a:pt x="877503" y="31757"/>
                </a:lnTo>
                <a:lnTo>
                  <a:pt x="889558" y="27946"/>
                </a:lnTo>
                <a:lnTo>
                  <a:pt x="901931" y="23818"/>
                </a:lnTo>
                <a:lnTo>
                  <a:pt x="913986" y="20324"/>
                </a:lnTo>
                <a:lnTo>
                  <a:pt x="926359" y="16514"/>
                </a:lnTo>
                <a:lnTo>
                  <a:pt x="938732" y="13655"/>
                </a:lnTo>
                <a:lnTo>
                  <a:pt x="951421" y="10797"/>
                </a:lnTo>
                <a:lnTo>
                  <a:pt x="963794" y="8257"/>
                </a:lnTo>
                <a:lnTo>
                  <a:pt x="976484" y="6351"/>
                </a:lnTo>
                <a:lnTo>
                  <a:pt x="989174" y="4446"/>
                </a:lnTo>
                <a:lnTo>
                  <a:pt x="1001546" y="2858"/>
                </a:lnTo>
                <a:lnTo>
                  <a:pt x="1014236" y="1905"/>
                </a:lnTo>
                <a:lnTo>
                  <a:pt x="1026926" y="635"/>
                </a:lnTo>
                <a:lnTo>
                  <a:pt x="1039616" y="318"/>
                </a:lnTo>
                <a:lnTo>
                  <a:pt x="1052306" y="0"/>
                </a:lnTo>
                <a:close/>
              </a:path>
            </a:pathLst>
          </a:cu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00" name="KSO_Shape"/>
          <p:cNvSpPr/>
          <p:nvPr/>
        </p:nvSpPr>
        <p:spPr>
          <a:xfrm>
            <a:off x="5856120" y="3056040"/>
            <a:ext cx="908280" cy="680760"/>
          </a:xfrm>
          <a:custGeom>
            <a:avLst/>
            <a:gdLst>
              <a:gd name="textAreaLeft" fmla="*/ 0 w 908280"/>
              <a:gd name="textAreaRight" fmla="*/ 908640 w 908280"/>
              <a:gd name="textAreaTop" fmla="*/ 0 h 680760"/>
              <a:gd name="textAreaBottom" fmla="*/ 681120 h 680760"/>
            </a:gdLst>
            <a:ahLst/>
            <a:rect l="textAreaLeft" t="textAreaTop" r="textAreaRight" b="textAreaBottom"/>
            <a:pathLst>
              <a:path w="1976437" h="1276350">
                <a:moveTo>
                  <a:pt x="358349" y="655638"/>
                </a:moveTo>
                <a:lnTo>
                  <a:pt x="362663" y="655638"/>
                </a:lnTo>
                <a:lnTo>
                  <a:pt x="367204" y="655638"/>
                </a:lnTo>
                <a:lnTo>
                  <a:pt x="371745" y="656317"/>
                </a:lnTo>
                <a:lnTo>
                  <a:pt x="376059" y="656770"/>
                </a:lnTo>
                <a:lnTo>
                  <a:pt x="380372" y="657450"/>
                </a:lnTo>
                <a:lnTo>
                  <a:pt x="384913" y="658582"/>
                </a:lnTo>
                <a:lnTo>
                  <a:pt x="389454" y="659941"/>
                </a:lnTo>
                <a:lnTo>
                  <a:pt x="393768" y="661299"/>
                </a:lnTo>
                <a:lnTo>
                  <a:pt x="398082" y="663111"/>
                </a:lnTo>
                <a:lnTo>
                  <a:pt x="402168" y="664923"/>
                </a:lnTo>
                <a:lnTo>
                  <a:pt x="406028" y="666961"/>
                </a:lnTo>
                <a:lnTo>
                  <a:pt x="410115" y="669225"/>
                </a:lnTo>
                <a:lnTo>
                  <a:pt x="413747" y="671943"/>
                </a:lnTo>
                <a:lnTo>
                  <a:pt x="417380" y="674434"/>
                </a:lnTo>
                <a:lnTo>
                  <a:pt x="420786" y="677151"/>
                </a:lnTo>
                <a:lnTo>
                  <a:pt x="423964" y="680095"/>
                </a:lnTo>
                <a:lnTo>
                  <a:pt x="427143" y="683039"/>
                </a:lnTo>
                <a:lnTo>
                  <a:pt x="430094" y="686436"/>
                </a:lnTo>
                <a:lnTo>
                  <a:pt x="433046" y="689832"/>
                </a:lnTo>
                <a:lnTo>
                  <a:pt x="435543" y="693229"/>
                </a:lnTo>
                <a:lnTo>
                  <a:pt x="437814" y="696626"/>
                </a:lnTo>
                <a:lnTo>
                  <a:pt x="440311" y="700249"/>
                </a:lnTo>
                <a:lnTo>
                  <a:pt x="442355" y="704099"/>
                </a:lnTo>
                <a:lnTo>
                  <a:pt x="444398" y="707948"/>
                </a:lnTo>
                <a:lnTo>
                  <a:pt x="445760" y="712025"/>
                </a:lnTo>
                <a:lnTo>
                  <a:pt x="447350" y="715874"/>
                </a:lnTo>
                <a:lnTo>
                  <a:pt x="448712" y="719950"/>
                </a:lnTo>
                <a:lnTo>
                  <a:pt x="450074" y="724253"/>
                </a:lnTo>
                <a:lnTo>
                  <a:pt x="450755" y="728556"/>
                </a:lnTo>
                <a:lnTo>
                  <a:pt x="451436" y="732858"/>
                </a:lnTo>
                <a:lnTo>
                  <a:pt x="452117" y="737161"/>
                </a:lnTo>
                <a:lnTo>
                  <a:pt x="452344" y="741463"/>
                </a:lnTo>
                <a:lnTo>
                  <a:pt x="452571" y="745766"/>
                </a:lnTo>
                <a:lnTo>
                  <a:pt x="452344" y="750295"/>
                </a:lnTo>
                <a:lnTo>
                  <a:pt x="452117" y="754597"/>
                </a:lnTo>
                <a:lnTo>
                  <a:pt x="451436" y="759126"/>
                </a:lnTo>
                <a:lnTo>
                  <a:pt x="450755" y="763429"/>
                </a:lnTo>
                <a:lnTo>
                  <a:pt x="449620" y="767958"/>
                </a:lnTo>
                <a:lnTo>
                  <a:pt x="448485" y="772261"/>
                </a:lnTo>
                <a:lnTo>
                  <a:pt x="446895" y="776563"/>
                </a:lnTo>
                <a:lnTo>
                  <a:pt x="364934" y="997127"/>
                </a:lnTo>
                <a:lnTo>
                  <a:pt x="345408" y="1049890"/>
                </a:lnTo>
                <a:lnTo>
                  <a:pt x="443263" y="1062798"/>
                </a:lnTo>
                <a:lnTo>
                  <a:pt x="658271" y="1091331"/>
                </a:lnTo>
                <a:lnTo>
                  <a:pt x="662812" y="1092010"/>
                </a:lnTo>
                <a:lnTo>
                  <a:pt x="667353" y="1092916"/>
                </a:lnTo>
                <a:lnTo>
                  <a:pt x="671893" y="1094048"/>
                </a:lnTo>
                <a:lnTo>
                  <a:pt x="675980" y="1095407"/>
                </a:lnTo>
                <a:lnTo>
                  <a:pt x="680294" y="1096992"/>
                </a:lnTo>
                <a:lnTo>
                  <a:pt x="684381" y="1098804"/>
                </a:lnTo>
                <a:lnTo>
                  <a:pt x="688240" y="1100842"/>
                </a:lnTo>
                <a:lnTo>
                  <a:pt x="692100" y="1102880"/>
                </a:lnTo>
                <a:lnTo>
                  <a:pt x="695733" y="1105144"/>
                </a:lnTo>
                <a:lnTo>
                  <a:pt x="699365" y="1107635"/>
                </a:lnTo>
                <a:lnTo>
                  <a:pt x="702771" y="1110353"/>
                </a:lnTo>
                <a:lnTo>
                  <a:pt x="706177" y="1113070"/>
                </a:lnTo>
                <a:lnTo>
                  <a:pt x="709355" y="1115788"/>
                </a:lnTo>
                <a:lnTo>
                  <a:pt x="712307" y="1118958"/>
                </a:lnTo>
                <a:lnTo>
                  <a:pt x="715258" y="1122355"/>
                </a:lnTo>
                <a:lnTo>
                  <a:pt x="717983" y="1125525"/>
                </a:lnTo>
                <a:lnTo>
                  <a:pt x="720253" y="1129148"/>
                </a:lnTo>
                <a:lnTo>
                  <a:pt x="722978" y="1132772"/>
                </a:lnTo>
                <a:lnTo>
                  <a:pt x="725021" y="1136395"/>
                </a:lnTo>
                <a:lnTo>
                  <a:pt x="727064" y="1140244"/>
                </a:lnTo>
                <a:lnTo>
                  <a:pt x="728881" y="1144094"/>
                </a:lnTo>
                <a:lnTo>
                  <a:pt x="730697" y="1148170"/>
                </a:lnTo>
                <a:lnTo>
                  <a:pt x="731832" y="1152246"/>
                </a:lnTo>
                <a:lnTo>
                  <a:pt x="733195" y="1156322"/>
                </a:lnTo>
                <a:lnTo>
                  <a:pt x="734103" y="1160625"/>
                </a:lnTo>
                <a:lnTo>
                  <a:pt x="735238" y="1165154"/>
                </a:lnTo>
                <a:lnTo>
                  <a:pt x="735692" y="1169457"/>
                </a:lnTo>
                <a:lnTo>
                  <a:pt x="736146" y="1173759"/>
                </a:lnTo>
                <a:lnTo>
                  <a:pt x="736600" y="1178288"/>
                </a:lnTo>
                <a:lnTo>
                  <a:pt x="736600" y="1182817"/>
                </a:lnTo>
                <a:lnTo>
                  <a:pt x="736146" y="1187346"/>
                </a:lnTo>
                <a:lnTo>
                  <a:pt x="735692" y="1191875"/>
                </a:lnTo>
                <a:lnTo>
                  <a:pt x="735011" y="1195952"/>
                </a:lnTo>
                <a:lnTo>
                  <a:pt x="734103" y="1200028"/>
                </a:lnTo>
                <a:lnTo>
                  <a:pt x="733195" y="1203877"/>
                </a:lnTo>
                <a:lnTo>
                  <a:pt x="732059" y="1207953"/>
                </a:lnTo>
                <a:lnTo>
                  <a:pt x="730697" y="1211577"/>
                </a:lnTo>
                <a:lnTo>
                  <a:pt x="729335" y="1215426"/>
                </a:lnTo>
                <a:lnTo>
                  <a:pt x="727519" y="1219050"/>
                </a:lnTo>
                <a:lnTo>
                  <a:pt x="725702" y="1222673"/>
                </a:lnTo>
                <a:lnTo>
                  <a:pt x="722524" y="1227881"/>
                </a:lnTo>
                <a:lnTo>
                  <a:pt x="719345" y="1232863"/>
                </a:lnTo>
                <a:lnTo>
                  <a:pt x="715712" y="1237619"/>
                </a:lnTo>
                <a:lnTo>
                  <a:pt x="711626" y="1242148"/>
                </a:lnTo>
                <a:lnTo>
                  <a:pt x="707312" y="1246224"/>
                </a:lnTo>
                <a:lnTo>
                  <a:pt x="702771" y="1250073"/>
                </a:lnTo>
                <a:lnTo>
                  <a:pt x="698003" y="1253697"/>
                </a:lnTo>
                <a:lnTo>
                  <a:pt x="693008" y="1256867"/>
                </a:lnTo>
                <a:lnTo>
                  <a:pt x="687786" y="1260037"/>
                </a:lnTo>
                <a:lnTo>
                  <a:pt x="682337" y="1262528"/>
                </a:lnTo>
                <a:lnTo>
                  <a:pt x="676661" y="1264566"/>
                </a:lnTo>
                <a:lnTo>
                  <a:pt x="670985" y="1266378"/>
                </a:lnTo>
                <a:lnTo>
                  <a:pt x="665082" y="1267963"/>
                </a:lnTo>
                <a:lnTo>
                  <a:pt x="658952" y="1269095"/>
                </a:lnTo>
                <a:lnTo>
                  <a:pt x="652822" y="1269775"/>
                </a:lnTo>
                <a:lnTo>
                  <a:pt x="646692" y="1270001"/>
                </a:lnTo>
                <a:lnTo>
                  <a:pt x="640789" y="1269775"/>
                </a:lnTo>
                <a:lnTo>
                  <a:pt x="634659" y="1269322"/>
                </a:lnTo>
                <a:lnTo>
                  <a:pt x="209864" y="1213162"/>
                </a:lnTo>
                <a:lnTo>
                  <a:pt x="205096" y="1212256"/>
                </a:lnTo>
                <a:lnTo>
                  <a:pt x="200102" y="1211124"/>
                </a:lnTo>
                <a:lnTo>
                  <a:pt x="195334" y="1209765"/>
                </a:lnTo>
                <a:lnTo>
                  <a:pt x="190339" y="1207953"/>
                </a:lnTo>
                <a:lnTo>
                  <a:pt x="185798" y="1206368"/>
                </a:lnTo>
                <a:lnTo>
                  <a:pt x="181257" y="1204330"/>
                </a:lnTo>
                <a:lnTo>
                  <a:pt x="176716" y="1201613"/>
                </a:lnTo>
                <a:lnTo>
                  <a:pt x="172403" y="1199122"/>
                </a:lnTo>
                <a:lnTo>
                  <a:pt x="168316" y="1196178"/>
                </a:lnTo>
                <a:lnTo>
                  <a:pt x="164456" y="1193234"/>
                </a:lnTo>
                <a:lnTo>
                  <a:pt x="160596" y="1189837"/>
                </a:lnTo>
                <a:lnTo>
                  <a:pt x="156964" y="1186214"/>
                </a:lnTo>
                <a:lnTo>
                  <a:pt x="153785" y="1182817"/>
                </a:lnTo>
                <a:lnTo>
                  <a:pt x="150607" y="1178968"/>
                </a:lnTo>
                <a:lnTo>
                  <a:pt x="147428" y="1174665"/>
                </a:lnTo>
                <a:lnTo>
                  <a:pt x="144703" y="1170362"/>
                </a:lnTo>
                <a:lnTo>
                  <a:pt x="142433" y="1166060"/>
                </a:lnTo>
                <a:lnTo>
                  <a:pt x="140163" y="1161531"/>
                </a:lnTo>
                <a:lnTo>
                  <a:pt x="138119" y="1156775"/>
                </a:lnTo>
                <a:lnTo>
                  <a:pt x="136303" y="1152020"/>
                </a:lnTo>
                <a:lnTo>
                  <a:pt x="134941" y="1147038"/>
                </a:lnTo>
                <a:lnTo>
                  <a:pt x="133578" y="1142282"/>
                </a:lnTo>
                <a:lnTo>
                  <a:pt x="132897" y="1137301"/>
                </a:lnTo>
                <a:lnTo>
                  <a:pt x="132443" y="1132545"/>
                </a:lnTo>
                <a:lnTo>
                  <a:pt x="131762" y="1127337"/>
                </a:lnTo>
                <a:lnTo>
                  <a:pt x="131762" y="1122581"/>
                </a:lnTo>
                <a:lnTo>
                  <a:pt x="132216" y="1117373"/>
                </a:lnTo>
                <a:lnTo>
                  <a:pt x="132670" y="1112617"/>
                </a:lnTo>
                <a:lnTo>
                  <a:pt x="133351" y="1107635"/>
                </a:lnTo>
                <a:lnTo>
                  <a:pt x="134487" y="1102653"/>
                </a:lnTo>
                <a:lnTo>
                  <a:pt x="135622" y="1097672"/>
                </a:lnTo>
                <a:lnTo>
                  <a:pt x="137438" y="1092916"/>
                </a:lnTo>
                <a:lnTo>
                  <a:pt x="230525" y="842687"/>
                </a:lnTo>
                <a:lnTo>
                  <a:pt x="277977" y="714289"/>
                </a:lnTo>
                <a:lnTo>
                  <a:pt x="279793" y="709986"/>
                </a:lnTo>
                <a:lnTo>
                  <a:pt x="281836" y="705910"/>
                </a:lnTo>
                <a:lnTo>
                  <a:pt x="283880" y="701834"/>
                </a:lnTo>
                <a:lnTo>
                  <a:pt x="286150" y="697985"/>
                </a:lnTo>
                <a:lnTo>
                  <a:pt x="288421" y="694361"/>
                </a:lnTo>
                <a:lnTo>
                  <a:pt x="291145" y="690738"/>
                </a:lnTo>
                <a:lnTo>
                  <a:pt x="293870" y="687341"/>
                </a:lnTo>
                <a:lnTo>
                  <a:pt x="297048" y="683945"/>
                </a:lnTo>
                <a:lnTo>
                  <a:pt x="300000" y="680774"/>
                </a:lnTo>
                <a:lnTo>
                  <a:pt x="303178" y="678057"/>
                </a:lnTo>
                <a:lnTo>
                  <a:pt x="306357" y="675113"/>
                </a:lnTo>
                <a:lnTo>
                  <a:pt x="309990" y="672622"/>
                </a:lnTo>
                <a:lnTo>
                  <a:pt x="313622" y="670131"/>
                </a:lnTo>
                <a:lnTo>
                  <a:pt x="317255" y="668093"/>
                </a:lnTo>
                <a:lnTo>
                  <a:pt x="321115" y="665828"/>
                </a:lnTo>
                <a:lnTo>
                  <a:pt x="324974" y="664017"/>
                </a:lnTo>
                <a:lnTo>
                  <a:pt x="328834" y="662205"/>
                </a:lnTo>
                <a:lnTo>
                  <a:pt x="332921" y="660620"/>
                </a:lnTo>
                <a:lnTo>
                  <a:pt x="337007" y="659261"/>
                </a:lnTo>
                <a:lnTo>
                  <a:pt x="341094" y="658356"/>
                </a:lnTo>
                <a:lnTo>
                  <a:pt x="345408" y="657223"/>
                </a:lnTo>
                <a:lnTo>
                  <a:pt x="349495" y="656770"/>
                </a:lnTo>
                <a:lnTo>
                  <a:pt x="354036" y="656091"/>
                </a:lnTo>
                <a:lnTo>
                  <a:pt x="358349" y="655638"/>
                </a:lnTo>
                <a:close/>
                <a:moveTo>
                  <a:pt x="365456" y="536575"/>
                </a:moveTo>
                <a:lnTo>
                  <a:pt x="374987" y="536802"/>
                </a:lnTo>
                <a:lnTo>
                  <a:pt x="385199" y="537937"/>
                </a:lnTo>
                <a:lnTo>
                  <a:pt x="395411" y="538846"/>
                </a:lnTo>
                <a:lnTo>
                  <a:pt x="405396" y="540662"/>
                </a:lnTo>
                <a:lnTo>
                  <a:pt x="415381" y="542706"/>
                </a:lnTo>
                <a:lnTo>
                  <a:pt x="425593" y="545430"/>
                </a:lnTo>
                <a:lnTo>
                  <a:pt x="435578" y="548382"/>
                </a:lnTo>
                <a:lnTo>
                  <a:pt x="445563" y="551788"/>
                </a:lnTo>
                <a:lnTo>
                  <a:pt x="455775" y="555648"/>
                </a:lnTo>
                <a:lnTo>
                  <a:pt x="465533" y="559735"/>
                </a:lnTo>
                <a:lnTo>
                  <a:pt x="475291" y="564277"/>
                </a:lnTo>
                <a:lnTo>
                  <a:pt x="484822" y="569499"/>
                </a:lnTo>
                <a:lnTo>
                  <a:pt x="494353" y="574722"/>
                </a:lnTo>
                <a:lnTo>
                  <a:pt x="503657" y="580625"/>
                </a:lnTo>
                <a:lnTo>
                  <a:pt x="512734" y="586756"/>
                </a:lnTo>
                <a:lnTo>
                  <a:pt x="521357" y="593114"/>
                </a:lnTo>
                <a:lnTo>
                  <a:pt x="530208" y="599699"/>
                </a:lnTo>
                <a:lnTo>
                  <a:pt x="538377" y="606965"/>
                </a:lnTo>
                <a:lnTo>
                  <a:pt x="588075" y="644884"/>
                </a:lnTo>
                <a:lnTo>
                  <a:pt x="614853" y="665321"/>
                </a:lnTo>
                <a:lnTo>
                  <a:pt x="642312" y="686437"/>
                </a:lnTo>
                <a:lnTo>
                  <a:pt x="670678" y="707554"/>
                </a:lnTo>
                <a:lnTo>
                  <a:pt x="699952" y="729126"/>
                </a:lnTo>
                <a:lnTo>
                  <a:pt x="729907" y="750470"/>
                </a:lnTo>
                <a:lnTo>
                  <a:pt x="745338" y="761369"/>
                </a:lnTo>
                <a:lnTo>
                  <a:pt x="760769" y="771814"/>
                </a:lnTo>
                <a:lnTo>
                  <a:pt x="776428" y="782259"/>
                </a:lnTo>
                <a:lnTo>
                  <a:pt x="792313" y="792931"/>
                </a:lnTo>
                <a:lnTo>
                  <a:pt x="808198" y="803148"/>
                </a:lnTo>
                <a:lnTo>
                  <a:pt x="824537" y="813139"/>
                </a:lnTo>
                <a:lnTo>
                  <a:pt x="840649" y="822903"/>
                </a:lnTo>
                <a:lnTo>
                  <a:pt x="856988" y="832667"/>
                </a:lnTo>
                <a:lnTo>
                  <a:pt x="873781" y="841976"/>
                </a:lnTo>
                <a:lnTo>
                  <a:pt x="890120" y="851059"/>
                </a:lnTo>
                <a:lnTo>
                  <a:pt x="906913" y="859914"/>
                </a:lnTo>
                <a:lnTo>
                  <a:pt x="923706" y="868543"/>
                </a:lnTo>
                <a:lnTo>
                  <a:pt x="940725" y="876490"/>
                </a:lnTo>
                <a:lnTo>
                  <a:pt x="957518" y="884437"/>
                </a:lnTo>
                <a:lnTo>
                  <a:pt x="974538" y="891931"/>
                </a:lnTo>
                <a:lnTo>
                  <a:pt x="991785" y="898970"/>
                </a:lnTo>
                <a:lnTo>
                  <a:pt x="1008578" y="905327"/>
                </a:lnTo>
                <a:lnTo>
                  <a:pt x="1025824" y="911458"/>
                </a:lnTo>
                <a:lnTo>
                  <a:pt x="1287022" y="738208"/>
                </a:lnTo>
                <a:lnTo>
                  <a:pt x="1291106" y="735483"/>
                </a:lnTo>
                <a:lnTo>
                  <a:pt x="1295645" y="732986"/>
                </a:lnTo>
                <a:lnTo>
                  <a:pt x="1299957" y="730488"/>
                </a:lnTo>
                <a:lnTo>
                  <a:pt x="1304268" y="728444"/>
                </a:lnTo>
                <a:lnTo>
                  <a:pt x="1309034" y="726401"/>
                </a:lnTo>
                <a:lnTo>
                  <a:pt x="1313573" y="724357"/>
                </a:lnTo>
                <a:lnTo>
                  <a:pt x="1318111" y="722768"/>
                </a:lnTo>
                <a:lnTo>
                  <a:pt x="1322877" y="721178"/>
                </a:lnTo>
                <a:lnTo>
                  <a:pt x="1327415" y="719816"/>
                </a:lnTo>
                <a:lnTo>
                  <a:pt x="1332181" y="718681"/>
                </a:lnTo>
                <a:lnTo>
                  <a:pt x="1337173" y="717545"/>
                </a:lnTo>
                <a:lnTo>
                  <a:pt x="1341712" y="716637"/>
                </a:lnTo>
                <a:lnTo>
                  <a:pt x="1346704" y="716183"/>
                </a:lnTo>
                <a:lnTo>
                  <a:pt x="1351470" y="715275"/>
                </a:lnTo>
                <a:lnTo>
                  <a:pt x="1356463" y="715048"/>
                </a:lnTo>
                <a:lnTo>
                  <a:pt x="1361228" y="714820"/>
                </a:lnTo>
                <a:lnTo>
                  <a:pt x="1366221" y="714820"/>
                </a:lnTo>
                <a:lnTo>
                  <a:pt x="1370986" y="715048"/>
                </a:lnTo>
                <a:lnTo>
                  <a:pt x="1375979" y="715275"/>
                </a:lnTo>
                <a:lnTo>
                  <a:pt x="1380744" y="715956"/>
                </a:lnTo>
                <a:lnTo>
                  <a:pt x="1385737" y="716410"/>
                </a:lnTo>
                <a:lnTo>
                  <a:pt x="1390275" y="717091"/>
                </a:lnTo>
                <a:lnTo>
                  <a:pt x="1395041" y="718226"/>
                </a:lnTo>
                <a:lnTo>
                  <a:pt x="1400033" y="719135"/>
                </a:lnTo>
                <a:lnTo>
                  <a:pt x="1404572" y="720497"/>
                </a:lnTo>
                <a:lnTo>
                  <a:pt x="1409564" y="722087"/>
                </a:lnTo>
                <a:lnTo>
                  <a:pt x="1414103" y="723903"/>
                </a:lnTo>
                <a:lnTo>
                  <a:pt x="1418868" y="725720"/>
                </a:lnTo>
                <a:lnTo>
                  <a:pt x="1423180" y="727309"/>
                </a:lnTo>
                <a:lnTo>
                  <a:pt x="1427719" y="729807"/>
                </a:lnTo>
                <a:lnTo>
                  <a:pt x="1432030" y="732077"/>
                </a:lnTo>
                <a:lnTo>
                  <a:pt x="1436569" y="734575"/>
                </a:lnTo>
                <a:lnTo>
                  <a:pt x="1907904" y="1014772"/>
                </a:lnTo>
                <a:lnTo>
                  <a:pt x="1913804" y="1018632"/>
                </a:lnTo>
                <a:lnTo>
                  <a:pt x="1919705" y="1022719"/>
                </a:lnTo>
                <a:lnTo>
                  <a:pt x="1925378" y="1027034"/>
                </a:lnTo>
                <a:lnTo>
                  <a:pt x="1930597" y="1031575"/>
                </a:lnTo>
                <a:lnTo>
                  <a:pt x="1935590" y="1036570"/>
                </a:lnTo>
                <a:lnTo>
                  <a:pt x="1940355" y="1041793"/>
                </a:lnTo>
                <a:lnTo>
                  <a:pt x="1945121" y="1046788"/>
                </a:lnTo>
                <a:lnTo>
                  <a:pt x="1949206" y="1052238"/>
                </a:lnTo>
                <a:lnTo>
                  <a:pt x="1953063" y="1057914"/>
                </a:lnTo>
                <a:lnTo>
                  <a:pt x="1956694" y="1063591"/>
                </a:lnTo>
                <a:lnTo>
                  <a:pt x="1959871" y="1069495"/>
                </a:lnTo>
                <a:lnTo>
                  <a:pt x="1963048" y="1075625"/>
                </a:lnTo>
                <a:lnTo>
                  <a:pt x="1965771" y="1081756"/>
                </a:lnTo>
                <a:lnTo>
                  <a:pt x="1968268" y="1088114"/>
                </a:lnTo>
                <a:lnTo>
                  <a:pt x="1970310" y="1094472"/>
                </a:lnTo>
                <a:lnTo>
                  <a:pt x="1972352" y="1101057"/>
                </a:lnTo>
                <a:lnTo>
                  <a:pt x="1973487" y="1107641"/>
                </a:lnTo>
                <a:lnTo>
                  <a:pt x="1974849" y="1113999"/>
                </a:lnTo>
                <a:lnTo>
                  <a:pt x="1975529" y="1120811"/>
                </a:lnTo>
                <a:lnTo>
                  <a:pt x="1976437" y="1127623"/>
                </a:lnTo>
                <a:lnTo>
                  <a:pt x="1976437" y="1134435"/>
                </a:lnTo>
                <a:lnTo>
                  <a:pt x="1976437" y="1141247"/>
                </a:lnTo>
                <a:lnTo>
                  <a:pt x="1975983" y="1148059"/>
                </a:lnTo>
                <a:lnTo>
                  <a:pt x="1975076" y="1154871"/>
                </a:lnTo>
                <a:lnTo>
                  <a:pt x="1974168" y="1161683"/>
                </a:lnTo>
                <a:lnTo>
                  <a:pt x="1972806" y="1168268"/>
                </a:lnTo>
                <a:lnTo>
                  <a:pt x="1970991" y="1174852"/>
                </a:lnTo>
                <a:lnTo>
                  <a:pt x="1968722" y="1181664"/>
                </a:lnTo>
                <a:lnTo>
                  <a:pt x="1966452" y="1188249"/>
                </a:lnTo>
                <a:lnTo>
                  <a:pt x="1963502" y="1194607"/>
                </a:lnTo>
                <a:lnTo>
                  <a:pt x="1960325" y="1201192"/>
                </a:lnTo>
                <a:lnTo>
                  <a:pt x="1956921" y="1207550"/>
                </a:lnTo>
                <a:lnTo>
                  <a:pt x="1954425" y="1211637"/>
                </a:lnTo>
                <a:lnTo>
                  <a:pt x="1951475" y="1215497"/>
                </a:lnTo>
                <a:lnTo>
                  <a:pt x="1948979" y="1219357"/>
                </a:lnTo>
                <a:lnTo>
                  <a:pt x="1946028" y="1223217"/>
                </a:lnTo>
                <a:lnTo>
                  <a:pt x="1943078" y="1226850"/>
                </a:lnTo>
                <a:lnTo>
                  <a:pt x="1939901" y="1230029"/>
                </a:lnTo>
                <a:lnTo>
                  <a:pt x="1933547" y="1236841"/>
                </a:lnTo>
                <a:lnTo>
                  <a:pt x="1926966" y="1242972"/>
                </a:lnTo>
                <a:lnTo>
                  <a:pt x="1919705" y="1248648"/>
                </a:lnTo>
                <a:lnTo>
                  <a:pt x="1912216" y="1253871"/>
                </a:lnTo>
                <a:lnTo>
                  <a:pt x="1904500" y="1258412"/>
                </a:lnTo>
                <a:lnTo>
                  <a:pt x="1896558" y="1262499"/>
                </a:lnTo>
                <a:lnTo>
                  <a:pt x="1888388" y="1266132"/>
                </a:lnTo>
                <a:lnTo>
                  <a:pt x="1879992" y="1269084"/>
                </a:lnTo>
                <a:lnTo>
                  <a:pt x="1871141" y="1271809"/>
                </a:lnTo>
                <a:lnTo>
                  <a:pt x="1862518" y="1273852"/>
                </a:lnTo>
                <a:lnTo>
                  <a:pt x="1853668" y="1274988"/>
                </a:lnTo>
                <a:lnTo>
                  <a:pt x="1844817" y="1275896"/>
                </a:lnTo>
                <a:lnTo>
                  <a:pt x="1835740" y="1276350"/>
                </a:lnTo>
                <a:lnTo>
                  <a:pt x="1826890" y="1275896"/>
                </a:lnTo>
                <a:lnTo>
                  <a:pt x="1817586" y="1274988"/>
                </a:lnTo>
                <a:lnTo>
                  <a:pt x="1812820" y="1274307"/>
                </a:lnTo>
                <a:lnTo>
                  <a:pt x="1808282" y="1273625"/>
                </a:lnTo>
                <a:lnTo>
                  <a:pt x="1803970" y="1272490"/>
                </a:lnTo>
                <a:lnTo>
                  <a:pt x="1799431" y="1271582"/>
                </a:lnTo>
                <a:lnTo>
                  <a:pt x="1794666" y="1270219"/>
                </a:lnTo>
                <a:lnTo>
                  <a:pt x="1790354" y="1268630"/>
                </a:lnTo>
                <a:lnTo>
                  <a:pt x="1786042" y="1267041"/>
                </a:lnTo>
                <a:lnTo>
                  <a:pt x="1781277" y="1265224"/>
                </a:lnTo>
                <a:lnTo>
                  <a:pt x="1776965" y="1263180"/>
                </a:lnTo>
                <a:lnTo>
                  <a:pt x="1772653" y="1261137"/>
                </a:lnTo>
                <a:lnTo>
                  <a:pt x="1768569" y="1258866"/>
                </a:lnTo>
                <a:lnTo>
                  <a:pt x="1764257" y="1256596"/>
                </a:lnTo>
                <a:lnTo>
                  <a:pt x="1368717" y="1021357"/>
                </a:lnTo>
                <a:lnTo>
                  <a:pt x="1047156" y="1235024"/>
                </a:lnTo>
                <a:lnTo>
                  <a:pt x="1041710" y="1238430"/>
                </a:lnTo>
                <a:lnTo>
                  <a:pt x="1036717" y="1241155"/>
                </a:lnTo>
                <a:lnTo>
                  <a:pt x="1031271" y="1244107"/>
                </a:lnTo>
                <a:lnTo>
                  <a:pt x="1025824" y="1246605"/>
                </a:lnTo>
                <a:lnTo>
                  <a:pt x="1020151" y="1248875"/>
                </a:lnTo>
                <a:lnTo>
                  <a:pt x="1014932" y="1250692"/>
                </a:lnTo>
                <a:lnTo>
                  <a:pt x="1009259" y="1252508"/>
                </a:lnTo>
                <a:lnTo>
                  <a:pt x="1003585" y="1254098"/>
                </a:lnTo>
                <a:lnTo>
                  <a:pt x="994054" y="1257504"/>
                </a:lnTo>
                <a:lnTo>
                  <a:pt x="984523" y="1260683"/>
                </a:lnTo>
                <a:lnTo>
                  <a:pt x="974538" y="1263407"/>
                </a:lnTo>
                <a:lnTo>
                  <a:pt x="964553" y="1266132"/>
                </a:lnTo>
                <a:lnTo>
                  <a:pt x="954341" y="1268176"/>
                </a:lnTo>
                <a:lnTo>
                  <a:pt x="943676" y="1269992"/>
                </a:lnTo>
                <a:lnTo>
                  <a:pt x="933010" y="1271128"/>
                </a:lnTo>
                <a:lnTo>
                  <a:pt x="922117" y="1272036"/>
                </a:lnTo>
                <a:lnTo>
                  <a:pt x="910998" y="1272490"/>
                </a:lnTo>
                <a:lnTo>
                  <a:pt x="899651" y="1272490"/>
                </a:lnTo>
                <a:lnTo>
                  <a:pt x="888078" y="1272036"/>
                </a:lnTo>
                <a:lnTo>
                  <a:pt x="876504" y="1270901"/>
                </a:lnTo>
                <a:lnTo>
                  <a:pt x="864704" y="1269311"/>
                </a:lnTo>
                <a:lnTo>
                  <a:pt x="852676" y="1267268"/>
                </a:lnTo>
                <a:lnTo>
                  <a:pt x="840422" y="1264770"/>
                </a:lnTo>
                <a:lnTo>
                  <a:pt x="827941" y="1262045"/>
                </a:lnTo>
                <a:lnTo>
                  <a:pt x="806836" y="1254325"/>
                </a:lnTo>
                <a:lnTo>
                  <a:pt x="785959" y="1246832"/>
                </a:lnTo>
                <a:lnTo>
                  <a:pt x="765989" y="1239112"/>
                </a:lnTo>
                <a:lnTo>
                  <a:pt x="746246" y="1231391"/>
                </a:lnTo>
                <a:lnTo>
                  <a:pt x="748288" y="1227304"/>
                </a:lnTo>
                <a:lnTo>
                  <a:pt x="750331" y="1222990"/>
                </a:lnTo>
                <a:lnTo>
                  <a:pt x="751919" y="1218676"/>
                </a:lnTo>
                <a:lnTo>
                  <a:pt x="753281" y="1214135"/>
                </a:lnTo>
                <a:lnTo>
                  <a:pt x="754869" y="1209593"/>
                </a:lnTo>
                <a:lnTo>
                  <a:pt x="756004" y="1205052"/>
                </a:lnTo>
                <a:lnTo>
                  <a:pt x="756912" y="1200057"/>
                </a:lnTo>
                <a:lnTo>
                  <a:pt x="757819" y="1195515"/>
                </a:lnTo>
                <a:lnTo>
                  <a:pt x="758273" y="1189839"/>
                </a:lnTo>
                <a:lnTo>
                  <a:pt x="758500" y="1184162"/>
                </a:lnTo>
                <a:lnTo>
                  <a:pt x="758500" y="1178713"/>
                </a:lnTo>
                <a:lnTo>
                  <a:pt x="758500" y="1173036"/>
                </a:lnTo>
                <a:lnTo>
                  <a:pt x="758046" y="1167813"/>
                </a:lnTo>
                <a:lnTo>
                  <a:pt x="757139" y="1162364"/>
                </a:lnTo>
                <a:lnTo>
                  <a:pt x="756231" y="1156914"/>
                </a:lnTo>
                <a:lnTo>
                  <a:pt x="754869" y="1151465"/>
                </a:lnTo>
                <a:lnTo>
                  <a:pt x="753281" y="1146469"/>
                </a:lnTo>
                <a:lnTo>
                  <a:pt x="751465" y="1141020"/>
                </a:lnTo>
                <a:lnTo>
                  <a:pt x="749423" y="1136252"/>
                </a:lnTo>
                <a:lnTo>
                  <a:pt x="747154" y="1131029"/>
                </a:lnTo>
                <a:lnTo>
                  <a:pt x="744657" y="1126261"/>
                </a:lnTo>
                <a:lnTo>
                  <a:pt x="741707" y="1121492"/>
                </a:lnTo>
                <a:lnTo>
                  <a:pt x="738757" y="1116724"/>
                </a:lnTo>
                <a:lnTo>
                  <a:pt x="735353" y="1112183"/>
                </a:lnTo>
                <a:lnTo>
                  <a:pt x="731722" y="1107869"/>
                </a:lnTo>
                <a:lnTo>
                  <a:pt x="728091" y="1103554"/>
                </a:lnTo>
                <a:lnTo>
                  <a:pt x="724460" y="1099694"/>
                </a:lnTo>
                <a:lnTo>
                  <a:pt x="720149" y="1095834"/>
                </a:lnTo>
                <a:lnTo>
                  <a:pt x="716064" y="1092428"/>
                </a:lnTo>
                <a:lnTo>
                  <a:pt x="711752" y="1089249"/>
                </a:lnTo>
                <a:lnTo>
                  <a:pt x="707214" y="1086070"/>
                </a:lnTo>
                <a:lnTo>
                  <a:pt x="702448" y="1083346"/>
                </a:lnTo>
                <a:lnTo>
                  <a:pt x="697683" y="1080394"/>
                </a:lnTo>
                <a:lnTo>
                  <a:pt x="692690" y="1078123"/>
                </a:lnTo>
                <a:lnTo>
                  <a:pt x="687698" y="1076080"/>
                </a:lnTo>
                <a:lnTo>
                  <a:pt x="682478" y="1074036"/>
                </a:lnTo>
                <a:lnTo>
                  <a:pt x="677486" y="1072447"/>
                </a:lnTo>
                <a:lnTo>
                  <a:pt x="672039" y="1071311"/>
                </a:lnTo>
                <a:lnTo>
                  <a:pt x="666593" y="1069949"/>
                </a:lnTo>
                <a:lnTo>
                  <a:pt x="660920" y="1069041"/>
                </a:lnTo>
                <a:lnTo>
                  <a:pt x="409481" y="1035662"/>
                </a:lnTo>
                <a:lnTo>
                  <a:pt x="396092" y="1024536"/>
                </a:lnTo>
                <a:lnTo>
                  <a:pt x="382703" y="1012956"/>
                </a:lnTo>
                <a:lnTo>
                  <a:pt x="467802" y="783848"/>
                </a:lnTo>
                <a:lnTo>
                  <a:pt x="469617" y="778398"/>
                </a:lnTo>
                <a:lnTo>
                  <a:pt x="470979" y="773176"/>
                </a:lnTo>
                <a:lnTo>
                  <a:pt x="472340" y="767726"/>
                </a:lnTo>
                <a:lnTo>
                  <a:pt x="473475" y="762277"/>
                </a:lnTo>
                <a:lnTo>
                  <a:pt x="474156" y="756827"/>
                </a:lnTo>
                <a:lnTo>
                  <a:pt x="474610" y="751378"/>
                </a:lnTo>
                <a:lnTo>
                  <a:pt x="474610" y="745928"/>
                </a:lnTo>
                <a:lnTo>
                  <a:pt x="474610" y="740479"/>
                </a:lnTo>
                <a:lnTo>
                  <a:pt x="474383" y="735029"/>
                </a:lnTo>
                <a:lnTo>
                  <a:pt x="473702" y="729353"/>
                </a:lnTo>
                <a:lnTo>
                  <a:pt x="472794" y="724130"/>
                </a:lnTo>
                <a:lnTo>
                  <a:pt x="471887" y="718681"/>
                </a:lnTo>
                <a:lnTo>
                  <a:pt x="470298" y="713458"/>
                </a:lnTo>
                <a:lnTo>
                  <a:pt x="468483" y="708236"/>
                </a:lnTo>
                <a:lnTo>
                  <a:pt x="466667" y="703013"/>
                </a:lnTo>
                <a:lnTo>
                  <a:pt x="464398" y="697791"/>
                </a:lnTo>
                <a:lnTo>
                  <a:pt x="462129" y="692795"/>
                </a:lnTo>
                <a:lnTo>
                  <a:pt x="459178" y="687800"/>
                </a:lnTo>
                <a:lnTo>
                  <a:pt x="456455" y="683259"/>
                </a:lnTo>
                <a:lnTo>
                  <a:pt x="453278" y="678717"/>
                </a:lnTo>
                <a:lnTo>
                  <a:pt x="450101" y="674176"/>
                </a:lnTo>
                <a:lnTo>
                  <a:pt x="446470" y="669862"/>
                </a:lnTo>
                <a:lnTo>
                  <a:pt x="442613" y="666002"/>
                </a:lnTo>
                <a:lnTo>
                  <a:pt x="438755" y="662142"/>
                </a:lnTo>
                <a:lnTo>
                  <a:pt x="434670" y="658509"/>
                </a:lnTo>
                <a:lnTo>
                  <a:pt x="430358" y="655329"/>
                </a:lnTo>
                <a:lnTo>
                  <a:pt x="425820" y="651923"/>
                </a:lnTo>
                <a:lnTo>
                  <a:pt x="421281" y="648745"/>
                </a:lnTo>
                <a:lnTo>
                  <a:pt x="416516" y="646247"/>
                </a:lnTo>
                <a:lnTo>
                  <a:pt x="411523" y="643749"/>
                </a:lnTo>
                <a:lnTo>
                  <a:pt x="406304" y="641479"/>
                </a:lnTo>
                <a:lnTo>
                  <a:pt x="401311" y="639435"/>
                </a:lnTo>
                <a:lnTo>
                  <a:pt x="396546" y="637618"/>
                </a:lnTo>
                <a:lnTo>
                  <a:pt x="391780" y="636256"/>
                </a:lnTo>
                <a:lnTo>
                  <a:pt x="387015" y="634894"/>
                </a:lnTo>
                <a:lnTo>
                  <a:pt x="382022" y="633985"/>
                </a:lnTo>
                <a:lnTo>
                  <a:pt x="377256" y="633077"/>
                </a:lnTo>
                <a:lnTo>
                  <a:pt x="372264" y="632623"/>
                </a:lnTo>
                <a:lnTo>
                  <a:pt x="367498" y="632396"/>
                </a:lnTo>
                <a:lnTo>
                  <a:pt x="362279" y="632169"/>
                </a:lnTo>
                <a:lnTo>
                  <a:pt x="357967" y="632396"/>
                </a:lnTo>
                <a:lnTo>
                  <a:pt x="353656" y="632623"/>
                </a:lnTo>
                <a:lnTo>
                  <a:pt x="349117" y="632850"/>
                </a:lnTo>
                <a:lnTo>
                  <a:pt x="345032" y="633758"/>
                </a:lnTo>
                <a:lnTo>
                  <a:pt x="340721" y="634440"/>
                </a:lnTo>
                <a:lnTo>
                  <a:pt x="336636" y="635348"/>
                </a:lnTo>
                <a:lnTo>
                  <a:pt x="332551" y="636256"/>
                </a:lnTo>
                <a:lnTo>
                  <a:pt x="328466" y="637618"/>
                </a:lnTo>
                <a:lnTo>
                  <a:pt x="324382" y="638754"/>
                </a:lnTo>
                <a:lnTo>
                  <a:pt x="320524" y="640343"/>
                </a:lnTo>
                <a:lnTo>
                  <a:pt x="316666" y="642160"/>
                </a:lnTo>
                <a:lnTo>
                  <a:pt x="312808" y="643976"/>
                </a:lnTo>
                <a:lnTo>
                  <a:pt x="308950" y="645793"/>
                </a:lnTo>
                <a:lnTo>
                  <a:pt x="305319" y="647836"/>
                </a:lnTo>
                <a:lnTo>
                  <a:pt x="301689" y="650107"/>
                </a:lnTo>
                <a:lnTo>
                  <a:pt x="298058" y="652378"/>
                </a:lnTo>
                <a:lnTo>
                  <a:pt x="294881" y="655102"/>
                </a:lnTo>
                <a:lnTo>
                  <a:pt x="291477" y="657600"/>
                </a:lnTo>
                <a:lnTo>
                  <a:pt x="288073" y="660325"/>
                </a:lnTo>
                <a:lnTo>
                  <a:pt x="285123" y="663277"/>
                </a:lnTo>
                <a:lnTo>
                  <a:pt x="281946" y="666002"/>
                </a:lnTo>
                <a:lnTo>
                  <a:pt x="279222" y="669181"/>
                </a:lnTo>
                <a:lnTo>
                  <a:pt x="276272" y="672359"/>
                </a:lnTo>
                <a:lnTo>
                  <a:pt x="273776" y="675765"/>
                </a:lnTo>
                <a:lnTo>
                  <a:pt x="271280" y="679171"/>
                </a:lnTo>
                <a:lnTo>
                  <a:pt x="268557" y="682804"/>
                </a:lnTo>
                <a:lnTo>
                  <a:pt x="266287" y="686437"/>
                </a:lnTo>
                <a:lnTo>
                  <a:pt x="264245" y="689843"/>
                </a:lnTo>
                <a:lnTo>
                  <a:pt x="262203" y="693704"/>
                </a:lnTo>
                <a:lnTo>
                  <a:pt x="260160" y="697564"/>
                </a:lnTo>
                <a:lnTo>
                  <a:pt x="258572" y="701651"/>
                </a:lnTo>
                <a:lnTo>
                  <a:pt x="256756" y="705511"/>
                </a:lnTo>
                <a:lnTo>
                  <a:pt x="217270" y="812458"/>
                </a:lnTo>
                <a:lnTo>
                  <a:pt x="214547" y="803830"/>
                </a:lnTo>
                <a:lnTo>
                  <a:pt x="211824" y="795655"/>
                </a:lnTo>
                <a:lnTo>
                  <a:pt x="209782" y="787254"/>
                </a:lnTo>
                <a:lnTo>
                  <a:pt x="207739" y="779080"/>
                </a:lnTo>
                <a:lnTo>
                  <a:pt x="205924" y="770905"/>
                </a:lnTo>
                <a:lnTo>
                  <a:pt x="204789" y="762504"/>
                </a:lnTo>
                <a:lnTo>
                  <a:pt x="203428" y="754330"/>
                </a:lnTo>
                <a:lnTo>
                  <a:pt x="202747" y="746382"/>
                </a:lnTo>
                <a:lnTo>
                  <a:pt x="202066" y="738435"/>
                </a:lnTo>
                <a:lnTo>
                  <a:pt x="201612" y="730488"/>
                </a:lnTo>
                <a:lnTo>
                  <a:pt x="201612" y="722541"/>
                </a:lnTo>
                <a:lnTo>
                  <a:pt x="201839" y="714820"/>
                </a:lnTo>
                <a:lnTo>
                  <a:pt x="202066" y="706873"/>
                </a:lnTo>
                <a:lnTo>
                  <a:pt x="202974" y="699380"/>
                </a:lnTo>
                <a:lnTo>
                  <a:pt x="203655" y="691660"/>
                </a:lnTo>
                <a:lnTo>
                  <a:pt x="205016" y="684167"/>
                </a:lnTo>
                <a:lnTo>
                  <a:pt x="206151" y="677128"/>
                </a:lnTo>
                <a:lnTo>
                  <a:pt x="207739" y="669862"/>
                </a:lnTo>
                <a:lnTo>
                  <a:pt x="209555" y="662596"/>
                </a:lnTo>
                <a:lnTo>
                  <a:pt x="211370" y="655784"/>
                </a:lnTo>
                <a:lnTo>
                  <a:pt x="213639" y="648745"/>
                </a:lnTo>
                <a:lnTo>
                  <a:pt x="215909" y="642160"/>
                </a:lnTo>
                <a:lnTo>
                  <a:pt x="218632" y="635802"/>
                </a:lnTo>
                <a:lnTo>
                  <a:pt x="221355" y="629217"/>
                </a:lnTo>
                <a:lnTo>
                  <a:pt x="224305" y="622859"/>
                </a:lnTo>
                <a:lnTo>
                  <a:pt x="227255" y="616956"/>
                </a:lnTo>
                <a:lnTo>
                  <a:pt x="230659" y="611052"/>
                </a:lnTo>
                <a:lnTo>
                  <a:pt x="234063" y="605148"/>
                </a:lnTo>
                <a:lnTo>
                  <a:pt x="237467" y="599472"/>
                </a:lnTo>
                <a:lnTo>
                  <a:pt x="241325" y="594249"/>
                </a:lnTo>
                <a:lnTo>
                  <a:pt x="245183" y="589027"/>
                </a:lnTo>
                <a:lnTo>
                  <a:pt x="249268" y="584031"/>
                </a:lnTo>
                <a:lnTo>
                  <a:pt x="252445" y="580625"/>
                </a:lnTo>
                <a:lnTo>
                  <a:pt x="255622" y="577219"/>
                </a:lnTo>
                <a:lnTo>
                  <a:pt x="258799" y="574040"/>
                </a:lnTo>
                <a:lnTo>
                  <a:pt x="262203" y="571089"/>
                </a:lnTo>
                <a:lnTo>
                  <a:pt x="265607" y="567910"/>
                </a:lnTo>
                <a:lnTo>
                  <a:pt x="269011" y="565185"/>
                </a:lnTo>
                <a:lnTo>
                  <a:pt x="272641" y="562460"/>
                </a:lnTo>
                <a:lnTo>
                  <a:pt x="276499" y="559962"/>
                </a:lnTo>
                <a:lnTo>
                  <a:pt x="280357" y="557692"/>
                </a:lnTo>
                <a:lnTo>
                  <a:pt x="284215" y="555421"/>
                </a:lnTo>
                <a:lnTo>
                  <a:pt x="292157" y="551334"/>
                </a:lnTo>
                <a:lnTo>
                  <a:pt x="300327" y="547701"/>
                </a:lnTo>
                <a:lnTo>
                  <a:pt x="309177" y="544522"/>
                </a:lnTo>
                <a:lnTo>
                  <a:pt x="318028" y="542024"/>
                </a:lnTo>
                <a:lnTo>
                  <a:pt x="327105" y="539981"/>
                </a:lnTo>
                <a:lnTo>
                  <a:pt x="336409" y="538391"/>
                </a:lnTo>
                <a:lnTo>
                  <a:pt x="345940" y="537483"/>
                </a:lnTo>
                <a:lnTo>
                  <a:pt x="355698" y="536802"/>
                </a:lnTo>
                <a:lnTo>
                  <a:pt x="365456" y="536575"/>
                </a:lnTo>
                <a:close/>
                <a:moveTo>
                  <a:pt x="256728" y="0"/>
                </a:moveTo>
                <a:lnTo>
                  <a:pt x="268769" y="453"/>
                </a:lnTo>
                <a:lnTo>
                  <a:pt x="280811" y="1585"/>
                </a:lnTo>
                <a:lnTo>
                  <a:pt x="292852" y="3396"/>
                </a:lnTo>
                <a:lnTo>
                  <a:pt x="304893" y="5433"/>
                </a:lnTo>
                <a:lnTo>
                  <a:pt x="316707" y="8150"/>
                </a:lnTo>
                <a:lnTo>
                  <a:pt x="328294" y="11545"/>
                </a:lnTo>
                <a:lnTo>
                  <a:pt x="339881" y="15394"/>
                </a:lnTo>
                <a:lnTo>
                  <a:pt x="351240" y="19695"/>
                </a:lnTo>
                <a:lnTo>
                  <a:pt x="362600" y="24902"/>
                </a:lnTo>
                <a:lnTo>
                  <a:pt x="373278" y="30335"/>
                </a:lnTo>
                <a:lnTo>
                  <a:pt x="384183" y="36447"/>
                </a:lnTo>
                <a:lnTo>
                  <a:pt x="394407" y="42785"/>
                </a:lnTo>
                <a:lnTo>
                  <a:pt x="404404" y="50030"/>
                </a:lnTo>
                <a:lnTo>
                  <a:pt x="414173" y="57726"/>
                </a:lnTo>
                <a:lnTo>
                  <a:pt x="418944" y="61801"/>
                </a:lnTo>
                <a:lnTo>
                  <a:pt x="423715" y="65876"/>
                </a:lnTo>
                <a:lnTo>
                  <a:pt x="428259" y="70177"/>
                </a:lnTo>
                <a:lnTo>
                  <a:pt x="432575" y="74479"/>
                </a:lnTo>
                <a:lnTo>
                  <a:pt x="436892" y="78780"/>
                </a:lnTo>
                <a:lnTo>
                  <a:pt x="441436" y="83760"/>
                </a:lnTo>
                <a:lnTo>
                  <a:pt x="445753" y="88288"/>
                </a:lnTo>
                <a:lnTo>
                  <a:pt x="449842" y="93268"/>
                </a:lnTo>
                <a:lnTo>
                  <a:pt x="453704" y="98248"/>
                </a:lnTo>
                <a:lnTo>
                  <a:pt x="457567" y="103455"/>
                </a:lnTo>
                <a:lnTo>
                  <a:pt x="461429" y="108888"/>
                </a:lnTo>
                <a:lnTo>
                  <a:pt x="465064" y="114095"/>
                </a:lnTo>
                <a:lnTo>
                  <a:pt x="468699" y="119528"/>
                </a:lnTo>
                <a:lnTo>
                  <a:pt x="471880" y="125187"/>
                </a:lnTo>
                <a:lnTo>
                  <a:pt x="475061" y="130847"/>
                </a:lnTo>
                <a:lnTo>
                  <a:pt x="478014" y="136506"/>
                </a:lnTo>
                <a:lnTo>
                  <a:pt x="480968" y="142166"/>
                </a:lnTo>
                <a:lnTo>
                  <a:pt x="483694" y="148052"/>
                </a:lnTo>
                <a:lnTo>
                  <a:pt x="486420" y="153711"/>
                </a:lnTo>
                <a:lnTo>
                  <a:pt x="488692" y="159597"/>
                </a:lnTo>
                <a:lnTo>
                  <a:pt x="490964" y="165483"/>
                </a:lnTo>
                <a:lnTo>
                  <a:pt x="493009" y="171369"/>
                </a:lnTo>
                <a:lnTo>
                  <a:pt x="495053" y="177255"/>
                </a:lnTo>
                <a:lnTo>
                  <a:pt x="496644" y="183140"/>
                </a:lnTo>
                <a:lnTo>
                  <a:pt x="500052" y="195138"/>
                </a:lnTo>
                <a:lnTo>
                  <a:pt x="502324" y="207137"/>
                </a:lnTo>
                <a:lnTo>
                  <a:pt x="504368" y="219361"/>
                </a:lnTo>
                <a:lnTo>
                  <a:pt x="505504" y="231359"/>
                </a:lnTo>
                <a:lnTo>
                  <a:pt x="506413" y="243810"/>
                </a:lnTo>
                <a:lnTo>
                  <a:pt x="506413" y="255808"/>
                </a:lnTo>
                <a:lnTo>
                  <a:pt x="505959" y="267806"/>
                </a:lnTo>
                <a:lnTo>
                  <a:pt x="504823" y="280031"/>
                </a:lnTo>
                <a:lnTo>
                  <a:pt x="503232" y="292029"/>
                </a:lnTo>
                <a:lnTo>
                  <a:pt x="500961" y="303800"/>
                </a:lnTo>
                <a:lnTo>
                  <a:pt x="498461" y="315572"/>
                </a:lnTo>
                <a:lnTo>
                  <a:pt x="495053" y="327344"/>
                </a:lnTo>
                <a:lnTo>
                  <a:pt x="491191" y="338663"/>
                </a:lnTo>
                <a:lnTo>
                  <a:pt x="486647" y="350208"/>
                </a:lnTo>
                <a:lnTo>
                  <a:pt x="481649" y="361301"/>
                </a:lnTo>
                <a:lnTo>
                  <a:pt x="475969" y="371940"/>
                </a:lnTo>
                <a:lnTo>
                  <a:pt x="470062" y="382807"/>
                </a:lnTo>
                <a:lnTo>
                  <a:pt x="463474" y="392994"/>
                </a:lnTo>
                <a:lnTo>
                  <a:pt x="456204" y="403181"/>
                </a:lnTo>
                <a:lnTo>
                  <a:pt x="448933" y="412915"/>
                </a:lnTo>
                <a:lnTo>
                  <a:pt x="444617" y="417443"/>
                </a:lnTo>
                <a:lnTo>
                  <a:pt x="440527" y="422197"/>
                </a:lnTo>
                <a:lnTo>
                  <a:pt x="436211" y="426724"/>
                </a:lnTo>
                <a:lnTo>
                  <a:pt x="431894" y="431252"/>
                </a:lnTo>
                <a:lnTo>
                  <a:pt x="427350" y="435779"/>
                </a:lnTo>
                <a:lnTo>
                  <a:pt x="422579" y="440080"/>
                </a:lnTo>
                <a:lnTo>
                  <a:pt x="417808" y="444155"/>
                </a:lnTo>
                <a:lnTo>
                  <a:pt x="412810" y="448230"/>
                </a:lnTo>
                <a:lnTo>
                  <a:pt x="408039" y="452079"/>
                </a:lnTo>
                <a:lnTo>
                  <a:pt x="402586" y="455927"/>
                </a:lnTo>
                <a:lnTo>
                  <a:pt x="397361" y="459775"/>
                </a:lnTo>
                <a:lnTo>
                  <a:pt x="392135" y="463398"/>
                </a:lnTo>
                <a:lnTo>
                  <a:pt x="386455" y="467020"/>
                </a:lnTo>
                <a:lnTo>
                  <a:pt x="381003" y="470189"/>
                </a:lnTo>
                <a:lnTo>
                  <a:pt x="375323" y="473358"/>
                </a:lnTo>
                <a:lnTo>
                  <a:pt x="369643" y="476301"/>
                </a:lnTo>
                <a:lnTo>
                  <a:pt x="363736" y="479470"/>
                </a:lnTo>
                <a:lnTo>
                  <a:pt x="358056" y="481961"/>
                </a:lnTo>
                <a:lnTo>
                  <a:pt x="352149" y="484677"/>
                </a:lnTo>
                <a:lnTo>
                  <a:pt x="346469" y="486941"/>
                </a:lnTo>
                <a:lnTo>
                  <a:pt x="340562" y="489205"/>
                </a:lnTo>
                <a:lnTo>
                  <a:pt x="334655" y="491242"/>
                </a:lnTo>
                <a:lnTo>
                  <a:pt x="328748" y="493280"/>
                </a:lnTo>
                <a:lnTo>
                  <a:pt x="322614" y="495091"/>
                </a:lnTo>
                <a:lnTo>
                  <a:pt x="310800" y="498260"/>
                </a:lnTo>
                <a:lnTo>
                  <a:pt x="298532" y="500750"/>
                </a:lnTo>
                <a:lnTo>
                  <a:pt x="286490" y="502561"/>
                </a:lnTo>
                <a:lnTo>
                  <a:pt x="274449" y="503693"/>
                </a:lnTo>
                <a:lnTo>
                  <a:pt x="261954" y="504598"/>
                </a:lnTo>
                <a:lnTo>
                  <a:pt x="249912" y="504825"/>
                </a:lnTo>
                <a:lnTo>
                  <a:pt x="237644" y="504372"/>
                </a:lnTo>
                <a:lnTo>
                  <a:pt x="225603" y="503240"/>
                </a:lnTo>
                <a:lnTo>
                  <a:pt x="213561" y="501429"/>
                </a:lnTo>
                <a:lnTo>
                  <a:pt x="201747" y="499392"/>
                </a:lnTo>
                <a:lnTo>
                  <a:pt x="189933" y="496675"/>
                </a:lnTo>
                <a:lnTo>
                  <a:pt x="178119" y="493280"/>
                </a:lnTo>
                <a:lnTo>
                  <a:pt x="166533" y="489431"/>
                </a:lnTo>
                <a:lnTo>
                  <a:pt x="155173" y="485130"/>
                </a:lnTo>
                <a:lnTo>
                  <a:pt x="144040" y="479923"/>
                </a:lnTo>
                <a:lnTo>
                  <a:pt x="133135" y="474716"/>
                </a:lnTo>
                <a:lnTo>
                  <a:pt x="122457" y="468378"/>
                </a:lnTo>
                <a:lnTo>
                  <a:pt x="112006" y="461813"/>
                </a:lnTo>
                <a:lnTo>
                  <a:pt x="102009" y="454795"/>
                </a:lnTo>
                <a:lnTo>
                  <a:pt x="92240" y="447325"/>
                </a:lnTo>
                <a:lnTo>
                  <a:pt x="87242" y="443023"/>
                </a:lnTo>
                <a:lnTo>
                  <a:pt x="82698" y="438949"/>
                </a:lnTo>
                <a:lnTo>
                  <a:pt x="78154" y="434647"/>
                </a:lnTo>
                <a:lnTo>
                  <a:pt x="73838" y="430346"/>
                </a:lnTo>
                <a:lnTo>
                  <a:pt x="69294" y="426045"/>
                </a:lnTo>
                <a:lnTo>
                  <a:pt x="64977" y="421065"/>
                </a:lnTo>
                <a:lnTo>
                  <a:pt x="60888" y="416537"/>
                </a:lnTo>
                <a:lnTo>
                  <a:pt x="56798" y="411557"/>
                </a:lnTo>
                <a:lnTo>
                  <a:pt x="52709" y="406576"/>
                </a:lnTo>
                <a:lnTo>
                  <a:pt x="48846" y="401370"/>
                </a:lnTo>
                <a:lnTo>
                  <a:pt x="44984" y="395937"/>
                </a:lnTo>
                <a:lnTo>
                  <a:pt x="41349" y="390730"/>
                </a:lnTo>
                <a:lnTo>
                  <a:pt x="37941" y="385297"/>
                </a:lnTo>
                <a:lnTo>
                  <a:pt x="34760" y="379637"/>
                </a:lnTo>
                <a:lnTo>
                  <a:pt x="31352" y="373978"/>
                </a:lnTo>
                <a:lnTo>
                  <a:pt x="28172" y="368318"/>
                </a:lnTo>
                <a:lnTo>
                  <a:pt x="25445" y="362659"/>
                </a:lnTo>
                <a:lnTo>
                  <a:pt x="22946" y="356773"/>
                </a:lnTo>
                <a:lnTo>
                  <a:pt x="20220" y="351114"/>
                </a:lnTo>
                <a:lnTo>
                  <a:pt x="17721" y="345228"/>
                </a:lnTo>
                <a:lnTo>
                  <a:pt x="15449" y="339342"/>
                </a:lnTo>
                <a:lnTo>
                  <a:pt x="13404" y="333456"/>
                </a:lnTo>
                <a:lnTo>
                  <a:pt x="11587" y="327570"/>
                </a:lnTo>
                <a:lnTo>
                  <a:pt x="9769" y="321684"/>
                </a:lnTo>
                <a:lnTo>
                  <a:pt x="6588" y="309686"/>
                </a:lnTo>
                <a:lnTo>
                  <a:pt x="4089" y="297688"/>
                </a:lnTo>
                <a:lnTo>
                  <a:pt x="2045" y="285464"/>
                </a:lnTo>
                <a:lnTo>
                  <a:pt x="681" y="273466"/>
                </a:lnTo>
                <a:lnTo>
                  <a:pt x="227" y="261015"/>
                </a:lnTo>
                <a:lnTo>
                  <a:pt x="0" y="249017"/>
                </a:lnTo>
                <a:lnTo>
                  <a:pt x="454" y="237019"/>
                </a:lnTo>
                <a:lnTo>
                  <a:pt x="1590" y="224794"/>
                </a:lnTo>
                <a:lnTo>
                  <a:pt x="3181" y="213022"/>
                </a:lnTo>
                <a:lnTo>
                  <a:pt x="5453" y="201024"/>
                </a:lnTo>
                <a:lnTo>
                  <a:pt x="8179" y="189253"/>
                </a:lnTo>
                <a:lnTo>
                  <a:pt x="11360" y="177481"/>
                </a:lnTo>
                <a:lnTo>
                  <a:pt x="15449" y="166162"/>
                </a:lnTo>
                <a:lnTo>
                  <a:pt x="19766" y="154617"/>
                </a:lnTo>
                <a:lnTo>
                  <a:pt x="24764" y="143524"/>
                </a:lnTo>
                <a:lnTo>
                  <a:pt x="30217" y="132884"/>
                </a:lnTo>
                <a:lnTo>
                  <a:pt x="36124" y="122018"/>
                </a:lnTo>
                <a:lnTo>
                  <a:pt x="42939" y="111831"/>
                </a:lnTo>
                <a:lnTo>
                  <a:pt x="49982" y="101644"/>
                </a:lnTo>
                <a:lnTo>
                  <a:pt x="57707" y="91910"/>
                </a:lnTo>
                <a:lnTo>
                  <a:pt x="61569" y="87382"/>
                </a:lnTo>
                <a:lnTo>
                  <a:pt x="66113" y="82628"/>
                </a:lnTo>
                <a:lnTo>
                  <a:pt x="70202" y="78101"/>
                </a:lnTo>
                <a:lnTo>
                  <a:pt x="74519" y="73573"/>
                </a:lnTo>
                <a:lnTo>
                  <a:pt x="79063" y="69045"/>
                </a:lnTo>
                <a:lnTo>
                  <a:pt x="83834" y="64744"/>
                </a:lnTo>
                <a:lnTo>
                  <a:pt x="88605" y="60669"/>
                </a:lnTo>
                <a:lnTo>
                  <a:pt x="93603" y="56595"/>
                </a:lnTo>
                <a:lnTo>
                  <a:pt x="98602" y="52746"/>
                </a:lnTo>
                <a:lnTo>
                  <a:pt x="103827" y="48898"/>
                </a:lnTo>
                <a:lnTo>
                  <a:pt x="108825" y="45049"/>
                </a:lnTo>
                <a:lnTo>
                  <a:pt x="114505" y="41427"/>
                </a:lnTo>
                <a:lnTo>
                  <a:pt x="119958" y="37805"/>
                </a:lnTo>
                <a:lnTo>
                  <a:pt x="125638" y="34636"/>
                </a:lnTo>
                <a:lnTo>
                  <a:pt x="131317" y="31467"/>
                </a:lnTo>
                <a:lnTo>
                  <a:pt x="136997" y="28524"/>
                </a:lnTo>
                <a:lnTo>
                  <a:pt x="142677" y="25581"/>
                </a:lnTo>
                <a:lnTo>
                  <a:pt x="148130" y="22864"/>
                </a:lnTo>
                <a:lnTo>
                  <a:pt x="154037" y="20148"/>
                </a:lnTo>
                <a:lnTo>
                  <a:pt x="159944" y="17884"/>
                </a:lnTo>
                <a:lnTo>
                  <a:pt x="165851" y="15620"/>
                </a:lnTo>
                <a:lnTo>
                  <a:pt x="171758" y="13583"/>
                </a:lnTo>
                <a:lnTo>
                  <a:pt x="177892" y="11545"/>
                </a:lnTo>
                <a:lnTo>
                  <a:pt x="183799" y="9734"/>
                </a:lnTo>
                <a:lnTo>
                  <a:pt x="195840" y="6565"/>
                </a:lnTo>
                <a:lnTo>
                  <a:pt x="207882" y="4075"/>
                </a:lnTo>
                <a:lnTo>
                  <a:pt x="219923" y="2264"/>
                </a:lnTo>
                <a:lnTo>
                  <a:pt x="232191" y="1132"/>
                </a:lnTo>
                <a:lnTo>
                  <a:pt x="244233" y="226"/>
                </a:lnTo>
                <a:lnTo>
                  <a:pt x="256728" y="0"/>
                </a:lnTo>
                <a:close/>
              </a:path>
            </a:pathLst>
          </a:cu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401" name="组合 45"/>
          <p:cNvGrpSpPr/>
          <p:nvPr/>
        </p:nvGrpSpPr>
        <p:grpSpPr>
          <a:xfrm>
            <a:off x="3286080" y="4464000"/>
            <a:ext cx="1279440" cy="635040"/>
            <a:chOff x="3286080" y="4464000"/>
            <a:chExt cx="1279440" cy="635040"/>
          </a:xfrm>
        </p:grpSpPr>
        <p:sp>
          <p:nvSpPr>
            <p:cNvPr id="1402" name="圆角矩形 49"/>
            <p:cNvSpPr/>
            <p:nvPr/>
          </p:nvSpPr>
          <p:spPr>
            <a:xfrm>
              <a:off x="3286080" y="4464000"/>
              <a:ext cx="1279440" cy="635040"/>
            </a:xfrm>
            <a:prstGeom prst="roundRect">
              <a:avLst>
                <a:gd name="adj" fmla="val 10000"/>
              </a:avLst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03" name="圆角矩形 4"/>
            <p:cNvSpPr/>
            <p:nvPr/>
          </p:nvSpPr>
          <p:spPr>
            <a:xfrm>
              <a:off x="3306600" y="4482720"/>
              <a:ext cx="123840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 </a:t>
              </a:r>
              <a:endParaRPr b="0" lang="en-US" sz="14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404" name="组合 46"/>
          <p:cNvGrpSpPr/>
          <p:nvPr/>
        </p:nvGrpSpPr>
        <p:grpSpPr>
          <a:xfrm>
            <a:off x="4856040" y="4467240"/>
            <a:ext cx="1211400" cy="635040"/>
            <a:chOff x="4856040" y="4467240"/>
            <a:chExt cx="1211400" cy="635040"/>
          </a:xfrm>
        </p:grpSpPr>
        <p:sp>
          <p:nvSpPr>
            <p:cNvPr id="1405" name="圆角矩形 47"/>
            <p:cNvSpPr/>
            <p:nvPr/>
          </p:nvSpPr>
          <p:spPr>
            <a:xfrm>
              <a:off x="4856040" y="4467240"/>
              <a:ext cx="1211400" cy="635040"/>
            </a:xfrm>
            <a:prstGeom prst="roundRect">
              <a:avLst>
                <a:gd name="adj" fmla="val 10000"/>
              </a:avLst>
            </a:prstGeom>
            <a:solidFill>
              <a:srgbClr val="0890d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06" name="圆角矩形 6"/>
            <p:cNvSpPr/>
            <p:nvPr/>
          </p:nvSpPr>
          <p:spPr>
            <a:xfrm>
              <a:off x="4876560" y="4485960"/>
              <a:ext cx="11703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 </a:t>
              </a:r>
              <a:endParaRPr b="0" lang="en-US" sz="14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407" name="矩形 38"/>
          <p:cNvSpPr/>
          <p:nvPr/>
        </p:nvSpPr>
        <p:spPr>
          <a:xfrm>
            <a:off x="1635120" y="105732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08" name="文本框 39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09" name="同侧圆角矩形 40"/>
          <p:cNvSpPr/>
          <p:nvPr/>
        </p:nvSpPr>
        <p:spPr>
          <a:xfrm>
            <a:off x="1623960" y="2336760"/>
            <a:ext cx="674640" cy="3832200"/>
          </a:xfrm>
          <a:custGeom>
            <a:avLst/>
            <a:gdLst/>
            <a:ahLst/>
            <a:rect l="l" t="t" r="r" b="b"/>
            <a:pathLst>
              <a:path w="674687" h="3832225">
                <a:moveTo>
                  <a:pt x="112450" y="0"/>
                </a:moveTo>
                <a:lnTo>
                  <a:pt x="562237" y="0"/>
                </a:lnTo>
                <a:cubicBezTo>
                  <a:pt x="624341" y="0"/>
                  <a:pt x="674687" y="50346"/>
                  <a:pt x="674687" y="112450"/>
                </a:cubicBezTo>
                <a:lnTo>
                  <a:pt x="674687" y="3832225"/>
                </a:lnTo>
                <a:lnTo>
                  <a:pt x="674687" y="3832225"/>
                </a:lnTo>
                <a:lnTo>
                  <a:pt x="0" y="3832225"/>
                </a:lnTo>
                <a:lnTo>
                  <a:pt x="0" y="3832225"/>
                </a:lnTo>
                <a:lnTo>
                  <a:pt x="0" y="112450"/>
                </a:lnTo>
                <a:cubicBezTo>
                  <a:pt x="0" y="50346"/>
                  <a:pt x="50346" y="0"/>
                  <a:pt x="112450" y="0"/>
                </a:cubicBezTo>
                <a:close/>
              </a:path>
            </a:pathLst>
          </a:custGeom>
          <a:solidFill>
            <a:srgbClr val="aac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10" name="同侧圆角矩形 41"/>
          <p:cNvSpPr/>
          <p:nvPr/>
        </p:nvSpPr>
        <p:spPr>
          <a:xfrm>
            <a:off x="7032600" y="2327400"/>
            <a:ext cx="674640" cy="3832200"/>
          </a:xfrm>
          <a:custGeom>
            <a:avLst/>
            <a:gdLst/>
            <a:ahLst/>
            <a:rect l="l" t="t" r="r" b="b"/>
            <a:pathLst>
              <a:path w="674688" h="3832225">
                <a:moveTo>
                  <a:pt x="112450" y="0"/>
                </a:moveTo>
                <a:lnTo>
                  <a:pt x="562238" y="0"/>
                </a:lnTo>
                <a:cubicBezTo>
                  <a:pt x="624342" y="0"/>
                  <a:pt x="674688" y="50346"/>
                  <a:pt x="674688" y="112450"/>
                </a:cubicBezTo>
                <a:lnTo>
                  <a:pt x="674688" y="3832225"/>
                </a:lnTo>
                <a:lnTo>
                  <a:pt x="674688" y="3832225"/>
                </a:lnTo>
                <a:lnTo>
                  <a:pt x="0" y="3832225"/>
                </a:lnTo>
                <a:lnTo>
                  <a:pt x="0" y="3832225"/>
                </a:lnTo>
                <a:lnTo>
                  <a:pt x="0" y="112450"/>
                </a:lnTo>
                <a:cubicBezTo>
                  <a:pt x="0" y="50346"/>
                  <a:pt x="50346" y="0"/>
                  <a:pt x="112450" y="0"/>
                </a:cubicBezTo>
                <a:close/>
              </a:path>
            </a:pathLst>
          </a:custGeom>
          <a:solidFill>
            <a:srgbClr val="aac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11" name="Text Box 3"/>
          <p:cNvSpPr/>
          <p:nvPr/>
        </p:nvSpPr>
        <p:spPr>
          <a:xfrm>
            <a:off x="-28440" y="6443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直接连接符 46"/>
          <p:cNvSpPr/>
          <p:nvPr/>
        </p:nvSpPr>
        <p:spPr>
          <a:xfrm>
            <a:off x="4664160" y="2427120"/>
            <a:ext cx="6120" cy="2119320"/>
          </a:xfrm>
          <a:prstGeom prst="line">
            <a:avLst/>
          </a:prstGeom>
          <a:ln w="19080">
            <a:solidFill>
              <a:srgbClr val="c5c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13" name="Rectangle 49"/>
          <p:cNvSpPr/>
          <p:nvPr/>
        </p:nvSpPr>
        <p:spPr>
          <a:xfrm>
            <a:off x="3459240" y="5208480"/>
            <a:ext cx="2409840" cy="701640"/>
          </a:xfrm>
          <a:prstGeom prst="rect">
            <a:avLst/>
          </a:prstGeom>
          <a:solidFill>
            <a:srgbClr val="009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14" name="Rectangle 56"/>
          <p:cNvSpPr/>
          <p:nvPr/>
        </p:nvSpPr>
        <p:spPr>
          <a:xfrm>
            <a:off x="5946840" y="5205240"/>
            <a:ext cx="2278080" cy="702000"/>
          </a:xfrm>
          <a:prstGeom prst="rect">
            <a:avLst/>
          </a:prstGeom>
          <a:solidFill>
            <a:srgbClr val="009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15" name="Rectangle 62"/>
          <p:cNvSpPr/>
          <p:nvPr/>
        </p:nvSpPr>
        <p:spPr>
          <a:xfrm>
            <a:off x="1258920" y="5208480"/>
            <a:ext cx="2128680" cy="701640"/>
          </a:xfrm>
          <a:prstGeom prst="rect">
            <a:avLst/>
          </a:prstGeom>
          <a:solidFill>
            <a:srgbClr val="009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16" name="Freeform 75"/>
          <p:cNvSpPr/>
          <p:nvPr/>
        </p:nvSpPr>
        <p:spPr>
          <a:xfrm>
            <a:off x="2890800" y="4911840"/>
            <a:ext cx="3562560" cy="485640"/>
          </a:xfrm>
          <a:custGeom>
            <a:avLst/>
            <a:gdLst>
              <a:gd name="textAreaLeft" fmla="*/ 0 w 3562560"/>
              <a:gd name="textAreaRight" fmla="*/ 3562560 w 35625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560" h="115">
                <a:moveTo>
                  <a:pt x="0" y="114"/>
                </a:moveTo>
                <a:cubicBezTo>
                  <a:pt x="0" y="100"/>
                  <a:pt x="0" y="100"/>
                  <a:pt x="0" y="100"/>
                </a:cubicBezTo>
                <a:cubicBezTo>
                  <a:pt x="39" y="68"/>
                  <a:pt x="77" y="45"/>
                  <a:pt x="124" y="28"/>
                </a:cubicBezTo>
                <a:cubicBezTo>
                  <a:pt x="174" y="10"/>
                  <a:pt x="225" y="0"/>
                  <a:pt x="278" y="0"/>
                </a:cubicBezTo>
                <a:cubicBezTo>
                  <a:pt x="331" y="0"/>
                  <a:pt x="383" y="9"/>
                  <a:pt x="432" y="27"/>
                </a:cubicBezTo>
                <a:cubicBezTo>
                  <a:pt x="479" y="45"/>
                  <a:pt x="521" y="68"/>
                  <a:pt x="560" y="100"/>
                </a:cubicBezTo>
                <a:cubicBezTo>
                  <a:pt x="557" y="115"/>
                  <a:pt x="557" y="115"/>
                  <a:pt x="557" y="115"/>
                </a:cubicBezTo>
                <a:cubicBezTo>
                  <a:pt x="479" y="52"/>
                  <a:pt x="378" y="14"/>
                  <a:pt x="278" y="14"/>
                </a:cubicBezTo>
                <a:cubicBezTo>
                  <a:pt x="178" y="14"/>
                  <a:pt x="78" y="50"/>
                  <a:pt x="0" y="114"/>
                </a:cubicBezTo>
                <a:close/>
              </a:path>
            </a:pathLst>
          </a:custGeom>
          <a:solidFill>
            <a:srgbClr val="009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17" name="Freeform 76"/>
          <p:cNvSpPr/>
          <p:nvPr/>
        </p:nvSpPr>
        <p:spPr>
          <a:xfrm>
            <a:off x="3844800" y="4916520"/>
            <a:ext cx="1567080" cy="463680"/>
          </a:xfrm>
          <a:custGeom>
            <a:avLst/>
            <a:gdLst>
              <a:gd name="textAreaLeft" fmla="*/ 0 w 1567080"/>
              <a:gd name="textAreaRight" fmla="*/ 1567440 w 15670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246" h="110">
                <a:moveTo>
                  <a:pt x="14" y="110"/>
                </a:moveTo>
                <a:cubicBezTo>
                  <a:pt x="0" y="108"/>
                  <a:pt x="0" y="108"/>
                  <a:pt x="0" y="108"/>
                </a:cubicBezTo>
                <a:cubicBezTo>
                  <a:pt x="8" y="46"/>
                  <a:pt x="61" y="0"/>
                  <a:pt x="123" y="0"/>
                </a:cubicBezTo>
                <a:cubicBezTo>
                  <a:pt x="185" y="0"/>
                  <a:pt x="238" y="45"/>
                  <a:pt x="246" y="106"/>
                </a:cubicBezTo>
                <a:cubicBezTo>
                  <a:pt x="233" y="108"/>
                  <a:pt x="233" y="108"/>
                  <a:pt x="233" y="108"/>
                </a:cubicBezTo>
                <a:cubicBezTo>
                  <a:pt x="225" y="54"/>
                  <a:pt x="178" y="13"/>
                  <a:pt x="123" y="13"/>
                </a:cubicBezTo>
                <a:cubicBezTo>
                  <a:pt x="67" y="13"/>
                  <a:pt x="20" y="55"/>
                  <a:pt x="14" y="110"/>
                </a:cubicBezTo>
                <a:close/>
              </a:path>
            </a:pathLst>
          </a:custGeom>
          <a:solidFill>
            <a:srgbClr val="009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18" name="矩形 34"/>
          <p:cNvSpPr/>
          <p:nvPr/>
        </p:nvSpPr>
        <p:spPr>
          <a:xfrm>
            <a:off x="2741760" y="2133720"/>
            <a:ext cx="3808440" cy="307080"/>
          </a:xfrm>
          <a:prstGeom prst="rect">
            <a:avLst/>
          </a:prstGeom>
          <a:solidFill>
            <a:srgbClr val="c6e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YOU CAN ENTER YUOR CONTENT HERE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19" name="矩形 35"/>
          <p:cNvSpPr/>
          <p:nvPr/>
        </p:nvSpPr>
        <p:spPr>
          <a:xfrm>
            <a:off x="1065240" y="3011400"/>
            <a:ext cx="19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20" name="椭圆 7"/>
          <p:cNvSpPr/>
          <p:nvPr/>
        </p:nvSpPr>
        <p:spPr>
          <a:xfrm>
            <a:off x="2146320" y="2427120"/>
            <a:ext cx="4843440" cy="1020960"/>
          </a:xfrm>
          <a:custGeom>
            <a:avLst/>
            <a:gdLst>
              <a:gd name="textAreaLeft" fmla="*/ 0 w 4843440"/>
              <a:gd name="textAreaRight" fmla="*/ 4843800 w 4843440"/>
              <a:gd name="textAreaTop" fmla="*/ 0 h 1020960"/>
              <a:gd name="textAreaBottom" fmla="*/ 1021320 h 1020960"/>
            </a:gdLst>
            <a:ahLst/>
            <a:rect l="textAreaLeft" t="textAreaTop" r="textAreaRight" b="textAreaBottom"/>
            <a:pathLst>
              <a:path w="5141438" h="1208638">
                <a:moveTo>
                  <a:pt x="5141438" y="0"/>
                </a:moveTo>
                <a:cubicBezTo>
                  <a:pt x="4741027" y="708082"/>
                  <a:pt x="3740838" y="1208638"/>
                  <a:pt x="2570719" y="1208638"/>
                </a:cubicBezTo>
                <a:cubicBezTo>
                  <a:pt x="1400600" y="1208638"/>
                  <a:pt x="400411" y="708082"/>
                  <a:pt x="0" y="0"/>
                </a:cubicBezTo>
              </a:path>
            </a:pathLst>
          </a:custGeom>
          <a:noFill/>
          <a:ln w="19080">
            <a:solidFill>
              <a:srgbClr val="c5c5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21" name="椭圆 30"/>
          <p:cNvSpPr/>
          <p:nvPr/>
        </p:nvSpPr>
        <p:spPr>
          <a:xfrm>
            <a:off x="1739880" y="2101680"/>
            <a:ext cx="933480" cy="754200"/>
          </a:xfrm>
          <a:prstGeom prst="ellipse">
            <a:avLst/>
          </a:prstGeom>
          <a:solidFill>
            <a:srgbClr val="ffffff"/>
          </a:solidFill>
          <a:ln w="88920">
            <a:solidFill>
              <a:srgbClr val="2d9c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22" name="椭圆 31"/>
          <p:cNvSpPr/>
          <p:nvPr/>
        </p:nvSpPr>
        <p:spPr>
          <a:xfrm>
            <a:off x="3359160" y="2906640"/>
            <a:ext cx="933480" cy="752400"/>
          </a:xfrm>
          <a:prstGeom prst="ellipse">
            <a:avLst/>
          </a:prstGeom>
          <a:solidFill>
            <a:srgbClr val="ffffff"/>
          </a:solidFill>
          <a:ln w="85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23" name="椭圆 32"/>
          <p:cNvSpPr/>
          <p:nvPr/>
        </p:nvSpPr>
        <p:spPr>
          <a:xfrm>
            <a:off x="5135400" y="2894040"/>
            <a:ext cx="933480" cy="754200"/>
          </a:xfrm>
          <a:prstGeom prst="ellipse">
            <a:avLst/>
          </a:prstGeom>
          <a:solidFill>
            <a:srgbClr val="ffffff"/>
          </a:solidFill>
          <a:ln w="85680">
            <a:solidFill>
              <a:srgbClr val="2d9c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24" name="椭圆 33"/>
          <p:cNvSpPr/>
          <p:nvPr/>
        </p:nvSpPr>
        <p:spPr>
          <a:xfrm>
            <a:off x="6638760" y="2108160"/>
            <a:ext cx="933480" cy="754200"/>
          </a:xfrm>
          <a:prstGeom prst="ellipse">
            <a:avLst/>
          </a:prstGeom>
          <a:solidFill>
            <a:srgbClr val="ffffff"/>
          </a:solidFill>
          <a:ln w="856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25" name="矩形 37"/>
          <p:cNvSpPr/>
          <p:nvPr/>
        </p:nvSpPr>
        <p:spPr>
          <a:xfrm>
            <a:off x="1759320" y="237816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54749"/>
                </a:solidFill>
                <a:latin typeface="Arial Black"/>
                <a:ea typeface="微软雅黑"/>
              </a:rPr>
              <a:t>CONTENT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26" name="矩形 39"/>
          <p:cNvSpPr/>
          <p:nvPr/>
        </p:nvSpPr>
        <p:spPr>
          <a:xfrm>
            <a:off x="3383280" y="316548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54749"/>
                </a:solidFill>
                <a:latin typeface="Arial Black"/>
                <a:ea typeface="微软雅黑"/>
              </a:rPr>
              <a:t>CONTENT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27" name="矩形 40"/>
          <p:cNvSpPr/>
          <p:nvPr/>
        </p:nvSpPr>
        <p:spPr>
          <a:xfrm>
            <a:off x="5175720" y="315756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54749"/>
                </a:solidFill>
                <a:latin typeface="Arial Black"/>
                <a:ea typeface="微软雅黑"/>
              </a:rPr>
              <a:t>CONTENT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28" name="矩形 41"/>
          <p:cNvSpPr/>
          <p:nvPr/>
        </p:nvSpPr>
        <p:spPr>
          <a:xfrm>
            <a:off x="6679080" y="237816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54749"/>
                </a:solidFill>
                <a:latin typeface="Arial Black"/>
                <a:ea typeface="微软雅黑"/>
              </a:rPr>
              <a:t>CONTENT</a:t>
            </a:r>
            <a:endParaRPr b="0" lang="en-U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29" name="矩形 42"/>
          <p:cNvSpPr/>
          <p:nvPr/>
        </p:nvSpPr>
        <p:spPr>
          <a:xfrm>
            <a:off x="2595600" y="371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30" name="矩形 43"/>
          <p:cNvSpPr/>
          <p:nvPr/>
        </p:nvSpPr>
        <p:spPr>
          <a:xfrm>
            <a:off x="4714920" y="369576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31" name="矩形 44"/>
          <p:cNvSpPr/>
          <p:nvPr/>
        </p:nvSpPr>
        <p:spPr>
          <a:xfrm>
            <a:off x="6253200" y="2949480"/>
            <a:ext cx="20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32" name="矩形 47"/>
          <p:cNvSpPr/>
          <p:nvPr/>
        </p:nvSpPr>
        <p:spPr>
          <a:xfrm>
            <a:off x="3135240" y="4599000"/>
            <a:ext cx="3056040" cy="307080"/>
          </a:xfrm>
          <a:prstGeom prst="rect">
            <a:avLst/>
          </a:prstGeom>
          <a:solidFill>
            <a:srgbClr val="c6e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ENTER YUOR CONTENT HERE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33" name="矩形 78"/>
          <p:cNvSpPr/>
          <p:nvPr/>
        </p:nvSpPr>
        <p:spPr>
          <a:xfrm>
            <a:off x="1338120" y="5338800"/>
            <a:ext cx="17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NTER YUOR CONTENT HERE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34" name="矩形 79"/>
          <p:cNvSpPr/>
          <p:nvPr/>
        </p:nvSpPr>
        <p:spPr>
          <a:xfrm>
            <a:off x="3735360" y="5324400"/>
            <a:ext cx="183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NTER YUOR CONTENT HERE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35" name="矩形 80"/>
          <p:cNvSpPr/>
          <p:nvPr/>
        </p:nvSpPr>
        <p:spPr>
          <a:xfrm>
            <a:off x="6084720" y="5316480"/>
            <a:ext cx="22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NTER YUOR CONTENT HERE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36" name="矩形 26"/>
          <p:cNvSpPr/>
          <p:nvPr/>
        </p:nvSpPr>
        <p:spPr>
          <a:xfrm>
            <a:off x="1635120" y="105732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37" name="文本框 27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直接连接符 13"/>
          <p:cNvSpPr/>
          <p:nvPr/>
        </p:nvSpPr>
        <p:spPr>
          <a:xfrm>
            <a:off x="4649760" y="2149560"/>
            <a:ext cx="0" cy="1846080"/>
          </a:xfrm>
          <a:prstGeom prst="line">
            <a:avLst/>
          </a:prstGeom>
          <a:ln w="1260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39" name="文本框 24"/>
          <p:cNvSpPr/>
          <p:nvPr/>
        </p:nvSpPr>
        <p:spPr>
          <a:xfrm>
            <a:off x="1042920" y="2595600"/>
            <a:ext cx="3435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微软雅黑"/>
                <a:ea typeface="微软雅黑"/>
              </a:rPr>
              <a:t>YOU CAN ENTER YUOR </a:t>
            </a:r>
            <a:r>
              <a:rPr b="1" lang="en-US" sz="3600" spc="-1" strike="noStrike">
                <a:solidFill>
                  <a:srgbClr val="5f5f5f"/>
                </a:solidFill>
                <a:latin typeface="微软雅黑"/>
                <a:ea typeface="微软雅黑"/>
              </a:rPr>
              <a:t>CONTENT </a:t>
            </a:r>
            <a:r>
              <a:rPr b="0" lang="en-US" sz="2000" spc="-1" strike="noStrike">
                <a:solidFill>
                  <a:srgbClr val="5f5f5f"/>
                </a:solidFill>
                <a:latin typeface="微软雅黑"/>
                <a:ea typeface="微软雅黑"/>
              </a:rPr>
              <a:t>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40" name="文本框 25"/>
          <p:cNvSpPr/>
          <p:nvPr/>
        </p:nvSpPr>
        <p:spPr>
          <a:xfrm>
            <a:off x="4973760" y="2597040"/>
            <a:ext cx="3738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微软雅黑"/>
                <a:ea typeface="微软雅黑"/>
              </a:rPr>
              <a:t>YOU CAN ENTER YUOR </a:t>
            </a:r>
            <a:r>
              <a:rPr b="1" lang="en-US" sz="3200" spc="-1" strike="noStrike">
                <a:solidFill>
                  <a:srgbClr val="583fa2"/>
                </a:solidFill>
                <a:latin typeface="Arial Black"/>
                <a:ea typeface="微软雅黑"/>
              </a:rPr>
              <a:t>CONTENT</a:t>
            </a:r>
            <a:r>
              <a:rPr b="1" lang="en-US" sz="3600" spc="-1" strike="noStrike">
                <a:solidFill>
                  <a:srgbClr val="5f5f5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5f5f5f"/>
                </a:solidFill>
                <a:latin typeface="微软雅黑"/>
                <a:ea typeface="微软雅黑"/>
              </a:rPr>
              <a:t>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41" name="任意多边形 12"/>
          <p:cNvSpPr/>
          <p:nvPr/>
        </p:nvSpPr>
        <p:spPr>
          <a:xfrm>
            <a:off x="0" y="4202280"/>
            <a:ext cx="9166320" cy="622080"/>
          </a:xfrm>
          <a:custGeom>
            <a:avLst/>
            <a:gdLst>
              <a:gd name="textAreaLeft" fmla="*/ 0 w 9166320"/>
              <a:gd name="textAreaRight" fmla="*/ 9166680 w 916632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9166507" h="172090">
                <a:moveTo>
                  <a:pt x="0" y="0"/>
                </a:moveTo>
                <a:lnTo>
                  <a:pt x="3642069" y="0"/>
                </a:lnTo>
                <a:lnTo>
                  <a:pt x="3800727" y="154090"/>
                </a:lnTo>
                <a:lnTo>
                  <a:pt x="9166507" y="154090"/>
                </a:lnTo>
                <a:lnTo>
                  <a:pt x="9166507" y="172090"/>
                </a:lnTo>
                <a:lnTo>
                  <a:pt x="3816423" y="172090"/>
                </a:lnTo>
                <a:lnTo>
                  <a:pt x="3730507" y="172090"/>
                </a:lnTo>
                <a:lnTo>
                  <a:pt x="0" y="172090"/>
                </a:lnTo>
                <a:lnTo>
                  <a:pt x="0" y="0"/>
                </a:lnTo>
                <a:close/>
              </a:path>
            </a:pathLst>
          </a:custGeom>
          <a:solidFill>
            <a:srgbClr val="ab97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42" name="KSO_GI1"/>
          <p:cNvSpPr/>
          <p:nvPr/>
        </p:nvSpPr>
        <p:spPr>
          <a:xfrm>
            <a:off x="3544920" y="4815000"/>
            <a:ext cx="528156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YOU CAN ENTER YUOR CONTENT HERE YOU CAN ENTER YUOR CONTENT HERE YOU CAN ENTER YUOR CONTENT HERE YOU CAN 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43" name="矩形 1"/>
          <p:cNvSpPr/>
          <p:nvPr/>
        </p:nvSpPr>
        <p:spPr>
          <a:xfrm>
            <a:off x="76680" y="4319640"/>
            <a:ext cx="35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44" name="矩形 8"/>
          <p:cNvSpPr/>
          <p:nvPr/>
        </p:nvSpPr>
        <p:spPr>
          <a:xfrm>
            <a:off x="1635120" y="105732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45" name="文本框 9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椭圆 84"/>
          <p:cNvSpPr/>
          <p:nvPr/>
        </p:nvSpPr>
        <p:spPr>
          <a:xfrm>
            <a:off x="2062080" y="3213000"/>
            <a:ext cx="409680" cy="40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47" name="椭圆 85"/>
          <p:cNvSpPr/>
          <p:nvPr/>
        </p:nvSpPr>
        <p:spPr>
          <a:xfrm>
            <a:off x="4394160" y="3213000"/>
            <a:ext cx="407880" cy="40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48" name="椭圆 86"/>
          <p:cNvSpPr/>
          <p:nvPr/>
        </p:nvSpPr>
        <p:spPr>
          <a:xfrm>
            <a:off x="6759720" y="3213000"/>
            <a:ext cx="409320" cy="409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49" name="Text Box 7"/>
          <p:cNvSpPr/>
          <p:nvPr/>
        </p:nvSpPr>
        <p:spPr>
          <a:xfrm>
            <a:off x="1187280" y="2344680"/>
            <a:ext cx="67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YOU CAN ENTER YUOR CONTENT HERE YOU CAN ENTER YUOR CONTENT HERE YOU CAN ENTER YUOR CONTENT HERE YOU CAN 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450" name="组合 15"/>
          <p:cNvGrpSpPr/>
          <p:nvPr/>
        </p:nvGrpSpPr>
        <p:grpSpPr>
          <a:xfrm>
            <a:off x="789120" y="4367160"/>
            <a:ext cx="1946160" cy="1644840"/>
            <a:chOff x="789120" y="4367160"/>
            <a:chExt cx="1946160" cy="1644840"/>
          </a:xfrm>
        </p:grpSpPr>
        <p:sp>
          <p:nvSpPr>
            <p:cNvPr id="1451" name="矩形 13"/>
            <p:cNvSpPr/>
            <p:nvPr/>
          </p:nvSpPr>
          <p:spPr>
            <a:xfrm>
              <a:off x="789120" y="4367160"/>
              <a:ext cx="1946160" cy="1644840"/>
            </a:xfrm>
            <a:prstGeom prst="rect">
              <a:avLst/>
            </a:prstGeom>
            <a:solidFill>
              <a:srgbClr val="dd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pic>
          <p:nvPicPr>
            <p:cNvPr id="1452" name="图片 2" descr=""/>
            <p:cNvPicPr/>
            <p:nvPr/>
          </p:nvPicPr>
          <p:blipFill>
            <a:blip r:embed="rId1"/>
            <a:stretch/>
          </p:blipFill>
          <p:spPr>
            <a:xfrm>
              <a:off x="979920" y="4488480"/>
              <a:ext cx="1553040" cy="140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3" name="组合 17"/>
          <p:cNvGrpSpPr/>
          <p:nvPr/>
        </p:nvGrpSpPr>
        <p:grpSpPr>
          <a:xfrm>
            <a:off x="4857840" y="4352760"/>
            <a:ext cx="1946160" cy="1644840"/>
            <a:chOff x="4857840" y="4352760"/>
            <a:chExt cx="1946160" cy="1644840"/>
          </a:xfrm>
        </p:grpSpPr>
        <p:sp>
          <p:nvSpPr>
            <p:cNvPr id="1454" name="矩形 21"/>
            <p:cNvSpPr/>
            <p:nvPr/>
          </p:nvSpPr>
          <p:spPr>
            <a:xfrm>
              <a:off x="4857840" y="4352760"/>
              <a:ext cx="1946160" cy="1644840"/>
            </a:xfrm>
            <a:prstGeom prst="rect">
              <a:avLst/>
            </a:prstGeom>
            <a:solidFill>
              <a:srgbClr val="dd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pic>
          <p:nvPicPr>
            <p:cNvPr id="1455" name="图片 5" descr=""/>
            <p:cNvPicPr/>
            <p:nvPr/>
          </p:nvPicPr>
          <p:blipFill>
            <a:blip r:embed="rId2"/>
            <a:srcRect l="0" t="12153" r="0" b="13597"/>
            <a:stretch/>
          </p:blipFill>
          <p:spPr>
            <a:xfrm>
              <a:off x="4950360" y="4488120"/>
              <a:ext cx="1748880" cy="140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6" name="组合 16"/>
          <p:cNvGrpSpPr/>
          <p:nvPr/>
        </p:nvGrpSpPr>
        <p:grpSpPr>
          <a:xfrm>
            <a:off x="2820960" y="4352760"/>
            <a:ext cx="1946160" cy="1644840"/>
            <a:chOff x="2820960" y="4352760"/>
            <a:chExt cx="1946160" cy="1644840"/>
          </a:xfrm>
        </p:grpSpPr>
        <p:sp>
          <p:nvSpPr>
            <p:cNvPr id="1457" name="矩形 20"/>
            <p:cNvSpPr/>
            <p:nvPr/>
          </p:nvSpPr>
          <p:spPr>
            <a:xfrm>
              <a:off x="2820960" y="4352760"/>
              <a:ext cx="1946160" cy="1644840"/>
            </a:xfrm>
            <a:prstGeom prst="rect">
              <a:avLst/>
            </a:prstGeom>
            <a:solidFill>
              <a:srgbClr val="dd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pic>
          <p:nvPicPr>
            <p:cNvPr id="1458" name="图片 6" descr=""/>
            <p:cNvPicPr/>
            <p:nvPr/>
          </p:nvPicPr>
          <p:blipFill>
            <a:blip r:embed="rId3"/>
            <a:stretch/>
          </p:blipFill>
          <p:spPr>
            <a:xfrm>
              <a:off x="2926440" y="4488120"/>
              <a:ext cx="1682280" cy="140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9" name="组合 18"/>
          <p:cNvGrpSpPr/>
          <p:nvPr/>
        </p:nvGrpSpPr>
        <p:grpSpPr>
          <a:xfrm>
            <a:off x="6896160" y="4352760"/>
            <a:ext cx="1946160" cy="1644840"/>
            <a:chOff x="6896160" y="4352760"/>
            <a:chExt cx="1946160" cy="1644840"/>
          </a:xfrm>
        </p:grpSpPr>
        <p:sp>
          <p:nvSpPr>
            <p:cNvPr id="1460" name="矩形 22"/>
            <p:cNvSpPr/>
            <p:nvPr/>
          </p:nvSpPr>
          <p:spPr>
            <a:xfrm>
              <a:off x="6896160" y="4352760"/>
              <a:ext cx="1946160" cy="1644840"/>
            </a:xfrm>
            <a:prstGeom prst="rect">
              <a:avLst/>
            </a:prstGeom>
            <a:solidFill>
              <a:srgbClr val="dd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pic>
          <p:nvPicPr>
            <p:cNvPr id="1461" name="图片 10" descr=""/>
            <p:cNvPicPr/>
            <p:nvPr/>
          </p:nvPicPr>
          <p:blipFill>
            <a:blip r:embed="rId4"/>
            <a:stretch/>
          </p:blipFill>
          <p:spPr>
            <a:xfrm>
              <a:off x="7073280" y="4488120"/>
              <a:ext cx="1626840" cy="140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2" name="矩形 14"/>
          <p:cNvSpPr/>
          <p:nvPr/>
        </p:nvSpPr>
        <p:spPr>
          <a:xfrm>
            <a:off x="1123920" y="3887640"/>
            <a:ext cx="12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CONTENT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63" name="矩形 19"/>
          <p:cNvSpPr/>
          <p:nvPr/>
        </p:nvSpPr>
        <p:spPr>
          <a:xfrm>
            <a:off x="1635120" y="105732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64" name="文本框 20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65" name="矩形 14"/>
          <p:cNvSpPr/>
          <p:nvPr/>
        </p:nvSpPr>
        <p:spPr>
          <a:xfrm>
            <a:off x="3129120" y="3887640"/>
            <a:ext cx="12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CONTENT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66" name="矩形 14"/>
          <p:cNvSpPr/>
          <p:nvPr/>
        </p:nvSpPr>
        <p:spPr>
          <a:xfrm>
            <a:off x="5192640" y="3887640"/>
            <a:ext cx="12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CONTENT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67" name="矩形 14"/>
          <p:cNvSpPr/>
          <p:nvPr/>
        </p:nvSpPr>
        <p:spPr>
          <a:xfrm>
            <a:off x="7278840" y="3848040"/>
            <a:ext cx="12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CONTENT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矩形 10"/>
          <p:cNvSpPr/>
          <p:nvPr/>
        </p:nvSpPr>
        <p:spPr>
          <a:xfrm>
            <a:off x="4608360" y="2725560"/>
            <a:ext cx="4535640" cy="1468440"/>
          </a:xfrm>
          <a:prstGeom prst="rect">
            <a:avLst/>
          </a:prstGeom>
          <a:solidFill>
            <a:srgbClr val="cc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69" name="矩形 1"/>
          <p:cNvSpPr/>
          <p:nvPr/>
        </p:nvSpPr>
        <p:spPr>
          <a:xfrm>
            <a:off x="0" y="2066760"/>
            <a:ext cx="4608360" cy="1468440"/>
          </a:xfrm>
          <a:prstGeom prst="rect">
            <a:avLst/>
          </a:prstGeom>
          <a:solidFill>
            <a:srgbClr val="b8de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70" name="文本框 4"/>
          <p:cNvSpPr/>
          <p:nvPr/>
        </p:nvSpPr>
        <p:spPr>
          <a:xfrm>
            <a:off x="1639800" y="223920"/>
            <a:ext cx="5073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71" name="Text Box 7"/>
          <p:cNvSpPr/>
          <p:nvPr/>
        </p:nvSpPr>
        <p:spPr>
          <a:xfrm>
            <a:off x="644400" y="4334040"/>
            <a:ext cx="383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1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、</a:t>
            </a:r>
            <a:r>
              <a:rPr b="0" lang="en-US" sz="1600" spc="-1" strike="noStrike">
                <a:solidFill>
                  <a:srgbClr val="5f5f5f"/>
                </a:solidFill>
                <a:latin typeface="Calibri"/>
              </a:rPr>
              <a:t>YOU CAN 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2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、</a:t>
            </a:r>
            <a:r>
              <a:rPr b="0" lang="en-US" sz="1600" spc="-1" strike="noStrike">
                <a:solidFill>
                  <a:srgbClr val="5f5f5f"/>
                </a:solidFill>
                <a:latin typeface="Calibri"/>
              </a:rPr>
              <a:t>YOU CAN 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3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、</a:t>
            </a:r>
            <a:r>
              <a:rPr b="0" lang="en-US" sz="1600" spc="-1" strike="noStrike">
                <a:solidFill>
                  <a:srgbClr val="5f5f5f"/>
                </a:solidFill>
                <a:latin typeface="Calibri"/>
              </a:rPr>
              <a:t>YOU CAN 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472" name="Picture 8" descr="withings"/>
          <p:cNvPicPr/>
          <p:nvPr/>
        </p:nvPicPr>
        <p:blipFill>
          <a:blip r:embed="rId1"/>
          <a:stretch/>
        </p:blipFill>
        <p:spPr>
          <a:xfrm>
            <a:off x="379440" y="2066760"/>
            <a:ext cx="2206440" cy="146844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sp>
        <p:nvSpPr>
          <p:cNvPr id="1473" name="矩形 2"/>
          <p:cNvSpPr/>
          <p:nvPr/>
        </p:nvSpPr>
        <p:spPr>
          <a:xfrm>
            <a:off x="2936880" y="2473200"/>
            <a:ext cx="1320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CONTENT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Calibri"/>
              </a:rPr>
              <a:t>HERE</a:t>
            </a:r>
            <a:endParaRPr b="0" lang="en-US" sz="2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74" name="矩形 4"/>
          <p:cNvSpPr/>
          <p:nvPr/>
        </p:nvSpPr>
        <p:spPr>
          <a:xfrm>
            <a:off x="5095800" y="4759200"/>
            <a:ext cx="374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1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、</a:t>
            </a:r>
            <a:r>
              <a:rPr b="0" lang="en-US" sz="1600" spc="-1" strike="noStrike">
                <a:solidFill>
                  <a:srgbClr val="5f5f5f"/>
                </a:solidFill>
                <a:latin typeface="Calibri"/>
              </a:rPr>
              <a:t>YOU CAN 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2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、</a:t>
            </a:r>
            <a:r>
              <a:rPr b="0" lang="en-US" sz="1600" spc="-1" strike="noStrike">
                <a:solidFill>
                  <a:srgbClr val="5f5f5f"/>
                </a:solidFill>
                <a:latin typeface="Calibri"/>
              </a:rPr>
              <a:t>YOU CAN 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3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</a:rPr>
              <a:t>、</a:t>
            </a:r>
            <a:r>
              <a:rPr b="0" lang="en-US" sz="1600" spc="-1" strike="noStrike">
                <a:solidFill>
                  <a:srgbClr val="5f5f5f"/>
                </a:solidFill>
                <a:latin typeface="Calibri"/>
              </a:rPr>
              <a:t>YOU CAN 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75" name="KSO_Shape"/>
          <p:cNvSpPr/>
          <p:nvPr/>
        </p:nvSpPr>
        <p:spPr>
          <a:xfrm>
            <a:off x="264960" y="3792600"/>
            <a:ext cx="511200" cy="446040"/>
          </a:xfrm>
          <a:custGeom>
            <a:avLst/>
            <a:gdLst>
              <a:gd name="textAreaLeft" fmla="*/ 0 w 511200"/>
              <a:gd name="textAreaRight" fmla="*/ 511560 w 5112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2433638" h="2124076">
                <a:moveTo>
                  <a:pt x="713371" y="1577975"/>
                </a:moveTo>
                <a:lnTo>
                  <a:pt x="804863" y="1667192"/>
                </a:lnTo>
                <a:lnTo>
                  <a:pt x="574675" y="1801813"/>
                </a:lnTo>
                <a:lnTo>
                  <a:pt x="713371" y="1577975"/>
                </a:lnTo>
                <a:close/>
                <a:moveTo>
                  <a:pt x="994071" y="1152525"/>
                </a:moveTo>
                <a:lnTo>
                  <a:pt x="1250950" y="1402947"/>
                </a:lnTo>
                <a:lnTo>
                  <a:pt x="852445" y="1631950"/>
                </a:lnTo>
                <a:lnTo>
                  <a:pt x="757237" y="1538868"/>
                </a:lnTo>
                <a:lnTo>
                  <a:pt x="994071" y="1152525"/>
                </a:lnTo>
                <a:close/>
                <a:moveTo>
                  <a:pt x="230859" y="552164"/>
                </a:moveTo>
                <a:lnTo>
                  <a:pt x="226364" y="552428"/>
                </a:lnTo>
                <a:lnTo>
                  <a:pt x="222133" y="552693"/>
                </a:lnTo>
                <a:lnTo>
                  <a:pt x="218166" y="553222"/>
                </a:lnTo>
                <a:lnTo>
                  <a:pt x="213935" y="553751"/>
                </a:lnTo>
                <a:lnTo>
                  <a:pt x="209968" y="554809"/>
                </a:lnTo>
                <a:lnTo>
                  <a:pt x="206266" y="555867"/>
                </a:lnTo>
                <a:lnTo>
                  <a:pt x="202299" y="557190"/>
                </a:lnTo>
                <a:lnTo>
                  <a:pt x="198597" y="558513"/>
                </a:lnTo>
                <a:lnTo>
                  <a:pt x="194895" y="560100"/>
                </a:lnTo>
                <a:lnTo>
                  <a:pt x="191457" y="561952"/>
                </a:lnTo>
                <a:lnTo>
                  <a:pt x="187755" y="564068"/>
                </a:lnTo>
                <a:lnTo>
                  <a:pt x="184582" y="565920"/>
                </a:lnTo>
                <a:lnTo>
                  <a:pt x="181144" y="568301"/>
                </a:lnTo>
                <a:lnTo>
                  <a:pt x="177971" y="570682"/>
                </a:lnTo>
                <a:lnTo>
                  <a:pt x="175062" y="573063"/>
                </a:lnTo>
                <a:lnTo>
                  <a:pt x="171888" y="575708"/>
                </a:lnTo>
                <a:lnTo>
                  <a:pt x="169244" y="578883"/>
                </a:lnTo>
                <a:lnTo>
                  <a:pt x="166599" y="581793"/>
                </a:lnTo>
                <a:lnTo>
                  <a:pt x="164219" y="584703"/>
                </a:lnTo>
                <a:lnTo>
                  <a:pt x="161839" y="588142"/>
                </a:lnTo>
                <a:lnTo>
                  <a:pt x="159724" y="591316"/>
                </a:lnTo>
                <a:lnTo>
                  <a:pt x="157608" y="594491"/>
                </a:lnTo>
                <a:lnTo>
                  <a:pt x="156022" y="598194"/>
                </a:lnTo>
                <a:lnTo>
                  <a:pt x="154435" y="601633"/>
                </a:lnTo>
                <a:lnTo>
                  <a:pt x="152848" y="605601"/>
                </a:lnTo>
                <a:lnTo>
                  <a:pt x="151526" y="609041"/>
                </a:lnTo>
                <a:lnTo>
                  <a:pt x="150204" y="613009"/>
                </a:lnTo>
                <a:lnTo>
                  <a:pt x="149411" y="616977"/>
                </a:lnTo>
                <a:lnTo>
                  <a:pt x="148882" y="620945"/>
                </a:lnTo>
                <a:lnTo>
                  <a:pt x="148088" y="624913"/>
                </a:lnTo>
                <a:lnTo>
                  <a:pt x="147824" y="629146"/>
                </a:lnTo>
                <a:lnTo>
                  <a:pt x="147824" y="633378"/>
                </a:lnTo>
                <a:lnTo>
                  <a:pt x="147824" y="1898686"/>
                </a:lnTo>
                <a:lnTo>
                  <a:pt x="147824" y="1902918"/>
                </a:lnTo>
                <a:lnTo>
                  <a:pt x="148088" y="1906887"/>
                </a:lnTo>
                <a:lnTo>
                  <a:pt x="148882" y="1911119"/>
                </a:lnTo>
                <a:lnTo>
                  <a:pt x="149411" y="1915087"/>
                </a:lnTo>
                <a:lnTo>
                  <a:pt x="150204" y="1918791"/>
                </a:lnTo>
                <a:lnTo>
                  <a:pt x="151526" y="1922759"/>
                </a:lnTo>
                <a:lnTo>
                  <a:pt x="152848" y="1926463"/>
                </a:lnTo>
                <a:lnTo>
                  <a:pt x="154435" y="1930166"/>
                </a:lnTo>
                <a:lnTo>
                  <a:pt x="156022" y="1933605"/>
                </a:lnTo>
                <a:lnTo>
                  <a:pt x="157608" y="1937309"/>
                </a:lnTo>
                <a:lnTo>
                  <a:pt x="159724" y="1940748"/>
                </a:lnTo>
                <a:lnTo>
                  <a:pt x="161839" y="1944187"/>
                </a:lnTo>
                <a:lnTo>
                  <a:pt x="164219" y="1947097"/>
                </a:lnTo>
                <a:lnTo>
                  <a:pt x="166599" y="1950272"/>
                </a:lnTo>
                <a:lnTo>
                  <a:pt x="169244" y="1953446"/>
                </a:lnTo>
                <a:lnTo>
                  <a:pt x="171888" y="1956091"/>
                </a:lnTo>
                <a:lnTo>
                  <a:pt x="175062" y="1958737"/>
                </a:lnTo>
                <a:lnTo>
                  <a:pt x="177971" y="1961382"/>
                </a:lnTo>
                <a:lnTo>
                  <a:pt x="181144" y="1963763"/>
                </a:lnTo>
                <a:lnTo>
                  <a:pt x="184582" y="1965880"/>
                </a:lnTo>
                <a:lnTo>
                  <a:pt x="187755" y="1967996"/>
                </a:lnTo>
                <a:lnTo>
                  <a:pt x="191457" y="1970112"/>
                </a:lnTo>
                <a:lnTo>
                  <a:pt x="194895" y="1971700"/>
                </a:lnTo>
                <a:lnTo>
                  <a:pt x="198597" y="1973551"/>
                </a:lnTo>
                <a:lnTo>
                  <a:pt x="202299" y="1974874"/>
                </a:lnTo>
                <a:lnTo>
                  <a:pt x="206266" y="1976197"/>
                </a:lnTo>
                <a:lnTo>
                  <a:pt x="209968" y="1977255"/>
                </a:lnTo>
                <a:lnTo>
                  <a:pt x="213935" y="1978049"/>
                </a:lnTo>
                <a:lnTo>
                  <a:pt x="218166" y="1978842"/>
                </a:lnTo>
                <a:lnTo>
                  <a:pt x="222133" y="1979636"/>
                </a:lnTo>
                <a:lnTo>
                  <a:pt x="226364" y="1979900"/>
                </a:lnTo>
                <a:lnTo>
                  <a:pt x="230859" y="1979900"/>
                </a:lnTo>
                <a:lnTo>
                  <a:pt x="1273033" y="1979900"/>
                </a:lnTo>
                <a:lnTo>
                  <a:pt x="1276999" y="1979900"/>
                </a:lnTo>
                <a:lnTo>
                  <a:pt x="1281230" y="1979636"/>
                </a:lnTo>
                <a:lnTo>
                  <a:pt x="1285461" y="1978842"/>
                </a:lnTo>
                <a:lnTo>
                  <a:pt x="1289693" y="1978049"/>
                </a:lnTo>
                <a:lnTo>
                  <a:pt x="1293395" y="1977255"/>
                </a:lnTo>
                <a:lnTo>
                  <a:pt x="1297626" y="1976197"/>
                </a:lnTo>
                <a:lnTo>
                  <a:pt x="1301593" y="1974874"/>
                </a:lnTo>
                <a:lnTo>
                  <a:pt x="1305030" y="1973551"/>
                </a:lnTo>
                <a:lnTo>
                  <a:pt x="1308997" y="1971700"/>
                </a:lnTo>
                <a:lnTo>
                  <a:pt x="1312435" y="1970112"/>
                </a:lnTo>
                <a:lnTo>
                  <a:pt x="1315873" y="1967996"/>
                </a:lnTo>
                <a:lnTo>
                  <a:pt x="1319310" y="1965880"/>
                </a:lnTo>
                <a:lnTo>
                  <a:pt x="1322484" y="1963763"/>
                </a:lnTo>
                <a:lnTo>
                  <a:pt x="1325657" y="1961382"/>
                </a:lnTo>
                <a:lnTo>
                  <a:pt x="1328566" y="1958737"/>
                </a:lnTo>
                <a:lnTo>
                  <a:pt x="1331475" y="1956091"/>
                </a:lnTo>
                <a:lnTo>
                  <a:pt x="1334119" y="1953446"/>
                </a:lnTo>
                <a:lnTo>
                  <a:pt x="1336764" y="1950272"/>
                </a:lnTo>
                <a:lnTo>
                  <a:pt x="1339144" y="1947097"/>
                </a:lnTo>
                <a:lnTo>
                  <a:pt x="1341524" y="1944187"/>
                </a:lnTo>
                <a:lnTo>
                  <a:pt x="1343639" y="1940748"/>
                </a:lnTo>
                <a:lnTo>
                  <a:pt x="1345755" y="1937309"/>
                </a:lnTo>
                <a:lnTo>
                  <a:pt x="1347606" y="1933605"/>
                </a:lnTo>
                <a:lnTo>
                  <a:pt x="1349457" y="1930166"/>
                </a:lnTo>
                <a:lnTo>
                  <a:pt x="1350779" y="1926463"/>
                </a:lnTo>
                <a:lnTo>
                  <a:pt x="1352101" y="1922759"/>
                </a:lnTo>
                <a:lnTo>
                  <a:pt x="1353159" y="1918791"/>
                </a:lnTo>
                <a:lnTo>
                  <a:pt x="1354217" y="1915087"/>
                </a:lnTo>
                <a:lnTo>
                  <a:pt x="1354746" y="1911119"/>
                </a:lnTo>
                <a:lnTo>
                  <a:pt x="1355275" y="1906887"/>
                </a:lnTo>
                <a:lnTo>
                  <a:pt x="1355539" y="1902918"/>
                </a:lnTo>
                <a:lnTo>
                  <a:pt x="1355804" y="1898686"/>
                </a:lnTo>
                <a:lnTo>
                  <a:pt x="1355804" y="1327749"/>
                </a:lnTo>
                <a:lnTo>
                  <a:pt x="1312492" y="1370013"/>
                </a:lnTo>
                <a:lnTo>
                  <a:pt x="1031875" y="1095852"/>
                </a:lnTo>
                <a:lnTo>
                  <a:pt x="1355804" y="779295"/>
                </a:lnTo>
                <a:lnTo>
                  <a:pt x="1355804" y="633378"/>
                </a:lnTo>
                <a:lnTo>
                  <a:pt x="1355539" y="629146"/>
                </a:lnTo>
                <a:lnTo>
                  <a:pt x="1355275" y="624913"/>
                </a:lnTo>
                <a:lnTo>
                  <a:pt x="1354746" y="620945"/>
                </a:lnTo>
                <a:lnTo>
                  <a:pt x="1354217" y="616977"/>
                </a:lnTo>
                <a:lnTo>
                  <a:pt x="1353159" y="613009"/>
                </a:lnTo>
                <a:lnTo>
                  <a:pt x="1352101" y="609041"/>
                </a:lnTo>
                <a:lnTo>
                  <a:pt x="1350779" y="605601"/>
                </a:lnTo>
                <a:lnTo>
                  <a:pt x="1349457" y="601633"/>
                </a:lnTo>
                <a:lnTo>
                  <a:pt x="1347606" y="598194"/>
                </a:lnTo>
                <a:lnTo>
                  <a:pt x="1345755" y="594491"/>
                </a:lnTo>
                <a:lnTo>
                  <a:pt x="1343639" y="591316"/>
                </a:lnTo>
                <a:lnTo>
                  <a:pt x="1341524" y="588142"/>
                </a:lnTo>
                <a:lnTo>
                  <a:pt x="1339144" y="584703"/>
                </a:lnTo>
                <a:lnTo>
                  <a:pt x="1336764" y="581793"/>
                </a:lnTo>
                <a:lnTo>
                  <a:pt x="1334119" y="578883"/>
                </a:lnTo>
                <a:lnTo>
                  <a:pt x="1331475" y="575708"/>
                </a:lnTo>
                <a:lnTo>
                  <a:pt x="1328566" y="573063"/>
                </a:lnTo>
                <a:lnTo>
                  <a:pt x="1325657" y="570682"/>
                </a:lnTo>
                <a:lnTo>
                  <a:pt x="1322484" y="568301"/>
                </a:lnTo>
                <a:lnTo>
                  <a:pt x="1319310" y="565920"/>
                </a:lnTo>
                <a:lnTo>
                  <a:pt x="1315873" y="564068"/>
                </a:lnTo>
                <a:lnTo>
                  <a:pt x="1312435" y="561952"/>
                </a:lnTo>
                <a:lnTo>
                  <a:pt x="1308997" y="560100"/>
                </a:lnTo>
                <a:lnTo>
                  <a:pt x="1305030" y="558513"/>
                </a:lnTo>
                <a:lnTo>
                  <a:pt x="1301593" y="557190"/>
                </a:lnTo>
                <a:lnTo>
                  <a:pt x="1297626" y="555867"/>
                </a:lnTo>
                <a:lnTo>
                  <a:pt x="1293395" y="554809"/>
                </a:lnTo>
                <a:lnTo>
                  <a:pt x="1289693" y="553751"/>
                </a:lnTo>
                <a:lnTo>
                  <a:pt x="1285461" y="553222"/>
                </a:lnTo>
                <a:lnTo>
                  <a:pt x="1281230" y="552693"/>
                </a:lnTo>
                <a:lnTo>
                  <a:pt x="1276999" y="552428"/>
                </a:lnTo>
                <a:lnTo>
                  <a:pt x="1273033" y="552164"/>
                </a:lnTo>
                <a:lnTo>
                  <a:pt x="230859" y="552164"/>
                </a:lnTo>
                <a:close/>
                <a:moveTo>
                  <a:pt x="1950691" y="197947"/>
                </a:moveTo>
                <a:lnTo>
                  <a:pt x="2231837" y="472902"/>
                </a:lnTo>
                <a:lnTo>
                  <a:pt x="1503363" y="1183758"/>
                </a:lnTo>
                <a:lnTo>
                  <a:pt x="1503363" y="1898686"/>
                </a:lnTo>
                <a:lnTo>
                  <a:pt x="1503099" y="1910326"/>
                </a:lnTo>
                <a:lnTo>
                  <a:pt x="1502305" y="1921701"/>
                </a:lnTo>
                <a:lnTo>
                  <a:pt x="1500719" y="1933076"/>
                </a:lnTo>
                <a:lnTo>
                  <a:pt x="1498603" y="1944187"/>
                </a:lnTo>
                <a:lnTo>
                  <a:pt x="1495959" y="1955033"/>
                </a:lnTo>
                <a:lnTo>
                  <a:pt x="1493050" y="1965880"/>
                </a:lnTo>
                <a:lnTo>
                  <a:pt x="1489348" y="1976197"/>
                </a:lnTo>
                <a:lnTo>
                  <a:pt x="1485381" y="1986249"/>
                </a:lnTo>
                <a:lnTo>
                  <a:pt x="1480621" y="1996567"/>
                </a:lnTo>
                <a:lnTo>
                  <a:pt x="1475332" y="2006090"/>
                </a:lnTo>
                <a:lnTo>
                  <a:pt x="1469779" y="2015614"/>
                </a:lnTo>
                <a:lnTo>
                  <a:pt x="1463961" y="2024873"/>
                </a:lnTo>
                <a:lnTo>
                  <a:pt x="1457614" y="2033338"/>
                </a:lnTo>
                <a:lnTo>
                  <a:pt x="1450739" y="2042068"/>
                </a:lnTo>
                <a:lnTo>
                  <a:pt x="1443334" y="2050004"/>
                </a:lnTo>
                <a:lnTo>
                  <a:pt x="1435930" y="2057940"/>
                </a:lnTo>
                <a:lnTo>
                  <a:pt x="1427997" y="2065612"/>
                </a:lnTo>
                <a:lnTo>
                  <a:pt x="1419535" y="2072755"/>
                </a:lnTo>
                <a:lnTo>
                  <a:pt x="1410543" y="2079104"/>
                </a:lnTo>
                <a:lnTo>
                  <a:pt x="1401817" y="2085453"/>
                </a:lnTo>
                <a:lnTo>
                  <a:pt x="1392561" y="2091273"/>
                </a:lnTo>
                <a:lnTo>
                  <a:pt x="1382777" y="2096828"/>
                </a:lnTo>
                <a:lnTo>
                  <a:pt x="1372992" y="2101855"/>
                </a:lnTo>
                <a:lnTo>
                  <a:pt x="1362415" y="2106352"/>
                </a:lnTo>
                <a:lnTo>
                  <a:pt x="1352101" y="2110320"/>
                </a:lnTo>
                <a:lnTo>
                  <a:pt x="1341259" y="2114024"/>
                </a:lnTo>
                <a:lnTo>
                  <a:pt x="1330417" y="2116934"/>
                </a:lnTo>
                <a:lnTo>
                  <a:pt x="1319310" y="2119314"/>
                </a:lnTo>
                <a:lnTo>
                  <a:pt x="1307939" y="2121431"/>
                </a:lnTo>
                <a:lnTo>
                  <a:pt x="1296304" y="2123018"/>
                </a:lnTo>
                <a:lnTo>
                  <a:pt x="1284933" y="2123812"/>
                </a:lnTo>
                <a:lnTo>
                  <a:pt x="1273033" y="2124076"/>
                </a:lnTo>
                <a:lnTo>
                  <a:pt x="230859" y="2124076"/>
                </a:lnTo>
                <a:lnTo>
                  <a:pt x="218959" y="2123812"/>
                </a:lnTo>
                <a:lnTo>
                  <a:pt x="207059" y="2123018"/>
                </a:lnTo>
                <a:lnTo>
                  <a:pt x="195688" y="2121431"/>
                </a:lnTo>
                <a:lnTo>
                  <a:pt x="184582" y="2119314"/>
                </a:lnTo>
                <a:lnTo>
                  <a:pt x="173211" y="2116934"/>
                </a:lnTo>
                <a:lnTo>
                  <a:pt x="162104" y="2114024"/>
                </a:lnTo>
                <a:lnTo>
                  <a:pt x="151526" y="2110320"/>
                </a:lnTo>
                <a:lnTo>
                  <a:pt x="140948" y="2106352"/>
                </a:lnTo>
                <a:lnTo>
                  <a:pt x="130900" y="2101855"/>
                </a:lnTo>
                <a:lnTo>
                  <a:pt x="120851" y="2096828"/>
                </a:lnTo>
                <a:lnTo>
                  <a:pt x="111331" y="2091273"/>
                </a:lnTo>
                <a:lnTo>
                  <a:pt x="101811" y="2085453"/>
                </a:lnTo>
                <a:lnTo>
                  <a:pt x="92820" y="2079104"/>
                </a:lnTo>
                <a:lnTo>
                  <a:pt x="84357" y="2072755"/>
                </a:lnTo>
                <a:lnTo>
                  <a:pt x="75895" y="2065612"/>
                </a:lnTo>
                <a:lnTo>
                  <a:pt x="67962" y="2057940"/>
                </a:lnTo>
                <a:lnTo>
                  <a:pt x="60293" y="2050004"/>
                </a:lnTo>
                <a:lnTo>
                  <a:pt x="53153" y="2042068"/>
                </a:lnTo>
                <a:lnTo>
                  <a:pt x="46278" y="2033338"/>
                </a:lnTo>
                <a:lnTo>
                  <a:pt x="39666" y="2024873"/>
                </a:lnTo>
                <a:lnTo>
                  <a:pt x="33584" y="2015614"/>
                </a:lnTo>
                <a:lnTo>
                  <a:pt x="28031" y="2006090"/>
                </a:lnTo>
                <a:lnTo>
                  <a:pt x="23006" y="1996567"/>
                </a:lnTo>
                <a:lnTo>
                  <a:pt x="18511" y="1986249"/>
                </a:lnTo>
                <a:lnTo>
                  <a:pt x="14280" y="1976197"/>
                </a:lnTo>
                <a:lnTo>
                  <a:pt x="10578" y="1965880"/>
                </a:lnTo>
                <a:lnTo>
                  <a:pt x="7669" y="1955033"/>
                </a:lnTo>
                <a:lnTo>
                  <a:pt x="4760" y="1944187"/>
                </a:lnTo>
                <a:lnTo>
                  <a:pt x="2909" y="1933076"/>
                </a:lnTo>
                <a:lnTo>
                  <a:pt x="1322" y="1921701"/>
                </a:lnTo>
                <a:lnTo>
                  <a:pt x="529" y="1910326"/>
                </a:lnTo>
                <a:lnTo>
                  <a:pt x="0" y="1898686"/>
                </a:lnTo>
                <a:lnTo>
                  <a:pt x="0" y="633378"/>
                </a:lnTo>
                <a:lnTo>
                  <a:pt x="529" y="621739"/>
                </a:lnTo>
                <a:lnTo>
                  <a:pt x="1322" y="610363"/>
                </a:lnTo>
                <a:lnTo>
                  <a:pt x="2909" y="598988"/>
                </a:lnTo>
                <a:lnTo>
                  <a:pt x="4760" y="587613"/>
                </a:lnTo>
                <a:lnTo>
                  <a:pt x="7669" y="577031"/>
                </a:lnTo>
                <a:lnTo>
                  <a:pt x="10578" y="566449"/>
                </a:lnTo>
                <a:lnTo>
                  <a:pt x="14280" y="555867"/>
                </a:lnTo>
                <a:lnTo>
                  <a:pt x="18511" y="545550"/>
                </a:lnTo>
                <a:lnTo>
                  <a:pt x="23006" y="535762"/>
                </a:lnTo>
                <a:lnTo>
                  <a:pt x="28031" y="525974"/>
                </a:lnTo>
                <a:lnTo>
                  <a:pt x="33584" y="516451"/>
                </a:lnTo>
                <a:lnTo>
                  <a:pt x="39666" y="507456"/>
                </a:lnTo>
                <a:lnTo>
                  <a:pt x="46278" y="498462"/>
                </a:lnTo>
                <a:lnTo>
                  <a:pt x="53153" y="489996"/>
                </a:lnTo>
                <a:lnTo>
                  <a:pt x="60293" y="481795"/>
                </a:lnTo>
                <a:lnTo>
                  <a:pt x="67962" y="474124"/>
                </a:lnTo>
                <a:lnTo>
                  <a:pt x="75895" y="466717"/>
                </a:lnTo>
                <a:lnTo>
                  <a:pt x="84357" y="459574"/>
                </a:lnTo>
                <a:lnTo>
                  <a:pt x="92820" y="452696"/>
                </a:lnTo>
                <a:lnTo>
                  <a:pt x="101811" y="446347"/>
                </a:lnTo>
                <a:lnTo>
                  <a:pt x="111331" y="440527"/>
                </a:lnTo>
                <a:lnTo>
                  <a:pt x="120851" y="435236"/>
                </a:lnTo>
                <a:lnTo>
                  <a:pt x="130900" y="430474"/>
                </a:lnTo>
                <a:lnTo>
                  <a:pt x="140948" y="425712"/>
                </a:lnTo>
                <a:lnTo>
                  <a:pt x="151526" y="421744"/>
                </a:lnTo>
                <a:lnTo>
                  <a:pt x="162104" y="418305"/>
                </a:lnTo>
                <a:lnTo>
                  <a:pt x="173211" y="415131"/>
                </a:lnTo>
                <a:lnTo>
                  <a:pt x="184582" y="412485"/>
                </a:lnTo>
                <a:lnTo>
                  <a:pt x="195688" y="410634"/>
                </a:lnTo>
                <a:lnTo>
                  <a:pt x="207059" y="409311"/>
                </a:lnTo>
                <a:lnTo>
                  <a:pt x="218959" y="408253"/>
                </a:lnTo>
                <a:lnTo>
                  <a:pt x="230859" y="407988"/>
                </a:lnTo>
                <a:lnTo>
                  <a:pt x="1273033" y="407988"/>
                </a:lnTo>
                <a:lnTo>
                  <a:pt x="1284933" y="408253"/>
                </a:lnTo>
                <a:lnTo>
                  <a:pt x="1296304" y="409311"/>
                </a:lnTo>
                <a:lnTo>
                  <a:pt x="1307939" y="410369"/>
                </a:lnTo>
                <a:lnTo>
                  <a:pt x="1319310" y="412485"/>
                </a:lnTo>
                <a:lnTo>
                  <a:pt x="1330417" y="415131"/>
                </a:lnTo>
                <a:lnTo>
                  <a:pt x="1341259" y="418305"/>
                </a:lnTo>
                <a:lnTo>
                  <a:pt x="1352101" y="421744"/>
                </a:lnTo>
                <a:lnTo>
                  <a:pt x="1362415" y="425712"/>
                </a:lnTo>
                <a:lnTo>
                  <a:pt x="1372992" y="430210"/>
                </a:lnTo>
                <a:lnTo>
                  <a:pt x="1382777" y="435236"/>
                </a:lnTo>
                <a:lnTo>
                  <a:pt x="1392561" y="440527"/>
                </a:lnTo>
                <a:lnTo>
                  <a:pt x="1401817" y="446347"/>
                </a:lnTo>
                <a:lnTo>
                  <a:pt x="1410543" y="452696"/>
                </a:lnTo>
                <a:lnTo>
                  <a:pt x="1419535" y="459574"/>
                </a:lnTo>
                <a:lnTo>
                  <a:pt x="1427997" y="466452"/>
                </a:lnTo>
                <a:lnTo>
                  <a:pt x="1435930" y="473859"/>
                </a:lnTo>
                <a:lnTo>
                  <a:pt x="1443334" y="481795"/>
                </a:lnTo>
                <a:lnTo>
                  <a:pt x="1450739" y="489996"/>
                </a:lnTo>
                <a:lnTo>
                  <a:pt x="1457614" y="498462"/>
                </a:lnTo>
                <a:lnTo>
                  <a:pt x="1463961" y="507456"/>
                </a:lnTo>
                <a:lnTo>
                  <a:pt x="1469779" y="516451"/>
                </a:lnTo>
                <a:lnTo>
                  <a:pt x="1475332" y="525974"/>
                </a:lnTo>
                <a:lnTo>
                  <a:pt x="1480621" y="535762"/>
                </a:lnTo>
                <a:lnTo>
                  <a:pt x="1485381" y="545550"/>
                </a:lnTo>
                <a:lnTo>
                  <a:pt x="1489348" y="555867"/>
                </a:lnTo>
                <a:lnTo>
                  <a:pt x="1493050" y="566449"/>
                </a:lnTo>
                <a:lnTo>
                  <a:pt x="1495959" y="577031"/>
                </a:lnTo>
                <a:lnTo>
                  <a:pt x="1498603" y="587613"/>
                </a:lnTo>
                <a:lnTo>
                  <a:pt x="1500719" y="598988"/>
                </a:lnTo>
                <a:lnTo>
                  <a:pt x="1502305" y="610363"/>
                </a:lnTo>
                <a:lnTo>
                  <a:pt x="1503099" y="621739"/>
                </a:lnTo>
                <a:lnTo>
                  <a:pt x="1503363" y="633378"/>
                </a:lnTo>
                <a:lnTo>
                  <a:pt x="1503363" y="635094"/>
                </a:lnTo>
                <a:lnTo>
                  <a:pt x="1950691" y="197947"/>
                </a:lnTo>
                <a:close/>
                <a:moveTo>
                  <a:pt x="2235011" y="0"/>
                </a:moveTo>
                <a:lnTo>
                  <a:pt x="2244532" y="265"/>
                </a:lnTo>
                <a:lnTo>
                  <a:pt x="2254054" y="794"/>
                </a:lnTo>
                <a:lnTo>
                  <a:pt x="2263575" y="2117"/>
                </a:lnTo>
                <a:lnTo>
                  <a:pt x="2272832" y="3440"/>
                </a:lnTo>
                <a:lnTo>
                  <a:pt x="2282354" y="5557"/>
                </a:lnTo>
                <a:lnTo>
                  <a:pt x="2291611" y="7939"/>
                </a:lnTo>
                <a:lnTo>
                  <a:pt x="2300867" y="11115"/>
                </a:lnTo>
                <a:lnTo>
                  <a:pt x="2309860" y="14290"/>
                </a:lnTo>
                <a:lnTo>
                  <a:pt x="2318588" y="18260"/>
                </a:lnTo>
                <a:lnTo>
                  <a:pt x="2327316" y="22229"/>
                </a:lnTo>
                <a:lnTo>
                  <a:pt x="2336044" y="26728"/>
                </a:lnTo>
                <a:lnTo>
                  <a:pt x="2344243" y="32021"/>
                </a:lnTo>
                <a:lnTo>
                  <a:pt x="2352442" y="37578"/>
                </a:lnTo>
                <a:lnTo>
                  <a:pt x="2360376" y="43400"/>
                </a:lnTo>
                <a:lnTo>
                  <a:pt x="2368046" y="50016"/>
                </a:lnTo>
                <a:lnTo>
                  <a:pt x="2375187" y="56897"/>
                </a:lnTo>
                <a:lnTo>
                  <a:pt x="2382328" y="64042"/>
                </a:lnTo>
                <a:lnTo>
                  <a:pt x="2388940" y="71451"/>
                </a:lnTo>
                <a:lnTo>
                  <a:pt x="2395024" y="79126"/>
                </a:lnTo>
                <a:lnTo>
                  <a:pt x="2400842" y="87065"/>
                </a:lnTo>
                <a:lnTo>
                  <a:pt x="2406132" y="95533"/>
                </a:lnTo>
                <a:lnTo>
                  <a:pt x="2410893" y="103737"/>
                </a:lnTo>
                <a:lnTo>
                  <a:pt x="2415124" y="112205"/>
                </a:lnTo>
                <a:lnTo>
                  <a:pt x="2418827" y="120938"/>
                </a:lnTo>
                <a:lnTo>
                  <a:pt x="2422265" y="129671"/>
                </a:lnTo>
                <a:lnTo>
                  <a:pt x="2425175" y="138669"/>
                </a:lnTo>
                <a:lnTo>
                  <a:pt x="2427820" y="147666"/>
                </a:lnTo>
                <a:lnTo>
                  <a:pt x="2429935" y="156928"/>
                </a:lnTo>
                <a:lnTo>
                  <a:pt x="2431522" y="165926"/>
                </a:lnTo>
                <a:lnTo>
                  <a:pt x="2432580" y="175188"/>
                </a:lnTo>
                <a:lnTo>
                  <a:pt x="2433109" y="184450"/>
                </a:lnTo>
                <a:lnTo>
                  <a:pt x="2433638" y="193713"/>
                </a:lnTo>
                <a:lnTo>
                  <a:pt x="2433109" y="203239"/>
                </a:lnTo>
                <a:lnTo>
                  <a:pt x="2432580" y="212502"/>
                </a:lnTo>
                <a:lnTo>
                  <a:pt x="2431522" y="221764"/>
                </a:lnTo>
                <a:lnTo>
                  <a:pt x="2429935" y="231026"/>
                </a:lnTo>
                <a:lnTo>
                  <a:pt x="2427820" y="240024"/>
                </a:lnTo>
                <a:lnTo>
                  <a:pt x="2425175" y="249021"/>
                </a:lnTo>
                <a:lnTo>
                  <a:pt x="2422265" y="258019"/>
                </a:lnTo>
                <a:lnTo>
                  <a:pt x="2418827" y="267016"/>
                </a:lnTo>
                <a:lnTo>
                  <a:pt x="2415124" y="275485"/>
                </a:lnTo>
                <a:lnTo>
                  <a:pt x="2410893" y="283953"/>
                </a:lnTo>
                <a:lnTo>
                  <a:pt x="2406132" y="292157"/>
                </a:lnTo>
                <a:lnTo>
                  <a:pt x="2400842" y="300625"/>
                </a:lnTo>
                <a:lnTo>
                  <a:pt x="2395024" y="308564"/>
                </a:lnTo>
                <a:lnTo>
                  <a:pt x="2388940" y="316238"/>
                </a:lnTo>
                <a:lnTo>
                  <a:pt x="2382328" y="323648"/>
                </a:lnTo>
                <a:lnTo>
                  <a:pt x="2375187" y="330793"/>
                </a:lnTo>
                <a:lnTo>
                  <a:pt x="2295842" y="408596"/>
                </a:lnTo>
                <a:lnTo>
                  <a:pt x="2015490" y="134434"/>
                </a:lnTo>
                <a:lnTo>
                  <a:pt x="2095099" y="56897"/>
                </a:lnTo>
                <a:lnTo>
                  <a:pt x="2102505" y="50016"/>
                </a:lnTo>
                <a:lnTo>
                  <a:pt x="2110175" y="43400"/>
                </a:lnTo>
                <a:lnTo>
                  <a:pt x="2117845" y="37578"/>
                </a:lnTo>
                <a:lnTo>
                  <a:pt x="2126044" y="32021"/>
                </a:lnTo>
                <a:lnTo>
                  <a:pt x="2134507" y="26728"/>
                </a:lnTo>
                <a:lnTo>
                  <a:pt x="2142971" y="22229"/>
                </a:lnTo>
                <a:lnTo>
                  <a:pt x="2151963" y="18260"/>
                </a:lnTo>
                <a:lnTo>
                  <a:pt x="2160427" y="14290"/>
                </a:lnTo>
                <a:lnTo>
                  <a:pt x="2169684" y="11115"/>
                </a:lnTo>
                <a:lnTo>
                  <a:pt x="2178676" y="7939"/>
                </a:lnTo>
                <a:lnTo>
                  <a:pt x="2187933" y="5557"/>
                </a:lnTo>
                <a:lnTo>
                  <a:pt x="2197454" y="3440"/>
                </a:lnTo>
                <a:lnTo>
                  <a:pt x="2206447" y="2117"/>
                </a:lnTo>
                <a:lnTo>
                  <a:pt x="2215968" y="794"/>
                </a:lnTo>
                <a:lnTo>
                  <a:pt x="2225490" y="265"/>
                </a:lnTo>
                <a:lnTo>
                  <a:pt x="2235011" y="0"/>
                </a:lnTo>
                <a:close/>
              </a:path>
            </a:pathLst>
          </a:custGeom>
          <a:solidFill>
            <a:srgbClr val="009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76" name="矩形 5"/>
          <p:cNvSpPr/>
          <p:nvPr/>
        </p:nvSpPr>
        <p:spPr>
          <a:xfrm>
            <a:off x="74304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7e0"/>
                </a:solidFill>
                <a:latin typeface="Calibri"/>
              </a:rPr>
              <a:t>缺点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77" name="KSO_Shape"/>
          <p:cNvSpPr/>
          <p:nvPr/>
        </p:nvSpPr>
        <p:spPr>
          <a:xfrm>
            <a:off x="4840200" y="4238640"/>
            <a:ext cx="511200" cy="446040"/>
          </a:xfrm>
          <a:custGeom>
            <a:avLst/>
            <a:gdLst>
              <a:gd name="textAreaLeft" fmla="*/ 0 w 511200"/>
              <a:gd name="textAreaRight" fmla="*/ 511560 w 5112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2433638" h="2124076">
                <a:moveTo>
                  <a:pt x="713371" y="1577975"/>
                </a:moveTo>
                <a:lnTo>
                  <a:pt x="804863" y="1667192"/>
                </a:lnTo>
                <a:lnTo>
                  <a:pt x="574675" y="1801813"/>
                </a:lnTo>
                <a:lnTo>
                  <a:pt x="713371" y="1577975"/>
                </a:lnTo>
                <a:close/>
                <a:moveTo>
                  <a:pt x="994071" y="1152525"/>
                </a:moveTo>
                <a:lnTo>
                  <a:pt x="1250950" y="1402947"/>
                </a:lnTo>
                <a:lnTo>
                  <a:pt x="852445" y="1631950"/>
                </a:lnTo>
                <a:lnTo>
                  <a:pt x="757237" y="1538868"/>
                </a:lnTo>
                <a:lnTo>
                  <a:pt x="994071" y="1152525"/>
                </a:lnTo>
                <a:close/>
                <a:moveTo>
                  <a:pt x="230859" y="552164"/>
                </a:moveTo>
                <a:lnTo>
                  <a:pt x="226364" y="552428"/>
                </a:lnTo>
                <a:lnTo>
                  <a:pt x="222133" y="552693"/>
                </a:lnTo>
                <a:lnTo>
                  <a:pt x="218166" y="553222"/>
                </a:lnTo>
                <a:lnTo>
                  <a:pt x="213935" y="553751"/>
                </a:lnTo>
                <a:lnTo>
                  <a:pt x="209968" y="554809"/>
                </a:lnTo>
                <a:lnTo>
                  <a:pt x="206266" y="555867"/>
                </a:lnTo>
                <a:lnTo>
                  <a:pt x="202299" y="557190"/>
                </a:lnTo>
                <a:lnTo>
                  <a:pt x="198597" y="558513"/>
                </a:lnTo>
                <a:lnTo>
                  <a:pt x="194895" y="560100"/>
                </a:lnTo>
                <a:lnTo>
                  <a:pt x="191457" y="561952"/>
                </a:lnTo>
                <a:lnTo>
                  <a:pt x="187755" y="564068"/>
                </a:lnTo>
                <a:lnTo>
                  <a:pt x="184582" y="565920"/>
                </a:lnTo>
                <a:lnTo>
                  <a:pt x="181144" y="568301"/>
                </a:lnTo>
                <a:lnTo>
                  <a:pt x="177971" y="570682"/>
                </a:lnTo>
                <a:lnTo>
                  <a:pt x="175062" y="573063"/>
                </a:lnTo>
                <a:lnTo>
                  <a:pt x="171888" y="575708"/>
                </a:lnTo>
                <a:lnTo>
                  <a:pt x="169244" y="578883"/>
                </a:lnTo>
                <a:lnTo>
                  <a:pt x="166599" y="581793"/>
                </a:lnTo>
                <a:lnTo>
                  <a:pt x="164219" y="584703"/>
                </a:lnTo>
                <a:lnTo>
                  <a:pt x="161839" y="588142"/>
                </a:lnTo>
                <a:lnTo>
                  <a:pt x="159724" y="591316"/>
                </a:lnTo>
                <a:lnTo>
                  <a:pt x="157608" y="594491"/>
                </a:lnTo>
                <a:lnTo>
                  <a:pt x="156022" y="598194"/>
                </a:lnTo>
                <a:lnTo>
                  <a:pt x="154435" y="601633"/>
                </a:lnTo>
                <a:lnTo>
                  <a:pt x="152848" y="605601"/>
                </a:lnTo>
                <a:lnTo>
                  <a:pt x="151526" y="609041"/>
                </a:lnTo>
                <a:lnTo>
                  <a:pt x="150204" y="613009"/>
                </a:lnTo>
                <a:lnTo>
                  <a:pt x="149411" y="616977"/>
                </a:lnTo>
                <a:lnTo>
                  <a:pt x="148882" y="620945"/>
                </a:lnTo>
                <a:lnTo>
                  <a:pt x="148088" y="624913"/>
                </a:lnTo>
                <a:lnTo>
                  <a:pt x="147824" y="629146"/>
                </a:lnTo>
                <a:lnTo>
                  <a:pt x="147824" y="633378"/>
                </a:lnTo>
                <a:lnTo>
                  <a:pt x="147824" y="1898686"/>
                </a:lnTo>
                <a:lnTo>
                  <a:pt x="147824" y="1902918"/>
                </a:lnTo>
                <a:lnTo>
                  <a:pt x="148088" y="1906887"/>
                </a:lnTo>
                <a:lnTo>
                  <a:pt x="148882" y="1911119"/>
                </a:lnTo>
                <a:lnTo>
                  <a:pt x="149411" y="1915087"/>
                </a:lnTo>
                <a:lnTo>
                  <a:pt x="150204" y="1918791"/>
                </a:lnTo>
                <a:lnTo>
                  <a:pt x="151526" y="1922759"/>
                </a:lnTo>
                <a:lnTo>
                  <a:pt x="152848" y="1926463"/>
                </a:lnTo>
                <a:lnTo>
                  <a:pt x="154435" y="1930166"/>
                </a:lnTo>
                <a:lnTo>
                  <a:pt x="156022" y="1933605"/>
                </a:lnTo>
                <a:lnTo>
                  <a:pt x="157608" y="1937309"/>
                </a:lnTo>
                <a:lnTo>
                  <a:pt x="159724" y="1940748"/>
                </a:lnTo>
                <a:lnTo>
                  <a:pt x="161839" y="1944187"/>
                </a:lnTo>
                <a:lnTo>
                  <a:pt x="164219" y="1947097"/>
                </a:lnTo>
                <a:lnTo>
                  <a:pt x="166599" y="1950272"/>
                </a:lnTo>
                <a:lnTo>
                  <a:pt x="169244" y="1953446"/>
                </a:lnTo>
                <a:lnTo>
                  <a:pt x="171888" y="1956091"/>
                </a:lnTo>
                <a:lnTo>
                  <a:pt x="175062" y="1958737"/>
                </a:lnTo>
                <a:lnTo>
                  <a:pt x="177971" y="1961382"/>
                </a:lnTo>
                <a:lnTo>
                  <a:pt x="181144" y="1963763"/>
                </a:lnTo>
                <a:lnTo>
                  <a:pt x="184582" y="1965880"/>
                </a:lnTo>
                <a:lnTo>
                  <a:pt x="187755" y="1967996"/>
                </a:lnTo>
                <a:lnTo>
                  <a:pt x="191457" y="1970112"/>
                </a:lnTo>
                <a:lnTo>
                  <a:pt x="194895" y="1971700"/>
                </a:lnTo>
                <a:lnTo>
                  <a:pt x="198597" y="1973551"/>
                </a:lnTo>
                <a:lnTo>
                  <a:pt x="202299" y="1974874"/>
                </a:lnTo>
                <a:lnTo>
                  <a:pt x="206266" y="1976197"/>
                </a:lnTo>
                <a:lnTo>
                  <a:pt x="209968" y="1977255"/>
                </a:lnTo>
                <a:lnTo>
                  <a:pt x="213935" y="1978049"/>
                </a:lnTo>
                <a:lnTo>
                  <a:pt x="218166" y="1978842"/>
                </a:lnTo>
                <a:lnTo>
                  <a:pt x="222133" y="1979636"/>
                </a:lnTo>
                <a:lnTo>
                  <a:pt x="226364" y="1979900"/>
                </a:lnTo>
                <a:lnTo>
                  <a:pt x="230859" y="1979900"/>
                </a:lnTo>
                <a:lnTo>
                  <a:pt x="1273033" y="1979900"/>
                </a:lnTo>
                <a:lnTo>
                  <a:pt x="1276999" y="1979900"/>
                </a:lnTo>
                <a:lnTo>
                  <a:pt x="1281230" y="1979636"/>
                </a:lnTo>
                <a:lnTo>
                  <a:pt x="1285461" y="1978842"/>
                </a:lnTo>
                <a:lnTo>
                  <a:pt x="1289693" y="1978049"/>
                </a:lnTo>
                <a:lnTo>
                  <a:pt x="1293395" y="1977255"/>
                </a:lnTo>
                <a:lnTo>
                  <a:pt x="1297626" y="1976197"/>
                </a:lnTo>
                <a:lnTo>
                  <a:pt x="1301593" y="1974874"/>
                </a:lnTo>
                <a:lnTo>
                  <a:pt x="1305030" y="1973551"/>
                </a:lnTo>
                <a:lnTo>
                  <a:pt x="1308997" y="1971700"/>
                </a:lnTo>
                <a:lnTo>
                  <a:pt x="1312435" y="1970112"/>
                </a:lnTo>
                <a:lnTo>
                  <a:pt x="1315873" y="1967996"/>
                </a:lnTo>
                <a:lnTo>
                  <a:pt x="1319310" y="1965880"/>
                </a:lnTo>
                <a:lnTo>
                  <a:pt x="1322484" y="1963763"/>
                </a:lnTo>
                <a:lnTo>
                  <a:pt x="1325657" y="1961382"/>
                </a:lnTo>
                <a:lnTo>
                  <a:pt x="1328566" y="1958737"/>
                </a:lnTo>
                <a:lnTo>
                  <a:pt x="1331475" y="1956091"/>
                </a:lnTo>
                <a:lnTo>
                  <a:pt x="1334119" y="1953446"/>
                </a:lnTo>
                <a:lnTo>
                  <a:pt x="1336764" y="1950272"/>
                </a:lnTo>
                <a:lnTo>
                  <a:pt x="1339144" y="1947097"/>
                </a:lnTo>
                <a:lnTo>
                  <a:pt x="1341524" y="1944187"/>
                </a:lnTo>
                <a:lnTo>
                  <a:pt x="1343639" y="1940748"/>
                </a:lnTo>
                <a:lnTo>
                  <a:pt x="1345755" y="1937309"/>
                </a:lnTo>
                <a:lnTo>
                  <a:pt x="1347606" y="1933605"/>
                </a:lnTo>
                <a:lnTo>
                  <a:pt x="1349457" y="1930166"/>
                </a:lnTo>
                <a:lnTo>
                  <a:pt x="1350779" y="1926463"/>
                </a:lnTo>
                <a:lnTo>
                  <a:pt x="1352101" y="1922759"/>
                </a:lnTo>
                <a:lnTo>
                  <a:pt x="1353159" y="1918791"/>
                </a:lnTo>
                <a:lnTo>
                  <a:pt x="1354217" y="1915087"/>
                </a:lnTo>
                <a:lnTo>
                  <a:pt x="1354746" y="1911119"/>
                </a:lnTo>
                <a:lnTo>
                  <a:pt x="1355275" y="1906887"/>
                </a:lnTo>
                <a:lnTo>
                  <a:pt x="1355539" y="1902918"/>
                </a:lnTo>
                <a:lnTo>
                  <a:pt x="1355804" y="1898686"/>
                </a:lnTo>
                <a:lnTo>
                  <a:pt x="1355804" y="1327749"/>
                </a:lnTo>
                <a:lnTo>
                  <a:pt x="1312492" y="1370013"/>
                </a:lnTo>
                <a:lnTo>
                  <a:pt x="1031875" y="1095852"/>
                </a:lnTo>
                <a:lnTo>
                  <a:pt x="1355804" y="779295"/>
                </a:lnTo>
                <a:lnTo>
                  <a:pt x="1355804" y="633378"/>
                </a:lnTo>
                <a:lnTo>
                  <a:pt x="1355539" y="629146"/>
                </a:lnTo>
                <a:lnTo>
                  <a:pt x="1355275" y="624913"/>
                </a:lnTo>
                <a:lnTo>
                  <a:pt x="1354746" y="620945"/>
                </a:lnTo>
                <a:lnTo>
                  <a:pt x="1354217" y="616977"/>
                </a:lnTo>
                <a:lnTo>
                  <a:pt x="1353159" y="613009"/>
                </a:lnTo>
                <a:lnTo>
                  <a:pt x="1352101" y="609041"/>
                </a:lnTo>
                <a:lnTo>
                  <a:pt x="1350779" y="605601"/>
                </a:lnTo>
                <a:lnTo>
                  <a:pt x="1349457" y="601633"/>
                </a:lnTo>
                <a:lnTo>
                  <a:pt x="1347606" y="598194"/>
                </a:lnTo>
                <a:lnTo>
                  <a:pt x="1345755" y="594491"/>
                </a:lnTo>
                <a:lnTo>
                  <a:pt x="1343639" y="591316"/>
                </a:lnTo>
                <a:lnTo>
                  <a:pt x="1341524" y="588142"/>
                </a:lnTo>
                <a:lnTo>
                  <a:pt x="1339144" y="584703"/>
                </a:lnTo>
                <a:lnTo>
                  <a:pt x="1336764" y="581793"/>
                </a:lnTo>
                <a:lnTo>
                  <a:pt x="1334119" y="578883"/>
                </a:lnTo>
                <a:lnTo>
                  <a:pt x="1331475" y="575708"/>
                </a:lnTo>
                <a:lnTo>
                  <a:pt x="1328566" y="573063"/>
                </a:lnTo>
                <a:lnTo>
                  <a:pt x="1325657" y="570682"/>
                </a:lnTo>
                <a:lnTo>
                  <a:pt x="1322484" y="568301"/>
                </a:lnTo>
                <a:lnTo>
                  <a:pt x="1319310" y="565920"/>
                </a:lnTo>
                <a:lnTo>
                  <a:pt x="1315873" y="564068"/>
                </a:lnTo>
                <a:lnTo>
                  <a:pt x="1312435" y="561952"/>
                </a:lnTo>
                <a:lnTo>
                  <a:pt x="1308997" y="560100"/>
                </a:lnTo>
                <a:lnTo>
                  <a:pt x="1305030" y="558513"/>
                </a:lnTo>
                <a:lnTo>
                  <a:pt x="1301593" y="557190"/>
                </a:lnTo>
                <a:lnTo>
                  <a:pt x="1297626" y="555867"/>
                </a:lnTo>
                <a:lnTo>
                  <a:pt x="1293395" y="554809"/>
                </a:lnTo>
                <a:lnTo>
                  <a:pt x="1289693" y="553751"/>
                </a:lnTo>
                <a:lnTo>
                  <a:pt x="1285461" y="553222"/>
                </a:lnTo>
                <a:lnTo>
                  <a:pt x="1281230" y="552693"/>
                </a:lnTo>
                <a:lnTo>
                  <a:pt x="1276999" y="552428"/>
                </a:lnTo>
                <a:lnTo>
                  <a:pt x="1273033" y="552164"/>
                </a:lnTo>
                <a:lnTo>
                  <a:pt x="230859" y="552164"/>
                </a:lnTo>
                <a:close/>
                <a:moveTo>
                  <a:pt x="1950691" y="197947"/>
                </a:moveTo>
                <a:lnTo>
                  <a:pt x="2231837" y="472902"/>
                </a:lnTo>
                <a:lnTo>
                  <a:pt x="1503363" y="1183758"/>
                </a:lnTo>
                <a:lnTo>
                  <a:pt x="1503363" y="1898686"/>
                </a:lnTo>
                <a:lnTo>
                  <a:pt x="1503099" y="1910326"/>
                </a:lnTo>
                <a:lnTo>
                  <a:pt x="1502305" y="1921701"/>
                </a:lnTo>
                <a:lnTo>
                  <a:pt x="1500719" y="1933076"/>
                </a:lnTo>
                <a:lnTo>
                  <a:pt x="1498603" y="1944187"/>
                </a:lnTo>
                <a:lnTo>
                  <a:pt x="1495959" y="1955033"/>
                </a:lnTo>
                <a:lnTo>
                  <a:pt x="1493050" y="1965880"/>
                </a:lnTo>
                <a:lnTo>
                  <a:pt x="1489348" y="1976197"/>
                </a:lnTo>
                <a:lnTo>
                  <a:pt x="1485381" y="1986249"/>
                </a:lnTo>
                <a:lnTo>
                  <a:pt x="1480621" y="1996567"/>
                </a:lnTo>
                <a:lnTo>
                  <a:pt x="1475332" y="2006090"/>
                </a:lnTo>
                <a:lnTo>
                  <a:pt x="1469779" y="2015614"/>
                </a:lnTo>
                <a:lnTo>
                  <a:pt x="1463961" y="2024873"/>
                </a:lnTo>
                <a:lnTo>
                  <a:pt x="1457614" y="2033338"/>
                </a:lnTo>
                <a:lnTo>
                  <a:pt x="1450739" y="2042068"/>
                </a:lnTo>
                <a:lnTo>
                  <a:pt x="1443334" y="2050004"/>
                </a:lnTo>
                <a:lnTo>
                  <a:pt x="1435930" y="2057940"/>
                </a:lnTo>
                <a:lnTo>
                  <a:pt x="1427997" y="2065612"/>
                </a:lnTo>
                <a:lnTo>
                  <a:pt x="1419535" y="2072755"/>
                </a:lnTo>
                <a:lnTo>
                  <a:pt x="1410543" y="2079104"/>
                </a:lnTo>
                <a:lnTo>
                  <a:pt x="1401817" y="2085453"/>
                </a:lnTo>
                <a:lnTo>
                  <a:pt x="1392561" y="2091273"/>
                </a:lnTo>
                <a:lnTo>
                  <a:pt x="1382777" y="2096828"/>
                </a:lnTo>
                <a:lnTo>
                  <a:pt x="1372992" y="2101855"/>
                </a:lnTo>
                <a:lnTo>
                  <a:pt x="1362415" y="2106352"/>
                </a:lnTo>
                <a:lnTo>
                  <a:pt x="1352101" y="2110320"/>
                </a:lnTo>
                <a:lnTo>
                  <a:pt x="1341259" y="2114024"/>
                </a:lnTo>
                <a:lnTo>
                  <a:pt x="1330417" y="2116934"/>
                </a:lnTo>
                <a:lnTo>
                  <a:pt x="1319310" y="2119314"/>
                </a:lnTo>
                <a:lnTo>
                  <a:pt x="1307939" y="2121431"/>
                </a:lnTo>
                <a:lnTo>
                  <a:pt x="1296304" y="2123018"/>
                </a:lnTo>
                <a:lnTo>
                  <a:pt x="1284933" y="2123812"/>
                </a:lnTo>
                <a:lnTo>
                  <a:pt x="1273033" y="2124076"/>
                </a:lnTo>
                <a:lnTo>
                  <a:pt x="230859" y="2124076"/>
                </a:lnTo>
                <a:lnTo>
                  <a:pt x="218959" y="2123812"/>
                </a:lnTo>
                <a:lnTo>
                  <a:pt x="207059" y="2123018"/>
                </a:lnTo>
                <a:lnTo>
                  <a:pt x="195688" y="2121431"/>
                </a:lnTo>
                <a:lnTo>
                  <a:pt x="184582" y="2119314"/>
                </a:lnTo>
                <a:lnTo>
                  <a:pt x="173211" y="2116934"/>
                </a:lnTo>
                <a:lnTo>
                  <a:pt x="162104" y="2114024"/>
                </a:lnTo>
                <a:lnTo>
                  <a:pt x="151526" y="2110320"/>
                </a:lnTo>
                <a:lnTo>
                  <a:pt x="140948" y="2106352"/>
                </a:lnTo>
                <a:lnTo>
                  <a:pt x="130900" y="2101855"/>
                </a:lnTo>
                <a:lnTo>
                  <a:pt x="120851" y="2096828"/>
                </a:lnTo>
                <a:lnTo>
                  <a:pt x="111331" y="2091273"/>
                </a:lnTo>
                <a:lnTo>
                  <a:pt x="101811" y="2085453"/>
                </a:lnTo>
                <a:lnTo>
                  <a:pt x="92820" y="2079104"/>
                </a:lnTo>
                <a:lnTo>
                  <a:pt x="84357" y="2072755"/>
                </a:lnTo>
                <a:lnTo>
                  <a:pt x="75895" y="2065612"/>
                </a:lnTo>
                <a:lnTo>
                  <a:pt x="67962" y="2057940"/>
                </a:lnTo>
                <a:lnTo>
                  <a:pt x="60293" y="2050004"/>
                </a:lnTo>
                <a:lnTo>
                  <a:pt x="53153" y="2042068"/>
                </a:lnTo>
                <a:lnTo>
                  <a:pt x="46278" y="2033338"/>
                </a:lnTo>
                <a:lnTo>
                  <a:pt x="39666" y="2024873"/>
                </a:lnTo>
                <a:lnTo>
                  <a:pt x="33584" y="2015614"/>
                </a:lnTo>
                <a:lnTo>
                  <a:pt x="28031" y="2006090"/>
                </a:lnTo>
                <a:lnTo>
                  <a:pt x="23006" y="1996567"/>
                </a:lnTo>
                <a:lnTo>
                  <a:pt x="18511" y="1986249"/>
                </a:lnTo>
                <a:lnTo>
                  <a:pt x="14280" y="1976197"/>
                </a:lnTo>
                <a:lnTo>
                  <a:pt x="10578" y="1965880"/>
                </a:lnTo>
                <a:lnTo>
                  <a:pt x="7669" y="1955033"/>
                </a:lnTo>
                <a:lnTo>
                  <a:pt x="4760" y="1944187"/>
                </a:lnTo>
                <a:lnTo>
                  <a:pt x="2909" y="1933076"/>
                </a:lnTo>
                <a:lnTo>
                  <a:pt x="1322" y="1921701"/>
                </a:lnTo>
                <a:lnTo>
                  <a:pt x="529" y="1910326"/>
                </a:lnTo>
                <a:lnTo>
                  <a:pt x="0" y="1898686"/>
                </a:lnTo>
                <a:lnTo>
                  <a:pt x="0" y="633378"/>
                </a:lnTo>
                <a:lnTo>
                  <a:pt x="529" y="621739"/>
                </a:lnTo>
                <a:lnTo>
                  <a:pt x="1322" y="610363"/>
                </a:lnTo>
                <a:lnTo>
                  <a:pt x="2909" y="598988"/>
                </a:lnTo>
                <a:lnTo>
                  <a:pt x="4760" y="587613"/>
                </a:lnTo>
                <a:lnTo>
                  <a:pt x="7669" y="577031"/>
                </a:lnTo>
                <a:lnTo>
                  <a:pt x="10578" y="566449"/>
                </a:lnTo>
                <a:lnTo>
                  <a:pt x="14280" y="555867"/>
                </a:lnTo>
                <a:lnTo>
                  <a:pt x="18511" y="545550"/>
                </a:lnTo>
                <a:lnTo>
                  <a:pt x="23006" y="535762"/>
                </a:lnTo>
                <a:lnTo>
                  <a:pt x="28031" y="525974"/>
                </a:lnTo>
                <a:lnTo>
                  <a:pt x="33584" y="516451"/>
                </a:lnTo>
                <a:lnTo>
                  <a:pt x="39666" y="507456"/>
                </a:lnTo>
                <a:lnTo>
                  <a:pt x="46278" y="498462"/>
                </a:lnTo>
                <a:lnTo>
                  <a:pt x="53153" y="489996"/>
                </a:lnTo>
                <a:lnTo>
                  <a:pt x="60293" y="481795"/>
                </a:lnTo>
                <a:lnTo>
                  <a:pt x="67962" y="474124"/>
                </a:lnTo>
                <a:lnTo>
                  <a:pt x="75895" y="466717"/>
                </a:lnTo>
                <a:lnTo>
                  <a:pt x="84357" y="459574"/>
                </a:lnTo>
                <a:lnTo>
                  <a:pt x="92820" y="452696"/>
                </a:lnTo>
                <a:lnTo>
                  <a:pt x="101811" y="446347"/>
                </a:lnTo>
                <a:lnTo>
                  <a:pt x="111331" y="440527"/>
                </a:lnTo>
                <a:lnTo>
                  <a:pt x="120851" y="435236"/>
                </a:lnTo>
                <a:lnTo>
                  <a:pt x="130900" y="430474"/>
                </a:lnTo>
                <a:lnTo>
                  <a:pt x="140948" y="425712"/>
                </a:lnTo>
                <a:lnTo>
                  <a:pt x="151526" y="421744"/>
                </a:lnTo>
                <a:lnTo>
                  <a:pt x="162104" y="418305"/>
                </a:lnTo>
                <a:lnTo>
                  <a:pt x="173211" y="415131"/>
                </a:lnTo>
                <a:lnTo>
                  <a:pt x="184582" y="412485"/>
                </a:lnTo>
                <a:lnTo>
                  <a:pt x="195688" y="410634"/>
                </a:lnTo>
                <a:lnTo>
                  <a:pt x="207059" y="409311"/>
                </a:lnTo>
                <a:lnTo>
                  <a:pt x="218959" y="408253"/>
                </a:lnTo>
                <a:lnTo>
                  <a:pt x="230859" y="407988"/>
                </a:lnTo>
                <a:lnTo>
                  <a:pt x="1273033" y="407988"/>
                </a:lnTo>
                <a:lnTo>
                  <a:pt x="1284933" y="408253"/>
                </a:lnTo>
                <a:lnTo>
                  <a:pt x="1296304" y="409311"/>
                </a:lnTo>
                <a:lnTo>
                  <a:pt x="1307939" y="410369"/>
                </a:lnTo>
                <a:lnTo>
                  <a:pt x="1319310" y="412485"/>
                </a:lnTo>
                <a:lnTo>
                  <a:pt x="1330417" y="415131"/>
                </a:lnTo>
                <a:lnTo>
                  <a:pt x="1341259" y="418305"/>
                </a:lnTo>
                <a:lnTo>
                  <a:pt x="1352101" y="421744"/>
                </a:lnTo>
                <a:lnTo>
                  <a:pt x="1362415" y="425712"/>
                </a:lnTo>
                <a:lnTo>
                  <a:pt x="1372992" y="430210"/>
                </a:lnTo>
                <a:lnTo>
                  <a:pt x="1382777" y="435236"/>
                </a:lnTo>
                <a:lnTo>
                  <a:pt x="1392561" y="440527"/>
                </a:lnTo>
                <a:lnTo>
                  <a:pt x="1401817" y="446347"/>
                </a:lnTo>
                <a:lnTo>
                  <a:pt x="1410543" y="452696"/>
                </a:lnTo>
                <a:lnTo>
                  <a:pt x="1419535" y="459574"/>
                </a:lnTo>
                <a:lnTo>
                  <a:pt x="1427997" y="466452"/>
                </a:lnTo>
                <a:lnTo>
                  <a:pt x="1435930" y="473859"/>
                </a:lnTo>
                <a:lnTo>
                  <a:pt x="1443334" y="481795"/>
                </a:lnTo>
                <a:lnTo>
                  <a:pt x="1450739" y="489996"/>
                </a:lnTo>
                <a:lnTo>
                  <a:pt x="1457614" y="498462"/>
                </a:lnTo>
                <a:lnTo>
                  <a:pt x="1463961" y="507456"/>
                </a:lnTo>
                <a:lnTo>
                  <a:pt x="1469779" y="516451"/>
                </a:lnTo>
                <a:lnTo>
                  <a:pt x="1475332" y="525974"/>
                </a:lnTo>
                <a:lnTo>
                  <a:pt x="1480621" y="535762"/>
                </a:lnTo>
                <a:lnTo>
                  <a:pt x="1485381" y="545550"/>
                </a:lnTo>
                <a:lnTo>
                  <a:pt x="1489348" y="555867"/>
                </a:lnTo>
                <a:lnTo>
                  <a:pt x="1493050" y="566449"/>
                </a:lnTo>
                <a:lnTo>
                  <a:pt x="1495959" y="577031"/>
                </a:lnTo>
                <a:lnTo>
                  <a:pt x="1498603" y="587613"/>
                </a:lnTo>
                <a:lnTo>
                  <a:pt x="1500719" y="598988"/>
                </a:lnTo>
                <a:lnTo>
                  <a:pt x="1502305" y="610363"/>
                </a:lnTo>
                <a:lnTo>
                  <a:pt x="1503099" y="621739"/>
                </a:lnTo>
                <a:lnTo>
                  <a:pt x="1503363" y="633378"/>
                </a:lnTo>
                <a:lnTo>
                  <a:pt x="1503363" y="635094"/>
                </a:lnTo>
                <a:lnTo>
                  <a:pt x="1950691" y="197947"/>
                </a:lnTo>
                <a:close/>
                <a:moveTo>
                  <a:pt x="2235011" y="0"/>
                </a:moveTo>
                <a:lnTo>
                  <a:pt x="2244532" y="265"/>
                </a:lnTo>
                <a:lnTo>
                  <a:pt x="2254054" y="794"/>
                </a:lnTo>
                <a:lnTo>
                  <a:pt x="2263575" y="2117"/>
                </a:lnTo>
                <a:lnTo>
                  <a:pt x="2272832" y="3440"/>
                </a:lnTo>
                <a:lnTo>
                  <a:pt x="2282354" y="5557"/>
                </a:lnTo>
                <a:lnTo>
                  <a:pt x="2291611" y="7939"/>
                </a:lnTo>
                <a:lnTo>
                  <a:pt x="2300867" y="11115"/>
                </a:lnTo>
                <a:lnTo>
                  <a:pt x="2309860" y="14290"/>
                </a:lnTo>
                <a:lnTo>
                  <a:pt x="2318588" y="18260"/>
                </a:lnTo>
                <a:lnTo>
                  <a:pt x="2327316" y="22229"/>
                </a:lnTo>
                <a:lnTo>
                  <a:pt x="2336044" y="26728"/>
                </a:lnTo>
                <a:lnTo>
                  <a:pt x="2344243" y="32021"/>
                </a:lnTo>
                <a:lnTo>
                  <a:pt x="2352442" y="37578"/>
                </a:lnTo>
                <a:lnTo>
                  <a:pt x="2360376" y="43400"/>
                </a:lnTo>
                <a:lnTo>
                  <a:pt x="2368046" y="50016"/>
                </a:lnTo>
                <a:lnTo>
                  <a:pt x="2375187" y="56897"/>
                </a:lnTo>
                <a:lnTo>
                  <a:pt x="2382328" y="64042"/>
                </a:lnTo>
                <a:lnTo>
                  <a:pt x="2388940" y="71451"/>
                </a:lnTo>
                <a:lnTo>
                  <a:pt x="2395024" y="79126"/>
                </a:lnTo>
                <a:lnTo>
                  <a:pt x="2400842" y="87065"/>
                </a:lnTo>
                <a:lnTo>
                  <a:pt x="2406132" y="95533"/>
                </a:lnTo>
                <a:lnTo>
                  <a:pt x="2410893" y="103737"/>
                </a:lnTo>
                <a:lnTo>
                  <a:pt x="2415124" y="112205"/>
                </a:lnTo>
                <a:lnTo>
                  <a:pt x="2418827" y="120938"/>
                </a:lnTo>
                <a:lnTo>
                  <a:pt x="2422265" y="129671"/>
                </a:lnTo>
                <a:lnTo>
                  <a:pt x="2425175" y="138669"/>
                </a:lnTo>
                <a:lnTo>
                  <a:pt x="2427820" y="147666"/>
                </a:lnTo>
                <a:lnTo>
                  <a:pt x="2429935" y="156928"/>
                </a:lnTo>
                <a:lnTo>
                  <a:pt x="2431522" y="165926"/>
                </a:lnTo>
                <a:lnTo>
                  <a:pt x="2432580" y="175188"/>
                </a:lnTo>
                <a:lnTo>
                  <a:pt x="2433109" y="184450"/>
                </a:lnTo>
                <a:lnTo>
                  <a:pt x="2433638" y="193713"/>
                </a:lnTo>
                <a:lnTo>
                  <a:pt x="2433109" y="203239"/>
                </a:lnTo>
                <a:lnTo>
                  <a:pt x="2432580" y="212502"/>
                </a:lnTo>
                <a:lnTo>
                  <a:pt x="2431522" y="221764"/>
                </a:lnTo>
                <a:lnTo>
                  <a:pt x="2429935" y="231026"/>
                </a:lnTo>
                <a:lnTo>
                  <a:pt x="2427820" y="240024"/>
                </a:lnTo>
                <a:lnTo>
                  <a:pt x="2425175" y="249021"/>
                </a:lnTo>
                <a:lnTo>
                  <a:pt x="2422265" y="258019"/>
                </a:lnTo>
                <a:lnTo>
                  <a:pt x="2418827" y="267016"/>
                </a:lnTo>
                <a:lnTo>
                  <a:pt x="2415124" y="275485"/>
                </a:lnTo>
                <a:lnTo>
                  <a:pt x="2410893" y="283953"/>
                </a:lnTo>
                <a:lnTo>
                  <a:pt x="2406132" y="292157"/>
                </a:lnTo>
                <a:lnTo>
                  <a:pt x="2400842" y="300625"/>
                </a:lnTo>
                <a:lnTo>
                  <a:pt x="2395024" y="308564"/>
                </a:lnTo>
                <a:lnTo>
                  <a:pt x="2388940" y="316238"/>
                </a:lnTo>
                <a:lnTo>
                  <a:pt x="2382328" y="323648"/>
                </a:lnTo>
                <a:lnTo>
                  <a:pt x="2375187" y="330793"/>
                </a:lnTo>
                <a:lnTo>
                  <a:pt x="2295842" y="408596"/>
                </a:lnTo>
                <a:lnTo>
                  <a:pt x="2015490" y="134434"/>
                </a:lnTo>
                <a:lnTo>
                  <a:pt x="2095099" y="56897"/>
                </a:lnTo>
                <a:lnTo>
                  <a:pt x="2102505" y="50016"/>
                </a:lnTo>
                <a:lnTo>
                  <a:pt x="2110175" y="43400"/>
                </a:lnTo>
                <a:lnTo>
                  <a:pt x="2117845" y="37578"/>
                </a:lnTo>
                <a:lnTo>
                  <a:pt x="2126044" y="32021"/>
                </a:lnTo>
                <a:lnTo>
                  <a:pt x="2134507" y="26728"/>
                </a:lnTo>
                <a:lnTo>
                  <a:pt x="2142971" y="22229"/>
                </a:lnTo>
                <a:lnTo>
                  <a:pt x="2151963" y="18260"/>
                </a:lnTo>
                <a:lnTo>
                  <a:pt x="2160427" y="14290"/>
                </a:lnTo>
                <a:lnTo>
                  <a:pt x="2169684" y="11115"/>
                </a:lnTo>
                <a:lnTo>
                  <a:pt x="2178676" y="7939"/>
                </a:lnTo>
                <a:lnTo>
                  <a:pt x="2187933" y="5557"/>
                </a:lnTo>
                <a:lnTo>
                  <a:pt x="2197454" y="3440"/>
                </a:lnTo>
                <a:lnTo>
                  <a:pt x="2206447" y="2117"/>
                </a:lnTo>
                <a:lnTo>
                  <a:pt x="2215968" y="794"/>
                </a:lnTo>
                <a:lnTo>
                  <a:pt x="2225490" y="265"/>
                </a:lnTo>
                <a:lnTo>
                  <a:pt x="2235011" y="0"/>
                </a:lnTo>
                <a:close/>
              </a:path>
            </a:pathLst>
          </a:custGeom>
          <a:solidFill>
            <a:srgbClr val="009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78" name="矩形 17"/>
          <p:cNvSpPr/>
          <p:nvPr/>
        </p:nvSpPr>
        <p:spPr>
          <a:xfrm>
            <a:off x="5319360" y="436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7e0"/>
                </a:solidFill>
                <a:latin typeface="Calibri"/>
              </a:rPr>
              <a:t>缺点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479" name="Picture 15" descr="sleepace"/>
          <p:cNvPicPr/>
          <p:nvPr/>
        </p:nvPicPr>
        <p:blipFill>
          <a:blip r:embed="rId2"/>
          <a:stretch/>
        </p:blipFill>
        <p:spPr>
          <a:xfrm>
            <a:off x="6486480" y="2584440"/>
            <a:ext cx="2651040" cy="161136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5"/>
          <p:cNvSpPr/>
          <p:nvPr/>
        </p:nvSpPr>
        <p:spPr>
          <a:xfrm>
            <a:off x="1635120" y="105732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81" name="文本框 16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82" name="矩形 2"/>
          <p:cNvSpPr/>
          <p:nvPr/>
        </p:nvSpPr>
        <p:spPr>
          <a:xfrm>
            <a:off x="5095800" y="3081240"/>
            <a:ext cx="1320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CONTENT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Calibri"/>
              </a:rPr>
              <a:t>HERE</a:t>
            </a:r>
            <a:endParaRPr b="0" lang="en-US" sz="2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" descr=""/>
          <p:cNvPicPr/>
          <p:nvPr/>
        </p:nvPicPr>
        <p:blipFill>
          <a:blip r:embed="rId1"/>
          <a:stretch/>
        </p:blipFill>
        <p:spPr>
          <a:xfrm>
            <a:off x="4381560" y="2708280"/>
            <a:ext cx="4762440" cy="3564000"/>
          </a:xfrm>
          <a:prstGeom prst="rect">
            <a:avLst/>
          </a:prstGeom>
          <a:ln w="0">
            <a:noFill/>
          </a:ln>
        </p:spPr>
      </p:pic>
      <p:grpSp>
        <p:nvGrpSpPr>
          <p:cNvPr id="1484" name="组合 13"/>
          <p:cNvGrpSpPr/>
          <p:nvPr/>
        </p:nvGrpSpPr>
        <p:grpSpPr>
          <a:xfrm>
            <a:off x="6366960" y="3900600"/>
            <a:ext cx="2460600" cy="2371680"/>
            <a:chOff x="6366960" y="3900600"/>
            <a:chExt cx="2460600" cy="2371680"/>
          </a:xfrm>
        </p:grpSpPr>
        <p:sp>
          <p:nvSpPr>
            <p:cNvPr id="1485" name="任意多边形 15"/>
            <p:cNvSpPr/>
            <p:nvPr/>
          </p:nvSpPr>
          <p:spPr>
            <a:xfrm>
              <a:off x="6650280" y="4811400"/>
              <a:ext cx="1998720" cy="146088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1460880"/>
                <a:gd name="textAreaBottom" fmla="*/ 1461240 h 1460880"/>
              </a:gdLst>
              <a:ahLst/>
              <a:rect l="textAreaLeft" t="textAreaTop" r="textAreaRight" b="textAreaBottom"/>
              <a:pathLst>
                <a:path w="1980000" h="982134">
                  <a:moveTo>
                    <a:pt x="0" y="0"/>
                  </a:moveTo>
                  <a:lnTo>
                    <a:pt x="1980000" y="0"/>
                  </a:lnTo>
                  <a:lnTo>
                    <a:pt x="990000" y="9821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86" name="文本框 16"/>
            <p:cNvSpPr/>
            <p:nvPr/>
          </p:nvSpPr>
          <p:spPr>
            <a:xfrm rot="18913200">
              <a:off x="6550560" y="4784400"/>
              <a:ext cx="142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CONTENT </a:t>
              </a:r>
              <a:endParaRPr b="0" lang="en-US" sz="2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87" name="直接连接符 14"/>
            <p:cNvSpPr/>
            <p:nvPr/>
          </p:nvSpPr>
          <p:spPr>
            <a:xfrm flipH="1">
              <a:off x="6366960" y="3900600"/>
              <a:ext cx="2460600" cy="2371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488" name="矩形 2"/>
          <p:cNvSpPr/>
          <p:nvPr/>
        </p:nvSpPr>
        <p:spPr>
          <a:xfrm rot="18906000">
            <a:off x="7264440" y="5184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 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89" name="矩形 5"/>
          <p:cNvSpPr/>
          <p:nvPr/>
        </p:nvSpPr>
        <p:spPr>
          <a:xfrm>
            <a:off x="906480" y="2795760"/>
            <a:ext cx="316872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4749"/>
                </a:solidFill>
                <a:latin typeface="Arial Black"/>
                <a:ea typeface="微软雅黑"/>
              </a:rPr>
              <a:t>CONTENT </a:t>
            </a:r>
            <a:r>
              <a:rPr b="1" lang="zh-CN" sz="1800" spc="-1" strike="noStrike">
                <a:solidFill>
                  <a:srgbClr val="454749"/>
                </a:solidFill>
                <a:latin typeface="微软雅黑"/>
                <a:ea typeface="微软雅黑"/>
              </a:rPr>
              <a:t>：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54749"/>
                </a:solidFill>
                <a:latin typeface="微软雅黑"/>
                <a:ea typeface="微软雅黑"/>
              </a:rPr>
              <a:t>YOU CAN ENTER YUOR CONTENT HERE YOU CAN ENTER YUOR CONTENT HERE YOU CAN ENTER YUOR CONTENT HERE YOU CAN ENTER YUOR CONTENT HERE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90" name="矩形 10"/>
          <p:cNvSpPr/>
          <p:nvPr/>
        </p:nvSpPr>
        <p:spPr>
          <a:xfrm>
            <a:off x="1701720" y="140976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91" name="文本框 11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92" name="任意多边形 27"/>
          <p:cNvSpPr/>
          <p:nvPr/>
        </p:nvSpPr>
        <p:spPr>
          <a:xfrm>
            <a:off x="546120" y="2708280"/>
            <a:ext cx="5156280" cy="1598760"/>
          </a:xfrm>
          <a:custGeom>
            <a:avLst/>
            <a:gdLst/>
            <a:ahLst/>
            <a:rect l="l" t="t" r="r" b="b"/>
            <a:pathLst>
              <a:path w="544010" h="1678329">
                <a:moveTo>
                  <a:pt x="0" y="1678329"/>
                </a:moveTo>
                <a:lnTo>
                  <a:pt x="0" y="0"/>
                </a:lnTo>
                <a:lnTo>
                  <a:pt x="544010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3" name="组合 25"/>
          <p:cNvGrpSpPr/>
          <p:nvPr/>
        </p:nvGrpSpPr>
        <p:grpSpPr>
          <a:xfrm>
            <a:off x="352440" y="2092320"/>
            <a:ext cx="8647200" cy="3540600"/>
            <a:chOff x="352440" y="2092320"/>
            <a:chExt cx="8647200" cy="3540600"/>
          </a:xfrm>
        </p:grpSpPr>
        <p:sp>
          <p:nvSpPr>
            <p:cNvPr id="1494" name="文本框 14"/>
            <p:cNvSpPr/>
            <p:nvPr/>
          </p:nvSpPr>
          <p:spPr>
            <a:xfrm>
              <a:off x="1287360" y="2095200"/>
              <a:ext cx="1755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99ff"/>
                  </a:solidFill>
                  <a:latin typeface="Calibri"/>
                  <a:ea typeface="宋体"/>
                </a:rPr>
                <a:t>NO.1</a:t>
              </a:r>
              <a:endParaRPr b="0" lang="en-US" sz="6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95" name="文本框 15"/>
            <p:cNvSpPr/>
            <p:nvPr/>
          </p:nvSpPr>
          <p:spPr>
            <a:xfrm>
              <a:off x="3887640" y="4624560"/>
              <a:ext cx="1755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99ff"/>
                  </a:solidFill>
                  <a:latin typeface="Calibri"/>
                  <a:ea typeface="宋体"/>
                </a:rPr>
                <a:t>NO.2</a:t>
              </a:r>
              <a:endParaRPr b="0" lang="en-US" sz="6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96" name="文本框 16"/>
            <p:cNvSpPr/>
            <p:nvPr/>
          </p:nvSpPr>
          <p:spPr>
            <a:xfrm>
              <a:off x="6484680" y="2092320"/>
              <a:ext cx="1755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99ff"/>
                  </a:solidFill>
                  <a:latin typeface="Calibri"/>
                  <a:ea typeface="宋体"/>
                </a:rPr>
                <a:t>NO.3</a:t>
              </a:r>
              <a:endParaRPr b="0" lang="en-US" sz="60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97" name="矩形 21"/>
            <p:cNvSpPr/>
            <p:nvPr/>
          </p:nvSpPr>
          <p:spPr>
            <a:xfrm>
              <a:off x="352440" y="4285800"/>
              <a:ext cx="34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Calibri"/>
                </a:rPr>
                <a:t>YOU CAN ENTER YUOR CONTENT HERE</a:t>
              </a:r>
              <a:endParaRPr b="0" lang="en-US" sz="16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98" name="矩形 22"/>
            <p:cNvSpPr/>
            <p:nvPr/>
          </p:nvSpPr>
          <p:spPr>
            <a:xfrm>
              <a:off x="5581800" y="4236840"/>
              <a:ext cx="34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Calibri"/>
                </a:rPr>
                <a:t>YOU CAN ENTER YUOR CONTENT HERE</a:t>
              </a:r>
              <a:endParaRPr b="0" lang="en-US" sz="16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499" name="矩形 23"/>
            <p:cNvSpPr/>
            <p:nvPr/>
          </p:nvSpPr>
          <p:spPr>
            <a:xfrm>
              <a:off x="3020400" y="2859840"/>
              <a:ext cx="342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Calibri"/>
                </a:rPr>
                <a:t>YOU CAN ENTER YUOR CONTENT HERE</a:t>
              </a:r>
              <a:endParaRPr b="0" lang="en-US" sz="16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grpSp>
          <p:nvGrpSpPr>
            <p:cNvPr id="1500" name="组合 7"/>
            <p:cNvGrpSpPr/>
            <p:nvPr/>
          </p:nvGrpSpPr>
          <p:grpSpPr>
            <a:xfrm>
              <a:off x="573480" y="2954160"/>
              <a:ext cx="8023680" cy="1431720"/>
              <a:chOff x="573480" y="2954160"/>
              <a:chExt cx="8023680" cy="1431720"/>
            </a:xfrm>
          </p:grpSpPr>
          <p:grpSp>
            <p:nvGrpSpPr>
              <p:cNvPr id="1501" name="组合 13"/>
              <p:cNvGrpSpPr/>
              <p:nvPr/>
            </p:nvGrpSpPr>
            <p:grpSpPr>
              <a:xfrm>
                <a:off x="573480" y="3307680"/>
                <a:ext cx="8023680" cy="801000"/>
                <a:chOff x="573480" y="3307680"/>
                <a:chExt cx="8023680" cy="801000"/>
              </a:xfrm>
            </p:grpSpPr>
            <p:sp>
              <p:nvSpPr>
                <p:cNvPr id="1502" name="圆角矩形 11"/>
                <p:cNvSpPr/>
                <p:nvPr/>
              </p:nvSpPr>
              <p:spPr>
                <a:xfrm>
                  <a:off x="5766480" y="3307680"/>
                  <a:ext cx="2830680" cy="801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89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Calibri"/>
                  </a:endParaRPr>
                </a:p>
              </p:txBody>
            </p:sp>
            <p:sp>
              <p:nvSpPr>
                <p:cNvPr id="1503" name="圆角矩形 12"/>
                <p:cNvSpPr/>
                <p:nvPr/>
              </p:nvSpPr>
              <p:spPr>
                <a:xfrm>
                  <a:off x="3170520" y="3308040"/>
                  <a:ext cx="2828880" cy="800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fe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Calibri"/>
                  </a:endParaRPr>
                </a:p>
              </p:txBody>
            </p:sp>
            <p:sp>
              <p:nvSpPr>
                <p:cNvPr id="1504" name="圆角矩形 6"/>
                <p:cNvSpPr/>
                <p:nvPr/>
              </p:nvSpPr>
              <p:spPr>
                <a:xfrm>
                  <a:off x="573480" y="3307680"/>
                  <a:ext cx="2830680" cy="801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89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05" name="等腰三角形 17"/>
              <p:cNvSpPr/>
              <p:nvPr/>
            </p:nvSpPr>
            <p:spPr>
              <a:xfrm>
                <a:off x="1827720" y="3030480"/>
                <a:ext cx="321480" cy="277200"/>
              </a:xfrm>
              <a:prstGeom prst="triangle">
                <a:avLst>
                  <a:gd name="adj" fmla="val 50000"/>
                </a:avLst>
              </a:prstGeom>
              <a:solidFill>
                <a:srgbClr val="089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  <p:sp>
            <p:nvSpPr>
              <p:cNvPr id="1506" name="等腰三角形 18"/>
              <p:cNvSpPr/>
              <p:nvPr/>
            </p:nvSpPr>
            <p:spPr>
              <a:xfrm>
                <a:off x="7021080" y="2954160"/>
                <a:ext cx="348120" cy="354960"/>
              </a:xfrm>
              <a:prstGeom prst="triangle">
                <a:avLst>
                  <a:gd name="adj" fmla="val 50000"/>
                </a:avLst>
              </a:prstGeom>
              <a:solidFill>
                <a:srgbClr val="089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  <p:sp>
            <p:nvSpPr>
              <p:cNvPr id="1507" name="等腰三角形 19"/>
              <p:cNvSpPr/>
              <p:nvPr/>
            </p:nvSpPr>
            <p:spPr>
              <a:xfrm flipV="1">
                <a:off x="4429800" y="4108680"/>
                <a:ext cx="321480" cy="277200"/>
              </a:xfrm>
              <a:prstGeom prst="triangle">
                <a:avLst>
                  <a:gd name="adj" fmla="val 50000"/>
                </a:avLst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  <p:sp>
            <p:nvSpPr>
              <p:cNvPr id="1508" name="矩形 5"/>
              <p:cNvSpPr/>
              <p:nvPr/>
            </p:nvSpPr>
            <p:spPr>
              <a:xfrm>
                <a:off x="4113000" y="35114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5f5f5f"/>
                    </a:solidFill>
                    <a:latin typeface="Arial"/>
                    <a:ea typeface="宋体"/>
                  </a:rPr>
                  <a:t>大数据统筹</a:t>
                </a:r>
                <a:endParaRPr b="0" lang="en-US" sz="20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  <p:sp>
            <p:nvSpPr>
              <p:cNvPr id="1509" name="矩形 20"/>
              <p:cNvSpPr/>
              <p:nvPr/>
            </p:nvSpPr>
            <p:spPr>
              <a:xfrm>
                <a:off x="6995880" y="351144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专注</a:t>
                </a:r>
                <a:endParaRPr b="0" lang="en-US" sz="20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  <p:sp>
            <p:nvSpPr>
              <p:cNvPr id="1510" name="矩形 26"/>
              <p:cNvSpPr/>
              <p:nvPr/>
            </p:nvSpPr>
            <p:spPr>
              <a:xfrm>
                <a:off x="1593360" y="354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专利护航</a:t>
                </a:r>
                <a:endParaRPr b="0" lang="en-US" sz="20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</p:grpSp>
      </p:grpSp>
      <p:sp>
        <p:nvSpPr>
          <p:cNvPr id="1511" name="矩形 20"/>
          <p:cNvSpPr/>
          <p:nvPr/>
        </p:nvSpPr>
        <p:spPr>
          <a:xfrm>
            <a:off x="1635120" y="105732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512" name="文本框 21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图片 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78480"/>
          </a:xfrm>
          <a:prstGeom prst="rect">
            <a:avLst/>
          </a:prstGeom>
          <a:ln w="0">
            <a:noFill/>
          </a:ln>
        </p:spPr>
      </p:pic>
      <p:sp>
        <p:nvSpPr>
          <p:cNvPr id="1514" name="矩形 3"/>
          <p:cNvSpPr/>
          <p:nvPr/>
        </p:nvSpPr>
        <p:spPr>
          <a:xfrm>
            <a:off x="0" y="4951440"/>
            <a:ext cx="9144000" cy="824040"/>
          </a:xfrm>
          <a:prstGeom prst="rect">
            <a:avLst/>
          </a:prstGeom>
          <a:solidFill>
            <a:srgbClr val="f2f2f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微软雅黑"/>
              </a:rPr>
              <a:t>YOU CAN ENTER YUOR CONTENT HERE YOU CAN ENTER YUOR CONTENT HERE YOU CAN ENTER YUOR CONTENT HERE YOU CAN 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515" name="Text Box 3"/>
          <p:cNvSpPr/>
          <p:nvPr/>
        </p:nvSpPr>
        <p:spPr>
          <a:xfrm>
            <a:off x="-28440" y="6443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矩形 15"/>
          <p:cNvSpPr/>
          <p:nvPr/>
        </p:nvSpPr>
        <p:spPr>
          <a:xfrm>
            <a:off x="0" y="12600"/>
            <a:ext cx="9144000" cy="694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29" name="椭圆 3"/>
          <p:cNvSpPr/>
          <p:nvPr/>
        </p:nvSpPr>
        <p:spPr>
          <a:xfrm>
            <a:off x="0" y="4702320"/>
            <a:ext cx="2362320" cy="21682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2168280"/>
              <a:gd name="textAreaBottom" fmla="*/ 2168640 h 2168280"/>
            </a:gdLst>
            <a:ahLst/>
            <a:rect l="textAreaLeft" t="textAreaTop" r="textAreaRight" b="textAreaBottom"/>
            <a:pathLst>
              <a:path w="1981200" h="1981200">
                <a:moveTo>
                  <a:pt x="0" y="0"/>
                </a:moveTo>
                <a:cubicBezTo>
                  <a:pt x="1094187" y="0"/>
                  <a:pt x="1981200" y="887013"/>
                  <a:pt x="1981200" y="1981200"/>
                </a:cubicBezTo>
                <a:lnTo>
                  <a:pt x="0" y="19812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30" name="矩形 44"/>
          <p:cNvSpPr/>
          <p:nvPr/>
        </p:nvSpPr>
        <p:spPr>
          <a:xfrm>
            <a:off x="490680" y="5584680"/>
            <a:ext cx="20034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454749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54749"/>
                </a:solidFill>
                <a:latin typeface="Calibri"/>
                <a:ea typeface="宋体"/>
              </a:rPr>
              <a:t>CONTENTS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31" name="TextBox 28"/>
          <p:cNvSpPr/>
          <p:nvPr/>
        </p:nvSpPr>
        <p:spPr>
          <a:xfrm>
            <a:off x="1181160" y="2622600"/>
            <a:ext cx="48387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32" name="TextBox 28"/>
          <p:cNvSpPr/>
          <p:nvPr/>
        </p:nvSpPr>
        <p:spPr>
          <a:xfrm>
            <a:off x="1606680" y="3092400"/>
            <a:ext cx="48164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33" name="TextBox 28"/>
          <p:cNvSpPr/>
          <p:nvPr/>
        </p:nvSpPr>
        <p:spPr>
          <a:xfrm>
            <a:off x="2149560" y="3575160"/>
            <a:ext cx="4680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34" name="TextBox 28"/>
          <p:cNvSpPr/>
          <p:nvPr/>
        </p:nvSpPr>
        <p:spPr>
          <a:xfrm>
            <a:off x="2625840" y="4086360"/>
            <a:ext cx="4821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35" name="TextBox 28"/>
          <p:cNvSpPr/>
          <p:nvPr/>
        </p:nvSpPr>
        <p:spPr>
          <a:xfrm>
            <a:off x="3182760" y="4548240"/>
            <a:ext cx="4980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36" name="文本框 22"/>
          <p:cNvSpPr/>
          <p:nvPr/>
        </p:nvSpPr>
        <p:spPr>
          <a:xfrm>
            <a:off x="9720" y="0"/>
            <a:ext cx="893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f1f2"/>
                </a:solidFill>
                <a:latin typeface="Microsoft New Tai Lue"/>
                <a:ea typeface="Microsoft New Tai Lue"/>
              </a:rPr>
              <a:t>PPT ANLI YANGGAO</a:t>
            </a:r>
            <a:endParaRPr b="0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37" name="椭圆 1"/>
          <p:cNvSpPr/>
          <p:nvPr/>
        </p:nvSpPr>
        <p:spPr>
          <a:xfrm>
            <a:off x="5002200" y="-11160"/>
            <a:ext cx="4167360" cy="3489480"/>
          </a:xfrm>
          <a:custGeom>
            <a:avLst/>
            <a:gdLst>
              <a:gd name="textAreaLeft" fmla="*/ 0 w 4167360"/>
              <a:gd name="textAreaRight" fmla="*/ 4167720 w 4167360"/>
              <a:gd name="textAreaTop" fmla="*/ 0 h 3489480"/>
              <a:gd name="textAreaBottom" fmla="*/ 3489840 h 3489480"/>
            </a:gdLst>
            <a:ahLst/>
            <a:rect l="textAreaLeft" t="textAreaTop" r="textAreaRight" b="textAreaBottom"/>
            <a:pathLst>
              <a:path w="5508104" h="4824536">
                <a:moveTo>
                  <a:pt x="325121" y="0"/>
                </a:moveTo>
                <a:lnTo>
                  <a:pt x="5508104" y="0"/>
                </a:lnTo>
                <a:lnTo>
                  <a:pt x="5508104" y="4073432"/>
                </a:lnTo>
                <a:cubicBezTo>
                  <a:pt x="4928224" y="4543676"/>
                  <a:pt x="4189099" y="4824536"/>
                  <a:pt x="3384376" y="4824536"/>
                </a:cubicBezTo>
                <a:cubicBezTo>
                  <a:pt x="1515237" y="4824536"/>
                  <a:pt x="0" y="3309299"/>
                  <a:pt x="0" y="1440160"/>
                </a:cubicBezTo>
                <a:cubicBezTo>
                  <a:pt x="0" y="924488"/>
                  <a:pt x="115331" y="435753"/>
                  <a:pt x="325121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矩形 1"/>
          <p:cNvSpPr/>
          <p:nvPr/>
        </p:nvSpPr>
        <p:spPr>
          <a:xfrm>
            <a:off x="0" y="-58680"/>
            <a:ext cx="914400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517" name="TextBox 1"/>
          <p:cNvSpPr/>
          <p:nvPr/>
        </p:nvSpPr>
        <p:spPr>
          <a:xfrm>
            <a:off x="3093840" y="3478320"/>
            <a:ext cx="312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890d0"/>
                </a:solidFill>
                <a:latin typeface="Baskerville Old Face"/>
                <a:ea typeface="微软雅黑"/>
              </a:rPr>
              <a:t>THANKS</a:t>
            </a:r>
            <a:endParaRPr b="0" lang="en-US" sz="6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518" name="空心弧 2"/>
          <p:cNvSpPr/>
          <p:nvPr/>
        </p:nvSpPr>
        <p:spPr>
          <a:xfrm rot="7086000">
            <a:off x="3908160" y="1314360"/>
            <a:ext cx="1482840" cy="148248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480"/>
              <a:gd name="textAreaBottom" fmla="*/ 1482840 h 148248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cubicBezTo>
                  <a:pt x="382299" y="1472342"/>
                  <a:pt x="94548" y="1236225"/>
                  <a:pt x="18905" y="907716"/>
                </a:cubicBezTo>
                <a:cubicBezTo>
                  <a:pt x="-56738" y="579208"/>
                  <a:pt x="98774" y="241023"/>
                  <a:pt x="397400" y="84620"/>
                </a:cubicBezTo>
                <a:cubicBezTo>
                  <a:pt x="696026" y="-71783"/>
                  <a:pt x="1062576" y="-7024"/>
                  <a:pt x="1289534" y="242235"/>
                </a:cubicBezTo>
                <a:cubicBezTo>
                  <a:pt x="1516492" y="491494"/>
                  <a:pt x="1546711" y="862491"/>
                  <a:pt x="1363085" y="1145194"/>
                </a:cubicBezTo>
                <a:lnTo>
                  <a:pt x="1349991" y="1136690"/>
                </a:lnTo>
                <a:cubicBezTo>
                  <a:pt x="1529750" y="859941"/>
                  <a:pt x="1500167" y="496757"/>
                  <a:pt x="1277989" y="252748"/>
                </a:cubicBezTo>
                <a:cubicBezTo>
                  <a:pt x="1055811" y="8739"/>
                  <a:pt x="696982" y="-54656"/>
                  <a:pt x="404645" y="98453"/>
                </a:cubicBezTo>
                <a:cubicBezTo>
                  <a:pt x="112308" y="251562"/>
                  <a:pt x="-39929" y="582624"/>
                  <a:pt x="34121" y="904213"/>
                </a:cubicBezTo>
                <a:cubicBezTo>
                  <a:pt x="108171" y="1225803"/>
                  <a:pt x="389862" y="1456947"/>
                  <a:pt x="719720" y="1466788"/>
                </a:cubicBezTo>
                <a:cubicBezTo>
                  <a:pt x="719565" y="1471990"/>
                  <a:pt x="719409" y="1477193"/>
                  <a:pt x="719254" y="1482395"/>
                </a:cubicBezTo>
                <a:close/>
              </a:path>
            </a:pathLst>
          </a:custGeom>
          <a:solidFill>
            <a:srgbClr val="0890d0"/>
          </a:solidFill>
          <a:ln w="3240">
            <a:solidFill>
              <a:srgbClr val="0890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519" name="TextBox 8"/>
          <p:cNvSpPr/>
          <p:nvPr/>
        </p:nvSpPr>
        <p:spPr>
          <a:xfrm flipV="1" rot="10800000">
            <a:off x="3387240" y="27741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幼圆"/>
              </a:rPr>
              <a:t>谢谢聆听</a:t>
            </a:r>
            <a:endParaRPr b="0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520" name="文本框 8"/>
          <p:cNvSpPr/>
          <p:nvPr/>
        </p:nvSpPr>
        <p:spPr>
          <a:xfrm>
            <a:off x="4043520" y="176364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图片 27" descr=""/>
          <p:cNvPicPr/>
          <p:nvPr/>
        </p:nvPicPr>
        <p:blipFill>
          <a:blip r:embed="rId1"/>
          <a:stretch/>
        </p:blipFill>
        <p:spPr>
          <a:xfrm>
            <a:off x="1722600" y="3684600"/>
            <a:ext cx="2603160" cy="1628640"/>
          </a:xfrm>
          <a:prstGeom prst="rect">
            <a:avLst/>
          </a:prstGeom>
          <a:ln w="0">
            <a:noFill/>
          </a:ln>
        </p:spPr>
      </p:pic>
      <p:pic>
        <p:nvPicPr>
          <p:cNvPr id="1139" name="图片 5" descr=""/>
          <p:cNvPicPr/>
          <p:nvPr/>
        </p:nvPicPr>
        <p:blipFill>
          <a:blip r:embed="rId2"/>
          <a:stretch/>
        </p:blipFill>
        <p:spPr>
          <a:xfrm>
            <a:off x="5421240" y="3700440"/>
            <a:ext cx="2554200" cy="1603440"/>
          </a:xfrm>
          <a:prstGeom prst="rect">
            <a:avLst/>
          </a:prstGeom>
          <a:ln w="0">
            <a:noFill/>
          </a:ln>
        </p:spPr>
      </p:pic>
      <p:sp>
        <p:nvSpPr>
          <p:cNvPr id="1140" name="任意多边形 11"/>
          <p:cNvSpPr/>
          <p:nvPr/>
        </p:nvSpPr>
        <p:spPr>
          <a:xfrm>
            <a:off x="0" y="4919760"/>
            <a:ext cx="9132840" cy="1054080"/>
          </a:xfrm>
          <a:custGeom>
            <a:avLst/>
            <a:gdLst>
              <a:gd name="textAreaLeft" fmla="*/ 0 w 9132840"/>
              <a:gd name="textAreaRight" fmla="*/ 9133200 w 913284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9133243" h="1054250">
                <a:moveTo>
                  <a:pt x="0" y="634701"/>
                </a:moveTo>
                <a:lnTo>
                  <a:pt x="6067313" y="634701"/>
                </a:lnTo>
                <a:lnTo>
                  <a:pt x="6594438" y="0"/>
                </a:lnTo>
                <a:lnTo>
                  <a:pt x="6680499" y="634701"/>
                </a:lnTo>
                <a:lnTo>
                  <a:pt x="6852622" y="408791"/>
                </a:lnTo>
                <a:lnTo>
                  <a:pt x="6917167" y="656217"/>
                </a:lnTo>
                <a:lnTo>
                  <a:pt x="7239897" y="344245"/>
                </a:lnTo>
                <a:lnTo>
                  <a:pt x="7347473" y="1054250"/>
                </a:lnTo>
                <a:lnTo>
                  <a:pt x="7498080" y="602428"/>
                </a:lnTo>
                <a:lnTo>
                  <a:pt x="7680960" y="892885"/>
                </a:lnTo>
                <a:lnTo>
                  <a:pt x="7756264" y="355003"/>
                </a:lnTo>
                <a:lnTo>
                  <a:pt x="7831567" y="634701"/>
                </a:lnTo>
                <a:lnTo>
                  <a:pt x="9133243" y="634701"/>
                </a:lnTo>
              </a:path>
            </a:pathLst>
          </a:cu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41" name="矩形 20"/>
          <p:cNvSpPr/>
          <p:nvPr/>
        </p:nvSpPr>
        <p:spPr>
          <a:xfrm>
            <a:off x="1000080" y="162252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42" name="矩形 21"/>
          <p:cNvSpPr/>
          <p:nvPr/>
        </p:nvSpPr>
        <p:spPr>
          <a:xfrm>
            <a:off x="598320" y="2146320"/>
            <a:ext cx="6697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方正大黑简体"/>
                <a:ea typeface="方正大黑简体"/>
              </a:rPr>
              <a:t> </a:t>
            </a:r>
            <a:r>
              <a:rPr b="1" lang="zh-CN" sz="2800" spc="-1" strike="noStrike">
                <a:solidFill>
                  <a:srgbClr val="5f5f5f"/>
                </a:solidFill>
                <a:latin typeface="方正大黑简体"/>
                <a:ea typeface="方正大黑简体"/>
              </a:rPr>
              <a:t>————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微软雅黑"/>
              </a:rPr>
              <a:t>YOU CAN 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43" name="Text Box 13"/>
          <p:cNvSpPr/>
          <p:nvPr/>
        </p:nvSpPr>
        <p:spPr>
          <a:xfrm>
            <a:off x="2629080" y="58374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c2ed"/>
                </a:solidFill>
                <a:latin typeface="Comic Sans MS"/>
                <a:ea typeface="方正兰亭超细黑简体"/>
              </a:rPr>
              <a:t>使用她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44" name="Text Box 14"/>
          <p:cNvSpPr/>
          <p:nvPr/>
        </p:nvSpPr>
        <p:spPr>
          <a:xfrm>
            <a:off x="6427800" y="5864400"/>
            <a:ext cx="12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c2ed"/>
                </a:solidFill>
                <a:latin typeface="Calibri"/>
              </a:rPr>
              <a:t>忘了她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45" name="文本框 21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圆角矩形 22"/>
          <p:cNvSpPr/>
          <p:nvPr/>
        </p:nvSpPr>
        <p:spPr>
          <a:xfrm>
            <a:off x="1209600" y="1839960"/>
            <a:ext cx="7010640" cy="2601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47" name="文本框 20"/>
          <p:cNvSpPr/>
          <p:nvPr/>
        </p:nvSpPr>
        <p:spPr>
          <a:xfrm>
            <a:off x="1639800" y="223920"/>
            <a:ext cx="3098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48" name="矩形 32"/>
          <p:cNvSpPr/>
          <p:nvPr/>
        </p:nvSpPr>
        <p:spPr>
          <a:xfrm>
            <a:off x="2332080" y="1415880"/>
            <a:ext cx="462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855720" y="52578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150" name="组合 2"/>
          <p:cNvGrpSpPr/>
          <p:nvPr/>
        </p:nvGrpSpPr>
        <p:grpSpPr>
          <a:xfrm>
            <a:off x="6532560" y="4100400"/>
            <a:ext cx="804960" cy="1052640"/>
            <a:chOff x="6532560" y="4100400"/>
            <a:chExt cx="804960" cy="1052640"/>
          </a:xfrm>
        </p:grpSpPr>
        <p:sp>
          <p:nvSpPr>
            <p:cNvPr id="1151" name="椭圆 12"/>
            <p:cNvSpPr/>
            <p:nvPr/>
          </p:nvSpPr>
          <p:spPr>
            <a:xfrm>
              <a:off x="6532560" y="4849920"/>
              <a:ext cx="804960" cy="303120"/>
            </a:xfrm>
            <a:prstGeom prst="ellipse">
              <a:avLst/>
            </a:prstGeom>
            <a:noFill/>
            <a:ln w="50760">
              <a:solidFill>
                <a:srgbClr val="60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152" name="任意多边形 13"/>
            <p:cNvSpPr/>
            <p:nvPr/>
          </p:nvSpPr>
          <p:spPr>
            <a:xfrm>
              <a:off x="6634080" y="4100400"/>
              <a:ext cx="586080" cy="72720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414338" h="514350">
                  <a:moveTo>
                    <a:pt x="69058" y="0"/>
                  </a:moveTo>
                  <a:lnTo>
                    <a:pt x="345280" y="0"/>
                  </a:lnTo>
                  <a:cubicBezTo>
                    <a:pt x="383420" y="0"/>
                    <a:pt x="414338" y="30918"/>
                    <a:pt x="414338" y="69058"/>
                  </a:cubicBezTo>
                  <a:lnTo>
                    <a:pt x="414338" y="345280"/>
                  </a:lnTo>
                  <a:cubicBezTo>
                    <a:pt x="414338" y="383420"/>
                    <a:pt x="383420" y="414338"/>
                    <a:pt x="345280" y="414338"/>
                  </a:cubicBezTo>
                  <a:lnTo>
                    <a:pt x="265176" y="414338"/>
                  </a:lnTo>
                  <a:lnTo>
                    <a:pt x="207169" y="514350"/>
                  </a:lnTo>
                  <a:lnTo>
                    <a:pt x="149162" y="414338"/>
                  </a:lnTo>
                  <a:lnTo>
                    <a:pt x="69058" y="414338"/>
                  </a:lnTo>
                  <a:cubicBezTo>
                    <a:pt x="30918" y="414338"/>
                    <a:pt x="0" y="383420"/>
                    <a:pt x="0" y="345280"/>
                  </a:cubicBezTo>
                  <a:lnTo>
                    <a:pt x="0" y="69058"/>
                  </a:lnTo>
                  <a:cubicBezTo>
                    <a:pt x="0" y="30918"/>
                    <a:pt x="30918" y="0"/>
                    <a:pt x="69058" y="0"/>
                  </a:cubicBezTo>
                  <a:close/>
                </a:path>
              </a:pathLst>
            </a:custGeom>
            <a:solidFill>
              <a:srgbClr val="60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153" name="Freeform 20"/>
            <p:cNvSpPr/>
            <p:nvPr/>
          </p:nvSpPr>
          <p:spPr>
            <a:xfrm>
              <a:off x="6674760" y="4183920"/>
              <a:ext cx="495360" cy="4953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60" h="60">
                  <a:moveTo>
                    <a:pt x="60" y="22"/>
                  </a:moveTo>
                  <a:cubicBezTo>
                    <a:pt x="60" y="10"/>
                    <a:pt x="47" y="0"/>
                    <a:pt x="30" y="0"/>
                  </a:cubicBezTo>
                  <a:cubicBezTo>
                    <a:pt x="13" y="0"/>
                    <a:pt x="0" y="10"/>
                    <a:pt x="0" y="22"/>
                  </a:cubicBezTo>
                  <a:cubicBezTo>
                    <a:pt x="0" y="34"/>
                    <a:pt x="13" y="44"/>
                    <a:pt x="30" y="44"/>
                  </a:cubicBezTo>
                  <a:cubicBezTo>
                    <a:pt x="31" y="44"/>
                    <a:pt x="32" y="44"/>
                    <a:pt x="33" y="44"/>
                  </a:cubicBezTo>
                  <a:cubicBezTo>
                    <a:pt x="33" y="44"/>
                    <a:pt x="34" y="44"/>
                    <a:pt x="35" y="44"/>
                  </a:cubicBezTo>
                  <a:cubicBezTo>
                    <a:pt x="36" y="44"/>
                    <a:pt x="37" y="43"/>
                    <a:pt x="37" y="43"/>
                  </a:cubicBezTo>
                  <a:cubicBezTo>
                    <a:pt x="37" y="50"/>
                    <a:pt x="36" y="56"/>
                    <a:pt x="32" y="60"/>
                  </a:cubicBezTo>
                  <a:cubicBezTo>
                    <a:pt x="32" y="60"/>
                    <a:pt x="60" y="36"/>
                    <a:pt x="60" y="24"/>
                  </a:cubicBezTo>
                  <a:cubicBezTo>
                    <a:pt x="60" y="24"/>
                    <a:pt x="60" y="24"/>
                    <a:pt x="60" y="23"/>
                  </a:cubicBezTo>
                  <a:cubicBezTo>
                    <a:pt x="60" y="23"/>
                    <a:pt x="60" y="22"/>
                    <a:pt x="6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154" name="组合 1"/>
          <p:cNvGrpSpPr/>
          <p:nvPr/>
        </p:nvGrpSpPr>
        <p:grpSpPr>
          <a:xfrm>
            <a:off x="1625760" y="4073400"/>
            <a:ext cx="849240" cy="1079640"/>
            <a:chOff x="1625760" y="4073400"/>
            <a:chExt cx="849240" cy="1079640"/>
          </a:xfrm>
        </p:grpSpPr>
        <p:sp>
          <p:nvSpPr>
            <p:cNvPr id="1155" name="椭圆 15"/>
            <p:cNvSpPr/>
            <p:nvPr/>
          </p:nvSpPr>
          <p:spPr>
            <a:xfrm>
              <a:off x="1625760" y="4827600"/>
              <a:ext cx="849240" cy="325440"/>
            </a:xfrm>
            <a:prstGeom prst="ellipse">
              <a:avLst/>
            </a:prstGeom>
            <a:noFill/>
            <a:ln w="50760">
              <a:solidFill>
                <a:srgbClr val="60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156" name="任意多边形 16"/>
            <p:cNvSpPr/>
            <p:nvPr/>
          </p:nvSpPr>
          <p:spPr>
            <a:xfrm>
              <a:off x="1739880" y="4073400"/>
              <a:ext cx="620640" cy="771840"/>
            </a:xfrm>
            <a:custGeom>
              <a:avLst/>
              <a:gdLst>
                <a:gd name="textAreaLeft" fmla="*/ 0 w 620640"/>
                <a:gd name="textAreaRight" fmla="*/ 620640 w 620640"/>
                <a:gd name="textAreaTop" fmla="*/ 0 h 771840"/>
                <a:gd name="textAreaBottom" fmla="*/ 772200 h 771840"/>
              </a:gdLst>
              <a:ahLst/>
              <a:rect l="textAreaLeft" t="textAreaTop" r="textAreaRight" b="textAreaBottom"/>
              <a:pathLst>
                <a:path w="414338" h="514350">
                  <a:moveTo>
                    <a:pt x="69058" y="0"/>
                  </a:moveTo>
                  <a:lnTo>
                    <a:pt x="345280" y="0"/>
                  </a:lnTo>
                  <a:cubicBezTo>
                    <a:pt x="383420" y="0"/>
                    <a:pt x="414338" y="30918"/>
                    <a:pt x="414338" y="69058"/>
                  </a:cubicBezTo>
                  <a:lnTo>
                    <a:pt x="414338" y="345280"/>
                  </a:lnTo>
                  <a:cubicBezTo>
                    <a:pt x="414338" y="383420"/>
                    <a:pt x="383420" y="414338"/>
                    <a:pt x="345280" y="414338"/>
                  </a:cubicBezTo>
                  <a:lnTo>
                    <a:pt x="265176" y="414338"/>
                  </a:lnTo>
                  <a:lnTo>
                    <a:pt x="207169" y="514350"/>
                  </a:lnTo>
                  <a:lnTo>
                    <a:pt x="149162" y="414338"/>
                  </a:lnTo>
                  <a:lnTo>
                    <a:pt x="69058" y="414338"/>
                  </a:lnTo>
                  <a:cubicBezTo>
                    <a:pt x="30918" y="414338"/>
                    <a:pt x="0" y="383420"/>
                    <a:pt x="0" y="345280"/>
                  </a:cubicBezTo>
                  <a:lnTo>
                    <a:pt x="0" y="69058"/>
                  </a:lnTo>
                  <a:cubicBezTo>
                    <a:pt x="0" y="30918"/>
                    <a:pt x="30918" y="0"/>
                    <a:pt x="69058" y="0"/>
                  </a:cubicBezTo>
                  <a:close/>
                </a:path>
              </a:pathLst>
            </a:custGeom>
            <a:solidFill>
              <a:srgbClr val="60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157" name="Freeform 23"/>
            <p:cNvSpPr/>
            <p:nvPr/>
          </p:nvSpPr>
          <p:spPr>
            <a:xfrm>
              <a:off x="1786320" y="4174920"/>
              <a:ext cx="528120" cy="38376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60" h="44">
                  <a:moveTo>
                    <a:pt x="52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4" y="0"/>
                    <a:pt x="0" y="4"/>
                    <a:pt x="0" y="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40"/>
                    <a:pt x="4" y="44"/>
                    <a:pt x="8" y="44"/>
                  </a:cubicBezTo>
                  <a:cubicBezTo>
                    <a:pt x="52" y="44"/>
                    <a:pt x="52" y="44"/>
                    <a:pt x="52" y="44"/>
                  </a:cubicBezTo>
                  <a:cubicBezTo>
                    <a:pt x="56" y="44"/>
                    <a:pt x="60" y="40"/>
                    <a:pt x="60" y="36"/>
                  </a:cubicBezTo>
                  <a:cubicBezTo>
                    <a:pt x="60" y="8"/>
                    <a:pt x="60" y="8"/>
                    <a:pt x="60" y="8"/>
                  </a:cubicBezTo>
                  <a:cubicBezTo>
                    <a:pt x="60" y="4"/>
                    <a:pt x="56" y="0"/>
                    <a:pt x="52" y="0"/>
                  </a:cubicBezTo>
                  <a:close/>
                  <a:moveTo>
                    <a:pt x="52" y="32"/>
                  </a:moveTo>
                  <a:cubicBezTo>
                    <a:pt x="48" y="36"/>
                    <a:pt x="48" y="36"/>
                    <a:pt x="48" y="3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28" y="24"/>
                    <a:pt x="28" y="24"/>
                    <a:pt x="28" y="24"/>
                  </a:cubicBezTo>
                  <a:cubicBezTo>
                    <a:pt x="32" y="24"/>
                    <a:pt x="32" y="24"/>
                    <a:pt x="32" y="24"/>
                  </a:cubicBezTo>
                  <a:cubicBezTo>
                    <a:pt x="48" y="8"/>
                    <a:pt x="48" y="8"/>
                    <a:pt x="48" y="8"/>
                  </a:cubicBezTo>
                  <a:cubicBezTo>
                    <a:pt x="52" y="12"/>
                    <a:pt x="52" y="12"/>
                    <a:pt x="52" y="12"/>
                  </a:cubicBezTo>
                  <a:cubicBezTo>
                    <a:pt x="44" y="20"/>
                    <a:pt x="44" y="20"/>
                    <a:pt x="44" y="20"/>
                  </a:cubicBezTo>
                  <a:cubicBezTo>
                    <a:pt x="42" y="22"/>
                    <a:pt x="42" y="22"/>
                    <a:pt x="42" y="22"/>
                  </a:cubicBezTo>
                  <a:lnTo>
                    <a:pt x="5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158" name="矩形 23"/>
          <p:cNvSpPr/>
          <p:nvPr/>
        </p:nvSpPr>
        <p:spPr>
          <a:xfrm>
            <a:off x="5167440" y="527688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59" name="文本框 21"/>
          <p:cNvSpPr/>
          <p:nvPr/>
        </p:nvSpPr>
        <p:spPr>
          <a:xfrm>
            <a:off x="1549440" y="42840"/>
            <a:ext cx="3098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、我们是什么？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60" name="文本框 21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161" name="图片 1" descr=""/>
          <p:cNvPicPr/>
          <p:nvPr/>
        </p:nvPicPr>
        <p:blipFill>
          <a:blip r:embed="rId1"/>
          <a:srcRect l="0" t="0" r="0" b="11477"/>
          <a:stretch/>
        </p:blipFill>
        <p:spPr>
          <a:xfrm>
            <a:off x="5337000" y="2101680"/>
            <a:ext cx="3330720" cy="1963800"/>
          </a:xfrm>
          <a:prstGeom prst="rect">
            <a:avLst/>
          </a:prstGeom>
          <a:ln w="0">
            <a:noFill/>
          </a:ln>
        </p:spPr>
      </p:pic>
      <p:pic>
        <p:nvPicPr>
          <p:cNvPr id="1162" name="图片 2" descr=""/>
          <p:cNvPicPr/>
          <p:nvPr/>
        </p:nvPicPr>
        <p:blipFill>
          <a:blip r:embed="rId2"/>
          <a:stretch/>
        </p:blipFill>
        <p:spPr>
          <a:xfrm>
            <a:off x="754200" y="2101680"/>
            <a:ext cx="2840040" cy="1916280"/>
          </a:xfrm>
          <a:prstGeom prst="rect">
            <a:avLst/>
          </a:prstGeom>
          <a:ln w="0">
            <a:noFill/>
          </a:ln>
        </p:spPr>
      </p:pic>
      <p:sp>
        <p:nvSpPr>
          <p:cNvPr id="1163" name="Text Box 3"/>
          <p:cNvSpPr/>
          <p:nvPr/>
        </p:nvSpPr>
        <p:spPr>
          <a:xfrm>
            <a:off x="-28440" y="6443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矩形 8"/>
          <p:cNvSpPr/>
          <p:nvPr/>
        </p:nvSpPr>
        <p:spPr>
          <a:xfrm>
            <a:off x="0" y="3882960"/>
            <a:ext cx="9144000" cy="255600"/>
          </a:xfrm>
          <a:prstGeom prst="rect">
            <a:avLst/>
          </a:prstGeom>
          <a:solidFill>
            <a:srgbClr val="b8de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165" name="椭圆 19"/>
          <p:cNvGrpSpPr/>
          <p:nvPr/>
        </p:nvGrpSpPr>
        <p:grpSpPr>
          <a:xfrm>
            <a:off x="2633760" y="3360600"/>
            <a:ext cx="1657080" cy="1614600"/>
            <a:chOff x="2633760" y="3360600"/>
            <a:chExt cx="1657080" cy="1614600"/>
          </a:xfrm>
        </p:grpSpPr>
        <p:pic>
          <p:nvPicPr>
            <p:cNvPr id="1166" name="椭圆 19" descr=""/>
            <p:cNvPicPr/>
            <p:nvPr/>
          </p:nvPicPr>
          <p:blipFill>
            <a:blip r:embed="rId1"/>
            <a:stretch/>
          </p:blipFill>
          <p:spPr>
            <a:xfrm>
              <a:off x="2633760" y="3360600"/>
              <a:ext cx="165708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Text Box 6"/>
            <p:cNvSpPr/>
            <p:nvPr/>
          </p:nvSpPr>
          <p:spPr>
            <a:xfrm>
              <a:off x="3182760" y="3562200"/>
              <a:ext cx="90288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168" name="椭圆 21"/>
          <p:cNvGrpSpPr/>
          <p:nvPr/>
        </p:nvGrpSpPr>
        <p:grpSpPr>
          <a:xfrm>
            <a:off x="596880" y="3360600"/>
            <a:ext cx="1653840" cy="1614600"/>
            <a:chOff x="596880" y="3360600"/>
            <a:chExt cx="1653840" cy="1614600"/>
          </a:xfrm>
        </p:grpSpPr>
        <p:pic>
          <p:nvPicPr>
            <p:cNvPr id="1169" name="椭圆 21" descr=""/>
            <p:cNvPicPr/>
            <p:nvPr/>
          </p:nvPicPr>
          <p:blipFill>
            <a:blip r:embed="rId2"/>
            <a:stretch/>
          </p:blipFill>
          <p:spPr>
            <a:xfrm>
              <a:off x="596880" y="3360600"/>
              <a:ext cx="165384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Text Box 10"/>
            <p:cNvSpPr/>
            <p:nvPr/>
          </p:nvSpPr>
          <p:spPr>
            <a:xfrm>
              <a:off x="1143360" y="3562200"/>
              <a:ext cx="905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171" name="流程图: 可选过程 24"/>
          <p:cNvSpPr/>
          <p:nvPr/>
        </p:nvSpPr>
        <p:spPr>
          <a:xfrm>
            <a:off x="316080" y="5030640"/>
            <a:ext cx="2873160" cy="730440"/>
          </a:xfrm>
          <a:prstGeom prst="flowChartAlternateProcess">
            <a:avLst/>
          </a:prstGeom>
          <a:noFill/>
          <a:ln w="12600">
            <a:solidFill>
              <a:srgbClr val="628fe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172" name="椭圆 25"/>
          <p:cNvGrpSpPr/>
          <p:nvPr/>
        </p:nvGrpSpPr>
        <p:grpSpPr>
          <a:xfrm>
            <a:off x="4602240" y="3360600"/>
            <a:ext cx="1652400" cy="1614600"/>
            <a:chOff x="4602240" y="3360600"/>
            <a:chExt cx="1652400" cy="1614600"/>
          </a:xfrm>
        </p:grpSpPr>
        <p:pic>
          <p:nvPicPr>
            <p:cNvPr id="1173" name="椭圆 25" descr=""/>
            <p:cNvPicPr/>
            <p:nvPr/>
          </p:nvPicPr>
          <p:blipFill>
            <a:blip r:embed="rId3"/>
            <a:stretch/>
          </p:blipFill>
          <p:spPr>
            <a:xfrm>
              <a:off x="4602240" y="3360600"/>
              <a:ext cx="165240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Text Box 14"/>
            <p:cNvSpPr/>
            <p:nvPr/>
          </p:nvSpPr>
          <p:spPr>
            <a:xfrm>
              <a:off x="5151240" y="3562200"/>
              <a:ext cx="90288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175" name="椭圆 27"/>
          <p:cNvGrpSpPr/>
          <p:nvPr/>
        </p:nvGrpSpPr>
        <p:grpSpPr>
          <a:xfrm>
            <a:off x="6692760" y="3360600"/>
            <a:ext cx="1657440" cy="1614600"/>
            <a:chOff x="6692760" y="3360600"/>
            <a:chExt cx="1657440" cy="1614600"/>
          </a:xfrm>
        </p:grpSpPr>
        <p:pic>
          <p:nvPicPr>
            <p:cNvPr id="1176" name="椭圆 27" descr=""/>
            <p:cNvPicPr/>
            <p:nvPr/>
          </p:nvPicPr>
          <p:blipFill>
            <a:blip r:embed="rId4"/>
            <a:stretch/>
          </p:blipFill>
          <p:spPr>
            <a:xfrm>
              <a:off x="6692760" y="3360600"/>
              <a:ext cx="165744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Text Box 18"/>
            <p:cNvSpPr/>
            <p:nvPr/>
          </p:nvSpPr>
          <p:spPr>
            <a:xfrm>
              <a:off x="7242120" y="3562200"/>
              <a:ext cx="90324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178" name="右箭头 29"/>
          <p:cNvSpPr/>
          <p:nvPr/>
        </p:nvSpPr>
        <p:spPr>
          <a:xfrm>
            <a:off x="2482920" y="3735360"/>
            <a:ext cx="331560" cy="527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27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79" name="右箭头 30"/>
          <p:cNvSpPr/>
          <p:nvPr/>
        </p:nvSpPr>
        <p:spPr>
          <a:xfrm>
            <a:off x="4414680" y="3753000"/>
            <a:ext cx="331920" cy="527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27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80" name="右箭头 31"/>
          <p:cNvSpPr/>
          <p:nvPr/>
        </p:nvSpPr>
        <p:spPr>
          <a:xfrm>
            <a:off x="6451560" y="3735360"/>
            <a:ext cx="331920" cy="527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27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81" name="直接连接符 12"/>
          <p:cNvSpPr/>
          <p:nvPr/>
        </p:nvSpPr>
        <p:spPr>
          <a:xfrm>
            <a:off x="1617840" y="4716360"/>
            <a:ext cx="0" cy="309600"/>
          </a:xfrm>
          <a:prstGeom prst="line">
            <a:avLst/>
          </a:prstGeom>
          <a:ln w="12600">
            <a:solidFill>
              <a:srgbClr val="8aade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82" name="直接连接符 35"/>
          <p:cNvSpPr/>
          <p:nvPr/>
        </p:nvSpPr>
        <p:spPr>
          <a:xfrm>
            <a:off x="3646440" y="3097080"/>
            <a:ext cx="0" cy="308160"/>
          </a:xfrm>
          <a:prstGeom prst="line">
            <a:avLst/>
          </a:prstGeom>
          <a:ln w="12600">
            <a:solidFill>
              <a:srgbClr val="8aade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83" name="直接连接符 36"/>
          <p:cNvSpPr/>
          <p:nvPr/>
        </p:nvSpPr>
        <p:spPr>
          <a:xfrm>
            <a:off x="5592600" y="4724280"/>
            <a:ext cx="0" cy="308160"/>
          </a:xfrm>
          <a:prstGeom prst="line">
            <a:avLst/>
          </a:prstGeom>
          <a:ln w="12600">
            <a:solidFill>
              <a:srgbClr val="8aade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84" name="直接连接符 37"/>
          <p:cNvSpPr/>
          <p:nvPr/>
        </p:nvSpPr>
        <p:spPr>
          <a:xfrm>
            <a:off x="7585200" y="3097080"/>
            <a:ext cx="0" cy="308160"/>
          </a:xfrm>
          <a:prstGeom prst="line">
            <a:avLst/>
          </a:prstGeom>
          <a:ln w="12600">
            <a:solidFill>
              <a:srgbClr val="8aade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85" name="文本框 21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86" name="矩形 20"/>
          <p:cNvSpPr/>
          <p:nvPr/>
        </p:nvSpPr>
        <p:spPr>
          <a:xfrm>
            <a:off x="1596960" y="147492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87" name="流程图: 可选过程 24"/>
          <p:cNvSpPr/>
          <p:nvPr/>
        </p:nvSpPr>
        <p:spPr>
          <a:xfrm>
            <a:off x="2209680" y="2359080"/>
            <a:ext cx="2873520" cy="730080"/>
          </a:xfrm>
          <a:prstGeom prst="flowChartAlternateProcess">
            <a:avLst/>
          </a:prstGeom>
          <a:noFill/>
          <a:ln w="12600">
            <a:solidFill>
              <a:srgbClr val="628fe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88" name="流程图: 可选过程 24"/>
          <p:cNvSpPr/>
          <p:nvPr/>
        </p:nvSpPr>
        <p:spPr>
          <a:xfrm>
            <a:off x="4156200" y="5052960"/>
            <a:ext cx="2873160" cy="730440"/>
          </a:xfrm>
          <a:prstGeom prst="flowChartAlternateProcess">
            <a:avLst/>
          </a:prstGeom>
          <a:noFill/>
          <a:ln w="12600">
            <a:solidFill>
              <a:srgbClr val="628fe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89" name="流程图: 可选过程 24"/>
          <p:cNvSpPr/>
          <p:nvPr/>
        </p:nvSpPr>
        <p:spPr>
          <a:xfrm>
            <a:off x="6148440" y="2363760"/>
            <a:ext cx="2873160" cy="730440"/>
          </a:xfrm>
          <a:prstGeom prst="flowChartAlternateProcess">
            <a:avLst/>
          </a:prstGeom>
          <a:noFill/>
          <a:ln w="12600">
            <a:solidFill>
              <a:srgbClr val="628fe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90" name="矩形 1"/>
          <p:cNvSpPr/>
          <p:nvPr/>
        </p:nvSpPr>
        <p:spPr>
          <a:xfrm>
            <a:off x="964440" y="38527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CONTENT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91" name="矩形 34"/>
          <p:cNvSpPr/>
          <p:nvPr/>
        </p:nvSpPr>
        <p:spPr>
          <a:xfrm>
            <a:off x="3002760" y="38354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CONTENT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92" name="矩形 35"/>
          <p:cNvSpPr/>
          <p:nvPr/>
        </p:nvSpPr>
        <p:spPr>
          <a:xfrm>
            <a:off x="4939560" y="38354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CONTENT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93" name="矩形 36"/>
          <p:cNvSpPr/>
          <p:nvPr/>
        </p:nvSpPr>
        <p:spPr>
          <a:xfrm>
            <a:off x="7057440" y="38354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CONTENT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直接连接符 58"/>
          <p:cNvSpPr/>
          <p:nvPr/>
        </p:nvSpPr>
        <p:spPr>
          <a:xfrm>
            <a:off x="1206360" y="3114720"/>
            <a:ext cx="572292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195" name="组合 59"/>
          <p:cNvGrpSpPr/>
          <p:nvPr/>
        </p:nvGrpSpPr>
        <p:grpSpPr>
          <a:xfrm>
            <a:off x="1206360" y="3300480"/>
            <a:ext cx="7547040" cy="730080"/>
            <a:chOff x="1206360" y="3300480"/>
            <a:chExt cx="7547040" cy="730080"/>
          </a:xfrm>
        </p:grpSpPr>
        <p:grpSp>
          <p:nvGrpSpPr>
            <p:cNvPr id="1196" name="椭圆 17"/>
            <p:cNvGrpSpPr/>
            <p:nvPr/>
          </p:nvGrpSpPr>
          <p:grpSpPr>
            <a:xfrm>
              <a:off x="1206360" y="3300480"/>
              <a:ext cx="719280" cy="716760"/>
              <a:chOff x="1206360" y="3300480"/>
              <a:chExt cx="719280" cy="716760"/>
            </a:xfrm>
          </p:grpSpPr>
          <p:pic>
            <p:nvPicPr>
              <p:cNvPr id="1197" name="椭圆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6360" y="3300480"/>
                <a:ext cx="719280" cy="71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8" name=""/>
              <p:cNvSpPr/>
              <p:nvPr/>
            </p:nvSpPr>
            <p:spPr>
              <a:xfrm>
                <a:off x="1310760" y="3407760"/>
                <a:ext cx="507960" cy="50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</p:grpSp>
        <p:sp>
          <p:nvSpPr>
            <p:cNvPr id="1199" name="文本框 18"/>
            <p:cNvSpPr/>
            <p:nvPr/>
          </p:nvSpPr>
          <p:spPr>
            <a:xfrm>
              <a:off x="2218680" y="3302640"/>
              <a:ext cx="11602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de9"/>
                  </a:solidFill>
                  <a:latin typeface="Arial"/>
                  <a:ea typeface="微软雅黑"/>
                </a:rPr>
                <a:t>CONTENT</a:t>
              </a: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200" name="文本框 19"/>
            <p:cNvSpPr/>
            <p:nvPr/>
          </p:nvSpPr>
          <p:spPr>
            <a:xfrm>
              <a:off x="3673440" y="3314160"/>
              <a:ext cx="507996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Calibri"/>
                </a:rPr>
                <a:t>YOU CAN ENTER YUOR CONTENT HERE</a:t>
              </a: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201" name="直接连接符 64"/>
          <p:cNvSpPr/>
          <p:nvPr/>
        </p:nvSpPr>
        <p:spPr>
          <a:xfrm>
            <a:off x="1206360" y="4964040"/>
            <a:ext cx="572292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grpSp>
        <p:nvGrpSpPr>
          <p:cNvPr id="1202" name="组合 65"/>
          <p:cNvGrpSpPr/>
          <p:nvPr/>
        </p:nvGrpSpPr>
        <p:grpSpPr>
          <a:xfrm>
            <a:off x="1200240" y="2325600"/>
            <a:ext cx="6567480" cy="719280"/>
            <a:chOff x="1200240" y="2325600"/>
            <a:chExt cx="6567480" cy="719280"/>
          </a:xfrm>
        </p:grpSpPr>
        <p:grpSp>
          <p:nvGrpSpPr>
            <p:cNvPr id="1203" name="椭圆 22"/>
            <p:cNvGrpSpPr/>
            <p:nvPr/>
          </p:nvGrpSpPr>
          <p:grpSpPr>
            <a:xfrm>
              <a:off x="1200240" y="2328480"/>
              <a:ext cx="719280" cy="713520"/>
              <a:chOff x="1200240" y="2328480"/>
              <a:chExt cx="719280" cy="713520"/>
            </a:xfrm>
          </p:grpSpPr>
          <p:pic>
            <p:nvPicPr>
              <p:cNvPr id="1204" name="椭圆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2328480"/>
                <a:ext cx="719280" cy="71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5" name=""/>
              <p:cNvSpPr/>
              <p:nvPr/>
            </p:nvSpPr>
            <p:spPr>
              <a:xfrm>
                <a:off x="1304640" y="2432160"/>
                <a:ext cx="507960" cy="50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</p:grpSp>
        <p:sp>
          <p:nvSpPr>
            <p:cNvPr id="1206" name="文本框 23"/>
            <p:cNvSpPr/>
            <p:nvPr/>
          </p:nvSpPr>
          <p:spPr>
            <a:xfrm>
              <a:off x="2212200" y="2327040"/>
              <a:ext cx="116064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de9"/>
                  </a:solidFill>
                  <a:latin typeface="Arial"/>
                  <a:ea typeface="微软雅黑"/>
                </a:rPr>
                <a:t>CONTENT</a:t>
              </a: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207" name="文本框 24"/>
            <p:cNvSpPr/>
            <p:nvPr/>
          </p:nvSpPr>
          <p:spPr>
            <a:xfrm>
              <a:off x="3631680" y="2325600"/>
              <a:ext cx="413604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Calibri"/>
                </a:rPr>
                <a:t>YOU CAN ENTER YUOR CONTENT HERE</a:t>
              </a: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208" name="组合 70"/>
          <p:cNvGrpSpPr/>
          <p:nvPr/>
        </p:nvGrpSpPr>
        <p:grpSpPr>
          <a:xfrm>
            <a:off x="1206360" y="5189400"/>
            <a:ext cx="7547040" cy="717840"/>
            <a:chOff x="1206360" y="5189400"/>
            <a:chExt cx="7547040" cy="717840"/>
          </a:xfrm>
        </p:grpSpPr>
        <p:grpSp>
          <p:nvGrpSpPr>
            <p:cNvPr id="1209" name="椭圆 26"/>
            <p:cNvGrpSpPr/>
            <p:nvPr/>
          </p:nvGrpSpPr>
          <p:grpSpPr>
            <a:xfrm>
              <a:off x="1206360" y="5189400"/>
              <a:ext cx="719280" cy="717840"/>
              <a:chOff x="1206360" y="5189400"/>
              <a:chExt cx="719280" cy="717840"/>
            </a:xfrm>
          </p:grpSpPr>
          <p:pic>
            <p:nvPicPr>
              <p:cNvPr id="1210" name="椭圆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206360" y="5189400"/>
                <a:ext cx="719280" cy="7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1" name=""/>
              <p:cNvSpPr/>
              <p:nvPr/>
            </p:nvSpPr>
            <p:spPr>
              <a:xfrm>
                <a:off x="1310760" y="5295960"/>
                <a:ext cx="507960" cy="50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</p:grpSp>
        <p:sp>
          <p:nvSpPr>
            <p:cNvPr id="1212" name="文本框 27"/>
            <p:cNvSpPr/>
            <p:nvPr/>
          </p:nvSpPr>
          <p:spPr>
            <a:xfrm>
              <a:off x="2218680" y="5191200"/>
              <a:ext cx="11602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de9"/>
                  </a:solidFill>
                  <a:latin typeface="Arial"/>
                  <a:ea typeface="微软雅黑"/>
                </a:rPr>
                <a:t>CONTENT</a:t>
              </a: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213" name="文本框 28"/>
            <p:cNvSpPr/>
            <p:nvPr/>
          </p:nvSpPr>
          <p:spPr>
            <a:xfrm>
              <a:off x="3673440" y="5191200"/>
              <a:ext cx="50799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Calibri"/>
                </a:rPr>
                <a:t>YOU CAN ENTER YUOR CONTENT HERE</a:t>
              </a: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grpSp>
        <p:nvGrpSpPr>
          <p:cNvPr id="1214" name="组合 75"/>
          <p:cNvGrpSpPr/>
          <p:nvPr/>
        </p:nvGrpSpPr>
        <p:grpSpPr>
          <a:xfrm>
            <a:off x="1206360" y="4233960"/>
            <a:ext cx="7624800" cy="730080"/>
            <a:chOff x="1206360" y="4233960"/>
            <a:chExt cx="7624800" cy="730080"/>
          </a:xfrm>
        </p:grpSpPr>
        <p:grpSp>
          <p:nvGrpSpPr>
            <p:cNvPr id="1215" name="椭圆 30"/>
            <p:cNvGrpSpPr/>
            <p:nvPr/>
          </p:nvGrpSpPr>
          <p:grpSpPr>
            <a:xfrm>
              <a:off x="1206360" y="4236480"/>
              <a:ext cx="719280" cy="713160"/>
              <a:chOff x="1206360" y="4236480"/>
              <a:chExt cx="719280" cy="713160"/>
            </a:xfrm>
          </p:grpSpPr>
          <p:pic>
            <p:nvPicPr>
              <p:cNvPr id="1216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6360" y="4236480"/>
                <a:ext cx="719280" cy="7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"/>
              <p:cNvSpPr/>
              <p:nvPr/>
            </p:nvSpPr>
            <p:spPr>
              <a:xfrm>
                <a:off x="1310760" y="4338720"/>
                <a:ext cx="50796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</p:grpSp>
        <p:sp>
          <p:nvSpPr>
            <p:cNvPr id="1218" name="文本框 31"/>
            <p:cNvSpPr/>
            <p:nvPr/>
          </p:nvSpPr>
          <p:spPr>
            <a:xfrm>
              <a:off x="2218680" y="4233960"/>
              <a:ext cx="1160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de9"/>
                  </a:solidFill>
                  <a:latin typeface="Arial"/>
                  <a:ea typeface="微软雅黑"/>
                </a:rPr>
                <a:t>CONTENT</a:t>
              </a: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219" name="文本框 32"/>
            <p:cNvSpPr/>
            <p:nvPr/>
          </p:nvSpPr>
          <p:spPr>
            <a:xfrm>
              <a:off x="3673440" y="4245480"/>
              <a:ext cx="51577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Calibri"/>
                </a:rPr>
                <a:t>YOU CAN ENTER YUOR CONTENT HERE</a:t>
              </a: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220" name="直接连接符 80"/>
          <p:cNvSpPr/>
          <p:nvPr/>
        </p:nvSpPr>
        <p:spPr>
          <a:xfrm>
            <a:off x="1206360" y="4092480"/>
            <a:ext cx="572292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21" name="KSO_Shape"/>
          <p:cNvSpPr/>
          <p:nvPr/>
        </p:nvSpPr>
        <p:spPr>
          <a:xfrm>
            <a:off x="1295280" y="5189400"/>
            <a:ext cx="779760" cy="584280"/>
          </a:xfrm>
          <a:custGeom>
            <a:avLst/>
            <a:gdLst>
              <a:gd name="textAreaLeft" fmla="*/ 0 w 779760"/>
              <a:gd name="textAreaRight" fmla="*/ 780120 w 7797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1976437" h="1276350">
                <a:moveTo>
                  <a:pt x="358349" y="655638"/>
                </a:moveTo>
                <a:lnTo>
                  <a:pt x="362663" y="655638"/>
                </a:lnTo>
                <a:lnTo>
                  <a:pt x="367204" y="655638"/>
                </a:lnTo>
                <a:lnTo>
                  <a:pt x="371745" y="656317"/>
                </a:lnTo>
                <a:lnTo>
                  <a:pt x="376059" y="656770"/>
                </a:lnTo>
                <a:lnTo>
                  <a:pt x="380372" y="657450"/>
                </a:lnTo>
                <a:lnTo>
                  <a:pt x="384913" y="658582"/>
                </a:lnTo>
                <a:lnTo>
                  <a:pt x="389454" y="659941"/>
                </a:lnTo>
                <a:lnTo>
                  <a:pt x="393768" y="661299"/>
                </a:lnTo>
                <a:lnTo>
                  <a:pt x="398082" y="663111"/>
                </a:lnTo>
                <a:lnTo>
                  <a:pt x="402168" y="664923"/>
                </a:lnTo>
                <a:lnTo>
                  <a:pt x="406028" y="666961"/>
                </a:lnTo>
                <a:lnTo>
                  <a:pt x="410115" y="669225"/>
                </a:lnTo>
                <a:lnTo>
                  <a:pt x="413747" y="671943"/>
                </a:lnTo>
                <a:lnTo>
                  <a:pt x="417380" y="674434"/>
                </a:lnTo>
                <a:lnTo>
                  <a:pt x="420786" y="677151"/>
                </a:lnTo>
                <a:lnTo>
                  <a:pt x="423964" y="680095"/>
                </a:lnTo>
                <a:lnTo>
                  <a:pt x="427143" y="683039"/>
                </a:lnTo>
                <a:lnTo>
                  <a:pt x="430094" y="686436"/>
                </a:lnTo>
                <a:lnTo>
                  <a:pt x="433046" y="689832"/>
                </a:lnTo>
                <a:lnTo>
                  <a:pt x="435543" y="693229"/>
                </a:lnTo>
                <a:lnTo>
                  <a:pt x="437814" y="696626"/>
                </a:lnTo>
                <a:lnTo>
                  <a:pt x="440311" y="700249"/>
                </a:lnTo>
                <a:lnTo>
                  <a:pt x="442355" y="704099"/>
                </a:lnTo>
                <a:lnTo>
                  <a:pt x="444398" y="707948"/>
                </a:lnTo>
                <a:lnTo>
                  <a:pt x="445760" y="712025"/>
                </a:lnTo>
                <a:lnTo>
                  <a:pt x="447350" y="715874"/>
                </a:lnTo>
                <a:lnTo>
                  <a:pt x="448712" y="719950"/>
                </a:lnTo>
                <a:lnTo>
                  <a:pt x="450074" y="724253"/>
                </a:lnTo>
                <a:lnTo>
                  <a:pt x="450755" y="728556"/>
                </a:lnTo>
                <a:lnTo>
                  <a:pt x="451436" y="732858"/>
                </a:lnTo>
                <a:lnTo>
                  <a:pt x="452117" y="737161"/>
                </a:lnTo>
                <a:lnTo>
                  <a:pt x="452344" y="741463"/>
                </a:lnTo>
                <a:lnTo>
                  <a:pt x="452571" y="745766"/>
                </a:lnTo>
                <a:lnTo>
                  <a:pt x="452344" y="750295"/>
                </a:lnTo>
                <a:lnTo>
                  <a:pt x="452117" y="754597"/>
                </a:lnTo>
                <a:lnTo>
                  <a:pt x="451436" y="759126"/>
                </a:lnTo>
                <a:lnTo>
                  <a:pt x="450755" y="763429"/>
                </a:lnTo>
                <a:lnTo>
                  <a:pt x="449620" y="767958"/>
                </a:lnTo>
                <a:lnTo>
                  <a:pt x="448485" y="772261"/>
                </a:lnTo>
                <a:lnTo>
                  <a:pt x="446895" y="776563"/>
                </a:lnTo>
                <a:lnTo>
                  <a:pt x="364934" y="997127"/>
                </a:lnTo>
                <a:lnTo>
                  <a:pt x="345408" y="1049890"/>
                </a:lnTo>
                <a:lnTo>
                  <a:pt x="443263" y="1062798"/>
                </a:lnTo>
                <a:lnTo>
                  <a:pt x="658271" y="1091331"/>
                </a:lnTo>
                <a:lnTo>
                  <a:pt x="662812" y="1092010"/>
                </a:lnTo>
                <a:lnTo>
                  <a:pt x="667353" y="1092916"/>
                </a:lnTo>
                <a:lnTo>
                  <a:pt x="671893" y="1094048"/>
                </a:lnTo>
                <a:lnTo>
                  <a:pt x="675980" y="1095407"/>
                </a:lnTo>
                <a:lnTo>
                  <a:pt x="680294" y="1096992"/>
                </a:lnTo>
                <a:lnTo>
                  <a:pt x="684381" y="1098804"/>
                </a:lnTo>
                <a:lnTo>
                  <a:pt x="688240" y="1100842"/>
                </a:lnTo>
                <a:lnTo>
                  <a:pt x="692100" y="1102880"/>
                </a:lnTo>
                <a:lnTo>
                  <a:pt x="695733" y="1105144"/>
                </a:lnTo>
                <a:lnTo>
                  <a:pt x="699365" y="1107635"/>
                </a:lnTo>
                <a:lnTo>
                  <a:pt x="702771" y="1110353"/>
                </a:lnTo>
                <a:lnTo>
                  <a:pt x="706177" y="1113070"/>
                </a:lnTo>
                <a:lnTo>
                  <a:pt x="709355" y="1115788"/>
                </a:lnTo>
                <a:lnTo>
                  <a:pt x="712307" y="1118958"/>
                </a:lnTo>
                <a:lnTo>
                  <a:pt x="715258" y="1122355"/>
                </a:lnTo>
                <a:lnTo>
                  <a:pt x="717983" y="1125525"/>
                </a:lnTo>
                <a:lnTo>
                  <a:pt x="720253" y="1129148"/>
                </a:lnTo>
                <a:lnTo>
                  <a:pt x="722978" y="1132772"/>
                </a:lnTo>
                <a:lnTo>
                  <a:pt x="725021" y="1136395"/>
                </a:lnTo>
                <a:lnTo>
                  <a:pt x="727064" y="1140244"/>
                </a:lnTo>
                <a:lnTo>
                  <a:pt x="728881" y="1144094"/>
                </a:lnTo>
                <a:lnTo>
                  <a:pt x="730697" y="1148170"/>
                </a:lnTo>
                <a:lnTo>
                  <a:pt x="731832" y="1152246"/>
                </a:lnTo>
                <a:lnTo>
                  <a:pt x="733195" y="1156322"/>
                </a:lnTo>
                <a:lnTo>
                  <a:pt x="734103" y="1160625"/>
                </a:lnTo>
                <a:lnTo>
                  <a:pt x="735238" y="1165154"/>
                </a:lnTo>
                <a:lnTo>
                  <a:pt x="735692" y="1169457"/>
                </a:lnTo>
                <a:lnTo>
                  <a:pt x="736146" y="1173759"/>
                </a:lnTo>
                <a:lnTo>
                  <a:pt x="736600" y="1178288"/>
                </a:lnTo>
                <a:lnTo>
                  <a:pt x="736600" y="1182817"/>
                </a:lnTo>
                <a:lnTo>
                  <a:pt x="736146" y="1187346"/>
                </a:lnTo>
                <a:lnTo>
                  <a:pt x="735692" y="1191875"/>
                </a:lnTo>
                <a:lnTo>
                  <a:pt x="735011" y="1195952"/>
                </a:lnTo>
                <a:lnTo>
                  <a:pt x="734103" y="1200028"/>
                </a:lnTo>
                <a:lnTo>
                  <a:pt x="733195" y="1203877"/>
                </a:lnTo>
                <a:lnTo>
                  <a:pt x="732059" y="1207953"/>
                </a:lnTo>
                <a:lnTo>
                  <a:pt x="730697" y="1211577"/>
                </a:lnTo>
                <a:lnTo>
                  <a:pt x="729335" y="1215426"/>
                </a:lnTo>
                <a:lnTo>
                  <a:pt x="727519" y="1219050"/>
                </a:lnTo>
                <a:lnTo>
                  <a:pt x="725702" y="1222673"/>
                </a:lnTo>
                <a:lnTo>
                  <a:pt x="722524" y="1227881"/>
                </a:lnTo>
                <a:lnTo>
                  <a:pt x="719345" y="1232863"/>
                </a:lnTo>
                <a:lnTo>
                  <a:pt x="715712" y="1237619"/>
                </a:lnTo>
                <a:lnTo>
                  <a:pt x="711626" y="1242148"/>
                </a:lnTo>
                <a:lnTo>
                  <a:pt x="707312" y="1246224"/>
                </a:lnTo>
                <a:lnTo>
                  <a:pt x="702771" y="1250073"/>
                </a:lnTo>
                <a:lnTo>
                  <a:pt x="698003" y="1253697"/>
                </a:lnTo>
                <a:lnTo>
                  <a:pt x="693008" y="1256867"/>
                </a:lnTo>
                <a:lnTo>
                  <a:pt x="687786" y="1260037"/>
                </a:lnTo>
                <a:lnTo>
                  <a:pt x="682337" y="1262528"/>
                </a:lnTo>
                <a:lnTo>
                  <a:pt x="676661" y="1264566"/>
                </a:lnTo>
                <a:lnTo>
                  <a:pt x="670985" y="1266378"/>
                </a:lnTo>
                <a:lnTo>
                  <a:pt x="665082" y="1267963"/>
                </a:lnTo>
                <a:lnTo>
                  <a:pt x="658952" y="1269095"/>
                </a:lnTo>
                <a:lnTo>
                  <a:pt x="652822" y="1269775"/>
                </a:lnTo>
                <a:lnTo>
                  <a:pt x="646692" y="1270001"/>
                </a:lnTo>
                <a:lnTo>
                  <a:pt x="640789" y="1269775"/>
                </a:lnTo>
                <a:lnTo>
                  <a:pt x="634659" y="1269322"/>
                </a:lnTo>
                <a:lnTo>
                  <a:pt x="209864" y="1213162"/>
                </a:lnTo>
                <a:lnTo>
                  <a:pt x="205096" y="1212256"/>
                </a:lnTo>
                <a:lnTo>
                  <a:pt x="200102" y="1211124"/>
                </a:lnTo>
                <a:lnTo>
                  <a:pt x="195334" y="1209765"/>
                </a:lnTo>
                <a:lnTo>
                  <a:pt x="190339" y="1207953"/>
                </a:lnTo>
                <a:lnTo>
                  <a:pt x="185798" y="1206368"/>
                </a:lnTo>
                <a:lnTo>
                  <a:pt x="181257" y="1204330"/>
                </a:lnTo>
                <a:lnTo>
                  <a:pt x="176716" y="1201613"/>
                </a:lnTo>
                <a:lnTo>
                  <a:pt x="172403" y="1199122"/>
                </a:lnTo>
                <a:lnTo>
                  <a:pt x="168316" y="1196178"/>
                </a:lnTo>
                <a:lnTo>
                  <a:pt x="164456" y="1193234"/>
                </a:lnTo>
                <a:lnTo>
                  <a:pt x="160596" y="1189837"/>
                </a:lnTo>
                <a:lnTo>
                  <a:pt x="156964" y="1186214"/>
                </a:lnTo>
                <a:lnTo>
                  <a:pt x="153785" y="1182817"/>
                </a:lnTo>
                <a:lnTo>
                  <a:pt x="150607" y="1178968"/>
                </a:lnTo>
                <a:lnTo>
                  <a:pt x="147428" y="1174665"/>
                </a:lnTo>
                <a:lnTo>
                  <a:pt x="144703" y="1170362"/>
                </a:lnTo>
                <a:lnTo>
                  <a:pt x="142433" y="1166060"/>
                </a:lnTo>
                <a:lnTo>
                  <a:pt x="140163" y="1161531"/>
                </a:lnTo>
                <a:lnTo>
                  <a:pt x="138119" y="1156775"/>
                </a:lnTo>
                <a:lnTo>
                  <a:pt x="136303" y="1152020"/>
                </a:lnTo>
                <a:lnTo>
                  <a:pt x="134941" y="1147038"/>
                </a:lnTo>
                <a:lnTo>
                  <a:pt x="133578" y="1142282"/>
                </a:lnTo>
                <a:lnTo>
                  <a:pt x="132897" y="1137301"/>
                </a:lnTo>
                <a:lnTo>
                  <a:pt x="132443" y="1132545"/>
                </a:lnTo>
                <a:lnTo>
                  <a:pt x="131762" y="1127337"/>
                </a:lnTo>
                <a:lnTo>
                  <a:pt x="131762" y="1122581"/>
                </a:lnTo>
                <a:lnTo>
                  <a:pt x="132216" y="1117373"/>
                </a:lnTo>
                <a:lnTo>
                  <a:pt x="132670" y="1112617"/>
                </a:lnTo>
                <a:lnTo>
                  <a:pt x="133351" y="1107635"/>
                </a:lnTo>
                <a:lnTo>
                  <a:pt x="134487" y="1102653"/>
                </a:lnTo>
                <a:lnTo>
                  <a:pt x="135622" y="1097672"/>
                </a:lnTo>
                <a:lnTo>
                  <a:pt x="137438" y="1092916"/>
                </a:lnTo>
                <a:lnTo>
                  <a:pt x="230525" y="842687"/>
                </a:lnTo>
                <a:lnTo>
                  <a:pt x="277977" y="714289"/>
                </a:lnTo>
                <a:lnTo>
                  <a:pt x="279793" y="709986"/>
                </a:lnTo>
                <a:lnTo>
                  <a:pt x="281836" y="705910"/>
                </a:lnTo>
                <a:lnTo>
                  <a:pt x="283880" y="701834"/>
                </a:lnTo>
                <a:lnTo>
                  <a:pt x="286150" y="697985"/>
                </a:lnTo>
                <a:lnTo>
                  <a:pt x="288421" y="694361"/>
                </a:lnTo>
                <a:lnTo>
                  <a:pt x="291145" y="690738"/>
                </a:lnTo>
                <a:lnTo>
                  <a:pt x="293870" y="687341"/>
                </a:lnTo>
                <a:lnTo>
                  <a:pt x="297048" y="683945"/>
                </a:lnTo>
                <a:lnTo>
                  <a:pt x="300000" y="680774"/>
                </a:lnTo>
                <a:lnTo>
                  <a:pt x="303178" y="678057"/>
                </a:lnTo>
                <a:lnTo>
                  <a:pt x="306357" y="675113"/>
                </a:lnTo>
                <a:lnTo>
                  <a:pt x="309990" y="672622"/>
                </a:lnTo>
                <a:lnTo>
                  <a:pt x="313622" y="670131"/>
                </a:lnTo>
                <a:lnTo>
                  <a:pt x="317255" y="668093"/>
                </a:lnTo>
                <a:lnTo>
                  <a:pt x="321115" y="665828"/>
                </a:lnTo>
                <a:lnTo>
                  <a:pt x="324974" y="664017"/>
                </a:lnTo>
                <a:lnTo>
                  <a:pt x="328834" y="662205"/>
                </a:lnTo>
                <a:lnTo>
                  <a:pt x="332921" y="660620"/>
                </a:lnTo>
                <a:lnTo>
                  <a:pt x="337007" y="659261"/>
                </a:lnTo>
                <a:lnTo>
                  <a:pt x="341094" y="658356"/>
                </a:lnTo>
                <a:lnTo>
                  <a:pt x="345408" y="657223"/>
                </a:lnTo>
                <a:lnTo>
                  <a:pt x="349495" y="656770"/>
                </a:lnTo>
                <a:lnTo>
                  <a:pt x="354036" y="656091"/>
                </a:lnTo>
                <a:lnTo>
                  <a:pt x="358349" y="655638"/>
                </a:lnTo>
                <a:close/>
                <a:moveTo>
                  <a:pt x="365456" y="536575"/>
                </a:moveTo>
                <a:lnTo>
                  <a:pt x="374987" y="536802"/>
                </a:lnTo>
                <a:lnTo>
                  <a:pt x="385199" y="537937"/>
                </a:lnTo>
                <a:lnTo>
                  <a:pt x="395411" y="538846"/>
                </a:lnTo>
                <a:lnTo>
                  <a:pt x="405396" y="540662"/>
                </a:lnTo>
                <a:lnTo>
                  <a:pt x="415381" y="542706"/>
                </a:lnTo>
                <a:lnTo>
                  <a:pt x="425593" y="545430"/>
                </a:lnTo>
                <a:lnTo>
                  <a:pt x="435578" y="548382"/>
                </a:lnTo>
                <a:lnTo>
                  <a:pt x="445563" y="551788"/>
                </a:lnTo>
                <a:lnTo>
                  <a:pt x="455775" y="555648"/>
                </a:lnTo>
                <a:lnTo>
                  <a:pt x="465533" y="559735"/>
                </a:lnTo>
                <a:lnTo>
                  <a:pt x="475291" y="564277"/>
                </a:lnTo>
                <a:lnTo>
                  <a:pt x="484822" y="569499"/>
                </a:lnTo>
                <a:lnTo>
                  <a:pt x="494353" y="574722"/>
                </a:lnTo>
                <a:lnTo>
                  <a:pt x="503657" y="580625"/>
                </a:lnTo>
                <a:lnTo>
                  <a:pt x="512734" y="586756"/>
                </a:lnTo>
                <a:lnTo>
                  <a:pt x="521357" y="593114"/>
                </a:lnTo>
                <a:lnTo>
                  <a:pt x="530208" y="599699"/>
                </a:lnTo>
                <a:lnTo>
                  <a:pt x="538377" y="606965"/>
                </a:lnTo>
                <a:lnTo>
                  <a:pt x="588075" y="644884"/>
                </a:lnTo>
                <a:lnTo>
                  <a:pt x="614853" y="665321"/>
                </a:lnTo>
                <a:lnTo>
                  <a:pt x="642312" y="686437"/>
                </a:lnTo>
                <a:lnTo>
                  <a:pt x="670678" y="707554"/>
                </a:lnTo>
                <a:lnTo>
                  <a:pt x="699952" y="729126"/>
                </a:lnTo>
                <a:lnTo>
                  <a:pt x="729907" y="750470"/>
                </a:lnTo>
                <a:lnTo>
                  <a:pt x="745338" y="761369"/>
                </a:lnTo>
                <a:lnTo>
                  <a:pt x="760769" y="771814"/>
                </a:lnTo>
                <a:lnTo>
                  <a:pt x="776428" y="782259"/>
                </a:lnTo>
                <a:lnTo>
                  <a:pt x="792313" y="792931"/>
                </a:lnTo>
                <a:lnTo>
                  <a:pt x="808198" y="803148"/>
                </a:lnTo>
                <a:lnTo>
                  <a:pt x="824537" y="813139"/>
                </a:lnTo>
                <a:lnTo>
                  <a:pt x="840649" y="822903"/>
                </a:lnTo>
                <a:lnTo>
                  <a:pt x="856988" y="832667"/>
                </a:lnTo>
                <a:lnTo>
                  <a:pt x="873781" y="841976"/>
                </a:lnTo>
                <a:lnTo>
                  <a:pt x="890120" y="851059"/>
                </a:lnTo>
                <a:lnTo>
                  <a:pt x="906913" y="859914"/>
                </a:lnTo>
                <a:lnTo>
                  <a:pt x="923706" y="868543"/>
                </a:lnTo>
                <a:lnTo>
                  <a:pt x="940725" y="876490"/>
                </a:lnTo>
                <a:lnTo>
                  <a:pt x="957518" y="884437"/>
                </a:lnTo>
                <a:lnTo>
                  <a:pt x="974538" y="891931"/>
                </a:lnTo>
                <a:lnTo>
                  <a:pt x="991785" y="898970"/>
                </a:lnTo>
                <a:lnTo>
                  <a:pt x="1008578" y="905327"/>
                </a:lnTo>
                <a:lnTo>
                  <a:pt x="1025824" y="911458"/>
                </a:lnTo>
                <a:lnTo>
                  <a:pt x="1287022" y="738208"/>
                </a:lnTo>
                <a:lnTo>
                  <a:pt x="1291106" y="735483"/>
                </a:lnTo>
                <a:lnTo>
                  <a:pt x="1295645" y="732986"/>
                </a:lnTo>
                <a:lnTo>
                  <a:pt x="1299957" y="730488"/>
                </a:lnTo>
                <a:lnTo>
                  <a:pt x="1304268" y="728444"/>
                </a:lnTo>
                <a:lnTo>
                  <a:pt x="1309034" y="726401"/>
                </a:lnTo>
                <a:lnTo>
                  <a:pt x="1313573" y="724357"/>
                </a:lnTo>
                <a:lnTo>
                  <a:pt x="1318111" y="722768"/>
                </a:lnTo>
                <a:lnTo>
                  <a:pt x="1322877" y="721178"/>
                </a:lnTo>
                <a:lnTo>
                  <a:pt x="1327415" y="719816"/>
                </a:lnTo>
                <a:lnTo>
                  <a:pt x="1332181" y="718681"/>
                </a:lnTo>
                <a:lnTo>
                  <a:pt x="1337173" y="717545"/>
                </a:lnTo>
                <a:lnTo>
                  <a:pt x="1341712" y="716637"/>
                </a:lnTo>
                <a:lnTo>
                  <a:pt x="1346704" y="716183"/>
                </a:lnTo>
                <a:lnTo>
                  <a:pt x="1351470" y="715275"/>
                </a:lnTo>
                <a:lnTo>
                  <a:pt x="1356463" y="715048"/>
                </a:lnTo>
                <a:lnTo>
                  <a:pt x="1361228" y="714820"/>
                </a:lnTo>
                <a:lnTo>
                  <a:pt x="1366221" y="714820"/>
                </a:lnTo>
                <a:lnTo>
                  <a:pt x="1370986" y="715048"/>
                </a:lnTo>
                <a:lnTo>
                  <a:pt x="1375979" y="715275"/>
                </a:lnTo>
                <a:lnTo>
                  <a:pt x="1380744" y="715956"/>
                </a:lnTo>
                <a:lnTo>
                  <a:pt x="1385737" y="716410"/>
                </a:lnTo>
                <a:lnTo>
                  <a:pt x="1390275" y="717091"/>
                </a:lnTo>
                <a:lnTo>
                  <a:pt x="1395041" y="718226"/>
                </a:lnTo>
                <a:lnTo>
                  <a:pt x="1400033" y="719135"/>
                </a:lnTo>
                <a:lnTo>
                  <a:pt x="1404572" y="720497"/>
                </a:lnTo>
                <a:lnTo>
                  <a:pt x="1409564" y="722087"/>
                </a:lnTo>
                <a:lnTo>
                  <a:pt x="1414103" y="723903"/>
                </a:lnTo>
                <a:lnTo>
                  <a:pt x="1418868" y="725720"/>
                </a:lnTo>
                <a:lnTo>
                  <a:pt x="1423180" y="727309"/>
                </a:lnTo>
                <a:lnTo>
                  <a:pt x="1427719" y="729807"/>
                </a:lnTo>
                <a:lnTo>
                  <a:pt x="1432030" y="732077"/>
                </a:lnTo>
                <a:lnTo>
                  <a:pt x="1436569" y="734575"/>
                </a:lnTo>
                <a:lnTo>
                  <a:pt x="1907904" y="1014772"/>
                </a:lnTo>
                <a:lnTo>
                  <a:pt x="1913804" y="1018632"/>
                </a:lnTo>
                <a:lnTo>
                  <a:pt x="1919705" y="1022719"/>
                </a:lnTo>
                <a:lnTo>
                  <a:pt x="1925378" y="1027034"/>
                </a:lnTo>
                <a:lnTo>
                  <a:pt x="1930597" y="1031575"/>
                </a:lnTo>
                <a:lnTo>
                  <a:pt x="1935590" y="1036570"/>
                </a:lnTo>
                <a:lnTo>
                  <a:pt x="1940355" y="1041793"/>
                </a:lnTo>
                <a:lnTo>
                  <a:pt x="1945121" y="1046788"/>
                </a:lnTo>
                <a:lnTo>
                  <a:pt x="1949206" y="1052238"/>
                </a:lnTo>
                <a:lnTo>
                  <a:pt x="1953063" y="1057914"/>
                </a:lnTo>
                <a:lnTo>
                  <a:pt x="1956694" y="1063591"/>
                </a:lnTo>
                <a:lnTo>
                  <a:pt x="1959871" y="1069495"/>
                </a:lnTo>
                <a:lnTo>
                  <a:pt x="1963048" y="1075625"/>
                </a:lnTo>
                <a:lnTo>
                  <a:pt x="1965771" y="1081756"/>
                </a:lnTo>
                <a:lnTo>
                  <a:pt x="1968268" y="1088114"/>
                </a:lnTo>
                <a:lnTo>
                  <a:pt x="1970310" y="1094472"/>
                </a:lnTo>
                <a:lnTo>
                  <a:pt x="1972352" y="1101057"/>
                </a:lnTo>
                <a:lnTo>
                  <a:pt x="1973487" y="1107641"/>
                </a:lnTo>
                <a:lnTo>
                  <a:pt x="1974849" y="1113999"/>
                </a:lnTo>
                <a:lnTo>
                  <a:pt x="1975529" y="1120811"/>
                </a:lnTo>
                <a:lnTo>
                  <a:pt x="1976437" y="1127623"/>
                </a:lnTo>
                <a:lnTo>
                  <a:pt x="1976437" y="1134435"/>
                </a:lnTo>
                <a:lnTo>
                  <a:pt x="1976437" y="1141247"/>
                </a:lnTo>
                <a:lnTo>
                  <a:pt x="1975983" y="1148059"/>
                </a:lnTo>
                <a:lnTo>
                  <a:pt x="1975076" y="1154871"/>
                </a:lnTo>
                <a:lnTo>
                  <a:pt x="1974168" y="1161683"/>
                </a:lnTo>
                <a:lnTo>
                  <a:pt x="1972806" y="1168268"/>
                </a:lnTo>
                <a:lnTo>
                  <a:pt x="1970991" y="1174852"/>
                </a:lnTo>
                <a:lnTo>
                  <a:pt x="1968722" y="1181664"/>
                </a:lnTo>
                <a:lnTo>
                  <a:pt x="1966452" y="1188249"/>
                </a:lnTo>
                <a:lnTo>
                  <a:pt x="1963502" y="1194607"/>
                </a:lnTo>
                <a:lnTo>
                  <a:pt x="1960325" y="1201192"/>
                </a:lnTo>
                <a:lnTo>
                  <a:pt x="1956921" y="1207550"/>
                </a:lnTo>
                <a:lnTo>
                  <a:pt x="1954425" y="1211637"/>
                </a:lnTo>
                <a:lnTo>
                  <a:pt x="1951475" y="1215497"/>
                </a:lnTo>
                <a:lnTo>
                  <a:pt x="1948979" y="1219357"/>
                </a:lnTo>
                <a:lnTo>
                  <a:pt x="1946028" y="1223217"/>
                </a:lnTo>
                <a:lnTo>
                  <a:pt x="1943078" y="1226850"/>
                </a:lnTo>
                <a:lnTo>
                  <a:pt x="1939901" y="1230029"/>
                </a:lnTo>
                <a:lnTo>
                  <a:pt x="1933547" y="1236841"/>
                </a:lnTo>
                <a:lnTo>
                  <a:pt x="1926966" y="1242972"/>
                </a:lnTo>
                <a:lnTo>
                  <a:pt x="1919705" y="1248648"/>
                </a:lnTo>
                <a:lnTo>
                  <a:pt x="1912216" y="1253871"/>
                </a:lnTo>
                <a:lnTo>
                  <a:pt x="1904500" y="1258412"/>
                </a:lnTo>
                <a:lnTo>
                  <a:pt x="1896558" y="1262499"/>
                </a:lnTo>
                <a:lnTo>
                  <a:pt x="1888388" y="1266132"/>
                </a:lnTo>
                <a:lnTo>
                  <a:pt x="1879992" y="1269084"/>
                </a:lnTo>
                <a:lnTo>
                  <a:pt x="1871141" y="1271809"/>
                </a:lnTo>
                <a:lnTo>
                  <a:pt x="1862518" y="1273852"/>
                </a:lnTo>
                <a:lnTo>
                  <a:pt x="1853668" y="1274988"/>
                </a:lnTo>
                <a:lnTo>
                  <a:pt x="1844817" y="1275896"/>
                </a:lnTo>
                <a:lnTo>
                  <a:pt x="1835740" y="1276350"/>
                </a:lnTo>
                <a:lnTo>
                  <a:pt x="1826890" y="1275896"/>
                </a:lnTo>
                <a:lnTo>
                  <a:pt x="1817586" y="1274988"/>
                </a:lnTo>
                <a:lnTo>
                  <a:pt x="1812820" y="1274307"/>
                </a:lnTo>
                <a:lnTo>
                  <a:pt x="1808282" y="1273625"/>
                </a:lnTo>
                <a:lnTo>
                  <a:pt x="1803970" y="1272490"/>
                </a:lnTo>
                <a:lnTo>
                  <a:pt x="1799431" y="1271582"/>
                </a:lnTo>
                <a:lnTo>
                  <a:pt x="1794666" y="1270219"/>
                </a:lnTo>
                <a:lnTo>
                  <a:pt x="1790354" y="1268630"/>
                </a:lnTo>
                <a:lnTo>
                  <a:pt x="1786042" y="1267041"/>
                </a:lnTo>
                <a:lnTo>
                  <a:pt x="1781277" y="1265224"/>
                </a:lnTo>
                <a:lnTo>
                  <a:pt x="1776965" y="1263180"/>
                </a:lnTo>
                <a:lnTo>
                  <a:pt x="1772653" y="1261137"/>
                </a:lnTo>
                <a:lnTo>
                  <a:pt x="1768569" y="1258866"/>
                </a:lnTo>
                <a:lnTo>
                  <a:pt x="1764257" y="1256596"/>
                </a:lnTo>
                <a:lnTo>
                  <a:pt x="1368717" y="1021357"/>
                </a:lnTo>
                <a:lnTo>
                  <a:pt x="1047156" y="1235024"/>
                </a:lnTo>
                <a:lnTo>
                  <a:pt x="1041710" y="1238430"/>
                </a:lnTo>
                <a:lnTo>
                  <a:pt x="1036717" y="1241155"/>
                </a:lnTo>
                <a:lnTo>
                  <a:pt x="1031271" y="1244107"/>
                </a:lnTo>
                <a:lnTo>
                  <a:pt x="1025824" y="1246605"/>
                </a:lnTo>
                <a:lnTo>
                  <a:pt x="1020151" y="1248875"/>
                </a:lnTo>
                <a:lnTo>
                  <a:pt x="1014932" y="1250692"/>
                </a:lnTo>
                <a:lnTo>
                  <a:pt x="1009259" y="1252508"/>
                </a:lnTo>
                <a:lnTo>
                  <a:pt x="1003585" y="1254098"/>
                </a:lnTo>
                <a:lnTo>
                  <a:pt x="994054" y="1257504"/>
                </a:lnTo>
                <a:lnTo>
                  <a:pt x="984523" y="1260683"/>
                </a:lnTo>
                <a:lnTo>
                  <a:pt x="974538" y="1263407"/>
                </a:lnTo>
                <a:lnTo>
                  <a:pt x="964553" y="1266132"/>
                </a:lnTo>
                <a:lnTo>
                  <a:pt x="954341" y="1268176"/>
                </a:lnTo>
                <a:lnTo>
                  <a:pt x="943676" y="1269992"/>
                </a:lnTo>
                <a:lnTo>
                  <a:pt x="933010" y="1271128"/>
                </a:lnTo>
                <a:lnTo>
                  <a:pt x="922117" y="1272036"/>
                </a:lnTo>
                <a:lnTo>
                  <a:pt x="910998" y="1272490"/>
                </a:lnTo>
                <a:lnTo>
                  <a:pt x="899651" y="1272490"/>
                </a:lnTo>
                <a:lnTo>
                  <a:pt x="888078" y="1272036"/>
                </a:lnTo>
                <a:lnTo>
                  <a:pt x="876504" y="1270901"/>
                </a:lnTo>
                <a:lnTo>
                  <a:pt x="864704" y="1269311"/>
                </a:lnTo>
                <a:lnTo>
                  <a:pt x="852676" y="1267268"/>
                </a:lnTo>
                <a:lnTo>
                  <a:pt x="840422" y="1264770"/>
                </a:lnTo>
                <a:lnTo>
                  <a:pt x="827941" y="1262045"/>
                </a:lnTo>
                <a:lnTo>
                  <a:pt x="806836" y="1254325"/>
                </a:lnTo>
                <a:lnTo>
                  <a:pt x="785959" y="1246832"/>
                </a:lnTo>
                <a:lnTo>
                  <a:pt x="765989" y="1239112"/>
                </a:lnTo>
                <a:lnTo>
                  <a:pt x="746246" y="1231391"/>
                </a:lnTo>
                <a:lnTo>
                  <a:pt x="748288" y="1227304"/>
                </a:lnTo>
                <a:lnTo>
                  <a:pt x="750331" y="1222990"/>
                </a:lnTo>
                <a:lnTo>
                  <a:pt x="751919" y="1218676"/>
                </a:lnTo>
                <a:lnTo>
                  <a:pt x="753281" y="1214135"/>
                </a:lnTo>
                <a:lnTo>
                  <a:pt x="754869" y="1209593"/>
                </a:lnTo>
                <a:lnTo>
                  <a:pt x="756004" y="1205052"/>
                </a:lnTo>
                <a:lnTo>
                  <a:pt x="756912" y="1200057"/>
                </a:lnTo>
                <a:lnTo>
                  <a:pt x="757819" y="1195515"/>
                </a:lnTo>
                <a:lnTo>
                  <a:pt x="758273" y="1189839"/>
                </a:lnTo>
                <a:lnTo>
                  <a:pt x="758500" y="1184162"/>
                </a:lnTo>
                <a:lnTo>
                  <a:pt x="758500" y="1178713"/>
                </a:lnTo>
                <a:lnTo>
                  <a:pt x="758500" y="1173036"/>
                </a:lnTo>
                <a:lnTo>
                  <a:pt x="758046" y="1167813"/>
                </a:lnTo>
                <a:lnTo>
                  <a:pt x="757139" y="1162364"/>
                </a:lnTo>
                <a:lnTo>
                  <a:pt x="756231" y="1156914"/>
                </a:lnTo>
                <a:lnTo>
                  <a:pt x="754869" y="1151465"/>
                </a:lnTo>
                <a:lnTo>
                  <a:pt x="753281" y="1146469"/>
                </a:lnTo>
                <a:lnTo>
                  <a:pt x="751465" y="1141020"/>
                </a:lnTo>
                <a:lnTo>
                  <a:pt x="749423" y="1136252"/>
                </a:lnTo>
                <a:lnTo>
                  <a:pt x="747154" y="1131029"/>
                </a:lnTo>
                <a:lnTo>
                  <a:pt x="744657" y="1126261"/>
                </a:lnTo>
                <a:lnTo>
                  <a:pt x="741707" y="1121492"/>
                </a:lnTo>
                <a:lnTo>
                  <a:pt x="738757" y="1116724"/>
                </a:lnTo>
                <a:lnTo>
                  <a:pt x="735353" y="1112183"/>
                </a:lnTo>
                <a:lnTo>
                  <a:pt x="731722" y="1107869"/>
                </a:lnTo>
                <a:lnTo>
                  <a:pt x="728091" y="1103554"/>
                </a:lnTo>
                <a:lnTo>
                  <a:pt x="724460" y="1099694"/>
                </a:lnTo>
                <a:lnTo>
                  <a:pt x="720149" y="1095834"/>
                </a:lnTo>
                <a:lnTo>
                  <a:pt x="716064" y="1092428"/>
                </a:lnTo>
                <a:lnTo>
                  <a:pt x="711752" y="1089249"/>
                </a:lnTo>
                <a:lnTo>
                  <a:pt x="707214" y="1086070"/>
                </a:lnTo>
                <a:lnTo>
                  <a:pt x="702448" y="1083346"/>
                </a:lnTo>
                <a:lnTo>
                  <a:pt x="697683" y="1080394"/>
                </a:lnTo>
                <a:lnTo>
                  <a:pt x="692690" y="1078123"/>
                </a:lnTo>
                <a:lnTo>
                  <a:pt x="687698" y="1076080"/>
                </a:lnTo>
                <a:lnTo>
                  <a:pt x="682478" y="1074036"/>
                </a:lnTo>
                <a:lnTo>
                  <a:pt x="677486" y="1072447"/>
                </a:lnTo>
                <a:lnTo>
                  <a:pt x="672039" y="1071311"/>
                </a:lnTo>
                <a:lnTo>
                  <a:pt x="666593" y="1069949"/>
                </a:lnTo>
                <a:lnTo>
                  <a:pt x="660920" y="1069041"/>
                </a:lnTo>
                <a:lnTo>
                  <a:pt x="409481" y="1035662"/>
                </a:lnTo>
                <a:lnTo>
                  <a:pt x="396092" y="1024536"/>
                </a:lnTo>
                <a:lnTo>
                  <a:pt x="382703" y="1012956"/>
                </a:lnTo>
                <a:lnTo>
                  <a:pt x="467802" y="783848"/>
                </a:lnTo>
                <a:lnTo>
                  <a:pt x="469617" y="778398"/>
                </a:lnTo>
                <a:lnTo>
                  <a:pt x="470979" y="773176"/>
                </a:lnTo>
                <a:lnTo>
                  <a:pt x="472340" y="767726"/>
                </a:lnTo>
                <a:lnTo>
                  <a:pt x="473475" y="762277"/>
                </a:lnTo>
                <a:lnTo>
                  <a:pt x="474156" y="756827"/>
                </a:lnTo>
                <a:lnTo>
                  <a:pt x="474610" y="751378"/>
                </a:lnTo>
                <a:lnTo>
                  <a:pt x="474610" y="745928"/>
                </a:lnTo>
                <a:lnTo>
                  <a:pt x="474610" y="740479"/>
                </a:lnTo>
                <a:lnTo>
                  <a:pt x="474383" y="735029"/>
                </a:lnTo>
                <a:lnTo>
                  <a:pt x="473702" y="729353"/>
                </a:lnTo>
                <a:lnTo>
                  <a:pt x="472794" y="724130"/>
                </a:lnTo>
                <a:lnTo>
                  <a:pt x="471887" y="718681"/>
                </a:lnTo>
                <a:lnTo>
                  <a:pt x="470298" y="713458"/>
                </a:lnTo>
                <a:lnTo>
                  <a:pt x="468483" y="708236"/>
                </a:lnTo>
                <a:lnTo>
                  <a:pt x="466667" y="703013"/>
                </a:lnTo>
                <a:lnTo>
                  <a:pt x="464398" y="697791"/>
                </a:lnTo>
                <a:lnTo>
                  <a:pt x="462129" y="692795"/>
                </a:lnTo>
                <a:lnTo>
                  <a:pt x="459178" y="687800"/>
                </a:lnTo>
                <a:lnTo>
                  <a:pt x="456455" y="683259"/>
                </a:lnTo>
                <a:lnTo>
                  <a:pt x="453278" y="678717"/>
                </a:lnTo>
                <a:lnTo>
                  <a:pt x="450101" y="674176"/>
                </a:lnTo>
                <a:lnTo>
                  <a:pt x="446470" y="669862"/>
                </a:lnTo>
                <a:lnTo>
                  <a:pt x="442613" y="666002"/>
                </a:lnTo>
                <a:lnTo>
                  <a:pt x="438755" y="662142"/>
                </a:lnTo>
                <a:lnTo>
                  <a:pt x="434670" y="658509"/>
                </a:lnTo>
                <a:lnTo>
                  <a:pt x="430358" y="655329"/>
                </a:lnTo>
                <a:lnTo>
                  <a:pt x="425820" y="651923"/>
                </a:lnTo>
                <a:lnTo>
                  <a:pt x="421281" y="648745"/>
                </a:lnTo>
                <a:lnTo>
                  <a:pt x="416516" y="646247"/>
                </a:lnTo>
                <a:lnTo>
                  <a:pt x="411523" y="643749"/>
                </a:lnTo>
                <a:lnTo>
                  <a:pt x="406304" y="641479"/>
                </a:lnTo>
                <a:lnTo>
                  <a:pt x="401311" y="639435"/>
                </a:lnTo>
                <a:lnTo>
                  <a:pt x="396546" y="637618"/>
                </a:lnTo>
                <a:lnTo>
                  <a:pt x="391780" y="636256"/>
                </a:lnTo>
                <a:lnTo>
                  <a:pt x="387015" y="634894"/>
                </a:lnTo>
                <a:lnTo>
                  <a:pt x="382022" y="633985"/>
                </a:lnTo>
                <a:lnTo>
                  <a:pt x="377256" y="633077"/>
                </a:lnTo>
                <a:lnTo>
                  <a:pt x="372264" y="632623"/>
                </a:lnTo>
                <a:lnTo>
                  <a:pt x="367498" y="632396"/>
                </a:lnTo>
                <a:lnTo>
                  <a:pt x="362279" y="632169"/>
                </a:lnTo>
                <a:lnTo>
                  <a:pt x="357967" y="632396"/>
                </a:lnTo>
                <a:lnTo>
                  <a:pt x="353656" y="632623"/>
                </a:lnTo>
                <a:lnTo>
                  <a:pt x="349117" y="632850"/>
                </a:lnTo>
                <a:lnTo>
                  <a:pt x="345032" y="633758"/>
                </a:lnTo>
                <a:lnTo>
                  <a:pt x="340721" y="634440"/>
                </a:lnTo>
                <a:lnTo>
                  <a:pt x="336636" y="635348"/>
                </a:lnTo>
                <a:lnTo>
                  <a:pt x="332551" y="636256"/>
                </a:lnTo>
                <a:lnTo>
                  <a:pt x="328466" y="637618"/>
                </a:lnTo>
                <a:lnTo>
                  <a:pt x="324382" y="638754"/>
                </a:lnTo>
                <a:lnTo>
                  <a:pt x="320524" y="640343"/>
                </a:lnTo>
                <a:lnTo>
                  <a:pt x="316666" y="642160"/>
                </a:lnTo>
                <a:lnTo>
                  <a:pt x="312808" y="643976"/>
                </a:lnTo>
                <a:lnTo>
                  <a:pt x="308950" y="645793"/>
                </a:lnTo>
                <a:lnTo>
                  <a:pt x="305319" y="647836"/>
                </a:lnTo>
                <a:lnTo>
                  <a:pt x="301689" y="650107"/>
                </a:lnTo>
                <a:lnTo>
                  <a:pt x="298058" y="652378"/>
                </a:lnTo>
                <a:lnTo>
                  <a:pt x="294881" y="655102"/>
                </a:lnTo>
                <a:lnTo>
                  <a:pt x="291477" y="657600"/>
                </a:lnTo>
                <a:lnTo>
                  <a:pt x="288073" y="660325"/>
                </a:lnTo>
                <a:lnTo>
                  <a:pt x="285123" y="663277"/>
                </a:lnTo>
                <a:lnTo>
                  <a:pt x="281946" y="666002"/>
                </a:lnTo>
                <a:lnTo>
                  <a:pt x="279222" y="669181"/>
                </a:lnTo>
                <a:lnTo>
                  <a:pt x="276272" y="672359"/>
                </a:lnTo>
                <a:lnTo>
                  <a:pt x="273776" y="675765"/>
                </a:lnTo>
                <a:lnTo>
                  <a:pt x="271280" y="679171"/>
                </a:lnTo>
                <a:lnTo>
                  <a:pt x="268557" y="682804"/>
                </a:lnTo>
                <a:lnTo>
                  <a:pt x="266287" y="686437"/>
                </a:lnTo>
                <a:lnTo>
                  <a:pt x="264245" y="689843"/>
                </a:lnTo>
                <a:lnTo>
                  <a:pt x="262203" y="693704"/>
                </a:lnTo>
                <a:lnTo>
                  <a:pt x="260160" y="697564"/>
                </a:lnTo>
                <a:lnTo>
                  <a:pt x="258572" y="701651"/>
                </a:lnTo>
                <a:lnTo>
                  <a:pt x="256756" y="705511"/>
                </a:lnTo>
                <a:lnTo>
                  <a:pt x="217270" y="812458"/>
                </a:lnTo>
                <a:lnTo>
                  <a:pt x="214547" y="803830"/>
                </a:lnTo>
                <a:lnTo>
                  <a:pt x="211824" y="795655"/>
                </a:lnTo>
                <a:lnTo>
                  <a:pt x="209782" y="787254"/>
                </a:lnTo>
                <a:lnTo>
                  <a:pt x="207739" y="779080"/>
                </a:lnTo>
                <a:lnTo>
                  <a:pt x="205924" y="770905"/>
                </a:lnTo>
                <a:lnTo>
                  <a:pt x="204789" y="762504"/>
                </a:lnTo>
                <a:lnTo>
                  <a:pt x="203428" y="754330"/>
                </a:lnTo>
                <a:lnTo>
                  <a:pt x="202747" y="746382"/>
                </a:lnTo>
                <a:lnTo>
                  <a:pt x="202066" y="738435"/>
                </a:lnTo>
                <a:lnTo>
                  <a:pt x="201612" y="730488"/>
                </a:lnTo>
                <a:lnTo>
                  <a:pt x="201612" y="722541"/>
                </a:lnTo>
                <a:lnTo>
                  <a:pt x="201839" y="714820"/>
                </a:lnTo>
                <a:lnTo>
                  <a:pt x="202066" y="706873"/>
                </a:lnTo>
                <a:lnTo>
                  <a:pt x="202974" y="699380"/>
                </a:lnTo>
                <a:lnTo>
                  <a:pt x="203655" y="691660"/>
                </a:lnTo>
                <a:lnTo>
                  <a:pt x="205016" y="684167"/>
                </a:lnTo>
                <a:lnTo>
                  <a:pt x="206151" y="677128"/>
                </a:lnTo>
                <a:lnTo>
                  <a:pt x="207739" y="669862"/>
                </a:lnTo>
                <a:lnTo>
                  <a:pt x="209555" y="662596"/>
                </a:lnTo>
                <a:lnTo>
                  <a:pt x="211370" y="655784"/>
                </a:lnTo>
                <a:lnTo>
                  <a:pt x="213639" y="648745"/>
                </a:lnTo>
                <a:lnTo>
                  <a:pt x="215909" y="642160"/>
                </a:lnTo>
                <a:lnTo>
                  <a:pt x="218632" y="635802"/>
                </a:lnTo>
                <a:lnTo>
                  <a:pt x="221355" y="629217"/>
                </a:lnTo>
                <a:lnTo>
                  <a:pt x="224305" y="622859"/>
                </a:lnTo>
                <a:lnTo>
                  <a:pt x="227255" y="616956"/>
                </a:lnTo>
                <a:lnTo>
                  <a:pt x="230659" y="611052"/>
                </a:lnTo>
                <a:lnTo>
                  <a:pt x="234063" y="605148"/>
                </a:lnTo>
                <a:lnTo>
                  <a:pt x="237467" y="599472"/>
                </a:lnTo>
                <a:lnTo>
                  <a:pt x="241325" y="594249"/>
                </a:lnTo>
                <a:lnTo>
                  <a:pt x="245183" y="589027"/>
                </a:lnTo>
                <a:lnTo>
                  <a:pt x="249268" y="584031"/>
                </a:lnTo>
                <a:lnTo>
                  <a:pt x="252445" y="580625"/>
                </a:lnTo>
                <a:lnTo>
                  <a:pt x="255622" y="577219"/>
                </a:lnTo>
                <a:lnTo>
                  <a:pt x="258799" y="574040"/>
                </a:lnTo>
                <a:lnTo>
                  <a:pt x="262203" y="571089"/>
                </a:lnTo>
                <a:lnTo>
                  <a:pt x="265607" y="567910"/>
                </a:lnTo>
                <a:lnTo>
                  <a:pt x="269011" y="565185"/>
                </a:lnTo>
                <a:lnTo>
                  <a:pt x="272641" y="562460"/>
                </a:lnTo>
                <a:lnTo>
                  <a:pt x="276499" y="559962"/>
                </a:lnTo>
                <a:lnTo>
                  <a:pt x="280357" y="557692"/>
                </a:lnTo>
                <a:lnTo>
                  <a:pt x="284215" y="555421"/>
                </a:lnTo>
                <a:lnTo>
                  <a:pt x="292157" y="551334"/>
                </a:lnTo>
                <a:lnTo>
                  <a:pt x="300327" y="547701"/>
                </a:lnTo>
                <a:lnTo>
                  <a:pt x="309177" y="544522"/>
                </a:lnTo>
                <a:lnTo>
                  <a:pt x="318028" y="542024"/>
                </a:lnTo>
                <a:lnTo>
                  <a:pt x="327105" y="539981"/>
                </a:lnTo>
                <a:lnTo>
                  <a:pt x="336409" y="538391"/>
                </a:lnTo>
                <a:lnTo>
                  <a:pt x="345940" y="537483"/>
                </a:lnTo>
                <a:lnTo>
                  <a:pt x="355698" y="536802"/>
                </a:lnTo>
                <a:lnTo>
                  <a:pt x="365456" y="536575"/>
                </a:lnTo>
                <a:close/>
                <a:moveTo>
                  <a:pt x="256728" y="0"/>
                </a:moveTo>
                <a:lnTo>
                  <a:pt x="268769" y="453"/>
                </a:lnTo>
                <a:lnTo>
                  <a:pt x="280811" y="1585"/>
                </a:lnTo>
                <a:lnTo>
                  <a:pt x="292852" y="3396"/>
                </a:lnTo>
                <a:lnTo>
                  <a:pt x="304893" y="5433"/>
                </a:lnTo>
                <a:lnTo>
                  <a:pt x="316707" y="8150"/>
                </a:lnTo>
                <a:lnTo>
                  <a:pt x="328294" y="11545"/>
                </a:lnTo>
                <a:lnTo>
                  <a:pt x="339881" y="15394"/>
                </a:lnTo>
                <a:lnTo>
                  <a:pt x="351240" y="19695"/>
                </a:lnTo>
                <a:lnTo>
                  <a:pt x="362600" y="24902"/>
                </a:lnTo>
                <a:lnTo>
                  <a:pt x="373278" y="30335"/>
                </a:lnTo>
                <a:lnTo>
                  <a:pt x="384183" y="36447"/>
                </a:lnTo>
                <a:lnTo>
                  <a:pt x="394407" y="42785"/>
                </a:lnTo>
                <a:lnTo>
                  <a:pt x="404404" y="50030"/>
                </a:lnTo>
                <a:lnTo>
                  <a:pt x="414173" y="57726"/>
                </a:lnTo>
                <a:lnTo>
                  <a:pt x="418944" y="61801"/>
                </a:lnTo>
                <a:lnTo>
                  <a:pt x="423715" y="65876"/>
                </a:lnTo>
                <a:lnTo>
                  <a:pt x="428259" y="70177"/>
                </a:lnTo>
                <a:lnTo>
                  <a:pt x="432575" y="74479"/>
                </a:lnTo>
                <a:lnTo>
                  <a:pt x="436892" y="78780"/>
                </a:lnTo>
                <a:lnTo>
                  <a:pt x="441436" y="83760"/>
                </a:lnTo>
                <a:lnTo>
                  <a:pt x="445753" y="88288"/>
                </a:lnTo>
                <a:lnTo>
                  <a:pt x="449842" y="93268"/>
                </a:lnTo>
                <a:lnTo>
                  <a:pt x="453704" y="98248"/>
                </a:lnTo>
                <a:lnTo>
                  <a:pt x="457567" y="103455"/>
                </a:lnTo>
                <a:lnTo>
                  <a:pt x="461429" y="108888"/>
                </a:lnTo>
                <a:lnTo>
                  <a:pt x="465064" y="114095"/>
                </a:lnTo>
                <a:lnTo>
                  <a:pt x="468699" y="119528"/>
                </a:lnTo>
                <a:lnTo>
                  <a:pt x="471880" y="125187"/>
                </a:lnTo>
                <a:lnTo>
                  <a:pt x="475061" y="130847"/>
                </a:lnTo>
                <a:lnTo>
                  <a:pt x="478014" y="136506"/>
                </a:lnTo>
                <a:lnTo>
                  <a:pt x="480968" y="142166"/>
                </a:lnTo>
                <a:lnTo>
                  <a:pt x="483694" y="148052"/>
                </a:lnTo>
                <a:lnTo>
                  <a:pt x="486420" y="153711"/>
                </a:lnTo>
                <a:lnTo>
                  <a:pt x="488692" y="159597"/>
                </a:lnTo>
                <a:lnTo>
                  <a:pt x="490964" y="165483"/>
                </a:lnTo>
                <a:lnTo>
                  <a:pt x="493009" y="171369"/>
                </a:lnTo>
                <a:lnTo>
                  <a:pt x="495053" y="177255"/>
                </a:lnTo>
                <a:lnTo>
                  <a:pt x="496644" y="183140"/>
                </a:lnTo>
                <a:lnTo>
                  <a:pt x="500052" y="195138"/>
                </a:lnTo>
                <a:lnTo>
                  <a:pt x="502324" y="207137"/>
                </a:lnTo>
                <a:lnTo>
                  <a:pt x="504368" y="219361"/>
                </a:lnTo>
                <a:lnTo>
                  <a:pt x="505504" y="231359"/>
                </a:lnTo>
                <a:lnTo>
                  <a:pt x="506413" y="243810"/>
                </a:lnTo>
                <a:lnTo>
                  <a:pt x="506413" y="255808"/>
                </a:lnTo>
                <a:lnTo>
                  <a:pt x="505959" y="267806"/>
                </a:lnTo>
                <a:lnTo>
                  <a:pt x="504823" y="280031"/>
                </a:lnTo>
                <a:lnTo>
                  <a:pt x="503232" y="292029"/>
                </a:lnTo>
                <a:lnTo>
                  <a:pt x="500961" y="303800"/>
                </a:lnTo>
                <a:lnTo>
                  <a:pt x="498461" y="315572"/>
                </a:lnTo>
                <a:lnTo>
                  <a:pt x="495053" y="327344"/>
                </a:lnTo>
                <a:lnTo>
                  <a:pt x="491191" y="338663"/>
                </a:lnTo>
                <a:lnTo>
                  <a:pt x="486647" y="350208"/>
                </a:lnTo>
                <a:lnTo>
                  <a:pt x="481649" y="361301"/>
                </a:lnTo>
                <a:lnTo>
                  <a:pt x="475969" y="371940"/>
                </a:lnTo>
                <a:lnTo>
                  <a:pt x="470062" y="382807"/>
                </a:lnTo>
                <a:lnTo>
                  <a:pt x="463474" y="392994"/>
                </a:lnTo>
                <a:lnTo>
                  <a:pt x="456204" y="403181"/>
                </a:lnTo>
                <a:lnTo>
                  <a:pt x="448933" y="412915"/>
                </a:lnTo>
                <a:lnTo>
                  <a:pt x="444617" y="417443"/>
                </a:lnTo>
                <a:lnTo>
                  <a:pt x="440527" y="422197"/>
                </a:lnTo>
                <a:lnTo>
                  <a:pt x="436211" y="426724"/>
                </a:lnTo>
                <a:lnTo>
                  <a:pt x="431894" y="431252"/>
                </a:lnTo>
                <a:lnTo>
                  <a:pt x="427350" y="435779"/>
                </a:lnTo>
                <a:lnTo>
                  <a:pt x="422579" y="440080"/>
                </a:lnTo>
                <a:lnTo>
                  <a:pt x="417808" y="444155"/>
                </a:lnTo>
                <a:lnTo>
                  <a:pt x="412810" y="448230"/>
                </a:lnTo>
                <a:lnTo>
                  <a:pt x="408039" y="452079"/>
                </a:lnTo>
                <a:lnTo>
                  <a:pt x="402586" y="455927"/>
                </a:lnTo>
                <a:lnTo>
                  <a:pt x="397361" y="459775"/>
                </a:lnTo>
                <a:lnTo>
                  <a:pt x="392135" y="463398"/>
                </a:lnTo>
                <a:lnTo>
                  <a:pt x="386455" y="467020"/>
                </a:lnTo>
                <a:lnTo>
                  <a:pt x="381003" y="470189"/>
                </a:lnTo>
                <a:lnTo>
                  <a:pt x="375323" y="473358"/>
                </a:lnTo>
                <a:lnTo>
                  <a:pt x="369643" y="476301"/>
                </a:lnTo>
                <a:lnTo>
                  <a:pt x="363736" y="479470"/>
                </a:lnTo>
                <a:lnTo>
                  <a:pt x="358056" y="481961"/>
                </a:lnTo>
                <a:lnTo>
                  <a:pt x="352149" y="484677"/>
                </a:lnTo>
                <a:lnTo>
                  <a:pt x="346469" y="486941"/>
                </a:lnTo>
                <a:lnTo>
                  <a:pt x="340562" y="489205"/>
                </a:lnTo>
                <a:lnTo>
                  <a:pt x="334655" y="491242"/>
                </a:lnTo>
                <a:lnTo>
                  <a:pt x="328748" y="493280"/>
                </a:lnTo>
                <a:lnTo>
                  <a:pt x="322614" y="495091"/>
                </a:lnTo>
                <a:lnTo>
                  <a:pt x="310800" y="498260"/>
                </a:lnTo>
                <a:lnTo>
                  <a:pt x="298532" y="500750"/>
                </a:lnTo>
                <a:lnTo>
                  <a:pt x="286490" y="502561"/>
                </a:lnTo>
                <a:lnTo>
                  <a:pt x="274449" y="503693"/>
                </a:lnTo>
                <a:lnTo>
                  <a:pt x="261954" y="504598"/>
                </a:lnTo>
                <a:lnTo>
                  <a:pt x="249912" y="504825"/>
                </a:lnTo>
                <a:lnTo>
                  <a:pt x="237644" y="504372"/>
                </a:lnTo>
                <a:lnTo>
                  <a:pt x="225603" y="503240"/>
                </a:lnTo>
                <a:lnTo>
                  <a:pt x="213561" y="501429"/>
                </a:lnTo>
                <a:lnTo>
                  <a:pt x="201747" y="499392"/>
                </a:lnTo>
                <a:lnTo>
                  <a:pt x="189933" y="496675"/>
                </a:lnTo>
                <a:lnTo>
                  <a:pt x="178119" y="493280"/>
                </a:lnTo>
                <a:lnTo>
                  <a:pt x="166533" y="489431"/>
                </a:lnTo>
                <a:lnTo>
                  <a:pt x="155173" y="485130"/>
                </a:lnTo>
                <a:lnTo>
                  <a:pt x="144040" y="479923"/>
                </a:lnTo>
                <a:lnTo>
                  <a:pt x="133135" y="474716"/>
                </a:lnTo>
                <a:lnTo>
                  <a:pt x="122457" y="468378"/>
                </a:lnTo>
                <a:lnTo>
                  <a:pt x="112006" y="461813"/>
                </a:lnTo>
                <a:lnTo>
                  <a:pt x="102009" y="454795"/>
                </a:lnTo>
                <a:lnTo>
                  <a:pt x="92240" y="447325"/>
                </a:lnTo>
                <a:lnTo>
                  <a:pt x="87242" y="443023"/>
                </a:lnTo>
                <a:lnTo>
                  <a:pt x="82698" y="438949"/>
                </a:lnTo>
                <a:lnTo>
                  <a:pt x="78154" y="434647"/>
                </a:lnTo>
                <a:lnTo>
                  <a:pt x="73838" y="430346"/>
                </a:lnTo>
                <a:lnTo>
                  <a:pt x="69294" y="426045"/>
                </a:lnTo>
                <a:lnTo>
                  <a:pt x="64977" y="421065"/>
                </a:lnTo>
                <a:lnTo>
                  <a:pt x="60888" y="416537"/>
                </a:lnTo>
                <a:lnTo>
                  <a:pt x="56798" y="411557"/>
                </a:lnTo>
                <a:lnTo>
                  <a:pt x="52709" y="406576"/>
                </a:lnTo>
                <a:lnTo>
                  <a:pt x="48846" y="401370"/>
                </a:lnTo>
                <a:lnTo>
                  <a:pt x="44984" y="395937"/>
                </a:lnTo>
                <a:lnTo>
                  <a:pt x="41349" y="390730"/>
                </a:lnTo>
                <a:lnTo>
                  <a:pt x="37941" y="385297"/>
                </a:lnTo>
                <a:lnTo>
                  <a:pt x="34760" y="379637"/>
                </a:lnTo>
                <a:lnTo>
                  <a:pt x="31352" y="373978"/>
                </a:lnTo>
                <a:lnTo>
                  <a:pt x="28172" y="368318"/>
                </a:lnTo>
                <a:lnTo>
                  <a:pt x="25445" y="362659"/>
                </a:lnTo>
                <a:lnTo>
                  <a:pt x="22946" y="356773"/>
                </a:lnTo>
                <a:lnTo>
                  <a:pt x="20220" y="351114"/>
                </a:lnTo>
                <a:lnTo>
                  <a:pt x="17721" y="345228"/>
                </a:lnTo>
                <a:lnTo>
                  <a:pt x="15449" y="339342"/>
                </a:lnTo>
                <a:lnTo>
                  <a:pt x="13404" y="333456"/>
                </a:lnTo>
                <a:lnTo>
                  <a:pt x="11587" y="327570"/>
                </a:lnTo>
                <a:lnTo>
                  <a:pt x="9769" y="321684"/>
                </a:lnTo>
                <a:lnTo>
                  <a:pt x="6588" y="309686"/>
                </a:lnTo>
                <a:lnTo>
                  <a:pt x="4089" y="297688"/>
                </a:lnTo>
                <a:lnTo>
                  <a:pt x="2045" y="285464"/>
                </a:lnTo>
                <a:lnTo>
                  <a:pt x="681" y="273466"/>
                </a:lnTo>
                <a:lnTo>
                  <a:pt x="227" y="261015"/>
                </a:lnTo>
                <a:lnTo>
                  <a:pt x="0" y="249017"/>
                </a:lnTo>
                <a:lnTo>
                  <a:pt x="454" y="237019"/>
                </a:lnTo>
                <a:lnTo>
                  <a:pt x="1590" y="224794"/>
                </a:lnTo>
                <a:lnTo>
                  <a:pt x="3181" y="213022"/>
                </a:lnTo>
                <a:lnTo>
                  <a:pt x="5453" y="201024"/>
                </a:lnTo>
                <a:lnTo>
                  <a:pt x="8179" y="189253"/>
                </a:lnTo>
                <a:lnTo>
                  <a:pt x="11360" y="177481"/>
                </a:lnTo>
                <a:lnTo>
                  <a:pt x="15449" y="166162"/>
                </a:lnTo>
                <a:lnTo>
                  <a:pt x="19766" y="154617"/>
                </a:lnTo>
                <a:lnTo>
                  <a:pt x="24764" y="143524"/>
                </a:lnTo>
                <a:lnTo>
                  <a:pt x="30217" y="132884"/>
                </a:lnTo>
                <a:lnTo>
                  <a:pt x="36124" y="122018"/>
                </a:lnTo>
                <a:lnTo>
                  <a:pt x="42939" y="111831"/>
                </a:lnTo>
                <a:lnTo>
                  <a:pt x="49982" y="101644"/>
                </a:lnTo>
                <a:lnTo>
                  <a:pt x="57707" y="91910"/>
                </a:lnTo>
                <a:lnTo>
                  <a:pt x="61569" y="87382"/>
                </a:lnTo>
                <a:lnTo>
                  <a:pt x="66113" y="82628"/>
                </a:lnTo>
                <a:lnTo>
                  <a:pt x="70202" y="78101"/>
                </a:lnTo>
                <a:lnTo>
                  <a:pt x="74519" y="73573"/>
                </a:lnTo>
                <a:lnTo>
                  <a:pt x="79063" y="69045"/>
                </a:lnTo>
                <a:lnTo>
                  <a:pt x="83834" y="64744"/>
                </a:lnTo>
                <a:lnTo>
                  <a:pt x="88605" y="60669"/>
                </a:lnTo>
                <a:lnTo>
                  <a:pt x="93603" y="56595"/>
                </a:lnTo>
                <a:lnTo>
                  <a:pt x="98602" y="52746"/>
                </a:lnTo>
                <a:lnTo>
                  <a:pt x="103827" y="48898"/>
                </a:lnTo>
                <a:lnTo>
                  <a:pt x="108825" y="45049"/>
                </a:lnTo>
                <a:lnTo>
                  <a:pt x="114505" y="41427"/>
                </a:lnTo>
                <a:lnTo>
                  <a:pt x="119958" y="37805"/>
                </a:lnTo>
                <a:lnTo>
                  <a:pt x="125638" y="34636"/>
                </a:lnTo>
                <a:lnTo>
                  <a:pt x="131317" y="31467"/>
                </a:lnTo>
                <a:lnTo>
                  <a:pt x="136997" y="28524"/>
                </a:lnTo>
                <a:lnTo>
                  <a:pt x="142677" y="25581"/>
                </a:lnTo>
                <a:lnTo>
                  <a:pt x="148130" y="22864"/>
                </a:lnTo>
                <a:lnTo>
                  <a:pt x="154037" y="20148"/>
                </a:lnTo>
                <a:lnTo>
                  <a:pt x="159944" y="17884"/>
                </a:lnTo>
                <a:lnTo>
                  <a:pt x="165851" y="15620"/>
                </a:lnTo>
                <a:lnTo>
                  <a:pt x="171758" y="13583"/>
                </a:lnTo>
                <a:lnTo>
                  <a:pt x="177892" y="11545"/>
                </a:lnTo>
                <a:lnTo>
                  <a:pt x="183799" y="9734"/>
                </a:lnTo>
                <a:lnTo>
                  <a:pt x="195840" y="6565"/>
                </a:lnTo>
                <a:lnTo>
                  <a:pt x="207882" y="4075"/>
                </a:lnTo>
                <a:lnTo>
                  <a:pt x="219923" y="2264"/>
                </a:lnTo>
                <a:lnTo>
                  <a:pt x="232191" y="1132"/>
                </a:lnTo>
                <a:lnTo>
                  <a:pt x="244233" y="226"/>
                </a:lnTo>
                <a:lnTo>
                  <a:pt x="256728" y="0"/>
                </a:lnTo>
                <a:close/>
              </a:path>
            </a:pathLst>
          </a:cu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22" name="KSO_Shape"/>
          <p:cNvSpPr/>
          <p:nvPr/>
        </p:nvSpPr>
        <p:spPr>
          <a:xfrm>
            <a:off x="1278000" y="4214880"/>
            <a:ext cx="619200" cy="620640"/>
          </a:xfrm>
          <a:custGeom>
            <a:avLst/>
            <a:gdLst/>
            <a:ahLst/>
            <a:rect l="l" t="t" r="r" b="b"/>
            <a:pathLst>
              <a:path w="2187575" h="2192338">
                <a:moveTo>
                  <a:pt x="1004410" y="156550"/>
                </a:moveTo>
                <a:lnTo>
                  <a:pt x="998375" y="157185"/>
                </a:lnTo>
                <a:lnTo>
                  <a:pt x="1005046" y="260387"/>
                </a:lnTo>
                <a:lnTo>
                  <a:pt x="1007269" y="288967"/>
                </a:lnTo>
                <a:lnTo>
                  <a:pt x="1016799" y="416620"/>
                </a:lnTo>
                <a:lnTo>
                  <a:pt x="1021563" y="489656"/>
                </a:lnTo>
                <a:lnTo>
                  <a:pt x="1026328" y="565232"/>
                </a:lnTo>
                <a:lnTo>
                  <a:pt x="1030457" y="642713"/>
                </a:lnTo>
                <a:lnTo>
                  <a:pt x="1034269" y="719242"/>
                </a:lnTo>
                <a:lnTo>
                  <a:pt x="1035222" y="756712"/>
                </a:lnTo>
                <a:lnTo>
                  <a:pt x="1036493" y="793230"/>
                </a:lnTo>
                <a:lnTo>
                  <a:pt x="1036811" y="828477"/>
                </a:lnTo>
                <a:lnTo>
                  <a:pt x="1037446" y="862137"/>
                </a:lnTo>
                <a:lnTo>
                  <a:pt x="1034587" y="959941"/>
                </a:lnTo>
                <a:lnTo>
                  <a:pt x="1033634" y="972961"/>
                </a:lnTo>
                <a:lnTo>
                  <a:pt x="1032681" y="985663"/>
                </a:lnTo>
                <a:lnTo>
                  <a:pt x="1031410" y="997729"/>
                </a:lnTo>
                <a:lnTo>
                  <a:pt x="1029505" y="1008843"/>
                </a:lnTo>
                <a:lnTo>
                  <a:pt x="1027281" y="1019323"/>
                </a:lnTo>
                <a:lnTo>
                  <a:pt x="1025375" y="1029484"/>
                </a:lnTo>
                <a:lnTo>
                  <a:pt x="1022516" y="1039010"/>
                </a:lnTo>
                <a:lnTo>
                  <a:pt x="1019975" y="1047584"/>
                </a:lnTo>
                <a:lnTo>
                  <a:pt x="1016799" y="1056475"/>
                </a:lnTo>
                <a:lnTo>
                  <a:pt x="1012987" y="1064414"/>
                </a:lnTo>
                <a:lnTo>
                  <a:pt x="1009175" y="1071400"/>
                </a:lnTo>
                <a:lnTo>
                  <a:pt x="1005046" y="1078704"/>
                </a:lnTo>
                <a:lnTo>
                  <a:pt x="1000281" y="1085055"/>
                </a:lnTo>
                <a:lnTo>
                  <a:pt x="995516" y="1091405"/>
                </a:lnTo>
                <a:lnTo>
                  <a:pt x="990434" y="1096804"/>
                </a:lnTo>
                <a:lnTo>
                  <a:pt x="984398" y="1102520"/>
                </a:lnTo>
                <a:lnTo>
                  <a:pt x="907209" y="1128241"/>
                </a:lnTo>
                <a:lnTo>
                  <a:pt x="900221" y="1130146"/>
                </a:lnTo>
                <a:lnTo>
                  <a:pt x="893868" y="1131416"/>
                </a:lnTo>
                <a:lnTo>
                  <a:pt x="888468" y="1131734"/>
                </a:lnTo>
                <a:lnTo>
                  <a:pt x="883386" y="1131734"/>
                </a:lnTo>
                <a:lnTo>
                  <a:pt x="878621" y="1130464"/>
                </a:lnTo>
                <a:lnTo>
                  <a:pt x="874174" y="1128876"/>
                </a:lnTo>
                <a:lnTo>
                  <a:pt x="870044" y="1126971"/>
                </a:lnTo>
                <a:lnTo>
                  <a:pt x="866232" y="1124113"/>
                </a:lnTo>
                <a:lnTo>
                  <a:pt x="863056" y="1120620"/>
                </a:lnTo>
                <a:lnTo>
                  <a:pt x="859562" y="1116809"/>
                </a:lnTo>
                <a:lnTo>
                  <a:pt x="856703" y="1112364"/>
                </a:lnTo>
                <a:lnTo>
                  <a:pt x="853526" y="1107283"/>
                </a:lnTo>
                <a:lnTo>
                  <a:pt x="847491" y="1096169"/>
                </a:lnTo>
                <a:lnTo>
                  <a:pt x="841456" y="1083467"/>
                </a:lnTo>
                <a:lnTo>
                  <a:pt x="829385" y="1057428"/>
                </a:lnTo>
                <a:lnTo>
                  <a:pt x="816997" y="1032659"/>
                </a:lnTo>
                <a:lnTo>
                  <a:pt x="804608" y="1007891"/>
                </a:lnTo>
                <a:lnTo>
                  <a:pt x="791902" y="983757"/>
                </a:lnTo>
                <a:lnTo>
                  <a:pt x="779514" y="960259"/>
                </a:lnTo>
                <a:lnTo>
                  <a:pt x="766808" y="937396"/>
                </a:lnTo>
                <a:lnTo>
                  <a:pt x="754737" y="914532"/>
                </a:lnTo>
                <a:lnTo>
                  <a:pt x="742031" y="892939"/>
                </a:lnTo>
                <a:lnTo>
                  <a:pt x="729643" y="871346"/>
                </a:lnTo>
                <a:lnTo>
                  <a:pt x="716937" y="850706"/>
                </a:lnTo>
                <a:lnTo>
                  <a:pt x="704549" y="831018"/>
                </a:lnTo>
                <a:lnTo>
                  <a:pt x="692160" y="811330"/>
                </a:lnTo>
                <a:lnTo>
                  <a:pt x="680407" y="792912"/>
                </a:lnTo>
                <a:lnTo>
                  <a:pt x="668336" y="774495"/>
                </a:lnTo>
                <a:lnTo>
                  <a:pt x="656583" y="757029"/>
                </a:lnTo>
                <a:lnTo>
                  <a:pt x="644513" y="740517"/>
                </a:lnTo>
                <a:lnTo>
                  <a:pt x="633077" y="724640"/>
                </a:lnTo>
                <a:lnTo>
                  <a:pt x="621959" y="709080"/>
                </a:lnTo>
                <a:lnTo>
                  <a:pt x="610842" y="694790"/>
                </a:lnTo>
                <a:lnTo>
                  <a:pt x="600359" y="680818"/>
                </a:lnTo>
                <a:lnTo>
                  <a:pt x="589877" y="667799"/>
                </a:lnTo>
                <a:lnTo>
                  <a:pt x="579712" y="655732"/>
                </a:lnTo>
                <a:lnTo>
                  <a:pt x="569547" y="644301"/>
                </a:lnTo>
                <a:lnTo>
                  <a:pt x="560018" y="633504"/>
                </a:lnTo>
                <a:lnTo>
                  <a:pt x="551123" y="623660"/>
                </a:lnTo>
                <a:lnTo>
                  <a:pt x="541912" y="615086"/>
                </a:lnTo>
                <a:lnTo>
                  <a:pt x="533653" y="606513"/>
                </a:lnTo>
                <a:lnTo>
                  <a:pt x="525711" y="599527"/>
                </a:lnTo>
                <a:lnTo>
                  <a:pt x="518088" y="593176"/>
                </a:lnTo>
                <a:lnTo>
                  <a:pt x="510782" y="587460"/>
                </a:lnTo>
                <a:lnTo>
                  <a:pt x="504111" y="583332"/>
                </a:lnTo>
                <a:lnTo>
                  <a:pt x="497758" y="579521"/>
                </a:lnTo>
                <a:lnTo>
                  <a:pt x="493946" y="582062"/>
                </a:lnTo>
                <a:lnTo>
                  <a:pt x="489499" y="585555"/>
                </a:lnTo>
                <a:lnTo>
                  <a:pt x="484735" y="589683"/>
                </a:lnTo>
                <a:lnTo>
                  <a:pt x="479970" y="593811"/>
                </a:lnTo>
                <a:lnTo>
                  <a:pt x="470123" y="604290"/>
                </a:lnTo>
                <a:lnTo>
                  <a:pt x="459005" y="616992"/>
                </a:lnTo>
                <a:lnTo>
                  <a:pt x="447887" y="631281"/>
                </a:lnTo>
                <a:lnTo>
                  <a:pt x="435816" y="647159"/>
                </a:lnTo>
                <a:lnTo>
                  <a:pt x="423428" y="664306"/>
                </a:lnTo>
                <a:lnTo>
                  <a:pt x="411675" y="682406"/>
                </a:lnTo>
                <a:lnTo>
                  <a:pt x="399287" y="701776"/>
                </a:lnTo>
                <a:lnTo>
                  <a:pt x="386898" y="721782"/>
                </a:lnTo>
                <a:lnTo>
                  <a:pt x="375145" y="742422"/>
                </a:lnTo>
                <a:lnTo>
                  <a:pt x="363710" y="763380"/>
                </a:lnTo>
                <a:lnTo>
                  <a:pt x="352910" y="784338"/>
                </a:lnTo>
                <a:lnTo>
                  <a:pt x="342427" y="805932"/>
                </a:lnTo>
                <a:lnTo>
                  <a:pt x="332898" y="826572"/>
                </a:lnTo>
                <a:lnTo>
                  <a:pt x="324321" y="847213"/>
                </a:lnTo>
                <a:lnTo>
                  <a:pt x="319238" y="860549"/>
                </a:lnTo>
                <a:lnTo>
                  <a:pt x="311297" y="881190"/>
                </a:lnTo>
                <a:lnTo>
                  <a:pt x="301132" y="908816"/>
                </a:lnTo>
                <a:lnTo>
                  <a:pt x="289379" y="942476"/>
                </a:lnTo>
                <a:lnTo>
                  <a:pt x="276355" y="981852"/>
                </a:lnTo>
                <a:lnTo>
                  <a:pt x="262379" y="1026626"/>
                </a:lnTo>
                <a:lnTo>
                  <a:pt x="254755" y="1050760"/>
                </a:lnTo>
                <a:lnTo>
                  <a:pt x="247767" y="1076163"/>
                </a:lnTo>
                <a:lnTo>
                  <a:pt x="240143" y="1102837"/>
                </a:lnTo>
                <a:lnTo>
                  <a:pt x="232837" y="1130146"/>
                </a:lnTo>
                <a:lnTo>
                  <a:pt x="225531" y="1158725"/>
                </a:lnTo>
                <a:lnTo>
                  <a:pt x="218225" y="1188575"/>
                </a:lnTo>
                <a:lnTo>
                  <a:pt x="211237" y="1218741"/>
                </a:lnTo>
                <a:lnTo>
                  <a:pt x="204249" y="1249543"/>
                </a:lnTo>
                <a:lnTo>
                  <a:pt x="197896" y="1281933"/>
                </a:lnTo>
                <a:lnTo>
                  <a:pt x="191543" y="1314323"/>
                </a:lnTo>
                <a:lnTo>
                  <a:pt x="185825" y="1347348"/>
                </a:lnTo>
                <a:lnTo>
                  <a:pt x="180107" y="1381007"/>
                </a:lnTo>
                <a:lnTo>
                  <a:pt x="175025" y="1415302"/>
                </a:lnTo>
                <a:lnTo>
                  <a:pt x="170578" y="1450232"/>
                </a:lnTo>
                <a:lnTo>
                  <a:pt x="166766" y="1485163"/>
                </a:lnTo>
                <a:lnTo>
                  <a:pt x="162954" y="1520728"/>
                </a:lnTo>
                <a:lnTo>
                  <a:pt x="160731" y="1556610"/>
                </a:lnTo>
                <a:lnTo>
                  <a:pt x="158825" y="1592176"/>
                </a:lnTo>
                <a:lnTo>
                  <a:pt x="157554" y="1628376"/>
                </a:lnTo>
                <a:lnTo>
                  <a:pt x="157237" y="1664576"/>
                </a:lnTo>
                <a:lnTo>
                  <a:pt x="157237" y="1683629"/>
                </a:lnTo>
                <a:lnTo>
                  <a:pt x="157554" y="1702682"/>
                </a:lnTo>
                <a:lnTo>
                  <a:pt x="157872" y="1721734"/>
                </a:lnTo>
                <a:lnTo>
                  <a:pt x="158825" y="1740787"/>
                </a:lnTo>
                <a:lnTo>
                  <a:pt x="159778" y="1759840"/>
                </a:lnTo>
                <a:lnTo>
                  <a:pt x="161366" y="1778258"/>
                </a:lnTo>
                <a:lnTo>
                  <a:pt x="162954" y="1797311"/>
                </a:lnTo>
                <a:lnTo>
                  <a:pt x="165178" y="1816046"/>
                </a:lnTo>
                <a:lnTo>
                  <a:pt x="167401" y="1835099"/>
                </a:lnTo>
                <a:lnTo>
                  <a:pt x="169943" y="1853834"/>
                </a:lnTo>
                <a:lnTo>
                  <a:pt x="173119" y="1872569"/>
                </a:lnTo>
                <a:lnTo>
                  <a:pt x="176296" y="1890987"/>
                </a:lnTo>
                <a:lnTo>
                  <a:pt x="179472" y="1909404"/>
                </a:lnTo>
                <a:lnTo>
                  <a:pt x="183284" y="1928140"/>
                </a:lnTo>
                <a:lnTo>
                  <a:pt x="187731" y="1946240"/>
                </a:lnTo>
                <a:lnTo>
                  <a:pt x="192178" y="1964022"/>
                </a:lnTo>
                <a:lnTo>
                  <a:pt x="192813" y="1966245"/>
                </a:lnTo>
                <a:lnTo>
                  <a:pt x="193766" y="1968150"/>
                </a:lnTo>
                <a:lnTo>
                  <a:pt x="196308" y="1971961"/>
                </a:lnTo>
                <a:lnTo>
                  <a:pt x="200755" y="1976407"/>
                </a:lnTo>
                <a:lnTo>
                  <a:pt x="206790" y="1981487"/>
                </a:lnTo>
                <a:lnTo>
                  <a:pt x="213778" y="1986251"/>
                </a:lnTo>
                <a:lnTo>
                  <a:pt x="222673" y="1991966"/>
                </a:lnTo>
                <a:lnTo>
                  <a:pt x="232837" y="1997047"/>
                </a:lnTo>
                <a:lnTo>
                  <a:pt x="244908" y="2002763"/>
                </a:lnTo>
                <a:lnTo>
                  <a:pt x="258885" y="2007844"/>
                </a:lnTo>
                <a:lnTo>
                  <a:pt x="274132" y="2012607"/>
                </a:lnTo>
                <a:lnTo>
                  <a:pt x="291285" y="2017370"/>
                </a:lnTo>
                <a:lnTo>
                  <a:pt x="310344" y="2021816"/>
                </a:lnTo>
                <a:lnTo>
                  <a:pt x="331309" y="2025626"/>
                </a:lnTo>
                <a:lnTo>
                  <a:pt x="354498" y="2029119"/>
                </a:lnTo>
                <a:lnTo>
                  <a:pt x="379592" y="2031977"/>
                </a:lnTo>
                <a:lnTo>
                  <a:pt x="406593" y="2034518"/>
                </a:lnTo>
                <a:lnTo>
                  <a:pt x="408754" y="2034706"/>
                </a:lnTo>
                <a:lnTo>
                  <a:pt x="434658" y="2035609"/>
                </a:lnTo>
                <a:lnTo>
                  <a:pt x="461645" y="2036243"/>
                </a:lnTo>
                <a:lnTo>
                  <a:pt x="488315" y="2036243"/>
                </a:lnTo>
                <a:lnTo>
                  <a:pt x="514033" y="2034974"/>
                </a:lnTo>
                <a:lnTo>
                  <a:pt x="539433" y="2033388"/>
                </a:lnTo>
                <a:lnTo>
                  <a:pt x="563563" y="2030850"/>
                </a:lnTo>
                <a:lnTo>
                  <a:pt x="586740" y="2027677"/>
                </a:lnTo>
                <a:lnTo>
                  <a:pt x="608965" y="2024504"/>
                </a:lnTo>
                <a:lnTo>
                  <a:pt x="630238" y="2020697"/>
                </a:lnTo>
                <a:lnTo>
                  <a:pt x="649923" y="2016255"/>
                </a:lnTo>
                <a:lnTo>
                  <a:pt x="668338" y="2011496"/>
                </a:lnTo>
                <a:lnTo>
                  <a:pt x="685483" y="2006420"/>
                </a:lnTo>
                <a:lnTo>
                  <a:pt x="700723" y="2000709"/>
                </a:lnTo>
                <a:lnTo>
                  <a:pt x="714693" y="1995316"/>
                </a:lnTo>
                <a:lnTo>
                  <a:pt x="726758" y="1989605"/>
                </a:lnTo>
                <a:lnTo>
                  <a:pt x="732155" y="1986432"/>
                </a:lnTo>
                <a:lnTo>
                  <a:pt x="736918" y="1983894"/>
                </a:lnTo>
                <a:lnTo>
                  <a:pt x="742950" y="1979453"/>
                </a:lnTo>
                <a:lnTo>
                  <a:pt x="746443" y="1976280"/>
                </a:lnTo>
                <a:lnTo>
                  <a:pt x="750888" y="1972155"/>
                </a:lnTo>
                <a:lnTo>
                  <a:pt x="755650" y="1967079"/>
                </a:lnTo>
                <a:lnTo>
                  <a:pt x="761048" y="1960734"/>
                </a:lnTo>
                <a:lnTo>
                  <a:pt x="766763" y="1953120"/>
                </a:lnTo>
                <a:lnTo>
                  <a:pt x="773113" y="1944553"/>
                </a:lnTo>
                <a:lnTo>
                  <a:pt x="779463" y="1934084"/>
                </a:lnTo>
                <a:lnTo>
                  <a:pt x="786448" y="1922662"/>
                </a:lnTo>
                <a:lnTo>
                  <a:pt x="793750" y="1909337"/>
                </a:lnTo>
                <a:lnTo>
                  <a:pt x="800735" y="1894425"/>
                </a:lnTo>
                <a:lnTo>
                  <a:pt x="808355" y="1877927"/>
                </a:lnTo>
                <a:lnTo>
                  <a:pt x="815975" y="1859209"/>
                </a:lnTo>
                <a:lnTo>
                  <a:pt x="823913" y="1838586"/>
                </a:lnTo>
                <a:lnTo>
                  <a:pt x="828475" y="1825640"/>
                </a:lnTo>
                <a:lnTo>
                  <a:pt x="828750" y="1823349"/>
                </a:lnTo>
                <a:lnTo>
                  <a:pt x="830973" y="1815728"/>
                </a:lnTo>
                <a:lnTo>
                  <a:pt x="836056" y="1800486"/>
                </a:lnTo>
                <a:lnTo>
                  <a:pt x="840503" y="1785561"/>
                </a:lnTo>
                <a:lnTo>
                  <a:pt x="849079" y="1754124"/>
                </a:lnTo>
                <a:lnTo>
                  <a:pt x="857021" y="1722687"/>
                </a:lnTo>
                <a:lnTo>
                  <a:pt x="864327" y="1691567"/>
                </a:lnTo>
                <a:lnTo>
                  <a:pt x="870680" y="1659813"/>
                </a:lnTo>
                <a:lnTo>
                  <a:pt x="876080" y="1628693"/>
                </a:lnTo>
                <a:lnTo>
                  <a:pt x="880844" y="1598209"/>
                </a:lnTo>
                <a:lnTo>
                  <a:pt x="885292" y="1568360"/>
                </a:lnTo>
                <a:lnTo>
                  <a:pt x="888468" y="1540098"/>
                </a:lnTo>
                <a:lnTo>
                  <a:pt x="891327" y="1513107"/>
                </a:lnTo>
                <a:lnTo>
                  <a:pt x="892915" y="1487703"/>
                </a:lnTo>
                <a:lnTo>
                  <a:pt x="893868" y="1463887"/>
                </a:lnTo>
                <a:lnTo>
                  <a:pt x="894821" y="1442929"/>
                </a:lnTo>
                <a:lnTo>
                  <a:pt x="894503" y="1423876"/>
                </a:lnTo>
                <a:lnTo>
                  <a:pt x="893550" y="1407999"/>
                </a:lnTo>
                <a:lnTo>
                  <a:pt x="892915" y="1401013"/>
                </a:lnTo>
                <a:lnTo>
                  <a:pt x="891645" y="1394662"/>
                </a:lnTo>
                <a:lnTo>
                  <a:pt x="872586" y="1319404"/>
                </a:lnTo>
                <a:lnTo>
                  <a:pt x="870997" y="1312100"/>
                </a:lnTo>
                <a:lnTo>
                  <a:pt x="870044" y="1304479"/>
                </a:lnTo>
                <a:lnTo>
                  <a:pt x="869727" y="1296858"/>
                </a:lnTo>
                <a:lnTo>
                  <a:pt x="870680" y="1289872"/>
                </a:lnTo>
                <a:lnTo>
                  <a:pt x="871633" y="1282251"/>
                </a:lnTo>
                <a:lnTo>
                  <a:pt x="873221" y="1274947"/>
                </a:lnTo>
                <a:lnTo>
                  <a:pt x="875762" y="1267961"/>
                </a:lnTo>
                <a:lnTo>
                  <a:pt x="878939" y="1261293"/>
                </a:lnTo>
                <a:lnTo>
                  <a:pt x="882115" y="1254307"/>
                </a:lnTo>
                <a:lnTo>
                  <a:pt x="886562" y="1248591"/>
                </a:lnTo>
                <a:lnTo>
                  <a:pt x="890692" y="1242557"/>
                </a:lnTo>
                <a:lnTo>
                  <a:pt x="896092" y="1237477"/>
                </a:lnTo>
                <a:lnTo>
                  <a:pt x="901809" y="1232713"/>
                </a:lnTo>
                <a:lnTo>
                  <a:pt x="907845" y="1228585"/>
                </a:lnTo>
                <a:lnTo>
                  <a:pt x="914198" y="1225092"/>
                </a:lnTo>
                <a:lnTo>
                  <a:pt x="921504" y="1221917"/>
                </a:lnTo>
                <a:lnTo>
                  <a:pt x="936433" y="1216836"/>
                </a:lnTo>
                <a:lnTo>
                  <a:pt x="951045" y="1210803"/>
                </a:lnTo>
                <a:lnTo>
                  <a:pt x="965339" y="1204134"/>
                </a:lnTo>
                <a:lnTo>
                  <a:pt x="979634" y="1196513"/>
                </a:lnTo>
                <a:lnTo>
                  <a:pt x="987257" y="1192068"/>
                </a:lnTo>
                <a:lnTo>
                  <a:pt x="994563" y="1187622"/>
                </a:lnTo>
                <a:lnTo>
                  <a:pt x="1001869" y="1182541"/>
                </a:lnTo>
                <a:lnTo>
                  <a:pt x="1009810" y="1177460"/>
                </a:lnTo>
                <a:lnTo>
                  <a:pt x="1025693" y="1165076"/>
                </a:lnTo>
                <a:lnTo>
                  <a:pt x="1042846" y="1151104"/>
                </a:lnTo>
                <a:lnTo>
                  <a:pt x="1046975" y="1148881"/>
                </a:lnTo>
                <a:lnTo>
                  <a:pt x="1052693" y="1145388"/>
                </a:lnTo>
                <a:lnTo>
                  <a:pt x="1059681" y="1141578"/>
                </a:lnTo>
                <a:lnTo>
                  <a:pt x="1064764" y="1139037"/>
                </a:lnTo>
                <a:lnTo>
                  <a:pt x="1070799" y="1137450"/>
                </a:lnTo>
                <a:lnTo>
                  <a:pt x="1079058" y="1135862"/>
                </a:lnTo>
                <a:lnTo>
                  <a:pt x="1087635" y="1134274"/>
                </a:lnTo>
                <a:lnTo>
                  <a:pt x="1093670" y="1133322"/>
                </a:lnTo>
                <a:lnTo>
                  <a:pt x="1099705" y="1134274"/>
                </a:lnTo>
                <a:lnTo>
                  <a:pt x="1108282" y="1135862"/>
                </a:lnTo>
                <a:lnTo>
                  <a:pt x="1116858" y="1137450"/>
                </a:lnTo>
                <a:lnTo>
                  <a:pt x="1122576" y="1139037"/>
                </a:lnTo>
                <a:lnTo>
                  <a:pt x="1127976" y="1141578"/>
                </a:lnTo>
                <a:lnTo>
                  <a:pt x="1134647" y="1145388"/>
                </a:lnTo>
                <a:lnTo>
                  <a:pt x="1140682" y="1148881"/>
                </a:lnTo>
                <a:lnTo>
                  <a:pt x="1144494" y="1151104"/>
                </a:lnTo>
                <a:lnTo>
                  <a:pt x="1161647" y="1165076"/>
                </a:lnTo>
                <a:lnTo>
                  <a:pt x="1177847" y="1177460"/>
                </a:lnTo>
                <a:lnTo>
                  <a:pt x="1185471" y="1182541"/>
                </a:lnTo>
                <a:lnTo>
                  <a:pt x="1193094" y="1187622"/>
                </a:lnTo>
                <a:lnTo>
                  <a:pt x="1200400" y="1192068"/>
                </a:lnTo>
                <a:lnTo>
                  <a:pt x="1207706" y="1196513"/>
                </a:lnTo>
                <a:lnTo>
                  <a:pt x="1222001" y="1204134"/>
                </a:lnTo>
                <a:lnTo>
                  <a:pt x="1236295" y="1210803"/>
                </a:lnTo>
                <a:lnTo>
                  <a:pt x="1250907" y="1216836"/>
                </a:lnTo>
                <a:lnTo>
                  <a:pt x="1266154" y="1221917"/>
                </a:lnTo>
                <a:lnTo>
                  <a:pt x="1273142" y="1225092"/>
                </a:lnTo>
                <a:lnTo>
                  <a:pt x="1279495" y="1228585"/>
                </a:lnTo>
                <a:lnTo>
                  <a:pt x="1285848" y="1232713"/>
                </a:lnTo>
                <a:lnTo>
                  <a:pt x="1291566" y="1237477"/>
                </a:lnTo>
                <a:lnTo>
                  <a:pt x="1296648" y="1242557"/>
                </a:lnTo>
                <a:lnTo>
                  <a:pt x="1301095" y="1248591"/>
                </a:lnTo>
                <a:lnTo>
                  <a:pt x="1305225" y="1254307"/>
                </a:lnTo>
                <a:lnTo>
                  <a:pt x="1309037" y="1261293"/>
                </a:lnTo>
                <a:lnTo>
                  <a:pt x="1311578" y="1267961"/>
                </a:lnTo>
                <a:lnTo>
                  <a:pt x="1314119" y="1274947"/>
                </a:lnTo>
                <a:lnTo>
                  <a:pt x="1315707" y="1282251"/>
                </a:lnTo>
                <a:lnTo>
                  <a:pt x="1316978" y="1289872"/>
                </a:lnTo>
                <a:lnTo>
                  <a:pt x="1317613" y="1296858"/>
                </a:lnTo>
                <a:lnTo>
                  <a:pt x="1317296" y="1304479"/>
                </a:lnTo>
                <a:lnTo>
                  <a:pt x="1316343" y="1312100"/>
                </a:lnTo>
                <a:lnTo>
                  <a:pt x="1314755" y="1319404"/>
                </a:lnTo>
                <a:lnTo>
                  <a:pt x="1295695" y="1394662"/>
                </a:lnTo>
                <a:lnTo>
                  <a:pt x="1294743" y="1402601"/>
                </a:lnTo>
                <a:lnTo>
                  <a:pt x="1293789" y="1412127"/>
                </a:lnTo>
                <a:lnTo>
                  <a:pt x="1293472" y="1423559"/>
                </a:lnTo>
                <a:lnTo>
                  <a:pt x="1293154" y="1436578"/>
                </a:lnTo>
                <a:lnTo>
                  <a:pt x="1293472" y="1451185"/>
                </a:lnTo>
                <a:lnTo>
                  <a:pt x="1293789" y="1467062"/>
                </a:lnTo>
                <a:lnTo>
                  <a:pt x="1294743" y="1484527"/>
                </a:lnTo>
                <a:lnTo>
                  <a:pt x="1295695" y="1503580"/>
                </a:lnTo>
                <a:lnTo>
                  <a:pt x="1297919" y="1523586"/>
                </a:lnTo>
                <a:lnTo>
                  <a:pt x="1299825" y="1544544"/>
                </a:lnTo>
                <a:lnTo>
                  <a:pt x="1302049" y="1566454"/>
                </a:lnTo>
                <a:lnTo>
                  <a:pt x="1305225" y="1589318"/>
                </a:lnTo>
                <a:lnTo>
                  <a:pt x="1309037" y="1613134"/>
                </a:lnTo>
                <a:lnTo>
                  <a:pt x="1312849" y="1637902"/>
                </a:lnTo>
                <a:lnTo>
                  <a:pt x="1317613" y="1662988"/>
                </a:lnTo>
                <a:lnTo>
                  <a:pt x="1321118" y="1680726"/>
                </a:lnTo>
                <a:lnTo>
                  <a:pt x="1321165" y="1680845"/>
                </a:lnTo>
                <a:lnTo>
                  <a:pt x="1323071" y="1688783"/>
                </a:lnTo>
                <a:lnTo>
                  <a:pt x="1330693" y="1721803"/>
                </a:lnTo>
                <a:lnTo>
                  <a:pt x="1338315" y="1752600"/>
                </a:lnTo>
                <a:lnTo>
                  <a:pt x="1346255" y="1781493"/>
                </a:lnTo>
                <a:lnTo>
                  <a:pt x="1354513" y="1808163"/>
                </a:lnTo>
                <a:lnTo>
                  <a:pt x="1362771" y="1833246"/>
                </a:lnTo>
                <a:lnTo>
                  <a:pt x="1371028" y="1855788"/>
                </a:lnTo>
                <a:lnTo>
                  <a:pt x="1379921" y="1876743"/>
                </a:lnTo>
                <a:lnTo>
                  <a:pt x="1388178" y="1895793"/>
                </a:lnTo>
                <a:lnTo>
                  <a:pt x="1397071" y="1912938"/>
                </a:lnTo>
                <a:lnTo>
                  <a:pt x="1405329" y="1928496"/>
                </a:lnTo>
                <a:lnTo>
                  <a:pt x="1413586" y="1941831"/>
                </a:lnTo>
                <a:lnTo>
                  <a:pt x="1421526" y="1953578"/>
                </a:lnTo>
                <a:lnTo>
                  <a:pt x="1429466" y="1963421"/>
                </a:lnTo>
                <a:lnTo>
                  <a:pt x="1437089" y="1971676"/>
                </a:lnTo>
                <a:lnTo>
                  <a:pt x="1440900" y="1975168"/>
                </a:lnTo>
                <a:lnTo>
                  <a:pt x="1444711" y="1978343"/>
                </a:lnTo>
                <a:lnTo>
                  <a:pt x="1447887" y="1981201"/>
                </a:lnTo>
                <a:lnTo>
                  <a:pt x="1451381" y="1983741"/>
                </a:lnTo>
                <a:lnTo>
                  <a:pt x="1459638" y="1988821"/>
                </a:lnTo>
                <a:lnTo>
                  <a:pt x="1469484" y="1993583"/>
                </a:lnTo>
                <a:lnTo>
                  <a:pt x="1479965" y="1998028"/>
                </a:lnTo>
                <a:lnTo>
                  <a:pt x="1491081" y="2002156"/>
                </a:lnTo>
                <a:lnTo>
                  <a:pt x="1503467" y="2006601"/>
                </a:lnTo>
                <a:lnTo>
                  <a:pt x="1516488" y="2010728"/>
                </a:lnTo>
                <a:lnTo>
                  <a:pt x="1529828" y="2014221"/>
                </a:lnTo>
                <a:lnTo>
                  <a:pt x="1544120" y="2017713"/>
                </a:lnTo>
                <a:lnTo>
                  <a:pt x="1559047" y="2020888"/>
                </a:lnTo>
                <a:lnTo>
                  <a:pt x="1574291" y="2023746"/>
                </a:lnTo>
                <a:lnTo>
                  <a:pt x="1590171" y="2025968"/>
                </a:lnTo>
                <a:lnTo>
                  <a:pt x="1606687" y="2028508"/>
                </a:lnTo>
                <a:lnTo>
                  <a:pt x="1623202" y="2030413"/>
                </a:lnTo>
                <a:lnTo>
                  <a:pt x="1640352" y="2032318"/>
                </a:lnTo>
                <a:lnTo>
                  <a:pt x="1657820" y="2033588"/>
                </a:lnTo>
                <a:lnTo>
                  <a:pt x="1675288" y="2034858"/>
                </a:lnTo>
                <a:lnTo>
                  <a:pt x="1692756" y="2035493"/>
                </a:lnTo>
                <a:lnTo>
                  <a:pt x="1710541" y="2036128"/>
                </a:lnTo>
                <a:lnTo>
                  <a:pt x="1728327" y="2036446"/>
                </a:lnTo>
                <a:lnTo>
                  <a:pt x="1746430" y="2036128"/>
                </a:lnTo>
                <a:lnTo>
                  <a:pt x="1764216" y="2035493"/>
                </a:lnTo>
                <a:lnTo>
                  <a:pt x="1781684" y="2034541"/>
                </a:lnTo>
                <a:lnTo>
                  <a:pt x="1799151" y="2033271"/>
                </a:lnTo>
                <a:lnTo>
                  <a:pt x="1816619" y="2031683"/>
                </a:lnTo>
                <a:lnTo>
                  <a:pt x="1833135" y="2029778"/>
                </a:lnTo>
                <a:lnTo>
                  <a:pt x="1849967" y="2027238"/>
                </a:lnTo>
                <a:lnTo>
                  <a:pt x="1866165" y="2024063"/>
                </a:lnTo>
                <a:lnTo>
                  <a:pt x="1882045" y="2020888"/>
                </a:lnTo>
                <a:lnTo>
                  <a:pt x="1897607" y="2017396"/>
                </a:lnTo>
                <a:lnTo>
                  <a:pt x="1912217" y="2013268"/>
                </a:lnTo>
                <a:lnTo>
                  <a:pt x="1926509" y="2008506"/>
                </a:lnTo>
                <a:lnTo>
                  <a:pt x="1940165" y="2003743"/>
                </a:lnTo>
                <a:lnTo>
                  <a:pt x="1952869" y="1998346"/>
                </a:lnTo>
                <a:lnTo>
                  <a:pt x="1963985" y="1992631"/>
                </a:lnTo>
                <a:lnTo>
                  <a:pt x="1973513" y="1987233"/>
                </a:lnTo>
                <a:lnTo>
                  <a:pt x="1980818" y="1982153"/>
                </a:lnTo>
                <a:lnTo>
                  <a:pt x="1986853" y="1976756"/>
                </a:lnTo>
                <a:lnTo>
                  <a:pt x="1991299" y="1971993"/>
                </a:lnTo>
                <a:lnTo>
                  <a:pt x="1994157" y="1968183"/>
                </a:lnTo>
                <a:lnTo>
                  <a:pt x="1994792" y="1966278"/>
                </a:lnTo>
                <a:lnTo>
                  <a:pt x="1995745" y="1964056"/>
                </a:lnTo>
                <a:lnTo>
                  <a:pt x="2001144" y="1942466"/>
                </a:lnTo>
                <a:lnTo>
                  <a:pt x="2005908" y="1920558"/>
                </a:lnTo>
                <a:lnTo>
                  <a:pt x="2010355" y="1898333"/>
                </a:lnTo>
                <a:lnTo>
                  <a:pt x="2014166" y="1876108"/>
                </a:lnTo>
                <a:lnTo>
                  <a:pt x="2017977" y="1853566"/>
                </a:lnTo>
                <a:lnTo>
                  <a:pt x="2021153" y="1830706"/>
                </a:lnTo>
                <a:lnTo>
                  <a:pt x="2023376" y="1808163"/>
                </a:lnTo>
                <a:lnTo>
                  <a:pt x="2025917" y="1785621"/>
                </a:lnTo>
                <a:lnTo>
                  <a:pt x="2027505" y="1763078"/>
                </a:lnTo>
                <a:lnTo>
                  <a:pt x="2029093" y="1739900"/>
                </a:lnTo>
                <a:lnTo>
                  <a:pt x="2029728" y="1717358"/>
                </a:lnTo>
                <a:lnTo>
                  <a:pt x="2030681" y="1694180"/>
                </a:lnTo>
                <a:lnTo>
                  <a:pt x="2030681" y="1671638"/>
                </a:lnTo>
                <a:lnTo>
                  <a:pt x="2030681" y="1648778"/>
                </a:lnTo>
                <a:lnTo>
                  <a:pt x="2030046" y="1625600"/>
                </a:lnTo>
                <a:lnTo>
                  <a:pt x="2029411" y="1603058"/>
                </a:lnTo>
                <a:lnTo>
                  <a:pt x="2028458" y="1580515"/>
                </a:lnTo>
                <a:lnTo>
                  <a:pt x="2027505" y="1557655"/>
                </a:lnTo>
                <a:lnTo>
                  <a:pt x="2025917" y="1535113"/>
                </a:lnTo>
                <a:lnTo>
                  <a:pt x="2023694" y="1512570"/>
                </a:lnTo>
                <a:lnTo>
                  <a:pt x="2021471" y="1490345"/>
                </a:lnTo>
                <a:lnTo>
                  <a:pt x="2018930" y="1468120"/>
                </a:lnTo>
                <a:lnTo>
                  <a:pt x="2016707" y="1445895"/>
                </a:lnTo>
                <a:lnTo>
                  <a:pt x="2013848" y="1423988"/>
                </a:lnTo>
                <a:lnTo>
                  <a:pt x="2007496" y="1380808"/>
                </a:lnTo>
                <a:lnTo>
                  <a:pt x="2000509" y="1338262"/>
                </a:lnTo>
                <a:lnTo>
                  <a:pt x="1992887" y="1296670"/>
                </a:lnTo>
                <a:lnTo>
                  <a:pt x="1984629" y="1256030"/>
                </a:lnTo>
                <a:lnTo>
                  <a:pt x="1976054" y="1216977"/>
                </a:lnTo>
                <a:lnTo>
                  <a:pt x="1967161" y="1178877"/>
                </a:lnTo>
                <a:lnTo>
                  <a:pt x="1957951" y="1142365"/>
                </a:lnTo>
                <a:lnTo>
                  <a:pt x="1948741" y="1106805"/>
                </a:lnTo>
                <a:lnTo>
                  <a:pt x="1939213" y="1073467"/>
                </a:lnTo>
                <a:lnTo>
                  <a:pt x="1930002" y="1041717"/>
                </a:lnTo>
                <a:lnTo>
                  <a:pt x="1921109" y="1012190"/>
                </a:lnTo>
                <a:lnTo>
                  <a:pt x="1912217" y="984250"/>
                </a:lnTo>
                <a:lnTo>
                  <a:pt x="1903959" y="958532"/>
                </a:lnTo>
                <a:lnTo>
                  <a:pt x="1895702" y="934720"/>
                </a:lnTo>
                <a:lnTo>
                  <a:pt x="1881727" y="895032"/>
                </a:lnTo>
                <a:lnTo>
                  <a:pt x="1870611" y="865505"/>
                </a:lnTo>
                <a:lnTo>
                  <a:pt x="1863824" y="848687"/>
                </a:lnTo>
                <a:lnTo>
                  <a:pt x="1863019" y="847213"/>
                </a:lnTo>
                <a:lnTo>
                  <a:pt x="1854760" y="826572"/>
                </a:lnTo>
                <a:lnTo>
                  <a:pt x="1845230" y="805932"/>
                </a:lnTo>
                <a:lnTo>
                  <a:pt x="1835066" y="784974"/>
                </a:lnTo>
                <a:lnTo>
                  <a:pt x="1823948" y="763380"/>
                </a:lnTo>
                <a:lnTo>
                  <a:pt x="1812195" y="742422"/>
                </a:lnTo>
                <a:lnTo>
                  <a:pt x="1800442" y="721782"/>
                </a:lnTo>
                <a:lnTo>
                  <a:pt x="1788371" y="701776"/>
                </a:lnTo>
                <a:lnTo>
                  <a:pt x="1776300" y="682406"/>
                </a:lnTo>
                <a:lnTo>
                  <a:pt x="1763912" y="664306"/>
                </a:lnTo>
                <a:lnTo>
                  <a:pt x="1751524" y="647159"/>
                </a:lnTo>
                <a:lnTo>
                  <a:pt x="1740088" y="631281"/>
                </a:lnTo>
                <a:lnTo>
                  <a:pt x="1728653" y="616992"/>
                </a:lnTo>
                <a:lnTo>
                  <a:pt x="1717535" y="604290"/>
                </a:lnTo>
                <a:lnTo>
                  <a:pt x="1707370" y="593811"/>
                </a:lnTo>
                <a:lnTo>
                  <a:pt x="1702605" y="589683"/>
                </a:lnTo>
                <a:lnTo>
                  <a:pt x="1697841" y="585555"/>
                </a:lnTo>
                <a:lnTo>
                  <a:pt x="1693711" y="582062"/>
                </a:lnTo>
                <a:lnTo>
                  <a:pt x="1689582" y="579521"/>
                </a:lnTo>
                <a:lnTo>
                  <a:pt x="1683546" y="583332"/>
                </a:lnTo>
                <a:lnTo>
                  <a:pt x="1676876" y="587460"/>
                </a:lnTo>
                <a:lnTo>
                  <a:pt x="1669887" y="593176"/>
                </a:lnTo>
                <a:lnTo>
                  <a:pt x="1661946" y="599527"/>
                </a:lnTo>
                <a:lnTo>
                  <a:pt x="1654005" y="606513"/>
                </a:lnTo>
                <a:lnTo>
                  <a:pt x="1645428" y="615086"/>
                </a:lnTo>
                <a:lnTo>
                  <a:pt x="1636852" y="623660"/>
                </a:lnTo>
                <a:lnTo>
                  <a:pt x="1627322" y="633504"/>
                </a:lnTo>
                <a:lnTo>
                  <a:pt x="1617793" y="644301"/>
                </a:lnTo>
                <a:lnTo>
                  <a:pt x="1607946" y="655732"/>
                </a:lnTo>
                <a:lnTo>
                  <a:pt x="1597781" y="668117"/>
                </a:lnTo>
                <a:lnTo>
                  <a:pt x="1587298" y="680818"/>
                </a:lnTo>
                <a:lnTo>
                  <a:pt x="1576498" y="694790"/>
                </a:lnTo>
                <a:lnTo>
                  <a:pt x="1565381" y="709398"/>
                </a:lnTo>
                <a:lnTo>
                  <a:pt x="1554263" y="724640"/>
                </a:lnTo>
                <a:lnTo>
                  <a:pt x="1542827" y="740517"/>
                </a:lnTo>
                <a:lnTo>
                  <a:pt x="1530757" y="757029"/>
                </a:lnTo>
                <a:lnTo>
                  <a:pt x="1519321" y="774495"/>
                </a:lnTo>
                <a:lnTo>
                  <a:pt x="1506933" y="792912"/>
                </a:lnTo>
                <a:lnTo>
                  <a:pt x="1495180" y="811330"/>
                </a:lnTo>
                <a:lnTo>
                  <a:pt x="1482791" y="831018"/>
                </a:lnTo>
                <a:lnTo>
                  <a:pt x="1470403" y="850706"/>
                </a:lnTo>
                <a:lnTo>
                  <a:pt x="1457697" y="871346"/>
                </a:lnTo>
                <a:lnTo>
                  <a:pt x="1445309" y="892939"/>
                </a:lnTo>
                <a:lnTo>
                  <a:pt x="1432603" y="914532"/>
                </a:lnTo>
                <a:lnTo>
                  <a:pt x="1420532" y="937396"/>
                </a:lnTo>
                <a:lnTo>
                  <a:pt x="1407826" y="960259"/>
                </a:lnTo>
                <a:lnTo>
                  <a:pt x="1395438" y="983757"/>
                </a:lnTo>
                <a:lnTo>
                  <a:pt x="1383049" y="1007891"/>
                </a:lnTo>
                <a:lnTo>
                  <a:pt x="1370343" y="1032659"/>
                </a:lnTo>
                <a:lnTo>
                  <a:pt x="1357955" y="1057428"/>
                </a:lnTo>
                <a:lnTo>
                  <a:pt x="1346202" y="1083467"/>
                </a:lnTo>
                <a:lnTo>
                  <a:pt x="1339849" y="1096169"/>
                </a:lnTo>
                <a:lnTo>
                  <a:pt x="1333813" y="1107283"/>
                </a:lnTo>
                <a:lnTo>
                  <a:pt x="1331272" y="1112364"/>
                </a:lnTo>
                <a:lnTo>
                  <a:pt x="1328096" y="1116809"/>
                </a:lnTo>
                <a:lnTo>
                  <a:pt x="1324284" y="1120620"/>
                </a:lnTo>
                <a:lnTo>
                  <a:pt x="1321107" y="1124113"/>
                </a:lnTo>
                <a:lnTo>
                  <a:pt x="1317296" y="1126971"/>
                </a:lnTo>
                <a:lnTo>
                  <a:pt x="1313166" y="1128876"/>
                </a:lnTo>
                <a:lnTo>
                  <a:pt x="1309037" y="1130464"/>
                </a:lnTo>
                <a:lnTo>
                  <a:pt x="1304272" y="1131734"/>
                </a:lnTo>
                <a:lnTo>
                  <a:pt x="1298872" y="1131734"/>
                </a:lnTo>
                <a:lnTo>
                  <a:pt x="1293472" y="1131416"/>
                </a:lnTo>
                <a:lnTo>
                  <a:pt x="1287119" y="1130146"/>
                </a:lnTo>
                <a:lnTo>
                  <a:pt x="1280448" y="1128241"/>
                </a:lnTo>
                <a:lnTo>
                  <a:pt x="1202942" y="1102520"/>
                </a:lnTo>
                <a:lnTo>
                  <a:pt x="1196906" y="1096804"/>
                </a:lnTo>
                <a:lnTo>
                  <a:pt x="1191824" y="1091405"/>
                </a:lnTo>
                <a:lnTo>
                  <a:pt x="1187059" y="1085055"/>
                </a:lnTo>
                <a:lnTo>
                  <a:pt x="1182294" y="1078704"/>
                </a:lnTo>
                <a:lnTo>
                  <a:pt x="1178165" y="1071400"/>
                </a:lnTo>
                <a:lnTo>
                  <a:pt x="1174353" y="1064414"/>
                </a:lnTo>
                <a:lnTo>
                  <a:pt x="1170859" y="1056475"/>
                </a:lnTo>
                <a:lnTo>
                  <a:pt x="1167682" y="1047584"/>
                </a:lnTo>
                <a:lnTo>
                  <a:pt x="1164823" y="1039010"/>
                </a:lnTo>
                <a:lnTo>
                  <a:pt x="1161965" y="1029484"/>
                </a:lnTo>
                <a:lnTo>
                  <a:pt x="1160059" y="1019323"/>
                </a:lnTo>
                <a:lnTo>
                  <a:pt x="1158153" y="1008843"/>
                </a:lnTo>
                <a:lnTo>
                  <a:pt x="1156565" y="997729"/>
                </a:lnTo>
                <a:lnTo>
                  <a:pt x="1154976" y="985663"/>
                </a:lnTo>
                <a:lnTo>
                  <a:pt x="1153706" y="972961"/>
                </a:lnTo>
                <a:lnTo>
                  <a:pt x="1152753" y="959941"/>
                </a:lnTo>
                <a:lnTo>
                  <a:pt x="1150529" y="862137"/>
                </a:lnTo>
                <a:lnTo>
                  <a:pt x="1150529" y="828477"/>
                </a:lnTo>
                <a:lnTo>
                  <a:pt x="1151165" y="793230"/>
                </a:lnTo>
                <a:lnTo>
                  <a:pt x="1152117" y="756712"/>
                </a:lnTo>
                <a:lnTo>
                  <a:pt x="1153388" y="719242"/>
                </a:lnTo>
                <a:lnTo>
                  <a:pt x="1156882" y="642713"/>
                </a:lnTo>
                <a:lnTo>
                  <a:pt x="1161329" y="565232"/>
                </a:lnTo>
                <a:lnTo>
                  <a:pt x="1166094" y="489656"/>
                </a:lnTo>
                <a:lnTo>
                  <a:pt x="1170859" y="416620"/>
                </a:lnTo>
                <a:lnTo>
                  <a:pt x="1180388" y="288967"/>
                </a:lnTo>
                <a:lnTo>
                  <a:pt x="1182294" y="261340"/>
                </a:lnTo>
                <a:lnTo>
                  <a:pt x="1189283" y="157185"/>
                </a:lnTo>
                <a:lnTo>
                  <a:pt x="1182930" y="156550"/>
                </a:lnTo>
                <a:lnTo>
                  <a:pt x="1004410" y="156550"/>
                </a:lnTo>
                <a:close/>
                <a:moveTo>
                  <a:pt x="996151" y="0"/>
                </a:moveTo>
                <a:lnTo>
                  <a:pt x="1004410" y="0"/>
                </a:lnTo>
                <a:lnTo>
                  <a:pt x="1182930" y="0"/>
                </a:lnTo>
                <a:lnTo>
                  <a:pt x="1191824" y="0"/>
                </a:lnTo>
                <a:lnTo>
                  <a:pt x="1200083" y="635"/>
                </a:lnTo>
                <a:lnTo>
                  <a:pt x="1208342" y="1270"/>
                </a:lnTo>
                <a:lnTo>
                  <a:pt x="1216283" y="2540"/>
                </a:lnTo>
                <a:lnTo>
                  <a:pt x="1224224" y="4128"/>
                </a:lnTo>
                <a:lnTo>
                  <a:pt x="1231848" y="6033"/>
                </a:lnTo>
                <a:lnTo>
                  <a:pt x="1239471" y="8573"/>
                </a:lnTo>
                <a:lnTo>
                  <a:pt x="1247095" y="10796"/>
                </a:lnTo>
                <a:lnTo>
                  <a:pt x="1254083" y="13654"/>
                </a:lnTo>
                <a:lnTo>
                  <a:pt x="1261389" y="16830"/>
                </a:lnTo>
                <a:lnTo>
                  <a:pt x="1268060" y="20323"/>
                </a:lnTo>
                <a:lnTo>
                  <a:pt x="1274413" y="24451"/>
                </a:lnTo>
                <a:lnTo>
                  <a:pt x="1280766" y="28261"/>
                </a:lnTo>
                <a:lnTo>
                  <a:pt x="1287119" y="32707"/>
                </a:lnTo>
                <a:lnTo>
                  <a:pt x="1292519" y="37470"/>
                </a:lnTo>
                <a:lnTo>
                  <a:pt x="1298554" y="42551"/>
                </a:lnTo>
                <a:lnTo>
                  <a:pt x="1304272" y="48267"/>
                </a:lnTo>
                <a:lnTo>
                  <a:pt x="1309672" y="53983"/>
                </a:lnTo>
                <a:lnTo>
                  <a:pt x="1314437" y="60016"/>
                </a:lnTo>
                <a:lnTo>
                  <a:pt x="1319202" y="66049"/>
                </a:lnTo>
                <a:lnTo>
                  <a:pt x="1323649" y="72400"/>
                </a:lnTo>
                <a:lnTo>
                  <a:pt x="1327461" y="78751"/>
                </a:lnTo>
                <a:lnTo>
                  <a:pt x="1331272" y="85102"/>
                </a:lnTo>
                <a:lnTo>
                  <a:pt x="1334131" y="91771"/>
                </a:lnTo>
                <a:lnTo>
                  <a:pt x="1336990" y="98439"/>
                </a:lnTo>
                <a:lnTo>
                  <a:pt x="1339531" y="105743"/>
                </a:lnTo>
                <a:lnTo>
                  <a:pt x="1341437" y="112411"/>
                </a:lnTo>
                <a:lnTo>
                  <a:pt x="1343343" y="119715"/>
                </a:lnTo>
                <a:lnTo>
                  <a:pt x="1344614" y="127018"/>
                </a:lnTo>
                <a:lnTo>
                  <a:pt x="1345884" y="134322"/>
                </a:lnTo>
                <a:lnTo>
                  <a:pt x="1346202" y="141943"/>
                </a:lnTo>
                <a:lnTo>
                  <a:pt x="1346519" y="149246"/>
                </a:lnTo>
                <a:lnTo>
                  <a:pt x="1346202" y="158773"/>
                </a:lnTo>
                <a:lnTo>
                  <a:pt x="1338578" y="272454"/>
                </a:lnTo>
                <a:lnTo>
                  <a:pt x="1336355" y="301033"/>
                </a:lnTo>
                <a:lnTo>
                  <a:pt x="1328096" y="415668"/>
                </a:lnTo>
                <a:lnTo>
                  <a:pt x="1323649" y="480764"/>
                </a:lnTo>
                <a:lnTo>
                  <a:pt x="1319202" y="548719"/>
                </a:lnTo>
                <a:lnTo>
                  <a:pt x="1315390" y="618579"/>
                </a:lnTo>
                <a:lnTo>
                  <a:pt x="1312213" y="688122"/>
                </a:lnTo>
                <a:lnTo>
                  <a:pt x="1309354" y="755442"/>
                </a:lnTo>
                <a:lnTo>
                  <a:pt x="1308401" y="788467"/>
                </a:lnTo>
                <a:lnTo>
                  <a:pt x="1307766" y="820221"/>
                </a:lnTo>
                <a:lnTo>
                  <a:pt x="1325555" y="790054"/>
                </a:lnTo>
                <a:lnTo>
                  <a:pt x="1344296" y="758617"/>
                </a:lnTo>
                <a:lnTo>
                  <a:pt x="1363673" y="727180"/>
                </a:lnTo>
                <a:lnTo>
                  <a:pt x="1384002" y="695426"/>
                </a:lnTo>
                <a:lnTo>
                  <a:pt x="1404967" y="664306"/>
                </a:lnTo>
                <a:lnTo>
                  <a:pt x="1426885" y="633504"/>
                </a:lnTo>
                <a:lnTo>
                  <a:pt x="1438003" y="618262"/>
                </a:lnTo>
                <a:lnTo>
                  <a:pt x="1449121" y="603337"/>
                </a:lnTo>
                <a:lnTo>
                  <a:pt x="1460238" y="588730"/>
                </a:lnTo>
                <a:lnTo>
                  <a:pt x="1471674" y="574441"/>
                </a:lnTo>
                <a:lnTo>
                  <a:pt x="1483109" y="560469"/>
                </a:lnTo>
                <a:lnTo>
                  <a:pt x="1494545" y="547132"/>
                </a:lnTo>
                <a:lnTo>
                  <a:pt x="1506298" y="534112"/>
                </a:lnTo>
                <a:lnTo>
                  <a:pt x="1517733" y="521728"/>
                </a:lnTo>
                <a:lnTo>
                  <a:pt x="1529486" y="509344"/>
                </a:lnTo>
                <a:lnTo>
                  <a:pt x="1541239" y="497912"/>
                </a:lnTo>
                <a:lnTo>
                  <a:pt x="1552992" y="487115"/>
                </a:lnTo>
                <a:lnTo>
                  <a:pt x="1565063" y="476954"/>
                </a:lnTo>
                <a:lnTo>
                  <a:pt x="1576498" y="467428"/>
                </a:lnTo>
                <a:lnTo>
                  <a:pt x="1588251" y="458536"/>
                </a:lnTo>
                <a:lnTo>
                  <a:pt x="1600004" y="450280"/>
                </a:lnTo>
                <a:lnTo>
                  <a:pt x="1611757" y="442976"/>
                </a:lnTo>
                <a:lnTo>
                  <a:pt x="1623193" y="436308"/>
                </a:lnTo>
                <a:lnTo>
                  <a:pt x="1634946" y="430910"/>
                </a:lnTo>
                <a:lnTo>
                  <a:pt x="1646381" y="426464"/>
                </a:lnTo>
                <a:lnTo>
                  <a:pt x="1657817" y="422336"/>
                </a:lnTo>
                <a:lnTo>
                  <a:pt x="1666076" y="420431"/>
                </a:lnTo>
                <a:lnTo>
                  <a:pt x="1674970" y="418843"/>
                </a:lnTo>
                <a:lnTo>
                  <a:pt x="1683229" y="418208"/>
                </a:lnTo>
                <a:lnTo>
                  <a:pt x="1691488" y="418208"/>
                </a:lnTo>
                <a:lnTo>
                  <a:pt x="1700064" y="418525"/>
                </a:lnTo>
                <a:lnTo>
                  <a:pt x="1708323" y="419796"/>
                </a:lnTo>
                <a:lnTo>
                  <a:pt x="1716582" y="421383"/>
                </a:lnTo>
                <a:lnTo>
                  <a:pt x="1724841" y="423289"/>
                </a:lnTo>
                <a:lnTo>
                  <a:pt x="1732782" y="426147"/>
                </a:lnTo>
                <a:lnTo>
                  <a:pt x="1741359" y="429322"/>
                </a:lnTo>
                <a:lnTo>
                  <a:pt x="1749300" y="432815"/>
                </a:lnTo>
                <a:lnTo>
                  <a:pt x="1757241" y="436626"/>
                </a:lnTo>
                <a:lnTo>
                  <a:pt x="1765183" y="441389"/>
                </a:lnTo>
                <a:lnTo>
                  <a:pt x="1773124" y="446152"/>
                </a:lnTo>
                <a:lnTo>
                  <a:pt x="1781065" y="451868"/>
                </a:lnTo>
                <a:lnTo>
                  <a:pt x="1789006" y="457266"/>
                </a:lnTo>
                <a:lnTo>
                  <a:pt x="1796312" y="463299"/>
                </a:lnTo>
                <a:lnTo>
                  <a:pt x="1803936" y="469968"/>
                </a:lnTo>
                <a:lnTo>
                  <a:pt x="1811559" y="476954"/>
                </a:lnTo>
                <a:lnTo>
                  <a:pt x="1819183" y="483940"/>
                </a:lnTo>
                <a:lnTo>
                  <a:pt x="1826171" y="491243"/>
                </a:lnTo>
                <a:lnTo>
                  <a:pt x="1833795" y="498547"/>
                </a:lnTo>
                <a:lnTo>
                  <a:pt x="1848089" y="514424"/>
                </a:lnTo>
                <a:lnTo>
                  <a:pt x="1861431" y="531254"/>
                </a:lnTo>
                <a:lnTo>
                  <a:pt x="1875089" y="548719"/>
                </a:lnTo>
                <a:lnTo>
                  <a:pt x="1888113" y="566502"/>
                </a:lnTo>
                <a:lnTo>
                  <a:pt x="1900501" y="584920"/>
                </a:lnTo>
                <a:lnTo>
                  <a:pt x="1912255" y="603020"/>
                </a:lnTo>
                <a:lnTo>
                  <a:pt x="1923372" y="621437"/>
                </a:lnTo>
                <a:lnTo>
                  <a:pt x="1934490" y="639537"/>
                </a:lnTo>
                <a:lnTo>
                  <a:pt x="1944655" y="657320"/>
                </a:lnTo>
                <a:lnTo>
                  <a:pt x="1954185" y="674785"/>
                </a:lnTo>
                <a:lnTo>
                  <a:pt x="1962761" y="691615"/>
                </a:lnTo>
                <a:lnTo>
                  <a:pt x="1978643" y="722417"/>
                </a:lnTo>
                <a:lnTo>
                  <a:pt x="1991032" y="749091"/>
                </a:lnTo>
                <a:lnTo>
                  <a:pt x="2000561" y="769731"/>
                </a:lnTo>
                <a:lnTo>
                  <a:pt x="2006612" y="784248"/>
                </a:lnTo>
                <a:lnTo>
                  <a:pt x="2008767" y="788987"/>
                </a:lnTo>
                <a:lnTo>
                  <a:pt x="2019565" y="815975"/>
                </a:lnTo>
                <a:lnTo>
                  <a:pt x="2033222" y="853757"/>
                </a:lnTo>
                <a:lnTo>
                  <a:pt x="2041162" y="875982"/>
                </a:lnTo>
                <a:lnTo>
                  <a:pt x="2050055" y="900430"/>
                </a:lnTo>
                <a:lnTo>
                  <a:pt x="2058630" y="927417"/>
                </a:lnTo>
                <a:lnTo>
                  <a:pt x="2068158" y="956627"/>
                </a:lnTo>
                <a:lnTo>
                  <a:pt x="2077686" y="987425"/>
                </a:lnTo>
                <a:lnTo>
                  <a:pt x="2087531" y="1020445"/>
                </a:lnTo>
                <a:lnTo>
                  <a:pt x="2097695" y="1055052"/>
                </a:lnTo>
                <a:lnTo>
                  <a:pt x="2107222" y="1091565"/>
                </a:lnTo>
                <a:lnTo>
                  <a:pt x="2117068" y="1129030"/>
                </a:lnTo>
                <a:lnTo>
                  <a:pt x="2126278" y="1168400"/>
                </a:lnTo>
                <a:lnTo>
                  <a:pt x="2135171" y="1209357"/>
                </a:lnTo>
                <a:lnTo>
                  <a:pt x="2144064" y="1250950"/>
                </a:lnTo>
                <a:lnTo>
                  <a:pt x="2152321" y="1294130"/>
                </a:lnTo>
                <a:lnTo>
                  <a:pt x="2159944" y="1338262"/>
                </a:lnTo>
                <a:lnTo>
                  <a:pt x="2166613" y="1383030"/>
                </a:lnTo>
                <a:lnTo>
                  <a:pt x="2169789" y="1405890"/>
                </a:lnTo>
                <a:lnTo>
                  <a:pt x="2172965" y="1428750"/>
                </a:lnTo>
                <a:lnTo>
                  <a:pt x="2175506" y="1452245"/>
                </a:lnTo>
                <a:lnTo>
                  <a:pt x="2178047" y="1475105"/>
                </a:lnTo>
                <a:lnTo>
                  <a:pt x="2180270" y="1498918"/>
                </a:lnTo>
                <a:lnTo>
                  <a:pt x="2182176" y="1522413"/>
                </a:lnTo>
                <a:lnTo>
                  <a:pt x="2183764" y="1546225"/>
                </a:lnTo>
                <a:lnTo>
                  <a:pt x="2185352" y="1570038"/>
                </a:lnTo>
                <a:lnTo>
                  <a:pt x="2186622" y="1593850"/>
                </a:lnTo>
                <a:lnTo>
                  <a:pt x="2186940" y="1617980"/>
                </a:lnTo>
                <a:lnTo>
                  <a:pt x="2187575" y="1642428"/>
                </a:lnTo>
                <a:lnTo>
                  <a:pt x="2187575" y="1666558"/>
                </a:lnTo>
                <a:lnTo>
                  <a:pt x="2187257" y="1690688"/>
                </a:lnTo>
                <a:lnTo>
                  <a:pt x="2186940" y="1714818"/>
                </a:lnTo>
                <a:lnTo>
                  <a:pt x="2185669" y="1739265"/>
                </a:lnTo>
                <a:lnTo>
                  <a:pt x="2184399" y="1763396"/>
                </a:lnTo>
                <a:lnTo>
                  <a:pt x="2182811" y="1787526"/>
                </a:lnTo>
                <a:lnTo>
                  <a:pt x="2180588" y="1812291"/>
                </a:lnTo>
                <a:lnTo>
                  <a:pt x="2178047" y="1836421"/>
                </a:lnTo>
                <a:lnTo>
                  <a:pt x="2174871" y="1860233"/>
                </a:lnTo>
                <a:lnTo>
                  <a:pt x="2171377" y="1884363"/>
                </a:lnTo>
                <a:lnTo>
                  <a:pt x="2167566" y="1908493"/>
                </a:lnTo>
                <a:lnTo>
                  <a:pt x="2163120" y="1932306"/>
                </a:lnTo>
                <a:lnTo>
                  <a:pt x="2158356" y="1956118"/>
                </a:lnTo>
                <a:lnTo>
                  <a:pt x="2153274" y="1979931"/>
                </a:lnTo>
                <a:lnTo>
                  <a:pt x="2147240" y="2003743"/>
                </a:lnTo>
                <a:lnTo>
                  <a:pt x="2144699" y="2012316"/>
                </a:lnTo>
                <a:lnTo>
                  <a:pt x="2141523" y="2020888"/>
                </a:lnTo>
                <a:lnTo>
                  <a:pt x="2138030" y="2030096"/>
                </a:lnTo>
                <a:lnTo>
                  <a:pt x="2133266" y="2039621"/>
                </a:lnTo>
                <a:lnTo>
                  <a:pt x="2128184" y="2048828"/>
                </a:lnTo>
                <a:lnTo>
                  <a:pt x="2121832" y="2058671"/>
                </a:lnTo>
                <a:lnTo>
                  <a:pt x="2114527" y="2068196"/>
                </a:lnTo>
                <a:lnTo>
                  <a:pt x="2106587" y="2078038"/>
                </a:lnTo>
                <a:lnTo>
                  <a:pt x="2097059" y="2087563"/>
                </a:lnTo>
                <a:lnTo>
                  <a:pt x="2086896" y="2097088"/>
                </a:lnTo>
                <a:lnTo>
                  <a:pt x="2075463" y="2106613"/>
                </a:lnTo>
                <a:lnTo>
                  <a:pt x="2069111" y="2111376"/>
                </a:lnTo>
                <a:lnTo>
                  <a:pt x="2062759" y="2115821"/>
                </a:lnTo>
                <a:lnTo>
                  <a:pt x="2055454" y="2120266"/>
                </a:lnTo>
                <a:lnTo>
                  <a:pt x="2048467" y="2125028"/>
                </a:lnTo>
                <a:lnTo>
                  <a:pt x="2040844" y="2129156"/>
                </a:lnTo>
                <a:lnTo>
                  <a:pt x="2032904" y="2133283"/>
                </a:lnTo>
                <a:lnTo>
                  <a:pt x="2024647" y="2137728"/>
                </a:lnTo>
                <a:lnTo>
                  <a:pt x="2015754" y="2141538"/>
                </a:lnTo>
                <a:lnTo>
                  <a:pt x="2006861" y="2145666"/>
                </a:lnTo>
                <a:lnTo>
                  <a:pt x="1997333" y="2149476"/>
                </a:lnTo>
                <a:lnTo>
                  <a:pt x="1980183" y="2155826"/>
                </a:lnTo>
                <a:lnTo>
                  <a:pt x="1962397" y="2161541"/>
                </a:lnTo>
                <a:lnTo>
                  <a:pt x="1943977" y="2166938"/>
                </a:lnTo>
                <a:lnTo>
                  <a:pt x="1924921" y="2171701"/>
                </a:lnTo>
                <a:lnTo>
                  <a:pt x="1905230" y="2175828"/>
                </a:lnTo>
                <a:lnTo>
                  <a:pt x="1884903" y="2179638"/>
                </a:lnTo>
                <a:lnTo>
                  <a:pt x="1864259" y="2182813"/>
                </a:lnTo>
                <a:lnTo>
                  <a:pt x="1843298" y="2185671"/>
                </a:lnTo>
                <a:lnTo>
                  <a:pt x="1821701" y="2187893"/>
                </a:lnTo>
                <a:lnTo>
                  <a:pt x="1799787" y="2190116"/>
                </a:lnTo>
                <a:lnTo>
                  <a:pt x="1777555" y="2191068"/>
                </a:lnTo>
                <a:lnTo>
                  <a:pt x="1755958" y="2192021"/>
                </a:lnTo>
                <a:lnTo>
                  <a:pt x="1733091" y="2192338"/>
                </a:lnTo>
                <a:lnTo>
                  <a:pt x="1710859" y="2192338"/>
                </a:lnTo>
                <a:lnTo>
                  <a:pt x="1688627" y="2192021"/>
                </a:lnTo>
                <a:lnTo>
                  <a:pt x="1666395" y="2190751"/>
                </a:lnTo>
                <a:lnTo>
                  <a:pt x="1644163" y="2189481"/>
                </a:lnTo>
                <a:lnTo>
                  <a:pt x="1622567" y="2187576"/>
                </a:lnTo>
                <a:lnTo>
                  <a:pt x="1600652" y="2185353"/>
                </a:lnTo>
                <a:lnTo>
                  <a:pt x="1579055" y="2182496"/>
                </a:lnTo>
                <a:lnTo>
                  <a:pt x="1558094" y="2179321"/>
                </a:lnTo>
                <a:lnTo>
                  <a:pt x="1537450" y="2175828"/>
                </a:lnTo>
                <a:lnTo>
                  <a:pt x="1517124" y="2171701"/>
                </a:lnTo>
                <a:lnTo>
                  <a:pt x="1497750" y="2166938"/>
                </a:lnTo>
                <a:lnTo>
                  <a:pt x="1478694" y="2162176"/>
                </a:lnTo>
                <a:lnTo>
                  <a:pt x="1459956" y="2156778"/>
                </a:lnTo>
                <a:lnTo>
                  <a:pt x="1442488" y="2150746"/>
                </a:lnTo>
                <a:lnTo>
                  <a:pt x="1425655" y="2144713"/>
                </a:lnTo>
                <a:lnTo>
                  <a:pt x="1409775" y="2138046"/>
                </a:lnTo>
                <a:lnTo>
                  <a:pt x="1394530" y="2130743"/>
                </a:lnTo>
                <a:lnTo>
                  <a:pt x="1380239" y="2123441"/>
                </a:lnTo>
                <a:lnTo>
                  <a:pt x="1367217" y="2115503"/>
                </a:lnTo>
                <a:lnTo>
                  <a:pt x="1356736" y="2108518"/>
                </a:lnTo>
                <a:lnTo>
                  <a:pt x="1347208" y="2101216"/>
                </a:lnTo>
                <a:lnTo>
                  <a:pt x="1337680" y="2093278"/>
                </a:lnTo>
                <a:lnTo>
                  <a:pt x="1328470" y="2084388"/>
                </a:lnTo>
                <a:lnTo>
                  <a:pt x="1319577" y="2075181"/>
                </a:lnTo>
                <a:lnTo>
                  <a:pt x="1311002" y="2065338"/>
                </a:lnTo>
                <a:lnTo>
                  <a:pt x="1302427" y="2055178"/>
                </a:lnTo>
                <a:lnTo>
                  <a:pt x="1294487" y="2044383"/>
                </a:lnTo>
                <a:lnTo>
                  <a:pt x="1286547" y="2033271"/>
                </a:lnTo>
                <a:lnTo>
                  <a:pt x="1279242" y="2021841"/>
                </a:lnTo>
                <a:lnTo>
                  <a:pt x="1271620" y="2009776"/>
                </a:lnTo>
                <a:lnTo>
                  <a:pt x="1264950" y="1997393"/>
                </a:lnTo>
                <a:lnTo>
                  <a:pt x="1257645" y="1984693"/>
                </a:lnTo>
                <a:lnTo>
                  <a:pt x="1251293" y="1971993"/>
                </a:lnTo>
                <a:lnTo>
                  <a:pt x="1244941" y="1958658"/>
                </a:lnTo>
                <a:lnTo>
                  <a:pt x="1238589" y="1945006"/>
                </a:lnTo>
                <a:lnTo>
                  <a:pt x="1233190" y="1931671"/>
                </a:lnTo>
                <a:lnTo>
                  <a:pt x="1227156" y="1917701"/>
                </a:lnTo>
                <a:lnTo>
                  <a:pt x="1222074" y="1903731"/>
                </a:lnTo>
                <a:lnTo>
                  <a:pt x="1216675" y="1889443"/>
                </a:lnTo>
                <a:lnTo>
                  <a:pt x="1206829" y="1861503"/>
                </a:lnTo>
                <a:lnTo>
                  <a:pt x="1198254" y="1832293"/>
                </a:lnTo>
                <a:lnTo>
                  <a:pt x="1189679" y="1803718"/>
                </a:lnTo>
                <a:lnTo>
                  <a:pt x="1182692" y="1775778"/>
                </a:lnTo>
                <a:lnTo>
                  <a:pt x="1176022" y="1747838"/>
                </a:lnTo>
                <a:lnTo>
                  <a:pt x="1172085" y="1730231"/>
                </a:lnTo>
                <a:lnTo>
                  <a:pt x="1171494" y="1728720"/>
                </a:lnTo>
                <a:lnTo>
                  <a:pt x="1169588" y="1720782"/>
                </a:lnTo>
                <a:lnTo>
                  <a:pt x="1161965" y="1682994"/>
                </a:lnTo>
                <a:lnTo>
                  <a:pt x="1155612" y="1645523"/>
                </a:lnTo>
                <a:lnTo>
                  <a:pt x="1149576" y="1608053"/>
                </a:lnTo>
                <a:lnTo>
                  <a:pt x="1144812" y="1571218"/>
                </a:lnTo>
                <a:lnTo>
                  <a:pt x="1141317" y="1535335"/>
                </a:lnTo>
                <a:lnTo>
                  <a:pt x="1138459" y="1501357"/>
                </a:lnTo>
                <a:lnTo>
                  <a:pt x="1137823" y="1485163"/>
                </a:lnTo>
                <a:lnTo>
                  <a:pt x="1136870" y="1469285"/>
                </a:lnTo>
                <a:lnTo>
                  <a:pt x="1136553" y="1453725"/>
                </a:lnTo>
                <a:lnTo>
                  <a:pt x="1136553" y="1439118"/>
                </a:lnTo>
                <a:lnTo>
                  <a:pt x="1136870" y="1418795"/>
                </a:lnTo>
                <a:lnTo>
                  <a:pt x="1137823" y="1400060"/>
                </a:lnTo>
                <a:lnTo>
                  <a:pt x="1139411" y="1382913"/>
                </a:lnTo>
                <a:lnTo>
                  <a:pt x="1141317" y="1367988"/>
                </a:lnTo>
                <a:lnTo>
                  <a:pt x="1148623" y="1340044"/>
                </a:lnTo>
                <a:lnTo>
                  <a:pt x="1134647" y="1332740"/>
                </a:lnTo>
                <a:lnTo>
                  <a:pt x="1120670" y="1325119"/>
                </a:lnTo>
                <a:lnTo>
                  <a:pt x="1107329" y="1317181"/>
                </a:lnTo>
                <a:lnTo>
                  <a:pt x="1093670" y="1308289"/>
                </a:lnTo>
                <a:lnTo>
                  <a:pt x="1080329" y="1317181"/>
                </a:lnTo>
                <a:lnTo>
                  <a:pt x="1066670" y="1325119"/>
                </a:lnTo>
                <a:lnTo>
                  <a:pt x="1052693" y="1332740"/>
                </a:lnTo>
                <a:lnTo>
                  <a:pt x="1039034" y="1340044"/>
                </a:lnTo>
                <a:lnTo>
                  <a:pt x="1046022" y="1367988"/>
                </a:lnTo>
                <a:lnTo>
                  <a:pt x="1047928" y="1382913"/>
                </a:lnTo>
                <a:lnTo>
                  <a:pt x="1049517" y="1400060"/>
                </a:lnTo>
                <a:lnTo>
                  <a:pt x="1050787" y="1418795"/>
                </a:lnTo>
                <a:lnTo>
                  <a:pt x="1050787" y="1439436"/>
                </a:lnTo>
                <a:lnTo>
                  <a:pt x="1050787" y="1460712"/>
                </a:lnTo>
                <a:lnTo>
                  <a:pt x="1049517" y="1483575"/>
                </a:lnTo>
                <a:lnTo>
                  <a:pt x="1048564" y="1507708"/>
                </a:lnTo>
                <a:lnTo>
                  <a:pt x="1046340" y="1532794"/>
                </a:lnTo>
                <a:lnTo>
                  <a:pt x="1043799" y="1558516"/>
                </a:lnTo>
                <a:lnTo>
                  <a:pt x="1040940" y="1585190"/>
                </a:lnTo>
                <a:lnTo>
                  <a:pt x="1037446" y="1612499"/>
                </a:lnTo>
                <a:lnTo>
                  <a:pt x="1032999" y="1640125"/>
                </a:lnTo>
                <a:lnTo>
                  <a:pt x="1028234" y="1668387"/>
                </a:lnTo>
                <a:lnTo>
                  <a:pt x="1023152" y="1696966"/>
                </a:lnTo>
                <a:lnTo>
                  <a:pt x="1017116" y="1725545"/>
                </a:lnTo>
                <a:lnTo>
                  <a:pt x="1010763" y="1753806"/>
                </a:lnTo>
                <a:lnTo>
                  <a:pt x="1004093" y="1782386"/>
                </a:lnTo>
                <a:lnTo>
                  <a:pt x="996469" y="1810013"/>
                </a:lnTo>
                <a:lnTo>
                  <a:pt x="988528" y="1837639"/>
                </a:lnTo>
                <a:lnTo>
                  <a:pt x="983244" y="1853673"/>
                </a:lnTo>
                <a:lnTo>
                  <a:pt x="982663" y="1857305"/>
                </a:lnTo>
                <a:lnTo>
                  <a:pt x="980123" y="1865237"/>
                </a:lnTo>
                <a:lnTo>
                  <a:pt x="972185" y="1888080"/>
                </a:lnTo>
                <a:lnTo>
                  <a:pt x="964248" y="1909971"/>
                </a:lnTo>
                <a:lnTo>
                  <a:pt x="955675" y="1930911"/>
                </a:lnTo>
                <a:lnTo>
                  <a:pt x="946785" y="1951216"/>
                </a:lnTo>
                <a:lnTo>
                  <a:pt x="938213" y="1970252"/>
                </a:lnTo>
                <a:lnTo>
                  <a:pt x="928688" y="1988653"/>
                </a:lnTo>
                <a:lnTo>
                  <a:pt x="919163" y="2006103"/>
                </a:lnTo>
                <a:lnTo>
                  <a:pt x="909320" y="2021966"/>
                </a:lnTo>
                <a:lnTo>
                  <a:pt x="899160" y="2037195"/>
                </a:lnTo>
                <a:lnTo>
                  <a:pt x="889000" y="2051472"/>
                </a:lnTo>
                <a:lnTo>
                  <a:pt x="878205" y="2064797"/>
                </a:lnTo>
                <a:lnTo>
                  <a:pt x="867410" y="2076853"/>
                </a:lnTo>
                <a:lnTo>
                  <a:pt x="856298" y="2087958"/>
                </a:lnTo>
                <a:lnTo>
                  <a:pt x="844868" y="2098427"/>
                </a:lnTo>
                <a:lnTo>
                  <a:pt x="833120" y="2107628"/>
                </a:lnTo>
                <a:lnTo>
                  <a:pt x="827405" y="2111753"/>
                </a:lnTo>
                <a:lnTo>
                  <a:pt x="821055" y="2115877"/>
                </a:lnTo>
                <a:lnTo>
                  <a:pt x="811530" y="2121271"/>
                </a:lnTo>
                <a:lnTo>
                  <a:pt x="801688" y="2126981"/>
                </a:lnTo>
                <a:lnTo>
                  <a:pt x="790893" y="2132375"/>
                </a:lnTo>
                <a:lnTo>
                  <a:pt x="779780" y="2137768"/>
                </a:lnTo>
                <a:lnTo>
                  <a:pt x="768350" y="2142527"/>
                </a:lnTo>
                <a:lnTo>
                  <a:pt x="756920" y="2147286"/>
                </a:lnTo>
                <a:lnTo>
                  <a:pt x="744538" y="2151411"/>
                </a:lnTo>
                <a:lnTo>
                  <a:pt x="732155" y="2155535"/>
                </a:lnTo>
                <a:lnTo>
                  <a:pt x="719455" y="2159343"/>
                </a:lnTo>
                <a:lnTo>
                  <a:pt x="706438" y="2163150"/>
                </a:lnTo>
                <a:lnTo>
                  <a:pt x="692785" y="2166640"/>
                </a:lnTo>
                <a:lnTo>
                  <a:pt x="679450" y="2169812"/>
                </a:lnTo>
                <a:lnTo>
                  <a:pt x="665480" y="2172985"/>
                </a:lnTo>
                <a:lnTo>
                  <a:pt x="651510" y="2175840"/>
                </a:lnTo>
                <a:lnTo>
                  <a:pt x="637858" y="2178061"/>
                </a:lnTo>
                <a:lnTo>
                  <a:pt x="623570" y="2180599"/>
                </a:lnTo>
                <a:lnTo>
                  <a:pt x="594995" y="2184407"/>
                </a:lnTo>
                <a:lnTo>
                  <a:pt x="566103" y="2187579"/>
                </a:lnTo>
                <a:lnTo>
                  <a:pt x="536575" y="2190117"/>
                </a:lnTo>
                <a:lnTo>
                  <a:pt x="507683" y="2191704"/>
                </a:lnTo>
                <a:lnTo>
                  <a:pt x="479108" y="2192338"/>
                </a:lnTo>
                <a:lnTo>
                  <a:pt x="450850" y="2192338"/>
                </a:lnTo>
                <a:lnTo>
                  <a:pt x="423545" y="2192021"/>
                </a:lnTo>
                <a:lnTo>
                  <a:pt x="397689" y="2190483"/>
                </a:lnTo>
                <a:lnTo>
                  <a:pt x="396428" y="2190433"/>
                </a:lnTo>
                <a:lnTo>
                  <a:pt x="378004" y="2189162"/>
                </a:lnTo>
                <a:lnTo>
                  <a:pt x="359580" y="2187575"/>
                </a:lnTo>
                <a:lnTo>
                  <a:pt x="341792" y="2185669"/>
                </a:lnTo>
                <a:lnTo>
                  <a:pt x="324321" y="2183129"/>
                </a:lnTo>
                <a:lnTo>
                  <a:pt x="307485" y="2180589"/>
                </a:lnTo>
                <a:lnTo>
                  <a:pt x="290967" y="2177731"/>
                </a:lnTo>
                <a:lnTo>
                  <a:pt x="275085" y="2174555"/>
                </a:lnTo>
                <a:lnTo>
                  <a:pt x="259520" y="2171062"/>
                </a:lnTo>
                <a:lnTo>
                  <a:pt x="244590" y="2167252"/>
                </a:lnTo>
                <a:lnTo>
                  <a:pt x="230296" y="2163441"/>
                </a:lnTo>
                <a:lnTo>
                  <a:pt x="216320" y="2158996"/>
                </a:lnTo>
                <a:lnTo>
                  <a:pt x="202343" y="2154232"/>
                </a:lnTo>
                <a:lnTo>
                  <a:pt x="189637" y="2149152"/>
                </a:lnTo>
                <a:lnTo>
                  <a:pt x="176931" y="2144071"/>
                </a:lnTo>
                <a:lnTo>
                  <a:pt x="165178" y="2138355"/>
                </a:lnTo>
                <a:lnTo>
                  <a:pt x="153107" y="2132957"/>
                </a:lnTo>
                <a:lnTo>
                  <a:pt x="142307" y="2126606"/>
                </a:lnTo>
                <a:lnTo>
                  <a:pt x="131825" y="2120255"/>
                </a:lnTo>
                <a:lnTo>
                  <a:pt x="121660" y="2113904"/>
                </a:lnTo>
                <a:lnTo>
                  <a:pt x="112130" y="2106600"/>
                </a:lnTo>
                <a:lnTo>
                  <a:pt x="103236" y="2099614"/>
                </a:lnTo>
                <a:lnTo>
                  <a:pt x="94660" y="2091993"/>
                </a:lnTo>
                <a:lnTo>
                  <a:pt x="86718" y="2084372"/>
                </a:lnTo>
                <a:lnTo>
                  <a:pt x="79730" y="2076434"/>
                </a:lnTo>
                <a:lnTo>
                  <a:pt x="72424" y="2068177"/>
                </a:lnTo>
                <a:lnTo>
                  <a:pt x="66706" y="2059921"/>
                </a:lnTo>
                <a:lnTo>
                  <a:pt x="60671" y="2051030"/>
                </a:lnTo>
                <a:lnTo>
                  <a:pt x="55589" y="2041821"/>
                </a:lnTo>
                <a:lnTo>
                  <a:pt x="50824" y="2032930"/>
                </a:lnTo>
                <a:lnTo>
                  <a:pt x="46694" y="2023403"/>
                </a:lnTo>
                <a:lnTo>
                  <a:pt x="43200" y="2013877"/>
                </a:lnTo>
                <a:lnTo>
                  <a:pt x="40341" y="2003716"/>
                </a:lnTo>
                <a:lnTo>
                  <a:pt x="34306" y="1979900"/>
                </a:lnTo>
                <a:lnTo>
                  <a:pt x="29224" y="1956084"/>
                </a:lnTo>
                <a:lnTo>
                  <a:pt x="24459" y="1932268"/>
                </a:lnTo>
                <a:lnTo>
                  <a:pt x="20012" y="1908452"/>
                </a:lnTo>
                <a:lnTo>
                  <a:pt x="16200" y="1884318"/>
                </a:lnTo>
                <a:lnTo>
                  <a:pt x="12706" y="1860185"/>
                </a:lnTo>
                <a:lnTo>
                  <a:pt x="9529" y="1836369"/>
                </a:lnTo>
                <a:lnTo>
                  <a:pt x="6988" y="1812235"/>
                </a:lnTo>
                <a:lnTo>
                  <a:pt x="5082" y="1787467"/>
                </a:lnTo>
                <a:lnTo>
                  <a:pt x="3176" y="1763333"/>
                </a:lnTo>
                <a:lnTo>
                  <a:pt x="1906" y="1739199"/>
                </a:lnTo>
                <a:lnTo>
                  <a:pt x="635" y="1714748"/>
                </a:lnTo>
                <a:lnTo>
                  <a:pt x="317" y="1690615"/>
                </a:lnTo>
                <a:lnTo>
                  <a:pt x="0" y="1666481"/>
                </a:lnTo>
                <a:lnTo>
                  <a:pt x="317" y="1642348"/>
                </a:lnTo>
                <a:lnTo>
                  <a:pt x="635" y="1617897"/>
                </a:lnTo>
                <a:lnTo>
                  <a:pt x="1588" y="1593763"/>
                </a:lnTo>
                <a:lnTo>
                  <a:pt x="2223" y="1569947"/>
                </a:lnTo>
                <a:lnTo>
                  <a:pt x="3812" y="1546131"/>
                </a:lnTo>
                <a:lnTo>
                  <a:pt x="5400" y="1522315"/>
                </a:lnTo>
                <a:lnTo>
                  <a:pt x="7306" y="1498817"/>
                </a:lnTo>
                <a:lnTo>
                  <a:pt x="9529" y="1475001"/>
                </a:lnTo>
                <a:lnTo>
                  <a:pt x="12070" y="1452138"/>
                </a:lnTo>
                <a:lnTo>
                  <a:pt x="14612" y="1428639"/>
                </a:lnTo>
                <a:lnTo>
                  <a:pt x="17788" y="1405776"/>
                </a:lnTo>
                <a:lnTo>
                  <a:pt x="20965" y="1382913"/>
                </a:lnTo>
                <a:lnTo>
                  <a:pt x="27635" y="1337821"/>
                </a:lnTo>
                <a:lnTo>
                  <a:pt x="35259" y="1293682"/>
                </a:lnTo>
                <a:lnTo>
                  <a:pt x="43518" y="1250814"/>
                </a:lnTo>
                <a:lnTo>
                  <a:pt x="52412" y="1208898"/>
                </a:lnTo>
                <a:lnTo>
                  <a:pt x="61306" y="1168252"/>
                </a:lnTo>
                <a:lnTo>
                  <a:pt x="70518" y="1128876"/>
                </a:lnTo>
                <a:lnTo>
                  <a:pt x="80365" y="1091405"/>
                </a:lnTo>
                <a:lnTo>
                  <a:pt x="90530" y="1054888"/>
                </a:lnTo>
                <a:lnTo>
                  <a:pt x="100060" y="1020275"/>
                </a:lnTo>
                <a:lnTo>
                  <a:pt x="109907" y="987250"/>
                </a:lnTo>
                <a:lnTo>
                  <a:pt x="119436" y="956448"/>
                </a:lnTo>
                <a:lnTo>
                  <a:pt x="128966" y="927234"/>
                </a:lnTo>
                <a:lnTo>
                  <a:pt x="137542" y="900243"/>
                </a:lnTo>
                <a:lnTo>
                  <a:pt x="146437" y="875792"/>
                </a:lnTo>
                <a:lnTo>
                  <a:pt x="154378" y="853563"/>
                </a:lnTo>
                <a:lnTo>
                  <a:pt x="168354" y="815776"/>
                </a:lnTo>
                <a:lnTo>
                  <a:pt x="178837" y="788784"/>
                </a:lnTo>
                <a:lnTo>
                  <a:pt x="186778" y="769731"/>
                </a:lnTo>
                <a:lnTo>
                  <a:pt x="196308" y="749091"/>
                </a:lnTo>
                <a:lnTo>
                  <a:pt x="208696" y="722417"/>
                </a:lnTo>
                <a:lnTo>
                  <a:pt x="224578" y="691615"/>
                </a:lnTo>
                <a:lnTo>
                  <a:pt x="233473" y="674785"/>
                </a:lnTo>
                <a:lnTo>
                  <a:pt x="243002" y="657320"/>
                </a:lnTo>
                <a:lnTo>
                  <a:pt x="253167" y="639537"/>
                </a:lnTo>
                <a:lnTo>
                  <a:pt x="263967" y="621437"/>
                </a:lnTo>
                <a:lnTo>
                  <a:pt x="275085" y="603020"/>
                </a:lnTo>
                <a:lnTo>
                  <a:pt x="286838" y="584920"/>
                </a:lnTo>
                <a:lnTo>
                  <a:pt x="299226" y="566502"/>
                </a:lnTo>
                <a:lnTo>
                  <a:pt x="312250" y="548719"/>
                </a:lnTo>
                <a:lnTo>
                  <a:pt x="325909" y="531254"/>
                </a:lnTo>
                <a:lnTo>
                  <a:pt x="339886" y="514424"/>
                </a:lnTo>
                <a:lnTo>
                  <a:pt x="353545" y="498547"/>
                </a:lnTo>
                <a:lnTo>
                  <a:pt x="361169" y="491243"/>
                </a:lnTo>
                <a:lnTo>
                  <a:pt x="368475" y="483940"/>
                </a:lnTo>
                <a:lnTo>
                  <a:pt x="375781" y="476954"/>
                </a:lnTo>
                <a:lnTo>
                  <a:pt x="383404" y="469968"/>
                </a:lnTo>
                <a:lnTo>
                  <a:pt x="391028" y="463299"/>
                </a:lnTo>
                <a:lnTo>
                  <a:pt x="398969" y="457266"/>
                </a:lnTo>
                <a:lnTo>
                  <a:pt x="406593" y="451868"/>
                </a:lnTo>
                <a:lnTo>
                  <a:pt x="414534" y="446152"/>
                </a:lnTo>
                <a:lnTo>
                  <a:pt x="422475" y="441389"/>
                </a:lnTo>
                <a:lnTo>
                  <a:pt x="430416" y="436626"/>
                </a:lnTo>
                <a:lnTo>
                  <a:pt x="438358" y="432815"/>
                </a:lnTo>
                <a:lnTo>
                  <a:pt x="446299" y="429322"/>
                </a:lnTo>
                <a:lnTo>
                  <a:pt x="454558" y="426147"/>
                </a:lnTo>
                <a:lnTo>
                  <a:pt x="462817" y="423289"/>
                </a:lnTo>
                <a:lnTo>
                  <a:pt x="470758" y="421383"/>
                </a:lnTo>
                <a:lnTo>
                  <a:pt x="479017" y="419796"/>
                </a:lnTo>
                <a:lnTo>
                  <a:pt x="487593" y="418525"/>
                </a:lnTo>
                <a:lnTo>
                  <a:pt x="495852" y="418208"/>
                </a:lnTo>
                <a:lnTo>
                  <a:pt x="504111" y="418208"/>
                </a:lnTo>
                <a:lnTo>
                  <a:pt x="513005" y="418843"/>
                </a:lnTo>
                <a:lnTo>
                  <a:pt x="521264" y="420431"/>
                </a:lnTo>
                <a:lnTo>
                  <a:pt x="529523" y="422336"/>
                </a:lnTo>
                <a:lnTo>
                  <a:pt x="540959" y="426464"/>
                </a:lnTo>
                <a:lnTo>
                  <a:pt x="552712" y="430910"/>
                </a:lnTo>
                <a:lnTo>
                  <a:pt x="564147" y="436626"/>
                </a:lnTo>
                <a:lnTo>
                  <a:pt x="575900" y="442976"/>
                </a:lnTo>
                <a:lnTo>
                  <a:pt x="587653" y="450280"/>
                </a:lnTo>
                <a:lnTo>
                  <a:pt x="599089" y="458536"/>
                </a:lnTo>
                <a:lnTo>
                  <a:pt x="610842" y="467428"/>
                </a:lnTo>
                <a:lnTo>
                  <a:pt x="622912" y="476954"/>
                </a:lnTo>
                <a:lnTo>
                  <a:pt x="634348" y="487115"/>
                </a:lnTo>
                <a:lnTo>
                  <a:pt x="646101" y="497912"/>
                </a:lnTo>
                <a:lnTo>
                  <a:pt x="657854" y="509344"/>
                </a:lnTo>
                <a:lnTo>
                  <a:pt x="669607" y="521728"/>
                </a:lnTo>
                <a:lnTo>
                  <a:pt x="681042" y="534112"/>
                </a:lnTo>
                <a:lnTo>
                  <a:pt x="692795" y="547132"/>
                </a:lnTo>
                <a:lnTo>
                  <a:pt x="704231" y="560469"/>
                </a:lnTo>
                <a:lnTo>
                  <a:pt x="715666" y="574441"/>
                </a:lnTo>
                <a:lnTo>
                  <a:pt x="727102" y="588730"/>
                </a:lnTo>
                <a:lnTo>
                  <a:pt x="738219" y="603337"/>
                </a:lnTo>
                <a:lnTo>
                  <a:pt x="749337" y="618262"/>
                </a:lnTo>
                <a:lnTo>
                  <a:pt x="760455" y="633504"/>
                </a:lnTo>
                <a:lnTo>
                  <a:pt x="782373" y="664306"/>
                </a:lnTo>
                <a:lnTo>
                  <a:pt x="803338" y="695426"/>
                </a:lnTo>
                <a:lnTo>
                  <a:pt x="823667" y="727180"/>
                </a:lnTo>
                <a:lnTo>
                  <a:pt x="843044" y="758617"/>
                </a:lnTo>
                <a:lnTo>
                  <a:pt x="861785" y="790054"/>
                </a:lnTo>
                <a:lnTo>
                  <a:pt x="879574" y="820221"/>
                </a:lnTo>
                <a:lnTo>
                  <a:pt x="878939" y="788467"/>
                </a:lnTo>
                <a:lnTo>
                  <a:pt x="877986" y="755442"/>
                </a:lnTo>
                <a:lnTo>
                  <a:pt x="875444" y="688122"/>
                </a:lnTo>
                <a:lnTo>
                  <a:pt x="872268" y="618579"/>
                </a:lnTo>
                <a:lnTo>
                  <a:pt x="868138" y="548719"/>
                </a:lnTo>
                <a:lnTo>
                  <a:pt x="863691" y="480764"/>
                </a:lnTo>
                <a:lnTo>
                  <a:pt x="859562" y="415668"/>
                </a:lnTo>
                <a:lnTo>
                  <a:pt x="850985" y="301033"/>
                </a:lnTo>
                <a:lnTo>
                  <a:pt x="848762" y="271502"/>
                </a:lnTo>
                <a:lnTo>
                  <a:pt x="841456" y="158773"/>
                </a:lnTo>
                <a:lnTo>
                  <a:pt x="841138" y="149246"/>
                </a:lnTo>
                <a:lnTo>
                  <a:pt x="841138" y="141943"/>
                </a:lnTo>
                <a:lnTo>
                  <a:pt x="842091" y="134322"/>
                </a:lnTo>
                <a:lnTo>
                  <a:pt x="842726" y="127018"/>
                </a:lnTo>
                <a:lnTo>
                  <a:pt x="843997" y="119715"/>
                </a:lnTo>
                <a:lnTo>
                  <a:pt x="845903" y="112411"/>
                </a:lnTo>
                <a:lnTo>
                  <a:pt x="847809" y="105743"/>
                </a:lnTo>
                <a:lnTo>
                  <a:pt x="850350" y="98439"/>
                </a:lnTo>
                <a:lnTo>
                  <a:pt x="853209" y="91771"/>
                </a:lnTo>
                <a:lnTo>
                  <a:pt x="856385" y="85102"/>
                </a:lnTo>
                <a:lnTo>
                  <a:pt x="859879" y="78751"/>
                </a:lnTo>
                <a:lnTo>
                  <a:pt x="863691" y="72400"/>
                </a:lnTo>
                <a:lnTo>
                  <a:pt x="868138" y="66049"/>
                </a:lnTo>
                <a:lnTo>
                  <a:pt x="872903" y="60016"/>
                </a:lnTo>
                <a:lnTo>
                  <a:pt x="877668" y="53983"/>
                </a:lnTo>
                <a:lnTo>
                  <a:pt x="883386" y="48584"/>
                </a:lnTo>
                <a:lnTo>
                  <a:pt x="888786" y="42868"/>
                </a:lnTo>
                <a:lnTo>
                  <a:pt x="894503" y="37788"/>
                </a:lnTo>
                <a:lnTo>
                  <a:pt x="900221" y="33025"/>
                </a:lnTo>
                <a:lnTo>
                  <a:pt x="906574" y="28261"/>
                </a:lnTo>
                <a:lnTo>
                  <a:pt x="912927" y="24451"/>
                </a:lnTo>
                <a:lnTo>
                  <a:pt x="919280" y="20323"/>
                </a:lnTo>
                <a:lnTo>
                  <a:pt x="926268" y="16830"/>
                </a:lnTo>
                <a:lnTo>
                  <a:pt x="933257" y="13654"/>
                </a:lnTo>
                <a:lnTo>
                  <a:pt x="940563" y="10796"/>
                </a:lnTo>
                <a:lnTo>
                  <a:pt x="947869" y="8573"/>
                </a:lnTo>
                <a:lnTo>
                  <a:pt x="955492" y="6033"/>
                </a:lnTo>
                <a:lnTo>
                  <a:pt x="963116" y="4128"/>
                </a:lnTo>
                <a:lnTo>
                  <a:pt x="971057" y="2540"/>
                </a:lnTo>
                <a:lnTo>
                  <a:pt x="979316" y="1270"/>
                </a:lnTo>
                <a:lnTo>
                  <a:pt x="987257" y="635"/>
                </a:lnTo>
                <a:lnTo>
                  <a:pt x="996151" y="0"/>
                </a:lnTo>
                <a:close/>
              </a:path>
            </a:pathLst>
          </a:cu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23" name="KSO_Shape"/>
          <p:cNvSpPr/>
          <p:nvPr/>
        </p:nvSpPr>
        <p:spPr>
          <a:xfrm>
            <a:off x="1236600" y="3416400"/>
            <a:ext cx="644760" cy="563400"/>
          </a:xfrm>
          <a:custGeom>
            <a:avLst/>
            <a:gdLst/>
            <a:ahLst/>
            <a:rect l="l" t="t" r="r" b="b"/>
            <a:pathLst>
              <a:path w="2019300" h="1766888">
                <a:moveTo>
                  <a:pt x="798083" y="611188"/>
                </a:moveTo>
                <a:lnTo>
                  <a:pt x="1039193" y="1402281"/>
                </a:lnTo>
                <a:lnTo>
                  <a:pt x="1042052" y="1407993"/>
                </a:lnTo>
                <a:lnTo>
                  <a:pt x="1045229" y="1413387"/>
                </a:lnTo>
                <a:lnTo>
                  <a:pt x="1049359" y="1418465"/>
                </a:lnTo>
                <a:lnTo>
                  <a:pt x="1053171" y="1422907"/>
                </a:lnTo>
                <a:lnTo>
                  <a:pt x="1057936" y="1427350"/>
                </a:lnTo>
                <a:lnTo>
                  <a:pt x="1062701" y="1430840"/>
                </a:lnTo>
                <a:lnTo>
                  <a:pt x="1068101" y="1433696"/>
                </a:lnTo>
                <a:lnTo>
                  <a:pt x="1073502" y="1436552"/>
                </a:lnTo>
                <a:lnTo>
                  <a:pt x="1079220" y="1438139"/>
                </a:lnTo>
                <a:lnTo>
                  <a:pt x="1084938" y="1440043"/>
                </a:lnTo>
                <a:lnTo>
                  <a:pt x="1090973" y="1440677"/>
                </a:lnTo>
                <a:lnTo>
                  <a:pt x="1097009" y="1440995"/>
                </a:lnTo>
                <a:lnTo>
                  <a:pt x="1103363" y="1440677"/>
                </a:lnTo>
                <a:lnTo>
                  <a:pt x="1109398" y="1440043"/>
                </a:lnTo>
                <a:lnTo>
                  <a:pt x="1115434" y="1438456"/>
                </a:lnTo>
                <a:lnTo>
                  <a:pt x="1121470" y="1436552"/>
                </a:lnTo>
                <a:lnTo>
                  <a:pt x="1126235" y="1434331"/>
                </a:lnTo>
                <a:lnTo>
                  <a:pt x="1130364" y="1431792"/>
                </a:lnTo>
                <a:lnTo>
                  <a:pt x="1134812" y="1428936"/>
                </a:lnTo>
                <a:lnTo>
                  <a:pt x="1138306" y="1426080"/>
                </a:lnTo>
                <a:lnTo>
                  <a:pt x="1141801" y="1422907"/>
                </a:lnTo>
                <a:lnTo>
                  <a:pt x="1144977" y="1419417"/>
                </a:lnTo>
                <a:lnTo>
                  <a:pt x="1148472" y="1415926"/>
                </a:lnTo>
                <a:lnTo>
                  <a:pt x="1150695" y="1411801"/>
                </a:lnTo>
                <a:lnTo>
                  <a:pt x="1152919" y="1408627"/>
                </a:lnTo>
                <a:lnTo>
                  <a:pt x="1155143" y="1405454"/>
                </a:lnTo>
                <a:lnTo>
                  <a:pt x="1157366" y="1401964"/>
                </a:lnTo>
                <a:lnTo>
                  <a:pt x="1158637" y="1398473"/>
                </a:lnTo>
                <a:lnTo>
                  <a:pt x="1279351" y="961833"/>
                </a:lnTo>
                <a:lnTo>
                  <a:pt x="1369569" y="1148738"/>
                </a:lnTo>
                <a:lnTo>
                  <a:pt x="1371793" y="1153498"/>
                </a:lnTo>
                <a:lnTo>
                  <a:pt x="1374017" y="1157623"/>
                </a:lnTo>
                <a:lnTo>
                  <a:pt x="1376876" y="1161748"/>
                </a:lnTo>
                <a:lnTo>
                  <a:pt x="1379735" y="1165239"/>
                </a:lnTo>
                <a:lnTo>
                  <a:pt x="1382911" y="1168729"/>
                </a:lnTo>
                <a:lnTo>
                  <a:pt x="1386088" y="1171903"/>
                </a:lnTo>
                <a:lnTo>
                  <a:pt x="1389900" y="1174758"/>
                </a:lnTo>
                <a:lnTo>
                  <a:pt x="1393394" y="1177614"/>
                </a:lnTo>
                <a:lnTo>
                  <a:pt x="1397524" y="1180153"/>
                </a:lnTo>
                <a:lnTo>
                  <a:pt x="1401654" y="1182374"/>
                </a:lnTo>
                <a:lnTo>
                  <a:pt x="1406101" y="1184596"/>
                </a:lnTo>
                <a:lnTo>
                  <a:pt x="1410231" y="1185865"/>
                </a:lnTo>
                <a:lnTo>
                  <a:pt x="1414996" y="1187134"/>
                </a:lnTo>
                <a:lnTo>
                  <a:pt x="1419443" y="1188086"/>
                </a:lnTo>
                <a:lnTo>
                  <a:pt x="1424526" y="1188721"/>
                </a:lnTo>
                <a:lnTo>
                  <a:pt x="1429609" y="1189038"/>
                </a:lnTo>
                <a:lnTo>
                  <a:pt x="1606550" y="1189038"/>
                </a:lnTo>
                <a:lnTo>
                  <a:pt x="1102092" y="1726588"/>
                </a:lnTo>
                <a:lnTo>
                  <a:pt x="1097645" y="1731348"/>
                </a:lnTo>
                <a:lnTo>
                  <a:pt x="1092879" y="1735473"/>
                </a:lnTo>
                <a:lnTo>
                  <a:pt x="1087797" y="1739598"/>
                </a:lnTo>
                <a:lnTo>
                  <a:pt x="1082714" y="1743723"/>
                </a:lnTo>
                <a:lnTo>
                  <a:pt x="1076996" y="1747214"/>
                </a:lnTo>
                <a:lnTo>
                  <a:pt x="1071596" y="1750387"/>
                </a:lnTo>
                <a:lnTo>
                  <a:pt x="1065878" y="1753561"/>
                </a:lnTo>
                <a:lnTo>
                  <a:pt x="1060160" y="1756099"/>
                </a:lnTo>
                <a:lnTo>
                  <a:pt x="1054124" y="1758638"/>
                </a:lnTo>
                <a:lnTo>
                  <a:pt x="1048088" y="1760859"/>
                </a:lnTo>
                <a:lnTo>
                  <a:pt x="1041735" y="1762446"/>
                </a:lnTo>
                <a:lnTo>
                  <a:pt x="1035699" y="1764032"/>
                </a:lnTo>
                <a:lnTo>
                  <a:pt x="1029346" y="1765302"/>
                </a:lnTo>
                <a:lnTo>
                  <a:pt x="1022992" y="1766254"/>
                </a:lnTo>
                <a:lnTo>
                  <a:pt x="1016004" y="1766571"/>
                </a:lnTo>
                <a:lnTo>
                  <a:pt x="1009650" y="1766888"/>
                </a:lnTo>
                <a:lnTo>
                  <a:pt x="1003297" y="1766571"/>
                </a:lnTo>
                <a:lnTo>
                  <a:pt x="996626" y="1766254"/>
                </a:lnTo>
                <a:lnTo>
                  <a:pt x="989955" y="1765302"/>
                </a:lnTo>
                <a:lnTo>
                  <a:pt x="983601" y="1764032"/>
                </a:lnTo>
                <a:lnTo>
                  <a:pt x="977566" y="1762446"/>
                </a:lnTo>
                <a:lnTo>
                  <a:pt x="971212" y="1760859"/>
                </a:lnTo>
                <a:lnTo>
                  <a:pt x="965177" y="1758638"/>
                </a:lnTo>
                <a:lnTo>
                  <a:pt x="959141" y="1756099"/>
                </a:lnTo>
                <a:lnTo>
                  <a:pt x="953423" y="1753561"/>
                </a:lnTo>
                <a:lnTo>
                  <a:pt x="947705" y="1750387"/>
                </a:lnTo>
                <a:lnTo>
                  <a:pt x="941987" y="1747214"/>
                </a:lnTo>
                <a:lnTo>
                  <a:pt x="936586" y="1743723"/>
                </a:lnTo>
                <a:lnTo>
                  <a:pt x="931504" y="1739598"/>
                </a:lnTo>
                <a:lnTo>
                  <a:pt x="926739" y="1735473"/>
                </a:lnTo>
                <a:lnTo>
                  <a:pt x="921656" y="1731348"/>
                </a:lnTo>
                <a:lnTo>
                  <a:pt x="916891" y="1726588"/>
                </a:lnTo>
                <a:lnTo>
                  <a:pt x="412750" y="1189038"/>
                </a:lnTo>
                <a:lnTo>
                  <a:pt x="516628" y="1189038"/>
                </a:lnTo>
                <a:lnTo>
                  <a:pt x="516946" y="1189038"/>
                </a:lnTo>
                <a:lnTo>
                  <a:pt x="522028" y="1188721"/>
                </a:lnTo>
                <a:lnTo>
                  <a:pt x="527429" y="1188086"/>
                </a:lnTo>
                <a:lnTo>
                  <a:pt x="532511" y="1186499"/>
                </a:lnTo>
                <a:lnTo>
                  <a:pt x="537594" y="1185230"/>
                </a:lnTo>
                <a:lnTo>
                  <a:pt x="540771" y="1183961"/>
                </a:lnTo>
                <a:lnTo>
                  <a:pt x="544265" y="1182374"/>
                </a:lnTo>
                <a:lnTo>
                  <a:pt x="547442" y="1180470"/>
                </a:lnTo>
                <a:lnTo>
                  <a:pt x="549666" y="1179518"/>
                </a:lnTo>
                <a:lnTo>
                  <a:pt x="551254" y="1178249"/>
                </a:lnTo>
                <a:lnTo>
                  <a:pt x="553795" y="1176345"/>
                </a:lnTo>
                <a:lnTo>
                  <a:pt x="556337" y="1174441"/>
                </a:lnTo>
                <a:lnTo>
                  <a:pt x="558560" y="1172220"/>
                </a:lnTo>
                <a:lnTo>
                  <a:pt x="561102" y="1170633"/>
                </a:lnTo>
                <a:lnTo>
                  <a:pt x="565231" y="1165239"/>
                </a:lnTo>
                <a:lnTo>
                  <a:pt x="567137" y="1163335"/>
                </a:lnTo>
                <a:lnTo>
                  <a:pt x="568726" y="1160796"/>
                </a:lnTo>
                <a:lnTo>
                  <a:pt x="572220" y="1156036"/>
                </a:lnTo>
                <a:lnTo>
                  <a:pt x="575079" y="1150324"/>
                </a:lnTo>
                <a:lnTo>
                  <a:pt x="575079" y="1150007"/>
                </a:lnTo>
                <a:lnTo>
                  <a:pt x="798083" y="611188"/>
                </a:lnTo>
                <a:close/>
                <a:moveTo>
                  <a:pt x="523158" y="0"/>
                </a:moveTo>
                <a:lnTo>
                  <a:pt x="536173" y="0"/>
                </a:lnTo>
                <a:lnTo>
                  <a:pt x="549824" y="0"/>
                </a:lnTo>
                <a:lnTo>
                  <a:pt x="562839" y="635"/>
                </a:lnTo>
                <a:lnTo>
                  <a:pt x="576490" y="1270"/>
                </a:lnTo>
                <a:lnTo>
                  <a:pt x="589822" y="2222"/>
                </a:lnTo>
                <a:lnTo>
                  <a:pt x="602838" y="3809"/>
                </a:lnTo>
                <a:lnTo>
                  <a:pt x="615536" y="5713"/>
                </a:lnTo>
                <a:lnTo>
                  <a:pt x="628869" y="7618"/>
                </a:lnTo>
                <a:lnTo>
                  <a:pt x="641567" y="10157"/>
                </a:lnTo>
                <a:lnTo>
                  <a:pt x="654582" y="13014"/>
                </a:lnTo>
                <a:lnTo>
                  <a:pt x="667280" y="15871"/>
                </a:lnTo>
                <a:lnTo>
                  <a:pt x="679978" y="19045"/>
                </a:lnTo>
                <a:lnTo>
                  <a:pt x="692676" y="22854"/>
                </a:lnTo>
                <a:lnTo>
                  <a:pt x="705057" y="26980"/>
                </a:lnTo>
                <a:lnTo>
                  <a:pt x="717120" y="31106"/>
                </a:lnTo>
                <a:lnTo>
                  <a:pt x="729501" y="35550"/>
                </a:lnTo>
                <a:lnTo>
                  <a:pt x="741881" y="40311"/>
                </a:lnTo>
                <a:lnTo>
                  <a:pt x="753627" y="45390"/>
                </a:lnTo>
                <a:lnTo>
                  <a:pt x="765690" y="51103"/>
                </a:lnTo>
                <a:lnTo>
                  <a:pt x="777435" y="56817"/>
                </a:lnTo>
                <a:lnTo>
                  <a:pt x="788864" y="62848"/>
                </a:lnTo>
                <a:lnTo>
                  <a:pt x="800292" y="68879"/>
                </a:lnTo>
                <a:lnTo>
                  <a:pt x="811403" y="75862"/>
                </a:lnTo>
                <a:lnTo>
                  <a:pt x="822513" y="82527"/>
                </a:lnTo>
                <a:lnTo>
                  <a:pt x="833624" y="89510"/>
                </a:lnTo>
                <a:lnTo>
                  <a:pt x="844735" y="97128"/>
                </a:lnTo>
                <a:lnTo>
                  <a:pt x="855211" y="104746"/>
                </a:lnTo>
                <a:lnTo>
                  <a:pt x="865687" y="112682"/>
                </a:lnTo>
                <a:lnTo>
                  <a:pt x="875845" y="121252"/>
                </a:lnTo>
                <a:lnTo>
                  <a:pt x="886321" y="129822"/>
                </a:lnTo>
                <a:lnTo>
                  <a:pt x="896162" y="138709"/>
                </a:lnTo>
                <a:lnTo>
                  <a:pt x="906003" y="147597"/>
                </a:lnTo>
                <a:lnTo>
                  <a:pt x="915526" y="156802"/>
                </a:lnTo>
                <a:lnTo>
                  <a:pt x="929494" y="171403"/>
                </a:lnTo>
                <a:lnTo>
                  <a:pt x="942510" y="186321"/>
                </a:lnTo>
                <a:lnTo>
                  <a:pt x="955525" y="201557"/>
                </a:lnTo>
                <a:lnTo>
                  <a:pt x="967588" y="217110"/>
                </a:lnTo>
                <a:lnTo>
                  <a:pt x="979016" y="232981"/>
                </a:lnTo>
                <a:lnTo>
                  <a:pt x="989492" y="249487"/>
                </a:lnTo>
                <a:lnTo>
                  <a:pt x="999968" y="266309"/>
                </a:lnTo>
                <a:lnTo>
                  <a:pt x="1009491" y="283450"/>
                </a:lnTo>
                <a:lnTo>
                  <a:pt x="1019015" y="266309"/>
                </a:lnTo>
                <a:lnTo>
                  <a:pt x="1029173" y="249487"/>
                </a:lnTo>
                <a:lnTo>
                  <a:pt x="1040284" y="232981"/>
                </a:lnTo>
                <a:lnTo>
                  <a:pt x="1051712" y="217110"/>
                </a:lnTo>
                <a:lnTo>
                  <a:pt x="1063775" y="201557"/>
                </a:lnTo>
                <a:lnTo>
                  <a:pt x="1076156" y="186321"/>
                </a:lnTo>
                <a:lnTo>
                  <a:pt x="1089806" y="171403"/>
                </a:lnTo>
                <a:lnTo>
                  <a:pt x="1103457" y="156802"/>
                </a:lnTo>
                <a:lnTo>
                  <a:pt x="1113298" y="147597"/>
                </a:lnTo>
                <a:lnTo>
                  <a:pt x="1122821" y="138709"/>
                </a:lnTo>
                <a:lnTo>
                  <a:pt x="1132662" y="129822"/>
                </a:lnTo>
                <a:lnTo>
                  <a:pt x="1143138" y="121252"/>
                </a:lnTo>
                <a:lnTo>
                  <a:pt x="1153296" y="112682"/>
                </a:lnTo>
                <a:lnTo>
                  <a:pt x="1163772" y="104746"/>
                </a:lnTo>
                <a:lnTo>
                  <a:pt x="1174566" y="97128"/>
                </a:lnTo>
                <a:lnTo>
                  <a:pt x="1185359" y="89510"/>
                </a:lnTo>
                <a:lnTo>
                  <a:pt x="1196470" y="82527"/>
                </a:lnTo>
                <a:lnTo>
                  <a:pt x="1207580" y="75862"/>
                </a:lnTo>
                <a:lnTo>
                  <a:pt x="1219009" y="68879"/>
                </a:lnTo>
                <a:lnTo>
                  <a:pt x="1230437" y="62848"/>
                </a:lnTo>
                <a:lnTo>
                  <a:pt x="1241865" y="56817"/>
                </a:lnTo>
                <a:lnTo>
                  <a:pt x="1253611" y="51103"/>
                </a:lnTo>
                <a:lnTo>
                  <a:pt x="1265356" y="45390"/>
                </a:lnTo>
                <a:lnTo>
                  <a:pt x="1277419" y="40311"/>
                </a:lnTo>
                <a:lnTo>
                  <a:pt x="1289482" y="35550"/>
                </a:lnTo>
                <a:lnTo>
                  <a:pt x="1301546" y="31106"/>
                </a:lnTo>
                <a:lnTo>
                  <a:pt x="1313926" y="26980"/>
                </a:lnTo>
                <a:lnTo>
                  <a:pt x="1326624" y="22854"/>
                </a:lnTo>
                <a:lnTo>
                  <a:pt x="1339005" y="19045"/>
                </a:lnTo>
                <a:lnTo>
                  <a:pt x="1351703" y="15871"/>
                </a:lnTo>
                <a:lnTo>
                  <a:pt x="1364718" y="13014"/>
                </a:lnTo>
                <a:lnTo>
                  <a:pt x="1377416" y="10157"/>
                </a:lnTo>
                <a:lnTo>
                  <a:pt x="1390114" y="7618"/>
                </a:lnTo>
                <a:lnTo>
                  <a:pt x="1403130" y="5713"/>
                </a:lnTo>
                <a:lnTo>
                  <a:pt x="1416145" y="3809"/>
                </a:lnTo>
                <a:lnTo>
                  <a:pt x="1429478" y="2222"/>
                </a:lnTo>
                <a:lnTo>
                  <a:pt x="1442493" y="1270"/>
                </a:lnTo>
                <a:lnTo>
                  <a:pt x="1456144" y="635"/>
                </a:lnTo>
                <a:lnTo>
                  <a:pt x="1469159" y="0"/>
                </a:lnTo>
                <a:lnTo>
                  <a:pt x="1482810" y="0"/>
                </a:lnTo>
                <a:lnTo>
                  <a:pt x="1496142" y="0"/>
                </a:lnTo>
                <a:lnTo>
                  <a:pt x="1509475" y="635"/>
                </a:lnTo>
                <a:lnTo>
                  <a:pt x="1522808" y="1270"/>
                </a:lnTo>
                <a:lnTo>
                  <a:pt x="1535824" y="2222"/>
                </a:lnTo>
                <a:lnTo>
                  <a:pt x="1549157" y="3809"/>
                </a:lnTo>
                <a:lnTo>
                  <a:pt x="1562172" y="5713"/>
                </a:lnTo>
                <a:lnTo>
                  <a:pt x="1575188" y="7618"/>
                </a:lnTo>
                <a:lnTo>
                  <a:pt x="1588203" y="10157"/>
                </a:lnTo>
                <a:lnTo>
                  <a:pt x="1600901" y="13014"/>
                </a:lnTo>
                <a:lnTo>
                  <a:pt x="1613916" y="15871"/>
                </a:lnTo>
                <a:lnTo>
                  <a:pt x="1626297" y="19045"/>
                </a:lnTo>
                <a:lnTo>
                  <a:pt x="1638678" y="22854"/>
                </a:lnTo>
                <a:lnTo>
                  <a:pt x="1651376" y="26980"/>
                </a:lnTo>
                <a:lnTo>
                  <a:pt x="1663756" y="31106"/>
                </a:lnTo>
                <a:lnTo>
                  <a:pt x="1675819" y="35550"/>
                </a:lnTo>
                <a:lnTo>
                  <a:pt x="1687882" y="40311"/>
                </a:lnTo>
                <a:lnTo>
                  <a:pt x="1699945" y="45390"/>
                </a:lnTo>
                <a:lnTo>
                  <a:pt x="1711691" y="51103"/>
                </a:lnTo>
                <a:lnTo>
                  <a:pt x="1723437" y="56817"/>
                </a:lnTo>
                <a:lnTo>
                  <a:pt x="1735182" y="62848"/>
                </a:lnTo>
                <a:lnTo>
                  <a:pt x="1746611" y="68879"/>
                </a:lnTo>
                <a:lnTo>
                  <a:pt x="1757721" y="75862"/>
                </a:lnTo>
                <a:lnTo>
                  <a:pt x="1769150" y="82527"/>
                </a:lnTo>
                <a:lnTo>
                  <a:pt x="1780260" y="89510"/>
                </a:lnTo>
                <a:lnTo>
                  <a:pt x="1790736" y="97128"/>
                </a:lnTo>
                <a:lnTo>
                  <a:pt x="1801529" y="104746"/>
                </a:lnTo>
                <a:lnTo>
                  <a:pt x="1812323" y="112682"/>
                </a:lnTo>
                <a:lnTo>
                  <a:pt x="1822481" y="121252"/>
                </a:lnTo>
                <a:lnTo>
                  <a:pt x="1832640" y="129822"/>
                </a:lnTo>
                <a:lnTo>
                  <a:pt x="1842480" y="138709"/>
                </a:lnTo>
                <a:lnTo>
                  <a:pt x="1852004" y="147597"/>
                </a:lnTo>
                <a:lnTo>
                  <a:pt x="1861845" y="156802"/>
                </a:lnTo>
                <a:lnTo>
                  <a:pt x="1871368" y="166642"/>
                </a:lnTo>
                <a:lnTo>
                  <a:pt x="1880257" y="176482"/>
                </a:lnTo>
                <a:lnTo>
                  <a:pt x="1889146" y="186321"/>
                </a:lnTo>
                <a:lnTo>
                  <a:pt x="1897717" y="196479"/>
                </a:lnTo>
                <a:lnTo>
                  <a:pt x="1905971" y="206636"/>
                </a:lnTo>
                <a:lnTo>
                  <a:pt x="1914224" y="217428"/>
                </a:lnTo>
                <a:lnTo>
                  <a:pt x="1921526" y="228220"/>
                </a:lnTo>
                <a:lnTo>
                  <a:pt x="1929144" y="238694"/>
                </a:lnTo>
                <a:lnTo>
                  <a:pt x="1936128" y="249804"/>
                </a:lnTo>
                <a:lnTo>
                  <a:pt x="1943430" y="260913"/>
                </a:lnTo>
                <a:lnTo>
                  <a:pt x="1949779" y="272340"/>
                </a:lnTo>
                <a:lnTo>
                  <a:pt x="1956128" y="283767"/>
                </a:lnTo>
                <a:lnTo>
                  <a:pt x="1962159" y="295511"/>
                </a:lnTo>
                <a:lnTo>
                  <a:pt x="1967873" y="307256"/>
                </a:lnTo>
                <a:lnTo>
                  <a:pt x="1973270" y="319000"/>
                </a:lnTo>
                <a:lnTo>
                  <a:pt x="1978667" y="331062"/>
                </a:lnTo>
                <a:lnTo>
                  <a:pt x="1983111" y="343123"/>
                </a:lnTo>
                <a:lnTo>
                  <a:pt x="1987873" y="355185"/>
                </a:lnTo>
                <a:lnTo>
                  <a:pt x="1991999" y="367247"/>
                </a:lnTo>
                <a:lnTo>
                  <a:pt x="1996126" y="379943"/>
                </a:lnTo>
                <a:lnTo>
                  <a:pt x="1999618" y="392640"/>
                </a:lnTo>
                <a:lnTo>
                  <a:pt x="2003110" y="405019"/>
                </a:lnTo>
                <a:lnTo>
                  <a:pt x="2005967" y="418033"/>
                </a:lnTo>
                <a:lnTo>
                  <a:pt x="2008824" y="430729"/>
                </a:lnTo>
                <a:lnTo>
                  <a:pt x="2011364" y="443426"/>
                </a:lnTo>
                <a:lnTo>
                  <a:pt x="2012951" y="456757"/>
                </a:lnTo>
                <a:lnTo>
                  <a:pt x="2014856" y="469771"/>
                </a:lnTo>
                <a:lnTo>
                  <a:pt x="2016443" y="482785"/>
                </a:lnTo>
                <a:lnTo>
                  <a:pt x="2017713" y="496116"/>
                </a:lnTo>
                <a:lnTo>
                  <a:pt x="2018348" y="509448"/>
                </a:lnTo>
                <a:lnTo>
                  <a:pt x="2018665" y="522462"/>
                </a:lnTo>
                <a:lnTo>
                  <a:pt x="2019300" y="536110"/>
                </a:lnTo>
                <a:lnTo>
                  <a:pt x="2018665" y="549759"/>
                </a:lnTo>
                <a:lnTo>
                  <a:pt x="2018348" y="562773"/>
                </a:lnTo>
                <a:lnTo>
                  <a:pt x="2017713" y="576104"/>
                </a:lnTo>
                <a:lnTo>
                  <a:pt x="2016443" y="589436"/>
                </a:lnTo>
                <a:lnTo>
                  <a:pt x="2014856" y="602767"/>
                </a:lnTo>
                <a:lnTo>
                  <a:pt x="2012951" y="615464"/>
                </a:lnTo>
                <a:lnTo>
                  <a:pt x="2011364" y="628795"/>
                </a:lnTo>
                <a:lnTo>
                  <a:pt x="2008824" y="641491"/>
                </a:lnTo>
                <a:lnTo>
                  <a:pt x="2005967" y="654188"/>
                </a:lnTo>
                <a:lnTo>
                  <a:pt x="2003110" y="667202"/>
                </a:lnTo>
                <a:lnTo>
                  <a:pt x="1999618" y="679898"/>
                </a:lnTo>
                <a:lnTo>
                  <a:pt x="1996126" y="692277"/>
                </a:lnTo>
                <a:lnTo>
                  <a:pt x="1991999" y="704974"/>
                </a:lnTo>
                <a:lnTo>
                  <a:pt x="1987873" y="717036"/>
                </a:lnTo>
                <a:lnTo>
                  <a:pt x="1983111" y="729415"/>
                </a:lnTo>
                <a:lnTo>
                  <a:pt x="1978667" y="741476"/>
                </a:lnTo>
                <a:lnTo>
                  <a:pt x="1973270" y="753221"/>
                </a:lnTo>
                <a:lnTo>
                  <a:pt x="1967873" y="765282"/>
                </a:lnTo>
                <a:lnTo>
                  <a:pt x="1962159" y="777027"/>
                </a:lnTo>
                <a:lnTo>
                  <a:pt x="1956128" y="788453"/>
                </a:lnTo>
                <a:lnTo>
                  <a:pt x="1949779" y="799880"/>
                </a:lnTo>
                <a:lnTo>
                  <a:pt x="1943430" y="811307"/>
                </a:lnTo>
                <a:lnTo>
                  <a:pt x="1936128" y="822417"/>
                </a:lnTo>
                <a:lnTo>
                  <a:pt x="1929144" y="833526"/>
                </a:lnTo>
                <a:lnTo>
                  <a:pt x="1921526" y="844318"/>
                </a:lnTo>
                <a:lnTo>
                  <a:pt x="1914224" y="855110"/>
                </a:lnTo>
                <a:lnTo>
                  <a:pt x="1905971" y="865585"/>
                </a:lnTo>
                <a:lnTo>
                  <a:pt x="1897717" y="875742"/>
                </a:lnTo>
                <a:lnTo>
                  <a:pt x="1889146" y="886217"/>
                </a:lnTo>
                <a:lnTo>
                  <a:pt x="1880257" y="896056"/>
                </a:lnTo>
                <a:lnTo>
                  <a:pt x="1871368" y="905579"/>
                </a:lnTo>
                <a:lnTo>
                  <a:pt x="1861845" y="915419"/>
                </a:lnTo>
                <a:lnTo>
                  <a:pt x="1724389" y="1062063"/>
                </a:lnTo>
                <a:lnTo>
                  <a:pt x="1467572" y="1062063"/>
                </a:lnTo>
                <a:lnTo>
                  <a:pt x="1324402" y="764330"/>
                </a:lnTo>
                <a:lnTo>
                  <a:pt x="1321862" y="757982"/>
                </a:lnTo>
                <a:lnTo>
                  <a:pt x="1319005" y="751634"/>
                </a:lnTo>
                <a:lnTo>
                  <a:pt x="1315513" y="745920"/>
                </a:lnTo>
                <a:lnTo>
                  <a:pt x="1311069" y="740207"/>
                </a:lnTo>
                <a:lnTo>
                  <a:pt x="1306307" y="735128"/>
                </a:lnTo>
                <a:lnTo>
                  <a:pt x="1300911" y="730367"/>
                </a:lnTo>
                <a:lnTo>
                  <a:pt x="1297736" y="728462"/>
                </a:lnTo>
                <a:lnTo>
                  <a:pt x="1294562" y="726558"/>
                </a:lnTo>
                <a:lnTo>
                  <a:pt x="1291387" y="724971"/>
                </a:lnTo>
                <a:lnTo>
                  <a:pt x="1287895" y="723384"/>
                </a:lnTo>
                <a:lnTo>
                  <a:pt x="1281864" y="721162"/>
                </a:lnTo>
                <a:lnTo>
                  <a:pt x="1275515" y="719892"/>
                </a:lnTo>
                <a:lnTo>
                  <a:pt x="1269483" y="718623"/>
                </a:lnTo>
                <a:lnTo>
                  <a:pt x="1263452" y="718305"/>
                </a:lnTo>
                <a:lnTo>
                  <a:pt x="1257103" y="718623"/>
                </a:lnTo>
                <a:lnTo>
                  <a:pt x="1251071" y="719892"/>
                </a:lnTo>
                <a:lnTo>
                  <a:pt x="1245357" y="721162"/>
                </a:lnTo>
                <a:lnTo>
                  <a:pt x="1239643" y="723384"/>
                </a:lnTo>
                <a:lnTo>
                  <a:pt x="1234246" y="725923"/>
                </a:lnTo>
                <a:lnTo>
                  <a:pt x="1228849" y="729097"/>
                </a:lnTo>
                <a:lnTo>
                  <a:pt x="1223770" y="732589"/>
                </a:lnTo>
                <a:lnTo>
                  <a:pt x="1219326" y="737033"/>
                </a:lnTo>
                <a:lnTo>
                  <a:pt x="1215517" y="741159"/>
                </a:lnTo>
                <a:lnTo>
                  <a:pt x="1211390" y="746238"/>
                </a:lnTo>
                <a:lnTo>
                  <a:pt x="1208215" y="751951"/>
                </a:lnTo>
                <a:lnTo>
                  <a:pt x="1205358" y="757664"/>
                </a:lnTo>
                <a:lnTo>
                  <a:pt x="1095203" y="1155700"/>
                </a:lnTo>
                <a:lnTo>
                  <a:pt x="866004" y="401527"/>
                </a:lnTo>
                <a:lnTo>
                  <a:pt x="863782" y="397083"/>
                </a:lnTo>
                <a:lnTo>
                  <a:pt x="861242" y="392957"/>
                </a:lnTo>
                <a:lnTo>
                  <a:pt x="859020" y="389148"/>
                </a:lnTo>
                <a:lnTo>
                  <a:pt x="856163" y="385022"/>
                </a:lnTo>
                <a:lnTo>
                  <a:pt x="852989" y="381530"/>
                </a:lnTo>
                <a:lnTo>
                  <a:pt x="849179" y="378356"/>
                </a:lnTo>
                <a:lnTo>
                  <a:pt x="845687" y="375499"/>
                </a:lnTo>
                <a:lnTo>
                  <a:pt x="842195" y="372960"/>
                </a:lnTo>
                <a:lnTo>
                  <a:pt x="837751" y="370421"/>
                </a:lnTo>
                <a:lnTo>
                  <a:pt x="833942" y="368516"/>
                </a:lnTo>
                <a:lnTo>
                  <a:pt x="829815" y="366612"/>
                </a:lnTo>
                <a:lnTo>
                  <a:pt x="825370" y="365342"/>
                </a:lnTo>
                <a:lnTo>
                  <a:pt x="820926" y="364073"/>
                </a:lnTo>
                <a:lnTo>
                  <a:pt x="816164" y="363438"/>
                </a:lnTo>
                <a:lnTo>
                  <a:pt x="811403" y="362803"/>
                </a:lnTo>
                <a:lnTo>
                  <a:pt x="806958" y="362803"/>
                </a:lnTo>
                <a:lnTo>
                  <a:pt x="802197" y="362803"/>
                </a:lnTo>
                <a:lnTo>
                  <a:pt x="797752" y="363438"/>
                </a:lnTo>
                <a:lnTo>
                  <a:pt x="793308" y="364073"/>
                </a:lnTo>
                <a:lnTo>
                  <a:pt x="788864" y="365342"/>
                </a:lnTo>
                <a:lnTo>
                  <a:pt x="784419" y="366612"/>
                </a:lnTo>
                <a:lnTo>
                  <a:pt x="780293" y="368516"/>
                </a:lnTo>
                <a:lnTo>
                  <a:pt x="775848" y="370421"/>
                </a:lnTo>
                <a:lnTo>
                  <a:pt x="772039" y="372960"/>
                </a:lnTo>
                <a:lnTo>
                  <a:pt x="768229" y="375499"/>
                </a:lnTo>
                <a:lnTo>
                  <a:pt x="764420" y="378356"/>
                </a:lnTo>
                <a:lnTo>
                  <a:pt x="761246" y="381530"/>
                </a:lnTo>
                <a:lnTo>
                  <a:pt x="758071" y="385022"/>
                </a:lnTo>
                <a:lnTo>
                  <a:pt x="755214" y="389148"/>
                </a:lnTo>
                <a:lnTo>
                  <a:pt x="752357" y="392957"/>
                </a:lnTo>
                <a:lnTo>
                  <a:pt x="750135" y="397083"/>
                </a:lnTo>
                <a:lnTo>
                  <a:pt x="748230" y="401527"/>
                </a:lnTo>
                <a:lnTo>
                  <a:pt x="474588" y="1062063"/>
                </a:lnTo>
                <a:lnTo>
                  <a:pt x="294911" y="1062063"/>
                </a:lnTo>
                <a:lnTo>
                  <a:pt x="157455" y="915419"/>
                </a:lnTo>
                <a:lnTo>
                  <a:pt x="147615" y="905579"/>
                </a:lnTo>
                <a:lnTo>
                  <a:pt x="138726" y="896056"/>
                </a:lnTo>
                <a:lnTo>
                  <a:pt x="129837" y="886217"/>
                </a:lnTo>
                <a:lnTo>
                  <a:pt x="121266" y="875742"/>
                </a:lnTo>
                <a:lnTo>
                  <a:pt x="113330" y="865585"/>
                </a:lnTo>
                <a:lnTo>
                  <a:pt x="105076" y="855110"/>
                </a:lnTo>
                <a:lnTo>
                  <a:pt x="97140" y="844318"/>
                </a:lnTo>
                <a:lnTo>
                  <a:pt x="89521" y="833526"/>
                </a:lnTo>
                <a:lnTo>
                  <a:pt x="82537" y="822417"/>
                </a:lnTo>
                <a:lnTo>
                  <a:pt x="75871" y="811307"/>
                </a:lnTo>
                <a:lnTo>
                  <a:pt x="68887" y="799880"/>
                </a:lnTo>
                <a:lnTo>
                  <a:pt x="62855" y="788453"/>
                </a:lnTo>
                <a:lnTo>
                  <a:pt x="56824" y="777027"/>
                </a:lnTo>
                <a:lnTo>
                  <a:pt x="51110" y="765282"/>
                </a:lnTo>
                <a:lnTo>
                  <a:pt x="45713" y="753221"/>
                </a:lnTo>
                <a:lnTo>
                  <a:pt x="40634" y="741476"/>
                </a:lnTo>
                <a:lnTo>
                  <a:pt x="35872" y="729415"/>
                </a:lnTo>
                <a:lnTo>
                  <a:pt x="31110" y="717036"/>
                </a:lnTo>
                <a:lnTo>
                  <a:pt x="26984" y="704974"/>
                </a:lnTo>
                <a:lnTo>
                  <a:pt x="23174" y="692277"/>
                </a:lnTo>
                <a:lnTo>
                  <a:pt x="19365" y="679898"/>
                </a:lnTo>
                <a:lnTo>
                  <a:pt x="15873" y="667202"/>
                </a:lnTo>
                <a:lnTo>
                  <a:pt x="13016" y="654188"/>
                </a:lnTo>
                <a:lnTo>
                  <a:pt x="10159" y="641491"/>
                </a:lnTo>
                <a:lnTo>
                  <a:pt x="7619" y="628795"/>
                </a:lnTo>
                <a:lnTo>
                  <a:pt x="6032" y="615464"/>
                </a:lnTo>
                <a:lnTo>
                  <a:pt x="4127" y="602767"/>
                </a:lnTo>
                <a:lnTo>
                  <a:pt x="2857" y="589436"/>
                </a:lnTo>
                <a:lnTo>
                  <a:pt x="1270" y="576104"/>
                </a:lnTo>
                <a:lnTo>
                  <a:pt x="635" y="562773"/>
                </a:lnTo>
                <a:lnTo>
                  <a:pt x="318" y="549759"/>
                </a:lnTo>
                <a:lnTo>
                  <a:pt x="0" y="536110"/>
                </a:lnTo>
                <a:lnTo>
                  <a:pt x="318" y="522462"/>
                </a:lnTo>
                <a:lnTo>
                  <a:pt x="635" y="509448"/>
                </a:lnTo>
                <a:lnTo>
                  <a:pt x="1270" y="496116"/>
                </a:lnTo>
                <a:lnTo>
                  <a:pt x="2857" y="482785"/>
                </a:lnTo>
                <a:lnTo>
                  <a:pt x="4127" y="469771"/>
                </a:lnTo>
                <a:lnTo>
                  <a:pt x="6032" y="456757"/>
                </a:lnTo>
                <a:lnTo>
                  <a:pt x="7619" y="443426"/>
                </a:lnTo>
                <a:lnTo>
                  <a:pt x="10159" y="430729"/>
                </a:lnTo>
                <a:lnTo>
                  <a:pt x="13016" y="418033"/>
                </a:lnTo>
                <a:lnTo>
                  <a:pt x="15873" y="405019"/>
                </a:lnTo>
                <a:lnTo>
                  <a:pt x="19365" y="392640"/>
                </a:lnTo>
                <a:lnTo>
                  <a:pt x="23174" y="379943"/>
                </a:lnTo>
                <a:lnTo>
                  <a:pt x="26984" y="367247"/>
                </a:lnTo>
                <a:lnTo>
                  <a:pt x="31110" y="355185"/>
                </a:lnTo>
                <a:lnTo>
                  <a:pt x="35872" y="343123"/>
                </a:lnTo>
                <a:lnTo>
                  <a:pt x="40634" y="331062"/>
                </a:lnTo>
                <a:lnTo>
                  <a:pt x="45713" y="319000"/>
                </a:lnTo>
                <a:lnTo>
                  <a:pt x="51110" y="307256"/>
                </a:lnTo>
                <a:lnTo>
                  <a:pt x="56824" y="295511"/>
                </a:lnTo>
                <a:lnTo>
                  <a:pt x="62855" y="283767"/>
                </a:lnTo>
                <a:lnTo>
                  <a:pt x="68887" y="272340"/>
                </a:lnTo>
                <a:lnTo>
                  <a:pt x="75871" y="260913"/>
                </a:lnTo>
                <a:lnTo>
                  <a:pt x="82537" y="249804"/>
                </a:lnTo>
                <a:lnTo>
                  <a:pt x="89521" y="238694"/>
                </a:lnTo>
                <a:lnTo>
                  <a:pt x="97140" y="228220"/>
                </a:lnTo>
                <a:lnTo>
                  <a:pt x="105076" y="217428"/>
                </a:lnTo>
                <a:lnTo>
                  <a:pt x="113330" y="206636"/>
                </a:lnTo>
                <a:lnTo>
                  <a:pt x="121266" y="196479"/>
                </a:lnTo>
                <a:lnTo>
                  <a:pt x="129837" y="186321"/>
                </a:lnTo>
                <a:lnTo>
                  <a:pt x="138726" y="176482"/>
                </a:lnTo>
                <a:lnTo>
                  <a:pt x="147615" y="166642"/>
                </a:lnTo>
                <a:lnTo>
                  <a:pt x="157455" y="156802"/>
                </a:lnTo>
                <a:lnTo>
                  <a:pt x="166662" y="147597"/>
                </a:lnTo>
                <a:lnTo>
                  <a:pt x="176502" y="138709"/>
                </a:lnTo>
                <a:lnTo>
                  <a:pt x="186661" y="129822"/>
                </a:lnTo>
                <a:lnTo>
                  <a:pt x="196502" y="121252"/>
                </a:lnTo>
                <a:lnTo>
                  <a:pt x="206978" y="112682"/>
                </a:lnTo>
                <a:lnTo>
                  <a:pt x="217454" y="104746"/>
                </a:lnTo>
                <a:lnTo>
                  <a:pt x="228247" y="97128"/>
                </a:lnTo>
                <a:lnTo>
                  <a:pt x="239040" y="89510"/>
                </a:lnTo>
                <a:lnTo>
                  <a:pt x="249833" y="82527"/>
                </a:lnTo>
                <a:lnTo>
                  <a:pt x="260944" y="75862"/>
                </a:lnTo>
                <a:lnTo>
                  <a:pt x="272372" y="68879"/>
                </a:lnTo>
                <a:lnTo>
                  <a:pt x="283801" y="62848"/>
                </a:lnTo>
                <a:lnTo>
                  <a:pt x="295546" y="56817"/>
                </a:lnTo>
                <a:lnTo>
                  <a:pt x="307292" y="51103"/>
                </a:lnTo>
                <a:lnTo>
                  <a:pt x="319038" y="45390"/>
                </a:lnTo>
                <a:lnTo>
                  <a:pt x="331101" y="40311"/>
                </a:lnTo>
                <a:lnTo>
                  <a:pt x="343164" y="35550"/>
                </a:lnTo>
                <a:lnTo>
                  <a:pt x="355227" y="31106"/>
                </a:lnTo>
                <a:lnTo>
                  <a:pt x="367925" y="26980"/>
                </a:lnTo>
                <a:lnTo>
                  <a:pt x="380305" y="22854"/>
                </a:lnTo>
                <a:lnTo>
                  <a:pt x="392686" y="19045"/>
                </a:lnTo>
                <a:lnTo>
                  <a:pt x="405067" y="15871"/>
                </a:lnTo>
                <a:lnTo>
                  <a:pt x="418082" y="13014"/>
                </a:lnTo>
                <a:lnTo>
                  <a:pt x="430780" y="10157"/>
                </a:lnTo>
                <a:lnTo>
                  <a:pt x="444113" y="7618"/>
                </a:lnTo>
                <a:lnTo>
                  <a:pt x="456811" y="5713"/>
                </a:lnTo>
                <a:lnTo>
                  <a:pt x="470144" y="3809"/>
                </a:lnTo>
                <a:lnTo>
                  <a:pt x="483159" y="2222"/>
                </a:lnTo>
                <a:lnTo>
                  <a:pt x="496492" y="1270"/>
                </a:lnTo>
                <a:lnTo>
                  <a:pt x="509508" y="635"/>
                </a:lnTo>
                <a:lnTo>
                  <a:pt x="523158" y="0"/>
                </a:lnTo>
                <a:close/>
              </a:path>
            </a:pathLst>
          </a:cu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24" name="KSO_Shape"/>
          <p:cNvSpPr/>
          <p:nvPr/>
        </p:nvSpPr>
        <p:spPr>
          <a:xfrm>
            <a:off x="1278000" y="2370240"/>
            <a:ext cx="665280" cy="619200"/>
          </a:xfrm>
          <a:custGeom>
            <a:avLst/>
            <a:gdLst/>
            <a:ahLst/>
            <a:rect l="l" t="t" r="r" b="b"/>
            <a:pathLst>
              <a:path w="2767013" h="2578100">
                <a:moveTo>
                  <a:pt x="332788" y="1286192"/>
                </a:moveTo>
                <a:lnTo>
                  <a:pt x="352476" y="1310640"/>
                </a:lnTo>
                <a:lnTo>
                  <a:pt x="372799" y="1335087"/>
                </a:lnTo>
                <a:lnTo>
                  <a:pt x="392804" y="1358582"/>
                </a:lnTo>
                <a:lnTo>
                  <a:pt x="413444" y="1381760"/>
                </a:lnTo>
                <a:lnTo>
                  <a:pt x="433767" y="1404620"/>
                </a:lnTo>
                <a:lnTo>
                  <a:pt x="454408" y="1426527"/>
                </a:lnTo>
                <a:lnTo>
                  <a:pt x="475366" y="1448117"/>
                </a:lnTo>
                <a:lnTo>
                  <a:pt x="495689" y="1468437"/>
                </a:lnTo>
                <a:lnTo>
                  <a:pt x="522998" y="1495107"/>
                </a:lnTo>
                <a:lnTo>
                  <a:pt x="549354" y="1519555"/>
                </a:lnTo>
                <a:lnTo>
                  <a:pt x="574758" y="1542097"/>
                </a:lnTo>
                <a:lnTo>
                  <a:pt x="599209" y="1563052"/>
                </a:lnTo>
                <a:lnTo>
                  <a:pt x="622707" y="1581785"/>
                </a:lnTo>
                <a:lnTo>
                  <a:pt x="644935" y="1598930"/>
                </a:lnTo>
                <a:lnTo>
                  <a:pt x="666211" y="1614487"/>
                </a:lnTo>
                <a:lnTo>
                  <a:pt x="685899" y="1628140"/>
                </a:lnTo>
                <a:lnTo>
                  <a:pt x="704634" y="1639887"/>
                </a:lnTo>
                <a:lnTo>
                  <a:pt x="722416" y="1650047"/>
                </a:lnTo>
                <a:lnTo>
                  <a:pt x="730673" y="1654492"/>
                </a:lnTo>
                <a:lnTo>
                  <a:pt x="738611" y="1658620"/>
                </a:lnTo>
                <a:lnTo>
                  <a:pt x="745915" y="1662430"/>
                </a:lnTo>
                <a:lnTo>
                  <a:pt x="753218" y="1665287"/>
                </a:lnTo>
                <a:lnTo>
                  <a:pt x="760204" y="1668145"/>
                </a:lnTo>
                <a:lnTo>
                  <a:pt x="766555" y="1670685"/>
                </a:lnTo>
                <a:lnTo>
                  <a:pt x="772271" y="1672272"/>
                </a:lnTo>
                <a:lnTo>
                  <a:pt x="777987" y="1673860"/>
                </a:lnTo>
                <a:lnTo>
                  <a:pt x="783385" y="1674812"/>
                </a:lnTo>
                <a:lnTo>
                  <a:pt x="788466" y="1675765"/>
                </a:lnTo>
                <a:lnTo>
                  <a:pt x="792912" y="1676082"/>
                </a:lnTo>
                <a:lnTo>
                  <a:pt x="797040" y="1676082"/>
                </a:lnTo>
                <a:lnTo>
                  <a:pt x="801168" y="1675765"/>
                </a:lnTo>
                <a:lnTo>
                  <a:pt x="805296" y="1674812"/>
                </a:lnTo>
                <a:lnTo>
                  <a:pt x="814822" y="1673225"/>
                </a:lnTo>
                <a:lnTo>
                  <a:pt x="824666" y="1670367"/>
                </a:lnTo>
                <a:lnTo>
                  <a:pt x="835463" y="1666240"/>
                </a:lnTo>
                <a:lnTo>
                  <a:pt x="847212" y="1661477"/>
                </a:lnTo>
                <a:lnTo>
                  <a:pt x="859279" y="1656080"/>
                </a:lnTo>
                <a:lnTo>
                  <a:pt x="872298" y="1649730"/>
                </a:lnTo>
                <a:lnTo>
                  <a:pt x="885635" y="1642427"/>
                </a:lnTo>
                <a:lnTo>
                  <a:pt x="899607" y="1634490"/>
                </a:lnTo>
                <a:lnTo>
                  <a:pt x="913896" y="1625917"/>
                </a:lnTo>
                <a:lnTo>
                  <a:pt x="929139" y="1616392"/>
                </a:lnTo>
                <a:lnTo>
                  <a:pt x="944381" y="1606232"/>
                </a:lnTo>
                <a:lnTo>
                  <a:pt x="960258" y="1595437"/>
                </a:lnTo>
                <a:lnTo>
                  <a:pt x="976453" y="1583690"/>
                </a:lnTo>
                <a:lnTo>
                  <a:pt x="992965" y="1571307"/>
                </a:lnTo>
                <a:lnTo>
                  <a:pt x="1010113" y="1558290"/>
                </a:lnTo>
                <a:lnTo>
                  <a:pt x="1026943" y="1544955"/>
                </a:lnTo>
                <a:lnTo>
                  <a:pt x="1044408" y="1530985"/>
                </a:lnTo>
                <a:lnTo>
                  <a:pt x="1062190" y="1516380"/>
                </a:lnTo>
                <a:lnTo>
                  <a:pt x="1079655" y="1501140"/>
                </a:lnTo>
                <a:lnTo>
                  <a:pt x="1097755" y="1485265"/>
                </a:lnTo>
                <a:lnTo>
                  <a:pt x="1116173" y="1469072"/>
                </a:lnTo>
                <a:lnTo>
                  <a:pt x="1133956" y="1452562"/>
                </a:lnTo>
                <a:lnTo>
                  <a:pt x="1152056" y="1435735"/>
                </a:lnTo>
                <a:lnTo>
                  <a:pt x="1170473" y="1418272"/>
                </a:lnTo>
                <a:lnTo>
                  <a:pt x="1188573" y="1400492"/>
                </a:lnTo>
                <a:lnTo>
                  <a:pt x="1206674" y="1382077"/>
                </a:lnTo>
                <a:lnTo>
                  <a:pt x="1224774" y="1363345"/>
                </a:lnTo>
                <a:lnTo>
                  <a:pt x="1242556" y="1344930"/>
                </a:lnTo>
                <a:lnTo>
                  <a:pt x="1260339" y="1325245"/>
                </a:lnTo>
                <a:lnTo>
                  <a:pt x="1277486" y="1305877"/>
                </a:lnTo>
                <a:lnTo>
                  <a:pt x="1294951" y="1286192"/>
                </a:lnTo>
                <a:lnTo>
                  <a:pt x="332788" y="1286192"/>
                </a:lnTo>
                <a:close/>
                <a:moveTo>
                  <a:pt x="1059021" y="0"/>
                </a:moveTo>
                <a:lnTo>
                  <a:pt x="1070443" y="318"/>
                </a:lnTo>
                <a:lnTo>
                  <a:pt x="1081547" y="1274"/>
                </a:lnTo>
                <a:lnTo>
                  <a:pt x="1092652" y="2547"/>
                </a:lnTo>
                <a:lnTo>
                  <a:pt x="1103439" y="4776"/>
                </a:lnTo>
                <a:lnTo>
                  <a:pt x="1114226" y="7323"/>
                </a:lnTo>
                <a:lnTo>
                  <a:pt x="1124696" y="10189"/>
                </a:lnTo>
                <a:lnTo>
                  <a:pt x="1134849" y="13692"/>
                </a:lnTo>
                <a:lnTo>
                  <a:pt x="1144684" y="17831"/>
                </a:lnTo>
                <a:lnTo>
                  <a:pt x="1154520" y="21970"/>
                </a:lnTo>
                <a:lnTo>
                  <a:pt x="1164038" y="26747"/>
                </a:lnTo>
                <a:lnTo>
                  <a:pt x="1173239" y="32160"/>
                </a:lnTo>
                <a:lnTo>
                  <a:pt x="1182123" y="37891"/>
                </a:lnTo>
                <a:lnTo>
                  <a:pt x="1190689" y="43941"/>
                </a:lnTo>
                <a:lnTo>
                  <a:pt x="1199255" y="50946"/>
                </a:lnTo>
                <a:lnTo>
                  <a:pt x="1207187" y="57633"/>
                </a:lnTo>
                <a:lnTo>
                  <a:pt x="1214802" y="64956"/>
                </a:lnTo>
                <a:lnTo>
                  <a:pt x="1222416" y="72598"/>
                </a:lnTo>
                <a:lnTo>
                  <a:pt x="1229079" y="80877"/>
                </a:lnTo>
                <a:lnTo>
                  <a:pt x="1235742" y="89156"/>
                </a:lnTo>
                <a:lnTo>
                  <a:pt x="1241770" y="97753"/>
                </a:lnTo>
                <a:lnTo>
                  <a:pt x="1247481" y="106668"/>
                </a:lnTo>
                <a:lnTo>
                  <a:pt x="1252874" y="116221"/>
                </a:lnTo>
                <a:lnTo>
                  <a:pt x="1257633" y="125455"/>
                </a:lnTo>
                <a:lnTo>
                  <a:pt x="1262392" y="135326"/>
                </a:lnTo>
                <a:lnTo>
                  <a:pt x="1266200" y="145515"/>
                </a:lnTo>
                <a:lnTo>
                  <a:pt x="1269372" y="155704"/>
                </a:lnTo>
                <a:lnTo>
                  <a:pt x="1272545" y="166212"/>
                </a:lnTo>
                <a:lnTo>
                  <a:pt x="1275083" y="176719"/>
                </a:lnTo>
                <a:lnTo>
                  <a:pt x="1276987" y="187864"/>
                </a:lnTo>
                <a:lnTo>
                  <a:pt x="1278573" y="198690"/>
                </a:lnTo>
                <a:lnTo>
                  <a:pt x="1279208" y="210153"/>
                </a:lnTo>
                <a:lnTo>
                  <a:pt x="1279525" y="221616"/>
                </a:lnTo>
                <a:lnTo>
                  <a:pt x="1279423" y="225313"/>
                </a:lnTo>
                <a:lnTo>
                  <a:pt x="1289553" y="230822"/>
                </a:lnTo>
                <a:lnTo>
                  <a:pt x="1307653" y="241617"/>
                </a:lnTo>
                <a:lnTo>
                  <a:pt x="1326071" y="253047"/>
                </a:lnTo>
                <a:lnTo>
                  <a:pt x="1344488" y="265430"/>
                </a:lnTo>
                <a:lnTo>
                  <a:pt x="1363224" y="278765"/>
                </a:lnTo>
                <a:lnTo>
                  <a:pt x="1381641" y="292735"/>
                </a:lnTo>
                <a:lnTo>
                  <a:pt x="1400059" y="307657"/>
                </a:lnTo>
                <a:lnTo>
                  <a:pt x="1418159" y="323532"/>
                </a:lnTo>
                <a:lnTo>
                  <a:pt x="1427050" y="331787"/>
                </a:lnTo>
                <a:lnTo>
                  <a:pt x="1436259" y="340360"/>
                </a:lnTo>
                <a:lnTo>
                  <a:pt x="1445150" y="349567"/>
                </a:lnTo>
                <a:lnTo>
                  <a:pt x="1453724" y="358457"/>
                </a:lnTo>
                <a:lnTo>
                  <a:pt x="1462298" y="367665"/>
                </a:lnTo>
                <a:lnTo>
                  <a:pt x="1471189" y="377190"/>
                </a:lnTo>
                <a:lnTo>
                  <a:pt x="1479763" y="386715"/>
                </a:lnTo>
                <a:lnTo>
                  <a:pt x="1488019" y="396875"/>
                </a:lnTo>
                <a:lnTo>
                  <a:pt x="1495958" y="407035"/>
                </a:lnTo>
                <a:lnTo>
                  <a:pt x="1504214" y="417512"/>
                </a:lnTo>
                <a:lnTo>
                  <a:pt x="1511517" y="428307"/>
                </a:lnTo>
                <a:lnTo>
                  <a:pt x="1519456" y="439420"/>
                </a:lnTo>
                <a:lnTo>
                  <a:pt x="1527077" y="450532"/>
                </a:lnTo>
                <a:lnTo>
                  <a:pt x="1534381" y="461962"/>
                </a:lnTo>
                <a:lnTo>
                  <a:pt x="1541367" y="473392"/>
                </a:lnTo>
                <a:lnTo>
                  <a:pt x="1548353" y="485775"/>
                </a:lnTo>
                <a:lnTo>
                  <a:pt x="1554704" y="497840"/>
                </a:lnTo>
                <a:lnTo>
                  <a:pt x="1561372" y="510222"/>
                </a:lnTo>
                <a:lnTo>
                  <a:pt x="1567405" y="523240"/>
                </a:lnTo>
                <a:lnTo>
                  <a:pt x="1573439" y="535940"/>
                </a:lnTo>
                <a:lnTo>
                  <a:pt x="1579155" y="548957"/>
                </a:lnTo>
                <a:lnTo>
                  <a:pt x="1584553" y="562610"/>
                </a:lnTo>
                <a:lnTo>
                  <a:pt x="1589634" y="576262"/>
                </a:lnTo>
                <a:lnTo>
                  <a:pt x="1594714" y="590232"/>
                </a:lnTo>
                <a:lnTo>
                  <a:pt x="1599160" y="604837"/>
                </a:lnTo>
                <a:lnTo>
                  <a:pt x="1603288" y="619125"/>
                </a:lnTo>
                <a:lnTo>
                  <a:pt x="1607416" y="634047"/>
                </a:lnTo>
                <a:lnTo>
                  <a:pt x="1610909" y="648970"/>
                </a:lnTo>
                <a:lnTo>
                  <a:pt x="1614085" y="664210"/>
                </a:lnTo>
                <a:lnTo>
                  <a:pt x="1617260" y="680085"/>
                </a:lnTo>
                <a:lnTo>
                  <a:pt x="1619800" y="695642"/>
                </a:lnTo>
                <a:lnTo>
                  <a:pt x="1622023" y="711835"/>
                </a:lnTo>
                <a:lnTo>
                  <a:pt x="1623928" y="728027"/>
                </a:lnTo>
                <a:lnTo>
                  <a:pt x="1625199" y="744537"/>
                </a:lnTo>
                <a:lnTo>
                  <a:pt x="1626469" y="761682"/>
                </a:lnTo>
                <a:lnTo>
                  <a:pt x="1627104" y="778827"/>
                </a:lnTo>
                <a:lnTo>
                  <a:pt x="1627104" y="795655"/>
                </a:lnTo>
                <a:lnTo>
                  <a:pt x="1626469" y="813117"/>
                </a:lnTo>
                <a:lnTo>
                  <a:pt x="1624564" y="830580"/>
                </a:lnTo>
                <a:lnTo>
                  <a:pt x="1622023" y="848360"/>
                </a:lnTo>
                <a:lnTo>
                  <a:pt x="1618848" y="866140"/>
                </a:lnTo>
                <a:lnTo>
                  <a:pt x="1615037" y="884555"/>
                </a:lnTo>
                <a:lnTo>
                  <a:pt x="1610274" y="902970"/>
                </a:lnTo>
                <a:lnTo>
                  <a:pt x="1604876" y="921702"/>
                </a:lnTo>
                <a:lnTo>
                  <a:pt x="1598842" y="940117"/>
                </a:lnTo>
                <a:lnTo>
                  <a:pt x="1591856" y="958850"/>
                </a:lnTo>
                <a:lnTo>
                  <a:pt x="1584553" y="977900"/>
                </a:lnTo>
                <a:lnTo>
                  <a:pt x="1576297" y="996950"/>
                </a:lnTo>
                <a:lnTo>
                  <a:pt x="1567723" y="1016635"/>
                </a:lnTo>
                <a:lnTo>
                  <a:pt x="1558832" y="1035685"/>
                </a:lnTo>
                <a:lnTo>
                  <a:pt x="1548670" y="1055052"/>
                </a:lnTo>
                <a:lnTo>
                  <a:pt x="1538509" y="1074420"/>
                </a:lnTo>
                <a:lnTo>
                  <a:pt x="1527395" y="1093787"/>
                </a:lnTo>
                <a:lnTo>
                  <a:pt x="1516280" y="1113155"/>
                </a:lnTo>
                <a:lnTo>
                  <a:pt x="1504531" y="1132522"/>
                </a:lnTo>
                <a:lnTo>
                  <a:pt x="1492147" y="1152207"/>
                </a:lnTo>
                <a:lnTo>
                  <a:pt x="1479445" y="1171575"/>
                </a:lnTo>
                <a:lnTo>
                  <a:pt x="1466426" y="1190625"/>
                </a:lnTo>
                <a:lnTo>
                  <a:pt x="1452771" y="1209992"/>
                </a:lnTo>
                <a:lnTo>
                  <a:pt x="1438799" y="1229042"/>
                </a:lnTo>
                <a:lnTo>
                  <a:pt x="1424510" y="1248410"/>
                </a:lnTo>
                <a:lnTo>
                  <a:pt x="1409903" y="1267142"/>
                </a:lnTo>
                <a:lnTo>
                  <a:pt x="1395296" y="1286192"/>
                </a:lnTo>
                <a:lnTo>
                  <a:pt x="1380054" y="1304925"/>
                </a:lnTo>
                <a:lnTo>
                  <a:pt x="1364494" y="1323340"/>
                </a:lnTo>
                <a:lnTo>
                  <a:pt x="1348616" y="1342072"/>
                </a:lnTo>
                <a:lnTo>
                  <a:pt x="1333057" y="1359852"/>
                </a:lnTo>
                <a:lnTo>
                  <a:pt x="1317179" y="1377950"/>
                </a:lnTo>
                <a:lnTo>
                  <a:pt x="1300667" y="1395730"/>
                </a:lnTo>
                <a:lnTo>
                  <a:pt x="1284472" y="1413192"/>
                </a:lnTo>
                <a:lnTo>
                  <a:pt x="1267960" y="1430337"/>
                </a:lnTo>
                <a:lnTo>
                  <a:pt x="1251448" y="1447482"/>
                </a:lnTo>
                <a:lnTo>
                  <a:pt x="1234300" y="1464310"/>
                </a:lnTo>
                <a:lnTo>
                  <a:pt x="1217788" y="1480820"/>
                </a:lnTo>
                <a:lnTo>
                  <a:pt x="1200958" y="1496695"/>
                </a:lnTo>
                <a:lnTo>
                  <a:pt x="1184128" y="1512252"/>
                </a:lnTo>
                <a:lnTo>
                  <a:pt x="1167298" y="1527810"/>
                </a:lnTo>
                <a:lnTo>
                  <a:pt x="1150150" y="1543050"/>
                </a:lnTo>
                <a:lnTo>
                  <a:pt x="1133638" y="1557655"/>
                </a:lnTo>
                <a:lnTo>
                  <a:pt x="1116808" y="1571625"/>
                </a:lnTo>
                <a:lnTo>
                  <a:pt x="1100296" y="1585595"/>
                </a:lnTo>
                <a:lnTo>
                  <a:pt x="1083783" y="1598930"/>
                </a:lnTo>
                <a:lnTo>
                  <a:pt x="1067271" y="1611947"/>
                </a:lnTo>
                <a:lnTo>
                  <a:pt x="1051076" y="1624647"/>
                </a:lnTo>
                <a:lnTo>
                  <a:pt x="1034881" y="1636395"/>
                </a:lnTo>
                <a:lnTo>
                  <a:pt x="1019004" y="1648142"/>
                </a:lnTo>
                <a:lnTo>
                  <a:pt x="1003444" y="1658937"/>
                </a:lnTo>
                <a:lnTo>
                  <a:pt x="988202" y="1669415"/>
                </a:lnTo>
                <a:lnTo>
                  <a:pt x="972960" y="1679575"/>
                </a:lnTo>
                <a:lnTo>
                  <a:pt x="957718" y="1688783"/>
                </a:lnTo>
                <a:lnTo>
                  <a:pt x="943428" y="1697990"/>
                </a:lnTo>
                <a:lnTo>
                  <a:pt x="929139" y="1706245"/>
                </a:lnTo>
                <a:lnTo>
                  <a:pt x="915167" y="1713865"/>
                </a:lnTo>
                <a:lnTo>
                  <a:pt x="901512" y="1720850"/>
                </a:lnTo>
                <a:lnTo>
                  <a:pt x="888493" y="1726883"/>
                </a:lnTo>
                <a:lnTo>
                  <a:pt x="875473" y="1732915"/>
                </a:lnTo>
                <a:lnTo>
                  <a:pt x="863407" y="1737678"/>
                </a:lnTo>
                <a:lnTo>
                  <a:pt x="851340" y="1742440"/>
                </a:lnTo>
                <a:lnTo>
                  <a:pt x="839908" y="1746250"/>
                </a:lnTo>
                <a:lnTo>
                  <a:pt x="829112" y="1749108"/>
                </a:lnTo>
                <a:lnTo>
                  <a:pt x="835145" y="1778953"/>
                </a:lnTo>
                <a:lnTo>
                  <a:pt x="839273" y="1797368"/>
                </a:lnTo>
                <a:lnTo>
                  <a:pt x="843719" y="1818323"/>
                </a:lnTo>
                <a:lnTo>
                  <a:pt x="849117" y="1841500"/>
                </a:lnTo>
                <a:lnTo>
                  <a:pt x="855468" y="1866265"/>
                </a:lnTo>
                <a:lnTo>
                  <a:pt x="862136" y="1892300"/>
                </a:lnTo>
                <a:lnTo>
                  <a:pt x="870075" y="1920558"/>
                </a:lnTo>
                <a:lnTo>
                  <a:pt x="878649" y="1949768"/>
                </a:lnTo>
                <a:lnTo>
                  <a:pt x="887858" y="1979930"/>
                </a:lnTo>
                <a:lnTo>
                  <a:pt x="898019" y="2010728"/>
                </a:lnTo>
                <a:lnTo>
                  <a:pt x="908816" y="2042478"/>
                </a:lnTo>
                <a:lnTo>
                  <a:pt x="920882" y="2074545"/>
                </a:lnTo>
                <a:lnTo>
                  <a:pt x="933902" y="2106613"/>
                </a:lnTo>
                <a:lnTo>
                  <a:pt x="940570" y="2122805"/>
                </a:lnTo>
                <a:lnTo>
                  <a:pt x="947556" y="2138998"/>
                </a:lnTo>
                <a:lnTo>
                  <a:pt x="954542" y="2155190"/>
                </a:lnTo>
                <a:lnTo>
                  <a:pt x="961846" y="2171383"/>
                </a:lnTo>
                <a:lnTo>
                  <a:pt x="969784" y="2187258"/>
                </a:lnTo>
                <a:lnTo>
                  <a:pt x="977723" y="2203133"/>
                </a:lnTo>
                <a:lnTo>
                  <a:pt x="985662" y="2219008"/>
                </a:lnTo>
                <a:lnTo>
                  <a:pt x="993918" y="2234565"/>
                </a:lnTo>
                <a:lnTo>
                  <a:pt x="1002492" y="2249805"/>
                </a:lnTo>
                <a:lnTo>
                  <a:pt x="1011383" y="2265045"/>
                </a:lnTo>
                <a:lnTo>
                  <a:pt x="1020274" y="2279650"/>
                </a:lnTo>
                <a:lnTo>
                  <a:pt x="1029801" y="2294573"/>
                </a:lnTo>
                <a:lnTo>
                  <a:pt x="1039327" y="2308860"/>
                </a:lnTo>
                <a:lnTo>
                  <a:pt x="1049488" y="2322830"/>
                </a:lnTo>
                <a:lnTo>
                  <a:pt x="1059650" y="2336483"/>
                </a:lnTo>
                <a:lnTo>
                  <a:pt x="1070129" y="2349818"/>
                </a:lnTo>
                <a:lnTo>
                  <a:pt x="1080608" y="2362835"/>
                </a:lnTo>
                <a:lnTo>
                  <a:pt x="1091404" y="2375218"/>
                </a:lnTo>
                <a:lnTo>
                  <a:pt x="1102518" y="2387283"/>
                </a:lnTo>
                <a:lnTo>
                  <a:pt x="1113950" y="2399030"/>
                </a:lnTo>
                <a:lnTo>
                  <a:pt x="1125699" y="2410143"/>
                </a:lnTo>
                <a:lnTo>
                  <a:pt x="1137766" y="2420620"/>
                </a:lnTo>
                <a:lnTo>
                  <a:pt x="1149833" y="2430780"/>
                </a:lnTo>
                <a:lnTo>
                  <a:pt x="1162535" y="2439988"/>
                </a:lnTo>
                <a:lnTo>
                  <a:pt x="1175554" y="2449195"/>
                </a:lnTo>
                <a:lnTo>
                  <a:pt x="1188256" y="2457450"/>
                </a:lnTo>
                <a:lnTo>
                  <a:pt x="1201593" y="2464753"/>
                </a:lnTo>
                <a:lnTo>
                  <a:pt x="1215565" y="2471738"/>
                </a:lnTo>
                <a:lnTo>
                  <a:pt x="1229219" y="2478088"/>
                </a:lnTo>
                <a:lnTo>
                  <a:pt x="1243826" y="2483485"/>
                </a:lnTo>
                <a:lnTo>
                  <a:pt x="1258116" y="2488565"/>
                </a:lnTo>
                <a:lnTo>
                  <a:pt x="1273358" y="2492693"/>
                </a:lnTo>
                <a:lnTo>
                  <a:pt x="1288283" y="2495868"/>
                </a:lnTo>
                <a:lnTo>
                  <a:pt x="1295904" y="2496820"/>
                </a:lnTo>
                <a:lnTo>
                  <a:pt x="1303842" y="2498090"/>
                </a:lnTo>
                <a:lnTo>
                  <a:pt x="1311781" y="2499043"/>
                </a:lnTo>
                <a:lnTo>
                  <a:pt x="1319720" y="2499678"/>
                </a:lnTo>
                <a:lnTo>
                  <a:pt x="1327658" y="2499995"/>
                </a:lnTo>
                <a:lnTo>
                  <a:pt x="1335597" y="2500630"/>
                </a:lnTo>
                <a:lnTo>
                  <a:pt x="1347981" y="2500630"/>
                </a:lnTo>
                <a:lnTo>
                  <a:pt x="1360048" y="2499678"/>
                </a:lnTo>
                <a:lnTo>
                  <a:pt x="1371797" y="2499043"/>
                </a:lnTo>
                <a:lnTo>
                  <a:pt x="1383229" y="2498090"/>
                </a:lnTo>
                <a:lnTo>
                  <a:pt x="1394660" y="2496185"/>
                </a:lnTo>
                <a:lnTo>
                  <a:pt x="1405457" y="2494280"/>
                </a:lnTo>
                <a:lnTo>
                  <a:pt x="1416254" y="2491740"/>
                </a:lnTo>
                <a:lnTo>
                  <a:pt x="1427050" y="2489200"/>
                </a:lnTo>
                <a:lnTo>
                  <a:pt x="1437529" y="2486343"/>
                </a:lnTo>
                <a:lnTo>
                  <a:pt x="1447691" y="2483168"/>
                </a:lnTo>
                <a:lnTo>
                  <a:pt x="1457217" y="2479358"/>
                </a:lnTo>
                <a:lnTo>
                  <a:pt x="1467061" y="2475230"/>
                </a:lnTo>
                <a:lnTo>
                  <a:pt x="1476587" y="2471103"/>
                </a:lnTo>
                <a:lnTo>
                  <a:pt x="1485479" y="2466658"/>
                </a:lnTo>
                <a:lnTo>
                  <a:pt x="1494370" y="2461578"/>
                </a:lnTo>
                <a:lnTo>
                  <a:pt x="1503261" y="2456498"/>
                </a:lnTo>
                <a:lnTo>
                  <a:pt x="1511517" y="2450783"/>
                </a:lnTo>
                <a:lnTo>
                  <a:pt x="1520409" y="2445068"/>
                </a:lnTo>
                <a:lnTo>
                  <a:pt x="1528347" y="2439353"/>
                </a:lnTo>
                <a:lnTo>
                  <a:pt x="1536286" y="2433003"/>
                </a:lnTo>
                <a:lnTo>
                  <a:pt x="1543907" y="2426335"/>
                </a:lnTo>
                <a:lnTo>
                  <a:pt x="1551528" y="2419668"/>
                </a:lnTo>
                <a:lnTo>
                  <a:pt x="1558832" y="2412365"/>
                </a:lnTo>
                <a:lnTo>
                  <a:pt x="1566135" y="2405063"/>
                </a:lnTo>
                <a:lnTo>
                  <a:pt x="1573121" y="2397760"/>
                </a:lnTo>
                <a:lnTo>
                  <a:pt x="1580107" y="2390140"/>
                </a:lnTo>
                <a:lnTo>
                  <a:pt x="1586776" y="2381885"/>
                </a:lnTo>
                <a:lnTo>
                  <a:pt x="1593444" y="2373948"/>
                </a:lnTo>
                <a:lnTo>
                  <a:pt x="1599478" y="2365375"/>
                </a:lnTo>
                <a:lnTo>
                  <a:pt x="1605828" y="2357120"/>
                </a:lnTo>
                <a:lnTo>
                  <a:pt x="1611544" y="2347913"/>
                </a:lnTo>
                <a:lnTo>
                  <a:pt x="1617895" y="2339023"/>
                </a:lnTo>
                <a:lnTo>
                  <a:pt x="1629327" y="2320608"/>
                </a:lnTo>
                <a:lnTo>
                  <a:pt x="1640123" y="2301558"/>
                </a:lnTo>
                <a:lnTo>
                  <a:pt x="1650285" y="2281873"/>
                </a:lnTo>
                <a:lnTo>
                  <a:pt x="1660129" y="2261870"/>
                </a:lnTo>
                <a:lnTo>
                  <a:pt x="1669655" y="2241233"/>
                </a:lnTo>
                <a:lnTo>
                  <a:pt x="1678546" y="2219960"/>
                </a:lnTo>
                <a:lnTo>
                  <a:pt x="1687120" y="2198370"/>
                </a:lnTo>
                <a:lnTo>
                  <a:pt x="1695376" y="2176463"/>
                </a:lnTo>
                <a:lnTo>
                  <a:pt x="1703315" y="2154555"/>
                </a:lnTo>
                <a:lnTo>
                  <a:pt x="1710936" y="2132330"/>
                </a:lnTo>
                <a:lnTo>
                  <a:pt x="1718557" y="2110105"/>
                </a:lnTo>
                <a:lnTo>
                  <a:pt x="1725543" y="2087245"/>
                </a:lnTo>
                <a:lnTo>
                  <a:pt x="1739833" y="2042478"/>
                </a:lnTo>
                <a:lnTo>
                  <a:pt x="1752852" y="1997393"/>
                </a:lnTo>
                <a:lnTo>
                  <a:pt x="1764601" y="1958340"/>
                </a:lnTo>
                <a:lnTo>
                  <a:pt x="1776350" y="1920240"/>
                </a:lnTo>
                <a:lnTo>
                  <a:pt x="1788100" y="1883093"/>
                </a:lnTo>
                <a:lnTo>
                  <a:pt x="1794450" y="1864995"/>
                </a:lnTo>
                <a:lnTo>
                  <a:pt x="1800802" y="1847850"/>
                </a:lnTo>
                <a:lnTo>
                  <a:pt x="1806835" y="1830705"/>
                </a:lnTo>
                <a:lnTo>
                  <a:pt x="1813821" y="1814195"/>
                </a:lnTo>
                <a:lnTo>
                  <a:pt x="1820172" y="1798320"/>
                </a:lnTo>
                <a:lnTo>
                  <a:pt x="1827475" y="1783080"/>
                </a:lnTo>
                <a:lnTo>
                  <a:pt x="1834461" y="1768475"/>
                </a:lnTo>
                <a:lnTo>
                  <a:pt x="1842082" y="1754505"/>
                </a:lnTo>
                <a:lnTo>
                  <a:pt x="1849704" y="1741170"/>
                </a:lnTo>
                <a:lnTo>
                  <a:pt x="1857960" y="1728470"/>
                </a:lnTo>
                <a:lnTo>
                  <a:pt x="1864946" y="1718628"/>
                </a:lnTo>
                <a:lnTo>
                  <a:pt x="1871614" y="1709103"/>
                </a:lnTo>
                <a:lnTo>
                  <a:pt x="1878918" y="1699578"/>
                </a:lnTo>
                <a:lnTo>
                  <a:pt x="1885586" y="1691005"/>
                </a:lnTo>
                <a:lnTo>
                  <a:pt x="1892890" y="1682433"/>
                </a:lnTo>
                <a:lnTo>
                  <a:pt x="1899558" y="1674495"/>
                </a:lnTo>
                <a:lnTo>
                  <a:pt x="1906862" y="1666557"/>
                </a:lnTo>
                <a:lnTo>
                  <a:pt x="1914165" y="1659572"/>
                </a:lnTo>
                <a:lnTo>
                  <a:pt x="1920834" y="1652270"/>
                </a:lnTo>
                <a:lnTo>
                  <a:pt x="1928137" y="1645285"/>
                </a:lnTo>
                <a:lnTo>
                  <a:pt x="1935441" y="1638935"/>
                </a:lnTo>
                <a:lnTo>
                  <a:pt x="1942109" y="1632902"/>
                </a:lnTo>
                <a:lnTo>
                  <a:pt x="1949413" y="1627187"/>
                </a:lnTo>
                <a:lnTo>
                  <a:pt x="1956081" y="1621790"/>
                </a:lnTo>
                <a:lnTo>
                  <a:pt x="1970053" y="1611312"/>
                </a:lnTo>
                <a:lnTo>
                  <a:pt x="1983708" y="1602105"/>
                </a:lnTo>
                <a:lnTo>
                  <a:pt x="1997680" y="1594485"/>
                </a:lnTo>
                <a:lnTo>
                  <a:pt x="2010699" y="1587182"/>
                </a:lnTo>
                <a:lnTo>
                  <a:pt x="2024036" y="1581150"/>
                </a:lnTo>
                <a:lnTo>
                  <a:pt x="2036738" y="1575752"/>
                </a:lnTo>
                <a:lnTo>
                  <a:pt x="2049440" y="1571307"/>
                </a:lnTo>
                <a:lnTo>
                  <a:pt x="2061506" y="1567497"/>
                </a:lnTo>
                <a:lnTo>
                  <a:pt x="2073256" y="1564640"/>
                </a:lnTo>
                <a:lnTo>
                  <a:pt x="2085005" y="1562100"/>
                </a:lnTo>
                <a:lnTo>
                  <a:pt x="2096119" y="1560195"/>
                </a:lnTo>
                <a:lnTo>
                  <a:pt x="2106598" y="1559242"/>
                </a:lnTo>
                <a:lnTo>
                  <a:pt x="2116442" y="1557972"/>
                </a:lnTo>
                <a:lnTo>
                  <a:pt x="2125968" y="1557655"/>
                </a:lnTo>
                <a:lnTo>
                  <a:pt x="2134860" y="1557655"/>
                </a:lnTo>
                <a:lnTo>
                  <a:pt x="2143116" y="1557972"/>
                </a:lnTo>
                <a:lnTo>
                  <a:pt x="2150737" y="1558290"/>
                </a:lnTo>
                <a:lnTo>
                  <a:pt x="2157723" y="1559242"/>
                </a:lnTo>
                <a:lnTo>
                  <a:pt x="2162839" y="1559781"/>
                </a:lnTo>
                <a:lnTo>
                  <a:pt x="2167906" y="1548627"/>
                </a:lnTo>
                <a:lnTo>
                  <a:pt x="2174894" y="1534961"/>
                </a:lnTo>
                <a:lnTo>
                  <a:pt x="2182518" y="1521930"/>
                </a:lnTo>
                <a:lnTo>
                  <a:pt x="2190777" y="1508900"/>
                </a:lnTo>
                <a:lnTo>
                  <a:pt x="2199354" y="1496822"/>
                </a:lnTo>
                <a:lnTo>
                  <a:pt x="2208566" y="1484745"/>
                </a:lnTo>
                <a:lnTo>
                  <a:pt x="2218731" y="1473304"/>
                </a:lnTo>
                <a:lnTo>
                  <a:pt x="2229214" y="1462498"/>
                </a:lnTo>
                <a:lnTo>
                  <a:pt x="2240015" y="1452010"/>
                </a:lnTo>
                <a:lnTo>
                  <a:pt x="2251450" y="1442157"/>
                </a:lnTo>
                <a:lnTo>
                  <a:pt x="2263204" y="1432623"/>
                </a:lnTo>
                <a:lnTo>
                  <a:pt x="2275593" y="1424042"/>
                </a:lnTo>
                <a:lnTo>
                  <a:pt x="2288617" y="1415778"/>
                </a:lnTo>
                <a:lnTo>
                  <a:pt x="2301958" y="1408151"/>
                </a:lnTo>
                <a:lnTo>
                  <a:pt x="2315300" y="1401158"/>
                </a:lnTo>
                <a:lnTo>
                  <a:pt x="2329277" y="1394802"/>
                </a:lnTo>
                <a:lnTo>
                  <a:pt x="2343572" y="1389081"/>
                </a:lnTo>
                <a:lnTo>
                  <a:pt x="2358184" y="1383996"/>
                </a:lnTo>
                <a:lnTo>
                  <a:pt x="2373114" y="1380182"/>
                </a:lnTo>
                <a:lnTo>
                  <a:pt x="2388680" y="1376686"/>
                </a:lnTo>
                <a:lnTo>
                  <a:pt x="2403927" y="1373508"/>
                </a:lnTo>
                <a:lnTo>
                  <a:pt x="2419493" y="1371919"/>
                </a:lnTo>
                <a:lnTo>
                  <a:pt x="2435693" y="1370330"/>
                </a:lnTo>
                <a:lnTo>
                  <a:pt x="2451894" y="1370012"/>
                </a:lnTo>
                <a:lnTo>
                  <a:pt x="2468095" y="1370330"/>
                </a:lnTo>
                <a:lnTo>
                  <a:pt x="2484295" y="1371919"/>
                </a:lnTo>
                <a:lnTo>
                  <a:pt x="2499861" y="1373508"/>
                </a:lnTo>
                <a:lnTo>
                  <a:pt x="2515426" y="1376686"/>
                </a:lnTo>
                <a:lnTo>
                  <a:pt x="2530674" y="1380182"/>
                </a:lnTo>
                <a:lnTo>
                  <a:pt x="2545286" y="1383996"/>
                </a:lnTo>
                <a:lnTo>
                  <a:pt x="2560216" y="1389081"/>
                </a:lnTo>
                <a:lnTo>
                  <a:pt x="2574511" y="1394802"/>
                </a:lnTo>
                <a:lnTo>
                  <a:pt x="2588488" y="1401158"/>
                </a:lnTo>
                <a:lnTo>
                  <a:pt x="2601830" y="1408151"/>
                </a:lnTo>
                <a:lnTo>
                  <a:pt x="2615171" y="1415778"/>
                </a:lnTo>
                <a:lnTo>
                  <a:pt x="2628195" y="1424042"/>
                </a:lnTo>
                <a:lnTo>
                  <a:pt x="2640267" y="1432623"/>
                </a:lnTo>
                <a:lnTo>
                  <a:pt x="2652338" y="1442157"/>
                </a:lnTo>
                <a:lnTo>
                  <a:pt x="2663773" y="1452010"/>
                </a:lnTo>
                <a:lnTo>
                  <a:pt x="2674574" y="1462498"/>
                </a:lnTo>
                <a:lnTo>
                  <a:pt x="2685057" y="1473304"/>
                </a:lnTo>
                <a:lnTo>
                  <a:pt x="2694904" y="1484745"/>
                </a:lnTo>
                <a:lnTo>
                  <a:pt x="2704434" y="1496822"/>
                </a:lnTo>
                <a:lnTo>
                  <a:pt x="2713011" y="1508900"/>
                </a:lnTo>
                <a:lnTo>
                  <a:pt x="2721270" y="1521930"/>
                </a:lnTo>
                <a:lnTo>
                  <a:pt x="2728894" y="1534961"/>
                </a:lnTo>
                <a:lnTo>
                  <a:pt x="2735565" y="1548627"/>
                </a:lnTo>
                <a:lnTo>
                  <a:pt x="2742236" y="1562611"/>
                </a:lnTo>
                <a:lnTo>
                  <a:pt x="2747953" y="1576913"/>
                </a:lnTo>
                <a:lnTo>
                  <a:pt x="2752718" y="1591533"/>
                </a:lnTo>
                <a:lnTo>
                  <a:pt x="2756848" y="1606471"/>
                </a:lnTo>
                <a:lnTo>
                  <a:pt x="2760660" y="1621726"/>
                </a:lnTo>
                <a:lnTo>
                  <a:pt x="2763519" y="1636981"/>
                </a:lnTo>
                <a:lnTo>
                  <a:pt x="2765107" y="1652872"/>
                </a:lnTo>
                <a:lnTo>
                  <a:pt x="2766695" y="1669081"/>
                </a:lnTo>
                <a:lnTo>
                  <a:pt x="2767013" y="1685290"/>
                </a:lnTo>
                <a:lnTo>
                  <a:pt x="2766695" y="1701499"/>
                </a:lnTo>
                <a:lnTo>
                  <a:pt x="2765107" y="1717390"/>
                </a:lnTo>
                <a:lnTo>
                  <a:pt x="2763519" y="1733281"/>
                </a:lnTo>
                <a:lnTo>
                  <a:pt x="2760660" y="1748854"/>
                </a:lnTo>
                <a:lnTo>
                  <a:pt x="2756848" y="1764110"/>
                </a:lnTo>
                <a:lnTo>
                  <a:pt x="2752718" y="1779047"/>
                </a:lnTo>
                <a:lnTo>
                  <a:pt x="2747953" y="1793667"/>
                </a:lnTo>
                <a:lnTo>
                  <a:pt x="2742236" y="1807969"/>
                </a:lnTo>
                <a:lnTo>
                  <a:pt x="2735565" y="1821635"/>
                </a:lnTo>
                <a:lnTo>
                  <a:pt x="2728894" y="1835619"/>
                </a:lnTo>
                <a:lnTo>
                  <a:pt x="2721270" y="1848650"/>
                </a:lnTo>
                <a:lnTo>
                  <a:pt x="2713011" y="1861363"/>
                </a:lnTo>
                <a:lnTo>
                  <a:pt x="2704434" y="1874075"/>
                </a:lnTo>
                <a:lnTo>
                  <a:pt x="2694904" y="1885835"/>
                </a:lnTo>
                <a:lnTo>
                  <a:pt x="2685057" y="1896959"/>
                </a:lnTo>
                <a:lnTo>
                  <a:pt x="2674574" y="1908082"/>
                </a:lnTo>
                <a:lnTo>
                  <a:pt x="2663773" y="1918570"/>
                </a:lnTo>
                <a:lnTo>
                  <a:pt x="2652338" y="1928423"/>
                </a:lnTo>
                <a:lnTo>
                  <a:pt x="2640267" y="1937640"/>
                </a:lnTo>
                <a:lnTo>
                  <a:pt x="2628195" y="1946538"/>
                </a:lnTo>
                <a:lnTo>
                  <a:pt x="2615171" y="1955120"/>
                </a:lnTo>
                <a:lnTo>
                  <a:pt x="2601830" y="1962430"/>
                </a:lnTo>
                <a:lnTo>
                  <a:pt x="2588488" y="1969422"/>
                </a:lnTo>
                <a:lnTo>
                  <a:pt x="2574511" y="1975778"/>
                </a:lnTo>
                <a:lnTo>
                  <a:pt x="2560216" y="1981181"/>
                </a:lnTo>
                <a:lnTo>
                  <a:pt x="2545286" y="1986266"/>
                </a:lnTo>
                <a:lnTo>
                  <a:pt x="2530674" y="1990716"/>
                </a:lnTo>
                <a:lnTo>
                  <a:pt x="2515426" y="1994212"/>
                </a:lnTo>
                <a:lnTo>
                  <a:pt x="2499861" y="1996754"/>
                </a:lnTo>
                <a:lnTo>
                  <a:pt x="2484295" y="1998979"/>
                </a:lnTo>
                <a:lnTo>
                  <a:pt x="2468095" y="1999932"/>
                </a:lnTo>
                <a:lnTo>
                  <a:pt x="2451894" y="2000250"/>
                </a:lnTo>
                <a:lnTo>
                  <a:pt x="2435693" y="1999932"/>
                </a:lnTo>
                <a:lnTo>
                  <a:pt x="2419493" y="1998979"/>
                </a:lnTo>
                <a:lnTo>
                  <a:pt x="2403927" y="1996754"/>
                </a:lnTo>
                <a:lnTo>
                  <a:pt x="2388680" y="1994212"/>
                </a:lnTo>
                <a:lnTo>
                  <a:pt x="2373114" y="1990716"/>
                </a:lnTo>
                <a:lnTo>
                  <a:pt x="2358184" y="1986266"/>
                </a:lnTo>
                <a:lnTo>
                  <a:pt x="2343572" y="1981181"/>
                </a:lnTo>
                <a:lnTo>
                  <a:pt x="2329277" y="1975778"/>
                </a:lnTo>
                <a:lnTo>
                  <a:pt x="2315300" y="1969422"/>
                </a:lnTo>
                <a:lnTo>
                  <a:pt x="2301958" y="1962430"/>
                </a:lnTo>
                <a:lnTo>
                  <a:pt x="2288617" y="1955120"/>
                </a:lnTo>
                <a:lnTo>
                  <a:pt x="2275593" y="1946538"/>
                </a:lnTo>
                <a:lnTo>
                  <a:pt x="2263204" y="1937640"/>
                </a:lnTo>
                <a:lnTo>
                  <a:pt x="2251450" y="1928423"/>
                </a:lnTo>
                <a:lnTo>
                  <a:pt x="2240015" y="1918570"/>
                </a:lnTo>
                <a:lnTo>
                  <a:pt x="2229214" y="1908082"/>
                </a:lnTo>
                <a:lnTo>
                  <a:pt x="2218731" y="1896959"/>
                </a:lnTo>
                <a:lnTo>
                  <a:pt x="2208566" y="1885835"/>
                </a:lnTo>
                <a:lnTo>
                  <a:pt x="2199354" y="1874075"/>
                </a:lnTo>
                <a:lnTo>
                  <a:pt x="2190777" y="1861363"/>
                </a:lnTo>
                <a:lnTo>
                  <a:pt x="2182518" y="1848650"/>
                </a:lnTo>
                <a:lnTo>
                  <a:pt x="2174894" y="1835619"/>
                </a:lnTo>
                <a:lnTo>
                  <a:pt x="2167906" y="1821635"/>
                </a:lnTo>
                <a:lnTo>
                  <a:pt x="2161553" y="1807969"/>
                </a:lnTo>
                <a:lnTo>
                  <a:pt x="2155835" y="1793667"/>
                </a:lnTo>
                <a:lnTo>
                  <a:pt x="2151070" y="1779047"/>
                </a:lnTo>
                <a:lnTo>
                  <a:pt x="2146940" y="1764110"/>
                </a:lnTo>
                <a:lnTo>
                  <a:pt x="2143128" y="1748854"/>
                </a:lnTo>
                <a:lnTo>
                  <a:pt x="2140269" y="1733281"/>
                </a:lnTo>
                <a:lnTo>
                  <a:pt x="2138363" y="1717390"/>
                </a:lnTo>
                <a:lnTo>
                  <a:pt x="2137093" y="1701499"/>
                </a:lnTo>
                <a:lnTo>
                  <a:pt x="2136775" y="1685290"/>
                </a:lnTo>
                <a:lnTo>
                  <a:pt x="2137093" y="1669081"/>
                </a:lnTo>
                <a:lnTo>
                  <a:pt x="2138363" y="1652872"/>
                </a:lnTo>
                <a:lnTo>
                  <a:pt x="2140269" y="1636981"/>
                </a:lnTo>
                <a:lnTo>
                  <a:pt x="2140522" y="1635629"/>
                </a:lnTo>
                <a:lnTo>
                  <a:pt x="2137718" y="1635442"/>
                </a:lnTo>
                <a:lnTo>
                  <a:pt x="2126603" y="1635442"/>
                </a:lnTo>
                <a:lnTo>
                  <a:pt x="2120252" y="1635760"/>
                </a:lnTo>
                <a:lnTo>
                  <a:pt x="2113584" y="1636395"/>
                </a:lnTo>
                <a:lnTo>
                  <a:pt x="2106598" y="1637030"/>
                </a:lnTo>
                <a:lnTo>
                  <a:pt x="2098977" y="1638617"/>
                </a:lnTo>
                <a:lnTo>
                  <a:pt x="2091038" y="1640522"/>
                </a:lnTo>
                <a:lnTo>
                  <a:pt x="2082782" y="1642427"/>
                </a:lnTo>
                <a:lnTo>
                  <a:pt x="2074208" y="1644967"/>
                </a:lnTo>
                <a:lnTo>
                  <a:pt x="2065000" y="1648142"/>
                </a:lnTo>
                <a:lnTo>
                  <a:pt x="2056108" y="1652270"/>
                </a:lnTo>
                <a:lnTo>
                  <a:pt x="2046899" y="1656715"/>
                </a:lnTo>
                <a:lnTo>
                  <a:pt x="2037055" y="1661477"/>
                </a:lnTo>
                <a:lnTo>
                  <a:pt x="2026894" y="1667192"/>
                </a:lnTo>
                <a:lnTo>
                  <a:pt x="2017050" y="1673860"/>
                </a:lnTo>
                <a:lnTo>
                  <a:pt x="2006889" y="1681163"/>
                </a:lnTo>
                <a:lnTo>
                  <a:pt x="1996410" y="1689418"/>
                </a:lnTo>
                <a:lnTo>
                  <a:pt x="1985931" y="1698308"/>
                </a:lnTo>
                <a:lnTo>
                  <a:pt x="1975452" y="1707833"/>
                </a:lnTo>
                <a:lnTo>
                  <a:pt x="1965290" y="1718628"/>
                </a:lnTo>
                <a:lnTo>
                  <a:pt x="1954494" y="1730693"/>
                </a:lnTo>
                <a:lnTo>
                  <a:pt x="1943697" y="1743710"/>
                </a:lnTo>
                <a:lnTo>
                  <a:pt x="1932900" y="1757680"/>
                </a:lnTo>
                <a:lnTo>
                  <a:pt x="1922422" y="1772285"/>
                </a:lnTo>
                <a:lnTo>
                  <a:pt x="1915436" y="1783080"/>
                </a:lnTo>
                <a:lnTo>
                  <a:pt x="1908767" y="1794510"/>
                </a:lnTo>
                <a:lnTo>
                  <a:pt x="1902098" y="1806893"/>
                </a:lnTo>
                <a:lnTo>
                  <a:pt x="1895748" y="1820228"/>
                </a:lnTo>
                <a:lnTo>
                  <a:pt x="1889714" y="1833880"/>
                </a:lnTo>
                <a:lnTo>
                  <a:pt x="1883998" y="1848485"/>
                </a:lnTo>
                <a:lnTo>
                  <a:pt x="1877648" y="1863725"/>
                </a:lnTo>
                <a:lnTo>
                  <a:pt x="1871932" y="1879600"/>
                </a:lnTo>
                <a:lnTo>
                  <a:pt x="1866216" y="1895793"/>
                </a:lnTo>
                <a:lnTo>
                  <a:pt x="1860818" y="1912303"/>
                </a:lnTo>
                <a:lnTo>
                  <a:pt x="1849704" y="1946593"/>
                </a:lnTo>
                <a:lnTo>
                  <a:pt x="1838589" y="1982788"/>
                </a:lnTo>
                <a:lnTo>
                  <a:pt x="1827793" y="2019618"/>
                </a:lnTo>
                <a:lnTo>
                  <a:pt x="1813503" y="2066925"/>
                </a:lnTo>
                <a:lnTo>
                  <a:pt x="1798579" y="2115185"/>
                </a:lnTo>
                <a:lnTo>
                  <a:pt x="1790640" y="2139633"/>
                </a:lnTo>
                <a:lnTo>
                  <a:pt x="1782701" y="2163445"/>
                </a:lnTo>
                <a:lnTo>
                  <a:pt x="1774128" y="2187893"/>
                </a:lnTo>
                <a:lnTo>
                  <a:pt x="1765554" y="2212023"/>
                </a:lnTo>
                <a:lnTo>
                  <a:pt x="1756345" y="2235835"/>
                </a:lnTo>
                <a:lnTo>
                  <a:pt x="1746501" y="2259648"/>
                </a:lnTo>
                <a:lnTo>
                  <a:pt x="1736340" y="2282825"/>
                </a:lnTo>
                <a:lnTo>
                  <a:pt x="1725543" y="2306003"/>
                </a:lnTo>
                <a:lnTo>
                  <a:pt x="1714429" y="2328228"/>
                </a:lnTo>
                <a:lnTo>
                  <a:pt x="1702680" y="2350135"/>
                </a:lnTo>
                <a:lnTo>
                  <a:pt x="1696011" y="2360930"/>
                </a:lnTo>
                <a:lnTo>
                  <a:pt x="1689978" y="2371725"/>
                </a:lnTo>
                <a:lnTo>
                  <a:pt x="1683627" y="2382203"/>
                </a:lnTo>
                <a:lnTo>
                  <a:pt x="1676641" y="2392363"/>
                </a:lnTo>
                <a:lnTo>
                  <a:pt x="1669973" y="2402205"/>
                </a:lnTo>
                <a:lnTo>
                  <a:pt x="1662669" y="2412365"/>
                </a:lnTo>
                <a:lnTo>
                  <a:pt x="1655366" y="2422208"/>
                </a:lnTo>
                <a:lnTo>
                  <a:pt x="1648380" y="2431415"/>
                </a:lnTo>
                <a:lnTo>
                  <a:pt x="1640441" y="2440940"/>
                </a:lnTo>
                <a:lnTo>
                  <a:pt x="1632820" y="2449830"/>
                </a:lnTo>
                <a:lnTo>
                  <a:pt x="1624564" y="2458720"/>
                </a:lnTo>
                <a:lnTo>
                  <a:pt x="1616307" y="2467293"/>
                </a:lnTo>
                <a:lnTo>
                  <a:pt x="1608051" y="2475548"/>
                </a:lnTo>
                <a:lnTo>
                  <a:pt x="1599478" y="2483485"/>
                </a:lnTo>
                <a:lnTo>
                  <a:pt x="1590586" y="2491423"/>
                </a:lnTo>
                <a:lnTo>
                  <a:pt x="1581060" y="2499043"/>
                </a:lnTo>
                <a:lnTo>
                  <a:pt x="1571851" y="2506345"/>
                </a:lnTo>
                <a:lnTo>
                  <a:pt x="1562007" y="2513013"/>
                </a:lnTo>
                <a:lnTo>
                  <a:pt x="1552163" y="2519998"/>
                </a:lnTo>
                <a:lnTo>
                  <a:pt x="1542319" y="2526030"/>
                </a:lnTo>
                <a:lnTo>
                  <a:pt x="1531840" y="2532063"/>
                </a:lnTo>
                <a:lnTo>
                  <a:pt x="1521044" y="2537778"/>
                </a:lnTo>
                <a:lnTo>
                  <a:pt x="1510247" y="2543175"/>
                </a:lnTo>
                <a:lnTo>
                  <a:pt x="1499133" y="2547938"/>
                </a:lnTo>
                <a:lnTo>
                  <a:pt x="1487701" y="2552700"/>
                </a:lnTo>
                <a:lnTo>
                  <a:pt x="1475635" y="2556828"/>
                </a:lnTo>
                <a:lnTo>
                  <a:pt x="1463886" y="2560955"/>
                </a:lnTo>
                <a:lnTo>
                  <a:pt x="1451501" y="2564448"/>
                </a:lnTo>
                <a:lnTo>
                  <a:pt x="1439117" y="2567623"/>
                </a:lnTo>
                <a:lnTo>
                  <a:pt x="1426098" y="2570480"/>
                </a:lnTo>
                <a:lnTo>
                  <a:pt x="1412761" y="2572703"/>
                </a:lnTo>
                <a:lnTo>
                  <a:pt x="1399106" y="2574925"/>
                </a:lnTo>
                <a:lnTo>
                  <a:pt x="1385452" y="2576513"/>
                </a:lnTo>
                <a:lnTo>
                  <a:pt x="1371480" y="2577465"/>
                </a:lnTo>
                <a:lnTo>
                  <a:pt x="1356555" y="2578100"/>
                </a:lnTo>
                <a:lnTo>
                  <a:pt x="1341948" y="2578100"/>
                </a:lnTo>
                <a:lnTo>
                  <a:pt x="1334327" y="2578100"/>
                </a:lnTo>
                <a:lnTo>
                  <a:pt x="1324165" y="2578100"/>
                </a:lnTo>
                <a:lnTo>
                  <a:pt x="1314322" y="2577465"/>
                </a:lnTo>
                <a:lnTo>
                  <a:pt x="1304478" y="2576830"/>
                </a:lnTo>
                <a:lnTo>
                  <a:pt x="1294951" y="2575560"/>
                </a:lnTo>
                <a:lnTo>
                  <a:pt x="1285107" y="2574290"/>
                </a:lnTo>
                <a:lnTo>
                  <a:pt x="1275898" y="2572703"/>
                </a:lnTo>
                <a:lnTo>
                  <a:pt x="1266372" y="2571115"/>
                </a:lnTo>
                <a:lnTo>
                  <a:pt x="1257163" y="2568893"/>
                </a:lnTo>
                <a:lnTo>
                  <a:pt x="1247637" y="2566670"/>
                </a:lnTo>
                <a:lnTo>
                  <a:pt x="1238746" y="2564130"/>
                </a:lnTo>
                <a:lnTo>
                  <a:pt x="1229854" y="2561273"/>
                </a:lnTo>
                <a:lnTo>
                  <a:pt x="1220646" y="2558415"/>
                </a:lnTo>
                <a:lnTo>
                  <a:pt x="1212072" y="2555240"/>
                </a:lnTo>
                <a:lnTo>
                  <a:pt x="1203498" y="2552065"/>
                </a:lnTo>
                <a:lnTo>
                  <a:pt x="1194924" y="2548255"/>
                </a:lnTo>
                <a:lnTo>
                  <a:pt x="1186351" y="2544445"/>
                </a:lnTo>
                <a:lnTo>
                  <a:pt x="1178094" y="2540318"/>
                </a:lnTo>
                <a:lnTo>
                  <a:pt x="1169521" y="2536190"/>
                </a:lnTo>
                <a:lnTo>
                  <a:pt x="1161264" y="2531745"/>
                </a:lnTo>
                <a:lnTo>
                  <a:pt x="1153008" y="2526983"/>
                </a:lnTo>
                <a:lnTo>
                  <a:pt x="1137449" y="2517458"/>
                </a:lnTo>
                <a:lnTo>
                  <a:pt x="1121889" y="2506980"/>
                </a:lnTo>
                <a:lnTo>
                  <a:pt x="1106647" y="2495868"/>
                </a:lnTo>
                <a:lnTo>
                  <a:pt x="1092040" y="2484120"/>
                </a:lnTo>
                <a:lnTo>
                  <a:pt x="1077750" y="2471420"/>
                </a:lnTo>
                <a:lnTo>
                  <a:pt x="1063460" y="2458403"/>
                </a:lnTo>
                <a:lnTo>
                  <a:pt x="1049806" y="2444750"/>
                </a:lnTo>
                <a:lnTo>
                  <a:pt x="1036469" y="2430780"/>
                </a:lnTo>
                <a:lnTo>
                  <a:pt x="1023767" y="2415858"/>
                </a:lnTo>
                <a:lnTo>
                  <a:pt x="1011065" y="2400935"/>
                </a:lnTo>
                <a:lnTo>
                  <a:pt x="998999" y="2385378"/>
                </a:lnTo>
                <a:lnTo>
                  <a:pt x="986932" y="2369503"/>
                </a:lnTo>
                <a:lnTo>
                  <a:pt x="975500" y="2352993"/>
                </a:lnTo>
                <a:lnTo>
                  <a:pt x="964386" y="2336483"/>
                </a:lnTo>
                <a:lnTo>
                  <a:pt x="953272" y="2319655"/>
                </a:lnTo>
                <a:lnTo>
                  <a:pt x="942793" y="2302510"/>
                </a:lnTo>
                <a:lnTo>
                  <a:pt x="932632" y="2284730"/>
                </a:lnTo>
                <a:lnTo>
                  <a:pt x="922470" y="2266633"/>
                </a:lnTo>
                <a:lnTo>
                  <a:pt x="913261" y="2249170"/>
                </a:lnTo>
                <a:lnTo>
                  <a:pt x="904052" y="2230755"/>
                </a:lnTo>
                <a:lnTo>
                  <a:pt x="894844" y="2212975"/>
                </a:lnTo>
                <a:lnTo>
                  <a:pt x="886270" y="2194560"/>
                </a:lnTo>
                <a:lnTo>
                  <a:pt x="878014" y="2176145"/>
                </a:lnTo>
                <a:lnTo>
                  <a:pt x="870075" y="2157413"/>
                </a:lnTo>
                <a:lnTo>
                  <a:pt x="862136" y="2138998"/>
                </a:lnTo>
                <a:lnTo>
                  <a:pt x="854515" y="2120900"/>
                </a:lnTo>
                <a:lnTo>
                  <a:pt x="847529" y="2102485"/>
                </a:lnTo>
                <a:lnTo>
                  <a:pt x="840543" y="2084388"/>
                </a:lnTo>
                <a:lnTo>
                  <a:pt x="827524" y="2048193"/>
                </a:lnTo>
                <a:lnTo>
                  <a:pt x="816092" y="2012950"/>
                </a:lnTo>
                <a:lnTo>
                  <a:pt x="805296" y="1978660"/>
                </a:lnTo>
                <a:lnTo>
                  <a:pt x="795769" y="1945640"/>
                </a:lnTo>
                <a:lnTo>
                  <a:pt x="786561" y="1914525"/>
                </a:lnTo>
                <a:lnTo>
                  <a:pt x="779257" y="1884680"/>
                </a:lnTo>
                <a:lnTo>
                  <a:pt x="772271" y="1856423"/>
                </a:lnTo>
                <a:lnTo>
                  <a:pt x="766238" y="1831023"/>
                </a:lnTo>
                <a:lnTo>
                  <a:pt x="761157" y="1807845"/>
                </a:lnTo>
                <a:lnTo>
                  <a:pt x="757029" y="1787843"/>
                </a:lnTo>
                <a:lnTo>
                  <a:pt x="753536" y="1770698"/>
                </a:lnTo>
                <a:lnTo>
                  <a:pt x="749408" y="1746250"/>
                </a:lnTo>
                <a:lnTo>
                  <a:pt x="739246" y="1742758"/>
                </a:lnTo>
                <a:lnTo>
                  <a:pt x="728767" y="1738948"/>
                </a:lnTo>
                <a:lnTo>
                  <a:pt x="718288" y="1734503"/>
                </a:lnTo>
                <a:lnTo>
                  <a:pt x="707492" y="1729423"/>
                </a:lnTo>
                <a:lnTo>
                  <a:pt x="697013" y="1724025"/>
                </a:lnTo>
                <a:lnTo>
                  <a:pt x="686216" y="1718628"/>
                </a:lnTo>
                <a:lnTo>
                  <a:pt x="675102" y="1712595"/>
                </a:lnTo>
                <a:lnTo>
                  <a:pt x="664306" y="1706245"/>
                </a:lnTo>
                <a:lnTo>
                  <a:pt x="653509" y="1699260"/>
                </a:lnTo>
                <a:lnTo>
                  <a:pt x="642395" y="1692275"/>
                </a:lnTo>
                <a:lnTo>
                  <a:pt x="620802" y="1677352"/>
                </a:lnTo>
                <a:lnTo>
                  <a:pt x="599209" y="1661477"/>
                </a:lnTo>
                <a:lnTo>
                  <a:pt x="577933" y="1645285"/>
                </a:lnTo>
                <a:lnTo>
                  <a:pt x="557293" y="1628775"/>
                </a:lnTo>
                <a:lnTo>
                  <a:pt x="536970" y="1612265"/>
                </a:lnTo>
                <a:lnTo>
                  <a:pt x="517917" y="1595755"/>
                </a:lnTo>
                <a:lnTo>
                  <a:pt x="500134" y="1579562"/>
                </a:lnTo>
                <a:lnTo>
                  <a:pt x="482987" y="1564005"/>
                </a:lnTo>
                <a:lnTo>
                  <a:pt x="467745" y="1549717"/>
                </a:lnTo>
                <a:lnTo>
                  <a:pt x="441071" y="1524317"/>
                </a:lnTo>
                <a:lnTo>
                  <a:pt x="419795" y="1502727"/>
                </a:lnTo>
                <a:lnTo>
                  <a:pt x="398520" y="1480820"/>
                </a:lnTo>
                <a:lnTo>
                  <a:pt x="377562" y="1458277"/>
                </a:lnTo>
                <a:lnTo>
                  <a:pt x="356604" y="1435417"/>
                </a:lnTo>
                <a:lnTo>
                  <a:pt x="335963" y="1411922"/>
                </a:lnTo>
                <a:lnTo>
                  <a:pt x="315323" y="1388427"/>
                </a:lnTo>
                <a:lnTo>
                  <a:pt x="295000" y="1363980"/>
                </a:lnTo>
                <a:lnTo>
                  <a:pt x="275312" y="1339532"/>
                </a:lnTo>
                <a:lnTo>
                  <a:pt x="255624" y="1314132"/>
                </a:lnTo>
                <a:lnTo>
                  <a:pt x="236572" y="1289050"/>
                </a:lnTo>
                <a:lnTo>
                  <a:pt x="217836" y="1263650"/>
                </a:lnTo>
                <a:lnTo>
                  <a:pt x="199419" y="1237932"/>
                </a:lnTo>
                <a:lnTo>
                  <a:pt x="181636" y="1212215"/>
                </a:lnTo>
                <a:lnTo>
                  <a:pt x="164489" y="1185862"/>
                </a:lnTo>
                <a:lnTo>
                  <a:pt x="147976" y="1159827"/>
                </a:lnTo>
                <a:lnTo>
                  <a:pt x="131781" y="1133792"/>
                </a:lnTo>
                <a:lnTo>
                  <a:pt x="116539" y="1107440"/>
                </a:lnTo>
                <a:lnTo>
                  <a:pt x="102250" y="1081087"/>
                </a:lnTo>
                <a:lnTo>
                  <a:pt x="88595" y="1055052"/>
                </a:lnTo>
                <a:lnTo>
                  <a:pt x="75576" y="1029017"/>
                </a:lnTo>
                <a:lnTo>
                  <a:pt x="63509" y="1003300"/>
                </a:lnTo>
                <a:lnTo>
                  <a:pt x="52713" y="977265"/>
                </a:lnTo>
                <a:lnTo>
                  <a:pt x="42234" y="951547"/>
                </a:lnTo>
                <a:lnTo>
                  <a:pt x="37470" y="938847"/>
                </a:lnTo>
                <a:lnTo>
                  <a:pt x="33342" y="926147"/>
                </a:lnTo>
                <a:lnTo>
                  <a:pt x="28897" y="913765"/>
                </a:lnTo>
                <a:lnTo>
                  <a:pt x="25086" y="901065"/>
                </a:lnTo>
                <a:lnTo>
                  <a:pt x="21276" y="888365"/>
                </a:lnTo>
                <a:lnTo>
                  <a:pt x="18100" y="876300"/>
                </a:lnTo>
                <a:lnTo>
                  <a:pt x="14925" y="863917"/>
                </a:lnTo>
                <a:lnTo>
                  <a:pt x="12067" y="851852"/>
                </a:lnTo>
                <a:lnTo>
                  <a:pt x="9526" y="839470"/>
                </a:lnTo>
                <a:lnTo>
                  <a:pt x="7304" y="827722"/>
                </a:lnTo>
                <a:lnTo>
                  <a:pt x="5081" y="815975"/>
                </a:lnTo>
                <a:lnTo>
                  <a:pt x="3811" y="803910"/>
                </a:lnTo>
                <a:lnTo>
                  <a:pt x="2223" y="792480"/>
                </a:lnTo>
                <a:lnTo>
                  <a:pt x="1270" y="781050"/>
                </a:lnTo>
                <a:lnTo>
                  <a:pt x="635" y="769620"/>
                </a:lnTo>
                <a:lnTo>
                  <a:pt x="0" y="758190"/>
                </a:lnTo>
                <a:lnTo>
                  <a:pt x="0" y="746760"/>
                </a:lnTo>
                <a:lnTo>
                  <a:pt x="635" y="735965"/>
                </a:lnTo>
                <a:lnTo>
                  <a:pt x="1588" y="718185"/>
                </a:lnTo>
                <a:lnTo>
                  <a:pt x="3175" y="700405"/>
                </a:lnTo>
                <a:lnTo>
                  <a:pt x="5081" y="683260"/>
                </a:lnTo>
                <a:lnTo>
                  <a:pt x="7621" y="666115"/>
                </a:lnTo>
                <a:lnTo>
                  <a:pt x="10479" y="649605"/>
                </a:lnTo>
                <a:lnTo>
                  <a:pt x="13972" y="633412"/>
                </a:lnTo>
                <a:lnTo>
                  <a:pt x="17465" y="617855"/>
                </a:lnTo>
                <a:lnTo>
                  <a:pt x="21276" y="602297"/>
                </a:lnTo>
                <a:lnTo>
                  <a:pt x="25721" y="586740"/>
                </a:lnTo>
                <a:lnTo>
                  <a:pt x="30802" y="572135"/>
                </a:lnTo>
                <a:lnTo>
                  <a:pt x="35883" y="557530"/>
                </a:lnTo>
                <a:lnTo>
                  <a:pt x="41281" y="543560"/>
                </a:lnTo>
                <a:lnTo>
                  <a:pt x="46997" y="529907"/>
                </a:lnTo>
                <a:lnTo>
                  <a:pt x="52713" y="516572"/>
                </a:lnTo>
                <a:lnTo>
                  <a:pt x="59063" y="503237"/>
                </a:lnTo>
                <a:lnTo>
                  <a:pt x="65732" y="490855"/>
                </a:lnTo>
                <a:lnTo>
                  <a:pt x="72400" y="478155"/>
                </a:lnTo>
                <a:lnTo>
                  <a:pt x="79386" y="466407"/>
                </a:lnTo>
                <a:lnTo>
                  <a:pt x="86372" y="454342"/>
                </a:lnTo>
                <a:lnTo>
                  <a:pt x="93994" y="442912"/>
                </a:lnTo>
                <a:lnTo>
                  <a:pt x="101615" y="431800"/>
                </a:lnTo>
                <a:lnTo>
                  <a:pt x="109553" y="421005"/>
                </a:lnTo>
                <a:lnTo>
                  <a:pt x="117174" y="410527"/>
                </a:lnTo>
                <a:lnTo>
                  <a:pt x="125431" y="400685"/>
                </a:lnTo>
                <a:lnTo>
                  <a:pt x="133369" y="390842"/>
                </a:lnTo>
                <a:lnTo>
                  <a:pt x="141625" y="381000"/>
                </a:lnTo>
                <a:lnTo>
                  <a:pt x="149882" y="371792"/>
                </a:lnTo>
                <a:lnTo>
                  <a:pt x="158455" y="362902"/>
                </a:lnTo>
                <a:lnTo>
                  <a:pt x="166711" y="354012"/>
                </a:lnTo>
                <a:lnTo>
                  <a:pt x="175285" y="345757"/>
                </a:lnTo>
                <a:lnTo>
                  <a:pt x="183541" y="337502"/>
                </a:lnTo>
                <a:lnTo>
                  <a:pt x="192115" y="330200"/>
                </a:lnTo>
                <a:lnTo>
                  <a:pt x="208945" y="314959"/>
                </a:lnTo>
                <a:lnTo>
                  <a:pt x="226093" y="301625"/>
                </a:lnTo>
                <a:lnTo>
                  <a:pt x="242605" y="288925"/>
                </a:lnTo>
                <a:lnTo>
                  <a:pt x="258800" y="277495"/>
                </a:lnTo>
                <a:lnTo>
                  <a:pt x="272357" y="268175"/>
                </a:lnTo>
                <a:lnTo>
                  <a:pt x="271149" y="257634"/>
                </a:lnTo>
                <a:lnTo>
                  <a:pt x="270193" y="246530"/>
                </a:lnTo>
                <a:lnTo>
                  <a:pt x="269875" y="234791"/>
                </a:lnTo>
                <a:lnTo>
                  <a:pt x="270193" y="223686"/>
                </a:lnTo>
                <a:lnTo>
                  <a:pt x="271149" y="212582"/>
                </a:lnTo>
                <a:lnTo>
                  <a:pt x="272422" y="201477"/>
                </a:lnTo>
                <a:lnTo>
                  <a:pt x="274651" y="190690"/>
                </a:lnTo>
                <a:lnTo>
                  <a:pt x="277199" y="179903"/>
                </a:lnTo>
                <a:lnTo>
                  <a:pt x="280064" y="169433"/>
                </a:lnTo>
                <a:lnTo>
                  <a:pt x="283567" y="158963"/>
                </a:lnTo>
                <a:lnTo>
                  <a:pt x="287388" y="149127"/>
                </a:lnTo>
                <a:lnTo>
                  <a:pt x="291846" y="139292"/>
                </a:lnTo>
                <a:lnTo>
                  <a:pt x="296622" y="130091"/>
                </a:lnTo>
                <a:lnTo>
                  <a:pt x="302035" y="120573"/>
                </a:lnTo>
                <a:lnTo>
                  <a:pt x="307766" y="111689"/>
                </a:lnTo>
                <a:lnTo>
                  <a:pt x="313816" y="103123"/>
                </a:lnTo>
                <a:lnTo>
                  <a:pt x="320821" y="94874"/>
                </a:lnTo>
                <a:lnTo>
                  <a:pt x="327508" y="86942"/>
                </a:lnTo>
                <a:lnTo>
                  <a:pt x="334831" y="79010"/>
                </a:lnTo>
                <a:lnTo>
                  <a:pt x="342792" y="71713"/>
                </a:lnTo>
                <a:lnTo>
                  <a:pt x="350752" y="65050"/>
                </a:lnTo>
                <a:lnTo>
                  <a:pt x="359031" y="58071"/>
                </a:lnTo>
                <a:lnTo>
                  <a:pt x="367628" y="52042"/>
                </a:lnTo>
                <a:lnTo>
                  <a:pt x="376543" y="46331"/>
                </a:lnTo>
                <a:lnTo>
                  <a:pt x="386096" y="41255"/>
                </a:lnTo>
                <a:lnTo>
                  <a:pt x="395330" y="36179"/>
                </a:lnTo>
                <a:lnTo>
                  <a:pt x="405201" y="31737"/>
                </a:lnTo>
                <a:lnTo>
                  <a:pt x="415072" y="27930"/>
                </a:lnTo>
                <a:lnTo>
                  <a:pt x="425579" y="24440"/>
                </a:lnTo>
                <a:lnTo>
                  <a:pt x="436087" y="21584"/>
                </a:lnTo>
                <a:lnTo>
                  <a:pt x="446913" y="19046"/>
                </a:lnTo>
                <a:lnTo>
                  <a:pt x="457739" y="16825"/>
                </a:lnTo>
                <a:lnTo>
                  <a:pt x="468883" y="15556"/>
                </a:lnTo>
                <a:lnTo>
                  <a:pt x="480028" y="14604"/>
                </a:lnTo>
                <a:lnTo>
                  <a:pt x="491172" y="14287"/>
                </a:lnTo>
                <a:lnTo>
                  <a:pt x="502635" y="14604"/>
                </a:lnTo>
                <a:lnTo>
                  <a:pt x="514098" y="15556"/>
                </a:lnTo>
                <a:lnTo>
                  <a:pt x="525243" y="16825"/>
                </a:lnTo>
                <a:lnTo>
                  <a:pt x="536069" y="19046"/>
                </a:lnTo>
                <a:lnTo>
                  <a:pt x="546895" y="21584"/>
                </a:lnTo>
                <a:lnTo>
                  <a:pt x="557402" y="24440"/>
                </a:lnTo>
                <a:lnTo>
                  <a:pt x="567273" y="27930"/>
                </a:lnTo>
                <a:lnTo>
                  <a:pt x="577462" y="31737"/>
                </a:lnTo>
                <a:lnTo>
                  <a:pt x="587333" y="36179"/>
                </a:lnTo>
                <a:lnTo>
                  <a:pt x="596886" y="41255"/>
                </a:lnTo>
                <a:lnTo>
                  <a:pt x="606438" y="46331"/>
                </a:lnTo>
                <a:lnTo>
                  <a:pt x="615354" y="52042"/>
                </a:lnTo>
                <a:lnTo>
                  <a:pt x="623951" y="58071"/>
                </a:lnTo>
                <a:lnTo>
                  <a:pt x="632229" y="65050"/>
                </a:lnTo>
                <a:lnTo>
                  <a:pt x="640190" y="71713"/>
                </a:lnTo>
                <a:lnTo>
                  <a:pt x="647832" y="79010"/>
                </a:lnTo>
                <a:lnTo>
                  <a:pt x="655474" y="86942"/>
                </a:lnTo>
                <a:lnTo>
                  <a:pt x="662160" y="94874"/>
                </a:lnTo>
                <a:lnTo>
                  <a:pt x="668529" y="103123"/>
                </a:lnTo>
                <a:lnTo>
                  <a:pt x="674897" y="111689"/>
                </a:lnTo>
                <a:lnTo>
                  <a:pt x="680628" y="120573"/>
                </a:lnTo>
                <a:lnTo>
                  <a:pt x="686041" y="130091"/>
                </a:lnTo>
                <a:lnTo>
                  <a:pt x="691136" y="139292"/>
                </a:lnTo>
                <a:lnTo>
                  <a:pt x="695275" y="149127"/>
                </a:lnTo>
                <a:lnTo>
                  <a:pt x="699415" y="158963"/>
                </a:lnTo>
                <a:lnTo>
                  <a:pt x="702917" y="169433"/>
                </a:lnTo>
                <a:lnTo>
                  <a:pt x="705783" y="179903"/>
                </a:lnTo>
                <a:lnTo>
                  <a:pt x="708330" y="190690"/>
                </a:lnTo>
                <a:lnTo>
                  <a:pt x="710241" y="201477"/>
                </a:lnTo>
                <a:lnTo>
                  <a:pt x="711514" y="212582"/>
                </a:lnTo>
                <a:lnTo>
                  <a:pt x="712151" y="223686"/>
                </a:lnTo>
                <a:lnTo>
                  <a:pt x="712788" y="234791"/>
                </a:lnTo>
                <a:lnTo>
                  <a:pt x="712151" y="246530"/>
                </a:lnTo>
                <a:lnTo>
                  <a:pt x="711514" y="257634"/>
                </a:lnTo>
                <a:lnTo>
                  <a:pt x="710241" y="268739"/>
                </a:lnTo>
                <a:lnTo>
                  <a:pt x="708330" y="279526"/>
                </a:lnTo>
                <a:lnTo>
                  <a:pt x="705783" y="290313"/>
                </a:lnTo>
                <a:lnTo>
                  <a:pt x="702917" y="300783"/>
                </a:lnTo>
                <a:lnTo>
                  <a:pt x="699415" y="310619"/>
                </a:lnTo>
                <a:lnTo>
                  <a:pt x="695275" y="320771"/>
                </a:lnTo>
                <a:lnTo>
                  <a:pt x="691136" y="330607"/>
                </a:lnTo>
                <a:lnTo>
                  <a:pt x="686041" y="340125"/>
                </a:lnTo>
                <a:lnTo>
                  <a:pt x="680628" y="349643"/>
                </a:lnTo>
                <a:lnTo>
                  <a:pt x="674897" y="358527"/>
                </a:lnTo>
                <a:lnTo>
                  <a:pt x="668529" y="367093"/>
                </a:lnTo>
                <a:lnTo>
                  <a:pt x="662160" y="375342"/>
                </a:lnTo>
                <a:lnTo>
                  <a:pt x="655474" y="383274"/>
                </a:lnTo>
                <a:lnTo>
                  <a:pt x="647832" y="390889"/>
                </a:lnTo>
                <a:lnTo>
                  <a:pt x="640190" y="398503"/>
                </a:lnTo>
                <a:lnTo>
                  <a:pt x="632229" y="405166"/>
                </a:lnTo>
                <a:lnTo>
                  <a:pt x="623951" y="411511"/>
                </a:lnTo>
                <a:lnTo>
                  <a:pt x="615354" y="417857"/>
                </a:lnTo>
                <a:lnTo>
                  <a:pt x="606438" y="423568"/>
                </a:lnTo>
                <a:lnTo>
                  <a:pt x="596886" y="428961"/>
                </a:lnTo>
                <a:lnTo>
                  <a:pt x="587333" y="434038"/>
                </a:lnTo>
                <a:lnTo>
                  <a:pt x="577462" y="438162"/>
                </a:lnTo>
                <a:lnTo>
                  <a:pt x="567273" y="442287"/>
                </a:lnTo>
                <a:lnTo>
                  <a:pt x="557402" y="445777"/>
                </a:lnTo>
                <a:lnTo>
                  <a:pt x="546895" y="448632"/>
                </a:lnTo>
                <a:lnTo>
                  <a:pt x="536069" y="451170"/>
                </a:lnTo>
                <a:lnTo>
                  <a:pt x="525243" y="453074"/>
                </a:lnTo>
                <a:lnTo>
                  <a:pt x="514098" y="454343"/>
                </a:lnTo>
                <a:lnTo>
                  <a:pt x="502635" y="455295"/>
                </a:lnTo>
                <a:lnTo>
                  <a:pt x="491172" y="455612"/>
                </a:lnTo>
                <a:lnTo>
                  <a:pt x="480028" y="455295"/>
                </a:lnTo>
                <a:lnTo>
                  <a:pt x="468883" y="454343"/>
                </a:lnTo>
                <a:lnTo>
                  <a:pt x="457739" y="453074"/>
                </a:lnTo>
                <a:lnTo>
                  <a:pt x="446913" y="451170"/>
                </a:lnTo>
                <a:lnTo>
                  <a:pt x="436087" y="448632"/>
                </a:lnTo>
                <a:lnTo>
                  <a:pt x="425579" y="445777"/>
                </a:lnTo>
                <a:lnTo>
                  <a:pt x="415072" y="442287"/>
                </a:lnTo>
                <a:lnTo>
                  <a:pt x="405201" y="438162"/>
                </a:lnTo>
                <a:lnTo>
                  <a:pt x="395330" y="434038"/>
                </a:lnTo>
                <a:lnTo>
                  <a:pt x="386096" y="428961"/>
                </a:lnTo>
                <a:lnTo>
                  <a:pt x="376543" y="423568"/>
                </a:lnTo>
                <a:lnTo>
                  <a:pt x="367628" y="417857"/>
                </a:lnTo>
                <a:lnTo>
                  <a:pt x="359031" y="411511"/>
                </a:lnTo>
                <a:lnTo>
                  <a:pt x="350752" y="405166"/>
                </a:lnTo>
                <a:lnTo>
                  <a:pt x="342792" y="398503"/>
                </a:lnTo>
                <a:lnTo>
                  <a:pt x="334831" y="390889"/>
                </a:lnTo>
                <a:lnTo>
                  <a:pt x="327508" y="383274"/>
                </a:lnTo>
                <a:lnTo>
                  <a:pt x="320821" y="375342"/>
                </a:lnTo>
                <a:lnTo>
                  <a:pt x="313816" y="367093"/>
                </a:lnTo>
                <a:lnTo>
                  <a:pt x="307766" y="358527"/>
                </a:lnTo>
                <a:lnTo>
                  <a:pt x="302035" y="349643"/>
                </a:lnTo>
                <a:lnTo>
                  <a:pt x="298339" y="343145"/>
                </a:lnTo>
                <a:lnTo>
                  <a:pt x="296905" y="344170"/>
                </a:lnTo>
                <a:lnTo>
                  <a:pt x="283251" y="353695"/>
                </a:lnTo>
                <a:lnTo>
                  <a:pt x="268644" y="364807"/>
                </a:lnTo>
                <a:lnTo>
                  <a:pt x="254672" y="376555"/>
                </a:lnTo>
                <a:lnTo>
                  <a:pt x="240382" y="389255"/>
                </a:lnTo>
                <a:lnTo>
                  <a:pt x="225775" y="402907"/>
                </a:lnTo>
                <a:lnTo>
                  <a:pt x="211485" y="417830"/>
                </a:lnTo>
                <a:lnTo>
                  <a:pt x="204499" y="425450"/>
                </a:lnTo>
                <a:lnTo>
                  <a:pt x="197196" y="433705"/>
                </a:lnTo>
                <a:lnTo>
                  <a:pt x="190527" y="441642"/>
                </a:lnTo>
                <a:lnTo>
                  <a:pt x="183541" y="450215"/>
                </a:lnTo>
                <a:lnTo>
                  <a:pt x="176873" y="458787"/>
                </a:lnTo>
                <a:lnTo>
                  <a:pt x="169887" y="467995"/>
                </a:lnTo>
                <a:lnTo>
                  <a:pt x="163536" y="477202"/>
                </a:lnTo>
                <a:lnTo>
                  <a:pt x="156868" y="486727"/>
                </a:lnTo>
                <a:lnTo>
                  <a:pt x="150834" y="496570"/>
                </a:lnTo>
                <a:lnTo>
                  <a:pt x="144801" y="507047"/>
                </a:lnTo>
                <a:lnTo>
                  <a:pt x="139085" y="517525"/>
                </a:lnTo>
                <a:lnTo>
                  <a:pt x="133369" y="527685"/>
                </a:lnTo>
                <a:lnTo>
                  <a:pt x="127971" y="539115"/>
                </a:lnTo>
                <a:lnTo>
                  <a:pt x="122573" y="550227"/>
                </a:lnTo>
                <a:lnTo>
                  <a:pt x="117492" y="561657"/>
                </a:lnTo>
                <a:lnTo>
                  <a:pt x="112729" y="573405"/>
                </a:lnTo>
                <a:lnTo>
                  <a:pt x="107966" y="585787"/>
                </a:lnTo>
                <a:lnTo>
                  <a:pt x="103837" y="597852"/>
                </a:lnTo>
                <a:lnTo>
                  <a:pt x="99709" y="610870"/>
                </a:lnTo>
                <a:lnTo>
                  <a:pt x="96216" y="623887"/>
                </a:lnTo>
                <a:lnTo>
                  <a:pt x="92723" y="637222"/>
                </a:lnTo>
                <a:lnTo>
                  <a:pt x="89230" y="650875"/>
                </a:lnTo>
                <a:lnTo>
                  <a:pt x="86690" y="664845"/>
                </a:lnTo>
                <a:lnTo>
                  <a:pt x="84467" y="679132"/>
                </a:lnTo>
                <a:lnTo>
                  <a:pt x="82244" y="693737"/>
                </a:lnTo>
                <a:lnTo>
                  <a:pt x="80657" y="708660"/>
                </a:lnTo>
                <a:lnTo>
                  <a:pt x="79386" y="723900"/>
                </a:lnTo>
                <a:lnTo>
                  <a:pt x="78434" y="739140"/>
                </a:lnTo>
                <a:lnTo>
                  <a:pt x="78116" y="751840"/>
                </a:lnTo>
                <a:lnTo>
                  <a:pt x="78434" y="764857"/>
                </a:lnTo>
                <a:lnTo>
                  <a:pt x="79386" y="777875"/>
                </a:lnTo>
                <a:lnTo>
                  <a:pt x="80339" y="790892"/>
                </a:lnTo>
                <a:lnTo>
                  <a:pt x="82244" y="804227"/>
                </a:lnTo>
                <a:lnTo>
                  <a:pt x="84467" y="817880"/>
                </a:lnTo>
                <a:lnTo>
                  <a:pt x="87325" y="832167"/>
                </a:lnTo>
                <a:lnTo>
                  <a:pt x="90501" y="846137"/>
                </a:lnTo>
                <a:lnTo>
                  <a:pt x="93994" y="860425"/>
                </a:lnTo>
                <a:lnTo>
                  <a:pt x="98122" y="874712"/>
                </a:lnTo>
                <a:lnTo>
                  <a:pt x="102567" y="889317"/>
                </a:lnTo>
                <a:lnTo>
                  <a:pt x="107648" y="903922"/>
                </a:lnTo>
                <a:lnTo>
                  <a:pt x="112729" y="918845"/>
                </a:lnTo>
                <a:lnTo>
                  <a:pt x="118445" y="933450"/>
                </a:lnTo>
                <a:lnTo>
                  <a:pt x="124478" y="948690"/>
                </a:lnTo>
                <a:lnTo>
                  <a:pt x="131146" y="963612"/>
                </a:lnTo>
                <a:lnTo>
                  <a:pt x="137815" y="979170"/>
                </a:lnTo>
                <a:lnTo>
                  <a:pt x="145118" y="994092"/>
                </a:lnTo>
                <a:lnTo>
                  <a:pt x="152739" y="1009650"/>
                </a:lnTo>
                <a:lnTo>
                  <a:pt x="160678" y="1025207"/>
                </a:lnTo>
                <a:lnTo>
                  <a:pt x="168934" y="1040447"/>
                </a:lnTo>
                <a:lnTo>
                  <a:pt x="177190" y="1056005"/>
                </a:lnTo>
                <a:lnTo>
                  <a:pt x="186082" y="1071562"/>
                </a:lnTo>
                <a:lnTo>
                  <a:pt x="194973" y="1087120"/>
                </a:lnTo>
                <a:lnTo>
                  <a:pt x="204499" y="1102677"/>
                </a:lnTo>
                <a:lnTo>
                  <a:pt x="213708" y="1118235"/>
                </a:lnTo>
                <a:lnTo>
                  <a:pt x="233396" y="1149032"/>
                </a:lnTo>
                <a:lnTo>
                  <a:pt x="254354" y="1180147"/>
                </a:lnTo>
                <a:lnTo>
                  <a:pt x="275947" y="1210945"/>
                </a:lnTo>
                <a:lnTo>
                  <a:pt x="279123" y="1209992"/>
                </a:lnTo>
                <a:lnTo>
                  <a:pt x="282616" y="1209357"/>
                </a:lnTo>
                <a:lnTo>
                  <a:pt x="286109" y="1208405"/>
                </a:lnTo>
                <a:lnTo>
                  <a:pt x="289602" y="1208405"/>
                </a:lnTo>
                <a:lnTo>
                  <a:pt x="1358778" y="1208405"/>
                </a:lnTo>
                <a:lnTo>
                  <a:pt x="1379418" y="1181100"/>
                </a:lnTo>
                <a:lnTo>
                  <a:pt x="1399106" y="1153477"/>
                </a:lnTo>
                <a:lnTo>
                  <a:pt x="1418159" y="1125855"/>
                </a:lnTo>
                <a:lnTo>
                  <a:pt x="1436259" y="1098232"/>
                </a:lnTo>
                <a:lnTo>
                  <a:pt x="1444833" y="1084580"/>
                </a:lnTo>
                <a:lnTo>
                  <a:pt x="1453089" y="1070292"/>
                </a:lnTo>
                <a:lnTo>
                  <a:pt x="1461345" y="1056640"/>
                </a:lnTo>
                <a:lnTo>
                  <a:pt x="1469284" y="1042670"/>
                </a:lnTo>
                <a:lnTo>
                  <a:pt x="1476905" y="1029017"/>
                </a:lnTo>
                <a:lnTo>
                  <a:pt x="1483891" y="1015365"/>
                </a:lnTo>
                <a:lnTo>
                  <a:pt x="1490877" y="1001395"/>
                </a:lnTo>
                <a:lnTo>
                  <a:pt x="1497228" y="987742"/>
                </a:lnTo>
                <a:lnTo>
                  <a:pt x="1503261" y="974407"/>
                </a:lnTo>
                <a:lnTo>
                  <a:pt x="1509612" y="960755"/>
                </a:lnTo>
                <a:lnTo>
                  <a:pt x="1515010" y="947102"/>
                </a:lnTo>
                <a:lnTo>
                  <a:pt x="1520091" y="933767"/>
                </a:lnTo>
                <a:lnTo>
                  <a:pt x="1524537" y="920432"/>
                </a:lnTo>
                <a:lnTo>
                  <a:pt x="1528982" y="907097"/>
                </a:lnTo>
                <a:lnTo>
                  <a:pt x="1533110" y="893762"/>
                </a:lnTo>
                <a:lnTo>
                  <a:pt x="1536604" y="881062"/>
                </a:lnTo>
                <a:lnTo>
                  <a:pt x="1539779" y="868045"/>
                </a:lnTo>
                <a:lnTo>
                  <a:pt x="1542637" y="855027"/>
                </a:lnTo>
                <a:lnTo>
                  <a:pt x="1544860" y="842327"/>
                </a:lnTo>
                <a:lnTo>
                  <a:pt x="1546447" y="829945"/>
                </a:lnTo>
                <a:lnTo>
                  <a:pt x="1548035" y="817245"/>
                </a:lnTo>
                <a:lnTo>
                  <a:pt x="1548670" y="805180"/>
                </a:lnTo>
                <a:lnTo>
                  <a:pt x="1549305" y="792797"/>
                </a:lnTo>
                <a:lnTo>
                  <a:pt x="1548988" y="781050"/>
                </a:lnTo>
                <a:lnTo>
                  <a:pt x="1548670" y="765175"/>
                </a:lnTo>
                <a:lnTo>
                  <a:pt x="1547718" y="749935"/>
                </a:lnTo>
                <a:lnTo>
                  <a:pt x="1546130" y="735012"/>
                </a:lnTo>
                <a:lnTo>
                  <a:pt x="1544542" y="719772"/>
                </a:lnTo>
                <a:lnTo>
                  <a:pt x="1542319" y="705485"/>
                </a:lnTo>
                <a:lnTo>
                  <a:pt x="1539779" y="691197"/>
                </a:lnTo>
                <a:lnTo>
                  <a:pt x="1537238" y="676592"/>
                </a:lnTo>
                <a:lnTo>
                  <a:pt x="1534063" y="662940"/>
                </a:lnTo>
                <a:lnTo>
                  <a:pt x="1530252" y="649287"/>
                </a:lnTo>
                <a:lnTo>
                  <a:pt x="1526760" y="635952"/>
                </a:lnTo>
                <a:lnTo>
                  <a:pt x="1522949" y="623252"/>
                </a:lnTo>
                <a:lnTo>
                  <a:pt x="1518503" y="610235"/>
                </a:lnTo>
                <a:lnTo>
                  <a:pt x="1513740" y="597535"/>
                </a:lnTo>
                <a:lnTo>
                  <a:pt x="1508660" y="585470"/>
                </a:lnTo>
                <a:lnTo>
                  <a:pt x="1503896" y="573087"/>
                </a:lnTo>
                <a:lnTo>
                  <a:pt x="1498498" y="561340"/>
                </a:lnTo>
                <a:lnTo>
                  <a:pt x="1492465" y="549910"/>
                </a:lnTo>
                <a:lnTo>
                  <a:pt x="1486749" y="538162"/>
                </a:lnTo>
                <a:lnTo>
                  <a:pt x="1480715" y="527050"/>
                </a:lnTo>
                <a:lnTo>
                  <a:pt x="1474682" y="516255"/>
                </a:lnTo>
                <a:lnTo>
                  <a:pt x="1468014" y="505460"/>
                </a:lnTo>
                <a:lnTo>
                  <a:pt x="1461663" y="494982"/>
                </a:lnTo>
                <a:lnTo>
                  <a:pt x="1454994" y="485140"/>
                </a:lnTo>
                <a:lnTo>
                  <a:pt x="1447691" y="475297"/>
                </a:lnTo>
                <a:lnTo>
                  <a:pt x="1440705" y="465772"/>
                </a:lnTo>
                <a:lnTo>
                  <a:pt x="1433401" y="455930"/>
                </a:lnTo>
                <a:lnTo>
                  <a:pt x="1426098" y="447040"/>
                </a:lnTo>
                <a:lnTo>
                  <a:pt x="1418476" y="437832"/>
                </a:lnTo>
                <a:lnTo>
                  <a:pt x="1410855" y="428942"/>
                </a:lnTo>
                <a:lnTo>
                  <a:pt x="1402917" y="420370"/>
                </a:lnTo>
                <a:lnTo>
                  <a:pt x="1395296" y="412115"/>
                </a:lnTo>
                <a:lnTo>
                  <a:pt x="1387357" y="404177"/>
                </a:lnTo>
                <a:lnTo>
                  <a:pt x="1371480" y="388302"/>
                </a:lnTo>
                <a:lnTo>
                  <a:pt x="1355285" y="374015"/>
                </a:lnTo>
                <a:lnTo>
                  <a:pt x="1338772" y="360045"/>
                </a:lnTo>
                <a:lnTo>
                  <a:pt x="1322260" y="347027"/>
                </a:lnTo>
                <a:lnTo>
                  <a:pt x="1306065" y="334962"/>
                </a:lnTo>
                <a:lnTo>
                  <a:pt x="1289870" y="323850"/>
                </a:lnTo>
                <a:lnTo>
                  <a:pt x="1273676" y="313372"/>
                </a:lnTo>
                <a:lnTo>
                  <a:pt x="1262693" y="306783"/>
                </a:lnTo>
                <a:lnTo>
                  <a:pt x="1262392" y="307587"/>
                </a:lnTo>
                <a:lnTo>
                  <a:pt x="1257633" y="317458"/>
                </a:lnTo>
                <a:lnTo>
                  <a:pt x="1252874" y="327011"/>
                </a:lnTo>
                <a:lnTo>
                  <a:pt x="1247481" y="336563"/>
                </a:lnTo>
                <a:lnTo>
                  <a:pt x="1241770" y="345160"/>
                </a:lnTo>
                <a:lnTo>
                  <a:pt x="1235742" y="353757"/>
                </a:lnTo>
                <a:lnTo>
                  <a:pt x="1229079" y="362354"/>
                </a:lnTo>
                <a:lnTo>
                  <a:pt x="1222416" y="370315"/>
                </a:lnTo>
                <a:lnTo>
                  <a:pt x="1214802" y="377957"/>
                </a:lnTo>
                <a:lnTo>
                  <a:pt x="1207187" y="385599"/>
                </a:lnTo>
                <a:lnTo>
                  <a:pt x="1199255" y="392285"/>
                </a:lnTo>
                <a:lnTo>
                  <a:pt x="1190689" y="398972"/>
                </a:lnTo>
                <a:lnTo>
                  <a:pt x="1182123" y="405022"/>
                </a:lnTo>
                <a:lnTo>
                  <a:pt x="1173239" y="410753"/>
                </a:lnTo>
                <a:lnTo>
                  <a:pt x="1164038" y="416166"/>
                </a:lnTo>
                <a:lnTo>
                  <a:pt x="1154520" y="421261"/>
                </a:lnTo>
                <a:lnTo>
                  <a:pt x="1144684" y="425719"/>
                </a:lnTo>
                <a:lnTo>
                  <a:pt x="1134849" y="429540"/>
                </a:lnTo>
                <a:lnTo>
                  <a:pt x="1124696" y="432724"/>
                </a:lnTo>
                <a:lnTo>
                  <a:pt x="1114226" y="435908"/>
                </a:lnTo>
                <a:lnTo>
                  <a:pt x="1103439" y="438455"/>
                </a:lnTo>
                <a:lnTo>
                  <a:pt x="1092652" y="440366"/>
                </a:lnTo>
                <a:lnTo>
                  <a:pt x="1081547" y="441639"/>
                </a:lnTo>
                <a:lnTo>
                  <a:pt x="1070443" y="442595"/>
                </a:lnTo>
                <a:lnTo>
                  <a:pt x="1059021" y="442913"/>
                </a:lnTo>
                <a:lnTo>
                  <a:pt x="1047917" y="442595"/>
                </a:lnTo>
                <a:lnTo>
                  <a:pt x="1036178" y="441639"/>
                </a:lnTo>
                <a:lnTo>
                  <a:pt x="1025390" y="440366"/>
                </a:lnTo>
                <a:lnTo>
                  <a:pt x="1014286" y="438455"/>
                </a:lnTo>
                <a:lnTo>
                  <a:pt x="1003816" y="435908"/>
                </a:lnTo>
                <a:lnTo>
                  <a:pt x="993663" y="432724"/>
                </a:lnTo>
                <a:lnTo>
                  <a:pt x="983193" y="429540"/>
                </a:lnTo>
                <a:lnTo>
                  <a:pt x="973040" y="425719"/>
                </a:lnTo>
                <a:lnTo>
                  <a:pt x="963205" y="421261"/>
                </a:lnTo>
                <a:lnTo>
                  <a:pt x="954004" y="416166"/>
                </a:lnTo>
                <a:lnTo>
                  <a:pt x="944486" y="410753"/>
                </a:lnTo>
                <a:lnTo>
                  <a:pt x="935602" y="405022"/>
                </a:lnTo>
                <a:lnTo>
                  <a:pt x="927036" y="398972"/>
                </a:lnTo>
                <a:lnTo>
                  <a:pt x="918787" y="392285"/>
                </a:lnTo>
                <a:lnTo>
                  <a:pt x="910538" y="385599"/>
                </a:lnTo>
                <a:lnTo>
                  <a:pt x="902923" y="377957"/>
                </a:lnTo>
                <a:lnTo>
                  <a:pt x="895626" y="370315"/>
                </a:lnTo>
                <a:lnTo>
                  <a:pt x="888646" y="362354"/>
                </a:lnTo>
                <a:lnTo>
                  <a:pt x="881984" y="353757"/>
                </a:lnTo>
                <a:lnTo>
                  <a:pt x="875955" y="345160"/>
                </a:lnTo>
                <a:lnTo>
                  <a:pt x="870244" y="336563"/>
                </a:lnTo>
                <a:lnTo>
                  <a:pt x="864851" y="327011"/>
                </a:lnTo>
                <a:lnTo>
                  <a:pt x="860092" y="317458"/>
                </a:lnTo>
                <a:lnTo>
                  <a:pt x="855650" y="307587"/>
                </a:lnTo>
                <a:lnTo>
                  <a:pt x="851843" y="297398"/>
                </a:lnTo>
                <a:lnTo>
                  <a:pt x="848353" y="287527"/>
                </a:lnTo>
                <a:lnTo>
                  <a:pt x="845497" y="277020"/>
                </a:lnTo>
                <a:lnTo>
                  <a:pt x="842959" y="266194"/>
                </a:lnTo>
                <a:lnTo>
                  <a:pt x="840738" y="255367"/>
                </a:lnTo>
                <a:lnTo>
                  <a:pt x="839469" y="244223"/>
                </a:lnTo>
                <a:lnTo>
                  <a:pt x="838517" y="233079"/>
                </a:lnTo>
                <a:lnTo>
                  <a:pt x="838200" y="221616"/>
                </a:lnTo>
                <a:lnTo>
                  <a:pt x="838517" y="210153"/>
                </a:lnTo>
                <a:lnTo>
                  <a:pt x="839469" y="198690"/>
                </a:lnTo>
                <a:lnTo>
                  <a:pt x="840738" y="187864"/>
                </a:lnTo>
                <a:lnTo>
                  <a:pt x="842959" y="176719"/>
                </a:lnTo>
                <a:lnTo>
                  <a:pt x="845497" y="166212"/>
                </a:lnTo>
                <a:lnTo>
                  <a:pt x="848353" y="155704"/>
                </a:lnTo>
                <a:lnTo>
                  <a:pt x="851843" y="145515"/>
                </a:lnTo>
                <a:lnTo>
                  <a:pt x="855650" y="135326"/>
                </a:lnTo>
                <a:lnTo>
                  <a:pt x="860092" y="125455"/>
                </a:lnTo>
                <a:lnTo>
                  <a:pt x="864851" y="116221"/>
                </a:lnTo>
                <a:lnTo>
                  <a:pt x="870244" y="106668"/>
                </a:lnTo>
                <a:lnTo>
                  <a:pt x="875955" y="97753"/>
                </a:lnTo>
                <a:lnTo>
                  <a:pt x="881984" y="89156"/>
                </a:lnTo>
                <a:lnTo>
                  <a:pt x="888646" y="80877"/>
                </a:lnTo>
                <a:lnTo>
                  <a:pt x="895626" y="72598"/>
                </a:lnTo>
                <a:lnTo>
                  <a:pt x="902923" y="64956"/>
                </a:lnTo>
                <a:lnTo>
                  <a:pt x="910538" y="57633"/>
                </a:lnTo>
                <a:lnTo>
                  <a:pt x="918787" y="50946"/>
                </a:lnTo>
                <a:lnTo>
                  <a:pt x="927036" y="43941"/>
                </a:lnTo>
                <a:lnTo>
                  <a:pt x="935602" y="37891"/>
                </a:lnTo>
                <a:lnTo>
                  <a:pt x="944486" y="32160"/>
                </a:lnTo>
                <a:lnTo>
                  <a:pt x="954004" y="26747"/>
                </a:lnTo>
                <a:lnTo>
                  <a:pt x="963205" y="21970"/>
                </a:lnTo>
                <a:lnTo>
                  <a:pt x="973040" y="17831"/>
                </a:lnTo>
                <a:lnTo>
                  <a:pt x="983193" y="13692"/>
                </a:lnTo>
                <a:lnTo>
                  <a:pt x="993663" y="10189"/>
                </a:lnTo>
                <a:lnTo>
                  <a:pt x="1003816" y="7323"/>
                </a:lnTo>
                <a:lnTo>
                  <a:pt x="1014286" y="4776"/>
                </a:lnTo>
                <a:lnTo>
                  <a:pt x="1025390" y="2547"/>
                </a:lnTo>
                <a:lnTo>
                  <a:pt x="1036178" y="1274"/>
                </a:lnTo>
                <a:lnTo>
                  <a:pt x="1047917" y="318"/>
                </a:lnTo>
                <a:lnTo>
                  <a:pt x="1059021" y="0"/>
                </a:lnTo>
                <a:close/>
              </a:path>
            </a:pathLst>
          </a:cu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25" name="矩形 20"/>
          <p:cNvSpPr/>
          <p:nvPr/>
        </p:nvSpPr>
        <p:spPr>
          <a:xfrm>
            <a:off x="1606680" y="120168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26" name="文本框 21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圆角矩形 14"/>
          <p:cNvSpPr/>
          <p:nvPr/>
        </p:nvSpPr>
        <p:spPr>
          <a:xfrm>
            <a:off x="1197000" y="1839960"/>
            <a:ext cx="7010280" cy="2601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28" name="Text Box 2"/>
          <p:cNvSpPr/>
          <p:nvPr/>
        </p:nvSpPr>
        <p:spPr>
          <a:xfrm>
            <a:off x="1549440" y="4948200"/>
            <a:ext cx="63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YOU CAN ENTER YUOR CONTENT HERE YOU CAN ENTER YUOR CONTENT HERE YOU CAN 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29" name="矩形 20"/>
          <p:cNvSpPr/>
          <p:nvPr/>
        </p:nvSpPr>
        <p:spPr>
          <a:xfrm>
            <a:off x="1606680" y="120168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30" name="文本框 21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231" name="图片 1" descr=""/>
          <p:cNvPicPr/>
          <p:nvPr/>
        </p:nvPicPr>
        <p:blipFill>
          <a:blip r:embed="rId1"/>
          <a:stretch/>
        </p:blipFill>
        <p:spPr>
          <a:xfrm>
            <a:off x="3127320" y="1841400"/>
            <a:ext cx="2852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矩形 11"/>
          <p:cNvSpPr/>
          <p:nvPr/>
        </p:nvSpPr>
        <p:spPr>
          <a:xfrm>
            <a:off x="3413160" y="13273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233" name="Rectangle 37" descr=""/>
          <p:cNvPicPr/>
          <p:nvPr/>
        </p:nvPicPr>
        <p:blipFill>
          <a:blip r:embed="rId1"/>
          <a:stretch/>
        </p:blipFill>
        <p:spPr>
          <a:xfrm>
            <a:off x="755640" y="4230720"/>
            <a:ext cx="2584440" cy="1466640"/>
          </a:xfrm>
          <a:prstGeom prst="rect">
            <a:avLst/>
          </a:prstGeom>
          <a:ln w="0">
            <a:noFill/>
          </a:ln>
        </p:spPr>
      </p:pic>
      <p:cxnSp>
        <p:nvCxnSpPr>
          <p:cNvPr id="1234" name="AutoShape 45"/>
          <p:cNvCxnSpPr/>
          <p:nvPr/>
        </p:nvCxnSpPr>
        <p:spPr>
          <a:xfrm flipH="1" flipV="1" rot="5400000">
            <a:off x="1331640" y="1279080"/>
            <a:ext cx="537480" cy="473760"/>
          </a:xfrm>
          <a:prstGeom prst="bentConnector2">
            <a:avLst/>
          </a:prstGeom>
          <a:ln w="25560">
            <a:solidFill>
              <a:srgbClr val="b0b0b0"/>
            </a:solidFill>
            <a:miter/>
            <a:tailEnd len="med" type="triangle" w="med"/>
          </a:ln>
        </p:spPr>
      </p:cxnSp>
      <p:cxnSp>
        <p:nvCxnSpPr>
          <p:cNvPr id="1235" name="AutoShape 46"/>
          <p:cNvCxnSpPr/>
          <p:nvPr/>
        </p:nvCxnSpPr>
        <p:spPr>
          <a:xfrm flipV="1" rot="16200000">
            <a:off x="7422480" y="1348560"/>
            <a:ext cx="537480" cy="321120"/>
          </a:xfrm>
          <a:prstGeom prst="bentConnector2">
            <a:avLst/>
          </a:prstGeom>
          <a:ln w="25560">
            <a:solidFill>
              <a:srgbClr val="b0b0b0"/>
            </a:solidFill>
            <a:miter/>
            <a:tailEnd len="med" type="triangle" w="med"/>
          </a:ln>
        </p:spPr>
      </p:cxnSp>
      <p:sp>
        <p:nvSpPr>
          <p:cNvPr id="1236" name="AutoShape 57"/>
          <p:cNvSpPr/>
          <p:nvPr/>
        </p:nvSpPr>
        <p:spPr>
          <a:xfrm rot="5400000">
            <a:off x="3899520" y="5432760"/>
            <a:ext cx="14292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37" name="AutoShape 58"/>
          <p:cNvSpPr/>
          <p:nvPr/>
        </p:nvSpPr>
        <p:spPr>
          <a:xfrm rot="5400000">
            <a:off x="5729760" y="54331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38" name="Rectangle 59"/>
          <p:cNvSpPr/>
          <p:nvPr/>
        </p:nvSpPr>
        <p:spPr>
          <a:xfrm rot="5400000">
            <a:off x="7571160" y="5433120"/>
            <a:ext cx="14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239" name="Rectangle 37" descr=""/>
          <p:cNvPicPr/>
          <p:nvPr/>
        </p:nvPicPr>
        <p:blipFill>
          <a:blip r:embed="rId2"/>
          <a:stretch/>
        </p:blipFill>
        <p:spPr>
          <a:xfrm>
            <a:off x="3511440" y="4230720"/>
            <a:ext cx="2608200" cy="1466640"/>
          </a:xfrm>
          <a:prstGeom prst="rect">
            <a:avLst/>
          </a:prstGeom>
          <a:ln w="0">
            <a:noFill/>
          </a:ln>
        </p:spPr>
      </p:pic>
      <p:pic>
        <p:nvPicPr>
          <p:cNvPr id="1240" name="Rectangle 37" descr=""/>
          <p:cNvPicPr/>
          <p:nvPr/>
        </p:nvPicPr>
        <p:blipFill>
          <a:blip r:embed="rId3"/>
          <a:stretch/>
        </p:blipFill>
        <p:spPr>
          <a:xfrm>
            <a:off x="6297480" y="4230720"/>
            <a:ext cx="2522520" cy="1466640"/>
          </a:xfrm>
          <a:prstGeom prst="rect">
            <a:avLst/>
          </a:prstGeom>
          <a:ln w="0">
            <a:noFill/>
          </a:ln>
        </p:spPr>
      </p:pic>
      <p:sp>
        <p:nvSpPr>
          <p:cNvPr id="1241" name="矩形 21"/>
          <p:cNvSpPr/>
          <p:nvPr/>
        </p:nvSpPr>
        <p:spPr>
          <a:xfrm>
            <a:off x="919080" y="4859280"/>
            <a:ext cx="23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42" name="矩形 22"/>
          <p:cNvSpPr/>
          <p:nvPr/>
        </p:nvSpPr>
        <p:spPr>
          <a:xfrm>
            <a:off x="3720960" y="4830840"/>
            <a:ext cx="26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43" name="矩形 23"/>
          <p:cNvSpPr/>
          <p:nvPr/>
        </p:nvSpPr>
        <p:spPr>
          <a:xfrm>
            <a:off x="6551640" y="4859280"/>
            <a:ext cx="22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pic>
        <p:nvPicPr>
          <p:cNvPr id="1244" name="图片 1" descr=""/>
          <p:cNvPicPr/>
          <p:nvPr/>
        </p:nvPicPr>
        <p:blipFill>
          <a:blip r:embed="rId4"/>
          <a:stretch/>
        </p:blipFill>
        <p:spPr>
          <a:xfrm>
            <a:off x="755640" y="2011320"/>
            <a:ext cx="2104920" cy="1116000"/>
          </a:xfrm>
          <a:prstGeom prst="rect">
            <a:avLst/>
          </a:prstGeom>
          <a:ln w="0">
            <a:noFill/>
          </a:ln>
        </p:spPr>
      </p:pic>
      <p:grpSp>
        <p:nvGrpSpPr>
          <p:cNvPr id="1245" name="组合 41"/>
          <p:cNvGrpSpPr/>
          <p:nvPr/>
        </p:nvGrpSpPr>
        <p:grpSpPr>
          <a:xfrm>
            <a:off x="3417840" y="2001960"/>
            <a:ext cx="2075040" cy="1130040"/>
            <a:chOff x="3417840" y="2001960"/>
            <a:chExt cx="2075040" cy="1130040"/>
          </a:xfrm>
        </p:grpSpPr>
        <p:pic>
          <p:nvPicPr>
            <p:cNvPr id="1246" name="图片 3" descr=""/>
            <p:cNvPicPr/>
            <p:nvPr/>
          </p:nvPicPr>
          <p:blipFill>
            <a:blip r:embed="rId5"/>
            <a:stretch/>
          </p:blipFill>
          <p:spPr>
            <a:xfrm>
              <a:off x="3417840" y="2001960"/>
              <a:ext cx="2075040" cy="113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7" name="椭圆 43"/>
            <p:cNvGrpSpPr/>
            <p:nvPr/>
          </p:nvGrpSpPr>
          <p:grpSpPr>
            <a:xfrm>
              <a:off x="4826160" y="2664360"/>
              <a:ext cx="253440" cy="311040"/>
              <a:chOff x="4826160" y="2664360"/>
              <a:chExt cx="253440" cy="311040"/>
            </a:xfrm>
          </p:grpSpPr>
          <p:pic>
            <p:nvPicPr>
              <p:cNvPr id="1248" name="椭圆 43" descr=""/>
              <p:cNvPicPr/>
              <p:nvPr/>
            </p:nvPicPr>
            <p:blipFill>
              <a:blip r:embed="rId6"/>
              <a:stretch/>
            </p:blipFill>
            <p:spPr>
              <a:xfrm>
                <a:off x="4826160" y="2664360"/>
                <a:ext cx="253440" cy="3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Text Box 32"/>
              <p:cNvSpPr/>
              <p:nvPr/>
            </p:nvSpPr>
            <p:spPr>
              <a:xfrm>
                <a:off x="4867920" y="2777400"/>
                <a:ext cx="70920" cy="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Calibri"/>
                </a:endParaRPr>
              </a:p>
            </p:txBody>
          </p:sp>
        </p:grpSp>
        <p:cxnSp>
          <p:nvCxnSpPr>
            <p:cNvPr id="1250" name="肘形连接符 6"/>
            <p:cNvCxnSpPr/>
            <p:nvPr/>
          </p:nvCxnSpPr>
          <p:spPr>
            <a:xfrm>
              <a:off x="4946400" y="2870640"/>
              <a:ext cx="545040" cy="160200"/>
            </a:xfrm>
            <a:prstGeom prst="bentConnector3">
              <a:avLst>
                <a:gd name="adj1" fmla="val 793"/>
              </a:avLst>
            </a:prstGeom>
            <a:ln w="9360">
              <a:solidFill>
                <a:srgbClr val="00b0f0"/>
              </a:solidFill>
              <a:miter/>
            </a:ln>
          </p:spPr>
        </p:cxnSp>
      </p:grpSp>
      <p:pic>
        <p:nvPicPr>
          <p:cNvPr id="1251" name="图片 2" descr=""/>
          <p:cNvPicPr/>
          <p:nvPr/>
        </p:nvPicPr>
        <p:blipFill>
          <a:blip r:embed="rId7"/>
          <a:stretch/>
        </p:blipFill>
        <p:spPr>
          <a:xfrm>
            <a:off x="6208560" y="1930320"/>
            <a:ext cx="2038680" cy="1130400"/>
          </a:xfrm>
          <a:prstGeom prst="rect">
            <a:avLst/>
          </a:prstGeom>
          <a:ln w="0">
            <a:noFill/>
          </a:ln>
        </p:spPr>
      </p:pic>
      <p:sp>
        <p:nvSpPr>
          <p:cNvPr id="1252" name="Text Box 26"/>
          <p:cNvSpPr/>
          <p:nvPr/>
        </p:nvSpPr>
        <p:spPr>
          <a:xfrm>
            <a:off x="1246320" y="3549600"/>
            <a:ext cx="16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de9"/>
                </a:solidFill>
                <a:latin typeface="Arial"/>
                <a:ea typeface="Arial"/>
              </a:rPr>
              <a:t>CONTENT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53" name="Text Box 27"/>
          <p:cNvSpPr/>
          <p:nvPr/>
        </p:nvSpPr>
        <p:spPr>
          <a:xfrm>
            <a:off x="3887640" y="3549600"/>
            <a:ext cx="17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de9"/>
                </a:solidFill>
                <a:latin typeface="Arial"/>
                <a:ea typeface="Arial"/>
              </a:rPr>
              <a:t>CONTENT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54" name="Text Box 28"/>
          <p:cNvSpPr/>
          <p:nvPr/>
        </p:nvSpPr>
        <p:spPr>
          <a:xfrm>
            <a:off x="6541920" y="36226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de9"/>
                </a:solidFill>
                <a:latin typeface="Arial"/>
                <a:ea typeface="Arial"/>
              </a:rPr>
              <a:t>CONTENT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55" name="Text Box 30"/>
          <p:cNvSpPr/>
          <p:nvPr/>
        </p:nvSpPr>
        <p:spPr>
          <a:xfrm>
            <a:off x="5086440" y="6045120"/>
            <a:ext cx="37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zh-CN" sz="1400" spc="-1" strike="noStrike">
                <a:solidFill>
                  <a:srgbClr val="ff0000"/>
                </a:solidFill>
                <a:latin typeface="Calibri"/>
              </a:rPr>
              <a:t>专利号</a:t>
            </a:r>
            <a:r>
              <a:rPr b="0" lang="zh-CN" sz="1400" spc="-1" strike="noStrike">
                <a:solidFill>
                  <a:srgbClr val="ff0000"/>
                </a:solidFill>
                <a:latin typeface="Calibri"/>
              </a:rPr>
              <a:t>：</a:t>
            </a:r>
            <a:r>
              <a:rPr b="0" lang="zh-CN" sz="1400" spc="-1" strike="noStrike">
                <a:solidFill>
                  <a:srgbClr val="ff0000"/>
                </a:solidFill>
                <a:latin typeface="Calibri"/>
              </a:rPr>
              <a:t>201520110690.6</a:t>
            </a:r>
            <a:endParaRPr b="0" lang="en-US" sz="14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56" name="矩形 20"/>
          <p:cNvSpPr/>
          <p:nvPr/>
        </p:nvSpPr>
        <p:spPr>
          <a:xfrm>
            <a:off x="1635120" y="105732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57" name="文本框 21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组合 4"/>
          <p:cNvGrpSpPr/>
          <p:nvPr/>
        </p:nvGrpSpPr>
        <p:grpSpPr>
          <a:xfrm>
            <a:off x="3111480" y="1870200"/>
            <a:ext cx="2971800" cy="2428920"/>
            <a:chOff x="3111480" y="1870200"/>
            <a:chExt cx="2971800" cy="2428920"/>
          </a:xfrm>
        </p:grpSpPr>
        <p:pic>
          <p:nvPicPr>
            <p:cNvPr id="1259" name="图片 2" descr=""/>
            <p:cNvPicPr/>
            <p:nvPr/>
          </p:nvPicPr>
          <p:blipFill>
            <a:blip r:embed="rId1"/>
            <a:stretch/>
          </p:blipFill>
          <p:spPr>
            <a:xfrm>
              <a:off x="3111480" y="1870200"/>
              <a:ext cx="2765520" cy="23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矩形 3"/>
            <p:cNvSpPr/>
            <p:nvPr/>
          </p:nvSpPr>
          <p:spPr>
            <a:xfrm>
              <a:off x="3114000" y="3472560"/>
              <a:ext cx="410400" cy="18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261" name="矩形 15"/>
            <p:cNvSpPr/>
            <p:nvPr/>
          </p:nvSpPr>
          <p:spPr>
            <a:xfrm>
              <a:off x="4164480" y="4113720"/>
              <a:ext cx="410400" cy="18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  <p:sp>
          <p:nvSpPr>
            <p:cNvPr id="1262" name="矩形 16"/>
            <p:cNvSpPr/>
            <p:nvPr/>
          </p:nvSpPr>
          <p:spPr>
            <a:xfrm>
              <a:off x="5672880" y="2824560"/>
              <a:ext cx="41040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Calibri"/>
              </a:endParaRPr>
            </a:p>
          </p:txBody>
        </p:sp>
      </p:grpSp>
      <p:sp>
        <p:nvSpPr>
          <p:cNvPr id="1263" name="Text Box 4"/>
          <p:cNvSpPr/>
          <p:nvPr/>
        </p:nvSpPr>
        <p:spPr>
          <a:xfrm>
            <a:off x="1305000" y="4727520"/>
            <a:ext cx="69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YOU CAN ENTER YUOR CONTENT HERE YOU CAN ENTER YUOR CONTENT HERE YOU CAN ENTER YUOR CONTENT HER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64" name="圆角矩形 1"/>
          <p:cNvSpPr/>
          <p:nvPr/>
        </p:nvSpPr>
        <p:spPr>
          <a:xfrm>
            <a:off x="3017880" y="4505400"/>
            <a:ext cx="3263760" cy="441360"/>
          </a:xfrm>
          <a:prstGeom prst="roundRect">
            <a:avLst>
              <a:gd name="adj" fmla="val 16667"/>
            </a:avLst>
          </a:prstGeom>
          <a:solidFill>
            <a:srgbClr val="089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65" name="任意多边形 49"/>
          <p:cNvSpPr/>
          <p:nvPr/>
        </p:nvSpPr>
        <p:spPr>
          <a:xfrm>
            <a:off x="2243160" y="2298600"/>
            <a:ext cx="1201680" cy="782640"/>
          </a:xfrm>
          <a:prstGeom prst="pie">
            <a:avLst/>
          </a:prstGeom>
          <a:noFill/>
          <a:ln w="19080">
            <a:solidFill>
              <a:srgbClr val="60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de9"/>
                </a:solidFill>
                <a:latin typeface="Arial"/>
                <a:ea typeface="Arial"/>
              </a:rPr>
              <a:t>CONTENT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66" name="任意多边形 50"/>
          <p:cNvSpPr/>
          <p:nvPr/>
        </p:nvSpPr>
        <p:spPr>
          <a:xfrm>
            <a:off x="1522440" y="3143160"/>
            <a:ext cx="1201680" cy="782640"/>
          </a:xfrm>
          <a:prstGeom prst="pie">
            <a:avLst/>
          </a:prstGeom>
          <a:noFill/>
          <a:ln w="19080">
            <a:solidFill>
              <a:srgbClr val="60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de9"/>
                </a:solidFill>
                <a:latin typeface="Arial"/>
                <a:ea typeface="Arial"/>
              </a:rPr>
              <a:t>CONTENT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67" name="任意多边形 51"/>
          <p:cNvSpPr/>
          <p:nvPr/>
        </p:nvSpPr>
        <p:spPr>
          <a:xfrm>
            <a:off x="5765760" y="2276640"/>
            <a:ext cx="1201680" cy="782640"/>
          </a:xfrm>
          <a:prstGeom prst="pie">
            <a:avLst/>
          </a:prstGeom>
          <a:noFill/>
          <a:ln w="19080">
            <a:solidFill>
              <a:srgbClr val="60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de9"/>
                </a:solidFill>
                <a:latin typeface="Arial"/>
                <a:ea typeface="Arial"/>
              </a:rPr>
              <a:t>CONTENT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68" name="任意多边形 52"/>
          <p:cNvSpPr/>
          <p:nvPr/>
        </p:nvSpPr>
        <p:spPr>
          <a:xfrm>
            <a:off x="6367320" y="3119400"/>
            <a:ext cx="1202040" cy="782640"/>
          </a:xfrm>
          <a:prstGeom prst="pie">
            <a:avLst/>
          </a:prstGeom>
          <a:noFill/>
          <a:ln w="19080">
            <a:solidFill>
              <a:srgbClr val="60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de9"/>
                </a:solidFill>
                <a:latin typeface="Arial"/>
                <a:ea typeface="Arial"/>
              </a:rPr>
              <a:t>CONTENT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69" name="矩形 20"/>
          <p:cNvSpPr/>
          <p:nvPr/>
        </p:nvSpPr>
        <p:spPr>
          <a:xfrm>
            <a:off x="1635120" y="1057320"/>
            <a:ext cx="58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749"/>
                </a:solidFill>
                <a:latin typeface="Arial Black"/>
                <a:ea typeface="微软雅黑"/>
              </a:rPr>
              <a:t>YOU CAN ENTER YUOR CONTENT HERE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70" name="文本框 21"/>
          <p:cNvSpPr/>
          <p:nvPr/>
        </p:nvSpPr>
        <p:spPr>
          <a:xfrm>
            <a:off x="5299200" y="115920"/>
            <a:ext cx="3700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a428f"/>
                </a:solidFill>
                <a:latin typeface="Arial"/>
                <a:ea typeface="微软雅黑"/>
              </a:rPr>
              <a:t>一、</a:t>
            </a:r>
            <a:r>
              <a:rPr b="1" lang="en-US" sz="1600" spc="-1" strike="noStrike">
                <a:solidFill>
                  <a:srgbClr val="0a428f"/>
                </a:solidFill>
                <a:latin typeface="Arial"/>
                <a:ea typeface="微软雅黑"/>
              </a:rPr>
              <a:t>ENTER YUOR CONTENT HERE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cho</dc:creator>
  <dc:description/>
  <dc:language>en-US</dc:language>
  <cp:lastModifiedBy>王玉清</cp:lastModifiedBy>
  <dcterms:modified xsi:type="dcterms:W3CDTF">2016-03-07T04:29:29Z</dcterms:modified>
  <cp:revision>11</cp:revision>
  <dc:subject/>
  <dc:title>PowerPoint 演示文稿</dc:title>
</cp:coreProperties>
</file>