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4F11-EBE7-486F-B8A0-4D734B83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514-8C9A-4C06-92B5-8F16AADD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3298-E0C2-4191-93E9-7405D086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D13-A979-44DB-ACED-3949AA8F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CBA5-3868-4D43-B285-484B344A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DAA0-FEB4-43C0-85D7-C3459E56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F108-6A4D-4119-92CA-17D895A34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793-3E03-4373-B6C9-0C38FDE4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2FF-AD9E-4717-B598-569075A6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1E2-07B0-4E42-8A54-E9244E9A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8183-77CD-4D01-818F-0DF092C6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3D74-CF06-4A0E-A1CB-DE24BDA7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C664CE-D62E-4C02-8670-2D98A570830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hyperlink" Target="http://www.yanj.cn/" TargetMode="External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30.jpeg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31.jpeg"/><Relationship Id="rId4" Type="http://schemas.openxmlformats.org/officeDocument/2006/relationships/image" Target="../media/image27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hyperlink" Target="http://www.yanj.cn/" TargetMode="External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http://www.yanj.cn/" TargetMode="External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yanj.cn/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yanj.cn/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yanj.cn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-9360" y="5626800"/>
            <a:ext cx="9162720" cy="1872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9163048" h="19048">
                <a:moveTo>
                  <a:pt x="9524" y="9524"/>
                </a:moveTo>
                <a:lnTo>
                  <a:pt x="9153524" y="9524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2657520" y="3800520"/>
            <a:ext cx="6495840" cy="18720"/>
          </a:xfrm>
          <a:custGeom>
            <a:avLst/>
            <a:gdLst>
              <a:gd name="textAreaLeft" fmla="*/ 0 w 6495840"/>
              <a:gd name="textAreaRight" fmla="*/ 6496200 w 649584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6496048" h="19048">
                <a:moveTo>
                  <a:pt x="9524" y="9524"/>
                </a:moveTo>
                <a:lnTo>
                  <a:pt x="6486524" y="9524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-25920" bIns="-259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2654280"/>
            <a:ext cx="9143640" cy="4203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7" name="矩形 7">
            <a:hlinkClick r:id="rId3"/>
          </p:cNvPr>
          <p:cNvSpPr/>
          <p:nvPr/>
        </p:nvSpPr>
        <p:spPr>
          <a:xfrm>
            <a:off x="1676520" y="-122544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1993680" y="460080"/>
            <a:ext cx="5156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现代商务策划创意欧美风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0" y="4406760"/>
            <a:ext cx="9143640" cy="2450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184440"/>
          </a:xfrm>
          <a:prstGeom prst="rect">
            <a:avLst/>
          </a:prstGeom>
          <a:ln w="0">
            <a:noFill/>
          </a:ln>
        </p:spPr>
      </p:pic>
      <p:sp>
        <p:nvSpPr>
          <p:cNvPr id="243" name="矩形 5">
            <a:hlinkClick r:id="rId4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6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8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9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0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1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1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2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3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4" name="Picture 3" descr=""/>
          <p:cNvPicPr/>
          <p:nvPr/>
        </p:nvPicPr>
        <p:blipFill>
          <a:blip r:embed="rId1"/>
          <a:stretch/>
        </p:blipFill>
        <p:spPr>
          <a:xfrm>
            <a:off x="3213000" y="2209680"/>
            <a:ext cx="2641320" cy="469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"/>
          <p:cNvPicPr/>
          <p:nvPr/>
        </p:nvPicPr>
        <p:blipFill>
          <a:blip r:embed="rId2"/>
          <a:stretch/>
        </p:blipFill>
        <p:spPr>
          <a:xfrm>
            <a:off x="0" y="3073320"/>
            <a:ext cx="9143640" cy="3784320"/>
          </a:xfrm>
          <a:prstGeom prst="rect">
            <a:avLst/>
          </a:prstGeom>
          <a:ln w="0">
            <a:noFill/>
          </a:ln>
        </p:spPr>
      </p:pic>
      <p:sp>
        <p:nvSpPr>
          <p:cNvPr id="286" name="矩形 43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6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7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8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4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5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6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7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8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9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0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3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4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5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6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7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8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4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5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6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257440" cy="380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"/>
          <p:cNvPicPr/>
          <p:nvPr/>
        </p:nvPicPr>
        <p:blipFill>
          <a:blip r:embed="rId2"/>
          <a:stretch/>
        </p:blipFill>
        <p:spPr>
          <a:xfrm>
            <a:off x="0" y="3340080"/>
            <a:ext cx="9143640" cy="3517560"/>
          </a:xfrm>
          <a:prstGeom prst="rect">
            <a:avLst/>
          </a:prstGeom>
          <a:ln w="0">
            <a:noFill/>
          </a:ln>
        </p:spPr>
      </p:pic>
      <p:sp>
        <p:nvSpPr>
          <p:cNvPr id="329" name="矩形 43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4791240" y="4791240"/>
            <a:ext cx="37800" cy="1771200"/>
          </a:xfrm>
          <a:custGeom>
            <a:avLst/>
            <a:gdLst>
              <a:gd name="textAreaLeft" fmla="*/ 0 w 37800"/>
              <a:gd name="textAreaRight" fmla="*/ 38160 w 37800"/>
              <a:gd name="textAreaTop" fmla="*/ 0 h 1771200"/>
              <a:gd name="textAreaBottom" fmla="*/ 1771560 h 1771200"/>
            </a:gdLst>
            <a:ahLst/>
            <a:rect l="textAreaLeft" t="textAreaTop" r="textAreaRight" b="textAreaBottom"/>
            <a:pathLst>
              <a:path w="38097" h="1771648">
                <a:moveTo>
                  <a:pt x="9524" y="9524"/>
                </a:moveTo>
                <a:lnTo>
                  <a:pt x="9524" y="1762124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266760" y="5130720"/>
            <a:ext cx="4140000" cy="495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3" descr=""/>
          <p:cNvPicPr/>
          <p:nvPr/>
        </p:nvPicPr>
        <p:blipFill>
          <a:blip r:embed="rId3"/>
          <a:stretch/>
        </p:blipFill>
        <p:spPr>
          <a:xfrm>
            <a:off x="380880" y="5740560"/>
            <a:ext cx="4038120" cy="406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4"/>
          <a:stretch/>
        </p:blipFill>
        <p:spPr>
          <a:xfrm>
            <a:off x="5778360" y="5245200"/>
            <a:ext cx="2120400" cy="8884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5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37" name="矩形 8">
            <a:hlinkClick r:id="rId6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9" name="Freeform 3"/>
          <p:cNvSpPr/>
          <p:nvPr/>
        </p:nvSpPr>
        <p:spPr>
          <a:xfrm>
            <a:off x="5483520" y="5260680"/>
            <a:ext cx="357840" cy="866880"/>
          </a:xfrm>
          <a:custGeom>
            <a:avLst/>
            <a:gdLst>
              <a:gd name="textAreaLeft" fmla="*/ 0 w 357840"/>
              <a:gd name="textAreaRight" fmla="*/ 358200 w 35784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358178" h="867168">
                <a:moveTo>
                  <a:pt x="0" y="655678"/>
                </a:moveTo>
                <a:cubicBezTo>
                  <a:pt x="0" y="787933"/>
                  <a:pt x="46824" y="867168"/>
                  <a:pt x="190575" y="867168"/>
                </a:cubicBezTo>
                <a:cubicBezTo>
                  <a:pt x="322833" y="867168"/>
                  <a:pt x="358177" y="798243"/>
                  <a:pt x="358177" y="708108"/>
                </a:cubicBezTo>
                <a:lnTo>
                  <a:pt x="358177" y="612966"/>
                </a:lnTo>
                <a:lnTo>
                  <a:pt x="245071" y="612966"/>
                </a:lnTo>
                <a:lnTo>
                  <a:pt x="245071" y="671878"/>
                </a:lnTo>
                <a:cubicBezTo>
                  <a:pt x="245071" y="742276"/>
                  <a:pt x="218554" y="772910"/>
                  <a:pt x="177914" y="772910"/>
                </a:cubicBezTo>
                <a:cubicBezTo>
                  <a:pt x="142862" y="772910"/>
                  <a:pt x="113105" y="755237"/>
                  <a:pt x="113105" y="655383"/>
                </a:cubicBezTo>
                <a:lnTo>
                  <a:pt x="113105" y="239471"/>
                </a:lnTo>
                <a:cubicBezTo>
                  <a:pt x="113105" y="137261"/>
                  <a:pt x="124002" y="93662"/>
                  <a:pt x="181152" y="93662"/>
                </a:cubicBezTo>
                <a:cubicBezTo>
                  <a:pt x="227393" y="93662"/>
                  <a:pt x="245071" y="127838"/>
                  <a:pt x="245071" y="181736"/>
                </a:cubicBezTo>
                <a:lnTo>
                  <a:pt x="245071" y="240652"/>
                </a:lnTo>
                <a:lnTo>
                  <a:pt x="358177" y="240652"/>
                </a:lnTo>
                <a:lnTo>
                  <a:pt x="358177" y="155231"/>
                </a:lnTo>
                <a:cubicBezTo>
                  <a:pt x="358177" y="59207"/>
                  <a:pt x="305739" y="0"/>
                  <a:pt x="192633" y="0"/>
                </a:cubicBezTo>
                <a:cubicBezTo>
                  <a:pt x="37706" y="0"/>
                  <a:pt x="0" y="105155"/>
                  <a:pt x="0" y="224447"/>
                </a:cubicBezTo>
                <a:lnTo>
                  <a:pt x="0" y="65567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0" name="Freeform 3"/>
          <p:cNvSpPr/>
          <p:nvPr/>
        </p:nvSpPr>
        <p:spPr>
          <a:xfrm>
            <a:off x="5908320" y="5260680"/>
            <a:ext cx="311400" cy="866880"/>
          </a:xfrm>
          <a:custGeom>
            <a:avLst/>
            <a:gdLst>
              <a:gd name="textAreaLeft" fmla="*/ 0 w 311400"/>
              <a:gd name="textAreaRight" fmla="*/ 311760 w 31140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311632" h="867168">
                <a:moveTo>
                  <a:pt x="0" y="867168"/>
                </a:moveTo>
                <a:lnTo>
                  <a:pt x="311632" y="867168"/>
                </a:lnTo>
                <a:lnTo>
                  <a:pt x="311632" y="766136"/>
                </a:lnTo>
                <a:lnTo>
                  <a:pt x="113105" y="766136"/>
                </a:lnTo>
                <a:lnTo>
                  <a:pt x="113105" y="0"/>
                </a:lnTo>
                <a:lnTo>
                  <a:pt x="0" y="0"/>
                </a:lnTo>
                <a:lnTo>
                  <a:pt x="0" y="86716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1" name="Freeform 3"/>
          <p:cNvSpPr/>
          <p:nvPr/>
        </p:nvSpPr>
        <p:spPr>
          <a:xfrm>
            <a:off x="6288120" y="5260680"/>
            <a:ext cx="112680" cy="866880"/>
          </a:xfrm>
          <a:custGeom>
            <a:avLst/>
            <a:gdLst>
              <a:gd name="textAreaLeft" fmla="*/ 0 w 112680"/>
              <a:gd name="textAreaRight" fmla="*/ 113040 w 112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113106" h="867168">
                <a:moveTo>
                  <a:pt x="0" y="867168"/>
                </a:moveTo>
                <a:lnTo>
                  <a:pt x="113106" y="867168"/>
                </a:lnTo>
                <a:lnTo>
                  <a:pt x="113106" y="0"/>
                </a:lnTo>
                <a:lnTo>
                  <a:pt x="0" y="0"/>
                </a:lnTo>
                <a:lnTo>
                  <a:pt x="0" y="86716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6489720" y="5260680"/>
            <a:ext cx="316080" cy="866880"/>
          </a:xfrm>
          <a:custGeom>
            <a:avLst/>
            <a:gdLst>
              <a:gd name="textAreaLeft" fmla="*/ 0 w 316080"/>
              <a:gd name="textAreaRight" fmla="*/ 316440 w 316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316344" h="867168">
                <a:moveTo>
                  <a:pt x="0" y="867168"/>
                </a:moveTo>
                <a:lnTo>
                  <a:pt x="316344" y="867168"/>
                </a:lnTo>
                <a:lnTo>
                  <a:pt x="316344" y="766136"/>
                </a:lnTo>
                <a:lnTo>
                  <a:pt x="113106" y="766136"/>
                </a:lnTo>
                <a:lnTo>
                  <a:pt x="113106" y="471285"/>
                </a:lnTo>
                <a:lnTo>
                  <a:pt x="304571" y="471285"/>
                </a:lnTo>
                <a:lnTo>
                  <a:pt x="304571" y="377027"/>
                </a:lnTo>
                <a:lnTo>
                  <a:pt x="113106" y="377027"/>
                </a:lnTo>
                <a:lnTo>
                  <a:pt x="113106" y="101028"/>
                </a:lnTo>
                <a:lnTo>
                  <a:pt x="316344" y="101028"/>
                </a:lnTo>
                <a:lnTo>
                  <a:pt x="316344" y="0"/>
                </a:lnTo>
                <a:lnTo>
                  <a:pt x="0" y="0"/>
                </a:lnTo>
                <a:lnTo>
                  <a:pt x="0" y="86716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6869880" y="5260680"/>
            <a:ext cx="433080" cy="866880"/>
          </a:xfrm>
          <a:custGeom>
            <a:avLst/>
            <a:gdLst>
              <a:gd name="textAreaLeft" fmla="*/ 0 w 433080"/>
              <a:gd name="textAreaRight" fmla="*/ 433440 w 43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433578" h="867168">
                <a:moveTo>
                  <a:pt x="0" y="867168"/>
                </a:moveTo>
                <a:lnTo>
                  <a:pt x="113106" y="867168"/>
                </a:lnTo>
                <a:lnTo>
                  <a:pt x="113106" y="127241"/>
                </a:lnTo>
                <a:lnTo>
                  <a:pt x="115468" y="127241"/>
                </a:lnTo>
                <a:lnTo>
                  <a:pt x="259498" y="867168"/>
                </a:lnTo>
                <a:lnTo>
                  <a:pt x="433578" y="867168"/>
                </a:lnTo>
                <a:lnTo>
                  <a:pt x="433578" y="0"/>
                </a:lnTo>
                <a:lnTo>
                  <a:pt x="320471" y="0"/>
                </a:lnTo>
                <a:lnTo>
                  <a:pt x="320471" y="720480"/>
                </a:lnTo>
                <a:lnTo>
                  <a:pt x="318122" y="720480"/>
                </a:lnTo>
                <a:lnTo>
                  <a:pt x="174078" y="0"/>
                </a:lnTo>
                <a:lnTo>
                  <a:pt x="0" y="0"/>
                </a:lnTo>
                <a:lnTo>
                  <a:pt x="0" y="86716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4" name="Freeform 3"/>
          <p:cNvSpPr/>
          <p:nvPr/>
        </p:nvSpPr>
        <p:spPr>
          <a:xfrm>
            <a:off x="7344720" y="5260680"/>
            <a:ext cx="405360" cy="866880"/>
          </a:xfrm>
          <a:custGeom>
            <a:avLst/>
            <a:gdLst>
              <a:gd name="textAreaLeft" fmla="*/ 0 w 405360"/>
              <a:gd name="textAreaRight" fmla="*/ 405720 w 4053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405892" h="867168">
                <a:moveTo>
                  <a:pt x="0" y="101028"/>
                </a:moveTo>
                <a:lnTo>
                  <a:pt x="150812" y="101028"/>
                </a:lnTo>
                <a:lnTo>
                  <a:pt x="150812" y="867168"/>
                </a:lnTo>
                <a:lnTo>
                  <a:pt x="263918" y="867168"/>
                </a:lnTo>
                <a:lnTo>
                  <a:pt x="263918" y="101028"/>
                </a:lnTo>
                <a:lnTo>
                  <a:pt x="405891" y="101028"/>
                </a:lnTo>
                <a:lnTo>
                  <a:pt x="405891" y="0"/>
                </a:lnTo>
                <a:lnTo>
                  <a:pt x="0" y="0"/>
                </a:lnTo>
                <a:lnTo>
                  <a:pt x="0" y="10102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5" name="Freeform 3"/>
          <p:cNvSpPr/>
          <p:nvPr/>
        </p:nvSpPr>
        <p:spPr>
          <a:xfrm>
            <a:off x="7807320" y="5260680"/>
            <a:ext cx="376560" cy="866880"/>
          </a:xfrm>
          <a:custGeom>
            <a:avLst/>
            <a:gdLst>
              <a:gd name="textAreaLeft" fmla="*/ 0 w 376560"/>
              <a:gd name="textAreaRight" fmla="*/ 376920 w 37656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377025" h="867168">
                <a:moveTo>
                  <a:pt x="0" y="713999"/>
                </a:moveTo>
                <a:cubicBezTo>
                  <a:pt x="0" y="820923"/>
                  <a:pt x="74815" y="867168"/>
                  <a:pt x="183794" y="867168"/>
                </a:cubicBezTo>
                <a:cubicBezTo>
                  <a:pt x="324891" y="867168"/>
                  <a:pt x="377025" y="790583"/>
                  <a:pt x="377025" y="657150"/>
                </a:cubicBezTo>
                <a:cubicBezTo>
                  <a:pt x="377025" y="554644"/>
                  <a:pt x="355231" y="513407"/>
                  <a:pt x="236524" y="393228"/>
                </a:cubicBezTo>
                <a:cubicBezTo>
                  <a:pt x="125183" y="279819"/>
                  <a:pt x="113106" y="244475"/>
                  <a:pt x="113106" y="186740"/>
                </a:cubicBezTo>
                <a:cubicBezTo>
                  <a:pt x="113106" y="120764"/>
                  <a:pt x="134607" y="93662"/>
                  <a:pt x="181444" y="93662"/>
                </a:cubicBezTo>
                <a:cubicBezTo>
                  <a:pt x="225628" y="93662"/>
                  <a:pt x="245071" y="121945"/>
                  <a:pt x="245071" y="169951"/>
                </a:cubicBezTo>
                <a:lnTo>
                  <a:pt x="245071" y="237109"/>
                </a:lnTo>
                <a:lnTo>
                  <a:pt x="358178" y="237109"/>
                </a:lnTo>
                <a:lnTo>
                  <a:pt x="358178" y="156400"/>
                </a:lnTo>
                <a:cubicBezTo>
                  <a:pt x="358178" y="96024"/>
                  <a:pt x="344334" y="66268"/>
                  <a:pt x="324598" y="47421"/>
                </a:cubicBezTo>
                <a:cubicBezTo>
                  <a:pt x="296912" y="21209"/>
                  <a:pt x="251840" y="0"/>
                  <a:pt x="189394" y="0"/>
                </a:cubicBezTo>
                <a:cubicBezTo>
                  <a:pt x="63627" y="0"/>
                  <a:pt x="0" y="60083"/>
                  <a:pt x="0" y="199110"/>
                </a:cubicBezTo>
                <a:cubicBezTo>
                  <a:pt x="0" y="314579"/>
                  <a:pt x="62445" y="382918"/>
                  <a:pt x="137845" y="458325"/>
                </a:cubicBezTo>
                <a:cubicBezTo>
                  <a:pt x="260387" y="579682"/>
                  <a:pt x="263918" y="603246"/>
                  <a:pt x="263918" y="675118"/>
                </a:cubicBezTo>
                <a:cubicBezTo>
                  <a:pt x="263918" y="730495"/>
                  <a:pt x="248018" y="772910"/>
                  <a:pt x="183501" y="772910"/>
                </a:cubicBezTo>
                <a:cubicBezTo>
                  <a:pt x="134899" y="772910"/>
                  <a:pt x="113106" y="737563"/>
                  <a:pt x="113106" y="681304"/>
                </a:cubicBezTo>
                <a:lnTo>
                  <a:pt x="113106" y="611789"/>
                </a:lnTo>
                <a:lnTo>
                  <a:pt x="0" y="611789"/>
                </a:lnTo>
                <a:lnTo>
                  <a:pt x="0" y="71399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46" name="Freeform 3"/>
          <p:cNvSpPr/>
          <p:nvPr/>
        </p:nvSpPr>
        <p:spPr>
          <a:xfrm>
            <a:off x="4791240" y="4791240"/>
            <a:ext cx="37800" cy="1771200"/>
          </a:xfrm>
          <a:custGeom>
            <a:avLst/>
            <a:gdLst>
              <a:gd name="textAreaLeft" fmla="*/ 0 w 37800"/>
              <a:gd name="textAreaRight" fmla="*/ 38160 w 37800"/>
              <a:gd name="textAreaTop" fmla="*/ 0 h 1771200"/>
              <a:gd name="textAreaBottom" fmla="*/ 1771560 h 1771200"/>
            </a:gdLst>
            <a:ahLst/>
            <a:rect l="textAreaLeft" t="textAreaTop" r="textAreaRight" b="textAreaBottom"/>
            <a:pathLst>
              <a:path w="38097" h="1771648">
                <a:moveTo>
                  <a:pt x="9524" y="9524"/>
                </a:moveTo>
                <a:lnTo>
                  <a:pt x="9524" y="1762124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"/>
          <p:cNvPicPr/>
          <p:nvPr/>
        </p:nvPicPr>
        <p:blipFill>
          <a:blip r:embed="rId2"/>
          <a:stretch/>
        </p:blipFill>
        <p:spPr>
          <a:xfrm>
            <a:off x="266760" y="5130720"/>
            <a:ext cx="4140000" cy="495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3"/>
          <a:stretch/>
        </p:blipFill>
        <p:spPr>
          <a:xfrm>
            <a:off x="380880" y="5740560"/>
            <a:ext cx="4038120" cy="4060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51" name="矩形 14">
            <a:hlinkClick r:id="rId5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4791240" y="4791240"/>
            <a:ext cx="37800" cy="1771200"/>
          </a:xfrm>
          <a:custGeom>
            <a:avLst/>
            <a:gdLst>
              <a:gd name="textAreaLeft" fmla="*/ 0 w 37800"/>
              <a:gd name="textAreaRight" fmla="*/ 38160 w 37800"/>
              <a:gd name="textAreaTop" fmla="*/ 0 h 1771200"/>
              <a:gd name="textAreaBottom" fmla="*/ 1771560 h 1771200"/>
            </a:gdLst>
            <a:ahLst/>
            <a:rect l="textAreaLeft" t="textAreaTop" r="textAreaRight" b="textAreaBottom"/>
            <a:pathLst>
              <a:path w="38097" h="1771648">
                <a:moveTo>
                  <a:pt x="9524" y="9524"/>
                </a:moveTo>
                <a:lnTo>
                  <a:pt x="9524" y="1762124"/>
                </a:lnTo>
              </a:path>
            </a:pathLst>
          </a:custGeom>
          <a:noFill/>
          <a:ln w="127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266760" y="5130720"/>
            <a:ext cx="4140000" cy="4950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"/>
          <p:cNvPicPr/>
          <p:nvPr/>
        </p:nvPicPr>
        <p:blipFill>
          <a:blip r:embed="rId3"/>
          <a:stretch/>
        </p:blipFill>
        <p:spPr>
          <a:xfrm>
            <a:off x="5219640" y="4838760"/>
            <a:ext cx="3212640" cy="736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4"/>
          <a:stretch/>
        </p:blipFill>
        <p:spPr>
          <a:xfrm>
            <a:off x="380880" y="5740560"/>
            <a:ext cx="4038120" cy="406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"/>
          <p:cNvPicPr/>
          <p:nvPr/>
        </p:nvPicPr>
        <p:blipFill>
          <a:blip r:embed="rId5"/>
          <a:stretch/>
        </p:blipFill>
        <p:spPr>
          <a:xfrm>
            <a:off x="5397480" y="5842080"/>
            <a:ext cx="2882520" cy="7362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6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60" name="矩形 9">
            <a:hlinkClick r:id="rId7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4013280" y="0"/>
            <a:ext cx="5130360" cy="68576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7441920" cy="6857640"/>
          </a:xfrm>
          <a:prstGeom prst="rect">
            <a:avLst/>
          </a:prstGeom>
          <a:ln w="0">
            <a:noFill/>
          </a:ln>
        </p:spPr>
      </p:pic>
      <p:sp>
        <p:nvSpPr>
          <p:cNvPr id="365" name="矩形 5">
            <a:hlinkClick r:id="rId4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7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9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0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1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2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5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6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7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8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79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0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1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6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7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8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9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0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1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2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3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4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5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6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99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0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1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2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3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4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5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3640" cy="5105160"/>
          </a:xfrm>
          <a:prstGeom prst="rect">
            <a:avLst/>
          </a:prstGeom>
          <a:ln w="0">
            <a:noFill/>
          </a:ln>
        </p:spPr>
      </p:pic>
      <p:sp>
        <p:nvSpPr>
          <p:cNvPr id="407" name="矩形 4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1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0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1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3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4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9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0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1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2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5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6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7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8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9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0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1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3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4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6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7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8" name="Freeform 3"/>
          <p:cNvSpPr/>
          <p:nvPr/>
        </p:nvSpPr>
        <p:spPr>
          <a:xfrm>
            <a:off x="5331600" y="3330720"/>
            <a:ext cx="170640" cy="468720"/>
          </a:xfrm>
          <a:custGeom>
            <a:avLst/>
            <a:gdLst>
              <a:gd name="textAreaLeft" fmla="*/ 0 w 170640"/>
              <a:gd name="textAreaRight" fmla="*/ 171000 w 17064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171170" h="469188">
                <a:moveTo>
                  <a:pt x="0" y="469188"/>
                </a:moveTo>
                <a:lnTo>
                  <a:pt x="171170" y="469188"/>
                </a:lnTo>
                <a:lnTo>
                  <a:pt x="171170" y="414527"/>
                </a:lnTo>
                <a:lnTo>
                  <a:pt x="61201" y="414527"/>
                </a:lnTo>
                <a:lnTo>
                  <a:pt x="61201" y="254990"/>
                </a:lnTo>
                <a:lnTo>
                  <a:pt x="164795" y="254990"/>
                </a:lnTo>
                <a:lnTo>
                  <a:pt x="164795" y="203999"/>
                </a:lnTo>
                <a:lnTo>
                  <a:pt x="61201" y="203999"/>
                </a:lnTo>
                <a:lnTo>
                  <a:pt x="61201" y="54660"/>
                </a:lnTo>
                <a:lnTo>
                  <a:pt x="171170" y="54660"/>
                </a:lnTo>
                <a:lnTo>
                  <a:pt x="171170" y="0"/>
                </a:lnTo>
                <a:lnTo>
                  <a:pt x="0" y="0"/>
                </a:lnTo>
                <a:lnTo>
                  <a:pt x="0" y="4691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9" name="Freeform 3"/>
          <p:cNvSpPr/>
          <p:nvPr/>
        </p:nvSpPr>
        <p:spPr>
          <a:xfrm>
            <a:off x="5537160" y="3330720"/>
            <a:ext cx="326160" cy="468720"/>
          </a:xfrm>
          <a:custGeom>
            <a:avLst/>
            <a:gdLst>
              <a:gd name="textAreaLeft" fmla="*/ 0 w 326160"/>
              <a:gd name="textAreaRight" fmla="*/ 326520 w 32616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326389" h="469188">
                <a:moveTo>
                  <a:pt x="0" y="469188"/>
                </a:moveTo>
                <a:lnTo>
                  <a:pt x="61201" y="469188"/>
                </a:lnTo>
                <a:lnTo>
                  <a:pt x="61201" y="46863"/>
                </a:lnTo>
                <a:lnTo>
                  <a:pt x="62470" y="46863"/>
                </a:lnTo>
                <a:lnTo>
                  <a:pt x="134353" y="469188"/>
                </a:lnTo>
                <a:lnTo>
                  <a:pt x="198424" y="469188"/>
                </a:lnTo>
                <a:lnTo>
                  <a:pt x="263918" y="46863"/>
                </a:lnTo>
                <a:lnTo>
                  <a:pt x="265201" y="46863"/>
                </a:lnTo>
                <a:lnTo>
                  <a:pt x="265201" y="469188"/>
                </a:lnTo>
                <a:lnTo>
                  <a:pt x="326389" y="469188"/>
                </a:lnTo>
                <a:lnTo>
                  <a:pt x="326389" y="0"/>
                </a:lnTo>
                <a:lnTo>
                  <a:pt x="225996" y="0"/>
                </a:lnTo>
                <a:lnTo>
                  <a:pt x="167017" y="357466"/>
                </a:lnTo>
                <a:lnTo>
                  <a:pt x="165747" y="357466"/>
                </a:lnTo>
                <a:lnTo>
                  <a:pt x="106781" y="0"/>
                </a:lnTo>
                <a:lnTo>
                  <a:pt x="0" y="0"/>
                </a:lnTo>
                <a:lnTo>
                  <a:pt x="0" y="4691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0" name="Freeform 3"/>
          <p:cNvSpPr/>
          <p:nvPr/>
        </p:nvSpPr>
        <p:spPr>
          <a:xfrm>
            <a:off x="5911920" y="3330720"/>
            <a:ext cx="60840" cy="468720"/>
          </a:xfrm>
          <a:custGeom>
            <a:avLst/>
            <a:gdLst>
              <a:gd name="textAreaLeft" fmla="*/ 0 w 60840"/>
              <a:gd name="textAreaRight" fmla="*/ 61200 w 6084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61201" h="469188">
                <a:moveTo>
                  <a:pt x="30600" y="0"/>
                </a:moveTo>
                <a:lnTo>
                  <a:pt x="30600" y="469188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Freeform 3"/>
          <p:cNvSpPr/>
          <p:nvPr/>
        </p:nvSpPr>
        <p:spPr>
          <a:xfrm>
            <a:off x="6021360" y="3330720"/>
            <a:ext cx="234360" cy="468720"/>
          </a:xfrm>
          <a:custGeom>
            <a:avLst/>
            <a:gdLst>
              <a:gd name="textAreaLeft" fmla="*/ 0 w 234360"/>
              <a:gd name="textAreaRight" fmla="*/ 234720 w 23436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234594" h="469188">
                <a:moveTo>
                  <a:pt x="0" y="469188"/>
                </a:moveTo>
                <a:lnTo>
                  <a:pt x="61201" y="469188"/>
                </a:lnTo>
                <a:lnTo>
                  <a:pt x="61201" y="68846"/>
                </a:lnTo>
                <a:lnTo>
                  <a:pt x="62471" y="68846"/>
                </a:lnTo>
                <a:lnTo>
                  <a:pt x="140411" y="469188"/>
                </a:lnTo>
                <a:lnTo>
                  <a:pt x="234594" y="469188"/>
                </a:lnTo>
                <a:lnTo>
                  <a:pt x="234594" y="0"/>
                </a:lnTo>
                <a:lnTo>
                  <a:pt x="173393" y="0"/>
                </a:lnTo>
                <a:lnTo>
                  <a:pt x="173393" y="389826"/>
                </a:lnTo>
                <a:lnTo>
                  <a:pt x="172123" y="389826"/>
                </a:lnTo>
                <a:lnTo>
                  <a:pt x="94183" y="0"/>
                </a:lnTo>
                <a:lnTo>
                  <a:pt x="0" y="0"/>
                </a:lnTo>
                <a:lnTo>
                  <a:pt x="0" y="4691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2" name="Freeform 3"/>
          <p:cNvSpPr/>
          <p:nvPr/>
        </p:nvSpPr>
        <p:spPr>
          <a:xfrm>
            <a:off x="6299640" y="3330720"/>
            <a:ext cx="170640" cy="468720"/>
          </a:xfrm>
          <a:custGeom>
            <a:avLst/>
            <a:gdLst>
              <a:gd name="textAreaLeft" fmla="*/ 0 w 170640"/>
              <a:gd name="textAreaRight" fmla="*/ 171000 w 17064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171170" h="469188">
                <a:moveTo>
                  <a:pt x="0" y="469188"/>
                </a:moveTo>
                <a:lnTo>
                  <a:pt x="171170" y="469188"/>
                </a:lnTo>
                <a:lnTo>
                  <a:pt x="171170" y="414527"/>
                </a:lnTo>
                <a:lnTo>
                  <a:pt x="61201" y="414527"/>
                </a:lnTo>
                <a:lnTo>
                  <a:pt x="61201" y="254990"/>
                </a:lnTo>
                <a:lnTo>
                  <a:pt x="164794" y="254990"/>
                </a:lnTo>
                <a:lnTo>
                  <a:pt x="164794" y="203999"/>
                </a:lnTo>
                <a:lnTo>
                  <a:pt x="61201" y="203999"/>
                </a:lnTo>
                <a:lnTo>
                  <a:pt x="61201" y="54660"/>
                </a:lnTo>
                <a:lnTo>
                  <a:pt x="171170" y="54660"/>
                </a:lnTo>
                <a:lnTo>
                  <a:pt x="171170" y="0"/>
                </a:lnTo>
                <a:lnTo>
                  <a:pt x="0" y="0"/>
                </a:lnTo>
                <a:lnTo>
                  <a:pt x="0" y="4691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3" name="Freeform 3"/>
          <p:cNvSpPr/>
          <p:nvPr/>
        </p:nvSpPr>
        <p:spPr>
          <a:xfrm>
            <a:off x="6505200" y="3330720"/>
            <a:ext cx="234360" cy="468720"/>
          </a:xfrm>
          <a:custGeom>
            <a:avLst/>
            <a:gdLst>
              <a:gd name="textAreaLeft" fmla="*/ 0 w 234360"/>
              <a:gd name="textAreaRight" fmla="*/ 234720 w 23436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234594" h="469188">
                <a:moveTo>
                  <a:pt x="0" y="469188"/>
                </a:moveTo>
                <a:lnTo>
                  <a:pt x="61200" y="469188"/>
                </a:lnTo>
                <a:lnTo>
                  <a:pt x="61200" y="68846"/>
                </a:lnTo>
                <a:lnTo>
                  <a:pt x="62483" y="68846"/>
                </a:lnTo>
                <a:lnTo>
                  <a:pt x="140410" y="469188"/>
                </a:lnTo>
                <a:lnTo>
                  <a:pt x="234594" y="469188"/>
                </a:lnTo>
                <a:lnTo>
                  <a:pt x="234594" y="0"/>
                </a:lnTo>
                <a:lnTo>
                  <a:pt x="173405" y="0"/>
                </a:lnTo>
                <a:lnTo>
                  <a:pt x="173405" y="389826"/>
                </a:lnTo>
                <a:lnTo>
                  <a:pt x="172122" y="389826"/>
                </a:lnTo>
                <a:lnTo>
                  <a:pt x="94195" y="0"/>
                </a:lnTo>
                <a:lnTo>
                  <a:pt x="0" y="0"/>
                </a:lnTo>
                <a:lnTo>
                  <a:pt x="0" y="46918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4" name="Freeform 3"/>
          <p:cNvSpPr/>
          <p:nvPr/>
        </p:nvSpPr>
        <p:spPr>
          <a:xfrm>
            <a:off x="6763680" y="3330720"/>
            <a:ext cx="219240" cy="468720"/>
          </a:xfrm>
          <a:custGeom>
            <a:avLst/>
            <a:gdLst>
              <a:gd name="textAreaLeft" fmla="*/ 0 w 219240"/>
              <a:gd name="textAreaRight" fmla="*/ 219600 w 219240"/>
              <a:gd name="textAreaTop" fmla="*/ 0 h 468720"/>
              <a:gd name="textAreaBottom" fmla="*/ 469080 h 468720"/>
            </a:gdLst>
            <a:ahLst/>
            <a:rect l="textAreaLeft" t="textAreaTop" r="textAreaRight" b="textAreaBottom"/>
            <a:pathLst>
              <a:path w="219608" h="469188">
                <a:moveTo>
                  <a:pt x="0" y="54660"/>
                </a:moveTo>
                <a:lnTo>
                  <a:pt x="81597" y="54660"/>
                </a:lnTo>
                <a:lnTo>
                  <a:pt x="81597" y="469188"/>
                </a:lnTo>
                <a:lnTo>
                  <a:pt x="142799" y="469188"/>
                </a:lnTo>
                <a:lnTo>
                  <a:pt x="142799" y="54660"/>
                </a:lnTo>
                <a:lnTo>
                  <a:pt x="219608" y="54660"/>
                </a:lnTo>
                <a:lnTo>
                  <a:pt x="219608" y="0"/>
                </a:lnTo>
                <a:lnTo>
                  <a:pt x="0" y="0"/>
                </a:lnTo>
                <a:lnTo>
                  <a:pt x="0" y="5466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0" y="1739880"/>
            <a:ext cx="9143640" cy="5117760"/>
          </a:xfrm>
          <a:prstGeom prst="rect">
            <a:avLst/>
          </a:prstGeom>
          <a:ln w="0">
            <a:noFill/>
          </a:ln>
        </p:spPr>
      </p:pic>
      <p:sp>
        <p:nvSpPr>
          <p:cNvPr id="456" name="矩形 49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8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1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2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3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4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5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6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7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8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9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0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5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8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9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0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1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2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3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4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5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7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8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9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0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5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6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497" name="Picture 3" descr=""/>
          <p:cNvPicPr/>
          <p:nvPr/>
        </p:nvPicPr>
        <p:blipFill>
          <a:blip r:embed="rId1"/>
          <a:stretch/>
        </p:blipFill>
        <p:spPr>
          <a:xfrm>
            <a:off x="2514600" y="2197080"/>
            <a:ext cx="4012920" cy="482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3" descr=""/>
          <p:cNvPicPr/>
          <p:nvPr/>
        </p:nvPicPr>
        <p:blipFill>
          <a:blip r:embed="rId2"/>
          <a:stretch/>
        </p:blipFill>
        <p:spPr>
          <a:xfrm>
            <a:off x="0" y="3073320"/>
            <a:ext cx="9143640" cy="3784320"/>
          </a:xfrm>
          <a:prstGeom prst="rect">
            <a:avLst/>
          </a:prstGeom>
          <a:ln w="0">
            <a:noFill/>
          </a:ln>
        </p:spPr>
      </p:pic>
      <p:sp>
        <p:nvSpPr>
          <p:cNvPr id="499" name="矩形 43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" name="矩形 4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01" name="矩形 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3" name="Freeform 3"/>
          <p:cNvSpPr/>
          <p:nvPr/>
        </p:nvSpPr>
        <p:spPr>
          <a:xfrm>
            <a:off x="-1440" y="64616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4" name="Freeform 3"/>
          <p:cNvSpPr/>
          <p:nvPr/>
        </p:nvSpPr>
        <p:spPr>
          <a:xfrm>
            <a:off x="-1440" y="610092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5" name="Freeform 3"/>
          <p:cNvSpPr/>
          <p:nvPr/>
        </p:nvSpPr>
        <p:spPr>
          <a:xfrm>
            <a:off x="-1440" y="57405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d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6" name="Freeform 3"/>
          <p:cNvSpPr/>
          <p:nvPr/>
        </p:nvSpPr>
        <p:spPr>
          <a:xfrm>
            <a:off x="-1440" y="53784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c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Freeform 3"/>
          <p:cNvSpPr/>
          <p:nvPr/>
        </p:nvSpPr>
        <p:spPr>
          <a:xfrm>
            <a:off x="-1440" y="50176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b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Freeform 3"/>
          <p:cNvSpPr/>
          <p:nvPr/>
        </p:nvSpPr>
        <p:spPr>
          <a:xfrm>
            <a:off x="-1440" y="46569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a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9" name="Freeform 3"/>
          <p:cNvSpPr/>
          <p:nvPr/>
        </p:nvSpPr>
        <p:spPr>
          <a:xfrm>
            <a:off x="-1440" y="42951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9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0" name="Freeform 3"/>
          <p:cNvSpPr/>
          <p:nvPr/>
        </p:nvSpPr>
        <p:spPr>
          <a:xfrm>
            <a:off x="-1440" y="39344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8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1" name="Freeform 3"/>
          <p:cNvSpPr/>
          <p:nvPr/>
        </p:nvSpPr>
        <p:spPr>
          <a:xfrm>
            <a:off x="-1440" y="3573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7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2" name="Freeform 3"/>
          <p:cNvSpPr/>
          <p:nvPr/>
        </p:nvSpPr>
        <p:spPr>
          <a:xfrm>
            <a:off x="-1440" y="321300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6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3" name="Freeform 3"/>
          <p:cNvSpPr/>
          <p:nvPr/>
        </p:nvSpPr>
        <p:spPr>
          <a:xfrm>
            <a:off x="-1440" y="28512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5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4" name="Freeform 3"/>
          <p:cNvSpPr/>
          <p:nvPr/>
        </p:nvSpPr>
        <p:spPr>
          <a:xfrm>
            <a:off x="-1440" y="24904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4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Freeform 3"/>
          <p:cNvSpPr/>
          <p:nvPr/>
        </p:nvSpPr>
        <p:spPr>
          <a:xfrm>
            <a:off x="-1440" y="21297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39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3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6" name="Freeform 3"/>
          <p:cNvSpPr/>
          <p:nvPr/>
        </p:nvSpPr>
        <p:spPr>
          <a:xfrm>
            <a:off x="-1440" y="17679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2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7" name="Freeform 3"/>
          <p:cNvSpPr/>
          <p:nvPr/>
        </p:nvSpPr>
        <p:spPr>
          <a:xfrm>
            <a:off x="-1440" y="14072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1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-1440" y="10465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0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-1440" y="6843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f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0" name="Freeform 3"/>
          <p:cNvSpPr/>
          <p:nvPr/>
        </p:nvSpPr>
        <p:spPr>
          <a:xfrm>
            <a:off x="-1440" y="3240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e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1" name="Freeform 3"/>
          <p:cNvSpPr/>
          <p:nvPr/>
        </p:nvSpPr>
        <p:spPr>
          <a:xfrm>
            <a:off x="-1440" y="-36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9d1c4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2" name="Freeform 3"/>
          <p:cNvSpPr/>
          <p:nvPr/>
        </p:nvSpPr>
        <p:spPr>
          <a:xfrm>
            <a:off x="3627360" y="2051640"/>
            <a:ext cx="61920" cy="478080"/>
          </a:xfrm>
          <a:custGeom>
            <a:avLst/>
            <a:gdLst>
              <a:gd name="textAreaLeft" fmla="*/ 0 w 61920"/>
              <a:gd name="textAreaRight" fmla="*/ 62280 w 6192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62382" h="478320">
                <a:moveTo>
                  <a:pt x="31191" y="0"/>
                </a:moveTo>
                <a:lnTo>
                  <a:pt x="31191" y="478320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3754440" y="2107440"/>
            <a:ext cx="192960" cy="421920"/>
          </a:xfrm>
          <a:custGeom>
            <a:avLst/>
            <a:gdLst>
              <a:gd name="textAreaLeft" fmla="*/ 0 w 192960"/>
              <a:gd name="textAreaRight" fmla="*/ 193320 w 19296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193497" h="422262">
                <a:moveTo>
                  <a:pt x="0" y="135343"/>
                </a:moveTo>
                <a:lnTo>
                  <a:pt x="58000" y="135343"/>
                </a:lnTo>
                <a:lnTo>
                  <a:pt x="58000" y="349148"/>
                </a:lnTo>
                <a:cubicBezTo>
                  <a:pt x="58000" y="405206"/>
                  <a:pt x="85128" y="422262"/>
                  <a:pt x="141998" y="422262"/>
                </a:cubicBezTo>
                <a:cubicBezTo>
                  <a:pt x="164413" y="422262"/>
                  <a:pt x="182283" y="420154"/>
                  <a:pt x="193497" y="418033"/>
                </a:cubicBezTo>
                <a:lnTo>
                  <a:pt x="193497" y="367017"/>
                </a:lnTo>
                <a:cubicBezTo>
                  <a:pt x="188302" y="368325"/>
                  <a:pt x="176606" y="370268"/>
                  <a:pt x="164096" y="370268"/>
                </a:cubicBezTo>
                <a:cubicBezTo>
                  <a:pt x="120383" y="370268"/>
                  <a:pt x="120383" y="343458"/>
                  <a:pt x="120383" y="327545"/>
                </a:cubicBezTo>
                <a:lnTo>
                  <a:pt x="120383" y="135343"/>
                </a:lnTo>
                <a:lnTo>
                  <a:pt x="193497" y="135343"/>
                </a:lnTo>
                <a:lnTo>
                  <a:pt x="193497" y="89522"/>
                </a:lnTo>
                <a:lnTo>
                  <a:pt x="120383" y="89522"/>
                </a:lnTo>
                <a:lnTo>
                  <a:pt x="120383" y="0"/>
                </a:lnTo>
                <a:lnTo>
                  <a:pt x="58000" y="19989"/>
                </a:lnTo>
                <a:lnTo>
                  <a:pt x="58000" y="89522"/>
                </a:lnTo>
                <a:lnTo>
                  <a:pt x="0" y="89522"/>
                </a:lnTo>
                <a:lnTo>
                  <a:pt x="0" y="13534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Freeform 3"/>
          <p:cNvSpPr/>
          <p:nvPr/>
        </p:nvSpPr>
        <p:spPr>
          <a:xfrm>
            <a:off x="4207320" y="2051640"/>
            <a:ext cx="72360" cy="68040"/>
          </a:xfrm>
          <a:custGeom>
            <a:avLst/>
            <a:gdLst>
              <a:gd name="textAreaLeft" fmla="*/ 0 w 72360"/>
              <a:gd name="textAreaRight" fmla="*/ 72720 w 7236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72783" h="68249">
                <a:moveTo>
                  <a:pt x="0" y="68249"/>
                </a:moveTo>
                <a:lnTo>
                  <a:pt x="72783" y="68249"/>
                </a:lnTo>
                <a:lnTo>
                  <a:pt x="72783" y="0"/>
                </a:lnTo>
                <a:lnTo>
                  <a:pt x="0" y="0"/>
                </a:lnTo>
                <a:lnTo>
                  <a:pt x="0" y="68249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3400" bIns="234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4217400" y="2197080"/>
            <a:ext cx="61920" cy="332280"/>
          </a:xfrm>
          <a:custGeom>
            <a:avLst/>
            <a:gdLst>
              <a:gd name="textAreaLeft" fmla="*/ 0 w 61920"/>
              <a:gd name="textAreaRight" fmla="*/ 62280 w 61920"/>
              <a:gd name="textAreaTop" fmla="*/ 0 h 332280"/>
              <a:gd name="textAreaBottom" fmla="*/ 332640 h 332280"/>
            </a:gdLst>
            <a:ahLst/>
            <a:rect l="textAreaLeft" t="textAreaTop" r="textAreaRight" b="textAreaBottom"/>
            <a:pathLst>
              <a:path w="62395" h="332739">
                <a:moveTo>
                  <a:pt x="31197" y="0"/>
                </a:moveTo>
                <a:lnTo>
                  <a:pt x="31197" y="332739"/>
                </a:lnTo>
              </a:path>
            </a:pathLst>
          </a:custGeom>
          <a:noFill/>
          <a:ln w="50800">
            <a:solidFill>
              <a:srgbClr val="ffffff"/>
            </a:solidFill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Freeform 3"/>
          <p:cNvSpPr/>
          <p:nvPr/>
        </p:nvSpPr>
        <p:spPr>
          <a:xfrm>
            <a:off x="4364280" y="2197080"/>
            <a:ext cx="266040" cy="342720"/>
          </a:xfrm>
          <a:custGeom>
            <a:avLst/>
            <a:gdLst>
              <a:gd name="textAreaLeft" fmla="*/ 0 w 266040"/>
              <a:gd name="textAreaRight" fmla="*/ 266400 w 2660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66458" h="343141">
                <a:moveTo>
                  <a:pt x="0" y="232498"/>
                </a:moveTo>
                <a:cubicBezTo>
                  <a:pt x="-647" y="314705"/>
                  <a:pt x="60604" y="343141"/>
                  <a:pt x="126403" y="343141"/>
                </a:cubicBezTo>
                <a:cubicBezTo>
                  <a:pt x="160032" y="343141"/>
                  <a:pt x="194157" y="338594"/>
                  <a:pt x="222593" y="320878"/>
                </a:cubicBezTo>
                <a:cubicBezTo>
                  <a:pt x="246469" y="305765"/>
                  <a:pt x="266458" y="274091"/>
                  <a:pt x="266458" y="237375"/>
                </a:cubicBezTo>
                <a:cubicBezTo>
                  <a:pt x="266458" y="216407"/>
                  <a:pt x="260121" y="193344"/>
                  <a:pt x="242087" y="176276"/>
                </a:cubicBezTo>
                <a:cubicBezTo>
                  <a:pt x="222910" y="157924"/>
                  <a:pt x="203580" y="152565"/>
                  <a:pt x="114376" y="130949"/>
                </a:cubicBezTo>
                <a:cubicBezTo>
                  <a:pt x="97815" y="126403"/>
                  <a:pt x="68884" y="119087"/>
                  <a:pt x="68884" y="88874"/>
                </a:cubicBezTo>
                <a:cubicBezTo>
                  <a:pt x="68884" y="41592"/>
                  <a:pt x="127698" y="41592"/>
                  <a:pt x="137121" y="41592"/>
                </a:cubicBezTo>
                <a:cubicBezTo>
                  <a:pt x="159867" y="41592"/>
                  <a:pt x="204063" y="45491"/>
                  <a:pt x="202120" y="94399"/>
                </a:cubicBezTo>
                <a:lnTo>
                  <a:pt x="258330" y="94399"/>
                </a:lnTo>
                <a:cubicBezTo>
                  <a:pt x="258330" y="80911"/>
                  <a:pt x="258330" y="65963"/>
                  <a:pt x="249885" y="48577"/>
                </a:cubicBezTo>
                <a:cubicBezTo>
                  <a:pt x="230542" y="11214"/>
                  <a:pt x="173685" y="0"/>
                  <a:pt x="133070" y="0"/>
                </a:cubicBezTo>
                <a:cubicBezTo>
                  <a:pt x="58165" y="0"/>
                  <a:pt x="6502" y="38341"/>
                  <a:pt x="6502" y="96989"/>
                </a:cubicBezTo>
                <a:cubicBezTo>
                  <a:pt x="6502" y="164096"/>
                  <a:pt x="63855" y="177419"/>
                  <a:pt x="132410" y="192849"/>
                </a:cubicBezTo>
                <a:cubicBezTo>
                  <a:pt x="181318" y="203733"/>
                  <a:pt x="204063" y="209423"/>
                  <a:pt x="204063" y="240779"/>
                </a:cubicBezTo>
                <a:cubicBezTo>
                  <a:pt x="204063" y="251510"/>
                  <a:pt x="200329" y="262394"/>
                  <a:pt x="193992" y="270675"/>
                </a:cubicBezTo>
                <a:cubicBezTo>
                  <a:pt x="181483" y="286600"/>
                  <a:pt x="163118" y="291147"/>
                  <a:pt x="138747" y="291147"/>
                </a:cubicBezTo>
                <a:cubicBezTo>
                  <a:pt x="81394" y="291147"/>
                  <a:pt x="68884" y="257022"/>
                  <a:pt x="68884" y="232498"/>
                </a:cubicBezTo>
                <a:lnTo>
                  <a:pt x="0" y="232498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7" name="Freeform 3"/>
          <p:cNvSpPr/>
          <p:nvPr/>
        </p:nvSpPr>
        <p:spPr>
          <a:xfrm>
            <a:off x="4734720" y="2186640"/>
            <a:ext cx="280440" cy="342720"/>
          </a:xfrm>
          <a:custGeom>
            <a:avLst/>
            <a:gdLst>
              <a:gd name="textAreaLeft" fmla="*/ 0 w 280440"/>
              <a:gd name="textAreaRight" fmla="*/ 280800 w 28044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280746" h="343141">
                <a:moveTo>
                  <a:pt x="0" y="343141"/>
                </a:moveTo>
                <a:lnTo>
                  <a:pt x="62395" y="343141"/>
                </a:lnTo>
                <a:lnTo>
                  <a:pt x="62395" y="151422"/>
                </a:lnTo>
                <a:cubicBezTo>
                  <a:pt x="62395" y="84493"/>
                  <a:pt x="102196" y="51993"/>
                  <a:pt x="145084" y="51993"/>
                </a:cubicBezTo>
                <a:cubicBezTo>
                  <a:pt x="165392" y="51993"/>
                  <a:pt x="186194" y="59308"/>
                  <a:pt x="201307" y="74574"/>
                </a:cubicBezTo>
                <a:cubicBezTo>
                  <a:pt x="215760" y="89852"/>
                  <a:pt x="218363" y="109677"/>
                  <a:pt x="218363" y="131610"/>
                </a:cubicBezTo>
                <a:lnTo>
                  <a:pt x="218363" y="343141"/>
                </a:lnTo>
                <a:lnTo>
                  <a:pt x="280746" y="343141"/>
                </a:lnTo>
                <a:lnTo>
                  <a:pt x="280746" y="114541"/>
                </a:lnTo>
                <a:cubicBezTo>
                  <a:pt x="280746" y="11379"/>
                  <a:pt x="193509" y="0"/>
                  <a:pt x="164909" y="0"/>
                </a:cubicBezTo>
                <a:cubicBezTo>
                  <a:pt x="92290" y="0"/>
                  <a:pt x="69380" y="49072"/>
                  <a:pt x="62395" y="63855"/>
                </a:cubicBezTo>
                <a:lnTo>
                  <a:pt x="62395" y="10401"/>
                </a:lnTo>
                <a:lnTo>
                  <a:pt x="0" y="10401"/>
                </a:lnTo>
                <a:lnTo>
                  <a:pt x="0" y="48742"/>
                </a:lnTo>
                <a:lnTo>
                  <a:pt x="0" y="343141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8" name="Freeform 3"/>
          <p:cNvSpPr/>
          <p:nvPr/>
        </p:nvSpPr>
        <p:spPr>
          <a:xfrm>
            <a:off x="5108760" y="2051640"/>
            <a:ext cx="117000" cy="162720"/>
          </a:xfrm>
          <a:custGeom>
            <a:avLst/>
            <a:gdLst>
              <a:gd name="textAreaLeft" fmla="*/ 0 w 117000"/>
              <a:gd name="textAreaRight" fmla="*/ 117360 w 117000"/>
              <a:gd name="textAreaTop" fmla="*/ 0 h 162720"/>
              <a:gd name="textAreaBottom" fmla="*/ 163080 h 162720"/>
            </a:gdLst>
            <a:ahLst/>
            <a:rect l="textAreaLeft" t="textAreaTop" r="textAreaRight" b="textAreaBottom"/>
            <a:pathLst>
              <a:path w="117475" h="163131">
                <a:moveTo>
                  <a:pt x="42405" y="0"/>
                </a:moveTo>
                <a:lnTo>
                  <a:pt x="0" y="163131"/>
                </a:lnTo>
                <a:lnTo>
                  <a:pt x="44361" y="163131"/>
                </a:lnTo>
                <a:lnTo>
                  <a:pt x="117475" y="0"/>
                </a:lnTo>
                <a:lnTo>
                  <a:pt x="42405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9" name="Freeform 3"/>
          <p:cNvSpPr/>
          <p:nvPr/>
        </p:nvSpPr>
        <p:spPr>
          <a:xfrm>
            <a:off x="5266080" y="2107440"/>
            <a:ext cx="193320" cy="421920"/>
          </a:xfrm>
          <a:custGeom>
            <a:avLst/>
            <a:gdLst>
              <a:gd name="textAreaLeft" fmla="*/ 0 w 193320"/>
              <a:gd name="textAreaRight" fmla="*/ 193680 w 193320"/>
              <a:gd name="textAreaTop" fmla="*/ 0 h 421920"/>
              <a:gd name="textAreaBottom" fmla="*/ 422280 h 421920"/>
            </a:gdLst>
            <a:ahLst/>
            <a:rect l="textAreaLeft" t="textAreaTop" r="textAreaRight" b="textAreaBottom"/>
            <a:pathLst>
              <a:path w="193509" h="422262">
                <a:moveTo>
                  <a:pt x="0" y="135343"/>
                </a:moveTo>
                <a:lnTo>
                  <a:pt x="58013" y="135343"/>
                </a:lnTo>
                <a:lnTo>
                  <a:pt x="58013" y="349148"/>
                </a:lnTo>
                <a:cubicBezTo>
                  <a:pt x="58013" y="405206"/>
                  <a:pt x="85140" y="422262"/>
                  <a:pt x="141998" y="422262"/>
                </a:cubicBezTo>
                <a:cubicBezTo>
                  <a:pt x="164426" y="422262"/>
                  <a:pt x="182295" y="420154"/>
                  <a:pt x="193509" y="418033"/>
                </a:cubicBezTo>
                <a:lnTo>
                  <a:pt x="193509" y="367017"/>
                </a:lnTo>
                <a:cubicBezTo>
                  <a:pt x="188302" y="368325"/>
                  <a:pt x="176606" y="370268"/>
                  <a:pt x="164096" y="370268"/>
                </a:cubicBezTo>
                <a:cubicBezTo>
                  <a:pt x="120395" y="370268"/>
                  <a:pt x="120395" y="343458"/>
                  <a:pt x="120395" y="327545"/>
                </a:cubicBezTo>
                <a:lnTo>
                  <a:pt x="120395" y="135343"/>
                </a:lnTo>
                <a:lnTo>
                  <a:pt x="193509" y="135343"/>
                </a:lnTo>
                <a:lnTo>
                  <a:pt x="193509" y="89522"/>
                </a:lnTo>
                <a:lnTo>
                  <a:pt x="120395" y="89522"/>
                </a:lnTo>
                <a:lnTo>
                  <a:pt x="120395" y="0"/>
                </a:lnTo>
                <a:lnTo>
                  <a:pt x="58013" y="19989"/>
                </a:lnTo>
                <a:lnTo>
                  <a:pt x="58013" y="89522"/>
                </a:lnTo>
                <a:lnTo>
                  <a:pt x="0" y="89522"/>
                </a:lnTo>
                <a:lnTo>
                  <a:pt x="0" y="135343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0" y="3060720"/>
            <a:ext cx="9143640" cy="3796920"/>
          </a:xfrm>
          <a:prstGeom prst="rect">
            <a:avLst/>
          </a:prstGeom>
          <a:ln w="0">
            <a:noFill/>
          </a:ln>
        </p:spPr>
      </p:pic>
      <p:sp>
        <p:nvSpPr>
          <p:cNvPr id="531" name="矩形 30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197640" y="61898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4" name="矩形 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6" name="矩形 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38" name="矩形 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Freeform 3"/>
          <p:cNvSpPr/>
          <p:nvPr/>
        </p:nvSpPr>
        <p:spPr>
          <a:xfrm>
            <a:off x="-1440" y="64616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1" name="Freeform 3"/>
          <p:cNvSpPr/>
          <p:nvPr/>
        </p:nvSpPr>
        <p:spPr>
          <a:xfrm>
            <a:off x="-1440" y="610092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2" name="Freeform 3"/>
          <p:cNvSpPr/>
          <p:nvPr/>
        </p:nvSpPr>
        <p:spPr>
          <a:xfrm>
            <a:off x="-1440" y="57405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d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3" name="Freeform 3"/>
          <p:cNvSpPr/>
          <p:nvPr/>
        </p:nvSpPr>
        <p:spPr>
          <a:xfrm>
            <a:off x="-1440" y="53784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c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4" name="Freeform 3"/>
          <p:cNvSpPr/>
          <p:nvPr/>
        </p:nvSpPr>
        <p:spPr>
          <a:xfrm>
            <a:off x="-1440" y="50176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b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5" name="Freeform 3"/>
          <p:cNvSpPr/>
          <p:nvPr/>
        </p:nvSpPr>
        <p:spPr>
          <a:xfrm>
            <a:off x="-1440" y="46569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a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6" name="Freeform 3"/>
          <p:cNvSpPr/>
          <p:nvPr/>
        </p:nvSpPr>
        <p:spPr>
          <a:xfrm>
            <a:off x="-1440" y="42951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9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7" name="Freeform 3"/>
          <p:cNvSpPr/>
          <p:nvPr/>
        </p:nvSpPr>
        <p:spPr>
          <a:xfrm>
            <a:off x="-1440" y="39344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8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8" name="Freeform 3"/>
          <p:cNvSpPr/>
          <p:nvPr/>
        </p:nvSpPr>
        <p:spPr>
          <a:xfrm>
            <a:off x="-1440" y="3573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7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9" name="Freeform 3"/>
          <p:cNvSpPr/>
          <p:nvPr/>
        </p:nvSpPr>
        <p:spPr>
          <a:xfrm>
            <a:off x="-1440" y="321300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6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0" name="Freeform 3"/>
          <p:cNvSpPr/>
          <p:nvPr/>
        </p:nvSpPr>
        <p:spPr>
          <a:xfrm>
            <a:off x="-1440" y="28512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5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1" name="Freeform 3"/>
          <p:cNvSpPr/>
          <p:nvPr/>
        </p:nvSpPr>
        <p:spPr>
          <a:xfrm>
            <a:off x="-1440" y="24904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4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2" name="Freeform 3"/>
          <p:cNvSpPr/>
          <p:nvPr/>
        </p:nvSpPr>
        <p:spPr>
          <a:xfrm>
            <a:off x="-1440" y="21297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39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3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3" name="Freeform 3"/>
          <p:cNvSpPr/>
          <p:nvPr/>
        </p:nvSpPr>
        <p:spPr>
          <a:xfrm>
            <a:off x="-1440" y="17679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2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4" name="Freeform 3"/>
          <p:cNvSpPr/>
          <p:nvPr/>
        </p:nvSpPr>
        <p:spPr>
          <a:xfrm>
            <a:off x="-1440" y="14072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1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5" name="Freeform 3"/>
          <p:cNvSpPr/>
          <p:nvPr/>
        </p:nvSpPr>
        <p:spPr>
          <a:xfrm>
            <a:off x="-1440" y="10465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0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6" name="Freeform 3"/>
          <p:cNvSpPr/>
          <p:nvPr/>
        </p:nvSpPr>
        <p:spPr>
          <a:xfrm>
            <a:off x="-1440" y="6843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f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7" name="Freeform 3"/>
          <p:cNvSpPr/>
          <p:nvPr/>
        </p:nvSpPr>
        <p:spPr>
          <a:xfrm>
            <a:off x="-1440" y="3240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e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8" name="Freeform 3"/>
          <p:cNvSpPr/>
          <p:nvPr/>
        </p:nvSpPr>
        <p:spPr>
          <a:xfrm>
            <a:off x="-1440" y="-36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9d1c4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0" y="1739880"/>
            <a:ext cx="9143640" cy="5117760"/>
          </a:xfrm>
          <a:prstGeom prst="rect">
            <a:avLst/>
          </a:prstGeom>
          <a:ln w="0">
            <a:noFill/>
          </a:ln>
        </p:spPr>
      </p:pic>
      <p:sp>
        <p:nvSpPr>
          <p:cNvPr id="560" name="矩形 2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2" name="Freeform 3"/>
          <p:cNvSpPr/>
          <p:nvPr/>
        </p:nvSpPr>
        <p:spPr>
          <a:xfrm>
            <a:off x="-1440" y="64616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3" name="Freeform 3"/>
          <p:cNvSpPr/>
          <p:nvPr/>
        </p:nvSpPr>
        <p:spPr>
          <a:xfrm>
            <a:off x="-1440" y="610092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Freeform 3"/>
          <p:cNvSpPr/>
          <p:nvPr/>
        </p:nvSpPr>
        <p:spPr>
          <a:xfrm>
            <a:off x="-1440" y="57405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d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5" name="Freeform 3"/>
          <p:cNvSpPr/>
          <p:nvPr/>
        </p:nvSpPr>
        <p:spPr>
          <a:xfrm>
            <a:off x="-1440" y="53784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c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6" name="Freeform 3"/>
          <p:cNvSpPr/>
          <p:nvPr/>
        </p:nvSpPr>
        <p:spPr>
          <a:xfrm>
            <a:off x="-1440" y="50176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b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7" name="Freeform 3"/>
          <p:cNvSpPr/>
          <p:nvPr/>
        </p:nvSpPr>
        <p:spPr>
          <a:xfrm>
            <a:off x="-1440" y="46569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a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8" name="Freeform 3"/>
          <p:cNvSpPr/>
          <p:nvPr/>
        </p:nvSpPr>
        <p:spPr>
          <a:xfrm>
            <a:off x="-1440" y="42951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9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Freeform 3"/>
          <p:cNvSpPr/>
          <p:nvPr/>
        </p:nvSpPr>
        <p:spPr>
          <a:xfrm>
            <a:off x="-1440" y="39344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8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0" name="Freeform 3"/>
          <p:cNvSpPr/>
          <p:nvPr/>
        </p:nvSpPr>
        <p:spPr>
          <a:xfrm>
            <a:off x="-1440" y="3573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7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1" name="Freeform 3"/>
          <p:cNvSpPr/>
          <p:nvPr/>
        </p:nvSpPr>
        <p:spPr>
          <a:xfrm>
            <a:off x="-1440" y="321300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6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2" name="Freeform 3"/>
          <p:cNvSpPr/>
          <p:nvPr/>
        </p:nvSpPr>
        <p:spPr>
          <a:xfrm>
            <a:off x="-1440" y="28512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5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3" name="Freeform 3"/>
          <p:cNvSpPr/>
          <p:nvPr/>
        </p:nvSpPr>
        <p:spPr>
          <a:xfrm>
            <a:off x="-1440" y="24904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4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Freeform 3"/>
          <p:cNvSpPr/>
          <p:nvPr/>
        </p:nvSpPr>
        <p:spPr>
          <a:xfrm>
            <a:off x="-1440" y="21297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39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3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5" name="Freeform 3"/>
          <p:cNvSpPr/>
          <p:nvPr/>
        </p:nvSpPr>
        <p:spPr>
          <a:xfrm>
            <a:off x="-1440" y="17679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2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Freeform 3"/>
          <p:cNvSpPr/>
          <p:nvPr/>
        </p:nvSpPr>
        <p:spPr>
          <a:xfrm>
            <a:off x="-1440" y="14072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1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7" name="Freeform 3"/>
          <p:cNvSpPr/>
          <p:nvPr/>
        </p:nvSpPr>
        <p:spPr>
          <a:xfrm>
            <a:off x="-1440" y="10465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0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Freeform 3"/>
          <p:cNvSpPr/>
          <p:nvPr/>
        </p:nvSpPr>
        <p:spPr>
          <a:xfrm>
            <a:off x="-1440" y="6843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f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9" name="Freeform 3"/>
          <p:cNvSpPr/>
          <p:nvPr/>
        </p:nvSpPr>
        <p:spPr>
          <a:xfrm>
            <a:off x="-1440" y="3240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e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0" name="Freeform 3"/>
          <p:cNvSpPr/>
          <p:nvPr/>
        </p:nvSpPr>
        <p:spPr>
          <a:xfrm>
            <a:off x="-1440" y="-36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9d1c4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>
            <a:off x="0" y="1739880"/>
            <a:ext cx="9143640" cy="5117760"/>
          </a:xfrm>
          <a:prstGeom prst="rect">
            <a:avLst/>
          </a:prstGeom>
          <a:ln w="0">
            <a:noFill/>
          </a:ln>
        </p:spPr>
      </p:pic>
      <p:sp>
        <p:nvSpPr>
          <p:cNvPr id="582" name="矩形 2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Freeform 3"/>
          <p:cNvSpPr/>
          <p:nvPr/>
        </p:nvSpPr>
        <p:spPr>
          <a:xfrm>
            <a:off x="-1440" y="64616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5" name="Freeform 3"/>
          <p:cNvSpPr/>
          <p:nvPr/>
        </p:nvSpPr>
        <p:spPr>
          <a:xfrm>
            <a:off x="-1440" y="610092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e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6" name="Freeform 3"/>
          <p:cNvSpPr/>
          <p:nvPr/>
        </p:nvSpPr>
        <p:spPr>
          <a:xfrm>
            <a:off x="-1440" y="57405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d1e4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Freeform 3"/>
          <p:cNvSpPr/>
          <p:nvPr/>
        </p:nvSpPr>
        <p:spPr>
          <a:xfrm>
            <a:off x="-1440" y="53784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c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-1440" y="50176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b1e4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9" name="Freeform 3"/>
          <p:cNvSpPr/>
          <p:nvPr/>
        </p:nvSpPr>
        <p:spPr>
          <a:xfrm>
            <a:off x="-1440" y="46569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a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0" name="Freeform 3"/>
          <p:cNvSpPr/>
          <p:nvPr/>
        </p:nvSpPr>
        <p:spPr>
          <a:xfrm>
            <a:off x="-1440" y="42951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91e4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Freeform 3"/>
          <p:cNvSpPr/>
          <p:nvPr/>
        </p:nvSpPr>
        <p:spPr>
          <a:xfrm>
            <a:off x="-1440" y="39344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8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2" name="Freeform 3"/>
          <p:cNvSpPr/>
          <p:nvPr/>
        </p:nvSpPr>
        <p:spPr>
          <a:xfrm>
            <a:off x="-1440" y="3573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71d4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3" name="Freeform 3"/>
          <p:cNvSpPr/>
          <p:nvPr/>
        </p:nvSpPr>
        <p:spPr>
          <a:xfrm>
            <a:off x="-1440" y="321300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40"/>
                </a:moveTo>
                <a:lnTo>
                  <a:pt x="0" y="3962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40"/>
                </a:lnTo>
              </a:path>
            </a:pathLst>
          </a:custGeom>
          <a:solidFill>
            <a:srgbClr val="a6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4" name="Freeform 3"/>
          <p:cNvSpPr/>
          <p:nvPr/>
        </p:nvSpPr>
        <p:spPr>
          <a:xfrm>
            <a:off x="-1440" y="28512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5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5" name="Freeform 3"/>
          <p:cNvSpPr/>
          <p:nvPr/>
        </p:nvSpPr>
        <p:spPr>
          <a:xfrm>
            <a:off x="-1440" y="249048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a41d4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Freeform 3"/>
          <p:cNvSpPr/>
          <p:nvPr/>
        </p:nvSpPr>
        <p:spPr>
          <a:xfrm>
            <a:off x="-1440" y="212976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39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3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-1440" y="17679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21d4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8" name="Freeform 3"/>
          <p:cNvSpPr/>
          <p:nvPr/>
        </p:nvSpPr>
        <p:spPr>
          <a:xfrm>
            <a:off x="-1440" y="140724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10">
                <a:moveTo>
                  <a:pt x="9146539" y="397510"/>
                </a:moveTo>
                <a:lnTo>
                  <a:pt x="0" y="397510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10"/>
                </a:lnTo>
              </a:path>
            </a:pathLst>
          </a:custGeom>
          <a:solidFill>
            <a:srgbClr val="a1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9" name="Freeform 3"/>
          <p:cNvSpPr/>
          <p:nvPr/>
        </p:nvSpPr>
        <p:spPr>
          <a:xfrm>
            <a:off x="-1440" y="10465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a01c4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0" name="Freeform 3"/>
          <p:cNvSpPr/>
          <p:nvPr/>
        </p:nvSpPr>
        <p:spPr>
          <a:xfrm>
            <a:off x="-1440" y="68436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f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1" name="Freeform 3"/>
          <p:cNvSpPr/>
          <p:nvPr/>
        </p:nvSpPr>
        <p:spPr>
          <a:xfrm>
            <a:off x="-1440" y="324000"/>
            <a:ext cx="9146160" cy="3970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9146540" h="397509">
                <a:moveTo>
                  <a:pt x="9146539" y="397509"/>
                </a:moveTo>
                <a:lnTo>
                  <a:pt x="0" y="39750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7509"/>
                </a:lnTo>
              </a:path>
            </a:pathLst>
          </a:custGeom>
          <a:solidFill>
            <a:srgbClr val="9e1c4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2" name="Freeform 3"/>
          <p:cNvSpPr/>
          <p:nvPr/>
        </p:nvSpPr>
        <p:spPr>
          <a:xfrm>
            <a:off x="-1440" y="-36720"/>
            <a:ext cx="9146160" cy="396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396000"/>
              <a:gd name="textAreaBottom" fmla="*/ 396360 h 396000"/>
            </a:gdLst>
            <a:ahLst/>
            <a:rect l="textAreaLeft" t="textAreaTop" r="textAreaRight" b="textAreaBottom"/>
            <a:pathLst>
              <a:path w="9146540" h="396240">
                <a:moveTo>
                  <a:pt x="9146539" y="396239"/>
                </a:moveTo>
                <a:lnTo>
                  <a:pt x="0" y="3962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396239"/>
                </a:lnTo>
              </a:path>
            </a:pathLst>
          </a:custGeom>
          <a:solidFill>
            <a:srgbClr val="9d1c4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603" name="Picture 3" descr=""/>
          <p:cNvPicPr/>
          <p:nvPr/>
        </p:nvPicPr>
        <p:blipFill>
          <a:blip r:embed="rId1"/>
          <a:stretch/>
        </p:blipFill>
        <p:spPr>
          <a:xfrm>
            <a:off x="1866960" y="2209680"/>
            <a:ext cx="5270040" cy="4694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3" descr=""/>
          <p:cNvPicPr/>
          <p:nvPr/>
        </p:nvPicPr>
        <p:blipFill>
          <a:blip r:embed="rId2"/>
          <a:stretch/>
        </p:blipFill>
        <p:spPr>
          <a:xfrm>
            <a:off x="0" y="3073320"/>
            <a:ext cx="9143640" cy="3784320"/>
          </a:xfrm>
          <a:prstGeom prst="rect">
            <a:avLst/>
          </a:prstGeom>
          <a:ln w="0">
            <a:noFill/>
          </a:ln>
        </p:spPr>
      </p:pic>
      <p:sp>
        <p:nvSpPr>
          <p:cNvPr id="605" name="矩形 23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2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65360" y="444600"/>
            <a:ext cx="3911400" cy="2628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0" y="3301920"/>
            <a:ext cx="9143640" cy="3555720"/>
          </a:xfrm>
          <a:prstGeom prst="rect">
            <a:avLst/>
          </a:prstGeom>
          <a:ln w="0">
            <a:noFill/>
          </a:ln>
        </p:spPr>
      </p:pic>
      <p:sp>
        <p:nvSpPr>
          <p:cNvPr id="96" name="矩形 43">
            <a:hlinkClick r:id="rId3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0" y="4406760"/>
            <a:ext cx="9143640" cy="2450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108480"/>
          </a:xfrm>
          <a:prstGeom prst="rect">
            <a:avLst/>
          </a:prstGeom>
          <a:ln w="0">
            <a:noFill/>
          </a:ln>
        </p:spPr>
      </p:pic>
      <p:sp>
        <p:nvSpPr>
          <p:cNvPr id="101" name="矩形 5">
            <a:hlinkClick r:id="rId4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3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4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6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4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6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800280"/>
            <a:ext cx="9143640" cy="6057720"/>
          </a:xfrm>
          <a:prstGeom prst="rect">
            <a:avLst/>
          </a:prstGeom>
          <a:ln w="0">
            <a:noFill/>
          </a:ln>
        </p:spPr>
      </p:pic>
      <p:sp>
        <p:nvSpPr>
          <p:cNvPr id="143" name="矩形 4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6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7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9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0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2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3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7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3640" cy="5638320"/>
          </a:xfrm>
          <a:prstGeom prst="rect">
            <a:avLst/>
          </a:prstGeom>
          <a:ln w="0">
            <a:noFill/>
          </a:ln>
        </p:spPr>
      </p:pic>
      <p:sp>
        <p:nvSpPr>
          <p:cNvPr id="185" name="矩形 4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-1440" y="6666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-1440" y="6489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90a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9" name="Freeform 3"/>
          <p:cNvSpPr/>
          <p:nvPr/>
        </p:nvSpPr>
        <p:spPr>
          <a:xfrm>
            <a:off x="-1440" y="6314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fa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-1440" y="6138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ea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-1440" y="59626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da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-1440" y="578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ca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1440" y="56109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ba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-1440" y="5434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aa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5" name="Freeform 3"/>
          <p:cNvSpPr/>
          <p:nvPr/>
        </p:nvSpPr>
        <p:spPr>
          <a:xfrm>
            <a:off x="-1440" y="525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9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-1440" y="5082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8a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-1440" y="49071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7a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-1440" y="4730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6a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-1440" y="45554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5a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-1440" y="4379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49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-1440" y="42037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39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-1440" y="402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829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-1440" y="38520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1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-1440" y="3675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809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-1440" y="3500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f9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-1440" y="3323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e9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-1440" y="31482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d9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-1440" y="2971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c98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-1440" y="27964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b97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-1440" y="2620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a96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-1440" y="24447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9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-1440" y="22683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895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-1440" y="20930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794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-1440" y="19162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693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Freeform 3"/>
          <p:cNvSpPr/>
          <p:nvPr/>
        </p:nvSpPr>
        <p:spPr>
          <a:xfrm>
            <a:off x="-1440" y="1741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592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Freeform 3"/>
          <p:cNvSpPr/>
          <p:nvPr/>
        </p:nvSpPr>
        <p:spPr>
          <a:xfrm>
            <a:off x="-1440" y="156456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491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-1440" y="13892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390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8" name="Freeform 3"/>
          <p:cNvSpPr/>
          <p:nvPr/>
        </p:nvSpPr>
        <p:spPr>
          <a:xfrm>
            <a:off x="-1440" y="12128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28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Freeform 3"/>
          <p:cNvSpPr/>
          <p:nvPr/>
        </p:nvSpPr>
        <p:spPr>
          <a:xfrm>
            <a:off x="-1440" y="10375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71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Freeform 3"/>
          <p:cNvSpPr/>
          <p:nvPr/>
        </p:nvSpPr>
        <p:spPr>
          <a:xfrm>
            <a:off x="-1440" y="8611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708e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Freeform 3"/>
          <p:cNvSpPr/>
          <p:nvPr/>
        </p:nvSpPr>
        <p:spPr>
          <a:xfrm>
            <a:off x="-1440" y="6858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39"/>
                </a:moveTo>
                <a:lnTo>
                  <a:pt x="0" y="193039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39"/>
                </a:lnTo>
              </a:path>
            </a:pathLst>
          </a:custGeom>
          <a:solidFill>
            <a:srgbClr val="0b6f8d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2" name="Freeform 3"/>
          <p:cNvSpPr/>
          <p:nvPr/>
        </p:nvSpPr>
        <p:spPr>
          <a:xfrm>
            <a:off x="-1440" y="50940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e8c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3" name="Freeform 3"/>
          <p:cNvSpPr/>
          <p:nvPr/>
        </p:nvSpPr>
        <p:spPr>
          <a:xfrm>
            <a:off x="-1440" y="33408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d8b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Freeform 3"/>
          <p:cNvSpPr/>
          <p:nvPr/>
        </p:nvSpPr>
        <p:spPr>
          <a:xfrm>
            <a:off x="-1440" y="15732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40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c8a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Freeform 3"/>
          <p:cNvSpPr/>
          <p:nvPr/>
        </p:nvSpPr>
        <p:spPr>
          <a:xfrm>
            <a:off x="-1440" y="-17640"/>
            <a:ext cx="9146160" cy="1926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92600"/>
              <a:gd name="textAreaBottom" fmla="*/ 192960 h 192600"/>
            </a:gdLst>
            <a:ahLst/>
            <a:rect l="textAreaLeft" t="textAreaTop" r="textAreaRight" b="textAreaBottom"/>
            <a:pathLst>
              <a:path w="9146540" h="193039">
                <a:moveTo>
                  <a:pt x="9146539" y="193040"/>
                </a:moveTo>
                <a:lnTo>
                  <a:pt x="0" y="193040"/>
                </a:lnTo>
                <a:lnTo>
                  <a:pt x="0" y="0"/>
                </a:lnTo>
                <a:lnTo>
                  <a:pt x="9146539" y="0"/>
                </a:lnTo>
                <a:lnTo>
                  <a:pt x="9146539" y="193040"/>
                </a:lnTo>
              </a:path>
            </a:pathLst>
          </a:custGeom>
          <a:solidFill>
            <a:srgbClr val="0b6b89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749160"/>
            <a:ext cx="9143640" cy="6108480"/>
          </a:xfrm>
          <a:prstGeom prst="rect">
            <a:avLst/>
          </a:prstGeom>
          <a:ln w="0">
            <a:noFill/>
          </a:ln>
        </p:spPr>
      </p:pic>
      <p:sp>
        <p:nvSpPr>
          <p:cNvPr id="227" name="矩形 42">
            <a:hlinkClick r:id="rId2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152280" y="63133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0" y="4406760"/>
            <a:ext cx="9143640" cy="2450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320800"/>
          </a:xfrm>
          <a:prstGeom prst="rect">
            <a:avLst/>
          </a:prstGeom>
          <a:ln w="0">
            <a:noFill/>
          </a:ln>
        </p:spPr>
      </p:pic>
      <p:sp>
        <p:nvSpPr>
          <p:cNvPr id="233" name="矩形 5">
            <a:hlinkClick r:id="rId4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3"/>
          <p:cNvSpPr/>
          <p:nvPr/>
        </p:nvSpPr>
        <p:spPr>
          <a:xfrm>
            <a:off x="0" y="0"/>
            <a:ext cx="9143640" cy="6857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700">
            <a:solidFill>
              <a:srgbClr val="000000">
                <a:alpha val="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0" y="4406760"/>
            <a:ext cx="9143640" cy="24508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270040"/>
          </a:xfrm>
          <a:prstGeom prst="rect">
            <a:avLst/>
          </a:prstGeom>
          <a:ln w="0">
            <a:noFill/>
          </a:ln>
        </p:spPr>
      </p:pic>
      <p:sp>
        <p:nvSpPr>
          <p:cNvPr id="238" name="矩形 5">
            <a:hlinkClick r:id="rId4"/>
          </p:cNvPr>
          <p:cNvSpPr/>
          <p:nvPr/>
        </p:nvSpPr>
        <p:spPr>
          <a:xfrm>
            <a:off x="452520" y="857160"/>
            <a:ext cx="8238960" cy="51433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35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  <Words>40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www.pptbz.com</dc:creator>
  <dc:description/>
  <dc:language>en-US</dc:language>
  <cp:lastModifiedBy>a</cp:lastModifiedBy>
  <dcterms:modified xsi:type="dcterms:W3CDTF">2015-07-25T02:19:58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342188</vt:lpwstr>
  </property>
  <property fmtid="{D5CDD505-2E9C-101B-9397-08002B2CF9AE}" pid="3" name="NXPowerLiteVersion">
    <vt:lpwstr>D4.1.4</vt:lpwstr>
  </property>
  <property fmtid="{D5CDD505-2E9C-101B-9397-08002B2CF9AE}" pid="4" name="PresentationFormat">
    <vt:lpwstr>全屏显示(4:3)</vt:lpwstr>
  </property>
  <property fmtid="{D5CDD505-2E9C-101B-9397-08002B2CF9AE}" pid="5" name="Slides">
    <vt:r8>27</vt:r8>
  </property>
</Properties>
</file>