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3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6.jpeg" ContentType="image/jpeg"/>
  <Override PartName="/ppt/media/image24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6.png" ContentType="image/png"/>
  <Override PartName="/ppt/media/image19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2.png" ContentType="image/png"/>
  <Override PartName="/ppt/media/image2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97D8D-8BB3-4A5E-80CF-9693B24CC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3261F-C082-4B4D-A2FB-9CDA541A3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8435C-0E64-4472-B14C-38A3B1AA7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AEDF1-1E46-434E-B65A-BADCECAEE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DD042-7129-43F6-8BCD-9A4E7A7EB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E794C-6C35-48E2-A730-A146EB38F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E985C-CDA9-426D-999B-0E6AF055C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18AF3-7DA2-4BAC-AC99-E37581B07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E93DF-D9C1-48EF-8C17-B50B75171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A885C-FC3B-4C98-8279-5FB922589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37F5E-E489-4463-924E-4FAC6F54E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62CA3-82CE-40F5-B5B6-6E8D6E42D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14180-AC68-49E0-B30C-4FB81317C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BA402-287E-4DDC-94E0-D7B3DF3D5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E052F-A59C-492E-9D42-881E93ABC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E9EAB-E51E-4C48-8F47-B6E35BEAB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C5F59-D5E1-4BC1-953A-F5D776523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C6D82C-F7D0-41BA-87BA-87C86C0AA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D6A1D8-435F-40D9-9F98-5530AAB04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8EB0B0-B020-4EA3-B9F4-7273BC969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2EF090-6EF8-46FB-967F-9E34EA6E0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3E5D17-06F0-4579-862B-966896679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CE5AB-8351-40A8-9B08-4408F9CEF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F9DA95-C55F-4933-A29A-F49892070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2B8F48-6D08-4BBD-9012-C4D1B695C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97AAC4-1AF2-4630-8C12-9918BC2E8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B7CEFF-5607-4DA2-8245-8C95D5E53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4C2B44-F652-45BC-9DD0-9CB179287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373995-11F8-47BE-B681-8211A3BB1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3C5E65-0C43-454C-957F-D94F9605F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AFBE3-1E42-4CA7-890C-41D7B9811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9EAD9-F47E-4692-9701-1D15AAB5C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45B77-1301-4BD4-A894-FC73FC06B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47EEA-4BAC-462E-BBFE-53DDE11F9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0DE6C-CDE6-409D-B768-6B519FE58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74014-81CE-4732-B1CF-7A7CB2CB8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026" descr="C:\My Documents\bits\Expbanna.png"/>
          <p:cNvPicPr/>
          <p:nvPr/>
        </p:nvPicPr>
        <p:blipFill>
          <a:blip r:embed="rId3"/>
          <a:stretch/>
        </p:blipFill>
        <p:spPr>
          <a:xfrm>
            <a:off x="0" y="0"/>
            <a:ext cx="6858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1031" descr="P:\!Themes\Expedition\EXPHORSA.GIF"/>
          <p:cNvPicPr/>
          <p:nvPr/>
        </p:nvPicPr>
        <p:blipFill>
          <a:blip r:embed="rId4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2CA5C-7E64-463F-9F2A-E760ACFE2A2A}" type="datetime">
              <a:rPr b="0" lang="zh-CN" sz="1400" spc="-1" strike="noStrike">
                <a:solidFill>
                  <a:srgbClr val="4824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田德泉制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E5D05-70F5-40A1-A382-9DEAF05EFC13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026" descr="C:\My Documents\bits\Expbanna.png"/>
          <p:cNvPicPr/>
          <p:nvPr/>
        </p:nvPicPr>
        <p:blipFill>
          <a:blip r:embed="rId3"/>
          <a:stretch/>
        </p:blipFill>
        <p:spPr>
          <a:xfrm>
            <a:off x="0" y="0"/>
            <a:ext cx="6858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031" descr="P:\!Themes\Expedition\EXPHORSA.GIF"/>
          <p:cNvPicPr/>
          <p:nvPr/>
        </p:nvPicPr>
        <p:blipFill>
          <a:blip r:embed="rId4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F9EF1-41AF-4A9B-A91B-8C05993FE255}" type="datetime">
              <a:rPr b="0" lang="zh-CN" sz="1400" spc="-1" strike="noStrike">
                <a:solidFill>
                  <a:srgbClr val="4824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田德泉制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6B843-D311-40A6-8CE0-15DFF32EA85E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1026" descr="C:\My Documents\bits\Expbanna.png"/>
          <p:cNvPicPr/>
          <p:nvPr/>
        </p:nvPicPr>
        <p:blipFill>
          <a:blip r:embed="rId3"/>
          <a:stretch/>
        </p:blipFill>
        <p:spPr>
          <a:xfrm>
            <a:off x="0" y="0"/>
            <a:ext cx="685800" cy="68580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031" descr="P:\!Themes\Expedition\EXPHORSA.GIF"/>
          <p:cNvPicPr/>
          <p:nvPr/>
        </p:nvPicPr>
        <p:blipFill>
          <a:blip r:embed="rId4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5C1DC-5186-44F5-9A7B-360718502F95}" type="datetime">
              <a:rPr b="0" lang="zh-CN" sz="1400" spc="-1" strike="noStrike">
                <a:solidFill>
                  <a:srgbClr val="4824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田德泉制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40155-44ED-49E0-99A4-19A8215CFF8F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hyperlink" Target="&#28040;&#38450;&#36710;\&#20030;&#39640;&#36710;\&#24178;&#31881;&#36710;\5260xfpm&#24178;&#31881;&#27873;&#27819;&#36710;.doc" TargetMode="External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hyperlink" Target="&#28040;&#38450;&#36710;\&#20030;&#39640;&#36710;\&#20030;&#39640;&#21943;&#23556;&#36710;\5150&#20027;&#35201;&#25216;&#26415;&#24615;&#33021;&#21442;&#25968;.doc" TargetMode="External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hyperlink" Target="&#28040;&#38450;&#36710;\&#20030;&#39640;&#36710;\&#30331;&#39640;&#36710;\5150&#20027;&#35201;&#25216;&#26415;&#24615;&#33021;&#21442;&#25968;.doc" TargetMode="External"/><Relationship Id="rId7" Type="http://schemas.openxmlformats.org/officeDocument/2006/relationships/image" Target="../media/image20.jpeg"/><Relationship Id="rId8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16.png"/><Relationship Id="rId6" Type="http://schemas.openxmlformats.org/officeDocument/2006/relationships/image" Target="../media/image21.jpeg"/><Relationship Id="rId7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hyperlink" Target="&#28040;&#38450;&#36710;\&#20030;&#39640;&#36710;\&#25250;&#38505;&#25937;&#25588;&#36710;\5130txfkjq46.doc" TargetMode="External"/><Relationship Id="rId6" Type="http://schemas.openxmlformats.org/officeDocument/2006/relationships/image" Target="../media/image22.jpeg"/><Relationship Id="rId7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hyperlink" Target="&#28040;&#38450;&#36710;\&#20030;&#39640;&#36710;\&#25250;&#38505;&#25937;&#25588;&#36710;\&#29031;&#26126;&#36710;\SGX5110TXFQZ-SQ3(SQ5)&#29031;&#26126;&#36710;.jpg" TargetMode="External"/><Relationship Id="rId7" Type="http://schemas.openxmlformats.org/officeDocument/2006/relationships/hyperlink" Target="&#28040;&#38450;&#36710;\&#20030;&#39640;&#36710;\&#25250;&#38505;&#25937;&#25588;&#36710;\&#29031;&#26126;&#36710;\SJD5050TXFZM73&#29031;&#26126;&#36710;.jpg" TargetMode="External"/><Relationship Id="rId8" Type="http://schemas.openxmlformats.org/officeDocument/2006/relationships/hyperlink" Target="&#28040;&#38450;&#36710;\&#20030;&#39640;&#36710;\&#25250;&#38505;&#25937;&#25588;&#36710;\&#29031;&#26126;&#36710;\5050&#29031;&#26126;&#36710;.doc" TargetMode="External"/><Relationship Id="rId9" Type="http://schemas.openxmlformats.org/officeDocument/2006/relationships/image" Target="../media/image23.jpeg"/><Relationship Id="rId10" Type="http://schemas.openxmlformats.org/officeDocument/2006/relationships/image" Target="../media/image24.png"/><Relationship Id="rId1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hyperlink" Target="&#28040;&#38450;&#36710;\&#20030;&#39640;&#36710;\&#25351;&#25381;&#36710;.doc" TargetMode="External"/><Relationship Id="rId6" Type="http://schemas.openxmlformats.org/officeDocument/2006/relationships/image" Target="../media/image25.jpeg"/><Relationship Id="rId7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hyperlink" Target="&#28040;&#38450;&#36710;\&#20154;&#25302;&#25937;&#28779;&#36710;.jpg" TargetMode="External"/><Relationship Id="rId5" Type="http://schemas.openxmlformats.org/officeDocument/2006/relationships/image" Target="../media/image4.png"/><Relationship Id="rId6" Type="http://schemas.openxmlformats.org/officeDocument/2006/relationships/hyperlink" Target="&#28040;&#38450;&#36710;\&#20154;&#21147;&#36710;.jpg" TargetMode="External"/><Relationship Id="rId7" Type="http://schemas.openxmlformats.org/officeDocument/2006/relationships/image" Target="../media/image4.png"/><Relationship Id="rId8" Type="http://schemas.openxmlformats.org/officeDocument/2006/relationships/hyperlink" Target="&#28040;&#38450;&#36710;\&#33258;&#21160;&#25937;&#28779;&#36710;(&#29031;&#26126;&#36710;&#65289;.jpg" TargetMode="External"/><Relationship Id="rId9" Type="http://schemas.openxmlformats.org/officeDocument/2006/relationships/image" Target="../media/image4.png"/><Relationship Id="rId10" Type="http://schemas.openxmlformats.org/officeDocument/2006/relationships/hyperlink" Target="&#28040;&#38450;&#36710;\&#20030;&#39640;&#36710;\&#27700;&#32592;&#12289;&#27873;&#27819;&#36710;\&#21271;&#26041;&#22868;&#39536;&#37325;&#27773;&#31995;&#21015;.jpg" TargetMode="External"/><Relationship Id="rId11" Type="http://schemas.openxmlformats.org/officeDocument/2006/relationships/image" Target="../media/image10.jpeg"/><Relationship Id="rId12" Type="http://schemas.openxmlformats.org/officeDocument/2006/relationships/image" Target="../media/image11.jpeg"/><Relationship Id="rId1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hyperlink" Target="http://www.eeppt.com" TargetMode="External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hyperlink" Target="&#28040;&#38450;&#36710;\&#20030;&#39640;&#36710;\&#27700;&#32592;&#12289;&#27873;&#27819;&#36710;\&#21271;&#26041;&#22868;&#39536;&#37325;&#22411;&#31995;&#21015;.doc" TargetMode="External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hyperlink" Target="&#28040;&#38450;&#36710;\&#20030;&#39640;&#36710;\&#27700;&#32592;&#12289;&#27873;&#27819;&#36710;\&#35299;&#25918;16&#24179;&#26612;&#31995;&#21015;&#31995;&#21015;.doc" TargetMode="External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hyperlink" Target="&#28040;&#38450;&#36710;\&#20030;&#39640;&#36710;\&#27700;&#32592;&#12289;&#27873;&#27819;&#36710;\&#21271;&#26041;&#22868;&#39536;&#37325;&#27773;&#31995;&#21015;.doc" TargetMode="External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hyperlink" Target="&#28040;&#38450;&#36710;\&#20030;&#39640;&#36710;\&#24178;&#31881;&#36710;\5190&#24178;&#31881;&#36710;.doc" TargetMode="External"/><Relationship Id="rId4" Type="http://schemas.openxmlformats.org/officeDocument/2006/relationships/image" Target="../media/image16.pn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日期占位符 1"/>
          <p:cNvSpPr/>
          <p:nvPr/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68F00-C45A-489B-9DD7-F2736BF48A68}" type="datetime">
              <a:rPr b="0" lang="zh-CN" sz="1400" spc="-1" strike="noStrike">
                <a:solidFill>
                  <a:srgbClr val="4824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38480" y="3047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ff00"/>
                </a:solidFill>
                <a:latin typeface="Arial Black"/>
                <a:ea typeface="楷体_GB2312"/>
              </a:rPr>
              <a:t>谱写青春</a:t>
            </a:r>
            <a:br>
              <a:rPr sz="4800"/>
            </a:br>
            <a:r>
              <a:rPr b="0" lang="en-US" sz="4800" spc="-1" strike="noStrike">
                <a:solidFill>
                  <a:srgbClr val="00ff00"/>
                </a:solidFill>
                <a:latin typeface="Arial Black"/>
                <a:ea typeface="楷体_GB2312"/>
              </a:rPr>
              <a:t>       生命的光辉</a:t>
            </a:r>
            <a:br>
              <a:rPr sz="4800"/>
            </a:br>
            <a:r>
              <a:rPr b="0" lang="zh-CN" sz="4800" spc="-1" strike="noStrike">
                <a:solidFill>
                  <a:srgbClr val="00ff00"/>
                </a:solidFill>
                <a:latin typeface="Arial Black"/>
                <a:ea typeface="楷体_GB2312"/>
              </a:rPr>
              <a:t>永恒的事业</a:t>
            </a:r>
            <a:endParaRPr b="0" lang="en-US" sz="48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652608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Times New Roman"/>
              </a:rPr>
              <a:t>幻灯片之家 </a:t>
            </a:r>
            <a:r>
              <a:rPr b="1" lang="zh-CN" sz="1600" spc="-1" strike="noStrike">
                <a:solidFill>
                  <a:srgbClr val="ffffff"/>
                </a:solidFill>
                <a:latin typeface="Times New Roman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日期占位符 4"/>
          <p:cNvSpPr/>
          <p:nvPr/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948A7-F3BB-48C6-AA1B-9153620C775F}" type="datetime">
              <a:rPr b="0" lang="zh-CN" sz="1400" spc="-1" strike="noStrike">
                <a:solidFill>
                  <a:srgbClr val="4824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482400"/>
                </a:solidFill>
                <a:latin typeface="Times New Roman"/>
              </a:rPr>
              <a:t>灭火消防车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219320" y="990720"/>
            <a:ext cx="709128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联用消防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一台车上同时有俩种或三种灭火系统的消防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干粉泡沫、泡沫水有的还配有二氧化碳灭火系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以重型车为多，用在机场、化工厂  </a:t>
            </a:r>
            <a:r>
              <a:rPr b="0" lang="zh-CN" sz="2400" spc="-1" strike="noStrike" u="sng">
                <a:solidFill>
                  <a:srgbClr val="993300"/>
                </a:solidFill>
                <a:uFillTx/>
                <a:latin typeface="Times New Roman"/>
                <a:hlinkClick r:id="rId3"/>
              </a:rPr>
              <a:t>技术参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Picture 6" descr="C:\My Documents\消防车\举高车\干粉车\SZX5260GXFPF110干粉-泡沫联动车.jpg"/>
          <p:cNvPicPr/>
          <p:nvPr/>
        </p:nvPicPr>
        <p:blipFill>
          <a:blip r:embed="rId4"/>
          <a:stretch/>
        </p:blipFill>
        <p:spPr>
          <a:xfrm>
            <a:off x="1295280" y="3276720"/>
            <a:ext cx="7315200" cy="323676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75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75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75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75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日期占位符 4"/>
          <p:cNvSpPr/>
          <p:nvPr/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90915-5356-48EF-A030-016A9156B25A}" type="datetime">
              <a:rPr b="0" lang="zh-CN" sz="1400" spc="-1" strike="noStrike">
                <a:solidFill>
                  <a:srgbClr val="4824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页脚占位符 5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82400"/>
                </a:solidFill>
                <a:latin typeface="Arial"/>
              </a:rPr>
              <a:t>素彩网</a:t>
            </a: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http://www.sc115.com-ppt</a:t>
            </a:r>
            <a:r>
              <a:rPr b="0" lang="zh-CN" sz="1400" spc="-1" strike="noStrike">
                <a:solidFill>
                  <a:srgbClr val="482400"/>
                </a:solidFill>
                <a:latin typeface="Arial"/>
              </a:rPr>
              <a:t>模板免费下载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482400"/>
                </a:solidFill>
                <a:latin typeface="Times New Roman"/>
              </a:rPr>
              <a:t>举高消防车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2000" y="1066680"/>
            <a:ext cx="76248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举高喷射消防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工作臂架为折叠形式并装有喷射水枪。一般无载人平台，灭火用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与水罐车或泡沫车配套使用             </a:t>
            </a:r>
            <a:r>
              <a:rPr b="0" lang="zh-CN" sz="2400" spc="-1" strike="noStrike" u="sng">
                <a:solidFill>
                  <a:srgbClr val="993300"/>
                </a:solidFill>
                <a:uFillTx/>
                <a:latin typeface="Times New Roman"/>
                <a:hlinkClick r:id="rId3"/>
              </a:rPr>
              <a:t>技术参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Picture 6" descr="C:\My Documents\消防车\举高车\举高喷射车\sgx5150jxfjp25举高喷射.jpg"/>
          <p:cNvPicPr/>
          <p:nvPr/>
        </p:nvPicPr>
        <p:blipFill>
          <a:blip r:embed="rId4"/>
          <a:stretch/>
        </p:blipFill>
        <p:spPr>
          <a:xfrm>
            <a:off x="1295280" y="2995560"/>
            <a:ext cx="7239240" cy="386244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95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00" dur="5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05" dur="5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日期占位符 4"/>
          <p:cNvSpPr/>
          <p:nvPr/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A9EB2-73A4-4952-B15F-C7EC5F671937}" type="datetime">
              <a:rPr b="0" lang="zh-CN" sz="1400" spc="-1" strike="noStrike">
                <a:solidFill>
                  <a:srgbClr val="4824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482400"/>
                </a:solidFill>
                <a:latin typeface="Times New Roman"/>
              </a:rPr>
              <a:t>举高消防车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066680" y="685440"/>
            <a:ext cx="77774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曲臂登高平台消防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工作臂为折叠形式的举高车；可以载人，配备有水炮、泡沫炮  ；灭火和救援用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与水罐车和泡沫车配套使用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000" spc="-1" strike="noStrike" u="sng">
                <a:solidFill>
                  <a:srgbClr val="993300"/>
                </a:solidFill>
                <a:uFillTx/>
                <a:latin typeface="Times New Roman"/>
                <a:hlinkClick r:id="rId6"/>
              </a:rPr>
              <a:t>技术参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Picture 6" descr="C:\My Documents\消防车\举高车\登高车\SGX5150JXFDG22.jpg"/>
          <p:cNvPicPr/>
          <p:nvPr/>
        </p:nvPicPr>
        <p:blipFill>
          <a:blip r:embed="rId7"/>
          <a:stretch/>
        </p:blipFill>
        <p:spPr>
          <a:xfrm>
            <a:off x="1219320" y="2819520"/>
            <a:ext cx="7543800" cy="347184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日期占位符 4"/>
          <p:cNvSpPr/>
          <p:nvPr/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1217F-61F7-4EBB-8AE3-A602D06B86FB}" type="datetime">
              <a:rPr b="0" lang="zh-CN" sz="1400" spc="-1" strike="noStrike">
                <a:solidFill>
                  <a:srgbClr val="4824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482400"/>
                </a:solidFill>
                <a:latin typeface="Times New Roman"/>
              </a:rPr>
              <a:t>举高消防车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061640" y="914400"/>
            <a:ext cx="7777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直臂云梯车消防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工作臂为伸缩形式的举高消防车；主要用于救援，先进的可带有水炮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工作斗救生、升降斗救生、梯架救生可载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2-3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502236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Picture 5" descr="C:\My Documents\消防车\举高车\登高车\直臂云梯车.jpg"/>
          <p:cNvPicPr/>
          <p:nvPr/>
        </p:nvPicPr>
        <p:blipFill>
          <a:blip r:embed="rId6"/>
          <a:stretch/>
        </p:blipFill>
        <p:spPr>
          <a:xfrm>
            <a:off x="1143000" y="2646360"/>
            <a:ext cx="7543800" cy="398304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日期占位符 4"/>
          <p:cNvSpPr/>
          <p:nvPr/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B3066-D8B5-4AA0-9B96-CAE44722151B}" type="datetime">
              <a:rPr b="0" lang="zh-CN" sz="1400" spc="-1" strike="noStrike">
                <a:solidFill>
                  <a:srgbClr val="4824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482400"/>
                </a:solidFill>
                <a:latin typeface="Times New Roman"/>
              </a:rPr>
              <a:t>专勤消防车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1640" y="762120"/>
            <a:ext cx="73962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抢险救援消防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呼吸保护器材、起重器材、切割器具、火场检测器具、救助器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车内配有多种便携式移动器材，应用于各种灾害事故的处理。                    </a:t>
            </a:r>
            <a:r>
              <a:rPr b="0" lang="zh-CN" sz="2400" spc="-1" strike="noStrike" u="sng">
                <a:solidFill>
                  <a:srgbClr val="993300"/>
                </a:solidFill>
                <a:uFillTx/>
                <a:latin typeface="Times New Roman"/>
                <a:hlinkClick r:id="rId5"/>
              </a:rPr>
              <a:t>技术参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Picture 6" descr="C:\My Documents\消防车\举高车\抢险救援车\SZX5130TXFKZQ46救援车.jpg"/>
          <p:cNvPicPr/>
          <p:nvPr/>
        </p:nvPicPr>
        <p:blipFill>
          <a:blip r:embed="rId6"/>
          <a:stretch/>
        </p:blipFill>
        <p:spPr>
          <a:xfrm>
            <a:off x="1143000" y="3124080"/>
            <a:ext cx="7688160" cy="3332160"/>
          </a:xfrm>
          <a:prstGeom prst="rect">
            <a:avLst/>
          </a:prstGeom>
          <a:ln w="0">
            <a:noFill/>
          </a:ln>
        </p:spPr>
      </p:pic>
      <p:sp>
        <p:nvSpPr>
          <p:cNvPr id="188" name="AutoShape 9">
            <a:hlinkClick r:id="" action="ppaction://hlinkshowjump?jump=previousslide"/>
          </p:cNvPr>
          <p:cNvSpPr/>
          <p:nvPr/>
        </p:nvSpPr>
        <p:spPr>
          <a:xfrm>
            <a:off x="8153280" y="380880"/>
            <a:ext cx="662040" cy="381240"/>
          </a:xfrm>
          <a:custGeom>
            <a:avLst/>
            <a:gdLst>
              <a:gd name="textAreaLeft" fmla="*/ 23760 w 662040"/>
              <a:gd name="textAreaRight" fmla="*/ 638280 w 662040"/>
              <a:gd name="textAreaTop" fmla="*/ 23760 h 381240"/>
              <a:gd name="textAreaBottom" fmla="*/ 357480 h 381240"/>
            </a:gdLst>
            <a:ahLst/>
            <a:rect l="textAreaLeft" t="textAreaTop" r="textAreaRight" b="textAreaBottom"/>
            <a:pathLst>
              <a:path w="37494" h="21600">
                <a:moveTo>
                  <a:pt x="0" y="0"/>
                </a:moveTo>
                <a:lnTo>
                  <a:pt x="37494" y="0"/>
                </a:lnTo>
                <a:lnTo>
                  <a:pt x="37494" y="21600"/>
                </a:lnTo>
                <a:lnTo>
                  <a:pt x="0" y="21600"/>
                </a:lnTo>
                <a:close/>
              </a:path>
              <a:path fill="lightenLess" w="37494" h="21600">
                <a:moveTo>
                  <a:pt x="0" y="0"/>
                </a:moveTo>
                <a:lnTo>
                  <a:pt x="37494" y="0"/>
                </a:lnTo>
                <a:lnTo>
                  <a:pt x="36144" y="1350"/>
                </a:lnTo>
                <a:lnTo>
                  <a:pt x="1350" y="1350"/>
                </a:lnTo>
                <a:close/>
              </a:path>
              <a:path fill="darken" w="37494" h="21600">
                <a:moveTo>
                  <a:pt x="37494" y="0"/>
                </a:moveTo>
                <a:lnTo>
                  <a:pt x="37494" y="21600"/>
                </a:lnTo>
                <a:lnTo>
                  <a:pt x="36144" y="20250"/>
                </a:lnTo>
                <a:lnTo>
                  <a:pt x="36144" y="1350"/>
                </a:lnTo>
                <a:close/>
              </a:path>
              <a:path fill="darkenLess" w="37494" h="21600">
                <a:moveTo>
                  <a:pt x="37494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36144" y="20250"/>
                </a:lnTo>
                <a:close/>
              </a:path>
              <a:path fill="lighten" w="37494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37494" h="21600">
                <a:moveTo>
                  <a:pt x="11703" y="7475"/>
                </a:moveTo>
                <a:lnTo>
                  <a:pt x="15230" y="7475"/>
                </a:lnTo>
                <a:lnTo>
                  <a:pt x="15230" y="12839"/>
                </a:lnTo>
                <a:cubicBezTo>
                  <a:pt x="15230" y="13766"/>
                  <a:pt x="16035" y="14501"/>
                  <a:pt x="17076" y="14501"/>
                </a:cubicBezTo>
                <a:lnTo>
                  <a:pt x="18747" y="14501"/>
                </a:lnTo>
                <a:cubicBezTo>
                  <a:pt x="19788" y="14501"/>
                  <a:pt x="20593" y="13766"/>
                  <a:pt x="20593" y="12839"/>
                </a:cubicBezTo>
                <a:lnTo>
                  <a:pt x="20593" y="7475"/>
                </a:lnTo>
                <a:lnTo>
                  <a:pt x="18747" y="7475"/>
                </a:lnTo>
                <a:lnTo>
                  <a:pt x="22273" y="3949"/>
                </a:lnTo>
                <a:lnTo>
                  <a:pt x="25966" y="7475"/>
                </a:lnTo>
                <a:lnTo>
                  <a:pt x="24120" y="7475"/>
                </a:lnTo>
                <a:lnTo>
                  <a:pt x="24120" y="12839"/>
                </a:lnTo>
                <a:cubicBezTo>
                  <a:pt x="24120" y="15621"/>
                  <a:pt x="21530" y="18194"/>
                  <a:pt x="18747" y="18194"/>
                </a:cubicBezTo>
                <a:lnTo>
                  <a:pt x="17076" y="18194"/>
                </a:lnTo>
                <a:cubicBezTo>
                  <a:pt x="14293" y="18194"/>
                  <a:pt x="11703" y="15621"/>
                  <a:pt x="11703" y="12839"/>
                </a:cubicBezTo>
                <a:close/>
              </a:path>
            </a:pathLst>
          </a:cu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horz"/>
  </p:transition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日期占位符 4"/>
          <p:cNvSpPr/>
          <p:nvPr/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3431B-25C1-40EC-B4EA-C1FB6ED229A8}" type="datetime">
              <a:rPr b="0" lang="zh-CN" sz="1400" spc="-1" strike="noStrike">
                <a:solidFill>
                  <a:srgbClr val="4824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●</a:t>
            </a:r>
            <a:r>
              <a:rPr b="0" lang="zh-CN" sz="4400" spc="-1" strike="noStrike">
                <a:solidFill>
                  <a:srgbClr val="482400"/>
                </a:solidFill>
                <a:latin typeface="Times New Roman"/>
              </a:rPr>
              <a:t>专勤消防车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31240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照明消防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在中轻型汽车上加装发电机、液压升降装置或 机械升降装置、固定或移动照明电气系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应用于火场作业照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993300"/>
                </a:solidFill>
                <a:uFillTx/>
                <a:latin typeface="宋体"/>
                <a:hlinkClick r:id="rId6"/>
              </a:rPr>
              <a:t>一例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zh-CN" sz="2400" spc="-1" strike="noStrike" u="sng">
                <a:solidFill>
                  <a:srgbClr val="993300"/>
                </a:solidFill>
                <a:uFillTx/>
                <a:latin typeface="宋体"/>
                <a:hlinkClick r:id="rId7"/>
              </a:rPr>
              <a:t>二例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2400" spc="-1" strike="noStrike" u="sng">
                <a:solidFill>
                  <a:srgbClr val="993300"/>
                </a:solidFill>
                <a:uFillTx/>
                <a:latin typeface="宋体"/>
                <a:hlinkClick r:id="rId8"/>
              </a:rPr>
              <a:t>技术参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Picture 6" descr="C:\My Documents\消防车\举高车\抢险救援车\照明车\SHX5050GXFCDG08照明车.jpg"/>
          <p:cNvPicPr/>
          <p:nvPr/>
        </p:nvPicPr>
        <p:blipFill>
          <a:blip r:embed="rId9"/>
          <a:stretch/>
        </p:blipFill>
        <p:spPr>
          <a:xfrm>
            <a:off x="4572000" y="1830240"/>
            <a:ext cx="4259160" cy="4722840"/>
          </a:xfrm>
          <a:prstGeom prst="rect">
            <a:avLst/>
          </a:prstGeom>
          <a:ln w="0">
            <a:noFill/>
          </a:ln>
        </p:spPr>
      </p:pic>
      <p:pic>
        <p:nvPicPr>
          <p:cNvPr id="193" name="onlyyou.mp3" descr=""/>
          <p:cNvPicPr/>
          <p:nvPr/>
        </p:nvPicPr>
        <p:blipFill>
          <a:blip r:embed="rId10"/>
          <a:stretch/>
        </p:blipFill>
        <p:spPr>
          <a:xfrm>
            <a:off x="5257800" y="533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3" dur="5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8" dur="500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3" dur="500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8" dur="500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3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75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75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450"/>
                            </p:stCondLst>
                            <p:childTnLst>
                              <p:par>
                                <p:cTn id="31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950"/>
                            </p:stCondLst>
                            <p:childTnLst>
                              <p:par>
                                <p:cTn id="32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1" dur="1" fill="hold"/>
                                        <p:tgtEl>
                                          <p:spTgt spid="1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日期占位符 4"/>
          <p:cNvSpPr/>
          <p:nvPr/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29535-FA47-46DE-9461-3651B4242B77}" type="datetime">
              <a:rPr b="0" lang="zh-CN" sz="1400" spc="-1" strike="noStrike">
                <a:solidFill>
                  <a:srgbClr val="4824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482400"/>
                </a:solidFill>
                <a:latin typeface="Times New Roman"/>
              </a:rPr>
              <a:t>专勤消防车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通信指挥消防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在轻、中型汽车上加装大功率无线电台、移动程控电话、电台、扩音设备、传真机、电脑、开路电视系统等通信设备，应用于通信联络和灭火指挥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993300"/>
                </a:solidFill>
                <a:uFillTx/>
                <a:latin typeface="Times New Roman"/>
                <a:ea typeface="黑体"/>
                <a:hlinkClick r:id="rId5"/>
              </a:rPr>
              <a:t>技术参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" name="Picture 6" descr="C:\My Documents\消防车\举高车\SJD5040TXFTX25型通讯指挥车.jpg"/>
          <p:cNvPicPr/>
          <p:nvPr/>
        </p:nvPicPr>
        <p:blipFill>
          <a:blip r:embed="rId6"/>
          <a:stretch/>
        </p:blipFill>
        <p:spPr>
          <a:xfrm>
            <a:off x="5022720" y="2390760"/>
            <a:ext cx="3808440" cy="28638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8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3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8" dur="5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3" dur="5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4824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993300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993300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993300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993300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993300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993300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993300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993300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993300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993300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993300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993300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993300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993300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993300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993300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993300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993300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993300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993300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993300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993300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993300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993300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993300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D2EE05-AD61-48E7-A80C-DE66AB3951BB}" type="slidenum">
              <a:t>17</a:t>
            </a:fld>
          </a:p>
        </p:txBody>
      </p:sp>
    </p:spTree>
  </p:cSld>
  <p:transition spd="med"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日期占位符 4"/>
          <p:cNvSpPr/>
          <p:nvPr/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64D23-4108-4187-BE6A-4B5744EB700A}" type="datetime">
              <a:rPr b="0" lang="zh-CN" sz="1400" spc="-1" strike="noStrike">
                <a:solidFill>
                  <a:srgbClr val="4824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482400"/>
                </a:solidFill>
                <a:latin typeface="Times New Roman"/>
              </a:rPr>
              <a:t>消防车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880" y="22096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我们战斗的武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保卫人民的生命财产的工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我们事业生命的组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消防事业的主结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6" descr="C:\My Documents\消防车\举高车\水罐、泡沫车\东风140.144系列.jpg"/>
          <p:cNvPicPr/>
          <p:nvPr/>
        </p:nvPicPr>
        <p:blipFill>
          <a:blip r:embed="rId6"/>
          <a:stretch/>
        </p:blipFill>
        <p:spPr>
          <a:xfrm>
            <a:off x="4191120" y="2057400"/>
            <a:ext cx="4495680" cy="39625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日期占位符 4"/>
          <p:cNvSpPr/>
          <p:nvPr/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442CE-020E-47DA-AC78-C95CD73D9070}" type="datetime">
              <a:rPr b="0" lang="zh-CN" sz="1400" spc="-1" strike="noStrike">
                <a:solidFill>
                  <a:srgbClr val="4824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482400"/>
                </a:solidFill>
                <a:latin typeface="Times New Roman"/>
              </a:rPr>
              <a:t>消防车</a:t>
            </a:r>
            <a:br>
              <a:rPr sz="4400"/>
            </a:br>
            <a:r>
              <a:rPr b="0" lang="zh-CN" sz="4400" spc="-1" strike="noStrike">
                <a:solidFill>
                  <a:srgbClr val="482400"/>
                </a:solidFill>
                <a:latin typeface="Times New Roman"/>
              </a:rPr>
              <a:t>功能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61640" y="2452320"/>
            <a:ext cx="2894040" cy="34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增强人类抵抗火灾的能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提高消防部队灭火救援机动灵活和效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6" descr="C:\My Documents\消防车\消防车的作用.jpg"/>
          <p:cNvPicPr/>
          <p:nvPr/>
        </p:nvPicPr>
        <p:blipFill>
          <a:blip r:embed="rId4">
            <a:lum bright="24000"/>
          </a:blip>
          <a:stretch/>
        </p:blipFill>
        <p:spPr>
          <a:xfrm>
            <a:off x="3886200" y="2479680"/>
            <a:ext cx="4572000" cy="374184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日期占位符 4"/>
          <p:cNvSpPr/>
          <p:nvPr/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BD45A-BF77-4B5F-804B-DC64940F99A9}" type="datetime">
              <a:rPr b="0" lang="zh-CN" sz="1400" spc="-1" strike="noStrike">
                <a:solidFill>
                  <a:srgbClr val="4824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482400"/>
                </a:solidFill>
                <a:latin typeface="Times New Roman"/>
              </a:rPr>
              <a:t>消防车</a:t>
            </a:r>
            <a:br>
              <a:rPr sz="4400"/>
            </a:br>
            <a:r>
              <a:rPr b="0" lang="zh-CN" sz="4400" spc="-1" strike="noStrike">
                <a:solidFill>
                  <a:srgbClr val="482400"/>
                </a:solidFill>
                <a:latin typeface="Times New Roman"/>
              </a:rPr>
              <a:t>历史、分类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66320" y="2133720"/>
            <a:ext cx="3048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用动力来分类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一 </a:t>
            </a:r>
            <a:r>
              <a:rPr b="0" lang="zh-CN" sz="2400" spc="-1" strike="noStrike" u="sng">
                <a:solidFill>
                  <a:srgbClr val="993300"/>
                </a:solidFill>
                <a:uFillTx/>
                <a:latin typeface="Times New Roman"/>
                <a:hlinkClick r:id="rId4"/>
              </a:rPr>
              <a:t>人力消防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二 </a:t>
            </a:r>
            <a:r>
              <a:rPr b="0" lang="zh-CN" sz="2400" spc="-1" strike="noStrike" u="sng">
                <a:solidFill>
                  <a:srgbClr val="993300"/>
                </a:solidFill>
                <a:uFillTx/>
                <a:latin typeface="Times New Roman"/>
                <a:hlinkClick r:id="rId6"/>
              </a:rPr>
              <a:t>马拉唧筒消防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三 </a:t>
            </a:r>
            <a:r>
              <a:rPr b="0" lang="zh-CN" sz="2400" spc="-1" strike="noStrike" u="sng">
                <a:solidFill>
                  <a:srgbClr val="993300"/>
                </a:solidFill>
                <a:uFillTx/>
                <a:latin typeface="Times New Roman"/>
                <a:hlinkClick r:id="rId8"/>
              </a:rPr>
              <a:t>蒸汽机泵消防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四 </a:t>
            </a:r>
            <a:r>
              <a:rPr b="0" lang="zh-CN" sz="2400" spc="-1" strike="noStrike" u="sng">
                <a:solidFill>
                  <a:srgbClr val="993300"/>
                </a:solidFill>
                <a:uFillTx/>
                <a:latin typeface="Times New Roman"/>
                <a:hlinkClick r:id="rId10"/>
              </a:rPr>
              <a:t>内燃机泵消防车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也是消防车的历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Picture 7" descr="C:\My Documents\消防车\人力车.jpg"/>
          <p:cNvPicPr/>
          <p:nvPr/>
        </p:nvPicPr>
        <p:blipFill>
          <a:blip r:embed="rId11"/>
          <a:stretch/>
        </p:blipFill>
        <p:spPr>
          <a:xfrm>
            <a:off x="5022720" y="1952640"/>
            <a:ext cx="3808440" cy="374004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8" descr="C:\My Documents\消防车\自动帮浦救火车.jpg"/>
          <p:cNvPicPr/>
          <p:nvPr/>
        </p:nvPicPr>
        <p:blipFill>
          <a:blip r:embed="rId12"/>
          <a:stretch/>
        </p:blipFill>
        <p:spPr>
          <a:xfrm>
            <a:off x="4191120" y="1905120"/>
            <a:ext cx="4952880" cy="422892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3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3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3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3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3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3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300" fill="hold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300" fill="hold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3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3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3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3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日期占位符 3"/>
          <p:cNvSpPr/>
          <p:nvPr/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EB6EE-6FA8-4B62-B3F3-E916795897A0}" type="datetime">
              <a:rPr b="0" lang="zh-CN" sz="1400" spc="-1" strike="noStrike">
                <a:solidFill>
                  <a:srgbClr val="4824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752480" y="3805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                  </a:t>
            </a:r>
            <a:r>
              <a:rPr b="0" lang="zh-CN" sz="2000" spc="-1" strike="noStrike">
                <a:solidFill>
                  <a:srgbClr val="482400"/>
                </a:solidFill>
                <a:latin typeface="Times New Roman"/>
              </a:rPr>
              <a:t>消防车</a:t>
            </a:r>
            <a:br>
              <a:rPr sz="2000"/>
            </a:br>
            <a:r>
              <a:rPr b="0" lang="zh-CN" sz="4400" spc="-1" strike="noStrike">
                <a:solidFill>
                  <a:srgbClr val="482400"/>
                </a:solidFill>
                <a:latin typeface="Times New Roman"/>
              </a:rPr>
              <a:t>              功能分类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灭火消防车：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泵浦车、泡沫车、水罐车 、      干粉车、联用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举高消防车：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直臂云梯车、曲臂登高车、举高喷射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专勤消防车：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通信车、照明车、排烟车、抢险救援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后援消防车：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器材车、医疗车、生活保障车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55640" y="1341360"/>
            <a:ext cx="5643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3300"/>
                </a:solidFill>
                <a:uFillTx/>
                <a:latin typeface="Times New Roman"/>
                <a:hlinkClick r:id="rId6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ld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" dur="75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" dur="75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" dur="75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" dur="75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日期占位符 4"/>
          <p:cNvSpPr/>
          <p:nvPr/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7B661-CA3C-44B9-B3EC-2DCFC398D873}" type="datetime">
              <a:rPr b="0" lang="zh-CN" sz="1400" spc="-1" strike="noStrike">
                <a:solidFill>
                  <a:srgbClr val="4824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482400"/>
                </a:solidFill>
                <a:latin typeface="Times New Roman"/>
              </a:rPr>
              <a:t>灭火消防车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84872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2000"/>
          </a:bodyPr>
          <a:p>
            <a:pPr marL="212400" indent="-21240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水罐消防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12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灭火战斗的主要车种（主战车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2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分类：按照载水量划分 （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吨）          中型水罐车、重型水罐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2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结构：底盘 水泵  水罐是在其他民用车的主体上改造而成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2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400" spc="-1" strike="noStrike" u="sng">
                <a:solidFill>
                  <a:srgbClr val="993300"/>
                </a:solidFill>
                <a:uFillTx/>
                <a:latin typeface="Times New Roman"/>
                <a:hlinkClick r:id="rId3"/>
              </a:rPr>
              <a:t>技术参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Picture 6" descr="C:\My Documents\消防车\举高车\水罐、泡沫车\北方奔驰重型系列.jpg"/>
          <p:cNvPicPr/>
          <p:nvPr/>
        </p:nvPicPr>
        <p:blipFill>
          <a:blip r:embed="rId4"/>
          <a:stretch/>
        </p:blipFill>
        <p:spPr>
          <a:xfrm>
            <a:off x="1905120" y="3429000"/>
            <a:ext cx="6553080" cy="30481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日期占位符 4"/>
          <p:cNvSpPr/>
          <p:nvPr/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F5B72-7AF0-4431-8DB0-541678EDA613}" type="datetime">
              <a:rPr b="0" lang="zh-CN" sz="1400" spc="-1" strike="noStrike">
                <a:solidFill>
                  <a:srgbClr val="4824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482400"/>
                </a:solidFill>
                <a:latin typeface="Times New Roman"/>
              </a:rPr>
              <a:t>灭火消防车</a:t>
            </a:r>
            <a:endParaRPr b="0" lang="en-US" sz="48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0912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泵浦消防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用轻型汽车的底盘改造，有水泵、水枪不设水罐，在火场以消火栓或天然水源取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0" lang="zh-CN" sz="2000" spc="-1" strike="noStrike" u="sng">
                <a:solidFill>
                  <a:srgbClr val="993300"/>
                </a:solidFill>
                <a:uFillTx/>
                <a:latin typeface="宋体"/>
                <a:hlinkClick r:id="rId3"/>
              </a:rPr>
              <a:t>技术参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Picture 6" descr="C:\My Documents\消防车\举高车\水罐、泡沫车\解放16平柴系列消防车.jpg"/>
          <p:cNvPicPr/>
          <p:nvPr/>
        </p:nvPicPr>
        <p:blipFill>
          <a:blip r:embed="rId4">
            <a:lum bright="6000"/>
          </a:blip>
          <a:stretch/>
        </p:blipFill>
        <p:spPr>
          <a:xfrm>
            <a:off x="1295280" y="3657600"/>
            <a:ext cx="7315200" cy="265104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6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1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6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1" dur="5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日期占位符 4"/>
          <p:cNvSpPr/>
          <p:nvPr/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18198-A1B5-439B-A00D-3DD3A52B9A01}" type="datetime">
              <a:rPr b="0" lang="zh-CN" sz="1400" spc="-1" strike="noStrike">
                <a:solidFill>
                  <a:srgbClr val="4824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482400"/>
                </a:solidFill>
                <a:latin typeface="Times New Roman"/>
              </a:rPr>
              <a:t>灭火消防车</a:t>
            </a:r>
            <a:endParaRPr b="0" lang="en-US" sz="48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42640" y="1218960"/>
            <a:ext cx="73962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泡沫消防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配有泡沫灭火系统，可喷射泡沫扑救易燃液体火灾的灭火消防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分类：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非自动比例混合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自动比例混合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000" spc="-1" strike="noStrike" u="sng">
                <a:solidFill>
                  <a:srgbClr val="993300"/>
                </a:solidFill>
                <a:uFillTx/>
                <a:latin typeface="Times New Roman"/>
                <a:ea typeface="黑体"/>
                <a:hlinkClick r:id="rId3"/>
              </a:rPr>
              <a:t>技术参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Picture 6" descr="C:\My Documents\消防车\举高车\水罐、泡沫车\北方奔驰重汽系列.jpg"/>
          <p:cNvPicPr/>
          <p:nvPr/>
        </p:nvPicPr>
        <p:blipFill>
          <a:blip r:embed="rId4"/>
          <a:stretch/>
        </p:blipFill>
        <p:spPr>
          <a:xfrm>
            <a:off x="1219320" y="3429000"/>
            <a:ext cx="7383240" cy="320040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日期占位符 4"/>
          <p:cNvSpPr/>
          <p:nvPr/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5D064-F200-49ED-BF1F-6DAC16E49F94}" type="datetime">
              <a:rPr b="0" lang="zh-CN" sz="1400" spc="-1" strike="noStrike">
                <a:solidFill>
                  <a:srgbClr val="4824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482400"/>
                </a:solidFill>
                <a:latin typeface="Times New Roman"/>
              </a:rPr>
              <a:t>灭火消防车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990360"/>
            <a:ext cx="7624800" cy="15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干粉消防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装配有干粉储罐、干粉喷射装置、动力气瓶组的灭火消防车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zh-CN" sz="2800" spc="-1" strike="noStrike" u="sng">
                <a:solidFill>
                  <a:srgbClr val="993300"/>
                </a:solidFill>
                <a:uFillTx/>
                <a:latin typeface="Times New Roman"/>
                <a:hlinkClick r:id="rId3"/>
              </a:rPr>
              <a:t>技术参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502236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Picture 5" descr="C:\My Documents\消防车\举高车\干粉车\SZX5190TXFGF40干粉.jpg"/>
          <p:cNvPicPr/>
          <p:nvPr/>
        </p:nvPicPr>
        <p:blipFill>
          <a:blip r:embed="rId5"/>
          <a:stretch/>
        </p:blipFill>
        <p:spPr>
          <a:xfrm>
            <a:off x="762120" y="2514600"/>
            <a:ext cx="8153280" cy="408132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horz"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06T08:28:4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8T07:36:47Z</dcterms:modified>
  <cp:revision>2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