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93ac9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b2d0b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d1e1d2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-25"/>
        <c:axId val="48469951"/>
        <c:axId val="91868750"/>
      </c:barChart>
      <c:catAx>
        <c:axId val="48469951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entury Schoolbook"/>
              </a:defRPr>
            </a:pPr>
          </a:p>
        </c:txPr>
        <c:crossAx val="91868750"/>
        <c:crosses val="autoZero"/>
        <c:auto val="1"/>
        <c:lblAlgn val="ctr"/>
        <c:lblOffset val="100"/>
        <c:noMultiLvlLbl val="0"/>
      </c:catAx>
      <c:valAx>
        <c:axId val="91868750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ffffff"/>
                </a:solidFill>
                <a:latin typeface="Century Schoolbook"/>
              </a:defRPr>
            </a:pPr>
          </a:p>
        </c:txPr>
        <c:crossAx val="48469951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ffffff"/>
              </a:solidFill>
              <a:latin typeface="Century School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5">
  <dgm:title val=""/>
  <dgm:desc val=""/>
  <dgm:catLst>
    <dgm:cat type="accent1" pri="11500"/>
  </dgm:catLst>
  <dgm:styleLbl name="node0">
    <dgm:fillClrLst meth="cycle"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1">
        <a:alpha val="90000"/>
      </a:schemeClr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1">
        <a:alpha val="90000"/>
      </a:schemeClr>
      <a:schemeClr val="accent1">
        <a:alpha val="5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/>
    <dgm:txEffectClrLst/>
  </dgm:styleLbl>
  <dgm:styleLbl name="lnNode1">
    <dgm:fillClrLst>
      <a:schemeClr val="accent1">
        <a:shade val="90000"/>
      </a:schemeClr>
      <a:schemeClr val="accent1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1">
        <a:shade val="80000"/>
        <a:alpha val="50000"/>
      </a:schemeClr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1">
        <a:tint val="50000"/>
        <a:alpha val="90000"/>
      </a:schemeClr>
      <a:schemeClr val="accent1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f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b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sibTrans1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1">
        <a:alpha val="90000"/>
        <a:tint val="40000"/>
      </a:schemeClr>
      <a:schemeClr val="accent1">
        <a:alpha val="5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EFB202A-8611-4DDC-831D-D12EB67B6CF7}" type="doc">
      <dgm:prSet loTypeId="urn:microsoft.com/office/officeart/2005/8/layout/process4" loCatId="process" qsTypeId="urn:microsoft.com/office/officeart/2005/8/quickstyle/simple4" qsCatId="simple" csTypeId="urn:microsoft.com/office/officeart/2005/8/colors/accent1_5" csCatId="accent1" phldr="1"/>
      <dgm:spPr/>
      <dgm:t>
        <a:bodyPr/>
        <a:lstStyle/>
        <a:p>
          <a:endParaRPr lang="en-US"/>
        </a:p>
      </dgm:t>
    </dgm:pt>
    <dgm:pt modelId="{11888A7B-1E89-45E6-84F4-EF92B26189CD}">
      <dgm:prSet phldrT="[Text]"/>
      <dgm:spPr/>
      <dgm:t>
        <a:bodyPr/>
        <a:lstStyle/>
        <a:p>
          <a:r>
            <a:rPr lang="en-US" dirty="0" smtClean="0"/>
            <a:t>Step 1 Title</a:t>
          </a:r>
          <a:endParaRPr lang="en-US" dirty="0"/>
        </a:p>
      </dgm:t>
    </dgm:pt>
    <dgm:pt modelId="{6043087E-917B-44BC-97F8-41385FD50DC3}" type="parTrans" cxnId="{5376348D-4465-4E2E-9DB8-EA1F5276717B}">
      <dgm:prSet/>
      <dgm:spPr/>
      <dgm:t>
        <a:bodyPr/>
        <a:lstStyle/>
        <a:p>
          <a:endParaRPr lang="en-US"/>
        </a:p>
      </dgm:t>
    </dgm:pt>
    <dgm:pt modelId="{438F37F5-E676-4BB5-A241-95D895E1B43F}" type="sibTrans" cxnId="{5376348D-4465-4E2E-9DB8-EA1F5276717B}">
      <dgm:prSet/>
      <dgm:spPr/>
      <dgm:t>
        <a:bodyPr/>
        <a:lstStyle/>
        <a:p>
          <a:endParaRPr lang="en-US"/>
        </a:p>
      </dgm:t>
    </dgm:pt>
    <dgm:pt modelId="{712EDDD5-F1C9-457B-A81D-F94868058B44}">
      <dgm:prSet phldrT="[Text]"/>
      <dgm:spPr/>
      <dgm:t>
        <a:bodyPr/>
        <a:lstStyle/>
        <a:p>
          <a:r>
            <a:rPr lang="en-US" dirty="0" smtClean="0"/>
            <a:t>Step 2 Title</a:t>
          </a:r>
          <a:endParaRPr lang="en-US" dirty="0"/>
        </a:p>
      </dgm:t>
    </dgm:pt>
    <dgm:pt modelId="{5E2CC1CB-7E12-4298-9BE5-B8F6683E4161}" type="parTrans" cxnId="{392AE56A-6939-469F-BFEC-2DEEC6ABC100}">
      <dgm:prSet/>
      <dgm:spPr/>
      <dgm:t>
        <a:bodyPr/>
        <a:lstStyle/>
        <a:p>
          <a:endParaRPr lang="en-US"/>
        </a:p>
      </dgm:t>
    </dgm:pt>
    <dgm:pt modelId="{630DB5C2-135D-425B-B7D5-1F5FFE12BF3B}" type="sibTrans" cxnId="{392AE56A-6939-469F-BFEC-2DEEC6ABC100}">
      <dgm:prSet/>
      <dgm:spPr/>
      <dgm:t>
        <a:bodyPr/>
        <a:lstStyle/>
        <a:p>
          <a:endParaRPr lang="en-US"/>
        </a:p>
      </dgm:t>
    </dgm:pt>
    <dgm:pt modelId="{356F6FEF-38C8-437A-8562-86A5ED3F5885}">
      <dgm:prSet phldrT="[Text]"/>
      <dgm:spPr/>
      <dgm:t>
        <a:bodyPr/>
        <a:lstStyle/>
        <a:p>
          <a:r>
            <a:rPr lang="en-US" dirty="0" smtClean="0"/>
            <a:t>Step 3 Title</a:t>
          </a:r>
          <a:endParaRPr lang="en-US" dirty="0"/>
        </a:p>
      </dgm:t>
    </dgm:pt>
    <dgm:pt modelId="{BD9B34C9-939F-47F5-A040-1B30C9EEA310}" type="parTrans" cxnId="{8247D1A2-555D-4B39-B44D-5F2B5AE64242}">
      <dgm:prSet/>
      <dgm:spPr/>
      <dgm:t>
        <a:bodyPr/>
        <a:lstStyle/>
        <a:p>
          <a:endParaRPr lang="en-US"/>
        </a:p>
      </dgm:t>
    </dgm:pt>
    <dgm:pt modelId="{665399A3-A410-4656-8F7E-3FAB641DE891}" type="sibTrans" cxnId="{8247D1A2-555D-4B39-B44D-5F2B5AE64242}">
      <dgm:prSet/>
      <dgm:spPr/>
      <dgm:t>
        <a:bodyPr/>
        <a:lstStyle/>
        <a:p>
          <a:endParaRPr lang="en-US"/>
        </a:p>
      </dgm:t>
    </dgm:pt>
    <dgm:pt modelId="{640CA9BD-09C1-4472-8DAC-0F150EC5E678}">
      <dgm:prSet phldrT="[Text]"/>
      <dgm:spPr/>
      <dgm:t>
        <a:bodyPr/>
        <a:lstStyle/>
        <a:p>
          <a:r>
            <a:rPr lang="en-US" dirty="0" smtClean="0"/>
            <a:t>Step 4 Title</a:t>
          </a:r>
          <a:endParaRPr lang="en-US" dirty="0"/>
        </a:p>
      </dgm:t>
    </dgm:pt>
    <dgm:pt modelId="{90609DF7-843B-4BEF-A3B5-89270E6B0951}" type="parTrans" cxnId="{957C551D-31A8-4286-A3AE-C5928DB663CE}">
      <dgm:prSet/>
      <dgm:spPr/>
      <dgm:t>
        <a:bodyPr/>
        <a:lstStyle/>
        <a:p>
          <a:endParaRPr lang="en-US"/>
        </a:p>
      </dgm:t>
    </dgm:pt>
    <dgm:pt modelId="{67B503AA-82FD-4AA4-8357-3D8B59D6160B}" type="sibTrans" cxnId="{957C551D-31A8-4286-A3AE-C5928DB663CE}">
      <dgm:prSet/>
      <dgm:spPr/>
      <dgm:t>
        <a:bodyPr/>
        <a:lstStyle/>
        <a:p>
          <a:endParaRPr lang="en-US"/>
        </a:p>
      </dgm:t>
    </dgm:pt>
    <dgm:pt modelId="{812F39FC-2D1E-4DD1-A1A6-C7F9287A4AAB}" type="pres">
      <dgm:prSet presAssocID="{2EFB202A-8611-4DDC-831D-D12EB67B6CF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C1682CE3-81F4-4BEA-B13D-10C7017D8387}" type="pres">
      <dgm:prSet presAssocID="{640CA9BD-09C1-4472-8DAC-0F150EC5E678}" presName="boxAndChildren" presStyleCnt="0"/>
      <dgm:spPr/>
    </dgm:pt>
    <dgm:pt modelId="{325B9957-E809-4285-A870-20AA1AEAA8D7}" type="pres">
      <dgm:prSet presAssocID="{640CA9BD-09C1-4472-8DAC-0F150EC5E678}" presName="parentTextBox" presStyleLbl="node1" presStyleIdx="0" presStyleCnt="4"/>
      <dgm:spPr/>
      <dgm:t>
        <a:bodyPr/>
        <a:lstStyle/>
        <a:p>
          <a:endParaRPr lang="en-US"/>
        </a:p>
      </dgm:t>
    </dgm:pt>
    <dgm:pt modelId="{2AB5853F-AA77-4431-82DF-105CEB2E1424}" type="pres">
      <dgm:prSet presAssocID="{665399A3-A410-4656-8F7E-3FAB641DE891}" presName="sp" presStyleCnt="0"/>
      <dgm:spPr/>
    </dgm:pt>
    <dgm:pt modelId="{EC667030-4855-4843-9717-7DF08446AEB5}" type="pres">
      <dgm:prSet presAssocID="{356F6FEF-38C8-437A-8562-86A5ED3F5885}" presName="arrowAndChildren" presStyleCnt="0"/>
      <dgm:spPr/>
    </dgm:pt>
    <dgm:pt modelId="{C830B7C4-5210-41AC-A88B-BECF7607C1E5}" type="pres">
      <dgm:prSet presAssocID="{356F6FEF-38C8-437A-8562-86A5ED3F5885}" presName="parentTextArrow" presStyleLbl="node1" presStyleIdx="1" presStyleCnt="4"/>
      <dgm:spPr/>
      <dgm:t>
        <a:bodyPr/>
        <a:lstStyle/>
        <a:p>
          <a:endParaRPr lang="en-US"/>
        </a:p>
      </dgm:t>
    </dgm:pt>
    <dgm:pt modelId="{7FB80134-CA62-4591-A6BE-C119FEAC14B6}" type="pres">
      <dgm:prSet presAssocID="{630DB5C2-135D-425B-B7D5-1F5FFE12BF3B}" presName="sp" presStyleCnt="0"/>
      <dgm:spPr/>
    </dgm:pt>
    <dgm:pt modelId="{C4866045-B43B-429F-851C-E58098BA6DB8}" type="pres">
      <dgm:prSet presAssocID="{712EDDD5-F1C9-457B-A81D-F94868058B44}" presName="arrowAndChildren" presStyleCnt="0"/>
      <dgm:spPr/>
    </dgm:pt>
    <dgm:pt modelId="{D5473CBC-EEC3-408A-B4A6-07882F253A8B}" type="pres">
      <dgm:prSet presAssocID="{712EDDD5-F1C9-457B-A81D-F94868058B44}" presName="parentTextArrow" presStyleLbl="node1" presStyleIdx="2" presStyleCnt="4"/>
      <dgm:spPr/>
      <dgm:t>
        <a:bodyPr/>
        <a:lstStyle/>
        <a:p>
          <a:endParaRPr lang="en-US"/>
        </a:p>
      </dgm:t>
    </dgm:pt>
    <dgm:pt modelId="{FE4F3FD3-FEDA-44E5-9944-1FF6BBD0F9E2}" type="pres">
      <dgm:prSet presAssocID="{438F37F5-E676-4BB5-A241-95D895E1B43F}" presName="sp" presStyleCnt="0"/>
      <dgm:spPr/>
    </dgm:pt>
    <dgm:pt modelId="{1C274FFF-1754-4900-887F-DFF5156E0B8D}" type="pres">
      <dgm:prSet presAssocID="{11888A7B-1E89-45E6-84F4-EF92B26189CD}" presName="arrowAndChildren" presStyleCnt="0"/>
      <dgm:spPr/>
    </dgm:pt>
    <dgm:pt modelId="{32FA43B7-34B4-4881-9A79-E3EDEC9D4CBF}" type="pres">
      <dgm:prSet presAssocID="{11888A7B-1E89-45E6-84F4-EF92B26189CD}" presName="parentTextArrow" presStyleLbl="node1" presStyleIdx="3" presStyleCnt="4"/>
      <dgm:spPr/>
      <dgm:t>
        <a:bodyPr/>
        <a:lstStyle/>
        <a:p>
          <a:endParaRPr lang="en-US"/>
        </a:p>
      </dgm:t>
    </dgm:pt>
  </dgm:ptLst>
  <dgm:cxnLst>
    <dgm:cxn modelId="{957C551D-31A8-4286-A3AE-C5928DB663CE}" srcId="{2EFB202A-8611-4DDC-831D-D12EB67B6CF7}" destId="{640CA9BD-09C1-4472-8DAC-0F150EC5E678}" srcOrd="3" destOrd="0" parTransId="{90609DF7-843B-4BEF-A3B5-89270E6B0951}" sibTransId="{67B503AA-82FD-4AA4-8357-3D8B59D6160B}"/>
    <dgm:cxn modelId="{4D111F6B-0B5C-40A7-BA86-973E36B2D8F2}" type="presOf" srcId="{712EDDD5-F1C9-457B-A81D-F94868058B44}" destId="{D5473CBC-EEC3-408A-B4A6-07882F253A8B}" srcOrd="0" destOrd="0" presId="urn:microsoft.com/office/officeart/2005/8/layout/process4"/>
    <dgm:cxn modelId="{AAE8F060-3E29-4C68-9A74-089916E04D67}" type="presOf" srcId="{356F6FEF-38C8-437A-8562-86A5ED3F5885}" destId="{C830B7C4-5210-41AC-A88B-BECF7607C1E5}" srcOrd="0" destOrd="0" presId="urn:microsoft.com/office/officeart/2005/8/layout/process4"/>
    <dgm:cxn modelId="{B2E3875C-D3F8-41A4-A6EA-DD49F61576A0}" type="presOf" srcId="{11888A7B-1E89-45E6-84F4-EF92B26189CD}" destId="{32FA43B7-34B4-4881-9A79-E3EDEC9D4CBF}" srcOrd="0" destOrd="0" presId="urn:microsoft.com/office/officeart/2005/8/layout/process4"/>
    <dgm:cxn modelId="{8247D1A2-555D-4B39-B44D-5F2B5AE64242}" srcId="{2EFB202A-8611-4DDC-831D-D12EB67B6CF7}" destId="{356F6FEF-38C8-437A-8562-86A5ED3F5885}" srcOrd="2" destOrd="0" parTransId="{BD9B34C9-939F-47F5-A040-1B30C9EEA310}" sibTransId="{665399A3-A410-4656-8F7E-3FAB641DE891}"/>
    <dgm:cxn modelId="{79EE9E02-BFF5-41D3-86F8-33470970BFCE}" type="presOf" srcId="{2EFB202A-8611-4DDC-831D-D12EB67B6CF7}" destId="{812F39FC-2D1E-4DD1-A1A6-C7F9287A4AAB}" srcOrd="0" destOrd="0" presId="urn:microsoft.com/office/officeart/2005/8/layout/process4"/>
    <dgm:cxn modelId="{392AE56A-6939-469F-BFEC-2DEEC6ABC100}" srcId="{2EFB202A-8611-4DDC-831D-D12EB67B6CF7}" destId="{712EDDD5-F1C9-457B-A81D-F94868058B44}" srcOrd="1" destOrd="0" parTransId="{5E2CC1CB-7E12-4298-9BE5-B8F6683E4161}" sibTransId="{630DB5C2-135D-425B-B7D5-1F5FFE12BF3B}"/>
    <dgm:cxn modelId="{5376348D-4465-4E2E-9DB8-EA1F5276717B}" srcId="{2EFB202A-8611-4DDC-831D-D12EB67B6CF7}" destId="{11888A7B-1E89-45E6-84F4-EF92B26189CD}" srcOrd="0" destOrd="0" parTransId="{6043087E-917B-44BC-97F8-41385FD50DC3}" sibTransId="{438F37F5-E676-4BB5-A241-95D895E1B43F}"/>
    <dgm:cxn modelId="{67067571-6170-41AF-87A3-FB3B609D9CEA}" type="presOf" srcId="{640CA9BD-09C1-4472-8DAC-0F150EC5E678}" destId="{325B9957-E809-4285-A870-20AA1AEAA8D7}" srcOrd="0" destOrd="0" presId="urn:microsoft.com/office/officeart/2005/8/layout/process4"/>
    <dgm:cxn modelId="{5678914C-8F14-4F79-9116-C33CBC8B70E7}" type="presParOf" srcId="{812F39FC-2D1E-4DD1-A1A6-C7F9287A4AAB}" destId="{C1682CE3-81F4-4BEA-B13D-10C7017D8387}" srcOrd="0" destOrd="0" presId="urn:microsoft.com/office/officeart/2005/8/layout/process4"/>
    <dgm:cxn modelId="{B75DEEE2-790E-400B-832F-7C2526EFEEFC}" type="presParOf" srcId="{C1682CE3-81F4-4BEA-B13D-10C7017D8387}" destId="{325B9957-E809-4285-A870-20AA1AEAA8D7}" srcOrd="0" destOrd="0" presId="urn:microsoft.com/office/officeart/2005/8/layout/process4"/>
    <dgm:cxn modelId="{6FA0FB88-FED5-4DA9-8FB7-49F6DEA20B1D}" type="presParOf" srcId="{812F39FC-2D1E-4DD1-A1A6-C7F9287A4AAB}" destId="{2AB5853F-AA77-4431-82DF-105CEB2E1424}" srcOrd="1" destOrd="0" presId="urn:microsoft.com/office/officeart/2005/8/layout/process4"/>
    <dgm:cxn modelId="{52F7A226-0BC5-4418-B1BB-E2FD5547F031}" type="presParOf" srcId="{812F39FC-2D1E-4DD1-A1A6-C7F9287A4AAB}" destId="{EC667030-4855-4843-9717-7DF08446AEB5}" srcOrd="2" destOrd="0" presId="urn:microsoft.com/office/officeart/2005/8/layout/process4"/>
    <dgm:cxn modelId="{B3DA9F18-ADDC-4C31-BFC3-7AFA3D398C18}" type="presParOf" srcId="{EC667030-4855-4843-9717-7DF08446AEB5}" destId="{C830B7C4-5210-41AC-A88B-BECF7607C1E5}" srcOrd="0" destOrd="0" presId="urn:microsoft.com/office/officeart/2005/8/layout/process4"/>
    <dgm:cxn modelId="{6D5A561E-9AED-4BD0-B61C-B210C294197C}" type="presParOf" srcId="{812F39FC-2D1E-4DD1-A1A6-C7F9287A4AAB}" destId="{7FB80134-CA62-4591-A6BE-C119FEAC14B6}" srcOrd="3" destOrd="0" presId="urn:microsoft.com/office/officeart/2005/8/layout/process4"/>
    <dgm:cxn modelId="{8AA3D574-35B2-4F26-9753-43647056D5BB}" type="presParOf" srcId="{812F39FC-2D1E-4DD1-A1A6-C7F9287A4AAB}" destId="{C4866045-B43B-429F-851C-E58098BA6DB8}" srcOrd="4" destOrd="0" presId="urn:microsoft.com/office/officeart/2005/8/layout/process4"/>
    <dgm:cxn modelId="{8142E2F1-4232-4A86-BD16-A2EE21EFADF1}" type="presParOf" srcId="{C4866045-B43B-429F-851C-E58098BA6DB8}" destId="{D5473CBC-EEC3-408A-B4A6-07882F253A8B}" srcOrd="0" destOrd="0" presId="urn:microsoft.com/office/officeart/2005/8/layout/process4"/>
    <dgm:cxn modelId="{F78D174D-E461-4213-AEEB-72932703ABFC}" type="presParOf" srcId="{812F39FC-2D1E-4DD1-A1A6-C7F9287A4AAB}" destId="{FE4F3FD3-FEDA-44E5-9944-1FF6BBD0F9E2}" srcOrd="5" destOrd="0" presId="urn:microsoft.com/office/officeart/2005/8/layout/process4"/>
    <dgm:cxn modelId="{D11F7181-D05C-4ACC-A34B-6E9511FBE167}" type="presParOf" srcId="{812F39FC-2D1E-4DD1-A1A6-C7F9287A4AAB}" destId="{1C274FFF-1754-4900-887F-DFF5156E0B8D}" srcOrd="6" destOrd="0" presId="urn:microsoft.com/office/officeart/2005/8/layout/process4"/>
    <dgm:cxn modelId="{36469A82-1901-415F-8126-6D77E61422EC}" type="presParOf" srcId="{1C274FFF-1754-4900-887F-DFF5156E0B8D}" destId="{32FA43B7-34B4-4881-9A79-E3EDEC9D4CBF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25B9957-E809-4285-A870-20AA1AEAA8D7}">
      <dsp:nvSpPr>
        <dsp:cNvPr id="0" name=""/>
        <dsp:cNvSpPr/>
      </dsp:nvSpPr>
      <dsp:spPr>
        <a:xfrm>
          <a:off x="0" y="3569039"/>
          <a:ext cx="5029199" cy="780818"/>
        </a:xfrm>
        <a:prstGeom prst="rec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4 Title</a:t>
          </a:r>
          <a:endParaRPr lang="en-US" sz="2700" kern="1200" dirty="0"/>
        </a:p>
      </dsp:txBody>
      <dsp:txXfrm>
        <a:off x="0" y="3569039"/>
        <a:ext cx="5029199" cy="780818"/>
      </dsp:txXfrm>
    </dsp:sp>
    <dsp:sp modelId="{C830B7C4-5210-41AC-A88B-BECF7607C1E5}">
      <dsp:nvSpPr>
        <dsp:cNvPr id="0" name=""/>
        <dsp:cNvSpPr/>
      </dsp:nvSpPr>
      <dsp:spPr>
        <a:xfrm rot="10800000">
          <a:off x="0" y="2379853"/>
          <a:ext cx="5029199" cy="1200899"/>
        </a:xfrm>
        <a:prstGeom prst="upArrowCallou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-13333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-13333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-13333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3 Title</a:t>
          </a:r>
          <a:endParaRPr lang="en-US" sz="2700" kern="1200" dirty="0"/>
        </a:p>
      </dsp:txBody>
      <dsp:txXfrm rot="10800000">
        <a:off x="0" y="2379853"/>
        <a:ext cx="5029199" cy="780308"/>
      </dsp:txXfrm>
    </dsp:sp>
    <dsp:sp modelId="{D5473CBC-EEC3-408A-B4A6-07882F253A8B}">
      <dsp:nvSpPr>
        <dsp:cNvPr id="0" name=""/>
        <dsp:cNvSpPr/>
      </dsp:nvSpPr>
      <dsp:spPr>
        <a:xfrm rot="10800000">
          <a:off x="0" y="1190666"/>
          <a:ext cx="5029199" cy="1200899"/>
        </a:xfrm>
        <a:prstGeom prst="upArrowCallou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-26667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-26667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-26667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2 Title</a:t>
          </a:r>
          <a:endParaRPr lang="en-US" sz="2700" kern="1200" dirty="0"/>
        </a:p>
      </dsp:txBody>
      <dsp:txXfrm rot="10800000">
        <a:off x="0" y="1190666"/>
        <a:ext cx="5029199" cy="780308"/>
      </dsp:txXfrm>
    </dsp:sp>
    <dsp:sp modelId="{32FA43B7-34B4-4881-9A79-E3EDEC9D4CBF}">
      <dsp:nvSpPr>
        <dsp:cNvPr id="0" name=""/>
        <dsp:cNvSpPr/>
      </dsp:nvSpPr>
      <dsp:spPr>
        <a:xfrm rot="10800000">
          <a:off x="0" y="1479"/>
          <a:ext cx="5029199" cy="1200899"/>
        </a:xfrm>
        <a:prstGeom prst="upArrowCallou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-40000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-40000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-4000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1 Title</a:t>
          </a:r>
          <a:endParaRPr lang="en-US" sz="2700" kern="1200" dirty="0"/>
        </a:p>
      </dsp:txBody>
      <dsp:txXfrm rot="10800000">
        <a:off x="0" y="1479"/>
        <a:ext cx="5029199" cy="78030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F6BC3F-635C-4462-8E17-8A400D9BF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5DC6A5-5DBD-423D-A32D-F8423A376F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4016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4044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988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4016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24044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D8B-1B2C-48B5-B7D1-848CB0E5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72F-F549-4291-B2A8-994AE1E1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D63-1C0C-496A-A244-93923DDC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3C1-7AE4-41B2-AD1F-BAB1897A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D68-E371-48A1-B93B-EFFF4643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EA8-42C4-410E-A27D-875D2979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A0F-34F1-401F-A124-32817EB5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487-5492-466A-9429-3D5755EA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1C2-D333-4DED-8EED-34DBF29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F2E-64C7-4023-BD9A-91B88E0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06C-AC26-4907-9365-EA7B5269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4016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4044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988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4016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24044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570-814E-448B-96E7-9AB90B25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CA9-75A9-4216-8A47-5AEB0C1E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A22E-3433-40C8-8ECB-7ECAC1EE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85A1-CD79-4249-886E-FAE20A1C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1E0-F08F-4356-9326-77A51FE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C0D5-D090-4CCE-B8F9-5FB6C528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377E-4B31-4F61-B264-5F938EB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E011-BABC-4E1C-A5C3-0B01F48D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EE72-06F8-498F-8044-67EE7F8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6501-F7B7-4021-93EB-4AA9F74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0E3B-5792-4D67-BF53-65C25841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BA45-DB52-403E-AC5D-46F09E5A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4016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4044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988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54016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24044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F5A9-213E-4137-8949-0705F9F3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4016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24044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988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54016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24044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79F0-4057-421C-9E99-3E141C4C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6AEC-C0AE-4E00-9937-52236B87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4BF6-1D1A-4520-8981-A0ECC33F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4671-90C9-4712-96BA-62269D7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AC35-D6FD-4768-BCCD-4A139099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768C-4ED1-4A02-AE27-2523CAA8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AA5E-CAF8-45AA-BFAA-840F328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0F47-9DB2-4225-A30C-A7A147CF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8744-0C54-48A1-BC3D-058809B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461B-A4A7-4BF7-AE3F-02835D25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A64C-85F3-4CE9-9C47-C786A0C8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54016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40440" y="18288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988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54016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240440" y="2187000"/>
            <a:ext cx="16189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FCBF-C4C5-4C0E-B741-F43D13D8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16760" y="21870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16760" y="1828800"/>
            <a:ext cx="24537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9880" y="2187000"/>
            <a:ext cx="50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3936600"/>
            <a:ext cx="12191760" cy="210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4114800"/>
            <a:ext cx="10515240" cy="115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200" spc="-1" strike="noStrike">
                <a:solidFill>
                  <a:srgbClr val="ffffff"/>
                </a:solidFill>
                <a:latin typeface="Century Schoolbook"/>
              </a:rPr>
              <a:t>Click to edit Master title style</a:t>
            </a:r>
            <a:endParaRPr b="0" lang="en-US" sz="5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9685800" y="6549840"/>
            <a:ext cx="166752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80880" y="6549840"/>
            <a:ext cx="84416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11353680" y="6549840"/>
            <a:ext cx="4460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65051-619B-48A0-B329-09C57166C697}" type="slidenum"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3244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9685800" y="6549840"/>
            <a:ext cx="166752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380880" y="6549840"/>
            <a:ext cx="84416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11353680" y="6549840"/>
            <a:ext cx="4460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4BA3B9-B9C4-4E2E-9566-F98F5519A528}" type="slidenum"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 hidden="1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3276720"/>
            <a:ext cx="12191760" cy="2763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200" spc="-1" strike="noStrike">
                <a:solidFill>
                  <a:srgbClr val="3d372e"/>
                </a:solidFill>
                <a:latin typeface="Century Schoolbook"/>
              </a:rPr>
              <a:t>Click to edit Master title style</a:t>
            </a:r>
            <a:endParaRPr b="0" lang="en-US" sz="5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d372e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839880" y="2514600"/>
            <a:ext cx="50288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3262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6326280" y="2514600"/>
            <a:ext cx="50288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dt" idx="7"/>
          </p:nvPr>
        </p:nvSpPr>
        <p:spPr>
          <a:xfrm>
            <a:off x="9685800" y="6549840"/>
            <a:ext cx="166752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 type="ftr" idx="8"/>
          </p:nvPr>
        </p:nvSpPr>
        <p:spPr>
          <a:xfrm>
            <a:off x="380880" y="6549840"/>
            <a:ext cx="84416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8"/>
          <p:cNvSpPr>
            <a:spLocks noGrp="1"/>
          </p:cNvSpPr>
          <p:nvPr>
            <p:ph type="sldNum" idx="9"/>
          </p:nvPr>
        </p:nvSpPr>
        <p:spPr>
          <a:xfrm>
            <a:off x="11353680" y="6549840"/>
            <a:ext cx="4460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6759EF-9962-4DA7-A441-60123929ECCA}" type="slidenum"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4114800"/>
            <a:ext cx="10515240" cy="115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线描城市背景简洁商务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5273280"/>
            <a:ext cx="105152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Century Schoolbook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3d372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d37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d37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itle and Content Layout with List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Add your first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Add your secon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Add your thir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itle and Content Layout with Chart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22" name="Content Placeholder 5"/>
          <p:cNvGraphicFramePr/>
          <p:nvPr/>
        </p:nvGraphicFramePr>
        <p:xfrm>
          <a:off x="838080" y="1825560"/>
          <a:ext cx="10515240" cy="4350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itle and Content Layout with Table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25" name="Content Placeholder 4"/>
          <p:cNvGraphicFramePr/>
          <p:nvPr/>
        </p:nvGraphicFramePr>
        <p:xfrm>
          <a:off x="6324480" y="1825560"/>
          <a:ext cx="5028840" cy="2288880"/>
        </p:xfrm>
        <a:graphic>
          <a:graphicData uri="http://schemas.openxmlformats.org/drawingml/2006/table">
            <a:tbl>
              <a:tblPr/>
              <a:tblGrid>
                <a:gridCol w="1676160"/>
                <a:gridCol w="1676160"/>
                <a:gridCol w="1676160"/>
              </a:tblGrid>
              <a:tr h="57204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b2d0b4"/>
                      </a:solidFill>
                    </a:lnT>
                    <a:lnB w="12240">
                      <a:solidFill>
                        <a:srgbClr val="b2d0b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b2d0b4"/>
                      </a:solidFill>
                    </a:lnT>
                    <a:lnB w="12240">
                      <a:solidFill>
                        <a:srgbClr val="b2d0b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b2d0b4"/>
                      </a:solidFill>
                    </a:lnT>
                    <a:lnB w="12240">
                      <a:solidFill>
                        <a:srgbClr val="b2d0b4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</a:tr>
              <a:tr h="57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b2d0b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b2d0b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b2d0b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wo Content Layout with SmartArt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00166705"/>
              </p:ext>
            </p:extLst>
          </p:nvPr>
        </p:nvGraphicFramePr>
        <p:xfrm>
          <a:off x="6324480" y="1825560"/>
          <a:ext cx="5028840" cy="4350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5200" spc="-1" strike="noStrike">
              <a:solidFill>
                <a:srgbClr val="3d372e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72e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chemeClr val="accent1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98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839880" y="2514600"/>
            <a:ext cx="50288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326280" y="1828800"/>
            <a:ext cx="50288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326280" y="2514600"/>
            <a:ext cx="50288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f583bd66513a361a730282b6a794e352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6841151cf538834e171094e4faaf2d73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61697903-7F36-40A1-9098-1CFCA8601A0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7ABB5202-E39F-4BDE-B696-5684138BFB98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3.xml><?xml version="1.0" encoding="utf-8"?>
<ds:datastoreItem xmlns:ds="http://schemas.openxmlformats.org/officeDocument/2006/customXml" ds:itemID="{5D10EAAE-E2F8-4A00-A4CD-D0C34664FC1B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08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15:03:27Z</dcterms:created>
  <dc:creator/>
  <dc:description/>
  <dc:language>en-US</dc:language>
  <cp:lastModifiedBy/>
  <dcterms:modified xsi:type="dcterms:W3CDTF">2015-07-25T08:32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Notes">
    <vt:r8>1</vt:r8>
  </property>
  <property fmtid="{D5CDD505-2E9C-101B-9397-08002B2CF9AE}" pid="4" name="PresentationFormat">
    <vt:lpwstr>宽屏</vt:lpwstr>
  </property>
  <property fmtid="{D5CDD505-2E9C-101B-9397-08002B2CF9AE}" pid="5" name="Slides">
    <vt:r8>7</vt:r8>
  </property>
</Properties>
</file>