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175-A2F7-4645-87C7-97986CC3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BE1-8BA6-4ECD-97B1-62E1D3B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570-D3C2-4472-BED7-2630ECDB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DA3-B0D1-4758-965E-B54EAFE9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460-07B0-47B6-B17B-3628D5DA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C4F-CF34-4526-B1E8-4388609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E0F-6FD4-4AA1-A87A-A3C62D63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BDA-7611-4E9F-A9CB-41CCFA0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E7D-3415-4766-8A3E-D7EE5419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803-87E4-443E-9F2B-949D169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C4D-A388-4CD1-927A-3CBFE27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A0D-609E-44C6-9AE6-EA0D1B1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E429-9553-4C12-BB45-9FA739B10A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B40B-5FCE-4684-AF4A-EA8D0A0609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onpng.com/icon/17418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c0504d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1160" y="-6480"/>
            <a:ext cx="9167760" cy="688212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148120" y="1152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项目汇报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表 19" descr=""/>
          <p:cNvPicPr/>
          <p:nvPr/>
        </p:nvPicPr>
        <p:blipFill>
          <a:blip r:embed="rId1"/>
          <a:stretch/>
        </p:blipFill>
        <p:spPr>
          <a:xfrm>
            <a:off x="358920" y="2006640"/>
            <a:ext cx="8426160" cy="284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下载软件包图标"/>
          <p:cNvPicPr/>
          <p:nvPr/>
        </p:nvPicPr>
        <p:blipFill>
          <a:blip r:embed="rId2"/>
          <a:stretch/>
        </p:blipFill>
        <p:spPr>
          <a:xfrm>
            <a:off x="7489800" y="981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下载软件包图标"/>
          <p:cNvPicPr/>
          <p:nvPr/>
        </p:nvPicPr>
        <p:blipFill>
          <a:blip r:embed="rId3"/>
          <a:stretch/>
        </p:blipFill>
        <p:spPr>
          <a:xfrm>
            <a:off x="7869240" y="157320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矩形 18"/>
          <p:cNvSpPr/>
          <p:nvPr/>
        </p:nvSpPr>
        <p:spPr>
          <a:xfrm>
            <a:off x="5144400" y="365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3"/>
          <p:cNvSpPr/>
          <p:nvPr/>
        </p:nvSpPr>
        <p:spPr>
          <a:xfrm>
            <a:off x="5149080" y="357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6"/>
          <p:cNvSpPr/>
          <p:nvPr/>
        </p:nvSpPr>
        <p:spPr>
          <a:xfrm>
            <a:off x="458172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7"/>
          <p:cNvSpPr/>
          <p:nvPr/>
        </p:nvSpPr>
        <p:spPr>
          <a:xfrm>
            <a:off x="401652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3279600" y="33336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0"/>
          <p:cNvSpPr/>
          <p:nvPr/>
        </p:nvSpPr>
        <p:spPr>
          <a:xfrm>
            <a:off x="4577400" y="366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1"/>
          <p:cNvSpPr/>
          <p:nvPr/>
        </p:nvSpPr>
        <p:spPr>
          <a:xfrm>
            <a:off x="4012200" y="366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2"/>
          <p:cNvSpPr/>
          <p:nvPr/>
        </p:nvSpPr>
        <p:spPr>
          <a:xfrm>
            <a:off x="3274920" y="34128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971640" y="5373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界面设计，管理网站的架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台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s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码，设计阶段的质量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详细设计，项目进度控制和计划制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数据库设计，包括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和数据表项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971640" y="54039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接口设计，组织多次组内讨论，制定测试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2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2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1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2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2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1"/>
          <p:cNvSpPr/>
          <p:nvPr/>
        </p:nvSpPr>
        <p:spPr>
          <a:xfrm>
            <a:off x="1636560" y="1989000"/>
            <a:ext cx="58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d8d8"/>
                </a:solidFill>
                <a:latin typeface="微软雅黑"/>
                <a:ea typeface="微软雅黑"/>
              </a:rPr>
              <a:t>神马软件工程实践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3394080" y="267804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小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3394080" y="267480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小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2381400" y="3371760"/>
            <a:ext cx="52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bbb59"/>
                </a:solidFill>
                <a:latin typeface="微软雅黑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2381400" y="3371760"/>
            <a:ext cx="52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bbb59"/>
                </a:solidFill>
                <a:latin typeface="微软雅黑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2381400" y="3371760"/>
            <a:ext cx="52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bbb59"/>
                </a:solidFill>
                <a:latin typeface="微软雅黑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826920" y="2708280"/>
            <a:ext cx="7345440" cy="148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2723760"/>
            <a:ext cx="4101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</a:rPr>
              <a:t>项目汇报</a:t>
            </a:r>
            <a:endParaRPr b="1" lang="en-US" sz="4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" name="TextBox 5"/>
          <p:cNvSpPr/>
          <p:nvPr/>
        </p:nvSpPr>
        <p:spPr>
          <a:xfrm rot="20878200">
            <a:off x="955440" y="30081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7"/>
          <p:cNvSpPr/>
          <p:nvPr/>
        </p:nvSpPr>
        <p:spPr>
          <a:xfrm>
            <a:off x="4743360" y="311292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752720" y="300672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3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7491240" y="306396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8" descr=""/>
          <p:cNvPicPr/>
          <p:nvPr/>
        </p:nvPicPr>
        <p:blipFill>
          <a:blip r:embed="rId2"/>
          <a:stretch/>
        </p:blipFill>
        <p:spPr>
          <a:xfrm>
            <a:off x="5724360" y="3260880"/>
            <a:ext cx="1911600" cy="66960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870840" y="4221000"/>
            <a:ext cx="29649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MARTER-SEPCWS-PRP-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5072400" y="1743120"/>
            <a:ext cx="21009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神马软件工程实践项目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1"/>
          <p:cNvSpPr/>
          <p:nvPr/>
        </p:nvSpPr>
        <p:spPr>
          <a:xfrm>
            <a:off x="8317080" y="5356080"/>
            <a:ext cx="83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2"/>
          <p:cNvSpPr/>
          <p:nvPr/>
        </p:nvSpPr>
        <p:spPr>
          <a:xfrm>
            <a:off x="799164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4"/>
          <p:cNvSpPr/>
          <p:nvPr/>
        </p:nvSpPr>
        <p:spPr>
          <a:xfrm flipV="1">
            <a:off x="8155080" y="2133720"/>
            <a:ext cx="0" cy="30607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8"/>
          <p:cNvSpPr/>
          <p:nvPr/>
        </p:nvSpPr>
        <p:spPr>
          <a:xfrm>
            <a:off x="7981920" y="17780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0"/>
          <p:cNvSpPr/>
          <p:nvPr/>
        </p:nvSpPr>
        <p:spPr>
          <a:xfrm>
            <a:off x="4067280" y="17780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直接连接符 2"/>
          <p:cNvSpPr/>
          <p:nvPr/>
        </p:nvSpPr>
        <p:spPr>
          <a:xfrm>
            <a:off x="0" y="5356080"/>
            <a:ext cx="2610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819000" y="51944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3"/>
          <p:cNvGrpSpPr/>
          <p:nvPr/>
        </p:nvGrpSpPr>
        <p:grpSpPr>
          <a:xfrm>
            <a:off x="6191280" y="5194440"/>
            <a:ext cx="2952720" cy="323640"/>
            <a:chOff x="6191280" y="5194440"/>
            <a:chExt cx="2952720" cy="323640"/>
          </a:xfrm>
        </p:grpSpPr>
        <p:sp>
          <p:nvSpPr>
            <p:cNvPr id="63" name="直接连接符 33"/>
            <p:cNvSpPr/>
            <p:nvPr/>
          </p:nvSpPr>
          <p:spPr>
            <a:xfrm>
              <a:off x="6535080" y="5356080"/>
              <a:ext cx="2608920" cy="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7"/>
            <p:cNvSpPr/>
            <p:nvPr/>
          </p:nvSpPr>
          <p:spPr>
            <a:xfrm>
              <a:off x="6191280" y="5194440"/>
              <a:ext cx="323640" cy="32364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8"/>
            <p:cNvSpPr/>
            <p:nvPr/>
          </p:nvSpPr>
          <p:spPr>
            <a:xfrm>
              <a:off x="7981200" y="5194440"/>
              <a:ext cx="323640" cy="32364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椭圆 20"/>
          <p:cNvSpPr/>
          <p:nvPr/>
        </p:nvSpPr>
        <p:spPr>
          <a:xfrm>
            <a:off x="440064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b2a0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1"/>
          <p:cNvSpPr/>
          <p:nvPr/>
        </p:nvSpPr>
        <p:spPr>
          <a:xfrm>
            <a:off x="261000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8"/>
          <p:cNvSpPr/>
          <p:nvPr/>
        </p:nvSpPr>
        <p:spPr>
          <a:xfrm flipH="1">
            <a:off x="4566600" y="4365720"/>
            <a:ext cx="360" cy="718920"/>
          </a:xfrm>
          <a:custGeom>
            <a:avLst/>
            <a:gdLst/>
            <a:ahLst/>
            <a:rect l="l" t="t" r="r" b="b"/>
            <a:pathLst>
              <a:path w="402" h="342296">
                <a:moveTo>
                  <a:pt x="0" y="342296"/>
                </a:moveTo>
                <a:lnTo>
                  <a:pt x="402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1523880" y="6602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7"/>
          <p:cNvSpPr/>
          <p:nvPr/>
        </p:nvSpPr>
        <p:spPr>
          <a:xfrm>
            <a:off x="561960" y="571680"/>
            <a:ext cx="1882800" cy="1882440"/>
          </a:xfrm>
          <a:prstGeom prst="pie">
            <a:avLst/>
          </a:prstGeom>
          <a:solidFill>
            <a:srgbClr val="f2f2f2"/>
          </a:solidFill>
          <a:ln w="572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02480" rIns="402480" tIns="402480" bIns="402480" anchor="ctr">
            <a:norm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2"/>
          <p:cNvGrpSpPr/>
          <p:nvPr/>
        </p:nvGrpSpPr>
        <p:grpSpPr>
          <a:xfrm>
            <a:off x="2540160" y="662040"/>
            <a:ext cx="4063680" cy="4062240"/>
            <a:chOff x="2540160" y="662040"/>
            <a:chExt cx="4063680" cy="4062240"/>
          </a:xfrm>
        </p:grpSpPr>
        <p:sp>
          <p:nvSpPr>
            <p:cNvPr id="72" name="任意多边形 8"/>
            <p:cNvSpPr/>
            <p:nvPr/>
          </p:nvSpPr>
          <p:spPr>
            <a:xfrm>
              <a:off x="4008240" y="66204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rm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进度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控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9"/>
            <p:cNvSpPr/>
            <p:nvPr/>
          </p:nvSpPr>
          <p:spPr>
            <a:xfrm>
              <a:off x="5476680" y="212976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rm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版本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控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0"/>
            <p:cNvSpPr/>
            <p:nvPr/>
          </p:nvSpPr>
          <p:spPr>
            <a:xfrm>
              <a:off x="4008240" y="359748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rm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站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管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11"/>
            <p:cNvSpPr/>
            <p:nvPr/>
          </p:nvSpPr>
          <p:spPr>
            <a:xfrm>
              <a:off x="2540160" y="2129760"/>
              <a:ext cx="1127160" cy="1126800"/>
            </a:xfrm>
            <a:prstGeom prst="pie">
              <a:avLst/>
            </a:prstGeom>
            <a:solidFill>
              <a:srgbClr val="f2f2f2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960" rIns="183960" tIns="183960" bIns="183960" anchor="ctr">
              <a:norm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任意多边形 22"/>
          <p:cNvSpPr/>
          <p:nvPr/>
        </p:nvSpPr>
        <p:spPr>
          <a:xfrm>
            <a:off x="108000" y="117360"/>
            <a:ext cx="2792520" cy="2792520"/>
          </a:xfrm>
          <a:prstGeom prst="pi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02480" rIns="402480" tIns="402480" bIns="402480" anchor="ctr">
            <a:normAutofit/>
          </a:bodyPr>
          <a:p>
            <a:pPr algn="ctr">
              <a:lnSpc>
                <a:spcPct val="90000"/>
              </a:lnSpc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3"/>
          <p:cNvSpPr/>
          <p:nvPr/>
        </p:nvSpPr>
        <p:spPr>
          <a:xfrm rot="5400000">
            <a:off x="4385880" y="2590560"/>
            <a:ext cx="584280" cy="2771640"/>
          </a:xfrm>
          <a:prstGeom prst="rect">
            <a:avLst/>
          </a:prstGeom>
          <a:solidFill>
            <a:srgbClr val="4f6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4"/>
          <p:cNvSpPr/>
          <p:nvPr/>
        </p:nvSpPr>
        <p:spPr>
          <a:xfrm rot="5400000">
            <a:off x="4385160" y="1730880"/>
            <a:ext cx="584280" cy="33228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 rot="5400000">
            <a:off x="4385520" y="840240"/>
            <a:ext cx="579600" cy="4013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6"/>
          <p:cNvSpPr/>
          <p:nvPr/>
        </p:nvSpPr>
        <p:spPr>
          <a:xfrm rot="5400000">
            <a:off x="4389120" y="-3240"/>
            <a:ext cx="584280" cy="460044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3308400" y="205416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度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308400" y="262584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9"/>
          <p:cNvSpPr/>
          <p:nvPr/>
        </p:nvSpPr>
        <p:spPr>
          <a:xfrm>
            <a:off x="3308400" y="31860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网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0"/>
          <p:cNvSpPr/>
          <p:nvPr/>
        </p:nvSpPr>
        <p:spPr>
          <a:xfrm>
            <a:off x="3308400" y="366876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25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51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251"/>
                            </p:stCondLst>
                            <p:childTnLst>
                              <p:par>
                                <p:cTn id="60" nodeType="after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51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5"/>
          <p:cNvSpPr/>
          <p:nvPr/>
        </p:nvSpPr>
        <p:spPr>
          <a:xfrm>
            <a:off x="1332000" y="615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26"/>
          <p:cNvSpPr/>
          <p:nvPr/>
        </p:nvSpPr>
        <p:spPr>
          <a:xfrm flipV="1">
            <a:off x="1065240" y="5657760"/>
            <a:ext cx="210960" cy="650880"/>
          </a:xfrm>
          <a:custGeom>
            <a:avLst/>
            <a:gdLst>
              <a:gd name="textAreaLeft" fmla="*/ 0 w 210960"/>
              <a:gd name="textAreaRight" fmla="*/ 211320 w 210960"/>
              <a:gd name="textAreaTop" fmla="*/ 360 h 650880"/>
              <a:gd name="textAreaBottom" fmla="*/ 651600 h 65088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27"/>
          <p:cNvSpPr/>
          <p:nvPr/>
        </p:nvSpPr>
        <p:spPr>
          <a:xfrm flipH="1">
            <a:off x="2224080" y="4272120"/>
            <a:ext cx="473040" cy="812520"/>
          </a:xfrm>
          <a:custGeom>
            <a:avLst/>
            <a:gdLst>
              <a:gd name="textAreaLeft" fmla="*/ 360 w 473040"/>
              <a:gd name="textAreaRight" fmla="*/ 473760 w 4730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611280" y="4067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任务分配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9"/>
          <p:cNvSpPr/>
          <p:nvPr/>
        </p:nvSpPr>
        <p:spPr>
          <a:xfrm flipH="1">
            <a:off x="3808440" y="3208320"/>
            <a:ext cx="698400" cy="1876320"/>
          </a:xfrm>
          <a:custGeom>
            <a:avLst/>
            <a:gdLst>
              <a:gd name="textAreaLeft" fmla="*/ 360 w 698400"/>
              <a:gd name="textAreaRight" fmla="*/ 699120 w 698400"/>
              <a:gd name="textAreaTop" fmla="*/ 0 h 1876320"/>
              <a:gd name="textAreaBottom" fmla="*/ 1876680 h 18763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0"/>
          <p:cNvSpPr/>
          <p:nvPr/>
        </p:nvSpPr>
        <p:spPr>
          <a:xfrm>
            <a:off x="2627280" y="2933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甘特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1"/>
          <p:cNvSpPr/>
          <p:nvPr/>
        </p:nvSpPr>
        <p:spPr>
          <a:xfrm flipH="1">
            <a:off x="5398920" y="1976400"/>
            <a:ext cx="914400" cy="3110040"/>
          </a:xfrm>
          <a:custGeom>
            <a:avLst/>
            <a:gdLst>
              <a:gd name="textAreaLeft" fmla="*/ 360 w 914400"/>
              <a:gd name="textAreaRight" fmla="*/ 915120 w 914400"/>
              <a:gd name="textAreaTop" fmla="*/ 0 h 3110040"/>
              <a:gd name="textAreaBottom" fmla="*/ 3110400 h 311004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2"/>
          <p:cNvSpPr/>
          <p:nvPr/>
        </p:nvSpPr>
        <p:spPr>
          <a:xfrm>
            <a:off x="4500720" y="1763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日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"/>
          <p:cNvSpPr/>
          <p:nvPr/>
        </p:nvSpPr>
        <p:spPr>
          <a:xfrm>
            <a:off x="0" y="5356080"/>
            <a:ext cx="9144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6"/>
          <p:cNvSpPr/>
          <p:nvPr/>
        </p:nvSpPr>
        <p:spPr>
          <a:xfrm>
            <a:off x="819000" y="51944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7"/>
          <p:cNvSpPr/>
          <p:nvPr/>
        </p:nvSpPr>
        <p:spPr>
          <a:xfrm>
            <a:off x="6191280" y="519444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"/>
          <p:cNvSpPr/>
          <p:nvPr/>
        </p:nvSpPr>
        <p:spPr>
          <a:xfrm>
            <a:off x="798048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440064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b2a0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1"/>
          <p:cNvSpPr/>
          <p:nvPr/>
        </p:nvSpPr>
        <p:spPr>
          <a:xfrm>
            <a:off x="261000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6"/>
          <p:cNvSpPr/>
          <p:nvPr/>
        </p:nvSpPr>
        <p:spPr>
          <a:xfrm>
            <a:off x="5867280" y="104292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时间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38"/>
          <p:cNvSpPr/>
          <p:nvPr/>
        </p:nvSpPr>
        <p:spPr>
          <a:xfrm flipH="1">
            <a:off x="6975360" y="1268280"/>
            <a:ext cx="1122480" cy="3816360"/>
          </a:xfrm>
          <a:custGeom>
            <a:avLst/>
            <a:gdLst>
              <a:gd name="textAreaLeft" fmla="*/ 360 w 1122480"/>
              <a:gd name="textAreaRight" fmla="*/ 1123200 w 112248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绿色的小旗图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7640" y="565776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102" name="矩形 53"/>
          <p:cNvSpPr/>
          <p:nvPr/>
        </p:nvSpPr>
        <p:spPr>
          <a:xfrm>
            <a:off x="469800" y="4113360"/>
            <a:ext cx="584280" cy="2771640"/>
          </a:xfrm>
          <a:prstGeom prst="rect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4"/>
          <p:cNvSpPr/>
          <p:nvPr/>
        </p:nvSpPr>
        <p:spPr>
          <a:xfrm>
            <a:off x="1046160" y="3562200"/>
            <a:ext cx="584280" cy="332424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5"/>
          <p:cNvSpPr/>
          <p:nvPr/>
        </p:nvSpPr>
        <p:spPr>
          <a:xfrm>
            <a:off x="1606680" y="2871720"/>
            <a:ext cx="577800" cy="40132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6"/>
          <p:cNvSpPr/>
          <p:nvPr/>
        </p:nvSpPr>
        <p:spPr>
          <a:xfrm>
            <a:off x="2165400" y="2284560"/>
            <a:ext cx="584280" cy="4600440"/>
          </a:xfrm>
          <a:prstGeom prst="rect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7"/>
          <p:cNvSpPr/>
          <p:nvPr/>
        </p:nvSpPr>
        <p:spPr>
          <a:xfrm>
            <a:off x="2192400" y="5772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8"/>
          <p:cNvSpPr/>
          <p:nvPr/>
        </p:nvSpPr>
        <p:spPr>
          <a:xfrm>
            <a:off x="1625760" y="5772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9"/>
          <p:cNvSpPr/>
          <p:nvPr/>
        </p:nvSpPr>
        <p:spPr>
          <a:xfrm>
            <a:off x="1060560" y="5772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0"/>
          <p:cNvSpPr/>
          <p:nvPr/>
        </p:nvSpPr>
        <p:spPr>
          <a:xfrm>
            <a:off x="324000" y="5746680"/>
            <a:ext cx="73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表 33" descr=""/>
          <p:cNvPicPr/>
          <p:nvPr/>
        </p:nvPicPr>
        <p:blipFill>
          <a:blip r:embed="rId3"/>
          <a:stretch/>
        </p:blipFill>
        <p:spPr>
          <a:xfrm>
            <a:off x="1276200" y="1206360"/>
            <a:ext cx="2772000" cy="13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25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-0.00017 -0.625 E">
                                      <p:cBhvr>
                                        <p:cTn id="185" dur="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5.49133E-006 L -4.16667E-006 -0.52972 E">
                                      <p:cBhvr>
                                        <p:cTn id="187" dur="2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7.5E-006 2.42775E-006 L 7.5E-006 -0.43006 E">
                                      <p:cBhvr>
                                        <p:cTn id="189" dur="2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22222E-006 -6.35838E-007 L -2.22222E-006 -0.35144 E">
                                      <p:cBhvr>
                                        <p:cTn id="191" dur="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" presetSubtype="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3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3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5E-006 -0.35185 L 5E-006 -0.78218 E">
                                      <p:cBhvr>
                                        <p:cTn id="209" dur="3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61111E-006 -0.4301 L 3.61111E-006 -0.78172 E">
                                      <p:cBhvr>
                                        <p:cTn id="211" dur="3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16667E-006 -0.53032 L -4.16667E-006 -0.78217 E">
                                      <p:cBhvr>
                                        <p:cTn id="213" dur="3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7 -0.625 L -0.00017 -0.78241 E">
                                      <p:cBhvr>
                                        <p:cTn id="215" dur="3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任意多边形 19"/>
          <p:cNvSpPr/>
          <p:nvPr/>
        </p:nvSpPr>
        <p:spPr>
          <a:xfrm>
            <a:off x="0" y="3063960"/>
            <a:ext cx="9156600" cy="229212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9155875" h="2291937">
                <a:moveTo>
                  <a:pt x="0" y="2291937"/>
                </a:moveTo>
                <a:lnTo>
                  <a:pt x="2909455" y="2291937"/>
                </a:lnTo>
                <a:lnTo>
                  <a:pt x="5807034" y="0"/>
                </a:lnTo>
                <a:lnTo>
                  <a:pt x="9155875" y="0"/>
                </a:lnTo>
              </a:path>
            </a:pathLst>
          </a:cu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6"/>
          <p:cNvSpPr/>
          <p:nvPr/>
        </p:nvSpPr>
        <p:spPr>
          <a:xfrm>
            <a:off x="731880" y="519444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7"/>
          <p:cNvSpPr/>
          <p:nvPr/>
        </p:nvSpPr>
        <p:spPr>
          <a:xfrm>
            <a:off x="5634000" y="29559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8"/>
          <p:cNvSpPr/>
          <p:nvPr/>
        </p:nvSpPr>
        <p:spPr>
          <a:xfrm>
            <a:off x="7893000" y="2901960"/>
            <a:ext cx="324000" cy="324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0"/>
          <p:cNvSpPr/>
          <p:nvPr/>
        </p:nvSpPr>
        <p:spPr>
          <a:xfrm>
            <a:off x="4319640" y="3987720"/>
            <a:ext cx="323640" cy="324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1"/>
          <p:cNvSpPr/>
          <p:nvPr/>
        </p:nvSpPr>
        <p:spPr>
          <a:xfrm>
            <a:off x="2771640" y="513720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26"/>
          <p:cNvSpPr/>
          <p:nvPr/>
        </p:nvSpPr>
        <p:spPr>
          <a:xfrm flipV="1">
            <a:off x="976320" y="5657760"/>
            <a:ext cx="210960" cy="650880"/>
          </a:xfrm>
          <a:custGeom>
            <a:avLst/>
            <a:gdLst>
              <a:gd name="textAreaLeft" fmla="*/ 0 w 210960"/>
              <a:gd name="textAreaRight" fmla="*/ 211320 w 210960"/>
              <a:gd name="textAreaTop" fmla="*/ 360 h 650880"/>
              <a:gd name="textAreaBottom" fmla="*/ 651600 h 65088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27"/>
          <p:cNvSpPr/>
          <p:nvPr/>
        </p:nvSpPr>
        <p:spPr>
          <a:xfrm flipH="1">
            <a:off x="2395440" y="4210200"/>
            <a:ext cx="471600" cy="812520"/>
          </a:xfrm>
          <a:custGeom>
            <a:avLst/>
            <a:gdLst>
              <a:gd name="textAreaLeft" fmla="*/ 360 w 471600"/>
              <a:gd name="textAreaRight" fmla="*/ 472320 w 47160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29"/>
          <p:cNvSpPr/>
          <p:nvPr/>
        </p:nvSpPr>
        <p:spPr>
          <a:xfrm flipH="1">
            <a:off x="3774960" y="3063960"/>
            <a:ext cx="473040" cy="812880"/>
          </a:xfrm>
          <a:custGeom>
            <a:avLst/>
            <a:gdLst>
              <a:gd name="textAreaLeft" fmla="*/ 360 w 473040"/>
              <a:gd name="textAreaRight" fmla="*/ 473760 w 47304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31"/>
          <p:cNvSpPr/>
          <p:nvPr/>
        </p:nvSpPr>
        <p:spPr>
          <a:xfrm flipH="1">
            <a:off x="5349960" y="1976400"/>
            <a:ext cx="473040" cy="812880"/>
          </a:xfrm>
          <a:custGeom>
            <a:avLst/>
            <a:gdLst>
              <a:gd name="textAreaLeft" fmla="*/ 360 w 473040"/>
              <a:gd name="textAreaRight" fmla="*/ 473760 w 47304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33"/>
          <p:cNvSpPr/>
          <p:nvPr/>
        </p:nvSpPr>
        <p:spPr>
          <a:xfrm flipH="1" flipV="1">
            <a:off x="7642080" y="3351960"/>
            <a:ext cx="432000" cy="716040"/>
          </a:xfrm>
          <a:custGeom>
            <a:avLst/>
            <a:gdLst>
              <a:gd name="textAreaLeft" fmla="*/ 360 w 432000"/>
              <a:gd name="textAreaRight" fmla="*/ 432720 w 432000"/>
              <a:gd name="textAreaTop" fmla="*/ -360 h 716040"/>
              <a:gd name="textAreaBottom" fmla="*/ 716040 h 71604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5168880" y="5373720"/>
            <a:ext cx="3960720" cy="825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Project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2"/>
          <p:cNvSpPr/>
          <p:nvPr/>
        </p:nvSpPr>
        <p:spPr>
          <a:xfrm>
            <a:off x="1351080" y="6124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资源使用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3"/>
          <p:cNvSpPr/>
          <p:nvPr/>
        </p:nvSpPr>
        <p:spPr>
          <a:xfrm>
            <a:off x="900000" y="3987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资源工作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4"/>
          <p:cNvSpPr/>
          <p:nvPr/>
        </p:nvSpPr>
        <p:spPr>
          <a:xfrm>
            <a:off x="6156360" y="38768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BS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5"/>
          <p:cNvSpPr/>
          <p:nvPr/>
        </p:nvSpPr>
        <p:spPr>
          <a:xfrm>
            <a:off x="2050920" y="28558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组规划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4067280" y="1727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资源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表 22" descr=""/>
          <p:cNvPicPr/>
          <p:nvPr/>
        </p:nvPicPr>
        <p:blipFill>
          <a:blip r:embed="rId1"/>
          <a:stretch/>
        </p:blipFill>
        <p:spPr>
          <a:xfrm>
            <a:off x="466560" y="692280"/>
            <a:ext cx="2521080" cy="1598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E:\《软件工程实践课程》网站\Documents\《软件工程实践课程》网站图形\wbs.png"/>
          <p:cNvPicPr/>
          <p:nvPr/>
        </p:nvPicPr>
        <p:blipFill>
          <a:blip r:embed="rId2"/>
          <a:srcRect l="10613" t="37693" r="75389" b="52266"/>
          <a:stretch/>
        </p:blipFill>
        <p:spPr>
          <a:xfrm>
            <a:off x="7020000" y="139680"/>
            <a:ext cx="1965240" cy="26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65459" t="53801" r="17657" b="31662"/>
          <a:stretch/>
        </p:blipFill>
        <p:spPr>
          <a:xfrm>
            <a:off x="3203640" y="3263760"/>
            <a:ext cx="2808360" cy="150984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2"/>
          <p:cNvSpPr/>
          <p:nvPr/>
        </p:nvSpPr>
        <p:spPr>
          <a:xfrm>
            <a:off x="0" y="3051000"/>
            <a:ext cx="8142120" cy="176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26"/>
          <p:cNvSpPr/>
          <p:nvPr/>
        </p:nvSpPr>
        <p:spPr>
          <a:xfrm flipV="1">
            <a:off x="1009800" y="3359160"/>
            <a:ext cx="212400" cy="652320"/>
          </a:xfrm>
          <a:custGeom>
            <a:avLst/>
            <a:gdLst>
              <a:gd name="textAreaLeft" fmla="*/ 0 w 212400"/>
              <a:gd name="textAreaRight" fmla="*/ 212760 w 212400"/>
              <a:gd name="textAreaTop" fmla="*/ 360 h 652320"/>
              <a:gd name="textAreaBottom" fmla="*/ 653040 h 6523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27"/>
          <p:cNvSpPr/>
          <p:nvPr/>
        </p:nvSpPr>
        <p:spPr>
          <a:xfrm flipH="1">
            <a:off x="2224080" y="1927080"/>
            <a:ext cx="473040" cy="812880"/>
          </a:xfrm>
          <a:custGeom>
            <a:avLst/>
            <a:gdLst>
              <a:gd name="textAreaLeft" fmla="*/ 360 w 473040"/>
              <a:gd name="textAreaRight" fmla="*/ 473760 w 47304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6"/>
          <p:cNvSpPr/>
          <p:nvPr/>
        </p:nvSpPr>
        <p:spPr>
          <a:xfrm>
            <a:off x="81900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7"/>
          <p:cNvSpPr/>
          <p:nvPr/>
        </p:nvSpPr>
        <p:spPr>
          <a:xfrm>
            <a:off x="619128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8"/>
          <p:cNvSpPr/>
          <p:nvPr/>
        </p:nvSpPr>
        <p:spPr>
          <a:xfrm>
            <a:off x="798048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20"/>
          <p:cNvSpPr/>
          <p:nvPr/>
        </p:nvSpPr>
        <p:spPr>
          <a:xfrm>
            <a:off x="440064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1"/>
          <p:cNvSpPr/>
          <p:nvPr/>
        </p:nvSpPr>
        <p:spPr>
          <a:xfrm>
            <a:off x="261000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33"/>
          <p:cNvSpPr/>
          <p:nvPr/>
        </p:nvSpPr>
        <p:spPr>
          <a:xfrm>
            <a:off x="6375240" y="1542960"/>
            <a:ext cx="717840" cy="1204920"/>
          </a:xfrm>
          <a:custGeom>
            <a:avLst/>
            <a:gdLst>
              <a:gd name="textAreaLeft" fmla="*/ 0 w 717840"/>
              <a:gd name="textAreaRight" fmla="*/ 718200 w 71784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37"/>
          <p:cNvSpPr/>
          <p:nvPr/>
        </p:nvSpPr>
        <p:spPr>
          <a:xfrm flipH="1" flipV="1">
            <a:off x="7163640" y="3358440"/>
            <a:ext cx="934920" cy="1438200"/>
          </a:xfrm>
          <a:custGeom>
            <a:avLst/>
            <a:gdLst>
              <a:gd name="textAreaLeft" fmla="*/ -360 w 934920"/>
              <a:gd name="textAreaRight" fmla="*/ 934920 w 934920"/>
              <a:gd name="textAreaTop" fmla="*/ -360 h 1438200"/>
              <a:gd name="textAreaBottom" fmla="*/ 1438200 h 1438200"/>
            </a:gdLst>
            <a:ahLst/>
            <a:rect l="textAreaLeft" t="textAreaTop" r="textAreaRight" b="textAreaBottom"/>
            <a:pathLst>
              <a:path w="522514" h="344385">
                <a:moveTo>
                  <a:pt x="0" y="344385"/>
                </a:moveTo>
                <a:lnTo>
                  <a:pt x="178130" y="0"/>
                </a:lnTo>
                <a:lnTo>
                  <a:pt x="522514" y="0"/>
                </a:lnTo>
              </a:path>
            </a:pathLst>
          </a:custGeom>
          <a:noFill/>
          <a:ln w="936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9"/>
          <p:cNvSpPr/>
          <p:nvPr/>
        </p:nvSpPr>
        <p:spPr>
          <a:xfrm>
            <a:off x="3421080" y="-190440"/>
            <a:ext cx="584280" cy="2770200"/>
          </a:xfrm>
          <a:prstGeom prst="rect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0"/>
          <p:cNvSpPr/>
          <p:nvPr/>
        </p:nvSpPr>
        <p:spPr>
          <a:xfrm>
            <a:off x="3997440" y="-208080"/>
            <a:ext cx="583920" cy="332280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1"/>
          <p:cNvSpPr/>
          <p:nvPr/>
        </p:nvSpPr>
        <p:spPr>
          <a:xfrm>
            <a:off x="4557600" y="-190440"/>
            <a:ext cx="579600" cy="40114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2"/>
          <p:cNvSpPr/>
          <p:nvPr/>
        </p:nvSpPr>
        <p:spPr>
          <a:xfrm>
            <a:off x="5116680" y="-193680"/>
            <a:ext cx="583920" cy="4599000"/>
          </a:xfrm>
          <a:prstGeom prst="rect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6"/>
          <p:cNvSpPr/>
          <p:nvPr/>
        </p:nvSpPr>
        <p:spPr>
          <a:xfrm>
            <a:off x="3274920" y="206856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8"/>
          <p:cNvSpPr/>
          <p:nvPr/>
        </p:nvSpPr>
        <p:spPr>
          <a:xfrm>
            <a:off x="4012200" y="2109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5"/>
          <p:cNvSpPr/>
          <p:nvPr/>
        </p:nvSpPr>
        <p:spPr>
          <a:xfrm>
            <a:off x="4582440" y="2117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6"/>
          <p:cNvSpPr/>
          <p:nvPr/>
        </p:nvSpPr>
        <p:spPr>
          <a:xfrm>
            <a:off x="5144400" y="2104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7"/>
          <p:cNvSpPr/>
          <p:nvPr/>
        </p:nvSpPr>
        <p:spPr>
          <a:xfrm>
            <a:off x="5144400" y="4387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8"/>
          <p:cNvSpPr/>
          <p:nvPr/>
        </p:nvSpPr>
        <p:spPr>
          <a:xfrm>
            <a:off x="4577400" y="3730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9"/>
          <p:cNvSpPr/>
          <p:nvPr/>
        </p:nvSpPr>
        <p:spPr>
          <a:xfrm>
            <a:off x="4012200" y="3065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0"/>
          <p:cNvSpPr/>
          <p:nvPr/>
        </p:nvSpPr>
        <p:spPr>
          <a:xfrm>
            <a:off x="3274920" y="255888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51"/>
          <p:cNvSpPr/>
          <p:nvPr/>
        </p:nvSpPr>
        <p:spPr>
          <a:xfrm>
            <a:off x="8304120" y="3051000"/>
            <a:ext cx="8398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rcRect l="40948" t="45434" r="34727" b="44881"/>
          <a:stretch/>
        </p:blipFill>
        <p:spPr>
          <a:xfrm>
            <a:off x="90360" y="981000"/>
            <a:ext cx="404496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rcRect l="65459" t="35966" r="17657" b="45807"/>
          <a:stretch/>
        </p:blipFill>
        <p:spPr>
          <a:xfrm>
            <a:off x="6229440" y="4114800"/>
            <a:ext cx="2806560" cy="189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rcRect l="65459" t="68338" r="17657" b="15803"/>
          <a:stretch/>
        </p:blipFill>
        <p:spPr>
          <a:xfrm>
            <a:off x="6156360" y="216000"/>
            <a:ext cx="280836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5"/>
          <a:srcRect l="65459" t="84202" r="17657" b="0"/>
          <a:stretch/>
        </p:blipFill>
        <p:spPr>
          <a:xfrm>
            <a:off x="125280" y="3857760"/>
            <a:ext cx="280836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588 E">
                                      <p:cBhvr>
                                        <p:cTn id="322" dur="2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07361 E">
                                      <p:cBhvr>
                                        <p:cTn id="324" dur="2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1419 E">
                                      <p:cBhvr>
                                        <p:cTn id="326" dur="2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3634 E">
                                      <p:cBhvr>
                                        <p:cTn id="328" dur="2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30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0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208 L -0.00052 0.43727 E">
                                      <p:cBhvr>
                                        <p:cTn id="356" dur="2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.00255 L -0.00243 0.36852 E">
                                      <p:cBhvr>
                                        <p:cTn id="358" dur="2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52 0.00231 L -0.00069 0.27129 E">
                                      <p:cBhvr>
                                        <p:cTn id="360" dur="2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0.00232 L -0.00122 0.17546 E">
                                      <p:cBhvr>
                                        <p:cTn id="362" dur="2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蓝色的小旗图标"/>
          <p:cNvPicPr/>
          <p:nvPr/>
        </p:nvPicPr>
        <p:blipFill>
          <a:blip r:embed="rId1"/>
          <a:stretch/>
        </p:blipFill>
        <p:spPr>
          <a:xfrm>
            <a:off x="5902200" y="1860480"/>
            <a:ext cx="900360" cy="898560"/>
          </a:xfrm>
          <a:prstGeom prst="rect">
            <a:avLst/>
          </a:prstGeom>
          <a:ln w="0">
            <a:noFill/>
          </a:ln>
        </p:spPr>
      </p:pic>
      <p:sp>
        <p:nvSpPr>
          <p:cNvPr id="159" name="直接连接符 3"/>
          <p:cNvSpPr/>
          <p:nvPr/>
        </p:nvSpPr>
        <p:spPr>
          <a:xfrm>
            <a:off x="0" y="3051000"/>
            <a:ext cx="8142120" cy="176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4"/>
          <p:cNvSpPr/>
          <p:nvPr/>
        </p:nvSpPr>
        <p:spPr>
          <a:xfrm>
            <a:off x="81900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5"/>
          <p:cNvSpPr/>
          <p:nvPr/>
        </p:nvSpPr>
        <p:spPr>
          <a:xfrm>
            <a:off x="619128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6"/>
          <p:cNvSpPr/>
          <p:nvPr/>
        </p:nvSpPr>
        <p:spPr>
          <a:xfrm>
            <a:off x="798048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8"/>
          <p:cNvSpPr/>
          <p:nvPr/>
        </p:nvSpPr>
        <p:spPr>
          <a:xfrm>
            <a:off x="2610000" y="288936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0"/>
          <p:cNvSpPr/>
          <p:nvPr/>
        </p:nvSpPr>
        <p:spPr>
          <a:xfrm>
            <a:off x="8304120" y="3051000"/>
            <a:ext cx="8398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蓝色的小旗图标"/>
          <p:cNvPicPr/>
          <p:nvPr/>
        </p:nvPicPr>
        <p:blipFill>
          <a:blip r:embed="rId2"/>
          <a:stretch/>
        </p:blipFill>
        <p:spPr>
          <a:xfrm>
            <a:off x="2320920" y="182556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3"/>
          <p:cNvSpPr/>
          <p:nvPr/>
        </p:nvSpPr>
        <p:spPr>
          <a:xfrm>
            <a:off x="2212920" y="5373720"/>
            <a:ext cx="4718160" cy="825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othic Std B"/>
              </a:rPr>
              <a:t>TortoiseSVN 1.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1727280" y="342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5308560" y="342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4578480" y="0"/>
            <a:ext cx="4572000" cy="10243800"/>
          </a:xfrm>
          <a:prstGeom prst="rect">
            <a:avLst/>
          </a:prstGeom>
          <a:solidFill>
            <a:srgbClr val="0c0c0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lder PATH listing for volume Windows Server 2008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olume serial number is 706C-C11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: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Default.aspx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web.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Websit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---App_Brow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---App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Cours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Databas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Deploy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Excel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Fil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Homework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Notice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Team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User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Smarter_VersionControl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---App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Create Tables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---App_Global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---App_Local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---App_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|   \---Default_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---App_Web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\---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rosoft.Office.Interop.Excel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rosoft.Office.Interop.Excel.dll.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rosoft.Office.Interop.Excel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rosoft.Vbe.Interop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fice.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fic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0" y="3240"/>
            <a:ext cx="4572000" cy="36093600"/>
          </a:xfrm>
          <a:prstGeom prst="rect">
            <a:avLst/>
          </a:prstGeom>
          <a:solidFill>
            <a:srgbClr val="0c0c0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Folder PATH listing for volume Windows Server 2008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Volume serial number is 706C-C11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C: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Document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1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需求规格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需求规格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2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要求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要求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3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概要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概要设计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4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详细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5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库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数据库设计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6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户界面设计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户界面设计说明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7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测试方案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8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缺陷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09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测试质量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0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使用说明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1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开发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开发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2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质量保证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质量保证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3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配置管理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配置管理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4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测试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测试计划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5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可行性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可行性分析报告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6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风险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风险分析报告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7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文档管理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文档管理规范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8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代码编写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代码编写规范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19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唐一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于明昊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刘明德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_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陈相令仪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0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能力评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1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2-28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11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4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7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8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011-3-9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2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进展周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进展周报第一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3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项目变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4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开发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5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评审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26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时间记录日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图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wbs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w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三层结构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协作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学生功能模块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实体关系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教师功能模块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文档结构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活动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状态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甘特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甘特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教师用户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普通组员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汇总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系统管理员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用例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组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界面设计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小组首页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界面设计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首页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界面设计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课程首页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类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系统管理员功能模块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表格结构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顺序图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日程邮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日程邮件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演示文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一次汇报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p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三次汇报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p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第二次汇报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pp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表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个人能力评定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PEER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周活动总结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WEEK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程序规模估计表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变更申请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CCR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笔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笔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变更项目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手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打开笔记本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to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联系邮件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课堂笔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|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\---OneNote_Recycle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    OneNote_DeletedPages.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打开笔记本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oneto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+--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工程实践课程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网站项目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会议记录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备份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软件项目变更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项目汇报管理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|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\---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附件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和封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封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眉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右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码左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页脚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-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暗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暗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橙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橙红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2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绿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蓝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-0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蓝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.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7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7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7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9"/>
          <p:cNvSpPr/>
          <p:nvPr/>
        </p:nvSpPr>
        <p:spPr>
          <a:xfrm>
            <a:off x="6229440" y="-20520"/>
            <a:ext cx="584280" cy="2770200"/>
          </a:xfrm>
          <a:prstGeom prst="rect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0"/>
          <p:cNvSpPr/>
          <p:nvPr/>
        </p:nvSpPr>
        <p:spPr>
          <a:xfrm>
            <a:off x="6807240" y="-38160"/>
            <a:ext cx="584280" cy="332100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7365960" y="-20520"/>
            <a:ext cx="579600" cy="40114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2"/>
          <p:cNvSpPr/>
          <p:nvPr/>
        </p:nvSpPr>
        <p:spPr>
          <a:xfrm>
            <a:off x="7924680" y="-23760"/>
            <a:ext cx="584280" cy="4599000"/>
          </a:xfrm>
          <a:prstGeom prst="rect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7957440" y="357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4"/>
          <p:cNvSpPr/>
          <p:nvPr/>
        </p:nvSpPr>
        <p:spPr>
          <a:xfrm>
            <a:off x="739044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5"/>
          <p:cNvSpPr/>
          <p:nvPr/>
        </p:nvSpPr>
        <p:spPr>
          <a:xfrm>
            <a:off x="6825240" y="35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6"/>
          <p:cNvSpPr/>
          <p:nvPr/>
        </p:nvSpPr>
        <p:spPr>
          <a:xfrm>
            <a:off x="6087960" y="33336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7952400" y="5746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7386840" y="5748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6821640" y="5748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6083280" y="572292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3"/>
          <p:cNvSpPr/>
          <p:nvPr/>
        </p:nvSpPr>
        <p:spPr>
          <a:xfrm>
            <a:off x="0" y="3051000"/>
            <a:ext cx="819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4"/>
          <p:cNvSpPr/>
          <p:nvPr/>
        </p:nvSpPr>
        <p:spPr>
          <a:xfrm>
            <a:off x="819000" y="2889360"/>
            <a:ext cx="32400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31"/>
          <p:cNvSpPr/>
          <p:nvPr/>
        </p:nvSpPr>
        <p:spPr>
          <a:xfrm>
            <a:off x="8396280" y="333360"/>
            <a:ext cx="324000" cy="324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33"/>
          <p:cNvSpPr/>
          <p:nvPr/>
        </p:nvSpPr>
        <p:spPr>
          <a:xfrm>
            <a:off x="1095480" y="3165480"/>
            <a:ext cx="793800" cy="22082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4"/>
          <p:cNvSpPr/>
          <p:nvPr/>
        </p:nvSpPr>
        <p:spPr>
          <a:xfrm>
            <a:off x="2050920" y="5535720"/>
            <a:ext cx="63216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5"/>
          <p:cNvSpPr/>
          <p:nvPr/>
        </p:nvSpPr>
        <p:spPr>
          <a:xfrm flipV="1">
            <a:off x="8535960" y="657000"/>
            <a:ext cx="22320" cy="47163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7"/>
          <p:cNvSpPr/>
          <p:nvPr/>
        </p:nvSpPr>
        <p:spPr>
          <a:xfrm>
            <a:off x="0" y="3051000"/>
            <a:ext cx="8190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 rot="20463000">
            <a:off x="670680" y="49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2a0c7"/>
                </a:solidFill>
                <a:latin typeface="微软雅黑"/>
                <a:ea typeface="微软雅黑"/>
              </a:rPr>
              <a:t>神马论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1"/>
          <p:cNvSpPr/>
          <p:nvPr/>
        </p:nvSpPr>
        <p:spPr>
          <a:xfrm rot="20374200">
            <a:off x="934920" y="12672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沟通  高效  便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Snarter Disc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E:\manageweb1.png"/>
          <p:cNvPicPr/>
          <p:nvPr/>
        </p:nvPicPr>
        <p:blipFill>
          <a:blip r:embed="rId1"/>
          <a:stretch/>
        </p:blipFill>
        <p:spPr>
          <a:xfrm>
            <a:off x="1995480" y="1811160"/>
            <a:ext cx="6464160" cy="36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93" name="Picture 3" descr="E:\manageweb2.png"/>
          <p:cNvPicPr/>
          <p:nvPr/>
        </p:nvPicPr>
        <p:blipFill>
          <a:blip r:embed="rId2"/>
          <a:stretch/>
        </p:blipFill>
        <p:spPr>
          <a:xfrm>
            <a:off x="1995480" y="1811160"/>
            <a:ext cx="6464160" cy="36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94" name="Picture 4" descr="E:\manageweb3.png"/>
          <p:cNvPicPr/>
          <p:nvPr/>
        </p:nvPicPr>
        <p:blipFill>
          <a:blip r:embed="rId3"/>
          <a:stretch/>
        </p:blipFill>
        <p:spPr>
          <a:xfrm>
            <a:off x="1995480" y="1811160"/>
            <a:ext cx="6464160" cy="36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95" name="椭圆 17"/>
          <p:cNvSpPr/>
          <p:nvPr/>
        </p:nvSpPr>
        <p:spPr>
          <a:xfrm>
            <a:off x="8372520" y="537372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38"/>
          <p:cNvSpPr/>
          <p:nvPr/>
        </p:nvSpPr>
        <p:spPr>
          <a:xfrm>
            <a:off x="1727280" y="5373720"/>
            <a:ext cx="323640" cy="323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125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12139E-006 L -0.00069 0.60647 E">
                                      <p:cBhvr>
                                        <p:cTn id="499" dur="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77778E-007 1.90751E-006 L -0.00174 0.52231 E">
                                      <p:cBhvr>
                                        <p:cTn id="501" dur="3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72222E-006 1.90751E-006 L -0.00295 0.41734 E">
                                      <p:cBhvr>
                                        <p:cTn id="503" dur="3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11111E-006 -1.7341E-006 L -0.00104 0.34867 E">
                                      <p:cBhvr>
                                        <p:cTn id="505" dur="3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2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2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34659 L -0.00104 0.78705 E">
                                      <p:cBhvr>
                                        <p:cTn id="541" dur="3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95 0.41734 L -0.00694 0.78451 E">
                                      <p:cBhvr>
                                        <p:cTn id="543" dur="3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52231 L -0.00174 0.7845 E">
                                      <p:cBhvr>
                                        <p:cTn id="545" dur="3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69 0.60647 L -0.00069 0.78474 E">
                                      <p:cBhvr>
                                        <p:cTn id="547" dur="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549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0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3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6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9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9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圆角矩形 34"/>
          <p:cNvSpPr/>
          <p:nvPr/>
        </p:nvSpPr>
        <p:spPr>
          <a:xfrm>
            <a:off x="666720" y="260280"/>
            <a:ext cx="5478480" cy="1052640"/>
          </a:xfrm>
          <a:prstGeom prst="roundRect">
            <a:avLst>
              <a:gd name="adj" fmla="val 10481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补充：界面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E:\website2.png"/>
          <p:cNvPicPr/>
          <p:nvPr/>
        </p:nvPicPr>
        <p:blipFill>
          <a:blip r:embed="rId1"/>
          <a:stretch/>
        </p:blipFill>
        <p:spPr>
          <a:xfrm>
            <a:off x="1403280" y="3753000"/>
            <a:ext cx="2881440" cy="162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E:\website1.png"/>
          <p:cNvPicPr/>
          <p:nvPr/>
        </p:nvPicPr>
        <p:blipFill>
          <a:blip r:embed="rId2"/>
          <a:stretch/>
        </p:blipFill>
        <p:spPr>
          <a:xfrm>
            <a:off x="3132000" y="1773360"/>
            <a:ext cx="2880000" cy="1619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E:\website3.png"/>
          <p:cNvPicPr/>
          <p:nvPr/>
        </p:nvPicPr>
        <p:blipFill>
          <a:blip r:embed="rId3"/>
          <a:stretch/>
        </p:blipFill>
        <p:spPr>
          <a:xfrm>
            <a:off x="4859280" y="3759120"/>
            <a:ext cx="28814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12"/>
          <p:cNvGrpSpPr/>
          <p:nvPr/>
        </p:nvGrpSpPr>
        <p:grpSpPr>
          <a:xfrm>
            <a:off x="7920" y="47520"/>
            <a:ext cx="9156600" cy="6766200"/>
            <a:chOff x="7920" y="47520"/>
            <a:chExt cx="9156600" cy="6766200"/>
          </a:xfrm>
        </p:grpSpPr>
        <p:pic>
          <p:nvPicPr>
            <p:cNvPr id="203" name="Picture 2" descr="E:\website1.png"/>
            <p:cNvPicPr/>
            <p:nvPr/>
          </p:nvPicPr>
          <p:blipFill>
            <a:blip r:embed="rId4"/>
            <a:stretch/>
          </p:blipFill>
          <p:spPr>
            <a:xfrm>
              <a:off x="7920" y="1677600"/>
              <a:ext cx="9135360" cy="51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矩形 11"/>
            <p:cNvSpPr/>
            <p:nvPr/>
          </p:nvSpPr>
          <p:spPr>
            <a:xfrm>
              <a:off x="29160" y="47520"/>
              <a:ext cx="9135360" cy="33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-1617840" y="1655640"/>
            <a:ext cx="10770120" cy="7462800"/>
            <a:chOff x="-1617840" y="1655640"/>
            <a:chExt cx="10770120" cy="7462800"/>
          </a:xfrm>
        </p:grpSpPr>
        <p:pic>
          <p:nvPicPr>
            <p:cNvPr id="206" name="Picture 3" descr="E:\website2.png"/>
            <p:cNvPicPr/>
            <p:nvPr/>
          </p:nvPicPr>
          <p:blipFill>
            <a:blip r:embed="rId5"/>
            <a:stretch/>
          </p:blipFill>
          <p:spPr>
            <a:xfrm>
              <a:off x="-32760" y="1655640"/>
              <a:ext cx="9185040" cy="51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矩形 21"/>
            <p:cNvSpPr/>
            <p:nvPr/>
          </p:nvSpPr>
          <p:spPr>
            <a:xfrm>
              <a:off x="-1617840" y="5395320"/>
              <a:ext cx="10769760" cy="37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直接连接符 5"/>
          <p:cNvSpPr/>
          <p:nvPr/>
        </p:nvSpPr>
        <p:spPr>
          <a:xfrm>
            <a:off x="-3059280" y="69840"/>
            <a:ext cx="10439640" cy="4871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9"/>
          <p:cNvSpPr/>
          <p:nvPr/>
        </p:nvSpPr>
        <p:spPr>
          <a:xfrm flipV="1">
            <a:off x="7236000" y="-360"/>
            <a:ext cx="1885680" cy="5157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9"/>
          <p:cNvGrpSpPr/>
          <p:nvPr/>
        </p:nvGrpSpPr>
        <p:grpSpPr>
          <a:xfrm>
            <a:off x="28440" y="1714680"/>
            <a:ext cx="10520640" cy="7402320"/>
            <a:chOff x="28440" y="1714680"/>
            <a:chExt cx="10520640" cy="7402320"/>
          </a:xfrm>
        </p:grpSpPr>
        <p:pic>
          <p:nvPicPr>
            <p:cNvPr id="211" name="Picture 4" descr="E:\website3.png"/>
            <p:cNvPicPr/>
            <p:nvPr/>
          </p:nvPicPr>
          <p:blipFill>
            <a:blip r:embed="rId6"/>
            <a:stretch/>
          </p:blipFill>
          <p:spPr>
            <a:xfrm>
              <a:off x="28440" y="1714680"/>
              <a:ext cx="9097560" cy="51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矩形 28"/>
            <p:cNvSpPr/>
            <p:nvPr/>
          </p:nvSpPr>
          <p:spPr>
            <a:xfrm>
              <a:off x="46080" y="5410800"/>
              <a:ext cx="105030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36" hidden="1"/>
          <p:cNvSpPr/>
          <p:nvPr/>
        </p:nvSpPr>
        <p:spPr>
          <a:xfrm>
            <a:off x="3629520" y="1359000"/>
            <a:ext cx="18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$1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E:\1.png"/>
          <p:cNvPicPr/>
          <p:nvPr/>
        </p:nvPicPr>
        <p:blipFill>
          <a:blip r:embed="rId7"/>
          <a:stretch/>
        </p:blipFill>
        <p:spPr>
          <a:xfrm>
            <a:off x="-17640" y="1719360"/>
            <a:ext cx="914256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6:25:00Z</dcterms:created>
  <dc:creator>Bread</dc:creator>
  <dc:description/>
  <cp:keywords/>
  <dc:language>en-US</dc:language>
  <cp:lastModifiedBy>王玉清</cp:lastModifiedBy>
  <dcterms:modified xsi:type="dcterms:W3CDTF">2016-02-19T04:44:16Z</dcterms:modified>
  <cp:revision>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