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CAB7-DFC5-4F6A-8E19-971EF1EA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65FC-9CCF-4B9F-99DB-EBCC2B0A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5AB7-D073-445C-BC02-796C8FB2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816B-6290-40B8-9BE0-6862FC0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187B2-49D4-4336-9F3D-944EB540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7064-1CD0-4D2F-B9D9-3012B0EA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8401-68BF-4E4A-8C8B-4CF3E9E7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C13C-4FCF-4083-9126-E2CEDA20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E9916-55B3-4FEA-A42D-25C019C3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9E1A8-03D7-4A40-BEA8-FA10DADD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BE5D-FEC2-4E7C-87DF-68CC0EED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AED92-BDEA-44AB-962F-F6BF8A4D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4A70F-4F8D-44E4-A32D-C33374D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0AAC-4EA4-40B2-A727-3CB720B2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A881C-AE53-4D11-AD43-0F4D13CF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BC1E-3C79-4657-AA41-73FF533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717F-4628-4E54-9789-6780B6A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7600E-5D15-42DD-A84F-E3147AD3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A5CC-B9CA-4B23-92D9-67C6E0E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57E9-2144-46A6-8BFB-27048069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B762A-EE64-4937-893B-9C9DFC1A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D69C-B9C7-4763-B5AF-3F353AE8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4B554-8E58-4B93-8EE1-0CFE61BB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84D1-7535-4F77-9005-24E0E275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78F00-736D-4914-8A4F-25984352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EDC67-599C-4549-A007-364F960F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E9D2-BD0D-498A-AC32-FE220371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999E3-BF9C-4C52-BF31-5BABCF1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DB620-16D3-423E-BD4D-63A8564F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245B9-F524-4261-87AF-33EB3C5D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F9D35-F9C9-4505-BF78-50FFDBC7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7919-E915-4D24-9929-5496CBAF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6CFD-4E81-4384-8C7B-DF8C078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1C7BB-91DC-41AF-A162-197B46D0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9AC7C-43CF-440E-9FA0-14FFCAC8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AE592-FEC7-47EE-8538-3CE7F8F5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1B08-4636-4DE9-A411-88ADA4B5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430A3-279C-4DAB-8831-D8290E2E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40014-07EE-4FA0-90B3-F88AD961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EAF6D-A620-4BA8-9A2B-3B39DAB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D1E23-5CC2-4015-BD6E-762EB51C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05F3-1DB3-43D6-8E36-74C56C2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4352-9F90-497A-B97E-B4B9CF5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DAF0A-6145-45B3-914A-F8D43E61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E72D-8195-42BC-9B13-B49A6C3E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DFB-ED38-4886-B758-589818CB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2CC-76C8-4B44-B937-3050904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F2A-21BB-4F29-8BB0-FF06DBB6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99F-213E-4EE2-A59E-BDE9BCB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48B-7DB2-4EC9-8644-91531E6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64C-357B-4275-B033-D37B1E5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4A6-D47C-4917-AC70-42A1398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896-BDB8-45B2-9C91-7520EC7D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A85-6AEE-4930-B7F4-F5B9F66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8C5-CF97-46F5-B8B0-8121A19C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326-9F39-492E-A276-773A248C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932-0A85-40B6-8055-C871D72D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7A94-E977-4C67-8600-1ECE5406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D0C-502D-405A-B6B2-4A8B0BE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DC30-629C-417E-9211-297D57CF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D0B1-5418-4ABA-AB1F-BEAA96E5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32F0-8DF1-4567-997C-D8D26F2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5AA-6F0F-4E9E-B8DA-4A6D2F2A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73ED-342C-49A0-9795-D9C4B7E4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7D14-78A4-4AFC-BC78-B181401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3923-6E0A-4A66-9FF6-077369C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A21-B302-449B-B6C7-E6C3F32A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5471-81B3-4585-8306-95A66434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AE4E-7B9A-4546-9418-22E1F35F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2CC29-CEA7-49FB-A896-AF871965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3F76-CA1C-4D0E-81BC-3BA50E19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4C23-B3B4-4C59-994E-ACEDB7D0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0654-B55A-4835-974C-F705E536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CEA3-6766-4835-82C6-111F332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B516-FBEC-43E6-BB21-5C34BF4C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53D5-569A-453F-B022-D50C40F0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BC99-FB04-469A-AB09-31A4AB41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D0F3-0CDB-41AC-BCD0-9CFCEDDB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2D0A-448F-470E-8BD6-C4055675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D65F-44C9-454E-890F-CC99B813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CF30-964B-4C1F-BD3D-19B3D2DD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CE10-C9A5-42BC-BCA2-2DCA4DCB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3354-9765-4106-BF55-AE6EB110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F389-2BD6-46D2-AB60-8815EF46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CD2-9F3E-495D-97DA-F176B11764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0762-5DCE-4497-BFC8-F0EB4BD7C7F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5C9-9A4B-471D-B108-FA9601F9E6A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矩形 2"/>
          <p:cNvSpPr/>
          <p:nvPr/>
        </p:nvSpPr>
        <p:spPr>
          <a:xfrm>
            <a:off x="495360" y="177840"/>
            <a:ext cx="11201400" cy="650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2"/>
          <p:cNvSpPr/>
          <p:nvPr/>
        </p:nvSpPr>
        <p:spPr>
          <a:xfrm>
            <a:off x="495360" y="0"/>
            <a:ext cx="11201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矩形 2"/>
          <p:cNvSpPr/>
          <p:nvPr/>
        </p:nvSpPr>
        <p:spPr>
          <a:xfrm>
            <a:off x="495360" y="177840"/>
            <a:ext cx="11201400" cy="66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2"/>
          <p:cNvSpPr/>
          <p:nvPr/>
        </p:nvSpPr>
        <p:spPr>
          <a:xfrm>
            <a:off x="495360" y="0"/>
            <a:ext cx="11201400" cy="66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DE0-8567-4EBB-BF80-27F6AE3D583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DC07-A212-4FA9-A851-E2C5445AE2D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E3C2-BB4E-4625-A5CC-E7269908E83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28F9-3FAB-4BFC-BCA2-30DDF55B483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4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7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40"/>
          <p:cNvGrpSpPr/>
          <p:nvPr/>
        </p:nvGrpSpPr>
        <p:grpSpPr>
          <a:xfrm>
            <a:off x="2352600" y="-84240"/>
            <a:ext cx="7478640" cy="5765760"/>
            <a:chOff x="2352600" y="-84240"/>
            <a:chExt cx="7478640" cy="5765760"/>
          </a:xfrm>
        </p:grpSpPr>
        <p:sp>
          <p:nvSpPr>
            <p:cNvPr id="472" name="直接连接符 8"/>
            <p:cNvSpPr/>
            <p:nvPr/>
          </p:nvSpPr>
          <p:spPr>
            <a:xfrm>
              <a:off x="6065640" y="-84240"/>
              <a:ext cx="0" cy="158904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3" name="组合 13" descr=""/>
            <p:cNvPicPr/>
            <p:nvPr/>
          </p:nvPicPr>
          <p:blipFill>
            <a:blip r:embed="rId1"/>
            <a:stretch/>
          </p:blipFill>
          <p:spPr>
            <a:xfrm>
              <a:off x="2352600" y="655920"/>
              <a:ext cx="7478640" cy="50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矩形 33"/>
          <p:cNvSpPr/>
          <p:nvPr/>
        </p:nvSpPr>
        <p:spPr>
          <a:xfrm>
            <a:off x="2184480" y="1995480"/>
            <a:ext cx="7881840" cy="3263760"/>
          </a:xfrm>
          <a:prstGeom prst="rect">
            <a:avLst/>
          </a:prstGeom>
          <a:solidFill>
            <a:srgbClr val="ffd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6"/>
          <p:cNvSpPr/>
          <p:nvPr/>
        </p:nvSpPr>
        <p:spPr>
          <a:xfrm rot="21156000">
            <a:off x="5914800" y="1704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矩形 20"/>
          <p:cNvSpPr/>
          <p:nvPr/>
        </p:nvSpPr>
        <p:spPr>
          <a:xfrm rot="199800">
            <a:off x="7076880" y="16254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组合 43"/>
          <p:cNvGrpSpPr/>
          <p:nvPr/>
        </p:nvGrpSpPr>
        <p:grpSpPr>
          <a:xfrm>
            <a:off x="8121600" y="3067560"/>
            <a:ext cx="2188800" cy="2190240"/>
            <a:chOff x="8121600" y="3067560"/>
            <a:chExt cx="2188800" cy="2190240"/>
          </a:xfrm>
        </p:grpSpPr>
        <p:sp>
          <p:nvSpPr>
            <p:cNvPr id="478" name="矩形 44"/>
            <p:cNvSpPr/>
            <p:nvPr/>
          </p:nvSpPr>
          <p:spPr>
            <a:xfrm rot="21235800">
              <a:off x="8221320" y="3166920"/>
              <a:ext cx="1989000" cy="199080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文本框 45"/>
            <p:cNvSpPr/>
            <p:nvPr/>
          </p:nvSpPr>
          <p:spPr>
            <a:xfrm rot="21304200">
              <a:off x="8299800" y="3203640"/>
              <a:ext cx="18766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ffcf3c"/>
                  </a:solidFill>
                  <a:latin typeface="微软雅黑"/>
                  <a:ea typeface="微软雅黑"/>
                </a:rPr>
                <a:t>物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0"/>
          <p:cNvGrpSpPr/>
          <p:nvPr/>
        </p:nvGrpSpPr>
        <p:grpSpPr>
          <a:xfrm>
            <a:off x="6129720" y="3264840"/>
            <a:ext cx="2035440" cy="2035800"/>
            <a:chOff x="6129720" y="3264840"/>
            <a:chExt cx="2035440" cy="2035800"/>
          </a:xfrm>
        </p:grpSpPr>
        <p:sp>
          <p:nvSpPr>
            <p:cNvPr id="481" name="矩形 41"/>
            <p:cNvSpPr/>
            <p:nvPr/>
          </p:nvSpPr>
          <p:spPr>
            <a:xfrm rot="81600">
              <a:off x="6152760" y="3287880"/>
              <a:ext cx="1989000" cy="198900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文本框 42"/>
            <p:cNvSpPr/>
            <p:nvPr/>
          </p:nvSpPr>
          <p:spPr>
            <a:xfrm rot="150000">
              <a:off x="6230880" y="3327840"/>
              <a:ext cx="18766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ffcf3c"/>
                  </a:solidFill>
                  <a:latin typeface="微软雅黑"/>
                  <a:ea typeface="微软雅黑"/>
                </a:rPr>
                <a:t>礼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组合 37"/>
          <p:cNvGrpSpPr/>
          <p:nvPr/>
        </p:nvGrpSpPr>
        <p:grpSpPr>
          <a:xfrm>
            <a:off x="4028760" y="3195720"/>
            <a:ext cx="2143440" cy="2143440"/>
            <a:chOff x="4028760" y="3195720"/>
            <a:chExt cx="2143440" cy="2143440"/>
          </a:xfrm>
        </p:grpSpPr>
        <p:sp>
          <p:nvSpPr>
            <p:cNvPr id="484" name="矩形 38"/>
            <p:cNvSpPr/>
            <p:nvPr/>
          </p:nvSpPr>
          <p:spPr>
            <a:xfrm rot="21325200">
              <a:off x="4105080" y="3271680"/>
              <a:ext cx="1990440" cy="199080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文本框 39"/>
            <p:cNvSpPr/>
            <p:nvPr/>
          </p:nvSpPr>
          <p:spPr>
            <a:xfrm rot="21393600">
              <a:off x="4183200" y="3309120"/>
              <a:ext cx="18777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ffcf3c"/>
                  </a:solidFill>
                  <a:latin typeface="微软雅黑"/>
                  <a:ea typeface="微软雅黑"/>
                </a:rPr>
                <a:t>年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6" name="组合 34"/>
          <p:cNvGrpSpPr/>
          <p:nvPr/>
        </p:nvGrpSpPr>
        <p:grpSpPr>
          <a:xfrm>
            <a:off x="1888560" y="3031560"/>
            <a:ext cx="2322000" cy="2321640"/>
            <a:chOff x="1888560" y="3031560"/>
            <a:chExt cx="2322000" cy="2321640"/>
          </a:xfrm>
        </p:grpSpPr>
        <p:sp>
          <p:nvSpPr>
            <p:cNvPr id="487" name="矩形 35"/>
            <p:cNvSpPr/>
            <p:nvPr/>
          </p:nvSpPr>
          <p:spPr>
            <a:xfrm rot="633000">
              <a:off x="2054160" y="3196800"/>
              <a:ext cx="1990800" cy="199080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文本框 36"/>
            <p:cNvSpPr/>
            <p:nvPr/>
          </p:nvSpPr>
          <p:spPr>
            <a:xfrm rot="702000">
              <a:off x="2130120" y="3240000"/>
              <a:ext cx="1878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ffcf3c"/>
                  </a:solidFill>
                  <a:latin typeface="微软雅黑"/>
                  <a:ea typeface="微软雅黑"/>
                </a:rPr>
                <a:t>新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等腰三角形 50"/>
          <p:cNvSpPr/>
          <p:nvPr/>
        </p:nvSpPr>
        <p:spPr>
          <a:xfrm rot="2850600">
            <a:off x="604440" y="833400"/>
            <a:ext cx="320760" cy="2444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等腰三角形 51"/>
          <p:cNvSpPr/>
          <p:nvPr/>
        </p:nvSpPr>
        <p:spPr>
          <a:xfrm rot="5400000">
            <a:off x="1310760" y="2716200"/>
            <a:ext cx="358920" cy="2732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等腰三角形 52"/>
          <p:cNvSpPr/>
          <p:nvPr/>
        </p:nvSpPr>
        <p:spPr>
          <a:xfrm rot="3015600">
            <a:off x="478800" y="4901400"/>
            <a:ext cx="360360" cy="272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等腰三角形 53"/>
          <p:cNvSpPr/>
          <p:nvPr/>
        </p:nvSpPr>
        <p:spPr>
          <a:xfrm rot="3015600">
            <a:off x="11539080" y="5310000"/>
            <a:ext cx="358920" cy="2732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等腰三角形 54"/>
          <p:cNvSpPr/>
          <p:nvPr/>
        </p:nvSpPr>
        <p:spPr>
          <a:xfrm rot="3015600">
            <a:off x="10602720" y="2762280"/>
            <a:ext cx="358560" cy="272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55"/>
          <p:cNvSpPr/>
          <p:nvPr/>
        </p:nvSpPr>
        <p:spPr>
          <a:xfrm rot="3015600">
            <a:off x="11715480" y="541440"/>
            <a:ext cx="358560" cy="272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56"/>
          <p:cNvSpPr/>
          <p:nvPr/>
        </p:nvSpPr>
        <p:spPr>
          <a:xfrm rot="3015600">
            <a:off x="7175880" y="-119160"/>
            <a:ext cx="358560" cy="2394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等腰三角形 57"/>
          <p:cNvSpPr/>
          <p:nvPr/>
        </p:nvSpPr>
        <p:spPr>
          <a:xfrm rot="2850600">
            <a:off x="2422800" y="130680"/>
            <a:ext cx="320760" cy="2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组合 36"/>
          <p:cNvGrpSpPr/>
          <p:nvPr/>
        </p:nvGrpSpPr>
        <p:grpSpPr>
          <a:xfrm>
            <a:off x="8168040" y="1572840"/>
            <a:ext cx="1162080" cy="1688760"/>
            <a:chOff x="8168040" y="1572840"/>
            <a:chExt cx="1162080" cy="1688760"/>
          </a:xfrm>
        </p:grpSpPr>
        <p:sp>
          <p:nvSpPr>
            <p:cNvPr id="498" name="矩形 59"/>
            <p:cNvSpPr/>
            <p:nvPr/>
          </p:nvSpPr>
          <p:spPr>
            <a:xfrm rot="21016200">
              <a:off x="8292960" y="163836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7"/>
            <p:cNvSpPr/>
            <p:nvPr/>
          </p:nvSpPr>
          <p:spPr>
            <a:xfrm rot="18978600">
              <a:off x="8701200" y="2249280"/>
              <a:ext cx="461880" cy="4572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402" h="1390">
                  <a:moveTo>
                    <a:pt x="572" y="249"/>
                  </a:moveTo>
                  <a:lnTo>
                    <a:pt x="483" y="253"/>
                  </a:lnTo>
                  <a:lnTo>
                    <a:pt x="461" y="258"/>
                  </a:lnTo>
                  <a:lnTo>
                    <a:pt x="445" y="265"/>
                  </a:lnTo>
                  <a:lnTo>
                    <a:pt x="435" y="277"/>
                  </a:lnTo>
                  <a:lnTo>
                    <a:pt x="429" y="293"/>
                  </a:lnTo>
                  <a:lnTo>
                    <a:pt x="429" y="313"/>
                  </a:lnTo>
                  <a:lnTo>
                    <a:pt x="429" y="345"/>
                  </a:lnTo>
                  <a:lnTo>
                    <a:pt x="431" y="361"/>
                  </a:lnTo>
                  <a:lnTo>
                    <a:pt x="435" y="374"/>
                  </a:lnTo>
                  <a:lnTo>
                    <a:pt x="444" y="383"/>
                  </a:lnTo>
                  <a:lnTo>
                    <a:pt x="457" y="387"/>
                  </a:lnTo>
                  <a:lnTo>
                    <a:pt x="473" y="389"/>
                  </a:lnTo>
                  <a:lnTo>
                    <a:pt x="511" y="392"/>
                  </a:lnTo>
                  <a:lnTo>
                    <a:pt x="548" y="394"/>
                  </a:lnTo>
                  <a:lnTo>
                    <a:pt x="582" y="397"/>
                  </a:lnTo>
                  <a:lnTo>
                    <a:pt x="607" y="403"/>
                  </a:lnTo>
                  <a:lnTo>
                    <a:pt x="625" y="413"/>
                  </a:lnTo>
                  <a:lnTo>
                    <a:pt x="640" y="426"/>
                  </a:lnTo>
                  <a:lnTo>
                    <a:pt x="649" y="447"/>
                  </a:lnTo>
                  <a:lnTo>
                    <a:pt x="653" y="472"/>
                  </a:lnTo>
                  <a:lnTo>
                    <a:pt x="653" y="504"/>
                  </a:lnTo>
                  <a:lnTo>
                    <a:pt x="646" y="1080"/>
                  </a:lnTo>
                  <a:lnTo>
                    <a:pt x="646" y="1107"/>
                  </a:lnTo>
                  <a:lnTo>
                    <a:pt x="650" y="1132"/>
                  </a:lnTo>
                  <a:lnTo>
                    <a:pt x="659" y="1155"/>
                  </a:lnTo>
                  <a:lnTo>
                    <a:pt x="671" y="1176"/>
                  </a:lnTo>
                  <a:lnTo>
                    <a:pt x="689" y="1195"/>
                  </a:lnTo>
                  <a:lnTo>
                    <a:pt x="707" y="1205"/>
                  </a:lnTo>
                  <a:lnTo>
                    <a:pt x="726" y="1212"/>
                  </a:lnTo>
                  <a:lnTo>
                    <a:pt x="746" y="1218"/>
                  </a:lnTo>
                  <a:lnTo>
                    <a:pt x="753" y="1200"/>
                  </a:lnTo>
                  <a:lnTo>
                    <a:pt x="759" y="1182"/>
                  </a:lnTo>
                  <a:lnTo>
                    <a:pt x="762" y="1163"/>
                  </a:lnTo>
                  <a:lnTo>
                    <a:pt x="762" y="486"/>
                  </a:lnTo>
                  <a:lnTo>
                    <a:pt x="765" y="457"/>
                  </a:lnTo>
                  <a:lnTo>
                    <a:pt x="772" y="435"/>
                  </a:lnTo>
                  <a:lnTo>
                    <a:pt x="784" y="418"/>
                  </a:lnTo>
                  <a:lnTo>
                    <a:pt x="801" y="406"/>
                  </a:lnTo>
                  <a:lnTo>
                    <a:pt x="825" y="402"/>
                  </a:lnTo>
                  <a:lnTo>
                    <a:pt x="854" y="400"/>
                  </a:lnTo>
                  <a:lnTo>
                    <a:pt x="954" y="409"/>
                  </a:lnTo>
                  <a:lnTo>
                    <a:pt x="1075" y="419"/>
                  </a:lnTo>
                  <a:lnTo>
                    <a:pt x="1078" y="410"/>
                  </a:lnTo>
                  <a:lnTo>
                    <a:pt x="1071" y="405"/>
                  </a:lnTo>
                  <a:lnTo>
                    <a:pt x="1063" y="397"/>
                  </a:lnTo>
                  <a:lnTo>
                    <a:pt x="1055" y="392"/>
                  </a:lnTo>
                  <a:lnTo>
                    <a:pt x="979" y="348"/>
                  </a:lnTo>
                  <a:lnTo>
                    <a:pt x="902" y="312"/>
                  </a:lnTo>
                  <a:lnTo>
                    <a:pt x="822" y="284"/>
                  </a:lnTo>
                  <a:lnTo>
                    <a:pt x="740" y="265"/>
                  </a:lnTo>
                  <a:lnTo>
                    <a:pt x="656" y="253"/>
                  </a:lnTo>
                  <a:lnTo>
                    <a:pt x="572" y="249"/>
                  </a:lnTo>
                  <a:close/>
                  <a:moveTo>
                    <a:pt x="703" y="0"/>
                  </a:moveTo>
                  <a:lnTo>
                    <a:pt x="778" y="5"/>
                  </a:lnTo>
                  <a:lnTo>
                    <a:pt x="852" y="18"/>
                  </a:lnTo>
                  <a:lnTo>
                    <a:pt x="924" y="37"/>
                  </a:lnTo>
                  <a:lnTo>
                    <a:pt x="991" y="64"/>
                  </a:lnTo>
                  <a:lnTo>
                    <a:pt x="1055" y="98"/>
                  </a:lnTo>
                  <a:lnTo>
                    <a:pt x="1116" y="137"/>
                  </a:lnTo>
                  <a:lnTo>
                    <a:pt x="1171" y="182"/>
                  </a:lnTo>
                  <a:lnTo>
                    <a:pt x="1222" y="232"/>
                  </a:lnTo>
                  <a:lnTo>
                    <a:pt x="1267" y="288"/>
                  </a:lnTo>
                  <a:lnTo>
                    <a:pt x="1306" y="348"/>
                  </a:lnTo>
                  <a:lnTo>
                    <a:pt x="1340" y="410"/>
                  </a:lnTo>
                  <a:lnTo>
                    <a:pt x="1366" y="479"/>
                  </a:lnTo>
                  <a:lnTo>
                    <a:pt x="1386" y="549"/>
                  </a:lnTo>
                  <a:lnTo>
                    <a:pt x="1398" y="621"/>
                  </a:lnTo>
                  <a:lnTo>
                    <a:pt x="1402" y="697"/>
                  </a:lnTo>
                  <a:lnTo>
                    <a:pt x="1398" y="773"/>
                  </a:lnTo>
                  <a:lnTo>
                    <a:pt x="1386" y="847"/>
                  </a:lnTo>
                  <a:lnTo>
                    <a:pt x="1366" y="918"/>
                  </a:lnTo>
                  <a:lnTo>
                    <a:pt x="1340" y="985"/>
                  </a:lnTo>
                  <a:lnTo>
                    <a:pt x="1308" y="1049"/>
                  </a:lnTo>
                  <a:lnTo>
                    <a:pt x="1268" y="1107"/>
                  </a:lnTo>
                  <a:lnTo>
                    <a:pt x="1223" y="1163"/>
                  </a:lnTo>
                  <a:lnTo>
                    <a:pt x="1172" y="1212"/>
                  </a:lnTo>
                  <a:lnTo>
                    <a:pt x="1117" y="1257"/>
                  </a:lnTo>
                  <a:lnTo>
                    <a:pt x="1057" y="1297"/>
                  </a:lnTo>
                  <a:lnTo>
                    <a:pt x="992" y="1329"/>
                  </a:lnTo>
                  <a:lnTo>
                    <a:pt x="925" y="1355"/>
                  </a:lnTo>
                  <a:lnTo>
                    <a:pt x="854" y="1374"/>
                  </a:lnTo>
                  <a:lnTo>
                    <a:pt x="780" y="1385"/>
                  </a:lnTo>
                  <a:lnTo>
                    <a:pt x="703" y="1390"/>
                  </a:lnTo>
                  <a:lnTo>
                    <a:pt x="625" y="1385"/>
                  </a:lnTo>
                  <a:lnTo>
                    <a:pt x="551" y="1374"/>
                  </a:lnTo>
                  <a:lnTo>
                    <a:pt x="480" y="1353"/>
                  </a:lnTo>
                  <a:lnTo>
                    <a:pt x="412" y="1327"/>
                  </a:lnTo>
                  <a:lnTo>
                    <a:pt x="348" y="1294"/>
                  </a:lnTo>
                  <a:lnTo>
                    <a:pt x="287" y="1253"/>
                  </a:lnTo>
                  <a:lnTo>
                    <a:pt x="231" y="1208"/>
                  </a:lnTo>
                  <a:lnTo>
                    <a:pt x="180" y="1157"/>
                  </a:lnTo>
                  <a:lnTo>
                    <a:pt x="135" y="1102"/>
                  </a:lnTo>
                  <a:lnTo>
                    <a:pt x="96" y="1042"/>
                  </a:lnTo>
                  <a:lnTo>
                    <a:pt x="63" y="976"/>
                  </a:lnTo>
                  <a:lnTo>
                    <a:pt x="36" y="910"/>
                  </a:lnTo>
                  <a:lnTo>
                    <a:pt x="16" y="838"/>
                  </a:lnTo>
                  <a:lnTo>
                    <a:pt x="4" y="764"/>
                  </a:lnTo>
                  <a:lnTo>
                    <a:pt x="0" y="687"/>
                  </a:lnTo>
                  <a:lnTo>
                    <a:pt x="4" y="613"/>
                  </a:lnTo>
                  <a:lnTo>
                    <a:pt x="17" y="539"/>
                  </a:lnTo>
                  <a:lnTo>
                    <a:pt x="36" y="469"/>
                  </a:lnTo>
                  <a:lnTo>
                    <a:pt x="64" y="402"/>
                  </a:lnTo>
                  <a:lnTo>
                    <a:pt x="97" y="339"/>
                  </a:lnTo>
                  <a:lnTo>
                    <a:pt x="137" y="281"/>
                  </a:lnTo>
                  <a:lnTo>
                    <a:pt x="182" y="226"/>
                  </a:lnTo>
                  <a:lnTo>
                    <a:pt x="233" y="176"/>
                  </a:lnTo>
                  <a:lnTo>
                    <a:pt x="288" y="133"/>
                  </a:lnTo>
                  <a:lnTo>
                    <a:pt x="349" y="93"/>
                  </a:lnTo>
                  <a:lnTo>
                    <a:pt x="413" y="61"/>
                  </a:lnTo>
                  <a:lnTo>
                    <a:pt x="480" y="35"/>
                  </a:lnTo>
                  <a:lnTo>
                    <a:pt x="551" y="16"/>
                  </a:lnTo>
                  <a:lnTo>
                    <a:pt x="625" y="5"/>
                  </a:lnTo>
                  <a:lnTo>
                    <a:pt x="7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0" name="组合 40"/>
          <p:cNvGrpSpPr/>
          <p:nvPr/>
        </p:nvGrpSpPr>
        <p:grpSpPr>
          <a:xfrm>
            <a:off x="2933640" y="1704960"/>
            <a:ext cx="2941920" cy="1692360"/>
            <a:chOff x="2933640" y="1704960"/>
            <a:chExt cx="2941920" cy="1692360"/>
          </a:xfrm>
        </p:grpSpPr>
        <p:sp>
          <p:nvSpPr>
            <p:cNvPr id="501" name="矩形 32"/>
            <p:cNvSpPr/>
            <p:nvPr/>
          </p:nvSpPr>
          <p:spPr>
            <a:xfrm rot="199800">
              <a:off x="2977920" y="1753560"/>
              <a:ext cx="8787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fffff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34"/>
            <p:cNvSpPr/>
            <p:nvPr/>
          </p:nvSpPr>
          <p:spPr>
            <a:xfrm rot="21165600">
              <a:off x="3644640" y="179064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0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37"/>
            <p:cNvSpPr/>
            <p:nvPr/>
          </p:nvSpPr>
          <p:spPr>
            <a:xfrm rot="21360000">
              <a:off x="4266000" y="174312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1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39"/>
            <p:cNvSpPr/>
            <p:nvPr/>
          </p:nvSpPr>
          <p:spPr>
            <a:xfrm rot="328800">
              <a:off x="4924080" y="174312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6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TextBox 40"/>
          <p:cNvSpPr/>
          <p:nvPr/>
        </p:nvSpPr>
        <p:spPr>
          <a:xfrm>
            <a:off x="3646440" y="6026040"/>
            <a:ext cx="48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Segoe UI"/>
                <a:ea typeface="微软雅黑"/>
              </a:rPr>
              <a:t>Simon′ New year g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直接连接符 13"/>
          <p:cNvSpPr/>
          <p:nvPr/>
        </p:nvSpPr>
        <p:spPr>
          <a:xfrm>
            <a:off x="463680" y="358920"/>
            <a:ext cx="11255400" cy="0"/>
          </a:xfrm>
          <a:prstGeom prst="line">
            <a:avLst/>
          </a:prstGeom>
          <a:ln w="3816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6" name="组合 19"/>
          <p:cNvGrpSpPr/>
          <p:nvPr/>
        </p:nvGrpSpPr>
        <p:grpSpPr>
          <a:xfrm>
            <a:off x="1803240" y="1160640"/>
            <a:ext cx="3137040" cy="4873320"/>
            <a:chOff x="1803240" y="1160640"/>
            <a:chExt cx="3137040" cy="4873320"/>
          </a:xfrm>
        </p:grpSpPr>
        <p:pic>
          <p:nvPicPr>
            <p:cNvPr id="637" name="图片 4" descr=""/>
            <p:cNvPicPr/>
            <p:nvPr/>
          </p:nvPicPr>
          <p:blipFill>
            <a:blip r:embed="rId1"/>
            <a:stretch/>
          </p:blipFill>
          <p:spPr>
            <a:xfrm>
              <a:off x="1803240" y="1160640"/>
              <a:ext cx="3137040" cy="48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图片 11" descr=""/>
            <p:cNvPicPr/>
            <p:nvPr/>
          </p:nvPicPr>
          <p:blipFill>
            <a:blip r:embed="rId2"/>
            <a:stretch/>
          </p:blipFill>
          <p:spPr>
            <a:xfrm>
              <a:off x="2400120" y="1859040"/>
              <a:ext cx="1935360" cy="346680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639" name="矩形 15"/>
          <p:cNvSpPr/>
          <p:nvPr/>
        </p:nvSpPr>
        <p:spPr>
          <a:xfrm>
            <a:off x="6091200" y="2603520"/>
            <a:ext cx="4572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左右声道独立专业运放芯片德州仪 </a:t>
            </a:r>
            <a:r>
              <a: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OPA1612</a:t>
            </a: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， </a:t>
            </a:r>
            <a:r>
              <a: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Smartisan OS </a:t>
            </a: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无损音频解决方案还原真实的声音，打造令人沉醉的 </a:t>
            </a:r>
            <a:r>
              <a: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Hi-Fi </a:t>
            </a: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音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4624560" y="93600"/>
            <a:ext cx="2943000" cy="63360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5218200" y="10476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亮点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组合 8"/>
          <p:cNvGrpSpPr/>
          <p:nvPr/>
        </p:nvGrpSpPr>
        <p:grpSpPr>
          <a:xfrm>
            <a:off x="10987200" y="6373800"/>
            <a:ext cx="272880" cy="525600"/>
            <a:chOff x="10987200" y="6373800"/>
            <a:chExt cx="272880" cy="525600"/>
          </a:xfrm>
        </p:grpSpPr>
        <p:sp>
          <p:nvSpPr>
            <p:cNvPr id="643" name="椭圆 5"/>
            <p:cNvSpPr/>
            <p:nvPr/>
          </p:nvSpPr>
          <p:spPr>
            <a:xfrm>
              <a:off x="10987200" y="637380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直接连接符 6"/>
            <p:cNvSpPr/>
            <p:nvPr/>
          </p:nvSpPr>
          <p:spPr>
            <a:xfrm>
              <a:off x="11123640" y="65642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5" name="组合 3"/>
          <p:cNvGrpSpPr/>
          <p:nvPr/>
        </p:nvGrpSpPr>
        <p:grpSpPr>
          <a:xfrm>
            <a:off x="846000" y="6373800"/>
            <a:ext cx="273240" cy="525600"/>
            <a:chOff x="846000" y="6373800"/>
            <a:chExt cx="273240" cy="525600"/>
          </a:xfrm>
        </p:grpSpPr>
        <p:sp>
          <p:nvSpPr>
            <p:cNvPr id="646" name="椭圆 2"/>
            <p:cNvSpPr/>
            <p:nvPr/>
          </p:nvSpPr>
          <p:spPr>
            <a:xfrm>
              <a:off x="846000" y="63738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直接连接符 7"/>
            <p:cNvSpPr/>
            <p:nvPr/>
          </p:nvSpPr>
          <p:spPr>
            <a:xfrm>
              <a:off x="968400" y="65642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组合 17"/>
          <p:cNvGrpSpPr/>
          <p:nvPr/>
        </p:nvGrpSpPr>
        <p:grpSpPr>
          <a:xfrm>
            <a:off x="1631880" y="1160640"/>
            <a:ext cx="9217080" cy="3681000"/>
            <a:chOff x="1631880" y="1160640"/>
            <a:chExt cx="9217080" cy="3681000"/>
          </a:xfrm>
        </p:grpSpPr>
        <p:pic>
          <p:nvPicPr>
            <p:cNvPr id="649" name="图片 12" descr=""/>
            <p:cNvPicPr/>
            <p:nvPr/>
          </p:nvPicPr>
          <p:blipFill>
            <a:blip r:embed="rId1"/>
            <a:stretch/>
          </p:blipFill>
          <p:spPr>
            <a:xfrm>
              <a:off x="7519320" y="4054680"/>
              <a:ext cx="1025640" cy="78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TextBox 14"/>
            <p:cNvSpPr/>
            <p:nvPr/>
          </p:nvSpPr>
          <p:spPr>
            <a:xfrm>
              <a:off x="1631880" y="1160640"/>
              <a:ext cx="9217080" cy="36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擦！你都看完了，我就知道你肯定很激动，是不是觉得 </a:t>
              </a: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Smartisan  T2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很惊艳？很喜欢？不要太感激我送给你的礼物，千万不要泪流满面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你的礼物已经寄出来了，注意查收！请不要太感激我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                                     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爱你的嘉文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                             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2016.1.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8"/>
          <p:cNvGrpSpPr/>
          <p:nvPr/>
        </p:nvGrpSpPr>
        <p:grpSpPr>
          <a:xfrm>
            <a:off x="10987200" y="6359400"/>
            <a:ext cx="272880" cy="525600"/>
            <a:chOff x="10987200" y="6359400"/>
            <a:chExt cx="272880" cy="525600"/>
          </a:xfrm>
        </p:grpSpPr>
        <p:sp>
          <p:nvSpPr>
            <p:cNvPr id="652" name="椭圆 5"/>
            <p:cNvSpPr/>
            <p:nvPr/>
          </p:nvSpPr>
          <p:spPr>
            <a:xfrm>
              <a:off x="10987200" y="635940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接连接符 6"/>
            <p:cNvSpPr/>
            <p:nvPr/>
          </p:nvSpPr>
          <p:spPr>
            <a:xfrm>
              <a:off x="11123640" y="65498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组合 3"/>
          <p:cNvGrpSpPr/>
          <p:nvPr/>
        </p:nvGrpSpPr>
        <p:grpSpPr>
          <a:xfrm>
            <a:off x="846000" y="6359400"/>
            <a:ext cx="273240" cy="525600"/>
            <a:chOff x="846000" y="6359400"/>
            <a:chExt cx="273240" cy="525600"/>
          </a:xfrm>
        </p:grpSpPr>
        <p:sp>
          <p:nvSpPr>
            <p:cNvPr id="655" name="椭圆 2"/>
            <p:cNvSpPr/>
            <p:nvPr/>
          </p:nvSpPr>
          <p:spPr>
            <a:xfrm>
              <a:off x="846000" y="63594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直接连接符 7"/>
            <p:cNvSpPr/>
            <p:nvPr/>
          </p:nvSpPr>
          <p:spPr>
            <a:xfrm>
              <a:off x="968400" y="65498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组合 35"/>
          <p:cNvGrpSpPr/>
          <p:nvPr/>
        </p:nvGrpSpPr>
        <p:grpSpPr>
          <a:xfrm>
            <a:off x="8492760" y="1176480"/>
            <a:ext cx="1947960" cy="4530600"/>
            <a:chOff x="8492760" y="1176480"/>
            <a:chExt cx="1947960" cy="4530600"/>
          </a:xfrm>
        </p:grpSpPr>
        <p:sp>
          <p:nvSpPr>
            <p:cNvPr id="658" name="矩形 18"/>
            <p:cNvSpPr/>
            <p:nvPr/>
          </p:nvSpPr>
          <p:spPr>
            <a:xfrm flipH="1">
              <a:off x="8515080" y="1446120"/>
              <a:ext cx="1719360" cy="641160"/>
            </a:xfrm>
            <a:prstGeom prst="rect">
              <a:avLst/>
            </a:prstGeom>
            <a:noFill/>
            <a:ln w="2844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文本框 19"/>
            <p:cNvSpPr/>
            <p:nvPr/>
          </p:nvSpPr>
          <p:spPr>
            <a:xfrm flipH="1">
              <a:off x="8492400" y="1527840"/>
              <a:ext cx="19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Simon W.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4"/>
            <p:cNvSpPr/>
            <p:nvPr/>
          </p:nvSpPr>
          <p:spPr>
            <a:xfrm>
              <a:off x="10223280" y="1176480"/>
              <a:ext cx="0" cy="4530600"/>
            </a:xfrm>
            <a:prstGeom prst="line">
              <a:avLst/>
            </a:prstGeom>
            <a:ln w="12708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1" name="组合 35" descr=""/>
          <p:cNvPicPr/>
          <p:nvPr/>
        </p:nvPicPr>
        <p:blipFill>
          <a:blip r:embed="rId1"/>
          <a:stretch/>
        </p:blipFill>
        <p:spPr>
          <a:xfrm>
            <a:off x="6095880" y="712800"/>
            <a:ext cx="2279880" cy="211608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4"/>
          <p:cNvSpPr/>
          <p:nvPr/>
        </p:nvSpPr>
        <p:spPr>
          <a:xfrm>
            <a:off x="6346800" y="13669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阿文，还有一封快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16"/>
          <p:cNvGrpSpPr/>
          <p:nvPr/>
        </p:nvGrpSpPr>
        <p:grpSpPr>
          <a:xfrm>
            <a:off x="2001960" y="1312920"/>
            <a:ext cx="1403280" cy="1495440"/>
            <a:chOff x="2001960" y="1312920"/>
            <a:chExt cx="1403280" cy="1495440"/>
          </a:xfrm>
        </p:grpSpPr>
        <p:pic>
          <p:nvPicPr>
            <p:cNvPr id="664" name="组合 32" descr=""/>
            <p:cNvPicPr/>
            <p:nvPr/>
          </p:nvPicPr>
          <p:blipFill>
            <a:blip r:embed="rId2"/>
            <a:stretch/>
          </p:blipFill>
          <p:spPr>
            <a:xfrm>
              <a:off x="2001960" y="1312920"/>
              <a:ext cx="140328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4"/>
            <p:cNvSpPr/>
            <p:nvPr/>
          </p:nvSpPr>
          <p:spPr>
            <a:xfrm>
              <a:off x="2176200" y="1661040"/>
              <a:ext cx="103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2e2e"/>
                  </a:solidFill>
                  <a:latin typeface="Arial"/>
                  <a:ea typeface="微软雅黑"/>
                </a:rPr>
                <a:t>好感动，嘉文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组合 15"/>
          <p:cNvGrpSpPr/>
          <p:nvPr/>
        </p:nvGrpSpPr>
        <p:grpSpPr>
          <a:xfrm>
            <a:off x="10987200" y="-17640"/>
            <a:ext cx="272880" cy="525600"/>
            <a:chOff x="10987200" y="-17640"/>
            <a:chExt cx="272880" cy="525600"/>
          </a:xfrm>
        </p:grpSpPr>
        <p:sp>
          <p:nvSpPr>
            <p:cNvPr id="667" name="椭圆 22"/>
            <p:cNvSpPr/>
            <p:nvPr/>
          </p:nvSpPr>
          <p:spPr>
            <a:xfrm flipV="1">
              <a:off x="10987200" y="23436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直接连接符 23"/>
            <p:cNvSpPr/>
            <p:nvPr/>
          </p:nvSpPr>
          <p:spPr>
            <a:xfrm flipV="1">
              <a:off x="11123640" y="-176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9" name="组合 18"/>
          <p:cNvGrpSpPr/>
          <p:nvPr/>
        </p:nvGrpSpPr>
        <p:grpSpPr>
          <a:xfrm>
            <a:off x="846000" y="-14400"/>
            <a:ext cx="273240" cy="525600"/>
            <a:chOff x="846000" y="-14400"/>
            <a:chExt cx="273240" cy="525600"/>
          </a:xfrm>
        </p:grpSpPr>
        <p:sp>
          <p:nvSpPr>
            <p:cNvPr id="670" name="椭圆 25"/>
            <p:cNvSpPr/>
            <p:nvPr/>
          </p:nvSpPr>
          <p:spPr>
            <a:xfrm flipV="1">
              <a:off x="846000" y="2376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直接连接符 26"/>
            <p:cNvSpPr/>
            <p:nvPr/>
          </p:nvSpPr>
          <p:spPr>
            <a:xfrm flipV="1">
              <a:off x="968400" y="-1440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2" name="组合 8"/>
          <p:cNvGrpSpPr/>
          <p:nvPr/>
        </p:nvGrpSpPr>
        <p:grpSpPr>
          <a:xfrm>
            <a:off x="9259560" y="3875040"/>
            <a:ext cx="925560" cy="169920"/>
            <a:chOff x="9259560" y="3875040"/>
            <a:chExt cx="925560" cy="169920"/>
          </a:xfrm>
        </p:grpSpPr>
        <p:sp>
          <p:nvSpPr>
            <p:cNvPr id="673" name="圆角矩形 45"/>
            <p:cNvSpPr/>
            <p:nvPr/>
          </p:nvSpPr>
          <p:spPr>
            <a:xfrm flipH="1" flipV="1">
              <a:off x="9327600" y="3875040"/>
              <a:ext cx="857520" cy="169920"/>
            </a:xfrm>
            <a:prstGeom prst="roundRect">
              <a:avLst>
                <a:gd name="adj" fmla="val 16667"/>
              </a:avLst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椭圆 46"/>
            <p:cNvSpPr/>
            <p:nvPr/>
          </p:nvSpPr>
          <p:spPr>
            <a:xfrm flipH="1" flipV="1">
              <a:off x="9259560" y="3875040"/>
              <a:ext cx="169920" cy="1699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17"/>
          <p:cNvGrpSpPr/>
          <p:nvPr/>
        </p:nvGrpSpPr>
        <p:grpSpPr>
          <a:xfrm>
            <a:off x="7842600" y="3117960"/>
            <a:ext cx="1835640" cy="1534320"/>
            <a:chOff x="7842600" y="3117960"/>
            <a:chExt cx="1835640" cy="1534320"/>
          </a:xfrm>
        </p:grpSpPr>
        <p:sp>
          <p:nvSpPr>
            <p:cNvPr id="676" name="Freeform 32"/>
            <p:cNvSpPr/>
            <p:nvPr/>
          </p:nvSpPr>
          <p:spPr>
            <a:xfrm rot="1304400">
              <a:off x="7976880" y="3371400"/>
              <a:ext cx="1566720" cy="1027080"/>
            </a:xfrm>
            <a:custGeom>
              <a:avLst/>
              <a:gdLst/>
              <a:ahLst/>
              <a:rect l="l" t="t" r="r" b="b"/>
              <a:pathLst>
                <a:path w="512" h="336">
                  <a:moveTo>
                    <a:pt x="448" y="0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9" y="0"/>
                    <a:pt x="0" y="29"/>
                    <a:pt x="0" y="64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307"/>
                    <a:pt x="29" y="336"/>
                    <a:pt x="64" y="336"/>
                  </a:cubicBezTo>
                  <a:cubicBezTo>
                    <a:pt x="448" y="336"/>
                    <a:pt x="448" y="336"/>
                    <a:pt x="448" y="336"/>
                  </a:cubicBezTo>
                  <a:cubicBezTo>
                    <a:pt x="483" y="336"/>
                    <a:pt x="512" y="307"/>
                    <a:pt x="512" y="272"/>
                  </a:cubicBezTo>
                  <a:cubicBezTo>
                    <a:pt x="512" y="64"/>
                    <a:pt x="512" y="64"/>
                    <a:pt x="512" y="64"/>
                  </a:cubicBezTo>
                  <a:cubicBezTo>
                    <a:pt x="512" y="29"/>
                    <a:pt x="483" y="0"/>
                    <a:pt x="448" y="0"/>
                  </a:cubicBezTo>
                  <a:close/>
                  <a:moveTo>
                    <a:pt x="32" y="84"/>
                  </a:moveTo>
                  <a:cubicBezTo>
                    <a:pt x="144" y="168"/>
                    <a:pt x="144" y="168"/>
                    <a:pt x="144" y="168"/>
                  </a:cubicBezTo>
                  <a:cubicBezTo>
                    <a:pt x="32" y="252"/>
                    <a:pt x="32" y="252"/>
                    <a:pt x="32" y="252"/>
                  </a:cubicBezTo>
                  <a:lnTo>
                    <a:pt x="32" y="84"/>
                  </a:lnTo>
                  <a:close/>
                  <a:moveTo>
                    <a:pt x="480" y="272"/>
                  </a:moveTo>
                  <a:cubicBezTo>
                    <a:pt x="480" y="290"/>
                    <a:pt x="466" y="304"/>
                    <a:pt x="448" y="304"/>
                  </a:cubicBezTo>
                  <a:cubicBezTo>
                    <a:pt x="64" y="304"/>
                    <a:pt x="64" y="304"/>
                    <a:pt x="64" y="304"/>
                  </a:cubicBezTo>
                  <a:cubicBezTo>
                    <a:pt x="46" y="304"/>
                    <a:pt x="32" y="290"/>
                    <a:pt x="32" y="272"/>
                  </a:cubicBezTo>
                  <a:cubicBezTo>
                    <a:pt x="157" y="178"/>
                    <a:pt x="157" y="178"/>
                    <a:pt x="157" y="178"/>
                  </a:cubicBezTo>
                  <a:cubicBezTo>
                    <a:pt x="227" y="230"/>
                    <a:pt x="227" y="230"/>
                    <a:pt x="227" y="230"/>
                  </a:cubicBezTo>
                  <a:cubicBezTo>
                    <a:pt x="236" y="237"/>
                    <a:pt x="246" y="240"/>
                    <a:pt x="256" y="240"/>
                  </a:cubicBezTo>
                  <a:cubicBezTo>
                    <a:pt x="266" y="240"/>
                    <a:pt x="276" y="237"/>
                    <a:pt x="285" y="230"/>
                  </a:cubicBezTo>
                  <a:cubicBezTo>
                    <a:pt x="355" y="178"/>
                    <a:pt x="355" y="178"/>
                    <a:pt x="355" y="178"/>
                  </a:cubicBezTo>
                  <a:lnTo>
                    <a:pt x="480" y="272"/>
                  </a:lnTo>
                  <a:close/>
                  <a:moveTo>
                    <a:pt x="480" y="252"/>
                  </a:moveTo>
                  <a:cubicBezTo>
                    <a:pt x="368" y="168"/>
                    <a:pt x="368" y="168"/>
                    <a:pt x="368" y="168"/>
                  </a:cubicBezTo>
                  <a:cubicBezTo>
                    <a:pt x="480" y="84"/>
                    <a:pt x="480" y="84"/>
                    <a:pt x="480" y="84"/>
                  </a:cubicBezTo>
                  <a:lnTo>
                    <a:pt x="480" y="252"/>
                  </a:lnTo>
                  <a:close/>
                  <a:moveTo>
                    <a:pt x="275" y="218"/>
                  </a:moveTo>
                  <a:cubicBezTo>
                    <a:pt x="270" y="222"/>
                    <a:pt x="263" y="224"/>
                    <a:pt x="256" y="224"/>
                  </a:cubicBezTo>
                  <a:cubicBezTo>
                    <a:pt x="249" y="224"/>
                    <a:pt x="242" y="222"/>
                    <a:pt x="237" y="218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32" y="46"/>
                    <a:pt x="46" y="32"/>
                    <a:pt x="64" y="32"/>
                  </a:cubicBezTo>
                  <a:cubicBezTo>
                    <a:pt x="448" y="32"/>
                    <a:pt x="448" y="32"/>
                    <a:pt x="448" y="32"/>
                  </a:cubicBezTo>
                  <a:cubicBezTo>
                    <a:pt x="466" y="32"/>
                    <a:pt x="480" y="46"/>
                    <a:pt x="480" y="64"/>
                  </a:cubicBezTo>
                  <a:lnTo>
                    <a:pt x="275" y="218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 rot="2380800">
              <a:off x="8541720" y="3708360"/>
              <a:ext cx="394920" cy="3902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402" h="1390">
                  <a:moveTo>
                    <a:pt x="572" y="249"/>
                  </a:moveTo>
                  <a:lnTo>
                    <a:pt x="483" y="253"/>
                  </a:lnTo>
                  <a:lnTo>
                    <a:pt x="461" y="258"/>
                  </a:lnTo>
                  <a:lnTo>
                    <a:pt x="445" y="265"/>
                  </a:lnTo>
                  <a:lnTo>
                    <a:pt x="435" y="277"/>
                  </a:lnTo>
                  <a:lnTo>
                    <a:pt x="429" y="293"/>
                  </a:lnTo>
                  <a:lnTo>
                    <a:pt x="429" y="313"/>
                  </a:lnTo>
                  <a:lnTo>
                    <a:pt x="429" y="345"/>
                  </a:lnTo>
                  <a:lnTo>
                    <a:pt x="431" y="361"/>
                  </a:lnTo>
                  <a:lnTo>
                    <a:pt x="435" y="374"/>
                  </a:lnTo>
                  <a:lnTo>
                    <a:pt x="444" y="383"/>
                  </a:lnTo>
                  <a:lnTo>
                    <a:pt x="457" y="387"/>
                  </a:lnTo>
                  <a:lnTo>
                    <a:pt x="473" y="389"/>
                  </a:lnTo>
                  <a:lnTo>
                    <a:pt x="511" y="392"/>
                  </a:lnTo>
                  <a:lnTo>
                    <a:pt x="548" y="394"/>
                  </a:lnTo>
                  <a:lnTo>
                    <a:pt x="582" y="397"/>
                  </a:lnTo>
                  <a:lnTo>
                    <a:pt x="607" y="403"/>
                  </a:lnTo>
                  <a:lnTo>
                    <a:pt x="625" y="413"/>
                  </a:lnTo>
                  <a:lnTo>
                    <a:pt x="640" y="426"/>
                  </a:lnTo>
                  <a:lnTo>
                    <a:pt x="649" y="447"/>
                  </a:lnTo>
                  <a:lnTo>
                    <a:pt x="653" y="472"/>
                  </a:lnTo>
                  <a:lnTo>
                    <a:pt x="653" y="504"/>
                  </a:lnTo>
                  <a:lnTo>
                    <a:pt x="646" y="1080"/>
                  </a:lnTo>
                  <a:lnTo>
                    <a:pt x="646" y="1107"/>
                  </a:lnTo>
                  <a:lnTo>
                    <a:pt x="650" y="1132"/>
                  </a:lnTo>
                  <a:lnTo>
                    <a:pt x="659" y="1155"/>
                  </a:lnTo>
                  <a:lnTo>
                    <a:pt x="671" y="1176"/>
                  </a:lnTo>
                  <a:lnTo>
                    <a:pt x="689" y="1195"/>
                  </a:lnTo>
                  <a:lnTo>
                    <a:pt x="707" y="1205"/>
                  </a:lnTo>
                  <a:lnTo>
                    <a:pt x="726" y="1212"/>
                  </a:lnTo>
                  <a:lnTo>
                    <a:pt x="746" y="1218"/>
                  </a:lnTo>
                  <a:lnTo>
                    <a:pt x="753" y="1200"/>
                  </a:lnTo>
                  <a:lnTo>
                    <a:pt x="759" y="1182"/>
                  </a:lnTo>
                  <a:lnTo>
                    <a:pt x="762" y="1163"/>
                  </a:lnTo>
                  <a:lnTo>
                    <a:pt x="762" y="486"/>
                  </a:lnTo>
                  <a:lnTo>
                    <a:pt x="765" y="457"/>
                  </a:lnTo>
                  <a:lnTo>
                    <a:pt x="772" y="435"/>
                  </a:lnTo>
                  <a:lnTo>
                    <a:pt x="784" y="418"/>
                  </a:lnTo>
                  <a:lnTo>
                    <a:pt x="801" y="406"/>
                  </a:lnTo>
                  <a:lnTo>
                    <a:pt x="825" y="402"/>
                  </a:lnTo>
                  <a:lnTo>
                    <a:pt x="854" y="400"/>
                  </a:lnTo>
                  <a:lnTo>
                    <a:pt x="954" y="409"/>
                  </a:lnTo>
                  <a:lnTo>
                    <a:pt x="1075" y="419"/>
                  </a:lnTo>
                  <a:lnTo>
                    <a:pt x="1078" y="410"/>
                  </a:lnTo>
                  <a:lnTo>
                    <a:pt x="1071" y="405"/>
                  </a:lnTo>
                  <a:lnTo>
                    <a:pt x="1063" y="397"/>
                  </a:lnTo>
                  <a:lnTo>
                    <a:pt x="1055" y="392"/>
                  </a:lnTo>
                  <a:lnTo>
                    <a:pt x="979" y="348"/>
                  </a:lnTo>
                  <a:lnTo>
                    <a:pt x="902" y="312"/>
                  </a:lnTo>
                  <a:lnTo>
                    <a:pt x="822" y="284"/>
                  </a:lnTo>
                  <a:lnTo>
                    <a:pt x="740" y="265"/>
                  </a:lnTo>
                  <a:lnTo>
                    <a:pt x="656" y="253"/>
                  </a:lnTo>
                  <a:lnTo>
                    <a:pt x="572" y="249"/>
                  </a:lnTo>
                  <a:close/>
                  <a:moveTo>
                    <a:pt x="703" y="0"/>
                  </a:moveTo>
                  <a:lnTo>
                    <a:pt x="778" y="5"/>
                  </a:lnTo>
                  <a:lnTo>
                    <a:pt x="852" y="18"/>
                  </a:lnTo>
                  <a:lnTo>
                    <a:pt x="924" y="37"/>
                  </a:lnTo>
                  <a:lnTo>
                    <a:pt x="991" y="64"/>
                  </a:lnTo>
                  <a:lnTo>
                    <a:pt x="1055" y="98"/>
                  </a:lnTo>
                  <a:lnTo>
                    <a:pt x="1116" y="137"/>
                  </a:lnTo>
                  <a:lnTo>
                    <a:pt x="1171" y="182"/>
                  </a:lnTo>
                  <a:lnTo>
                    <a:pt x="1222" y="232"/>
                  </a:lnTo>
                  <a:lnTo>
                    <a:pt x="1267" y="288"/>
                  </a:lnTo>
                  <a:lnTo>
                    <a:pt x="1306" y="348"/>
                  </a:lnTo>
                  <a:lnTo>
                    <a:pt x="1340" y="410"/>
                  </a:lnTo>
                  <a:lnTo>
                    <a:pt x="1366" y="479"/>
                  </a:lnTo>
                  <a:lnTo>
                    <a:pt x="1386" y="549"/>
                  </a:lnTo>
                  <a:lnTo>
                    <a:pt x="1398" y="621"/>
                  </a:lnTo>
                  <a:lnTo>
                    <a:pt x="1402" y="697"/>
                  </a:lnTo>
                  <a:lnTo>
                    <a:pt x="1398" y="773"/>
                  </a:lnTo>
                  <a:lnTo>
                    <a:pt x="1386" y="847"/>
                  </a:lnTo>
                  <a:lnTo>
                    <a:pt x="1366" y="918"/>
                  </a:lnTo>
                  <a:lnTo>
                    <a:pt x="1340" y="985"/>
                  </a:lnTo>
                  <a:lnTo>
                    <a:pt x="1308" y="1049"/>
                  </a:lnTo>
                  <a:lnTo>
                    <a:pt x="1268" y="1107"/>
                  </a:lnTo>
                  <a:lnTo>
                    <a:pt x="1223" y="1163"/>
                  </a:lnTo>
                  <a:lnTo>
                    <a:pt x="1172" y="1212"/>
                  </a:lnTo>
                  <a:lnTo>
                    <a:pt x="1117" y="1257"/>
                  </a:lnTo>
                  <a:lnTo>
                    <a:pt x="1057" y="1297"/>
                  </a:lnTo>
                  <a:lnTo>
                    <a:pt x="992" y="1329"/>
                  </a:lnTo>
                  <a:lnTo>
                    <a:pt x="925" y="1355"/>
                  </a:lnTo>
                  <a:lnTo>
                    <a:pt x="854" y="1374"/>
                  </a:lnTo>
                  <a:lnTo>
                    <a:pt x="780" y="1385"/>
                  </a:lnTo>
                  <a:lnTo>
                    <a:pt x="703" y="1390"/>
                  </a:lnTo>
                  <a:lnTo>
                    <a:pt x="625" y="1385"/>
                  </a:lnTo>
                  <a:lnTo>
                    <a:pt x="551" y="1374"/>
                  </a:lnTo>
                  <a:lnTo>
                    <a:pt x="480" y="1353"/>
                  </a:lnTo>
                  <a:lnTo>
                    <a:pt x="412" y="1327"/>
                  </a:lnTo>
                  <a:lnTo>
                    <a:pt x="348" y="1294"/>
                  </a:lnTo>
                  <a:lnTo>
                    <a:pt x="287" y="1253"/>
                  </a:lnTo>
                  <a:lnTo>
                    <a:pt x="231" y="1208"/>
                  </a:lnTo>
                  <a:lnTo>
                    <a:pt x="180" y="1157"/>
                  </a:lnTo>
                  <a:lnTo>
                    <a:pt x="135" y="1102"/>
                  </a:lnTo>
                  <a:lnTo>
                    <a:pt x="96" y="1042"/>
                  </a:lnTo>
                  <a:lnTo>
                    <a:pt x="63" y="976"/>
                  </a:lnTo>
                  <a:lnTo>
                    <a:pt x="36" y="910"/>
                  </a:lnTo>
                  <a:lnTo>
                    <a:pt x="16" y="838"/>
                  </a:lnTo>
                  <a:lnTo>
                    <a:pt x="4" y="764"/>
                  </a:lnTo>
                  <a:lnTo>
                    <a:pt x="0" y="687"/>
                  </a:lnTo>
                  <a:lnTo>
                    <a:pt x="4" y="613"/>
                  </a:lnTo>
                  <a:lnTo>
                    <a:pt x="17" y="539"/>
                  </a:lnTo>
                  <a:lnTo>
                    <a:pt x="36" y="469"/>
                  </a:lnTo>
                  <a:lnTo>
                    <a:pt x="64" y="402"/>
                  </a:lnTo>
                  <a:lnTo>
                    <a:pt x="97" y="339"/>
                  </a:lnTo>
                  <a:lnTo>
                    <a:pt x="137" y="281"/>
                  </a:lnTo>
                  <a:lnTo>
                    <a:pt x="182" y="226"/>
                  </a:lnTo>
                  <a:lnTo>
                    <a:pt x="233" y="176"/>
                  </a:lnTo>
                  <a:lnTo>
                    <a:pt x="288" y="133"/>
                  </a:lnTo>
                  <a:lnTo>
                    <a:pt x="349" y="93"/>
                  </a:lnTo>
                  <a:lnTo>
                    <a:pt x="413" y="61"/>
                  </a:lnTo>
                  <a:lnTo>
                    <a:pt x="480" y="35"/>
                  </a:lnTo>
                  <a:lnTo>
                    <a:pt x="551" y="16"/>
                  </a:lnTo>
                  <a:lnTo>
                    <a:pt x="625" y="5"/>
                  </a:lnTo>
                  <a:lnTo>
                    <a:pt x="7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13"/>
          <p:cNvGrpSpPr/>
          <p:nvPr/>
        </p:nvGrpSpPr>
        <p:grpSpPr>
          <a:xfrm>
            <a:off x="1682640" y="3692520"/>
            <a:ext cx="1494000" cy="1620720"/>
            <a:chOff x="1682640" y="3692520"/>
            <a:chExt cx="1494000" cy="1620720"/>
          </a:xfrm>
        </p:grpSpPr>
        <p:sp>
          <p:nvSpPr>
            <p:cNvPr id="679" name="圆角矩形 3"/>
            <p:cNvSpPr/>
            <p:nvPr/>
          </p:nvSpPr>
          <p:spPr>
            <a:xfrm>
              <a:off x="1682640" y="3876480"/>
              <a:ext cx="1494000" cy="169560"/>
            </a:xfrm>
            <a:prstGeom prst="roundRect">
              <a:avLst>
                <a:gd name="adj" fmla="val 16667"/>
              </a:avLst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0" name="组合 47"/>
            <p:cNvGrpSpPr/>
            <p:nvPr/>
          </p:nvGrpSpPr>
          <p:grpSpPr>
            <a:xfrm>
              <a:off x="2032200" y="3692520"/>
              <a:ext cx="770040" cy="539280"/>
              <a:chOff x="2032200" y="3692520"/>
              <a:chExt cx="770040" cy="539280"/>
            </a:xfrm>
          </p:grpSpPr>
          <p:sp>
            <p:nvSpPr>
              <p:cNvPr id="681" name="流程图: 直接访问存储器 48"/>
              <p:cNvSpPr/>
              <p:nvPr/>
            </p:nvSpPr>
            <p:spPr>
              <a:xfrm flipH="1" rot="10800000">
                <a:off x="2031840" y="3692520"/>
                <a:ext cx="770040" cy="539280"/>
              </a:xfrm>
              <a:prstGeom prst="flowChartMagneticDrum">
                <a:avLst/>
              </a:prstGeom>
              <a:solidFill>
                <a:srgbClr val="ffffff"/>
              </a:solidFill>
              <a:ln w="2556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椭圆 49"/>
              <p:cNvSpPr/>
              <p:nvPr/>
            </p:nvSpPr>
            <p:spPr>
              <a:xfrm rot="10800000">
                <a:off x="2641680" y="3848040"/>
                <a:ext cx="77760" cy="228240"/>
              </a:xfrm>
              <a:prstGeom prst="ellipse">
                <a:avLst/>
              </a:prstGeom>
              <a:solidFill>
                <a:srgbClr val="2e2e2e"/>
              </a:solidFill>
              <a:ln w="1260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3" name="椭圆 8"/>
            <p:cNvSpPr/>
            <p:nvPr/>
          </p:nvSpPr>
          <p:spPr>
            <a:xfrm>
              <a:off x="1731600" y="3894120"/>
              <a:ext cx="12204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椭圆 50"/>
            <p:cNvSpPr/>
            <p:nvPr/>
          </p:nvSpPr>
          <p:spPr>
            <a:xfrm>
              <a:off x="2976840" y="3894120"/>
              <a:ext cx="12204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任意多边形 57"/>
            <p:cNvSpPr/>
            <p:nvPr/>
          </p:nvSpPr>
          <p:spPr>
            <a:xfrm flipH="1">
              <a:off x="2161440" y="4249800"/>
              <a:ext cx="493560" cy="1063440"/>
            </a:xfrm>
            <a:custGeom>
              <a:avLst/>
              <a:gdLst/>
              <a:ahLst/>
              <a:rect l="l" t="t" r="r" b="b"/>
              <a:pathLst>
                <a:path w="1107898" h="2311703">
                  <a:moveTo>
                    <a:pt x="0" y="0"/>
                  </a:moveTo>
                  <a:lnTo>
                    <a:pt x="1107898" y="0"/>
                  </a:lnTo>
                  <a:lnTo>
                    <a:pt x="1107898" y="2311703"/>
                  </a:lnTo>
                  <a:lnTo>
                    <a:pt x="909396" y="1813476"/>
                  </a:lnTo>
                  <a:lnTo>
                    <a:pt x="710894" y="2311703"/>
                  </a:lnTo>
                  <a:lnTo>
                    <a:pt x="710791" y="2311703"/>
                  </a:lnTo>
                  <a:lnTo>
                    <a:pt x="609417" y="1979120"/>
                  </a:lnTo>
                  <a:lnTo>
                    <a:pt x="514697" y="2289872"/>
                  </a:lnTo>
                  <a:lnTo>
                    <a:pt x="389579" y="1879392"/>
                  </a:lnTo>
                  <a:lnTo>
                    <a:pt x="271985" y="2265188"/>
                  </a:lnTo>
                  <a:lnTo>
                    <a:pt x="148072" y="2026608"/>
                  </a:lnTo>
                  <a:lnTo>
                    <a:pt x="0" y="2311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组合 13"/>
          <p:cNvGrpSpPr/>
          <p:nvPr/>
        </p:nvGrpSpPr>
        <p:grpSpPr>
          <a:xfrm>
            <a:off x="3525840" y="2701800"/>
            <a:ext cx="2279520" cy="3465720"/>
            <a:chOff x="3525840" y="2701800"/>
            <a:chExt cx="2279520" cy="3465720"/>
          </a:xfrm>
        </p:grpSpPr>
        <p:grpSp>
          <p:nvGrpSpPr>
            <p:cNvPr id="687" name="组合 12"/>
            <p:cNvGrpSpPr/>
            <p:nvPr/>
          </p:nvGrpSpPr>
          <p:grpSpPr>
            <a:xfrm>
              <a:off x="3525840" y="2701800"/>
              <a:ext cx="2279520" cy="3465720"/>
              <a:chOff x="3525840" y="2701800"/>
              <a:chExt cx="2279520" cy="3465720"/>
            </a:xfrm>
          </p:grpSpPr>
          <p:sp>
            <p:nvSpPr>
              <p:cNvPr id="688" name="竖卷形 9"/>
              <p:cNvSpPr/>
              <p:nvPr/>
            </p:nvSpPr>
            <p:spPr>
              <a:xfrm rot="20052600">
                <a:off x="4908240" y="4753800"/>
                <a:ext cx="636840" cy="1341720"/>
              </a:xfrm>
              <a:custGeom>
                <a:avLst/>
                <a:gdLst/>
                <a:ahLst/>
                <a:rect l="l" t="t" r="r" b="b"/>
                <a:pathLst>
                  <a:path stroke="0" w="1134512" h="3087790">
                    <a:moveTo>
                      <a:pt x="70907" y="3087790"/>
                    </a:moveTo>
                    <a:cubicBezTo>
                      <a:pt x="110068" y="3087790"/>
                      <a:pt x="141814" y="3056044"/>
                      <a:pt x="141814" y="3016883"/>
                    </a:cubicBezTo>
                    <a:lnTo>
                      <a:pt x="70907" y="3016883"/>
                    </a:lnTo>
                    <a:cubicBezTo>
                      <a:pt x="90488" y="3016883"/>
                      <a:pt x="106361" y="3001010"/>
                      <a:pt x="106361" y="2981429"/>
                    </a:cubicBezTo>
                    <a:cubicBezTo>
                      <a:pt x="106361" y="2961848"/>
                      <a:pt x="90488" y="2945975"/>
                      <a:pt x="70907" y="2945975"/>
                    </a:cubicBezTo>
                    <a:lnTo>
                      <a:pt x="141814" y="2945976"/>
                    </a:lnTo>
                    <a:lnTo>
                      <a:pt x="141814" y="70907"/>
                    </a:lnTo>
                    <a:cubicBezTo>
                      <a:pt x="141814" y="31746"/>
                      <a:pt x="173560" y="0"/>
                      <a:pt x="212721" y="0"/>
                    </a:cubicBezTo>
                    <a:lnTo>
                      <a:pt x="1063605" y="0"/>
                    </a:lnTo>
                    <a:cubicBezTo>
                      <a:pt x="1102766" y="0"/>
                      <a:pt x="1134512" y="31746"/>
                      <a:pt x="1134512" y="70907"/>
                    </a:cubicBezTo>
                    <a:cubicBezTo>
                      <a:pt x="1134512" y="110068"/>
                      <a:pt x="1102766" y="141814"/>
                      <a:pt x="1063605" y="141814"/>
                    </a:cubicBezTo>
                    <a:lnTo>
                      <a:pt x="992698" y="141814"/>
                    </a:lnTo>
                    <a:lnTo>
                      <a:pt x="992698" y="3016883"/>
                    </a:lnTo>
                    <a:cubicBezTo>
                      <a:pt x="992698" y="3056044"/>
                      <a:pt x="960952" y="3087790"/>
                      <a:pt x="921791" y="3087790"/>
                    </a:cubicBezTo>
                    <a:lnTo>
                      <a:pt x="70907" y="3087790"/>
                    </a:lnTo>
                    <a:close/>
                    <a:moveTo>
                      <a:pt x="283628" y="70907"/>
                    </a:moveTo>
                    <a:cubicBezTo>
                      <a:pt x="283628" y="110068"/>
                      <a:pt x="251882" y="141814"/>
                      <a:pt x="212721" y="141814"/>
                    </a:cubicBezTo>
                    <a:cubicBezTo>
                      <a:pt x="193140" y="141814"/>
                      <a:pt x="177267" y="125941"/>
                      <a:pt x="177267" y="106360"/>
                    </a:cubicBezTo>
                    <a:cubicBezTo>
                      <a:pt x="177267" y="86779"/>
                      <a:pt x="193140" y="70906"/>
                      <a:pt x="212721" y="70906"/>
                    </a:cubicBezTo>
                    <a:lnTo>
                      <a:pt x="283628" y="70907"/>
                    </a:lnTo>
                    <a:close/>
                  </a:path>
                  <a:path stroke="0" w="1134512" h="3087790">
                    <a:moveTo>
                      <a:pt x="283628" y="70907"/>
                    </a:moveTo>
                    <a:cubicBezTo>
                      <a:pt x="283628" y="110068"/>
                      <a:pt x="251882" y="141814"/>
                      <a:pt x="212721" y="141814"/>
                    </a:cubicBezTo>
                    <a:cubicBezTo>
                      <a:pt x="193140" y="141814"/>
                      <a:pt x="177267" y="125941"/>
                      <a:pt x="177267" y="106360"/>
                    </a:cubicBezTo>
                    <a:cubicBezTo>
                      <a:pt x="177267" y="86779"/>
                      <a:pt x="193140" y="70906"/>
                      <a:pt x="212721" y="70906"/>
                    </a:cubicBezTo>
                    <a:lnTo>
                      <a:pt x="283628" y="70907"/>
                    </a:lnTo>
                    <a:close/>
                    <a:moveTo>
                      <a:pt x="141814" y="3016883"/>
                    </a:moveTo>
                    <a:cubicBezTo>
                      <a:pt x="141814" y="3056044"/>
                      <a:pt x="110068" y="3087790"/>
                      <a:pt x="70907" y="3087790"/>
                    </a:cubicBezTo>
                    <a:cubicBezTo>
                      <a:pt x="31746" y="3087790"/>
                      <a:pt x="0" y="3056044"/>
                      <a:pt x="0" y="3016883"/>
                    </a:cubicBezTo>
                    <a:cubicBezTo>
                      <a:pt x="0" y="2977722"/>
                      <a:pt x="31746" y="2945976"/>
                      <a:pt x="70907" y="2945976"/>
                    </a:cubicBezTo>
                    <a:cubicBezTo>
                      <a:pt x="90488" y="2945976"/>
                      <a:pt x="106361" y="2961849"/>
                      <a:pt x="106361" y="2981430"/>
                    </a:cubicBezTo>
                    <a:cubicBezTo>
                      <a:pt x="106361" y="3001011"/>
                      <a:pt x="90488" y="3016884"/>
                      <a:pt x="70907" y="3016884"/>
                    </a:cubicBezTo>
                    <a:lnTo>
                      <a:pt x="141814" y="3016883"/>
                    </a:lnTo>
                    <a:close/>
                  </a:path>
                  <a:path fill="none" w="1134512" h="3087790">
                    <a:moveTo>
                      <a:pt x="141814" y="2945976"/>
                    </a:moveTo>
                    <a:cubicBezTo>
                      <a:pt x="147726" y="2827191"/>
                      <a:pt x="71288" y="2661398"/>
                      <a:pt x="95397" y="2315150"/>
                    </a:cubicBezTo>
                    <a:cubicBezTo>
                      <a:pt x="119506" y="1968902"/>
                      <a:pt x="292378" y="1228881"/>
                      <a:pt x="286466" y="868488"/>
                    </a:cubicBezTo>
                    <a:cubicBezTo>
                      <a:pt x="288291" y="643571"/>
                      <a:pt x="139989" y="295824"/>
                      <a:pt x="141814" y="70907"/>
                    </a:cubicBezTo>
                    <a:cubicBezTo>
                      <a:pt x="141814" y="31746"/>
                      <a:pt x="173560" y="0"/>
                      <a:pt x="212721" y="0"/>
                    </a:cubicBezTo>
                    <a:lnTo>
                      <a:pt x="1063605" y="0"/>
                    </a:lnTo>
                    <a:cubicBezTo>
                      <a:pt x="1102766" y="0"/>
                      <a:pt x="1134512" y="31746"/>
                      <a:pt x="1134512" y="70907"/>
                    </a:cubicBezTo>
                    <a:cubicBezTo>
                      <a:pt x="1134512" y="110068"/>
                      <a:pt x="1102766" y="141814"/>
                      <a:pt x="1063605" y="141814"/>
                    </a:cubicBezTo>
                    <a:lnTo>
                      <a:pt x="992698" y="141814"/>
                    </a:lnTo>
                    <a:cubicBezTo>
                      <a:pt x="993848" y="374940"/>
                      <a:pt x="1090534" y="608066"/>
                      <a:pt x="1091684" y="841192"/>
                    </a:cubicBezTo>
                    <a:cubicBezTo>
                      <a:pt x="1094534" y="1207964"/>
                      <a:pt x="835227" y="2020774"/>
                      <a:pt x="818729" y="2383389"/>
                    </a:cubicBezTo>
                    <a:cubicBezTo>
                      <a:pt x="802231" y="2746004"/>
                      <a:pt x="1007366" y="2892659"/>
                      <a:pt x="992698" y="3016883"/>
                    </a:cubicBezTo>
                    <a:cubicBezTo>
                      <a:pt x="992698" y="3056044"/>
                      <a:pt x="960952" y="3087790"/>
                      <a:pt x="921791" y="3087790"/>
                    </a:cubicBezTo>
                    <a:lnTo>
                      <a:pt x="70907" y="3087790"/>
                    </a:lnTo>
                    <a:cubicBezTo>
                      <a:pt x="31746" y="3087790"/>
                      <a:pt x="0" y="3056044"/>
                      <a:pt x="0" y="3016883"/>
                    </a:cubicBezTo>
                    <a:cubicBezTo>
                      <a:pt x="0" y="2977722"/>
                      <a:pt x="31746" y="2945976"/>
                      <a:pt x="70907" y="2945976"/>
                    </a:cubicBezTo>
                    <a:lnTo>
                      <a:pt x="141814" y="2945976"/>
                    </a:lnTo>
                    <a:close/>
                    <a:moveTo>
                      <a:pt x="212721" y="0"/>
                    </a:moveTo>
                    <a:cubicBezTo>
                      <a:pt x="251882" y="0"/>
                      <a:pt x="283628" y="31746"/>
                      <a:pt x="283628" y="70907"/>
                    </a:cubicBezTo>
                    <a:cubicBezTo>
                      <a:pt x="283628" y="110068"/>
                      <a:pt x="251882" y="141814"/>
                      <a:pt x="212721" y="141814"/>
                    </a:cubicBezTo>
                    <a:cubicBezTo>
                      <a:pt x="193140" y="141814"/>
                      <a:pt x="177267" y="125941"/>
                      <a:pt x="177267" y="106360"/>
                    </a:cubicBezTo>
                    <a:cubicBezTo>
                      <a:pt x="177267" y="86779"/>
                      <a:pt x="193140" y="70906"/>
                      <a:pt x="212721" y="70906"/>
                    </a:cubicBezTo>
                    <a:lnTo>
                      <a:pt x="283628" y="70907"/>
                    </a:lnTo>
                    <a:moveTo>
                      <a:pt x="992698" y="141814"/>
                    </a:moveTo>
                    <a:lnTo>
                      <a:pt x="212721" y="141814"/>
                    </a:lnTo>
                    <a:moveTo>
                      <a:pt x="70907" y="2945976"/>
                    </a:moveTo>
                    <a:cubicBezTo>
                      <a:pt x="90488" y="2945976"/>
                      <a:pt x="106361" y="2961849"/>
                      <a:pt x="106361" y="2981430"/>
                    </a:cubicBezTo>
                    <a:cubicBezTo>
                      <a:pt x="106361" y="3001011"/>
                      <a:pt x="90488" y="3016884"/>
                      <a:pt x="70907" y="3016884"/>
                    </a:cubicBezTo>
                    <a:lnTo>
                      <a:pt x="141814" y="3016883"/>
                    </a:lnTo>
                    <a:moveTo>
                      <a:pt x="70907" y="3087790"/>
                    </a:moveTo>
                    <a:cubicBezTo>
                      <a:pt x="110068" y="3087790"/>
                      <a:pt x="141814" y="3056044"/>
                      <a:pt x="141814" y="3016883"/>
                    </a:cubicBezTo>
                    <a:lnTo>
                      <a:pt x="141814" y="2945976"/>
                    </a:ln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89" name="Group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910680" y="4526640"/>
                <a:ext cx="1039680" cy="10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0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3525840" y="2701800"/>
                <a:ext cx="1611000" cy="178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1" name="泪滴形 38"/>
            <p:cNvSpPr/>
            <p:nvPr/>
          </p:nvSpPr>
          <p:spPr>
            <a:xfrm flipH="1" rot="205800">
              <a:off x="4897440" y="3969720"/>
              <a:ext cx="180720" cy="11412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泪滴形 38"/>
            <p:cNvSpPr/>
            <p:nvPr/>
          </p:nvSpPr>
          <p:spPr>
            <a:xfrm flipH="1" rot="1354800">
              <a:off x="5122800" y="4131720"/>
              <a:ext cx="195120" cy="12528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泪滴形 38"/>
            <p:cNvSpPr/>
            <p:nvPr/>
          </p:nvSpPr>
          <p:spPr>
            <a:xfrm rot="21394200">
              <a:off x="3795120" y="4025520"/>
              <a:ext cx="179280" cy="11268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泪滴形 38"/>
            <p:cNvSpPr/>
            <p:nvPr/>
          </p:nvSpPr>
          <p:spPr>
            <a:xfrm rot="20245200">
              <a:off x="3654360" y="4241160"/>
              <a:ext cx="195120" cy="12348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组合 8"/>
          <p:cNvGrpSpPr/>
          <p:nvPr/>
        </p:nvGrpSpPr>
        <p:grpSpPr>
          <a:xfrm>
            <a:off x="10987200" y="6373800"/>
            <a:ext cx="272880" cy="525600"/>
            <a:chOff x="10987200" y="6373800"/>
            <a:chExt cx="272880" cy="525600"/>
          </a:xfrm>
        </p:grpSpPr>
        <p:sp>
          <p:nvSpPr>
            <p:cNvPr id="696" name="椭圆 5"/>
            <p:cNvSpPr/>
            <p:nvPr/>
          </p:nvSpPr>
          <p:spPr>
            <a:xfrm>
              <a:off x="10987200" y="637380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直接连接符 6"/>
            <p:cNvSpPr/>
            <p:nvPr/>
          </p:nvSpPr>
          <p:spPr>
            <a:xfrm>
              <a:off x="11123640" y="65642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"/>
          <p:cNvGrpSpPr/>
          <p:nvPr/>
        </p:nvGrpSpPr>
        <p:grpSpPr>
          <a:xfrm>
            <a:off x="846000" y="6373800"/>
            <a:ext cx="273240" cy="525600"/>
            <a:chOff x="846000" y="6373800"/>
            <a:chExt cx="273240" cy="525600"/>
          </a:xfrm>
        </p:grpSpPr>
        <p:sp>
          <p:nvSpPr>
            <p:cNvPr id="699" name="椭圆 2"/>
            <p:cNvSpPr/>
            <p:nvPr/>
          </p:nvSpPr>
          <p:spPr>
            <a:xfrm>
              <a:off x="846000" y="63738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直接连接符 7"/>
            <p:cNvSpPr/>
            <p:nvPr/>
          </p:nvSpPr>
          <p:spPr>
            <a:xfrm>
              <a:off x="968400" y="65642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15"/>
          <p:cNvGrpSpPr/>
          <p:nvPr/>
        </p:nvGrpSpPr>
        <p:grpSpPr>
          <a:xfrm>
            <a:off x="10987200" y="-17640"/>
            <a:ext cx="272880" cy="525600"/>
            <a:chOff x="10987200" y="-17640"/>
            <a:chExt cx="272880" cy="525600"/>
          </a:xfrm>
        </p:grpSpPr>
        <p:sp>
          <p:nvSpPr>
            <p:cNvPr id="702" name="椭圆 16"/>
            <p:cNvSpPr/>
            <p:nvPr/>
          </p:nvSpPr>
          <p:spPr>
            <a:xfrm flipV="1">
              <a:off x="10987200" y="23436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直接连接符 17"/>
            <p:cNvSpPr/>
            <p:nvPr/>
          </p:nvSpPr>
          <p:spPr>
            <a:xfrm flipV="1">
              <a:off x="11123640" y="-176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18"/>
          <p:cNvGrpSpPr/>
          <p:nvPr/>
        </p:nvGrpSpPr>
        <p:grpSpPr>
          <a:xfrm>
            <a:off x="846000" y="-14400"/>
            <a:ext cx="273240" cy="525600"/>
            <a:chOff x="846000" y="-14400"/>
            <a:chExt cx="273240" cy="525600"/>
          </a:xfrm>
        </p:grpSpPr>
        <p:sp>
          <p:nvSpPr>
            <p:cNvPr id="705" name="椭圆 19"/>
            <p:cNvSpPr/>
            <p:nvPr/>
          </p:nvSpPr>
          <p:spPr>
            <a:xfrm flipV="1">
              <a:off x="846000" y="2376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接连接符 20"/>
            <p:cNvSpPr/>
            <p:nvPr/>
          </p:nvSpPr>
          <p:spPr>
            <a:xfrm flipV="1">
              <a:off x="968400" y="-1440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7" name="组合 1"/>
          <p:cNvGrpSpPr/>
          <p:nvPr/>
        </p:nvGrpSpPr>
        <p:grpSpPr>
          <a:xfrm>
            <a:off x="1639800" y="2112840"/>
            <a:ext cx="8956800" cy="3823560"/>
            <a:chOff x="1639800" y="2112840"/>
            <a:chExt cx="8956800" cy="3823560"/>
          </a:xfrm>
        </p:grpSpPr>
        <p:pic>
          <p:nvPicPr>
            <p:cNvPr id="708" name="图片 1" descr=""/>
            <p:cNvPicPr/>
            <p:nvPr/>
          </p:nvPicPr>
          <p:blipFill>
            <a:blip r:embed="rId1"/>
            <a:stretch/>
          </p:blipFill>
          <p:spPr>
            <a:xfrm>
              <a:off x="8341920" y="4691520"/>
              <a:ext cx="944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4"/>
            <p:cNvSpPr/>
            <p:nvPr/>
          </p:nvSpPr>
          <p:spPr>
            <a:xfrm>
              <a:off x="1639800" y="2112840"/>
              <a:ext cx="8956800" cy="38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亲爱的阿文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我还有件重要的事情忘记告诉你了，我知道你对我的情意，所以你不会愿意让我囊中羞涩，所以，我选择了</a:t>
              </a:r>
              <a:r>
                <a:rPr b="1" lang="zh-CN" sz="32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货</a:t>
              </a: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~</a:t>
              </a:r>
              <a:r>
                <a:rPr b="1" lang="zh-CN" sz="32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到</a:t>
              </a: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~</a:t>
              </a:r>
              <a:r>
                <a:rPr b="1" lang="zh-CN" sz="32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付</a:t>
              </a: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~</a:t>
              </a:r>
              <a:r>
                <a:rPr b="1" lang="zh-CN" sz="32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款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，请自备 </a:t>
              </a:r>
              <a:r>
                <a:rPr b="1" lang="en-US" sz="36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Money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！</a:t>
              </a: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                               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                                         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爱你的嘉文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                                        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方圆优皮体"/>
                  <a:ea typeface="方圆优皮体"/>
                </a:rPr>
                <a:t>2016.1.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0" name="TextBox 13"/>
          <p:cNvSpPr/>
          <p:nvPr/>
        </p:nvSpPr>
        <p:spPr>
          <a:xfrm>
            <a:off x="3305160" y="770040"/>
            <a:ext cx="5508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2e2e"/>
                </a:solidFill>
                <a:latin typeface="方圆优皮体"/>
                <a:ea typeface="方圆优皮体"/>
              </a:rPr>
              <a:t>重要提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任意多边形 8"/>
          <p:cNvSpPr/>
          <p:nvPr/>
        </p:nvSpPr>
        <p:spPr>
          <a:xfrm>
            <a:off x="5062680" y="4340160"/>
            <a:ext cx="423720" cy="193680"/>
          </a:xfrm>
          <a:custGeom>
            <a:avLst/>
            <a:gdLst/>
            <a:ahLst/>
            <a:rect l="l" t="t" r="r" b="b"/>
            <a:pathLst>
              <a:path w="423081" h="193962">
                <a:moveTo>
                  <a:pt x="0" y="0"/>
                </a:moveTo>
                <a:cubicBezTo>
                  <a:pt x="20884" y="8354"/>
                  <a:pt x="80648" y="33810"/>
                  <a:pt x="109182" y="40943"/>
                </a:cubicBezTo>
                <a:cubicBezTo>
                  <a:pt x="131686" y="46569"/>
                  <a:pt x="154675" y="50042"/>
                  <a:pt x="177421" y="54591"/>
                </a:cubicBezTo>
                <a:cubicBezTo>
                  <a:pt x="191069" y="63690"/>
                  <a:pt x="207564" y="69543"/>
                  <a:pt x="218365" y="81887"/>
                </a:cubicBezTo>
                <a:cubicBezTo>
                  <a:pt x="236868" y="103033"/>
                  <a:pt x="268254" y="182770"/>
                  <a:pt x="313899" y="191069"/>
                </a:cubicBezTo>
                <a:cubicBezTo>
                  <a:pt x="349706" y="197579"/>
                  <a:pt x="386687" y="191069"/>
                  <a:pt x="423081" y="19106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组合 28"/>
          <p:cNvGrpSpPr/>
          <p:nvPr/>
        </p:nvGrpSpPr>
        <p:grpSpPr>
          <a:xfrm>
            <a:off x="7243920" y="3714480"/>
            <a:ext cx="1283040" cy="691200"/>
            <a:chOff x="7243920" y="3714480"/>
            <a:chExt cx="1283040" cy="691200"/>
          </a:xfrm>
        </p:grpSpPr>
        <p:grpSp>
          <p:nvGrpSpPr>
            <p:cNvPr id="713" name="组合 26"/>
            <p:cNvGrpSpPr/>
            <p:nvPr/>
          </p:nvGrpSpPr>
          <p:grpSpPr>
            <a:xfrm>
              <a:off x="7243920" y="3716640"/>
              <a:ext cx="694080" cy="687240"/>
              <a:chOff x="7243920" y="3716640"/>
              <a:chExt cx="694080" cy="687240"/>
            </a:xfrm>
          </p:grpSpPr>
          <p:grpSp>
            <p:nvGrpSpPr>
              <p:cNvPr id="714" name="组合 9"/>
              <p:cNvGrpSpPr/>
              <p:nvPr/>
            </p:nvGrpSpPr>
            <p:grpSpPr>
              <a:xfrm>
                <a:off x="7243920" y="3716640"/>
                <a:ext cx="694080" cy="687240"/>
                <a:chOff x="7243920" y="3716640"/>
                <a:chExt cx="694080" cy="687240"/>
              </a:xfrm>
            </p:grpSpPr>
            <p:sp>
              <p:nvSpPr>
                <p:cNvPr id="715" name="任意多边形 21"/>
                <p:cNvSpPr/>
                <p:nvPr/>
              </p:nvSpPr>
              <p:spPr>
                <a:xfrm rot="9882600">
                  <a:off x="7306920" y="3781440"/>
                  <a:ext cx="567360" cy="557280"/>
                </a:xfrm>
                <a:custGeom>
                  <a:avLst/>
                  <a:gdLst/>
                  <a:ahLst/>
                  <a:rect l="l" t="t" r="r" b="b"/>
                  <a:pathLst>
                    <a:path w="1524570" h="1499852">
                      <a:moveTo>
                        <a:pt x="611699" y="1498218"/>
                      </a:moveTo>
                      <a:cubicBezTo>
                        <a:pt x="499260" y="1483421"/>
                        <a:pt x="443430" y="1368943"/>
                        <a:pt x="624080" y="1187095"/>
                      </a:cubicBezTo>
                      <a:lnTo>
                        <a:pt x="628582" y="1182954"/>
                      </a:lnTo>
                      <a:lnTo>
                        <a:pt x="532801" y="1105303"/>
                      </a:lnTo>
                      <a:cubicBezTo>
                        <a:pt x="-497784" y="239273"/>
                        <a:pt x="183854" y="-136708"/>
                        <a:pt x="762285" y="101062"/>
                      </a:cubicBezTo>
                      <a:cubicBezTo>
                        <a:pt x="1340715" y="-213477"/>
                        <a:pt x="2022353" y="229677"/>
                        <a:pt x="991770" y="1104403"/>
                      </a:cubicBezTo>
                      <a:lnTo>
                        <a:pt x="896425" y="1182285"/>
                      </a:lnTo>
                      <a:lnTo>
                        <a:pt x="900493" y="1185972"/>
                      </a:lnTo>
                      <a:cubicBezTo>
                        <a:pt x="1153402" y="1435693"/>
                        <a:pt x="942813" y="1540265"/>
                        <a:pt x="762286" y="1466058"/>
                      </a:cubicBezTo>
                      <a:cubicBezTo>
                        <a:pt x="710707" y="1494106"/>
                        <a:pt x="656674" y="1504136"/>
                        <a:pt x="611699" y="14982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2e2e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6" name="圆角矩形 3"/>
                <p:cNvSpPr/>
                <p:nvPr/>
              </p:nvSpPr>
              <p:spPr>
                <a:xfrm rot="20682600">
                  <a:off x="7464240" y="3860640"/>
                  <a:ext cx="150840" cy="55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2e2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7" name="任意多边形 4"/>
                <p:cNvSpPr/>
                <p:nvPr/>
              </p:nvSpPr>
              <p:spPr>
                <a:xfrm rot="20682600">
                  <a:off x="7570800" y="3803400"/>
                  <a:ext cx="214560" cy="55440"/>
                </a:xfrm>
                <a:custGeom>
                  <a:avLst/>
                  <a:gdLst/>
                  <a:ahLst/>
                  <a:rect l="l" t="t" r="r" b="b"/>
                  <a:pathLst>
                    <a:path w="573206" h="150126">
                      <a:moveTo>
                        <a:pt x="0" y="150126"/>
                      </a:moveTo>
                      <a:cubicBezTo>
                        <a:pt x="38353" y="146639"/>
                        <a:pt x="138558" y="149086"/>
                        <a:pt x="191069" y="122830"/>
                      </a:cubicBezTo>
                      <a:cubicBezTo>
                        <a:pt x="221741" y="107494"/>
                        <a:pt x="251396" y="80461"/>
                        <a:pt x="272955" y="54591"/>
                      </a:cubicBezTo>
                      <a:cubicBezTo>
                        <a:pt x="283456" y="41990"/>
                        <a:pt x="287443" y="23895"/>
                        <a:pt x="300251" y="13648"/>
                      </a:cubicBezTo>
                      <a:cubicBezTo>
                        <a:pt x="311485" y="4661"/>
                        <a:pt x="327546" y="4549"/>
                        <a:pt x="341194" y="0"/>
                      </a:cubicBezTo>
                      <a:cubicBezTo>
                        <a:pt x="358475" y="3456"/>
                        <a:pt x="427778" y="14383"/>
                        <a:pt x="450376" y="27296"/>
                      </a:cubicBezTo>
                      <a:cubicBezTo>
                        <a:pt x="470125" y="38581"/>
                        <a:pt x="486770" y="54591"/>
                        <a:pt x="504967" y="68239"/>
                      </a:cubicBezTo>
                      <a:cubicBezTo>
                        <a:pt x="558118" y="50522"/>
                        <a:pt x="535738" y="64764"/>
                        <a:pt x="573206" y="27296"/>
                      </a:cubicBezTo>
                    </a:path>
                  </a:pathLst>
                </a:custGeom>
                <a:noFill/>
                <a:ln w="38160">
                  <a:solidFill>
                    <a:srgbClr val="2e2e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8" name="任意多边形 22"/>
                <p:cNvSpPr/>
                <p:nvPr/>
              </p:nvSpPr>
              <p:spPr>
                <a:xfrm flipH="1" rot="20682600">
                  <a:off x="7535520" y="3854160"/>
                  <a:ext cx="214560" cy="56880"/>
                </a:xfrm>
                <a:custGeom>
                  <a:avLst/>
                  <a:gdLst/>
                  <a:ahLst/>
                  <a:rect l="l" t="t" r="r" b="b"/>
                  <a:pathLst>
                    <a:path w="573206" h="150126">
                      <a:moveTo>
                        <a:pt x="0" y="150126"/>
                      </a:moveTo>
                      <a:cubicBezTo>
                        <a:pt x="38353" y="146639"/>
                        <a:pt x="138558" y="149086"/>
                        <a:pt x="191069" y="122830"/>
                      </a:cubicBezTo>
                      <a:cubicBezTo>
                        <a:pt x="221741" y="107494"/>
                        <a:pt x="251396" y="80461"/>
                        <a:pt x="272955" y="54591"/>
                      </a:cubicBezTo>
                      <a:cubicBezTo>
                        <a:pt x="283456" y="41990"/>
                        <a:pt x="287443" y="23895"/>
                        <a:pt x="300251" y="13648"/>
                      </a:cubicBezTo>
                      <a:cubicBezTo>
                        <a:pt x="311485" y="4661"/>
                        <a:pt x="327546" y="4549"/>
                        <a:pt x="341194" y="0"/>
                      </a:cubicBezTo>
                      <a:cubicBezTo>
                        <a:pt x="358475" y="3456"/>
                        <a:pt x="427778" y="14383"/>
                        <a:pt x="450376" y="27296"/>
                      </a:cubicBezTo>
                      <a:cubicBezTo>
                        <a:pt x="470125" y="38581"/>
                        <a:pt x="486770" y="54591"/>
                        <a:pt x="504967" y="68239"/>
                      </a:cubicBezTo>
                      <a:cubicBezTo>
                        <a:pt x="558118" y="50522"/>
                        <a:pt x="535738" y="64764"/>
                        <a:pt x="573206" y="27296"/>
                      </a:cubicBezTo>
                    </a:path>
                  </a:pathLst>
                </a:custGeom>
                <a:noFill/>
                <a:ln w="38160">
                  <a:solidFill>
                    <a:srgbClr val="2e2e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9" name="组合 25"/>
              <p:cNvGrpSpPr/>
              <p:nvPr/>
            </p:nvGrpSpPr>
            <p:grpSpPr>
              <a:xfrm>
                <a:off x="7494120" y="4025160"/>
                <a:ext cx="202320" cy="202680"/>
                <a:chOff x="7494120" y="4025160"/>
                <a:chExt cx="202320" cy="202680"/>
              </a:xfrm>
            </p:grpSpPr>
            <p:sp>
              <p:nvSpPr>
                <p:cNvPr id="720" name="直接连接符 12"/>
                <p:cNvSpPr/>
                <p:nvPr/>
              </p:nvSpPr>
              <p:spPr>
                <a:xfrm flipV="1">
                  <a:off x="7494120" y="4053960"/>
                  <a:ext cx="202320" cy="5544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直接连接符 27"/>
                <p:cNvSpPr/>
                <p:nvPr/>
              </p:nvSpPr>
              <p:spPr>
                <a:xfrm flipV="1">
                  <a:off x="7550280" y="4134960"/>
                  <a:ext cx="127440" cy="3456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2" name="直接连接符 29"/>
                <p:cNvSpPr/>
                <p:nvPr/>
              </p:nvSpPr>
              <p:spPr>
                <a:xfrm flipV="1">
                  <a:off x="7592400" y="4025160"/>
                  <a:ext cx="51480" cy="5940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3" name="直接连接符 32"/>
                <p:cNvSpPr/>
                <p:nvPr/>
              </p:nvSpPr>
              <p:spPr>
                <a:xfrm flipH="1" flipV="1">
                  <a:off x="7525080" y="4050360"/>
                  <a:ext cx="64800" cy="2628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4" name="直接连接符 34"/>
                <p:cNvSpPr/>
                <p:nvPr/>
              </p:nvSpPr>
              <p:spPr>
                <a:xfrm flipH="1" flipV="1">
                  <a:off x="7590960" y="4076280"/>
                  <a:ext cx="39960" cy="15156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25" name="组合 38"/>
            <p:cNvGrpSpPr/>
            <p:nvPr/>
          </p:nvGrpSpPr>
          <p:grpSpPr>
            <a:xfrm>
              <a:off x="7828560" y="3714480"/>
              <a:ext cx="698400" cy="691200"/>
              <a:chOff x="7828560" y="3714480"/>
              <a:chExt cx="698400" cy="691200"/>
            </a:xfrm>
          </p:grpSpPr>
          <p:grpSp>
            <p:nvGrpSpPr>
              <p:cNvPr id="726" name="组合 39"/>
              <p:cNvGrpSpPr/>
              <p:nvPr/>
            </p:nvGrpSpPr>
            <p:grpSpPr>
              <a:xfrm>
                <a:off x="7828560" y="3714480"/>
                <a:ext cx="698400" cy="691200"/>
                <a:chOff x="7828560" y="3714480"/>
                <a:chExt cx="698400" cy="691200"/>
              </a:xfrm>
            </p:grpSpPr>
            <p:sp>
              <p:nvSpPr>
                <p:cNvPr id="727" name="任意多边形 46"/>
                <p:cNvSpPr/>
                <p:nvPr/>
              </p:nvSpPr>
              <p:spPr>
                <a:xfrm rot="11753400">
                  <a:off x="7894080" y="3781080"/>
                  <a:ext cx="567360" cy="557280"/>
                </a:xfrm>
                <a:custGeom>
                  <a:avLst/>
                  <a:gdLst/>
                  <a:ahLst/>
                  <a:rect l="l" t="t" r="r" b="b"/>
                  <a:pathLst>
                    <a:path w="1524570" h="1499852">
                      <a:moveTo>
                        <a:pt x="611699" y="1498218"/>
                      </a:moveTo>
                      <a:cubicBezTo>
                        <a:pt x="499260" y="1483421"/>
                        <a:pt x="443430" y="1368943"/>
                        <a:pt x="624080" y="1187095"/>
                      </a:cubicBezTo>
                      <a:lnTo>
                        <a:pt x="628582" y="1182954"/>
                      </a:lnTo>
                      <a:lnTo>
                        <a:pt x="532801" y="1105303"/>
                      </a:lnTo>
                      <a:cubicBezTo>
                        <a:pt x="-497784" y="239273"/>
                        <a:pt x="183854" y="-136708"/>
                        <a:pt x="762285" y="101062"/>
                      </a:cubicBezTo>
                      <a:cubicBezTo>
                        <a:pt x="1340715" y="-213477"/>
                        <a:pt x="2022353" y="229677"/>
                        <a:pt x="991770" y="1104403"/>
                      </a:cubicBezTo>
                      <a:lnTo>
                        <a:pt x="896425" y="1182285"/>
                      </a:lnTo>
                      <a:lnTo>
                        <a:pt x="900493" y="1185972"/>
                      </a:lnTo>
                      <a:cubicBezTo>
                        <a:pt x="1153402" y="1435693"/>
                        <a:pt x="942813" y="1540265"/>
                        <a:pt x="762286" y="1466058"/>
                      </a:cubicBezTo>
                      <a:cubicBezTo>
                        <a:pt x="710707" y="1494106"/>
                        <a:pt x="656674" y="1504136"/>
                        <a:pt x="611699" y="14982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2e2e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8" name="圆角矩形 47"/>
                <p:cNvSpPr/>
                <p:nvPr/>
              </p:nvSpPr>
              <p:spPr>
                <a:xfrm rot="953400">
                  <a:off x="8149680" y="3866760"/>
                  <a:ext cx="149400" cy="55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2e2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9" name="任意多边形 48"/>
                <p:cNvSpPr/>
                <p:nvPr/>
              </p:nvSpPr>
              <p:spPr>
                <a:xfrm rot="953400">
                  <a:off x="8259480" y="3874680"/>
                  <a:ext cx="212760" cy="55440"/>
                </a:xfrm>
                <a:custGeom>
                  <a:avLst/>
                  <a:gdLst/>
                  <a:ahLst/>
                  <a:rect l="l" t="t" r="r" b="b"/>
                  <a:pathLst>
                    <a:path w="573206" h="150126">
                      <a:moveTo>
                        <a:pt x="0" y="150126"/>
                      </a:moveTo>
                      <a:cubicBezTo>
                        <a:pt x="38353" y="146639"/>
                        <a:pt x="138558" y="149086"/>
                        <a:pt x="191069" y="122830"/>
                      </a:cubicBezTo>
                      <a:cubicBezTo>
                        <a:pt x="221741" y="107494"/>
                        <a:pt x="251396" y="80461"/>
                        <a:pt x="272955" y="54591"/>
                      </a:cubicBezTo>
                      <a:cubicBezTo>
                        <a:pt x="283456" y="41990"/>
                        <a:pt x="287443" y="23895"/>
                        <a:pt x="300251" y="13648"/>
                      </a:cubicBezTo>
                      <a:cubicBezTo>
                        <a:pt x="311485" y="4661"/>
                        <a:pt x="327546" y="4549"/>
                        <a:pt x="341194" y="0"/>
                      </a:cubicBezTo>
                      <a:cubicBezTo>
                        <a:pt x="358475" y="3456"/>
                        <a:pt x="427778" y="14383"/>
                        <a:pt x="450376" y="27296"/>
                      </a:cubicBezTo>
                      <a:cubicBezTo>
                        <a:pt x="470125" y="38581"/>
                        <a:pt x="486770" y="54591"/>
                        <a:pt x="504967" y="68239"/>
                      </a:cubicBezTo>
                      <a:cubicBezTo>
                        <a:pt x="558118" y="50522"/>
                        <a:pt x="535738" y="64764"/>
                        <a:pt x="573206" y="27296"/>
                      </a:cubicBezTo>
                    </a:path>
                  </a:pathLst>
                </a:custGeom>
                <a:noFill/>
                <a:ln w="38160">
                  <a:solidFill>
                    <a:srgbClr val="2e2e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0" name="任意多边形 49"/>
                <p:cNvSpPr/>
                <p:nvPr/>
              </p:nvSpPr>
              <p:spPr>
                <a:xfrm flipH="1" rot="952800">
                  <a:off x="8211960" y="3909600"/>
                  <a:ext cx="214560" cy="56880"/>
                </a:xfrm>
                <a:custGeom>
                  <a:avLst/>
                  <a:gdLst/>
                  <a:ahLst/>
                  <a:rect l="l" t="t" r="r" b="b"/>
                  <a:pathLst>
                    <a:path w="573206" h="150126">
                      <a:moveTo>
                        <a:pt x="0" y="150126"/>
                      </a:moveTo>
                      <a:cubicBezTo>
                        <a:pt x="38353" y="146639"/>
                        <a:pt x="138558" y="149086"/>
                        <a:pt x="191069" y="122830"/>
                      </a:cubicBezTo>
                      <a:cubicBezTo>
                        <a:pt x="221741" y="107494"/>
                        <a:pt x="251396" y="80461"/>
                        <a:pt x="272955" y="54591"/>
                      </a:cubicBezTo>
                      <a:cubicBezTo>
                        <a:pt x="283456" y="41990"/>
                        <a:pt x="287443" y="23895"/>
                        <a:pt x="300251" y="13648"/>
                      </a:cubicBezTo>
                      <a:cubicBezTo>
                        <a:pt x="311485" y="4661"/>
                        <a:pt x="327546" y="4549"/>
                        <a:pt x="341194" y="0"/>
                      </a:cubicBezTo>
                      <a:cubicBezTo>
                        <a:pt x="358475" y="3456"/>
                        <a:pt x="427778" y="14383"/>
                        <a:pt x="450376" y="27296"/>
                      </a:cubicBezTo>
                      <a:cubicBezTo>
                        <a:pt x="470125" y="38581"/>
                        <a:pt x="486770" y="54591"/>
                        <a:pt x="504967" y="68239"/>
                      </a:cubicBezTo>
                      <a:cubicBezTo>
                        <a:pt x="558118" y="50522"/>
                        <a:pt x="535738" y="64764"/>
                        <a:pt x="573206" y="27296"/>
                      </a:cubicBezTo>
                    </a:path>
                  </a:pathLst>
                </a:custGeom>
                <a:noFill/>
                <a:ln w="38160">
                  <a:solidFill>
                    <a:srgbClr val="2e2e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1" name="组合 40"/>
              <p:cNvGrpSpPr/>
              <p:nvPr/>
            </p:nvGrpSpPr>
            <p:grpSpPr>
              <a:xfrm>
                <a:off x="8070120" y="4016880"/>
                <a:ext cx="201960" cy="207360"/>
                <a:chOff x="8070120" y="4016880"/>
                <a:chExt cx="201960" cy="207360"/>
              </a:xfrm>
            </p:grpSpPr>
            <p:sp>
              <p:nvSpPr>
                <p:cNvPr id="732" name="直接连接符 41"/>
                <p:cNvSpPr/>
                <p:nvPr/>
              </p:nvSpPr>
              <p:spPr>
                <a:xfrm>
                  <a:off x="8070120" y="4048920"/>
                  <a:ext cx="201960" cy="5760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3" name="直接连接符 42"/>
                <p:cNvSpPr/>
                <p:nvPr/>
              </p:nvSpPr>
              <p:spPr>
                <a:xfrm>
                  <a:off x="8085600" y="4131000"/>
                  <a:ext cx="128520" cy="3672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4" name="直接连接符 43"/>
                <p:cNvSpPr/>
                <p:nvPr/>
              </p:nvSpPr>
              <p:spPr>
                <a:xfrm flipV="1">
                  <a:off x="8163360" y="4054680"/>
                  <a:ext cx="74520" cy="2448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5" name="直接连接符 44"/>
                <p:cNvSpPr/>
                <p:nvPr/>
              </p:nvSpPr>
              <p:spPr>
                <a:xfrm flipH="1" flipV="1">
                  <a:off x="8125200" y="4016880"/>
                  <a:ext cx="42120" cy="5436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6" name="直接连接符 45"/>
                <p:cNvSpPr/>
                <p:nvPr/>
              </p:nvSpPr>
              <p:spPr>
                <a:xfrm flipV="1">
                  <a:off x="8125560" y="4073760"/>
                  <a:ext cx="44280" cy="150480"/>
                </a:xfrm>
                <a:prstGeom prst="line">
                  <a:avLst/>
                </a:prstGeom>
                <a:ln w="38160">
                  <a:solidFill>
                    <a:srgbClr val="ffd5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组合 11"/>
          <p:cNvGrpSpPr/>
          <p:nvPr/>
        </p:nvGrpSpPr>
        <p:grpSpPr>
          <a:xfrm>
            <a:off x="9092160" y="2167200"/>
            <a:ext cx="2470320" cy="2439720"/>
            <a:chOff x="9092160" y="2167200"/>
            <a:chExt cx="2470320" cy="2439720"/>
          </a:xfrm>
        </p:grpSpPr>
        <p:pic>
          <p:nvPicPr>
            <p:cNvPr id="738" name="图片 5" descr=""/>
            <p:cNvPicPr/>
            <p:nvPr/>
          </p:nvPicPr>
          <p:blipFill>
            <a:blip r:embed="rId1"/>
            <a:stretch/>
          </p:blipFill>
          <p:spPr>
            <a:xfrm rot="20653200">
              <a:off x="9321480" y="2403360"/>
              <a:ext cx="2011320" cy="19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9" name="组合 10"/>
            <p:cNvGrpSpPr/>
            <p:nvPr/>
          </p:nvGrpSpPr>
          <p:grpSpPr>
            <a:xfrm>
              <a:off x="9333720" y="2369160"/>
              <a:ext cx="1921320" cy="1802880"/>
              <a:chOff x="9333720" y="2369160"/>
              <a:chExt cx="1921320" cy="1802880"/>
            </a:xfrm>
          </p:grpSpPr>
          <p:sp>
            <p:nvSpPr>
              <p:cNvPr id="740" name="任意多边形 81"/>
              <p:cNvSpPr/>
              <p:nvPr/>
            </p:nvSpPr>
            <p:spPr>
              <a:xfrm rot="20653200">
                <a:off x="9497160" y="2558880"/>
                <a:ext cx="1594440" cy="1423080"/>
              </a:xfrm>
              <a:custGeom>
                <a:avLst/>
                <a:gdLst/>
                <a:ahLst/>
                <a:rect l="l" t="t" r="r" b="b"/>
                <a:pathLst>
                  <a:path w="1838210" h="1637281">
                    <a:moveTo>
                      <a:pt x="919105" y="0"/>
                    </a:moveTo>
                    <a:cubicBezTo>
                      <a:pt x="1426713" y="0"/>
                      <a:pt x="1838210" y="411497"/>
                      <a:pt x="1838210" y="919105"/>
                    </a:cubicBezTo>
                    <a:cubicBezTo>
                      <a:pt x="1838210" y="1172909"/>
                      <a:pt x="1735336" y="1402686"/>
                      <a:pt x="1569011" y="1569011"/>
                    </a:cubicBezTo>
                    <a:lnTo>
                      <a:pt x="1486266" y="1637281"/>
                    </a:lnTo>
                    <a:lnTo>
                      <a:pt x="1486266" y="999139"/>
                    </a:lnTo>
                    <a:cubicBezTo>
                      <a:pt x="1486266" y="894725"/>
                      <a:pt x="1401622" y="810081"/>
                      <a:pt x="1297208" y="810081"/>
                    </a:cubicBezTo>
                    <a:lnTo>
                      <a:pt x="541000" y="810081"/>
                    </a:lnTo>
                    <a:cubicBezTo>
                      <a:pt x="436586" y="810081"/>
                      <a:pt x="351942" y="894725"/>
                      <a:pt x="351942" y="999139"/>
                    </a:cubicBezTo>
                    <a:lnTo>
                      <a:pt x="351942" y="1637280"/>
                    </a:lnTo>
                    <a:lnTo>
                      <a:pt x="269200" y="1569011"/>
                    </a:lnTo>
                    <a:cubicBezTo>
                      <a:pt x="102875" y="1402686"/>
                      <a:pt x="0" y="1172909"/>
                      <a:pt x="0" y="919105"/>
                    </a:cubicBezTo>
                    <a:cubicBezTo>
                      <a:pt x="0" y="411497"/>
                      <a:pt x="411497" y="0"/>
                      <a:pt x="91910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椭圆 82"/>
              <p:cNvSpPr/>
              <p:nvPr/>
            </p:nvSpPr>
            <p:spPr>
              <a:xfrm rot="20653200">
                <a:off x="10794240" y="3007800"/>
                <a:ext cx="167040" cy="16740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椭圆 83"/>
              <p:cNvSpPr/>
              <p:nvPr/>
            </p:nvSpPr>
            <p:spPr>
              <a:xfrm rot="20653200">
                <a:off x="9590040" y="3347280"/>
                <a:ext cx="167040" cy="16740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文本框 9"/>
              <p:cNvSpPr/>
              <p:nvPr/>
            </p:nvSpPr>
            <p:spPr>
              <a:xfrm rot="20653200">
                <a:off x="9782280" y="2798280"/>
                <a:ext cx="8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快递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文本框 85"/>
              <p:cNvSpPr/>
              <p:nvPr/>
            </p:nvSpPr>
            <p:spPr>
              <a:xfrm rot="21472200">
                <a:off x="10290600" y="2712960"/>
                <a:ext cx="8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5" name="组合 24"/>
          <p:cNvGrpSpPr/>
          <p:nvPr/>
        </p:nvGrpSpPr>
        <p:grpSpPr>
          <a:xfrm>
            <a:off x="9970920" y="3912840"/>
            <a:ext cx="544320" cy="599400"/>
            <a:chOff x="9970920" y="3912840"/>
            <a:chExt cx="544320" cy="599400"/>
          </a:xfrm>
        </p:grpSpPr>
        <p:grpSp>
          <p:nvGrpSpPr>
            <p:cNvPr id="746" name="组合 8"/>
            <p:cNvGrpSpPr/>
            <p:nvPr/>
          </p:nvGrpSpPr>
          <p:grpSpPr>
            <a:xfrm>
              <a:off x="9978840" y="4228560"/>
              <a:ext cx="536400" cy="283680"/>
              <a:chOff x="9978840" y="4228560"/>
              <a:chExt cx="536400" cy="283680"/>
            </a:xfrm>
          </p:grpSpPr>
          <p:sp>
            <p:nvSpPr>
              <p:cNvPr id="747" name="圆角矩形 89"/>
              <p:cNvSpPr/>
              <p:nvPr/>
            </p:nvSpPr>
            <p:spPr>
              <a:xfrm flipH="1" flipV="1" rot="20346600">
                <a:off x="10017720" y="4313160"/>
                <a:ext cx="496080" cy="96480"/>
              </a:xfrm>
              <a:prstGeom prst="roundRect">
                <a:avLst>
                  <a:gd name="adj" fmla="val 16667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椭圆 90"/>
              <p:cNvSpPr/>
              <p:nvPr/>
            </p:nvSpPr>
            <p:spPr>
              <a:xfrm flipH="1" flipV="1" rot="20346600">
                <a:off x="9992520" y="4400640"/>
                <a:ext cx="98640" cy="9648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9" name="组合 17"/>
            <p:cNvGrpSpPr/>
            <p:nvPr/>
          </p:nvGrpSpPr>
          <p:grpSpPr>
            <a:xfrm>
              <a:off x="9970920" y="3912840"/>
              <a:ext cx="196920" cy="589320"/>
              <a:chOff x="9970920" y="3912840"/>
              <a:chExt cx="196920" cy="589320"/>
            </a:xfrm>
          </p:grpSpPr>
          <p:sp>
            <p:nvSpPr>
              <p:cNvPr id="750" name="圆角矩形 92"/>
              <p:cNvSpPr/>
              <p:nvPr/>
            </p:nvSpPr>
            <p:spPr>
              <a:xfrm flipH="1" flipV="1" rot="16791000">
                <a:off x="9817560" y="4158000"/>
                <a:ext cx="495000" cy="99720"/>
              </a:xfrm>
              <a:prstGeom prst="roundRect">
                <a:avLst>
                  <a:gd name="adj" fmla="val 16667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椭圆 93"/>
              <p:cNvSpPr/>
              <p:nvPr/>
            </p:nvSpPr>
            <p:spPr>
              <a:xfrm flipH="1" flipV="1" rot="16791000">
                <a:off x="9978840" y="4395960"/>
                <a:ext cx="97560" cy="9864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97"/>
              <p:cNvSpPr/>
              <p:nvPr/>
            </p:nvSpPr>
            <p:spPr>
              <a:xfrm flipH="1" flipV="1" rot="16791000">
                <a:off x="10062000" y="3919680"/>
                <a:ext cx="97560" cy="9864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53" name="组合 8"/>
          <p:cNvGrpSpPr/>
          <p:nvPr/>
        </p:nvGrpSpPr>
        <p:grpSpPr>
          <a:xfrm>
            <a:off x="10987200" y="6359400"/>
            <a:ext cx="272880" cy="525600"/>
            <a:chOff x="10987200" y="6359400"/>
            <a:chExt cx="272880" cy="525600"/>
          </a:xfrm>
        </p:grpSpPr>
        <p:sp>
          <p:nvSpPr>
            <p:cNvPr id="754" name="椭圆 5"/>
            <p:cNvSpPr/>
            <p:nvPr/>
          </p:nvSpPr>
          <p:spPr>
            <a:xfrm>
              <a:off x="10987200" y="635940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直接连接符 6"/>
            <p:cNvSpPr/>
            <p:nvPr/>
          </p:nvSpPr>
          <p:spPr>
            <a:xfrm>
              <a:off x="11123640" y="65498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3"/>
          <p:cNvGrpSpPr/>
          <p:nvPr/>
        </p:nvGrpSpPr>
        <p:grpSpPr>
          <a:xfrm>
            <a:off x="846000" y="6359400"/>
            <a:ext cx="273240" cy="525600"/>
            <a:chOff x="846000" y="6359400"/>
            <a:chExt cx="273240" cy="525600"/>
          </a:xfrm>
        </p:grpSpPr>
        <p:sp>
          <p:nvSpPr>
            <p:cNvPr id="757" name="椭圆 2"/>
            <p:cNvSpPr/>
            <p:nvPr/>
          </p:nvSpPr>
          <p:spPr>
            <a:xfrm>
              <a:off x="846000" y="63594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接连接符 7"/>
            <p:cNvSpPr/>
            <p:nvPr/>
          </p:nvSpPr>
          <p:spPr>
            <a:xfrm>
              <a:off x="968400" y="65498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16"/>
          <p:cNvGrpSpPr/>
          <p:nvPr/>
        </p:nvGrpSpPr>
        <p:grpSpPr>
          <a:xfrm>
            <a:off x="8485200" y="1160640"/>
            <a:ext cx="3127320" cy="4570200"/>
            <a:chOff x="8485200" y="1160640"/>
            <a:chExt cx="3127320" cy="4570200"/>
          </a:xfrm>
        </p:grpSpPr>
        <p:sp>
          <p:nvSpPr>
            <p:cNvPr id="760" name="矩形 13"/>
            <p:cNvSpPr/>
            <p:nvPr/>
          </p:nvSpPr>
          <p:spPr>
            <a:xfrm>
              <a:off x="10283760" y="1160640"/>
              <a:ext cx="1328760" cy="457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1" name="组合 35"/>
            <p:cNvGrpSpPr/>
            <p:nvPr/>
          </p:nvGrpSpPr>
          <p:grpSpPr>
            <a:xfrm>
              <a:off x="8485200" y="1176480"/>
              <a:ext cx="1946880" cy="4530600"/>
              <a:chOff x="8485200" y="1176480"/>
              <a:chExt cx="1946880" cy="4530600"/>
            </a:xfrm>
          </p:grpSpPr>
          <p:sp>
            <p:nvSpPr>
              <p:cNvPr id="762" name="矩形 18"/>
              <p:cNvSpPr/>
              <p:nvPr/>
            </p:nvSpPr>
            <p:spPr>
              <a:xfrm flipH="1">
                <a:off x="8515440" y="1446120"/>
                <a:ext cx="1719360" cy="641160"/>
              </a:xfrm>
              <a:prstGeom prst="rect">
                <a:avLst/>
              </a:prstGeom>
              <a:noFill/>
              <a:ln w="2844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文本框 19"/>
              <p:cNvSpPr/>
              <p:nvPr/>
            </p:nvSpPr>
            <p:spPr>
              <a:xfrm flipH="1">
                <a:off x="8485200" y="1527840"/>
                <a:ext cx="194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mon W.C.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接连接符 4"/>
              <p:cNvSpPr/>
              <p:nvPr/>
            </p:nvSpPr>
            <p:spPr>
              <a:xfrm>
                <a:off x="10223640" y="1176480"/>
                <a:ext cx="0" cy="4530600"/>
              </a:xfrm>
              <a:prstGeom prst="line">
                <a:avLst/>
              </a:prstGeom>
              <a:ln w="12708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5" name="组合 16"/>
          <p:cNvGrpSpPr/>
          <p:nvPr/>
        </p:nvGrpSpPr>
        <p:grpSpPr>
          <a:xfrm>
            <a:off x="2128680" y="1201680"/>
            <a:ext cx="1565280" cy="1666800"/>
            <a:chOff x="2128680" y="1201680"/>
            <a:chExt cx="1565280" cy="1666800"/>
          </a:xfrm>
        </p:grpSpPr>
        <p:pic>
          <p:nvPicPr>
            <p:cNvPr id="766" name="组合 32" descr=""/>
            <p:cNvPicPr/>
            <p:nvPr/>
          </p:nvPicPr>
          <p:blipFill>
            <a:blip r:embed="rId2"/>
            <a:stretch/>
          </p:blipFill>
          <p:spPr>
            <a:xfrm>
              <a:off x="2128680" y="1201680"/>
              <a:ext cx="15652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Text Box 4"/>
            <p:cNvSpPr/>
            <p:nvPr/>
          </p:nvSpPr>
          <p:spPr>
            <a:xfrm>
              <a:off x="2216520" y="1788840"/>
              <a:ext cx="13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e2e2e"/>
                  </a:solidFill>
                  <a:latin typeface="Arial"/>
                  <a:ea typeface="微软雅黑"/>
                </a:rPr>
                <a:t>My  God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8" name="组合 15"/>
          <p:cNvGrpSpPr/>
          <p:nvPr/>
        </p:nvGrpSpPr>
        <p:grpSpPr>
          <a:xfrm>
            <a:off x="10987200" y="-17640"/>
            <a:ext cx="272880" cy="525600"/>
            <a:chOff x="10987200" y="-17640"/>
            <a:chExt cx="272880" cy="525600"/>
          </a:xfrm>
        </p:grpSpPr>
        <p:sp>
          <p:nvSpPr>
            <p:cNvPr id="769" name="椭圆 22"/>
            <p:cNvSpPr/>
            <p:nvPr/>
          </p:nvSpPr>
          <p:spPr>
            <a:xfrm flipV="1">
              <a:off x="10987200" y="23436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直接连接符 23"/>
            <p:cNvSpPr/>
            <p:nvPr/>
          </p:nvSpPr>
          <p:spPr>
            <a:xfrm flipV="1">
              <a:off x="11123640" y="-176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组合 18"/>
          <p:cNvGrpSpPr/>
          <p:nvPr/>
        </p:nvGrpSpPr>
        <p:grpSpPr>
          <a:xfrm>
            <a:off x="846000" y="-14400"/>
            <a:ext cx="273240" cy="525600"/>
            <a:chOff x="846000" y="-14400"/>
            <a:chExt cx="273240" cy="525600"/>
          </a:xfrm>
        </p:grpSpPr>
        <p:sp>
          <p:nvSpPr>
            <p:cNvPr id="772" name="椭圆 25"/>
            <p:cNvSpPr/>
            <p:nvPr/>
          </p:nvSpPr>
          <p:spPr>
            <a:xfrm flipV="1">
              <a:off x="846000" y="2376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直接连接符 26"/>
            <p:cNvSpPr/>
            <p:nvPr/>
          </p:nvSpPr>
          <p:spPr>
            <a:xfrm flipV="1">
              <a:off x="968400" y="-1440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12"/>
          <p:cNvGrpSpPr/>
          <p:nvPr/>
        </p:nvGrpSpPr>
        <p:grpSpPr>
          <a:xfrm>
            <a:off x="1812960" y="2643120"/>
            <a:ext cx="4343400" cy="3125160"/>
            <a:chOff x="1812960" y="2643120"/>
            <a:chExt cx="4343400" cy="3125160"/>
          </a:xfrm>
        </p:grpSpPr>
        <p:sp>
          <p:nvSpPr>
            <p:cNvPr id="775" name="任意多边形 74"/>
            <p:cNvSpPr/>
            <p:nvPr/>
          </p:nvSpPr>
          <p:spPr>
            <a:xfrm rot="238800">
              <a:off x="4516560" y="3838680"/>
              <a:ext cx="468000" cy="149040"/>
            </a:xfrm>
            <a:custGeom>
              <a:avLst/>
              <a:gdLst/>
              <a:ahLst/>
              <a:rect l="l" t="t" r="r" b="b"/>
              <a:pathLst>
                <a:path w="889944" h="285750">
                  <a:moveTo>
                    <a:pt x="1548" y="0"/>
                  </a:moveTo>
                  <a:lnTo>
                    <a:pt x="888397" y="0"/>
                  </a:lnTo>
                  <a:lnTo>
                    <a:pt x="889944" y="9528"/>
                  </a:lnTo>
                  <a:cubicBezTo>
                    <a:pt x="889944" y="162081"/>
                    <a:pt x="690723" y="285750"/>
                    <a:pt x="444972" y="285750"/>
                  </a:cubicBezTo>
                  <a:cubicBezTo>
                    <a:pt x="199221" y="285750"/>
                    <a:pt x="0" y="162081"/>
                    <a:pt x="0" y="9528"/>
                  </a:cubicBezTo>
                  <a:lnTo>
                    <a:pt x="154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任意多边形 73"/>
            <p:cNvSpPr/>
            <p:nvPr/>
          </p:nvSpPr>
          <p:spPr>
            <a:xfrm rot="20979000">
              <a:off x="3987360" y="3851640"/>
              <a:ext cx="466560" cy="149040"/>
            </a:xfrm>
            <a:custGeom>
              <a:avLst/>
              <a:gdLst/>
              <a:ahLst/>
              <a:rect l="l" t="t" r="r" b="b"/>
              <a:pathLst>
                <a:path w="889944" h="285750">
                  <a:moveTo>
                    <a:pt x="1548" y="0"/>
                  </a:moveTo>
                  <a:lnTo>
                    <a:pt x="888397" y="0"/>
                  </a:lnTo>
                  <a:lnTo>
                    <a:pt x="889944" y="9528"/>
                  </a:lnTo>
                  <a:cubicBezTo>
                    <a:pt x="889944" y="162081"/>
                    <a:pt x="690723" y="285750"/>
                    <a:pt x="444972" y="285750"/>
                  </a:cubicBezTo>
                  <a:cubicBezTo>
                    <a:pt x="199221" y="285750"/>
                    <a:pt x="0" y="162081"/>
                    <a:pt x="0" y="9528"/>
                  </a:cubicBezTo>
                  <a:lnTo>
                    <a:pt x="154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7" name="Group 4" descr=""/>
            <p:cNvPicPr/>
            <p:nvPr/>
          </p:nvPicPr>
          <p:blipFill>
            <a:blip r:embed="rId3"/>
            <a:stretch/>
          </p:blipFill>
          <p:spPr>
            <a:xfrm>
              <a:off x="4053960" y="4463640"/>
              <a:ext cx="987480" cy="10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圆角矩形 3"/>
            <p:cNvSpPr/>
            <p:nvPr/>
          </p:nvSpPr>
          <p:spPr>
            <a:xfrm>
              <a:off x="1812960" y="3696480"/>
              <a:ext cx="1493640" cy="169560"/>
            </a:xfrm>
            <a:prstGeom prst="roundRect">
              <a:avLst>
                <a:gd name="adj" fmla="val 16667"/>
              </a:avLst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9" name="组合 47"/>
            <p:cNvGrpSpPr/>
            <p:nvPr/>
          </p:nvGrpSpPr>
          <p:grpSpPr>
            <a:xfrm>
              <a:off x="2174760" y="3686760"/>
              <a:ext cx="769680" cy="234720"/>
              <a:chOff x="2174760" y="3686760"/>
              <a:chExt cx="769680" cy="234720"/>
            </a:xfrm>
          </p:grpSpPr>
          <p:sp>
            <p:nvSpPr>
              <p:cNvPr id="780" name="流程图: 直接访问存储器 48"/>
              <p:cNvSpPr/>
              <p:nvPr/>
            </p:nvSpPr>
            <p:spPr>
              <a:xfrm flipH="1" rot="10800000">
                <a:off x="2174760" y="3686760"/>
                <a:ext cx="769680" cy="234720"/>
              </a:xfrm>
              <a:prstGeom prst="flowChartMagneticDrum">
                <a:avLst/>
              </a:prstGeom>
              <a:solidFill>
                <a:srgbClr val="ffffff"/>
              </a:solidFill>
              <a:ln w="2556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椭圆 49"/>
              <p:cNvSpPr/>
              <p:nvPr/>
            </p:nvSpPr>
            <p:spPr>
              <a:xfrm rot="10800000">
                <a:off x="2784240" y="3755160"/>
                <a:ext cx="77760" cy="98280"/>
              </a:xfrm>
              <a:prstGeom prst="ellipse">
                <a:avLst/>
              </a:prstGeom>
              <a:solidFill>
                <a:srgbClr val="2e2e2e"/>
              </a:solidFill>
              <a:ln w="1260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椭圆 8"/>
            <p:cNvSpPr/>
            <p:nvPr/>
          </p:nvSpPr>
          <p:spPr>
            <a:xfrm>
              <a:off x="1861920" y="37137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椭圆 50"/>
            <p:cNvSpPr/>
            <p:nvPr/>
          </p:nvSpPr>
          <p:spPr>
            <a:xfrm>
              <a:off x="3106800" y="37137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任意多边形 14"/>
            <p:cNvSpPr/>
            <p:nvPr/>
          </p:nvSpPr>
          <p:spPr>
            <a:xfrm>
              <a:off x="5176800" y="5320080"/>
              <a:ext cx="563400" cy="285120"/>
            </a:xfrm>
            <a:custGeom>
              <a:avLst/>
              <a:gdLst/>
              <a:ahLst/>
              <a:rect l="l" t="t" r="r" b="b"/>
              <a:pathLst>
                <a:path w="563165" h="286603">
                  <a:moveTo>
                    <a:pt x="194676" y="150125"/>
                  </a:moveTo>
                  <a:cubicBezTo>
                    <a:pt x="190127" y="127379"/>
                    <a:pt x="181028" y="105083"/>
                    <a:pt x="181028" y="81886"/>
                  </a:cubicBezTo>
                  <a:cubicBezTo>
                    <a:pt x="181028" y="67500"/>
                    <a:pt x="185689" y="52176"/>
                    <a:pt x="194676" y="40943"/>
                  </a:cubicBezTo>
                  <a:cubicBezTo>
                    <a:pt x="213917" y="16893"/>
                    <a:pt x="249591" y="8991"/>
                    <a:pt x="276562" y="0"/>
                  </a:cubicBezTo>
                  <a:cubicBezTo>
                    <a:pt x="294759" y="4549"/>
                    <a:pt x="316506" y="1931"/>
                    <a:pt x="331153" y="13648"/>
                  </a:cubicBezTo>
                  <a:cubicBezTo>
                    <a:pt x="342387" y="22635"/>
                    <a:pt x="340849" y="40759"/>
                    <a:pt x="344801" y="54591"/>
                  </a:cubicBezTo>
                  <a:cubicBezTo>
                    <a:pt x="357330" y="98441"/>
                    <a:pt x="352502" y="116883"/>
                    <a:pt x="385744" y="150125"/>
                  </a:cubicBezTo>
                  <a:cubicBezTo>
                    <a:pt x="414879" y="179260"/>
                    <a:pt x="442125" y="183237"/>
                    <a:pt x="481279" y="191068"/>
                  </a:cubicBezTo>
                  <a:cubicBezTo>
                    <a:pt x="508414" y="196495"/>
                    <a:pt x="535870" y="200167"/>
                    <a:pt x="563165" y="204716"/>
                  </a:cubicBezTo>
                  <a:cubicBezTo>
                    <a:pt x="558616" y="227462"/>
                    <a:pt x="562385" y="253654"/>
                    <a:pt x="549518" y="272955"/>
                  </a:cubicBezTo>
                  <a:cubicBezTo>
                    <a:pt x="541538" y="284925"/>
                    <a:pt x="522960" y="286603"/>
                    <a:pt x="508574" y="286603"/>
                  </a:cubicBezTo>
                  <a:cubicBezTo>
                    <a:pt x="491014" y="286603"/>
                    <a:pt x="354129" y="263136"/>
                    <a:pt x="331153" y="259307"/>
                  </a:cubicBezTo>
                  <a:cubicBezTo>
                    <a:pt x="201598" y="216122"/>
                    <a:pt x="277921" y="229407"/>
                    <a:pt x="99142" y="245659"/>
                  </a:cubicBezTo>
                  <a:cubicBezTo>
                    <a:pt x="85494" y="232011"/>
                    <a:pt x="73904" y="215934"/>
                    <a:pt x="58198" y="204716"/>
                  </a:cubicBezTo>
                  <a:cubicBezTo>
                    <a:pt x="28561" y="183547"/>
                    <a:pt x="-39626" y="183496"/>
                    <a:pt x="30903" y="136477"/>
                  </a:cubicBezTo>
                  <a:cubicBezTo>
                    <a:pt x="46510" y="126073"/>
                    <a:pt x="66865" y="125022"/>
                    <a:pt x="85494" y="122830"/>
                  </a:cubicBezTo>
                  <a:cubicBezTo>
                    <a:pt x="144403" y="115900"/>
                    <a:pt x="262915" y="109182"/>
                    <a:pt x="262915" y="109182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任意多边形 15"/>
            <p:cNvSpPr/>
            <p:nvPr/>
          </p:nvSpPr>
          <p:spPr>
            <a:xfrm>
              <a:off x="3767040" y="5391720"/>
              <a:ext cx="341280" cy="299520"/>
            </a:xfrm>
            <a:custGeom>
              <a:avLst/>
              <a:gdLst/>
              <a:ahLst/>
              <a:rect l="l" t="t" r="r" b="b"/>
              <a:pathLst>
                <a:path w="341769" h="300250">
                  <a:moveTo>
                    <a:pt x="164348" y="40943"/>
                  </a:moveTo>
                  <a:cubicBezTo>
                    <a:pt x="125679" y="50041"/>
                    <a:pt x="61892" y="38701"/>
                    <a:pt x="14223" y="54591"/>
                  </a:cubicBezTo>
                  <a:cubicBezTo>
                    <a:pt x="575" y="59140"/>
                    <a:pt x="-1209" y="81259"/>
                    <a:pt x="575" y="95534"/>
                  </a:cubicBezTo>
                  <a:cubicBezTo>
                    <a:pt x="3614" y="119843"/>
                    <a:pt x="12187" y="144953"/>
                    <a:pt x="27871" y="163773"/>
                  </a:cubicBezTo>
                  <a:cubicBezTo>
                    <a:pt x="37081" y="174825"/>
                    <a:pt x="54982" y="173469"/>
                    <a:pt x="68814" y="177421"/>
                  </a:cubicBezTo>
                  <a:cubicBezTo>
                    <a:pt x="86849" y="182574"/>
                    <a:pt x="105208" y="186519"/>
                    <a:pt x="123405" y="191068"/>
                  </a:cubicBezTo>
                  <a:cubicBezTo>
                    <a:pt x="137053" y="200167"/>
                    <a:pt x="154814" y="205017"/>
                    <a:pt x="164348" y="218364"/>
                  </a:cubicBezTo>
                  <a:cubicBezTo>
                    <a:pt x="230644" y="311178"/>
                    <a:pt x="148639" y="272269"/>
                    <a:pt x="232587" y="300250"/>
                  </a:cubicBezTo>
                  <a:cubicBezTo>
                    <a:pt x="265888" y="289150"/>
                    <a:pt x="288016" y="285765"/>
                    <a:pt x="314474" y="259307"/>
                  </a:cubicBezTo>
                  <a:cubicBezTo>
                    <a:pt x="326072" y="247709"/>
                    <a:pt x="332671" y="232012"/>
                    <a:pt x="341769" y="218364"/>
                  </a:cubicBezTo>
                  <a:cubicBezTo>
                    <a:pt x="332671" y="204716"/>
                    <a:pt x="326072" y="189019"/>
                    <a:pt x="314474" y="177421"/>
                  </a:cubicBezTo>
                  <a:cubicBezTo>
                    <a:pt x="223489" y="86436"/>
                    <a:pt x="319021" y="218362"/>
                    <a:pt x="246235" y="109182"/>
                  </a:cubicBezTo>
                  <a:cubicBezTo>
                    <a:pt x="250784" y="90985"/>
                    <a:pt x="252494" y="71831"/>
                    <a:pt x="259883" y="54591"/>
                  </a:cubicBezTo>
                  <a:cubicBezTo>
                    <a:pt x="266344" y="39515"/>
                    <a:pt x="291156" y="29560"/>
                    <a:pt x="287178" y="13647"/>
                  </a:cubicBezTo>
                  <a:cubicBezTo>
                    <a:pt x="283689" y="-309"/>
                    <a:pt x="259883" y="4549"/>
                    <a:pt x="246235" y="0"/>
                  </a:cubicBezTo>
                  <a:cubicBezTo>
                    <a:pt x="199939" y="30864"/>
                    <a:pt x="203017" y="31845"/>
                    <a:pt x="164348" y="409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6" name="组合 24"/>
            <p:cNvGrpSpPr/>
            <p:nvPr/>
          </p:nvGrpSpPr>
          <p:grpSpPr>
            <a:xfrm>
              <a:off x="4852800" y="4651920"/>
              <a:ext cx="701280" cy="668160"/>
              <a:chOff x="4852800" y="4651920"/>
              <a:chExt cx="701280" cy="668160"/>
            </a:xfrm>
          </p:grpSpPr>
          <p:sp>
            <p:nvSpPr>
              <p:cNvPr id="787" name="任意多边形 19"/>
              <p:cNvSpPr/>
              <p:nvPr/>
            </p:nvSpPr>
            <p:spPr>
              <a:xfrm rot="7294200">
                <a:off x="4887000" y="4792320"/>
                <a:ext cx="546840" cy="386640"/>
              </a:xfrm>
              <a:custGeom>
                <a:avLst/>
                <a:gdLst/>
                <a:ahLst/>
                <a:rect l="l" t="t" r="r" b="b"/>
                <a:pathLst>
                  <a:path w="436728" h="304253">
                    <a:moveTo>
                      <a:pt x="218364" y="44946"/>
                    </a:moveTo>
                    <a:cubicBezTo>
                      <a:pt x="195618" y="31298"/>
                      <a:pt x="176343" y="8037"/>
                      <a:pt x="150125" y="4003"/>
                    </a:cubicBezTo>
                    <a:cubicBezTo>
                      <a:pt x="67302" y="-8739"/>
                      <a:pt x="52393" y="10016"/>
                      <a:pt x="0" y="44946"/>
                    </a:cubicBezTo>
                    <a:cubicBezTo>
                      <a:pt x="4549" y="81340"/>
                      <a:pt x="7087" y="118042"/>
                      <a:pt x="13648" y="154128"/>
                    </a:cubicBezTo>
                    <a:cubicBezTo>
                      <a:pt x="16221" y="168282"/>
                      <a:pt x="18463" y="183715"/>
                      <a:pt x="27295" y="195071"/>
                    </a:cubicBezTo>
                    <a:cubicBezTo>
                      <a:pt x="50994" y="225542"/>
                      <a:pt x="72561" y="264751"/>
                      <a:pt x="109182" y="276958"/>
                    </a:cubicBezTo>
                    <a:lnTo>
                      <a:pt x="191069" y="304253"/>
                    </a:lnTo>
                    <a:cubicBezTo>
                      <a:pt x="241111" y="299704"/>
                      <a:pt x="293168" y="305383"/>
                      <a:pt x="341194" y="290606"/>
                    </a:cubicBezTo>
                    <a:cubicBezTo>
                      <a:pt x="356871" y="285782"/>
                      <a:pt x="357988" y="262263"/>
                      <a:pt x="368489" y="249662"/>
                    </a:cubicBezTo>
                    <a:cubicBezTo>
                      <a:pt x="456063" y="144573"/>
                      <a:pt x="368956" y="269435"/>
                      <a:pt x="436728" y="167776"/>
                    </a:cubicBezTo>
                    <a:cubicBezTo>
                      <a:pt x="431538" y="141827"/>
                      <a:pt x="423420" y="86568"/>
                      <a:pt x="409433" y="58594"/>
                    </a:cubicBezTo>
                    <a:cubicBezTo>
                      <a:pt x="402097" y="43923"/>
                      <a:pt x="394945" y="27897"/>
                      <a:pt x="382137" y="17650"/>
                    </a:cubicBezTo>
                    <a:cubicBezTo>
                      <a:pt x="370904" y="8663"/>
                      <a:pt x="354842" y="8552"/>
                      <a:pt x="341194" y="4003"/>
                    </a:cubicBezTo>
                    <a:cubicBezTo>
                      <a:pt x="314221" y="12994"/>
                      <a:pt x="278549" y="20894"/>
                      <a:pt x="259307" y="44946"/>
                    </a:cubicBezTo>
                    <a:cubicBezTo>
                      <a:pt x="250320" y="56179"/>
                      <a:pt x="252093" y="73022"/>
                      <a:pt x="245660" y="85889"/>
                    </a:cubicBezTo>
                    <a:cubicBezTo>
                      <a:pt x="242783" y="91644"/>
                      <a:pt x="236561" y="94988"/>
                      <a:pt x="232012" y="99537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任意多边形 20"/>
              <p:cNvSpPr/>
              <p:nvPr/>
            </p:nvSpPr>
            <p:spPr>
              <a:xfrm rot="7294200">
                <a:off x="5189040" y="4856760"/>
                <a:ext cx="72720" cy="113760"/>
              </a:xfrm>
              <a:custGeom>
                <a:avLst/>
                <a:gdLst/>
                <a:ahLst/>
                <a:rect l="l" t="t" r="r" b="b"/>
                <a:pathLst>
                  <a:path w="150126" h="233930">
                    <a:moveTo>
                      <a:pt x="0" y="0"/>
                    </a:moveTo>
                    <a:cubicBezTo>
                      <a:pt x="8011" y="40056"/>
                      <a:pt x="11558" y="72459"/>
                      <a:pt x="27296" y="109182"/>
                    </a:cubicBezTo>
                    <a:cubicBezTo>
                      <a:pt x="35310" y="127882"/>
                      <a:pt x="46577" y="145073"/>
                      <a:pt x="54591" y="163773"/>
                    </a:cubicBezTo>
                    <a:cubicBezTo>
                      <a:pt x="71969" y="204322"/>
                      <a:pt x="57930" y="214928"/>
                      <a:pt x="109182" y="232012"/>
                    </a:cubicBezTo>
                    <a:cubicBezTo>
                      <a:pt x="122130" y="236328"/>
                      <a:pt x="136478" y="232012"/>
                      <a:pt x="150126" y="232012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任意多边形 21"/>
              <p:cNvSpPr/>
              <p:nvPr/>
            </p:nvSpPr>
            <p:spPr>
              <a:xfrm rot="7294200">
                <a:off x="5109120" y="4824720"/>
                <a:ext cx="139320" cy="120240"/>
              </a:xfrm>
              <a:custGeom>
                <a:avLst/>
                <a:gdLst/>
                <a:ahLst/>
                <a:rect l="l" t="t" r="r" b="b"/>
                <a:pathLst>
                  <a:path w="286603" h="245980">
                    <a:moveTo>
                      <a:pt x="0" y="0"/>
                    </a:moveTo>
                    <a:cubicBezTo>
                      <a:pt x="22348" y="44697"/>
                      <a:pt x="59774" y="128014"/>
                      <a:pt x="95534" y="163774"/>
                    </a:cubicBezTo>
                    <a:cubicBezTo>
                      <a:pt x="109182" y="177422"/>
                      <a:pt x="119605" y="195344"/>
                      <a:pt x="136477" y="204717"/>
                    </a:cubicBezTo>
                    <a:cubicBezTo>
                      <a:pt x="161628" y="218690"/>
                      <a:pt x="191068" y="222914"/>
                      <a:pt x="218364" y="232012"/>
                    </a:cubicBezTo>
                    <a:cubicBezTo>
                      <a:pt x="271514" y="249729"/>
                      <a:pt x="249134" y="255833"/>
                      <a:pt x="286603" y="218365"/>
                    </a:cubicBezTo>
                  </a:path>
                </a:pathLst>
              </a:custGeom>
              <a:noFill/>
              <a:ln w="3816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任意多边形 71"/>
              <p:cNvSpPr/>
              <p:nvPr/>
            </p:nvSpPr>
            <p:spPr>
              <a:xfrm rot="3575400">
                <a:off x="5054400" y="4977720"/>
                <a:ext cx="192240" cy="161640"/>
              </a:xfrm>
              <a:custGeom>
                <a:avLst/>
                <a:gdLst/>
                <a:ahLst/>
                <a:rect l="l" t="t" r="r" b="b"/>
                <a:pathLst>
                  <a:path w="286603" h="245980">
                    <a:moveTo>
                      <a:pt x="0" y="0"/>
                    </a:moveTo>
                    <a:cubicBezTo>
                      <a:pt x="22348" y="44697"/>
                      <a:pt x="59774" y="128014"/>
                      <a:pt x="95534" y="163774"/>
                    </a:cubicBezTo>
                    <a:cubicBezTo>
                      <a:pt x="109182" y="177422"/>
                      <a:pt x="119605" y="195344"/>
                      <a:pt x="136477" y="204717"/>
                    </a:cubicBezTo>
                    <a:cubicBezTo>
                      <a:pt x="161628" y="218690"/>
                      <a:pt x="191068" y="222914"/>
                      <a:pt x="218364" y="232012"/>
                    </a:cubicBezTo>
                    <a:cubicBezTo>
                      <a:pt x="271514" y="249729"/>
                      <a:pt x="249134" y="255833"/>
                      <a:pt x="286603" y="218365"/>
                    </a:cubicBezTo>
                  </a:path>
                </a:pathLst>
              </a:custGeom>
              <a:noFill/>
              <a:ln w="3816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任意多边形 72"/>
              <p:cNvSpPr/>
              <p:nvPr/>
            </p:nvSpPr>
            <p:spPr>
              <a:xfrm rot="8564400">
                <a:off x="4945680" y="4780080"/>
                <a:ext cx="546840" cy="386640"/>
              </a:xfrm>
              <a:custGeom>
                <a:avLst/>
                <a:gdLst/>
                <a:ahLst/>
                <a:rect l="l" t="t" r="r" b="b"/>
                <a:pathLst>
                  <a:path w="436728" h="304253">
                    <a:moveTo>
                      <a:pt x="218364" y="44946"/>
                    </a:moveTo>
                    <a:cubicBezTo>
                      <a:pt x="195618" y="31298"/>
                      <a:pt x="176343" y="8037"/>
                      <a:pt x="150125" y="4003"/>
                    </a:cubicBezTo>
                    <a:cubicBezTo>
                      <a:pt x="67302" y="-8739"/>
                      <a:pt x="52393" y="10016"/>
                      <a:pt x="0" y="44946"/>
                    </a:cubicBezTo>
                    <a:cubicBezTo>
                      <a:pt x="4549" y="81340"/>
                      <a:pt x="7087" y="118042"/>
                      <a:pt x="13648" y="154128"/>
                    </a:cubicBezTo>
                    <a:cubicBezTo>
                      <a:pt x="16221" y="168282"/>
                      <a:pt x="18463" y="183715"/>
                      <a:pt x="27295" y="195071"/>
                    </a:cubicBezTo>
                    <a:cubicBezTo>
                      <a:pt x="50994" y="225542"/>
                      <a:pt x="72561" y="264751"/>
                      <a:pt x="109182" y="276958"/>
                    </a:cubicBezTo>
                    <a:lnTo>
                      <a:pt x="191069" y="304253"/>
                    </a:lnTo>
                    <a:cubicBezTo>
                      <a:pt x="241111" y="299704"/>
                      <a:pt x="293168" y="305383"/>
                      <a:pt x="341194" y="290606"/>
                    </a:cubicBezTo>
                    <a:cubicBezTo>
                      <a:pt x="356871" y="285782"/>
                      <a:pt x="357988" y="262263"/>
                      <a:pt x="368489" y="249662"/>
                    </a:cubicBezTo>
                    <a:cubicBezTo>
                      <a:pt x="456063" y="144573"/>
                      <a:pt x="368956" y="269435"/>
                      <a:pt x="436728" y="167776"/>
                    </a:cubicBezTo>
                    <a:cubicBezTo>
                      <a:pt x="431538" y="141827"/>
                      <a:pt x="423420" y="86568"/>
                      <a:pt x="409433" y="58594"/>
                    </a:cubicBezTo>
                    <a:cubicBezTo>
                      <a:pt x="402097" y="43923"/>
                      <a:pt x="394945" y="27897"/>
                      <a:pt x="382137" y="17650"/>
                    </a:cubicBezTo>
                    <a:cubicBezTo>
                      <a:pt x="370904" y="8663"/>
                      <a:pt x="354842" y="8552"/>
                      <a:pt x="341194" y="4003"/>
                    </a:cubicBezTo>
                    <a:cubicBezTo>
                      <a:pt x="314221" y="12994"/>
                      <a:pt x="278549" y="20894"/>
                      <a:pt x="259307" y="44946"/>
                    </a:cubicBezTo>
                    <a:cubicBezTo>
                      <a:pt x="250320" y="56179"/>
                      <a:pt x="252093" y="73022"/>
                      <a:pt x="245660" y="85889"/>
                    </a:cubicBezTo>
                    <a:cubicBezTo>
                      <a:pt x="242783" y="91644"/>
                      <a:pt x="236561" y="94988"/>
                      <a:pt x="232012" y="99537"/>
                    </a:cubicBezTo>
                  </a:path>
                </a:pathLst>
              </a:custGeom>
              <a:noFill/>
              <a:ln w="3816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2" name="任意多边形 63"/>
            <p:cNvSpPr/>
            <p:nvPr/>
          </p:nvSpPr>
          <p:spPr>
            <a:xfrm rot="18777600">
              <a:off x="2295360" y="5391000"/>
              <a:ext cx="340920" cy="299880"/>
            </a:xfrm>
            <a:custGeom>
              <a:avLst/>
              <a:gdLst/>
              <a:ahLst/>
              <a:rect l="l" t="t" r="r" b="b"/>
              <a:pathLst>
                <a:path w="341769" h="300250">
                  <a:moveTo>
                    <a:pt x="164348" y="40943"/>
                  </a:moveTo>
                  <a:cubicBezTo>
                    <a:pt x="125679" y="50041"/>
                    <a:pt x="61892" y="38701"/>
                    <a:pt x="14223" y="54591"/>
                  </a:cubicBezTo>
                  <a:cubicBezTo>
                    <a:pt x="575" y="59140"/>
                    <a:pt x="-1209" y="81259"/>
                    <a:pt x="575" y="95534"/>
                  </a:cubicBezTo>
                  <a:cubicBezTo>
                    <a:pt x="3614" y="119843"/>
                    <a:pt x="12187" y="144953"/>
                    <a:pt x="27871" y="163773"/>
                  </a:cubicBezTo>
                  <a:cubicBezTo>
                    <a:pt x="37081" y="174825"/>
                    <a:pt x="54982" y="173469"/>
                    <a:pt x="68814" y="177421"/>
                  </a:cubicBezTo>
                  <a:cubicBezTo>
                    <a:pt x="86849" y="182574"/>
                    <a:pt x="105208" y="186519"/>
                    <a:pt x="123405" y="191068"/>
                  </a:cubicBezTo>
                  <a:cubicBezTo>
                    <a:pt x="137053" y="200167"/>
                    <a:pt x="154814" y="205017"/>
                    <a:pt x="164348" y="218364"/>
                  </a:cubicBezTo>
                  <a:cubicBezTo>
                    <a:pt x="230644" y="311178"/>
                    <a:pt x="148639" y="272269"/>
                    <a:pt x="232587" y="300250"/>
                  </a:cubicBezTo>
                  <a:cubicBezTo>
                    <a:pt x="265888" y="289150"/>
                    <a:pt x="288016" y="285765"/>
                    <a:pt x="314474" y="259307"/>
                  </a:cubicBezTo>
                  <a:cubicBezTo>
                    <a:pt x="326072" y="247709"/>
                    <a:pt x="332671" y="232012"/>
                    <a:pt x="341769" y="218364"/>
                  </a:cubicBezTo>
                  <a:cubicBezTo>
                    <a:pt x="332671" y="204716"/>
                    <a:pt x="326072" y="189019"/>
                    <a:pt x="314474" y="177421"/>
                  </a:cubicBezTo>
                  <a:cubicBezTo>
                    <a:pt x="223489" y="86436"/>
                    <a:pt x="319021" y="218362"/>
                    <a:pt x="246235" y="109182"/>
                  </a:cubicBezTo>
                  <a:cubicBezTo>
                    <a:pt x="250784" y="90985"/>
                    <a:pt x="252494" y="71831"/>
                    <a:pt x="259883" y="54591"/>
                  </a:cubicBezTo>
                  <a:cubicBezTo>
                    <a:pt x="266344" y="39515"/>
                    <a:pt x="291156" y="29560"/>
                    <a:pt x="287178" y="13647"/>
                  </a:cubicBezTo>
                  <a:cubicBezTo>
                    <a:pt x="283689" y="-309"/>
                    <a:pt x="259883" y="4549"/>
                    <a:pt x="246235" y="0"/>
                  </a:cubicBezTo>
                  <a:cubicBezTo>
                    <a:pt x="199939" y="30864"/>
                    <a:pt x="203017" y="31845"/>
                    <a:pt x="164348" y="4094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任意多边形 66"/>
            <p:cNvSpPr/>
            <p:nvPr/>
          </p:nvSpPr>
          <p:spPr>
            <a:xfrm flipH="1" rot="1126200">
              <a:off x="2210400" y="3961080"/>
              <a:ext cx="434880" cy="492840"/>
            </a:xfrm>
            <a:custGeom>
              <a:avLst/>
              <a:gdLst/>
              <a:ahLst/>
              <a:rect l="l" t="t" r="r" b="b"/>
              <a:pathLst>
                <a:path w="1107898" h="2311703">
                  <a:moveTo>
                    <a:pt x="0" y="0"/>
                  </a:moveTo>
                  <a:lnTo>
                    <a:pt x="1107898" y="0"/>
                  </a:lnTo>
                  <a:lnTo>
                    <a:pt x="1107898" y="2311703"/>
                  </a:lnTo>
                  <a:lnTo>
                    <a:pt x="909396" y="1813476"/>
                  </a:lnTo>
                  <a:lnTo>
                    <a:pt x="710894" y="2311703"/>
                  </a:lnTo>
                  <a:lnTo>
                    <a:pt x="710791" y="2311703"/>
                  </a:lnTo>
                  <a:lnTo>
                    <a:pt x="609417" y="1979120"/>
                  </a:lnTo>
                  <a:lnTo>
                    <a:pt x="514697" y="2289872"/>
                  </a:lnTo>
                  <a:lnTo>
                    <a:pt x="389579" y="1879392"/>
                  </a:lnTo>
                  <a:lnTo>
                    <a:pt x="271985" y="2265188"/>
                  </a:lnTo>
                  <a:lnTo>
                    <a:pt x="148072" y="2026608"/>
                  </a:lnTo>
                  <a:lnTo>
                    <a:pt x="0" y="2311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任意多边形 1"/>
            <p:cNvSpPr/>
            <p:nvPr/>
          </p:nvSpPr>
          <p:spPr>
            <a:xfrm>
              <a:off x="5637240" y="5347080"/>
              <a:ext cx="519120" cy="258480"/>
            </a:xfrm>
            <a:custGeom>
              <a:avLst/>
              <a:gdLst/>
              <a:ahLst/>
              <a:rect l="l" t="t" r="r" b="b"/>
              <a:pathLst>
                <a:path w="518615" h="259308">
                  <a:moveTo>
                    <a:pt x="423081" y="81887"/>
                  </a:moveTo>
                  <a:cubicBezTo>
                    <a:pt x="400335" y="86436"/>
                    <a:pt x="378039" y="95535"/>
                    <a:pt x="354842" y="95535"/>
                  </a:cubicBezTo>
                  <a:cubicBezTo>
                    <a:pt x="340456" y="95535"/>
                    <a:pt x="327731" y="85839"/>
                    <a:pt x="313899" y="81887"/>
                  </a:cubicBezTo>
                  <a:cubicBezTo>
                    <a:pt x="295864" y="76734"/>
                    <a:pt x="277901" y="70718"/>
                    <a:pt x="259308" y="68239"/>
                  </a:cubicBezTo>
                  <a:cubicBezTo>
                    <a:pt x="209500" y="61598"/>
                    <a:pt x="159224" y="59140"/>
                    <a:pt x="109182" y="54591"/>
                  </a:cubicBezTo>
                  <a:cubicBezTo>
                    <a:pt x="75959" y="43517"/>
                    <a:pt x="48929" y="26367"/>
                    <a:pt x="13648" y="54591"/>
                  </a:cubicBezTo>
                  <a:cubicBezTo>
                    <a:pt x="2414" y="63578"/>
                    <a:pt x="4549" y="81887"/>
                    <a:pt x="0" y="95535"/>
                  </a:cubicBezTo>
                  <a:cubicBezTo>
                    <a:pt x="4549" y="113732"/>
                    <a:pt x="3243" y="134519"/>
                    <a:pt x="13648" y="150126"/>
                  </a:cubicBezTo>
                  <a:cubicBezTo>
                    <a:pt x="22746" y="163774"/>
                    <a:pt x="39920" y="170086"/>
                    <a:pt x="54591" y="177421"/>
                  </a:cubicBezTo>
                  <a:cubicBezTo>
                    <a:pt x="88190" y="194220"/>
                    <a:pt x="145968" y="199475"/>
                    <a:pt x="177421" y="204717"/>
                  </a:cubicBezTo>
                  <a:lnTo>
                    <a:pt x="300251" y="245660"/>
                  </a:lnTo>
                  <a:lnTo>
                    <a:pt x="341194" y="259308"/>
                  </a:lnTo>
                  <a:cubicBezTo>
                    <a:pt x="377588" y="254759"/>
                    <a:pt x="415907" y="258194"/>
                    <a:pt x="450376" y="245660"/>
                  </a:cubicBezTo>
                  <a:cubicBezTo>
                    <a:pt x="473497" y="237252"/>
                    <a:pt x="505617" y="183270"/>
                    <a:pt x="518615" y="163773"/>
                  </a:cubicBezTo>
                  <a:cubicBezTo>
                    <a:pt x="513374" y="132329"/>
                    <a:pt x="508117" y="74538"/>
                    <a:pt x="491320" y="40944"/>
                  </a:cubicBezTo>
                  <a:cubicBezTo>
                    <a:pt x="483984" y="26273"/>
                    <a:pt x="473123" y="13648"/>
                    <a:pt x="464024" y="0"/>
                  </a:cubicBezTo>
                  <a:cubicBezTo>
                    <a:pt x="436728" y="4549"/>
                    <a:pt x="408983" y="6936"/>
                    <a:pt x="382137" y="13648"/>
                  </a:cubicBezTo>
                  <a:cubicBezTo>
                    <a:pt x="354224" y="20626"/>
                    <a:pt x="328801" y="37375"/>
                    <a:pt x="300251" y="40944"/>
                  </a:cubicBezTo>
                  <a:cubicBezTo>
                    <a:pt x="178301" y="56187"/>
                    <a:pt x="217004" y="28656"/>
                    <a:pt x="163773" y="81887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任意多边形 67"/>
            <p:cNvSpPr/>
            <p:nvPr/>
          </p:nvSpPr>
          <p:spPr>
            <a:xfrm rot="12086400">
              <a:off x="3103560" y="5375880"/>
              <a:ext cx="519120" cy="258480"/>
            </a:xfrm>
            <a:custGeom>
              <a:avLst/>
              <a:gdLst/>
              <a:ahLst/>
              <a:rect l="l" t="t" r="r" b="b"/>
              <a:pathLst>
                <a:path w="518615" h="259308">
                  <a:moveTo>
                    <a:pt x="423081" y="81887"/>
                  </a:moveTo>
                  <a:cubicBezTo>
                    <a:pt x="400335" y="86436"/>
                    <a:pt x="378039" y="95535"/>
                    <a:pt x="354842" y="95535"/>
                  </a:cubicBezTo>
                  <a:cubicBezTo>
                    <a:pt x="340456" y="95535"/>
                    <a:pt x="327731" y="85839"/>
                    <a:pt x="313899" y="81887"/>
                  </a:cubicBezTo>
                  <a:cubicBezTo>
                    <a:pt x="295864" y="76734"/>
                    <a:pt x="277901" y="70718"/>
                    <a:pt x="259308" y="68239"/>
                  </a:cubicBezTo>
                  <a:cubicBezTo>
                    <a:pt x="209500" y="61598"/>
                    <a:pt x="159224" y="59140"/>
                    <a:pt x="109182" y="54591"/>
                  </a:cubicBezTo>
                  <a:cubicBezTo>
                    <a:pt x="75959" y="43517"/>
                    <a:pt x="48929" y="26367"/>
                    <a:pt x="13648" y="54591"/>
                  </a:cubicBezTo>
                  <a:cubicBezTo>
                    <a:pt x="2414" y="63578"/>
                    <a:pt x="4549" y="81887"/>
                    <a:pt x="0" y="95535"/>
                  </a:cubicBezTo>
                  <a:cubicBezTo>
                    <a:pt x="4549" y="113732"/>
                    <a:pt x="3243" y="134519"/>
                    <a:pt x="13648" y="150126"/>
                  </a:cubicBezTo>
                  <a:cubicBezTo>
                    <a:pt x="22746" y="163774"/>
                    <a:pt x="39920" y="170086"/>
                    <a:pt x="54591" y="177421"/>
                  </a:cubicBezTo>
                  <a:cubicBezTo>
                    <a:pt x="88190" y="194220"/>
                    <a:pt x="145968" y="199475"/>
                    <a:pt x="177421" y="204717"/>
                  </a:cubicBezTo>
                  <a:lnTo>
                    <a:pt x="300251" y="245660"/>
                  </a:lnTo>
                  <a:lnTo>
                    <a:pt x="341194" y="259308"/>
                  </a:lnTo>
                  <a:cubicBezTo>
                    <a:pt x="377588" y="254759"/>
                    <a:pt x="415907" y="258194"/>
                    <a:pt x="450376" y="245660"/>
                  </a:cubicBezTo>
                  <a:cubicBezTo>
                    <a:pt x="473497" y="237252"/>
                    <a:pt x="505617" y="183270"/>
                    <a:pt x="518615" y="163773"/>
                  </a:cubicBezTo>
                  <a:cubicBezTo>
                    <a:pt x="513374" y="132329"/>
                    <a:pt x="508117" y="74538"/>
                    <a:pt x="491320" y="40944"/>
                  </a:cubicBezTo>
                  <a:cubicBezTo>
                    <a:pt x="483984" y="26273"/>
                    <a:pt x="473123" y="13648"/>
                    <a:pt x="464024" y="0"/>
                  </a:cubicBezTo>
                  <a:cubicBezTo>
                    <a:pt x="436728" y="4549"/>
                    <a:pt x="408983" y="6936"/>
                    <a:pt x="382137" y="13648"/>
                  </a:cubicBezTo>
                  <a:cubicBezTo>
                    <a:pt x="354224" y="20626"/>
                    <a:pt x="328801" y="37375"/>
                    <a:pt x="300251" y="40944"/>
                  </a:cubicBezTo>
                  <a:cubicBezTo>
                    <a:pt x="178301" y="56187"/>
                    <a:pt x="217004" y="28656"/>
                    <a:pt x="163773" y="81887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任意多边形 68"/>
            <p:cNvSpPr/>
            <p:nvPr/>
          </p:nvSpPr>
          <p:spPr>
            <a:xfrm rot="20478600">
              <a:off x="2895120" y="5419800"/>
              <a:ext cx="225360" cy="261360"/>
            </a:xfrm>
            <a:custGeom>
              <a:avLst/>
              <a:gdLst/>
              <a:ahLst/>
              <a:rect l="l" t="t" r="r" b="b"/>
              <a:pathLst>
                <a:path w="518615" h="259308">
                  <a:moveTo>
                    <a:pt x="423081" y="81887"/>
                  </a:moveTo>
                  <a:cubicBezTo>
                    <a:pt x="400335" y="86436"/>
                    <a:pt x="378039" y="95535"/>
                    <a:pt x="354842" y="95535"/>
                  </a:cubicBezTo>
                  <a:cubicBezTo>
                    <a:pt x="340456" y="95535"/>
                    <a:pt x="327731" y="85839"/>
                    <a:pt x="313899" y="81887"/>
                  </a:cubicBezTo>
                  <a:cubicBezTo>
                    <a:pt x="295864" y="76734"/>
                    <a:pt x="277901" y="70718"/>
                    <a:pt x="259308" y="68239"/>
                  </a:cubicBezTo>
                  <a:cubicBezTo>
                    <a:pt x="209500" y="61598"/>
                    <a:pt x="159224" y="59140"/>
                    <a:pt x="109182" y="54591"/>
                  </a:cubicBezTo>
                  <a:cubicBezTo>
                    <a:pt x="75959" y="43517"/>
                    <a:pt x="48929" y="26367"/>
                    <a:pt x="13648" y="54591"/>
                  </a:cubicBezTo>
                  <a:cubicBezTo>
                    <a:pt x="2414" y="63578"/>
                    <a:pt x="4549" y="81887"/>
                    <a:pt x="0" y="95535"/>
                  </a:cubicBezTo>
                  <a:cubicBezTo>
                    <a:pt x="4549" y="113732"/>
                    <a:pt x="3243" y="134519"/>
                    <a:pt x="13648" y="150126"/>
                  </a:cubicBezTo>
                  <a:cubicBezTo>
                    <a:pt x="22746" y="163774"/>
                    <a:pt x="39920" y="170086"/>
                    <a:pt x="54591" y="177421"/>
                  </a:cubicBezTo>
                  <a:cubicBezTo>
                    <a:pt x="88190" y="194220"/>
                    <a:pt x="145968" y="199475"/>
                    <a:pt x="177421" y="204717"/>
                  </a:cubicBezTo>
                  <a:lnTo>
                    <a:pt x="300251" y="245660"/>
                  </a:lnTo>
                  <a:lnTo>
                    <a:pt x="341194" y="259308"/>
                  </a:lnTo>
                  <a:cubicBezTo>
                    <a:pt x="377588" y="254759"/>
                    <a:pt x="415907" y="258194"/>
                    <a:pt x="450376" y="245660"/>
                  </a:cubicBezTo>
                  <a:cubicBezTo>
                    <a:pt x="473497" y="237252"/>
                    <a:pt x="505617" y="183270"/>
                    <a:pt x="518615" y="163773"/>
                  </a:cubicBezTo>
                  <a:cubicBezTo>
                    <a:pt x="513374" y="132329"/>
                    <a:pt x="508117" y="74538"/>
                    <a:pt x="491320" y="40944"/>
                  </a:cubicBezTo>
                  <a:cubicBezTo>
                    <a:pt x="483984" y="26273"/>
                    <a:pt x="473123" y="13648"/>
                    <a:pt x="464024" y="0"/>
                  </a:cubicBezTo>
                  <a:cubicBezTo>
                    <a:pt x="436728" y="4549"/>
                    <a:pt x="408983" y="6936"/>
                    <a:pt x="382137" y="13648"/>
                  </a:cubicBezTo>
                  <a:cubicBezTo>
                    <a:pt x="354224" y="20626"/>
                    <a:pt x="328801" y="37375"/>
                    <a:pt x="300251" y="40944"/>
                  </a:cubicBezTo>
                  <a:cubicBezTo>
                    <a:pt x="178301" y="56187"/>
                    <a:pt x="217004" y="28656"/>
                    <a:pt x="163773" y="81887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任意多边形 69"/>
            <p:cNvSpPr/>
            <p:nvPr/>
          </p:nvSpPr>
          <p:spPr>
            <a:xfrm rot="20478600">
              <a:off x="2678040" y="5396040"/>
              <a:ext cx="225360" cy="259920"/>
            </a:xfrm>
            <a:custGeom>
              <a:avLst/>
              <a:gdLst/>
              <a:ahLst/>
              <a:rect l="l" t="t" r="r" b="b"/>
              <a:pathLst>
                <a:path w="518615" h="259308">
                  <a:moveTo>
                    <a:pt x="423081" y="81887"/>
                  </a:moveTo>
                  <a:cubicBezTo>
                    <a:pt x="400335" y="86436"/>
                    <a:pt x="378039" y="95535"/>
                    <a:pt x="354842" y="95535"/>
                  </a:cubicBezTo>
                  <a:cubicBezTo>
                    <a:pt x="340456" y="95535"/>
                    <a:pt x="327731" y="85839"/>
                    <a:pt x="313899" y="81887"/>
                  </a:cubicBezTo>
                  <a:cubicBezTo>
                    <a:pt x="295864" y="76734"/>
                    <a:pt x="277901" y="70718"/>
                    <a:pt x="259308" y="68239"/>
                  </a:cubicBezTo>
                  <a:cubicBezTo>
                    <a:pt x="209500" y="61598"/>
                    <a:pt x="159224" y="59140"/>
                    <a:pt x="109182" y="54591"/>
                  </a:cubicBezTo>
                  <a:cubicBezTo>
                    <a:pt x="75959" y="43517"/>
                    <a:pt x="48929" y="26367"/>
                    <a:pt x="13648" y="54591"/>
                  </a:cubicBezTo>
                  <a:cubicBezTo>
                    <a:pt x="2414" y="63578"/>
                    <a:pt x="4549" y="81887"/>
                    <a:pt x="0" y="95535"/>
                  </a:cubicBezTo>
                  <a:cubicBezTo>
                    <a:pt x="4549" y="113732"/>
                    <a:pt x="3243" y="134519"/>
                    <a:pt x="13648" y="150126"/>
                  </a:cubicBezTo>
                  <a:cubicBezTo>
                    <a:pt x="22746" y="163774"/>
                    <a:pt x="39920" y="170086"/>
                    <a:pt x="54591" y="177421"/>
                  </a:cubicBezTo>
                  <a:cubicBezTo>
                    <a:pt x="88190" y="194220"/>
                    <a:pt x="145968" y="199475"/>
                    <a:pt x="177421" y="204717"/>
                  </a:cubicBezTo>
                  <a:lnTo>
                    <a:pt x="300251" y="245660"/>
                  </a:lnTo>
                  <a:lnTo>
                    <a:pt x="341194" y="259308"/>
                  </a:lnTo>
                  <a:cubicBezTo>
                    <a:pt x="377588" y="254759"/>
                    <a:pt x="415907" y="258194"/>
                    <a:pt x="450376" y="245660"/>
                  </a:cubicBezTo>
                  <a:cubicBezTo>
                    <a:pt x="473497" y="237252"/>
                    <a:pt x="505617" y="183270"/>
                    <a:pt x="518615" y="163773"/>
                  </a:cubicBezTo>
                  <a:cubicBezTo>
                    <a:pt x="513374" y="132329"/>
                    <a:pt x="508117" y="74538"/>
                    <a:pt x="491320" y="40944"/>
                  </a:cubicBezTo>
                  <a:cubicBezTo>
                    <a:pt x="483984" y="26273"/>
                    <a:pt x="473123" y="13648"/>
                    <a:pt x="464024" y="0"/>
                  </a:cubicBezTo>
                  <a:cubicBezTo>
                    <a:pt x="436728" y="4549"/>
                    <a:pt x="408983" y="6936"/>
                    <a:pt x="382137" y="13648"/>
                  </a:cubicBezTo>
                  <a:cubicBezTo>
                    <a:pt x="354224" y="20626"/>
                    <a:pt x="328801" y="37375"/>
                    <a:pt x="300251" y="40944"/>
                  </a:cubicBezTo>
                  <a:cubicBezTo>
                    <a:pt x="178301" y="56187"/>
                    <a:pt x="217004" y="28656"/>
                    <a:pt x="163773" y="81887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 rot="20478600">
              <a:off x="5573520" y="5215320"/>
              <a:ext cx="226800" cy="261360"/>
            </a:xfrm>
            <a:custGeom>
              <a:avLst/>
              <a:gdLst/>
              <a:ahLst/>
              <a:rect l="l" t="t" r="r" b="b"/>
              <a:pathLst>
                <a:path w="518615" h="259308">
                  <a:moveTo>
                    <a:pt x="423081" y="81887"/>
                  </a:moveTo>
                  <a:cubicBezTo>
                    <a:pt x="400335" y="86436"/>
                    <a:pt x="378039" y="95535"/>
                    <a:pt x="354842" y="95535"/>
                  </a:cubicBezTo>
                  <a:cubicBezTo>
                    <a:pt x="340456" y="95535"/>
                    <a:pt x="327731" y="85839"/>
                    <a:pt x="313899" y="81887"/>
                  </a:cubicBezTo>
                  <a:cubicBezTo>
                    <a:pt x="295864" y="76734"/>
                    <a:pt x="277901" y="70718"/>
                    <a:pt x="259308" y="68239"/>
                  </a:cubicBezTo>
                  <a:cubicBezTo>
                    <a:pt x="209500" y="61598"/>
                    <a:pt x="159224" y="59140"/>
                    <a:pt x="109182" y="54591"/>
                  </a:cubicBezTo>
                  <a:cubicBezTo>
                    <a:pt x="75959" y="43517"/>
                    <a:pt x="48929" y="26367"/>
                    <a:pt x="13648" y="54591"/>
                  </a:cubicBezTo>
                  <a:cubicBezTo>
                    <a:pt x="2414" y="63578"/>
                    <a:pt x="4549" y="81887"/>
                    <a:pt x="0" y="95535"/>
                  </a:cubicBezTo>
                  <a:cubicBezTo>
                    <a:pt x="4549" y="113732"/>
                    <a:pt x="3243" y="134519"/>
                    <a:pt x="13648" y="150126"/>
                  </a:cubicBezTo>
                  <a:cubicBezTo>
                    <a:pt x="22746" y="163774"/>
                    <a:pt x="39920" y="170086"/>
                    <a:pt x="54591" y="177421"/>
                  </a:cubicBezTo>
                  <a:cubicBezTo>
                    <a:pt x="88190" y="194220"/>
                    <a:pt x="145968" y="199475"/>
                    <a:pt x="177421" y="204717"/>
                  </a:cubicBezTo>
                  <a:lnTo>
                    <a:pt x="300251" y="245660"/>
                  </a:lnTo>
                  <a:lnTo>
                    <a:pt x="341194" y="259308"/>
                  </a:lnTo>
                  <a:cubicBezTo>
                    <a:pt x="377588" y="254759"/>
                    <a:pt x="415907" y="258194"/>
                    <a:pt x="450376" y="245660"/>
                  </a:cubicBezTo>
                  <a:cubicBezTo>
                    <a:pt x="473497" y="237252"/>
                    <a:pt x="505617" y="183270"/>
                    <a:pt x="518615" y="163773"/>
                  </a:cubicBezTo>
                  <a:cubicBezTo>
                    <a:pt x="513374" y="132329"/>
                    <a:pt x="508117" y="74538"/>
                    <a:pt x="491320" y="40944"/>
                  </a:cubicBezTo>
                  <a:cubicBezTo>
                    <a:pt x="483984" y="26273"/>
                    <a:pt x="473123" y="13648"/>
                    <a:pt x="464024" y="0"/>
                  </a:cubicBezTo>
                  <a:cubicBezTo>
                    <a:pt x="436728" y="4549"/>
                    <a:pt x="408983" y="6936"/>
                    <a:pt x="382137" y="13648"/>
                  </a:cubicBezTo>
                  <a:cubicBezTo>
                    <a:pt x="354224" y="20626"/>
                    <a:pt x="328801" y="37375"/>
                    <a:pt x="300251" y="40944"/>
                  </a:cubicBezTo>
                  <a:cubicBezTo>
                    <a:pt x="178301" y="56187"/>
                    <a:pt x="217004" y="28656"/>
                    <a:pt x="163773" y="81887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泪滴形 38"/>
            <p:cNvSpPr/>
            <p:nvPr/>
          </p:nvSpPr>
          <p:spPr>
            <a:xfrm flipH="1" rot="1354800">
              <a:off x="5581800" y="4951800"/>
              <a:ext cx="115560" cy="7452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泪滴形 38"/>
            <p:cNvSpPr/>
            <p:nvPr/>
          </p:nvSpPr>
          <p:spPr>
            <a:xfrm flipH="1" rot="1354800">
              <a:off x="5752440" y="5082120"/>
              <a:ext cx="126720" cy="8244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1" name="组合 98" descr=""/>
            <p:cNvPicPr/>
            <p:nvPr/>
          </p:nvPicPr>
          <p:blipFill>
            <a:blip r:embed="rId4"/>
            <a:stretch/>
          </p:blipFill>
          <p:spPr>
            <a:xfrm>
              <a:off x="3688200" y="2643120"/>
              <a:ext cx="1530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泪滴形 38"/>
            <p:cNvSpPr/>
            <p:nvPr/>
          </p:nvSpPr>
          <p:spPr>
            <a:xfrm flipH="1" rot="205800">
              <a:off x="4916520" y="3938760"/>
              <a:ext cx="180720" cy="11412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泪滴形 38"/>
            <p:cNvSpPr/>
            <p:nvPr/>
          </p:nvSpPr>
          <p:spPr>
            <a:xfrm flipH="1" rot="1354800">
              <a:off x="5141520" y="4100400"/>
              <a:ext cx="195120" cy="12492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泪滴形 38"/>
            <p:cNvSpPr/>
            <p:nvPr/>
          </p:nvSpPr>
          <p:spPr>
            <a:xfrm rot="21394200">
              <a:off x="3816000" y="3994200"/>
              <a:ext cx="179280" cy="11232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泪滴形 38"/>
            <p:cNvSpPr/>
            <p:nvPr/>
          </p:nvSpPr>
          <p:spPr>
            <a:xfrm rot="20245200">
              <a:off x="3675240" y="4209840"/>
              <a:ext cx="195120" cy="12348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组合 15"/>
          <p:cNvGrpSpPr/>
          <p:nvPr/>
        </p:nvGrpSpPr>
        <p:grpSpPr>
          <a:xfrm>
            <a:off x="10987200" y="-17640"/>
            <a:ext cx="272880" cy="525600"/>
            <a:chOff x="10987200" y="-17640"/>
            <a:chExt cx="272880" cy="525600"/>
          </a:xfrm>
        </p:grpSpPr>
        <p:sp>
          <p:nvSpPr>
            <p:cNvPr id="807" name="椭圆 16"/>
            <p:cNvSpPr/>
            <p:nvPr/>
          </p:nvSpPr>
          <p:spPr>
            <a:xfrm flipV="1">
              <a:off x="10987200" y="23436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直接连接符 17"/>
            <p:cNvSpPr/>
            <p:nvPr/>
          </p:nvSpPr>
          <p:spPr>
            <a:xfrm flipV="1">
              <a:off x="11123640" y="-176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18"/>
          <p:cNvGrpSpPr/>
          <p:nvPr/>
        </p:nvGrpSpPr>
        <p:grpSpPr>
          <a:xfrm>
            <a:off x="846000" y="-14400"/>
            <a:ext cx="273240" cy="525600"/>
            <a:chOff x="846000" y="-14400"/>
            <a:chExt cx="273240" cy="525600"/>
          </a:xfrm>
        </p:grpSpPr>
        <p:sp>
          <p:nvSpPr>
            <p:cNvPr id="810" name="椭圆 19"/>
            <p:cNvSpPr/>
            <p:nvPr/>
          </p:nvSpPr>
          <p:spPr>
            <a:xfrm flipV="1">
              <a:off x="846000" y="2376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直接连接符 20"/>
            <p:cNvSpPr/>
            <p:nvPr/>
          </p:nvSpPr>
          <p:spPr>
            <a:xfrm flipV="1">
              <a:off x="968400" y="-1440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2" name="组合 32" descr=""/>
          <p:cNvPicPr/>
          <p:nvPr/>
        </p:nvPicPr>
        <p:blipFill>
          <a:blip r:embed="rId1"/>
          <a:stretch/>
        </p:blipFill>
        <p:spPr>
          <a:xfrm>
            <a:off x="7607160" y="1200240"/>
            <a:ext cx="1408320" cy="140976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119"/>
          <p:cNvGrpSpPr/>
          <p:nvPr/>
        </p:nvGrpSpPr>
        <p:grpSpPr>
          <a:xfrm>
            <a:off x="1909800" y="1285920"/>
            <a:ext cx="1493640" cy="1403280"/>
            <a:chOff x="1909800" y="1285920"/>
            <a:chExt cx="1493640" cy="1403280"/>
          </a:xfrm>
        </p:grpSpPr>
        <p:pic>
          <p:nvPicPr>
            <p:cNvPr id="814" name="组合 35" descr=""/>
            <p:cNvPicPr/>
            <p:nvPr/>
          </p:nvPicPr>
          <p:blipFill>
            <a:blip r:embed="rId2"/>
            <a:stretch/>
          </p:blipFill>
          <p:spPr>
            <a:xfrm>
              <a:off x="1909800" y="1285920"/>
              <a:ext cx="14936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4"/>
            <p:cNvSpPr/>
            <p:nvPr/>
          </p:nvSpPr>
          <p:spPr>
            <a:xfrm>
              <a:off x="2026080" y="1547640"/>
              <a:ext cx="116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e2e2e"/>
                  </a:solidFill>
                  <a:latin typeface="Arial"/>
                  <a:ea typeface="微软雅黑"/>
                </a:rPr>
                <a:t>阿文，收快递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Text Box 4"/>
          <p:cNvSpPr/>
          <p:nvPr/>
        </p:nvSpPr>
        <p:spPr>
          <a:xfrm>
            <a:off x="7726320" y="16891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不要啊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7" name="组合 121"/>
          <p:cNvGrpSpPr/>
          <p:nvPr/>
        </p:nvGrpSpPr>
        <p:grpSpPr>
          <a:xfrm>
            <a:off x="8658720" y="2806560"/>
            <a:ext cx="2010960" cy="2890440"/>
            <a:chOff x="8658720" y="2806560"/>
            <a:chExt cx="2010960" cy="2890440"/>
          </a:xfrm>
        </p:grpSpPr>
        <p:grpSp>
          <p:nvGrpSpPr>
            <p:cNvPr id="818" name="组合 68"/>
            <p:cNvGrpSpPr/>
            <p:nvPr/>
          </p:nvGrpSpPr>
          <p:grpSpPr>
            <a:xfrm>
              <a:off x="9354600" y="4555440"/>
              <a:ext cx="975960" cy="1141560"/>
              <a:chOff x="9354600" y="4555440"/>
              <a:chExt cx="975960" cy="1141560"/>
            </a:xfrm>
          </p:grpSpPr>
          <p:sp>
            <p:nvSpPr>
              <p:cNvPr id="819" name="Freeform 63"/>
              <p:cNvSpPr/>
              <p:nvPr/>
            </p:nvSpPr>
            <p:spPr>
              <a:xfrm flipV="1">
                <a:off x="9354600" y="4555080"/>
                <a:ext cx="975960" cy="1141560"/>
              </a:xfrm>
              <a:custGeom>
                <a:avLst/>
                <a:gdLst/>
                <a:ahLst/>
                <a:rect l="l" t="t" r="r" b="b"/>
                <a:pathLst>
                  <a:path w="2619" h="3119">
                    <a:moveTo>
                      <a:pt x="87" y="2607"/>
                    </a:moveTo>
                    <a:cubicBezTo>
                      <a:pt x="388" y="2978"/>
                      <a:pt x="901" y="3119"/>
                      <a:pt x="1363" y="3074"/>
                    </a:cubicBezTo>
                    <a:cubicBezTo>
                      <a:pt x="1544" y="3021"/>
                      <a:pt x="1576" y="2784"/>
                      <a:pt x="1524" y="2628"/>
                    </a:cubicBezTo>
                    <a:cubicBezTo>
                      <a:pt x="1465" y="2708"/>
                      <a:pt x="1445" y="2815"/>
                      <a:pt x="1370" y="2880"/>
                    </a:cubicBezTo>
                    <a:cubicBezTo>
                      <a:pt x="1257" y="2969"/>
                      <a:pt x="1074" y="2851"/>
                      <a:pt x="1100" y="2713"/>
                    </a:cubicBezTo>
                    <a:cubicBezTo>
                      <a:pt x="1148" y="2518"/>
                      <a:pt x="1285" y="2353"/>
                      <a:pt x="1455" y="2249"/>
                    </a:cubicBezTo>
                    <a:cubicBezTo>
                      <a:pt x="1437" y="2131"/>
                      <a:pt x="1426" y="2012"/>
                      <a:pt x="1427" y="1892"/>
                    </a:cubicBezTo>
                    <a:cubicBezTo>
                      <a:pt x="1646" y="1836"/>
                      <a:pt x="1897" y="1853"/>
                      <a:pt x="2093" y="1735"/>
                    </a:cubicBezTo>
                    <a:cubicBezTo>
                      <a:pt x="2265" y="1438"/>
                      <a:pt x="2394" y="1113"/>
                      <a:pt x="2540" y="802"/>
                    </a:cubicBezTo>
                    <a:cubicBezTo>
                      <a:pt x="2619" y="586"/>
                      <a:pt x="2294" y="418"/>
                      <a:pt x="2162" y="604"/>
                    </a:cubicBezTo>
                    <a:cubicBezTo>
                      <a:pt x="2023" y="856"/>
                      <a:pt x="1917" y="1127"/>
                      <a:pt x="1788" y="1384"/>
                    </a:cubicBezTo>
                    <a:cubicBezTo>
                      <a:pt x="1663" y="1407"/>
                      <a:pt x="1537" y="1429"/>
                      <a:pt x="1412" y="1453"/>
                    </a:cubicBezTo>
                    <a:cubicBezTo>
                      <a:pt x="1392" y="855"/>
                      <a:pt x="975" y="333"/>
                      <a:pt x="451" y="80"/>
                    </a:cubicBezTo>
                    <a:cubicBezTo>
                      <a:pt x="216" y="0"/>
                      <a:pt x="63" y="363"/>
                      <a:pt x="278" y="476"/>
                    </a:cubicBezTo>
                    <a:cubicBezTo>
                      <a:pt x="665" y="686"/>
                      <a:pt x="997" y="1078"/>
                      <a:pt x="972" y="1541"/>
                    </a:cubicBezTo>
                    <a:cubicBezTo>
                      <a:pt x="912" y="1600"/>
                      <a:pt x="848" y="1661"/>
                      <a:pt x="828" y="1746"/>
                    </a:cubicBezTo>
                    <a:cubicBezTo>
                      <a:pt x="753" y="2087"/>
                      <a:pt x="798" y="2444"/>
                      <a:pt x="909" y="2773"/>
                    </a:cubicBezTo>
                    <a:cubicBezTo>
                      <a:pt x="704" y="2725"/>
                      <a:pt x="499" y="2641"/>
                      <a:pt x="355" y="2482"/>
                    </a:cubicBezTo>
                    <a:cubicBezTo>
                      <a:pt x="303" y="2432"/>
                      <a:pt x="258" y="2347"/>
                      <a:pt x="172" y="2362"/>
                    </a:cubicBezTo>
                    <a:cubicBezTo>
                      <a:pt x="50" y="2362"/>
                      <a:pt x="0" y="2529"/>
                      <a:pt x="87" y="2607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65"/>
              <p:cNvSpPr/>
              <p:nvPr/>
            </p:nvSpPr>
            <p:spPr>
              <a:xfrm flipV="1">
                <a:off x="9765720" y="4643640"/>
                <a:ext cx="434160" cy="244800"/>
              </a:xfrm>
              <a:custGeom>
                <a:avLst/>
                <a:gdLst/>
                <a:ahLst/>
                <a:rect l="l" t="t" r="r" b="b"/>
                <a:pathLst>
                  <a:path w="1162" h="666">
                    <a:moveTo>
                      <a:pt x="163" y="662"/>
                    </a:moveTo>
                    <a:cubicBezTo>
                      <a:pt x="339" y="659"/>
                      <a:pt x="314" y="407"/>
                      <a:pt x="462" y="343"/>
                    </a:cubicBezTo>
                    <a:cubicBezTo>
                      <a:pt x="636" y="262"/>
                      <a:pt x="782" y="426"/>
                      <a:pt x="913" y="515"/>
                    </a:cubicBezTo>
                    <a:cubicBezTo>
                      <a:pt x="1037" y="577"/>
                      <a:pt x="1162" y="417"/>
                      <a:pt x="1085" y="307"/>
                    </a:cubicBezTo>
                    <a:cubicBezTo>
                      <a:pt x="923" y="140"/>
                      <a:pt x="691" y="0"/>
                      <a:pt x="450" y="49"/>
                    </a:cubicBezTo>
                    <a:cubicBezTo>
                      <a:pt x="250" y="97"/>
                      <a:pt x="112" y="277"/>
                      <a:pt x="43" y="461"/>
                    </a:cubicBezTo>
                    <a:cubicBezTo>
                      <a:pt x="0" y="548"/>
                      <a:pt x="63" y="666"/>
                      <a:pt x="163" y="66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21" name="泪滴形 38"/>
            <p:cNvSpPr/>
            <p:nvPr/>
          </p:nvSpPr>
          <p:spPr>
            <a:xfrm rot="20245200">
              <a:off x="8911080" y="4163760"/>
              <a:ext cx="199800" cy="12492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c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泪滴形 38"/>
            <p:cNvSpPr/>
            <p:nvPr/>
          </p:nvSpPr>
          <p:spPr>
            <a:xfrm rot="21394200">
              <a:off x="8664480" y="3788280"/>
              <a:ext cx="333720" cy="207360"/>
            </a:xfrm>
            <a:custGeom>
              <a:avLst/>
              <a:gdLst/>
              <a:ahLst/>
              <a:rect l="l" t="t" r="r" b="b"/>
              <a:pathLst>
                <a:path w="734373" h="466184">
                  <a:moveTo>
                    <a:pt x="2223" y="280193"/>
                  </a:moveTo>
                  <a:cubicBezTo>
                    <a:pt x="28032" y="210222"/>
                    <a:pt x="340888" y="60525"/>
                    <a:pt x="437683" y="45394"/>
                  </a:cubicBezTo>
                  <a:lnTo>
                    <a:pt x="728069" y="0"/>
                  </a:lnTo>
                  <a:cubicBezTo>
                    <a:pt x="756617" y="25802"/>
                    <a:pt x="683179" y="122671"/>
                    <a:pt x="608973" y="200208"/>
                  </a:cubicBezTo>
                  <a:cubicBezTo>
                    <a:pt x="534767" y="277745"/>
                    <a:pt x="383956" y="451891"/>
                    <a:pt x="282831" y="465222"/>
                  </a:cubicBezTo>
                  <a:cubicBezTo>
                    <a:pt x="181706" y="478553"/>
                    <a:pt x="-23586" y="350164"/>
                    <a:pt x="2223" y="2801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2c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3" name="组合 77" descr=""/>
            <p:cNvPicPr/>
            <p:nvPr/>
          </p:nvPicPr>
          <p:blipFill>
            <a:blip r:embed="rId3"/>
            <a:stretch/>
          </p:blipFill>
          <p:spPr>
            <a:xfrm>
              <a:off x="9114480" y="2806560"/>
              <a:ext cx="1555200" cy="178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Freeform 494"/>
          <p:cNvSpPr/>
          <p:nvPr/>
        </p:nvSpPr>
        <p:spPr>
          <a:xfrm flipV="1">
            <a:off x="2759040" y="4794120"/>
            <a:ext cx="1459080" cy="46080"/>
          </a:xfrm>
          <a:custGeom>
            <a:avLst/>
            <a:gdLst/>
            <a:ahLst/>
            <a:rect l="l" t="t" r="r" b="b"/>
            <a:pathLst>
              <a:path w="1979" h="503">
                <a:moveTo>
                  <a:pt x="265" y="0"/>
                </a:moveTo>
                <a:lnTo>
                  <a:pt x="1718" y="0"/>
                </a:lnTo>
                <a:lnTo>
                  <a:pt x="1763" y="4"/>
                </a:lnTo>
                <a:lnTo>
                  <a:pt x="1805" y="13"/>
                </a:lnTo>
                <a:lnTo>
                  <a:pt x="1844" y="29"/>
                </a:lnTo>
                <a:lnTo>
                  <a:pt x="1879" y="49"/>
                </a:lnTo>
                <a:lnTo>
                  <a:pt x="1911" y="76"/>
                </a:lnTo>
                <a:lnTo>
                  <a:pt x="1938" y="110"/>
                </a:lnTo>
                <a:lnTo>
                  <a:pt x="1960" y="150"/>
                </a:lnTo>
                <a:lnTo>
                  <a:pt x="1974" y="189"/>
                </a:lnTo>
                <a:lnTo>
                  <a:pt x="1979" y="231"/>
                </a:lnTo>
                <a:lnTo>
                  <a:pt x="1979" y="274"/>
                </a:lnTo>
                <a:lnTo>
                  <a:pt x="1972" y="317"/>
                </a:lnTo>
                <a:lnTo>
                  <a:pt x="1961" y="350"/>
                </a:lnTo>
                <a:lnTo>
                  <a:pt x="1943" y="382"/>
                </a:lnTo>
                <a:lnTo>
                  <a:pt x="1918" y="414"/>
                </a:lnTo>
                <a:lnTo>
                  <a:pt x="1889" y="441"/>
                </a:lnTo>
                <a:lnTo>
                  <a:pt x="1859" y="465"/>
                </a:lnTo>
                <a:lnTo>
                  <a:pt x="1826" y="483"/>
                </a:lnTo>
                <a:lnTo>
                  <a:pt x="1792" y="490"/>
                </a:lnTo>
                <a:lnTo>
                  <a:pt x="1729" y="497"/>
                </a:lnTo>
                <a:lnTo>
                  <a:pt x="1666" y="501"/>
                </a:lnTo>
                <a:lnTo>
                  <a:pt x="989" y="503"/>
                </a:lnTo>
                <a:lnTo>
                  <a:pt x="281" y="503"/>
                </a:lnTo>
                <a:lnTo>
                  <a:pt x="241" y="501"/>
                </a:lnTo>
                <a:lnTo>
                  <a:pt x="202" y="495"/>
                </a:lnTo>
                <a:lnTo>
                  <a:pt x="164" y="486"/>
                </a:lnTo>
                <a:lnTo>
                  <a:pt x="128" y="468"/>
                </a:lnTo>
                <a:lnTo>
                  <a:pt x="95" y="445"/>
                </a:lnTo>
                <a:lnTo>
                  <a:pt x="74" y="422"/>
                </a:lnTo>
                <a:lnTo>
                  <a:pt x="52" y="398"/>
                </a:lnTo>
                <a:lnTo>
                  <a:pt x="32" y="373"/>
                </a:lnTo>
                <a:lnTo>
                  <a:pt x="20" y="346"/>
                </a:lnTo>
                <a:lnTo>
                  <a:pt x="5" y="297"/>
                </a:lnTo>
                <a:lnTo>
                  <a:pt x="0" y="250"/>
                </a:lnTo>
                <a:lnTo>
                  <a:pt x="4" y="204"/>
                </a:lnTo>
                <a:lnTo>
                  <a:pt x="16" y="160"/>
                </a:lnTo>
                <a:lnTo>
                  <a:pt x="40" y="117"/>
                </a:lnTo>
                <a:lnTo>
                  <a:pt x="70" y="78"/>
                </a:lnTo>
                <a:lnTo>
                  <a:pt x="103" y="49"/>
                </a:lnTo>
                <a:lnTo>
                  <a:pt x="139" y="27"/>
                </a:lnTo>
                <a:lnTo>
                  <a:pt x="180" y="13"/>
                </a:lnTo>
                <a:lnTo>
                  <a:pt x="221" y="4"/>
                </a:lnTo>
                <a:lnTo>
                  <a:pt x="265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2e2e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圆角矩形 12"/>
          <p:cNvSpPr/>
          <p:nvPr/>
        </p:nvSpPr>
        <p:spPr>
          <a:xfrm>
            <a:off x="3881520" y="4224240"/>
            <a:ext cx="441360" cy="669960"/>
          </a:xfrm>
          <a:custGeom>
            <a:avLst/>
            <a:gdLst>
              <a:gd name="textAreaLeft" fmla="*/ 21240 w 441360"/>
              <a:gd name="textAreaRight" fmla="*/ 420120 w 441360"/>
              <a:gd name="textAreaTop" fmla="*/ 21240 h 669960"/>
              <a:gd name="textAreaBottom" fmla="*/ 648720 h 669960"/>
            </a:gdLst>
            <a:ahLst/>
            <a:rect l="textAreaLeft" t="textAreaTop" r="textAreaRight" b="textAreaBottom"/>
            <a:pathLst>
              <a:path w="21600" h="32778">
                <a:moveTo>
                  <a:pt x="3600" y="0"/>
                </a:moveTo>
                <a:arcTo wR="3600" hR="3600" stAng="16200000" swAng="-5400000"/>
                <a:lnTo>
                  <a:pt x="0" y="29178"/>
                </a:lnTo>
                <a:arcTo wR="3600" hR="3600" stAng="10800000" swAng="-5400000"/>
                <a:lnTo>
                  <a:pt x="18000" y="327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485"/>
          <p:cNvSpPr/>
          <p:nvPr/>
        </p:nvSpPr>
        <p:spPr>
          <a:xfrm>
            <a:off x="3517920" y="4294080"/>
            <a:ext cx="1766880" cy="1403280"/>
          </a:xfrm>
          <a:custGeom>
            <a:avLst/>
            <a:gdLst/>
            <a:ahLst/>
            <a:rect l="l" t="t" r="r" b="b"/>
            <a:pathLst>
              <a:path w="5944" h="4720">
                <a:moveTo>
                  <a:pt x="893" y="3626"/>
                </a:moveTo>
                <a:lnTo>
                  <a:pt x="888" y="3628"/>
                </a:lnTo>
                <a:lnTo>
                  <a:pt x="883" y="3630"/>
                </a:lnTo>
                <a:lnTo>
                  <a:pt x="877" y="3632"/>
                </a:lnTo>
                <a:lnTo>
                  <a:pt x="830" y="3653"/>
                </a:lnTo>
                <a:lnTo>
                  <a:pt x="787" y="3679"/>
                </a:lnTo>
                <a:lnTo>
                  <a:pt x="749" y="3709"/>
                </a:lnTo>
                <a:lnTo>
                  <a:pt x="715" y="3744"/>
                </a:lnTo>
                <a:lnTo>
                  <a:pt x="686" y="3785"/>
                </a:lnTo>
                <a:lnTo>
                  <a:pt x="661" y="3830"/>
                </a:lnTo>
                <a:lnTo>
                  <a:pt x="643" y="3875"/>
                </a:lnTo>
                <a:lnTo>
                  <a:pt x="632" y="3922"/>
                </a:lnTo>
                <a:lnTo>
                  <a:pt x="629" y="3969"/>
                </a:lnTo>
                <a:lnTo>
                  <a:pt x="632" y="4017"/>
                </a:lnTo>
                <a:lnTo>
                  <a:pt x="639" y="4059"/>
                </a:lnTo>
                <a:lnTo>
                  <a:pt x="648" y="4098"/>
                </a:lnTo>
                <a:lnTo>
                  <a:pt x="663" y="4136"/>
                </a:lnTo>
                <a:lnTo>
                  <a:pt x="692" y="4187"/>
                </a:lnTo>
                <a:lnTo>
                  <a:pt x="728" y="4232"/>
                </a:lnTo>
                <a:lnTo>
                  <a:pt x="771" y="4271"/>
                </a:lnTo>
                <a:lnTo>
                  <a:pt x="821" y="4304"/>
                </a:lnTo>
                <a:lnTo>
                  <a:pt x="865" y="4325"/>
                </a:lnTo>
                <a:lnTo>
                  <a:pt x="910" y="4340"/>
                </a:lnTo>
                <a:lnTo>
                  <a:pt x="956" y="4347"/>
                </a:lnTo>
                <a:lnTo>
                  <a:pt x="1003" y="4349"/>
                </a:lnTo>
                <a:lnTo>
                  <a:pt x="1056" y="4343"/>
                </a:lnTo>
                <a:lnTo>
                  <a:pt x="1106" y="4331"/>
                </a:lnTo>
                <a:lnTo>
                  <a:pt x="1156" y="4311"/>
                </a:lnTo>
                <a:lnTo>
                  <a:pt x="1203" y="4282"/>
                </a:lnTo>
                <a:lnTo>
                  <a:pt x="1246" y="4248"/>
                </a:lnTo>
                <a:lnTo>
                  <a:pt x="1281" y="4210"/>
                </a:lnTo>
                <a:lnTo>
                  <a:pt x="1309" y="4169"/>
                </a:lnTo>
                <a:lnTo>
                  <a:pt x="1331" y="4124"/>
                </a:lnTo>
                <a:lnTo>
                  <a:pt x="1347" y="4077"/>
                </a:lnTo>
                <a:lnTo>
                  <a:pt x="1356" y="4028"/>
                </a:lnTo>
                <a:lnTo>
                  <a:pt x="1362" y="3976"/>
                </a:lnTo>
                <a:lnTo>
                  <a:pt x="1358" y="3922"/>
                </a:lnTo>
                <a:lnTo>
                  <a:pt x="1347" y="3871"/>
                </a:lnTo>
                <a:lnTo>
                  <a:pt x="1329" y="3825"/>
                </a:lnTo>
                <a:lnTo>
                  <a:pt x="1304" y="3780"/>
                </a:lnTo>
                <a:lnTo>
                  <a:pt x="1270" y="3738"/>
                </a:lnTo>
                <a:lnTo>
                  <a:pt x="1230" y="3699"/>
                </a:lnTo>
                <a:lnTo>
                  <a:pt x="1194" y="3756"/>
                </a:lnTo>
                <a:lnTo>
                  <a:pt x="1034" y="3998"/>
                </a:lnTo>
                <a:lnTo>
                  <a:pt x="1019" y="4014"/>
                </a:lnTo>
                <a:lnTo>
                  <a:pt x="1005" y="4023"/>
                </a:lnTo>
                <a:lnTo>
                  <a:pt x="989" y="4023"/>
                </a:lnTo>
                <a:lnTo>
                  <a:pt x="973" y="4017"/>
                </a:lnTo>
                <a:lnTo>
                  <a:pt x="960" y="4005"/>
                </a:lnTo>
                <a:lnTo>
                  <a:pt x="955" y="3989"/>
                </a:lnTo>
                <a:lnTo>
                  <a:pt x="956" y="3971"/>
                </a:lnTo>
                <a:lnTo>
                  <a:pt x="965" y="3951"/>
                </a:lnTo>
                <a:lnTo>
                  <a:pt x="973" y="3940"/>
                </a:lnTo>
                <a:lnTo>
                  <a:pt x="980" y="3929"/>
                </a:lnTo>
                <a:lnTo>
                  <a:pt x="1061" y="3805"/>
                </a:lnTo>
                <a:lnTo>
                  <a:pt x="1146" y="3679"/>
                </a:lnTo>
                <a:lnTo>
                  <a:pt x="1019" y="3652"/>
                </a:lnTo>
                <a:lnTo>
                  <a:pt x="899" y="3626"/>
                </a:lnTo>
                <a:lnTo>
                  <a:pt x="893" y="3626"/>
                </a:lnTo>
                <a:close/>
                <a:moveTo>
                  <a:pt x="5200" y="3612"/>
                </a:moveTo>
                <a:lnTo>
                  <a:pt x="5150" y="3616"/>
                </a:lnTo>
                <a:lnTo>
                  <a:pt x="5101" y="3626"/>
                </a:lnTo>
                <a:lnTo>
                  <a:pt x="5056" y="3644"/>
                </a:lnTo>
                <a:lnTo>
                  <a:pt x="5013" y="3672"/>
                </a:lnTo>
                <a:lnTo>
                  <a:pt x="5132" y="3821"/>
                </a:lnTo>
                <a:lnTo>
                  <a:pt x="5234" y="3951"/>
                </a:lnTo>
                <a:lnTo>
                  <a:pt x="5245" y="3969"/>
                </a:lnTo>
                <a:lnTo>
                  <a:pt x="5247" y="3987"/>
                </a:lnTo>
                <a:lnTo>
                  <a:pt x="5243" y="4003"/>
                </a:lnTo>
                <a:lnTo>
                  <a:pt x="5231" y="4016"/>
                </a:lnTo>
                <a:lnTo>
                  <a:pt x="5215" y="4023"/>
                </a:lnTo>
                <a:lnTo>
                  <a:pt x="5198" y="4023"/>
                </a:lnTo>
                <a:lnTo>
                  <a:pt x="5184" y="4017"/>
                </a:lnTo>
                <a:lnTo>
                  <a:pt x="5169" y="4003"/>
                </a:lnTo>
                <a:lnTo>
                  <a:pt x="5148" y="3976"/>
                </a:lnTo>
                <a:lnTo>
                  <a:pt x="5047" y="3850"/>
                </a:lnTo>
                <a:lnTo>
                  <a:pt x="4946" y="3724"/>
                </a:lnTo>
                <a:lnTo>
                  <a:pt x="4908" y="3767"/>
                </a:lnTo>
                <a:lnTo>
                  <a:pt x="4878" y="3816"/>
                </a:lnTo>
                <a:lnTo>
                  <a:pt x="4856" y="3866"/>
                </a:lnTo>
                <a:lnTo>
                  <a:pt x="4842" y="3920"/>
                </a:lnTo>
                <a:lnTo>
                  <a:pt x="4836" y="3976"/>
                </a:lnTo>
                <a:lnTo>
                  <a:pt x="4842" y="4032"/>
                </a:lnTo>
                <a:lnTo>
                  <a:pt x="4854" y="4086"/>
                </a:lnTo>
                <a:lnTo>
                  <a:pt x="4876" y="4140"/>
                </a:lnTo>
                <a:lnTo>
                  <a:pt x="4907" y="4192"/>
                </a:lnTo>
                <a:lnTo>
                  <a:pt x="4946" y="4239"/>
                </a:lnTo>
                <a:lnTo>
                  <a:pt x="4988" y="4277"/>
                </a:lnTo>
                <a:lnTo>
                  <a:pt x="5034" y="4307"/>
                </a:lnTo>
                <a:lnTo>
                  <a:pt x="5085" y="4331"/>
                </a:lnTo>
                <a:lnTo>
                  <a:pt x="5137" y="4347"/>
                </a:lnTo>
                <a:lnTo>
                  <a:pt x="5189" y="4354"/>
                </a:lnTo>
                <a:lnTo>
                  <a:pt x="5245" y="4351"/>
                </a:lnTo>
                <a:lnTo>
                  <a:pt x="5299" y="4340"/>
                </a:lnTo>
                <a:lnTo>
                  <a:pt x="5355" y="4318"/>
                </a:lnTo>
                <a:lnTo>
                  <a:pt x="5409" y="4288"/>
                </a:lnTo>
                <a:lnTo>
                  <a:pt x="5461" y="4244"/>
                </a:lnTo>
                <a:lnTo>
                  <a:pt x="5499" y="4203"/>
                </a:lnTo>
                <a:lnTo>
                  <a:pt x="5530" y="4158"/>
                </a:lnTo>
                <a:lnTo>
                  <a:pt x="5553" y="4109"/>
                </a:lnTo>
                <a:lnTo>
                  <a:pt x="5569" y="4057"/>
                </a:lnTo>
                <a:lnTo>
                  <a:pt x="5577" y="4003"/>
                </a:lnTo>
                <a:lnTo>
                  <a:pt x="5575" y="3947"/>
                </a:lnTo>
                <a:lnTo>
                  <a:pt x="5562" y="3891"/>
                </a:lnTo>
                <a:lnTo>
                  <a:pt x="5542" y="3835"/>
                </a:lnTo>
                <a:lnTo>
                  <a:pt x="5510" y="3780"/>
                </a:lnTo>
                <a:lnTo>
                  <a:pt x="5468" y="3726"/>
                </a:lnTo>
                <a:lnTo>
                  <a:pt x="5432" y="3691"/>
                </a:lnTo>
                <a:lnTo>
                  <a:pt x="5391" y="3664"/>
                </a:lnTo>
                <a:lnTo>
                  <a:pt x="5348" y="3641"/>
                </a:lnTo>
                <a:lnTo>
                  <a:pt x="5299" y="3625"/>
                </a:lnTo>
                <a:lnTo>
                  <a:pt x="5251" y="3614"/>
                </a:lnTo>
                <a:lnTo>
                  <a:pt x="5200" y="3612"/>
                </a:lnTo>
                <a:close/>
                <a:moveTo>
                  <a:pt x="4357" y="0"/>
                </a:moveTo>
                <a:lnTo>
                  <a:pt x="4447" y="0"/>
                </a:lnTo>
                <a:lnTo>
                  <a:pt x="4472" y="4"/>
                </a:lnTo>
                <a:lnTo>
                  <a:pt x="4498" y="4"/>
                </a:lnTo>
                <a:lnTo>
                  <a:pt x="4537" y="4"/>
                </a:lnTo>
                <a:lnTo>
                  <a:pt x="4575" y="11"/>
                </a:lnTo>
                <a:lnTo>
                  <a:pt x="4613" y="22"/>
                </a:lnTo>
                <a:lnTo>
                  <a:pt x="4649" y="40"/>
                </a:lnTo>
                <a:lnTo>
                  <a:pt x="4654" y="41"/>
                </a:lnTo>
                <a:lnTo>
                  <a:pt x="4660" y="45"/>
                </a:lnTo>
                <a:lnTo>
                  <a:pt x="4663" y="49"/>
                </a:lnTo>
                <a:lnTo>
                  <a:pt x="4669" y="52"/>
                </a:lnTo>
                <a:lnTo>
                  <a:pt x="4671" y="56"/>
                </a:lnTo>
                <a:lnTo>
                  <a:pt x="4685" y="99"/>
                </a:lnTo>
                <a:lnTo>
                  <a:pt x="4699" y="142"/>
                </a:lnTo>
                <a:lnTo>
                  <a:pt x="4707" y="186"/>
                </a:lnTo>
                <a:lnTo>
                  <a:pt x="4708" y="290"/>
                </a:lnTo>
                <a:lnTo>
                  <a:pt x="4708" y="396"/>
                </a:lnTo>
                <a:lnTo>
                  <a:pt x="4710" y="501"/>
                </a:lnTo>
                <a:lnTo>
                  <a:pt x="4707" y="564"/>
                </a:lnTo>
                <a:lnTo>
                  <a:pt x="4696" y="625"/>
                </a:lnTo>
                <a:lnTo>
                  <a:pt x="4676" y="683"/>
                </a:lnTo>
                <a:lnTo>
                  <a:pt x="4671" y="692"/>
                </a:lnTo>
                <a:lnTo>
                  <a:pt x="4665" y="699"/>
                </a:lnTo>
                <a:lnTo>
                  <a:pt x="4658" y="706"/>
                </a:lnTo>
                <a:lnTo>
                  <a:pt x="4651" y="712"/>
                </a:lnTo>
                <a:lnTo>
                  <a:pt x="4615" y="730"/>
                </a:lnTo>
                <a:lnTo>
                  <a:pt x="4579" y="739"/>
                </a:lnTo>
                <a:lnTo>
                  <a:pt x="4543" y="744"/>
                </a:lnTo>
                <a:lnTo>
                  <a:pt x="4505" y="748"/>
                </a:lnTo>
                <a:lnTo>
                  <a:pt x="4467" y="749"/>
                </a:lnTo>
                <a:lnTo>
                  <a:pt x="4379" y="751"/>
                </a:lnTo>
                <a:lnTo>
                  <a:pt x="4292" y="746"/>
                </a:lnTo>
                <a:lnTo>
                  <a:pt x="4206" y="733"/>
                </a:lnTo>
                <a:lnTo>
                  <a:pt x="4123" y="712"/>
                </a:lnTo>
                <a:lnTo>
                  <a:pt x="4040" y="681"/>
                </a:lnTo>
                <a:lnTo>
                  <a:pt x="3986" y="654"/>
                </a:lnTo>
                <a:lnTo>
                  <a:pt x="3932" y="622"/>
                </a:lnTo>
                <a:lnTo>
                  <a:pt x="3873" y="587"/>
                </a:lnTo>
                <a:lnTo>
                  <a:pt x="3901" y="625"/>
                </a:lnTo>
                <a:lnTo>
                  <a:pt x="3927" y="661"/>
                </a:lnTo>
                <a:lnTo>
                  <a:pt x="3954" y="695"/>
                </a:lnTo>
                <a:lnTo>
                  <a:pt x="4009" y="751"/>
                </a:lnTo>
                <a:lnTo>
                  <a:pt x="4071" y="800"/>
                </a:lnTo>
                <a:lnTo>
                  <a:pt x="4136" y="843"/>
                </a:lnTo>
                <a:lnTo>
                  <a:pt x="4202" y="881"/>
                </a:lnTo>
                <a:lnTo>
                  <a:pt x="4274" y="915"/>
                </a:lnTo>
                <a:lnTo>
                  <a:pt x="4352" y="946"/>
                </a:lnTo>
                <a:lnTo>
                  <a:pt x="4433" y="973"/>
                </a:lnTo>
                <a:lnTo>
                  <a:pt x="4514" y="994"/>
                </a:lnTo>
                <a:lnTo>
                  <a:pt x="4543" y="1005"/>
                </a:lnTo>
                <a:lnTo>
                  <a:pt x="4564" y="1021"/>
                </a:lnTo>
                <a:lnTo>
                  <a:pt x="4582" y="1043"/>
                </a:lnTo>
                <a:lnTo>
                  <a:pt x="4662" y="1180"/>
                </a:lnTo>
                <a:lnTo>
                  <a:pt x="4730" y="1319"/>
                </a:lnTo>
                <a:lnTo>
                  <a:pt x="4789" y="1461"/>
                </a:lnTo>
                <a:lnTo>
                  <a:pt x="4842" y="1607"/>
                </a:lnTo>
                <a:lnTo>
                  <a:pt x="4887" y="1755"/>
                </a:lnTo>
                <a:lnTo>
                  <a:pt x="4925" y="1906"/>
                </a:lnTo>
                <a:lnTo>
                  <a:pt x="4955" y="2059"/>
                </a:lnTo>
                <a:lnTo>
                  <a:pt x="4980" y="2225"/>
                </a:lnTo>
                <a:lnTo>
                  <a:pt x="5000" y="2391"/>
                </a:lnTo>
                <a:lnTo>
                  <a:pt x="5018" y="2556"/>
                </a:lnTo>
                <a:lnTo>
                  <a:pt x="5022" y="2589"/>
                </a:lnTo>
                <a:lnTo>
                  <a:pt x="5024" y="2621"/>
                </a:lnTo>
                <a:lnTo>
                  <a:pt x="5024" y="2654"/>
                </a:lnTo>
                <a:lnTo>
                  <a:pt x="5018" y="2686"/>
                </a:lnTo>
                <a:lnTo>
                  <a:pt x="5006" y="2717"/>
                </a:lnTo>
                <a:lnTo>
                  <a:pt x="5105" y="2720"/>
                </a:lnTo>
                <a:lnTo>
                  <a:pt x="5202" y="2726"/>
                </a:lnTo>
                <a:lnTo>
                  <a:pt x="5294" y="2738"/>
                </a:lnTo>
                <a:lnTo>
                  <a:pt x="5386" y="2758"/>
                </a:lnTo>
                <a:lnTo>
                  <a:pt x="5474" y="2783"/>
                </a:lnTo>
                <a:lnTo>
                  <a:pt x="5559" y="2816"/>
                </a:lnTo>
                <a:lnTo>
                  <a:pt x="5643" y="2855"/>
                </a:lnTo>
                <a:lnTo>
                  <a:pt x="5722" y="2902"/>
                </a:lnTo>
                <a:lnTo>
                  <a:pt x="5764" y="2929"/>
                </a:lnTo>
                <a:lnTo>
                  <a:pt x="5804" y="2958"/>
                </a:lnTo>
                <a:lnTo>
                  <a:pt x="5841" y="2989"/>
                </a:lnTo>
                <a:lnTo>
                  <a:pt x="5876" y="3023"/>
                </a:lnTo>
                <a:lnTo>
                  <a:pt x="5904" y="3061"/>
                </a:lnTo>
                <a:lnTo>
                  <a:pt x="5928" y="3104"/>
                </a:lnTo>
                <a:lnTo>
                  <a:pt x="5944" y="3153"/>
                </a:lnTo>
                <a:lnTo>
                  <a:pt x="5944" y="3165"/>
                </a:lnTo>
                <a:lnTo>
                  <a:pt x="5935" y="3187"/>
                </a:lnTo>
                <a:lnTo>
                  <a:pt x="5921" y="3201"/>
                </a:lnTo>
                <a:lnTo>
                  <a:pt x="5904" y="3210"/>
                </a:lnTo>
                <a:lnTo>
                  <a:pt x="5885" y="3216"/>
                </a:lnTo>
                <a:lnTo>
                  <a:pt x="5863" y="3218"/>
                </a:lnTo>
                <a:lnTo>
                  <a:pt x="5762" y="3219"/>
                </a:lnTo>
                <a:lnTo>
                  <a:pt x="5611" y="3225"/>
                </a:lnTo>
                <a:lnTo>
                  <a:pt x="5459" y="3230"/>
                </a:lnTo>
                <a:lnTo>
                  <a:pt x="5411" y="3237"/>
                </a:lnTo>
                <a:lnTo>
                  <a:pt x="5359" y="3246"/>
                </a:lnTo>
                <a:lnTo>
                  <a:pt x="5362" y="3250"/>
                </a:lnTo>
                <a:lnTo>
                  <a:pt x="5364" y="3252"/>
                </a:lnTo>
                <a:lnTo>
                  <a:pt x="5366" y="3252"/>
                </a:lnTo>
                <a:lnTo>
                  <a:pt x="5366" y="3254"/>
                </a:lnTo>
                <a:lnTo>
                  <a:pt x="5375" y="3255"/>
                </a:lnTo>
                <a:lnTo>
                  <a:pt x="5452" y="3279"/>
                </a:lnTo>
                <a:lnTo>
                  <a:pt x="5524" y="3308"/>
                </a:lnTo>
                <a:lnTo>
                  <a:pt x="5591" y="3344"/>
                </a:lnTo>
                <a:lnTo>
                  <a:pt x="5654" y="3385"/>
                </a:lnTo>
                <a:lnTo>
                  <a:pt x="5712" y="3432"/>
                </a:lnTo>
                <a:lnTo>
                  <a:pt x="5762" y="3486"/>
                </a:lnTo>
                <a:lnTo>
                  <a:pt x="5809" y="3545"/>
                </a:lnTo>
                <a:lnTo>
                  <a:pt x="5850" y="3610"/>
                </a:lnTo>
                <a:lnTo>
                  <a:pt x="5886" y="3684"/>
                </a:lnTo>
                <a:lnTo>
                  <a:pt x="5908" y="3744"/>
                </a:lnTo>
                <a:lnTo>
                  <a:pt x="5926" y="3805"/>
                </a:lnTo>
                <a:lnTo>
                  <a:pt x="5944" y="3866"/>
                </a:lnTo>
                <a:lnTo>
                  <a:pt x="5944" y="4102"/>
                </a:lnTo>
                <a:lnTo>
                  <a:pt x="5931" y="4144"/>
                </a:lnTo>
                <a:lnTo>
                  <a:pt x="5910" y="4225"/>
                </a:lnTo>
                <a:lnTo>
                  <a:pt x="5881" y="4298"/>
                </a:lnTo>
                <a:lnTo>
                  <a:pt x="5845" y="4369"/>
                </a:lnTo>
                <a:lnTo>
                  <a:pt x="5802" y="4434"/>
                </a:lnTo>
                <a:lnTo>
                  <a:pt x="5751" y="4493"/>
                </a:lnTo>
                <a:lnTo>
                  <a:pt x="5694" y="4547"/>
                </a:lnTo>
                <a:lnTo>
                  <a:pt x="5631" y="4594"/>
                </a:lnTo>
                <a:lnTo>
                  <a:pt x="5560" y="4637"/>
                </a:lnTo>
                <a:lnTo>
                  <a:pt x="5505" y="4662"/>
                </a:lnTo>
                <a:lnTo>
                  <a:pt x="5449" y="4682"/>
                </a:lnTo>
                <a:lnTo>
                  <a:pt x="5389" y="4702"/>
                </a:lnTo>
                <a:lnTo>
                  <a:pt x="5332" y="4720"/>
                </a:lnTo>
                <a:lnTo>
                  <a:pt x="5078" y="4720"/>
                </a:lnTo>
                <a:lnTo>
                  <a:pt x="5007" y="4702"/>
                </a:lnTo>
                <a:lnTo>
                  <a:pt x="4939" y="4679"/>
                </a:lnTo>
                <a:lnTo>
                  <a:pt x="4867" y="4646"/>
                </a:lnTo>
                <a:lnTo>
                  <a:pt x="4800" y="4608"/>
                </a:lnTo>
                <a:lnTo>
                  <a:pt x="4739" y="4565"/>
                </a:lnTo>
                <a:lnTo>
                  <a:pt x="4685" y="4516"/>
                </a:lnTo>
                <a:lnTo>
                  <a:pt x="4635" y="4462"/>
                </a:lnTo>
                <a:lnTo>
                  <a:pt x="4589" y="4403"/>
                </a:lnTo>
                <a:lnTo>
                  <a:pt x="4552" y="4336"/>
                </a:lnTo>
                <a:lnTo>
                  <a:pt x="4517" y="4266"/>
                </a:lnTo>
                <a:lnTo>
                  <a:pt x="4487" y="4174"/>
                </a:lnTo>
                <a:lnTo>
                  <a:pt x="4467" y="4082"/>
                </a:lnTo>
                <a:lnTo>
                  <a:pt x="4460" y="3990"/>
                </a:lnTo>
                <a:lnTo>
                  <a:pt x="4465" y="3899"/>
                </a:lnTo>
                <a:lnTo>
                  <a:pt x="4483" y="3807"/>
                </a:lnTo>
                <a:lnTo>
                  <a:pt x="4512" y="3715"/>
                </a:lnTo>
                <a:lnTo>
                  <a:pt x="4532" y="3668"/>
                </a:lnTo>
                <a:lnTo>
                  <a:pt x="4555" y="3617"/>
                </a:lnTo>
                <a:lnTo>
                  <a:pt x="4546" y="3625"/>
                </a:lnTo>
                <a:lnTo>
                  <a:pt x="4539" y="3630"/>
                </a:lnTo>
                <a:lnTo>
                  <a:pt x="4532" y="3635"/>
                </a:lnTo>
                <a:lnTo>
                  <a:pt x="4526" y="3641"/>
                </a:lnTo>
                <a:lnTo>
                  <a:pt x="4433" y="3744"/>
                </a:lnTo>
                <a:lnTo>
                  <a:pt x="4339" y="3848"/>
                </a:lnTo>
                <a:lnTo>
                  <a:pt x="4316" y="3875"/>
                </a:lnTo>
                <a:lnTo>
                  <a:pt x="4292" y="3902"/>
                </a:lnTo>
                <a:lnTo>
                  <a:pt x="4267" y="3927"/>
                </a:lnTo>
                <a:lnTo>
                  <a:pt x="4238" y="3947"/>
                </a:lnTo>
                <a:lnTo>
                  <a:pt x="4206" y="3962"/>
                </a:lnTo>
                <a:lnTo>
                  <a:pt x="4173" y="3969"/>
                </a:lnTo>
                <a:lnTo>
                  <a:pt x="4148" y="3972"/>
                </a:lnTo>
                <a:lnTo>
                  <a:pt x="4127" y="3971"/>
                </a:lnTo>
                <a:lnTo>
                  <a:pt x="4109" y="3960"/>
                </a:lnTo>
                <a:lnTo>
                  <a:pt x="4091" y="3942"/>
                </a:lnTo>
                <a:lnTo>
                  <a:pt x="4076" y="3913"/>
                </a:lnTo>
                <a:lnTo>
                  <a:pt x="4049" y="3848"/>
                </a:lnTo>
                <a:lnTo>
                  <a:pt x="4033" y="3781"/>
                </a:lnTo>
                <a:lnTo>
                  <a:pt x="4024" y="3713"/>
                </a:lnTo>
                <a:lnTo>
                  <a:pt x="4020" y="3644"/>
                </a:lnTo>
                <a:lnTo>
                  <a:pt x="4024" y="3576"/>
                </a:lnTo>
                <a:lnTo>
                  <a:pt x="4028" y="3536"/>
                </a:lnTo>
                <a:lnTo>
                  <a:pt x="4033" y="3491"/>
                </a:lnTo>
                <a:lnTo>
                  <a:pt x="4011" y="3508"/>
                </a:lnTo>
                <a:lnTo>
                  <a:pt x="3993" y="3522"/>
                </a:lnTo>
                <a:lnTo>
                  <a:pt x="3840" y="3630"/>
                </a:lnTo>
                <a:lnTo>
                  <a:pt x="3683" y="3738"/>
                </a:lnTo>
                <a:lnTo>
                  <a:pt x="3646" y="3762"/>
                </a:lnTo>
                <a:lnTo>
                  <a:pt x="3606" y="3780"/>
                </a:lnTo>
                <a:lnTo>
                  <a:pt x="3563" y="3792"/>
                </a:lnTo>
                <a:lnTo>
                  <a:pt x="3518" y="3796"/>
                </a:lnTo>
                <a:lnTo>
                  <a:pt x="2331" y="3789"/>
                </a:lnTo>
                <a:lnTo>
                  <a:pt x="2176" y="3783"/>
                </a:lnTo>
                <a:lnTo>
                  <a:pt x="2023" y="3772"/>
                </a:lnTo>
                <a:lnTo>
                  <a:pt x="1706" y="3751"/>
                </a:lnTo>
                <a:lnTo>
                  <a:pt x="1704" y="3753"/>
                </a:lnTo>
                <a:lnTo>
                  <a:pt x="1704" y="3754"/>
                </a:lnTo>
                <a:lnTo>
                  <a:pt x="1706" y="3762"/>
                </a:lnTo>
                <a:lnTo>
                  <a:pt x="1708" y="3769"/>
                </a:lnTo>
                <a:lnTo>
                  <a:pt x="1727" y="3852"/>
                </a:lnTo>
                <a:lnTo>
                  <a:pt x="1738" y="3933"/>
                </a:lnTo>
                <a:lnTo>
                  <a:pt x="1738" y="4014"/>
                </a:lnTo>
                <a:lnTo>
                  <a:pt x="1731" y="4095"/>
                </a:lnTo>
                <a:lnTo>
                  <a:pt x="1713" y="4176"/>
                </a:lnTo>
                <a:lnTo>
                  <a:pt x="1686" y="4255"/>
                </a:lnTo>
                <a:lnTo>
                  <a:pt x="1655" y="4324"/>
                </a:lnTo>
                <a:lnTo>
                  <a:pt x="1619" y="4389"/>
                </a:lnTo>
                <a:lnTo>
                  <a:pt x="1578" y="4450"/>
                </a:lnTo>
                <a:lnTo>
                  <a:pt x="1529" y="4504"/>
                </a:lnTo>
                <a:lnTo>
                  <a:pt x="1477" y="4552"/>
                </a:lnTo>
                <a:lnTo>
                  <a:pt x="1418" y="4597"/>
                </a:lnTo>
                <a:lnTo>
                  <a:pt x="1351" y="4635"/>
                </a:lnTo>
                <a:lnTo>
                  <a:pt x="1297" y="4661"/>
                </a:lnTo>
                <a:lnTo>
                  <a:pt x="1239" y="4682"/>
                </a:lnTo>
                <a:lnTo>
                  <a:pt x="1180" y="4700"/>
                </a:lnTo>
                <a:lnTo>
                  <a:pt x="1122" y="4720"/>
                </a:lnTo>
                <a:lnTo>
                  <a:pt x="866" y="4720"/>
                </a:lnTo>
                <a:lnTo>
                  <a:pt x="857" y="4718"/>
                </a:lnTo>
                <a:lnTo>
                  <a:pt x="848" y="4715"/>
                </a:lnTo>
                <a:lnTo>
                  <a:pt x="787" y="4700"/>
                </a:lnTo>
                <a:lnTo>
                  <a:pt x="726" y="4680"/>
                </a:lnTo>
                <a:lnTo>
                  <a:pt x="668" y="4655"/>
                </a:lnTo>
                <a:lnTo>
                  <a:pt x="614" y="4625"/>
                </a:lnTo>
                <a:lnTo>
                  <a:pt x="546" y="4576"/>
                </a:lnTo>
                <a:lnTo>
                  <a:pt x="483" y="4524"/>
                </a:lnTo>
                <a:lnTo>
                  <a:pt x="429" y="4468"/>
                </a:lnTo>
                <a:lnTo>
                  <a:pt x="382" y="4408"/>
                </a:lnTo>
                <a:lnTo>
                  <a:pt x="340" y="4342"/>
                </a:lnTo>
                <a:lnTo>
                  <a:pt x="308" y="4273"/>
                </a:lnTo>
                <a:lnTo>
                  <a:pt x="283" y="4198"/>
                </a:lnTo>
                <a:lnTo>
                  <a:pt x="265" y="4120"/>
                </a:lnTo>
                <a:lnTo>
                  <a:pt x="252" y="4035"/>
                </a:lnTo>
                <a:lnTo>
                  <a:pt x="250" y="3949"/>
                </a:lnTo>
                <a:lnTo>
                  <a:pt x="259" y="3862"/>
                </a:lnTo>
                <a:lnTo>
                  <a:pt x="277" y="3780"/>
                </a:lnTo>
                <a:lnTo>
                  <a:pt x="306" y="3699"/>
                </a:lnTo>
                <a:lnTo>
                  <a:pt x="344" y="3621"/>
                </a:lnTo>
                <a:lnTo>
                  <a:pt x="371" y="3576"/>
                </a:lnTo>
                <a:lnTo>
                  <a:pt x="400" y="3533"/>
                </a:lnTo>
                <a:lnTo>
                  <a:pt x="427" y="3491"/>
                </a:lnTo>
                <a:lnTo>
                  <a:pt x="349" y="3448"/>
                </a:lnTo>
                <a:lnTo>
                  <a:pt x="270" y="3403"/>
                </a:lnTo>
                <a:lnTo>
                  <a:pt x="193" y="3356"/>
                </a:lnTo>
                <a:lnTo>
                  <a:pt x="153" y="3327"/>
                </a:lnTo>
                <a:lnTo>
                  <a:pt x="117" y="3297"/>
                </a:lnTo>
                <a:lnTo>
                  <a:pt x="85" y="3261"/>
                </a:lnTo>
                <a:lnTo>
                  <a:pt x="56" y="3223"/>
                </a:lnTo>
                <a:lnTo>
                  <a:pt x="32" y="3181"/>
                </a:lnTo>
                <a:lnTo>
                  <a:pt x="14" y="3135"/>
                </a:lnTo>
                <a:lnTo>
                  <a:pt x="7" y="3100"/>
                </a:lnTo>
                <a:lnTo>
                  <a:pt x="0" y="3064"/>
                </a:lnTo>
                <a:lnTo>
                  <a:pt x="0" y="3019"/>
                </a:lnTo>
                <a:lnTo>
                  <a:pt x="13" y="2958"/>
                </a:lnTo>
                <a:lnTo>
                  <a:pt x="25" y="2895"/>
                </a:lnTo>
                <a:lnTo>
                  <a:pt x="41" y="2836"/>
                </a:lnTo>
                <a:lnTo>
                  <a:pt x="88" y="2704"/>
                </a:lnTo>
                <a:lnTo>
                  <a:pt x="142" y="2578"/>
                </a:lnTo>
                <a:lnTo>
                  <a:pt x="205" y="2455"/>
                </a:lnTo>
                <a:lnTo>
                  <a:pt x="276" y="2337"/>
                </a:lnTo>
                <a:lnTo>
                  <a:pt x="351" y="2221"/>
                </a:lnTo>
                <a:lnTo>
                  <a:pt x="391" y="2164"/>
                </a:lnTo>
                <a:lnTo>
                  <a:pt x="434" y="2108"/>
                </a:lnTo>
                <a:lnTo>
                  <a:pt x="483" y="2056"/>
                </a:lnTo>
                <a:lnTo>
                  <a:pt x="537" y="2009"/>
                </a:lnTo>
                <a:lnTo>
                  <a:pt x="549" y="2000"/>
                </a:lnTo>
                <a:lnTo>
                  <a:pt x="566" y="1994"/>
                </a:lnTo>
                <a:lnTo>
                  <a:pt x="582" y="1991"/>
                </a:lnTo>
                <a:lnTo>
                  <a:pt x="1353" y="1991"/>
                </a:lnTo>
                <a:lnTo>
                  <a:pt x="2124" y="1991"/>
                </a:lnTo>
                <a:lnTo>
                  <a:pt x="2158" y="1992"/>
                </a:lnTo>
                <a:lnTo>
                  <a:pt x="2192" y="1998"/>
                </a:lnTo>
                <a:lnTo>
                  <a:pt x="2226" y="2007"/>
                </a:lnTo>
                <a:lnTo>
                  <a:pt x="2257" y="2020"/>
                </a:lnTo>
                <a:lnTo>
                  <a:pt x="2288" y="2039"/>
                </a:lnTo>
                <a:lnTo>
                  <a:pt x="2313" y="2068"/>
                </a:lnTo>
                <a:lnTo>
                  <a:pt x="2334" y="2102"/>
                </a:lnTo>
                <a:lnTo>
                  <a:pt x="2349" y="2140"/>
                </a:lnTo>
                <a:lnTo>
                  <a:pt x="2354" y="2178"/>
                </a:lnTo>
                <a:lnTo>
                  <a:pt x="2352" y="2218"/>
                </a:lnTo>
                <a:lnTo>
                  <a:pt x="2340" y="2270"/>
                </a:lnTo>
                <a:lnTo>
                  <a:pt x="2322" y="2320"/>
                </a:lnTo>
                <a:lnTo>
                  <a:pt x="2300" y="2371"/>
                </a:lnTo>
                <a:lnTo>
                  <a:pt x="2277" y="2419"/>
                </a:lnTo>
                <a:lnTo>
                  <a:pt x="2253" y="2468"/>
                </a:lnTo>
                <a:lnTo>
                  <a:pt x="2221" y="2535"/>
                </a:lnTo>
                <a:lnTo>
                  <a:pt x="2190" y="2605"/>
                </a:lnTo>
                <a:lnTo>
                  <a:pt x="2161" y="2673"/>
                </a:lnTo>
                <a:lnTo>
                  <a:pt x="2138" y="2746"/>
                </a:lnTo>
                <a:lnTo>
                  <a:pt x="2120" y="2819"/>
                </a:lnTo>
                <a:lnTo>
                  <a:pt x="2116" y="2850"/>
                </a:lnTo>
                <a:lnTo>
                  <a:pt x="2118" y="2881"/>
                </a:lnTo>
                <a:lnTo>
                  <a:pt x="2122" y="2909"/>
                </a:lnTo>
                <a:lnTo>
                  <a:pt x="2131" y="2938"/>
                </a:lnTo>
                <a:lnTo>
                  <a:pt x="2145" y="2962"/>
                </a:lnTo>
                <a:lnTo>
                  <a:pt x="2165" y="2982"/>
                </a:lnTo>
                <a:lnTo>
                  <a:pt x="2187" y="2996"/>
                </a:lnTo>
                <a:lnTo>
                  <a:pt x="2210" y="3005"/>
                </a:lnTo>
                <a:lnTo>
                  <a:pt x="2237" y="3014"/>
                </a:lnTo>
                <a:lnTo>
                  <a:pt x="2264" y="3018"/>
                </a:lnTo>
                <a:lnTo>
                  <a:pt x="2435" y="3036"/>
                </a:lnTo>
                <a:lnTo>
                  <a:pt x="2608" y="3045"/>
                </a:lnTo>
                <a:lnTo>
                  <a:pt x="2731" y="3046"/>
                </a:lnTo>
                <a:lnTo>
                  <a:pt x="2853" y="3046"/>
                </a:lnTo>
                <a:lnTo>
                  <a:pt x="2974" y="3043"/>
                </a:lnTo>
                <a:lnTo>
                  <a:pt x="3096" y="3032"/>
                </a:lnTo>
                <a:lnTo>
                  <a:pt x="3217" y="3014"/>
                </a:lnTo>
                <a:lnTo>
                  <a:pt x="3302" y="2994"/>
                </a:lnTo>
                <a:lnTo>
                  <a:pt x="3384" y="2969"/>
                </a:lnTo>
                <a:lnTo>
                  <a:pt x="3466" y="2938"/>
                </a:lnTo>
                <a:lnTo>
                  <a:pt x="3543" y="2900"/>
                </a:lnTo>
                <a:lnTo>
                  <a:pt x="3617" y="2857"/>
                </a:lnTo>
                <a:lnTo>
                  <a:pt x="3687" y="2805"/>
                </a:lnTo>
                <a:lnTo>
                  <a:pt x="3756" y="2746"/>
                </a:lnTo>
                <a:lnTo>
                  <a:pt x="3817" y="2681"/>
                </a:lnTo>
                <a:lnTo>
                  <a:pt x="3874" y="2614"/>
                </a:lnTo>
                <a:lnTo>
                  <a:pt x="3927" y="2542"/>
                </a:lnTo>
                <a:lnTo>
                  <a:pt x="3975" y="2468"/>
                </a:lnTo>
                <a:lnTo>
                  <a:pt x="4020" y="2391"/>
                </a:lnTo>
                <a:lnTo>
                  <a:pt x="4037" y="2364"/>
                </a:lnTo>
                <a:lnTo>
                  <a:pt x="4051" y="2335"/>
                </a:lnTo>
                <a:lnTo>
                  <a:pt x="4064" y="2308"/>
                </a:lnTo>
                <a:lnTo>
                  <a:pt x="4069" y="2279"/>
                </a:lnTo>
                <a:lnTo>
                  <a:pt x="4074" y="2203"/>
                </a:lnTo>
                <a:lnTo>
                  <a:pt x="4074" y="2128"/>
                </a:lnTo>
                <a:lnTo>
                  <a:pt x="4067" y="2054"/>
                </a:lnTo>
                <a:lnTo>
                  <a:pt x="4035" y="1834"/>
                </a:lnTo>
                <a:lnTo>
                  <a:pt x="3993" y="1616"/>
                </a:lnTo>
                <a:lnTo>
                  <a:pt x="3952" y="1427"/>
                </a:lnTo>
                <a:lnTo>
                  <a:pt x="3905" y="1241"/>
                </a:lnTo>
                <a:lnTo>
                  <a:pt x="3851" y="1056"/>
                </a:lnTo>
                <a:lnTo>
                  <a:pt x="3792" y="872"/>
                </a:lnTo>
                <a:lnTo>
                  <a:pt x="3725" y="690"/>
                </a:lnTo>
                <a:lnTo>
                  <a:pt x="3685" y="593"/>
                </a:lnTo>
                <a:lnTo>
                  <a:pt x="3640" y="495"/>
                </a:lnTo>
                <a:lnTo>
                  <a:pt x="3624" y="506"/>
                </a:lnTo>
                <a:lnTo>
                  <a:pt x="3610" y="515"/>
                </a:lnTo>
                <a:lnTo>
                  <a:pt x="3440" y="613"/>
                </a:lnTo>
                <a:lnTo>
                  <a:pt x="3271" y="710"/>
                </a:lnTo>
                <a:lnTo>
                  <a:pt x="3244" y="724"/>
                </a:lnTo>
                <a:lnTo>
                  <a:pt x="3213" y="733"/>
                </a:lnTo>
                <a:lnTo>
                  <a:pt x="3185" y="737"/>
                </a:lnTo>
                <a:lnTo>
                  <a:pt x="3154" y="737"/>
                </a:lnTo>
                <a:lnTo>
                  <a:pt x="3123" y="733"/>
                </a:lnTo>
                <a:lnTo>
                  <a:pt x="3096" y="726"/>
                </a:lnTo>
                <a:lnTo>
                  <a:pt x="3069" y="715"/>
                </a:lnTo>
                <a:lnTo>
                  <a:pt x="3044" y="699"/>
                </a:lnTo>
                <a:lnTo>
                  <a:pt x="3024" y="677"/>
                </a:lnTo>
                <a:lnTo>
                  <a:pt x="3006" y="650"/>
                </a:lnTo>
                <a:lnTo>
                  <a:pt x="3004" y="649"/>
                </a:lnTo>
                <a:lnTo>
                  <a:pt x="3004" y="647"/>
                </a:lnTo>
                <a:lnTo>
                  <a:pt x="3001" y="622"/>
                </a:lnTo>
                <a:lnTo>
                  <a:pt x="2997" y="596"/>
                </a:lnTo>
                <a:lnTo>
                  <a:pt x="2995" y="571"/>
                </a:lnTo>
                <a:lnTo>
                  <a:pt x="2995" y="548"/>
                </a:lnTo>
                <a:lnTo>
                  <a:pt x="3003" y="530"/>
                </a:lnTo>
                <a:lnTo>
                  <a:pt x="3024" y="501"/>
                </a:lnTo>
                <a:lnTo>
                  <a:pt x="3053" y="476"/>
                </a:lnTo>
                <a:lnTo>
                  <a:pt x="3084" y="454"/>
                </a:lnTo>
                <a:lnTo>
                  <a:pt x="3118" y="441"/>
                </a:lnTo>
                <a:lnTo>
                  <a:pt x="3321" y="384"/>
                </a:lnTo>
                <a:lnTo>
                  <a:pt x="3527" y="330"/>
                </a:lnTo>
                <a:lnTo>
                  <a:pt x="3732" y="277"/>
                </a:lnTo>
                <a:lnTo>
                  <a:pt x="3756" y="270"/>
                </a:lnTo>
                <a:lnTo>
                  <a:pt x="3779" y="263"/>
                </a:lnTo>
                <a:lnTo>
                  <a:pt x="3801" y="254"/>
                </a:lnTo>
                <a:lnTo>
                  <a:pt x="3820" y="243"/>
                </a:lnTo>
                <a:lnTo>
                  <a:pt x="3837" y="225"/>
                </a:lnTo>
                <a:lnTo>
                  <a:pt x="3849" y="204"/>
                </a:lnTo>
                <a:lnTo>
                  <a:pt x="3853" y="198"/>
                </a:lnTo>
                <a:lnTo>
                  <a:pt x="3856" y="195"/>
                </a:lnTo>
                <a:lnTo>
                  <a:pt x="3860" y="191"/>
                </a:lnTo>
                <a:lnTo>
                  <a:pt x="3910" y="146"/>
                </a:lnTo>
                <a:lnTo>
                  <a:pt x="3964" y="108"/>
                </a:lnTo>
                <a:lnTo>
                  <a:pt x="4022" y="77"/>
                </a:lnTo>
                <a:lnTo>
                  <a:pt x="4082" y="52"/>
                </a:lnTo>
                <a:lnTo>
                  <a:pt x="4145" y="32"/>
                </a:lnTo>
                <a:lnTo>
                  <a:pt x="4209" y="18"/>
                </a:lnTo>
                <a:lnTo>
                  <a:pt x="4283" y="7"/>
                </a:lnTo>
                <a:lnTo>
                  <a:pt x="4357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2e2e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1"/>
          <p:cNvGrpSpPr/>
          <p:nvPr/>
        </p:nvGrpSpPr>
        <p:grpSpPr>
          <a:xfrm>
            <a:off x="3081240" y="2436840"/>
            <a:ext cx="2011320" cy="1967040"/>
            <a:chOff x="3081240" y="2436840"/>
            <a:chExt cx="2011320" cy="1967040"/>
          </a:xfrm>
        </p:grpSpPr>
        <p:pic>
          <p:nvPicPr>
            <p:cNvPr id="828" name="图片 5" descr=""/>
            <p:cNvPicPr/>
            <p:nvPr/>
          </p:nvPicPr>
          <p:blipFill>
            <a:blip r:embed="rId4"/>
            <a:stretch/>
          </p:blipFill>
          <p:spPr>
            <a:xfrm>
              <a:off x="3081240" y="2436840"/>
              <a:ext cx="2011320" cy="19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9" name="组合 10"/>
            <p:cNvGrpSpPr/>
            <p:nvPr/>
          </p:nvGrpSpPr>
          <p:grpSpPr>
            <a:xfrm>
              <a:off x="3289320" y="2588040"/>
              <a:ext cx="1774080" cy="1423080"/>
              <a:chOff x="3289320" y="2588040"/>
              <a:chExt cx="1774080" cy="1423080"/>
            </a:xfrm>
          </p:grpSpPr>
          <p:sp>
            <p:nvSpPr>
              <p:cNvPr id="830" name="任意多边形 26"/>
              <p:cNvSpPr/>
              <p:nvPr/>
            </p:nvSpPr>
            <p:spPr>
              <a:xfrm>
                <a:off x="3289320" y="2588040"/>
                <a:ext cx="1598760" cy="1423080"/>
              </a:xfrm>
              <a:custGeom>
                <a:avLst/>
                <a:gdLst/>
                <a:ahLst/>
                <a:rect l="l" t="t" r="r" b="b"/>
                <a:pathLst>
                  <a:path w="1838210" h="1637281">
                    <a:moveTo>
                      <a:pt x="919105" y="0"/>
                    </a:moveTo>
                    <a:cubicBezTo>
                      <a:pt x="1426713" y="0"/>
                      <a:pt x="1838210" y="411497"/>
                      <a:pt x="1838210" y="919105"/>
                    </a:cubicBezTo>
                    <a:cubicBezTo>
                      <a:pt x="1838210" y="1172909"/>
                      <a:pt x="1735336" y="1402686"/>
                      <a:pt x="1569011" y="1569011"/>
                    </a:cubicBezTo>
                    <a:lnTo>
                      <a:pt x="1486266" y="1637281"/>
                    </a:lnTo>
                    <a:lnTo>
                      <a:pt x="1486266" y="999139"/>
                    </a:lnTo>
                    <a:cubicBezTo>
                      <a:pt x="1486266" y="894725"/>
                      <a:pt x="1401622" y="810081"/>
                      <a:pt x="1297208" y="810081"/>
                    </a:cubicBezTo>
                    <a:lnTo>
                      <a:pt x="541000" y="810081"/>
                    </a:lnTo>
                    <a:cubicBezTo>
                      <a:pt x="436586" y="810081"/>
                      <a:pt x="351942" y="894725"/>
                      <a:pt x="351942" y="999139"/>
                    </a:cubicBezTo>
                    <a:lnTo>
                      <a:pt x="351942" y="1637280"/>
                    </a:lnTo>
                    <a:lnTo>
                      <a:pt x="269200" y="1569011"/>
                    </a:lnTo>
                    <a:cubicBezTo>
                      <a:pt x="102875" y="1402686"/>
                      <a:pt x="0" y="1172909"/>
                      <a:pt x="0" y="919105"/>
                    </a:cubicBezTo>
                    <a:cubicBezTo>
                      <a:pt x="0" y="411497"/>
                      <a:pt x="411497" y="0"/>
                      <a:pt x="91910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2e2e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椭圆 8"/>
              <p:cNvSpPr/>
              <p:nvPr/>
            </p:nvSpPr>
            <p:spPr>
              <a:xfrm>
                <a:off x="4618080" y="3200400"/>
                <a:ext cx="168120" cy="16812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椭圆 28"/>
              <p:cNvSpPr/>
              <p:nvPr/>
            </p:nvSpPr>
            <p:spPr>
              <a:xfrm>
                <a:off x="3360600" y="3200400"/>
                <a:ext cx="168120" cy="16812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文本框 9"/>
              <p:cNvSpPr/>
              <p:nvPr/>
            </p:nvSpPr>
            <p:spPr>
              <a:xfrm>
                <a:off x="3643920" y="2800800"/>
                <a:ext cx="86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2e2e2e"/>
                    </a:solidFill>
                    <a:latin typeface="微软雅黑"/>
                    <a:ea typeface="微软雅黑"/>
                  </a:rPr>
                  <a:t>快递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文本框 85"/>
              <p:cNvSpPr/>
              <p:nvPr/>
            </p:nvSpPr>
            <p:spPr>
              <a:xfrm rot="818400">
                <a:off x="4159440" y="2857320"/>
                <a:ext cx="869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5" name="组合 8"/>
          <p:cNvGrpSpPr/>
          <p:nvPr/>
        </p:nvGrpSpPr>
        <p:grpSpPr>
          <a:xfrm>
            <a:off x="3921120" y="4413240"/>
            <a:ext cx="754200" cy="138240"/>
            <a:chOff x="3921120" y="4413240"/>
            <a:chExt cx="754200" cy="138240"/>
          </a:xfrm>
        </p:grpSpPr>
        <p:sp>
          <p:nvSpPr>
            <p:cNvPr id="836" name="圆角矩形 36"/>
            <p:cNvSpPr/>
            <p:nvPr/>
          </p:nvSpPr>
          <p:spPr>
            <a:xfrm flipH="1" flipV="1" rot="10800000">
              <a:off x="3920760" y="4413240"/>
              <a:ext cx="712440" cy="138240"/>
            </a:xfrm>
            <a:prstGeom prst="roundRect">
              <a:avLst>
                <a:gd name="adj" fmla="val 16667"/>
              </a:avLst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椭圆 37"/>
            <p:cNvSpPr/>
            <p:nvPr/>
          </p:nvSpPr>
          <p:spPr>
            <a:xfrm flipH="1" flipV="1" rot="10800000">
              <a:off x="4534200" y="4413240"/>
              <a:ext cx="140760" cy="13824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8" name="组合 13"/>
          <p:cNvGrpSpPr/>
          <p:nvPr/>
        </p:nvGrpSpPr>
        <p:grpSpPr>
          <a:xfrm>
            <a:off x="3978360" y="4754520"/>
            <a:ext cx="681480" cy="513720"/>
            <a:chOff x="3978360" y="4754520"/>
            <a:chExt cx="681480" cy="513720"/>
          </a:xfrm>
        </p:grpSpPr>
        <p:grpSp>
          <p:nvGrpSpPr>
            <p:cNvPr id="839" name="组合 8"/>
            <p:cNvGrpSpPr/>
            <p:nvPr/>
          </p:nvGrpSpPr>
          <p:grpSpPr>
            <a:xfrm>
              <a:off x="3978360" y="4754520"/>
              <a:ext cx="509760" cy="106560"/>
              <a:chOff x="3978360" y="4754520"/>
              <a:chExt cx="509760" cy="106560"/>
            </a:xfrm>
          </p:grpSpPr>
          <p:sp>
            <p:nvSpPr>
              <p:cNvPr id="840" name="圆角矩形 40"/>
              <p:cNvSpPr/>
              <p:nvPr/>
            </p:nvSpPr>
            <p:spPr>
              <a:xfrm flipH="1" flipV="1">
                <a:off x="4015800" y="4754520"/>
                <a:ext cx="471960" cy="106560"/>
              </a:xfrm>
              <a:prstGeom prst="roundRect">
                <a:avLst>
                  <a:gd name="adj" fmla="val 16667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椭圆 41"/>
              <p:cNvSpPr/>
              <p:nvPr/>
            </p:nvSpPr>
            <p:spPr>
              <a:xfrm flipH="1" flipV="1">
                <a:off x="3978360" y="4754520"/>
                <a:ext cx="93600" cy="10656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2" name="组合 8"/>
            <p:cNvGrpSpPr/>
            <p:nvPr/>
          </p:nvGrpSpPr>
          <p:grpSpPr>
            <a:xfrm>
              <a:off x="4384080" y="4755960"/>
              <a:ext cx="275760" cy="512280"/>
              <a:chOff x="4384080" y="4755960"/>
              <a:chExt cx="275760" cy="512280"/>
            </a:xfrm>
          </p:grpSpPr>
          <p:sp>
            <p:nvSpPr>
              <p:cNvPr id="843" name="圆角矩形 43"/>
              <p:cNvSpPr/>
              <p:nvPr/>
            </p:nvSpPr>
            <p:spPr>
              <a:xfrm flipH="1" flipV="1" rot="14986800">
                <a:off x="4274280" y="4948560"/>
                <a:ext cx="482400" cy="102600"/>
              </a:xfrm>
              <a:prstGeom prst="roundRect">
                <a:avLst>
                  <a:gd name="adj" fmla="val 16667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椭圆 44"/>
              <p:cNvSpPr/>
              <p:nvPr/>
            </p:nvSpPr>
            <p:spPr>
              <a:xfrm flipH="1" flipV="1" rot="14986800">
                <a:off x="4546080" y="5153400"/>
                <a:ext cx="96120" cy="10296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45" name="组合 46"/>
          <p:cNvGrpSpPr/>
          <p:nvPr/>
        </p:nvGrpSpPr>
        <p:grpSpPr>
          <a:xfrm>
            <a:off x="3881520" y="4754520"/>
            <a:ext cx="600840" cy="511200"/>
            <a:chOff x="3881520" y="4754520"/>
            <a:chExt cx="600840" cy="511200"/>
          </a:xfrm>
        </p:grpSpPr>
        <p:grpSp>
          <p:nvGrpSpPr>
            <p:cNvPr id="846" name="组合 8"/>
            <p:cNvGrpSpPr/>
            <p:nvPr/>
          </p:nvGrpSpPr>
          <p:grpSpPr>
            <a:xfrm>
              <a:off x="3881520" y="4754520"/>
              <a:ext cx="440640" cy="106560"/>
              <a:chOff x="3881520" y="4754520"/>
              <a:chExt cx="440640" cy="106560"/>
            </a:xfrm>
          </p:grpSpPr>
          <p:sp>
            <p:nvSpPr>
              <p:cNvPr id="847" name="圆角矩形 51"/>
              <p:cNvSpPr/>
              <p:nvPr/>
            </p:nvSpPr>
            <p:spPr>
              <a:xfrm flipH="1" flipV="1">
                <a:off x="3914640" y="4754520"/>
                <a:ext cx="407520" cy="106560"/>
              </a:xfrm>
              <a:prstGeom prst="roundRect">
                <a:avLst>
                  <a:gd name="adj" fmla="val 16667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椭圆 52"/>
              <p:cNvSpPr/>
              <p:nvPr/>
            </p:nvSpPr>
            <p:spPr>
              <a:xfrm flipH="1" flipV="1">
                <a:off x="3881520" y="4754520"/>
                <a:ext cx="80640" cy="10656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9" name="组合 8"/>
            <p:cNvGrpSpPr/>
            <p:nvPr/>
          </p:nvGrpSpPr>
          <p:grpSpPr>
            <a:xfrm>
              <a:off x="4219920" y="4758480"/>
              <a:ext cx="262440" cy="507240"/>
              <a:chOff x="4219920" y="4758480"/>
              <a:chExt cx="262440" cy="507240"/>
            </a:xfrm>
          </p:grpSpPr>
          <p:sp>
            <p:nvSpPr>
              <p:cNvPr id="850" name="圆角矩形 49"/>
              <p:cNvSpPr/>
              <p:nvPr/>
            </p:nvSpPr>
            <p:spPr>
              <a:xfrm flipH="1" flipV="1" rot="14986800">
                <a:off x="4102920" y="4955760"/>
                <a:ext cx="482400" cy="88200"/>
              </a:xfrm>
              <a:prstGeom prst="roundRect">
                <a:avLst>
                  <a:gd name="adj" fmla="val 16667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椭圆 50"/>
              <p:cNvSpPr/>
              <p:nvPr/>
            </p:nvSpPr>
            <p:spPr>
              <a:xfrm flipH="1" flipV="1" rot="14986800">
                <a:off x="4376160" y="5160600"/>
                <a:ext cx="96120" cy="8820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2" name="组合 118"/>
          <p:cNvGrpSpPr/>
          <p:nvPr/>
        </p:nvGrpSpPr>
        <p:grpSpPr>
          <a:xfrm>
            <a:off x="1980000" y="3271680"/>
            <a:ext cx="1456200" cy="1590840"/>
            <a:chOff x="1980000" y="3271680"/>
            <a:chExt cx="1456200" cy="1590840"/>
          </a:xfrm>
        </p:grpSpPr>
        <p:grpSp>
          <p:nvGrpSpPr>
            <p:cNvPr id="853" name="组合 92"/>
            <p:cNvGrpSpPr/>
            <p:nvPr/>
          </p:nvGrpSpPr>
          <p:grpSpPr>
            <a:xfrm>
              <a:off x="1980000" y="3271680"/>
              <a:ext cx="1456200" cy="1590840"/>
              <a:chOff x="1980000" y="3271680"/>
              <a:chExt cx="1456200" cy="1590840"/>
            </a:xfrm>
          </p:grpSpPr>
          <p:grpSp>
            <p:nvGrpSpPr>
              <p:cNvPr id="854" name="组合 90"/>
              <p:cNvGrpSpPr/>
              <p:nvPr/>
            </p:nvGrpSpPr>
            <p:grpSpPr>
              <a:xfrm>
                <a:off x="2152800" y="3271680"/>
                <a:ext cx="1136880" cy="830520"/>
                <a:chOff x="2152800" y="3271680"/>
                <a:chExt cx="1136880" cy="830520"/>
              </a:xfrm>
            </p:grpSpPr>
            <p:sp>
              <p:nvSpPr>
                <p:cNvPr id="855" name="Freeform 163"/>
                <p:cNvSpPr/>
                <p:nvPr/>
              </p:nvSpPr>
              <p:spPr>
                <a:xfrm rot="20919000">
                  <a:off x="2572200" y="3330360"/>
                  <a:ext cx="662400" cy="624240"/>
                </a:xfrm>
                <a:custGeom>
                  <a:avLst/>
                  <a:gdLst>
                    <a:gd name="textAreaLeft" fmla="*/ 0 w 662400"/>
                    <a:gd name="textAreaRight" fmla="*/ 662760 w 66240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408" h="384">
                      <a:moveTo>
                        <a:pt x="48" y="384"/>
                      </a:moveTo>
                      <a:cubicBezTo>
                        <a:pt x="0" y="384"/>
                        <a:pt x="72" y="208"/>
                        <a:pt x="96" y="144"/>
                      </a:cubicBezTo>
                      <a:cubicBezTo>
                        <a:pt x="120" y="80"/>
                        <a:pt x="144" y="0"/>
                        <a:pt x="192" y="0"/>
                      </a:cubicBezTo>
                      <a:cubicBezTo>
                        <a:pt x="240" y="0"/>
                        <a:pt x="408" y="80"/>
                        <a:pt x="384" y="144"/>
                      </a:cubicBezTo>
                      <a:cubicBezTo>
                        <a:pt x="360" y="208"/>
                        <a:pt x="96" y="384"/>
                        <a:pt x="48" y="384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6" name="Freeform 164"/>
                <p:cNvSpPr/>
                <p:nvPr/>
              </p:nvSpPr>
              <p:spPr>
                <a:xfrm rot="16001400">
                  <a:off x="2101320" y="3494880"/>
                  <a:ext cx="662760" cy="522720"/>
                </a:xfrm>
                <a:custGeom>
                  <a:avLst/>
                  <a:gdLst>
                    <a:gd name="textAreaLeft" fmla="*/ 0 w 662760"/>
                    <a:gd name="textAreaRight" fmla="*/ 663120 w 662760"/>
                    <a:gd name="textAreaTop" fmla="*/ 0 h 522720"/>
                    <a:gd name="textAreaBottom" fmla="*/ 523080 h 522720"/>
                  </a:gdLst>
                  <a:ahLst/>
                  <a:rect l="textAreaLeft" t="textAreaTop" r="textAreaRight" b="textAreaBottom"/>
                  <a:pathLst>
                    <a:path w="408" h="384">
                      <a:moveTo>
                        <a:pt x="48" y="384"/>
                      </a:moveTo>
                      <a:cubicBezTo>
                        <a:pt x="0" y="384"/>
                        <a:pt x="72" y="208"/>
                        <a:pt x="96" y="144"/>
                      </a:cubicBezTo>
                      <a:cubicBezTo>
                        <a:pt x="120" y="80"/>
                        <a:pt x="144" y="0"/>
                        <a:pt x="192" y="0"/>
                      </a:cubicBezTo>
                      <a:cubicBezTo>
                        <a:pt x="240" y="0"/>
                        <a:pt x="408" y="80"/>
                        <a:pt x="384" y="144"/>
                      </a:cubicBezTo>
                      <a:cubicBezTo>
                        <a:pt x="360" y="208"/>
                        <a:pt x="96" y="384"/>
                        <a:pt x="48" y="384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7" name="Freeform 165"/>
                <p:cNvSpPr/>
                <p:nvPr/>
              </p:nvSpPr>
              <p:spPr>
                <a:xfrm rot="20919000">
                  <a:off x="2649600" y="3575160"/>
                  <a:ext cx="450720" cy="318600"/>
                </a:xfrm>
                <a:custGeom>
                  <a:avLst/>
                  <a:gdLst>
                    <a:gd name="textAreaLeft" fmla="*/ 0 w 450720"/>
                    <a:gd name="textAreaRight" fmla="*/ 451080 w 450720"/>
                    <a:gd name="textAreaTop" fmla="*/ 0 h 318600"/>
                    <a:gd name="textAreaBottom" fmla="*/ 318960 h 318600"/>
                  </a:gdLst>
                  <a:ahLst/>
                  <a:rect l="textAreaLeft" t="textAreaTop" r="textAreaRight" b="textAreaBottom"/>
                  <a:pathLst>
                    <a:path w="408" h="384">
                      <a:moveTo>
                        <a:pt x="48" y="384"/>
                      </a:moveTo>
                      <a:cubicBezTo>
                        <a:pt x="0" y="384"/>
                        <a:pt x="72" y="208"/>
                        <a:pt x="96" y="144"/>
                      </a:cubicBezTo>
                      <a:cubicBezTo>
                        <a:pt x="120" y="80"/>
                        <a:pt x="144" y="0"/>
                        <a:pt x="192" y="0"/>
                      </a:cubicBezTo>
                      <a:cubicBezTo>
                        <a:pt x="240" y="0"/>
                        <a:pt x="408" y="80"/>
                        <a:pt x="384" y="144"/>
                      </a:cubicBezTo>
                      <a:cubicBezTo>
                        <a:pt x="360" y="208"/>
                        <a:pt x="96" y="384"/>
                        <a:pt x="48" y="38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8" name="Freeform 166"/>
                <p:cNvSpPr/>
                <p:nvPr/>
              </p:nvSpPr>
              <p:spPr>
                <a:xfrm rot="15954600">
                  <a:off x="2363400" y="3632400"/>
                  <a:ext cx="286560" cy="35892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358920"/>
                    <a:gd name="textAreaBottom" fmla="*/ 359280 h 358920"/>
                  </a:gdLst>
                  <a:ahLst/>
                  <a:rect l="textAreaLeft" t="textAreaTop" r="textAreaRight" b="textAreaBottom"/>
                  <a:pathLst>
                    <a:path w="408" h="384">
                      <a:moveTo>
                        <a:pt x="48" y="384"/>
                      </a:moveTo>
                      <a:cubicBezTo>
                        <a:pt x="0" y="384"/>
                        <a:pt x="72" y="208"/>
                        <a:pt x="96" y="144"/>
                      </a:cubicBezTo>
                      <a:cubicBezTo>
                        <a:pt x="120" y="80"/>
                        <a:pt x="144" y="0"/>
                        <a:pt x="192" y="0"/>
                      </a:cubicBezTo>
                      <a:cubicBezTo>
                        <a:pt x="240" y="0"/>
                        <a:pt x="408" y="80"/>
                        <a:pt x="384" y="144"/>
                      </a:cubicBezTo>
                      <a:cubicBezTo>
                        <a:pt x="360" y="208"/>
                        <a:pt x="96" y="384"/>
                        <a:pt x="48" y="38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9" name="组合 89"/>
              <p:cNvGrpSpPr/>
              <p:nvPr/>
            </p:nvGrpSpPr>
            <p:grpSpPr>
              <a:xfrm>
                <a:off x="1980000" y="3816720"/>
                <a:ext cx="1456200" cy="1045800"/>
                <a:chOff x="1980000" y="3816720"/>
                <a:chExt cx="1456200" cy="1045800"/>
              </a:xfrm>
            </p:grpSpPr>
            <p:sp>
              <p:nvSpPr>
                <p:cNvPr id="860" name="AutoShape 159"/>
                <p:cNvSpPr/>
                <p:nvPr/>
              </p:nvSpPr>
              <p:spPr>
                <a:xfrm rot="21103800">
                  <a:off x="2194560" y="4005000"/>
                  <a:ext cx="1191960" cy="775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57240">
                  <a:solidFill>
                    <a:srgbClr val="2e2e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1" name="圆角矩形 88"/>
                <p:cNvSpPr/>
                <p:nvPr/>
              </p:nvSpPr>
              <p:spPr>
                <a:xfrm rot="21103800">
                  <a:off x="1981800" y="3918600"/>
                  <a:ext cx="1428840" cy="13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2e2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62" name="直接连接符 99"/>
            <p:cNvSpPr/>
            <p:nvPr/>
          </p:nvSpPr>
          <p:spPr>
            <a:xfrm>
              <a:off x="2706480" y="4051440"/>
              <a:ext cx="133200" cy="726840"/>
            </a:xfrm>
            <a:prstGeom prst="line">
              <a:avLst/>
            </a:prstGeom>
            <a:ln w="12708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15"/>
            <p:cNvGrpSpPr/>
            <p:nvPr/>
          </p:nvGrpSpPr>
          <p:grpSpPr>
            <a:xfrm>
              <a:off x="2498400" y="4117680"/>
              <a:ext cx="565920" cy="561240"/>
              <a:chOff x="2498400" y="4117680"/>
              <a:chExt cx="565920" cy="561240"/>
            </a:xfrm>
          </p:grpSpPr>
          <p:sp>
            <p:nvSpPr>
              <p:cNvPr id="864" name="椭圆 112"/>
              <p:cNvSpPr/>
              <p:nvPr/>
            </p:nvSpPr>
            <p:spPr>
              <a:xfrm rot="162000">
                <a:off x="2564640" y="4141440"/>
                <a:ext cx="441360" cy="44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7"/>
              <p:cNvSpPr/>
              <p:nvPr/>
            </p:nvSpPr>
            <p:spPr>
              <a:xfrm rot="21251400">
                <a:off x="2522880" y="4142160"/>
                <a:ext cx="516960" cy="511560"/>
              </a:xfrm>
              <a:custGeom>
                <a:avLst/>
                <a:gdLst>
                  <a:gd name="textAreaLeft" fmla="*/ 0 w 516960"/>
                  <a:gd name="textAreaRight" fmla="*/ 516960 w 516960"/>
                  <a:gd name="textAreaTop" fmla="*/ 0 h 511560"/>
                  <a:gd name="textAreaBottom" fmla="*/ 511920 h 511560"/>
                </a:gdLst>
                <a:ahLst/>
                <a:rect l="textAreaLeft" t="textAreaTop" r="textAreaRight" b="textAreaBottom"/>
                <a:pathLst>
                  <a:path w="1402" h="1390">
                    <a:moveTo>
                      <a:pt x="572" y="249"/>
                    </a:moveTo>
                    <a:lnTo>
                      <a:pt x="483" y="253"/>
                    </a:lnTo>
                    <a:lnTo>
                      <a:pt x="461" y="258"/>
                    </a:lnTo>
                    <a:lnTo>
                      <a:pt x="445" y="265"/>
                    </a:lnTo>
                    <a:lnTo>
                      <a:pt x="435" y="277"/>
                    </a:lnTo>
                    <a:lnTo>
                      <a:pt x="429" y="293"/>
                    </a:lnTo>
                    <a:lnTo>
                      <a:pt x="429" y="313"/>
                    </a:lnTo>
                    <a:lnTo>
                      <a:pt x="429" y="345"/>
                    </a:lnTo>
                    <a:lnTo>
                      <a:pt x="431" y="361"/>
                    </a:lnTo>
                    <a:lnTo>
                      <a:pt x="435" y="374"/>
                    </a:lnTo>
                    <a:lnTo>
                      <a:pt x="444" y="383"/>
                    </a:lnTo>
                    <a:lnTo>
                      <a:pt x="457" y="387"/>
                    </a:lnTo>
                    <a:lnTo>
                      <a:pt x="473" y="389"/>
                    </a:lnTo>
                    <a:lnTo>
                      <a:pt x="511" y="392"/>
                    </a:lnTo>
                    <a:lnTo>
                      <a:pt x="548" y="394"/>
                    </a:lnTo>
                    <a:lnTo>
                      <a:pt x="582" y="397"/>
                    </a:lnTo>
                    <a:lnTo>
                      <a:pt x="607" y="403"/>
                    </a:lnTo>
                    <a:lnTo>
                      <a:pt x="625" y="413"/>
                    </a:lnTo>
                    <a:lnTo>
                      <a:pt x="640" y="426"/>
                    </a:lnTo>
                    <a:lnTo>
                      <a:pt x="649" y="447"/>
                    </a:lnTo>
                    <a:lnTo>
                      <a:pt x="653" y="472"/>
                    </a:lnTo>
                    <a:lnTo>
                      <a:pt x="653" y="504"/>
                    </a:lnTo>
                    <a:lnTo>
                      <a:pt x="646" y="1080"/>
                    </a:lnTo>
                    <a:lnTo>
                      <a:pt x="646" y="1107"/>
                    </a:lnTo>
                    <a:lnTo>
                      <a:pt x="650" y="1132"/>
                    </a:lnTo>
                    <a:lnTo>
                      <a:pt x="659" y="1155"/>
                    </a:lnTo>
                    <a:lnTo>
                      <a:pt x="671" y="1176"/>
                    </a:lnTo>
                    <a:lnTo>
                      <a:pt x="689" y="1195"/>
                    </a:lnTo>
                    <a:lnTo>
                      <a:pt x="707" y="1205"/>
                    </a:lnTo>
                    <a:lnTo>
                      <a:pt x="726" y="1212"/>
                    </a:lnTo>
                    <a:lnTo>
                      <a:pt x="746" y="1218"/>
                    </a:lnTo>
                    <a:lnTo>
                      <a:pt x="753" y="1200"/>
                    </a:lnTo>
                    <a:lnTo>
                      <a:pt x="759" y="1182"/>
                    </a:lnTo>
                    <a:lnTo>
                      <a:pt x="762" y="1163"/>
                    </a:lnTo>
                    <a:lnTo>
                      <a:pt x="762" y="486"/>
                    </a:lnTo>
                    <a:lnTo>
                      <a:pt x="765" y="457"/>
                    </a:lnTo>
                    <a:lnTo>
                      <a:pt x="772" y="435"/>
                    </a:lnTo>
                    <a:lnTo>
                      <a:pt x="784" y="418"/>
                    </a:lnTo>
                    <a:lnTo>
                      <a:pt x="801" y="406"/>
                    </a:lnTo>
                    <a:lnTo>
                      <a:pt x="825" y="402"/>
                    </a:lnTo>
                    <a:lnTo>
                      <a:pt x="854" y="400"/>
                    </a:lnTo>
                    <a:lnTo>
                      <a:pt x="954" y="409"/>
                    </a:lnTo>
                    <a:lnTo>
                      <a:pt x="1075" y="419"/>
                    </a:lnTo>
                    <a:lnTo>
                      <a:pt x="1078" y="410"/>
                    </a:lnTo>
                    <a:lnTo>
                      <a:pt x="1071" y="405"/>
                    </a:lnTo>
                    <a:lnTo>
                      <a:pt x="1063" y="397"/>
                    </a:lnTo>
                    <a:lnTo>
                      <a:pt x="1055" y="392"/>
                    </a:lnTo>
                    <a:lnTo>
                      <a:pt x="979" y="348"/>
                    </a:lnTo>
                    <a:lnTo>
                      <a:pt x="902" y="312"/>
                    </a:lnTo>
                    <a:lnTo>
                      <a:pt x="822" y="284"/>
                    </a:lnTo>
                    <a:lnTo>
                      <a:pt x="740" y="265"/>
                    </a:lnTo>
                    <a:lnTo>
                      <a:pt x="656" y="253"/>
                    </a:lnTo>
                    <a:lnTo>
                      <a:pt x="572" y="249"/>
                    </a:lnTo>
                    <a:close/>
                    <a:moveTo>
                      <a:pt x="703" y="0"/>
                    </a:moveTo>
                    <a:lnTo>
                      <a:pt x="778" y="5"/>
                    </a:lnTo>
                    <a:lnTo>
                      <a:pt x="852" y="18"/>
                    </a:lnTo>
                    <a:lnTo>
                      <a:pt x="924" y="37"/>
                    </a:lnTo>
                    <a:lnTo>
                      <a:pt x="991" y="64"/>
                    </a:lnTo>
                    <a:lnTo>
                      <a:pt x="1055" y="98"/>
                    </a:lnTo>
                    <a:lnTo>
                      <a:pt x="1116" y="137"/>
                    </a:lnTo>
                    <a:lnTo>
                      <a:pt x="1171" y="182"/>
                    </a:lnTo>
                    <a:lnTo>
                      <a:pt x="1222" y="232"/>
                    </a:lnTo>
                    <a:lnTo>
                      <a:pt x="1267" y="288"/>
                    </a:lnTo>
                    <a:lnTo>
                      <a:pt x="1306" y="348"/>
                    </a:lnTo>
                    <a:lnTo>
                      <a:pt x="1340" y="410"/>
                    </a:lnTo>
                    <a:lnTo>
                      <a:pt x="1366" y="479"/>
                    </a:lnTo>
                    <a:lnTo>
                      <a:pt x="1386" y="549"/>
                    </a:lnTo>
                    <a:lnTo>
                      <a:pt x="1398" y="621"/>
                    </a:lnTo>
                    <a:lnTo>
                      <a:pt x="1402" y="697"/>
                    </a:lnTo>
                    <a:lnTo>
                      <a:pt x="1398" y="773"/>
                    </a:lnTo>
                    <a:lnTo>
                      <a:pt x="1386" y="847"/>
                    </a:lnTo>
                    <a:lnTo>
                      <a:pt x="1366" y="918"/>
                    </a:lnTo>
                    <a:lnTo>
                      <a:pt x="1340" y="985"/>
                    </a:lnTo>
                    <a:lnTo>
                      <a:pt x="1308" y="1049"/>
                    </a:lnTo>
                    <a:lnTo>
                      <a:pt x="1268" y="1107"/>
                    </a:lnTo>
                    <a:lnTo>
                      <a:pt x="1223" y="1163"/>
                    </a:lnTo>
                    <a:lnTo>
                      <a:pt x="1172" y="1212"/>
                    </a:lnTo>
                    <a:lnTo>
                      <a:pt x="1117" y="1257"/>
                    </a:lnTo>
                    <a:lnTo>
                      <a:pt x="1057" y="1297"/>
                    </a:lnTo>
                    <a:lnTo>
                      <a:pt x="992" y="1329"/>
                    </a:lnTo>
                    <a:lnTo>
                      <a:pt x="925" y="1355"/>
                    </a:lnTo>
                    <a:lnTo>
                      <a:pt x="854" y="1374"/>
                    </a:lnTo>
                    <a:lnTo>
                      <a:pt x="780" y="1385"/>
                    </a:lnTo>
                    <a:lnTo>
                      <a:pt x="703" y="1390"/>
                    </a:lnTo>
                    <a:lnTo>
                      <a:pt x="625" y="1385"/>
                    </a:lnTo>
                    <a:lnTo>
                      <a:pt x="551" y="1374"/>
                    </a:lnTo>
                    <a:lnTo>
                      <a:pt x="480" y="1353"/>
                    </a:lnTo>
                    <a:lnTo>
                      <a:pt x="412" y="1327"/>
                    </a:lnTo>
                    <a:lnTo>
                      <a:pt x="348" y="1294"/>
                    </a:lnTo>
                    <a:lnTo>
                      <a:pt x="287" y="1253"/>
                    </a:lnTo>
                    <a:lnTo>
                      <a:pt x="231" y="1208"/>
                    </a:lnTo>
                    <a:lnTo>
                      <a:pt x="180" y="1157"/>
                    </a:lnTo>
                    <a:lnTo>
                      <a:pt x="135" y="1102"/>
                    </a:lnTo>
                    <a:lnTo>
                      <a:pt x="96" y="1042"/>
                    </a:lnTo>
                    <a:lnTo>
                      <a:pt x="63" y="976"/>
                    </a:lnTo>
                    <a:lnTo>
                      <a:pt x="36" y="910"/>
                    </a:lnTo>
                    <a:lnTo>
                      <a:pt x="16" y="838"/>
                    </a:lnTo>
                    <a:lnTo>
                      <a:pt x="4" y="764"/>
                    </a:lnTo>
                    <a:lnTo>
                      <a:pt x="0" y="687"/>
                    </a:lnTo>
                    <a:lnTo>
                      <a:pt x="4" y="613"/>
                    </a:lnTo>
                    <a:lnTo>
                      <a:pt x="17" y="539"/>
                    </a:lnTo>
                    <a:lnTo>
                      <a:pt x="36" y="469"/>
                    </a:lnTo>
                    <a:lnTo>
                      <a:pt x="64" y="402"/>
                    </a:lnTo>
                    <a:lnTo>
                      <a:pt x="97" y="339"/>
                    </a:lnTo>
                    <a:lnTo>
                      <a:pt x="137" y="281"/>
                    </a:lnTo>
                    <a:lnTo>
                      <a:pt x="182" y="226"/>
                    </a:lnTo>
                    <a:lnTo>
                      <a:pt x="233" y="176"/>
                    </a:lnTo>
                    <a:lnTo>
                      <a:pt x="288" y="133"/>
                    </a:lnTo>
                    <a:lnTo>
                      <a:pt x="349" y="93"/>
                    </a:lnTo>
                    <a:lnTo>
                      <a:pt x="413" y="61"/>
                    </a:lnTo>
                    <a:lnTo>
                      <a:pt x="480" y="35"/>
                    </a:lnTo>
                    <a:lnTo>
                      <a:pt x="551" y="16"/>
                    </a:lnTo>
                    <a:lnTo>
                      <a:pt x="625" y="5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66" name="Freeform 20"/>
          <p:cNvSpPr/>
          <p:nvPr/>
        </p:nvSpPr>
        <p:spPr>
          <a:xfrm rot="19748400">
            <a:off x="1758960" y="4924080"/>
            <a:ext cx="669960" cy="723960"/>
          </a:xfrm>
          <a:custGeom>
            <a:avLst/>
            <a:gdLst/>
            <a:ahLst/>
            <a:rect l="l" t="t" r="r" b="b"/>
            <a:pathLst>
              <a:path w="103" h="111">
                <a:moveTo>
                  <a:pt x="69" y="86"/>
                </a:moveTo>
                <a:cubicBezTo>
                  <a:pt x="68" y="88"/>
                  <a:pt x="68" y="88"/>
                  <a:pt x="68" y="88"/>
                </a:cubicBezTo>
                <a:cubicBezTo>
                  <a:pt x="67" y="90"/>
                  <a:pt x="65" y="92"/>
                  <a:pt x="63" y="94"/>
                </a:cubicBezTo>
                <a:cubicBezTo>
                  <a:pt x="60" y="98"/>
                  <a:pt x="54" y="100"/>
                  <a:pt x="49" y="100"/>
                </a:cubicBezTo>
                <a:cubicBezTo>
                  <a:pt x="43" y="100"/>
                  <a:pt x="38" y="97"/>
                  <a:pt x="34" y="93"/>
                </a:cubicBezTo>
                <a:cubicBezTo>
                  <a:pt x="33" y="92"/>
                  <a:pt x="33" y="92"/>
                  <a:pt x="33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1" y="93"/>
                  <a:pt x="30" y="93"/>
                  <a:pt x="29" y="93"/>
                </a:cubicBezTo>
                <a:cubicBezTo>
                  <a:pt x="21" y="93"/>
                  <a:pt x="14" y="90"/>
                  <a:pt x="9" y="84"/>
                </a:cubicBezTo>
                <a:cubicBezTo>
                  <a:pt x="0" y="74"/>
                  <a:pt x="0" y="58"/>
                  <a:pt x="10" y="48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6" y="33"/>
                  <a:pt x="10" y="18"/>
                  <a:pt x="21" y="9"/>
                </a:cubicBezTo>
                <a:cubicBezTo>
                  <a:pt x="27" y="3"/>
                  <a:pt x="36" y="0"/>
                  <a:pt x="45" y="0"/>
                </a:cubicBezTo>
                <a:cubicBezTo>
                  <a:pt x="55" y="0"/>
                  <a:pt x="64" y="4"/>
                  <a:pt x="71" y="12"/>
                </a:cubicBezTo>
                <a:cubicBezTo>
                  <a:pt x="73" y="14"/>
                  <a:pt x="75" y="16"/>
                  <a:pt x="76" y="18"/>
                </a:cubicBezTo>
                <a:cubicBezTo>
                  <a:pt x="76" y="19"/>
                  <a:pt x="76" y="19"/>
                  <a:pt x="76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2" y="21"/>
                  <a:pt x="86" y="24"/>
                  <a:pt x="89" y="27"/>
                </a:cubicBezTo>
                <a:cubicBezTo>
                  <a:pt x="101" y="40"/>
                  <a:pt x="100" y="61"/>
                  <a:pt x="87" y="72"/>
                </a:cubicBezTo>
                <a:cubicBezTo>
                  <a:pt x="86" y="73"/>
                  <a:pt x="85" y="74"/>
                  <a:pt x="84" y="74"/>
                </a:cubicBezTo>
                <a:cubicBezTo>
                  <a:pt x="83" y="75"/>
                  <a:pt x="83" y="75"/>
                  <a:pt x="83" y="75"/>
                </a:cubicBezTo>
                <a:cubicBezTo>
                  <a:pt x="103" y="105"/>
                  <a:pt x="103" y="105"/>
                  <a:pt x="103" y="105"/>
                </a:cubicBezTo>
                <a:cubicBezTo>
                  <a:pt x="103" y="105"/>
                  <a:pt x="103" y="105"/>
                  <a:pt x="103" y="105"/>
                </a:cubicBezTo>
                <a:cubicBezTo>
                  <a:pt x="72" y="68"/>
                  <a:pt x="72" y="68"/>
                  <a:pt x="72" y="68"/>
                </a:cubicBezTo>
                <a:cubicBezTo>
                  <a:pt x="76" y="65"/>
                  <a:pt x="76" y="65"/>
                  <a:pt x="76" y="65"/>
                </a:cubicBezTo>
                <a:cubicBezTo>
                  <a:pt x="80" y="71"/>
                  <a:pt x="80" y="71"/>
                  <a:pt x="80" y="71"/>
                </a:cubicBezTo>
                <a:cubicBezTo>
                  <a:pt x="81" y="70"/>
                  <a:pt x="81" y="70"/>
                  <a:pt x="81" y="70"/>
                </a:cubicBezTo>
                <a:cubicBezTo>
                  <a:pt x="82" y="69"/>
                  <a:pt x="82" y="69"/>
                  <a:pt x="83" y="68"/>
                </a:cubicBezTo>
                <a:cubicBezTo>
                  <a:pt x="94" y="59"/>
                  <a:pt x="95" y="42"/>
                  <a:pt x="85" y="31"/>
                </a:cubicBezTo>
                <a:cubicBezTo>
                  <a:pt x="82" y="28"/>
                  <a:pt x="78" y="25"/>
                  <a:pt x="73" y="24"/>
                </a:cubicBezTo>
                <a:cubicBezTo>
                  <a:pt x="72" y="23"/>
                  <a:pt x="72" y="23"/>
                  <a:pt x="72" y="23"/>
                </a:cubicBezTo>
                <a:cubicBezTo>
                  <a:pt x="72" y="22"/>
                  <a:pt x="72" y="22"/>
                  <a:pt x="72" y="22"/>
                </a:cubicBezTo>
                <a:cubicBezTo>
                  <a:pt x="70" y="20"/>
                  <a:pt x="69" y="17"/>
                  <a:pt x="67" y="15"/>
                </a:cubicBezTo>
                <a:cubicBezTo>
                  <a:pt x="61" y="9"/>
                  <a:pt x="53" y="5"/>
                  <a:pt x="45" y="5"/>
                </a:cubicBezTo>
                <a:cubicBezTo>
                  <a:pt x="37" y="5"/>
                  <a:pt x="30" y="8"/>
                  <a:pt x="25" y="13"/>
                </a:cubicBezTo>
                <a:cubicBezTo>
                  <a:pt x="15" y="22"/>
                  <a:pt x="12" y="35"/>
                  <a:pt x="17" y="47"/>
                </a:cubicBezTo>
                <a:cubicBezTo>
                  <a:pt x="18" y="49"/>
                  <a:pt x="18" y="49"/>
                  <a:pt x="18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5" y="51"/>
                  <a:pt x="15" y="51"/>
                </a:cubicBezTo>
                <a:cubicBezTo>
                  <a:pt x="7" y="59"/>
                  <a:pt x="6" y="72"/>
                  <a:pt x="13" y="80"/>
                </a:cubicBezTo>
                <a:cubicBezTo>
                  <a:pt x="17" y="85"/>
                  <a:pt x="23" y="87"/>
                  <a:pt x="29" y="87"/>
                </a:cubicBezTo>
                <a:cubicBezTo>
                  <a:pt x="30" y="87"/>
                  <a:pt x="32" y="87"/>
                  <a:pt x="34" y="86"/>
                </a:cubicBezTo>
                <a:cubicBezTo>
                  <a:pt x="36" y="86"/>
                  <a:pt x="36" y="86"/>
                  <a:pt x="36" y="86"/>
                </a:cubicBezTo>
                <a:cubicBezTo>
                  <a:pt x="37" y="88"/>
                  <a:pt x="37" y="88"/>
                  <a:pt x="37" y="88"/>
                </a:cubicBezTo>
                <a:cubicBezTo>
                  <a:pt x="37" y="88"/>
                  <a:pt x="37" y="88"/>
                  <a:pt x="38" y="89"/>
                </a:cubicBezTo>
                <a:cubicBezTo>
                  <a:pt x="41" y="92"/>
                  <a:pt x="45" y="94"/>
                  <a:pt x="49" y="94"/>
                </a:cubicBezTo>
                <a:cubicBezTo>
                  <a:pt x="53" y="94"/>
                  <a:pt x="57" y="93"/>
                  <a:pt x="60" y="90"/>
                </a:cubicBezTo>
                <a:cubicBezTo>
                  <a:pt x="62" y="88"/>
                  <a:pt x="63" y="86"/>
                  <a:pt x="64" y="83"/>
                </a:cubicBezTo>
                <a:cubicBezTo>
                  <a:pt x="64" y="82"/>
                  <a:pt x="64" y="82"/>
                  <a:pt x="64" y="82"/>
                </a:cubicBezTo>
                <a:cubicBezTo>
                  <a:pt x="61" y="79"/>
                  <a:pt x="61" y="79"/>
                  <a:pt x="61" y="79"/>
                </a:cubicBezTo>
                <a:cubicBezTo>
                  <a:pt x="64" y="76"/>
                  <a:pt x="64" y="76"/>
                  <a:pt x="64" y="76"/>
                </a:cubicBezTo>
                <a:cubicBezTo>
                  <a:pt x="98" y="110"/>
                  <a:pt x="98" y="110"/>
                  <a:pt x="98" y="110"/>
                </a:cubicBezTo>
                <a:cubicBezTo>
                  <a:pt x="97" y="111"/>
                  <a:pt x="97" y="111"/>
                  <a:pt x="97" y="111"/>
                </a:cubicBezTo>
                <a:lnTo>
                  <a:pt x="69" y="86"/>
                </a:lnTo>
                <a:close/>
              </a:path>
            </a:pathLst>
          </a:custGeom>
          <a:solidFill>
            <a:srgbClr val="2e2e2e"/>
          </a:solidFill>
          <a:ln w="9360">
            <a:solidFill>
              <a:srgbClr val="2e2e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0"/>
          <p:cNvSpPr/>
          <p:nvPr/>
        </p:nvSpPr>
        <p:spPr>
          <a:xfrm rot="19748400">
            <a:off x="2860200" y="5211360"/>
            <a:ext cx="479520" cy="517680"/>
          </a:xfrm>
          <a:custGeom>
            <a:avLst/>
            <a:gdLst/>
            <a:ahLst/>
            <a:rect l="l" t="t" r="r" b="b"/>
            <a:pathLst>
              <a:path w="103" h="111">
                <a:moveTo>
                  <a:pt x="69" y="86"/>
                </a:moveTo>
                <a:cubicBezTo>
                  <a:pt x="68" y="88"/>
                  <a:pt x="68" y="88"/>
                  <a:pt x="68" y="88"/>
                </a:cubicBezTo>
                <a:cubicBezTo>
                  <a:pt x="67" y="90"/>
                  <a:pt x="65" y="92"/>
                  <a:pt x="63" y="94"/>
                </a:cubicBezTo>
                <a:cubicBezTo>
                  <a:pt x="60" y="98"/>
                  <a:pt x="54" y="100"/>
                  <a:pt x="49" y="100"/>
                </a:cubicBezTo>
                <a:cubicBezTo>
                  <a:pt x="43" y="100"/>
                  <a:pt x="38" y="97"/>
                  <a:pt x="34" y="93"/>
                </a:cubicBezTo>
                <a:cubicBezTo>
                  <a:pt x="33" y="92"/>
                  <a:pt x="33" y="92"/>
                  <a:pt x="33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1" y="93"/>
                  <a:pt x="30" y="93"/>
                  <a:pt x="29" y="93"/>
                </a:cubicBezTo>
                <a:cubicBezTo>
                  <a:pt x="21" y="93"/>
                  <a:pt x="14" y="90"/>
                  <a:pt x="9" y="84"/>
                </a:cubicBezTo>
                <a:cubicBezTo>
                  <a:pt x="0" y="74"/>
                  <a:pt x="0" y="58"/>
                  <a:pt x="10" y="48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6" y="33"/>
                  <a:pt x="10" y="18"/>
                  <a:pt x="21" y="9"/>
                </a:cubicBezTo>
                <a:cubicBezTo>
                  <a:pt x="27" y="3"/>
                  <a:pt x="36" y="0"/>
                  <a:pt x="45" y="0"/>
                </a:cubicBezTo>
                <a:cubicBezTo>
                  <a:pt x="55" y="0"/>
                  <a:pt x="64" y="4"/>
                  <a:pt x="71" y="12"/>
                </a:cubicBezTo>
                <a:cubicBezTo>
                  <a:pt x="73" y="14"/>
                  <a:pt x="75" y="16"/>
                  <a:pt x="76" y="18"/>
                </a:cubicBezTo>
                <a:cubicBezTo>
                  <a:pt x="76" y="19"/>
                  <a:pt x="76" y="19"/>
                  <a:pt x="76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2" y="21"/>
                  <a:pt x="86" y="24"/>
                  <a:pt x="89" y="27"/>
                </a:cubicBezTo>
                <a:cubicBezTo>
                  <a:pt x="101" y="40"/>
                  <a:pt x="100" y="61"/>
                  <a:pt x="87" y="72"/>
                </a:cubicBezTo>
                <a:cubicBezTo>
                  <a:pt x="86" y="73"/>
                  <a:pt x="85" y="74"/>
                  <a:pt x="84" y="74"/>
                </a:cubicBezTo>
                <a:cubicBezTo>
                  <a:pt x="83" y="75"/>
                  <a:pt x="83" y="75"/>
                  <a:pt x="83" y="75"/>
                </a:cubicBezTo>
                <a:cubicBezTo>
                  <a:pt x="103" y="105"/>
                  <a:pt x="103" y="105"/>
                  <a:pt x="103" y="105"/>
                </a:cubicBezTo>
                <a:cubicBezTo>
                  <a:pt x="103" y="105"/>
                  <a:pt x="103" y="105"/>
                  <a:pt x="103" y="105"/>
                </a:cubicBezTo>
                <a:cubicBezTo>
                  <a:pt x="72" y="68"/>
                  <a:pt x="72" y="68"/>
                  <a:pt x="72" y="68"/>
                </a:cubicBezTo>
                <a:cubicBezTo>
                  <a:pt x="76" y="65"/>
                  <a:pt x="76" y="65"/>
                  <a:pt x="76" y="65"/>
                </a:cubicBezTo>
                <a:cubicBezTo>
                  <a:pt x="80" y="71"/>
                  <a:pt x="80" y="71"/>
                  <a:pt x="80" y="71"/>
                </a:cubicBezTo>
                <a:cubicBezTo>
                  <a:pt x="81" y="70"/>
                  <a:pt x="81" y="70"/>
                  <a:pt x="81" y="70"/>
                </a:cubicBezTo>
                <a:cubicBezTo>
                  <a:pt x="82" y="69"/>
                  <a:pt x="82" y="69"/>
                  <a:pt x="83" y="68"/>
                </a:cubicBezTo>
                <a:cubicBezTo>
                  <a:pt x="94" y="59"/>
                  <a:pt x="95" y="42"/>
                  <a:pt x="85" y="31"/>
                </a:cubicBezTo>
                <a:cubicBezTo>
                  <a:pt x="82" y="28"/>
                  <a:pt x="78" y="25"/>
                  <a:pt x="73" y="24"/>
                </a:cubicBezTo>
                <a:cubicBezTo>
                  <a:pt x="72" y="23"/>
                  <a:pt x="72" y="23"/>
                  <a:pt x="72" y="23"/>
                </a:cubicBezTo>
                <a:cubicBezTo>
                  <a:pt x="72" y="22"/>
                  <a:pt x="72" y="22"/>
                  <a:pt x="72" y="22"/>
                </a:cubicBezTo>
                <a:cubicBezTo>
                  <a:pt x="70" y="20"/>
                  <a:pt x="69" y="17"/>
                  <a:pt x="67" y="15"/>
                </a:cubicBezTo>
                <a:cubicBezTo>
                  <a:pt x="61" y="9"/>
                  <a:pt x="53" y="5"/>
                  <a:pt x="45" y="5"/>
                </a:cubicBezTo>
                <a:cubicBezTo>
                  <a:pt x="37" y="5"/>
                  <a:pt x="30" y="8"/>
                  <a:pt x="25" y="13"/>
                </a:cubicBezTo>
                <a:cubicBezTo>
                  <a:pt x="15" y="22"/>
                  <a:pt x="12" y="35"/>
                  <a:pt x="17" y="47"/>
                </a:cubicBezTo>
                <a:cubicBezTo>
                  <a:pt x="18" y="49"/>
                  <a:pt x="18" y="49"/>
                  <a:pt x="18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5" y="51"/>
                  <a:pt x="15" y="51"/>
                </a:cubicBezTo>
                <a:cubicBezTo>
                  <a:pt x="7" y="59"/>
                  <a:pt x="6" y="72"/>
                  <a:pt x="13" y="80"/>
                </a:cubicBezTo>
                <a:cubicBezTo>
                  <a:pt x="17" y="85"/>
                  <a:pt x="23" y="87"/>
                  <a:pt x="29" y="87"/>
                </a:cubicBezTo>
                <a:cubicBezTo>
                  <a:pt x="30" y="87"/>
                  <a:pt x="32" y="87"/>
                  <a:pt x="34" y="86"/>
                </a:cubicBezTo>
                <a:cubicBezTo>
                  <a:pt x="36" y="86"/>
                  <a:pt x="36" y="86"/>
                  <a:pt x="36" y="86"/>
                </a:cubicBezTo>
                <a:cubicBezTo>
                  <a:pt x="37" y="88"/>
                  <a:pt x="37" y="88"/>
                  <a:pt x="37" y="88"/>
                </a:cubicBezTo>
                <a:cubicBezTo>
                  <a:pt x="37" y="88"/>
                  <a:pt x="37" y="88"/>
                  <a:pt x="38" y="89"/>
                </a:cubicBezTo>
                <a:cubicBezTo>
                  <a:pt x="41" y="92"/>
                  <a:pt x="45" y="94"/>
                  <a:pt x="49" y="94"/>
                </a:cubicBezTo>
                <a:cubicBezTo>
                  <a:pt x="53" y="94"/>
                  <a:pt x="57" y="93"/>
                  <a:pt x="60" y="90"/>
                </a:cubicBezTo>
                <a:cubicBezTo>
                  <a:pt x="62" y="88"/>
                  <a:pt x="63" y="86"/>
                  <a:pt x="64" y="83"/>
                </a:cubicBezTo>
                <a:cubicBezTo>
                  <a:pt x="64" y="82"/>
                  <a:pt x="64" y="82"/>
                  <a:pt x="64" y="82"/>
                </a:cubicBezTo>
                <a:cubicBezTo>
                  <a:pt x="61" y="79"/>
                  <a:pt x="61" y="79"/>
                  <a:pt x="61" y="79"/>
                </a:cubicBezTo>
                <a:cubicBezTo>
                  <a:pt x="64" y="76"/>
                  <a:pt x="64" y="76"/>
                  <a:pt x="64" y="76"/>
                </a:cubicBezTo>
                <a:cubicBezTo>
                  <a:pt x="98" y="110"/>
                  <a:pt x="98" y="110"/>
                  <a:pt x="98" y="110"/>
                </a:cubicBezTo>
                <a:cubicBezTo>
                  <a:pt x="97" y="111"/>
                  <a:pt x="97" y="111"/>
                  <a:pt x="97" y="111"/>
                </a:cubicBezTo>
                <a:lnTo>
                  <a:pt x="69" y="86"/>
                </a:lnTo>
                <a:close/>
              </a:path>
            </a:pathLst>
          </a:custGeom>
          <a:solidFill>
            <a:srgbClr val="2e2e2e"/>
          </a:solidFill>
          <a:ln w="9360">
            <a:solidFill>
              <a:srgbClr val="2e2e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空心弧 1"/>
          <p:cNvSpPr/>
          <p:nvPr/>
        </p:nvSpPr>
        <p:spPr>
          <a:xfrm rot="10800000">
            <a:off x="3833280" y="3681000"/>
            <a:ext cx="481320" cy="461880"/>
          </a:xfrm>
          <a:custGeom>
            <a:avLst/>
            <a:gdLst/>
            <a:ahLst/>
            <a:rect l="l" t="t" r="r" b="b"/>
            <a:pathLst>
              <a:path w="481012" h="461962">
                <a:moveTo>
                  <a:pt x="0" y="230981"/>
                </a:moveTo>
                <a:cubicBezTo>
                  <a:pt x="0" y="105210"/>
                  <a:pt x="104776" y="2555"/>
                  <a:pt x="235708" y="46"/>
                </a:cubicBezTo>
                <a:cubicBezTo>
                  <a:pt x="366326" y="-2457"/>
                  <a:pt x="475137" y="95640"/>
                  <a:pt x="480787" y="220993"/>
                </a:cubicBezTo>
                <a:lnTo>
                  <a:pt x="440054" y="222686"/>
                </a:lnTo>
                <a:cubicBezTo>
                  <a:pt x="435324" y="119499"/>
                  <a:pt x="344991" y="38762"/>
                  <a:pt x="236555" y="40805"/>
                </a:cubicBezTo>
                <a:cubicBezTo>
                  <a:pt x="127804" y="42854"/>
                  <a:pt x="40768" y="127395"/>
                  <a:pt x="40768" y="230981"/>
                </a:cubicBezTo>
                <a:lnTo>
                  <a:pt x="0" y="230981"/>
                </a:lnTo>
                <a:close/>
              </a:path>
            </a:pathLst>
          </a:custGeom>
          <a:solidFill>
            <a:srgbClr val="345a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直接连接符 76"/>
          <p:cNvSpPr/>
          <p:nvPr/>
        </p:nvSpPr>
        <p:spPr>
          <a:xfrm>
            <a:off x="7862760" y="4937040"/>
            <a:ext cx="1087560" cy="0"/>
          </a:xfrm>
          <a:prstGeom prst="line">
            <a:avLst/>
          </a:prstGeom>
          <a:ln w="22320">
            <a:solidFill>
              <a:srgbClr val="2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直接连接符 85"/>
          <p:cNvSpPr/>
          <p:nvPr/>
        </p:nvSpPr>
        <p:spPr>
          <a:xfrm>
            <a:off x="8407440" y="5160960"/>
            <a:ext cx="542880" cy="0"/>
          </a:xfrm>
          <a:prstGeom prst="line">
            <a:avLst/>
          </a:prstGeom>
          <a:ln w="22320">
            <a:solidFill>
              <a:srgbClr val="2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直接连接符 86"/>
          <p:cNvSpPr/>
          <p:nvPr/>
        </p:nvSpPr>
        <p:spPr>
          <a:xfrm>
            <a:off x="8074080" y="5365800"/>
            <a:ext cx="876240" cy="3240"/>
          </a:xfrm>
          <a:prstGeom prst="line">
            <a:avLst/>
          </a:prstGeom>
          <a:ln w="22320">
            <a:solidFill>
              <a:srgbClr val="2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 Box 3"/>
          <p:cNvSpPr/>
          <p:nvPr/>
        </p:nvSpPr>
        <p:spPr>
          <a:xfrm>
            <a:off x="47628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组合 27"/>
          <p:cNvGrpSpPr/>
          <p:nvPr/>
        </p:nvGrpSpPr>
        <p:grpSpPr>
          <a:xfrm>
            <a:off x="1677960" y="3061080"/>
            <a:ext cx="8855640" cy="2053080"/>
            <a:chOff x="1677960" y="3061080"/>
            <a:chExt cx="8855640" cy="2053080"/>
          </a:xfrm>
        </p:grpSpPr>
        <p:grpSp>
          <p:nvGrpSpPr>
            <p:cNvPr id="874" name="组合 43"/>
            <p:cNvGrpSpPr/>
            <p:nvPr/>
          </p:nvGrpSpPr>
          <p:grpSpPr>
            <a:xfrm>
              <a:off x="8656560" y="3174480"/>
              <a:ext cx="1877040" cy="1879200"/>
              <a:chOff x="8656560" y="3174480"/>
              <a:chExt cx="1877040" cy="1879200"/>
            </a:xfrm>
          </p:grpSpPr>
          <p:sp>
            <p:nvSpPr>
              <p:cNvPr id="875" name="矩形 25"/>
              <p:cNvSpPr/>
              <p:nvPr/>
            </p:nvSpPr>
            <p:spPr>
              <a:xfrm rot="298800">
                <a:off x="8728200" y="3246120"/>
                <a:ext cx="1733040" cy="173520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文本框 45"/>
              <p:cNvSpPr/>
              <p:nvPr/>
            </p:nvSpPr>
            <p:spPr>
              <a:xfrm rot="367200">
                <a:off x="8795520" y="3342600"/>
                <a:ext cx="1634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cf3c"/>
                    </a:solidFill>
                    <a:latin typeface="微软雅黑"/>
                    <a:ea typeface="微软雅黑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7" name="组合 43"/>
            <p:cNvGrpSpPr/>
            <p:nvPr/>
          </p:nvGrpSpPr>
          <p:grpSpPr>
            <a:xfrm>
              <a:off x="6933240" y="3122640"/>
              <a:ext cx="1906920" cy="1909080"/>
              <a:chOff x="6933240" y="3122640"/>
              <a:chExt cx="1906920" cy="1909080"/>
            </a:xfrm>
          </p:grpSpPr>
          <p:sp>
            <p:nvSpPr>
              <p:cNvPr id="878" name="矩形 8"/>
              <p:cNvSpPr/>
              <p:nvPr/>
            </p:nvSpPr>
            <p:spPr>
              <a:xfrm rot="21235800">
                <a:off x="7020000" y="3209400"/>
                <a:ext cx="1733040" cy="173520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文本框 45"/>
              <p:cNvSpPr/>
              <p:nvPr/>
            </p:nvSpPr>
            <p:spPr>
              <a:xfrm rot="21304200">
                <a:off x="7088400" y="3302280"/>
                <a:ext cx="1634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cf3c"/>
                    </a:solidFill>
                    <a:latin typeface="微软雅黑"/>
                    <a:ea typeface="微软雅黑"/>
                  </a:rPr>
                  <a:t>阿</a:t>
                </a:r>
                <a:endParaRPr b="0" lang="en-US" sz="9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40"/>
            <p:cNvGrpSpPr/>
            <p:nvPr/>
          </p:nvGrpSpPr>
          <p:grpSpPr>
            <a:xfrm>
              <a:off x="5264640" y="3295440"/>
              <a:ext cx="1773720" cy="1774440"/>
              <a:chOff x="5264640" y="3295440"/>
              <a:chExt cx="1773720" cy="1774440"/>
            </a:xfrm>
          </p:grpSpPr>
          <p:sp>
            <p:nvSpPr>
              <p:cNvPr id="881" name="矩形 11"/>
              <p:cNvSpPr/>
              <p:nvPr/>
            </p:nvSpPr>
            <p:spPr>
              <a:xfrm rot="81600">
                <a:off x="5284800" y="3315600"/>
                <a:ext cx="1733040" cy="173376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文本框 42"/>
              <p:cNvSpPr/>
              <p:nvPr/>
            </p:nvSpPr>
            <p:spPr>
              <a:xfrm rot="150000">
                <a:off x="5352120" y="3409920"/>
                <a:ext cx="1634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cf3c"/>
                    </a:solidFill>
                    <a:latin typeface="微软雅黑"/>
                    <a:ea typeface="微软雅黑"/>
                  </a:rPr>
                  <a:t>神</a:t>
                </a:r>
                <a:endParaRPr b="0" lang="en-US" sz="9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3" name="组合 37"/>
            <p:cNvGrpSpPr/>
            <p:nvPr/>
          </p:nvGrpSpPr>
          <p:grpSpPr>
            <a:xfrm>
              <a:off x="3489840" y="3245400"/>
              <a:ext cx="1867680" cy="1868760"/>
              <a:chOff x="3489840" y="3245400"/>
              <a:chExt cx="1867680" cy="1868760"/>
            </a:xfrm>
          </p:grpSpPr>
          <p:sp>
            <p:nvSpPr>
              <p:cNvPr id="884" name="矩形 14"/>
              <p:cNvSpPr/>
              <p:nvPr/>
            </p:nvSpPr>
            <p:spPr>
              <a:xfrm rot="21325200">
                <a:off x="3556440" y="3312000"/>
                <a:ext cx="1734480" cy="173520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文本框 39"/>
              <p:cNvSpPr/>
              <p:nvPr/>
            </p:nvSpPr>
            <p:spPr>
              <a:xfrm rot="21393600">
                <a:off x="3625200" y="3404160"/>
                <a:ext cx="16358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cf3c"/>
                    </a:solidFill>
                    <a:latin typeface="微软雅黑"/>
                    <a:ea typeface="微软雅黑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6" name="组合 34"/>
            <p:cNvGrpSpPr/>
            <p:nvPr/>
          </p:nvGrpSpPr>
          <p:grpSpPr>
            <a:xfrm>
              <a:off x="1677960" y="3061080"/>
              <a:ext cx="2023200" cy="2023560"/>
              <a:chOff x="1677960" y="3061080"/>
              <a:chExt cx="2023200" cy="2023560"/>
            </a:xfrm>
          </p:grpSpPr>
          <p:sp>
            <p:nvSpPr>
              <p:cNvPr id="887" name="矩形 17"/>
              <p:cNvSpPr/>
              <p:nvPr/>
            </p:nvSpPr>
            <p:spPr>
              <a:xfrm rot="633000">
                <a:off x="1822320" y="3205080"/>
                <a:ext cx="1734480" cy="173520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文本框 36"/>
              <p:cNvSpPr/>
              <p:nvPr/>
            </p:nvSpPr>
            <p:spPr>
              <a:xfrm rot="702000">
                <a:off x="1888200" y="3302640"/>
                <a:ext cx="16358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cf3c"/>
                    </a:solidFill>
                    <a:latin typeface="微软雅黑"/>
                    <a:ea typeface="微软雅黑"/>
                  </a:rPr>
                  <a:t>约</a:t>
                </a:r>
                <a:endParaRPr b="0" lang="en-US" sz="9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9" name="组合 43"/>
          <p:cNvGrpSpPr/>
          <p:nvPr/>
        </p:nvGrpSpPr>
        <p:grpSpPr>
          <a:xfrm>
            <a:off x="2253240" y="1317600"/>
            <a:ext cx="8147160" cy="1739520"/>
            <a:chOff x="2253240" y="1317600"/>
            <a:chExt cx="8147160" cy="1739520"/>
          </a:xfrm>
        </p:grpSpPr>
        <p:sp>
          <p:nvSpPr>
            <p:cNvPr id="890" name="矩形 47"/>
            <p:cNvSpPr/>
            <p:nvPr/>
          </p:nvSpPr>
          <p:spPr>
            <a:xfrm rot="21021600">
              <a:off x="7737840" y="1388520"/>
              <a:ext cx="98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矩形 3"/>
            <p:cNvSpPr/>
            <p:nvPr/>
          </p:nvSpPr>
          <p:spPr>
            <a:xfrm rot="21156000">
              <a:off x="2349360" y="144756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用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矩形 46"/>
            <p:cNvSpPr/>
            <p:nvPr/>
          </p:nvSpPr>
          <p:spPr>
            <a:xfrm rot="153000">
              <a:off x="7183800" y="1417680"/>
              <a:ext cx="916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矩形 45"/>
            <p:cNvSpPr/>
            <p:nvPr/>
          </p:nvSpPr>
          <p:spPr>
            <a:xfrm rot="21333600">
              <a:off x="6708960" y="1417680"/>
              <a:ext cx="787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矩形 44"/>
            <p:cNvSpPr/>
            <p:nvPr/>
          </p:nvSpPr>
          <p:spPr>
            <a:xfrm rot="351600">
              <a:off x="6455520" y="1444680"/>
              <a:ext cx="552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矩形 43"/>
            <p:cNvSpPr/>
            <p:nvPr/>
          </p:nvSpPr>
          <p:spPr>
            <a:xfrm rot="21310200">
              <a:off x="5992920" y="1459080"/>
              <a:ext cx="70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28"/>
            <p:cNvSpPr/>
            <p:nvPr/>
          </p:nvSpPr>
          <p:spPr>
            <a:xfrm rot="21310200">
              <a:off x="5533200" y="1444680"/>
              <a:ext cx="734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矩形 6"/>
            <p:cNvSpPr/>
            <p:nvPr/>
          </p:nvSpPr>
          <p:spPr>
            <a:xfrm rot="400200">
              <a:off x="4984920" y="1427040"/>
              <a:ext cx="916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矩形 5"/>
            <p:cNvSpPr/>
            <p:nvPr/>
          </p:nvSpPr>
          <p:spPr>
            <a:xfrm rot="21388200">
              <a:off x="3953160" y="1454040"/>
              <a:ext cx="137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矩形 4"/>
            <p:cNvSpPr/>
            <p:nvPr/>
          </p:nvSpPr>
          <p:spPr>
            <a:xfrm rot="162600">
              <a:off x="3441600" y="1433520"/>
              <a:ext cx="852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矩形 48"/>
            <p:cNvSpPr/>
            <p:nvPr/>
          </p:nvSpPr>
          <p:spPr>
            <a:xfrm>
              <a:off x="9220320" y="1484280"/>
              <a:ext cx="73476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矩形 49"/>
            <p:cNvSpPr/>
            <p:nvPr/>
          </p:nvSpPr>
          <p:spPr>
            <a:xfrm rot="300000">
              <a:off x="9455040" y="143352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矩形 29"/>
            <p:cNvSpPr/>
            <p:nvPr/>
          </p:nvSpPr>
          <p:spPr>
            <a:xfrm>
              <a:off x="8871840" y="1362240"/>
              <a:ext cx="886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3" name="组合 42"/>
          <p:cNvGrpSpPr/>
          <p:nvPr/>
        </p:nvGrpSpPr>
        <p:grpSpPr>
          <a:xfrm>
            <a:off x="9947520" y="2641680"/>
            <a:ext cx="1319760" cy="1141560"/>
            <a:chOff x="9947520" y="2641680"/>
            <a:chExt cx="1319760" cy="1141560"/>
          </a:xfrm>
        </p:grpSpPr>
        <p:pic>
          <p:nvPicPr>
            <p:cNvPr id="904" name="组合 32" descr=""/>
            <p:cNvPicPr/>
            <p:nvPr/>
          </p:nvPicPr>
          <p:blipFill>
            <a:blip r:embed="rId1"/>
            <a:stretch/>
          </p:blipFill>
          <p:spPr>
            <a:xfrm rot="21599400">
              <a:off x="9947520" y="2641680"/>
              <a:ext cx="121824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Text Box 4"/>
            <p:cNvSpPr/>
            <p:nvPr/>
          </p:nvSpPr>
          <p:spPr>
            <a:xfrm>
              <a:off x="10142640" y="2951280"/>
              <a:ext cx="11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约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6" name="等腰三角形 34"/>
          <p:cNvSpPr/>
          <p:nvPr/>
        </p:nvSpPr>
        <p:spPr>
          <a:xfrm rot="3015600">
            <a:off x="11715480" y="541440"/>
            <a:ext cx="358560" cy="272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等腰三角形 35"/>
          <p:cNvSpPr/>
          <p:nvPr/>
        </p:nvSpPr>
        <p:spPr>
          <a:xfrm rot="2850600">
            <a:off x="628200" y="785880"/>
            <a:ext cx="320760" cy="2444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等腰三角形 36"/>
          <p:cNvSpPr/>
          <p:nvPr/>
        </p:nvSpPr>
        <p:spPr>
          <a:xfrm rot="5400000">
            <a:off x="1335240" y="2668680"/>
            <a:ext cx="358560" cy="272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等腰三角形 37"/>
          <p:cNvSpPr/>
          <p:nvPr/>
        </p:nvSpPr>
        <p:spPr>
          <a:xfrm rot="3015600">
            <a:off x="502560" y="4853520"/>
            <a:ext cx="360360" cy="272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等腰三角形 38"/>
          <p:cNvSpPr/>
          <p:nvPr/>
        </p:nvSpPr>
        <p:spPr>
          <a:xfrm rot="3015600">
            <a:off x="11562840" y="5262480"/>
            <a:ext cx="358920" cy="2732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等腰三角形 39"/>
          <p:cNvSpPr/>
          <p:nvPr/>
        </p:nvSpPr>
        <p:spPr>
          <a:xfrm rot="3015600">
            <a:off x="10391400" y="1600200"/>
            <a:ext cx="358920" cy="2732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等腰三角形 40"/>
          <p:cNvSpPr/>
          <p:nvPr/>
        </p:nvSpPr>
        <p:spPr>
          <a:xfrm rot="3015600">
            <a:off x="7200360" y="-167400"/>
            <a:ext cx="358920" cy="2397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等腰三角形 41"/>
          <p:cNvSpPr/>
          <p:nvPr/>
        </p:nvSpPr>
        <p:spPr>
          <a:xfrm rot="2850600">
            <a:off x="2446920" y="83160"/>
            <a:ext cx="320760" cy="2426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42"/>
          <p:cNvSpPr/>
          <p:nvPr/>
        </p:nvSpPr>
        <p:spPr>
          <a:xfrm>
            <a:off x="2552760" y="5624640"/>
            <a:ext cx="78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Segoe UI"/>
                <a:ea typeface="微软雅黑"/>
              </a:rPr>
              <a:t>You can use Smartisan T2 to date Si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图片 52" descr=""/>
          <p:cNvPicPr/>
          <p:nvPr/>
        </p:nvPicPr>
        <p:blipFill>
          <a:blip r:embed="rId2"/>
          <a:stretch/>
        </p:blipFill>
        <p:spPr>
          <a:xfrm>
            <a:off x="2139840" y="549288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8"/>
          <p:cNvGrpSpPr/>
          <p:nvPr/>
        </p:nvGrpSpPr>
        <p:grpSpPr>
          <a:xfrm>
            <a:off x="10987200" y="6359400"/>
            <a:ext cx="272880" cy="525600"/>
            <a:chOff x="10987200" y="6359400"/>
            <a:chExt cx="272880" cy="525600"/>
          </a:xfrm>
        </p:grpSpPr>
        <p:sp>
          <p:nvSpPr>
            <p:cNvPr id="508" name="椭圆 5"/>
            <p:cNvSpPr/>
            <p:nvPr/>
          </p:nvSpPr>
          <p:spPr>
            <a:xfrm>
              <a:off x="10987200" y="635940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接连接符 6"/>
            <p:cNvSpPr/>
            <p:nvPr/>
          </p:nvSpPr>
          <p:spPr>
            <a:xfrm>
              <a:off x="11123640" y="65498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3"/>
          <p:cNvGrpSpPr/>
          <p:nvPr/>
        </p:nvGrpSpPr>
        <p:grpSpPr>
          <a:xfrm>
            <a:off x="846000" y="6359400"/>
            <a:ext cx="273240" cy="525600"/>
            <a:chOff x="846000" y="6359400"/>
            <a:chExt cx="273240" cy="525600"/>
          </a:xfrm>
        </p:grpSpPr>
        <p:sp>
          <p:nvSpPr>
            <p:cNvPr id="511" name="椭圆 2"/>
            <p:cNvSpPr/>
            <p:nvPr/>
          </p:nvSpPr>
          <p:spPr>
            <a:xfrm>
              <a:off x="846000" y="63594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接连接符 7"/>
            <p:cNvSpPr/>
            <p:nvPr/>
          </p:nvSpPr>
          <p:spPr>
            <a:xfrm>
              <a:off x="968400" y="65498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组合 32"/>
          <p:cNvGrpSpPr/>
          <p:nvPr/>
        </p:nvGrpSpPr>
        <p:grpSpPr>
          <a:xfrm>
            <a:off x="8656560" y="2575080"/>
            <a:ext cx="1884600" cy="3119400"/>
            <a:chOff x="8656560" y="2575080"/>
            <a:chExt cx="1884600" cy="3119400"/>
          </a:xfrm>
        </p:grpSpPr>
        <p:sp>
          <p:nvSpPr>
            <p:cNvPr id="514" name="Freeform 5"/>
            <p:cNvSpPr/>
            <p:nvPr/>
          </p:nvSpPr>
          <p:spPr>
            <a:xfrm>
              <a:off x="8656560" y="4241880"/>
              <a:ext cx="510480" cy="49932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499320"/>
                <a:gd name="textAreaBottom" fmla="*/ 499680 h 499320"/>
              </a:gdLst>
              <a:ahLst/>
              <a:rect l="textAreaLeft" t="textAreaTop" r="textAreaRight" b="textAreaBottom"/>
              <a:pathLst>
                <a:path w="106" h="106">
                  <a:moveTo>
                    <a:pt x="0" y="6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104"/>
                    <a:pt x="3" y="106"/>
                    <a:pt x="6" y="106"/>
                  </a:cubicBezTo>
                  <a:cubicBezTo>
                    <a:pt x="100" y="106"/>
                    <a:pt x="100" y="106"/>
                    <a:pt x="100" y="106"/>
                  </a:cubicBezTo>
                  <a:cubicBezTo>
                    <a:pt x="104" y="106"/>
                    <a:pt x="106" y="104"/>
                    <a:pt x="106" y="100"/>
                  </a:cubicBezTo>
                  <a:cubicBezTo>
                    <a:pt x="106" y="97"/>
                    <a:pt x="104" y="94"/>
                    <a:pt x="100" y="94"/>
                  </a:cubicBezTo>
                  <a:cubicBezTo>
                    <a:pt x="100" y="94"/>
                    <a:pt x="22" y="94"/>
                    <a:pt x="12" y="94"/>
                  </a:cubicBezTo>
                  <a:cubicBezTo>
                    <a:pt x="12" y="84"/>
                    <a:pt x="12" y="6"/>
                    <a:pt x="12" y="6"/>
                  </a:cubicBezTo>
                  <a:cubicBezTo>
                    <a:pt x="12" y="3"/>
                    <a:pt x="9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>
              <a:off x="9623520" y="4680360"/>
              <a:ext cx="721440" cy="1014120"/>
            </a:xfrm>
            <a:custGeom>
              <a:avLst/>
              <a:gdLst>
                <a:gd name="textAreaLeft" fmla="*/ 0 w 721440"/>
                <a:gd name="textAreaRight" fmla="*/ 721800 w 7214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50" h="215">
                  <a:moveTo>
                    <a:pt x="0" y="215"/>
                  </a:moveTo>
                  <a:cubicBezTo>
                    <a:pt x="0" y="122"/>
                    <a:pt x="0" y="122"/>
                    <a:pt x="0" y="122"/>
                  </a:cubicBezTo>
                  <a:cubicBezTo>
                    <a:pt x="67" y="122"/>
                    <a:pt x="67" y="122"/>
                    <a:pt x="67" y="122"/>
                  </a:cubicBezTo>
                  <a:cubicBezTo>
                    <a:pt x="67" y="122"/>
                    <a:pt x="109" y="122"/>
                    <a:pt x="109" y="81"/>
                  </a:cubicBezTo>
                  <a:cubicBezTo>
                    <a:pt x="109" y="41"/>
                    <a:pt x="109" y="0"/>
                    <a:pt x="109" y="0"/>
                  </a:cubicBezTo>
                  <a:cubicBezTo>
                    <a:pt x="150" y="0"/>
                    <a:pt x="150" y="0"/>
                    <a:pt x="150" y="0"/>
                  </a:cubicBezTo>
                  <a:cubicBezTo>
                    <a:pt x="150" y="215"/>
                    <a:pt x="150" y="215"/>
                    <a:pt x="150" y="215"/>
                  </a:cubicBezTo>
                  <a:lnTo>
                    <a:pt x="0" y="215"/>
                  </a:lnTo>
                  <a:close/>
                </a:path>
              </a:pathLst>
            </a:cu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8656560" y="4345920"/>
              <a:ext cx="1424520" cy="1348560"/>
            </a:xfrm>
            <a:custGeom>
              <a:avLst/>
              <a:gdLst>
                <a:gd name="textAreaLeft" fmla="*/ 0 w 1424520"/>
                <a:gd name="textAreaRight" fmla="*/ 1424880 w 1424520"/>
                <a:gd name="textAreaTop" fmla="*/ 0 h 1348560"/>
                <a:gd name="textAreaBottom" fmla="*/ 1348920 h 1348560"/>
              </a:gdLst>
              <a:ahLst/>
              <a:rect l="textAreaLeft" t="textAreaTop" r="textAreaRight" b="textAreaBottom"/>
              <a:pathLst>
                <a:path w="296" h="286">
                  <a:moveTo>
                    <a:pt x="268" y="0"/>
                  </a:moveTo>
                  <a:cubicBezTo>
                    <a:pt x="260" y="0"/>
                    <a:pt x="253" y="4"/>
                    <a:pt x="248" y="9"/>
                  </a:cubicBezTo>
                  <a:cubicBezTo>
                    <a:pt x="248" y="9"/>
                    <a:pt x="248" y="9"/>
                    <a:pt x="248" y="9"/>
                  </a:cubicBezTo>
                  <a:cubicBezTo>
                    <a:pt x="248" y="9"/>
                    <a:pt x="202" y="53"/>
                    <a:pt x="196" y="57"/>
                  </a:cubicBezTo>
                  <a:cubicBezTo>
                    <a:pt x="189" y="57"/>
                    <a:pt x="140" y="57"/>
                    <a:pt x="140" y="57"/>
                  </a:cubicBezTo>
                  <a:cubicBezTo>
                    <a:pt x="133" y="57"/>
                    <a:pt x="127" y="63"/>
                    <a:pt x="127" y="71"/>
                  </a:cubicBezTo>
                  <a:cubicBezTo>
                    <a:pt x="127" y="78"/>
                    <a:pt x="133" y="84"/>
                    <a:pt x="140" y="84"/>
                  </a:cubicBezTo>
                  <a:cubicBezTo>
                    <a:pt x="201" y="84"/>
                    <a:pt x="201" y="84"/>
                    <a:pt x="201" y="84"/>
                  </a:cubicBezTo>
                  <a:cubicBezTo>
                    <a:pt x="204" y="84"/>
                    <a:pt x="206" y="83"/>
                    <a:pt x="209" y="82"/>
                  </a:cubicBezTo>
                  <a:cubicBezTo>
                    <a:pt x="240" y="53"/>
                    <a:pt x="240" y="53"/>
                    <a:pt x="240" y="53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188" y="139"/>
                    <a:pt x="188" y="139"/>
                    <a:pt x="188" y="139"/>
                  </a:cubicBezTo>
                  <a:cubicBezTo>
                    <a:pt x="188" y="98"/>
                    <a:pt x="188" y="98"/>
                    <a:pt x="188" y="98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188" y="286"/>
                    <a:pt x="188" y="286"/>
                    <a:pt x="188" y="286"/>
                  </a:cubicBezTo>
                  <a:cubicBezTo>
                    <a:pt x="188" y="179"/>
                    <a:pt x="188" y="179"/>
                    <a:pt x="188" y="179"/>
                  </a:cubicBezTo>
                  <a:cubicBezTo>
                    <a:pt x="268" y="179"/>
                    <a:pt x="268" y="179"/>
                    <a:pt x="268" y="179"/>
                  </a:cubicBezTo>
                  <a:cubicBezTo>
                    <a:pt x="284" y="179"/>
                    <a:pt x="296" y="167"/>
                    <a:pt x="296" y="151"/>
                  </a:cubicBezTo>
                  <a:cubicBezTo>
                    <a:pt x="296" y="29"/>
                    <a:pt x="296" y="29"/>
                    <a:pt x="296" y="29"/>
                  </a:cubicBezTo>
                  <a:cubicBezTo>
                    <a:pt x="296" y="13"/>
                    <a:pt x="284" y="0"/>
                    <a:pt x="268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7" name="组合 24" descr=""/>
            <p:cNvPicPr/>
            <p:nvPr/>
          </p:nvPicPr>
          <p:blipFill>
            <a:blip r:embed="rId1"/>
            <a:stretch/>
          </p:blipFill>
          <p:spPr>
            <a:xfrm>
              <a:off x="8991000" y="2575080"/>
              <a:ext cx="1550160" cy="177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组合 35" descr=""/>
          <p:cNvPicPr/>
          <p:nvPr/>
        </p:nvPicPr>
        <p:blipFill>
          <a:blip r:embed="rId2"/>
          <a:stretch/>
        </p:blipFill>
        <p:spPr>
          <a:xfrm>
            <a:off x="3786120" y="1206360"/>
            <a:ext cx="1414440" cy="14446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3906720" y="1487520"/>
            <a:ext cx="11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阿文，收快递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组合 32" descr=""/>
          <p:cNvPicPr/>
          <p:nvPr/>
        </p:nvPicPr>
        <p:blipFill>
          <a:blip r:embed="rId3"/>
          <a:stretch/>
        </p:blipFill>
        <p:spPr>
          <a:xfrm>
            <a:off x="7278840" y="1152360"/>
            <a:ext cx="1407960" cy="14148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4"/>
          <p:cNvSpPr/>
          <p:nvPr/>
        </p:nvSpPr>
        <p:spPr>
          <a:xfrm>
            <a:off x="7504200" y="144288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2e2e"/>
                </a:solidFill>
                <a:latin typeface="Arial"/>
                <a:ea typeface="微软雅黑"/>
              </a:rPr>
              <a:t>新年礼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3"/>
          <p:cNvGrpSpPr/>
          <p:nvPr/>
        </p:nvGrpSpPr>
        <p:grpSpPr>
          <a:xfrm>
            <a:off x="1711440" y="1163520"/>
            <a:ext cx="2394720" cy="4530960"/>
            <a:chOff x="1711440" y="1163520"/>
            <a:chExt cx="2394720" cy="4530960"/>
          </a:xfrm>
        </p:grpSpPr>
        <p:sp>
          <p:nvSpPr>
            <p:cNvPr id="523" name="直接连接符 4"/>
            <p:cNvSpPr/>
            <p:nvPr/>
          </p:nvSpPr>
          <p:spPr>
            <a:xfrm>
              <a:off x="1711440" y="1163520"/>
              <a:ext cx="0" cy="4530960"/>
            </a:xfrm>
            <a:prstGeom prst="line">
              <a:avLst/>
            </a:prstGeom>
            <a:ln w="12708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8"/>
            <p:cNvSpPr/>
            <p:nvPr/>
          </p:nvSpPr>
          <p:spPr>
            <a:xfrm>
              <a:off x="1711440" y="1409400"/>
              <a:ext cx="1719360" cy="641160"/>
            </a:xfrm>
            <a:prstGeom prst="rect">
              <a:avLst/>
            </a:prstGeom>
            <a:noFill/>
            <a:ln w="2844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文本框 19"/>
            <p:cNvSpPr/>
            <p:nvPr/>
          </p:nvSpPr>
          <p:spPr>
            <a:xfrm>
              <a:off x="1820880" y="1468080"/>
              <a:ext cx="19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Simon</a:t>
              </a:r>
              <a:r>
                <a:rPr b="0" lang="zh-CN" sz="28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家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6" name="组合 8"/>
            <p:cNvGrpSpPr/>
            <p:nvPr/>
          </p:nvGrpSpPr>
          <p:grpSpPr>
            <a:xfrm>
              <a:off x="1730160" y="3525480"/>
              <a:ext cx="925560" cy="169560"/>
              <a:chOff x="1730160" y="3525480"/>
              <a:chExt cx="925560" cy="169560"/>
            </a:xfrm>
          </p:grpSpPr>
          <p:sp>
            <p:nvSpPr>
              <p:cNvPr id="527" name="圆角矩形 34"/>
              <p:cNvSpPr/>
              <p:nvPr/>
            </p:nvSpPr>
            <p:spPr>
              <a:xfrm flipV="1">
                <a:off x="1730160" y="3525120"/>
                <a:ext cx="857520" cy="169560"/>
              </a:xfrm>
              <a:prstGeom prst="roundRect">
                <a:avLst>
                  <a:gd name="adj" fmla="val 16667"/>
                </a:avLst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椭圆 1"/>
              <p:cNvSpPr/>
              <p:nvPr/>
            </p:nvSpPr>
            <p:spPr>
              <a:xfrm flipV="1">
                <a:off x="2485800" y="3525120"/>
                <a:ext cx="169920" cy="169560"/>
              </a:xfrm>
              <a:prstGeom prst="ellipse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9" name="组合 17"/>
            <p:cNvGrpSpPr/>
            <p:nvPr/>
          </p:nvGrpSpPr>
          <p:grpSpPr>
            <a:xfrm>
              <a:off x="2270520" y="3033720"/>
              <a:ext cx="1835640" cy="1534320"/>
              <a:chOff x="2270520" y="3033720"/>
              <a:chExt cx="1835640" cy="1534320"/>
            </a:xfrm>
          </p:grpSpPr>
          <p:sp>
            <p:nvSpPr>
              <p:cNvPr id="530" name="Freeform 32"/>
              <p:cNvSpPr/>
              <p:nvPr/>
            </p:nvSpPr>
            <p:spPr>
              <a:xfrm rot="1304400">
                <a:off x="2404800" y="3287160"/>
                <a:ext cx="1566720" cy="1027080"/>
              </a:xfrm>
              <a:custGeom>
                <a:avLst/>
                <a:gdLst/>
                <a:ahLst/>
                <a:rect l="l" t="t" r="r" b="b"/>
                <a:pathLst>
                  <a:path w="512" h="336">
                    <a:moveTo>
                      <a:pt x="448" y="0"/>
                    </a:moveTo>
                    <a:cubicBezTo>
                      <a:pt x="64" y="0"/>
                      <a:pt x="64" y="0"/>
                      <a:pt x="64" y="0"/>
                    </a:cubicBezTo>
                    <a:cubicBezTo>
                      <a:pt x="29" y="0"/>
                      <a:pt x="0" y="29"/>
                      <a:pt x="0" y="64"/>
                    </a:cubicBezTo>
                    <a:cubicBezTo>
                      <a:pt x="0" y="272"/>
                      <a:pt x="0" y="272"/>
                      <a:pt x="0" y="272"/>
                    </a:cubicBezTo>
                    <a:cubicBezTo>
                      <a:pt x="0" y="307"/>
                      <a:pt x="29" y="336"/>
                      <a:pt x="64" y="336"/>
                    </a:cubicBezTo>
                    <a:cubicBezTo>
                      <a:pt x="448" y="336"/>
                      <a:pt x="448" y="336"/>
                      <a:pt x="448" y="336"/>
                    </a:cubicBezTo>
                    <a:cubicBezTo>
                      <a:pt x="483" y="336"/>
                      <a:pt x="512" y="307"/>
                      <a:pt x="512" y="272"/>
                    </a:cubicBezTo>
                    <a:cubicBezTo>
                      <a:pt x="512" y="64"/>
                      <a:pt x="512" y="64"/>
                      <a:pt x="512" y="64"/>
                    </a:cubicBezTo>
                    <a:cubicBezTo>
                      <a:pt x="512" y="29"/>
                      <a:pt x="483" y="0"/>
                      <a:pt x="448" y="0"/>
                    </a:cubicBezTo>
                    <a:close/>
                    <a:moveTo>
                      <a:pt x="32" y="84"/>
                    </a:moveTo>
                    <a:cubicBezTo>
                      <a:pt x="144" y="168"/>
                      <a:pt x="144" y="168"/>
                      <a:pt x="144" y="168"/>
                    </a:cubicBezTo>
                    <a:cubicBezTo>
                      <a:pt x="32" y="252"/>
                      <a:pt x="32" y="252"/>
                      <a:pt x="32" y="252"/>
                    </a:cubicBezTo>
                    <a:lnTo>
                      <a:pt x="32" y="84"/>
                    </a:lnTo>
                    <a:close/>
                    <a:moveTo>
                      <a:pt x="480" y="272"/>
                    </a:moveTo>
                    <a:cubicBezTo>
                      <a:pt x="480" y="290"/>
                      <a:pt x="466" y="304"/>
                      <a:pt x="448" y="304"/>
                    </a:cubicBezTo>
                    <a:cubicBezTo>
                      <a:pt x="64" y="304"/>
                      <a:pt x="64" y="304"/>
                      <a:pt x="64" y="304"/>
                    </a:cubicBezTo>
                    <a:cubicBezTo>
                      <a:pt x="46" y="304"/>
                      <a:pt x="32" y="290"/>
                      <a:pt x="32" y="272"/>
                    </a:cubicBezTo>
                    <a:cubicBezTo>
                      <a:pt x="157" y="178"/>
                      <a:pt x="157" y="178"/>
                      <a:pt x="157" y="178"/>
                    </a:cubicBezTo>
                    <a:cubicBezTo>
                      <a:pt x="227" y="230"/>
                      <a:pt x="227" y="230"/>
                      <a:pt x="227" y="230"/>
                    </a:cubicBezTo>
                    <a:cubicBezTo>
                      <a:pt x="236" y="237"/>
                      <a:pt x="246" y="240"/>
                      <a:pt x="256" y="240"/>
                    </a:cubicBezTo>
                    <a:cubicBezTo>
                      <a:pt x="266" y="240"/>
                      <a:pt x="276" y="237"/>
                      <a:pt x="285" y="230"/>
                    </a:cubicBezTo>
                    <a:cubicBezTo>
                      <a:pt x="355" y="178"/>
                      <a:pt x="355" y="178"/>
                      <a:pt x="355" y="178"/>
                    </a:cubicBezTo>
                    <a:lnTo>
                      <a:pt x="480" y="272"/>
                    </a:lnTo>
                    <a:close/>
                    <a:moveTo>
                      <a:pt x="480" y="252"/>
                    </a:moveTo>
                    <a:cubicBezTo>
                      <a:pt x="368" y="168"/>
                      <a:pt x="368" y="168"/>
                      <a:pt x="368" y="168"/>
                    </a:cubicBezTo>
                    <a:cubicBezTo>
                      <a:pt x="480" y="84"/>
                      <a:pt x="480" y="84"/>
                      <a:pt x="480" y="84"/>
                    </a:cubicBezTo>
                    <a:lnTo>
                      <a:pt x="480" y="252"/>
                    </a:lnTo>
                    <a:close/>
                    <a:moveTo>
                      <a:pt x="275" y="218"/>
                    </a:moveTo>
                    <a:cubicBezTo>
                      <a:pt x="270" y="222"/>
                      <a:pt x="263" y="224"/>
                      <a:pt x="256" y="224"/>
                    </a:cubicBezTo>
                    <a:cubicBezTo>
                      <a:pt x="249" y="224"/>
                      <a:pt x="242" y="222"/>
                      <a:pt x="237" y="218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46"/>
                      <a:pt x="46" y="32"/>
                      <a:pt x="64" y="32"/>
                    </a:cubicBezTo>
                    <a:cubicBezTo>
                      <a:pt x="448" y="32"/>
                      <a:pt x="448" y="32"/>
                      <a:pt x="448" y="32"/>
                    </a:cubicBezTo>
                    <a:cubicBezTo>
                      <a:pt x="466" y="32"/>
                      <a:pt x="480" y="46"/>
                      <a:pt x="480" y="64"/>
                    </a:cubicBezTo>
                    <a:lnTo>
                      <a:pt x="275" y="218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7"/>
              <p:cNvSpPr/>
              <p:nvPr/>
            </p:nvSpPr>
            <p:spPr>
              <a:xfrm rot="2380800">
                <a:off x="2969640" y="3624120"/>
                <a:ext cx="394920" cy="390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1402" h="1390">
                    <a:moveTo>
                      <a:pt x="572" y="249"/>
                    </a:moveTo>
                    <a:lnTo>
                      <a:pt x="483" y="253"/>
                    </a:lnTo>
                    <a:lnTo>
                      <a:pt x="461" y="258"/>
                    </a:lnTo>
                    <a:lnTo>
                      <a:pt x="445" y="265"/>
                    </a:lnTo>
                    <a:lnTo>
                      <a:pt x="435" y="277"/>
                    </a:lnTo>
                    <a:lnTo>
                      <a:pt x="429" y="293"/>
                    </a:lnTo>
                    <a:lnTo>
                      <a:pt x="429" y="313"/>
                    </a:lnTo>
                    <a:lnTo>
                      <a:pt x="429" y="345"/>
                    </a:lnTo>
                    <a:lnTo>
                      <a:pt x="431" y="361"/>
                    </a:lnTo>
                    <a:lnTo>
                      <a:pt x="435" y="374"/>
                    </a:lnTo>
                    <a:lnTo>
                      <a:pt x="444" y="383"/>
                    </a:lnTo>
                    <a:lnTo>
                      <a:pt x="457" y="387"/>
                    </a:lnTo>
                    <a:lnTo>
                      <a:pt x="473" y="389"/>
                    </a:lnTo>
                    <a:lnTo>
                      <a:pt x="511" y="392"/>
                    </a:lnTo>
                    <a:lnTo>
                      <a:pt x="548" y="394"/>
                    </a:lnTo>
                    <a:lnTo>
                      <a:pt x="582" y="397"/>
                    </a:lnTo>
                    <a:lnTo>
                      <a:pt x="607" y="403"/>
                    </a:lnTo>
                    <a:lnTo>
                      <a:pt x="625" y="413"/>
                    </a:lnTo>
                    <a:lnTo>
                      <a:pt x="640" y="426"/>
                    </a:lnTo>
                    <a:lnTo>
                      <a:pt x="649" y="447"/>
                    </a:lnTo>
                    <a:lnTo>
                      <a:pt x="653" y="472"/>
                    </a:lnTo>
                    <a:lnTo>
                      <a:pt x="653" y="504"/>
                    </a:lnTo>
                    <a:lnTo>
                      <a:pt x="646" y="1080"/>
                    </a:lnTo>
                    <a:lnTo>
                      <a:pt x="646" y="1107"/>
                    </a:lnTo>
                    <a:lnTo>
                      <a:pt x="650" y="1132"/>
                    </a:lnTo>
                    <a:lnTo>
                      <a:pt x="659" y="1155"/>
                    </a:lnTo>
                    <a:lnTo>
                      <a:pt x="671" y="1176"/>
                    </a:lnTo>
                    <a:lnTo>
                      <a:pt x="689" y="1195"/>
                    </a:lnTo>
                    <a:lnTo>
                      <a:pt x="707" y="1205"/>
                    </a:lnTo>
                    <a:lnTo>
                      <a:pt x="726" y="1212"/>
                    </a:lnTo>
                    <a:lnTo>
                      <a:pt x="746" y="1218"/>
                    </a:lnTo>
                    <a:lnTo>
                      <a:pt x="753" y="1200"/>
                    </a:lnTo>
                    <a:lnTo>
                      <a:pt x="759" y="1182"/>
                    </a:lnTo>
                    <a:lnTo>
                      <a:pt x="762" y="1163"/>
                    </a:lnTo>
                    <a:lnTo>
                      <a:pt x="762" y="486"/>
                    </a:lnTo>
                    <a:lnTo>
                      <a:pt x="765" y="457"/>
                    </a:lnTo>
                    <a:lnTo>
                      <a:pt x="772" y="435"/>
                    </a:lnTo>
                    <a:lnTo>
                      <a:pt x="784" y="418"/>
                    </a:lnTo>
                    <a:lnTo>
                      <a:pt x="801" y="406"/>
                    </a:lnTo>
                    <a:lnTo>
                      <a:pt x="825" y="402"/>
                    </a:lnTo>
                    <a:lnTo>
                      <a:pt x="854" y="400"/>
                    </a:lnTo>
                    <a:lnTo>
                      <a:pt x="954" y="409"/>
                    </a:lnTo>
                    <a:lnTo>
                      <a:pt x="1075" y="419"/>
                    </a:lnTo>
                    <a:lnTo>
                      <a:pt x="1078" y="410"/>
                    </a:lnTo>
                    <a:lnTo>
                      <a:pt x="1071" y="405"/>
                    </a:lnTo>
                    <a:lnTo>
                      <a:pt x="1063" y="397"/>
                    </a:lnTo>
                    <a:lnTo>
                      <a:pt x="1055" y="392"/>
                    </a:lnTo>
                    <a:lnTo>
                      <a:pt x="979" y="348"/>
                    </a:lnTo>
                    <a:lnTo>
                      <a:pt x="902" y="312"/>
                    </a:lnTo>
                    <a:lnTo>
                      <a:pt x="822" y="284"/>
                    </a:lnTo>
                    <a:lnTo>
                      <a:pt x="740" y="265"/>
                    </a:lnTo>
                    <a:lnTo>
                      <a:pt x="656" y="253"/>
                    </a:lnTo>
                    <a:lnTo>
                      <a:pt x="572" y="249"/>
                    </a:lnTo>
                    <a:close/>
                    <a:moveTo>
                      <a:pt x="703" y="0"/>
                    </a:moveTo>
                    <a:lnTo>
                      <a:pt x="778" y="5"/>
                    </a:lnTo>
                    <a:lnTo>
                      <a:pt x="852" y="18"/>
                    </a:lnTo>
                    <a:lnTo>
                      <a:pt x="924" y="37"/>
                    </a:lnTo>
                    <a:lnTo>
                      <a:pt x="991" y="64"/>
                    </a:lnTo>
                    <a:lnTo>
                      <a:pt x="1055" y="98"/>
                    </a:lnTo>
                    <a:lnTo>
                      <a:pt x="1116" y="137"/>
                    </a:lnTo>
                    <a:lnTo>
                      <a:pt x="1171" y="182"/>
                    </a:lnTo>
                    <a:lnTo>
                      <a:pt x="1222" y="232"/>
                    </a:lnTo>
                    <a:lnTo>
                      <a:pt x="1267" y="288"/>
                    </a:lnTo>
                    <a:lnTo>
                      <a:pt x="1306" y="348"/>
                    </a:lnTo>
                    <a:lnTo>
                      <a:pt x="1340" y="410"/>
                    </a:lnTo>
                    <a:lnTo>
                      <a:pt x="1366" y="479"/>
                    </a:lnTo>
                    <a:lnTo>
                      <a:pt x="1386" y="549"/>
                    </a:lnTo>
                    <a:lnTo>
                      <a:pt x="1398" y="621"/>
                    </a:lnTo>
                    <a:lnTo>
                      <a:pt x="1402" y="697"/>
                    </a:lnTo>
                    <a:lnTo>
                      <a:pt x="1398" y="773"/>
                    </a:lnTo>
                    <a:lnTo>
                      <a:pt x="1386" y="847"/>
                    </a:lnTo>
                    <a:lnTo>
                      <a:pt x="1366" y="918"/>
                    </a:lnTo>
                    <a:lnTo>
                      <a:pt x="1340" y="985"/>
                    </a:lnTo>
                    <a:lnTo>
                      <a:pt x="1308" y="1049"/>
                    </a:lnTo>
                    <a:lnTo>
                      <a:pt x="1268" y="1107"/>
                    </a:lnTo>
                    <a:lnTo>
                      <a:pt x="1223" y="1163"/>
                    </a:lnTo>
                    <a:lnTo>
                      <a:pt x="1172" y="1212"/>
                    </a:lnTo>
                    <a:lnTo>
                      <a:pt x="1117" y="1257"/>
                    </a:lnTo>
                    <a:lnTo>
                      <a:pt x="1057" y="1297"/>
                    </a:lnTo>
                    <a:lnTo>
                      <a:pt x="992" y="1329"/>
                    </a:lnTo>
                    <a:lnTo>
                      <a:pt x="925" y="1355"/>
                    </a:lnTo>
                    <a:lnTo>
                      <a:pt x="854" y="1374"/>
                    </a:lnTo>
                    <a:lnTo>
                      <a:pt x="780" y="1385"/>
                    </a:lnTo>
                    <a:lnTo>
                      <a:pt x="703" y="1390"/>
                    </a:lnTo>
                    <a:lnTo>
                      <a:pt x="625" y="1385"/>
                    </a:lnTo>
                    <a:lnTo>
                      <a:pt x="551" y="1374"/>
                    </a:lnTo>
                    <a:lnTo>
                      <a:pt x="480" y="1353"/>
                    </a:lnTo>
                    <a:lnTo>
                      <a:pt x="412" y="1327"/>
                    </a:lnTo>
                    <a:lnTo>
                      <a:pt x="348" y="1294"/>
                    </a:lnTo>
                    <a:lnTo>
                      <a:pt x="287" y="1253"/>
                    </a:lnTo>
                    <a:lnTo>
                      <a:pt x="231" y="1208"/>
                    </a:lnTo>
                    <a:lnTo>
                      <a:pt x="180" y="1157"/>
                    </a:lnTo>
                    <a:lnTo>
                      <a:pt x="135" y="1102"/>
                    </a:lnTo>
                    <a:lnTo>
                      <a:pt x="96" y="1042"/>
                    </a:lnTo>
                    <a:lnTo>
                      <a:pt x="63" y="976"/>
                    </a:lnTo>
                    <a:lnTo>
                      <a:pt x="36" y="910"/>
                    </a:lnTo>
                    <a:lnTo>
                      <a:pt x="16" y="838"/>
                    </a:lnTo>
                    <a:lnTo>
                      <a:pt x="4" y="764"/>
                    </a:lnTo>
                    <a:lnTo>
                      <a:pt x="0" y="687"/>
                    </a:lnTo>
                    <a:lnTo>
                      <a:pt x="4" y="613"/>
                    </a:lnTo>
                    <a:lnTo>
                      <a:pt x="17" y="539"/>
                    </a:lnTo>
                    <a:lnTo>
                      <a:pt x="36" y="469"/>
                    </a:lnTo>
                    <a:lnTo>
                      <a:pt x="64" y="402"/>
                    </a:lnTo>
                    <a:lnTo>
                      <a:pt x="97" y="339"/>
                    </a:lnTo>
                    <a:lnTo>
                      <a:pt x="137" y="281"/>
                    </a:lnTo>
                    <a:lnTo>
                      <a:pt x="182" y="226"/>
                    </a:lnTo>
                    <a:lnTo>
                      <a:pt x="233" y="176"/>
                    </a:lnTo>
                    <a:lnTo>
                      <a:pt x="288" y="133"/>
                    </a:lnTo>
                    <a:lnTo>
                      <a:pt x="349" y="93"/>
                    </a:lnTo>
                    <a:lnTo>
                      <a:pt x="413" y="61"/>
                    </a:lnTo>
                    <a:lnTo>
                      <a:pt x="480" y="35"/>
                    </a:lnTo>
                    <a:lnTo>
                      <a:pt x="551" y="16"/>
                    </a:lnTo>
                    <a:lnTo>
                      <a:pt x="625" y="5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组合 8"/>
          <p:cNvGrpSpPr/>
          <p:nvPr/>
        </p:nvGrpSpPr>
        <p:grpSpPr>
          <a:xfrm>
            <a:off x="10987200" y="6373800"/>
            <a:ext cx="272880" cy="525600"/>
            <a:chOff x="10987200" y="6373800"/>
            <a:chExt cx="272880" cy="525600"/>
          </a:xfrm>
        </p:grpSpPr>
        <p:sp>
          <p:nvSpPr>
            <p:cNvPr id="533" name="椭圆 5"/>
            <p:cNvSpPr/>
            <p:nvPr/>
          </p:nvSpPr>
          <p:spPr>
            <a:xfrm>
              <a:off x="10987200" y="637380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接连接符 6"/>
            <p:cNvSpPr/>
            <p:nvPr/>
          </p:nvSpPr>
          <p:spPr>
            <a:xfrm>
              <a:off x="11123640" y="65642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组合 3"/>
          <p:cNvGrpSpPr/>
          <p:nvPr/>
        </p:nvGrpSpPr>
        <p:grpSpPr>
          <a:xfrm>
            <a:off x="846000" y="6373800"/>
            <a:ext cx="273240" cy="525600"/>
            <a:chOff x="846000" y="6373800"/>
            <a:chExt cx="273240" cy="525600"/>
          </a:xfrm>
        </p:grpSpPr>
        <p:sp>
          <p:nvSpPr>
            <p:cNvPr id="536" name="椭圆 2"/>
            <p:cNvSpPr/>
            <p:nvPr/>
          </p:nvSpPr>
          <p:spPr>
            <a:xfrm>
              <a:off x="846000" y="63738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直接连接符 7"/>
            <p:cNvSpPr/>
            <p:nvPr/>
          </p:nvSpPr>
          <p:spPr>
            <a:xfrm>
              <a:off x="968400" y="65642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组合 15"/>
          <p:cNvGrpSpPr/>
          <p:nvPr/>
        </p:nvGrpSpPr>
        <p:grpSpPr>
          <a:xfrm>
            <a:off x="10987200" y="-17640"/>
            <a:ext cx="272880" cy="525600"/>
            <a:chOff x="10987200" y="-17640"/>
            <a:chExt cx="272880" cy="525600"/>
          </a:xfrm>
        </p:grpSpPr>
        <p:sp>
          <p:nvSpPr>
            <p:cNvPr id="539" name="椭圆 16"/>
            <p:cNvSpPr/>
            <p:nvPr/>
          </p:nvSpPr>
          <p:spPr>
            <a:xfrm flipV="1">
              <a:off x="10987200" y="23436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直接连接符 17"/>
            <p:cNvSpPr/>
            <p:nvPr/>
          </p:nvSpPr>
          <p:spPr>
            <a:xfrm flipV="1">
              <a:off x="11123640" y="-176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8"/>
          <p:cNvGrpSpPr/>
          <p:nvPr/>
        </p:nvGrpSpPr>
        <p:grpSpPr>
          <a:xfrm>
            <a:off x="846000" y="-14400"/>
            <a:ext cx="273240" cy="525600"/>
            <a:chOff x="846000" y="-14400"/>
            <a:chExt cx="273240" cy="525600"/>
          </a:xfrm>
        </p:grpSpPr>
        <p:sp>
          <p:nvSpPr>
            <p:cNvPr id="542" name="椭圆 19"/>
            <p:cNvSpPr/>
            <p:nvPr/>
          </p:nvSpPr>
          <p:spPr>
            <a:xfrm flipV="1">
              <a:off x="846000" y="2376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接连接符 20"/>
            <p:cNvSpPr/>
            <p:nvPr/>
          </p:nvSpPr>
          <p:spPr>
            <a:xfrm flipV="1">
              <a:off x="968400" y="-1440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4" name="TextBox 13"/>
          <p:cNvSpPr/>
          <p:nvPr/>
        </p:nvSpPr>
        <p:spPr>
          <a:xfrm>
            <a:off x="6215040" y="1971720"/>
            <a:ext cx="44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d03c"/>
                </a:solidFill>
                <a:latin typeface="微软雅黑"/>
                <a:ea typeface="微软雅黑"/>
              </a:rPr>
              <a:t>原来是一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组合 9"/>
          <p:cNvGrpSpPr/>
          <p:nvPr/>
        </p:nvGrpSpPr>
        <p:grpSpPr>
          <a:xfrm>
            <a:off x="7623000" y="2436840"/>
            <a:ext cx="3637080" cy="3046320"/>
            <a:chOff x="7623000" y="2436840"/>
            <a:chExt cx="3637080" cy="3046320"/>
          </a:xfrm>
        </p:grpSpPr>
        <p:pic>
          <p:nvPicPr>
            <p:cNvPr id="546" name="图片 26" descr=""/>
            <p:cNvPicPr/>
            <p:nvPr/>
          </p:nvPicPr>
          <p:blipFill>
            <a:blip r:embed="rId1"/>
            <a:stretch/>
          </p:blipFill>
          <p:spPr>
            <a:xfrm>
              <a:off x="7623000" y="2436840"/>
              <a:ext cx="3637080" cy="304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组合 27"/>
            <p:cNvGrpSpPr/>
            <p:nvPr/>
          </p:nvGrpSpPr>
          <p:grpSpPr>
            <a:xfrm>
              <a:off x="8928000" y="3700800"/>
              <a:ext cx="1260000" cy="1040040"/>
              <a:chOff x="8928000" y="3700800"/>
              <a:chExt cx="1260000" cy="1040040"/>
            </a:xfrm>
          </p:grpSpPr>
          <p:sp>
            <p:nvSpPr>
              <p:cNvPr id="548" name="Freeform 32"/>
              <p:cNvSpPr/>
              <p:nvPr/>
            </p:nvSpPr>
            <p:spPr>
              <a:xfrm rot="20388000">
                <a:off x="9017280" y="3865680"/>
                <a:ext cx="1081440" cy="709920"/>
              </a:xfrm>
              <a:custGeom>
                <a:avLst/>
                <a:gdLst/>
                <a:ahLst/>
                <a:rect l="l" t="t" r="r" b="b"/>
                <a:pathLst>
                  <a:path w="512" h="336">
                    <a:moveTo>
                      <a:pt x="448" y="0"/>
                    </a:moveTo>
                    <a:cubicBezTo>
                      <a:pt x="64" y="0"/>
                      <a:pt x="64" y="0"/>
                      <a:pt x="64" y="0"/>
                    </a:cubicBezTo>
                    <a:cubicBezTo>
                      <a:pt x="29" y="0"/>
                      <a:pt x="0" y="29"/>
                      <a:pt x="0" y="64"/>
                    </a:cubicBezTo>
                    <a:cubicBezTo>
                      <a:pt x="0" y="272"/>
                      <a:pt x="0" y="272"/>
                      <a:pt x="0" y="272"/>
                    </a:cubicBezTo>
                    <a:cubicBezTo>
                      <a:pt x="0" y="307"/>
                      <a:pt x="29" y="336"/>
                      <a:pt x="64" y="336"/>
                    </a:cubicBezTo>
                    <a:cubicBezTo>
                      <a:pt x="448" y="336"/>
                      <a:pt x="448" y="336"/>
                      <a:pt x="448" y="336"/>
                    </a:cubicBezTo>
                    <a:cubicBezTo>
                      <a:pt x="483" y="336"/>
                      <a:pt x="512" y="307"/>
                      <a:pt x="512" y="272"/>
                    </a:cubicBezTo>
                    <a:cubicBezTo>
                      <a:pt x="512" y="64"/>
                      <a:pt x="512" y="64"/>
                      <a:pt x="512" y="64"/>
                    </a:cubicBezTo>
                    <a:cubicBezTo>
                      <a:pt x="512" y="29"/>
                      <a:pt x="483" y="0"/>
                      <a:pt x="448" y="0"/>
                    </a:cubicBezTo>
                    <a:close/>
                    <a:moveTo>
                      <a:pt x="32" y="84"/>
                    </a:moveTo>
                    <a:cubicBezTo>
                      <a:pt x="144" y="168"/>
                      <a:pt x="144" y="168"/>
                      <a:pt x="144" y="168"/>
                    </a:cubicBezTo>
                    <a:cubicBezTo>
                      <a:pt x="32" y="252"/>
                      <a:pt x="32" y="252"/>
                      <a:pt x="32" y="252"/>
                    </a:cubicBezTo>
                    <a:lnTo>
                      <a:pt x="32" y="84"/>
                    </a:lnTo>
                    <a:close/>
                    <a:moveTo>
                      <a:pt x="480" y="272"/>
                    </a:moveTo>
                    <a:cubicBezTo>
                      <a:pt x="480" y="290"/>
                      <a:pt x="466" y="304"/>
                      <a:pt x="448" y="304"/>
                    </a:cubicBezTo>
                    <a:cubicBezTo>
                      <a:pt x="64" y="304"/>
                      <a:pt x="64" y="304"/>
                      <a:pt x="64" y="304"/>
                    </a:cubicBezTo>
                    <a:cubicBezTo>
                      <a:pt x="46" y="304"/>
                      <a:pt x="32" y="290"/>
                      <a:pt x="32" y="272"/>
                    </a:cubicBezTo>
                    <a:cubicBezTo>
                      <a:pt x="157" y="178"/>
                      <a:pt x="157" y="178"/>
                      <a:pt x="157" y="178"/>
                    </a:cubicBezTo>
                    <a:cubicBezTo>
                      <a:pt x="227" y="230"/>
                      <a:pt x="227" y="230"/>
                      <a:pt x="227" y="230"/>
                    </a:cubicBezTo>
                    <a:cubicBezTo>
                      <a:pt x="236" y="237"/>
                      <a:pt x="246" y="240"/>
                      <a:pt x="256" y="240"/>
                    </a:cubicBezTo>
                    <a:cubicBezTo>
                      <a:pt x="266" y="240"/>
                      <a:pt x="276" y="237"/>
                      <a:pt x="285" y="230"/>
                    </a:cubicBezTo>
                    <a:cubicBezTo>
                      <a:pt x="355" y="178"/>
                      <a:pt x="355" y="178"/>
                      <a:pt x="355" y="178"/>
                    </a:cubicBezTo>
                    <a:lnTo>
                      <a:pt x="480" y="272"/>
                    </a:lnTo>
                    <a:close/>
                    <a:moveTo>
                      <a:pt x="480" y="252"/>
                    </a:moveTo>
                    <a:cubicBezTo>
                      <a:pt x="368" y="168"/>
                      <a:pt x="368" y="168"/>
                      <a:pt x="368" y="168"/>
                    </a:cubicBezTo>
                    <a:cubicBezTo>
                      <a:pt x="480" y="84"/>
                      <a:pt x="480" y="84"/>
                      <a:pt x="480" y="84"/>
                    </a:cubicBezTo>
                    <a:lnTo>
                      <a:pt x="480" y="252"/>
                    </a:lnTo>
                    <a:close/>
                    <a:moveTo>
                      <a:pt x="275" y="218"/>
                    </a:moveTo>
                    <a:cubicBezTo>
                      <a:pt x="270" y="222"/>
                      <a:pt x="263" y="224"/>
                      <a:pt x="256" y="224"/>
                    </a:cubicBezTo>
                    <a:cubicBezTo>
                      <a:pt x="249" y="224"/>
                      <a:pt x="242" y="222"/>
                      <a:pt x="237" y="218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46"/>
                      <a:pt x="46" y="32"/>
                      <a:pt x="64" y="32"/>
                    </a:cubicBezTo>
                    <a:cubicBezTo>
                      <a:pt x="448" y="32"/>
                      <a:pt x="448" y="32"/>
                      <a:pt x="448" y="32"/>
                    </a:cubicBezTo>
                    <a:cubicBezTo>
                      <a:pt x="466" y="32"/>
                      <a:pt x="480" y="46"/>
                      <a:pt x="480" y="64"/>
                    </a:cubicBezTo>
                    <a:lnTo>
                      <a:pt x="275" y="218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7"/>
              <p:cNvSpPr/>
              <p:nvPr/>
            </p:nvSpPr>
            <p:spPr>
              <a:xfrm rot="21464400">
                <a:off x="9419040" y="4104720"/>
                <a:ext cx="272520" cy="269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402" h="1390">
                    <a:moveTo>
                      <a:pt x="572" y="249"/>
                    </a:moveTo>
                    <a:lnTo>
                      <a:pt x="483" y="253"/>
                    </a:lnTo>
                    <a:lnTo>
                      <a:pt x="461" y="258"/>
                    </a:lnTo>
                    <a:lnTo>
                      <a:pt x="445" y="265"/>
                    </a:lnTo>
                    <a:lnTo>
                      <a:pt x="435" y="277"/>
                    </a:lnTo>
                    <a:lnTo>
                      <a:pt x="429" y="293"/>
                    </a:lnTo>
                    <a:lnTo>
                      <a:pt x="429" y="313"/>
                    </a:lnTo>
                    <a:lnTo>
                      <a:pt x="429" y="345"/>
                    </a:lnTo>
                    <a:lnTo>
                      <a:pt x="431" y="361"/>
                    </a:lnTo>
                    <a:lnTo>
                      <a:pt x="435" y="374"/>
                    </a:lnTo>
                    <a:lnTo>
                      <a:pt x="444" y="383"/>
                    </a:lnTo>
                    <a:lnTo>
                      <a:pt x="457" y="387"/>
                    </a:lnTo>
                    <a:lnTo>
                      <a:pt x="473" y="389"/>
                    </a:lnTo>
                    <a:lnTo>
                      <a:pt x="511" y="392"/>
                    </a:lnTo>
                    <a:lnTo>
                      <a:pt x="548" y="394"/>
                    </a:lnTo>
                    <a:lnTo>
                      <a:pt x="582" y="397"/>
                    </a:lnTo>
                    <a:lnTo>
                      <a:pt x="607" y="403"/>
                    </a:lnTo>
                    <a:lnTo>
                      <a:pt x="625" y="413"/>
                    </a:lnTo>
                    <a:lnTo>
                      <a:pt x="640" y="426"/>
                    </a:lnTo>
                    <a:lnTo>
                      <a:pt x="649" y="447"/>
                    </a:lnTo>
                    <a:lnTo>
                      <a:pt x="653" y="472"/>
                    </a:lnTo>
                    <a:lnTo>
                      <a:pt x="653" y="504"/>
                    </a:lnTo>
                    <a:lnTo>
                      <a:pt x="646" y="1080"/>
                    </a:lnTo>
                    <a:lnTo>
                      <a:pt x="646" y="1107"/>
                    </a:lnTo>
                    <a:lnTo>
                      <a:pt x="650" y="1132"/>
                    </a:lnTo>
                    <a:lnTo>
                      <a:pt x="659" y="1155"/>
                    </a:lnTo>
                    <a:lnTo>
                      <a:pt x="671" y="1176"/>
                    </a:lnTo>
                    <a:lnTo>
                      <a:pt x="689" y="1195"/>
                    </a:lnTo>
                    <a:lnTo>
                      <a:pt x="707" y="1205"/>
                    </a:lnTo>
                    <a:lnTo>
                      <a:pt x="726" y="1212"/>
                    </a:lnTo>
                    <a:lnTo>
                      <a:pt x="746" y="1218"/>
                    </a:lnTo>
                    <a:lnTo>
                      <a:pt x="753" y="1200"/>
                    </a:lnTo>
                    <a:lnTo>
                      <a:pt x="759" y="1182"/>
                    </a:lnTo>
                    <a:lnTo>
                      <a:pt x="762" y="1163"/>
                    </a:lnTo>
                    <a:lnTo>
                      <a:pt x="762" y="486"/>
                    </a:lnTo>
                    <a:lnTo>
                      <a:pt x="765" y="457"/>
                    </a:lnTo>
                    <a:lnTo>
                      <a:pt x="772" y="435"/>
                    </a:lnTo>
                    <a:lnTo>
                      <a:pt x="784" y="418"/>
                    </a:lnTo>
                    <a:lnTo>
                      <a:pt x="801" y="406"/>
                    </a:lnTo>
                    <a:lnTo>
                      <a:pt x="825" y="402"/>
                    </a:lnTo>
                    <a:lnTo>
                      <a:pt x="854" y="400"/>
                    </a:lnTo>
                    <a:lnTo>
                      <a:pt x="954" y="409"/>
                    </a:lnTo>
                    <a:lnTo>
                      <a:pt x="1075" y="419"/>
                    </a:lnTo>
                    <a:lnTo>
                      <a:pt x="1078" y="410"/>
                    </a:lnTo>
                    <a:lnTo>
                      <a:pt x="1071" y="405"/>
                    </a:lnTo>
                    <a:lnTo>
                      <a:pt x="1063" y="397"/>
                    </a:lnTo>
                    <a:lnTo>
                      <a:pt x="1055" y="392"/>
                    </a:lnTo>
                    <a:lnTo>
                      <a:pt x="979" y="348"/>
                    </a:lnTo>
                    <a:lnTo>
                      <a:pt x="902" y="312"/>
                    </a:lnTo>
                    <a:lnTo>
                      <a:pt x="822" y="284"/>
                    </a:lnTo>
                    <a:lnTo>
                      <a:pt x="740" y="265"/>
                    </a:lnTo>
                    <a:lnTo>
                      <a:pt x="656" y="253"/>
                    </a:lnTo>
                    <a:lnTo>
                      <a:pt x="572" y="249"/>
                    </a:lnTo>
                    <a:close/>
                    <a:moveTo>
                      <a:pt x="703" y="0"/>
                    </a:moveTo>
                    <a:lnTo>
                      <a:pt x="778" y="5"/>
                    </a:lnTo>
                    <a:lnTo>
                      <a:pt x="852" y="18"/>
                    </a:lnTo>
                    <a:lnTo>
                      <a:pt x="924" y="37"/>
                    </a:lnTo>
                    <a:lnTo>
                      <a:pt x="991" y="64"/>
                    </a:lnTo>
                    <a:lnTo>
                      <a:pt x="1055" y="98"/>
                    </a:lnTo>
                    <a:lnTo>
                      <a:pt x="1116" y="137"/>
                    </a:lnTo>
                    <a:lnTo>
                      <a:pt x="1171" y="182"/>
                    </a:lnTo>
                    <a:lnTo>
                      <a:pt x="1222" y="232"/>
                    </a:lnTo>
                    <a:lnTo>
                      <a:pt x="1267" y="288"/>
                    </a:lnTo>
                    <a:lnTo>
                      <a:pt x="1306" y="348"/>
                    </a:lnTo>
                    <a:lnTo>
                      <a:pt x="1340" y="410"/>
                    </a:lnTo>
                    <a:lnTo>
                      <a:pt x="1366" y="479"/>
                    </a:lnTo>
                    <a:lnTo>
                      <a:pt x="1386" y="549"/>
                    </a:lnTo>
                    <a:lnTo>
                      <a:pt x="1398" y="621"/>
                    </a:lnTo>
                    <a:lnTo>
                      <a:pt x="1402" y="697"/>
                    </a:lnTo>
                    <a:lnTo>
                      <a:pt x="1398" y="773"/>
                    </a:lnTo>
                    <a:lnTo>
                      <a:pt x="1386" y="847"/>
                    </a:lnTo>
                    <a:lnTo>
                      <a:pt x="1366" y="918"/>
                    </a:lnTo>
                    <a:lnTo>
                      <a:pt x="1340" y="985"/>
                    </a:lnTo>
                    <a:lnTo>
                      <a:pt x="1308" y="1049"/>
                    </a:lnTo>
                    <a:lnTo>
                      <a:pt x="1268" y="1107"/>
                    </a:lnTo>
                    <a:lnTo>
                      <a:pt x="1223" y="1163"/>
                    </a:lnTo>
                    <a:lnTo>
                      <a:pt x="1172" y="1212"/>
                    </a:lnTo>
                    <a:lnTo>
                      <a:pt x="1117" y="1257"/>
                    </a:lnTo>
                    <a:lnTo>
                      <a:pt x="1057" y="1297"/>
                    </a:lnTo>
                    <a:lnTo>
                      <a:pt x="992" y="1329"/>
                    </a:lnTo>
                    <a:lnTo>
                      <a:pt x="925" y="1355"/>
                    </a:lnTo>
                    <a:lnTo>
                      <a:pt x="854" y="1374"/>
                    </a:lnTo>
                    <a:lnTo>
                      <a:pt x="780" y="1385"/>
                    </a:lnTo>
                    <a:lnTo>
                      <a:pt x="703" y="1390"/>
                    </a:lnTo>
                    <a:lnTo>
                      <a:pt x="625" y="1385"/>
                    </a:lnTo>
                    <a:lnTo>
                      <a:pt x="551" y="1374"/>
                    </a:lnTo>
                    <a:lnTo>
                      <a:pt x="480" y="1353"/>
                    </a:lnTo>
                    <a:lnTo>
                      <a:pt x="412" y="1327"/>
                    </a:lnTo>
                    <a:lnTo>
                      <a:pt x="348" y="1294"/>
                    </a:lnTo>
                    <a:lnTo>
                      <a:pt x="287" y="1253"/>
                    </a:lnTo>
                    <a:lnTo>
                      <a:pt x="231" y="1208"/>
                    </a:lnTo>
                    <a:lnTo>
                      <a:pt x="180" y="1157"/>
                    </a:lnTo>
                    <a:lnTo>
                      <a:pt x="135" y="1102"/>
                    </a:lnTo>
                    <a:lnTo>
                      <a:pt x="96" y="1042"/>
                    </a:lnTo>
                    <a:lnTo>
                      <a:pt x="63" y="976"/>
                    </a:lnTo>
                    <a:lnTo>
                      <a:pt x="36" y="910"/>
                    </a:lnTo>
                    <a:lnTo>
                      <a:pt x="16" y="838"/>
                    </a:lnTo>
                    <a:lnTo>
                      <a:pt x="4" y="764"/>
                    </a:lnTo>
                    <a:lnTo>
                      <a:pt x="0" y="687"/>
                    </a:lnTo>
                    <a:lnTo>
                      <a:pt x="4" y="613"/>
                    </a:lnTo>
                    <a:lnTo>
                      <a:pt x="17" y="539"/>
                    </a:lnTo>
                    <a:lnTo>
                      <a:pt x="36" y="469"/>
                    </a:lnTo>
                    <a:lnTo>
                      <a:pt x="64" y="402"/>
                    </a:lnTo>
                    <a:lnTo>
                      <a:pt x="97" y="339"/>
                    </a:lnTo>
                    <a:lnTo>
                      <a:pt x="137" y="281"/>
                    </a:lnTo>
                    <a:lnTo>
                      <a:pt x="182" y="226"/>
                    </a:lnTo>
                    <a:lnTo>
                      <a:pt x="233" y="176"/>
                    </a:lnTo>
                    <a:lnTo>
                      <a:pt x="288" y="133"/>
                    </a:lnTo>
                    <a:lnTo>
                      <a:pt x="349" y="93"/>
                    </a:lnTo>
                    <a:lnTo>
                      <a:pt x="413" y="61"/>
                    </a:lnTo>
                    <a:lnTo>
                      <a:pt x="480" y="35"/>
                    </a:lnTo>
                    <a:lnTo>
                      <a:pt x="551" y="16"/>
                    </a:lnTo>
                    <a:lnTo>
                      <a:pt x="625" y="5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0" name="矩形 10"/>
          <p:cNvSpPr/>
          <p:nvPr/>
        </p:nvSpPr>
        <p:spPr>
          <a:xfrm>
            <a:off x="6172920" y="28796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2e2e2e"/>
                </a:solidFill>
                <a:latin typeface="微软雅黑"/>
                <a:ea typeface="微软雅黑"/>
              </a:rPr>
              <a:t>表白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组合 3"/>
          <p:cNvGrpSpPr/>
          <p:nvPr/>
        </p:nvGrpSpPr>
        <p:grpSpPr>
          <a:xfrm>
            <a:off x="1640520" y="1607040"/>
            <a:ext cx="2636280" cy="3563280"/>
            <a:chOff x="1640520" y="1607040"/>
            <a:chExt cx="2636280" cy="3563280"/>
          </a:xfrm>
        </p:grpSpPr>
        <p:grpSp>
          <p:nvGrpSpPr>
            <p:cNvPr id="552" name="组合 1"/>
            <p:cNvGrpSpPr/>
            <p:nvPr/>
          </p:nvGrpSpPr>
          <p:grpSpPr>
            <a:xfrm>
              <a:off x="1640520" y="1607040"/>
              <a:ext cx="2636280" cy="3563280"/>
              <a:chOff x="1640520" y="1607040"/>
              <a:chExt cx="2636280" cy="3563280"/>
            </a:xfrm>
          </p:grpSpPr>
          <p:sp>
            <p:nvSpPr>
              <p:cNvPr id="553" name="Freeform 22"/>
              <p:cNvSpPr/>
              <p:nvPr/>
            </p:nvSpPr>
            <p:spPr>
              <a:xfrm rot="20611200">
                <a:off x="1708200" y="1687680"/>
                <a:ext cx="649080" cy="556920"/>
              </a:xfrm>
              <a:custGeom>
                <a:avLst/>
                <a:gdLst/>
                <a:ahLst/>
                <a:rect l="l" t="t" r="r" b="b"/>
                <a:pathLst>
                  <a:path w="446" h="382">
                    <a:moveTo>
                      <a:pt x="224" y="69"/>
                    </a:moveTo>
                    <a:cubicBezTo>
                      <a:pt x="224" y="69"/>
                      <a:pt x="192" y="0"/>
                      <a:pt x="120" y="0"/>
                    </a:cubicBezTo>
                    <a:cubicBezTo>
                      <a:pt x="41" y="0"/>
                      <a:pt x="0" y="67"/>
                      <a:pt x="0" y="134"/>
                    </a:cubicBezTo>
                    <a:cubicBezTo>
                      <a:pt x="0" y="244"/>
                      <a:pt x="224" y="382"/>
                      <a:pt x="224" y="382"/>
                    </a:cubicBezTo>
                    <a:cubicBezTo>
                      <a:pt x="224" y="382"/>
                      <a:pt x="446" y="246"/>
                      <a:pt x="446" y="134"/>
                    </a:cubicBezTo>
                    <a:cubicBezTo>
                      <a:pt x="446" y="66"/>
                      <a:pt x="404" y="0"/>
                      <a:pt x="328" y="0"/>
                    </a:cubicBezTo>
                    <a:cubicBezTo>
                      <a:pt x="252" y="0"/>
                      <a:pt x="224" y="69"/>
                      <a:pt x="224" y="69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22"/>
              <p:cNvSpPr/>
              <p:nvPr/>
            </p:nvSpPr>
            <p:spPr>
              <a:xfrm flipH="1" rot="18043200">
                <a:off x="1690920" y="2607840"/>
                <a:ext cx="408600" cy="350280"/>
              </a:xfrm>
              <a:custGeom>
                <a:avLst/>
                <a:gdLst/>
                <a:ahLst/>
                <a:rect l="l" t="t" r="r" b="b"/>
                <a:pathLst>
                  <a:path w="446" h="382">
                    <a:moveTo>
                      <a:pt x="224" y="69"/>
                    </a:moveTo>
                    <a:cubicBezTo>
                      <a:pt x="224" y="69"/>
                      <a:pt x="192" y="0"/>
                      <a:pt x="120" y="0"/>
                    </a:cubicBezTo>
                    <a:cubicBezTo>
                      <a:pt x="41" y="0"/>
                      <a:pt x="0" y="67"/>
                      <a:pt x="0" y="134"/>
                    </a:cubicBezTo>
                    <a:cubicBezTo>
                      <a:pt x="0" y="244"/>
                      <a:pt x="224" y="382"/>
                      <a:pt x="224" y="382"/>
                    </a:cubicBezTo>
                    <a:cubicBezTo>
                      <a:pt x="224" y="382"/>
                      <a:pt x="446" y="246"/>
                      <a:pt x="446" y="134"/>
                    </a:cubicBezTo>
                    <a:cubicBezTo>
                      <a:pt x="446" y="66"/>
                      <a:pt x="404" y="0"/>
                      <a:pt x="328" y="0"/>
                    </a:cubicBezTo>
                    <a:cubicBezTo>
                      <a:pt x="252" y="0"/>
                      <a:pt x="224" y="69"/>
                      <a:pt x="224" y="69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5" name="组合 11"/>
              <p:cNvGrpSpPr/>
              <p:nvPr/>
            </p:nvGrpSpPr>
            <p:grpSpPr>
              <a:xfrm>
                <a:off x="2334240" y="1970640"/>
                <a:ext cx="1942560" cy="3199680"/>
                <a:chOff x="2334240" y="1970640"/>
                <a:chExt cx="1942560" cy="3199680"/>
              </a:xfrm>
            </p:grpSpPr>
            <p:sp>
              <p:nvSpPr>
                <p:cNvPr id="556" name="椭圆 44"/>
                <p:cNvSpPr/>
                <p:nvPr/>
              </p:nvSpPr>
              <p:spPr>
                <a:xfrm>
                  <a:off x="2653920" y="5041800"/>
                  <a:ext cx="1386000" cy="12852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57" name="组合 33"/>
                <p:cNvGrpSpPr/>
                <p:nvPr/>
              </p:nvGrpSpPr>
              <p:grpSpPr>
                <a:xfrm>
                  <a:off x="2334240" y="1970640"/>
                  <a:ext cx="1942560" cy="3199680"/>
                  <a:chOff x="2334240" y="1970640"/>
                  <a:chExt cx="1942560" cy="3199680"/>
                </a:xfrm>
              </p:grpSpPr>
              <p:sp>
                <p:nvSpPr>
                  <p:cNvPr id="558" name="Freeform 6"/>
                  <p:cNvSpPr/>
                  <p:nvPr/>
                </p:nvSpPr>
                <p:spPr>
                  <a:xfrm>
                    <a:off x="2441160" y="4060080"/>
                    <a:ext cx="1656720" cy="11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217">
                        <a:moveTo>
                          <a:pt x="282" y="127"/>
                        </a:moveTo>
                        <a:cubicBezTo>
                          <a:pt x="266" y="104"/>
                          <a:pt x="217" y="41"/>
                          <a:pt x="217" y="41"/>
                        </a:cubicBezTo>
                        <a:cubicBezTo>
                          <a:pt x="187" y="0"/>
                          <a:pt x="149" y="3"/>
                          <a:pt x="149" y="3"/>
                        </a:cubicBezTo>
                        <a:cubicBezTo>
                          <a:pt x="149" y="3"/>
                          <a:pt x="110" y="0"/>
                          <a:pt x="80" y="41"/>
                        </a:cubicBezTo>
                        <a:cubicBezTo>
                          <a:pt x="80" y="41"/>
                          <a:pt x="31" y="104"/>
                          <a:pt x="15" y="127"/>
                        </a:cubicBezTo>
                        <a:cubicBezTo>
                          <a:pt x="0" y="150"/>
                          <a:pt x="8" y="162"/>
                          <a:pt x="21" y="153"/>
                        </a:cubicBezTo>
                        <a:cubicBezTo>
                          <a:pt x="26" y="172"/>
                          <a:pt x="56" y="193"/>
                          <a:pt x="87" y="201"/>
                        </a:cubicBezTo>
                        <a:cubicBezTo>
                          <a:pt x="92" y="203"/>
                          <a:pt x="150" y="217"/>
                          <a:pt x="210" y="201"/>
                        </a:cubicBezTo>
                        <a:cubicBezTo>
                          <a:pt x="241" y="193"/>
                          <a:pt x="271" y="172"/>
                          <a:pt x="276" y="153"/>
                        </a:cubicBezTo>
                        <a:cubicBezTo>
                          <a:pt x="290" y="162"/>
                          <a:pt x="298" y="150"/>
                          <a:pt x="282" y="127"/>
                        </a:cubicBezTo>
                        <a:close/>
                        <a:moveTo>
                          <a:pt x="49" y="126"/>
                        </a:moveTo>
                        <a:cubicBezTo>
                          <a:pt x="72" y="101"/>
                          <a:pt x="104" y="67"/>
                          <a:pt x="104" y="67"/>
                        </a:cubicBezTo>
                        <a:cubicBezTo>
                          <a:pt x="97" y="135"/>
                          <a:pt x="97" y="135"/>
                          <a:pt x="97" y="135"/>
                        </a:cubicBezTo>
                        <a:cubicBezTo>
                          <a:pt x="97" y="135"/>
                          <a:pt x="71" y="124"/>
                          <a:pt x="49" y="126"/>
                        </a:cubicBezTo>
                        <a:close/>
                        <a:moveTo>
                          <a:pt x="200" y="135"/>
                        </a:moveTo>
                        <a:cubicBezTo>
                          <a:pt x="194" y="67"/>
                          <a:pt x="194" y="67"/>
                          <a:pt x="194" y="67"/>
                        </a:cubicBezTo>
                        <a:cubicBezTo>
                          <a:pt x="194" y="67"/>
                          <a:pt x="226" y="101"/>
                          <a:pt x="249" y="126"/>
                        </a:cubicBezTo>
                        <a:cubicBezTo>
                          <a:pt x="226" y="124"/>
                          <a:pt x="200" y="135"/>
                          <a:pt x="200" y="135"/>
                        </a:cubicBezTo>
                        <a:close/>
                      </a:path>
                    </a:pathLst>
                  </a:custGeom>
                  <a:solidFill>
                    <a:srgbClr val="2e2e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559" name="组合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4240" y="1970640"/>
                    <a:ext cx="1942560" cy="206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60" name="椭圆 34"/>
                <p:cNvSpPr/>
                <p:nvPr/>
              </p:nvSpPr>
              <p:spPr>
                <a:xfrm>
                  <a:off x="2990880" y="3355920"/>
                  <a:ext cx="112680" cy="77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椭圆 35"/>
                <p:cNvSpPr/>
                <p:nvPr/>
              </p:nvSpPr>
              <p:spPr>
                <a:xfrm>
                  <a:off x="3645000" y="3355920"/>
                  <a:ext cx="112680" cy="77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62" name="椭圆 12"/>
            <p:cNvGrpSpPr/>
            <p:nvPr/>
          </p:nvGrpSpPr>
          <p:grpSpPr>
            <a:xfrm>
              <a:off x="3267720" y="3413880"/>
              <a:ext cx="981360" cy="438840"/>
              <a:chOff x="3267720" y="3413880"/>
              <a:chExt cx="981360" cy="438840"/>
            </a:xfrm>
          </p:grpSpPr>
          <p:pic>
            <p:nvPicPr>
              <p:cNvPr id="563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7720" y="3413880"/>
                <a:ext cx="98136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3411720" y="3475800"/>
                <a:ext cx="6940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59"/>
            <p:cNvGrpSpPr/>
            <p:nvPr/>
          </p:nvGrpSpPr>
          <p:grpSpPr>
            <a:xfrm>
              <a:off x="2395800" y="3431880"/>
              <a:ext cx="981360" cy="438840"/>
              <a:chOff x="2395800" y="3431880"/>
              <a:chExt cx="981360" cy="438840"/>
            </a:xfrm>
          </p:grpSpPr>
          <p:pic>
            <p:nvPicPr>
              <p:cNvPr id="566" name="椭圆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2395800" y="3431880"/>
                <a:ext cx="98136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2541240" y="3493080"/>
                <a:ext cx="6940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组合 15"/>
          <p:cNvGrpSpPr/>
          <p:nvPr/>
        </p:nvGrpSpPr>
        <p:grpSpPr>
          <a:xfrm>
            <a:off x="10987200" y="-17640"/>
            <a:ext cx="272880" cy="525600"/>
            <a:chOff x="10987200" y="-17640"/>
            <a:chExt cx="272880" cy="525600"/>
          </a:xfrm>
        </p:grpSpPr>
        <p:sp>
          <p:nvSpPr>
            <p:cNvPr id="569" name="椭圆 16"/>
            <p:cNvSpPr/>
            <p:nvPr/>
          </p:nvSpPr>
          <p:spPr>
            <a:xfrm flipV="1">
              <a:off x="10987200" y="234360"/>
              <a:ext cx="27288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 17"/>
            <p:cNvSpPr/>
            <p:nvPr/>
          </p:nvSpPr>
          <p:spPr>
            <a:xfrm flipV="1">
              <a:off x="11123640" y="-1764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组合 18"/>
          <p:cNvGrpSpPr/>
          <p:nvPr/>
        </p:nvGrpSpPr>
        <p:grpSpPr>
          <a:xfrm>
            <a:off x="846000" y="-14400"/>
            <a:ext cx="273240" cy="525600"/>
            <a:chOff x="846000" y="-14400"/>
            <a:chExt cx="273240" cy="525600"/>
          </a:xfrm>
        </p:grpSpPr>
        <p:sp>
          <p:nvSpPr>
            <p:cNvPr id="572" name="椭圆 19"/>
            <p:cNvSpPr/>
            <p:nvPr/>
          </p:nvSpPr>
          <p:spPr>
            <a:xfrm flipV="1">
              <a:off x="846000" y="237600"/>
              <a:ext cx="273240" cy="273240"/>
            </a:xfrm>
            <a:prstGeom prst="ellipse">
              <a:avLst/>
            </a:prstGeom>
            <a:solidFill>
              <a:srgbClr val="ffd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接连接符 20"/>
            <p:cNvSpPr/>
            <p:nvPr/>
          </p:nvSpPr>
          <p:spPr>
            <a:xfrm flipV="1">
              <a:off x="968400" y="-14400"/>
              <a:ext cx="0" cy="33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TextBox 13"/>
          <p:cNvSpPr/>
          <p:nvPr/>
        </p:nvSpPr>
        <p:spPr>
          <a:xfrm>
            <a:off x="3281400" y="768240"/>
            <a:ext cx="62532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2e2e"/>
                </a:solidFill>
                <a:latin typeface="方圆优皮体"/>
                <a:ea typeface="方圆优皮体"/>
              </a:rPr>
              <a:t>给阿文的新年礼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2e2e"/>
                </a:solidFill>
                <a:latin typeface="方圆优皮体"/>
                <a:ea typeface="方圆优皮体"/>
              </a:rPr>
              <a:t>                         </a:t>
            </a:r>
            <a:r>
              <a:rPr b="0" lang="en-US" sz="3600" spc="-1" strike="noStrike">
                <a:solidFill>
                  <a:srgbClr val="2e2e2e"/>
                </a:solidFill>
                <a:latin typeface="方圆优皮体"/>
                <a:ea typeface="方圆优皮体"/>
              </a:rPr>
              <a:t>--</a:t>
            </a:r>
            <a:r>
              <a:rPr b="0" lang="zh-CN" sz="3600" spc="-1" strike="noStrike">
                <a:solidFill>
                  <a:srgbClr val="2e2e2e"/>
                </a:solidFill>
                <a:latin typeface="方圆优皮体"/>
                <a:ea typeface="方圆优皮体"/>
              </a:rPr>
              <a:t>一封表白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4"/>
          <p:cNvSpPr/>
          <p:nvPr/>
        </p:nvSpPr>
        <p:spPr>
          <a:xfrm>
            <a:off x="1595520" y="2585880"/>
            <a:ext cx="92091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亲爱的阿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你好！当你打开这封信时，请不要太鸡冻，新年快到了，为表达我对你深深的感情，我决定送你一份新年礼物：</a:t>
            </a:r>
            <a:r>
              <a:rPr b="0" lang="en-US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Smartisan T2</a:t>
            </a:r>
            <a:r>
              <a:rPr b="0" lang="zh-CN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擦！你还不知道 </a:t>
            </a:r>
            <a:r>
              <a:rPr b="0" lang="en-US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Smartisan T2</a:t>
            </a:r>
            <a:r>
              <a:rPr b="0" lang="zh-CN" sz="2800" spc="-1" strike="noStrike">
                <a:solidFill>
                  <a:srgbClr val="000000"/>
                </a:solidFill>
                <a:latin typeface="方圆优皮体"/>
                <a:ea typeface="方圆优皮体"/>
              </a:rPr>
              <a:t>？立马给你展示一下，请不要被亮瞎眼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直接连接符 4"/>
          <p:cNvSpPr/>
          <p:nvPr/>
        </p:nvSpPr>
        <p:spPr>
          <a:xfrm>
            <a:off x="463680" y="358920"/>
            <a:ext cx="11255400" cy="0"/>
          </a:xfrm>
          <a:prstGeom prst="line">
            <a:avLst/>
          </a:prstGeom>
          <a:ln w="3816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4624560" y="93600"/>
            <a:ext cx="2943000" cy="63360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5218200" y="10476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亮点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1" descr=""/>
          <p:cNvPicPr/>
          <p:nvPr/>
        </p:nvPicPr>
        <p:blipFill>
          <a:blip r:embed="rId1"/>
          <a:srcRect l="0" t="0" r="0" b="34905"/>
          <a:stretch/>
        </p:blipFill>
        <p:spPr>
          <a:xfrm>
            <a:off x="7254720" y="1577880"/>
            <a:ext cx="3710160" cy="4299120"/>
          </a:xfrm>
          <a:prstGeom prst="rect">
            <a:avLst/>
          </a:prstGeom>
          <a:ln w="0">
            <a:noFill/>
          </a:ln>
        </p:spPr>
      </p:pic>
      <p:grpSp>
        <p:nvGrpSpPr>
          <p:cNvPr id="580" name="组合 20"/>
          <p:cNvGrpSpPr/>
          <p:nvPr/>
        </p:nvGrpSpPr>
        <p:grpSpPr>
          <a:xfrm>
            <a:off x="1908000" y="2654280"/>
            <a:ext cx="5289840" cy="1809720"/>
            <a:chOff x="1908000" y="2654280"/>
            <a:chExt cx="5289840" cy="1809720"/>
          </a:xfrm>
        </p:grpSpPr>
        <p:sp>
          <p:nvSpPr>
            <p:cNvPr id="581" name="直接连接符 9"/>
            <p:cNvSpPr/>
            <p:nvPr/>
          </p:nvSpPr>
          <p:spPr>
            <a:xfrm>
              <a:off x="1908000" y="2654280"/>
              <a:ext cx="5289840" cy="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10"/>
            <p:cNvSpPr/>
            <p:nvPr/>
          </p:nvSpPr>
          <p:spPr>
            <a:xfrm>
              <a:off x="1908000" y="4464000"/>
              <a:ext cx="5289840" cy="0"/>
            </a:xfrm>
            <a:prstGeom prst="line">
              <a:avLst/>
            </a:prstGeom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7"/>
          <p:cNvSpPr/>
          <p:nvPr/>
        </p:nvSpPr>
        <p:spPr>
          <a:xfrm>
            <a:off x="1996560" y="4782960"/>
            <a:ext cx="33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1920 x 1080 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分辨率，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445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18"/>
          <p:cNvSpPr/>
          <p:nvPr/>
        </p:nvSpPr>
        <p:spPr>
          <a:xfrm>
            <a:off x="2005920" y="539100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NFC 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蓝牙  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4.1 LE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支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4"/>
          <p:cNvSpPr/>
          <p:nvPr/>
        </p:nvSpPr>
        <p:spPr>
          <a:xfrm>
            <a:off x="1921680" y="2967120"/>
            <a:ext cx="127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骁龙™</a:t>
            </a:r>
            <a:r>
              <a:rPr b="0" lang="en-US" sz="2200" spc="-1" strike="noStrike">
                <a:solidFill>
                  <a:srgbClr val="2e2e2e"/>
                </a:solidFill>
                <a:latin typeface="微软雅黑"/>
                <a:ea typeface="微软雅黑"/>
              </a:rPr>
              <a:t>80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8"/>
          <p:cNvSpPr/>
          <p:nvPr/>
        </p:nvSpPr>
        <p:spPr>
          <a:xfrm>
            <a:off x="3419280" y="29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处理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9"/>
          <p:cNvSpPr/>
          <p:nvPr/>
        </p:nvSpPr>
        <p:spPr>
          <a:xfrm>
            <a:off x="1856520" y="3713040"/>
            <a:ext cx="105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e2e2e"/>
                </a:solidFill>
                <a:latin typeface="微软雅黑"/>
                <a:ea typeface="微软雅黑"/>
              </a:rPr>
              <a:t>1300</a:t>
            </a:r>
            <a:r>
              <a:rPr b="0" lang="zh-CN" sz="22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10"/>
          <p:cNvSpPr/>
          <p:nvPr/>
        </p:nvSpPr>
        <p:spPr>
          <a:xfrm>
            <a:off x="3119760" y="374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主摄像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11"/>
          <p:cNvSpPr/>
          <p:nvPr/>
        </p:nvSpPr>
        <p:spPr>
          <a:xfrm>
            <a:off x="4765320" y="2967120"/>
            <a:ext cx="13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e2e2e"/>
                </a:solidFill>
                <a:latin typeface="微软雅黑"/>
                <a:ea typeface="微软雅黑"/>
              </a:rPr>
              <a:t>16/32 G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2"/>
          <p:cNvSpPr/>
          <p:nvPr/>
        </p:nvSpPr>
        <p:spPr>
          <a:xfrm>
            <a:off x="6282000" y="2997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容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14"/>
          <p:cNvSpPr/>
          <p:nvPr/>
        </p:nvSpPr>
        <p:spPr>
          <a:xfrm>
            <a:off x="5780520" y="37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全高清显示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19"/>
          <p:cNvSpPr/>
          <p:nvPr/>
        </p:nvSpPr>
        <p:spPr>
          <a:xfrm>
            <a:off x="1824480" y="1946160"/>
            <a:ext cx="26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Smartisan T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19"/>
          <p:cNvSpPr/>
          <p:nvPr/>
        </p:nvSpPr>
        <p:spPr>
          <a:xfrm>
            <a:off x="4678200" y="3716280"/>
            <a:ext cx="81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e2e2e"/>
                </a:solidFill>
                <a:latin typeface="Calibri"/>
              </a:rPr>
              <a:t>4.95’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直接连接符 10"/>
          <p:cNvSpPr/>
          <p:nvPr/>
        </p:nvSpPr>
        <p:spPr>
          <a:xfrm>
            <a:off x="463680" y="358920"/>
            <a:ext cx="11255400" cy="0"/>
          </a:xfrm>
          <a:prstGeom prst="line">
            <a:avLst/>
          </a:prstGeom>
          <a:ln w="3816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5" name="组合 1"/>
          <p:cNvGrpSpPr/>
          <p:nvPr/>
        </p:nvGrpSpPr>
        <p:grpSpPr>
          <a:xfrm>
            <a:off x="2847960" y="3741840"/>
            <a:ext cx="6732720" cy="2700360"/>
            <a:chOff x="2847960" y="3741840"/>
            <a:chExt cx="6732720" cy="2700360"/>
          </a:xfrm>
        </p:grpSpPr>
        <p:pic>
          <p:nvPicPr>
            <p:cNvPr id="596" name="图片 6" descr=""/>
            <p:cNvPicPr/>
            <p:nvPr/>
          </p:nvPicPr>
          <p:blipFill>
            <a:blip r:embed="rId1"/>
            <a:stretch/>
          </p:blipFill>
          <p:spPr>
            <a:xfrm>
              <a:off x="2847960" y="4489920"/>
              <a:ext cx="6732720" cy="71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7" name="组合 8"/>
            <p:cNvGrpSpPr/>
            <p:nvPr/>
          </p:nvGrpSpPr>
          <p:grpSpPr>
            <a:xfrm>
              <a:off x="6948360" y="3741840"/>
              <a:ext cx="2523240" cy="2700360"/>
              <a:chOff x="6948360" y="3741840"/>
              <a:chExt cx="2523240" cy="2700360"/>
            </a:xfrm>
          </p:grpSpPr>
          <p:pic>
            <p:nvPicPr>
              <p:cNvPr id="598" name="图片 13" descr=""/>
              <p:cNvPicPr/>
              <p:nvPr/>
            </p:nvPicPr>
            <p:blipFill>
              <a:blip r:embed="rId2"/>
              <a:srcRect l="61652" t="0" r="16100" b="0"/>
              <a:stretch/>
            </p:blipFill>
            <p:spPr>
              <a:xfrm>
                <a:off x="7212600" y="4373640"/>
                <a:ext cx="1981800" cy="94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图片 1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8360" y="3741840"/>
                <a:ext cx="2523240" cy="2700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0" name="矩形 17"/>
          <p:cNvSpPr/>
          <p:nvPr/>
        </p:nvSpPr>
        <p:spPr>
          <a:xfrm>
            <a:off x="1595520" y="1230480"/>
            <a:ext cx="927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将电源键从边框上移除并整合至 </a:t>
            </a: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Home 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键内，将 </a:t>
            </a: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SIM 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卡槽隐藏至右侧键内，在永无尽头的极简主义美学道路上，我们艰难又合理地去掉每一个不必要的开孔或疤痕，只为再减少一个设计上的遗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矩形 13"/>
          <p:cNvSpPr/>
          <p:nvPr/>
        </p:nvSpPr>
        <p:spPr>
          <a:xfrm>
            <a:off x="4624560" y="93600"/>
            <a:ext cx="2943000" cy="63360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5218200" y="10476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亮点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47628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12"/>
          <p:cNvSpPr/>
          <p:nvPr/>
        </p:nvSpPr>
        <p:spPr>
          <a:xfrm>
            <a:off x="1289160" y="1303200"/>
            <a:ext cx="9397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远程协助：</a:t>
            </a:r>
            <a:r>
              <a: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Smartisan </a:t>
            </a: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手机可以通过网络操作另一台 </a:t>
            </a:r>
            <a:r>
              <a: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Smartisan </a:t>
            </a: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手机，以帮助对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组合 1"/>
          <p:cNvGrpSpPr/>
          <p:nvPr/>
        </p:nvGrpSpPr>
        <p:grpSpPr>
          <a:xfrm>
            <a:off x="1836720" y="2579760"/>
            <a:ext cx="8302680" cy="3585960"/>
            <a:chOff x="1836720" y="2579760"/>
            <a:chExt cx="8302680" cy="3585960"/>
          </a:xfrm>
        </p:grpSpPr>
        <p:pic>
          <p:nvPicPr>
            <p:cNvPr id="606" name="图片 12" descr=""/>
            <p:cNvPicPr/>
            <p:nvPr/>
          </p:nvPicPr>
          <p:blipFill>
            <a:blip r:embed="rId1"/>
            <a:stretch/>
          </p:blipFill>
          <p:spPr>
            <a:xfrm>
              <a:off x="8104320" y="2579760"/>
              <a:ext cx="2035080" cy="35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图片 8" descr=""/>
            <p:cNvPicPr/>
            <p:nvPr/>
          </p:nvPicPr>
          <p:blipFill>
            <a:blip r:embed="rId2"/>
            <a:stretch/>
          </p:blipFill>
          <p:spPr>
            <a:xfrm>
              <a:off x="8453160" y="3148920"/>
              <a:ext cx="1342080" cy="23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图片 9" descr=""/>
            <p:cNvPicPr/>
            <p:nvPr/>
          </p:nvPicPr>
          <p:blipFill>
            <a:blip r:embed="rId3"/>
            <a:stretch/>
          </p:blipFill>
          <p:spPr>
            <a:xfrm>
              <a:off x="4971240" y="2579760"/>
              <a:ext cx="2033280" cy="35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图片 7" descr=""/>
            <p:cNvPicPr/>
            <p:nvPr/>
          </p:nvPicPr>
          <p:blipFill>
            <a:blip r:embed="rId4"/>
            <a:stretch/>
          </p:blipFill>
          <p:spPr>
            <a:xfrm>
              <a:off x="5319720" y="3148920"/>
              <a:ext cx="1340640" cy="23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图片 4" descr=""/>
            <p:cNvPicPr/>
            <p:nvPr/>
          </p:nvPicPr>
          <p:blipFill>
            <a:blip r:embed="rId5"/>
            <a:stretch/>
          </p:blipFill>
          <p:spPr>
            <a:xfrm>
              <a:off x="1836720" y="2579760"/>
              <a:ext cx="2035080" cy="35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图片 6" descr=""/>
            <p:cNvPicPr/>
            <p:nvPr/>
          </p:nvPicPr>
          <p:blipFill>
            <a:blip r:embed="rId6"/>
            <a:stretch/>
          </p:blipFill>
          <p:spPr>
            <a:xfrm>
              <a:off x="2185200" y="3148920"/>
              <a:ext cx="1342080" cy="237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组合 14"/>
            <p:cNvGrpSpPr/>
            <p:nvPr/>
          </p:nvGrpSpPr>
          <p:grpSpPr>
            <a:xfrm>
              <a:off x="7440480" y="4104720"/>
              <a:ext cx="229320" cy="458640"/>
              <a:chOff x="7440480" y="4104720"/>
              <a:chExt cx="229320" cy="458640"/>
            </a:xfrm>
          </p:grpSpPr>
          <p:sp>
            <p:nvSpPr>
              <p:cNvPr id="613" name="直接连接符 15"/>
              <p:cNvSpPr/>
              <p:nvPr/>
            </p:nvSpPr>
            <p:spPr>
              <a:xfrm>
                <a:off x="7440480" y="4104720"/>
                <a:ext cx="229320" cy="23040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16"/>
              <p:cNvSpPr/>
              <p:nvPr/>
            </p:nvSpPr>
            <p:spPr>
              <a:xfrm flipV="1">
                <a:off x="7440480" y="4334760"/>
                <a:ext cx="229320" cy="22860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5" name="组合 17"/>
            <p:cNvGrpSpPr/>
            <p:nvPr/>
          </p:nvGrpSpPr>
          <p:grpSpPr>
            <a:xfrm>
              <a:off x="4305960" y="4104720"/>
              <a:ext cx="229320" cy="458640"/>
              <a:chOff x="4305960" y="4104720"/>
              <a:chExt cx="229320" cy="458640"/>
            </a:xfrm>
          </p:grpSpPr>
          <p:sp>
            <p:nvSpPr>
              <p:cNvPr id="616" name="直接连接符 18"/>
              <p:cNvSpPr/>
              <p:nvPr/>
            </p:nvSpPr>
            <p:spPr>
              <a:xfrm>
                <a:off x="4305960" y="4104720"/>
                <a:ext cx="229320" cy="23040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直接连接符 19"/>
              <p:cNvSpPr/>
              <p:nvPr/>
            </p:nvSpPr>
            <p:spPr>
              <a:xfrm flipV="1">
                <a:off x="4305960" y="4334760"/>
                <a:ext cx="229320" cy="22860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8" name="直接连接符 20"/>
          <p:cNvSpPr/>
          <p:nvPr/>
        </p:nvSpPr>
        <p:spPr>
          <a:xfrm>
            <a:off x="463680" y="358920"/>
            <a:ext cx="11255400" cy="0"/>
          </a:xfrm>
          <a:prstGeom prst="line">
            <a:avLst/>
          </a:prstGeom>
          <a:ln w="3816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3"/>
          <p:cNvSpPr/>
          <p:nvPr/>
        </p:nvSpPr>
        <p:spPr>
          <a:xfrm>
            <a:off x="4624560" y="93600"/>
            <a:ext cx="2943000" cy="63360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5218200" y="10476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亮点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直接连接符 8"/>
          <p:cNvSpPr/>
          <p:nvPr/>
        </p:nvSpPr>
        <p:spPr>
          <a:xfrm>
            <a:off x="463680" y="358920"/>
            <a:ext cx="11255400" cy="0"/>
          </a:xfrm>
          <a:prstGeom prst="line">
            <a:avLst/>
          </a:prstGeom>
          <a:ln w="3816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11"/>
          <p:cNvSpPr/>
          <p:nvPr/>
        </p:nvSpPr>
        <p:spPr>
          <a:xfrm>
            <a:off x="4624560" y="93600"/>
            <a:ext cx="2943000" cy="63360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5218200" y="10476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亮点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4" name="组合 2"/>
          <p:cNvGrpSpPr/>
          <p:nvPr/>
        </p:nvGrpSpPr>
        <p:grpSpPr>
          <a:xfrm>
            <a:off x="2298600" y="3125880"/>
            <a:ext cx="7521840" cy="2949480"/>
            <a:chOff x="2298600" y="3125880"/>
            <a:chExt cx="7521840" cy="2949480"/>
          </a:xfrm>
        </p:grpSpPr>
        <p:pic>
          <p:nvPicPr>
            <p:cNvPr id="625" name="图片 15" descr=""/>
            <p:cNvPicPr/>
            <p:nvPr/>
          </p:nvPicPr>
          <p:blipFill>
            <a:blip r:embed="rId1"/>
            <a:stretch/>
          </p:blipFill>
          <p:spPr>
            <a:xfrm>
              <a:off x="4041000" y="3283560"/>
              <a:ext cx="4120920" cy="231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图片 16" descr=""/>
            <p:cNvPicPr/>
            <p:nvPr/>
          </p:nvPicPr>
          <p:blipFill>
            <a:blip r:embed="rId2"/>
            <a:stretch/>
          </p:blipFill>
          <p:spPr>
            <a:xfrm>
              <a:off x="2298600" y="3125880"/>
              <a:ext cx="7521840" cy="294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矩形 9"/>
          <p:cNvSpPr/>
          <p:nvPr/>
        </p:nvSpPr>
        <p:spPr>
          <a:xfrm>
            <a:off x="1706400" y="1335240"/>
            <a:ext cx="9142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Smartisan T2 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采用索尼 </a:t>
            </a: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1300 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万像素 </a:t>
            </a: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Exmor RS™ 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堆栈式图像传感器，</a:t>
            </a: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f/2.0 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光圈，具备光学防抖（</a:t>
            </a: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OIS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）功能抗眩光蓝玻璃红外线滤镜、双面 </a:t>
            </a:r>
            <a:r>
              <a:rPr b="0" lang="en-US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AR </a:t>
            </a:r>
            <a:r>
              <a:rPr b="0" lang="zh-CN" sz="2400" spc="-1" strike="noStrike">
                <a:solidFill>
                  <a:srgbClr val="616161"/>
                </a:solidFill>
                <a:latin typeface="微软雅黑"/>
                <a:ea typeface="微软雅黑"/>
              </a:rPr>
              <a:t>增透镀膜和高显色指数闪光灯令成像品质全面升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直接连接符 13"/>
          <p:cNvSpPr/>
          <p:nvPr/>
        </p:nvSpPr>
        <p:spPr>
          <a:xfrm>
            <a:off x="463680" y="358920"/>
            <a:ext cx="11255400" cy="0"/>
          </a:xfrm>
          <a:prstGeom prst="line">
            <a:avLst/>
          </a:prstGeom>
          <a:ln w="3816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6"/>
          <p:cNvSpPr/>
          <p:nvPr/>
        </p:nvSpPr>
        <p:spPr>
          <a:xfrm>
            <a:off x="6059520" y="2782800"/>
            <a:ext cx="4749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玻璃材质桌面主题。多宫格桌面新增以当前锁屏壁纸为背景的“毛玻璃”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组合 86"/>
          <p:cNvGrpSpPr/>
          <p:nvPr/>
        </p:nvGrpSpPr>
        <p:grpSpPr>
          <a:xfrm>
            <a:off x="1806480" y="992160"/>
            <a:ext cx="3056040" cy="5005440"/>
            <a:chOff x="1806480" y="992160"/>
            <a:chExt cx="3056040" cy="5005440"/>
          </a:xfrm>
        </p:grpSpPr>
        <p:pic>
          <p:nvPicPr>
            <p:cNvPr id="631" name="图片 85" descr=""/>
            <p:cNvPicPr/>
            <p:nvPr/>
          </p:nvPicPr>
          <p:blipFill>
            <a:blip r:embed="rId1"/>
            <a:stretch/>
          </p:blipFill>
          <p:spPr>
            <a:xfrm>
              <a:off x="1806480" y="992160"/>
              <a:ext cx="3056040" cy="50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图片 81" descr=""/>
            <p:cNvPicPr/>
            <p:nvPr/>
          </p:nvPicPr>
          <p:blipFill>
            <a:blip r:embed="rId2"/>
            <a:stretch/>
          </p:blipFill>
          <p:spPr>
            <a:xfrm>
              <a:off x="2330280" y="1786680"/>
              <a:ext cx="2015640" cy="330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矩形 11"/>
          <p:cNvSpPr/>
          <p:nvPr/>
        </p:nvSpPr>
        <p:spPr>
          <a:xfrm>
            <a:off x="4624560" y="93600"/>
            <a:ext cx="2943000" cy="63360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5218200" y="10476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亮点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07:50:49Z</dcterms:created>
  <dc:creator>wjl</dc:creator>
  <dc:description/>
  <dc:language>en-US</dc:language>
  <cp:lastModifiedBy>王玉清</cp:lastModifiedBy>
  <dcterms:modified xsi:type="dcterms:W3CDTF">2016-03-01T06:41:59Z</dcterms:modified>
  <cp:revision>194</cp:revision>
  <dc:subject/>
  <dc:title>PowerPoint 演示文稿</dc:title>
</cp:coreProperties>
</file>