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237960" y="8982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ill Sans"/>
              </a:rPr>
              <a:t>幻灯片之家 </a:t>
            </a:r>
            <a:r>
              <a:rPr b="0" lang="zh-CN" sz="2000" spc="-1" strike="noStrike">
                <a:solidFill>
                  <a:srgbClr val="ffffff"/>
                </a:solidFill>
                <a:latin typeface="Gill Sans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"/>
          <p:cNvSpPr/>
          <p:nvPr/>
        </p:nvSpPr>
        <p:spPr>
          <a:xfrm>
            <a:off x="4007880" y="484200"/>
            <a:ext cx="31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演讲</a:t>
            </a:r>
            <a:r>
              <a:rPr b="0" lang="zh-CN" sz="4000" spc="-1" strike="noStrike">
                <a:solidFill>
                  <a:srgbClr val="ffffff"/>
                </a:solidFill>
                <a:latin typeface="Gill San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ill Sans"/>
              </a:rPr>
              <a:t>模板</a:t>
            </a: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免费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85960" y="55728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Gill Sans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6360" y="270000"/>
            <a:ext cx="1167300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400" spc="-1" strike="noStrike">
                <a:solidFill>
                  <a:srgbClr val="ffffff"/>
                </a:solidFill>
                <a:latin typeface="Gill Sans"/>
              </a:rPr>
              <a:t>使用规范说明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3720" y="1806480"/>
            <a:ext cx="12696840" cy="74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0363320" y="474840"/>
            <a:ext cx="1976400" cy="496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Gill Sans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6:49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42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