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08152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216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08152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78216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5029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8152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8216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08152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378216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5029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08152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78216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08152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378216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5029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08152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78216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208152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378216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5029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5029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08152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78216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08152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378216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861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df5d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1" marL="698400" indent="-268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2" marL="1074240" indent="-214560">
              <a:spcBef>
                <a:spcPts val="700"/>
              </a:spcBef>
              <a:buClr>
                <a:srgbClr val="fdf5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3" marL="1504080" indent="-214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4" marL="1933920" indent="-214560">
              <a:spcBef>
                <a:spcPts val="700"/>
              </a:spcBef>
              <a:buClr>
                <a:srgbClr val="fdf5d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5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6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861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df5d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1" marL="698400" indent="-268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2" marL="1074240" indent="-214560">
              <a:spcBef>
                <a:spcPts val="700"/>
              </a:spcBef>
              <a:buClr>
                <a:srgbClr val="fdf5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3" marL="1504080" indent="-214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4" marL="1933920" indent="-214560">
              <a:spcBef>
                <a:spcPts val="700"/>
              </a:spcBef>
              <a:buClr>
                <a:srgbClr val="fdf5d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5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6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861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df5d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1" marL="698400" indent="-268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2" marL="1074240" indent="-214560">
              <a:spcBef>
                <a:spcPts val="700"/>
              </a:spcBef>
              <a:buClr>
                <a:srgbClr val="fdf5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3" marL="1504080" indent="-214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4" marL="1933920" indent="-214560">
              <a:spcBef>
                <a:spcPts val="700"/>
              </a:spcBef>
              <a:buClr>
                <a:srgbClr val="fdf5d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5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6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861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df5d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1" marL="698400" indent="-268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2" marL="1074240" indent="-214560">
              <a:spcBef>
                <a:spcPts val="700"/>
              </a:spcBef>
              <a:buClr>
                <a:srgbClr val="fdf5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3" marL="1504080" indent="-214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4" marL="1933920" indent="-214560">
              <a:spcBef>
                <a:spcPts val="700"/>
              </a:spcBef>
              <a:buClr>
                <a:srgbClr val="fdf5d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5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6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861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df5d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1" marL="698400" indent="-268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2" marL="1074240" indent="-214560">
              <a:spcBef>
                <a:spcPts val="700"/>
              </a:spcBef>
              <a:buClr>
                <a:srgbClr val="fdf5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3" marL="1504080" indent="-214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4" marL="1933920" indent="-214560">
              <a:spcBef>
                <a:spcPts val="700"/>
              </a:spcBef>
              <a:buClr>
                <a:srgbClr val="fdf5d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5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6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1"/>
          <p:cNvSpPr/>
          <p:nvPr/>
        </p:nvSpPr>
        <p:spPr>
          <a:xfrm>
            <a:off x="2329200" y="765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医疗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861"/>
                </a:solidFill>
                <a:latin typeface="Arial Black"/>
                <a:ea typeface="宋体"/>
              </a:rPr>
              <a:t>YOUR TOPIC GOES HERE</a:t>
            </a: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df5d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f5d5"/>
                </a:solidFill>
                <a:latin typeface="Arial Unicode MS"/>
                <a:ea typeface="Arial Unicode MS"/>
              </a:rPr>
              <a:t>Your Subtopics Go Here</a:t>
            </a:r>
            <a:endParaRPr b="0" lang="en-US" sz="24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8502480" y="6627960"/>
            <a:ext cx="648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宋体"/>
              </a:rPr>
              <a:t>YOUR TOPIC GOES HERE</a:t>
            </a: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our Subtopics Go Here</a:t>
            </a:r>
            <a:endParaRPr b="0" lang="en-US" sz="24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024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 Black"/>
                <a:ea typeface="宋体"/>
              </a:rPr>
              <a:t>THANKS</a:t>
            </a:r>
            <a:r>
              <a:rPr b="1" lang="zh-CN" sz="4000" spc="-1" strike="noStrike">
                <a:solidFill>
                  <a:srgbClr val="404040"/>
                </a:solidFill>
                <a:latin typeface="Arial Black"/>
                <a:ea typeface="宋体"/>
              </a:rPr>
              <a:t>！</a:t>
            </a:r>
            <a:endParaRPr b="0" lang="en-US" sz="40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a04"/>
                </a:solidFill>
                <a:latin typeface="Arial Unicode MS"/>
              </a:rPr>
              <a:t>Your Text Here</a:t>
            </a:r>
            <a:endParaRPr b="0" lang="en-US" sz="20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6:22:49Z</dcterms:created>
  <dc:creator>Pinnacle</dc:creator>
  <dc:description/>
  <dc:language>en-US</dc:language>
  <cp:lastModifiedBy>王玉清</cp:lastModifiedBy>
  <dcterms:modified xsi:type="dcterms:W3CDTF">2016-02-21T03:40:24Z</dcterms:modified>
  <cp:revision>5</cp:revision>
  <dc:subject/>
  <dc:title>MEDICAL PROFESSION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368021033</vt:lpwstr>
  </property>
</Properties>
</file>