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F60B-97F1-4ED2-A5EB-DDA8B490D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3464-3B91-49FA-8F56-1F4197337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526C-8D32-4771-8BC5-6BA9258E0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3A77-7ACE-4936-AB48-5E5FC0DAB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9C1F8-E8A9-4756-BABC-0AB57E5F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38D09-C7AA-44F2-8C9A-B72EB3DE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5D695-A476-4F02-B83B-C8EDD9ED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309C9-78D0-4715-88C0-169A36AD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56AEF-6E71-46E7-9210-3795A83D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7CC03-B5F1-4C33-81D0-410A10D3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1BA42-5CFC-4E74-A03B-FC45C7D9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FE12-D680-4D2D-8B48-18502E25D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012C8-B60C-4A80-8CA2-83111D18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547BD-9E6C-4A47-85BE-8DCFCC6C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C9161-77ED-44CA-BEDA-1A5B85DB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D4A1A-91EC-46BF-8402-76116B6E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26723-C4DF-4E21-A9B2-46264041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6372-A2D5-48F0-B36C-E2A7BA74F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E22B-2A68-47EE-A930-5E10EB893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AFE2-25D6-43A4-9CAC-9F61E214F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FD58-B5FA-4782-B752-CB183563C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ED81-3337-476F-92E0-18EAF3FC9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7317-A6ED-4D7D-A189-3B0DF06D0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7061-AD30-470B-A28F-583BC2131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6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930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90914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0914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3b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380520" y="6477120"/>
            <a:ext cx="838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DACD-B66D-46B7-8060-8CE718782FEE}" type="slidenum"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7" name="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7451640" y="260280"/>
            <a:ext cx="86544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51672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58000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b5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a4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46794" r="0" b="14692"/>
          <a:stretch/>
        </p:blipFill>
        <p:spPr>
          <a:xfrm>
            <a:off x="0" y="2276640"/>
            <a:ext cx="914400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0" y="0"/>
          <a:ext cx="9144000" cy="22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6A67-D456-4B4F-B6A0-D8520E1C9E41}" type="slidenum">
              <a:rPr b="0" lang="zh-CN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62" name="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0"/>
              <a:ext cx="457200" cy="447840"/>
            </a:xfrm>
            <a:custGeom>
              <a:avLst/>
              <a:gdLst/>
              <a:ahLst/>
              <a:rect l="l" t="t" r="r" b="b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0" y="6326280"/>
              <a:ext cx="387360" cy="533160"/>
            </a:xfrm>
            <a:custGeom>
              <a:avLst/>
              <a:gdLst/>
              <a:ahLst/>
              <a:rect l="l" t="t" r="r" b="b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48720" y="6396120"/>
              <a:ext cx="401760" cy="4604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2852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医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1752480"/>
            <a:ext cx="9144000" cy="4188960"/>
            <a:chOff x="0" y="1752480"/>
            <a:chExt cx="9144000" cy="4188960"/>
          </a:xfrm>
        </p:grpSpPr>
        <p:grpSp>
          <p:nvGrpSpPr>
            <p:cNvPr id="323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1379520" y="2609640"/>
              <a:ext cx="1932120" cy="3265200"/>
              <a:chOff x="1379520" y="2609640"/>
              <a:chExt cx="1932120" cy="326520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1784880" y="3449160"/>
                <a:ext cx="1526760" cy="2425680"/>
                <a:chOff x="1784880" y="3449160"/>
                <a:chExt cx="1526760" cy="2425680"/>
              </a:xfrm>
            </p:grpSpPr>
            <p:grpSp>
              <p:nvGrpSpPr>
                <p:cNvPr id="328" name=""/>
                <p:cNvGrpSpPr/>
                <p:nvPr/>
              </p:nvGrpSpPr>
              <p:grpSpPr>
                <a:xfrm>
                  <a:off x="1784880" y="3607200"/>
                  <a:ext cx="1420920" cy="2267640"/>
                  <a:chOff x="1784880" y="3607200"/>
                  <a:chExt cx="1420920" cy="226764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rot="3876600">
                    <a:off x="1357200" y="449460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rot="3876600">
                    <a:off x="2724840" y="537372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2221200" y="3449160"/>
                  <a:ext cx="1090440" cy="1740240"/>
                  <a:chOff x="2221200" y="3449160"/>
                  <a:chExt cx="1090440" cy="174024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V="1" rot="3876600">
                    <a:off x="1892880" y="412992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V="1" rot="3876600">
                    <a:off x="2926440" y="481176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4" name=""/>
              <p:cNvGrpSpPr/>
              <p:nvPr/>
            </p:nvGrpSpPr>
            <p:grpSpPr>
              <a:xfrm>
                <a:off x="1379520" y="2609640"/>
                <a:ext cx="1271520" cy="1310040"/>
                <a:chOff x="1379520" y="2609640"/>
                <a:chExt cx="1271520" cy="13100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379520" y="260964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379520" y="260964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463760" y="26946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463760" y="269748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518120" y="275256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1533600" y="2768400"/>
                  <a:ext cx="963000" cy="993600"/>
                  <a:chOff x="1533600" y="2768400"/>
                  <a:chExt cx="963000" cy="99360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1533600" y="276840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45840" y="277380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1555920" y="278352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1608120" y="280872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"/>
              <p:cNvSpPr/>
              <p:nvPr/>
            </p:nvSpPr>
            <p:spPr>
              <a:xfrm rot="3925800">
                <a:off x="1747080" y="442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925800">
                <a:off x="2207160" y="41468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3127320" y="2609640"/>
              <a:ext cx="1930680" cy="3265200"/>
              <a:chOff x="3127320" y="2609640"/>
              <a:chExt cx="1930680" cy="32652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3531240" y="3449160"/>
                <a:ext cx="1526760" cy="2425680"/>
                <a:chOff x="3531240" y="3449160"/>
                <a:chExt cx="1526760" cy="24256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3531240" y="3607200"/>
                  <a:ext cx="1420920" cy="2267640"/>
                  <a:chOff x="3531240" y="3607200"/>
                  <a:chExt cx="1420920" cy="22676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3876600">
                    <a:off x="3103560" y="449460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3876600">
                    <a:off x="4471200" y="537372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967560" y="3449160"/>
                  <a:ext cx="1090440" cy="1740240"/>
                  <a:chOff x="3967560" y="3449160"/>
                  <a:chExt cx="1090440" cy="17402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flipV="1" rot="3876600">
                    <a:off x="3639240" y="412992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 rot="3876600">
                    <a:off x="4672800" y="481176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5" name=""/>
              <p:cNvGrpSpPr/>
              <p:nvPr/>
            </p:nvGrpSpPr>
            <p:grpSpPr>
              <a:xfrm>
                <a:off x="3127320" y="2609640"/>
                <a:ext cx="1271880" cy="1310040"/>
                <a:chOff x="3127320" y="2609640"/>
                <a:chExt cx="1271880" cy="13100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127320" y="2609640"/>
                  <a:ext cx="127188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127320" y="2609640"/>
                  <a:ext cx="127188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211560" y="26946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11560" y="269748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265920" y="2752560"/>
                  <a:ext cx="99396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3281400" y="2768400"/>
                  <a:ext cx="963360" cy="993600"/>
                  <a:chOff x="3281400" y="2768400"/>
                  <a:chExt cx="963360" cy="9936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3281400" y="2768400"/>
                    <a:ext cx="96336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293640" y="2773800"/>
                    <a:ext cx="94032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303720" y="2783520"/>
                    <a:ext cx="89424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355920" y="2808720"/>
                    <a:ext cx="79488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6" name=""/>
              <p:cNvSpPr/>
              <p:nvPr/>
            </p:nvSpPr>
            <p:spPr>
              <a:xfrm rot="3925800">
                <a:off x="3489120" y="442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3925800">
                <a:off x="3949200" y="41468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930920" y="2609640"/>
              <a:ext cx="1932120" cy="3265200"/>
              <a:chOff x="4930920" y="2609640"/>
              <a:chExt cx="1932120" cy="326520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5336280" y="3449160"/>
                <a:ext cx="1526760" cy="2425680"/>
                <a:chOff x="5336280" y="3449160"/>
                <a:chExt cx="1526760" cy="242568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5336280" y="3607200"/>
                  <a:ext cx="1420920" cy="2267640"/>
                  <a:chOff x="5336280" y="3607200"/>
                  <a:chExt cx="1420920" cy="22676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rot="3876600">
                    <a:off x="4908600" y="449460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3876600">
                    <a:off x="6276240" y="537372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5772600" y="3449160"/>
                  <a:ext cx="1090440" cy="1740240"/>
                  <a:chOff x="5772600" y="3449160"/>
                  <a:chExt cx="1090440" cy="17402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V="1" rot="3876600">
                    <a:off x="5444280" y="412992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V="1" rot="3876600">
                    <a:off x="6477840" y="481176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6" name=""/>
              <p:cNvGrpSpPr/>
              <p:nvPr/>
            </p:nvGrpSpPr>
            <p:grpSpPr>
              <a:xfrm>
                <a:off x="4930920" y="2609640"/>
                <a:ext cx="1273320" cy="1310040"/>
                <a:chOff x="4930920" y="2609640"/>
                <a:chExt cx="1273320" cy="13100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930920" y="260964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930920" y="260964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015160" y="26946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015160" y="269748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069880" y="275256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5085000" y="2768400"/>
                  <a:ext cx="964440" cy="993600"/>
                  <a:chOff x="5085000" y="2768400"/>
                  <a:chExt cx="964440" cy="993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5085000" y="276840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5097240" y="277380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5107320" y="278352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159520" y="280872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7" name=""/>
              <p:cNvSpPr/>
              <p:nvPr/>
            </p:nvSpPr>
            <p:spPr>
              <a:xfrm rot="3925800">
                <a:off x="5301720" y="442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3925800">
                <a:off x="5761800" y="41468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707160" y="2465280"/>
              <a:ext cx="2122560" cy="3476160"/>
              <a:chOff x="6707160" y="2465280"/>
              <a:chExt cx="2122560" cy="347616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7302960" y="3516120"/>
                <a:ext cx="1526760" cy="2425320"/>
                <a:chOff x="7302960" y="3516120"/>
                <a:chExt cx="1526760" cy="242532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7302960" y="3673800"/>
                  <a:ext cx="1420920" cy="2267640"/>
                  <a:chOff x="7302960" y="3673800"/>
                  <a:chExt cx="1420920" cy="226764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3876600">
                    <a:off x="6875280" y="456120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3876600">
                    <a:off x="8242920" y="544032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739640" y="3516120"/>
                  <a:ext cx="1090080" cy="1739880"/>
                  <a:chOff x="7739640" y="3516120"/>
                  <a:chExt cx="1090080" cy="17398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V="1" rot="3876600">
                    <a:off x="7411320" y="419652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V="1" rot="3876600">
                    <a:off x="8444880" y="487800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7" name=""/>
              <p:cNvSpPr/>
              <p:nvPr/>
            </p:nvSpPr>
            <p:spPr>
              <a:xfrm>
                <a:off x="6707160" y="246528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07160" y="246528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808680" y="256860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10480" y="257148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74200" y="263664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6893280" y="2655720"/>
                <a:ext cx="1158120" cy="1190520"/>
                <a:chOff x="6893280" y="2655720"/>
                <a:chExt cx="1158120" cy="11905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893280" y="265572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908040" y="266220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919920" y="267372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982920" y="270396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 rot="3925800">
                <a:off x="7254360" y="4570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3925800">
                <a:off x="7713360" y="42897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1719000" y="1752480"/>
              <a:ext cx="6056640" cy="407880"/>
              <a:chOff x="1719000" y="1752480"/>
              <a:chExt cx="6056640" cy="407880"/>
            </a:xfrm>
          </p:grpSpPr>
          <p:sp>
            <p:nvSpPr>
              <p:cNvPr id="410" name=""/>
              <p:cNvSpPr/>
              <p:nvPr/>
            </p:nvSpPr>
            <p:spPr>
              <a:xfrm>
                <a:off x="171900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47292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21928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009560" y="1752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414" name=""/>
              <p:cNvCxnSpPr>
                <a:stCxn id="410" idx="3"/>
                <a:endCxn id="411" idx="1"/>
              </p:cNvCxnSpPr>
              <p:nvPr/>
            </p:nvCxnSpPr>
            <p:spPr>
              <a:xfrm>
                <a:off x="2455560" y="197604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415" name=""/>
              <p:cNvCxnSpPr>
                <a:stCxn id="411" idx="3"/>
                <a:endCxn id="412" idx="1"/>
              </p:cNvCxnSpPr>
              <p:nvPr/>
            </p:nvCxnSpPr>
            <p:spPr>
              <a:xfrm>
                <a:off x="4209480" y="197604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416" name=""/>
              <p:cNvCxnSpPr/>
              <p:nvPr/>
            </p:nvCxnSpPr>
            <p:spPr>
              <a:xfrm>
                <a:off x="5955840" y="198072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371600" y="2057400"/>
            <a:ext cx="6858000" cy="3428640"/>
            <a:chOff x="1371600" y="2057400"/>
            <a:chExt cx="6858000" cy="3428640"/>
          </a:xfrm>
        </p:grpSpPr>
        <p:sp>
          <p:nvSpPr>
            <p:cNvPr id="419" name=""/>
            <p:cNvSpPr/>
            <p:nvPr/>
          </p:nvSpPr>
          <p:spPr>
            <a:xfrm>
              <a:off x="5666400" y="282672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b793"/>
                </a:gs>
                <a:gs pos="100000">
                  <a:srgbClr val="ff996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190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58bc7"/>
                </a:gs>
                <a:gs pos="100000">
                  <a:srgbClr val="3b5ab1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716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2bedd"/>
                </a:gs>
                <a:gs pos="100000">
                  <a:srgbClr val="36a4d0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7932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edd"/>
                </a:gs>
                <a:gs pos="100000">
                  <a:srgbClr val="36a4d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8784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8bc7"/>
                </a:gs>
                <a:gs pos="100000">
                  <a:srgbClr val="3b5ab1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0500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b793"/>
                </a:gs>
                <a:gs pos="100000">
                  <a:srgbClr val="ff996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0396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0836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925720" y="31291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280160" y="1558800"/>
            <a:ext cx="6214680" cy="1324440"/>
            <a:chOff x="1280160" y="1558800"/>
            <a:chExt cx="6214680" cy="1324440"/>
          </a:xfrm>
        </p:grpSpPr>
        <p:sp>
          <p:nvSpPr>
            <p:cNvPr id="431" name=""/>
            <p:cNvSpPr/>
            <p:nvPr/>
          </p:nvSpPr>
          <p:spPr>
            <a:xfrm rot="3418800">
              <a:off x="148788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b2951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2410920" y="1939680"/>
              <a:ext cx="901080" cy="124200"/>
              <a:chOff x="2410920" y="1939680"/>
              <a:chExt cx="901080" cy="124200"/>
            </a:xfrm>
          </p:grpSpPr>
          <p:sp>
            <p:nvSpPr>
              <p:cNvPr id="433" name=""/>
              <p:cNvSpPr/>
              <p:nvPr/>
            </p:nvSpPr>
            <p:spPr>
              <a:xfrm>
                <a:off x="2410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9732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75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4828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 rot="3418800">
              <a:off x="31525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075560" y="1939680"/>
              <a:ext cx="901080" cy="124200"/>
              <a:chOff x="4075560" y="1939680"/>
              <a:chExt cx="901080" cy="124200"/>
            </a:xfrm>
          </p:grpSpPr>
          <p:sp>
            <p:nvSpPr>
              <p:cNvPr id="439" name=""/>
              <p:cNvSpPr/>
              <p:nvPr/>
            </p:nvSpPr>
            <p:spPr>
              <a:xfrm>
                <a:off x="407556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16196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4020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91292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 rot="3418800">
              <a:off x="4747680" y="170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b2951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740200" y="1939680"/>
              <a:ext cx="1178280" cy="124200"/>
              <a:chOff x="5740200" y="1939680"/>
              <a:chExt cx="1178280" cy="124200"/>
            </a:xfrm>
          </p:grpSpPr>
          <p:sp>
            <p:nvSpPr>
              <p:cNvPr id="445" name=""/>
              <p:cNvSpPr/>
              <p:nvPr/>
            </p:nvSpPr>
            <p:spPr>
              <a:xfrm>
                <a:off x="574020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53240" y="19404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73992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83532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 rot="3418800">
              <a:off x="64123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5948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904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366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5322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012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950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906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8592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164600" y="1081440"/>
            <a:ext cx="6879600" cy="4804560"/>
            <a:chOff x="1164600" y="1081440"/>
            <a:chExt cx="6879600" cy="4804560"/>
          </a:xfrm>
        </p:grpSpPr>
        <p:sp>
          <p:nvSpPr>
            <p:cNvPr id="460" name=""/>
            <p:cNvSpPr/>
            <p:nvPr/>
          </p:nvSpPr>
          <p:spPr>
            <a:xfrm>
              <a:off x="2362320" y="429732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20601600">
              <a:off x="1506600" y="210780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0601600">
              <a:off x="1563480" y="19458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0601600">
              <a:off x="1477800" y="193176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rot="20602200">
              <a:off x="1455840" y="196272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20601600">
              <a:off x="1487520" y="194292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rot="20602200">
              <a:off x="1469880" y="195048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20601600">
              <a:off x="3024360" y="26604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39640" y="2882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44760" y="1968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20920" y="2425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46800" y="295884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20539200">
              <a:off x="1482120" y="196128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6520" y="344016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20920" y="3416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68440" y="41781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63320" y="4025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0601600">
              <a:off x="3125880" y="29131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22920" y="383544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b5ab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590840" y="1492200"/>
            <a:ext cx="5419080" cy="4755960"/>
            <a:chOff x="1590840" y="1492200"/>
            <a:chExt cx="5419080" cy="4755960"/>
          </a:xfrm>
        </p:grpSpPr>
        <p:sp>
          <p:nvSpPr>
            <p:cNvPr id="482" name=""/>
            <p:cNvSpPr/>
            <p:nvPr/>
          </p:nvSpPr>
          <p:spPr>
            <a:xfrm>
              <a:off x="5257080" y="229788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53240" y="3876840"/>
              <a:ext cx="1177200" cy="326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02080" y="5774040"/>
              <a:ext cx="1707840" cy="474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04680" y="449676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3770000">
              <a:off x="4831560" y="3773880"/>
              <a:ext cx="899280" cy="1800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856000">
              <a:off x="2973240" y="3354480"/>
              <a:ext cx="945720" cy="1620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3852000" y="2131920"/>
              <a:ext cx="1593360" cy="1719000"/>
              <a:chOff x="3852000" y="2131920"/>
              <a:chExt cx="1593360" cy="1719000"/>
            </a:xfrm>
          </p:grpSpPr>
          <p:sp>
            <p:nvSpPr>
              <p:cNvPr id="489" name=""/>
              <p:cNvSpPr/>
              <p:nvPr/>
            </p:nvSpPr>
            <p:spPr>
              <a:xfrm rot="18394200">
                <a:off x="4951080" y="2330640"/>
                <a:ext cx="557280" cy="12312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3852000" y="2365200"/>
                <a:ext cx="1507680" cy="1485720"/>
                <a:chOff x="3852000" y="2365200"/>
                <a:chExt cx="1507680" cy="1485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852000" y="2365200"/>
                  <a:ext cx="1507680" cy="14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1818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024080" y="2389680"/>
                  <a:ext cx="1163160" cy="56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3890160" y="30117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5164920" y="1492200"/>
              <a:ext cx="871200" cy="807120"/>
              <a:chOff x="5164920" y="1492200"/>
              <a:chExt cx="871200" cy="8071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172480" y="1492200"/>
                <a:ext cx="816120" cy="807120"/>
                <a:chOff x="5172480" y="1492200"/>
                <a:chExt cx="816120" cy="8071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172480" y="1492200"/>
                  <a:ext cx="816120" cy="80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4d0"/>
                    </a:gs>
                    <a:gs pos="100000">
                      <a:srgbClr val="184a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265720" y="1505520"/>
                  <a:ext cx="629640" cy="304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6a4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5164920" y="1802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1590840" y="2733480"/>
              <a:ext cx="1633680" cy="1676880"/>
              <a:chOff x="1590840" y="2733480"/>
              <a:chExt cx="1633680" cy="167688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1590840" y="2733480"/>
                <a:ext cx="1633680" cy="1676880"/>
                <a:chOff x="1590840" y="2733480"/>
                <a:chExt cx="1633680" cy="167688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590840" y="273348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b86e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777320" y="2761200"/>
                  <a:ext cx="1260360" cy="632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1629000" y="3477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108400" y="3913920"/>
              <a:ext cx="1885320" cy="1863000"/>
              <a:chOff x="5108400" y="3913920"/>
              <a:chExt cx="1885320" cy="186300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5108400" y="3913920"/>
                <a:ext cx="1885320" cy="1863000"/>
                <a:chOff x="5108400" y="3913920"/>
                <a:chExt cx="1885320" cy="18630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108400" y="3913920"/>
                  <a:ext cx="1885320" cy="18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5ab1"/>
                    </a:gs>
                    <a:gs pos="100000">
                      <a:srgbClr val="203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323680" y="3944520"/>
                  <a:ext cx="1454400" cy="703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b5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5327640" y="4721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133720" y="144792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a4d0"/>
                    </a:gs>
                    <a:gs pos="100000">
                      <a:srgbClr val="184b5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a4d0"/>
                  </a:gs>
                  <a:gs pos="100000">
                    <a:srgbClr val="184b5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D4EC-CB31-4D06-B08F-DEA46F15FB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1645920"/>
            <a:ext cx="7328520" cy="4583520"/>
            <a:chOff x="762120" y="1645920"/>
            <a:chExt cx="7328520" cy="4583520"/>
          </a:xfrm>
        </p:grpSpPr>
        <p:sp>
          <p:nvSpPr>
            <p:cNvPr id="114" name=""/>
            <p:cNvSpPr/>
            <p:nvPr/>
          </p:nvSpPr>
          <p:spPr>
            <a:xfrm rot="20241600">
              <a:off x="1392120" y="27255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056200">
              <a:off x="434304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056200">
              <a:off x="7010280" y="28188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056200">
              <a:off x="2895480" y="54860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056200">
              <a:off x="5486040" y="487620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056200">
              <a:off x="2057040" y="4038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21400" y="19810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b5ab1"/>
                </a:gs>
                <a:gs pos="100000">
                  <a:srgbClr val="141e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86160" y="32986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6a4d0"/>
                </a:gs>
                <a:gs pos="100000">
                  <a:srgbClr val="1033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70240" y="47656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5a3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8760" y="4221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64520" y="217800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323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3400" y="3693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53960" y="2367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70080" y="256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77800" y="4616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06040" y="5154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358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2080" y="237636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32" name=""/>
            <p:cNvCxnSpPr/>
            <p:nvPr/>
          </p:nvCxnSpPr>
          <p:spPr>
            <a:xfrm flipH="1">
              <a:off x="887040" y="2376000"/>
              <a:ext cx="172656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33" name=""/>
            <p:cNvSpPr/>
            <p:nvPr/>
          </p:nvSpPr>
          <p:spPr>
            <a:xfrm>
              <a:off x="762120" y="19810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36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6"/>
                </a:gs>
                <a:gs pos="50000">
                  <a:srgbClr val="666699"/>
                </a:gs>
                <a:gs pos="100000">
                  <a:srgbClr val="2f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6"/>
                </a:gs>
                <a:gs pos="50000">
                  <a:srgbClr val="666699"/>
                </a:gs>
                <a:gs pos="100000">
                  <a:srgbClr val="2f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6"/>
                </a:gs>
                <a:gs pos="50000">
                  <a:srgbClr val="666699"/>
                </a:gs>
                <a:gs pos="100000">
                  <a:srgbClr val="2f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75462f"/>
                </a:gs>
                <a:gs pos="50000">
                  <a:srgbClr val="ff9966"/>
                </a:gs>
                <a:gs pos="100000">
                  <a:srgbClr val="7546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12720" y="1963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19320" y="2209680"/>
            <a:ext cx="6705000" cy="3352680"/>
            <a:chOff x="1219320" y="2209680"/>
            <a:chExt cx="6705000" cy="3352680"/>
          </a:xfrm>
        </p:grpSpPr>
        <p:sp>
          <p:nvSpPr>
            <p:cNvPr id="156" name=""/>
            <p:cNvSpPr/>
            <p:nvPr/>
          </p:nvSpPr>
          <p:spPr>
            <a:xfrm flipH="1" rot="16200000">
              <a:off x="2998080" y="3255480"/>
              <a:ext cx="460440" cy="29628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5400000">
              <a:off x="5602680" y="3205080"/>
              <a:ext cx="458640" cy="29628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0800000">
              <a:off x="4313520" y="4609800"/>
              <a:ext cx="442440" cy="30636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82560" y="2209680"/>
              <a:ext cx="2325600" cy="24004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14320" y="2344680"/>
              <a:ext cx="2060280" cy="212544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b5ab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1f305f"/>
                </a:gs>
                <a:gs pos="50000">
                  <a:srgbClr val="3b5ab1"/>
                </a:gs>
                <a:gs pos="100000">
                  <a:srgbClr val="1f30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370836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6"/>
                </a:gs>
                <a:gs pos="50000">
                  <a:srgbClr val="666699"/>
                </a:gs>
                <a:gs pos="100000">
                  <a:srgbClr val="2f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19320" y="3208320"/>
              <a:ext cx="16585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6"/>
                </a:gs>
                <a:gs pos="50000">
                  <a:srgbClr val="666699"/>
                </a:gs>
                <a:gs pos="100000">
                  <a:srgbClr val="2f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270972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46"/>
                </a:gs>
                <a:gs pos="50000">
                  <a:srgbClr val="666699"/>
                </a:gs>
                <a:gs pos="100000">
                  <a:srgbClr val="2f2f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95600" y="370836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4b5f"/>
                </a:gs>
                <a:gs pos="50000">
                  <a:srgbClr val="36a4d0"/>
                </a:gs>
                <a:gs pos="100000">
                  <a:srgbClr val="184b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95600" y="3208320"/>
              <a:ext cx="17287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4b5f"/>
                </a:gs>
                <a:gs pos="50000">
                  <a:srgbClr val="36a4d0"/>
                </a:gs>
                <a:gs pos="100000">
                  <a:srgbClr val="184b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95600" y="270972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84b5f"/>
                </a:gs>
                <a:gs pos="50000">
                  <a:srgbClr val="36a4d0"/>
                </a:gs>
                <a:gs pos="100000">
                  <a:srgbClr val="184b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516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79560" y="5062320"/>
              <a:ext cx="352368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7580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7580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580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7304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7304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7304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294920" y="2362320"/>
            <a:ext cx="6748920" cy="3352680"/>
            <a:chOff x="1294920" y="2362320"/>
            <a:chExt cx="6748920" cy="3352680"/>
          </a:xfrm>
        </p:grpSpPr>
        <p:sp>
          <p:nvSpPr>
            <p:cNvPr id="181" name=""/>
            <p:cNvSpPr/>
            <p:nvPr/>
          </p:nvSpPr>
          <p:spPr>
            <a:xfrm>
              <a:off x="7518240" y="2362320"/>
              <a:ext cx="5191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27400" y="2362320"/>
              <a:ext cx="301644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94440" y="3203640"/>
              <a:ext cx="5205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78240" y="3203640"/>
              <a:ext cx="324180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70640" y="4035600"/>
              <a:ext cx="5173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9720" y="4869000"/>
              <a:ext cx="5209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89280" y="4873680"/>
              <a:ext cx="36813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307880" y="4869000"/>
              <a:ext cx="20224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294920" y="4038840"/>
              <a:ext cx="2855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295280" y="3210120"/>
              <a:ext cx="36878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295280" y="2368800"/>
              <a:ext cx="45194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57280" y="2362320"/>
              <a:ext cx="0" cy="87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57280" y="3233880"/>
              <a:ext cx="0" cy="817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7280" y="405144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57280" y="4869000"/>
              <a:ext cx="0" cy="81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5920" y="2525760"/>
              <a:ext cx="165888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32080" y="2903760"/>
              <a:ext cx="2497320" cy="30456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79680" y="3743280"/>
              <a:ext cx="2721240" cy="2984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35200" y="4035600"/>
              <a:ext cx="34592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37000" y="4578480"/>
              <a:ext cx="2944800" cy="2984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87480" y="5415120"/>
              <a:ext cx="3168720" cy="29700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96160" y="2686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96160" y="3513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96160" y="4376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96160" y="518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294920" y="5703840"/>
              <a:ext cx="14619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66680" y="2362320"/>
            <a:ext cx="7016760" cy="2971800"/>
            <a:chOff x="1066680" y="2362320"/>
            <a:chExt cx="7016760" cy="2971800"/>
          </a:xfrm>
        </p:grpSpPr>
        <p:sp>
          <p:nvSpPr>
            <p:cNvPr id="209" name=""/>
            <p:cNvSpPr/>
            <p:nvPr/>
          </p:nvSpPr>
          <p:spPr>
            <a:xfrm>
              <a:off x="3052800" y="309888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67400" y="309888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b5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b5ab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b5ab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276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1f305f"/>
                </a:gs>
                <a:gs pos="50000">
                  <a:srgbClr val="3b5ab1"/>
                </a:gs>
                <a:gs pos="100000">
                  <a:srgbClr val="1f30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5608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b5ab1">
                    <a:alpha val="0"/>
                  </a:srgbClr>
                </a:gs>
                <a:gs pos="100000">
                  <a:srgbClr val="2538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19800" y="258444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6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700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63652"/>
                </a:gs>
                <a:gs pos="50000">
                  <a:srgbClr val="666699"/>
                </a:gs>
                <a:gs pos="100000">
                  <a:srgbClr val="36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98440" y="24955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666699">
                    <a:alpha val="0"/>
                  </a:srgbClr>
                </a:gs>
                <a:gs pos="100000">
                  <a:srgbClr val="40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8268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1307880" y="2602080"/>
              <a:ext cx="1503360" cy="1511280"/>
              <a:chOff x="1307880" y="2602080"/>
              <a:chExt cx="1503360" cy="1511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3078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269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424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241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6a4d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184b5f"/>
                </a:gs>
                <a:gs pos="100000">
                  <a:srgbClr val="36a4d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130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1d5870"/>
                </a:gs>
                <a:gs pos="50000">
                  <a:srgbClr val="36a4d0"/>
                </a:gs>
                <a:gs pos="100000">
                  <a:srgbClr val="1d58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14480" y="250200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36a4d0">
                    <a:alpha val="0"/>
                  </a:srgbClr>
                </a:gs>
                <a:gs pos="100000">
                  <a:srgbClr val="2267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8720" y="25844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824280" y="2602080"/>
              <a:ext cx="1503360" cy="1511280"/>
              <a:chOff x="3824280" y="2602080"/>
              <a:chExt cx="1503360" cy="1511280"/>
            </a:xfrm>
          </p:grpSpPr>
          <p:sp>
            <p:nvSpPr>
              <p:cNvPr id="232" name=""/>
              <p:cNvSpPr/>
              <p:nvPr/>
            </p:nvSpPr>
            <p:spPr>
              <a:xfrm>
                <a:off x="38242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8433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588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405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6348240" y="2602080"/>
              <a:ext cx="1505160" cy="1511280"/>
              <a:chOff x="6348240" y="2602080"/>
              <a:chExt cx="1505160" cy="1511280"/>
            </a:xfrm>
          </p:grpSpPr>
          <p:sp>
            <p:nvSpPr>
              <p:cNvPr id="237" name=""/>
              <p:cNvSpPr/>
              <p:nvPr/>
            </p:nvSpPr>
            <p:spPr>
              <a:xfrm>
                <a:off x="634824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67320" y="261036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8280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6488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11096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255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563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758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832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194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371600" y="1447920"/>
            <a:ext cx="7086600" cy="4476600"/>
            <a:chOff x="1371600" y="1447920"/>
            <a:chExt cx="7086600" cy="4476600"/>
          </a:xfrm>
        </p:grpSpPr>
        <p:sp>
          <p:nvSpPr>
            <p:cNvPr id="249" name=""/>
            <p:cNvSpPr/>
            <p:nvPr/>
          </p:nvSpPr>
          <p:spPr>
            <a:xfrm>
              <a:off x="1371600" y="18860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b5ab1"/>
                </a:gs>
                <a:gs pos="100000">
                  <a:srgbClr val="36a4d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1320" y="340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0876400">
              <a:off x="3621240" y="48769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52840" y="365760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73360" y="366732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91000" y="3683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83160" y="372744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70440" y="42847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0826600">
              <a:off x="1778040" y="426708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701720" y="3276720"/>
              <a:ext cx="1371240" cy="1441080"/>
              <a:chOff x="1701720" y="3276720"/>
              <a:chExt cx="1371240" cy="1441080"/>
            </a:xfrm>
          </p:grpSpPr>
          <p:sp>
            <p:nvSpPr>
              <p:cNvPr id="259" name=""/>
              <p:cNvSpPr/>
              <p:nvPr/>
            </p:nvSpPr>
            <p:spPr>
              <a:xfrm>
                <a:off x="1701720" y="32767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19720" y="328500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32680" y="329832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04320" y="333504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82160" y="3782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600200" y="251172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6520" y="1905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89120" y="1909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00280" y="19209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54280" y="194652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3440" y="2254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670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894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988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052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1640" y="14763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5964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278" name="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eccb3"/>
                </a:gs>
                <a:gs pos="100000">
                  <a:srgbClr val="ff99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b5ab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b5ab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f305f"/>
                </a:gs>
                <a:gs pos="50000">
                  <a:srgbClr val="3b5ab1"/>
                </a:gs>
                <a:gs pos="100000">
                  <a:srgbClr val="1f30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b5ab1">
                    <a:alpha val="0"/>
                  </a:srgbClr>
                </a:gs>
                <a:gs pos="100000">
                  <a:srgbClr val="2538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03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219320" y="1676520"/>
            <a:ext cx="6781320" cy="4006440"/>
            <a:chOff x="1219320" y="1676520"/>
            <a:chExt cx="6781320" cy="4006440"/>
          </a:xfrm>
        </p:grpSpPr>
        <p:sp>
          <p:nvSpPr>
            <p:cNvPr id="310" name=""/>
            <p:cNvSpPr/>
            <p:nvPr/>
          </p:nvSpPr>
          <p:spPr>
            <a:xfrm>
              <a:off x="12193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ef1eb"/>
                </a:gs>
              </a:gsLst>
              <a:lin ang="5400000"/>
            </a:gradFill>
            <a:ln w="255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1404000" y="2292840"/>
            <a:ext cx="292824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4000" y="229284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152748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462f"/>
                </a:gs>
                <a:gs pos="50000">
                  <a:srgbClr val="ff9966"/>
                </a:gs>
                <a:gs pos="100000">
                  <a:srgbClr val="754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509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9348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717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36a4d0"/>
                </a:gs>
                <a:gs pos="100000">
                  <a:srgbClr val="c7e5f1"/>
                </a:gs>
              </a:gsLst>
              <a:lin ang="5400000"/>
            </a:gradFill>
            <a:ln w="25560">
              <a:solidFill>
                <a:srgbClr val="36a4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4856400" y="229284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98024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4b5f"/>
                </a:gs>
                <a:gs pos="50000">
                  <a:srgbClr val="36a4d0"/>
                </a:gs>
                <a:gs pos="100000">
                  <a:srgbClr val="184b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33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588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03:09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2:06:0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