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5D3-5AFF-457A-8CDD-587BFD24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FBF-F85E-41FE-A6E2-5CED4098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BF9-38C6-4E78-9C39-12B57488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9CF-18F8-46BE-8EA3-30792494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CA69-3B3B-4C51-A662-45856B46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4D09-9FEF-4726-B764-F145AEB9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132E-4F38-442A-B958-30660801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6B4F-A040-4A67-A940-0BD284D5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A650-1BC8-4EB6-B7DA-9559B154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9612-8468-4636-8373-24AB7CC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82D5-A8B0-4608-878B-C625899B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7AD-043A-405E-9A91-8D1445F4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C0BA-BE78-4C2D-BD0A-54CE93D3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717B-D7CE-4472-B477-5C3A8916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4933-DC5B-4DEB-A1D7-EDA2EB99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F143-420F-45D0-9716-74583D8B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38A0-AAA2-4C75-BE03-F27B87A8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155-751C-4A89-8293-19286C7C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D17-3AB4-4948-BA82-888E6478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F59-D06F-4FF6-94DA-7322C670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317-535C-49EE-BD5F-571F267D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0B5-BCB1-4811-ADDE-B5075013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FAC-716A-4371-8158-90B5B69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E5C-BBD8-4D1D-BE86-60275DB1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1D27-B50B-4630-8739-2035D1EA6A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695D-E091-40ED-A7D4-4007417BCE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8684-DBBD-4266-80B5-1AFBE0B937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C20-A497-4FE3-9B7B-54C0445EC0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-27000" y="-12600"/>
            <a:ext cx="121903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360" y="6448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87680" y="279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作报告常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52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半闭框 9"/>
          <p:cNvSpPr/>
          <p:nvPr/>
        </p:nvSpPr>
        <p:spPr>
          <a:xfrm rot="8093400">
            <a:off x="290808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半闭框 10"/>
          <p:cNvSpPr/>
          <p:nvPr/>
        </p:nvSpPr>
        <p:spPr>
          <a:xfrm rot="8093400">
            <a:off x="574956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半闭框 11"/>
          <p:cNvSpPr/>
          <p:nvPr/>
        </p:nvSpPr>
        <p:spPr>
          <a:xfrm rot="8093400">
            <a:off x="857232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69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7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4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5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1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miter/>
            <a:tailEnd len="med" type="triangle" w="med"/>
          </a:ln>
        </p:spPr>
      </p:cxnSp>
      <p:sp>
        <p:nvSpPr>
          <p:cNvPr id="322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37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0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43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46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8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506-1568-4F6A-89DB-AEF4823AB5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8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饼形 3"/>
            <p:cNvSpPr/>
            <p:nvPr/>
          </p:nvSpPr>
          <p:spPr>
            <a:xfrm>
              <a:off x="3262680" y="2103480"/>
              <a:ext cx="1811880" cy="1811880"/>
            </a:xfrm>
            <a:prstGeom prst="pie">
              <a:avLst/>
            </a:prstGeom>
            <a:solidFill>
              <a:srgbClr val="fff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2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1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83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194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197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弧形 11"/>
          <p:cNvSpPr/>
          <p:nvPr/>
        </p:nvSpPr>
        <p:spPr>
          <a:xfrm flipV="1" rot="2819400">
            <a:off x="3072960" y="247536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弧形 16"/>
          <p:cNvSpPr/>
          <p:nvPr/>
        </p:nvSpPr>
        <p:spPr>
          <a:xfrm rot="18780600">
            <a:off x="3060360" y="212544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半闭框 17"/>
          <p:cNvSpPr/>
          <p:nvPr/>
        </p:nvSpPr>
        <p:spPr>
          <a:xfrm rot="8093400">
            <a:off x="7461000" y="34160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3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07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1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4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27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0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3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39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25:51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