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AB1-E2DF-4ACB-888A-691E0F3C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847-C818-41FD-9039-28915A5B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CE6-78E6-4C69-9793-9BB49613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237-9032-403F-8D6F-2EA6C703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98FF-C731-4621-BC2B-7317B949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B406-0C92-44CB-8865-48FFEA4A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1BF5-0BBF-4FE2-B4AB-690A3044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E85D-B439-42B2-9FC2-E8B9A238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8C2E-5434-4F77-92DB-A1ABBFE1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6B58-0A9B-4BF1-9292-1699423F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A207-48F7-4BFD-877D-14A0C06E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3B7-55E4-45EC-90C1-A1252EAD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6D8D-9687-4864-9AA6-0922D38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6ADE-E6A6-4936-BD80-12B85D10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9BF3-963C-4B32-B279-27F4FD3E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76A8-5B73-40D7-81CF-F2D4A0F4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F3FF-FA68-45E7-A65F-773314B4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C6A4-CBE5-4AB5-85C2-D21D6A9C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B781-A2DB-4D31-A875-E7CEFC51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275F-9D30-483A-AEF0-3F74D513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4A82-A638-453A-8F7A-2FDC4B51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82FF-56F1-439C-8E3D-2ADF84F1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E48-47B4-43EE-B147-95042146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CAB3-A55A-43ED-BB41-BC58DFC7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5E2D-ABF5-4B73-BA58-E9BF36B9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48D1-55AA-4364-A2D5-FA4945EA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C313-EED2-41A9-97D2-AB5EDD39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6055-0291-42D2-B8B6-614BDE39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C0CE-CD9F-4112-99A0-715728CA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96848-22ED-42E0-80F5-01CBE40F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CAD-3DDC-44C6-9DF0-A692AFD8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69D-5B91-47FE-8B19-83EF99D9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EED-A610-4844-A5CA-6181197A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483-4C8B-4B1D-ACFB-91B4314B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F95-1956-4C3F-B975-976FFE85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ADF-E7B6-4399-A487-E784B494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59A8-BDF2-4B02-8A00-CA36728B8C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111A-C04E-4284-9591-8C4CBB447C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A102-1166-4E17-9285-BC16331C3F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BF95-71C4-4BE5-803E-387E1C1368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21A3-BC3D-479F-B402-0D5E63ABB9F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CDCD-24B1-4B3C-965E-B039527E81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直接连接符 2"/>
          <p:cNvSpPr/>
          <p:nvPr/>
        </p:nvSpPr>
        <p:spPr>
          <a:xfrm>
            <a:off x="2771640" y="2500200"/>
            <a:ext cx="547236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356000" y="26431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原来，管理也可以变得很</a:t>
            </a:r>
            <a:r>
              <a:rPr b="1" lang="zh-CN" sz="1800" spc="-1" strike="noStrike">
                <a:solidFill>
                  <a:srgbClr val="ff0000"/>
                </a:solidFill>
                <a:latin typeface="汉仪丫丫体简"/>
                <a:ea typeface="汉仪丫丫体简"/>
              </a:rPr>
              <a:t>轻松</a:t>
            </a:r>
            <a:r>
              <a:rPr b="0" lang="zh-CN" sz="1800" spc="-1" strike="noStrike">
                <a:solidFill>
                  <a:srgbClr val="000000"/>
                </a:solidFill>
                <a:latin typeface="汉仪丫丫体简"/>
                <a:ea typeface="汉仪丫丫体简"/>
              </a:rPr>
              <a:t>和</a:t>
            </a:r>
            <a:r>
              <a:rPr b="1" lang="zh-CN" sz="1800" spc="-1" strike="noStrike">
                <a:solidFill>
                  <a:srgbClr val="ff0000"/>
                </a:solidFill>
                <a:latin typeface="汉仪丫丫体简"/>
                <a:ea typeface="汉仪丫丫体简"/>
              </a:rPr>
              <a:t>简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斜纹 7"/>
          <p:cNvSpPr/>
          <p:nvPr/>
        </p:nvSpPr>
        <p:spPr>
          <a:xfrm rot="10800000">
            <a:off x="7524720" y="3723840"/>
            <a:ext cx="1619280" cy="1419480"/>
          </a:xfrm>
          <a:prstGeom prst="pi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2638440" y="1419120"/>
            <a:ext cx="615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仪太极体简"/>
                <a:ea typeface="汉仪太极体简"/>
              </a:rPr>
              <a:t>看职场</a:t>
            </a:r>
            <a:r>
              <a:rPr b="0" lang="en-US" sz="6600" spc="-1" strike="noStrike">
                <a:solidFill>
                  <a:srgbClr val="000000"/>
                </a:solidFill>
                <a:latin typeface="汉仪太极体简"/>
                <a:ea typeface="汉仪太极体简"/>
              </a:rPr>
              <a:t>10</a:t>
            </a:r>
            <a:r>
              <a:rPr b="0" lang="zh-CN" sz="4000" spc="-1" strike="noStrike">
                <a:solidFill>
                  <a:srgbClr val="ff0000"/>
                </a:solidFill>
                <a:latin typeface="汉仪太极体简"/>
                <a:ea typeface="汉仪太极体简"/>
              </a:rPr>
              <a:t>大隐规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" descr=""/>
          <p:cNvPicPr/>
          <p:nvPr/>
        </p:nvPicPr>
        <p:blipFill>
          <a:blip r:embed="rId1"/>
          <a:stretch/>
        </p:blipFill>
        <p:spPr>
          <a:xfrm>
            <a:off x="395280" y="1060560"/>
            <a:ext cx="2521080" cy="394020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2445120" y="195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仪太极体简"/>
                <a:ea typeface="汉仪太极体简"/>
              </a:rPr>
              <a:t>从漫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0" y="480384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00280" y="2682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职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8" descr="http://blog.cfw.cn/wedits/uploadfile/20080424153933553.jpg"/>
          <p:cNvPicPr/>
          <p:nvPr/>
        </p:nvPicPr>
        <p:blipFill>
          <a:blip r:embed="rId1"/>
          <a:stretch/>
        </p:blipFill>
        <p:spPr>
          <a:xfrm>
            <a:off x="3867120" y="0"/>
            <a:ext cx="5276880" cy="5137200"/>
          </a:xfrm>
          <a:prstGeom prst="rect">
            <a:avLst/>
          </a:prstGeom>
          <a:ln w="0">
            <a:noFill/>
          </a:ln>
        </p:spPr>
      </p:pic>
      <p:sp>
        <p:nvSpPr>
          <p:cNvPr id="229" name="矩形 14"/>
          <p:cNvSpPr/>
          <p:nvPr/>
        </p:nvSpPr>
        <p:spPr>
          <a:xfrm>
            <a:off x="295200" y="1235160"/>
            <a:ext cx="341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在少数企业中，管理者在管理员工时往往会因人而异：对于赏识的或者对企业发展有重要作用的员工，如果他们犯了错误，就轻描淡写地说几句；对于不欣赏的或者最基层的普通员工，如果他们犯了错误，就大张旗鼓地开会批评。其实，这样的“因人而异式管理”不仅会使管理者在员工面前失去威信，而且会使员工之间出现隔阂和矛盾。所以，在管理员工时，一定要坚持公平的原则，“一碗水端平”，这样才能营造一种和谐的工作氛围，从而有利于企业的持续健康发展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2108160" y="195120"/>
            <a:ext cx="1500120" cy="7923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8"/>
          <p:cNvSpPr/>
          <p:nvPr/>
        </p:nvSpPr>
        <p:spPr>
          <a:xfrm>
            <a:off x="2201760" y="26820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3057840" y="268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1"/>
          <p:cNvSpPr/>
          <p:nvPr/>
        </p:nvSpPr>
        <p:spPr>
          <a:xfrm>
            <a:off x="3851280" y="-6480"/>
            <a:ext cx="144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3"/>
          <p:cNvSpPr/>
          <p:nvPr/>
        </p:nvSpPr>
        <p:spPr>
          <a:xfrm>
            <a:off x="312840" y="1679400"/>
            <a:ext cx="324648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5"/>
          <p:cNvSpPr/>
          <p:nvPr/>
        </p:nvSpPr>
        <p:spPr>
          <a:xfrm>
            <a:off x="312840" y="2039760"/>
            <a:ext cx="324648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6"/>
          <p:cNvSpPr/>
          <p:nvPr/>
        </p:nvSpPr>
        <p:spPr>
          <a:xfrm>
            <a:off x="312840" y="2400480"/>
            <a:ext cx="324648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7"/>
          <p:cNvSpPr/>
          <p:nvPr/>
        </p:nvSpPr>
        <p:spPr>
          <a:xfrm>
            <a:off x="312840" y="2759040"/>
            <a:ext cx="3246480" cy="180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20"/>
          <p:cNvSpPr/>
          <p:nvPr/>
        </p:nvSpPr>
        <p:spPr>
          <a:xfrm>
            <a:off x="312840" y="3119400"/>
            <a:ext cx="3246480" cy="180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1"/>
          <p:cNvSpPr/>
          <p:nvPr/>
        </p:nvSpPr>
        <p:spPr>
          <a:xfrm>
            <a:off x="312840" y="3479760"/>
            <a:ext cx="324648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23"/>
          <p:cNvSpPr/>
          <p:nvPr/>
        </p:nvSpPr>
        <p:spPr>
          <a:xfrm>
            <a:off x="312840" y="3867120"/>
            <a:ext cx="324648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24"/>
          <p:cNvSpPr/>
          <p:nvPr/>
        </p:nvSpPr>
        <p:spPr>
          <a:xfrm>
            <a:off x="312840" y="4227480"/>
            <a:ext cx="3246480" cy="180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5"/>
          <p:cNvSpPr/>
          <p:nvPr/>
        </p:nvSpPr>
        <p:spPr>
          <a:xfrm>
            <a:off x="312840" y="4587840"/>
            <a:ext cx="324648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6"/>
          <p:cNvSpPr/>
          <p:nvPr/>
        </p:nvSpPr>
        <p:spPr>
          <a:xfrm>
            <a:off x="312840" y="4948200"/>
            <a:ext cx="324648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ED0-6E5E-420C-9B8A-CBC289D98F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22" descr="http://blog.cfw.cn/wedits/uploadfile/20080424153716755.jpg"/>
          <p:cNvPicPr/>
          <p:nvPr/>
        </p:nvPicPr>
        <p:blipFill>
          <a:blip r:embed="rId1"/>
          <a:stretch/>
        </p:blipFill>
        <p:spPr>
          <a:xfrm>
            <a:off x="3591000" y="-6480"/>
            <a:ext cx="5553000" cy="5150160"/>
          </a:xfrm>
          <a:prstGeom prst="rect">
            <a:avLst/>
          </a:prstGeom>
          <a:ln w="0">
            <a:noFill/>
          </a:ln>
        </p:spPr>
      </p:pic>
      <p:sp>
        <p:nvSpPr>
          <p:cNvPr id="245" name="矩形 14"/>
          <p:cNvSpPr/>
          <p:nvPr/>
        </p:nvSpPr>
        <p:spPr>
          <a:xfrm>
            <a:off x="466560" y="2406600"/>
            <a:ext cx="27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作为一个领导者，最聪明的领导方法不是告诉属下怎么去做，而是教会属下如何去思考。如果不能让属下学会思考，仅仅使其成为自己的执行工具，那么企业就无法打造一支强有力的团队，也无法持续地、长久地发展下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1620720" y="1060560"/>
            <a:ext cx="1500480" cy="7905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8"/>
          <p:cNvSpPr/>
          <p:nvPr/>
        </p:nvSpPr>
        <p:spPr>
          <a:xfrm>
            <a:off x="1714680" y="1131840"/>
            <a:ext cx="67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9"/>
          <p:cNvSpPr/>
          <p:nvPr/>
        </p:nvSpPr>
        <p:spPr>
          <a:xfrm>
            <a:off x="257040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1"/>
          <p:cNvSpPr/>
          <p:nvPr/>
        </p:nvSpPr>
        <p:spPr>
          <a:xfrm>
            <a:off x="3591000" y="-6480"/>
            <a:ext cx="144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3"/>
          <p:cNvSpPr/>
          <p:nvPr/>
        </p:nvSpPr>
        <p:spPr>
          <a:xfrm>
            <a:off x="484200" y="2852640"/>
            <a:ext cx="263376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5"/>
          <p:cNvSpPr/>
          <p:nvPr/>
        </p:nvSpPr>
        <p:spPr>
          <a:xfrm>
            <a:off x="484200" y="3213000"/>
            <a:ext cx="263376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16"/>
          <p:cNvSpPr/>
          <p:nvPr/>
        </p:nvSpPr>
        <p:spPr>
          <a:xfrm>
            <a:off x="484200" y="3571920"/>
            <a:ext cx="263376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7"/>
          <p:cNvSpPr/>
          <p:nvPr/>
        </p:nvSpPr>
        <p:spPr>
          <a:xfrm>
            <a:off x="484200" y="3932280"/>
            <a:ext cx="263376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20"/>
          <p:cNvSpPr/>
          <p:nvPr/>
        </p:nvSpPr>
        <p:spPr>
          <a:xfrm>
            <a:off x="484200" y="4292640"/>
            <a:ext cx="263376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21"/>
          <p:cNvSpPr/>
          <p:nvPr/>
        </p:nvSpPr>
        <p:spPr>
          <a:xfrm>
            <a:off x="484200" y="4653000"/>
            <a:ext cx="263376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DA86-B6AD-425F-B85C-53075F5143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8A3F-6A2E-400C-B32E-589BB3B50E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4"/>
          <p:cNvSpPr/>
          <p:nvPr/>
        </p:nvSpPr>
        <p:spPr>
          <a:xfrm>
            <a:off x="5940360" y="205416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现在很多企业都对员工实行了绩效考核，但其中不少企业的绩效考核都是</a:t>
            </a:r>
            <a:r>
              <a:rPr b="0" lang="en-US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回顾性</a:t>
            </a:r>
            <a:r>
              <a:rPr b="0" lang="en-US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的，只是作为确定员工工资、奖金的依据。其实，现代人力资源管理理念认为，考核不仅要有</a:t>
            </a:r>
            <a:r>
              <a:rPr b="0" lang="en-US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回顾性</a:t>
            </a:r>
            <a:r>
              <a:rPr b="0" lang="en-US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，还要有</a:t>
            </a:r>
            <a:r>
              <a:rPr b="0" lang="en-US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展望性</a:t>
            </a:r>
            <a:r>
              <a:rPr b="0" lang="en-US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，即通过考核发掘员工的潜能，引导其充分发挥自己的能力，更好地实现自己的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" descr="http://blog.cfw.cn/wedits/uploadfile/20080424153603771.jpg"/>
          <p:cNvPicPr/>
          <p:nvPr/>
        </p:nvPicPr>
        <p:blipFill>
          <a:blip r:embed="rId1"/>
          <a:srcRect l="0" t="0" r="0" b="1265"/>
          <a:stretch/>
        </p:blipFill>
        <p:spPr>
          <a:xfrm>
            <a:off x="0" y="0"/>
            <a:ext cx="5724360" cy="5143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6012000" y="1060560"/>
            <a:ext cx="1500120" cy="790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105600" y="113184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696060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1"/>
          <p:cNvSpPr/>
          <p:nvPr/>
        </p:nvSpPr>
        <p:spPr>
          <a:xfrm>
            <a:off x="5724360" y="0"/>
            <a:ext cx="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3"/>
          <p:cNvSpPr/>
          <p:nvPr/>
        </p:nvSpPr>
        <p:spPr>
          <a:xfrm>
            <a:off x="6012000" y="2500200"/>
            <a:ext cx="280800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5"/>
          <p:cNvSpPr/>
          <p:nvPr/>
        </p:nvSpPr>
        <p:spPr>
          <a:xfrm>
            <a:off x="6012000" y="2860560"/>
            <a:ext cx="280800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6"/>
          <p:cNvSpPr/>
          <p:nvPr/>
        </p:nvSpPr>
        <p:spPr>
          <a:xfrm>
            <a:off x="6012000" y="3219480"/>
            <a:ext cx="280800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7"/>
          <p:cNvSpPr/>
          <p:nvPr/>
        </p:nvSpPr>
        <p:spPr>
          <a:xfrm>
            <a:off x="6012000" y="3579840"/>
            <a:ext cx="280800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8"/>
          <p:cNvSpPr/>
          <p:nvPr/>
        </p:nvSpPr>
        <p:spPr>
          <a:xfrm>
            <a:off x="6012000" y="4660920"/>
            <a:ext cx="280800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20"/>
          <p:cNvSpPr/>
          <p:nvPr/>
        </p:nvSpPr>
        <p:spPr>
          <a:xfrm>
            <a:off x="6012000" y="3940200"/>
            <a:ext cx="280800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21"/>
          <p:cNvSpPr/>
          <p:nvPr/>
        </p:nvSpPr>
        <p:spPr>
          <a:xfrm>
            <a:off x="6012000" y="4300560"/>
            <a:ext cx="280800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22" descr="http://blog.cfw.cn/wedits/uploadfile/20080424154009144.jpg"/>
          <p:cNvPicPr/>
          <p:nvPr/>
        </p:nvPicPr>
        <p:blipFill>
          <a:blip r:embed="rId1"/>
          <a:stretch/>
        </p:blipFill>
        <p:spPr>
          <a:xfrm>
            <a:off x="0" y="0"/>
            <a:ext cx="5724360" cy="5143680"/>
          </a:xfrm>
          <a:prstGeom prst="rect">
            <a:avLst/>
          </a:prstGeom>
          <a:ln w="0">
            <a:noFill/>
          </a:ln>
        </p:spPr>
      </p:pic>
      <p:sp>
        <p:nvSpPr>
          <p:cNvPr id="145" name="矩形 14"/>
          <p:cNvSpPr/>
          <p:nvPr/>
        </p:nvSpPr>
        <p:spPr>
          <a:xfrm>
            <a:off x="5940360" y="188424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在现代企业管理中，适度、巧妙的赞扬，能够激发员工的工作积极性、主动性，促使他们不断向好的方面转化，从而促使执行力得到更有效的落实。因此，一个优秀的管理者，应该清楚地认识到赞扬对于提升企业执行力的重要作用，并注意赞扬方法，抓准赞扬时机，客观公正、恰如其分地加以运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6012000" y="771480"/>
            <a:ext cx="1500120" cy="7923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6105600" y="84456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6960600" y="844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1"/>
          <p:cNvSpPr/>
          <p:nvPr/>
        </p:nvSpPr>
        <p:spPr>
          <a:xfrm>
            <a:off x="5724360" y="0"/>
            <a:ext cx="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3"/>
          <p:cNvSpPr/>
          <p:nvPr/>
        </p:nvSpPr>
        <p:spPr>
          <a:xfrm>
            <a:off x="6012000" y="2330280"/>
            <a:ext cx="280800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5"/>
          <p:cNvSpPr/>
          <p:nvPr/>
        </p:nvSpPr>
        <p:spPr>
          <a:xfrm>
            <a:off x="6012000" y="2689200"/>
            <a:ext cx="280800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6"/>
          <p:cNvSpPr/>
          <p:nvPr/>
        </p:nvSpPr>
        <p:spPr>
          <a:xfrm>
            <a:off x="6012000" y="3049560"/>
            <a:ext cx="280800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7"/>
          <p:cNvSpPr/>
          <p:nvPr/>
        </p:nvSpPr>
        <p:spPr>
          <a:xfrm>
            <a:off x="6012000" y="3409920"/>
            <a:ext cx="280800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8"/>
          <p:cNvSpPr/>
          <p:nvPr/>
        </p:nvSpPr>
        <p:spPr>
          <a:xfrm>
            <a:off x="6012000" y="4489560"/>
            <a:ext cx="280800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20"/>
          <p:cNvSpPr/>
          <p:nvPr/>
        </p:nvSpPr>
        <p:spPr>
          <a:xfrm>
            <a:off x="6012000" y="3770280"/>
            <a:ext cx="280800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21"/>
          <p:cNvSpPr/>
          <p:nvPr/>
        </p:nvSpPr>
        <p:spPr>
          <a:xfrm>
            <a:off x="6012000" y="4130640"/>
            <a:ext cx="280800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3"/>
          <p:cNvSpPr/>
          <p:nvPr/>
        </p:nvSpPr>
        <p:spPr>
          <a:xfrm>
            <a:off x="6012000" y="4854600"/>
            <a:ext cx="280800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036F-2E52-4073-8A9F-DC1FFE5B57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9" descr="http://blog.cfw.cn/wedits/uploadfile/20080424153951735.jpg"/>
          <p:cNvPicPr/>
          <p:nvPr/>
        </p:nvPicPr>
        <p:blipFill>
          <a:blip r:embed="rId1"/>
          <a:srcRect l="0" t="0" r="11190" b="0"/>
          <a:stretch/>
        </p:blipFill>
        <p:spPr>
          <a:xfrm>
            <a:off x="0" y="0"/>
            <a:ext cx="5724360" cy="5143680"/>
          </a:xfrm>
          <a:prstGeom prst="rect">
            <a:avLst/>
          </a:prstGeom>
          <a:ln w="0">
            <a:noFill/>
          </a:ln>
        </p:spPr>
      </p:pic>
      <p:sp>
        <p:nvSpPr>
          <p:cNvPr id="159" name="矩形 14"/>
          <p:cNvSpPr/>
          <p:nvPr/>
        </p:nvSpPr>
        <p:spPr>
          <a:xfrm>
            <a:off x="6012000" y="2054160"/>
            <a:ext cx="27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榜样的力量是无穷的。在现代企业管理中，管理者要想督促员工高效率地完成工作，就要事事为先，严格要求自己，为员工树立一个良好的榜样。只有这样，才能锻造一个风气正、思想觉悟高、严于律己的团队，从而提高整个团队的战斗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6083280" y="1060560"/>
            <a:ext cx="1500120" cy="7905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6176880" y="113184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703260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1"/>
          <p:cNvSpPr/>
          <p:nvPr/>
        </p:nvSpPr>
        <p:spPr>
          <a:xfrm>
            <a:off x="5724360" y="0"/>
            <a:ext cx="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3"/>
          <p:cNvSpPr/>
          <p:nvPr/>
        </p:nvSpPr>
        <p:spPr>
          <a:xfrm>
            <a:off x="6083280" y="2500200"/>
            <a:ext cx="26035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5"/>
          <p:cNvSpPr/>
          <p:nvPr/>
        </p:nvSpPr>
        <p:spPr>
          <a:xfrm>
            <a:off x="6083280" y="2860560"/>
            <a:ext cx="26035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6"/>
          <p:cNvSpPr/>
          <p:nvPr/>
        </p:nvSpPr>
        <p:spPr>
          <a:xfrm>
            <a:off x="6083280" y="3219480"/>
            <a:ext cx="260352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7"/>
          <p:cNvSpPr/>
          <p:nvPr/>
        </p:nvSpPr>
        <p:spPr>
          <a:xfrm>
            <a:off x="6083280" y="3579840"/>
            <a:ext cx="260352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8"/>
          <p:cNvSpPr/>
          <p:nvPr/>
        </p:nvSpPr>
        <p:spPr>
          <a:xfrm>
            <a:off x="6083280" y="4660920"/>
            <a:ext cx="26035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0"/>
          <p:cNvSpPr/>
          <p:nvPr/>
        </p:nvSpPr>
        <p:spPr>
          <a:xfrm>
            <a:off x="6083280" y="3940200"/>
            <a:ext cx="26035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21"/>
          <p:cNvSpPr/>
          <p:nvPr/>
        </p:nvSpPr>
        <p:spPr>
          <a:xfrm>
            <a:off x="6083280" y="4300560"/>
            <a:ext cx="26035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468-825B-44F8-B0EC-F8C6567789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9" descr="http://blog.cfw.cn/wedits/uploadfile/20080424153910648.jpg"/>
          <p:cNvPicPr/>
          <p:nvPr/>
        </p:nvPicPr>
        <p:blipFill>
          <a:blip r:embed="rId1"/>
          <a:stretch/>
        </p:blipFill>
        <p:spPr>
          <a:xfrm>
            <a:off x="0" y="0"/>
            <a:ext cx="4249800" cy="5164200"/>
          </a:xfrm>
          <a:prstGeom prst="rect">
            <a:avLst/>
          </a:prstGeom>
          <a:ln w="0">
            <a:noFill/>
          </a:ln>
        </p:spPr>
      </p:pic>
      <p:sp>
        <p:nvSpPr>
          <p:cNvPr id="172" name="矩形 14"/>
          <p:cNvSpPr/>
          <p:nvPr/>
        </p:nvSpPr>
        <p:spPr>
          <a:xfrm>
            <a:off x="4572000" y="279252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在企业发展过程中，管理者只有身先士卒，敬业爱岗，严于律己，带头把企业提倡的先进理念付诸行动，才会激发员工的工作积极性，使员工全身心地投入到工作中去。管理者的带头行为、模范人格，是鼓舞士气、攻克难关的有效精神武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4643280" y="1060560"/>
            <a:ext cx="1500480" cy="7905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8"/>
          <p:cNvSpPr/>
          <p:nvPr/>
        </p:nvSpPr>
        <p:spPr>
          <a:xfrm>
            <a:off x="4737240" y="113184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559296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1"/>
          <p:cNvSpPr/>
          <p:nvPr/>
        </p:nvSpPr>
        <p:spPr>
          <a:xfrm>
            <a:off x="4233960" y="0"/>
            <a:ext cx="144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3"/>
          <p:cNvSpPr/>
          <p:nvPr/>
        </p:nvSpPr>
        <p:spPr>
          <a:xfrm>
            <a:off x="4660920" y="3238560"/>
            <a:ext cx="349416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5"/>
          <p:cNvSpPr/>
          <p:nvPr/>
        </p:nvSpPr>
        <p:spPr>
          <a:xfrm>
            <a:off x="4660920" y="3598920"/>
            <a:ext cx="349416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6"/>
          <p:cNvSpPr/>
          <p:nvPr/>
        </p:nvSpPr>
        <p:spPr>
          <a:xfrm>
            <a:off x="4660920" y="3959280"/>
            <a:ext cx="349416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7"/>
          <p:cNvSpPr/>
          <p:nvPr/>
        </p:nvSpPr>
        <p:spPr>
          <a:xfrm>
            <a:off x="4660920" y="4317840"/>
            <a:ext cx="3494160" cy="180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20"/>
          <p:cNvSpPr/>
          <p:nvPr/>
        </p:nvSpPr>
        <p:spPr>
          <a:xfrm>
            <a:off x="4660920" y="4678200"/>
            <a:ext cx="3494160" cy="180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C18-4A63-4A87-A6AB-DDBD53889C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22" descr="http://blog.cfw.cn/wedits/uploadfile/20080424153800710.jpg"/>
          <p:cNvPicPr/>
          <p:nvPr/>
        </p:nvPicPr>
        <p:blipFill>
          <a:blip r:embed="rId1"/>
          <a:stretch/>
        </p:blipFill>
        <p:spPr>
          <a:xfrm>
            <a:off x="1440" y="0"/>
            <a:ext cx="4050000" cy="5143680"/>
          </a:xfrm>
          <a:prstGeom prst="rect">
            <a:avLst/>
          </a:prstGeom>
          <a:ln w="0">
            <a:noFill/>
          </a:ln>
        </p:spPr>
      </p:pic>
      <p:sp>
        <p:nvSpPr>
          <p:cNvPr id="183" name="矩形 14"/>
          <p:cNvSpPr/>
          <p:nvPr/>
        </p:nvSpPr>
        <p:spPr>
          <a:xfrm>
            <a:off x="4572000" y="294624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作为企业管理者，在加强员工业务培训，多途径提高员工素质的同时，也要与时俱进，加强学习，不断接受新的知识和信息，以提高自身素质，适应新时代企业的发展要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4643280" y="1060560"/>
            <a:ext cx="1500480" cy="7905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8"/>
          <p:cNvSpPr/>
          <p:nvPr/>
        </p:nvSpPr>
        <p:spPr>
          <a:xfrm>
            <a:off x="4737240" y="113184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559296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1"/>
          <p:cNvSpPr/>
          <p:nvPr/>
        </p:nvSpPr>
        <p:spPr>
          <a:xfrm>
            <a:off x="4067280" y="0"/>
            <a:ext cx="144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3"/>
          <p:cNvSpPr/>
          <p:nvPr/>
        </p:nvSpPr>
        <p:spPr>
          <a:xfrm>
            <a:off x="4643280" y="3390840"/>
            <a:ext cx="3424320" cy="180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5"/>
          <p:cNvSpPr/>
          <p:nvPr/>
        </p:nvSpPr>
        <p:spPr>
          <a:xfrm>
            <a:off x="4643280" y="3751200"/>
            <a:ext cx="3424320" cy="180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6"/>
          <p:cNvSpPr/>
          <p:nvPr/>
        </p:nvSpPr>
        <p:spPr>
          <a:xfrm>
            <a:off x="4643280" y="4111560"/>
            <a:ext cx="34243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7"/>
          <p:cNvSpPr/>
          <p:nvPr/>
        </p:nvSpPr>
        <p:spPr>
          <a:xfrm>
            <a:off x="4643280" y="4471920"/>
            <a:ext cx="34243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B0D8-CB88-4835-BD9B-D7B1B860F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8" descr="http://blog.cfw.cn/wedits/uploadfile/20080424153739653.jpg"/>
          <p:cNvPicPr/>
          <p:nvPr/>
        </p:nvPicPr>
        <p:blipFill>
          <a:blip r:embed="rId1"/>
          <a:stretch/>
        </p:blipFill>
        <p:spPr>
          <a:xfrm>
            <a:off x="4906800" y="0"/>
            <a:ext cx="4237200" cy="5137200"/>
          </a:xfrm>
          <a:prstGeom prst="rect">
            <a:avLst/>
          </a:prstGeom>
          <a:ln w="0">
            <a:noFill/>
          </a:ln>
        </p:spPr>
      </p:pic>
      <p:sp>
        <p:nvSpPr>
          <p:cNvPr id="193" name="矩形 14"/>
          <p:cNvSpPr/>
          <p:nvPr/>
        </p:nvSpPr>
        <p:spPr>
          <a:xfrm>
            <a:off x="971640" y="3003480"/>
            <a:ext cx="341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碗如果端不平，里面的水就会不断地流失。企业中，管理者对管理原则的运用也是如此，只有一碗水端平，做到公正、公平、合理，才能服众，才能调动员工的工作积极性和主动性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2987640" y="1419120"/>
            <a:ext cx="1500120" cy="7905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8"/>
          <p:cNvSpPr/>
          <p:nvPr/>
        </p:nvSpPr>
        <p:spPr>
          <a:xfrm>
            <a:off x="2867040" y="113184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9"/>
          <p:cNvSpPr/>
          <p:nvPr/>
        </p:nvSpPr>
        <p:spPr>
          <a:xfrm>
            <a:off x="372204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11"/>
          <p:cNvSpPr/>
          <p:nvPr/>
        </p:nvSpPr>
        <p:spPr>
          <a:xfrm>
            <a:off x="4932360" y="-6480"/>
            <a:ext cx="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13"/>
          <p:cNvSpPr/>
          <p:nvPr/>
        </p:nvSpPr>
        <p:spPr>
          <a:xfrm>
            <a:off x="1020600" y="3449520"/>
            <a:ext cx="32497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5"/>
          <p:cNvSpPr/>
          <p:nvPr/>
        </p:nvSpPr>
        <p:spPr>
          <a:xfrm>
            <a:off x="1020600" y="3809880"/>
            <a:ext cx="32497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6"/>
          <p:cNvSpPr/>
          <p:nvPr/>
        </p:nvSpPr>
        <p:spPr>
          <a:xfrm>
            <a:off x="1020600" y="4168800"/>
            <a:ext cx="324972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7"/>
          <p:cNvSpPr/>
          <p:nvPr/>
        </p:nvSpPr>
        <p:spPr>
          <a:xfrm>
            <a:off x="1020600" y="4529160"/>
            <a:ext cx="324972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2720" y="7002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575-9BEA-4217-8DA4-5DB9851D5B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9" descr="http://blog.cfw.cn/wedits/uploadfile/20080424153637902.jpg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5143680"/>
          </a:xfrm>
          <a:prstGeom prst="rect">
            <a:avLst/>
          </a:prstGeom>
          <a:ln w="0">
            <a:noFill/>
          </a:ln>
        </p:spPr>
      </p:pic>
      <p:sp>
        <p:nvSpPr>
          <p:cNvPr id="204" name="矩形 14"/>
          <p:cNvSpPr/>
          <p:nvPr/>
        </p:nvSpPr>
        <p:spPr>
          <a:xfrm>
            <a:off x="1300320" y="2054160"/>
            <a:ext cx="30556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骏马能历险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犁田不如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坚车能载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渡河不如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人的能力各有不同，判定一个人到底是不是人才，不能以学历、资历等进行简单的划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2814480" y="1060560"/>
            <a:ext cx="1498680" cy="7905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8"/>
          <p:cNvSpPr/>
          <p:nvPr/>
        </p:nvSpPr>
        <p:spPr>
          <a:xfrm>
            <a:off x="2906640" y="1131840"/>
            <a:ext cx="6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9"/>
          <p:cNvSpPr/>
          <p:nvPr/>
        </p:nvSpPr>
        <p:spPr>
          <a:xfrm>
            <a:off x="376236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1"/>
          <p:cNvSpPr/>
          <p:nvPr/>
        </p:nvSpPr>
        <p:spPr>
          <a:xfrm>
            <a:off x="4734000" y="0"/>
            <a:ext cx="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3"/>
          <p:cNvSpPr/>
          <p:nvPr/>
        </p:nvSpPr>
        <p:spPr>
          <a:xfrm>
            <a:off x="1332000" y="2500200"/>
            <a:ext cx="290664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5"/>
          <p:cNvSpPr/>
          <p:nvPr/>
        </p:nvSpPr>
        <p:spPr>
          <a:xfrm>
            <a:off x="1332000" y="2860560"/>
            <a:ext cx="290664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6"/>
          <p:cNvSpPr/>
          <p:nvPr/>
        </p:nvSpPr>
        <p:spPr>
          <a:xfrm>
            <a:off x="1332000" y="3219480"/>
            <a:ext cx="290664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7"/>
          <p:cNvSpPr/>
          <p:nvPr/>
        </p:nvSpPr>
        <p:spPr>
          <a:xfrm>
            <a:off x="1332000" y="3579840"/>
            <a:ext cx="290664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8"/>
          <p:cNvSpPr/>
          <p:nvPr/>
        </p:nvSpPr>
        <p:spPr>
          <a:xfrm>
            <a:off x="1332000" y="4660920"/>
            <a:ext cx="290664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0"/>
          <p:cNvSpPr/>
          <p:nvPr/>
        </p:nvSpPr>
        <p:spPr>
          <a:xfrm>
            <a:off x="1332000" y="3940200"/>
            <a:ext cx="290664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21"/>
          <p:cNvSpPr/>
          <p:nvPr/>
        </p:nvSpPr>
        <p:spPr>
          <a:xfrm>
            <a:off x="1332000" y="4300560"/>
            <a:ext cx="290664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3AB-E65E-4CB7-B1CC-EA0454E27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8" descr="http://blog.cfw.cn/wedits/uploadfile/20080424153825414.jpg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5129280"/>
          </a:xfrm>
          <a:prstGeom prst="rect">
            <a:avLst/>
          </a:prstGeom>
          <a:ln w="0">
            <a:noFill/>
          </a:ln>
        </p:spPr>
      </p:pic>
      <p:sp>
        <p:nvSpPr>
          <p:cNvPr id="217" name="矩形 14"/>
          <p:cNvSpPr/>
          <p:nvPr/>
        </p:nvSpPr>
        <p:spPr>
          <a:xfrm>
            <a:off x="539640" y="2406600"/>
            <a:ext cx="33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汉仪细行楷简"/>
                <a:ea typeface="汉仪细行楷简"/>
              </a:rPr>
              <a:t>有的企业管理者在处理同一问题时，往往会因为对某个员工有好感或对某个员工有偏见，而作出不公正的处理，这最终将不利于企业的健康发展。因此，管理者在处理问题时应摘掉感情的眼镜，坚持客观、公正的原则，以维护制度的权威性，提高员工的工作积极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joyce\Desktop\QQ截图20120305105324.jpg"/>
          <p:cNvPicPr/>
          <p:nvPr/>
        </p:nvPicPr>
        <p:blipFill>
          <a:blip r:embed="rId2"/>
          <a:srcRect l="0" t="0" r="50009" b="0"/>
          <a:stretch/>
        </p:blipFill>
        <p:spPr>
          <a:xfrm>
            <a:off x="2241720" y="1060560"/>
            <a:ext cx="1500120" cy="7905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8"/>
          <p:cNvSpPr/>
          <p:nvPr/>
        </p:nvSpPr>
        <p:spPr>
          <a:xfrm>
            <a:off x="2335320" y="113184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9"/>
          <p:cNvSpPr/>
          <p:nvPr/>
        </p:nvSpPr>
        <p:spPr>
          <a:xfrm>
            <a:off x="3191040" y="113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立黑简"/>
                <a:ea typeface="汉仪立黑简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1"/>
          <p:cNvSpPr/>
          <p:nvPr/>
        </p:nvSpPr>
        <p:spPr>
          <a:xfrm>
            <a:off x="4211640" y="-6480"/>
            <a:ext cx="1440" cy="514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3"/>
          <p:cNvSpPr/>
          <p:nvPr/>
        </p:nvSpPr>
        <p:spPr>
          <a:xfrm>
            <a:off x="584280" y="2852640"/>
            <a:ext cx="31525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5"/>
          <p:cNvSpPr/>
          <p:nvPr/>
        </p:nvSpPr>
        <p:spPr>
          <a:xfrm>
            <a:off x="584280" y="3213000"/>
            <a:ext cx="31525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6"/>
          <p:cNvSpPr/>
          <p:nvPr/>
        </p:nvSpPr>
        <p:spPr>
          <a:xfrm>
            <a:off x="584280" y="3571920"/>
            <a:ext cx="315252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7"/>
          <p:cNvSpPr/>
          <p:nvPr/>
        </p:nvSpPr>
        <p:spPr>
          <a:xfrm>
            <a:off x="584280" y="3932280"/>
            <a:ext cx="3152520" cy="144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0"/>
          <p:cNvSpPr/>
          <p:nvPr/>
        </p:nvSpPr>
        <p:spPr>
          <a:xfrm>
            <a:off x="584280" y="4292640"/>
            <a:ext cx="31525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1"/>
          <p:cNvSpPr/>
          <p:nvPr/>
        </p:nvSpPr>
        <p:spPr>
          <a:xfrm>
            <a:off x="584280" y="4653000"/>
            <a:ext cx="3152520" cy="0"/>
          </a:xfrm>
          <a:prstGeom prst="line">
            <a:avLst/>
          </a:prstGeom>
          <a:ln w="93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520-14A3-4C64-956C-0731AA7617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2:0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44:25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