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DE95-6E71-4EED-BD28-8BB3CBBC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8B6-B8AD-4F6D-A3D6-E8A47DCD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3A0-F4AE-4ABB-9C87-6456B281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B8B-7965-4071-A555-148ED7E2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D129-8726-4DDF-884D-13205C39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BDE8-5FEC-4461-BBF8-46BB9229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9562-A64D-490F-B27F-BBAE8E5F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DEC0-9297-4404-ADC1-8A7DA2A0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3299-E34F-4D52-859E-3665CC07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FDA1-F69D-4EF6-97EA-99DF7210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D975-B4C3-4509-9694-7271E85B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6BB6-9231-4EE1-9E13-0BC9D3EC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CC02-F798-4B85-920E-A7D4A470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1F0C-265B-4E51-BE31-9E2CC426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7613-0C0F-403E-B6A4-FB50BF77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CF44-8166-44E3-A948-EC6D9292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6B9B-0AB7-4E32-97A6-B780A93F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4942C-9CC5-4DAC-8F80-4A409073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620E1-F442-4FD6-B312-8B04F6C0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D4ABE-F082-4991-9739-639A1E1B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101B6-5664-4884-AF83-34E4E015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284A7-FC81-4FDE-8E3A-36876B5F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DD8-F9AD-4C21-AF8D-93F0F768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850EA-7194-4496-8100-2AC803DB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F6CB9-D425-44FF-B490-DC60CF75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AF686-6823-48C1-923E-EACDCA12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B8E9E-594B-4452-AF04-43CDC435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699DE-0A1B-4216-ADCC-1EA5533B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17155-1388-4064-9519-D83B3709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00F87-C307-477C-A2C6-845FB04F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FF34-231B-48A3-A6A6-845F672A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3621-638A-42B7-8FFA-E00691F0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2C6-55D9-4AE9-8958-107DB038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8EC2-3C16-406A-BFF6-C2E01C8B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896-4E44-4D1D-898D-C6D0C7D4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3913-A9A6-44FB-8A87-78FD3D3E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thesea"/>
          <p:cNvPicPr/>
          <p:nvPr/>
        </p:nvPicPr>
        <p:blipFill>
          <a:blip r:embed="rId2"/>
          <a:srcRect l="3126" t="299" r="3126" b="2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0A8B-61F7-49F9-B3EB-BCC34EA1E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1654-1CBC-499F-80E8-75DF39B88A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thesea"/>
          <p:cNvPicPr/>
          <p:nvPr/>
        </p:nvPicPr>
        <p:blipFill>
          <a:blip r:embed="rId2"/>
          <a:srcRect l="3126" t="299" r="3126" b="2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82BF-C401-4EFE-A502-1CADFAA15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8"/>
          <p:cNvSpPr/>
          <p:nvPr/>
        </p:nvSpPr>
        <p:spPr>
          <a:xfrm>
            <a:off x="1116000" y="1123920"/>
            <a:ext cx="6840720" cy="5052960"/>
          </a:xfrm>
          <a:custGeom>
            <a:avLst/>
            <a:gdLst/>
            <a:ahLst/>
            <a:rect l="l" t="t" r="r" b="b"/>
            <a:pathLst>
              <a:path w="3583" h="2647">
                <a:moveTo>
                  <a:pt x="3357" y="473"/>
                </a:moveTo>
                <a:lnTo>
                  <a:pt x="3357" y="473"/>
                </a:lnTo>
                <a:lnTo>
                  <a:pt x="3319" y="393"/>
                </a:lnTo>
                <a:lnTo>
                  <a:pt x="3168" y="353"/>
                </a:lnTo>
                <a:lnTo>
                  <a:pt x="2987" y="0"/>
                </a:lnTo>
                <a:lnTo>
                  <a:pt x="2814" y="0"/>
                </a:lnTo>
                <a:lnTo>
                  <a:pt x="2761" y="96"/>
                </a:lnTo>
                <a:lnTo>
                  <a:pt x="2648" y="313"/>
                </a:lnTo>
                <a:lnTo>
                  <a:pt x="2535" y="313"/>
                </a:lnTo>
                <a:lnTo>
                  <a:pt x="2519" y="353"/>
                </a:lnTo>
                <a:lnTo>
                  <a:pt x="2519" y="361"/>
                </a:lnTo>
                <a:lnTo>
                  <a:pt x="2527" y="361"/>
                </a:lnTo>
                <a:lnTo>
                  <a:pt x="2535" y="361"/>
                </a:lnTo>
                <a:lnTo>
                  <a:pt x="2535" y="369"/>
                </a:lnTo>
                <a:lnTo>
                  <a:pt x="2542" y="369"/>
                </a:lnTo>
                <a:lnTo>
                  <a:pt x="2550" y="369"/>
                </a:lnTo>
                <a:lnTo>
                  <a:pt x="2550" y="377"/>
                </a:lnTo>
                <a:lnTo>
                  <a:pt x="2557" y="377"/>
                </a:lnTo>
                <a:lnTo>
                  <a:pt x="2550" y="377"/>
                </a:lnTo>
                <a:lnTo>
                  <a:pt x="2550" y="369"/>
                </a:lnTo>
                <a:lnTo>
                  <a:pt x="2542" y="369"/>
                </a:lnTo>
                <a:lnTo>
                  <a:pt x="2535" y="369"/>
                </a:lnTo>
                <a:lnTo>
                  <a:pt x="2535" y="361"/>
                </a:lnTo>
                <a:lnTo>
                  <a:pt x="2527" y="361"/>
                </a:lnTo>
                <a:lnTo>
                  <a:pt x="2519" y="361"/>
                </a:lnTo>
                <a:lnTo>
                  <a:pt x="2519" y="353"/>
                </a:lnTo>
                <a:lnTo>
                  <a:pt x="2482" y="433"/>
                </a:lnTo>
                <a:lnTo>
                  <a:pt x="2482" y="529"/>
                </a:lnTo>
                <a:lnTo>
                  <a:pt x="2648" y="553"/>
                </a:lnTo>
                <a:lnTo>
                  <a:pt x="2685" y="634"/>
                </a:lnTo>
                <a:lnTo>
                  <a:pt x="2519" y="690"/>
                </a:lnTo>
                <a:lnTo>
                  <a:pt x="2384" y="754"/>
                </a:lnTo>
                <a:lnTo>
                  <a:pt x="2255" y="810"/>
                </a:lnTo>
                <a:lnTo>
                  <a:pt x="2218" y="947"/>
                </a:lnTo>
                <a:lnTo>
                  <a:pt x="2014" y="971"/>
                </a:lnTo>
                <a:lnTo>
                  <a:pt x="1810" y="1107"/>
                </a:lnTo>
                <a:lnTo>
                  <a:pt x="1622" y="1011"/>
                </a:lnTo>
                <a:lnTo>
                  <a:pt x="1395" y="987"/>
                </a:lnTo>
                <a:lnTo>
                  <a:pt x="1230" y="810"/>
                </a:lnTo>
                <a:lnTo>
                  <a:pt x="988" y="730"/>
                </a:lnTo>
                <a:lnTo>
                  <a:pt x="966" y="529"/>
                </a:lnTo>
                <a:lnTo>
                  <a:pt x="837" y="457"/>
                </a:lnTo>
                <a:lnTo>
                  <a:pt x="822" y="433"/>
                </a:lnTo>
                <a:lnTo>
                  <a:pt x="784" y="457"/>
                </a:lnTo>
                <a:lnTo>
                  <a:pt x="724" y="473"/>
                </a:lnTo>
                <a:lnTo>
                  <a:pt x="686" y="594"/>
                </a:lnTo>
                <a:lnTo>
                  <a:pt x="536" y="570"/>
                </a:lnTo>
                <a:lnTo>
                  <a:pt x="498" y="770"/>
                </a:lnTo>
                <a:lnTo>
                  <a:pt x="370" y="794"/>
                </a:lnTo>
                <a:lnTo>
                  <a:pt x="332" y="1027"/>
                </a:lnTo>
                <a:lnTo>
                  <a:pt x="256" y="1107"/>
                </a:lnTo>
                <a:lnTo>
                  <a:pt x="166" y="1187"/>
                </a:lnTo>
                <a:lnTo>
                  <a:pt x="15" y="1227"/>
                </a:lnTo>
                <a:lnTo>
                  <a:pt x="0" y="1307"/>
                </a:lnTo>
                <a:lnTo>
                  <a:pt x="38" y="1340"/>
                </a:lnTo>
                <a:lnTo>
                  <a:pt x="53" y="1404"/>
                </a:lnTo>
                <a:lnTo>
                  <a:pt x="15" y="1420"/>
                </a:lnTo>
                <a:lnTo>
                  <a:pt x="53" y="1460"/>
                </a:lnTo>
                <a:lnTo>
                  <a:pt x="113" y="1484"/>
                </a:lnTo>
                <a:lnTo>
                  <a:pt x="166" y="1564"/>
                </a:lnTo>
                <a:lnTo>
                  <a:pt x="241" y="1564"/>
                </a:lnTo>
                <a:lnTo>
                  <a:pt x="355" y="1564"/>
                </a:lnTo>
                <a:lnTo>
                  <a:pt x="370" y="1596"/>
                </a:lnTo>
                <a:lnTo>
                  <a:pt x="294" y="1717"/>
                </a:lnTo>
                <a:lnTo>
                  <a:pt x="317" y="1781"/>
                </a:lnTo>
                <a:lnTo>
                  <a:pt x="279" y="1837"/>
                </a:lnTo>
                <a:lnTo>
                  <a:pt x="317" y="1917"/>
                </a:lnTo>
                <a:lnTo>
                  <a:pt x="407" y="1957"/>
                </a:lnTo>
                <a:lnTo>
                  <a:pt x="392" y="1973"/>
                </a:lnTo>
                <a:lnTo>
                  <a:pt x="430" y="1973"/>
                </a:lnTo>
                <a:lnTo>
                  <a:pt x="558" y="2037"/>
                </a:lnTo>
                <a:lnTo>
                  <a:pt x="671" y="2094"/>
                </a:lnTo>
                <a:lnTo>
                  <a:pt x="784" y="2118"/>
                </a:lnTo>
                <a:lnTo>
                  <a:pt x="822" y="2150"/>
                </a:lnTo>
                <a:lnTo>
                  <a:pt x="852" y="2150"/>
                </a:lnTo>
                <a:lnTo>
                  <a:pt x="913" y="2190"/>
                </a:lnTo>
                <a:lnTo>
                  <a:pt x="988" y="2190"/>
                </a:lnTo>
                <a:lnTo>
                  <a:pt x="1064" y="2190"/>
                </a:lnTo>
                <a:lnTo>
                  <a:pt x="1116" y="2118"/>
                </a:lnTo>
                <a:lnTo>
                  <a:pt x="1192" y="2053"/>
                </a:lnTo>
                <a:lnTo>
                  <a:pt x="1282" y="2053"/>
                </a:lnTo>
                <a:lnTo>
                  <a:pt x="1358" y="2118"/>
                </a:lnTo>
                <a:lnTo>
                  <a:pt x="1395" y="2118"/>
                </a:lnTo>
                <a:lnTo>
                  <a:pt x="1433" y="2134"/>
                </a:lnTo>
                <a:lnTo>
                  <a:pt x="1456" y="2230"/>
                </a:lnTo>
                <a:lnTo>
                  <a:pt x="1418" y="2350"/>
                </a:lnTo>
                <a:lnTo>
                  <a:pt x="1418" y="2390"/>
                </a:lnTo>
                <a:lnTo>
                  <a:pt x="1471" y="2406"/>
                </a:lnTo>
                <a:lnTo>
                  <a:pt x="1509" y="2471"/>
                </a:lnTo>
                <a:lnTo>
                  <a:pt x="1509" y="2511"/>
                </a:lnTo>
                <a:lnTo>
                  <a:pt x="1599" y="2551"/>
                </a:lnTo>
                <a:lnTo>
                  <a:pt x="1584" y="2567"/>
                </a:lnTo>
                <a:lnTo>
                  <a:pt x="1675" y="2551"/>
                </a:lnTo>
                <a:lnTo>
                  <a:pt x="1697" y="2471"/>
                </a:lnTo>
                <a:lnTo>
                  <a:pt x="1886" y="2471"/>
                </a:lnTo>
                <a:lnTo>
                  <a:pt x="1954" y="2527"/>
                </a:lnTo>
                <a:lnTo>
                  <a:pt x="1976" y="2591"/>
                </a:lnTo>
                <a:lnTo>
                  <a:pt x="2014" y="2567"/>
                </a:lnTo>
                <a:lnTo>
                  <a:pt x="2142" y="2647"/>
                </a:lnTo>
                <a:lnTo>
                  <a:pt x="2142" y="2591"/>
                </a:lnTo>
                <a:lnTo>
                  <a:pt x="2293" y="2527"/>
                </a:lnTo>
                <a:lnTo>
                  <a:pt x="2308" y="2511"/>
                </a:lnTo>
                <a:lnTo>
                  <a:pt x="2346" y="2487"/>
                </a:lnTo>
                <a:lnTo>
                  <a:pt x="2384" y="2511"/>
                </a:lnTo>
                <a:lnTo>
                  <a:pt x="2459" y="2471"/>
                </a:lnTo>
                <a:lnTo>
                  <a:pt x="2557" y="2406"/>
                </a:lnTo>
                <a:lnTo>
                  <a:pt x="2648" y="2334"/>
                </a:lnTo>
                <a:lnTo>
                  <a:pt x="2685" y="2254"/>
                </a:lnTo>
                <a:lnTo>
                  <a:pt x="2738" y="2174"/>
                </a:lnTo>
                <a:lnTo>
                  <a:pt x="2799" y="2053"/>
                </a:lnTo>
                <a:lnTo>
                  <a:pt x="2799" y="1997"/>
                </a:lnTo>
                <a:lnTo>
                  <a:pt x="2776" y="1957"/>
                </a:lnTo>
                <a:lnTo>
                  <a:pt x="2799" y="1893"/>
                </a:lnTo>
                <a:lnTo>
                  <a:pt x="2776" y="1821"/>
                </a:lnTo>
                <a:lnTo>
                  <a:pt x="2685" y="1620"/>
                </a:lnTo>
                <a:lnTo>
                  <a:pt x="2700" y="1596"/>
                </a:lnTo>
                <a:lnTo>
                  <a:pt x="2776" y="1500"/>
                </a:lnTo>
                <a:lnTo>
                  <a:pt x="2836" y="1484"/>
                </a:lnTo>
                <a:lnTo>
                  <a:pt x="2844" y="1476"/>
                </a:lnTo>
                <a:lnTo>
                  <a:pt x="2844" y="1460"/>
                </a:lnTo>
                <a:lnTo>
                  <a:pt x="2836" y="1444"/>
                </a:lnTo>
                <a:lnTo>
                  <a:pt x="2738" y="1420"/>
                </a:lnTo>
                <a:lnTo>
                  <a:pt x="2685" y="1444"/>
                </a:lnTo>
                <a:lnTo>
                  <a:pt x="2648" y="1420"/>
                </a:lnTo>
                <a:lnTo>
                  <a:pt x="2610" y="1364"/>
                </a:lnTo>
                <a:lnTo>
                  <a:pt x="2572" y="1324"/>
                </a:lnTo>
                <a:lnTo>
                  <a:pt x="2663" y="1283"/>
                </a:lnTo>
                <a:lnTo>
                  <a:pt x="2723" y="1227"/>
                </a:lnTo>
                <a:lnTo>
                  <a:pt x="2814" y="1163"/>
                </a:lnTo>
                <a:lnTo>
                  <a:pt x="2851" y="1163"/>
                </a:lnTo>
                <a:lnTo>
                  <a:pt x="2799" y="1243"/>
                </a:lnTo>
                <a:lnTo>
                  <a:pt x="2836" y="1283"/>
                </a:lnTo>
                <a:lnTo>
                  <a:pt x="2874" y="1267"/>
                </a:lnTo>
                <a:lnTo>
                  <a:pt x="2964" y="1227"/>
                </a:lnTo>
                <a:lnTo>
                  <a:pt x="2987" y="1139"/>
                </a:lnTo>
                <a:lnTo>
                  <a:pt x="3040" y="1091"/>
                </a:lnTo>
                <a:lnTo>
                  <a:pt x="3093" y="1131"/>
                </a:lnTo>
                <a:lnTo>
                  <a:pt x="3085" y="1051"/>
                </a:lnTo>
                <a:lnTo>
                  <a:pt x="3161" y="1003"/>
                </a:lnTo>
                <a:lnTo>
                  <a:pt x="3259" y="1019"/>
                </a:lnTo>
                <a:lnTo>
                  <a:pt x="3304" y="987"/>
                </a:lnTo>
                <a:lnTo>
                  <a:pt x="3357" y="1011"/>
                </a:lnTo>
                <a:lnTo>
                  <a:pt x="3394" y="794"/>
                </a:lnTo>
                <a:lnTo>
                  <a:pt x="3485" y="770"/>
                </a:lnTo>
                <a:lnTo>
                  <a:pt x="3583" y="473"/>
                </a:lnTo>
                <a:lnTo>
                  <a:pt x="3357" y="473"/>
                </a:lnTo>
                <a:close/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4"/>
          <p:cNvSpPr/>
          <p:nvPr/>
        </p:nvSpPr>
        <p:spPr>
          <a:xfrm>
            <a:off x="6686640" y="5584680"/>
            <a:ext cx="247680" cy="505080"/>
          </a:xfrm>
          <a:custGeom>
            <a:avLst/>
            <a:gdLst/>
            <a:ahLst/>
            <a:rect l="l" t="t" r="r" b="b"/>
            <a:pathLst>
              <a:path w="247650" h="504825">
                <a:moveTo>
                  <a:pt x="123825" y="504825"/>
                </a:moveTo>
                <a:lnTo>
                  <a:pt x="0" y="352425"/>
                </a:lnTo>
                <a:lnTo>
                  <a:pt x="0" y="247650"/>
                </a:lnTo>
                <a:lnTo>
                  <a:pt x="114300" y="57150"/>
                </a:lnTo>
                <a:lnTo>
                  <a:pt x="190500" y="0"/>
                </a:lnTo>
                <a:lnTo>
                  <a:pt x="247650" y="28575"/>
                </a:lnTo>
                <a:lnTo>
                  <a:pt x="209550" y="171450"/>
                </a:lnTo>
                <a:lnTo>
                  <a:pt x="209550" y="342900"/>
                </a:lnTo>
                <a:lnTo>
                  <a:pt x="171450" y="400050"/>
                </a:lnTo>
                <a:lnTo>
                  <a:pt x="123825" y="504825"/>
                </a:lnTo>
                <a:close/>
              </a:path>
            </a:pathLst>
          </a:custGeom>
          <a:solidFill>
            <a:srgbClr val="7030a0"/>
          </a:solidFill>
          <a:ln w="76320">
            <a:solidFill>
              <a:srgbClr val="ffffff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7"/>
          <p:cNvGrpSpPr/>
          <p:nvPr/>
        </p:nvGrpSpPr>
        <p:grpSpPr>
          <a:xfrm>
            <a:off x="1116000" y="1125360"/>
            <a:ext cx="6840720" cy="5616720"/>
            <a:chOff x="1116000" y="1125360"/>
            <a:chExt cx="6840720" cy="5616720"/>
          </a:xfrm>
        </p:grpSpPr>
        <p:sp>
          <p:nvSpPr>
            <p:cNvPr id="128" name="Freeform 7"/>
            <p:cNvSpPr/>
            <p:nvPr/>
          </p:nvSpPr>
          <p:spPr>
            <a:xfrm>
              <a:off x="1116000" y="1125360"/>
              <a:ext cx="6840720" cy="5053680"/>
            </a:xfrm>
            <a:custGeom>
              <a:avLst/>
              <a:gdLst/>
              <a:ahLst/>
              <a:rect l="l" t="t" r="r" b="b"/>
              <a:pathLst>
                <a:path w="3583" h="2647">
                  <a:moveTo>
                    <a:pt x="3357" y="473"/>
                  </a:moveTo>
                  <a:lnTo>
                    <a:pt x="3357" y="473"/>
                  </a:lnTo>
                  <a:lnTo>
                    <a:pt x="3319" y="393"/>
                  </a:lnTo>
                  <a:lnTo>
                    <a:pt x="3168" y="353"/>
                  </a:lnTo>
                  <a:lnTo>
                    <a:pt x="2987" y="0"/>
                  </a:lnTo>
                  <a:lnTo>
                    <a:pt x="2814" y="0"/>
                  </a:lnTo>
                  <a:lnTo>
                    <a:pt x="2761" y="96"/>
                  </a:lnTo>
                  <a:lnTo>
                    <a:pt x="2648" y="313"/>
                  </a:lnTo>
                  <a:lnTo>
                    <a:pt x="2535" y="313"/>
                  </a:lnTo>
                  <a:lnTo>
                    <a:pt x="2519" y="353"/>
                  </a:lnTo>
                  <a:lnTo>
                    <a:pt x="2519" y="361"/>
                  </a:lnTo>
                  <a:lnTo>
                    <a:pt x="2527" y="361"/>
                  </a:lnTo>
                  <a:lnTo>
                    <a:pt x="2535" y="361"/>
                  </a:lnTo>
                  <a:lnTo>
                    <a:pt x="2535" y="369"/>
                  </a:lnTo>
                  <a:lnTo>
                    <a:pt x="2542" y="369"/>
                  </a:lnTo>
                  <a:lnTo>
                    <a:pt x="2550" y="369"/>
                  </a:lnTo>
                  <a:lnTo>
                    <a:pt x="2550" y="377"/>
                  </a:lnTo>
                  <a:lnTo>
                    <a:pt x="2557" y="377"/>
                  </a:lnTo>
                  <a:lnTo>
                    <a:pt x="2550" y="377"/>
                  </a:lnTo>
                  <a:lnTo>
                    <a:pt x="2550" y="369"/>
                  </a:lnTo>
                  <a:lnTo>
                    <a:pt x="2542" y="369"/>
                  </a:lnTo>
                  <a:lnTo>
                    <a:pt x="2535" y="369"/>
                  </a:lnTo>
                  <a:lnTo>
                    <a:pt x="2535" y="361"/>
                  </a:lnTo>
                  <a:lnTo>
                    <a:pt x="2527" y="361"/>
                  </a:lnTo>
                  <a:lnTo>
                    <a:pt x="2519" y="361"/>
                  </a:lnTo>
                  <a:lnTo>
                    <a:pt x="2519" y="353"/>
                  </a:lnTo>
                  <a:lnTo>
                    <a:pt x="2482" y="433"/>
                  </a:lnTo>
                  <a:lnTo>
                    <a:pt x="2482" y="529"/>
                  </a:lnTo>
                  <a:lnTo>
                    <a:pt x="2648" y="553"/>
                  </a:lnTo>
                  <a:lnTo>
                    <a:pt x="2685" y="634"/>
                  </a:lnTo>
                  <a:lnTo>
                    <a:pt x="2519" y="690"/>
                  </a:lnTo>
                  <a:lnTo>
                    <a:pt x="2384" y="754"/>
                  </a:lnTo>
                  <a:lnTo>
                    <a:pt x="2255" y="810"/>
                  </a:lnTo>
                  <a:lnTo>
                    <a:pt x="2218" y="947"/>
                  </a:lnTo>
                  <a:lnTo>
                    <a:pt x="2014" y="971"/>
                  </a:lnTo>
                  <a:lnTo>
                    <a:pt x="1810" y="1107"/>
                  </a:lnTo>
                  <a:lnTo>
                    <a:pt x="1622" y="1011"/>
                  </a:lnTo>
                  <a:lnTo>
                    <a:pt x="1395" y="987"/>
                  </a:lnTo>
                  <a:lnTo>
                    <a:pt x="1230" y="810"/>
                  </a:lnTo>
                  <a:lnTo>
                    <a:pt x="988" y="730"/>
                  </a:lnTo>
                  <a:lnTo>
                    <a:pt x="966" y="529"/>
                  </a:lnTo>
                  <a:lnTo>
                    <a:pt x="837" y="457"/>
                  </a:lnTo>
                  <a:lnTo>
                    <a:pt x="822" y="433"/>
                  </a:lnTo>
                  <a:lnTo>
                    <a:pt x="784" y="457"/>
                  </a:lnTo>
                  <a:lnTo>
                    <a:pt x="724" y="473"/>
                  </a:lnTo>
                  <a:lnTo>
                    <a:pt x="686" y="594"/>
                  </a:lnTo>
                  <a:lnTo>
                    <a:pt x="536" y="570"/>
                  </a:lnTo>
                  <a:lnTo>
                    <a:pt x="498" y="770"/>
                  </a:lnTo>
                  <a:lnTo>
                    <a:pt x="370" y="794"/>
                  </a:lnTo>
                  <a:lnTo>
                    <a:pt x="332" y="1027"/>
                  </a:lnTo>
                  <a:lnTo>
                    <a:pt x="256" y="1107"/>
                  </a:lnTo>
                  <a:lnTo>
                    <a:pt x="166" y="1187"/>
                  </a:lnTo>
                  <a:lnTo>
                    <a:pt x="15" y="1227"/>
                  </a:lnTo>
                  <a:lnTo>
                    <a:pt x="0" y="1307"/>
                  </a:lnTo>
                  <a:lnTo>
                    <a:pt x="38" y="1340"/>
                  </a:lnTo>
                  <a:lnTo>
                    <a:pt x="53" y="1404"/>
                  </a:lnTo>
                  <a:lnTo>
                    <a:pt x="15" y="1420"/>
                  </a:lnTo>
                  <a:lnTo>
                    <a:pt x="53" y="1460"/>
                  </a:lnTo>
                  <a:lnTo>
                    <a:pt x="113" y="1484"/>
                  </a:lnTo>
                  <a:lnTo>
                    <a:pt x="166" y="1564"/>
                  </a:lnTo>
                  <a:lnTo>
                    <a:pt x="241" y="1564"/>
                  </a:lnTo>
                  <a:lnTo>
                    <a:pt x="355" y="1564"/>
                  </a:lnTo>
                  <a:lnTo>
                    <a:pt x="370" y="1596"/>
                  </a:lnTo>
                  <a:lnTo>
                    <a:pt x="294" y="1717"/>
                  </a:lnTo>
                  <a:lnTo>
                    <a:pt x="317" y="1781"/>
                  </a:lnTo>
                  <a:lnTo>
                    <a:pt x="279" y="1837"/>
                  </a:lnTo>
                  <a:lnTo>
                    <a:pt x="317" y="1917"/>
                  </a:lnTo>
                  <a:lnTo>
                    <a:pt x="407" y="1957"/>
                  </a:lnTo>
                  <a:lnTo>
                    <a:pt x="392" y="1973"/>
                  </a:lnTo>
                  <a:lnTo>
                    <a:pt x="430" y="1973"/>
                  </a:lnTo>
                  <a:lnTo>
                    <a:pt x="558" y="2037"/>
                  </a:lnTo>
                  <a:lnTo>
                    <a:pt x="671" y="2094"/>
                  </a:lnTo>
                  <a:lnTo>
                    <a:pt x="784" y="2118"/>
                  </a:lnTo>
                  <a:lnTo>
                    <a:pt x="822" y="2150"/>
                  </a:lnTo>
                  <a:lnTo>
                    <a:pt x="852" y="2150"/>
                  </a:lnTo>
                  <a:lnTo>
                    <a:pt x="913" y="2190"/>
                  </a:lnTo>
                  <a:lnTo>
                    <a:pt x="988" y="2190"/>
                  </a:lnTo>
                  <a:lnTo>
                    <a:pt x="1064" y="2190"/>
                  </a:lnTo>
                  <a:lnTo>
                    <a:pt x="1116" y="2118"/>
                  </a:lnTo>
                  <a:lnTo>
                    <a:pt x="1192" y="2053"/>
                  </a:lnTo>
                  <a:lnTo>
                    <a:pt x="1282" y="2053"/>
                  </a:lnTo>
                  <a:lnTo>
                    <a:pt x="1358" y="2118"/>
                  </a:lnTo>
                  <a:lnTo>
                    <a:pt x="1395" y="2118"/>
                  </a:lnTo>
                  <a:lnTo>
                    <a:pt x="1433" y="2134"/>
                  </a:lnTo>
                  <a:lnTo>
                    <a:pt x="1456" y="2230"/>
                  </a:lnTo>
                  <a:lnTo>
                    <a:pt x="1418" y="2350"/>
                  </a:lnTo>
                  <a:lnTo>
                    <a:pt x="1418" y="2390"/>
                  </a:lnTo>
                  <a:lnTo>
                    <a:pt x="1471" y="2406"/>
                  </a:lnTo>
                  <a:lnTo>
                    <a:pt x="1509" y="2471"/>
                  </a:lnTo>
                  <a:lnTo>
                    <a:pt x="1509" y="2511"/>
                  </a:lnTo>
                  <a:lnTo>
                    <a:pt x="1599" y="2551"/>
                  </a:lnTo>
                  <a:lnTo>
                    <a:pt x="1584" y="2567"/>
                  </a:lnTo>
                  <a:lnTo>
                    <a:pt x="1675" y="2551"/>
                  </a:lnTo>
                  <a:lnTo>
                    <a:pt x="1697" y="2471"/>
                  </a:lnTo>
                  <a:lnTo>
                    <a:pt x="1886" y="2471"/>
                  </a:lnTo>
                  <a:lnTo>
                    <a:pt x="1954" y="2527"/>
                  </a:lnTo>
                  <a:lnTo>
                    <a:pt x="1976" y="2591"/>
                  </a:lnTo>
                  <a:lnTo>
                    <a:pt x="2014" y="2567"/>
                  </a:lnTo>
                  <a:lnTo>
                    <a:pt x="2142" y="2647"/>
                  </a:lnTo>
                  <a:lnTo>
                    <a:pt x="2142" y="2591"/>
                  </a:lnTo>
                  <a:lnTo>
                    <a:pt x="2293" y="2527"/>
                  </a:lnTo>
                  <a:lnTo>
                    <a:pt x="2308" y="2511"/>
                  </a:lnTo>
                  <a:lnTo>
                    <a:pt x="2346" y="2487"/>
                  </a:lnTo>
                  <a:lnTo>
                    <a:pt x="2384" y="2511"/>
                  </a:lnTo>
                  <a:lnTo>
                    <a:pt x="2459" y="2471"/>
                  </a:lnTo>
                  <a:lnTo>
                    <a:pt x="2557" y="2406"/>
                  </a:lnTo>
                  <a:lnTo>
                    <a:pt x="2648" y="2334"/>
                  </a:lnTo>
                  <a:lnTo>
                    <a:pt x="2685" y="2254"/>
                  </a:lnTo>
                  <a:lnTo>
                    <a:pt x="2738" y="2174"/>
                  </a:lnTo>
                  <a:lnTo>
                    <a:pt x="2799" y="2053"/>
                  </a:lnTo>
                  <a:lnTo>
                    <a:pt x="2799" y="1997"/>
                  </a:lnTo>
                  <a:lnTo>
                    <a:pt x="2776" y="1957"/>
                  </a:lnTo>
                  <a:lnTo>
                    <a:pt x="2799" y="1893"/>
                  </a:lnTo>
                  <a:lnTo>
                    <a:pt x="2776" y="1821"/>
                  </a:lnTo>
                  <a:lnTo>
                    <a:pt x="2685" y="1620"/>
                  </a:lnTo>
                  <a:lnTo>
                    <a:pt x="2700" y="1596"/>
                  </a:lnTo>
                  <a:lnTo>
                    <a:pt x="2776" y="1500"/>
                  </a:lnTo>
                  <a:lnTo>
                    <a:pt x="2836" y="1484"/>
                  </a:lnTo>
                  <a:lnTo>
                    <a:pt x="2844" y="1476"/>
                  </a:lnTo>
                  <a:lnTo>
                    <a:pt x="2844" y="1460"/>
                  </a:lnTo>
                  <a:lnTo>
                    <a:pt x="2836" y="1444"/>
                  </a:lnTo>
                  <a:lnTo>
                    <a:pt x="2738" y="1420"/>
                  </a:lnTo>
                  <a:lnTo>
                    <a:pt x="2685" y="1444"/>
                  </a:lnTo>
                  <a:lnTo>
                    <a:pt x="2648" y="1420"/>
                  </a:lnTo>
                  <a:lnTo>
                    <a:pt x="2610" y="1364"/>
                  </a:lnTo>
                  <a:lnTo>
                    <a:pt x="2572" y="1324"/>
                  </a:lnTo>
                  <a:lnTo>
                    <a:pt x="2663" y="1283"/>
                  </a:lnTo>
                  <a:lnTo>
                    <a:pt x="2723" y="1227"/>
                  </a:lnTo>
                  <a:lnTo>
                    <a:pt x="2814" y="1163"/>
                  </a:lnTo>
                  <a:lnTo>
                    <a:pt x="2851" y="1163"/>
                  </a:lnTo>
                  <a:lnTo>
                    <a:pt x="2799" y="1243"/>
                  </a:lnTo>
                  <a:lnTo>
                    <a:pt x="2836" y="1283"/>
                  </a:lnTo>
                  <a:lnTo>
                    <a:pt x="2874" y="1267"/>
                  </a:lnTo>
                  <a:lnTo>
                    <a:pt x="2964" y="1227"/>
                  </a:lnTo>
                  <a:lnTo>
                    <a:pt x="2987" y="1139"/>
                  </a:lnTo>
                  <a:lnTo>
                    <a:pt x="3040" y="1091"/>
                  </a:lnTo>
                  <a:lnTo>
                    <a:pt x="3093" y="1131"/>
                  </a:lnTo>
                  <a:lnTo>
                    <a:pt x="3085" y="1051"/>
                  </a:lnTo>
                  <a:lnTo>
                    <a:pt x="3161" y="1003"/>
                  </a:lnTo>
                  <a:lnTo>
                    <a:pt x="3259" y="1019"/>
                  </a:lnTo>
                  <a:lnTo>
                    <a:pt x="3304" y="987"/>
                  </a:lnTo>
                  <a:lnTo>
                    <a:pt x="3357" y="1011"/>
                  </a:lnTo>
                  <a:lnTo>
                    <a:pt x="3394" y="794"/>
                  </a:lnTo>
                  <a:lnTo>
                    <a:pt x="3485" y="770"/>
                  </a:lnTo>
                  <a:lnTo>
                    <a:pt x="3583" y="473"/>
                  </a:lnTo>
                  <a:lnTo>
                    <a:pt x="3357" y="473"/>
                  </a:lnTo>
                  <a:close/>
                </a:path>
              </a:pathLst>
            </a:custGeom>
            <a:solidFill>
              <a:srgbClr val="00a0c6"/>
            </a:solidFill>
            <a:ln w="7632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"/>
            <p:cNvSpPr/>
            <p:nvPr/>
          </p:nvSpPr>
          <p:spPr>
            <a:xfrm>
              <a:off x="5148360" y="6434280"/>
              <a:ext cx="343440" cy="307800"/>
            </a:xfrm>
            <a:custGeom>
              <a:avLst/>
              <a:gdLst/>
              <a:ahLst/>
              <a:rect l="l" t="t" r="r" b="b"/>
              <a:pathLst>
                <a:path w="343458" h="307774">
                  <a:moveTo>
                    <a:pt x="0" y="218564"/>
                  </a:moveTo>
                  <a:lnTo>
                    <a:pt x="35684" y="107052"/>
                  </a:lnTo>
                  <a:lnTo>
                    <a:pt x="124894" y="57986"/>
                  </a:lnTo>
                  <a:lnTo>
                    <a:pt x="147196" y="26763"/>
                  </a:lnTo>
                  <a:lnTo>
                    <a:pt x="285471" y="22303"/>
                  </a:lnTo>
                  <a:lnTo>
                    <a:pt x="312234" y="0"/>
                  </a:lnTo>
                  <a:lnTo>
                    <a:pt x="338997" y="40145"/>
                  </a:lnTo>
                  <a:lnTo>
                    <a:pt x="343458" y="89210"/>
                  </a:lnTo>
                  <a:lnTo>
                    <a:pt x="298853" y="107052"/>
                  </a:lnTo>
                  <a:lnTo>
                    <a:pt x="307774" y="173959"/>
                  </a:lnTo>
                  <a:lnTo>
                    <a:pt x="156117" y="307774"/>
                  </a:lnTo>
                  <a:lnTo>
                    <a:pt x="31223" y="263169"/>
                  </a:lnTo>
                  <a:lnTo>
                    <a:pt x="0" y="218564"/>
                  </a:lnTo>
                  <a:close/>
                </a:path>
              </a:pathLst>
            </a:custGeom>
            <a:solidFill>
              <a:srgbClr val="00a0c6"/>
            </a:solidFill>
            <a:ln w="7632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5148360" y="6434280"/>
              <a:ext cx="343440" cy="307800"/>
            </a:xfrm>
            <a:custGeom>
              <a:avLst/>
              <a:gdLst/>
              <a:ahLst/>
              <a:rect l="l" t="t" r="r" b="b"/>
              <a:pathLst>
                <a:path w="343458" h="307774">
                  <a:moveTo>
                    <a:pt x="0" y="218564"/>
                  </a:moveTo>
                  <a:lnTo>
                    <a:pt x="35684" y="107052"/>
                  </a:lnTo>
                  <a:lnTo>
                    <a:pt x="124894" y="57986"/>
                  </a:lnTo>
                  <a:lnTo>
                    <a:pt x="147196" y="26763"/>
                  </a:lnTo>
                  <a:lnTo>
                    <a:pt x="285471" y="22303"/>
                  </a:lnTo>
                  <a:lnTo>
                    <a:pt x="312234" y="0"/>
                  </a:lnTo>
                  <a:lnTo>
                    <a:pt x="338997" y="40145"/>
                  </a:lnTo>
                  <a:lnTo>
                    <a:pt x="343458" y="89210"/>
                  </a:lnTo>
                  <a:lnTo>
                    <a:pt x="298853" y="107052"/>
                  </a:lnTo>
                  <a:lnTo>
                    <a:pt x="307774" y="173959"/>
                  </a:lnTo>
                  <a:lnTo>
                    <a:pt x="156117" y="307774"/>
                  </a:lnTo>
                  <a:lnTo>
                    <a:pt x="31223" y="263169"/>
                  </a:lnTo>
                  <a:lnTo>
                    <a:pt x="0" y="218564"/>
                  </a:lnTo>
                  <a:close/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Freeform 15"/>
          <p:cNvSpPr/>
          <p:nvPr/>
        </p:nvSpPr>
        <p:spPr>
          <a:xfrm>
            <a:off x="6700680" y="5587920"/>
            <a:ext cx="247680" cy="505080"/>
          </a:xfrm>
          <a:custGeom>
            <a:avLst/>
            <a:gdLst/>
            <a:ahLst/>
            <a:rect l="l" t="t" r="r" b="b"/>
            <a:pathLst>
              <a:path w="247650" h="504825">
                <a:moveTo>
                  <a:pt x="123825" y="504825"/>
                </a:moveTo>
                <a:lnTo>
                  <a:pt x="0" y="352425"/>
                </a:lnTo>
                <a:lnTo>
                  <a:pt x="0" y="247650"/>
                </a:lnTo>
                <a:lnTo>
                  <a:pt x="114300" y="57150"/>
                </a:lnTo>
                <a:lnTo>
                  <a:pt x="190500" y="0"/>
                </a:lnTo>
                <a:lnTo>
                  <a:pt x="247650" y="28575"/>
                </a:lnTo>
                <a:lnTo>
                  <a:pt x="209550" y="171450"/>
                </a:lnTo>
                <a:lnTo>
                  <a:pt x="209550" y="342900"/>
                </a:lnTo>
                <a:lnTo>
                  <a:pt x="171450" y="400050"/>
                </a:lnTo>
                <a:lnTo>
                  <a:pt x="123825" y="504825"/>
                </a:lnTo>
                <a:close/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3" name="Picture 9" descr="red"/>
          <p:cNvPicPr/>
          <p:nvPr/>
        </p:nvPicPr>
        <p:blipFill>
          <a:blip r:embed="rId1"/>
          <a:stretch/>
        </p:blipFill>
        <p:spPr>
          <a:xfrm>
            <a:off x="5148360" y="2852640"/>
            <a:ext cx="888840" cy="722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green"/>
          <p:cNvPicPr/>
          <p:nvPr/>
        </p:nvPicPr>
        <p:blipFill>
          <a:blip r:embed="rId2"/>
          <a:stretch/>
        </p:blipFill>
        <p:spPr>
          <a:xfrm>
            <a:off x="5651640" y="3357720"/>
            <a:ext cx="888840" cy="722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purple"/>
          <p:cNvPicPr/>
          <p:nvPr/>
        </p:nvPicPr>
        <p:blipFill>
          <a:blip r:embed="rId3"/>
          <a:stretch/>
        </p:blipFill>
        <p:spPr>
          <a:xfrm>
            <a:off x="4643280" y="5157720"/>
            <a:ext cx="889200" cy="722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2"/>
          <p:cNvSpPr/>
          <p:nvPr/>
        </p:nvSpPr>
        <p:spPr>
          <a:xfrm>
            <a:off x="3708360" y="1917720"/>
            <a:ext cx="2016000" cy="762120"/>
          </a:xfrm>
          <a:prstGeom prst="rect">
            <a:avLst/>
          </a:prstGeom>
          <a:solidFill>
            <a:srgbClr val="006c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ij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6516720" y="3933720"/>
            <a:ext cx="2016000" cy="762120"/>
          </a:xfrm>
          <a:prstGeom prst="rect">
            <a:avLst/>
          </a:prstGeom>
          <a:solidFill>
            <a:srgbClr val="006c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angha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3564000" y="4221000"/>
            <a:ext cx="2016000" cy="762120"/>
          </a:xfrm>
          <a:prstGeom prst="rect">
            <a:avLst/>
          </a:prstGeom>
          <a:solidFill>
            <a:srgbClr val="006c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angzho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2494080" y="6021360"/>
            <a:ext cx="2016000" cy="762120"/>
          </a:xfrm>
          <a:prstGeom prst="rect">
            <a:avLst/>
          </a:prstGeom>
          <a:solidFill>
            <a:srgbClr val="006c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in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6996240" y="5518080"/>
            <a:ext cx="2016000" cy="762120"/>
          </a:xfrm>
          <a:prstGeom prst="rect">
            <a:avLst/>
          </a:prstGeom>
          <a:solidFill>
            <a:srgbClr val="7030a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aiw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4" descr="black"/>
          <p:cNvPicPr/>
          <p:nvPr/>
        </p:nvPicPr>
        <p:blipFill>
          <a:blip r:embed="rId4"/>
          <a:stretch/>
        </p:blipFill>
        <p:spPr>
          <a:xfrm>
            <a:off x="6108840" y="5143680"/>
            <a:ext cx="887400" cy="720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yellow"/>
          <p:cNvPicPr/>
          <p:nvPr/>
        </p:nvPicPr>
        <p:blipFill>
          <a:blip r:embed="rId5"/>
          <a:stretch/>
        </p:blipFill>
        <p:spPr>
          <a:xfrm>
            <a:off x="4572000" y="5919840"/>
            <a:ext cx="887400" cy="720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080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26840" y="26028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中国地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38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val 4"/>
          <p:cNvSpPr/>
          <p:nvPr/>
        </p:nvSpPr>
        <p:spPr>
          <a:xfrm flipH="1" flipV="1" rot="19749000">
            <a:off x="2084400" y="1547640"/>
            <a:ext cx="5214600" cy="5214960"/>
          </a:xfrm>
          <a:prstGeom prst="ellipse">
            <a:avLst/>
          </a:prstGeom>
          <a:gradFill rotWithShape="0">
            <a:gsLst>
              <a:gs pos="0">
                <a:srgbClr val="1e73c0"/>
              </a:gs>
              <a:gs pos="100000">
                <a:srgbClr val="0e3d67"/>
              </a:gs>
            </a:gsLst>
            <a:lin ang="9954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 in 3d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2179800" y="2565360"/>
            <a:ext cx="4319280" cy="3192480"/>
          </a:xfrm>
          <a:custGeom>
            <a:avLst/>
            <a:gdLst/>
            <a:ahLst/>
            <a:rect l="l" t="t" r="r" b="b"/>
            <a:pathLst>
              <a:path w="3583" h="2647">
                <a:moveTo>
                  <a:pt x="3357" y="473"/>
                </a:moveTo>
                <a:lnTo>
                  <a:pt x="3357" y="473"/>
                </a:lnTo>
                <a:lnTo>
                  <a:pt x="3319" y="393"/>
                </a:lnTo>
                <a:lnTo>
                  <a:pt x="3168" y="353"/>
                </a:lnTo>
                <a:lnTo>
                  <a:pt x="2987" y="0"/>
                </a:lnTo>
                <a:lnTo>
                  <a:pt x="2814" y="0"/>
                </a:lnTo>
                <a:lnTo>
                  <a:pt x="2761" y="96"/>
                </a:lnTo>
                <a:lnTo>
                  <a:pt x="2648" y="313"/>
                </a:lnTo>
                <a:lnTo>
                  <a:pt x="2535" y="313"/>
                </a:lnTo>
                <a:lnTo>
                  <a:pt x="2519" y="353"/>
                </a:lnTo>
                <a:lnTo>
                  <a:pt x="2519" y="361"/>
                </a:lnTo>
                <a:lnTo>
                  <a:pt x="2527" y="361"/>
                </a:lnTo>
                <a:lnTo>
                  <a:pt x="2535" y="361"/>
                </a:lnTo>
                <a:lnTo>
                  <a:pt x="2535" y="369"/>
                </a:lnTo>
                <a:lnTo>
                  <a:pt x="2542" y="369"/>
                </a:lnTo>
                <a:lnTo>
                  <a:pt x="2550" y="369"/>
                </a:lnTo>
                <a:lnTo>
                  <a:pt x="2550" y="377"/>
                </a:lnTo>
                <a:lnTo>
                  <a:pt x="2557" y="377"/>
                </a:lnTo>
                <a:lnTo>
                  <a:pt x="2550" y="377"/>
                </a:lnTo>
                <a:lnTo>
                  <a:pt x="2550" y="369"/>
                </a:lnTo>
                <a:lnTo>
                  <a:pt x="2542" y="369"/>
                </a:lnTo>
                <a:lnTo>
                  <a:pt x="2535" y="369"/>
                </a:lnTo>
                <a:lnTo>
                  <a:pt x="2535" y="361"/>
                </a:lnTo>
                <a:lnTo>
                  <a:pt x="2527" y="361"/>
                </a:lnTo>
                <a:lnTo>
                  <a:pt x="2519" y="361"/>
                </a:lnTo>
                <a:lnTo>
                  <a:pt x="2519" y="353"/>
                </a:lnTo>
                <a:lnTo>
                  <a:pt x="2482" y="433"/>
                </a:lnTo>
                <a:lnTo>
                  <a:pt x="2482" y="529"/>
                </a:lnTo>
                <a:lnTo>
                  <a:pt x="2648" y="553"/>
                </a:lnTo>
                <a:lnTo>
                  <a:pt x="2685" y="634"/>
                </a:lnTo>
                <a:lnTo>
                  <a:pt x="2519" y="690"/>
                </a:lnTo>
                <a:lnTo>
                  <a:pt x="2384" y="754"/>
                </a:lnTo>
                <a:lnTo>
                  <a:pt x="2255" y="810"/>
                </a:lnTo>
                <a:lnTo>
                  <a:pt x="2218" y="947"/>
                </a:lnTo>
                <a:lnTo>
                  <a:pt x="2014" y="971"/>
                </a:lnTo>
                <a:lnTo>
                  <a:pt x="1810" y="1107"/>
                </a:lnTo>
                <a:lnTo>
                  <a:pt x="1622" y="1011"/>
                </a:lnTo>
                <a:lnTo>
                  <a:pt x="1395" y="987"/>
                </a:lnTo>
                <a:lnTo>
                  <a:pt x="1230" y="810"/>
                </a:lnTo>
                <a:lnTo>
                  <a:pt x="988" y="730"/>
                </a:lnTo>
                <a:lnTo>
                  <a:pt x="966" y="529"/>
                </a:lnTo>
                <a:lnTo>
                  <a:pt x="837" y="457"/>
                </a:lnTo>
                <a:lnTo>
                  <a:pt x="822" y="433"/>
                </a:lnTo>
                <a:lnTo>
                  <a:pt x="784" y="457"/>
                </a:lnTo>
                <a:lnTo>
                  <a:pt x="724" y="473"/>
                </a:lnTo>
                <a:lnTo>
                  <a:pt x="686" y="594"/>
                </a:lnTo>
                <a:lnTo>
                  <a:pt x="536" y="570"/>
                </a:lnTo>
                <a:lnTo>
                  <a:pt x="498" y="770"/>
                </a:lnTo>
                <a:lnTo>
                  <a:pt x="370" y="794"/>
                </a:lnTo>
                <a:lnTo>
                  <a:pt x="332" y="1027"/>
                </a:lnTo>
                <a:lnTo>
                  <a:pt x="256" y="1107"/>
                </a:lnTo>
                <a:lnTo>
                  <a:pt x="166" y="1187"/>
                </a:lnTo>
                <a:lnTo>
                  <a:pt x="15" y="1227"/>
                </a:lnTo>
                <a:lnTo>
                  <a:pt x="0" y="1307"/>
                </a:lnTo>
                <a:lnTo>
                  <a:pt x="38" y="1340"/>
                </a:lnTo>
                <a:lnTo>
                  <a:pt x="53" y="1404"/>
                </a:lnTo>
                <a:lnTo>
                  <a:pt x="15" y="1420"/>
                </a:lnTo>
                <a:lnTo>
                  <a:pt x="53" y="1460"/>
                </a:lnTo>
                <a:lnTo>
                  <a:pt x="113" y="1484"/>
                </a:lnTo>
                <a:lnTo>
                  <a:pt x="166" y="1564"/>
                </a:lnTo>
                <a:lnTo>
                  <a:pt x="241" y="1564"/>
                </a:lnTo>
                <a:lnTo>
                  <a:pt x="355" y="1564"/>
                </a:lnTo>
                <a:lnTo>
                  <a:pt x="370" y="1596"/>
                </a:lnTo>
                <a:lnTo>
                  <a:pt x="294" y="1717"/>
                </a:lnTo>
                <a:lnTo>
                  <a:pt x="317" y="1781"/>
                </a:lnTo>
                <a:lnTo>
                  <a:pt x="279" y="1837"/>
                </a:lnTo>
                <a:lnTo>
                  <a:pt x="317" y="1917"/>
                </a:lnTo>
                <a:lnTo>
                  <a:pt x="407" y="1957"/>
                </a:lnTo>
                <a:lnTo>
                  <a:pt x="392" y="1973"/>
                </a:lnTo>
                <a:lnTo>
                  <a:pt x="430" y="1973"/>
                </a:lnTo>
                <a:lnTo>
                  <a:pt x="558" y="2037"/>
                </a:lnTo>
                <a:lnTo>
                  <a:pt x="671" y="2094"/>
                </a:lnTo>
                <a:lnTo>
                  <a:pt x="784" y="2118"/>
                </a:lnTo>
                <a:lnTo>
                  <a:pt x="822" y="2150"/>
                </a:lnTo>
                <a:lnTo>
                  <a:pt x="852" y="2150"/>
                </a:lnTo>
                <a:lnTo>
                  <a:pt x="913" y="2190"/>
                </a:lnTo>
                <a:lnTo>
                  <a:pt x="988" y="2190"/>
                </a:lnTo>
                <a:lnTo>
                  <a:pt x="1064" y="2190"/>
                </a:lnTo>
                <a:lnTo>
                  <a:pt x="1116" y="2118"/>
                </a:lnTo>
                <a:lnTo>
                  <a:pt x="1192" y="2053"/>
                </a:lnTo>
                <a:lnTo>
                  <a:pt x="1282" y="2053"/>
                </a:lnTo>
                <a:lnTo>
                  <a:pt x="1358" y="2118"/>
                </a:lnTo>
                <a:lnTo>
                  <a:pt x="1395" y="2118"/>
                </a:lnTo>
                <a:lnTo>
                  <a:pt x="1433" y="2134"/>
                </a:lnTo>
                <a:lnTo>
                  <a:pt x="1456" y="2230"/>
                </a:lnTo>
                <a:lnTo>
                  <a:pt x="1418" y="2350"/>
                </a:lnTo>
                <a:lnTo>
                  <a:pt x="1418" y="2390"/>
                </a:lnTo>
                <a:lnTo>
                  <a:pt x="1471" y="2406"/>
                </a:lnTo>
                <a:lnTo>
                  <a:pt x="1509" y="2471"/>
                </a:lnTo>
                <a:lnTo>
                  <a:pt x="1509" y="2511"/>
                </a:lnTo>
                <a:lnTo>
                  <a:pt x="1599" y="2551"/>
                </a:lnTo>
                <a:lnTo>
                  <a:pt x="1584" y="2567"/>
                </a:lnTo>
                <a:lnTo>
                  <a:pt x="1675" y="2551"/>
                </a:lnTo>
                <a:lnTo>
                  <a:pt x="1697" y="2471"/>
                </a:lnTo>
                <a:lnTo>
                  <a:pt x="1886" y="2471"/>
                </a:lnTo>
                <a:lnTo>
                  <a:pt x="1954" y="2527"/>
                </a:lnTo>
                <a:lnTo>
                  <a:pt x="1976" y="2591"/>
                </a:lnTo>
                <a:lnTo>
                  <a:pt x="2014" y="2567"/>
                </a:lnTo>
                <a:lnTo>
                  <a:pt x="2142" y="2647"/>
                </a:lnTo>
                <a:lnTo>
                  <a:pt x="2142" y="2591"/>
                </a:lnTo>
                <a:lnTo>
                  <a:pt x="2293" y="2527"/>
                </a:lnTo>
                <a:lnTo>
                  <a:pt x="2308" y="2511"/>
                </a:lnTo>
                <a:lnTo>
                  <a:pt x="2346" y="2487"/>
                </a:lnTo>
                <a:lnTo>
                  <a:pt x="2384" y="2511"/>
                </a:lnTo>
                <a:lnTo>
                  <a:pt x="2459" y="2471"/>
                </a:lnTo>
                <a:lnTo>
                  <a:pt x="2557" y="2406"/>
                </a:lnTo>
                <a:lnTo>
                  <a:pt x="2648" y="2334"/>
                </a:lnTo>
                <a:lnTo>
                  <a:pt x="2685" y="2254"/>
                </a:lnTo>
                <a:lnTo>
                  <a:pt x="2738" y="2174"/>
                </a:lnTo>
                <a:lnTo>
                  <a:pt x="2799" y="2053"/>
                </a:lnTo>
                <a:lnTo>
                  <a:pt x="2799" y="1997"/>
                </a:lnTo>
                <a:lnTo>
                  <a:pt x="2776" y="1957"/>
                </a:lnTo>
                <a:lnTo>
                  <a:pt x="2799" y="1893"/>
                </a:lnTo>
                <a:lnTo>
                  <a:pt x="2776" y="1821"/>
                </a:lnTo>
                <a:lnTo>
                  <a:pt x="2685" y="1620"/>
                </a:lnTo>
                <a:lnTo>
                  <a:pt x="2700" y="1596"/>
                </a:lnTo>
                <a:lnTo>
                  <a:pt x="2776" y="1500"/>
                </a:lnTo>
                <a:lnTo>
                  <a:pt x="2836" y="1484"/>
                </a:lnTo>
                <a:lnTo>
                  <a:pt x="2844" y="1476"/>
                </a:lnTo>
                <a:lnTo>
                  <a:pt x="2844" y="1460"/>
                </a:lnTo>
                <a:lnTo>
                  <a:pt x="2836" y="1444"/>
                </a:lnTo>
                <a:lnTo>
                  <a:pt x="2738" y="1420"/>
                </a:lnTo>
                <a:lnTo>
                  <a:pt x="2685" y="1444"/>
                </a:lnTo>
                <a:lnTo>
                  <a:pt x="2648" y="1420"/>
                </a:lnTo>
                <a:lnTo>
                  <a:pt x="2610" y="1364"/>
                </a:lnTo>
                <a:lnTo>
                  <a:pt x="2572" y="1324"/>
                </a:lnTo>
                <a:lnTo>
                  <a:pt x="2663" y="1283"/>
                </a:lnTo>
                <a:lnTo>
                  <a:pt x="2723" y="1227"/>
                </a:lnTo>
                <a:lnTo>
                  <a:pt x="2814" y="1163"/>
                </a:lnTo>
                <a:lnTo>
                  <a:pt x="2851" y="1163"/>
                </a:lnTo>
                <a:lnTo>
                  <a:pt x="2799" y="1243"/>
                </a:lnTo>
                <a:lnTo>
                  <a:pt x="2836" y="1283"/>
                </a:lnTo>
                <a:lnTo>
                  <a:pt x="2874" y="1267"/>
                </a:lnTo>
                <a:lnTo>
                  <a:pt x="2964" y="1227"/>
                </a:lnTo>
                <a:lnTo>
                  <a:pt x="2987" y="1139"/>
                </a:lnTo>
                <a:lnTo>
                  <a:pt x="3040" y="1091"/>
                </a:lnTo>
                <a:lnTo>
                  <a:pt x="3093" y="1131"/>
                </a:lnTo>
                <a:lnTo>
                  <a:pt x="3085" y="1051"/>
                </a:lnTo>
                <a:lnTo>
                  <a:pt x="3161" y="1003"/>
                </a:lnTo>
                <a:lnTo>
                  <a:pt x="3259" y="1019"/>
                </a:lnTo>
                <a:lnTo>
                  <a:pt x="3304" y="987"/>
                </a:lnTo>
                <a:lnTo>
                  <a:pt x="3357" y="1011"/>
                </a:lnTo>
                <a:lnTo>
                  <a:pt x="3394" y="794"/>
                </a:lnTo>
                <a:lnTo>
                  <a:pt x="3485" y="770"/>
                </a:lnTo>
                <a:lnTo>
                  <a:pt x="3583" y="473"/>
                </a:lnTo>
                <a:lnTo>
                  <a:pt x="3357" y="473"/>
                </a:lnTo>
                <a:close/>
              </a:path>
            </a:pathLst>
          </a:custGeom>
          <a:solidFill>
            <a:srgbClr val="a9c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6"/>
          <p:cNvSpPr/>
          <p:nvPr/>
        </p:nvSpPr>
        <p:spPr>
          <a:xfrm rot="20637000">
            <a:off x="2377800" y="1922040"/>
            <a:ext cx="2490840" cy="1625760"/>
          </a:xfrm>
          <a:custGeom>
            <a:avLst/>
            <a:gdLst/>
            <a:ahLst/>
            <a:rect l="l" t="t" r="r" b="b"/>
            <a:pathLst>
              <a:path w="1569" h="1024">
                <a:moveTo>
                  <a:pt x="755" y="572"/>
                </a:moveTo>
                <a:cubicBezTo>
                  <a:pt x="148" y="862"/>
                  <a:pt x="136" y="1024"/>
                  <a:pt x="68" y="886"/>
                </a:cubicBezTo>
                <a:cubicBezTo>
                  <a:pt x="0" y="747"/>
                  <a:pt x="280" y="381"/>
                  <a:pt x="637" y="218"/>
                </a:cubicBezTo>
                <a:cubicBezTo>
                  <a:pt x="994" y="55"/>
                  <a:pt x="1424" y="0"/>
                  <a:pt x="1496" y="160"/>
                </a:cubicBezTo>
                <a:cubicBezTo>
                  <a:pt x="1569" y="321"/>
                  <a:pt x="1361" y="283"/>
                  <a:pt x="755" y="572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37254"/>
                </a:srgbClr>
              </a:gs>
              <a:gs pos="100000">
                <a:srgbClr val="ffffff">
                  <a:alpha val="0"/>
                </a:srgbClr>
              </a:gs>
            </a:gsLst>
            <a:lin ang="63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9"/>
          <p:cNvSpPr/>
          <p:nvPr/>
        </p:nvSpPr>
        <p:spPr>
          <a:xfrm>
            <a:off x="4716360" y="6024600"/>
            <a:ext cx="236520" cy="212760"/>
          </a:xfrm>
          <a:custGeom>
            <a:avLst/>
            <a:gdLst/>
            <a:ahLst/>
            <a:rect l="l" t="t" r="r" b="b"/>
            <a:pathLst>
              <a:path w="343458" h="307774">
                <a:moveTo>
                  <a:pt x="0" y="218564"/>
                </a:moveTo>
                <a:lnTo>
                  <a:pt x="35684" y="107052"/>
                </a:lnTo>
                <a:lnTo>
                  <a:pt x="124894" y="57986"/>
                </a:lnTo>
                <a:lnTo>
                  <a:pt x="147196" y="26763"/>
                </a:lnTo>
                <a:lnTo>
                  <a:pt x="285471" y="22303"/>
                </a:lnTo>
                <a:lnTo>
                  <a:pt x="312234" y="0"/>
                </a:lnTo>
                <a:lnTo>
                  <a:pt x="338997" y="40145"/>
                </a:lnTo>
                <a:lnTo>
                  <a:pt x="343458" y="89210"/>
                </a:lnTo>
                <a:lnTo>
                  <a:pt x="298853" y="107052"/>
                </a:lnTo>
                <a:lnTo>
                  <a:pt x="307774" y="173959"/>
                </a:lnTo>
                <a:lnTo>
                  <a:pt x="156117" y="307774"/>
                </a:lnTo>
                <a:lnTo>
                  <a:pt x="31223" y="263169"/>
                </a:lnTo>
                <a:lnTo>
                  <a:pt x="0" y="218564"/>
                </a:lnTo>
                <a:close/>
              </a:path>
            </a:pathLst>
          </a:custGeom>
          <a:solidFill>
            <a:srgbClr val="a9cde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1"/>
          <p:cNvSpPr/>
          <p:nvPr/>
        </p:nvSpPr>
        <p:spPr>
          <a:xfrm>
            <a:off x="5697360" y="5407200"/>
            <a:ext cx="169920" cy="349200"/>
          </a:xfrm>
          <a:custGeom>
            <a:avLst/>
            <a:gdLst/>
            <a:ahLst/>
            <a:rect l="l" t="t" r="r" b="b"/>
            <a:pathLst>
              <a:path w="247650" h="504825">
                <a:moveTo>
                  <a:pt x="123825" y="504825"/>
                </a:moveTo>
                <a:lnTo>
                  <a:pt x="0" y="352425"/>
                </a:lnTo>
                <a:lnTo>
                  <a:pt x="0" y="247650"/>
                </a:lnTo>
                <a:lnTo>
                  <a:pt x="114300" y="57150"/>
                </a:lnTo>
                <a:lnTo>
                  <a:pt x="190500" y="0"/>
                </a:lnTo>
                <a:lnTo>
                  <a:pt x="247650" y="28575"/>
                </a:lnTo>
                <a:lnTo>
                  <a:pt x="209550" y="171450"/>
                </a:lnTo>
                <a:lnTo>
                  <a:pt x="209550" y="342900"/>
                </a:lnTo>
                <a:lnTo>
                  <a:pt x="171450" y="400050"/>
                </a:lnTo>
                <a:lnTo>
                  <a:pt x="123825" y="504825"/>
                </a:lnTo>
                <a:close/>
              </a:path>
            </a:pathLst>
          </a:custGeom>
          <a:solidFill>
            <a:srgbClr val="a9c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 it your own colour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1979640" y="1773360"/>
            <a:ext cx="5688000" cy="4201920"/>
          </a:xfrm>
          <a:custGeom>
            <a:avLst/>
            <a:gdLst/>
            <a:ahLst/>
            <a:rect l="l" t="t" r="r" b="b"/>
            <a:pathLst>
              <a:path w="3583" h="2647">
                <a:moveTo>
                  <a:pt x="3357" y="473"/>
                </a:moveTo>
                <a:lnTo>
                  <a:pt x="3357" y="473"/>
                </a:lnTo>
                <a:lnTo>
                  <a:pt x="3319" y="393"/>
                </a:lnTo>
                <a:lnTo>
                  <a:pt x="3168" y="353"/>
                </a:lnTo>
                <a:lnTo>
                  <a:pt x="2987" y="0"/>
                </a:lnTo>
                <a:lnTo>
                  <a:pt x="2814" y="0"/>
                </a:lnTo>
                <a:lnTo>
                  <a:pt x="2761" y="96"/>
                </a:lnTo>
                <a:lnTo>
                  <a:pt x="2648" y="313"/>
                </a:lnTo>
                <a:lnTo>
                  <a:pt x="2535" y="313"/>
                </a:lnTo>
                <a:lnTo>
                  <a:pt x="2519" y="353"/>
                </a:lnTo>
                <a:lnTo>
                  <a:pt x="2519" y="361"/>
                </a:lnTo>
                <a:lnTo>
                  <a:pt x="2527" y="361"/>
                </a:lnTo>
                <a:lnTo>
                  <a:pt x="2535" y="361"/>
                </a:lnTo>
                <a:lnTo>
                  <a:pt x="2535" y="369"/>
                </a:lnTo>
                <a:lnTo>
                  <a:pt x="2542" y="369"/>
                </a:lnTo>
                <a:lnTo>
                  <a:pt x="2550" y="369"/>
                </a:lnTo>
                <a:lnTo>
                  <a:pt x="2550" y="377"/>
                </a:lnTo>
                <a:lnTo>
                  <a:pt x="2557" y="377"/>
                </a:lnTo>
                <a:lnTo>
                  <a:pt x="2550" y="377"/>
                </a:lnTo>
                <a:lnTo>
                  <a:pt x="2550" y="369"/>
                </a:lnTo>
                <a:lnTo>
                  <a:pt x="2542" y="369"/>
                </a:lnTo>
                <a:lnTo>
                  <a:pt x="2535" y="369"/>
                </a:lnTo>
                <a:lnTo>
                  <a:pt x="2535" y="361"/>
                </a:lnTo>
                <a:lnTo>
                  <a:pt x="2527" y="361"/>
                </a:lnTo>
                <a:lnTo>
                  <a:pt x="2519" y="361"/>
                </a:lnTo>
                <a:lnTo>
                  <a:pt x="2519" y="353"/>
                </a:lnTo>
                <a:lnTo>
                  <a:pt x="2482" y="433"/>
                </a:lnTo>
                <a:lnTo>
                  <a:pt x="2482" y="529"/>
                </a:lnTo>
                <a:lnTo>
                  <a:pt x="2648" y="553"/>
                </a:lnTo>
                <a:lnTo>
                  <a:pt x="2685" y="634"/>
                </a:lnTo>
                <a:lnTo>
                  <a:pt x="2519" y="690"/>
                </a:lnTo>
                <a:lnTo>
                  <a:pt x="2384" y="754"/>
                </a:lnTo>
                <a:lnTo>
                  <a:pt x="2255" y="810"/>
                </a:lnTo>
                <a:lnTo>
                  <a:pt x="2218" y="947"/>
                </a:lnTo>
                <a:lnTo>
                  <a:pt x="2014" y="971"/>
                </a:lnTo>
                <a:lnTo>
                  <a:pt x="1810" y="1107"/>
                </a:lnTo>
                <a:lnTo>
                  <a:pt x="1622" y="1011"/>
                </a:lnTo>
                <a:lnTo>
                  <a:pt x="1395" y="987"/>
                </a:lnTo>
                <a:lnTo>
                  <a:pt x="1230" y="810"/>
                </a:lnTo>
                <a:lnTo>
                  <a:pt x="988" y="730"/>
                </a:lnTo>
                <a:lnTo>
                  <a:pt x="966" y="529"/>
                </a:lnTo>
                <a:lnTo>
                  <a:pt x="837" y="457"/>
                </a:lnTo>
                <a:lnTo>
                  <a:pt x="822" y="433"/>
                </a:lnTo>
                <a:lnTo>
                  <a:pt x="784" y="457"/>
                </a:lnTo>
                <a:lnTo>
                  <a:pt x="724" y="473"/>
                </a:lnTo>
                <a:lnTo>
                  <a:pt x="686" y="594"/>
                </a:lnTo>
                <a:lnTo>
                  <a:pt x="536" y="570"/>
                </a:lnTo>
                <a:lnTo>
                  <a:pt x="498" y="770"/>
                </a:lnTo>
                <a:lnTo>
                  <a:pt x="370" y="794"/>
                </a:lnTo>
                <a:lnTo>
                  <a:pt x="332" y="1027"/>
                </a:lnTo>
                <a:lnTo>
                  <a:pt x="256" y="1107"/>
                </a:lnTo>
                <a:lnTo>
                  <a:pt x="166" y="1187"/>
                </a:lnTo>
                <a:lnTo>
                  <a:pt x="15" y="1227"/>
                </a:lnTo>
                <a:lnTo>
                  <a:pt x="0" y="1307"/>
                </a:lnTo>
                <a:lnTo>
                  <a:pt x="38" y="1340"/>
                </a:lnTo>
                <a:lnTo>
                  <a:pt x="53" y="1404"/>
                </a:lnTo>
                <a:lnTo>
                  <a:pt x="15" y="1420"/>
                </a:lnTo>
                <a:lnTo>
                  <a:pt x="53" y="1460"/>
                </a:lnTo>
                <a:lnTo>
                  <a:pt x="113" y="1484"/>
                </a:lnTo>
                <a:lnTo>
                  <a:pt x="166" y="1564"/>
                </a:lnTo>
                <a:lnTo>
                  <a:pt x="241" y="1564"/>
                </a:lnTo>
                <a:lnTo>
                  <a:pt x="355" y="1564"/>
                </a:lnTo>
                <a:lnTo>
                  <a:pt x="370" y="1596"/>
                </a:lnTo>
                <a:lnTo>
                  <a:pt x="294" y="1717"/>
                </a:lnTo>
                <a:lnTo>
                  <a:pt x="317" y="1781"/>
                </a:lnTo>
                <a:lnTo>
                  <a:pt x="279" y="1837"/>
                </a:lnTo>
                <a:lnTo>
                  <a:pt x="317" y="1917"/>
                </a:lnTo>
                <a:lnTo>
                  <a:pt x="407" y="1957"/>
                </a:lnTo>
                <a:lnTo>
                  <a:pt x="392" y="1973"/>
                </a:lnTo>
                <a:lnTo>
                  <a:pt x="430" y="1973"/>
                </a:lnTo>
                <a:lnTo>
                  <a:pt x="558" y="2037"/>
                </a:lnTo>
                <a:lnTo>
                  <a:pt x="671" y="2094"/>
                </a:lnTo>
                <a:lnTo>
                  <a:pt x="784" y="2118"/>
                </a:lnTo>
                <a:lnTo>
                  <a:pt x="822" y="2150"/>
                </a:lnTo>
                <a:lnTo>
                  <a:pt x="852" y="2150"/>
                </a:lnTo>
                <a:lnTo>
                  <a:pt x="913" y="2190"/>
                </a:lnTo>
                <a:lnTo>
                  <a:pt x="988" y="2190"/>
                </a:lnTo>
                <a:lnTo>
                  <a:pt x="1064" y="2190"/>
                </a:lnTo>
                <a:lnTo>
                  <a:pt x="1116" y="2118"/>
                </a:lnTo>
                <a:lnTo>
                  <a:pt x="1192" y="2053"/>
                </a:lnTo>
                <a:lnTo>
                  <a:pt x="1282" y="2053"/>
                </a:lnTo>
                <a:lnTo>
                  <a:pt x="1358" y="2118"/>
                </a:lnTo>
                <a:lnTo>
                  <a:pt x="1395" y="2118"/>
                </a:lnTo>
                <a:lnTo>
                  <a:pt x="1433" y="2134"/>
                </a:lnTo>
                <a:lnTo>
                  <a:pt x="1456" y="2230"/>
                </a:lnTo>
                <a:lnTo>
                  <a:pt x="1418" y="2350"/>
                </a:lnTo>
                <a:lnTo>
                  <a:pt x="1418" y="2390"/>
                </a:lnTo>
                <a:lnTo>
                  <a:pt x="1471" y="2406"/>
                </a:lnTo>
                <a:lnTo>
                  <a:pt x="1509" y="2471"/>
                </a:lnTo>
                <a:lnTo>
                  <a:pt x="1509" y="2511"/>
                </a:lnTo>
                <a:lnTo>
                  <a:pt x="1599" y="2551"/>
                </a:lnTo>
                <a:lnTo>
                  <a:pt x="1584" y="2567"/>
                </a:lnTo>
                <a:lnTo>
                  <a:pt x="1675" y="2551"/>
                </a:lnTo>
                <a:lnTo>
                  <a:pt x="1697" y="2471"/>
                </a:lnTo>
                <a:lnTo>
                  <a:pt x="1886" y="2471"/>
                </a:lnTo>
                <a:lnTo>
                  <a:pt x="1954" y="2527"/>
                </a:lnTo>
                <a:lnTo>
                  <a:pt x="1976" y="2591"/>
                </a:lnTo>
                <a:lnTo>
                  <a:pt x="2014" y="2567"/>
                </a:lnTo>
                <a:lnTo>
                  <a:pt x="2142" y="2647"/>
                </a:lnTo>
                <a:lnTo>
                  <a:pt x="2142" y="2591"/>
                </a:lnTo>
                <a:lnTo>
                  <a:pt x="2293" y="2527"/>
                </a:lnTo>
                <a:lnTo>
                  <a:pt x="2308" y="2511"/>
                </a:lnTo>
                <a:lnTo>
                  <a:pt x="2346" y="2487"/>
                </a:lnTo>
                <a:lnTo>
                  <a:pt x="2384" y="2511"/>
                </a:lnTo>
                <a:lnTo>
                  <a:pt x="2459" y="2471"/>
                </a:lnTo>
                <a:lnTo>
                  <a:pt x="2557" y="2406"/>
                </a:lnTo>
                <a:lnTo>
                  <a:pt x="2648" y="2334"/>
                </a:lnTo>
                <a:lnTo>
                  <a:pt x="2685" y="2254"/>
                </a:lnTo>
                <a:lnTo>
                  <a:pt x="2738" y="2174"/>
                </a:lnTo>
                <a:lnTo>
                  <a:pt x="2799" y="2053"/>
                </a:lnTo>
                <a:lnTo>
                  <a:pt x="2799" y="1997"/>
                </a:lnTo>
                <a:lnTo>
                  <a:pt x="2776" y="1957"/>
                </a:lnTo>
                <a:lnTo>
                  <a:pt x="2799" y="1893"/>
                </a:lnTo>
                <a:lnTo>
                  <a:pt x="2776" y="1821"/>
                </a:lnTo>
                <a:lnTo>
                  <a:pt x="2685" y="1620"/>
                </a:lnTo>
                <a:lnTo>
                  <a:pt x="2700" y="1596"/>
                </a:lnTo>
                <a:lnTo>
                  <a:pt x="2776" y="1500"/>
                </a:lnTo>
                <a:lnTo>
                  <a:pt x="2836" y="1484"/>
                </a:lnTo>
                <a:lnTo>
                  <a:pt x="2844" y="1476"/>
                </a:lnTo>
                <a:lnTo>
                  <a:pt x="2844" y="1460"/>
                </a:lnTo>
                <a:lnTo>
                  <a:pt x="2836" y="1444"/>
                </a:lnTo>
                <a:lnTo>
                  <a:pt x="2738" y="1420"/>
                </a:lnTo>
                <a:lnTo>
                  <a:pt x="2685" y="1444"/>
                </a:lnTo>
                <a:lnTo>
                  <a:pt x="2648" y="1420"/>
                </a:lnTo>
                <a:lnTo>
                  <a:pt x="2610" y="1364"/>
                </a:lnTo>
                <a:lnTo>
                  <a:pt x="2572" y="1324"/>
                </a:lnTo>
                <a:lnTo>
                  <a:pt x="2663" y="1283"/>
                </a:lnTo>
                <a:lnTo>
                  <a:pt x="2723" y="1227"/>
                </a:lnTo>
                <a:lnTo>
                  <a:pt x="2814" y="1163"/>
                </a:lnTo>
                <a:lnTo>
                  <a:pt x="2851" y="1163"/>
                </a:lnTo>
                <a:lnTo>
                  <a:pt x="2799" y="1243"/>
                </a:lnTo>
                <a:lnTo>
                  <a:pt x="2836" y="1283"/>
                </a:lnTo>
                <a:lnTo>
                  <a:pt x="2874" y="1267"/>
                </a:lnTo>
                <a:lnTo>
                  <a:pt x="2964" y="1227"/>
                </a:lnTo>
                <a:lnTo>
                  <a:pt x="2987" y="1139"/>
                </a:lnTo>
                <a:lnTo>
                  <a:pt x="3040" y="1091"/>
                </a:lnTo>
                <a:lnTo>
                  <a:pt x="3093" y="1131"/>
                </a:lnTo>
                <a:lnTo>
                  <a:pt x="3085" y="1051"/>
                </a:lnTo>
                <a:lnTo>
                  <a:pt x="3161" y="1003"/>
                </a:lnTo>
                <a:lnTo>
                  <a:pt x="3259" y="1019"/>
                </a:lnTo>
                <a:lnTo>
                  <a:pt x="3304" y="987"/>
                </a:lnTo>
                <a:lnTo>
                  <a:pt x="3357" y="1011"/>
                </a:lnTo>
                <a:lnTo>
                  <a:pt x="3394" y="794"/>
                </a:lnTo>
                <a:lnTo>
                  <a:pt x="3485" y="770"/>
                </a:lnTo>
                <a:lnTo>
                  <a:pt x="3583" y="473"/>
                </a:lnTo>
                <a:lnTo>
                  <a:pt x="3357" y="473"/>
                </a:lnTo>
                <a:close/>
              </a:path>
            </a:pathLst>
          </a:custGeom>
          <a:solidFill>
            <a:srgbClr val="ff40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"/>
          <p:cNvSpPr/>
          <p:nvPr/>
        </p:nvSpPr>
        <p:spPr>
          <a:xfrm>
            <a:off x="5338800" y="6021360"/>
            <a:ext cx="312840" cy="281160"/>
          </a:xfrm>
          <a:custGeom>
            <a:avLst/>
            <a:gdLst/>
            <a:ahLst/>
            <a:rect l="l" t="t" r="r" b="b"/>
            <a:pathLst>
              <a:path w="343458" h="307774">
                <a:moveTo>
                  <a:pt x="0" y="218564"/>
                </a:moveTo>
                <a:lnTo>
                  <a:pt x="35684" y="107052"/>
                </a:lnTo>
                <a:lnTo>
                  <a:pt x="124894" y="57986"/>
                </a:lnTo>
                <a:lnTo>
                  <a:pt x="147196" y="26763"/>
                </a:lnTo>
                <a:lnTo>
                  <a:pt x="285471" y="22303"/>
                </a:lnTo>
                <a:lnTo>
                  <a:pt x="312234" y="0"/>
                </a:lnTo>
                <a:lnTo>
                  <a:pt x="338997" y="40145"/>
                </a:lnTo>
                <a:lnTo>
                  <a:pt x="343458" y="89210"/>
                </a:lnTo>
                <a:lnTo>
                  <a:pt x="298853" y="107052"/>
                </a:lnTo>
                <a:lnTo>
                  <a:pt x="307774" y="173959"/>
                </a:lnTo>
                <a:lnTo>
                  <a:pt x="156117" y="307774"/>
                </a:lnTo>
                <a:lnTo>
                  <a:pt x="31223" y="263169"/>
                </a:lnTo>
                <a:lnTo>
                  <a:pt x="0" y="218564"/>
                </a:lnTo>
                <a:close/>
              </a:path>
            </a:pathLst>
          </a:custGeom>
          <a:solidFill>
            <a:srgbClr val="ff40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"/>
          <p:cNvSpPr/>
          <p:nvPr/>
        </p:nvSpPr>
        <p:spPr>
          <a:xfrm>
            <a:off x="6580080" y="5373720"/>
            <a:ext cx="223920" cy="458640"/>
          </a:xfrm>
          <a:custGeom>
            <a:avLst/>
            <a:gdLst/>
            <a:ahLst/>
            <a:rect l="l" t="t" r="r" b="b"/>
            <a:pathLst>
              <a:path w="247650" h="504825">
                <a:moveTo>
                  <a:pt x="123825" y="504825"/>
                </a:moveTo>
                <a:lnTo>
                  <a:pt x="0" y="352425"/>
                </a:lnTo>
                <a:lnTo>
                  <a:pt x="0" y="247650"/>
                </a:lnTo>
                <a:lnTo>
                  <a:pt x="114300" y="57150"/>
                </a:lnTo>
                <a:lnTo>
                  <a:pt x="190500" y="0"/>
                </a:lnTo>
                <a:lnTo>
                  <a:pt x="247650" y="28575"/>
                </a:lnTo>
                <a:lnTo>
                  <a:pt x="209550" y="171450"/>
                </a:lnTo>
                <a:lnTo>
                  <a:pt x="209550" y="342900"/>
                </a:lnTo>
                <a:lnTo>
                  <a:pt x="171450" y="400050"/>
                </a:lnTo>
                <a:lnTo>
                  <a:pt x="123825" y="504825"/>
                </a:lnTo>
                <a:close/>
              </a:path>
            </a:pathLst>
          </a:custGeom>
          <a:solidFill>
            <a:srgbClr val="c000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720" y="127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vector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1979640" y="1773360"/>
            <a:ext cx="5688000" cy="4201920"/>
          </a:xfrm>
          <a:custGeom>
            <a:avLst/>
            <a:gdLst/>
            <a:ahLst/>
            <a:rect l="l" t="t" r="r" b="b"/>
            <a:pathLst>
              <a:path w="3583" h="2647">
                <a:moveTo>
                  <a:pt x="3357" y="473"/>
                </a:moveTo>
                <a:lnTo>
                  <a:pt x="3357" y="473"/>
                </a:lnTo>
                <a:lnTo>
                  <a:pt x="3319" y="393"/>
                </a:lnTo>
                <a:lnTo>
                  <a:pt x="3168" y="353"/>
                </a:lnTo>
                <a:lnTo>
                  <a:pt x="2987" y="0"/>
                </a:lnTo>
                <a:lnTo>
                  <a:pt x="2814" y="0"/>
                </a:lnTo>
                <a:lnTo>
                  <a:pt x="2761" y="96"/>
                </a:lnTo>
                <a:lnTo>
                  <a:pt x="2648" y="313"/>
                </a:lnTo>
                <a:lnTo>
                  <a:pt x="2535" y="313"/>
                </a:lnTo>
                <a:lnTo>
                  <a:pt x="2519" y="353"/>
                </a:lnTo>
                <a:lnTo>
                  <a:pt x="2519" y="361"/>
                </a:lnTo>
                <a:lnTo>
                  <a:pt x="2527" y="361"/>
                </a:lnTo>
                <a:lnTo>
                  <a:pt x="2535" y="361"/>
                </a:lnTo>
                <a:lnTo>
                  <a:pt x="2535" y="369"/>
                </a:lnTo>
                <a:lnTo>
                  <a:pt x="2542" y="369"/>
                </a:lnTo>
                <a:lnTo>
                  <a:pt x="2550" y="369"/>
                </a:lnTo>
                <a:lnTo>
                  <a:pt x="2550" y="377"/>
                </a:lnTo>
                <a:lnTo>
                  <a:pt x="2557" y="377"/>
                </a:lnTo>
                <a:lnTo>
                  <a:pt x="2550" y="377"/>
                </a:lnTo>
                <a:lnTo>
                  <a:pt x="2550" y="369"/>
                </a:lnTo>
                <a:lnTo>
                  <a:pt x="2542" y="369"/>
                </a:lnTo>
                <a:lnTo>
                  <a:pt x="2535" y="369"/>
                </a:lnTo>
                <a:lnTo>
                  <a:pt x="2535" y="361"/>
                </a:lnTo>
                <a:lnTo>
                  <a:pt x="2527" y="361"/>
                </a:lnTo>
                <a:lnTo>
                  <a:pt x="2519" y="361"/>
                </a:lnTo>
                <a:lnTo>
                  <a:pt x="2519" y="353"/>
                </a:lnTo>
                <a:lnTo>
                  <a:pt x="2482" y="433"/>
                </a:lnTo>
                <a:lnTo>
                  <a:pt x="2482" y="529"/>
                </a:lnTo>
                <a:lnTo>
                  <a:pt x="2648" y="553"/>
                </a:lnTo>
                <a:lnTo>
                  <a:pt x="2685" y="634"/>
                </a:lnTo>
                <a:lnTo>
                  <a:pt x="2519" y="690"/>
                </a:lnTo>
                <a:lnTo>
                  <a:pt x="2384" y="754"/>
                </a:lnTo>
                <a:lnTo>
                  <a:pt x="2255" y="810"/>
                </a:lnTo>
                <a:lnTo>
                  <a:pt x="2218" y="947"/>
                </a:lnTo>
                <a:lnTo>
                  <a:pt x="2014" y="971"/>
                </a:lnTo>
                <a:lnTo>
                  <a:pt x="1810" y="1107"/>
                </a:lnTo>
                <a:lnTo>
                  <a:pt x="1622" y="1011"/>
                </a:lnTo>
                <a:lnTo>
                  <a:pt x="1395" y="987"/>
                </a:lnTo>
                <a:lnTo>
                  <a:pt x="1230" y="810"/>
                </a:lnTo>
                <a:lnTo>
                  <a:pt x="988" y="730"/>
                </a:lnTo>
                <a:lnTo>
                  <a:pt x="966" y="529"/>
                </a:lnTo>
                <a:lnTo>
                  <a:pt x="837" y="457"/>
                </a:lnTo>
                <a:lnTo>
                  <a:pt x="822" y="433"/>
                </a:lnTo>
                <a:lnTo>
                  <a:pt x="784" y="457"/>
                </a:lnTo>
                <a:lnTo>
                  <a:pt x="724" y="473"/>
                </a:lnTo>
                <a:lnTo>
                  <a:pt x="686" y="594"/>
                </a:lnTo>
                <a:lnTo>
                  <a:pt x="536" y="570"/>
                </a:lnTo>
                <a:lnTo>
                  <a:pt x="498" y="770"/>
                </a:lnTo>
                <a:lnTo>
                  <a:pt x="370" y="794"/>
                </a:lnTo>
                <a:lnTo>
                  <a:pt x="332" y="1027"/>
                </a:lnTo>
                <a:lnTo>
                  <a:pt x="256" y="1107"/>
                </a:lnTo>
                <a:lnTo>
                  <a:pt x="166" y="1187"/>
                </a:lnTo>
                <a:lnTo>
                  <a:pt x="15" y="1227"/>
                </a:lnTo>
                <a:lnTo>
                  <a:pt x="0" y="1307"/>
                </a:lnTo>
                <a:lnTo>
                  <a:pt x="38" y="1340"/>
                </a:lnTo>
                <a:lnTo>
                  <a:pt x="53" y="1404"/>
                </a:lnTo>
                <a:lnTo>
                  <a:pt x="15" y="1420"/>
                </a:lnTo>
                <a:lnTo>
                  <a:pt x="53" y="1460"/>
                </a:lnTo>
                <a:lnTo>
                  <a:pt x="113" y="1484"/>
                </a:lnTo>
                <a:lnTo>
                  <a:pt x="166" y="1564"/>
                </a:lnTo>
                <a:lnTo>
                  <a:pt x="241" y="1564"/>
                </a:lnTo>
                <a:lnTo>
                  <a:pt x="355" y="1564"/>
                </a:lnTo>
                <a:lnTo>
                  <a:pt x="370" y="1596"/>
                </a:lnTo>
                <a:lnTo>
                  <a:pt x="294" y="1717"/>
                </a:lnTo>
                <a:lnTo>
                  <a:pt x="317" y="1781"/>
                </a:lnTo>
                <a:lnTo>
                  <a:pt x="279" y="1837"/>
                </a:lnTo>
                <a:lnTo>
                  <a:pt x="317" y="1917"/>
                </a:lnTo>
                <a:lnTo>
                  <a:pt x="407" y="1957"/>
                </a:lnTo>
                <a:lnTo>
                  <a:pt x="392" y="1973"/>
                </a:lnTo>
                <a:lnTo>
                  <a:pt x="430" y="1973"/>
                </a:lnTo>
                <a:lnTo>
                  <a:pt x="558" y="2037"/>
                </a:lnTo>
                <a:lnTo>
                  <a:pt x="671" y="2094"/>
                </a:lnTo>
                <a:lnTo>
                  <a:pt x="784" y="2118"/>
                </a:lnTo>
                <a:lnTo>
                  <a:pt x="822" y="2150"/>
                </a:lnTo>
                <a:lnTo>
                  <a:pt x="852" y="2150"/>
                </a:lnTo>
                <a:lnTo>
                  <a:pt x="913" y="2190"/>
                </a:lnTo>
                <a:lnTo>
                  <a:pt x="988" y="2190"/>
                </a:lnTo>
                <a:lnTo>
                  <a:pt x="1064" y="2190"/>
                </a:lnTo>
                <a:lnTo>
                  <a:pt x="1116" y="2118"/>
                </a:lnTo>
                <a:lnTo>
                  <a:pt x="1192" y="2053"/>
                </a:lnTo>
                <a:lnTo>
                  <a:pt x="1282" y="2053"/>
                </a:lnTo>
                <a:lnTo>
                  <a:pt x="1358" y="2118"/>
                </a:lnTo>
                <a:lnTo>
                  <a:pt x="1395" y="2118"/>
                </a:lnTo>
                <a:lnTo>
                  <a:pt x="1433" y="2134"/>
                </a:lnTo>
                <a:lnTo>
                  <a:pt x="1456" y="2230"/>
                </a:lnTo>
                <a:lnTo>
                  <a:pt x="1418" y="2350"/>
                </a:lnTo>
                <a:lnTo>
                  <a:pt x="1418" y="2390"/>
                </a:lnTo>
                <a:lnTo>
                  <a:pt x="1471" y="2406"/>
                </a:lnTo>
                <a:lnTo>
                  <a:pt x="1509" y="2471"/>
                </a:lnTo>
                <a:lnTo>
                  <a:pt x="1509" y="2511"/>
                </a:lnTo>
                <a:lnTo>
                  <a:pt x="1599" y="2551"/>
                </a:lnTo>
                <a:lnTo>
                  <a:pt x="1584" y="2567"/>
                </a:lnTo>
                <a:lnTo>
                  <a:pt x="1675" y="2551"/>
                </a:lnTo>
                <a:lnTo>
                  <a:pt x="1697" y="2471"/>
                </a:lnTo>
                <a:lnTo>
                  <a:pt x="1886" y="2471"/>
                </a:lnTo>
                <a:lnTo>
                  <a:pt x="1954" y="2527"/>
                </a:lnTo>
                <a:lnTo>
                  <a:pt x="1976" y="2591"/>
                </a:lnTo>
                <a:lnTo>
                  <a:pt x="2014" y="2567"/>
                </a:lnTo>
                <a:lnTo>
                  <a:pt x="2142" y="2647"/>
                </a:lnTo>
                <a:lnTo>
                  <a:pt x="2142" y="2591"/>
                </a:lnTo>
                <a:lnTo>
                  <a:pt x="2293" y="2527"/>
                </a:lnTo>
                <a:lnTo>
                  <a:pt x="2308" y="2511"/>
                </a:lnTo>
                <a:lnTo>
                  <a:pt x="2346" y="2487"/>
                </a:lnTo>
                <a:lnTo>
                  <a:pt x="2384" y="2511"/>
                </a:lnTo>
                <a:lnTo>
                  <a:pt x="2459" y="2471"/>
                </a:lnTo>
                <a:lnTo>
                  <a:pt x="2557" y="2406"/>
                </a:lnTo>
                <a:lnTo>
                  <a:pt x="2648" y="2334"/>
                </a:lnTo>
                <a:lnTo>
                  <a:pt x="2685" y="2254"/>
                </a:lnTo>
                <a:lnTo>
                  <a:pt x="2738" y="2174"/>
                </a:lnTo>
                <a:lnTo>
                  <a:pt x="2799" y="2053"/>
                </a:lnTo>
                <a:lnTo>
                  <a:pt x="2799" y="1997"/>
                </a:lnTo>
                <a:lnTo>
                  <a:pt x="2776" y="1957"/>
                </a:lnTo>
                <a:lnTo>
                  <a:pt x="2799" y="1893"/>
                </a:lnTo>
                <a:lnTo>
                  <a:pt x="2776" y="1821"/>
                </a:lnTo>
                <a:lnTo>
                  <a:pt x="2685" y="1620"/>
                </a:lnTo>
                <a:lnTo>
                  <a:pt x="2700" y="1596"/>
                </a:lnTo>
                <a:lnTo>
                  <a:pt x="2776" y="1500"/>
                </a:lnTo>
                <a:lnTo>
                  <a:pt x="2836" y="1484"/>
                </a:lnTo>
                <a:lnTo>
                  <a:pt x="2844" y="1476"/>
                </a:lnTo>
                <a:lnTo>
                  <a:pt x="2844" y="1460"/>
                </a:lnTo>
                <a:lnTo>
                  <a:pt x="2836" y="1444"/>
                </a:lnTo>
                <a:lnTo>
                  <a:pt x="2738" y="1420"/>
                </a:lnTo>
                <a:lnTo>
                  <a:pt x="2685" y="1444"/>
                </a:lnTo>
                <a:lnTo>
                  <a:pt x="2648" y="1420"/>
                </a:lnTo>
                <a:lnTo>
                  <a:pt x="2610" y="1364"/>
                </a:lnTo>
                <a:lnTo>
                  <a:pt x="2572" y="1324"/>
                </a:lnTo>
                <a:lnTo>
                  <a:pt x="2663" y="1283"/>
                </a:lnTo>
                <a:lnTo>
                  <a:pt x="2723" y="1227"/>
                </a:lnTo>
                <a:lnTo>
                  <a:pt x="2814" y="1163"/>
                </a:lnTo>
                <a:lnTo>
                  <a:pt x="2851" y="1163"/>
                </a:lnTo>
                <a:lnTo>
                  <a:pt x="2799" y="1243"/>
                </a:lnTo>
                <a:lnTo>
                  <a:pt x="2836" y="1283"/>
                </a:lnTo>
                <a:lnTo>
                  <a:pt x="2874" y="1267"/>
                </a:lnTo>
                <a:lnTo>
                  <a:pt x="2964" y="1227"/>
                </a:lnTo>
                <a:lnTo>
                  <a:pt x="2987" y="1139"/>
                </a:lnTo>
                <a:lnTo>
                  <a:pt x="3040" y="1091"/>
                </a:lnTo>
                <a:lnTo>
                  <a:pt x="3093" y="1131"/>
                </a:lnTo>
                <a:lnTo>
                  <a:pt x="3085" y="1051"/>
                </a:lnTo>
                <a:lnTo>
                  <a:pt x="3161" y="1003"/>
                </a:lnTo>
                <a:lnTo>
                  <a:pt x="3259" y="1019"/>
                </a:lnTo>
                <a:lnTo>
                  <a:pt x="3304" y="987"/>
                </a:lnTo>
                <a:lnTo>
                  <a:pt x="3357" y="1011"/>
                </a:lnTo>
                <a:lnTo>
                  <a:pt x="3394" y="794"/>
                </a:lnTo>
                <a:lnTo>
                  <a:pt x="3485" y="770"/>
                </a:lnTo>
                <a:lnTo>
                  <a:pt x="3583" y="473"/>
                </a:lnTo>
                <a:lnTo>
                  <a:pt x="3357" y="47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"/>
          <p:cNvSpPr/>
          <p:nvPr/>
        </p:nvSpPr>
        <p:spPr>
          <a:xfrm>
            <a:off x="5338800" y="6021360"/>
            <a:ext cx="312840" cy="281160"/>
          </a:xfrm>
          <a:custGeom>
            <a:avLst/>
            <a:gdLst/>
            <a:ahLst/>
            <a:rect l="l" t="t" r="r" b="b"/>
            <a:pathLst>
              <a:path w="343458" h="307774">
                <a:moveTo>
                  <a:pt x="0" y="218564"/>
                </a:moveTo>
                <a:lnTo>
                  <a:pt x="35684" y="107052"/>
                </a:lnTo>
                <a:lnTo>
                  <a:pt x="124894" y="57986"/>
                </a:lnTo>
                <a:lnTo>
                  <a:pt x="147196" y="26763"/>
                </a:lnTo>
                <a:lnTo>
                  <a:pt x="285471" y="22303"/>
                </a:lnTo>
                <a:lnTo>
                  <a:pt x="312234" y="0"/>
                </a:lnTo>
                <a:lnTo>
                  <a:pt x="338997" y="40145"/>
                </a:lnTo>
                <a:lnTo>
                  <a:pt x="343458" y="89210"/>
                </a:lnTo>
                <a:lnTo>
                  <a:pt x="298853" y="107052"/>
                </a:lnTo>
                <a:lnTo>
                  <a:pt x="307774" y="173959"/>
                </a:lnTo>
                <a:lnTo>
                  <a:pt x="156117" y="307774"/>
                </a:lnTo>
                <a:lnTo>
                  <a:pt x="31223" y="263169"/>
                </a:lnTo>
                <a:lnTo>
                  <a:pt x="0" y="21856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7"/>
          <p:cNvSpPr/>
          <p:nvPr/>
        </p:nvSpPr>
        <p:spPr>
          <a:xfrm>
            <a:off x="6580080" y="5373720"/>
            <a:ext cx="223920" cy="458640"/>
          </a:xfrm>
          <a:custGeom>
            <a:avLst/>
            <a:gdLst/>
            <a:ahLst/>
            <a:rect l="l" t="t" r="r" b="b"/>
            <a:pathLst>
              <a:path w="247650" h="504825">
                <a:moveTo>
                  <a:pt x="123825" y="504825"/>
                </a:moveTo>
                <a:lnTo>
                  <a:pt x="0" y="352425"/>
                </a:lnTo>
                <a:lnTo>
                  <a:pt x="0" y="247650"/>
                </a:lnTo>
                <a:lnTo>
                  <a:pt x="114300" y="57150"/>
                </a:lnTo>
                <a:lnTo>
                  <a:pt x="190500" y="0"/>
                </a:lnTo>
                <a:lnTo>
                  <a:pt x="247650" y="28575"/>
                </a:lnTo>
                <a:lnTo>
                  <a:pt x="209550" y="171450"/>
                </a:lnTo>
                <a:lnTo>
                  <a:pt x="209550" y="342900"/>
                </a:lnTo>
                <a:lnTo>
                  <a:pt x="171450" y="400050"/>
                </a:lnTo>
                <a:lnTo>
                  <a:pt x="123825" y="50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B19C-4AFF-4EF4-9D47-2032322CAA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09:17:0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10:58Z</dcterms:modified>
  <cp:revision>6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