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34CB-8A4A-46F7-A794-16DA25E0D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328E-ABFA-4AB0-A43F-60D0176BD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24D8-DB71-4955-8DF3-BC2587703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4799-9D5A-45A9-8DBF-316CA60FD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012F5-ABC1-4380-ACB5-F9B3C41D4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41A2F-6EC8-41FF-9883-12CD49C2C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6AD74-419F-489B-95EE-CC9805403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14CDA-54F7-4061-874D-D026F13C8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59A7F-32D0-4992-9B99-7ECFB8655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5EB2D-BD3C-4776-84D6-CBC0FC541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794A9-87B1-4BCB-9BB8-9A8399532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248A-E8B1-41FB-9AB8-B473EA11B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F702D-C869-43AD-8E72-EA7A03BA3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9ECCA-58D2-4ACF-BCAB-792136429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EEE6B-74BE-4EE9-84AA-6C96B8244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0DC40-4AA9-4CE8-8D0D-A7C88A4D2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A797C-999A-4EFA-8F87-834915F69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7167-8714-40CA-94DE-86BD6F09E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FDC8-8ACC-4B82-B297-5474B0C58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06A8-5B52-44F7-9477-944B17890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95FA-A3FC-4CCD-9458-108341426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EA67-1806-4213-831E-092A2F29F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FD01-045B-49F8-841D-D75BFB243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8D0F-F13E-49A0-BD23-0CFFD1450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7CE06-95BE-41A5-9654-67A8DB44025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0" descr="plant"/>
          <p:cNvPicPr/>
          <p:nvPr/>
        </p:nvPicPr>
        <p:blipFill>
          <a:blip r:embed="rId3"/>
          <a:stretch/>
        </p:blipFill>
        <p:spPr>
          <a:xfrm>
            <a:off x="5257800" y="2286000"/>
            <a:ext cx="4240080" cy="47466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EDADA-30D6-4F69-A2A4-48A5B6FDC52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74760" y="836280"/>
            <a:ext cx="7221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4d"/>
                </a:solidFill>
                <a:latin typeface="方正综艺_GBK"/>
                <a:ea typeface="方正综艺_GBK"/>
              </a:rPr>
              <a:t>展花画通用</a:t>
            </a:r>
            <a:r>
              <a:rPr b="0" lang="en-US" sz="4000" spc="-1" strike="noStrike">
                <a:solidFill>
                  <a:srgbClr val="00664d"/>
                </a:solidFill>
                <a:latin typeface="方正综艺_GBK"/>
                <a:ea typeface="方正综艺_GBK"/>
              </a:rPr>
              <a:t>PPT</a:t>
            </a:r>
            <a:r>
              <a:rPr b="0" lang="zh-CN" sz="4000" spc="-1" strike="noStrike">
                <a:solidFill>
                  <a:srgbClr val="00664d"/>
                </a:solidFill>
                <a:latin typeface="方正综艺_GBK"/>
                <a:ea typeface="方正综艺_GBK"/>
              </a:rPr>
              <a:t>模板完整版下载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000000"/>
              </a:solidFill>
              <a:latin typeface="Verdana"/>
              <a:ea typeface="宋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  <a:ea typeface="宋体"/>
              </a:rPr>
              <a:t>Botany Print Page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000000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000000"/>
              </a:solidFill>
              <a:latin typeface="Verdana"/>
              <a:ea typeface="宋体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179280" y="652320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2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e2a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botany_transitional"/>
          <p:cNvPicPr/>
          <p:nvPr/>
        </p:nvPicPr>
        <p:blipFill>
          <a:blip r:embed="rId1"/>
          <a:stretch/>
        </p:blipFill>
        <p:spPr>
          <a:xfrm>
            <a:off x="685800" y="609480"/>
            <a:ext cx="2362320" cy="18907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botany_transitional2"/>
          <p:cNvPicPr/>
          <p:nvPr/>
        </p:nvPicPr>
        <p:blipFill>
          <a:blip r:embed="rId2"/>
          <a:stretch/>
        </p:blipFill>
        <p:spPr>
          <a:xfrm>
            <a:off x="685800" y="2606760"/>
            <a:ext cx="2362320" cy="18889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BOTANY1"/>
          <p:cNvPicPr/>
          <p:nvPr/>
        </p:nvPicPr>
        <p:blipFill>
          <a:blip r:embed="rId3"/>
          <a:stretch/>
        </p:blipFill>
        <p:spPr>
          <a:xfrm>
            <a:off x="685800" y="4587840"/>
            <a:ext cx="2362320" cy="18892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BOTANY2"/>
          <p:cNvPicPr/>
          <p:nvPr/>
        </p:nvPicPr>
        <p:blipFill>
          <a:blip r:embed="rId4"/>
          <a:stretch/>
        </p:blipFill>
        <p:spPr>
          <a:xfrm>
            <a:off x="3276720" y="609480"/>
            <a:ext cx="2361960" cy="18892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BOTANY3"/>
          <p:cNvPicPr/>
          <p:nvPr/>
        </p:nvPicPr>
        <p:blipFill>
          <a:blip r:embed="rId5"/>
          <a:stretch/>
        </p:blipFill>
        <p:spPr>
          <a:xfrm>
            <a:off x="3276720" y="2606760"/>
            <a:ext cx="2361960" cy="18889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7" descr="PLANT"/>
          <p:cNvPicPr/>
          <p:nvPr/>
        </p:nvPicPr>
        <p:blipFill>
          <a:blip r:embed="rId6"/>
          <a:stretch/>
        </p:blipFill>
        <p:spPr>
          <a:xfrm>
            <a:off x="5695920" y="609480"/>
            <a:ext cx="3448080" cy="38592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8"/>
          <p:cNvSpPr/>
          <p:nvPr/>
        </p:nvSpPr>
        <p:spPr>
          <a:xfrm>
            <a:off x="3429000" y="5105520"/>
            <a:ext cx="5334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Botany Elements Page – Use these elements to customize template if desi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13:24:34Z</dcterms:created>
  <dc:creator>User</dc:creator>
  <dc:description/>
  <dc:language>en-US</dc:language>
  <cp:lastModifiedBy>王玉清</cp:lastModifiedBy>
  <dcterms:modified xsi:type="dcterms:W3CDTF">2016-02-22T03:26:49Z</dcterms:modified>
  <cp:revision>4</cp:revision>
  <dc:subject/>
  <dc:title>Botany Presentation</dc:title>
</cp:coreProperties>
</file>