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B13-45D5-456F-A61B-DD8EC1DE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C31-AE90-4C18-BC74-58101E2D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8A9-7611-4EC9-A130-E51D911F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B1B-6BC8-4557-8446-C0EE1954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7610-F547-432A-AA6E-C69C4E98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B437-5123-4EA2-AC5D-25E952E9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A77-12E1-4686-89DE-6E23B373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34C5-5710-47D8-86F7-BC65BC45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945C-A762-49DB-9E1E-FD4A2802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A194-588F-480F-AA47-4AA14D8C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ED9E-3E26-4A4F-AEF7-72A4030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CB2-92FD-4D4A-AE75-E51DDEE4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F9DB-EF64-4092-9437-7A07B239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9DE2-BA04-48D2-853E-4866D184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55D4-7A6F-41EA-BCC7-B14630C3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777F-4422-4317-96A9-B0F1D8AD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6F48-1653-4A0A-A8A9-3DE9A373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39D-4057-43D1-9199-DD74E12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87A-CFE4-4C5A-A08C-D6605115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6A9-5D37-4BE9-BFE7-B6E2690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B86-0E8A-47C3-91B1-43927665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E2C-9D4F-4C93-9575-F1D1C54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90B-3B19-4765-9EF6-9681E1E0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E29-2269-46AB-A169-B98F6FF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483D-80DB-4F73-AC40-FE468C67F8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7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鱼不愚\桌面\图片1.png"/>
          <p:cNvPicPr/>
          <p:nvPr/>
        </p:nvPicPr>
        <p:blipFill>
          <a:blip r:embed="rId4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81BC-7889-4EB8-88B6-860F8F0937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469800" y="415116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Calibri"/>
              </a:rPr>
              <a:t>LOGO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1960920" y="1125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炫丽线条立体视觉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7375e"/>
              </a:solidFill>
              <a:latin typeface="Arial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"/>
          <p:cNvSpPr/>
          <p:nvPr/>
        </p:nvSpPr>
        <p:spPr>
          <a:xfrm>
            <a:off x="357120" y="3341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ank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6:57:20Z</dcterms:created>
  <dc:creator>rachel</dc:creator>
  <dc:description/>
  <cp:keywords/>
  <dc:language>en-US</dc:language>
  <cp:lastModifiedBy>a</cp:lastModifiedBy>
  <cp:lastPrinted>1899-12-30T00:00:00Z</cp:lastPrinted>
  <dcterms:modified xsi:type="dcterms:W3CDTF">2015-07-25T08:14:06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