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CB4-61D7-4D9A-89A4-D81AF89E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20B-7DF4-4C62-8B05-692D9729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6DF-5DDB-44CD-8AEA-288AA444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9E4-A792-49B4-BAB9-6A9058C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62CF-22EB-4CF2-9C1F-91D37767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BF0-366A-408A-B98C-CD70CD29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56A-FBC3-4A58-BE36-DCF46E4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01B-1A62-424E-AA30-9F15153D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EECD-0EED-4392-99E6-542DD47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C67C-6F4C-42C2-B26C-0D91139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A06A-BAE5-4A9D-BF8D-39DFCF44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903-D6EB-4789-A267-2495182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76F2-06E5-4E9B-AD7E-4C9CCE6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121A-FD12-4259-8BDB-831FBD2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D9FD-E08D-4ECF-BE77-213DF7B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027C-E1BA-43DE-A8AB-DB5B7F43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A12A-DB31-48FA-9D25-AE2EE090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703-8C3B-4294-851B-E3F3FEF0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8E7-1B2D-4A05-912F-E03AFAB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E09-44EA-46D2-90EA-11D1273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776-9831-47AA-8350-833E84D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205-544D-4994-B8CA-835E655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6AC-1184-4688-9D5B-FAF2957D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64B-9794-41B6-9724-D8C0270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3336-2F5D-43CF-B3DD-8D0D5F23D37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30D0-7373-495A-AADF-838955A497B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Microstyle Bold Extended ATT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55760" y="6094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周年庆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19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57200" y="3352680"/>
            <a:ext cx="329076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49360" y="4114800"/>
            <a:ext cx="242244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58720" y="4629240"/>
            <a:ext cx="24130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533520" y="5162400"/>
            <a:ext cx="241272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409680" y="5734080"/>
            <a:ext cx="3400200" cy="66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4038480" y="2514600"/>
            <a:ext cx="3738600" cy="66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3962520" y="3371760"/>
            <a:ext cx="3830400" cy="66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3962520" y="4208400"/>
            <a:ext cx="3830400" cy="66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3941640" y="5048280"/>
            <a:ext cx="383076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3962520" y="5886360"/>
            <a:ext cx="38210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639-7263-4274-8733-E24A2947D2FB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03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08:0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