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A335-C859-4F63-A201-B3537DB9E9A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89D4-862D-432A-8691-61488E77477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1C0B-17DE-4049-A34E-04AB58B01C0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5C72-B2E8-4F61-8092-041E8E70E41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8A4-1564-440E-96B8-75B21472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05CE-B92C-438F-824D-721275F5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12DF-CE62-4FC0-ADB5-5A6BDB42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FD4-B51E-4276-A631-91554F9B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C492-B603-4C09-9F2F-F9E6BE77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9E56-FE41-4A67-BDE4-2928469E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0482-D631-4C53-A96F-D3D2EB93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83ED-8725-48EB-BAF2-170F6E9A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BC9C-B3CC-41D3-8007-F499B6D5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1F0A-096C-4E7F-B367-42995FBB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EFE9-2F57-4E19-8E50-B43176A2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EF3-5A7B-4092-8FC3-96F37A0D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D8D6-D13D-4C99-93FE-1C24076D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AA81-C649-42A9-90D0-47FC0A14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99F8-B31C-4587-8BC8-2DEABFF4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94B7-2A54-4DF9-B277-02D4AC9A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BD19-2657-434E-BFB2-A00137CC2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812-FC5E-4501-8C78-7D59D783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CF82-4651-4A16-B102-CA560112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F55-A2C5-4CBC-9ADD-CA3CFC99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172A-9436-4D91-8357-FD80D94D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8121-32E6-4C1D-90FB-4B8945AD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66DD-9358-4406-ABD6-80F318FC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1957-D8F2-440C-9403-53480F60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f6f4e8">
                  <a:alpha val="85098"/>
                </a:srgbClr>
              </a:gs>
              <a:gs pos="100000">
                <a:srgbClr val="f6f4e8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E932-F7AE-4B45-912F-0044DDB1AA54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rcRect l="5630" t="0" r="5480" b="0"/>
          <a:stretch/>
        </p:blipFill>
        <p:spPr>
          <a:xfrm>
            <a:off x="7224840" y="0"/>
            <a:ext cx="1919160" cy="144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f6f4e8">
                  <a:alpha val="85098"/>
                </a:srgbClr>
              </a:gs>
              <a:gs pos="100000">
                <a:srgbClr val="f6f4e8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rcRect l="5630" t="0" r="5480" b="0"/>
          <a:stretch/>
        </p:blipFill>
        <p:spPr>
          <a:xfrm>
            <a:off x="7224840" y="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3"/>
          <a:srcRect l="5626" t="0" r="548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395280" y="-7920"/>
            <a:ext cx="8569440" cy="1368360"/>
          </a:xfrm>
          <a:prstGeom prst="rect">
            <a:avLst/>
          </a:prstGeom>
          <a:gradFill rotWithShape="0">
            <a:gsLst>
              <a:gs pos="0">
                <a:srgbClr val="f6f4e8">
                  <a:alpha val="60000"/>
                </a:srgbClr>
              </a:gs>
              <a:gs pos="100000">
                <a:srgbClr val="f6f4e8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5C00-FFC1-4806-AE37-A72760D9D814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7080" y="4716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窗户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03280" y="769680"/>
            <a:ext cx="6400800" cy="47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Example Bullet Point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06440" y="166356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ampl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Content Placeholder 3" descr=""/>
          <p:cNvPicPr/>
          <p:nvPr/>
        </p:nvPicPr>
        <p:blipFill>
          <a:blip r:embed="rId1"/>
          <a:stretch/>
        </p:blipFill>
        <p:spPr>
          <a:xfrm>
            <a:off x="901800" y="1790640"/>
            <a:ext cx="73404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Colour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571920" y="2863800"/>
            <a:ext cx="82692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648320" y="286380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519280" y="4478400"/>
            <a:ext cx="827280" cy="611280"/>
          </a:xfrm>
          <a:prstGeom prst="rect">
            <a:avLst/>
          </a:prstGeom>
          <a:solidFill>
            <a:srgbClr val="f6f4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587760" y="4478400"/>
            <a:ext cx="826920" cy="611280"/>
          </a:xfrm>
          <a:prstGeom prst="rect">
            <a:avLst/>
          </a:prstGeom>
          <a:solidFill>
            <a:srgbClr val="6ba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4656240" y="4478400"/>
            <a:ext cx="826920" cy="611280"/>
          </a:xfrm>
          <a:prstGeom prst="rect">
            <a:avLst/>
          </a:prstGeom>
          <a:solidFill>
            <a:srgbClr val="0b6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5726160" y="4478400"/>
            <a:ext cx="826920" cy="611280"/>
          </a:xfrm>
          <a:prstGeom prst="rect">
            <a:avLst/>
          </a:prstGeom>
          <a:solidFill>
            <a:srgbClr val="237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5708520" y="2863800"/>
            <a:ext cx="82728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503440" y="2863800"/>
            <a:ext cx="82728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285640" y="222408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603960" y="210168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4553640" y="22240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5834520" y="210168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661840" y="383868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3609360" y="38386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4543560" y="37162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5624640" y="371484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Pictur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2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IMG_9271"/>
          <p:cNvPicPr/>
          <p:nvPr/>
        </p:nvPicPr>
        <p:blipFill>
          <a:blip r:embed="rId1"/>
          <a:stretch/>
        </p:blipFill>
        <p:spPr>
          <a:xfrm>
            <a:off x="5256360" y="2205000"/>
            <a:ext cx="3097080" cy="3853080"/>
          </a:xfrm>
          <a:prstGeom prst="rect">
            <a:avLst/>
          </a:prstGeom>
          <a:ln w="57240">
            <a:solidFill>
              <a:srgbClr val="f6f4e8"/>
            </a:solidFill>
            <a:miter/>
          </a:ln>
        </p:spPr>
      </p:pic>
      <p:sp>
        <p:nvSpPr>
          <p:cNvPr id="122" name="Text Box 4"/>
          <p:cNvSpPr/>
          <p:nvPr/>
        </p:nvSpPr>
        <p:spPr>
          <a:xfrm>
            <a:off x="324000" y="6361200"/>
            <a:ext cx="71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0b6de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jontypearce</dc:creator>
  <dc:description/>
  <dc:language>en-US</dc:language>
  <cp:lastModifiedBy>王玉清</cp:lastModifiedBy>
  <dcterms:modified xsi:type="dcterms:W3CDTF">2016-02-24T03:20:08Z</dcterms:modified>
  <cp:revision>17</cp:revision>
  <dc:subject/>
  <dc:title>PowerPoint Presentation</dc:title>
</cp:coreProperties>
</file>