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03FB-51BC-4E8B-B579-154AB754C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1CE9-8629-4F43-8C74-2639E545B19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A5709-6045-45BE-A1C0-EDF921FC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F9478-B284-46A4-A910-B02B1676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8A273-5887-4E8F-BB55-56381309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8914E-1049-4D31-8E03-E8AB299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31E9D-09AD-446D-9D67-14E81021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31535-5FC0-487A-9774-B1102E8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D30B6-75AD-4DC6-B3AB-71B47F8E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8B603-5B1B-4861-AD6E-73B563CC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ECB66-F3E6-4778-B668-150E33D5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7DC9C-F932-47A8-B16E-66B82764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E1A2-84F8-4DAC-B3D1-4A23826C362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0D958-4A7A-412A-9E81-38103697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EFBD1-B08C-4165-8BE0-79EC631A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1F428-55B0-479A-BFE2-3AC1D7BE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AB096-2B4D-442B-BC31-B92DE37E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D6FB9-0A86-49F3-9AAE-51A71EBB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F958E-840F-44DA-A6A1-1BB6FBE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7B6AF-C373-4DD1-886D-515FE35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64D5E-1C29-4D56-875F-798006B0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CAF3B-8DBB-4B9D-82F0-638A88CB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7C9C6-748D-4DA3-99D2-DBA67ACC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6119-EE4C-4F4A-BAB4-4B63C9C61B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EB959-5B40-462D-9E40-03C99CC7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330318-824B-464A-992E-89D738C0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B15327-5F03-42A8-8179-31F0AD5E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258E18-E49C-4203-BACA-2B0496D1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0F9DBE-6C00-45B7-8B32-F3CEC23E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597B45-2258-4E7A-B855-2A3FD219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3606A5-3AFE-4688-B7A9-91EB355E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7A317A-BE78-4FAA-869E-5159BE1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E111D8-9A6E-4B6A-82FA-67ED45BF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702179-898C-4A0F-9CD1-CB98AC4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552EE-E461-4D2D-9C12-A64A70C5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060A5D-7B4B-4376-A696-229BEAD7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D776C2-89E0-45B2-895E-08710BE3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B647ED-A3DE-4278-9936-FFE69F18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98D83-1445-4712-B523-9C643B8B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2C5B7-0F43-4599-8463-44DB3E06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501E5-90D3-473C-B7B9-1B16B219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D4319-B6DF-4260-8561-1C84C51A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19C21-C6AE-4371-8594-69019E29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20359-9149-409C-9246-EC4AD669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4A767-DD71-475F-9C20-3E1FFFB4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27D9D-4F55-472E-B04C-240B7B8D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CF2F9-55A6-43F9-9F9E-CE6FD239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CC062-FB94-4A61-8739-40316FAA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D6E27-D36E-44E7-8CB5-AE7F7D9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B5372-6850-4804-87A2-AFD7FF6E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3F3A8-1DF8-471E-8925-7AD71BB0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DC075-6E2D-48D7-937E-2ED11649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B8696-FEA0-4A94-ADAB-E77E3ED4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F8FCB-ADD6-4538-B6C9-E702365F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E5360-20BE-41C2-A92B-8C11A956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8E615-7980-42E9-B988-93B2A0A4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AE5E-CEDF-4B8B-AD7F-2A2D4F6C0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DC762-5829-402B-BA04-1AFD4CCF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250C1-38F5-428C-B354-9EFE2FCB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554BD-46D2-43CF-A134-AD00A30D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BC2A6-9045-461C-8765-C1DEDAEB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D37E0-3184-4FF7-B5BB-0B9C3A20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B2333-B8D9-440A-8E37-C6DC63CC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DA3AC0-6E5C-4293-A76F-06ED1D0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16F21-49BC-4085-8A11-0EF0EFBF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FF28F-C3AB-4B7E-B903-9B33F681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37393B-D02D-4D4B-9102-FF0D2417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E8C5-DB68-4D30-9D3A-885368E1B6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62874-94B2-4401-B169-AC73612D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6FD42-102B-47AF-9F69-2A5F74F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5B164-071D-49AB-A1A7-56090333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8CB3C-07A0-4D6A-8086-FF77362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F394B-024F-4FCD-AC39-6090C99F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3874C2-4F74-47DE-BE4A-5690B3BD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EBAA2-9139-45C8-B789-9E2D2D32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9707D8-E182-4FCB-BD32-44EA3EDE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1C80FB-DDA3-4C36-956F-8CDCC34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B2F8E-3513-4F04-99B8-F34709D1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51A9-1B0D-4787-B53B-2162FEEA80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346AE-84A7-41EC-95E5-0A4BF26B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0A404-D073-4F96-AD88-380449B1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21BC0-CD59-44A5-9A4F-E2B240F7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BDA6B-A995-481A-91DC-2D1A435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30491-9985-4D7E-9772-2B13BC78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4230A-4128-4C1A-A970-BDA8B7D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1BE0A-6A45-45DD-8468-9575720A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CDEA4-EA93-4BE1-8183-AC5F23E3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82359-6391-479F-BFE6-984B136F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865765-4E68-4629-BDC0-CEB789D0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3BAB-B0FB-49DF-A300-0E5FB09241D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1C513-E661-4355-92C8-1E1D6A3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B2EEA-CD39-477C-B041-BC6B6867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47570C-966C-4EAB-8EB7-023657A3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30B1CC-94D5-4C4F-A83E-AF24A305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DB7FB8-E310-4B70-A6C0-EAB181A8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C44CD0-4E65-41BC-BA13-BE702F34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DB1C06-050C-4923-8BE9-F43E13F8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04BCAE-6706-428D-89F7-20A14E8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134A6-EA8C-4A0A-A7FC-E25000E2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D5B577-1267-4C3B-B330-BD00A29F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3DE0-DC8D-4594-A86E-5C9F0BA2C12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D16669-559B-4038-B1BF-2A29CA67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9E80D-AA6B-4D8C-80A2-C925CD50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CF9CF3-57D6-4FA4-A2C8-C75A2633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ADC90F-F4E0-4834-8648-290465B4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3582C5-75EF-439E-B25B-933319FE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32D2F-0826-4580-8209-72CCD7C9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948536-CE40-4D8A-B01A-08ED6F09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7AD28C-F449-498C-91CD-ABDF98B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1105A-A854-41CA-8C05-A16DAE95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6F4C94-F213-4006-B97B-AAD2108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70F1-56B1-42F9-B6DF-00E56199CD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2BFB67-AF2D-41D1-B3C9-8A9DD0B0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536FF3-C426-4DC1-83DE-9A4D9985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7A350F-719C-4257-8102-F57CB5C1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F7FEAF-BBA1-442F-AC8E-5BEB9085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76A2AA-5338-4011-B0D2-F8CE60D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6DA843-F91D-4EAF-B24C-F8806E1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8867AB-E42F-4659-BFF8-352F9AB6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8D7402-3AF3-44E4-9D94-1BEF916F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CFC235-90E9-4261-BA9D-8BE4C528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178E8-DF81-45F0-8F02-615295B6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F786-9234-425A-B526-DC00257BE5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3D849-30D8-4221-8AF9-73D1C05D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1E7C2-CA7D-4787-83CF-597041C7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9E86EE-F1B7-408F-8765-4C2556A6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27393F-67D4-4B77-A7CD-E98D416C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1B990-16B7-40AB-A37A-DF4408BC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464B8B-3D16-487F-B010-403A62FA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15FFA-8F50-4E49-BD65-F3BB4B20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66A15A-2E62-4938-9866-4F6F2019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DDC73A-A2FD-4BD4-939E-388CEF00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5B2EBE-414D-4C45-98C7-8DE63E92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A397-F0F6-4BCE-BF9D-14116B68934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0780F-D069-4CA3-BA0A-8A42E9D2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56D047-A4F2-44DD-95A2-0C5A839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E131B0-C327-4D64-A182-DD124B77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03B393-E3EC-4333-AD6F-40FD193C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550F0-8E8B-45B6-8B19-1EAE3CEA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EB1FE0-4B9A-45C3-A996-CF788187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23C1F-085C-44FC-8EFC-60C0727D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AA566-FBA1-448F-8236-FA417214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7E324-F295-4827-A30C-C26DAF1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11F9D-E401-4EAC-A745-B3CDE6DD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764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1AF1-BB38-4D86-8329-AEF84378DC72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E72E-66E6-4D49-89D8-DBF3884E5634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BA00-B866-456E-AE4A-40307C51D0FE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4EA6-201D-4F5D-8209-E7B38826119B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AAEE-6022-4979-BB16-FD7D0559654D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42888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6CB3-51C9-4311-B9E1-B67B6CF6EAA4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F822-655F-4F43-826B-AF5CEF5ED432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4A83-4B3C-4C3C-9E2C-0272929B25C7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6303-3217-421C-9D5A-09AC85B14E5C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97BE-9275-4C47-B631-91DF31EAD55B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AE12-7D55-48BA-B8F3-9F07FB3A3828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9AC5-C10A-49E7-BE2A-111B46521A8F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106640" y="5229360"/>
            <a:ext cx="717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多彩商务人才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模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灯片编号占位符 3"/>
          <p:cNvSpPr/>
          <p:nvPr/>
        </p:nvSpPr>
        <p:spPr>
          <a:xfrm>
            <a:off x="642924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F53-7C2B-4F1A-83A9-347A252B3B50}" type="slidenum">
              <a:rPr b="0" i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7120" y="585792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357120" y="714240"/>
            <a:ext cx="820728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3714840" y="528624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a</cp:lastModifiedBy>
  <dcterms:modified xsi:type="dcterms:W3CDTF">2015-07-25T06:33:26Z</dcterms:modified>
  <cp:revision>11</cp:revision>
  <dc:subject/>
  <dc:title>www.pptbz.com</dc:title>
</cp:coreProperties>
</file>