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6C36-7DFD-482A-91BD-0D22F1F48D6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0719-E91E-4F73-930A-D3B42221A72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E82-F09C-4952-9814-91430F65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D5D-BDBF-40A2-8504-86958F5E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BF8-0D41-425B-9FC8-19A7F382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AD3-5036-4778-81AB-B370AABC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A2449-0AEA-4349-A542-F7CAE55646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25A0E-65FE-4BD1-A598-3A9EFC10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A19E8-2837-44CD-830A-5193AEDE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4BFF8-1AA7-4B7B-94C7-CEA9A203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66697-5A54-4CDA-9501-F14799FB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52BA6-E341-45B0-817C-05E06749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D9547-18F5-48D0-BE15-BBFF8287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632-5EF8-4E97-B718-14C4F9B0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40320-D599-4886-A7BE-1D768A48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30635-1ACA-4529-9F0B-DABB92A3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B99A7-F4C6-4F87-ABF3-76321507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5DB91-968F-4520-85D1-803D8C8F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7CB72-5797-44D8-976B-97339B55F4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6E0-B329-4338-A2DE-723E1962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B59-A69D-4C7B-BF7D-DDB8E0D7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C74-FF8F-4DD2-A9A8-77CF24C8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AE6-D9A7-428F-91EC-B39E9845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402-A161-4693-8736-EF77BA05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5F7-62E3-4F60-B034-90591A87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575-918E-4B33-A304-A7E3DF05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F430-8F92-4A08-8FB8-FD05828F22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0368-E68A-4283-9D7C-13D9F8495FFB}" type="slidenum">
              <a: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000" y="1949400"/>
            <a:ext cx="8424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动感箭头深蓝商务工作总结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V="1">
            <a:off x="-5437080" y="3428640"/>
            <a:ext cx="573696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 rot="5400000">
            <a:off x="255240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 rot="5400000">
            <a:off x="2738160" y="2711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9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13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23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7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38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39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Puzzle2"/>
              <p:cNvSpPr/>
              <p:nvPr/>
            </p:nvSpPr>
            <p:spPr>
              <a:xfrm>
                <a:off x="4008960" y="3294360"/>
                <a:ext cx="2772360" cy="212292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22920"/>
                  <a:gd name="textAreaBottom" fmla="*/ 2009520 h 212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Puzzle4"/>
              <p:cNvSpPr/>
              <p:nvPr/>
            </p:nvSpPr>
            <p:spPr>
              <a:xfrm>
                <a:off x="2937960" y="3268080"/>
                <a:ext cx="1674720" cy="2708280"/>
              </a:xfrm>
              <a:custGeom>
                <a:avLst/>
                <a:gdLst>
                  <a:gd name="textAreaLeft" fmla="*/ 160560 w 1674720"/>
                  <a:gd name="textAreaRight" fmla="*/ 1567440 w 167472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149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"/>
            <p:cNvSpPr/>
            <p:nvPr/>
          </p:nvSpPr>
          <p:spPr>
            <a:xfrm flipH="1" rot="5400000">
              <a:off x="5683680" y="319464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6"/>
            <p:cNvSpPr/>
            <p:nvPr/>
          </p:nvSpPr>
          <p:spPr>
            <a:xfrm flipH="1" rot="10800000">
              <a:off x="424368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21768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336384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349740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0"/>
            <p:cNvSpPr/>
            <p:nvPr/>
          </p:nvSpPr>
          <p:spPr>
            <a:xfrm>
              <a:off x="349740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1"/>
            <p:cNvSpPr/>
            <p:nvPr/>
          </p:nvSpPr>
          <p:spPr>
            <a:xfrm>
              <a:off x="362916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2"/>
            <p:cNvSpPr/>
            <p:nvPr/>
          </p:nvSpPr>
          <p:spPr>
            <a:xfrm>
              <a:off x="362916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208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211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214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217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220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223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230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581040" y="62596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1:11:00Z</dcterms:created>
  <dc:creator>user</dc:creator>
  <dc:description/>
  <dc:language>en-US</dc:language>
  <cp:lastModifiedBy>a</cp:lastModifiedBy>
  <dcterms:modified xsi:type="dcterms:W3CDTF">2015-07-25T08:12:04Z</dcterms:modified>
  <cp:revision>8</cp:revision>
  <dc:subject/>
  <dc:title>PowerPoint Template</dc:title>
</cp:coreProperties>
</file>