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F4D895-E79E-4653-99FB-3D8DAB584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777403-28C8-4505-8334-C6240E45694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D0F45C-C2C3-40D1-B513-5E93C4104CE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B4D756-4744-4B46-9108-F85D01BE6A9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B54A-28BB-440E-8750-C123B1C3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067-D9A5-4FA4-8DAB-9EC06305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9AE8-E81E-48BD-A9BB-52CCFACD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BA51-DEF8-42DC-A0FB-AC8DEF12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87D-93C6-4B8E-8831-758D7816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FE43-8527-4F82-8649-88783E14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0A2-E859-4B4C-97A0-9FD40DE6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D961-F987-4312-8B67-CACBE8F1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C49-9713-4D5B-AB62-BFB080E7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4B54-DCAE-475F-A11D-4DACBD32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30E-C5DD-4C4B-B3FD-D5AE055E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A0DA-0102-4314-B187-F3B6CBEA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DA7095-E97C-41D6-B836-3A4A46D26D4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5"/>
          <p:cNvGrpSpPr/>
          <p:nvPr/>
        </p:nvGrpSpPr>
        <p:grpSpPr>
          <a:xfrm>
            <a:off x="0" y="5490000"/>
            <a:ext cx="12191760" cy="1367640"/>
            <a:chOff x="0" y="5490000"/>
            <a:chExt cx="12191760" cy="1367640"/>
          </a:xfrm>
        </p:grpSpPr>
        <p:sp>
          <p:nvSpPr>
            <p:cNvPr id="42" name="矩形 6"/>
            <p:cNvSpPr/>
            <p:nvPr/>
          </p:nvSpPr>
          <p:spPr>
            <a:xfrm>
              <a:off x="0" y="5775480"/>
              <a:ext cx="12191760" cy="10821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" name="等腰三角形 7"/>
            <p:cNvSpPr/>
            <p:nvPr/>
          </p:nvSpPr>
          <p:spPr>
            <a:xfrm rot="10800000">
              <a:off x="514800" y="5490000"/>
              <a:ext cx="768240" cy="571320"/>
            </a:xfrm>
            <a:prstGeom prst="triangle">
              <a:avLst>
                <a:gd name="adj" fmla="val 50000"/>
              </a:avLst>
            </a:prstGeom>
            <a:solidFill>
              <a:srgbClr val="50ce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3"/>
          <p:cNvSpPr/>
          <p:nvPr/>
        </p:nvSpPr>
        <p:spPr>
          <a:xfrm>
            <a:off x="0" y="0"/>
            <a:ext cx="12191760" cy="4687920"/>
          </a:xfrm>
          <a:prstGeom prst="rect">
            <a:avLst/>
          </a:pr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矩形 193"/>
          <p:cNvSpPr/>
          <p:nvPr/>
        </p:nvSpPr>
        <p:spPr>
          <a:xfrm>
            <a:off x="0" y="4688280"/>
            <a:ext cx="12191760" cy="2164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28" name="组合 190"/>
          <p:cNvGrpSpPr/>
          <p:nvPr/>
        </p:nvGrpSpPr>
        <p:grpSpPr>
          <a:xfrm>
            <a:off x="882000" y="3428280"/>
            <a:ext cx="2519640" cy="2519640"/>
            <a:chOff x="882000" y="3428280"/>
            <a:chExt cx="2519640" cy="2519640"/>
          </a:xfrm>
        </p:grpSpPr>
        <p:sp>
          <p:nvSpPr>
            <p:cNvPr id="129" name="矩形 23"/>
            <p:cNvSpPr/>
            <p:nvPr/>
          </p:nvSpPr>
          <p:spPr>
            <a:xfrm>
              <a:off x="882000" y="3428280"/>
              <a:ext cx="2519640" cy="2519640"/>
            </a:xfrm>
            <a:prstGeom prst="rect">
              <a:avLst/>
            </a:prstGeom>
            <a:solidFill>
              <a:srgbClr val="ff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矩形 95"/>
            <p:cNvSpPr/>
            <p:nvPr/>
          </p:nvSpPr>
          <p:spPr>
            <a:xfrm>
              <a:off x="1022040" y="3568320"/>
              <a:ext cx="2239560" cy="2239560"/>
            </a:xfrm>
            <a:prstGeom prst="rect">
              <a:avLst/>
            </a:prstGeom>
            <a:solidFill>
              <a:srgbClr val="97e27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1" name="右耳朵"/>
            <p:cNvSpPr/>
            <p:nvPr/>
          </p:nvSpPr>
          <p:spPr>
            <a:xfrm flipH="1">
              <a:off x="2647080" y="4788720"/>
              <a:ext cx="164160" cy="259920"/>
            </a:xfrm>
            <a:custGeom>
              <a:avLst/>
              <a:gdLst>
                <a:gd name="textAreaLeft" fmla="*/ 360 w 164160"/>
                <a:gd name="textAreaRight" fmla="*/ 164880 w 16416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80" h="126">
                  <a:moveTo>
                    <a:pt x="80" y="63"/>
                  </a:moveTo>
                  <a:cubicBezTo>
                    <a:pt x="80" y="98"/>
                    <a:pt x="62" y="126"/>
                    <a:pt x="39" y="126"/>
                  </a:cubicBezTo>
                  <a:cubicBezTo>
                    <a:pt x="17" y="126"/>
                    <a:pt x="0" y="83"/>
                    <a:pt x="0" y="48"/>
                  </a:cubicBezTo>
                  <a:cubicBezTo>
                    <a:pt x="0" y="13"/>
                    <a:pt x="17" y="0"/>
                    <a:pt x="39" y="0"/>
                  </a:cubicBezTo>
                  <a:cubicBezTo>
                    <a:pt x="62" y="0"/>
                    <a:pt x="80" y="28"/>
                    <a:pt x="80" y="63"/>
                  </a:cubicBezTo>
                  <a:close/>
                </a:path>
              </a:pathLst>
            </a:custGeom>
            <a:solidFill>
              <a:schemeClr val="bg1"/>
            </a:solidFill>
            <a:ln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左耳朵"/>
            <p:cNvSpPr/>
            <p:nvPr/>
          </p:nvSpPr>
          <p:spPr>
            <a:xfrm>
              <a:off x="1574280" y="4788720"/>
              <a:ext cx="164160" cy="25992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80" h="126">
                  <a:moveTo>
                    <a:pt x="80" y="63"/>
                  </a:moveTo>
                  <a:cubicBezTo>
                    <a:pt x="80" y="98"/>
                    <a:pt x="62" y="126"/>
                    <a:pt x="39" y="126"/>
                  </a:cubicBezTo>
                  <a:cubicBezTo>
                    <a:pt x="17" y="126"/>
                    <a:pt x="0" y="83"/>
                    <a:pt x="0" y="48"/>
                  </a:cubicBezTo>
                  <a:cubicBezTo>
                    <a:pt x="0" y="13"/>
                    <a:pt x="17" y="0"/>
                    <a:pt x="39" y="0"/>
                  </a:cubicBezTo>
                  <a:cubicBezTo>
                    <a:pt x="62" y="0"/>
                    <a:pt x="80" y="28"/>
                    <a:pt x="80" y="63"/>
                  </a:cubicBezTo>
                  <a:close/>
                </a:path>
              </a:pathLst>
            </a:custGeom>
            <a:solidFill>
              <a:schemeClr val="bg1"/>
            </a:solidFill>
            <a:ln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脸蛋"/>
            <p:cNvSpPr/>
            <p:nvPr/>
          </p:nvSpPr>
          <p:spPr>
            <a:xfrm>
              <a:off x="1638000" y="4051080"/>
              <a:ext cx="1111320" cy="1405800"/>
            </a:xfrm>
            <a:custGeom>
              <a:avLst/>
              <a:gdLst>
                <a:gd name="textAreaLeft" fmla="*/ 0 w 1111320"/>
                <a:gd name="textAreaRight" fmla="*/ 1111680 w 1111320"/>
                <a:gd name="textAreaTop" fmla="*/ 0 h 1405800"/>
                <a:gd name="textAreaBottom" fmla="*/ 1406160 h 1405800"/>
              </a:gdLst>
              <a:ahLst/>
              <a:rect l="textAreaLeft" t="textAreaTop" r="textAreaRight" b="textAreaBottom"/>
              <a:pathLst>
                <a:path w="200" h="278">
                  <a:moveTo>
                    <a:pt x="100" y="0"/>
                  </a:moveTo>
                  <a:cubicBezTo>
                    <a:pt x="155" y="0"/>
                    <a:pt x="200" y="62"/>
                    <a:pt x="200" y="138"/>
                  </a:cubicBezTo>
                  <a:cubicBezTo>
                    <a:pt x="200" y="215"/>
                    <a:pt x="157" y="270"/>
                    <a:pt x="100" y="278"/>
                  </a:cubicBezTo>
                  <a:cubicBezTo>
                    <a:pt x="42" y="270"/>
                    <a:pt x="0" y="215"/>
                    <a:pt x="0" y="139"/>
                  </a:cubicBezTo>
                  <a:cubicBezTo>
                    <a:pt x="0" y="62"/>
                    <a:pt x="44" y="0"/>
                    <a:pt x="100" y="0"/>
                  </a:cubicBezTo>
                  <a:close/>
                </a:path>
              </a:pathLst>
            </a:custGeom>
            <a:solidFill>
              <a:srgbClr val="ffffff"/>
            </a:solidFill>
            <a:ln w="25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头发"/>
            <p:cNvSpPr/>
            <p:nvPr/>
          </p:nvSpPr>
          <p:spPr>
            <a:xfrm>
              <a:off x="1258200" y="3708360"/>
              <a:ext cx="1767600" cy="1294920"/>
            </a:xfrm>
            <a:custGeom>
              <a:avLst/>
              <a:gdLst>
                <a:gd name="textAreaLeft" fmla="*/ 0 w 1767600"/>
                <a:gd name="textAreaRight" fmla="*/ 1767960 w 176760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318" h="233">
                  <a:moveTo>
                    <a:pt x="0" y="148"/>
                  </a:moveTo>
                  <a:cubicBezTo>
                    <a:pt x="13" y="162"/>
                    <a:pt x="23" y="162"/>
                    <a:pt x="31" y="157"/>
                  </a:cubicBezTo>
                  <a:cubicBezTo>
                    <a:pt x="21" y="155"/>
                    <a:pt x="16" y="142"/>
                    <a:pt x="15" y="130"/>
                  </a:cubicBezTo>
                  <a:cubicBezTo>
                    <a:pt x="12" y="109"/>
                    <a:pt x="33" y="83"/>
                    <a:pt x="55" y="75"/>
                  </a:cubicBezTo>
                  <a:cubicBezTo>
                    <a:pt x="52" y="74"/>
                    <a:pt x="48" y="73"/>
                    <a:pt x="45" y="72"/>
                  </a:cubicBezTo>
                  <a:cubicBezTo>
                    <a:pt x="65" y="68"/>
                    <a:pt x="77" y="64"/>
                    <a:pt x="77" y="47"/>
                  </a:cubicBezTo>
                  <a:cubicBezTo>
                    <a:pt x="77" y="26"/>
                    <a:pt x="102" y="15"/>
                    <a:pt x="121" y="25"/>
                  </a:cubicBezTo>
                  <a:cubicBezTo>
                    <a:pt x="131" y="15"/>
                    <a:pt x="149" y="13"/>
                    <a:pt x="162" y="25"/>
                  </a:cubicBezTo>
                  <a:cubicBezTo>
                    <a:pt x="164" y="25"/>
                    <a:pt x="164" y="25"/>
                    <a:pt x="164" y="25"/>
                  </a:cubicBezTo>
                  <a:cubicBezTo>
                    <a:pt x="174" y="1"/>
                    <a:pt x="207" y="0"/>
                    <a:pt x="215" y="21"/>
                  </a:cubicBezTo>
                  <a:cubicBezTo>
                    <a:pt x="220" y="35"/>
                    <a:pt x="233" y="35"/>
                    <a:pt x="252" y="25"/>
                  </a:cubicBezTo>
                  <a:cubicBezTo>
                    <a:pt x="251" y="32"/>
                    <a:pt x="247" y="36"/>
                    <a:pt x="242" y="38"/>
                  </a:cubicBezTo>
                  <a:cubicBezTo>
                    <a:pt x="260" y="38"/>
                    <a:pt x="278" y="49"/>
                    <a:pt x="278" y="67"/>
                  </a:cubicBezTo>
                  <a:cubicBezTo>
                    <a:pt x="278" y="71"/>
                    <a:pt x="278" y="76"/>
                    <a:pt x="279" y="80"/>
                  </a:cubicBezTo>
                  <a:cubicBezTo>
                    <a:pt x="281" y="82"/>
                    <a:pt x="283" y="84"/>
                    <a:pt x="285" y="86"/>
                  </a:cubicBezTo>
                  <a:cubicBezTo>
                    <a:pt x="303" y="96"/>
                    <a:pt x="318" y="117"/>
                    <a:pt x="316" y="134"/>
                  </a:cubicBezTo>
                  <a:cubicBezTo>
                    <a:pt x="315" y="144"/>
                    <a:pt x="311" y="155"/>
                    <a:pt x="304" y="158"/>
                  </a:cubicBezTo>
                  <a:cubicBezTo>
                    <a:pt x="304" y="159"/>
                    <a:pt x="304" y="159"/>
                    <a:pt x="304" y="159"/>
                  </a:cubicBezTo>
                  <a:cubicBezTo>
                    <a:pt x="308" y="157"/>
                    <a:pt x="312" y="154"/>
                    <a:pt x="317" y="149"/>
                  </a:cubicBezTo>
                  <a:cubicBezTo>
                    <a:pt x="317" y="161"/>
                    <a:pt x="310" y="170"/>
                    <a:pt x="301" y="175"/>
                  </a:cubicBezTo>
                  <a:cubicBezTo>
                    <a:pt x="300" y="180"/>
                    <a:pt x="299" y="185"/>
                    <a:pt x="298" y="189"/>
                  </a:cubicBezTo>
                  <a:cubicBezTo>
                    <a:pt x="307" y="230"/>
                    <a:pt x="250" y="212"/>
                    <a:pt x="264" y="213"/>
                  </a:cubicBezTo>
                  <a:cubicBezTo>
                    <a:pt x="263" y="166"/>
                    <a:pt x="254" y="193"/>
                    <a:pt x="229" y="172"/>
                  </a:cubicBezTo>
                  <a:cubicBezTo>
                    <a:pt x="220" y="164"/>
                    <a:pt x="215" y="149"/>
                    <a:pt x="202" y="112"/>
                  </a:cubicBezTo>
                  <a:cubicBezTo>
                    <a:pt x="181" y="148"/>
                    <a:pt x="98" y="233"/>
                    <a:pt x="40" y="214"/>
                  </a:cubicBezTo>
                  <a:cubicBezTo>
                    <a:pt x="49" y="213"/>
                    <a:pt x="69" y="165"/>
                    <a:pt x="61" y="170"/>
                  </a:cubicBezTo>
                  <a:cubicBezTo>
                    <a:pt x="47" y="182"/>
                    <a:pt x="28" y="212"/>
                    <a:pt x="0" y="148"/>
                  </a:cubicBezTo>
                  <a:close/>
                  <a:moveTo>
                    <a:pt x="40" y="136"/>
                  </a:moveTo>
                  <a:cubicBezTo>
                    <a:pt x="41" y="129"/>
                    <a:pt x="42" y="124"/>
                    <a:pt x="43" y="127"/>
                  </a:cubicBezTo>
                  <a:cubicBezTo>
                    <a:pt x="43" y="127"/>
                    <a:pt x="43" y="127"/>
                    <a:pt x="43" y="127"/>
                  </a:cubicBezTo>
                  <a:cubicBezTo>
                    <a:pt x="43" y="125"/>
                    <a:pt x="43" y="125"/>
                    <a:pt x="43" y="125"/>
                  </a:cubicBezTo>
                  <a:cubicBezTo>
                    <a:pt x="31" y="133"/>
                    <a:pt x="19" y="144"/>
                    <a:pt x="34" y="153"/>
                  </a:cubicBezTo>
                  <a:cubicBezTo>
                    <a:pt x="35" y="152"/>
                    <a:pt x="36" y="151"/>
                    <a:pt x="37" y="150"/>
                  </a:cubicBezTo>
                  <a:cubicBezTo>
                    <a:pt x="38" y="146"/>
                    <a:pt x="39" y="141"/>
                    <a:pt x="40" y="136"/>
                  </a:cubicBezTo>
                  <a:close/>
                </a:path>
              </a:pathLst>
            </a:custGeom>
            <a:solidFill>
              <a:schemeClr val="tx1"/>
            </a:solidFill>
            <a:ln w="571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accent5"/>
                </a:solidFill>
                <a:latin typeface="Calibri"/>
              </a:endParaRPr>
            </a:p>
          </p:txBody>
        </p:sp>
        <p:sp>
          <p:nvSpPr>
            <p:cNvPr id="135" name="右眼"/>
            <p:cNvSpPr/>
            <p:nvPr/>
          </p:nvSpPr>
          <p:spPr>
            <a:xfrm>
              <a:off x="2399760" y="4859640"/>
              <a:ext cx="177120" cy="58680"/>
            </a:xfrm>
            <a:prstGeom prst="roundRect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眼镜"/>
            <p:cNvSpPr/>
            <p:nvPr/>
          </p:nvSpPr>
          <p:spPr>
            <a:xfrm>
              <a:off x="1604160" y="4680000"/>
              <a:ext cx="1180080" cy="416880"/>
            </a:xfrm>
            <a:custGeom>
              <a:avLst/>
              <a:gdLst>
                <a:gd name="textAreaLeft" fmla="*/ 0 w 1180080"/>
                <a:gd name="textAreaRight" fmla="*/ 1180440 w 1180080"/>
                <a:gd name="textAreaTop" fmla="*/ 0 h 416880"/>
                <a:gd name="textAreaBottom" fmla="*/ 417240 h 416880"/>
              </a:gdLst>
              <a:ahLst/>
              <a:rect l="textAreaLeft" t="textAreaTop" r="textAreaRight" b="textAreaBottom"/>
              <a:pathLst>
                <a:path w="1660" h="587">
                  <a:moveTo>
                    <a:pt x="1658" y="103"/>
                  </a:moveTo>
                  <a:cubicBezTo>
                    <a:pt x="1658" y="71"/>
                    <a:pt x="1653" y="83"/>
                    <a:pt x="1596" y="68"/>
                  </a:cubicBezTo>
                  <a:cubicBezTo>
                    <a:pt x="1539" y="52"/>
                    <a:pt x="1364" y="0"/>
                    <a:pt x="1096" y="39"/>
                  </a:cubicBezTo>
                  <a:cubicBezTo>
                    <a:pt x="872" y="72"/>
                    <a:pt x="929" y="146"/>
                    <a:pt x="837" y="149"/>
                  </a:cubicBezTo>
                  <a:cubicBezTo>
                    <a:pt x="823" y="149"/>
                    <a:pt x="823" y="149"/>
                    <a:pt x="823" y="149"/>
                  </a:cubicBezTo>
                  <a:cubicBezTo>
                    <a:pt x="731" y="146"/>
                    <a:pt x="788" y="72"/>
                    <a:pt x="564" y="39"/>
                  </a:cubicBezTo>
                  <a:cubicBezTo>
                    <a:pt x="296" y="0"/>
                    <a:pt x="121" y="52"/>
                    <a:pt x="64" y="68"/>
                  </a:cubicBezTo>
                  <a:cubicBezTo>
                    <a:pt x="7" y="83"/>
                    <a:pt x="2" y="71"/>
                    <a:pt x="2" y="103"/>
                  </a:cubicBezTo>
                  <a:cubicBezTo>
                    <a:pt x="3" y="135"/>
                    <a:pt x="0" y="161"/>
                    <a:pt x="27" y="161"/>
                  </a:cubicBezTo>
                  <a:cubicBezTo>
                    <a:pt x="55" y="161"/>
                    <a:pt x="55" y="161"/>
                    <a:pt x="98" y="296"/>
                  </a:cubicBezTo>
                  <a:cubicBezTo>
                    <a:pt x="150" y="458"/>
                    <a:pt x="164" y="504"/>
                    <a:pt x="214" y="541"/>
                  </a:cubicBezTo>
                  <a:cubicBezTo>
                    <a:pt x="275" y="587"/>
                    <a:pt x="531" y="587"/>
                    <a:pt x="614" y="537"/>
                  </a:cubicBezTo>
                  <a:cubicBezTo>
                    <a:pt x="717" y="475"/>
                    <a:pt x="704" y="241"/>
                    <a:pt x="828" y="238"/>
                  </a:cubicBezTo>
                  <a:cubicBezTo>
                    <a:pt x="829" y="238"/>
                    <a:pt x="831" y="238"/>
                    <a:pt x="832" y="238"/>
                  </a:cubicBezTo>
                  <a:cubicBezTo>
                    <a:pt x="956" y="241"/>
                    <a:pt x="943" y="475"/>
                    <a:pt x="1046" y="537"/>
                  </a:cubicBezTo>
                  <a:cubicBezTo>
                    <a:pt x="1129" y="587"/>
                    <a:pt x="1385" y="587"/>
                    <a:pt x="1446" y="541"/>
                  </a:cubicBezTo>
                  <a:cubicBezTo>
                    <a:pt x="1496" y="504"/>
                    <a:pt x="1510" y="458"/>
                    <a:pt x="1562" y="296"/>
                  </a:cubicBezTo>
                  <a:cubicBezTo>
                    <a:pt x="1605" y="161"/>
                    <a:pt x="1605" y="161"/>
                    <a:pt x="1633" y="161"/>
                  </a:cubicBezTo>
                  <a:cubicBezTo>
                    <a:pt x="1660" y="161"/>
                    <a:pt x="1657" y="135"/>
                    <a:pt x="1658" y="103"/>
                  </a:cubicBezTo>
                  <a:close/>
                  <a:moveTo>
                    <a:pt x="670" y="341"/>
                  </a:moveTo>
                  <a:cubicBezTo>
                    <a:pt x="644" y="407"/>
                    <a:pt x="624" y="465"/>
                    <a:pt x="588" y="489"/>
                  </a:cubicBezTo>
                  <a:cubicBezTo>
                    <a:pt x="550" y="515"/>
                    <a:pt x="494" y="520"/>
                    <a:pt x="411" y="519"/>
                  </a:cubicBezTo>
                  <a:cubicBezTo>
                    <a:pt x="341" y="517"/>
                    <a:pt x="266" y="520"/>
                    <a:pt x="234" y="490"/>
                  </a:cubicBezTo>
                  <a:cubicBezTo>
                    <a:pt x="208" y="465"/>
                    <a:pt x="182" y="386"/>
                    <a:pt x="160" y="316"/>
                  </a:cubicBezTo>
                  <a:cubicBezTo>
                    <a:pt x="129" y="219"/>
                    <a:pt x="115" y="161"/>
                    <a:pt x="146" y="132"/>
                  </a:cubicBezTo>
                  <a:cubicBezTo>
                    <a:pt x="185" y="97"/>
                    <a:pt x="286" y="91"/>
                    <a:pt x="405" y="89"/>
                  </a:cubicBezTo>
                  <a:cubicBezTo>
                    <a:pt x="524" y="88"/>
                    <a:pt x="682" y="123"/>
                    <a:pt x="702" y="170"/>
                  </a:cubicBezTo>
                  <a:cubicBezTo>
                    <a:pt x="718" y="205"/>
                    <a:pt x="693" y="282"/>
                    <a:pt x="670" y="341"/>
                  </a:cubicBezTo>
                  <a:close/>
                  <a:moveTo>
                    <a:pt x="1500" y="316"/>
                  </a:moveTo>
                  <a:cubicBezTo>
                    <a:pt x="1478" y="386"/>
                    <a:pt x="1452" y="465"/>
                    <a:pt x="1426" y="490"/>
                  </a:cubicBezTo>
                  <a:cubicBezTo>
                    <a:pt x="1394" y="520"/>
                    <a:pt x="1319" y="517"/>
                    <a:pt x="1249" y="519"/>
                  </a:cubicBezTo>
                  <a:cubicBezTo>
                    <a:pt x="1166" y="520"/>
                    <a:pt x="1110" y="515"/>
                    <a:pt x="1072" y="489"/>
                  </a:cubicBezTo>
                  <a:cubicBezTo>
                    <a:pt x="1036" y="465"/>
                    <a:pt x="1016" y="407"/>
                    <a:pt x="990" y="341"/>
                  </a:cubicBezTo>
                  <a:cubicBezTo>
                    <a:pt x="967" y="282"/>
                    <a:pt x="942" y="205"/>
                    <a:pt x="958" y="170"/>
                  </a:cubicBezTo>
                  <a:cubicBezTo>
                    <a:pt x="978" y="123"/>
                    <a:pt x="1136" y="88"/>
                    <a:pt x="1255" y="89"/>
                  </a:cubicBezTo>
                  <a:cubicBezTo>
                    <a:pt x="1374" y="91"/>
                    <a:pt x="1475" y="97"/>
                    <a:pt x="1514" y="132"/>
                  </a:cubicBezTo>
                  <a:cubicBezTo>
                    <a:pt x="1546" y="161"/>
                    <a:pt x="1531" y="219"/>
                    <a:pt x="1500" y="316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chemeClr val="accent4"/>
                </a:solidFill>
                <a:latin typeface="Calibri"/>
              </a:endParaRPr>
            </a:p>
          </p:txBody>
        </p:sp>
        <p:sp>
          <p:nvSpPr>
            <p:cNvPr id="137" name="左眼"/>
            <p:cNvSpPr/>
            <p:nvPr/>
          </p:nvSpPr>
          <p:spPr>
            <a:xfrm>
              <a:off x="1820880" y="4859640"/>
              <a:ext cx="177120" cy="58680"/>
            </a:xfrm>
            <a:prstGeom prst="roundRect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8" name="Freeform 67"/>
            <p:cNvSpPr/>
            <p:nvPr/>
          </p:nvSpPr>
          <p:spPr>
            <a:xfrm>
              <a:off x="1941480" y="5146200"/>
              <a:ext cx="511560" cy="145440"/>
            </a:xfrm>
            <a:custGeom>
              <a:avLst/>
              <a:gdLst>
                <a:gd name="textAreaLeft" fmla="*/ 0 w 511560"/>
                <a:gd name="textAreaRight" fmla="*/ 511920 w 5115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019" h="574">
                  <a:moveTo>
                    <a:pt x="1263" y="404"/>
                  </a:moveTo>
                  <a:cubicBezTo>
                    <a:pt x="1209" y="412"/>
                    <a:pt x="1299" y="482"/>
                    <a:pt x="1313" y="505"/>
                  </a:cubicBezTo>
                  <a:cubicBezTo>
                    <a:pt x="1199" y="543"/>
                    <a:pt x="1068" y="380"/>
                    <a:pt x="1010" y="278"/>
                  </a:cubicBezTo>
                  <a:cubicBezTo>
                    <a:pt x="911" y="372"/>
                    <a:pt x="849" y="504"/>
                    <a:pt x="682" y="530"/>
                  </a:cubicBezTo>
                  <a:cubicBezTo>
                    <a:pt x="689" y="479"/>
                    <a:pt x="750" y="481"/>
                    <a:pt x="758" y="429"/>
                  </a:cubicBezTo>
                  <a:cubicBezTo>
                    <a:pt x="636" y="451"/>
                    <a:pt x="596" y="554"/>
                    <a:pt x="429" y="530"/>
                  </a:cubicBezTo>
                  <a:cubicBezTo>
                    <a:pt x="437" y="479"/>
                    <a:pt x="498" y="481"/>
                    <a:pt x="505" y="429"/>
                  </a:cubicBezTo>
                  <a:cubicBezTo>
                    <a:pt x="429" y="463"/>
                    <a:pt x="303" y="463"/>
                    <a:pt x="227" y="429"/>
                  </a:cubicBezTo>
                  <a:cubicBezTo>
                    <a:pt x="231" y="400"/>
                    <a:pt x="273" y="408"/>
                    <a:pt x="303" y="404"/>
                  </a:cubicBezTo>
                  <a:cubicBezTo>
                    <a:pt x="183" y="296"/>
                    <a:pt x="11" y="241"/>
                    <a:pt x="0" y="25"/>
                  </a:cubicBezTo>
                  <a:cubicBezTo>
                    <a:pt x="141" y="308"/>
                    <a:pt x="715" y="319"/>
                    <a:pt x="884" y="50"/>
                  </a:cubicBezTo>
                  <a:cubicBezTo>
                    <a:pt x="983" y="39"/>
                    <a:pt x="1015" y="103"/>
                    <a:pt x="1061" y="25"/>
                  </a:cubicBezTo>
                  <a:cubicBezTo>
                    <a:pt x="1248" y="264"/>
                    <a:pt x="1870" y="375"/>
                    <a:pt x="1995" y="0"/>
                  </a:cubicBezTo>
                  <a:cubicBezTo>
                    <a:pt x="2019" y="133"/>
                    <a:pt x="1904" y="346"/>
                    <a:pt x="1717" y="354"/>
                  </a:cubicBezTo>
                  <a:cubicBezTo>
                    <a:pt x="1708" y="396"/>
                    <a:pt x="1737" y="401"/>
                    <a:pt x="1768" y="404"/>
                  </a:cubicBezTo>
                  <a:cubicBezTo>
                    <a:pt x="1743" y="470"/>
                    <a:pt x="1570" y="472"/>
                    <a:pt x="1515" y="429"/>
                  </a:cubicBezTo>
                  <a:cubicBezTo>
                    <a:pt x="1455" y="437"/>
                    <a:pt x="1543" y="498"/>
                    <a:pt x="1566" y="505"/>
                  </a:cubicBezTo>
                  <a:cubicBezTo>
                    <a:pt x="1462" y="574"/>
                    <a:pt x="1319" y="467"/>
                    <a:pt x="1263" y="4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9" name="Group 4"/>
            <p:cNvGrpSpPr/>
            <p:nvPr/>
          </p:nvGrpSpPr>
          <p:grpSpPr>
            <a:xfrm>
              <a:off x="2003400" y="5475240"/>
              <a:ext cx="391320" cy="192960"/>
              <a:chOff x="2003400" y="5475240"/>
              <a:chExt cx="391320" cy="192960"/>
            </a:xfrm>
          </p:grpSpPr>
          <p:sp>
            <p:nvSpPr>
              <p:cNvPr id="140" name="Freeform 5"/>
              <p:cNvSpPr/>
              <p:nvPr/>
            </p:nvSpPr>
            <p:spPr>
              <a:xfrm>
                <a:off x="2003400" y="5475240"/>
                <a:ext cx="148320" cy="192960"/>
              </a:xfrm>
              <a:custGeom>
                <a:avLst/>
                <a:gdLst>
                  <a:gd name="textAreaLeft" fmla="*/ 0 w 148320"/>
                  <a:gd name="textAreaRight" fmla="*/ 148680 w 14832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30" h="168">
                    <a:moveTo>
                      <a:pt x="66" y="14"/>
                    </a:moveTo>
                    <a:cubicBezTo>
                      <a:pt x="27" y="0"/>
                      <a:pt x="0" y="5"/>
                      <a:pt x="0" y="5"/>
                    </a:cubicBezTo>
                    <a:cubicBezTo>
                      <a:pt x="0" y="79"/>
                      <a:pt x="0" y="79"/>
                      <a:pt x="0" y="79"/>
                    </a:cubicBezTo>
                    <a:cubicBezTo>
                      <a:pt x="0" y="90"/>
                      <a:pt x="0" y="90"/>
                      <a:pt x="0" y="90"/>
                    </a:cubicBezTo>
                    <a:cubicBezTo>
                      <a:pt x="0" y="164"/>
                      <a:pt x="0" y="164"/>
                      <a:pt x="0" y="164"/>
                    </a:cubicBezTo>
                    <a:cubicBezTo>
                      <a:pt x="0" y="164"/>
                      <a:pt x="27" y="168"/>
                      <a:pt x="66" y="154"/>
                    </a:cubicBezTo>
                    <a:cubicBezTo>
                      <a:pt x="109" y="138"/>
                      <a:pt x="130" y="122"/>
                      <a:pt x="130" y="122"/>
                    </a:cubicBezTo>
                    <a:cubicBezTo>
                      <a:pt x="130" y="115"/>
                      <a:pt x="130" y="115"/>
                      <a:pt x="130" y="115"/>
                    </a:cubicBezTo>
                    <a:cubicBezTo>
                      <a:pt x="130" y="53"/>
                      <a:pt x="130" y="53"/>
                      <a:pt x="130" y="53"/>
                    </a:cubicBezTo>
                    <a:cubicBezTo>
                      <a:pt x="130" y="46"/>
                      <a:pt x="130" y="46"/>
                      <a:pt x="130" y="46"/>
                    </a:cubicBezTo>
                    <a:cubicBezTo>
                      <a:pt x="130" y="46"/>
                      <a:pt x="109" y="30"/>
                      <a:pt x="66" y="14"/>
                    </a:cubicBezTo>
                    <a:close/>
                  </a:path>
                </a:pathLst>
              </a:custGeom>
              <a:solidFill>
                <a:schemeClr val="tx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 6"/>
              <p:cNvSpPr/>
              <p:nvPr/>
            </p:nvSpPr>
            <p:spPr>
              <a:xfrm>
                <a:off x="2079360" y="5522040"/>
                <a:ext cx="64080" cy="979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57" h="86">
                    <a:moveTo>
                      <a:pt x="57" y="43"/>
                    </a:moveTo>
                    <a:cubicBezTo>
                      <a:pt x="57" y="43"/>
                      <a:pt x="0" y="0"/>
                      <a:pt x="0" y="43"/>
                    </a:cubicBezTo>
                    <a:cubicBezTo>
                      <a:pt x="0" y="86"/>
                      <a:pt x="57" y="43"/>
                      <a:pt x="57" y="43"/>
                    </a:cubicBezTo>
                    <a:close/>
                  </a:path>
                </a:pathLst>
              </a:custGeom>
              <a:solidFill>
                <a:schemeClr val="tx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2246400" y="5475240"/>
                <a:ext cx="148320" cy="192960"/>
              </a:xfrm>
              <a:custGeom>
                <a:avLst/>
                <a:gdLst>
                  <a:gd name="textAreaLeft" fmla="*/ 0 w 148320"/>
                  <a:gd name="textAreaRight" fmla="*/ 148680 w 14832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30" h="168">
                    <a:moveTo>
                      <a:pt x="64" y="14"/>
                    </a:moveTo>
                    <a:cubicBezTo>
                      <a:pt x="103" y="0"/>
                      <a:pt x="130" y="5"/>
                      <a:pt x="130" y="5"/>
                    </a:cubicBezTo>
                    <a:cubicBezTo>
                      <a:pt x="130" y="79"/>
                      <a:pt x="130" y="79"/>
                      <a:pt x="130" y="79"/>
                    </a:cubicBezTo>
                    <a:cubicBezTo>
                      <a:pt x="130" y="90"/>
                      <a:pt x="130" y="90"/>
                      <a:pt x="130" y="90"/>
                    </a:cubicBezTo>
                    <a:cubicBezTo>
                      <a:pt x="130" y="164"/>
                      <a:pt x="130" y="164"/>
                      <a:pt x="130" y="164"/>
                    </a:cubicBezTo>
                    <a:cubicBezTo>
                      <a:pt x="130" y="164"/>
                      <a:pt x="103" y="168"/>
                      <a:pt x="64" y="154"/>
                    </a:cubicBezTo>
                    <a:cubicBezTo>
                      <a:pt x="21" y="138"/>
                      <a:pt x="0" y="122"/>
                      <a:pt x="0" y="122"/>
                    </a:cubicBezTo>
                    <a:cubicBezTo>
                      <a:pt x="0" y="115"/>
                      <a:pt x="0" y="115"/>
                      <a:pt x="0" y="115"/>
                    </a:cubicBezTo>
                    <a:cubicBezTo>
                      <a:pt x="0" y="53"/>
                      <a:pt x="0" y="53"/>
                      <a:pt x="0" y="53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6"/>
                      <a:pt x="21" y="30"/>
                      <a:pt x="64" y="14"/>
                    </a:cubicBezTo>
                    <a:close/>
                  </a:path>
                </a:pathLst>
              </a:custGeom>
              <a:solidFill>
                <a:schemeClr val="tx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2255760" y="5522040"/>
                <a:ext cx="63000" cy="9792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56" h="86">
                    <a:moveTo>
                      <a:pt x="0" y="43"/>
                    </a:moveTo>
                    <a:cubicBezTo>
                      <a:pt x="0" y="43"/>
                      <a:pt x="56" y="0"/>
                      <a:pt x="56" y="43"/>
                    </a:cubicBezTo>
                    <a:cubicBezTo>
                      <a:pt x="56" y="86"/>
                      <a:pt x="0" y="43"/>
                      <a:pt x="0" y="43"/>
                    </a:cubicBezTo>
                    <a:close/>
                  </a:path>
                </a:pathLst>
              </a:custGeom>
              <a:solidFill>
                <a:schemeClr val="tx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Rectangle 9"/>
              <p:cNvSpPr/>
              <p:nvPr/>
            </p:nvSpPr>
            <p:spPr>
              <a:xfrm>
                <a:off x="2152440" y="5527440"/>
                <a:ext cx="93600" cy="8748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920" bIns="43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5" name="组合 194"/>
          <p:cNvGrpSpPr/>
          <p:nvPr/>
        </p:nvGrpSpPr>
        <p:grpSpPr>
          <a:xfrm>
            <a:off x="8477640" y="5348160"/>
            <a:ext cx="3722760" cy="651960"/>
            <a:chOff x="8477640" y="5348160"/>
            <a:chExt cx="3722760" cy="651960"/>
          </a:xfrm>
        </p:grpSpPr>
        <p:sp>
          <p:nvSpPr>
            <p:cNvPr id="146" name="矩形 104"/>
            <p:cNvSpPr/>
            <p:nvPr/>
          </p:nvSpPr>
          <p:spPr>
            <a:xfrm>
              <a:off x="8477640" y="5348160"/>
              <a:ext cx="3722760" cy="651960"/>
            </a:xfrm>
            <a:prstGeom prst="rect">
              <a:avLst/>
            </a:prstGeom>
            <a:solidFill>
              <a:srgbClr val="e1bc6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47" name="组合 105"/>
            <p:cNvGrpSpPr/>
            <p:nvPr/>
          </p:nvGrpSpPr>
          <p:grpSpPr>
            <a:xfrm>
              <a:off x="8709120" y="5458680"/>
              <a:ext cx="532800" cy="431280"/>
              <a:chOff x="8709120" y="5458680"/>
              <a:chExt cx="532800" cy="431280"/>
            </a:xfrm>
          </p:grpSpPr>
          <p:sp>
            <p:nvSpPr>
              <p:cNvPr id="148" name="任意多边形 106"/>
              <p:cNvSpPr/>
              <p:nvPr/>
            </p:nvSpPr>
            <p:spPr>
              <a:xfrm>
                <a:off x="8709120" y="5520600"/>
                <a:ext cx="462600" cy="369360"/>
              </a:xfrm>
              <a:custGeom>
                <a:avLst/>
                <a:gdLst>
                  <a:gd name="textAreaLeft" fmla="*/ 0 w 462600"/>
                  <a:gd name="textAreaRight" fmla="*/ 462960 w 462600"/>
                  <a:gd name="textAreaTop" fmla="*/ 0 h 369360"/>
                  <a:gd name="textAreaBottom" fmla="*/ 369720 h 369360"/>
                </a:gdLst>
                <a:ahLst/>
                <a:rect l="textAreaLeft" t="textAreaTop" r="textAreaRight" b="textAreaBottom"/>
                <a:pathLst>
                  <a:path w="5292725" h="4225843">
                    <a:moveTo>
                      <a:pt x="2555855" y="1461984"/>
                    </a:moveTo>
                    <a:cubicBezTo>
                      <a:pt x="2476174" y="1462865"/>
                      <a:pt x="2395437" y="1467093"/>
                      <a:pt x="2313762" y="1474610"/>
                    </a:cubicBezTo>
                    <a:cubicBezTo>
                      <a:pt x="1810565" y="1527228"/>
                      <a:pt x="1393737" y="1685084"/>
                      <a:pt x="1063279" y="1955693"/>
                    </a:cubicBezTo>
                    <a:cubicBezTo>
                      <a:pt x="732821" y="2222544"/>
                      <a:pt x="582613" y="2519462"/>
                      <a:pt x="612655" y="2850207"/>
                    </a:cubicBezTo>
                    <a:cubicBezTo>
                      <a:pt x="635186" y="3068197"/>
                      <a:pt x="732821" y="3259879"/>
                      <a:pt x="913071" y="3425251"/>
                    </a:cubicBezTo>
                    <a:cubicBezTo>
                      <a:pt x="1093321" y="3594382"/>
                      <a:pt x="1329899" y="3718411"/>
                      <a:pt x="1619049" y="3797339"/>
                    </a:cubicBezTo>
                    <a:cubicBezTo>
                      <a:pt x="1911955" y="3876266"/>
                      <a:pt x="2219882" y="3898817"/>
                      <a:pt x="2550340" y="3864991"/>
                    </a:cubicBezTo>
                    <a:cubicBezTo>
                      <a:pt x="3053537" y="3816131"/>
                      <a:pt x="3470364" y="3654517"/>
                      <a:pt x="3800822" y="3387666"/>
                    </a:cubicBezTo>
                    <a:cubicBezTo>
                      <a:pt x="4131280" y="3120816"/>
                      <a:pt x="4281488" y="2820139"/>
                      <a:pt x="4247691" y="2489394"/>
                    </a:cubicBezTo>
                    <a:cubicBezTo>
                      <a:pt x="4228915" y="2275162"/>
                      <a:pt x="4127525" y="2083481"/>
                      <a:pt x="3947275" y="1914350"/>
                    </a:cubicBezTo>
                    <a:cubicBezTo>
                      <a:pt x="3767025" y="1748977"/>
                      <a:pt x="3530448" y="1624948"/>
                      <a:pt x="3241297" y="1546021"/>
                    </a:cubicBezTo>
                    <a:cubicBezTo>
                      <a:pt x="3024434" y="1486825"/>
                      <a:pt x="2794897" y="1459341"/>
                      <a:pt x="2555855" y="1461984"/>
                    </a:cubicBezTo>
                    <a:close/>
                    <a:moveTo>
                      <a:pt x="2560905" y="269"/>
                    </a:moveTo>
                    <a:cubicBezTo>
                      <a:pt x="2699891" y="4027"/>
                      <a:pt x="2811643" y="47241"/>
                      <a:pt x="2896161" y="129911"/>
                    </a:cubicBezTo>
                    <a:cubicBezTo>
                      <a:pt x="3042660" y="276463"/>
                      <a:pt x="3065198" y="513200"/>
                      <a:pt x="2963776" y="840123"/>
                    </a:cubicBezTo>
                    <a:cubicBezTo>
                      <a:pt x="2952507" y="870185"/>
                      <a:pt x="2952507" y="892731"/>
                      <a:pt x="2960020" y="907762"/>
                    </a:cubicBezTo>
                    <a:cubicBezTo>
                      <a:pt x="2967532" y="919036"/>
                      <a:pt x="2978801" y="926551"/>
                      <a:pt x="2993827" y="930309"/>
                    </a:cubicBezTo>
                    <a:cubicBezTo>
                      <a:pt x="3008852" y="934066"/>
                      <a:pt x="3023878" y="930309"/>
                      <a:pt x="3042660" y="930309"/>
                    </a:cubicBezTo>
                    <a:cubicBezTo>
                      <a:pt x="3057685" y="926551"/>
                      <a:pt x="3072711" y="922793"/>
                      <a:pt x="3087736" y="915278"/>
                    </a:cubicBezTo>
                    <a:cubicBezTo>
                      <a:pt x="3110274" y="911520"/>
                      <a:pt x="3110274" y="911520"/>
                      <a:pt x="3110274" y="911520"/>
                    </a:cubicBezTo>
                    <a:cubicBezTo>
                      <a:pt x="3422053" y="776242"/>
                      <a:pt x="3700024" y="708602"/>
                      <a:pt x="3940432" y="708602"/>
                    </a:cubicBezTo>
                    <a:cubicBezTo>
                      <a:pt x="4184596" y="708602"/>
                      <a:pt x="4357389" y="779999"/>
                      <a:pt x="4458811" y="915278"/>
                    </a:cubicBezTo>
                    <a:cubicBezTo>
                      <a:pt x="4560233" y="1058072"/>
                      <a:pt x="4560233" y="1260990"/>
                      <a:pt x="4458811" y="1520273"/>
                    </a:cubicBezTo>
                    <a:cubicBezTo>
                      <a:pt x="4455055" y="1550335"/>
                      <a:pt x="4451298" y="1572882"/>
                      <a:pt x="4443786" y="1587913"/>
                    </a:cubicBezTo>
                    <a:cubicBezTo>
                      <a:pt x="4440029" y="1602944"/>
                      <a:pt x="4443786" y="1617974"/>
                      <a:pt x="4458811" y="1629248"/>
                    </a:cubicBezTo>
                    <a:cubicBezTo>
                      <a:pt x="4473837" y="1640521"/>
                      <a:pt x="4488862" y="1651794"/>
                      <a:pt x="4500131" y="1655552"/>
                    </a:cubicBezTo>
                    <a:cubicBezTo>
                      <a:pt x="4511400" y="1659310"/>
                      <a:pt x="4530182" y="1666825"/>
                      <a:pt x="4556477" y="1674341"/>
                    </a:cubicBezTo>
                    <a:cubicBezTo>
                      <a:pt x="4687950" y="1715676"/>
                      <a:pt x="4800641" y="1768284"/>
                      <a:pt x="4905819" y="1835923"/>
                    </a:cubicBezTo>
                    <a:cubicBezTo>
                      <a:pt x="5010998" y="1899805"/>
                      <a:pt x="5101150" y="1989990"/>
                      <a:pt x="5176278" y="2110238"/>
                    </a:cubicBezTo>
                    <a:cubicBezTo>
                      <a:pt x="5255162" y="2230485"/>
                      <a:pt x="5292725" y="2362006"/>
                      <a:pt x="5292725" y="2504800"/>
                    </a:cubicBezTo>
                    <a:cubicBezTo>
                      <a:pt x="5292725" y="2658867"/>
                      <a:pt x="5251405" y="2816692"/>
                      <a:pt x="5168765" y="2978275"/>
                    </a:cubicBezTo>
                    <a:cubicBezTo>
                      <a:pt x="5082369" y="3139857"/>
                      <a:pt x="4962165" y="3293925"/>
                      <a:pt x="4796884" y="3440476"/>
                    </a:cubicBezTo>
                    <a:cubicBezTo>
                      <a:pt x="4635361" y="3590786"/>
                      <a:pt x="4443786" y="3722307"/>
                      <a:pt x="4225916" y="3838796"/>
                    </a:cubicBezTo>
                    <a:cubicBezTo>
                      <a:pt x="4008047" y="3955286"/>
                      <a:pt x="3752614" y="4049230"/>
                      <a:pt x="3463373" y="4120627"/>
                    </a:cubicBezTo>
                    <a:cubicBezTo>
                      <a:pt x="3170376" y="4188266"/>
                      <a:pt x="2866110" y="4225843"/>
                      <a:pt x="2546819" y="4225843"/>
                    </a:cubicBezTo>
                    <a:cubicBezTo>
                      <a:pt x="2227527" y="4225843"/>
                      <a:pt x="1919505" y="4188266"/>
                      <a:pt x="1615239" y="4113111"/>
                    </a:cubicBezTo>
                    <a:cubicBezTo>
                      <a:pt x="1310973" y="4037956"/>
                      <a:pt x="1040515" y="3932740"/>
                      <a:pt x="800107" y="3797461"/>
                    </a:cubicBezTo>
                    <a:cubicBezTo>
                      <a:pt x="559699" y="3662183"/>
                      <a:pt x="368124" y="3493085"/>
                      <a:pt x="221626" y="3286409"/>
                    </a:cubicBezTo>
                    <a:cubicBezTo>
                      <a:pt x="75128" y="3079734"/>
                      <a:pt x="0" y="2854270"/>
                      <a:pt x="0" y="2610017"/>
                    </a:cubicBezTo>
                    <a:cubicBezTo>
                      <a:pt x="0" y="2350733"/>
                      <a:pt x="78884" y="2072660"/>
                      <a:pt x="236651" y="1779557"/>
                    </a:cubicBezTo>
                    <a:cubicBezTo>
                      <a:pt x="390663" y="1486454"/>
                      <a:pt x="616045" y="1197108"/>
                      <a:pt x="905285" y="907762"/>
                    </a:cubicBezTo>
                    <a:cubicBezTo>
                      <a:pt x="1284679" y="524473"/>
                      <a:pt x="1671585" y="257674"/>
                      <a:pt x="2062247" y="107365"/>
                    </a:cubicBezTo>
                    <a:cubicBezTo>
                      <a:pt x="2255700" y="32210"/>
                      <a:pt x="2421920" y="-3489"/>
                      <a:pt x="2560905" y="269"/>
                    </a:cubicBezTo>
                    <a:close/>
                  </a:path>
                </a:pathLst>
              </a:custGeom>
              <a:solidFill>
                <a:srgbClr val="ffff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9" name="任意多边形 107"/>
              <p:cNvSpPr/>
              <p:nvPr/>
            </p:nvSpPr>
            <p:spPr>
              <a:xfrm>
                <a:off x="8825760" y="5691240"/>
                <a:ext cx="168480" cy="14724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147240"/>
                  <a:gd name="textAreaBottom" fmla="*/ 147600 h 147240"/>
                </a:gdLst>
                <a:ahLst/>
                <a:rect l="textAreaLeft" t="textAreaTop" r="textAreaRight" b="textAreaBottom"/>
                <a:pathLst>
                  <a:path w="1931197" h="1686027">
                    <a:moveTo>
                      <a:pt x="714013" y="702998"/>
                    </a:moveTo>
                    <a:cubicBezTo>
                      <a:pt x="672695" y="702057"/>
                      <a:pt x="630437" y="708645"/>
                      <a:pt x="587241" y="723702"/>
                    </a:cubicBezTo>
                    <a:cubicBezTo>
                      <a:pt x="497092" y="753817"/>
                      <a:pt x="429480" y="806518"/>
                      <a:pt x="384405" y="881806"/>
                    </a:cubicBezTo>
                    <a:cubicBezTo>
                      <a:pt x="335574" y="957093"/>
                      <a:pt x="320549" y="1036145"/>
                      <a:pt x="339330" y="1111432"/>
                    </a:cubicBezTo>
                    <a:cubicBezTo>
                      <a:pt x="361868" y="1190484"/>
                      <a:pt x="410698" y="1246950"/>
                      <a:pt x="485823" y="1284594"/>
                    </a:cubicBezTo>
                    <a:cubicBezTo>
                      <a:pt x="560947" y="1322237"/>
                      <a:pt x="647340" y="1322237"/>
                      <a:pt x="737489" y="1292122"/>
                    </a:cubicBezTo>
                    <a:cubicBezTo>
                      <a:pt x="827639" y="1262007"/>
                      <a:pt x="899007" y="1209306"/>
                      <a:pt x="947838" y="1130254"/>
                    </a:cubicBezTo>
                    <a:cubicBezTo>
                      <a:pt x="996669" y="1054967"/>
                      <a:pt x="1007937" y="975915"/>
                      <a:pt x="985400" y="896863"/>
                    </a:cubicBezTo>
                    <a:cubicBezTo>
                      <a:pt x="962863" y="817811"/>
                      <a:pt x="914032" y="761346"/>
                      <a:pt x="835151" y="727467"/>
                    </a:cubicBezTo>
                    <a:cubicBezTo>
                      <a:pt x="795711" y="712409"/>
                      <a:pt x="755332" y="703939"/>
                      <a:pt x="714013" y="702998"/>
                    </a:cubicBezTo>
                    <a:close/>
                    <a:moveTo>
                      <a:pt x="1174130" y="561465"/>
                    </a:moveTo>
                    <a:cubicBezTo>
                      <a:pt x="1158175" y="561465"/>
                      <a:pt x="1142219" y="564281"/>
                      <a:pt x="1125325" y="569913"/>
                    </a:cubicBezTo>
                    <a:cubicBezTo>
                      <a:pt x="1091537" y="584931"/>
                      <a:pt x="1069012" y="603704"/>
                      <a:pt x="1050241" y="633741"/>
                    </a:cubicBezTo>
                    <a:cubicBezTo>
                      <a:pt x="1012698" y="705078"/>
                      <a:pt x="1027715" y="753887"/>
                      <a:pt x="1095291" y="783924"/>
                    </a:cubicBezTo>
                    <a:cubicBezTo>
                      <a:pt x="1129079" y="795187"/>
                      <a:pt x="1159113" y="795187"/>
                      <a:pt x="1192901" y="783924"/>
                    </a:cubicBezTo>
                    <a:cubicBezTo>
                      <a:pt x="1226689" y="772660"/>
                      <a:pt x="1252969" y="750132"/>
                      <a:pt x="1267986" y="720096"/>
                    </a:cubicBezTo>
                    <a:cubicBezTo>
                      <a:pt x="1286757" y="693814"/>
                      <a:pt x="1290511" y="663777"/>
                      <a:pt x="1279249" y="629986"/>
                    </a:cubicBezTo>
                    <a:cubicBezTo>
                      <a:pt x="1271740" y="599950"/>
                      <a:pt x="1249215" y="581177"/>
                      <a:pt x="1222935" y="569913"/>
                    </a:cubicBezTo>
                    <a:cubicBezTo>
                      <a:pt x="1206041" y="564281"/>
                      <a:pt x="1190086" y="561465"/>
                      <a:pt x="1174130" y="561465"/>
                    </a:cubicBezTo>
                    <a:close/>
                    <a:moveTo>
                      <a:pt x="1043484" y="17"/>
                    </a:moveTo>
                    <a:cubicBezTo>
                      <a:pt x="1132797" y="-489"/>
                      <a:pt x="1222441" y="10428"/>
                      <a:pt x="1312614" y="32968"/>
                    </a:cubicBezTo>
                    <a:cubicBezTo>
                      <a:pt x="1564345" y="100587"/>
                      <a:pt x="1740933" y="235826"/>
                      <a:pt x="1849891" y="438684"/>
                    </a:cubicBezTo>
                    <a:cubicBezTo>
                      <a:pt x="1955092" y="641542"/>
                      <a:pt x="1958849" y="859426"/>
                      <a:pt x="1857405" y="1084824"/>
                    </a:cubicBezTo>
                    <a:cubicBezTo>
                      <a:pt x="1755961" y="1313978"/>
                      <a:pt x="1575616" y="1483026"/>
                      <a:pt x="1323885" y="1591968"/>
                    </a:cubicBezTo>
                    <a:cubicBezTo>
                      <a:pt x="1068397" y="1700911"/>
                      <a:pt x="812908" y="1715937"/>
                      <a:pt x="564934" y="1633291"/>
                    </a:cubicBezTo>
                    <a:cubicBezTo>
                      <a:pt x="320717" y="1554402"/>
                      <a:pt x="155401" y="1411650"/>
                      <a:pt x="65229" y="1205036"/>
                    </a:cubicBezTo>
                    <a:cubicBezTo>
                      <a:pt x="-28701" y="994665"/>
                      <a:pt x="-21186" y="784294"/>
                      <a:pt x="87772" y="570166"/>
                    </a:cubicBezTo>
                    <a:cubicBezTo>
                      <a:pt x="192973" y="359795"/>
                      <a:pt x="362046" y="202016"/>
                      <a:pt x="598749" y="96831"/>
                    </a:cubicBezTo>
                    <a:cubicBezTo>
                      <a:pt x="746688" y="33438"/>
                      <a:pt x="894627" y="861"/>
                      <a:pt x="1043484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0" name="Freeform 10"/>
              <p:cNvSpPr/>
              <p:nvPr/>
            </p:nvSpPr>
            <p:spPr>
              <a:xfrm>
                <a:off x="9053280" y="5458680"/>
                <a:ext cx="188640" cy="2001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575" h="610">
                    <a:moveTo>
                      <a:pt x="3" y="88"/>
                    </a:moveTo>
                    <a:cubicBezTo>
                      <a:pt x="0" y="71"/>
                      <a:pt x="2" y="56"/>
                      <a:pt x="12" y="42"/>
                    </a:cubicBezTo>
                    <a:cubicBezTo>
                      <a:pt x="21" y="28"/>
                      <a:pt x="34" y="19"/>
                      <a:pt x="51" y="15"/>
                    </a:cubicBezTo>
                    <a:cubicBezTo>
                      <a:pt x="125" y="0"/>
                      <a:pt x="198" y="3"/>
                      <a:pt x="271" y="25"/>
                    </a:cubicBezTo>
                    <a:cubicBezTo>
                      <a:pt x="344" y="48"/>
                      <a:pt x="406" y="88"/>
                      <a:pt x="458" y="147"/>
                    </a:cubicBezTo>
                    <a:cubicBezTo>
                      <a:pt x="511" y="204"/>
                      <a:pt x="544" y="271"/>
                      <a:pt x="560" y="347"/>
                    </a:cubicBezTo>
                    <a:cubicBezTo>
                      <a:pt x="575" y="423"/>
                      <a:pt x="571" y="496"/>
                      <a:pt x="548" y="565"/>
                    </a:cubicBezTo>
                    <a:cubicBezTo>
                      <a:pt x="542" y="581"/>
                      <a:pt x="532" y="593"/>
                      <a:pt x="517" y="601"/>
                    </a:cubicBezTo>
                    <a:cubicBezTo>
                      <a:pt x="502" y="609"/>
                      <a:pt x="486" y="610"/>
                      <a:pt x="470" y="605"/>
                    </a:cubicBezTo>
                    <a:cubicBezTo>
                      <a:pt x="454" y="599"/>
                      <a:pt x="442" y="589"/>
                      <a:pt x="434" y="574"/>
                    </a:cubicBezTo>
                    <a:cubicBezTo>
                      <a:pt x="426" y="559"/>
                      <a:pt x="425" y="543"/>
                      <a:pt x="430" y="527"/>
                    </a:cubicBezTo>
                    <a:cubicBezTo>
                      <a:pt x="446" y="478"/>
                      <a:pt x="449" y="426"/>
                      <a:pt x="439" y="372"/>
                    </a:cubicBezTo>
                    <a:cubicBezTo>
                      <a:pt x="428" y="318"/>
                      <a:pt x="404" y="271"/>
                      <a:pt x="366" y="230"/>
                    </a:cubicBezTo>
                    <a:cubicBezTo>
                      <a:pt x="329" y="188"/>
                      <a:pt x="285" y="160"/>
                      <a:pt x="233" y="144"/>
                    </a:cubicBezTo>
                    <a:cubicBezTo>
                      <a:pt x="181" y="128"/>
                      <a:pt x="129" y="125"/>
                      <a:pt x="77" y="136"/>
                    </a:cubicBezTo>
                    <a:cubicBezTo>
                      <a:pt x="60" y="140"/>
                      <a:pt x="45" y="137"/>
                      <a:pt x="30" y="127"/>
                    </a:cubicBezTo>
                    <a:cubicBezTo>
                      <a:pt x="16" y="118"/>
                      <a:pt x="7" y="105"/>
                      <a:pt x="3" y="88"/>
                    </a:cubicBezTo>
                    <a:close/>
                  </a:path>
                </a:pathLst>
              </a:custGeom>
              <a:solidFill>
                <a:srgbClr val="ffff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1" name="Freeform 11"/>
              <p:cNvSpPr/>
              <p:nvPr/>
            </p:nvSpPr>
            <p:spPr>
              <a:xfrm>
                <a:off x="9070560" y="5531400"/>
                <a:ext cx="97920" cy="1029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99" h="314">
                    <a:moveTo>
                      <a:pt x="3" y="71"/>
                    </a:moveTo>
                    <a:cubicBezTo>
                      <a:pt x="0" y="56"/>
                      <a:pt x="3" y="43"/>
                      <a:pt x="11" y="31"/>
                    </a:cubicBezTo>
                    <a:cubicBezTo>
                      <a:pt x="18" y="18"/>
                      <a:pt x="29" y="11"/>
                      <a:pt x="44" y="8"/>
                    </a:cubicBezTo>
                    <a:cubicBezTo>
                      <a:pt x="80" y="0"/>
                      <a:pt x="116" y="2"/>
                      <a:pt x="151" y="13"/>
                    </a:cubicBezTo>
                    <a:cubicBezTo>
                      <a:pt x="187" y="24"/>
                      <a:pt x="217" y="43"/>
                      <a:pt x="242" y="72"/>
                    </a:cubicBezTo>
                    <a:cubicBezTo>
                      <a:pt x="267" y="100"/>
                      <a:pt x="284" y="133"/>
                      <a:pt x="291" y="169"/>
                    </a:cubicBezTo>
                    <a:cubicBezTo>
                      <a:pt x="299" y="206"/>
                      <a:pt x="297" y="242"/>
                      <a:pt x="285" y="275"/>
                    </a:cubicBezTo>
                    <a:cubicBezTo>
                      <a:pt x="281" y="289"/>
                      <a:pt x="272" y="299"/>
                      <a:pt x="259" y="306"/>
                    </a:cubicBezTo>
                    <a:cubicBezTo>
                      <a:pt x="246" y="313"/>
                      <a:pt x="233" y="314"/>
                      <a:pt x="219" y="310"/>
                    </a:cubicBezTo>
                    <a:cubicBezTo>
                      <a:pt x="205" y="305"/>
                      <a:pt x="195" y="296"/>
                      <a:pt x="188" y="283"/>
                    </a:cubicBezTo>
                    <a:cubicBezTo>
                      <a:pt x="182" y="270"/>
                      <a:pt x="180" y="257"/>
                      <a:pt x="185" y="243"/>
                    </a:cubicBezTo>
                    <a:cubicBezTo>
                      <a:pt x="197" y="205"/>
                      <a:pt x="189" y="172"/>
                      <a:pt x="163" y="143"/>
                    </a:cubicBezTo>
                    <a:cubicBezTo>
                      <a:pt x="136" y="114"/>
                      <a:pt x="104" y="103"/>
                      <a:pt x="66" y="111"/>
                    </a:cubicBezTo>
                    <a:cubicBezTo>
                      <a:pt x="52" y="114"/>
                      <a:pt x="38" y="112"/>
                      <a:pt x="26" y="104"/>
                    </a:cubicBezTo>
                    <a:cubicBezTo>
                      <a:pt x="13" y="96"/>
                      <a:pt x="6" y="85"/>
                      <a:pt x="3" y="71"/>
                    </a:cubicBezTo>
                    <a:close/>
                  </a:path>
                </a:pathLst>
              </a:custGeom>
              <a:solidFill>
                <a:srgbClr val="ffff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52" name="文本框 110"/>
            <p:cNvSpPr/>
            <p:nvPr/>
          </p:nvSpPr>
          <p:spPr>
            <a:xfrm>
              <a:off x="9255600" y="5392800"/>
              <a:ext cx="1843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3200" spc="-100" strike="noStrike">
                <a:solidFill>
                  <a:srgbClr val="ffffff"/>
                </a:solidFill>
                <a:latin typeface="造字工房悦黑体验版细体"/>
                <a:ea typeface="造字工房悦黑体验版细体"/>
              </a:endParaRPr>
            </a:p>
          </p:txBody>
        </p:sp>
      </p:grpSp>
      <p:sp>
        <p:nvSpPr>
          <p:cNvPr id="153" name="矩形 1"/>
          <p:cNvSpPr/>
          <p:nvPr/>
        </p:nvSpPr>
        <p:spPr>
          <a:xfrm>
            <a:off x="3482640" y="99900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低面风格背景制作教程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矩形 1"/>
          <p:cNvSpPr/>
          <p:nvPr/>
        </p:nvSpPr>
        <p:spPr>
          <a:xfrm>
            <a:off x="0" y="577548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2" name="任意多边形 2"/>
          <p:cNvSpPr/>
          <p:nvPr/>
        </p:nvSpPr>
        <p:spPr>
          <a:xfrm rot="10800000">
            <a:off x="707040" y="5775840"/>
            <a:ext cx="383760" cy="285480"/>
          </a:xfrm>
          <a:custGeom>
            <a:avLst/>
            <a:gdLst>
              <a:gd name="textAreaLeft" fmla="*/ 0 w 383760"/>
              <a:gd name="textAreaRight" fmla="*/ 384120 w 3837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84284" h="285750">
                <a:moveTo>
                  <a:pt x="384284" y="285750"/>
                </a:moveTo>
                <a:lnTo>
                  <a:pt x="0" y="285750"/>
                </a:lnTo>
                <a:lnTo>
                  <a:pt x="192142" y="0"/>
                </a:lnTo>
                <a:close/>
              </a:path>
            </a:pathLst>
          </a:cu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3" name="文本框 3"/>
          <p:cNvSpPr/>
          <p:nvPr/>
        </p:nvSpPr>
        <p:spPr>
          <a:xfrm>
            <a:off x="2493000" y="6047280"/>
            <a:ext cx="7205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用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AI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打开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DF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，全选复制，在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中粘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9"/>
          <p:cNvGrpSpPr/>
          <p:nvPr/>
        </p:nvGrpSpPr>
        <p:grpSpPr>
          <a:xfrm>
            <a:off x="4887000" y="2019600"/>
            <a:ext cx="1799640" cy="1799640"/>
            <a:chOff x="4887000" y="2019600"/>
            <a:chExt cx="1799640" cy="1799640"/>
          </a:xfrm>
        </p:grpSpPr>
        <p:sp>
          <p:nvSpPr>
            <p:cNvPr id="365" name="矩形 4"/>
            <p:cNvSpPr/>
            <p:nvPr/>
          </p:nvSpPr>
          <p:spPr>
            <a:xfrm>
              <a:off x="4887000" y="2019600"/>
              <a:ext cx="1799640" cy="1799640"/>
            </a:xfrm>
            <a:prstGeom prst="rect">
              <a:avLst/>
            </a:prstGeom>
            <a:solidFill>
              <a:srgbClr val="fd7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6" name="矩形 6"/>
            <p:cNvSpPr/>
            <p:nvPr/>
          </p:nvSpPr>
          <p:spPr>
            <a:xfrm>
              <a:off x="4959000" y="2091600"/>
              <a:ext cx="1655640" cy="165564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7" name="文本框 8"/>
            <p:cNvSpPr/>
            <p:nvPr/>
          </p:nvSpPr>
          <p:spPr>
            <a:xfrm>
              <a:off x="5195520" y="2196360"/>
              <a:ext cx="118224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800" spc="-1" strike="noStrike">
                  <a:solidFill>
                    <a:srgbClr val="fd751c"/>
                  </a:solidFill>
                  <a:latin typeface="Adobe Gothic Std B"/>
                  <a:ea typeface="Adobe Gothic Std B"/>
                </a:rPr>
                <a:t>Ai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22"/>
          <p:cNvGrpSpPr/>
          <p:nvPr/>
        </p:nvGrpSpPr>
        <p:grpSpPr>
          <a:xfrm>
            <a:off x="1788840" y="2019600"/>
            <a:ext cx="1308960" cy="1799640"/>
            <a:chOff x="1788840" y="2019600"/>
            <a:chExt cx="1308960" cy="1799640"/>
          </a:xfrm>
        </p:grpSpPr>
        <p:sp>
          <p:nvSpPr>
            <p:cNvPr id="369" name="Freeform 5"/>
            <p:cNvSpPr/>
            <p:nvPr/>
          </p:nvSpPr>
          <p:spPr>
            <a:xfrm>
              <a:off x="1788840" y="2019600"/>
              <a:ext cx="1308600" cy="1799640"/>
            </a:xfrm>
            <a:custGeom>
              <a:avLst/>
              <a:gdLst>
                <a:gd name="textAreaLeft" fmla="*/ 0 w 1308600"/>
                <a:gd name="textAreaRight" fmla="*/ 1308960 w 1308600"/>
                <a:gd name="textAreaTop" fmla="*/ 0 h 1799640"/>
                <a:gd name="textAreaBottom" fmla="*/ 1800000 h 1799640"/>
              </a:gdLst>
              <a:ahLst/>
              <a:rect l="textAreaLeft" t="textAreaTop" r="textAreaRight" b="textAreaBottom"/>
              <a:pathLst>
                <a:path w="180" h="248">
                  <a:moveTo>
                    <a:pt x="116" y="56"/>
                  </a:moveTo>
                  <a:cubicBezTo>
                    <a:pt x="116" y="0"/>
                    <a:pt x="116" y="0"/>
                    <a:pt x="116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4" y="0"/>
                    <a:pt x="0" y="4"/>
                    <a:pt x="0" y="8"/>
                  </a:cubicBezTo>
                  <a:cubicBezTo>
                    <a:pt x="0" y="240"/>
                    <a:pt x="0" y="240"/>
                    <a:pt x="0" y="240"/>
                  </a:cubicBezTo>
                  <a:cubicBezTo>
                    <a:pt x="0" y="244"/>
                    <a:pt x="4" y="248"/>
                    <a:pt x="8" y="248"/>
                  </a:cubicBezTo>
                  <a:cubicBezTo>
                    <a:pt x="172" y="248"/>
                    <a:pt x="172" y="248"/>
                    <a:pt x="172" y="248"/>
                  </a:cubicBezTo>
                  <a:cubicBezTo>
                    <a:pt x="176" y="248"/>
                    <a:pt x="180" y="244"/>
                    <a:pt x="180" y="240"/>
                  </a:cubicBezTo>
                  <a:cubicBezTo>
                    <a:pt x="180" y="64"/>
                    <a:pt x="180" y="64"/>
                    <a:pt x="180" y="64"/>
                  </a:cubicBezTo>
                  <a:cubicBezTo>
                    <a:pt x="124" y="64"/>
                    <a:pt x="124" y="64"/>
                    <a:pt x="124" y="64"/>
                  </a:cubicBezTo>
                  <a:cubicBezTo>
                    <a:pt x="120" y="64"/>
                    <a:pt x="116" y="60"/>
                    <a:pt x="116" y="56"/>
                  </a:cubicBezTo>
                  <a:close/>
                </a:path>
              </a:pathLst>
            </a:cu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6"/>
            <p:cNvSpPr/>
            <p:nvPr/>
          </p:nvSpPr>
          <p:spPr>
            <a:xfrm>
              <a:off x="2631600" y="2019600"/>
              <a:ext cx="466200" cy="46332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64" h="64">
                  <a:moveTo>
                    <a:pt x="0" y="56"/>
                  </a:moveTo>
                  <a:cubicBezTo>
                    <a:pt x="0" y="60"/>
                    <a:pt x="4" y="64"/>
                    <a:pt x="8" y="64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56"/>
                  </a:lnTo>
                  <a:close/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7"/>
            <p:cNvSpPr/>
            <p:nvPr/>
          </p:nvSpPr>
          <p:spPr>
            <a:xfrm>
              <a:off x="2049480" y="2889360"/>
              <a:ext cx="202680" cy="32076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8" h="44">
                  <a:moveTo>
                    <a:pt x="0" y="1"/>
                  </a:moveTo>
                  <a:cubicBezTo>
                    <a:pt x="3" y="0"/>
                    <a:pt x="6" y="0"/>
                    <a:pt x="12" y="0"/>
                  </a:cubicBezTo>
                  <a:cubicBezTo>
                    <a:pt x="17" y="0"/>
                    <a:pt x="21" y="1"/>
                    <a:pt x="23" y="4"/>
                  </a:cubicBezTo>
                  <a:cubicBezTo>
                    <a:pt x="26" y="6"/>
                    <a:pt x="28" y="9"/>
                    <a:pt x="28" y="14"/>
                  </a:cubicBezTo>
                  <a:cubicBezTo>
                    <a:pt x="28" y="18"/>
                    <a:pt x="26" y="22"/>
                    <a:pt x="24" y="24"/>
                  </a:cubicBezTo>
                  <a:cubicBezTo>
                    <a:pt x="21" y="27"/>
                    <a:pt x="17" y="28"/>
                    <a:pt x="12" y="28"/>
                  </a:cubicBezTo>
                  <a:cubicBezTo>
                    <a:pt x="10" y="28"/>
                    <a:pt x="9" y="28"/>
                    <a:pt x="8" y="28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0" y="44"/>
                    <a:pt x="0" y="44"/>
                    <a:pt x="0" y="44"/>
                  </a:cubicBezTo>
                  <a:lnTo>
                    <a:pt x="0" y="1"/>
                  </a:lnTo>
                  <a:close/>
                  <a:moveTo>
                    <a:pt x="8" y="20"/>
                  </a:moveTo>
                  <a:cubicBezTo>
                    <a:pt x="9" y="20"/>
                    <a:pt x="10" y="20"/>
                    <a:pt x="11" y="20"/>
                  </a:cubicBezTo>
                  <a:cubicBezTo>
                    <a:pt x="17" y="20"/>
                    <a:pt x="20" y="18"/>
                    <a:pt x="20" y="14"/>
                  </a:cubicBezTo>
                  <a:cubicBezTo>
                    <a:pt x="20" y="10"/>
                    <a:pt x="17" y="8"/>
                    <a:pt x="12" y="8"/>
                  </a:cubicBezTo>
                  <a:cubicBezTo>
                    <a:pt x="10" y="8"/>
                    <a:pt x="9" y="8"/>
                    <a:pt x="8" y="8"/>
                  </a:cubicBezTo>
                  <a:cubicBezTo>
                    <a:pt x="8" y="20"/>
                    <a:pt x="8" y="20"/>
                    <a:pt x="8" y="20"/>
                  </a:cubicBezTo>
                  <a:close/>
                </a:path>
              </a:pathLst>
            </a:custGeom>
            <a:solidFill>
              <a:srgbClr val="fff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8"/>
            <p:cNvSpPr/>
            <p:nvPr/>
          </p:nvSpPr>
          <p:spPr>
            <a:xfrm>
              <a:off x="2313360" y="2889360"/>
              <a:ext cx="260280" cy="3207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36" h="44">
                  <a:moveTo>
                    <a:pt x="0" y="1"/>
                  </a:moveTo>
                  <a:cubicBezTo>
                    <a:pt x="3" y="1"/>
                    <a:pt x="8" y="0"/>
                    <a:pt x="12" y="0"/>
                  </a:cubicBezTo>
                  <a:cubicBezTo>
                    <a:pt x="20" y="0"/>
                    <a:pt x="25" y="2"/>
                    <a:pt x="29" y="5"/>
                  </a:cubicBezTo>
                  <a:cubicBezTo>
                    <a:pt x="33" y="8"/>
                    <a:pt x="36" y="13"/>
                    <a:pt x="36" y="21"/>
                  </a:cubicBezTo>
                  <a:cubicBezTo>
                    <a:pt x="36" y="29"/>
                    <a:pt x="33" y="35"/>
                    <a:pt x="29" y="38"/>
                  </a:cubicBezTo>
                  <a:cubicBezTo>
                    <a:pt x="25" y="42"/>
                    <a:pt x="18" y="44"/>
                    <a:pt x="10" y="44"/>
                  </a:cubicBezTo>
                  <a:cubicBezTo>
                    <a:pt x="6" y="44"/>
                    <a:pt x="2" y="44"/>
                    <a:pt x="0" y="43"/>
                  </a:cubicBezTo>
                  <a:lnTo>
                    <a:pt x="0" y="1"/>
                  </a:lnTo>
                  <a:close/>
                  <a:moveTo>
                    <a:pt x="8" y="36"/>
                  </a:moveTo>
                  <a:cubicBezTo>
                    <a:pt x="9" y="36"/>
                    <a:pt x="10" y="36"/>
                    <a:pt x="12" y="36"/>
                  </a:cubicBezTo>
                  <a:cubicBezTo>
                    <a:pt x="22" y="36"/>
                    <a:pt x="28" y="31"/>
                    <a:pt x="28" y="21"/>
                  </a:cubicBezTo>
                  <a:cubicBezTo>
                    <a:pt x="28" y="12"/>
                    <a:pt x="22" y="8"/>
                    <a:pt x="13" y="8"/>
                  </a:cubicBezTo>
                  <a:cubicBezTo>
                    <a:pt x="10" y="8"/>
                    <a:pt x="9" y="8"/>
                    <a:pt x="8" y="8"/>
                  </a:cubicBezTo>
                  <a:lnTo>
                    <a:pt x="8" y="36"/>
                  </a:lnTo>
                  <a:close/>
                </a:path>
              </a:pathLst>
            </a:custGeom>
            <a:solidFill>
              <a:srgbClr val="fff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9"/>
            <p:cNvSpPr/>
            <p:nvPr/>
          </p:nvSpPr>
          <p:spPr>
            <a:xfrm>
              <a:off x="2661840" y="2889360"/>
              <a:ext cx="172440" cy="32076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57" h="106">
                  <a:moveTo>
                    <a:pt x="0" y="0"/>
                  </a:moveTo>
                  <a:lnTo>
                    <a:pt x="57" y="0"/>
                  </a:lnTo>
                  <a:lnTo>
                    <a:pt x="57" y="19"/>
                  </a:lnTo>
                  <a:lnTo>
                    <a:pt x="19" y="19"/>
                  </a:lnTo>
                  <a:lnTo>
                    <a:pt x="19" y="48"/>
                  </a:lnTo>
                  <a:lnTo>
                    <a:pt x="57" y="48"/>
                  </a:lnTo>
                  <a:lnTo>
                    <a:pt x="57" y="67"/>
                  </a:lnTo>
                  <a:lnTo>
                    <a:pt x="19" y="67"/>
                  </a:lnTo>
                  <a:lnTo>
                    <a:pt x="19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4" name="Freeform 13"/>
          <p:cNvSpPr/>
          <p:nvPr/>
        </p:nvSpPr>
        <p:spPr>
          <a:xfrm rot="2700000">
            <a:off x="6902280" y="800280"/>
            <a:ext cx="1907640" cy="1660320"/>
          </a:xfrm>
          <a:custGeom>
            <a:avLst/>
            <a:gdLst>
              <a:gd name="textAreaLeft" fmla="*/ 0 w 1907640"/>
              <a:gd name="textAreaRight" fmla="*/ 1908000 w 1907640"/>
              <a:gd name="textAreaTop" fmla="*/ 0 h 1660320"/>
              <a:gd name="textAreaBottom" fmla="*/ 1660680 h 1660320"/>
            </a:gdLst>
            <a:ahLst/>
            <a:rect l="textAreaLeft" t="textAreaTop" r="textAreaRight" b="textAreaBottom"/>
            <a:pathLst>
              <a:path w="404" h="351">
                <a:moveTo>
                  <a:pt x="145" y="76"/>
                </a:moveTo>
                <a:cubicBezTo>
                  <a:pt x="198" y="46"/>
                  <a:pt x="239" y="39"/>
                  <a:pt x="263" y="37"/>
                </a:cubicBezTo>
                <a:cubicBezTo>
                  <a:pt x="263" y="0"/>
                  <a:pt x="263" y="0"/>
                  <a:pt x="263" y="0"/>
                </a:cubicBezTo>
                <a:cubicBezTo>
                  <a:pt x="404" y="71"/>
                  <a:pt x="404" y="71"/>
                  <a:pt x="404" y="71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43" y="111"/>
                  <a:pt x="217" y="118"/>
                  <a:pt x="180" y="139"/>
                </a:cubicBezTo>
                <a:cubicBezTo>
                  <a:pt x="109" y="179"/>
                  <a:pt x="72" y="250"/>
                  <a:pt x="73" y="351"/>
                </a:cubicBezTo>
                <a:cubicBezTo>
                  <a:pt x="1" y="351"/>
                  <a:pt x="1" y="351"/>
                  <a:pt x="1" y="351"/>
                </a:cubicBezTo>
                <a:cubicBezTo>
                  <a:pt x="0" y="190"/>
                  <a:pt x="79" y="113"/>
                  <a:pt x="145" y="76"/>
                </a:cubicBezTo>
                <a:close/>
              </a:path>
            </a:pathLst>
          </a:cu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组合 39"/>
          <p:cNvGrpSpPr/>
          <p:nvPr/>
        </p:nvGrpSpPr>
        <p:grpSpPr>
          <a:xfrm>
            <a:off x="8476200" y="2019600"/>
            <a:ext cx="1926360" cy="1799640"/>
            <a:chOff x="8476200" y="2019600"/>
            <a:chExt cx="1926360" cy="1799640"/>
          </a:xfrm>
        </p:grpSpPr>
        <p:sp>
          <p:nvSpPr>
            <p:cNvPr id="376" name="圆角矩形 29"/>
            <p:cNvSpPr/>
            <p:nvPr/>
          </p:nvSpPr>
          <p:spPr>
            <a:xfrm>
              <a:off x="8532000" y="2264760"/>
              <a:ext cx="1870560" cy="1343160"/>
            </a:xfrm>
            <a:prstGeom prst="roundRect">
              <a:avLst>
                <a:gd name="adj" fmla="val 3728"/>
              </a:avLst>
            </a:prstGeom>
            <a:solidFill>
              <a:schemeClr val="bg1"/>
            </a:solidFill>
            <a:ln w="38100">
              <a:solidFill>
                <a:srgbClr val="d14423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7" name="矩形 30"/>
            <p:cNvSpPr/>
            <p:nvPr/>
          </p:nvSpPr>
          <p:spPr>
            <a:xfrm>
              <a:off x="8476200" y="2019600"/>
              <a:ext cx="1176840" cy="1799640"/>
            </a:xfrm>
            <a:custGeom>
              <a:avLst/>
              <a:gdLst>
                <a:gd name="textAreaLeft" fmla="*/ 0 w 1176840"/>
                <a:gd name="textAreaRight" fmla="*/ 1177200 w 1176840"/>
                <a:gd name="textAreaTop" fmla="*/ 0 h 1799640"/>
                <a:gd name="textAreaBottom" fmla="*/ 1800000 h 1799640"/>
              </a:gdLst>
              <a:ahLst/>
              <a:rect l="textAreaLeft" t="textAreaTop" r="textAreaRight" b="textAreaBottom"/>
              <a:pathLst>
                <a:path w="866959" h="1367583">
                  <a:moveTo>
                    <a:pt x="7620" y="129540"/>
                  </a:moveTo>
                  <a:lnTo>
                    <a:pt x="866959" y="0"/>
                  </a:lnTo>
                  <a:lnTo>
                    <a:pt x="866959" y="1367583"/>
                  </a:lnTo>
                  <a:lnTo>
                    <a:pt x="0" y="1222803"/>
                  </a:lnTo>
                  <a:lnTo>
                    <a:pt x="7620" y="129540"/>
                  </a:lnTo>
                  <a:close/>
                </a:path>
              </a:pathLst>
            </a:custGeom>
            <a:solidFill>
              <a:srgbClr val="d1442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8" name="文本框 31"/>
            <p:cNvSpPr/>
            <p:nvPr/>
          </p:nvSpPr>
          <p:spPr>
            <a:xfrm>
              <a:off x="8701560" y="2387880"/>
              <a:ext cx="73440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7200" spc="-1" strike="noStrike">
                  <a:solidFill>
                    <a:srgbClr val="ffffff"/>
                  </a:solidFill>
                  <a:latin typeface="Adobe Gothic Std B"/>
                  <a:ea typeface="Adobe Gothic Std B"/>
                </a:rPr>
                <a:t>P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组合 34"/>
            <p:cNvGrpSpPr/>
            <p:nvPr/>
          </p:nvGrpSpPr>
          <p:grpSpPr>
            <a:xfrm>
              <a:off x="9591840" y="2425680"/>
              <a:ext cx="574200" cy="557640"/>
              <a:chOff x="9591840" y="2425680"/>
              <a:chExt cx="574200" cy="557640"/>
            </a:xfrm>
          </p:grpSpPr>
          <p:sp>
            <p:nvSpPr>
              <p:cNvPr id="380" name="饼形 32"/>
              <p:cNvSpPr/>
              <p:nvPr/>
            </p:nvSpPr>
            <p:spPr>
              <a:xfrm>
                <a:off x="9591840" y="2485080"/>
                <a:ext cx="498240" cy="498240"/>
              </a:xfrm>
              <a:prstGeom prst="pie">
                <a:avLst>
                  <a:gd name="adj1" fmla="val 0"/>
                  <a:gd name="adj2" fmla="val 16200000"/>
                </a:avLst>
              </a:prstGeom>
              <a:solidFill>
                <a:srgbClr val="d1442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饼形 33"/>
              <p:cNvSpPr/>
              <p:nvPr/>
            </p:nvSpPr>
            <p:spPr>
              <a:xfrm rot="16200000">
                <a:off x="9646560" y="2425680"/>
                <a:ext cx="519480" cy="519480"/>
              </a:xfrm>
              <a:prstGeom prst="pie">
                <a:avLst>
                  <a:gd name="adj1" fmla="val 0"/>
                  <a:gd name="adj2" fmla="val 5400000"/>
                </a:avLst>
              </a:prstGeom>
              <a:solidFill>
                <a:srgbClr val="d1442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382" name="直接连接符 36"/>
            <p:cNvCxnSpPr/>
            <p:nvPr/>
          </p:nvCxnSpPr>
          <p:spPr>
            <a:xfrm>
              <a:off x="9495360" y="3165840"/>
              <a:ext cx="652320" cy="360"/>
            </a:xfrm>
            <a:prstGeom prst="straightConnector1">
              <a:avLst/>
            </a:prstGeom>
            <a:ln w="28575">
              <a:solidFill>
                <a:srgbClr val="d14423"/>
              </a:solidFill>
            </a:ln>
          </p:spPr>
        </p:cxnSp>
        <p:cxnSp>
          <p:nvCxnSpPr>
            <p:cNvPr id="383" name="直接连接符 38"/>
            <p:cNvCxnSpPr/>
            <p:nvPr/>
          </p:nvCxnSpPr>
          <p:spPr>
            <a:xfrm>
              <a:off x="9495360" y="3346560"/>
              <a:ext cx="652320" cy="360"/>
            </a:xfrm>
            <a:prstGeom prst="straightConnector1">
              <a:avLst/>
            </a:prstGeom>
            <a:ln w="28575">
              <a:solidFill>
                <a:srgbClr val="d14423"/>
              </a:solidFill>
            </a:ln>
          </p:spPr>
        </p:cxnSp>
      </p:grpSp>
      <p:sp>
        <p:nvSpPr>
          <p:cNvPr id="384" name="Freeform 13"/>
          <p:cNvSpPr/>
          <p:nvPr/>
        </p:nvSpPr>
        <p:spPr>
          <a:xfrm flipV="1" rot="19357200">
            <a:off x="3071160" y="3486600"/>
            <a:ext cx="1907640" cy="1660320"/>
          </a:xfrm>
          <a:custGeom>
            <a:avLst/>
            <a:gdLst>
              <a:gd name="textAreaLeft" fmla="*/ 0 w 1907640"/>
              <a:gd name="textAreaRight" fmla="*/ 1908000 w 1907640"/>
              <a:gd name="textAreaTop" fmla="*/ 360 h 1660320"/>
              <a:gd name="textAreaBottom" fmla="*/ 1661040 h 1660320"/>
            </a:gdLst>
            <a:ahLst/>
            <a:rect l="textAreaLeft" t="textAreaTop" r="textAreaRight" b="textAreaBottom"/>
            <a:pathLst>
              <a:path w="404" h="351">
                <a:moveTo>
                  <a:pt x="145" y="76"/>
                </a:moveTo>
                <a:cubicBezTo>
                  <a:pt x="198" y="46"/>
                  <a:pt x="239" y="39"/>
                  <a:pt x="263" y="37"/>
                </a:cubicBezTo>
                <a:cubicBezTo>
                  <a:pt x="263" y="0"/>
                  <a:pt x="263" y="0"/>
                  <a:pt x="263" y="0"/>
                </a:cubicBezTo>
                <a:cubicBezTo>
                  <a:pt x="404" y="71"/>
                  <a:pt x="404" y="71"/>
                  <a:pt x="404" y="71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43" y="111"/>
                  <a:pt x="217" y="118"/>
                  <a:pt x="180" y="139"/>
                </a:cubicBezTo>
                <a:cubicBezTo>
                  <a:pt x="109" y="179"/>
                  <a:pt x="72" y="250"/>
                  <a:pt x="73" y="351"/>
                </a:cubicBezTo>
                <a:cubicBezTo>
                  <a:pt x="1" y="351"/>
                  <a:pt x="1" y="351"/>
                  <a:pt x="1" y="351"/>
                </a:cubicBezTo>
                <a:cubicBezTo>
                  <a:pt x="0" y="190"/>
                  <a:pt x="79" y="113"/>
                  <a:pt x="145" y="76"/>
                </a:cubicBezTo>
                <a:close/>
              </a:path>
            </a:pathLst>
          </a:cu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348120" y="64742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图片 8" descr=""/>
          <p:cNvPicPr/>
          <p:nvPr/>
        </p:nvPicPr>
        <p:blipFill>
          <a:blip r:embed="rId1"/>
          <a:stretch/>
        </p:blipFill>
        <p:spPr>
          <a:xfrm>
            <a:off x="177480" y="0"/>
            <a:ext cx="11836440" cy="6669000"/>
          </a:xfrm>
          <a:prstGeom prst="rect">
            <a:avLst/>
          </a:prstGeom>
          <a:ln w="0">
            <a:noFill/>
          </a:ln>
        </p:spPr>
      </p:pic>
      <p:sp>
        <p:nvSpPr>
          <p:cNvPr id="387" name="矩形 2"/>
          <p:cNvSpPr/>
          <p:nvPr/>
        </p:nvSpPr>
        <p:spPr>
          <a:xfrm>
            <a:off x="0" y="577548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8" name="任意多边形 12"/>
          <p:cNvSpPr/>
          <p:nvPr/>
        </p:nvSpPr>
        <p:spPr>
          <a:xfrm rot="10800000">
            <a:off x="707040" y="5775840"/>
            <a:ext cx="383760" cy="285480"/>
          </a:xfrm>
          <a:custGeom>
            <a:avLst/>
            <a:gdLst>
              <a:gd name="textAreaLeft" fmla="*/ 0 w 383760"/>
              <a:gd name="textAreaRight" fmla="*/ 384120 w 3837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84284" h="285750">
                <a:moveTo>
                  <a:pt x="384284" y="285750"/>
                </a:moveTo>
                <a:lnTo>
                  <a:pt x="0" y="285750"/>
                </a:lnTo>
                <a:lnTo>
                  <a:pt x="192142" y="0"/>
                </a:lnTo>
                <a:close/>
              </a:path>
            </a:pathLst>
          </a:cu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9" name="文本框 4"/>
          <p:cNvSpPr/>
          <p:nvPr/>
        </p:nvSpPr>
        <p:spPr>
          <a:xfrm>
            <a:off x="3719160" y="6047280"/>
            <a:ext cx="4753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再加上酷炫的图片和文字，像这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任意多边形 11"/>
          <p:cNvSpPr/>
          <p:nvPr/>
        </p:nvSpPr>
        <p:spPr>
          <a:xfrm>
            <a:off x="-2520" y="0"/>
            <a:ext cx="12196440" cy="5775120"/>
          </a:xfrm>
          <a:custGeom>
            <a:avLst/>
            <a:gdLst>
              <a:gd name="textAreaLeft" fmla="*/ 0 w 12196440"/>
              <a:gd name="textAreaRight" fmla="*/ 12196800 w 12196440"/>
              <a:gd name="textAreaTop" fmla="*/ 0 h 5775120"/>
              <a:gd name="textAreaBottom" fmla="*/ 5775480 h 5775120"/>
            </a:gdLst>
            <a:ahLst/>
            <a:rect l="textAreaLeft" t="textAreaTop" r="textAreaRight" b="textAreaBottom"/>
            <a:pathLst>
              <a:path w="12196800" h="5775603">
                <a:moveTo>
                  <a:pt x="180000" y="180601"/>
                </a:moveTo>
                <a:lnTo>
                  <a:pt x="180000" y="5595001"/>
                </a:lnTo>
                <a:lnTo>
                  <a:pt x="12016800" y="5595001"/>
                </a:lnTo>
                <a:lnTo>
                  <a:pt x="12016800" y="180601"/>
                </a:lnTo>
                <a:close/>
                <a:moveTo>
                  <a:pt x="0" y="0"/>
                </a:moveTo>
                <a:lnTo>
                  <a:pt x="12196800" y="0"/>
                </a:lnTo>
                <a:lnTo>
                  <a:pt x="12196800" y="5775603"/>
                </a:lnTo>
                <a:lnTo>
                  <a:pt x="0" y="5775603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91" name="组合 1"/>
          <p:cNvGrpSpPr/>
          <p:nvPr/>
        </p:nvGrpSpPr>
        <p:grpSpPr>
          <a:xfrm>
            <a:off x="1868400" y="904320"/>
            <a:ext cx="8695800" cy="3966480"/>
            <a:chOff x="1868400" y="904320"/>
            <a:chExt cx="8695800" cy="3966480"/>
          </a:xfrm>
        </p:grpSpPr>
        <p:grpSp>
          <p:nvGrpSpPr>
            <p:cNvPr id="392" name="组合 6"/>
            <p:cNvGrpSpPr/>
            <p:nvPr/>
          </p:nvGrpSpPr>
          <p:grpSpPr>
            <a:xfrm>
              <a:off x="2871000" y="3265200"/>
              <a:ext cx="848520" cy="1605600"/>
              <a:chOff x="2871000" y="3265200"/>
              <a:chExt cx="848520" cy="1605600"/>
            </a:xfrm>
          </p:grpSpPr>
          <p:sp>
            <p:nvSpPr>
              <p:cNvPr id="393" name="Freeform 9"/>
              <p:cNvSpPr/>
              <p:nvPr/>
            </p:nvSpPr>
            <p:spPr>
              <a:xfrm>
                <a:off x="3495960" y="3755880"/>
                <a:ext cx="223560" cy="8892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326" h="130">
                    <a:moveTo>
                      <a:pt x="261" y="130"/>
                    </a:moveTo>
                    <a:cubicBezTo>
                      <a:pt x="0" y="130"/>
                      <a:pt x="0" y="130"/>
                      <a:pt x="0" y="13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61" y="0"/>
                      <a:pt x="261" y="0"/>
                      <a:pt x="261" y="0"/>
                    </a:cubicBezTo>
                    <a:cubicBezTo>
                      <a:pt x="297" y="0"/>
                      <a:pt x="326" y="29"/>
                      <a:pt x="326" y="65"/>
                    </a:cubicBezTo>
                    <a:cubicBezTo>
                      <a:pt x="326" y="101"/>
                      <a:pt x="297" y="130"/>
                      <a:pt x="261" y="13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10"/>
              <p:cNvSpPr/>
              <p:nvPr/>
            </p:nvSpPr>
            <p:spPr>
              <a:xfrm>
                <a:off x="3005640" y="3265200"/>
                <a:ext cx="579960" cy="445680"/>
              </a:xfrm>
              <a:custGeom>
                <a:avLst/>
                <a:gdLst>
                  <a:gd name="textAreaLeft" fmla="*/ 0 w 579960"/>
                  <a:gd name="textAreaRight" fmla="*/ 580320 w 579960"/>
                  <a:gd name="textAreaTop" fmla="*/ 0 h 445680"/>
                  <a:gd name="textAreaBottom" fmla="*/ 446040 h 445680"/>
                </a:gdLst>
                <a:ahLst/>
                <a:rect l="textAreaLeft" t="textAreaTop" r="textAreaRight" b="textAreaBottom"/>
                <a:pathLst>
                  <a:path w="846" h="651">
                    <a:moveTo>
                      <a:pt x="781" y="261"/>
                    </a:moveTo>
                    <a:cubicBezTo>
                      <a:pt x="781" y="153"/>
                      <a:pt x="693" y="65"/>
                      <a:pt x="585" y="65"/>
                    </a:cubicBezTo>
                    <a:cubicBezTo>
                      <a:pt x="260" y="65"/>
                      <a:pt x="260" y="65"/>
                      <a:pt x="260" y="65"/>
                    </a:cubicBezTo>
                    <a:cubicBezTo>
                      <a:pt x="152" y="65"/>
                      <a:pt x="65" y="153"/>
                      <a:pt x="65" y="261"/>
                    </a:cubicBezTo>
                    <a:cubicBezTo>
                      <a:pt x="65" y="651"/>
                      <a:pt x="65" y="651"/>
                      <a:pt x="65" y="651"/>
                    </a:cubicBezTo>
                    <a:cubicBezTo>
                      <a:pt x="0" y="651"/>
                      <a:pt x="0" y="651"/>
                      <a:pt x="0" y="651"/>
                    </a:cubicBezTo>
                    <a:cubicBezTo>
                      <a:pt x="0" y="261"/>
                      <a:pt x="0" y="261"/>
                      <a:pt x="0" y="261"/>
                    </a:cubicBezTo>
                    <a:cubicBezTo>
                      <a:pt x="0" y="117"/>
                      <a:pt x="116" y="0"/>
                      <a:pt x="260" y="0"/>
                    </a:cubicBezTo>
                    <a:cubicBezTo>
                      <a:pt x="585" y="0"/>
                      <a:pt x="585" y="0"/>
                      <a:pt x="585" y="0"/>
                    </a:cubicBezTo>
                    <a:cubicBezTo>
                      <a:pt x="729" y="0"/>
                      <a:pt x="846" y="117"/>
                      <a:pt x="846" y="261"/>
                    </a:cubicBezTo>
                    <a:cubicBezTo>
                      <a:pt x="846" y="651"/>
                      <a:pt x="846" y="651"/>
                      <a:pt x="846" y="651"/>
                    </a:cubicBezTo>
                    <a:cubicBezTo>
                      <a:pt x="781" y="651"/>
                      <a:pt x="781" y="651"/>
                      <a:pt x="781" y="651"/>
                    </a:cubicBezTo>
                    <a:lnTo>
                      <a:pt x="781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11"/>
              <p:cNvSpPr/>
              <p:nvPr/>
            </p:nvSpPr>
            <p:spPr>
              <a:xfrm>
                <a:off x="2871000" y="3755880"/>
                <a:ext cx="223200" cy="88920"/>
              </a:xfrm>
              <a:custGeom>
                <a:avLst/>
                <a:gdLst>
                  <a:gd name="textAreaLeft" fmla="*/ 0 w 223200"/>
                  <a:gd name="textAreaRight" fmla="*/ 223560 w 22320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326" h="130">
                    <a:moveTo>
                      <a:pt x="326" y="130"/>
                    </a:moveTo>
                    <a:cubicBezTo>
                      <a:pt x="66" y="130"/>
                      <a:pt x="66" y="130"/>
                      <a:pt x="66" y="130"/>
                    </a:cubicBezTo>
                    <a:cubicBezTo>
                      <a:pt x="30" y="130"/>
                      <a:pt x="0" y="101"/>
                      <a:pt x="0" y="65"/>
                    </a:cubicBezTo>
                    <a:cubicBezTo>
                      <a:pt x="0" y="29"/>
                      <a:pt x="30" y="0"/>
                      <a:pt x="66" y="0"/>
                    </a:cubicBezTo>
                    <a:cubicBezTo>
                      <a:pt x="326" y="0"/>
                      <a:pt x="326" y="0"/>
                      <a:pt x="326" y="0"/>
                    </a:cubicBezTo>
                    <a:lnTo>
                      <a:pt x="326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任意多边形 13"/>
              <p:cNvSpPr/>
              <p:nvPr/>
            </p:nvSpPr>
            <p:spPr>
              <a:xfrm>
                <a:off x="3139200" y="3644280"/>
                <a:ext cx="311760" cy="31212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312120"/>
                  <a:gd name="textAreaBottom" fmla="*/ 312480 h 312120"/>
                </a:gdLst>
                <a:ahLst/>
                <a:rect l="textAreaLeft" t="textAreaTop" r="textAreaRight" b="textAreaBottom"/>
                <a:pathLst>
                  <a:path w="1709738" h="1711325">
                    <a:moveTo>
                      <a:pt x="857250" y="366712"/>
                    </a:moveTo>
                    <a:cubicBezTo>
                      <a:pt x="587210" y="366712"/>
                      <a:pt x="368300" y="585267"/>
                      <a:pt x="368300" y="854869"/>
                    </a:cubicBezTo>
                    <a:cubicBezTo>
                      <a:pt x="368300" y="1124471"/>
                      <a:pt x="587210" y="1343026"/>
                      <a:pt x="857250" y="1343026"/>
                    </a:cubicBezTo>
                    <a:cubicBezTo>
                      <a:pt x="1127290" y="1343026"/>
                      <a:pt x="1346200" y="1124471"/>
                      <a:pt x="1346200" y="854869"/>
                    </a:cubicBezTo>
                    <a:cubicBezTo>
                      <a:pt x="1346200" y="585267"/>
                      <a:pt x="1127290" y="366712"/>
                      <a:pt x="857250" y="366712"/>
                    </a:cubicBezTo>
                    <a:close/>
                    <a:moveTo>
                      <a:pt x="856748" y="0"/>
                    </a:moveTo>
                    <a:cubicBezTo>
                      <a:pt x="1330214" y="0"/>
                      <a:pt x="1709738" y="382796"/>
                      <a:pt x="1709738" y="855663"/>
                    </a:cubicBezTo>
                    <a:cubicBezTo>
                      <a:pt x="1709738" y="1328529"/>
                      <a:pt x="1326456" y="1711325"/>
                      <a:pt x="856748" y="1711325"/>
                    </a:cubicBezTo>
                    <a:cubicBezTo>
                      <a:pt x="383282" y="1711325"/>
                      <a:pt x="0" y="1328529"/>
                      <a:pt x="0" y="855663"/>
                    </a:cubicBezTo>
                    <a:cubicBezTo>
                      <a:pt x="0" y="382796"/>
                      <a:pt x="383282" y="0"/>
                      <a:pt x="856748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14"/>
              <p:cNvSpPr/>
              <p:nvPr/>
            </p:nvSpPr>
            <p:spPr>
              <a:xfrm>
                <a:off x="3005640" y="3894480"/>
                <a:ext cx="579960" cy="791640"/>
              </a:xfrm>
              <a:custGeom>
                <a:avLst/>
                <a:gdLst>
                  <a:gd name="textAreaLeft" fmla="*/ 0 w 579960"/>
                  <a:gd name="textAreaRight" fmla="*/ 580320 w 579960"/>
                  <a:gd name="textAreaTop" fmla="*/ 0 h 791640"/>
                  <a:gd name="textAreaBottom" fmla="*/ 792000 h 791640"/>
                </a:gdLst>
                <a:ahLst/>
                <a:rect l="textAreaLeft" t="textAreaTop" r="textAreaRight" b="textAreaBottom"/>
                <a:pathLst>
                  <a:path w="846" h="1155">
                    <a:moveTo>
                      <a:pt x="202" y="0"/>
                    </a:moveTo>
                    <a:cubicBezTo>
                      <a:pt x="248" y="74"/>
                      <a:pt x="329" y="124"/>
                      <a:pt x="423" y="124"/>
                    </a:cubicBezTo>
                    <a:cubicBezTo>
                      <a:pt x="516" y="124"/>
                      <a:pt x="597" y="74"/>
                      <a:pt x="643" y="0"/>
                    </a:cubicBezTo>
                    <a:cubicBezTo>
                      <a:pt x="759" y="27"/>
                      <a:pt x="846" y="130"/>
                      <a:pt x="846" y="254"/>
                    </a:cubicBezTo>
                    <a:cubicBezTo>
                      <a:pt x="846" y="904"/>
                      <a:pt x="846" y="904"/>
                      <a:pt x="846" y="904"/>
                    </a:cubicBezTo>
                    <a:cubicBezTo>
                      <a:pt x="846" y="1026"/>
                      <a:pt x="762" y="1126"/>
                      <a:pt x="650" y="1155"/>
                    </a:cubicBezTo>
                    <a:cubicBezTo>
                      <a:pt x="650" y="803"/>
                      <a:pt x="650" y="803"/>
                      <a:pt x="650" y="803"/>
                    </a:cubicBezTo>
                    <a:cubicBezTo>
                      <a:pt x="650" y="677"/>
                      <a:pt x="548" y="575"/>
                      <a:pt x="423" y="575"/>
                    </a:cubicBezTo>
                    <a:cubicBezTo>
                      <a:pt x="297" y="575"/>
                      <a:pt x="195" y="677"/>
                      <a:pt x="195" y="803"/>
                    </a:cubicBezTo>
                    <a:cubicBezTo>
                      <a:pt x="195" y="1155"/>
                      <a:pt x="195" y="1155"/>
                      <a:pt x="195" y="1155"/>
                    </a:cubicBezTo>
                    <a:cubicBezTo>
                      <a:pt x="83" y="1126"/>
                      <a:pt x="0" y="1026"/>
                      <a:pt x="0" y="904"/>
                    </a:cubicBezTo>
                    <a:cubicBezTo>
                      <a:pt x="0" y="254"/>
                      <a:pt x="0" y="254"/>
                      <a:pt x="0" y="254"/>
                    </a:cubicBezTo>
                    <a:cubicBezTo>
                      <a:pt x="0" y="130"/>
                      <a:pt x="86" y="27"/>
                      <a:pt x="20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15"/>
              <p:cNvSpPr/>
              <p:nvPr/>
            </p:nvSpPr>
            <p:spPr>
              <a:xfrm>
                <a:off x="3183840" y="4335840"/>
                <a:ext cx="222480" cy="5349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325" h="781">
                    <a:moveTo>
                      <a:pt x="163" y="0"/>
                    </a:moveTo>
                    <a:cubicBezTo>
                      <a:pt x="253" y="0"/>
                      <a:pt x="325" y="73"/>
                      <a:pt x="325" y="163"/>
                    </a:cubicBezTo>
                    <a:cubicBezTo>
                      <a:pt x="325" y="618"/>
                      <a:pt x="325" y="618"/>
                      <a:pt x="325" y="618"/>
                    </a:cubicBezTo>
                    <a:cubicBezTo>
                      <a:pt x="325" y="708"/>
                      <a:pt x="253" y="781"/>
                      <a:pt x="163" y="781"/>
                    </a:cubicBezTo>
                    <a:cubicBezTo>
                      <a:pt x="73" y="781"/>
                      <a:pt x="0" y="708"/>
                      <a:pt x="0" y="618"/>
                    </a:cubicBezTo>
                    <a:cubicBezTo>
                      <a:pt x="0" y="163"/>
                      <a:pt x="0" y="163"/>
                      <a:pt x="0" y="163"/>
                    </a:cubicBezTo>
                    <a:cubicBezTo>
                      <a:pt x="0" y="73"/>
                      <a:pt x="73" y="0"/>
                      <a:pt x="16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9" name="组合 16"/>
            <p:cNvGrpSpPr/>
            <p:nvPr/>
          </p:nvGrpSpPr>
          <p:grpSpPr>
            <a:xfrm>
              <a:off x="1868400" y="904320"/>
              <a:ext cx="2696040" cy="2667240"/>
              <a:chOff x="1868400" y="904320"/>
              <a:chExt cx="2696040" cy="2667240"/>
            </a:xfrm>
          </p:grpSpPr>
          <p:grpSp>
            <p:nvGrpSpPr>
              <p:cNvPr id="400" name="组合 17"/>
              <p:cNvGrpSpPr/>
              <p:nvPr/>
            </p:nvGrpSpPr>
            <p:grpSpPr>
              <a:xfrm>
                <a:off x="1868400" y="904320"/>
                <a:ext cx="2696040" cy="2667240"/>
                <a:chOff x="1868400" y="904320"/>
                <a:chExt cx="2696040" cy="2667240"/>
              </a:xfrm>
            </p:grpSpPr>
            <p:sp>
              <p:nvSpPr>
                <p:cNvPr id="401" name="右耳朵"/>
                <p:cNvSpPr/>
                <p:nvPr/>
              </p:nvSpPr>
              <p:spPr>
                <a:xfrm flipH="1">
                  <a:off x="3987000" y="2552400"/>
                  <a:ext cx="250560" cy="396720"/>
                </a:xfrm>
                <a:custGeom>
                  <a:avLst/>
                  <a:gdLst>
                    <a:gd name="textAreaLeft" fmla="*/ 360 w 250560"/>
                    <a:gd name="textAreaRight" fmla="*/ 251280 w 250560"/>
                    <a:gd name="textAreaTop" fmla="*/ 0 h 396720"/>
                    <a:gd name="textAreaBottom" fmla="*/ 397080 h 396720"/>
                  </a:gdLst>
                  <a:ahLst/>
                  <a:rect l="textAreaLeft" t="textAreaTop" r="textAreaRight" b="textAreaBottom"/>
                  <a:pathLst>
                    <a:path w="80" h="126">
                      <a:moveTo>
                        <a:pt x="80" y="63"/>
                      </a:moveTo>
                      <a:cubicBezTo>
                        <a:pt x="80" y="98"/>
                        <a:pt x="62" y="126"/>
                        <a:pt x="39" y="126"/>
                      </a:cubicBezTo>
                      <a:cubicBezTo>
                        <a:pt x="17" y="126"/>
                        <a:pt x="0" y="83"/>
                        <a:pt x="0" y="48"/>
                      </a:cubicBezTo>
                      <a:cubicBezTo>
                        <a:pt x="0" y="13"/>
                        <a:pt x="17" y="0"/>
                        <a:pt x="39" y="0"/>
                      </a:cubicBezTo>
                      <a:cubicBezTo>
                        <a:pt x="62" y="0"/>
                        <a:pt x="80" y="28"/>
                        <a:pt x="80" y="6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2" name="左耳朵"/>
                <p:cNvSpPr/>
                <p:nvPr/>
              </p:nvSpPr>
              <p:spPr>
                <a:xfrm>
                  <a:off x="2350440" y="2552400"/>
                  <a:ext cx="250560" cy="39672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396720"/>
                    <a:gd name="textAreaBottom" fmla="*/ 397080 h 396720"/>
                  </a:gdLst>
                  <a:ahLst/>
                  <a:rect l="textAreaLeft" t="textAreaTop" r="textAreaRight" b="textAreaBottom"/>
                  <a:pathLst>
                    <a:path w="80" h="126">
                      <a:moveTo>
                        <a:pt x="80" y="63"/>
                      </a:moveTo>
                      <a:cubicBezTo>
                        <a:pt x="80" y="98"/>
                        <a:pt x="62" y="126"/>
                        <a:pt x="39" y="126"/>
                      </a:cubicBezTo>
                      <a:cubicBezTo>
                        <a:pt x="17" y="126"/>
                        <a:pt x="0" y="83"/>
                        <a:pt x="0" y="48"/>
                      </a:cubicBezTo>
                      <a:cubicBezTo>
                        <a:pt x="0" y="13"/>
                        <a:pt x="17" y="0"/>
                        <a:pt x="39" y="0"/>
                      </a:cubicBezTo>
                      <a:cubicBezTo>
                        <a:pt x="62" y="0"/>
                        <a:pt x="80" y="28"/>
                        <a:pt x="80" y="6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3" name="脸蛋"/>
                <p:cNvSpPr/>
                <p:nvPr/>
              </p:nvSpPr>
              <p:spPr>
                <a:xfrm>
                  <a:off x="2447640" y="1427040"/>
                  <a:ext cx="1695240" cy="2144520"/>
                </a:xfrm>
                <a:custGeom>
                  <a:avLst/>
                  <a:gdLst>
                    <a:gd name="textAreaLeft" fmla="*/ 0 w 1695240"/>
                    <a:gd name="textAreaRight" fmla="*/ 1695600 w 1695240"/>
                    <a:gd name="textAreaTop" fmla="*/ 0 h 2144520"/>
                    <a:gd name="textAreaBottom" fmla="*/ 2144880 h 2144520"/>
                  </a:gdLst>
                  <a:ahLst/>
                  <a:rect l="textAreaLeft" t="textAreaTop" r="textAreaRight" b="textAreaBottom"/>
                  <a:pathLst>
                    <a:path w="200" h="278">
                      <a:moveTo>
                        <a:pt x="100" y="0"/>
                      </a:moveTo>
                      <a:cubicBezTo>
                        <a:pt x="155" y="0"/>
                        <a:pt x="200" y="62"/>
                        <a:pt x="200" y="138"/>
                      </a:cubicBezTo>
                      <a:cubicBezTo>
                        <a:pt x="200" y="215"/>
                        <a:pt x="157" y="270"/>
                        <a:pt x="100" y="278"/>
                      </a:cubicBezTo>
                      <a:cubicBezTo>
                        <a:pt x="42" y="270"/>
                        <a:pt x="0" y="215"/>
                        <a:pt x="0" y="139"/>
                      </a:cubicBezTo>
                      <a:cubicBezTo>
                        <a:pt x="0" y="62"/>
                        <a:pt x="44" y="0"/>
                        <a:pt x="1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4" name="头发"/>
                <p:cNvSpPr/>
                <p:nvPr/>
              </p:nvSpPr>
              <p:spPr>
                <a:xfrm>
                  <a:off x="1868400" y="904320"/>
                  <a:ext cx="2696040" cy="1975320"/>
                </a:xfrm>
                <a:custGeom>
                  <a:avLst/>
                  <a:gdLst>
                    <a:gd name="textAreaLeft" fmla="*/ 0 w 2696040"/>
                    <a:gd name="textAreaRight" fmla="*/ 2696400 w 2696040"/>
                    <a:gd name="textAreaTop" fmla="*/ 0 h 1975320"/>
                    <a:gd name="textAreaBottom" fmla="*/ 1975680 h 1975320"/>
                  </a:gdLst>
                  <a:ahLst/>
                  <a:rect l="textAreaLeft" t="textAreaTop" r="textAreaRight" b="textAreaBottom"/>
                  <a:pathLst>
                    <a:path w="318" h="233">
                      <a:moveTo>
                        <a:pt x="0" y="148"/>
                      </a:moveTo>
                      <a:cubicBezTo>
                        <a:pt x="13" y="162"/>
                        <a:pt x="23" y="162"/>
                        <a:pt x="31" y="157"/>
                      </a:cubicBezTo>
                      <a:cubicBezTo>
                        <a:pt x="21" y="155"/>
                        <a:pt x="16" y="142"/>
                        <a:pt x="15" y="130"/>
                      </a:cubicBezTo>
                      <a:cubicBezTo>
                        <a:pt x="12" y="109"/>
                        <a:pt x="33" y="83"/>
                        <a:pt x="55" y="75"/>
                      </a:cubicBezTo>
                      <a:cubicBezTo>
                        <a:pt x="52" y="74"/>
                        <a:pt x="48" y="73"/>
                        <a:pt x="45" y="72"/>
                      </a:cubicBezTo>
                      <a:cubicBezTo>
                        <a:pt x="65" y="68"/>
                        <a:pt x="77" y="64"/>
                        <a:pt x="77" y="47"/>
                      </a:cubicBezTo>
                      <a:cubicBezTo>
                        <a:pt x="77" y="26"/>
                        <a:pt x="102" y="15"/>
                        <a:pt x="121" y="25"/>
                      </a:cubicBezTo>
                      <a:cubicBezTo>
                        <a:pt x="131" y="15"/>
                        <a:pt x="149" y="13"/>
                        <a:pt x="162" y="25"/>
                      </a:cubicBezTo>
                      <a:cubicBezTo>
                        <a:pt x="164" y="25"/>
                        <a:pt x="164" y="25"/>
                        <a:pt x="164" y="25"/>
                      </a:cubicBezTo>
                      <a:cubicBezTo>
                        <a:pt x="174" y="1"/>
                        <a:pt x="207" y="0"/>
                        <a:pt x="215" y="21"/>
                      </a:cubicBezTo>
                      <a:cubicBezTo>
                        <a:pt x="220" y="35"/>
                        <a:pt x="233" y="35"/>
                        <a:pt x="252" y="25"/>
                      </a:cubicBezTo>
                      <a:cubicBezTo>
                        <a:pt x="251" y="32"/>
                        <a:pt x="247" y="36"/>
                        <a:pt x="242" y="38"/>
                      </a:cubicBezTo>
                      <a:cubicBezTo>
                        <a:pt x="260" y="38"/>
                        <a:pt x="278" y="49"/>
                        <a:pt x="278" y="67"/>
                      </a:cubicBezTo>
                      <a:cubicBezTo>
                        <a:pt x="278" y="71"/>
                        <a:pt x="278" y="76"/>
                        <a:pt x="279" y="80"/>
                      </a:cubicBezTo>
                      <a:cubicBezTo>
                        <a:pt x="281" y="82"/>
                        <a:pt x="283" y="84"/>
                        <a:pt x="285" y="86"/>
                      </a:cubicBezTo>
                      <a:cubicBezTo>
                        <a:pt x="303" y="96"/>
                        <a:pt x="318" y="117"/>
                        <a:pt x="316" y="134"/>
                      </a:cubicBezTo>
                      <a:cubicBezTo>
                        <a:pt x="315" y="144"/>
                        <a:pt x="311" y="155"/>
                        <a:pt x="304" y="158"/>
                      </a:cubicBezTo>
                      <a:cubicBezTo>
                        <a:pt x="304" y="159"/>
                        <a:pt x="304" y="159"/>
                        <a:pt x="304" y="159"/>
                      </a:cubicBezTo>
                      <a:cubicBezTo>
                        <a:pt x="308" y="157"/>
                        <a:pt x="312" y="154"/>
                        <a:pt x="317" y="149"/>
                      </a:cubicBezTo>
                      <a:cubicBezTo>
                        <a:pt x="317" y="161"/>
                        <a:pt x="310" y="170"/>
                        <a:pt x="301" y="175"/>
                      </a:cubicBezTo>
                      <a:cubicBezTo>
                        <a:pt x="300" y="180"/>
                        <a:pt x="299" y="185"/>
                        <a:pt x="298" y="189"/>
                      </a:cubicBezTo>
                      <a:cubicBezTo>
                        <a:pt x="307" y="230"/>
                        <a:pt x="250" y="212"/>
                        <a:pt x="264" y="213"/>
                      </a:cubicBezTo>
                      <a:cubicBezTo>
                        <a:pt x="263" y="166"/>
                        <a:pt x="254" y="193"/>
                        <a:pt x="229" y="172"/>
                      </a:cubicBezTo>
                      <a:cubicBezTo>
                        <a:pt x="220" y="164"/>
                        <a:pt x="215" y="149"/>
                        <a:pt x="202" y="112"/>
                      </a:cubicBezTo>
                      <a:cubicBezTo>
                        <a:pt x="181" y="148"/>
                        <a:pt x="98" y="233"/>
                        <a:pt x="40" y="214"/>
                      </a:cubicBezTo>
                      <a:cubicBezTo>
                        <a:pt x="49" y="213"/>
                        <a:pt x="69" y="165"/>
                        <a:pt x="61" y="170"/>
                      </a:cubicBezTo>
                      <a:cubicBezTo>
                        <a:pt x="47" y="182"/>
                        <a:pt x="28" y="212"/>
                        <a:pt x="0" y="148"/>
                      </a:cubicBezTo>
                      <a:close/>
                      <a:moveTo>
                        <a:pt x="40" y="136"/>
                      </a:moveTo>
                      <a:cubicBezTo>
                        <a:pt x="41" y="129"/>
                        <a:pt x="42" y="124"/>
                        <a:pt x="43" y="127"/>
                      </a:cubicBezTo>
                      <a:cubicBezTo>
                        <a:pt x="43" y="127"/>
                        <a:pt x="43" y="127"/>
                        <a:pt x="43" y="127"/>
                      </a:cubicBezTo>
                      <a:cubicBezTo>
                        <a:pt x="43" y="125"/>
                        <a:pt x="43" y="125"/>
                        <a:pt x="43" y="125"/>
                      </a:cubicBezTo>
                      <a:cubicBezTo>
                        <a:pt x="31" y="133"/>
                        <a:pt x="19" y="144"/>
                        <a:pt x="34" y="153"/>
                      </a:cubicBezTo>
                      <a:cubicBezTo>
                        <a:pt x="35" y="152"/>
                        <a:pt x="36" y="151"/>
                        <a:pt x="37" y="150"/>
                      </a:cubicBezTo>
                      <a:cubicBezTo>
                        <a:pt x="38" y="146"/>
                        <a:pt x="39" y="141"/>
                        <a:pt x="40" y="13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fd7400"/>
                    </a:solidFill>
                    <a:latin typeface="Calibri"/>
                  </a:endParaRPr>
                </a:p>
              </p:txBody>
            </p:sp>
            <p:sp>
              <p:nvSpPr>
                <p:cNvPr id="405" name="右眼"/>
                <p:cNvSpPr/>
                <p:nvPr/>
              </p:nvSpPr>
              <p:spPr>
                <a:xfrm>
                  <a:off x="3609720" y="2660400"/>
                  <a:ext cx="270720" cy="90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1270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406" name="眼镜"/>
                <p:cNvSpPr/>
                <p:nvPr/>
              </p:nvSpPr>
              <p:spPr>
                <a:xfrm>
                  <a:off x="2395800" y="2386440"/>
                  <a:ext cx="1800360" cy="636480"/>
                </a:xfrm>
                <a:custGeom>
                  <a:avLst/>
                  <a:gdLst>
                    <a:gd name="textAreaLeft" fmla="*/ 0 w 1800360"/>
                    <a:gd name="textAreaRight" fmla="*/ 1800720 w 1800360"/>
                    <a:gd name="textAreaTop" fmla="*/ 0 h 636480"/>
                    <a:gd name="textAreaBottom" fmla="*/ 636840 h 636480"/>
                  </a:gdLst>
                  <a:ahLst/>
                  <a:rect l="textAreaLeft" t="textAreaTop" r="textAreaRight" b="textAreaBottom"/>
                  <a:pathLst>
                    <a:path w="1660" h="587">
                      <a:moveTo>
                        <a:pt x="1658" y="103"/>
                      </a:moveTo>
                      <a:cubicBezTo>
                        <a:pt x="1658" y="71"/>
                        <a:pt x="1653" y="83"/>
                        <a:pt x="1596" y="68"/>
                      </a:cubicBezTo>
                      <a:cubicBezTo>
                        <a:pt x="1539" y="52"/>
                        <a:pt x="1364" y="0"/>
                        <a:pt x="1096" y="39"/>
                      </a:cubicBezTo>
                      <a:cubicBezTo>
                        <a:pt x="872" y="72"/>
                        <a:pt x="929" y="146"/>
                        <a:pt x="837" y="149"/>
                      </a:cubicBezTo>
                      <a:cubicBezTo>
                        <a:pt x="823" y="149"/>
                        <a:pt x="823" y="149"/>
                        <a:pt x="823" y="149"/>
                      </a:cubicBezTo>
                      <a:cubicBezTo>
                        <a:pt x="731" y="146"/>
                        <a:pt x="788" y="72"/>
                        <a:pt x="564" y="39"/>
                      </a:cubicBezTo>
                      <a:cubicBezTo>
                        <a:pt x="296" y="0"/>
                        <a:pt x="121" y="52"/>
                        <a:pt x="64" y="68"/>
                      </a:cubicBezTo>
                      <a:cubicBezTo>
                        <a:pt x="7" y="83"/>
                        <a:pt x="2" y="71"/>
                        <a:pt x="2" y="103"/>
                      </a:cubicBezTo>
                      <a:cubicBezTo>
                        <a:pt x="3" y="135"/>
                        <a:pt x="0" y="161"/>
                        <a:pt x="27" y="161"/>
                      </a:cubicBezTo>
                      <a:cubicBezTo>
                        <a:pt x="55" y="161"/>
                        <a:pt x="55" y="161"/>
                        <a:pt x="98" y="296"/>
                      </a:cubicBezTo>
                      <a:cubicBezTo>
                        <a:pt x="150" y="458"/>
                        <a:pt x="164" y="504"/>
                        <a:pt x="214" y="541"/>
                      </a:cubicBezTo>
                      <a:cubicBezTo>
                        <a:pt x="275" y="587"/>
                        <a:pt x="531" y="587"/>
                        <a:pt x="614" y="537"/>
                      </a:cubicBezTo>
                      <a:cubicBezTo>
                        <a:pt x="717" y="475"/>
                        <a:pt x="704" y="241"/>
                        <a:pt x="828" y="238"/>
                      </a:cubicBezTo>
                      <a:cubicBezTo>
                        <a:pt x="829" y="238"/>
                        <a:pt x="831" y="238"/>
                        <a:pt x="832" y="238"/>
                      </a:cubicBezTo>
                      <a:cubicBezTo>
                        <a:pt x="956" y="241"/>
                        <a:pt x="943" y="475"/>
                        <a:pt x="1046" y="537"/>
                      </a:cubicBezTo>
                      <a:cubicBezTo>
                        <a:pt x="1129" y="587"/>
                        <a:pt x="1385" y="587"/>
                        <a:pt x="1446" y="541"/>
                      </a:cubicBezTo>
                      <a:cubicBezTo>
                        <a:pt x="1496" y="504"/>
                        <a:pt x="1510" y="458"/>
                        <a:pt x="1562" y="296"/>
                      </a:cubicBezTo>
                      <a:cubicBezTo>
                        <a:pt x="1605" y="161"/>
                        <a:pt x="1605" y="161"/>
                        <a:pt x="1633" y="161"/>
                      </a:cubicBezTo>
                      <a:cubicBezTo>
                        <a:pt x="1660" y="161"/>
                        <a:pt x="1657" y="135"/>
                        <a:pt x="1658" y="103"/>
                      </a:cubicBezTo>
                      <a:close/>
                      <a:moveTo>
                        <a:pt x="670" y="341"/>
                      </a:moveTo>
                      <a:cubicBezTo>
                        <a:pt x="644" y="407"/>
                        <a:pt x="624" y="465"/>
                        <a:pt x="588" y="489"/>
                      </a:cubicBezTo>
                      <a:cubicBezTo>
                        <a:pt x="550" y="515"/>
                        <a:pt x="494" y="520"/>
                        <a:pt x="411" y="519"/>
                      </a:cubicBezTo>
                      <a:cubicBezTo>
                        <a:pt x="341" y="517"/>
                        <a:pt x="266" y="520"/>
                        <a:pt x="234" y="490"/>
                      </a:cubicBezTo>
                      <a:cubicBezTo>
                        <a:pt x="208" y="465"/>
                        <a:pt x="182" y="386"/>
                        <a:pt x="160" y="316"/>
                      </a:cubicBezTo>
                      <a:cubicBezTo>
                        <a:pt x="129" y="219"/>
                        <a:pt x="115" y="161"/>
                        <a:pt x="146" y="132"/>
                      </a:cubicBezTo>
                      <a:cubicBezTo>
                        <a:pt x="185" y="97"/>
                        <a:pt x="286" y="91"/>
                        <a:pt x="405" y="89"/>
                      </a:cubicBezTo>
                      <a:cubicBezTo>
                        <a:pt x="524" y="88"/>
                        <a:pt x="682" y="123"/>
                        <a:pt x="702" y="170"/>
                      </a:cubicBezTo>
                      <a:cubicBezTo>
                        <a:pt x="718" y="205"/>
                        <a:pt x="693" y="282"/>
                        <a:pt x="670" y="341"/>
                      </a:cubicBezTo>
                      <a:close/>
                      <a:moveTo>
                        <a:pt x="1500" y="316"/>
                      </a:moveTo>
                      <a:cubicBezTo>
                        <a:pt x="1478" y="386"/>
                        <a:pt x="1452" y="465"/>
                        <a:pt x="1426" y="490"/>
                      </a:cubicBezTo>
                      <a:cubicBezTo>
                        <a:pt x="1394" y="520"/>
                        <a:pt x="1319" y="517"/>
                        <a:pt x="1249" y="519"/>
                      </a:cubicBezTo>
                      <a:cubicBezTo>
                        <a:pt x="1166" y="520"/>
                        <a:pt x="1110" y="515"/>
                        <a:pt x="1072" y="489"/>
                      </a:cubicBezTo>
                      <a:cubicBezTo>
                        <a:pt x="1036" y="465"/>
                        <a:pt x="1016" y="407"/>
                        <a:pt x="990" y="341"/>
                      </a:cubicBezTo>
                      <a:cubicBezTo>
                        <a:pt x="967" y="282"/>
                        <a:pt x="942" y="205"/>
                        <a:pt x="958" y="170"/>
                      </a:cubicBezTo>
                      <a:cubicBezTo>
                        <a:pt x="978" y="123"/>
                        <a:pt x="1136" y="88"/>
                        <a:pt x="1255" y="89"/>
                      </a:cubicBezTo>
                      <a:cubicBezTo>
                        <a:pt x="1374" y="91"/>
                        <a:pt x="1475" y="97"/>
                        <a:pt x="1514" y="132"/>
                      </a:cubicBezTo>
                      <a:cubicBezTo>
                        <a:pt x="1546" y="161"/>
                        <a:pt x="1531" y="219"/>
                        <a:pt x="1500" y="31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ffe11a"/>
                    </a:solidFill>
                    <a:latin typeface="Calibri"/>
                  </a:endParaRPr>
                </a:p>
              </p:txBody>
            </p:sp>
            <p:sp>
              <p:nvSpPr>
                <p:cNvPr id="407" name="左眼"/>
                <p:cNvSpPr/>
                <p:nvPr/>
              </p:nvSpPr>
              <p:spPr>
                <a:xfrm>
                  <a:off x="2726640" y="2660400"/>
                  <a:ext cx="270720" cy="90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1270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endParaRPr>
                </a:p>
              </p:txBody>
            </p:sp>
          </p:grpSp>
          <p:sp>
            <p:nvSpPr>
              <p:cNvPr id="408" name="Freeform 67"/>
              <p:cNvSpPr/>
              <p:nvPr/>
            </p:nvSpPr>
            <p:spPr>
              <a:xfrm>
                <a:off x="2910960" y="3097800"/>
                <a:ext cx="780480" cy="222120"/>
              </a:xfrm>
              <a:custGeom>
                <a:avLst/>
                <a:gdLst>
                  <a:gd name="textAreaLeft" fmla="*/ 0 w 780480"/>
                  <a:gd name="textAreaRight" fmla="*/ 780840 w 78048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2019" h="574">
                    <a:moveTo>
                      <a:pt x="1263" y="404"/>
                    </a:moveTo>
                    <a:cubicBezTo>
                      <a:pt x="1209" y="412"/>
                      <a:pt x="1299" y="482"/>
                      <a:pt x="1313" y="505"/>
                    </a:cubicBezTo>
                    <a:cubicBezTo>
                      <a:pt x="1199" y="543"/>
                      <a:pt x="1068" y="380"/>
                      <a:pt x="1010" y="278"/>
                    </a:cubicBezTo>
                    <a:cubicBezTo>
                      <a:pt x="911" y="372"/>
                      <a:pt x="849" y="504"/>
                      <a:pt x="682" y="530"/>
                    </a:cubicBezTo>
                    <a:cubicBezTo>
                      <a:pt x="689" y="479"/>
                      <a:pt x="750" y="481"/>
                      <a:pt x="758" y="429"/>
                    </a:cubicBezTo>
                    <a:cubicBezTo>
                      <a:pt x="636" y="451"/>
                      <a:pt x="596" y="554"/>
                      <a:pt x="429" y="530"/>
                    </a:cubicBezTo>
                    <a:cubicBezTo>
                      <a:pt x="437" y="479"/>
                      <a:pt x="498" y="481"/>
                      <a:pt x="505" y="429"/>
                    </a:cubicBezTo>
                    <a:cubicBezTo>
                      <a:pt x="429" y="463"/>
                      <a:pt x="303" y="463"/>
                      <a:pt x="227" y="429"/>
                    </a:cubicBezTo>
                    <a:cubicBezTo>
                      <a:pt x="231" y="400"/>
                      <a:pt x="273" y="408"/>
                      <a:pt x="303" y="404"/>
                    </a:cubicBezTo>
                    <a:cubicBezTo>
                      <a:pt x="183" y="296"/>
                      <a:pt x="11" y="241"/>
                      <a:pt x="0" y="25"/>
                    </a:cubicBezTo>
                    <a:cubicBezTo>
                      <a:pt x="141" y="308"/>
                      <a:pt x="715" y="319"/>
                      <a:pt x="884" y="50"/>
                    </a:cubicBezTo>
                    <a:cubicBezTo>
                      <a:pt x="983" y="39"/>
                      <a:pt x="1015" y="103"/>
                      <a:pt x="1061" y="25"/>
                    </a:cubicBezTo>
                    <a:cubicBezTo>
                      <a:pt x="1248" y="264"/>
                      <a:pt x="1870" y="375"/>
                      <a:pt x="1995" y="0"/>
                    </a:cubicBezTo>
                    <a:cubicBezTo>
                      <a:pt x="2019" y="133"/>
                      <a:pt x="1904" y="346"/>
                      <a:pt x="1717" y="354"/>
                    </a:cubicBezTo>
                    <a:cubicBezTo>
                      <a:pt x="1708" y="396"/>
                      <a:pt x="1737" y="401"/>
                      <a:pt x="1768" y="404"/>
                    </a:cubicBezTo>
                    <a:cubicBezTo>
                      <a:pt x="1743" y="470"/>
                      <a:pt x="1570" y="472"/>
                      <a:pt x="1515" y="429"/>
                    </a:cubicBezTo>
                    <a:cubicBezTo>
                      <a:pt x="1455" y="437"/>
                      <a:pt x="1543" y="498"/>
                      <a:pt x="1566" y="505"/>
                    </a:cubicBezTo>
                    <a:cubicBezTo>
                      <a:pt x="1462" y="574"/>
                      <a:pt x="1319" y="467"/>
                      <a:pt x="1263" y="40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9" name="标题"/>
            <p:cNvGrpSpPr/>
            <p:nvPr/>
          </p:nvGrpSpPr>
          <p:grpSpPr>
            <a:xfrm>
              <a:off x="4373280" y="2469240"/>
              <a:ext cx="6190920" cy="1478880"/>
              <a:chOff x="4373280" y="2469240"/>
              <a:chExt cx="6190920" cy="1478880"/>
            </a:xfrm>
          </p:grpSpPr>
          <p:sp>
            <p:nvSpPr>
              <p:cNvPr id="410" name="矩形 27"/>
              <p:cNvSpPr/>
              <p:nvPr/>
            </p:nvSpPr>
            <p:spPr>
              <a:xfrm>
                <a:off x="4722480" y="3240720"/>
                <a:ext cx="5492160" cy="707400"/>
              </a:xfrm>
              <a:prstGeom prst="rect">
                <a:avLst/>
              </a:prstGeom>
              <a:solidFill>
                <a:srgbClr val="fd7400">
                  <a:alpha val="70000"/>
                </a:srgbClr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11" name="文本框 28"/>
              <p:cNvSpPr/>
              <p:nvPr/>
            </p:nvSpPr>
            <p:spPr>
              <a:xfrm>
                <a:off x="5416920" y="2469240"/>
                <a:ext cx="4212000" cy="82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zh-CN" sz="4800" spc="-1" strike="noStrike">
                    <a:solidFill>
                      <a:srgbClr val="000000"/>
                    </a:solidFill>
                    <a:latin typeface="造字工房悦黑（非商用）常规体"/>
                    <a:ea typeface="造字工房悦黑（非商用）常规体"/>
                  </a:rPr>
                  <a:t>默默默默发    的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造字工房悦黑（非商用）常规体"/>
                    <a:ea typeface="造字工房悦黑（非商用）常规体"/>
                  </a:rPr>
                  <a:t>2PT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文本框 29"/>
              <p:cNvSpPr/>
              <p:nvPr/>
            </p:nvSpPr>
            <p:spPr>
              <a:xfrm>
                <a:off x="4373280" y="3226320"/>
                <a:ext cx="6190920" cy="6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en-US" sz="4000" spc="-401" strike="noStrike">
                    <a:solidFill>
                      <a:srgbClr val="000000"/>
                    </a:solidFill>
                    <a:latin typeface="Segoe UI Light"/>
                  </a:rPr>
                  <a:t>Power up MoMoMoMo ’s Point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3" name="呆"/>
              <p:cNvGrpSpPr/>
              <p:nvPr/>
            </p:nvGrpSpPr>
            <p:grpSpPr>
              <a:xfrm>
                <a:off x="7889040" y="2566440"/>
                <a:ext cx="557280" cy="553680"/>
                <a:chOff x="7889040" y="2566440"/>
                <a:chExt cx="557280" cy="553680"/>
              </a:xfrm>
            </p:grpSpPr>
            <p:sp>
              <p:nvSpPr>
                <p:cNvPr id="414" name="任意多边形 31"/>
                <p:cNvSpPr/>
                <p:nvPr/>
              </p:nvSpPr>
              <p:spPr>
                <a:xfrm>
                  <a:off x="7889040" y="2566440"/>
                  <a:ext cx="557280" cy="553680"/>
                </a:xfrm>
                <a:custGeom>
                  <a:avLst/>
                  <a:gdLst>
                    <a:gd name="textAreaLeft" fmla="*/ 0 w 557280"/>
                    <a:gd name="textAreaRight" fmla="*/ 557640 w 557280"/>
                    <a:gd name="textAreaTop" fmla="*/ 0 h 553680"/>
                    <a:gd name="textAreaBottom" fmla="*/ 554040 h 553680"/>
                  </a:gdLst>
                  <a:ahLst/>
                  <a:rect l="textAreaLeft" t="textAreaTop" r="textAreaRight" b="textAreaBottom"/>
                  <a:pathLst>
                    <a:path w="557784" h="554126">
                      <a:moveTo>
                        <a:pt x="134112" y="41452"/>
                      </a:moveTo>
                      <a:cubicBezTo>
                        <a:pt x="123838" y="41668"/>
                        <a:pt x="115431" y="45047"/>
                        <a:pt x="108890" y="51587"/>
                      </a:cubicBezTo>
                      <a:cubicBezTo>
                        <a:pt x="102350" y="58128"/>
                        <a:pt x="98972" y="66535"/>
                        <a:pt x="98756" y="76809"/>
                      </a:cubicBezTo>
                      <a:lnTo>
                        <a:pt x="98756" y="142036"/>
                      </a:lnTo>
                      <a:cubicBezTo>
                        <a:pt x="98972" y="152044"/>
                        <a:pt x="102350" y="160375"/>
                        <a:pt x="108890" y="167030"/>
                      </a:cubicBezTo>
                      <a:cubicBezTo>
                        <a:pt x="115431" y="173685"/>
                        <a:pt x="123838" y="177139"/>
                        <a:pt x="134112" y="177393"/>
                      </a:cubicBezTo>
                      <a:lnTo>
                        <a:pt x="423672" y="177393"/>
                      </a:lnTo>
                      <a:cubicBezTo>
                        <a:pt x="433947" y="177139"/>
                        <a:pt x="442354" y="173685"/>
                        <a:pt x="448895" y="167030"/>
                      </a:cubicBezTo>
                      <a:cubicBezTo>
                        <a:pt x="455435" y="160375"/>
                        <a:pt x="458813" y="152044"/>
                        <a:pt x="459029" y="142036"/>
                      </a:cubicBezTo>
                      <a:lnTo>
                        <a:pt x="459029" y="76809"/>
                      </a:lnTo>
                      <a:cubicBezTo>
                        <a:pt x="458813" y="66535"/>
                        <a:pt x="455435" y="58128"/>
                        <a:pt x="448895" y="51587"/>
                      </a:cubicBezTo>
                      <a:cubicBezTo>
                        <a:pt x="442354" y="45047"/>
                        <a:pt x="433947" y="41668"/>
                        <a:pt x="423672" y="41452"/>
                      </a:cubicBezTo>
                      <a:close/>
                      <a:moveTo>
                        <a:pt x="134112" y="0"/>
                      </a:moveTo>
                      <a:lnTo>
                        <a:pt x="423672" y="0"/>
                      </a:lnTo>
                      <a:cubicBezTo>
                        <a:pt x="445275" y="571"/>
                        <a:pt x="463335" y="8115"/>
                        <a:pt x="477851" y="22631"/>
                      </a:cubicBezTo>
                      <a:cubicBezTo>
                        <a:pt x="492367" y="37147"/>
                        <a:pt x="499911" y="55207"/>
                        <a:pt x="500482" y="76809"/>
                      </a:cubicBezTo>
                      <a:lnTo>
                        <a:pt x="500482" y="142036"/>
                      </a:lnTo>
                      <a:cubicBezTo>
                        <a:pt x="499911" y="163639"/>
                        <a:pt x="492367" y="181699"/>
                        <a:pt x="477851" y="196215"/>
                      </a:cubicBezTo>
                      <a:cubicBezTo>
                        <a:pt x="463335" y="210731"/>
                        <a:pt x="445275" y="218275"/>
                        <a:pt x="423672" y="218846"/>
                      </a:cubicBezTo>
                      <a:lnTo>
                        <a:pt x="299314" y="218846"/>
                      </a:lnTo>
                      <a:lnTo>
                        <a:pt x="299314" y="281025"/>
                      </a:lnTo>
                      <a:lnTo>
                        <a:pt x="557784" y="281025"/>
                      </a:lnTo>
                      <a:lnTo>
                        <a:pt x="557784" y="322478"/>
                      </a:lnTo>
                      <a:lnTo>
                        <a:pt x="299314" y="322478"/>
                      </a:lnTo>
                      <a:lnTo>
                        <a:pt x="299314" y="554126"/>
                      </a:lnTo>
                      <a:lnTo>
                        <a:pt x="257861" y="554126"/>
                      </a:lnTo>
                      <a:lnTo>
                        <a:pt x="257861" y="322478"/>
                      </a:lnTo>
                      <a:lnTo>
                        <a:pt x="0" y="322478"/>
                      </a:lnTo>
                      <a:lnTo>
                        <a:pt x="0" y="281025"/>
                      </a:lnTo>
                      <a:lnTo>
                        <a:pt x="257861" y="281025"/>
                      </a:lnTo>
                      <a:lnTo>
                        <a:pt x="257861" y="218846"/>
                      </a:lnTo>
                      <a:lnTo>
                        <a:pt x="134112" y="218846"/>
                      </a:lnTo>
                      <a:cubicBezTo>
                        <a:pt x="112510" y="218275"/>
                        <a:pt x="94450" y="210731"/>
                        <a:pt x="79934" y="196215"/>
                      </a:cubicBezTo>
                      <a:cubicBezTo>
                        <a:pt x="65418" y="181699"/>
                        <a:pt x="57874" y="163639"/>
                        <a:pt x="57303" y="142036"/>
                      </a:cubicBezTo>
                      <a:lnTo>
                        <a:pt x="57303" y="76809"/>
                      </a:lnTo>
                      <a:cubicBezTo>
                        <a:pt x="57874" y="55207"/>
                        <a:pt x="65418" y="37147"/>
                        <a:pt x="79934" y="22631"/>
                      </a:cubicBezTo>
                      <a:cubicBezTo>
                        <a:pt x="94450" y="8115"/>
                        <a:pt x="112510" y="571"/>
                        <a:pt x="134112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horzOverflow="overflow" vertOverflow="overflow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67"/>
                <p:cNvSpPr/>
                <p:nvPr/>
              </p:nvSpPr>
              <p:spPr>
                <a:xfrm>
                  <a:off x="7922160" y="2929320"/>
                  <a:ext cx="505440" cy="143640"/>
                </a:xfrm>
                <a:custGeom>
                  <a:avLst/>
                  <a:gdLst>
                    <a:gd name="textAreaLeft" fmla="*/ 0 w 505440"/>
                    <a:gd name="textAreaRight" fmla="*/ 505800 w 505440"/>
                    <a:gd name="textAreaTop" fmla="*/ 0 h 143640"/>
                    <a:gd name="textAreaBottom" fmla="*/ 144000 h 143640"/>
                  </a:gdLst>
                  <a:ahLst/>
                  <a:rect l="textAreaLeft" t="textAreaTop" r="textAreaRight" b="textAreaBottom"/>
                  <a:pathLst>
                    <a:path w="2019" h="574">
                      <a:moveTo>
                        <a:pt x="1263" y="404"/>
                      </a:moveTo>
                      <a:cubicBezTo>
                        <a:pt x="1209" y="412"/>
                        <a:pt x="1299" y="482"/>
                        <a:pt x="1313" y="505"/>
                      </a:cubicBezTo>
                      <a:cubicBezTo>
                        <a:pt x="1199" y="543"/>
                        <a:pt x="1068" y="380"/>
                        <a:pt x="1010" y="278"/>
                      </a:cubicBezTo>
                      <a:cubicBezTo>
                        <a:pt x="911" y="372"/>
                        <a:pt x="849" y="504"/>
                        <a:pt x="682" y="530"/>
                      </a:cubicBezTo>
                      <a:cubicBezTo>
                        <a:pt x="689" y="479"/>
                        <a:pt x="750" y="481"/>
                        <a:pt x="758" y="429"/>
                      </a:cubicBezTo>
                      <a:cubicBezTo>
                        <a:pt x="636" y="451"/>
                        <a:pt x="596" y="554"/>
                        <a:pt x="429" y="530"/>
                      </a:cubicBezTo>
                      <a:cubicBezTo>
                        <a:pt x="437" y="479"/>
                        <a:pt x="498" y="481"/>
                        <a:pt x="505" y="429"/>
                      </a:cubicBezTo>
                      <a:cubicBezTo>
                        <a:pt x="429" y="463"/>
                        <a:pt x="303" y="463"/>
                        <a:pt x="227" y="429"/>
                      </a:cubicBezTo>
                      <a:cubicBezTo>
                        <a:pt x="231" y="400"/>
                        <a:pt x="273" y="408"/>
                        <a:pt x="303" y="404"/>
                      </a:cubicBezTo>
                      <a:cubicBezTo>
                        <a:pt x="183" y="296"/>
                        <a:pt x="11" y="241"/>
                        <a:pt x="0" y="25"/>
                      </a:cubicBezTo>
                      <a:cubicBezTo>
                        <a:pt x="141" y="308"/>
                        <a:pt x="715" y="319"/>
                        <a:pt x="884" y="50"/>
                      </a:cubicBezTo>
                      <a:cubicBezTo>
                        <a:pt x="983" y="39"/>
                        <a:pt x="1015" y="103"/>
                        <a:pt x="1061" y="25"/>
                      </a:cubicBezTo>
                      <a:cubicBezTo>
                        <a:pt x="1248" y="264"/>
                        <a:pt x="1870" y="375"/>
                        <a:pt x="1995" y="0"/>
                      </a:cubicBezTo>
                      <a:cubicBezTo>
                        <a:pt x="2019" y="133"/>
                        <a:pt x="1904" y="346"/>
                        <a:pt x="1717" y="354"/>
                      </a:cubicBezTo>
                      <a:cubicBezTo>
                        <a:pt x="1708" y="396"/>
                        <a:pt x="1737" y="401"/>
                        <a:pt x="1768" y="404"/>
                      </a:cubicBezTo>
                      <a:cubicBezTo>
                        <a:pt x="1743" y="470"/>
                        <a:pt x="1570" y="472"/>
                        <a:pt x="1515" y="429"/>
                      </a:cubicBezTo>
                      <a:cubicBezTo>
                        <a:pt x="1455" y="437"/>
                        <a:pt x="1543" y="498"/>
                        <a:pt x="1566" y="505"/>
                      </a:cubicBezTo>
                      <a:cubicBezTo>
                        <a:pt x="1462" y="574"/>
                        <a:pt x="1319" y="467"/>
                        <a:pt x="1263" y="40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3"/>
          <p:cNvSpPr/>
          <p:nvPr/>
        </p:nvSpPr>
        <p:spPr>
          <a:xfrm>
            <a:off x="2457000" y="34200"/>
            <a:ext cx="7465680" cy="73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39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难道已经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39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结束了？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2"/>
          <p:cNvSpPr/>
          <p:nvPr/>
        </p:nvSpPr>
        <p:spPr>
          <a:xfrm>
            <a:off x="2428200" y="5040"/>
            <a:ext cx="7465680" cy="73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3900" spc="-1" strike="noStrike">
                <a:solidFill>
                  <a:schemeClr val="accent1"/>
                </a:solidFill>
                <a:latin typeface="方正正大黑简体"/>
                <a:ea typeface="方正正大黑简体"/>
              </a:rPr>
              <a:t>难道已经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3900" spc="-1" strike="noStrike">
                <a:solidFill>
                  <a:schemeClr val="accent1"/>
                </a:solidFill>
                <a:latin typeface="方正正大黑简体"/>
                <a:ea typeface="方正正大黑简体"/>
              </a:rPr>
              <a:t>结束了？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1"/>
          <p:cNvSpPr/>
          <p:nvPr/>
        </p:nvSpPr>
        <p:spPr>
          <a:xfrm>
            <a:off x="2399040" y="-24120"/>
            <a:ext cx="7465680" cy="73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39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难道已经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39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结束了？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组合 1"/>
          <p:cNvGrpSpPr/>
          <p:nvPr/>
        </p:nvGrpSpPr>
        <p:grpSpPr>
          <a:xfrm>
            <a:off x="1283040" y="3054600"/>
            <a:ext cx="1799640" cy="1799640"/>
            <a:chOff x="1283040" y="3054600"/>
            <a:chExt cx="1799640" cy="1799640"/>
          </a:xfrm>
        </p:grpSpPr>
        <p:sp>
          <p:nvSpPr>
            <p:cNvPr id="420" name="矩形 2"/>
            <p:cNvSpPr/>
            <p:nvPr/>
          </p:nvSpPr>
          <p:spPr>
            <a:xfrm>
              <a:off x="1283040" y="3054600"/>
              <a:ext cx="1799640" cy="1799640"/>
            </a:xfrm>
            <a:prstGeom prst="rect">
              <a:avLst/>
            </a:prstGeom>
            <a:solidFill>
              <a:srgbClr val="fd7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1" name="矩形 3"/>
            <p:cNvSpPr/>
            <p:nvPr/>
          </p:nvSpPr>
          <p:spPr>
            <a:xfrm>
              <a:off x="1355040" y="3126600"/>
              <a:ext cx="1655640" cy="165564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2" name="文本框 4"/>
            <p:cNvSpPr/>
            <p:nvPr/>
          </p:nvSpPr>
          <p:spPr>
            <a:xfrm>
              <a:off x="1591560" y="3231360"/>
              <a:ext cx="118224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8800" spc="-1" strike="noStrike">
                  <a:solidFill>
                    <a:srgbClr val="fd751c"/>
                  </a:solidFill>
                  <a:latin typeface="Adobe Gothic Std B"/>
                  <a:ea typeface="Adobe Gothic Std B"/>
                </a:rPr>
                <a:t>Ai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矩形 5"/>
          <p:cNvSpPr/>
          <p:nvPr/>
        </p:nvSpPr>
        <p:spPr>
          <a:xfrm>
            <a:off x="0" y="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4" name="等腰三角形 6"/>
          <p:cNvSpPr/>
          <p:nvPr/>
        </p:nvSpPr>
        <p:spPr>
          <a:xfrm rot="10800000">
            <a:off x="514800" y="851400"/>
            <a:ext cx="768240" cy="57132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5" name="文本框 7"/>
          <p:cNvSpPr/>
          <p:nvPr/>
        </p:nvSpPr>
        <p:spPr>
          <a:xfrm>
            <a:off x="5074200" y="181440"/>
            <a:ext cx="204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当然没有，我们还可以这样弄。先倒回到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Ai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的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组合 11"/>
          <p:cNvGrpSpPr/>
          <p:nvPr/>
        </p:nvGrpSpPr>
        <p:grpSpPr>
          <a:xfrm>
            <a:off x="4468680" y="1715040"/>
            <a:ext cx="6822000" cy="4843800"/>
            <a:chOff x="4468680" y="1715040"/>
            <a:chExt cx="6822000" cy="4843800"/>
          </a:xfrm>
        </p:grpSpPr>
        <p:pic>
          <p:nvPicPr>
            <p:cNvPr id="427" name="图片 8" descr=""/>
            <p:cNvPicPr/>
            <p:nvPr/>
          </p:nvPicPr>
          <p:blipFill>
            <a:blip r:embed="rId1"/>
            <a:stretch/>
          </p:blipFill>
          <p:spPr>
            <a:xfrm>
              <a:off x="4975560" y="1715040"/>
              <a:ext cx="5808240" cy="344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文本框 10"/>
            <p:cNvSpPr/>
            <p:nvPr/>
          </p:nvSpPr>
          <p:spPr>
            <a:xfrm>
              <a:off x="4468680" y="5494320"/>
              <a:ext cx="6822000" cy="10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全选对象，填充为纯色，如上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然后复制 </a:t>
              </a:r>
              <a:r>
                <a:rPr b="0" lang="en-US" sz="32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Ctrl+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矩形 1"/>
          <p:cNvSpPr/>
          <p:nvPr/>
        </p:nvSpPr>
        <p:spPr>
          <a:xfrm>
            <a:off x="0" y="577548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0" name="任意多边形 2"/>
          <p:cNvSpPr/>
          <p:nvPr/>
        </p:nvSpPr>
        <p:spPr>
          <a:xfrm rot="10800000">
            <a:off x="707040" y="5775840"/>
            <a:ext cx="383760" cy="285480"/>
          </a:xfrm>
          <a:custGeom>
            <a:avLst/>
            <a:gdLst>
              <a:gd name="textAreaLeft" fmla="*/ 0 w 383760"/>
              <a:gd name="textAreaRight" fmla="*/ 384120 w 3837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84284" h="285750">
                <a:moveTo>
                  <a:pt x="384284" y="285750"/>
                </a:moveTo>
                <a:lnTo>
                  <a:pt x="0" y="285750"/>
                </a:lnTo>
                <a:lnTo>
                  <a:pt x="192142" y="0"/>
                </a:lnTo>
                <a:close/>
              </a:path>
            </a:pathLst>
          </a:cu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1" name="文本框 3"/>
          <p:cNvSpPr/>
          <p:nvPr/>
        </p:nvSpPr>
        <p:spPr>
          <a:xfrm>
            <a:off x="2083680" y="6047280"/>
            <a:ext cx="80240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中 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Ctrl+Alt+V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，粘贴为增强型图元文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图片 4" descr=""/>
          <p:cNvPicPr/>
          <p:nvPr/>
        </p:nvPicPr>
        <p:blipFill>
          <a:blip r:embed="rId1"/>
          <a:stretch/>
        </p:blipFill>
        <p:spPr>
          <a:xfrm>
            <a:off x="2910240" y="328320"/>
            <a:ext cx="8930880" cy="5135040"/>
          </a:xfrm>
          <a:prstGeom prst="rect">
            <a:avLst/>
          </a:prstGeom>
          <a:ln w="0">
            <a:noFill/>
          </a:ln>
        </p:spPr>
      </p:pic>
      <p:grpSp>
        <p:nvGrpSpPr>
          <p:cNvPr id="433" name="组合 9"/>
          <p:cNvGrpSpPr/>
          <p:nvPr/>
        </p:nvGrpSpPr>
        <p:grpSpPr>
          <a:xfrm>
            <a:off x="2527560" y="2019240"/>
            <a:ext cx="3433680" cy="1161720"/>
            <a:chOff x="2527560" y="2019240"/>
            <a:chExt cx="3433680" cy="1161720"/>
          </a:xfrm>
        </p:grpSpPr>
        <p:sp>
          <p:nvSpPr>
            <p:cNvPr id="434" name="直角上箭头 7"/>
            <p:cNvSpPr/>
            <p:nvPr/>
          </p:nvSpPr>
          <p:spPr>
            <a:xfrm>
              <a:off x="4610880" y="2019240"/>
              <a:ext cx="1350360" cy="1161720"/>
            </a:xfrm>
            <a:prstGeom prst="bentUpArrow">
              <a:avLst>
                <a:gd name="adj1" fmla="val 25000"/>
                <a:gd name="adj2" fmla="val 25000"/>
                <a:gd name="adj3" fmla="val 25000"/>
              </a:avLst>
            </a:pr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5" name="矩形 8"/>
            <p:cNvSpPr/>
            <p:nvPr/>
          </p:nvSpPr>
          <p:spPr>
            <a:xfrm>
              <a:off x="2527560" y="2890800"/>
              <a:ext cx="3277440" cy="290160"/>
            </a:xfrm>
            <a:prstGeom prst="rect">
              <a:avLst/>
            </a:pr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36" name="组合 10"/>
          <p:cNvGrpSpPr/>
          <p:nvPr/>
        </p:nvGrpSpPr>
        <p:grpSpPr>
          <a:xfrm>
            <a:off x="273240" y="1191600"/>
            <a:ext cx="2790000" cy="3688560"/>
            <a:chOff x="273240" y="1191600"/>
            <a:chExt cx="2790000" cy="3688560"/>
          </a:xfrm>
        </p:grpSpPr>
        <p:sp>
          <p:nvSpPr>
            <p:cNvPr id="437" name="3"/>
            <p:cNvSpPr/>
            <p:nvPr/>
          </p:nvSpPr>
          <p:spPr>
            <a:xfrm>
              <a:off x="330480" y="1248840"/>
              <a:ext cx="2732760" cy="36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38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关键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2"/>
            <p:cNvSpPr/>
            <p:nvPr/>
          </p:nvSpPr>
          <p:spPr>
            <a:xfrm>
              <a:off x="311400" y="1229760"/>
              <a:ext cx="2732760" cy="36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3800" spc="-1" strike="noStrike">
                  <a:solidFill>
                    <a:schemeClr val="accent1"/>
                  </a:solidFill>
                  <a:latin typeface="方正正大黑简体"/>
                  <a:ea typeface="方正正大黑简体"/>
                </a:rPr>
                <a:t>关键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1"/>
            <p:cNvSpPr/>
            <p:nvPr/>
          </p:nvSpPr>
          <p:spPr>
            <a:xfrm>
              <a:off x="273240" y="1191600"/>
              <a:ext cx="2732760" cy="36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38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关键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组合 1"/>
          <p:cNvGrpSpPr/>
          <p:nvPr/>
        </p:nvGrpSpPr>
        <p:grpSpPr>
          <a:xfrm>
            <a:off x="1320480" y="2019600"/>
            <a:ext cx="1926720" cy="1799640"/>
            <a:chOff x="1320480" y="2019600"/>
            <a:chExt cx="1926720" cy="1799640"/>
          </a:xfrm>
        </p:grpSpPr>
        <p:sp>
          <p:nvSpPr>
            <p:cNvPr id="441" name="圆角矩形 2"/>
            <p:cNvSpPr/>
            <p:nvPr/>
          </p:nvSpPr>
          <p:spPr>
            <a:xfrm>
              <a:off x="1376640" y="2264760"/>
              <a:ext cx="1870560" cy="1343160"/>
            </a:xfrm>
            <a:prstGeom prst="roundRect">
              <a:avLst>
                <a:gd name="adj" fmla="val 3728"/>
              </a:avLst>
            </a:prstGeom>
            <a:solidFill>
              <a:schemeClr val="bg1"/>
            </a:solidFill>
            <a:ln w="38100">
              <a:solidFill>
                <a:srgbClr val="d14423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2" name="矩形 30"/>
            <p:cNvSpPr/>
            <p:nvPr/>
          </p:nvSpPr>
          <p:spPr>
            <a:xfrm>
              <a:off x="1320480" y="2019600"/>
              <a:ext cx="1176840" cy="1799640"/>
            </a:xfrm>
            <a:custGeom>
              <a:avLst/>
              <a:gdLst>
                <a:gd name="textAreaLeft" fmla="*/ 0 w 1176840"/>
                <a:gd name="textAreaRight" fmla="*/ 1177200 w 1176840"/>
                <a:gd name="textAreaTop" fmla="*/ 0 h 1799640"/>
                <a:gd name="textAreaBottom" fmla="*/ 1800000 h 1799640"/>
              </a:gdLst>
              <a:ahLst/>
              <a:rect l="textAreaLeft" t="textAreaTop" r="textAreaRight" b="textAreaBottom"/>
              <a:pathLst>
                <a:path w="866959" h="1367583">
                  <a:moveTo>
                    <a:pt x="7620" y="129540"/>
                  </a:moveTo>
                  <a:lnTo>
                    <a:pt x="866959" y="0"/>
                  </a:lnTo>
                  <a:lnTo>
                    <a:pt x="866959" y="1367583"/>
                  </a:lnTo>
                  <a:lnTo>
                    <a:pt x="0" y="1222803"/>
                  </a:lnTo>
                  <a:lnTo>
                    <a:pt x="7620" y="129540"/>
                  </a:lnTo>
                  <a:close/>
                </a:path>
              </a:pathLst>
            </a:custGeom>
            <a:solidFill>
              <a:srgbClr val="d1442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3" name="文本框 4"/>
            <p:cNvSpPr/>
            <p:nvPr/>
          </p:nvSpPr>
          <p:spPr>
            <a:xfrm>
              <a:off x="1546200" y="2387880"/>
              <a:ext cx="73440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7200" spc="-1" strike="noStrike">
                  <a:solidFill>
                    <a:srgbClr val="ffffff"/>
                  </a:solidFill>
                  <a:latin typeface="Adobe Gothic Std B"/>
                  <a:ea typeface="Adobe Gothic Std B"/>
                </a:rPr>
                <a:t>P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组合 5"/>
            <p:cNvGrpSpPr/>
            <p:nvPr/>
          </p:nvGrpSpPr>
          <p:grpSpPr>
            <a:xfrm>
              <a:off x="2436480" y="2425680"/>
              <a:ext cx="574200" cy="557640"/>
              <a:chOff x="2436480" y="2425680"/>
              <a:chExt cx="574200" cy="557640"/>
            </a:xfrm>
          </p:grpSpPr>
          <p:sp>
            <p:nvSpPr>
              <p:cNvPr id="445" name="饼形 8"/>
              <p:cNvSpPr/>
              <p:nvPr/>
            </p:nvSpPr>
            <p:spPr>
              <a:xfrm>
                <a:off x="2436480" y="2485080"/>
                <a:ext cx="498240" cy="498240"/>
              </a:xfrm>
              <a:prstGeom prst="pie">
                <a:avLst>
                  <a:gd name="adj1" fmla="val 0"/>
                  <a:gd name="adj2" fmla="val 16200000"/>
                </a:avLst>
              </a:prstGeom>
              <a:solidFill>
                <a:srgbClr val="d1442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饼形 9"/>
              <p:cNvSpPr/>
              <p:nvPr/>
            </p:nvSpPr>
            <p:spPr>
              <a:xfrm rot="16200000">
                <a:off x="2491200" y="2425680"/>
                <a:ext cx="519480" cy="519480"/>
              </a:xfrm>
              <a:prstGeom prst="pie">
                <a:avLst>
                  <a:gd name="adj1" fmla="val 0"/>
                  <a:gd name="adj2" fmla="val 5400000"/>
                </a:avLst>
              </a:prstGeom>
              <a:solidFill>
                <a:srgbClr val="d1442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447" name="直接连接符 6"/>
            <p:cNvCxnSpPr/>
            <p:nvPr/>
          </p:nvCxnSpPr>
          <p:spPr>
            <a:xfrm>
              <a:off x="2340000" y="3165840"/>
              <a:ext cx="651960" cy="360"/>
            </a:xfrm>
            <a:prstGeom prst="straightConnector1">
              <a:avLst/>
            </a:prstGeom>
            <a:ln w="28575">
              <a:solidFill>
                <a:srgbClr val="d14423"/>
              </a:solidFill>
            </a:ln>
          </p:spPr>
        </p:cxnSp>
        <p:cxnSp>
          <p:nvCxnSpPr>
            <p:cNvPr id="448" name="直接连接符 7"/>
            <p:cNvCxnSpPr/>
            <p:nvPr/>
          </p:nvCxnSpPr>
          <p:spPr>
            <a:xfrm>
              <a:off x="2340000" y="3346560"/>
              <a:ext cx="651960" cy="360"/>
            </a:xfrm>
            <a:prstGeom prst="straightConnector1">
              <a:avLst/>
            </a:prstGeom>
            <a:ln w="28575">
              <a:solidFill>
                <a:srgbClr val="d14423"/>
              </a:solidFill>
            </a:ln>
          </p:spPr>
        </p:cxnSp>
      </p:grpSp>
      <p:sp>
        <p:nvSpPr>
          <p:cNvPr id="449" name="矩形 13"/>
          <p:cNvSpPr/>
          <p:nvPr/>
        </p:nvSpPr>
        <p:spPr>
          <a:xfrm>
            <a:off x="0" y="577548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0" name="任意多边形 14"/>
          <p:cNvSpPr/>
          <p:nvPr/>
        </p:nvSpPr>
        <p:spPr>
          <a:xfrm rot="10800000">
            <a:off x="707040" y="5775840"/>
            <a:ext cx="383760" cy="285480"/>
          </a:xfrm>
          <a:custGeom>
            <a:avLst/>
            <a:gdLst>
              <a:gd name="textAreaLeft" fmla="*/ 0 w 383760"/>
              <a:gd name="textAreaRight" fmla="*/ 384120 w 3837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84284" h="285750">
                <a:moveTo>
                  <a:pt x="384284" y="285750"/>
                </a:moveTo>
                <a:lnTo>
                  <a:pt x="0" y="285750"/>
                </a:lnTo>
                <a:lnTo>
                  <a:pt x="192142" y="0"/>
                </a:lnTo>
                <a:close/>
              </a:path>
            </a:pathLst>
          </a:cu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1" name="文本框 15"/>
          <p:cNvSpPr/>
          <p:nvPr/>
        </p:nvSpPr>
        <p:spPr>
          <a:xfrm>
            <a:off x="2134440" y="6047280"/>
            <a:ext cx="7922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中 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Ctrl+Shift+G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，进行两次群组打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图片 16" descr=""/>
          <p:cNvPicPr/>
          <p:nvPr/>
        </p:nvPicPr>
        <p:blipFill>
          <a:blip r:embed="rId1"/>
          <a:stretch/>
        </p:blipFill>
        <p:spPr>
          <a:xfrm>
            <a:off x="3818160" y="671760"/>
            <a:ext cx="7981560" cy="44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组合 1"/>
          <p:cNvGrpSpPr/>
          <p:nvPr/>
        </p:nvGrpSpPr>
        <p:grpSpPr>
          <a:xfrm>
            <a:off x="1320480" y="2019600"/>
            <a:ext cx="1926720" cy="1799640"/>
            <a:chOff x="1320480" y="2019600"/>
            <a:chExt cx="1926720" cy="1799640"/>
          </a:xfrm>
        </p:grpSpPr>
        <p:sp>
          <p:nvSpPr>
            <p:cNvPr id="454" name="圆角矩形 2"/>
            <p:cNvSpPr/>
            <p:nvPr/>
          </p:nvSpPr>
          <p:spPr>
            <a:xfrm>
              <a:off x="1376640" y="2264760"/>
              <a:ext cx="1870560" cy="1343160"/>
            </a:xfrm>
            <a:prstGeom prst="roundRect">
              <a:avLst>
                <a:gd name="adj" fmla="val 3728"/>
              </a:avLst>
            </a:prstGeom>
            <a:solidFill>
              <a:schemeClr val="bg1"/>
            </a:solidFill>
            <a:ln w="38100">
              <a:solidFill>
                <a:srgbClr val="d14423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5" name="矩形 30"/>
            <p:cNvSpPr/>
            <p:nvPr/>
          </p:nvSpPr>
          <p:spPr>
            <a:xfrm>
              <a:off x="1320480" y="2019600"/>
              <a:ext cx="1176840" cy="1799640"/>
            </a:xfrm>
            <a:custGeom>
              <a:avLst/>
              <a:gdLst>
                <a:gd name="textAreaLeft" fmla="*/ 0 w 1176840"/>
                <a:gd name="textAreaRight" fmla="*/ 1177200 w 1176840"/>
                <a:gd name="textAreaTop" fmla="*/ 0 h 1799640"/>
                <a:gd name="textAreaBottom" fmla="*/ 1800000 h 1799640"/>
              </a:gdLst>
              <a:ahLst/>
              <a:rect l="textAreaLeft" t="textAreaTop" r="textAreaRight" b="textAreaBottom"/>
              <a:pathLst>
                <a:path w="866959" h="1367583">
                  <a:moveTo>
                    <a:pt x="7620" y="129540"/>
                  </a:moveTo>
                  <a:lnTo>
                    <a:pt x="866959" y="0"/>
                  </a:lnTo>
                  <a:lnTo>
                    <a:pt x="866959" y="1367583"/>
                  </a:lnTo>
                  <a:lnTo>
                    <a:pt x="0" y="1222803"/>
                  </a:lnTo>
                  <a:lnTo>
                    <a:pt x="7620" y="129540"/>
                  </a:lnTo>
                  <a:close/>
                </a:path>
              </a:pathLst>
            </a:custGeom>
            <a:solidFill>
              <a:srgbClr val="d1442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6" name="文本框 4"/>
            <p:cNvSpPr/>
            <p:nvPr/>
          </p:nvSpPr>
          <p:spPr>
            <a:xfrm>
              <a:off x="1546200" y="2387880"/>
              <a:ext cx="73440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7200" spc="-1" strike="noStrike">
                  <a:solidFill>
                    <a:srgbClr val="ffffff"/>
                  </a:solidFill>
                  <a:latin typeface="Adobe Gothic Std B"/>
                  <a:ea typeface="Adobe Gothic Std B"/>
                </a:rPr>
                <a:t>P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组合 5"/>
            <p:cNvGrpSpPr/>
            <p:nvPr/>
          </p:nvGrpSpPr>
          <p:grpSpPr>
            <a:xfrm>
              <a:off x="2436480" y="2425680"/>
              <a:ext cx="574200" cy="557640"/>
              <a:chOff x="2436480" y="2425680"/>
              <a:chExt cx="574200" cy="557640"/>
            </a:xfrm>
          </p:grpSpPr>
          <p:sp>
            <p:nvSpPr>
              <p:cNvPr id="458" name="饼形 8"/>
              <p:cNvSpPr/>
              <p:nvPr/>
            </p:nvSpPr>
            <p:spPr>
              <a:xfrm>
                <a:off x="2436480" y="2485080"/>
                <a:ext cx="498240" cy="498240"/>
              </a:xfrm>
              <a:prstGeom prst="pie">
                <a:avLst>
                  <a:gd name="adj1" fmla="val 0"/>
                  <a:gd name="adj2" fmla="val 16200000"/>
                </a:avLst>
              </a:prstGeom>
              <a:solidFill>
                <a:srgbClr val="d1442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饼形 9"/>
              <p:cNvSpPr/>
              <p:nvPr/>
            </p:nvSpPr>
            <p:spPr>
              <a:xfrm rot="16200000">
                <a:off x="2491200" y="2425680"/>
                <a:ext cx="519480" cy="519480"/>
              </a:xfrm>
              <a:prstGeom prst="pie">
                <a:avLst>
                  <a:gd name="adj1" fmla="val 0"/>
                  <a:gd name="adj2" fmla="val 5400000"/>
                </a:avLst>
              </a:prstGeom>
              <a:solidFill>
                <a:srgbClr val="d1442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460" name="直接连接符 6"/>
            <p:cNvCxnSpPr/>
            <p:nvPr/>
          </p:nvCxnSpPr>
          <p:spPr>
            <a:xfrm>
              <a:off x="2340000" y="3165840"/>
              <a:ext cx="651960" cy="360"/>
            </a:xfrm>
            <a:prstGeom prst="straightConnector1">
              <a:avLst/>
            </a:prstGeom>
            <a:ln w="28575">
              <a:solidFill>
                <a:srgbClr val="d14423"/>
              </a:solidFill>
            </a:ln>
          </p:spPr>
        </p:cxnSp>
        <p:cxnSp>
          <p:nvCxnSpPr>
            <p:cNvPr id="461" name="直接连接符 7"/>
            <p:cNvCxnSpPr/>
            <p:nvPr/>
          </p:nvCxnSpPr>
          <p:spPr>
            <a:xfrm>
              <a:off x="2340000" y="3346560"/>
              <a:ext cx="651960" cy="360"/>
            </a:xfrm>
            <a:prstGeom prst="straightConnector1">
              <a:avLst/>
            </a:prstGeom>
            <a:ln w="28575">
              <a:solidFill>
                <a:srgbClr val="d14423"/>
              </a:solidFill>
            </a:ln>
          </p:spPr>
        </p:cxnSp>
      </p:grpSp>
      <p:sp>
        <p:nvSpPr>
          <p:cNvPr id="462" name="矩形 13"/>
          <p:cNvSpPr/>
          <p:nvPr/>
        </p:nvSpPr>
        <p:spPr>
          <a:xfrm>
            <a:off x="0" y="577548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3" name="任意多边形 14"/>
          <p:cNvSpPr/>
          <p:nvPr/>
        </p:nvSpPr>
        <p:spPr>
          <a:xfrm rot="10800000">
            <a:off x="707040" y="5775840"/>
            <a:ext cx="383760" cy="285480"/>
          </a:xfrm>
          <a:custGeom>
            <a:avLst/>
            <a:gdLst>
              <a:gd name="textAreaLeft" fmla="*/ 0 w 383760"/>
              <a:gd name="textAreaRight" fmla="*/ 384120 w 3837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84284" h="285750">
                <a:moveTo>
                  <a:pt x="384284" y="285750"/>
                </a:moveTo>
                <a:lnTo>
                  <a:pt x="0" y="285750"/>
                </a:lnTo>
                <a:lnTo>
                  <a:pt x="192142" y="0"/>
                </a:lnTo>
                <a:close/>
              </a:path>
            </a:pathLst>
          </a:cu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4" name="文本框 15"/>
          <p:cNvSpPr/>
          <p:nvPr/>
        </p:nvSpPr>
        <p:spPr>
          <a:xfrm>
            <a:off x="3077280" y="6047280"/>
            <a:ext cx="6036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中 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Alt+F10 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调出选择窗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组合 10"/>
          <p:cNvGrpSpPr/>
          <p:nvPr/>
        </p:nvGrpSpPr>
        <p:grpSpPr>
          <a:xfrm>
            <a:off x="4932360" y="1451520"/>
            <a:ext cx="5779080" cy="3428640"/>
            <a:chOff x="4932360" y="1451520"/>
            <a:chExt cx="5779080" cy="3428640"/>
          </a:xfrm>
        </p:grpSpPr>
        <p:pic>
          <p:nvPicPr>
            <p:cNvPr id="466" name="图片 17" descr=""/>
            <p:cNvPicPr/>
            <p:nvPr/>
          </p:nvPicPr>
          <p:blipFill>
            <a:blip r:embed="rId1"/>
            <a:stretch/>
          </p:blipFill>
          <p:spPr>
            <a:xfrm>
              <a:off x="4932360" y="1451520"/>
              <a:ext cx="2095200" cy="34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文本框 18"/>
            <p:cNvSpPr/>
            <p:nvPr/>
          </p:nvSpPr>
          <p:spPr>
            <a:xfrm>
              <a:off x="7242480" y="1451520"/>
              <a:ext cx="3468960" cy="27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  <a:scene3d>
                <a:camera prst="orthographicFront"/>
                <a:lightRig dir="t" rig="flat"/>
              </a:scene3d>
              <a:sp3d extrusionH="6350000" prstMaterial="matte">
                <a:extrusionClr>
                  <a:schemeClr val="accent1">
                    <a:lumMod val="75000"/>
                  </a:schemeClr>
                </a:extrusionClr>
              </a:sp3d>
            </a:bodyPr>
            <a:p>
              <a:pPr>
                <a:lnSpc>
                  <a:spcPct val="120000"/>
                </a:lnSpc>
              </a:pPr>
              <a:r>
                <a:rPr b="0" lang="zh-CN" sz="36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删除所有</a:t>
              </a:r>
              <a:r>
                <a:rPr b="0" lang="en-US" sz="36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Picture</a:t>
              </a:r>
              <a:r>
                <a:rPr b="0" lang="zh-CN" sz="36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、</a:t>
              </a:r>
              <a:r>
                <a:rPr b="0" lang="en-US" sz="36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Rectangle</a:t>
              </a:r>
              <a:r>
                <a:rPr b="0" lang="zh-CN" sz="36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en-US" sz="36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AutoShape</a:t>
              </a:r>
              <a:r>
                <a:rPr b="0" lang="zh-CN" sz="36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为前缀的对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组合 1"/>
          <p:cNvGrpSpPr/>
          <p:nvPr/>
        </p:nvGrpSpPr>
        <p:grpSpPr>
          <a:xfrm>
            <a:off x="1320480" y="2019600"/>
            <a:ext cx="1926720" cy="1799640"/>
            <a:chOff x="1320480" y="2019600"/>
            <a:chExt cx="1926720" cy="1799640"/>
          </a:xfrm>
        </p:grpSpPr>
        <p:sp>
          <p:nvSpPr>
            <p:cNvPr id="469" name="圆角矩形 2"/>
            <p:cNvSpPr/>
            <p:nvPr/>
          </p:nvSpPr>
          <p:spPr>
            <a:xfrm>
              <a:off x="1376640" y="2264760"/>
              <a:ext cx="1870560" cy="1343160"/>
            </a:xfrm>
            <a:prstGeom prst="roundRect">
              <a:avLst>
                <a:gd name="adj" fmla="val 3728"/>
              </a:avLst>
            </a:prstGeom>
            <a:solidFill>
              <a:schemeClr val="bg1"/>
            </a:solidFill>
            <a:ln w="38100">
              <a:solidFill>
                <a:srgbClr val="d14423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0" name="矩形 30"/>
            <p:cNvSpPr/>
            <p:nvPr/>
          </p:nvSpPr>
          <p:spPr>
            <a:xfrm>
              <a:off x="1320480" y="2019600"/>
              <a:ext cx="1176840" cy="1799640"/>
            </a:xfrm>
            <a:custGeom>
              <a:avLst/>
              <a:gdLst>
                <a:gd name="textAreaLeft" fmla="*/ 0 w 1176840"/>
                <a:gd name="textAreaRight" fmla="*/ 1177200 w 1176840"/>
                <a:gd name="textAreaTop" fmla="*/ 0 h 1799640"/>
                <a:gd name="textAreaBottom" fmla="*/ 1800000 h 1799640"/>
              </a:gdLst>
              <a:ahLst/>
              <a:rect l="textAreaLeft" t="textAreaTop" r="textAreaRight" b="textAreaBottom"/>
              <a:pathLst>
                <a:path w="866959" h="1367583">
                  <a:moveTo>
                    <a:pt x="7620" y="129540"/>
                  </a:moveTo>
                  <a:lnTo>
                    <a:pt x="866959" y="0"/>
                  </a:lnTo>
                  <a:lnTo>
                    <a:pt x="866959" y="1367583"/>
                  </a:lnTo>
                  <a:lnTo>
                    <a:pt x="0" y="1222803"/>
                  </a:lnTo>
                  <a:lnTo>
                    <a:pt x="7620" y="129540"/>
                  </a:lnTo>
                  <a:close/>
                </a:path>
              </a:pathLst>
            </a:custGeom>
            <a:solidFill>
              <a:srgbClr val="d1442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1" name="文本框 4"/>
            <p:cNvSpPr/>
            <p:nvPr/>
          </p:nvSpPr>
          <p:spPr>
            <a:xfrm>
              <a:off x="1546200" y="2387880"/>
              <a:ext cx="73440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7200" spc="-1" strike="noStrike">
                  <a:solidFill>
                    <a:srgbClr val="ffffff"/>
                  </a:solidFill>
                  <a:latin typeface="Adobe Gothic Std B"/>
                  <a:ea typeface="Adobe Gothic Std B"/>
                </a:rPr>
                <a:t>P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组合 5"/>
            <p:cNvGrpSpPr/>
            <p:nvPr/>
          </p:nvGrpSpPr>
          <p:grpSpPr>
            <a:xfrm>
              <a:off x="2436480" y="2425680"/>
              <a:ext cx="574200" cy="557640"/>
              <a:chOff x="2436480" y="2425680"/>
              <a:chExt cx="574200" cy="557640"/>
            </a:xfrm>
          </p:grpSpPr>
          <p:sp>
            <p:nvSpPr>
              <p:cNvPr id="473" name="饼形 8"/>
              <p:cNvSpPr/>
              <p:nvPr/>
            </p:nvSpPr>
            <p:spPr>
              <a:xfrm>
                <a:off x="2436480" y="2485080"/>
                <a:ext cx="498240" cy="498240"/>
              </a:xfrm>
              <a:prstGeom prst="pie">
                <a:avLst>
                  <a:gd name="adj1" fmla="val 0"/>
                  <a:gd name="adj2" fmla="val 16200000"/>
                </a:avLst>
              </a:prstGeom>
              <a:solidFill>
                <a:srgbClr val="d1442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饼形 9"/>
              <p:cNvSpPr/>
              <p:nvPr/>
            </p:nvSpPr>
            <p:spPr>
              <a:xfrm rot="16200000">
                <a:off x="2491200" y="2425680"/>
                <a:ext cx="519480" cy="519480"/>
              </a:xfrm>
              <a:prstGeom prst="pie">
                <a:avLst>
                  <a:gd name="adj1" fmla="val 0"/>
                  <a:gd name="adj2" fmla="val 5400000"/>
                </a:avLst>
              </a:prstGeom>
              <a:solidFill>
                <a:srgbClr val="d1442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475" name="直接连接符 6"/>
            <p:cNvCxnSpPr/>
            <p:nvPr/>
          </p:nvCxnSpPr>
          <p:spPr>
            <a:xfrm>
              <a:off x="2340000" y="3165840"/>
              <a:ext cx="651960" cy="360"/>
            </a:xfrm>
            <a:prstGeom prst="straightConnector1">
              <a:avLst/>
            </a:prstGeom>
            <a:ln w="28575">
              <a:solidFill>
                <a:srgbClr val="d14423"/>
              </a:solidFill>
            </a:ln>
          </p:spPr>
        </p:cxnSp>
        <p:cxnSp>
          <p:nvCxnSpPr>
            <p:cNvPr id="476" name="直接连接符 7"/>
            <p:cNvCxnSpPr/>
            <p:nvPr/>
          </p:nvCxnSpPr>
          <p:spPr>
            <a:xfrm>
              <a:off x="2340000" y="3346560"/>
              <a:ext cx="651960" cy="360"/>
            </a:xfrm>
            <a:prstGeom prst="straightConnector1">
              <a:avLst/>
            </a:prstGeom>
            <a:ln w="28575">
              <a:solidFill>
                <a:srgbClr val="d14423"/>
              </a:solidFill>
            </a:ln>
          </p:spPr>
        </p:cxnSp>
      </p:grpSp>
      <p:sp>
        <p:nvSpPr>
          <p:cNvPr id="477" name="矩形 13"/>
          <p:cNvSpPr/>
          <p:nvPr/>
        </p:nvSpPr>
        <p:spPr>
          <a:xfrm>
            <a:off x="0" y="577548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8" name="任意多边形 14"/>
          <p:cNvSpPr/>
          <p:nvPr/>
        </p:nvSpPr>
        <p:spPr>
          <a:xfrm rot="10800000">
            <a:off x="707040" y="5775840"/>
            <a:ext cx="383760" cy="285480"/>
          </a:xfrm>
          <a:custGeom>
            <a:avLst/>
            <a:gdLst>
              <a:gd name="textAreaLeft" fmla="*/ 0 w 383760"/>
              <a:gd name="textAreaRight" fmla="*/ 384120 w 3837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84284" h="285750">
                <a:moveTo>
                  <a:pt x="384284" y="285750"/>
                </a:moveTo>
                <a:lnTo>
                  <a:pt x="0" y="285750"/>
                </a:lnTo>
                <a:lnTo>
                  <a:pt x="192142" y="0"/>
                </a:lnTo>
                <a:close/>
              </a:path>
            </a:pathLst>
          </a:cu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9" name="文本框 15"/>
          <p:cNvSpPr/>
          <p:nvPr/>
        </p:nvSpPr>
        <p:spPr>
          <a:xfrm>
            <a:off x="2121480" y="6047280"/>
            <a:ext cx="8064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Ctrl+A 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选中所有对象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图形与线条进行相同渐变填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组合 22"/>
          <p:cNvGrpSpPr/>
          <p:nvPr/>
        </p:nvGrpSpPr>
        <p:grpSpPr>
          <a:xfrm>
            <a:off x="4203000" y="602640"/>
            <a:ext cx="7131240" cy="4762080"/>
            <a:chOff x="4203000" y="602640"/>
            <a:chExt cx="7131240" cy="4762080"/>
          </a:xfrm>
        </p:grpSpPr>
        <p:pic>
          <p:nvPicPr>
            <p:cNvPr id="481" name="图片 12" descr=""/>
            <p:cNvPicPr/>
            <p:nvPr/>
          </p:nvPicPr>
          <p:blipFill>
            <a:blip r:embed="rId1"/>
            <a:stretch/>
          </p:blipFill>
          <p:spPr>
            <a:xfrm>
              <a:off x="8143560" y="602640"/>
              <a:ext cx="3190680" cy="47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图片 19" descr=""/>
            <p:cNvPicPr/>
            <p:nvPr/>
          </p:nvPicPr>
          <p:blipFill>
            <a:blip r:embed="rId2"/>
            <a:stretch/>
          </p:blipFill>
          <p:spPr>
            <a:xfrm>
              <a:off x="4203000" y="602640"/>
              <a:ext cx="3190680" cy="4762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组合 6"/>
          <p:cNvGrpSpPr/>
          <p:nvPr/>
        </p:nvGrpSpPr>
        <p:grpSpPr>
          <a:xfrm>
            <a:off x="177480" y="-478800"/>
            <a:ext cx="11836800" cy="6663960"/>
            <a:chOff x="177480" y="-478800"/>
            <a:chExt cx="11836800" cy="6663960"/>
          </a:xfrm>
        </p:grpSpPr>
        <p:sp>
          <p:nvSpPr>
            <p:cNvPr id="484" name="Freeform 56"/>
            <p:cNvSpPr/>
            <p:nvPr/>
          </p:nvSpPr>
          <p:spPr>
            <a:xfrm>
              <a:off x="177480" y="-478800"/>
              <a:ext cx="488520" cy="1342800"/>
            </a:xfrm>
            <a:custGeom>
              <a:avLst/>
              <a:gdLst>
                <a:gd name="textAreaLeft" fmla="*/ 0 w 488520"/>
                <a:gd name="textAreaRight" fmla="*/ 488880 w 48852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293" h="805">
                  <a:moveTo>
                    <a:pt x="0" y="0"/>
                  </a:moveTo>
                  <a:lnTo>
                    <a:pt x="19" y="805"/>
                  </a:lnTo>
                  <a:lnTo>
                    <a:pt x="293" y="2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57"/>
            <p:cNvSpPr/>
            <p:nvPr/>
          </p:nvSpPr>
          <p:spPr>
            <a:xfrm>
              <a:off x="177480" y="3011760"/>
              <a:ext cx="1135800" cy="200520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2005200"/>
                <a:gd name="textAreaBottom" fmla="*/ 2005560 h 2005200"/>
              </a:gdLst>
              <a:ahLst/>
              <a:rect l="textAreaLeft" t="textAreaTop" r="textAreaRight" b="textAreaBottom"/>
              <a:pathLst>
                <a:path w="681" h="1202">
                  <a:moveTo>
                    <a:pt x="9" y="0"/>
                  </a:moveTo>
                  <a:lnTo>
                    <a:pt x="0" y="1202"/>
                  </a:lnTo>
                  <a:lnTo>
                    <a:pt x="681" y="539"/>
                  </a:lnTo>
                  <a:lnTo>
                    <a:pt x="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58"/>
            <p:cNvSpPr/>
            <p:nvPr/>
          </p:nvSpPr>
          <p:spPr>
            <a:xfrm>
              <a:off x="209160" y="-430560"/>
              <a:ext cx="1783440" cy="1294560"/>
            </a:xfrm>
            <a:custGeom>
              <a:avLst/>
              <a:gdLst>
                <a:gd name="textAreaLeft" fmla="*/ 0 w 1783440"/>
                <a:gd name="textAreaRight" fmla="*/ 1783800 w 1783440"/>
                <a:gd name="textAreaTop" fmla="*/ 0 h 1294560"/>
                <a:gd name="textAreaBottom" fmla="*/ 1294920 h 1294560"/>
              </a:gdLst>
              <a:ahLst/>
              <a:rect l="textAreaLeft" t="textAreaTop" r="textAreaRight" b="textAreaBottom"/>
              <a:pathLst>
                <a:path w="1069" h="776">
                  <a:moveTo>
                    <a:pt x="274" y="0"/>
                  </a:moveTo>
                  <a:lnTo>
                    <a:pt x="0" y="776"/>
                  </a:lnTo>
                  <a:lnTo>
                    <a:pt x="1069" y="624"/>
                  </a:lnTo>
                  <a:lnTo>
                    <a:pt x="274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59"/>
            <p:cNvSpPr/>
            <p:nvPr/>
          </p:nvSpPr>
          <p:spPr>
            <a:xfrm>
              <a:off x="192600" y="610560"/>
              <a:ext cx="1800000" cy="2400840"/>
            </a:xfrm>
            <a:custGeom>
              <a:avLst/>
              <a:gdLst>
                <a:gd name="textAreaLeft" fmla="*/ 0 w 1800000"/>
                <a:gd name="textAreaRight" fmla="*/ 1800360 w 1800000"/>
                <a:gd name="textAreaTop" fmla="*/ 0 h 2400840"/>
                <a:gd name="textAreaBottom" fmla="*/ 2401200 h 2400840"/>
              </a:gdLst>
              <a:ahLst/>
              <a:rect l="textAreaLeft" t="textAreaTop" r="textAreaRight" b="textAreaBottom"/>
              <a:pathLst>
                <a:path w="1079" h="1439">
                  <a:moveTo>
                    <a:pt x="10" y="152"/>
                  </a:moveTo>
                  <a:lnTo>
                    <a:pt x="0" y="1439"/>
                  </a:lnTo>
                  <a:lnTo>
                    <a:pt x="1079" y="0"/>
                  </a:lnTo>
                  <a:lnTo>
                    <a:pt x="10" y="152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60"/>
            <p:cNvSpPr/>
            <p:nvPr/>
          </p:nvSpPr>
          <p:spPr>
            <a:xfrm>
              <a:off x="177480" y="5017320"/>
              <a:ext cx="2130480" cy="116748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167480"/>
                <a:gd name="textAreaBottom" fmla="*/ 1167840 h 1167480"/>
              </a:gdLst>
              <a:ahLst/>
              <a:rect l="textAreaLeft" t="textAreaTop" r="textAreaRight" b="textAreaBottom"/>
              <a:pathLst>
                <a:path w="1277" h="700">
                  <a:moveTo>
                    <a:pt x="0" y="0"/>
                  </a:moveTo>
                  <a:lnTo>
                    <a:pt x="0" y="700"/>
                  </a:lnTo>
                  <a:lnTo>
                    <a:pt x="1277" y="68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61"/>
            <p:cNvSpPr/>
            <p:nvPr/>
          </p:nvSpPr>
          <p:spPr>
            <a:xfrm>
              <a:off x="177480" y="3911040"/>
              <a:ext cx="2130480" cy="224208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2242080"/>
                <a:gd name="textAreaBottom" fmla="*/ 2242440 h 2242080"/>
              </a:gdLst>
              <a:ahLst/>
              <a:rect l="textAreaLeft" t="textAreaTop" r="textAreaRight" b="textAreaBottom"/>
              <a:pathLst>
                <a:path w="1277" h="1344">
                  <a:moveTo>
                    <a:pt x="681" y="0"/>
                  </a:moveTo>
                  <a:lnTo>
                    <a:pt x="0" y="663"/>
                  </a:lnTo>
                  <a:lnTo>
                    <a:pt x="1277" y="1344"/>
                  </a:lnTo>
                  <a:lnTo>
                    <a:pt x="681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62"/>
            <p:cNvSpPr/>
            <p:nvPr/>
          </p:nvSpPr>
          <p:spPr>
            <a:xfrm>
              <a:off x="192600" y="2317680"/>
              <a:ext cx="2652480" cy="1593000"/>
            </a:xfrm>
            <a:custGeom>
              <a:avLst/>
              <a:gdLst>
                <a:gd name="textAreaLeft" fmla="*/ 0 w 2652480"/>
                <a:gd name="textAreaRight" fmla="*/ 2652840 w 2652480"/>
                <a:gd name="textAreaTop" fmla="*/ 0 h 1593000"/>
                <a:gd name="textAreaBottom" fmla="*/ 1593360 h 1593000"/>
              </a:gdLst>
              <a:ahLst/>
              <a:rect l="textAreaLeft" t="textAreaTop" r="textAreaRight" b="textAreaBottom"/>
              <a:pathLst>
                <a:path w="1590" h="955">
                  <a:moveTo>
                    <a:pt x="0" y="416"/>
                  </a:moveTo>
                  <a:lnTo>
                    <a:pt x="672" y="955"/>
                  </a:lnTo>
                  <a:lnTo>
                    <a:pt x="1590" y="0"/>
                  </a:lnTo>
                  <a:lnTo>
                    <a:pt x="0" y="416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63"/>
            <p:cNvSpPr/>
            <p:nvPr/>
          </p:nvSpPr>
          <p:spPr>
            <a:xfrm>
              <a:off x="192600" y="610560"/>
              <a:ext cx="2652480" cy="2400840"/>
            </a:xfrm>
            <a:custGeom>
              <a:avLst/>
              <a:gdLst>
                <a:gd name="textAreaLeft" fmla="*/ 0 w 2652480"/>
                <a:gd name="textAreaRight" fmla="*/ 2652840 w 2652480"/>
                <a:gd name="textAreaTop" fmla="*/ 0 h 2400840"/>
                <a:gd name="textAreaBottom" fmla="*/ 2401200 h 2400840"/>
              </a:gdLst>
              <a:ahLst/>
              <a:rect l="textAreaLeft" t="textAreaTop" r="textAreaRight" b="textAreaBottom"/>
              <a:pathLst>
                <a:path w="1590" h="1439">
                  <a:moveTo>
                    <a:pt x="1079" y="0"/>
                  </a:moveTo>
                  <a:lnTo>
                    <a:pt x="0" y="1439"/>
                  </a:lnTo>
                  <a:lnTo>
                    <a:pt x="1590" y="1023"/>
                  </a:lnTo>
                  <a:lnTo>
                    <a:pt x="107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64"/>
            <p:cNvSpPr/>
            <p:nvPr/>
          </p:nvSpPr>
          <p:spPr>
            <a:xfrm>
              <a:off x="666360" y="-462240"/>
              <a:ext cx="2430720" cy="1072440"/>
            </a:xfrm>
            <a:custGeom>
              <a:avLst/>
              <a:gdLst>
                <a:gd name="textAreaLeft" fmla="*/ 0 w 2430720"/>
                <a:gd name="textAreaRight" fmla="*/ 2431080 w 2430720"/>
                <a:gd name="textAreaTop" fmla="*/ 0 h 1072440"/>
                <a:gd name="textAreaBottom" fmla="*/ 1072800 h 1072440"/>
              </a:gdLst>
              <a:ahLst/>
              <a:rect l="textAreaLeft" t="textAreaTop" r="textAreaRight" b="textAreaBottom"/>
              <a:pathLst>
                <a:path w="1457" h="643">
                  <a:moveTo>
                    <a:pt x="0" y="19"/>
                  </a:moveTo>
                  <a:lnTo>
                    <a:pt x="795" y="643"/>
                  </a:lnTo>
                  <a:lnTo>
                    <a:pt x="1457" y="0"/>
                  </a:lnTo>
                  <a:lnTo>
                    <a:pt x="0" y="19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65"/>
            <p:cNvSpPr/>
            <p:nvPr/>
          </p:nvSpPr>
          <p:spPr>
            <a:xfrm>
              <a:off x="177480" y="-478800"/>
              <a:ext cx="2919600" cy="47880"/>
            </a:xfrm>
            <a:custGeom>
              <a:avLst/>
              <a:gdLst>
                <a:gd name="textAreaLeft" fmla="*/ 0 w 2919600"/>
                <a:gd name="textAreaRight" fmla="*/ 2919960 w 29196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750" h="29">
                  <a:moveTo>
                    <a:pt x="0" y="0"/>
                  </a:moveTo>
                  <a:lnTo>
                    <a:pt x="293" y="29"/>
                  </a:lnTo>
                  <a:lnTo>
                    <a:pt x="1750" y="1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66"/>
            <p:cNvSpPr/>
            <p:nvPr/>
          </p:nvSpPr>
          <p:spPr>
            <a:xfrm>
              <a:off x="1314000" y="3911040"/>
              <a:ext cx="2399040" cy="2242080"/>
            </a:xfrm>
            <a:custGeom>
              <a:avLst/>
              <a:gdLst>
                <a:gd name="textAreaLeft" fmla="*/ 0 w 2399040"/>
                <a:gd name="textAreaRight" fmla="*/ 2399400 w 2399040"/>
                <a:gd name="textAreaTop" fmla="*/ 0 h 2242080"/>
                <a:gd name="textAreaBottom" fmla="*/ 2242440 h 2242080"/>
              </a:gdLst>
              <a:ahLst/>
              <a:rect l="textAreaLeft" t="textAreaTop" r="textAreaRight" b="textAreaBottom"/>
              <a:pathLst>
                <a:path w="1438" h="1344">
                  <a:moveTo>
                    <a:pt x="0" y="0"/>
                  </a:moveTo>
                  <a:lnTo>
                    <a:pt x="596" y="1344"/>
                  </a:lnTo>
                  <a:lnTo>
                    <a:pt x="1438" y="27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67"/>
            <p:cNvSpPr/>
            <p:nvPr/>
          </p:nvSpPr>
          <p:spPr>
            <a:xfrm>
              <a:off x="1314000" y="2317680"/>
              <a:ext cx="2399040" cy="2052000"/>
            </a:xfrm>
            <a:custGeom>
              <a:avLst/>
              <a:gdLst>
                <a:gd name="textAreaLeft" fmla="*/ 0 w 2399040"/>
                <a:gd name="textAreaRight" fmla="*/ 2399400 w 2399040"/>
                <a:gd name="textAreaTop" fmla="*/ 0 h 2052000"/>
                <a:gd name="textAreaBottom" fmla="*/ 2052360 h 2052000"/>
              </a:gdLst>
              <a:ahLst/>
              <a:rect l="textAreaLeft" t="textAreaTop" r="textAreaRight" b="textAreaBottom"/>
              <a:pathLst>
                <a:path w="1438" h="1230">
                  <a:moveTo>
                    <a:pt x="918" y="0"/>
                  </a:moveTo>
                  <a:lnTo>
                    <a:pt x="0" y="955"/>
                  </a:lnTo>
                  <a:lnTo>
                    <a:pt x="1438" y="1230"/>
                  </a:lnTo>
                  <a:lnTo>
                    <a:pt x="9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68"/>
            <p:cNvSpPr/>
            <p:nvPr/>
          </p:nvSpPr>
          <p:spPr>
            <a:xfrm>
              <a:off x="1992960" y="43200"/>
              <a:ext cx="1956960" cy="2273760"/>
            </a:xfrm>
            <a:custGeom>
              <a:avLst/>
              <a:gdLst>
                <a:gd name="textAreaLeft" fmla="*/ 0 w 1956960"/>
                <a:gd name="textAreaRight" fmla="*/ 1957320 w 1956960"/>
                <a:gd name="textAreaTop" fmla="*/ 0 h 2273760"/>
                <a:gd name="textAreaBottom" fmla="*/ 2274120 h 2273760"/>
              </a:gdLst>
              <a:ahLst/>
              <a:rect l="textAreaLeft" t="textAreaTop" r="textAreaRight" b="textAreaBottom"/>
              <a:pathLst>
                <a:path w="1173" h="1363">
                  <a:moveTo>
                    <a:pt x="0" y="340"/>
                  </a:moveTo>
                  <a:lnTo>
                    <a:pt x="511" y="1363"/>
                  </a:lnTo>
                  <a:lnTo>
                    <a:pt x="1173" y="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69"/>
            <p:cNvSpPr/>
            <p:nvPr/>
          </p:nvSpPr>
          <p:spPr>
            <a:xfrm>
              <a:off x="1992960" y="-462240"/>
              <a:ext cx="1956960" cy="1072440"/>
            </a:xfrm>
            <a:custGeom>
              <a:avLst/>
              <a:gdLst>
                <a:gd name="textAreaLeft" fmla="*/ 0 w 1956960"/>
                <a:gd name="textAreaRight" fmla="*/ 1957320 w 1956960"/>
                <a:gd name="textAreaTop" fmla="*/ 0 h 1072440"/>
                <a:gd name="textAreaBottom" fmla="*/ 1072800 h 1072440"/>
              </a:gdLst>
              <a:ahLst/>
              <a:rect l="textAreaLeft" t="textAreaTop" r="textAreaRight" b="textAreaBottom"/>
              <a:pathLst>
                <a:path w="1173" h="643">
                  <a:moveTo>
                    <a:pt x="662" y="0"/>
                  </a:moveTo>
                  <a:lnTo>
                    <a:pt x="0" y="643"/>
                  </a:lnTo>
                  <a:lnTo>
                    <a:pt x="1173" y="303"/>
                  </a:lnTo>
                  <a:lnTo>
                    <a:pt x="66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70"/>
            <p:cNvSpPr/>
            <p:nvPr/>
          </p:nvSpPr>
          <p:spPr>
            <a:xfrm>
              <a:off x="2308320" y="4370040"/>
              <a:ext cx="1893600" cy="1783440"/>
            </a:xfrm>
            <a:custGeom>
              <a:avLst/>
              <a:gdLst>
                <a:gd name="textAreaLeft" fmla="*/ 0 w 1893600"/>
                <a:gd name="textAreaRight" fmla="*/ 1893960 w 1893600"/>
                <a:gd name="textAreaTop" fmla="*/ 0 h 1783440"/>
                <a:gd name="textAreaBottom" fmla="*/ 1783800 h 1783440"/>
              </a:gdLst>
              <a:ahLst/>
              <a:rect l="textAreaLeft" t="textAreaTop" r="textAreaRight" b="textAreaBottom"/>
              <a:pathLst>
                <a:path w="1135" h="1069">
                  <a:moveTo>
                    <a:pt x="842" y="0"/>
                  </a:moveTo>
                  <a:lnTo>
                    <a:pt x="0" y="1069"/>
                  </a:lnTo>
                  <a:lnTo>
                    <a:pt x="1135" y="1041"/>
                  </a:lnTo>
                  <a:lnTo>
                    <a:pt x="8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71"/>
            <p:cNvSpPr/>
            <p:nvPr/>
          </p:nvSpPr>
          <p:spPr>
            <a:xfrm>
              <a:off x="3097440" y="-462240"/>
              <a:ext cx="1734840" cy="505080"/>
            </a:xfrm>
            <a:custGeom>
              <a:avLst/>
              <a:gdLst>
                <a:gd name="textAreaLeft" fmla="*/ 0 w 1734840"/>
                <a:gd name="textAreaRight" fmla="*/ 1735200 w 173484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040" h="303">
                  <a:moveTo>
                    <a:pt x="0" y="0"/>
                  </a:moveTo>
                  <a:lnTo>
                    <a:pt x="511" y="303"/>
                  </a:lnTo>
                  <a:lnTo>
                    <a:pt x="1040" y="1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72"/>
            <p:cNvSpPr/>
            <p:nvPr/>
          </p:nvSpPr>
          <p:spPr>
            <a:xfrm>
              <a:off x="3950280" y="-430560"/>
              <a:ext cx="1197720" cy="3109680"/>
            </a:xfrm>
            <a:custGeom>
              <a:avLst/>
              <a:gdLst>
                <a:gd name="textAreaLeft" fmla="*/ 0 w 1197720"/>
                <a:gd name="textAreaRight" fmla="*/ 1198080 w 1197720"/>
                <a:gd name="textAreaTop" fmla="*/ 0 h 3109680"/>
                <a:gd name="textAreaBottom" fmla="*/ 3110040 h 3109680"/>
              </a:gdLst>
              <a:ahLst/>
              <a:rect l="textAreaLeft" t="textAreaTop" r="textAreaRight" b="textAreaBottom"/>
              <a:pathLst>
                <a:path w="718" h="1864">
                  <a:moveTo>
                    <a:pt x="529" y="0"/>
                  </a:moveTo>
                  <a:lnTo>
                    <a:pt x="0" y="284"/>
                  </a:lnTo>
                  <a:lnTo>
                    <a:pt x="718" y="1864"/>
                  </a:lnTo>
                  <a:lnTo>
                    <a:pt x="52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73"/>
            <p:cNvSpPr/>
            <p:nvPr/>
          </p:nvSpPr>
          <p:spPr>
            <a:xfrm>
              <a:off x="2845800" y="2317680"/>
              <a:ext cx="2302200" cy="2052000"/>
            </a:xfrm>
            <a:custGeom>
              <a:avLst/>
              <a:gdLst>
                <a:gd name="textAreaLeft" fmla="*/ 0 w 2302200"/>
                <a:gd name="textAreaRight" fmla="*/ 2302560 w 2302200"/>
                <a:gd name="textAreaTop" fmla="*/ 0 h 2052000"/>
                <a:gd name="textAreaBottom" fmla="*/ 2052360 h 2052000"/>
              </a:gdLst>
              <a:ahLst/>
              <a:rect l="textAreaLeft" t="textAreaTop" r="textAreaRight" b="textAreaBottom"/>
              <a:pathLst>
                <a:path w="1380" h="1230">
                  <a:moveTo>
                    <a:pt x="0" y="0"/>
                  </a:moveTo>
                  <a:lnTo>
                    <a:pt x="520" y="1230"/>
                  </a:lnTo>
                  <a:lnTo>
                    <a:pt x="1380" y="21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74"/>
            <p:cNvSpPr/>
            <p:nvPr/>
          </p:nvSpPr>
          <p:spPr>
            <a:xfrm>
              <a:off x="2845800" y="43200"/>
              <a:ext cx="2302200" cy="2635920"/>
            </a:xfrm>
            <a:custGeom>
              <a:avLst/>
              <a:gdLst>
                <a:gd name="textAreaLeft" fmla="*/ 0 w 2302200"/>
                <a:gd name="textAreaRight" fmla="*/ 2302560 w 2302200"/>
                <a:gd name="textAreaTop" fmla="*/ 0 h 2635920"/>
                <a:gd name="textAreaBottom" fmla="*/ 2636280 h 2635920"/>
              </a:gdLst>
              <a:ahLst/>
              <a:rect l="textAreaLeft" t="textAreaTop" r="textAreaRight" b="textAreaBottom"/>
              <a:pathLst>
                <a:path w="1380" h="1580">
                  <a:moveTo>
                    <a:pt x="662" y="0"/>
                  </a:moveTo>
                  <a:lnTo>
                    <a:pt x="0" y="1363"/>
                  </a:lnTo>
                  <a:lnTo>
                    <a:pt x="1380" y="1580"/>
                  </a:lnTo>
                  <a:lnTo>
                    <a:pt x="66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75"/>
            <p:cNvSpPr/>
            <p:nvPr/>
          </p:nvSpPr>
          <p:spPr>
            <a:xfrm>
              <a:off x="3713400" y="4370040"/>
              <a:ext cx="2397240" cy="1783440"/>
            </a:xfrm>
            <a:custGeom>
              <a:avLst/>
              <a:gdLst>
                <a:gd name="textAreaLeft" fmla="*/ 0 w 2397240"/>
                <a:gd name="textAreaRight" fmla="*/ 2397600 w 2397240"/>
                <a:gd name="textAreaTop" fmla="*/ 0 h 1783440"/>
                <a:gd name="textAreaBottom" fmla="*/ 1783800 h 1783440"/>
              </a:gdLst>
              <a:ahLst/>
              <a:rect l="textAreaLeft" t="textAreaTop" r="textAreaRight" b="textAreaBottom"/>
              <a:pathLst>
                <a:path w="1437" h="1069">
                  <a:moveTo>
                    <a:pt x="0" y="0"/>
                  </a:moveTo>
                  <a:lnTo>
                    <a:pt x="293" y="1041"/>
                  </a:lnTo>
                  <a:lnTo>
                    <a:pt x="1437" y="106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76"/>
            <p:cNvSpPr/>
            <p:nvPr/>
          </p:nvSpPr>
          <p:spPr>
            <a:xfrm>
              <a:off x="4833000" y="-430560"/>
              <a:ext cx="1988640" cy="3109680"/>
            </a:xfrm>
            <a:custGeom>
              <a:avLst/>
              <a:gdLst>
                <a:gd name="textAreaLeft" fmla="*/ 0 w 1988640"/>
                <a:gd name="textAreaRight" fmla="*/ 1989000 w 1988640"/>
                <a:gd name="textAreaTop" fmla="*/ 0 h 3109680"/>
                <a:gd name="textAreaBottom" fmla="*/ 3110040 h 3109680"/>
              </a:gdLst>
              <a:ahLst/>
              <a:rect l="textAreaLeft" t="textAreaTop" r="textAreaRight" b="textAreaBottom"/>
              <a:pathLst>
                <a:path w="1192" h="1864">
                  <a:moveTo>
                    <a:pt x="0" y="0"/>
                  </a:moveTo>
                  <a:lnTo>
                    <a:pt x="189" y="1864"/>
                  </a:lnTo>
                  <a:lnTo>
                    <a:pt x="1192" y="99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77"/>
            <p:cNvSpPr/>
            <p:nvPr/>
          </p:nvSpPr>
          <p:spPr>
            <a:xfrm>
              <a:off x="4833000" y="-430560"/>
              <a:ext cx="1988640" cy="1658160"/>
            </a:xfrm>
            <a:custGeom>
              <a:avLst/>
              <a:gdLst>
                <a:gd name="textAreaLeft" fmla="*/ 0 w 1988640"/>
                <a:gd name="textAreaRight" fmla="*/ 1989000 w 1988640"/>
                <a:gd name="textAreaTop" fmla="*/ 0 h 1658160"/>
                <a:gd name="textAreaBottom" fmla="*/ 1658520 h 1658160"/>
              </a:gdLst>
              <a:ahLst/>
              <a:rect l="textAreaLeft" t="textAreaTop" r="textAreaRight" b="textAreaBottom"/>
              <a:pathLst>
                <a:path w="1192" h="994">
                  <a:moveTo>
                    <a:pt x="1012" y="0"/>
                  </a:moveTo>
                  <a:lnTo>
                    <a:pt x="0" y="0"/>
                  </a:lnTo>
                  <a:lnTo>
                    <a:pt x="1192" y="994"/>
                  </a:lnTo>
                  <a:lnTo>
                    <a:pt x="101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78"/>
            <p:cNvSpPr/>
            <p:nvPr/>
          </p:nvSpPr>
          <p:spPr>
            <a:xfrm>
              <a:off x="5148360" y="1227960"/>
              <a:ext cx="1720080" cy="2540880"/>
            </a:xfrm>
            <a:custGeom>
              <a:avLst/>
              <a:gdLst>
                <a:gd name="textAreaLeft" fmla="*/ 0 w 1720080"/>
                <a:gd name="textAreaRight" fmla="*/ 1720440 w 1720080"/>
                <a:gd name="textAreaTop" fmla="*/ 0 h 2540880"/>
                <a:gd name="textAreaBottom" fmla="*/ 2541240 h 2540880"/>
              </a:gdLst>
              <a:ahLst/>
              <a:rect l="textAreaLeft" t="textAreaTop" r="textAreaRight" b="textAreaBottom"/>
              <a:pathLst>
                <a:path w="1031" h="1523">
                  <a:moveTo>
                    <a:pt x="1003" y="0"/>
                  </a:moveTo>
                  <a:lnTo>
                    <a:pt x="0" y="870"/>
                  </a:lnTo>
                  <a:lnTo>
                    <a:pt x="1031" y="1523"/>
                  </a:lnTo>
                  <a:lnTo>
                    <a:pt x="1003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79"/>
            <p:cNvSpPr/>
            <p:nvPr/>
          </p:nvSpPr>
          <p:spPr>
            <a:xfrm>
              <a:off x="3713400" y="2679480"/>
              <a:ext cx="3155040" cy="1689840"/>
            </a:xfrm>
            <a:custGeom>
              <a:avLst/>
              <a:gdLst>
                <a:gd name="textAreaLeft" fmla="*/ 0 w 3155040"/>
                <a:gd name="textAreaRight" fmla="*/ 3155400 w 3155040"/>
                <a:gd name="textAreaTop" fmla="*/ 0 h 1689840"/>
                <a:gd name="textAreaBottom" fmla="*/ 1690200 h 1689840"/>
              </a:gdLst>
              <a:ahLst/>
              <a:rect l="textAreaLeft" t="textAreaTop" r="textAreaRight" b="textAreaBottom"/>
              <a:pathLst>
                <a:path w="1891" h="1013">
                  <a:moveTo>
                    <a:pt x="860" y="0"/>
                  </a:moveTo>
                  <a:lnTo>
                    <a:pt x="0" y="1013"/>
                  </a:lnTo>
                  <a:lnTo>
                    <a:pt x="1891" y="653"/>
                  </a:lnTo>
                  <a:lnTo>
                    <a:pt x="86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80"/>
            <p:cNvSpPr/>
            <p:nvPr/>
          </p:nvSpPr>
          <p:spPr>
            <a:xfrm>
              <a:off x="3713400" y="3769200"/>
              <a:ext cx="3155040" cy="2383920"/>
            </a:xfrm>
            <a:custGeom>
              <a:avLst/>
              <a:gdLst>
                <a:gd name="textAreaLeft" fmla="*/ 0 w 3155040"/>
                <a:gd name="textAreaRight" fmla="*/ 3155400 w 315504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1891" h="1429">
                  <a:moveTo>
                    <a:pt x="0" y="360"/>
                  </a:moveTo>
                  <a:lnTo>
                    <a:pt x="1437" y="1429"/>
                  </a:lnTo>
                  <a:lnTo>
                    <a:pt x="1891" y="0"/>
                  </a:lnTo>
                  <a:lnTo>
                    <a:pt x="0" y="36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81"/>
            <p:cNvSpPr/>
            <p:nvPr/>
          </p:nvSpPr>
          <p:spPr>
            <a:xfrm>
              <a:off x="6111000" y="3769200"/>
              <a:ext cx="1641600" cy="2383920"/>
            </a:xfrm>
            <a:custGeom>
              <a:avLst/>
              <a:gdLst>
                <a:gd name="textAreaLeft" fmla="*/ 0 w 1641600"/>
                <a:gd name="textAreaRight" fmla="*/ 1641960 w 164160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984" h="1429">
                  <a:moveTo>
                    <a:pt x="454" y="0"/>
                  </a:moveTo>
                  <a:lnTo>
                    <a:pt x="0" y="1429"/>
                  </a:lnTo>
                  <a:lnTo>
                    <a:pt x="984" y="1420"/>
                  </a:lnTo>
                  <a:lnTo>
                    <a:pt x="454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82"/>
            <p:cNvSpPr/>
            <p:nvPr/>
          </p:nvSpPr>
          <p:spPr>
            <a:xfrm>
              <a:off x="6822000" y="1227960"/>
              <a:ext cx="1624680" cy="2540880"/>
            </a:xfrm>
            <a:custGeom>
              <a:avLst/>
              <a:gdLst>
                <a:gd name="textAreaLeft" fmla="*/ 0 w 1624680"/>
                <a:gd name="textAreaRight" fmla="*/ 1625040 w 1624680"/>
                <a:gd name="textAreaTop" fmla="*/ 0 h 2540880"/>
                <a:gd name="textAreaBottom" fmla="*/ 2541240 h 2540880"/>
              </a:gdLst>
              <a:ahLst/>
              <a:rect l="textAreaLeft" t="textAreaTop" r="textAreaRight" b="textAreaBottom"/>
              <a:pathLst>
                <a:path w="974" h="1523">
                  <a:moveTo>
                    <a:pt x="0" y="0"/>
                  </a:moveTo>
                  <a:lnTo>
                    <a:pt x="28" y="1523"/>
                  </a:lnTo>
                  <a:lnTo>
                    <a:pt x="974" y="42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83"/>
            <p:cNvSpPr/>
            <p:nvPr/>
          </p:nvSpPr>
          <p:spPr>
            <a:xfrm>
              <a:off x="6521400" y="-430560"/>
              <a:ext cx="2083680" cy="1658160"/>
            </a:xfrm>
            <a:custGeom>
              <a:avLst/>
              <a:gdLst>
                <a:gd name="textAreaLeft" fmla="*/ 0 w 2083680"/>
                <a:gd name="textAreaRight" fmla="*/ 2084040 w 2083680"/>
                <a:gd name="textAreaTop" fmla="*/ 0 h 1658160"/>
                <a:gd name="textAreaBottom" fmla="*/ 1658520 h 1658160"/>
              </a:gdLst>
              <a:ahLst/>
              <a:rect l="textAreaLeft" t="textAreaTop" r="textAreaRight" b="textAreaBottom"/>
              <a:pathLst>
                <a:path w="1249" h="994">
                  <a:moveTo>
                    <a:pt x="0" y="0"/>
                  </a:moveTo>
                  <a:lnTo>
                    <a:pt x="180" y="994"/>
                  </a:lnTo>
                  <a:lnTo>
                    <a:pt x="1249" y="1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84"/>
            <p:cNvSpPr/>
            <p:nvPr/>
          </p:nvSpPr>
          <p:spPr>
            <a:xfrm>
              <a:off x="6822000" y="-398880"/>
              <a:ext cx="1783440" cy="2335680"/>
            </a:xfrm>
            <a:custGeom>
              <a:avLst/>
              <a:gdLst>
                <a:gd name="textAreaLeft" fmla="*/ 0 w 1783440"/>
                <a:gd name="textAreaRight" fmla="*/ 1783800 w 1783440"/>
                <a:gd name="textAreaTop" fmla="*/ 0 h 2335680"/>
                <a:gd name="textAreaBottom" fmla="*/ 2336040 h 2335680"/>
              </a:gdLst>
              <a:ahLst/>
              <a:rect l="textAreaLeft" t="textAreaTop" r="textAreaRight" b="textAreaBottom"/>
              <a:pathLst>
                <a:path w="1069" h="1400">
                  <a:moveTo>
                    <a:pt x="0" y="975"/>
                  </a:moveTo>
                  <a:lnTo>
                    <a:pt x="974" y="1400"/>
                  </a:lnTo>
                  <a:lnTo>
                    <a:pt x="1069" y="0"/>
                  </a:lnTo>
                  <a:lnTo>
                    <a:pt x="0" y="975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85"/>
            <p:cNvSpPr/>
            <p:nvPr/>
          </p:nvSpPr>
          <p:spPr>
            <a:xfrm>
              <a:off x="6868440" y="3642480"/>
              <a:ext cx="2178720" cy="2495880"/>
            </a:xfrm>
            <a:custGeom>
              <a:avLst/>
              <a:gdLst>
                <a:gd name="textAreaLeft" fmla="*/ 0 w 2178720"/>
                <a:gd name="textAreaRight" fmla="*/ 2179080 w 2178720"/>
                <a:gd name="textAreaTop" fmla="*/ 0 h 2495880"/>
                <a:gd name="textAreaBottom" fmla="*/ 2496240 h 2495880"/>
              </a:gdLst>
              <a:ahLst/>
              <a:rect l="textAreaLeft" t="textAreaTop" r="textAreaRight" b="textAreaBottom"/>
              <a:pathLst>
                <a:path w="1306" h="1496">
                  <a:moveTo>
                    <a:pt x="0" y="76"/>
                  </a:moveTo>
                  <a:lnTo>
                    <a:pt x="530" y="1496"/>
                  </a:lnTo>
                  <a:lnTo>
                    <a:pt x="1306" y="0"/>
                  </a:lnTo>
                  <a:lnTo>
                    <a:pt x="0" y="76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86"/>
            <p:cNvSpPr/>
            <p:nvPr/>
          </p:nvSpPr>
          <p:spPr>
            <a:xfrm>
              <a:off x="6868440" y="1937160"/>
              <a:ext cx="2178720" cy="1831680"/>
            </a:xfrm>
            <a:custGeom>
              <a:avLst/>
              <a:gdLst>
                <a:gd name="textAreaLeft" fmla="*/ 0 w 2178720"/>
                <a:gd name="textAreaRight" fmla="*/ 2179080 w 2178720"/>
                <a:gd name="textAreaTop" fmla="*/ 0 h 1831680"/>
                <a:gd name="textAreaBottom" fmla="*/ 1832040 h 1831680"/>
              </a:gdLst>
              <a:ahLst/>
              <a:rect l="textAreaLeft" t="textAreaTop" r="textAreaRight" b="textAreaBottom"/>
              <a:pathLst>
                <a:path w="1306" h="1098">
                  <a:moveTo>
                    <a:pt x="946" y="0"/>
                  </a:moveTo>
                  <a:lnTo>
                    <a:pt x="0" y="1098"/>
                  </a:lnTo>
                  <a:lnTo>
                    <a:pt x="1306" y="1022"/>
                  </a:lnTo>
                  <a:lnTo>
                    <a:pt x="946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87"/>
            <p:cNvSpPr/>
            <p:nvPr/>
          </p:nvSpPr>
          <p:spPr>
            <a:xfrm>
              <a:off x="7752960" y="3642480"/>
              <a:ext cx="1436400" cy="2511000"/>
            </a:xfrm>
            <a:custGeom>
              <a:avLst/>
              <a:gdLst>
                <a:gd name="textAreaLeft" fmla="*/ 0 w 1436400"/>
                <a:gd name="textAreaRight" fmla="*/ 1436760 w 1436400"/>
                <a:gd name="textAreaTop" fmla="*/ 0 h 2511000"/>
                <a:gd name="textAreaBottom" fmla="*/ 2511360 h 2511000"/>
              </a:gdLst>
              <a:ahLst/>
              <a:rect l="textAreaLeft" t="textAreaTop" r="textAreaRight" b="textAreaBottom"/>
              <a:pathLst>
                <a:path w="861" h="1505">
                  <a:moveTo>
                    <a:pt x="776" y="0"/>
                  </a:moveTo>
                  <a:lnTo>
                    <a:pt x="0" y="1496"/>
                  </a:lnTo>
                  <a:lnTo>
                    <a:pt x="861" y="1505"/>
                  </a:lnTo>
                  <a:lnTo>
                    <a:pt x="776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88"/>
            <p:cNvSpPr/>
            <p:nvPr/>
          </p:nvSpPr>
          <p:spPr>
            <a:xfrm>
              <a:off x="8447040" y="1937160"/>
              <a:ext cx="2178720" cy="1704960"/>
            </a:xfrm>
            <a:custGeom>
              <a:avLst/>
              <a:gdLst>
                <a:gd name="textAreaLeft" fmla="*/ 0 w 2178720"/>
                <a:gd name="textAreaRight" fmla="*/ 2179080 w 2178720"/>
                <a:gd name="textAreaTop" fmla="*/ 0 h 1704960"/>
                <a:gd name="textAreaBottom" fmla="*/ 1705320 h 1704960"/>
              </a:gdLst>
              <a:ahLst/>
              <a:rect l="textAreaLeft" t="textAreaTop" r="textAreaRight" b="textAreaBottom"/>
              <a:pathLst>
                <a:path w="1306" h="1022">
                  <a:moveTo>
                    <a:pt x="0" y="0"/>
                  </a:moveTo>
                  <a:lnTo>
                    <a:pt x="360" y="1022"/>
                  </a:lnTo>
                  <a:lnTo>
                    <a:pt x="1306" y="29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89"/>
            <p:cNvSpPr/>
            <p:nvPr/>
          </p:nvSpPr>
          <p:spPr>
            <a:xfrm>
              <a:off x="9047520" y="3642480"/>
              <a:ext cx="1593000" cy="2511000"/>
            </a:xfrm>
            <a:custGeom>
              <a:avLst/>
              <a:gdLst>
                <a:gd name="textAreaLeft" fmla="*/ 0 w 1593000"/>
                <a:gd name="textAreaRight" fmla="*/ 1593360 w 1593000"/>
                <a:gd name="textAreaTop" fmla="*/ 0 h 2511000"/>
                <a:gd name="textAreaBottom" fmla="*/ 2511360 h 2511000"/>
              </a:gdLst>
              <a:ahLst/>
              <a:rect l="textAreaLeft" t="textAreaTop" r="textAreaRight" b="textAreaBottom"/>
              <a:pathLst>
                <a:path w="955" h="1505">
                  <a:moveTo>
                    <a:pt x="0" y="0"/>
                  </a:moveTo>
                  <a:lnTo>
                    <a:pt x="85" y="1505"/>
                  </a:lnTo>
                  <a:lnTo>
                    <a:pt x="955" y="148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90"/>
            <p:cNvSpPr/>
            <p:nvPr/>
          </p:nvSpPr>
          <p:spPr>
            <a:xfrm>
              <a:off x="8447040" y="-398880"/>
              <a:ext cx="2462400" cy="233568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2335680"/>
                <a:gd name="textAreaBottom" fmla="*/ 2336040 h 2335680"/>
              </a:gdLst>
              <a:ahLst/>
              <a:rect l="textAreaLeft" t="textAreaTop" r="textAreaRight" b="textAreaBottom"/>
              <a:pathLst>
                <a:path w="1476" h="1400">
                  <a:moveTo>
                    <a:pt x="95" y="0"/>
                  </a:moveTo>
                  <a:lnTo>
                    <a:pt x="0" y="1400"/>
                  </a:lnTo>
                  <a:lnTo>
                    <a:pt x="1476" y="9"/>
                  </a:lnTo>
                  <a:lnTo>
                    <a:pt x="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91"/>
            <p:cNvSpPr/>
            <p:nvPr/>
          </p:nvSpPr>
          <p:spPr>
            <a:xfrm>
              <a:off x="8447040" y="-383760"/>
              <a:ext cx="2462400" cy="281124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2811240"/>
                <a:gd name="textAreaBottom" fmla="*/ 2811600 h 2811240"/>
              </a:gdLst>
              <a:ahLst/>
              <a:rect l="textAreaLeft" t="textAreaTop" r="textAreaRight" b="textAreaBottom"/>
              <a:pathLst>
                <a:path w="1476" h="1685">
                  <a:moveTo>
                    <a:pt x="0" y="1391"/>
                  </a:moveTo>
                  <a:lnTo>
                    <a:pt x="1306" y="1685"/>
                  </a:lnTo>
                  <a:lnTo>
                    <a:pt x="1476" y="0"/>
                  </a:lnTo>
                  <a:lnTo>
                    <a:pt x="0" y="1391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92"/>
            <p:cNvSpPr/>
            <p:nvPr/>
          </p:nvSpPr>
          <p:spPr>
            <a:xfrm>
              <a:off x="10626120" y="-383760"/>
              <a:ext cx="1356120" cy="2811240"/>
            </a:xfrm>
            <a:custGeom>
              <a:avLst/>
              <a:gdLst>
                <a:gd name="textAreaLeft" fmla="*/ 0 w 1356120"/>
                <a:gd name="textAreaRight" fmla="*/ 1356480 w 1356120"/>
                <a:gd name="textAreaTop" fmla="*/ 0 h 2811240"/>
                <a:gd name="textAreaBottom" fmla="*/ 2811600 h 2811240"/>
              </a:gdLst>
              <a:ahLst/>
              <a:rect l="textAreaLeft" t="textAreaTop" r="textAreaRight" b="textAreaBottom"/>
              <a:pathLst>
                <a:path w="813" h="1685">
                  <a:moveTo>
                    <a:pt x="170" y="0"/>
                  </a:moveTo>
                  <a:lnTo>
                    <a:pt x="0" y="1685"/>
                  </a:lnTo>
                  <a:lnTo>
                    <a:pt x="813" y="795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93"/>
            <p:cNvSpPr/>
            <p:nvPr/>
          </p:nvSpPr>
          <p:spPr>
            <a:xfrm>
              <a:off x="10626120" y="942480"/>
              <a:ext cx="1356120" cy="1926720"/>
            </a:xfrm>
            <a:custGeom>
              <a:avLst/>
              <a:gdLst>
                <a:gd name="textAreaLeft" fmla="*/ 0 w 1356120"/>
                <a:gd name="textAreaRight" fmla="*/ 1356480 w 1356120"/>
                <a:gd name="textAreaTop" fmla="*/ 0 h 1926720"/>
                <a:gd name="textAreaBottom" fmla="*/ 1927080 h 1926720"/>
              </a:gdLst>
              <a:ahLst/>
              <a:rect l="textAreaLeft" t="textAreaTop" r="textAreaRight" b="textAreaBottom"/>
              <a:pathLst>
                <a:path w="813" h="1155">
                  <a:moveTo>
                    <a:pt x="813" y="0"/>
                  </a:moveTo>
                  <a:lnTo>
                    <a:pt x="0" y="890"/>
                  </a:lnTo>
                  <a:lnTo>
                    <a:pt x="813" y="1155"/>
                  </a:lnTo>
                  <a:lnTo>
                    <a:pt x="813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94"/>
            <p:cNvSpPr/>
            <p:nvPr/>
          </p:nvSpPr>
          <p:spPr>
            <a:xfrm>
              <a:off x="9047520" y="3642480"/>
              <a:ext cx="2934720" cy="2478960"/>
            </a:xfrm>
            <a:custGeom>
              <a:avLst/>
              <a:gdLst>
                <a:gd name="textAreaLeft" fmla="*/ 0 w 2934720"/>
                <a:gd name="textAreaRight" fmla="*/ 2935080 w 2934720"/>
                <a:gd name="textAreaTop" fmla="*/ 0 h 2478960"/>
                <a:gd name="textAreaBottom" fmla="*/ 2479320 h 2478960"/>
              </a:gdLst>
              <a:ahLst/>
              <a:rect l="textAreaLeft" t="textAreaTop" r="textAreaRight" b="textAreaBottom"/>
              <a:pathLst>
                <a:path w="1759" h="1486">
                  <a:moveTo>
                    <a:pt x="0" y="0"/>
                  </a:moveTo>
                  <a:lnTo>
                    <a:pt x="955" y="1486"/>
                  </a:lnTo>
                  <a:lnTo>
                    <a:pt x="1759" y="70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95"/>
            <p:cNvSpPr/>
            <p:nvPr/>
          </p:nvSpPr>
          <p:spPr>
            <a:xfrm>
              <a:off x="9047520" y="2427840"/>
              <a:ext cx="2934720" cy="2383920"/>
            </a:xfrm>
            <a:custGeom>
              <a:avLst/>
              <a:gdLst>
                <a:gd name="textAreaLeft" fmla="*/ 0 w 2934720"/>
                <a:gd name="textAreaRight" fmla="*/ 2935080 w 293472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1759" h="1429">
                  <a:moveTo>
                    <a:pt x="946" y="0"/>
                  </a:moveTo>
                  <a:lnTo>
                    <a:pt x="0" y="728"/>
                  </a:lnTo>
                  <a:lnTo>
                    <a:pt x="1759" y="1429"/>
                  </a:lnTo>
                  <a:lnTo>
                    <a:pt x="946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96"/>
            <p:cNvSpPr/>
            <p:nvPr/>
          </p:nvSpPr>
          <p:spPr>
            <a:xfrm>
              <a:off x="10626120" y="2427840"/>
              <a:ext cx="1356120" cy="2383920"/>
            </a:xfrm>
            <a:custGeom>
              <a:avLst/>
              <a:gdLst>
                <a:gd name="textAreaLeft" fmla="*/ 0 w 1356120"/>
                <a:gd name="textAreaRight" fmla="*/ 1356480 w 135612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813" h="1429">
                  <a:moveTo>
                    <a:pt x="813" y="265"/>
                  </a:moveTo>
                  <a:lnTo>
                    <a:pt x="0" y="0"/>
                  </a:lnTo>
                  <a:lnTo>
                    <a:pt x="813" y="1429"/>
                  </a:lnTo>
                  <a:lnTo>
                    <a:pt x="813" y="265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97"/>
            <p:cNvSpPr/>
            <p:nvPr/>
          </p:nvSpPr>
          <p:spPr>
            <a:xfrm>
              <a:off x="10909800" y="-478800"/>
              <a:ext cx="1104120" cy="1421280"/>
            </a:xfrm>
            <a:custGeom>
              <a:avLst/>
              <a:gdLst>
                <a:gd name="textAreaLeft" fmla="*/ 0 w 1104120"/>
                <a:gd name="textAreaRight" fmla="*/ 1104480 w 1104120"/>
                <a:gd name="textAreaTop" fmla="*/ 0 h 1421280"/>
                <a:gd name="textAreaBottom" fmla="*/ 1421640 h 1421280"/>
              </a:gdLst>
              <a:ahLst/>
              <a:rect l="textAreaLeft" t="textAreaTop" r="textAreaRight" b="textAreaBottom"/>
              <a:pathLst>
                <a:path w="662" h="852">
                  <a:moveTo>
                    <a:pt x="0" y="57"/>
                  </a:moveTo>
                  <a:lnTo>
                    <a:pt x="643" y="852"/>
                  </a:lnTo>
                  <a:lnTo>
                    <a:pt x="662" y="0"/>
                  </a:lnTo>
                  <a:lnTo>
                    <a:pt x="0" y="57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98"/>
            <p:cNvSpPr/>
            <p:nvPr/>
          </p:nvSpPr>
          <p:spPr>
            <a:xfrm>
              <a:off x="8605440" y="-478800"/>
              <a:ext cx="3408480" cy="94680"/>
            </a:xfrm>
            <a:custGeom>
              <a:avLst/>
              <a:gdLst>
                <a:gd name="textAreaLeft" fmla="*/ 0 w 3408480"/>
                <a:gd name="textAreaRight" fmla="*/ 3408840 w 34084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2043" h="57">
                  <a:moveTo>
                    <a:pt x="0" y="48"/>
                  </a:moveTo>
                  <a:lnTo>
                    <a:pt x="1381" y="57"/>
                  </a:lnTo>
                  <a:lnTo>
                    <a:pt x="2043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99"/>
            <p:cNvSpPr/>
            <p:nvPr/>
          </p:nvSpPr>
          <p:spPr>
            <a:xfrm>
              <a:off x="10641240" y="4812120"/>
              <a:ext cx="1373040" cy="137304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373040"/>
                <a:gd name="textAreaBottom" fmla="*/ 1373400 h 1373040"/>
              </a:gdLst>
              <a:ahLst/>
              <a:rect l="textAreaLeft" t="textAreaTop" r="textAreaRight" b="textAreaBottom"/>
              <a:pathLst>
                <a:path w="823" h="823">
                  <a:moveTo>
                    <a:pt x="804" y="0"/>
                  </a:moveTo>
                  <a:lnTo>
                    <a:pt x="0" y="785"/>
                  </a:lnTo>
                  <a:lnTo>
                    <a:pt x="823" y="823"/>
                  </a:lnTo>
                  <a:lnTo>
                    <a:pt x="8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eaf9e3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8" name="矩形 2"/>
          <p:cNvSpPr/>
          <p:nvPr/>
        </p:nvSpPr>
        <p:spPr>
          <a:xfrm>
            <a:off x="0" y="577548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9" name="任意多边形 12"/>
          <p:cNvSpPr/>
          <p:nvPr/>
        </p:nvSpPr>
        <p:spPr>
          <a:xfrm rot="10800000">
            <a:off x="707040" y="5775840"/>
            <a:ext cx="383760" cy="285480"/>
          </a:xfrm>
          <a:custGeom>
            <a:avLst/>
            <a:gdLst>
              <a:gd name="textAreaLeft" fmla="*/ 0 w 383760"/>
              <a:gd name="textAreaRight" fmla="*/ 384120 w 3837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84284" h="285750">
                <a:moveTo>
                  <a:pt x="384284" y="285750"/>
                </a:moveTo>
                <a:lnTo>
                  <a:pt x="0" y="285750"/>
                </a:lnTo>
                <a:lnTo>
                  <a:pt x="192142" y="0"/>
                </a:lnTo>
                <a:close/>
              </a:path>
            </a:pathLst>
          </a:cu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0" name="文本框 4"/>
          <p:cNvSpPr/>
          <p:nvPr/>
        </p:nvSpPr>
        <p:spPr>
          <a:xfrm>
            <a:off x="4633560" y="6047280"/>
            <a:ext cx="2924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背景变成了这个样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任意多边形 11"/>
          <p:cNvSpPr/>
          <p:nvPr/>
        </p:nvSpPr>
        <p:spPr>
          <a:xfrm>
            <a:off x="-2520" y="0"/>
            <a:ext cx="12196440" cy="5775120"/>
          </a:xfrm>
          <a:custGeom>
            <a:avLst/>
            <a:gdLst>
              <a:gd name="textAreaLeft" fmla="*/ 0 w 12196440"/>
              <a:gd name="textAreaRight" fmla="*/ 12196800 w 12196440"/>
              <a:gd name="textAreaTop" fmla="*/ 0 h 5775120"/>
              <a:gd name="textAreaBottom" fmla="*/ 5775480 h 5775120"/>
            </a:gdLst>
            <a:ahLst/>
            <a:rect l="textAreaLeft" t="textAreaTop" r="textAreaRight" b="textAreaBottom"/>
            <a:pathLst>
              <a:path w="12196800" h="5775603">
                <a:moveTo>
                  <a:pt x="180000" y="180601"/>
                </a:moveTo>
                <a:lnTo>
                  <a:pt x="180000" y="5595001"/>
                </a:lnTo>
                <a:lnTo>
                  <a:pt x="12016800" y="5595001"/>
                </a:lnTo>
                <a:lnTo>
                  <a:pt x="12016800" y="180601"/>
                </a:lnTo>
                <a:close/>
                <a:moveTo>
                  <a:pt x="0" y="0"/>
                </a:moveTo>
                <a:lnTo>
                  <a:pt x="12196800" y="0"/>
                </a:lnTo>
                <a:lnTo>
                  <a:pt x="12196800" y="5775603"/>
                </a:lnTo>
                <a:lnTo>
                  <a:pt x="0" y="5775603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348120" y="64742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组合 1"/>
          <p:cNvGrpSpPr/>
          <p:nvPr/>
        </p:nvGrpSpPr>
        <p:grpSpPr>
          <a:xfrm>
            <a:off x="177480" y="-478800"/>
            <a:ext cx="11836800" cy="6663960"/>
            <a:chOff x="177480" y="-478800"/>
            <a:chExt cx="11836800" cy="6663960"/>
          </a:xfrm>
        </p:grpSpPr>
        <p:sp>
          <p:nvSpPr>
            <p:cNvPr id="534" name="Freeform 56"/>
            <p:cNvSpPr/>
            <p:nvPr/>
          </p:nvSpPr>
          <p:spPr>
            <a:xfrm>
              <a:off x="177480" y="-478800"/>
              <a:ext cx="488520" cy="1342800"/>
            </a:xfrm>
            <a:custGeom>
              <a:avLst/>
              <a:gdLst>
                <a:gd name="textAreaLeft" fmla="*/ 0 w 488520"/>
                <a:gd name="textAreaRight" fmla="*/ 488880 w 48852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293" h="805">
                  <a:moveTo>
                    <a:pt x="0" y="0"/>
                  </a:moveTo>
                  <a:lnTo>
                    <a:pt x="19" y="805"/>
                  </a:lnTo>
                  <a:lnTo>
                    <a:pt x="293" y="2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57"/>
            <p:cNvSpPr/>
            <p:nvPr/>
          </p:nvSpPr>
          <p:spPr>
            <a:xfrm>
              <a:off x="177480" y="3011760"/>
              <a:ext cx="1135800" cy="200520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2005200"/>
                <a:gd name="textAreaBottom" fmla="*/ 2005560 h 2005200"/>
              </a:gdLst>
              <a:ahLst/>
              <a:rect l="textAreaLeft" t="textAreaTop" r="textAreaRight" b="textAreaBottom"/>
              <a:pathLst>
                <a:path w="681" h="1202">
                  <a:moveTo>
                    <a:pt x="9" y="0"/>
                  </a:moveTo>
                  <a:lnTo>
                    <a:pt x="0" y="1202"/>
                  </a:lnTo>
                  <a:lnTo>
                    <a:pt x="681" y="539"/>
                  </a:lnTo>
                  <a:lnTo>
                    <a:pt x="9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58"/>
            <p:cNvSpPr/>
            <p:nvPr/>
          </p:nvSpPr>
          <p:spPr>
            <a:xfrm>
              <a:off x="209160" y="-430560"/>
              <a:ext cx="1783440" cy="1294560"/>
            </a:xfrm>
            <a:custGeom>
              <a:avLst/>
              <a:gdLst>
                <a:gd name="textAreaLeft" fmla="*/ 0 w 1783440"/>
                <a:gd name="textAreaRight" fmla="*/ 1783800 w 1783440"/>
                <a:gd name="textAreaTop" fmla="*/ 0 h 1294560"/>
                <a:gd name="textAreaBottom" fmla="*/ 1294920 h 1294560"/>
              </a:gdLst>
              <a:ahLst/>
              <a:rect l="textAreaLeft" t="textAreaTop" r="textAreaRight" b="textAreaBottom"/>
              <a:pathLst>
                <a:path w="1069" h="776">
                  <a:moveTo>
                    <a:pt x="274" y="0"/>
                  </a:moveTo>
                  <a:lnTo>
                    <a:pt x="0" y="776"/>
                  </a:lnTo>
                  <a:lnTo>
                    <a:pt x="1069" y="624"/>
                  </a:lnTo>
                  <a:lnTo>
                    <a:pt x="274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59"/>
            <p:cNvSpPr/>
            <p:nvPr/>
          </p:nvSpPr>
          <p:spPr>
            <a:xfrm>
              <a:off x="192600" y="610560"/>
              <a:ext cx="1800000" cy="2400840"/>
            </a:xfrm>
            <a:custGeom>
              <a:avLst/>
              <a:gdLst>
                <a:gd name="textAreaLeft" fmla="*/ 0 w 1800000"/>
                <a:gd name="textAreaRight" fmla="*/ 1800360 w 1800000"/>
                <a:gd name="textAreaTop" fmla="*/ 0 h 2400840"/>
                <a:gd name="textAreaBottom" fmla="*/ 2401200 h 2400840"/>
              </a:gdLst>
              <a:ahLst/>
              <a:rect l="textAreaLeft" t="textAreaTop" r="textAreaRight" b="textAreaBottom"/>
              <a:pathLst>
                <a:path w="1079" h="1439">
                  <a:moveTo>
                    <a:pt x="10" y="152"/>
                  </a:moveTo>
                  <a:lnTo>
                    <a:pt x="0" y="1439"/>
                  </a:lnTo>
                  <a:lnTo>
                    <a:pt x="1079" y="0"/>
                  </a:lnTo>
                  <a:lnTo>
                    <a:pt x="10" y="152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60"/>
            <p:cNvSpPr/>
            <p:nvPr/>
          </p:nvSpPr>
          <p:spPr>
            <a:xfrm>
              <a:off x="177480" y="5017320"/>
              <a:ext cx="2130480" cy="116748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167480"/>
                <a:gd name="textAreaBottom" fmla="*/ 1167840 h 1167480"/>
              </a:gdLst>
              <a:ahLst/>
              <a:rect l="textAreaLeft" t="textAreaTop" r="textAreaRight" b="textAreaBottom"/>
              <a:pathLst>
                <a:path w="1277" h="700">
                  <a:moveTo>
                    <a:pt x="0" y="0"/>
                  </a:moveTo>
                  <a:lnTo>
                    <a:pt x="0" y="700"/>
                  </a:lnTo>
                  <a:lnTo>
                    <a:pt x="1277" y="68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61"/>
            <p:cNvSpPr/>
            <p:nvPr/>
          </p:nvSpPr>
          <p:spPr>
            <a:xfrm>
              <a:off x="177480" y="3911040"/>
              <a:ext cx="2130480" cy="224208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2242080"/>
                <a:gd name="textAreaBottom" fmla="*/ 2242440 h 2242080"/>
              </a:gdLst>
              <a:ahLst/>
              <a:rect l="textAreaLeft" t="textAreaTop" r="textAreaRight" b="textAreaBottom"/>
              <a:pathLst>
                <a:path w="1277" h="1344">
                  <a:moveTo>
                    <a:pt x="681" y="0"/>
                  </a:moveTo>
                  <a:lnTo>
                    <a:pt x="0" y="663"/>
                  </a:lnTo>
                  <a:lnTo>
                    <a:pt x="1277" y="1344"/>
                  </a:lnTo>
                  <a:lnTo>
                    <a:pt x="681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62"/>
            <p:cNvSpPr/>
            <p:nvPr/>
          </p:nvSpPr>
          <p:spPr>
            <a:xfrm>
              <a:off x="192600" y="2317680"/>
              <a:ext cx="2652480" cy="1593000"/>
            </a:xfrm>
            <a:custGeom>
              <a:avLst/>
              <a:gdLst>
                <a:gd name="textAreaLeft" fmla="*/ 0 w 2652480"/>
                <a:gd name="textAreaRight" fmla="*/ 2652840 w 2652480"/>
                <a:gd name="textAreaTop" fmla="*/ 0 h 1593000"/>
                <a:gd name="textAreaBottom" fmla="*/ 1593360 h 1593000"/>
              </a:gdLst>
              <a:ahLst/>
              <a:rect l="textAreaLeft" t="textAreaTop" r="textAreaRight" b="textAreaBottom"/>
              <a:pathLst>
                <a:path w="1590" h="955">
                  <a:moveTo>
                    <a:pt x="0" y="416"/>
                  </a:moveTo>
                  <a:lnTo>
                    <a:pt x="672" y="955"/>
                  </a:lnTo>
                  <a:lnTo>
                    <a:pt x="1590" y="0"/>
                  </a:lnTo>
                  <a:lnTo>
                    <a:pt x="0" y="416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63"/>
            <p:cNvSpPr/>
            <p:nvPr/>
          </p:nvSpPr>
          <p:spPr>
            <a:xfrm>
              <a:off x="192600" y="610560"/>
              <a:ext cx="2652480" cy="2400840"/>
            </a:xfrm>
            <a:custGeom>
              <a:avLst/>
              <a:gdLst>
                <a:gd name="textAreaLeft" fmla="*/ 0 w 2652480"/>
                <a:gd name="textAreaRight" fmla="*/ 2652840 w 2652480"/>
                <a:gd name="textAreaTop" fmla="*/ 0 h 2400840"/>
                <a:gd name="textAreaBottom" fmla="*/ 2401200 h 2400840"/>
              </a:gdLst>
              <a:ahLst/>
              <a:rect l="textAreaLeft" t="textAreaTop" r="textAreaRight" b="textAreaBottom"/>
              <a:pathLst>
                <a:path w="1590" h="1439">
                  <a:moveTo>
                    <a:pt x="1079" y="0"/>
                  </a:moveTo>
                  <a:lnTo>
                    <a:pt x="0" y="1439"/>
                  </a:lnTo>
                  <a:lnTo>
                    <a:pt x="1590" y="1023"/>
                  </a:lnTo>
                  <a:lnTo>
                    <a:pt x="1079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64"/>
            <p:cNvSpPr/>
            <p:nvPr/>
          </p:nvSpPr>
          <p:spPr>
            <a:xfrm>
              <a:off x="666360" y="-462240"/>
              <a:ext cx="2430720" cy="1072440"/>
            </a:xfrm>
            <a:custGeom>
              <a:avLst/>
              <a:gdLst>
                <a:gd name="textAreaLeft" fmla="*/ 0 w 2430720"/>
                <a:gd name="textAreaRight" fmla="*/ 2431080 w 2430720"/>
                <a:gd name="textAreaTop" fmla="*/ 0 h 1072440"/>
                <a:gd name="textAreaBottom" fmla="*/ 1072800 h 1072440"/>
              </a:gdLst>
              <a:ahLst/>
              <a:rect l="textAreaLeft" t="textAreaTop" r="textAreaRight" b="textAreaBottom"/>
              <a:pathLst>
                <a:path w="1457" h="643">
                  <a:moveTo>
                    <a:pt x="0" y="19"/>
                  </a:moveTo>
                  <a:lnTo>
                    <a:pt x="795" y="643"/>
                  </a:lnTo>
                  <a:lnTo>
                    <a:pt x="1457" y="0"/>
                  </a:lnTo>
                  <a:lnTo>
                    <a:pt x="0" y="19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65"/>
            <p:cNvSpPr/>
            <p:nvPr/>
          </p:nvSpPr>
          <p:spPr>
            <a:xfrm>
              <a:off x="177480" y="-478800"/>
              <a:ext cx="2919600" cy="47880"/>
            </a:xfrm>
            <a:custGeom>
              <a:avLst/>
              <a:gdLst>
                <a:gd name="textAreaLeft" fmla="*/ 0 w 2919600"/>
                <a:gd name="textAreaRight" fmla="*/ 2919960 w 29196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750" h="29">
                  <a:moveTo>
                    <a:pt x="0" y="0"/>
                  </a:moveTo>
                  <a:lnTo>
                    <a:pt x="293" y="29"/>
                  </a:lnTo>
                  <a:lnTo>
                    <a:pt x="1750" y="1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66"/>
            <p:cNvSpPr/>
            <p:nvPr/>
          </p:nvSpPr>
          <p:spPr>
            <a:xfrm>
              <a:off x="1314000" y="3911040"/>
              <a:ext cx="2399040" cy="2242080"/>
            </a:xfrm>
            <a:custGeom>
              <a:avLst/>
              <a:gdLst>
                <a:gd name="textAreaLeft" fmla="*/ 0 w 2399040"/>
                <a:gd name="textAreaRight" fmla="*/ 2399400 w 2399040"/>
                <a:gd name="textAreaTop" fmla="*/ 0 h 2242080"/>
                <a:gd name="textAreaBottom" fmla="*/ 2242440 h 2242080"/>
              </a:gdLst>
              <a:ahLst/>
              <a:rect l="textAreaLeft" t="textAreaTop" r="textAreaRight" b="textAreaBottom"/>
              <a:pathLst>
                <a:path w="1438" h="1344">
                  <a:moveTo>
                    <a:pt x="0" y="0"/>
                  </a:moveTo>
                  <a:lnTo>
                    <a:pt x="596" y="1344"/>
                  </a:lnTo>
                  <a:lnTo>
                    <a:pt x="1438" y="27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67"/>
            <p:cNvSpPr/>
            <p:nvPr/>
          </p:nvSpPr>
          <p:spPr>
            <a:xfrm>
              <a:off x="1314000" y="2317680"/>
              <a:ext cx="2399040" cy="2052000"/>
            </a:xfrm>
            <a:custGeom>
              <a:avLst/>
              <a:gdLst>
                <a:gd name="textAreaLeft" fmla="*/ 0 w 2399040"/>
                <a:gd name="textAreaRight" fmla="*/ 2399400 w 2399040"/>
                <a:gd name="textAreaTop" fmla="*/ 0 h 2052000"/>
                <a:gd name="textAreaBottom" fmla="*/ 2052360 h 2052000"/>
              </a:gdLst>
              <a:ahLst/>
              <a:rect l="textAreaLeft" t="textAreaTop" r="textAreaRight" b="textAreaBottom"/>
              <a:pathLst>
                <a:path w="1438" h="1230">
                  <a:moveTo>
                    <a:pt x="918" y="0"/>
                  </a:moveTo>
                  <a:lnTo>
                    <a:pt x="0" y="955"/>
                  </a:lnTo>
                  <a:lnTo>
                    <a:pt x="1438" y="1230"/>
                  </a:lnTo>
                  <a:lnTo>
                    <a:pt x="918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68"/>
            <p:cNvSpPr/>
            <p:nvPr/>
          </p:nvSpPr>
          <p:spPr>
            <a:xfrm>
              <a:off x="1992960" y="43200"/>
              <a:ext cx="1956960" cy="2273760"/>
            </a:xfrm>
            <a:custGeom>
              <a:avLst/>
              <a:gdLst>
                <a:gd name="textAreaLeft" fmla="*/ 0 w 1956960"/>
                <a:gd name="textAreaRight" fmla="*/ 1957320 w 1956960"/>
                <a:gd name="textAreaTop" fmla="*/ 0 h 2273760"/>
                <a:gd name="textAreaBottom" fmla="*/ 2274120 h 2273760"/>
              </a:gdLst>
              <a:ahLst/>
              <a:rect l="textAreaLeft" t="textAreaTop" r="textAreaRight" b="textAreaBottom"/>
              <a:pathLst>
                <a:path w="1173" h="1363">
                  <a:moveTo>
                    <a:pt x="0" y="340"/>
                  </a:moveTo>
                  <a:lnTo>
                    <a:pt x="511" y="1363"/>
                  </a:lnTo>
                  <a:lnTo>
                    <a:pt x="1173" y="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69"/>
            <p:cNvSpPr/>
            <p:nvPr/>
          </p:nvSpPr>
          <p:spPr>
            <a:xfrm>
              <a:off x="1992960" y="-462240"/>
              <a:ext cx="1956960" cy="1072440"/>
            </a:xfrm>
            <a:custGeom>
              <a:avLst/>
              <a:gdLst>
                <a:gd name="textAreaLeft" fmla="*/ 0 w 1956960"/>
                <a:gd name="textAreaRight" fmla="*/ 1957320 w 1956960"/>
                <a:gd name="textAreaTop" fmla="*/ 0 h 1072440"/>
                <a:gd name="textAreaBottom" fmla="*/ 1072800 h 1072440"/>
              </a:gdLst>
              <a:ahLst/>
              <a:rect l="textAreaLeft" t="textAreaTop" r="textAreaRight" b="textAreaBottom"/>
              <a:pathLst>
                <a:path w="1173" h="643">
                  <a:moveTo>
                    <a:pt x="662" y="0"/>
                  </a:moveTo>
                  <a:lnTo>
                    <a:pt x="0" y="643"/>
                  </a:lnTo>
                  <a:lnTo>
                    <a:pt x="1173" y="303"/>
                  </a:lnTo>
                  <a:lnTo>
                    <a:pt x="662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70"/>
            <p:cNvSpPr/>
            <p:nvPr/>
          </p:nvSpPr>
          <p:spPr>
            <a:xfrm>
              <a:off x="2308320" y="4370040"/>
              <a:ext cx="1893600" cy="1783440"/>
            </a:xfrm>
            <a:custGeom>
              <a:avLst/>
              <a:gdLst>
                <a:gd name="textAreaLeft" fmla="*/ 0 w 1893600"/>
                <a:gd name="textAreaRight" fmla="*/ 1893960 w 1893600"/>
                <a:gd name="textAreaTop" fmla="*/ 0 h 1783440"/>
                <a:gd name="textAreaBottom" fmla="*/ 1783800 h 1783440"/>
              </a:gdLst>
              <a:ahLst/>
              <a:rect l="textAreaLeft" t="textAreaTop" r="textAreaRight" b="textAreaBottom"/>
              <a:pathLst>
                <a:path w="1135" h="1069">
                  <a:moveTo>
                    <a:pt x="842" y="0"/>
                  </a:moveTo>
                  <a:lnTo>
                    <a:pt x="0" y="1069"/>
                  </a:lnTo>
                  <a:lnTo>
                    <a:pt x="1135" y="1041"/>
                  </a:lnTo>
                  <a:lnTo>
                    <a:pt x="842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71"/>
            <p:cNvSpPr/>
            <p:nvPr/>
          </p:nvSpPr>
          <p:spPr>
            <a:xfrm>
              <a:off x="3097440" y="-462240"/>
              <a:ext cx="1734840" cy="505080"/>
            </a:xfrm>
            <a:custGeom>
              <a:avLst/>
              <a:gdLst>
                <a:gd name="textAreaLeft" fmla="*/ 0 w 1734840"/>
                <a:gd name="textAreaRight" fmla="*/ 1735200 w 173484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040" h="303">
                  <a:moveTo>
                    <a:pt x="0" y="0"/>
                  </a:moveTo>
                  <a:lnTo>
                    <a:pt x="511" y="303"/>
                  </a:lnTo>
                  <a:lnTo>
                    <a:pt x="1040" y="1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72"/>
            <p:cNvSpPr/>
            <p:nvPr/>
          </p:nvSpPr>
          <p:spPr>
            <a:xfrm>
              <a:off x="3950280" y="-430560"/>
              <a:ext cx="1197720" cy="3109680"/>
            </a:xfrm>
            <a:custGeom>
              <a:avLst/>
              <a:gdLst>
                <a:gd name="textAreaLeft" fmla="*/ 0 w 1197720"/>
                <a:gd name="textAreaRight" fmla="*/ 1198080 w 1197720"/>
                <a:gd name="textAreaTop" fmla="*/ 0 h 3109680"/>
                <a:gd name="textAreaBottom" fmla="*/ 3110040 h 3109680"/>
              </a:gdLst>
              <a:ahLst/>
              <a:rect l="textAreaLeft" t="textAreaTop" r="textAreaRight" b="textAreaBottom"/>
              <a:pathLst>
                <a:path w="718" h="1864">
                  <a:moveTo>
                    <a:pt x="529" y="0"/>
                  </a:moveTo>
                  <a:lnTo>
                    <a:pt x="0" y="284"/>
                  </a:lnTo>
                  <a:lnTo>
                    <a:pt x="718" y="1864"/>
                  </a:lnTo>
                  <a:lnTo>
                    <a:pt x="529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73"/>
            <p:cNvSpPr/>
            <p:nvPr/>
          </p:nvSpPr>
          <p:spPr>
            <a:xfrm>
              <a:off x="2845800" y="2317680"/>
              <a:ext cx="2302200" cy="2052000"/>
            </a:xfrm>
            <a:custGeom>
              <a:avLst/>
              <a:gdLst>
                <a:gd name="textAreaLeft" fmla="*/ 0 w 2302200"/>
                <a:gd name="textAreaRight" fmla="*/ 2302560 w 2302200"/>
                <a:gd name="textAreaTop" fmla="*/ 0 h 2052000"/>
                <a:gd name="textAreaBottom" fmla="*/ 2052360 h 2052000"/>
              </a:gdLst>
              <a:ahLst/>
              <a:rect l="textAreaLeft" t="textAreaTop" r="textAreaRight" b="textAreaBottom"/>
              <a:pathLst>
                <a:path w="1380" h="1230">
                  <a:moveTo>
                    <a:pt x="0" y="0"/>
                  </a:moveTo>
                  <a:lnTo>
                    <a:pt x="520" y="1230"/>
                  </a:lnTo>
                  <a:lnTo>
                    <a:pt x="1380" y="21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74"/>
            <p:cNvSpPr/>
            <p:nvPr/>
          </p:nvSpPr>
          <p:spPr>
            <a:xfrm>
              <a:off x="2845800" y="43200"/>
              <a:ext cx="2302200" cy="2635920"/>
            </a:xfrm>
            <a:custGeom>
              <a:avLst/>
              <a:gdLst>
                <a:gd name="textAreaLeft" fmla="*/ 0 w 2302200"/>
                <a:gd name="textAreaRight" fmla="*/ 2302560 w 2302200"/>
                <a:gd name="textAreaTop" fmla="*/ 0 h 2635920"/>
                <a:gd name="textAreaBottom" fmla="*/ 2636280 h 2635920"/>
              </a:gdLst>
              <a:ahLst/>
              <a:rect l="textAreaLeft" t="textAreaTop" r="textAreaRight" b="textAreaBottom"/>
              <a:pathLst>
                <a:path w="1380" h="1580">
                  <a:moveTo>
                    <a:pt x="662" y="0"/>
                  </a:moveTo>
                  <a:lnTo>
                    <a:pt x="0" y="1363"/>
                  </a:lnTo>
                  <a:lnTo>
                    <a:pt x="1380" y="1580"/>
                  </a:lnTo>
                  <a:lnTo>
                    <a:pt x="662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75"/>
            <p:cNvSpPr/>
            <p:nvPr/>
          </p:nvSpPr>
          <p:spPr>
            <a:xfrm>
              <a:off x="3713400" y="4370040"/>
              <a:ext cx="2397240" cy="1783440"/>
            </a:xfrm>
            <a:custGeom>
              <a:avLst/>
              <a:gdLst>
                <a:gd name="textAreaLeft" fmla="*/ 0 w 2397240"/>
                <a:gd name="textAreaRight" fmla="*/ 2397600 w 2397240"/>
                <a:gd name="textAreaTop" fmla="*/ 0 h 1783440"/>
                <a:gd name="textAreaBottom" fmla="*/ 1783800 h 1783440"/>
              </a:gdLst>
              <a:ahLst/>
              <a:rect l="textAreaLeft" t="textAreaTop" r="textAreaRight" b="textAreaBottom"/>
              <a:pathLst>
                <a:path w="1437" h="1069">
                  <a:moveTo>
                    <a:pt x="0" y="0"/>
                  </a:moveTo>
                  <a:lnTo>
                    <a:pt x="293" y="1041"/>
                  </a:lnTo>
                  <a:lnTo>
                    <a:pt x="1437" y="106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76"/>
            <p:cNvSpPr/>
            <p:nvPr/>
          </p:nvSpPr>
          <p:spPr>
            <a:xfrm>
              <a:off x="4833000" y="-430560"/>
              <a:ext cx="1988640" cy="3109680"/>
            </a:xfrm>
            <a:custGeom>
              <a:avLst/>
              <a:gdLst>
                <a:gd name="textAreaLeft" fmla="*/ 0 w 1988640"/>
                <a:gd name="textAreaRight" fmla="*/ 1989000 w 1988640"/>
                <a:gd name="textAreaTop" fmla="*/ 0 h 3109680"/>
                <a:gd name="textAreaBottom" fmla="*/ 3110040 h 3109680"/>
              </a:gdLst>
              <a:ahLst/>
              <a:rect l="textAreaLeft" t="textAreaTop" r="textAreaRight" b="textAreaBottom"/>
              <a:pathLst>
                <a:path w="1192" h="1864">
                  <a:moveTo>
                    <a:pt x="0" y="0"/>
                  </a:moveTo>
                  <a:lnTo>
                    <a:pt x="189" y="1864"/>
                  </a:lnTo>
                  <a:lnTo>
                    <a:pt x="1192" y="99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77"/>
            <p:cNvSpPr/>
            <p:nvPr/>
          </p:nvSpPr>
          <p:spPr>
            <a:xfrm>
              <a:off x="4833000" y="-430560"/>
              <a:ext cx="1988640" cy="1658160"/>
            </a:xfrm>
            <a:custGeom>
              <a:avLst/>
              <a:gdLst>
                <a:gd name="textAreaLeft" fmla="*/ 0 w 1988640"/>
                <a:gd name="textAreaRight" fmla="*/ 1989000 w 1988640"/>
                <a:gd name="textAreaTop" fmla="*/ 0 h 1658160"/>
                <a:gd name="textAreaBottom" fmla="*/ 1658520 h 1658160"/>
              </a:gdLst>
              <a:ahLst/>
              <a:rect l="textAreaLeft" t="textAreaTop" r="textAreaRight" b="textAreaBottom"/>
              <a:pathLst>
                <a:path w="1192" h="994">
                  <a:moveTo>
                    <a:pt x="1012" y="0"/>
                  </a:moveTo>
                  <a:lnTo>
                    <a:pt x="0" y="0"/>
                  </a:lnTo>
                  <a:lnTo>
                    <a:pt x="1192" y="994"/>
                  </a:lnTo>
                  <a:lnTo>
                    <a:pt x="1012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78"/>
            <p:cNvSpPr/>
            <p:nvPr/>
          </p:nvSpPr>
          <p:spPr>
            <a:xfrm>
              <a:off x="5148360" y="1227960"/>
              <a:ext cx="1720080" cy="2540880"/>
            </a:xfrm>
            <a:custGeom>
              <a:avLst/>
              <a:gdLst>
                <a:gd name="textAreaLeft" fmla="*/ 0 w 1720080"/>
                <a:gd name="textAreaRight" fmla="*/ 1720440 w 1720080"/>
                <a:gd name="textAreaTop" fmla="*/ 0 h 2540880"/>
                <a:gd name="textAreaBottom" fmla="*/ 2541240 h 2540880"/>
              </a:gdLst>
              <a:ahLst/>
              <a:rect l="textAreaLeft" t="textAreaTop" r="textAreaRight" b="textAreaBottom"/>
              <a:pathLst>
                <a:path w="1031" h="1523">
                  <a:moveTo>
                    <a:pt x="1003" y="0"/>
                  </a:moveTo>
                  <a:lnTo>
                    <a:pt x="0" y="870"/>
                  </a:lnTo>
                  <a:lnTo>
                    <a:pt x="1031" y="1523"/>
                  </a:lnTo>
                  <a:lnTo>
                    <a:pt x="1003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79"/>
            <p:cNvSpPr/>
            <p:nvPr/>
          </p:nvSpPr>
          <p:spPr>
            <a:xfrm>
              <a:off x="3713400" y="2679480"/>
              <a:ext cx="3155040" cy="1689840"/>
            </a:xfrm>
            <a:custGeom>
              <a:avLst/>
              <a:gdLst>
                <a:gd name="textAreaLeft" fmla="*/ 0 w 3155040"/>
                <a:gd name="textAreaRight" fmla="*/ 3155400 w 3155040"/>
                <a:gd name="textAreaTop" fmla="*/ 0 h 1689840"/>
                <a:gd name="textAreaBottom" fmla="*/ 1690200 h 1689840"/>
              </a:gdLst>
              <a:ahLst/>
              <a:rect l="textAreaLeft" t="textAreaTop" r="textAreaRight" b="textAreaBottom"/>
              <a:pathLst>
                <a:path w="1891" h="1013">
                  <a:moveTo>
                    <a:pt x="860" y="0"/>
                  </a:moveTo>
                  <a:lnTo>
                    <a:pt x="0" y="1013"/>
                  </a:lnTo>
                  <a:lnTo>
                    <a:pt x="1891" y="653"/>
                  </a:lnTo>
                  <a:lnTo>
                    <a:pt x="86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80"/>
            <p:cNvSpPr/>
            <p:nvPr/>
          </p:nvSpPr>
          <p:spPr>
            <a:xfrm>
              <a:off x="3713400" y="3769200"/>
              <a:ext cx="3155040" cy="2383920"/>
            </a:xfrm>
            <a:custGeom>
              <a:avLst/>
              <a:gdLst>
                <a:gd name="textAreaLeft" fmla="*/ 0 w 3155040"/>
                <a:gd name="textAreaRight" fmla="*/ 3155400 w 315504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1891" h="1429">
                  <a:moveTo>
                    <a:pt x="0" y="360"/>
                  </a:moveTo>
                  <a:lnTo>
                    <a:pt x="1437" y="1429"/>
                  </a:lnTo>
                  <a:lnTo>
                    <a:pt x="1891" y="0"/>
                  </a:lnTo>
                  <a:lnTo>
                    <a:pt x="0" y="36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81"/>
            <p:cNvSpPr/>
            <p:nvPr/>
          </p:nvSpPr>
          <p:spPr>
            <a:xfrm>
              <a:off x="6111000" y="3769200"/>
              <a:ext cx="1641600" cy="2383920"/>
            </a:xfrm>
            <a:custGeom>
              <a:avLst/>
              <a:gdLst>
                <a:gd name="textAreaLeft" fmla="*/ 0 w 1641600"/>
                <a:gd name="textAreaRight" fmla="*/ 1641960 w 164160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984" h="1429">
                  <a:moveTo>
                    <a:pt x="454" y="0"/>
                  </a:moveTo>
                  <a:lnTo>
                    <a:pt x="0" y="1429"/>
                  </a:lnTo>
                  <a:lnTo>
                    <a:pt x="984" y="1420"/>
                  </a:lnTo>
                  <a:lnTo>
                    <a:pt x="454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82"/>
            <p:cNvSpPr/>
            <p:nvPr/>
          </p:nvSpPr>
          <p:spPr>
            <a:xfrm>
              <a:off x="6822000" y="1227960"/>
              <a:ext cx="1624680" cy="2540880"/>
            </a:xfrm>
            <a:custGeom>
              <a:avLst/>
              <a:gdLst>
                <a:gd name="textAreaLeft" fmla="*/ 0 w 1624680"/>
                <a:gd name="textAreaRight" fmla="*/ 1625040 w 1624680"/>
                <a:gd name="textAreaTop" fmla="*/ 0 h 2540880"/>
                <a:gd name="textAreaBottom" fmla="*/ 2541240 h 2540880"/>
              </a:gdLst>
              <a:ahLst/>
              <a:rect l="textAreaLeft" t="textAreaTop" r="textAreaRight" b="textAreaBottom"/>
              <a:pathLst>
                <a:path w="974" h="1523">
                  <a:moveTo>
                    <a:pt x="0" y="0"/>
                  </a:moveTo>
                  <a:lnTo>
                    <a:pt x="28" y="1523"/>
                  </a:lnTo>
                  <a:lnTo>
                    <a:pt x="974" y="42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83"/>
            <p:cNvSpPr/>
            <p:nvPr/>
          </p:nvSpPr>
          <p:spPr>
            <a:xfrm>
              <a:off x="6521400" y="-430560"/>
              <a:ext cx="2083680" cy="1658160"/>
            </a:xfrm>
            <a:custGeom>
              <a:avLst/>
              <a:gdLst>
                <a:gd name="textAreaLeft" fmla="*/ 0 w 2083680"/>
                <a:gd name="textAreaRight" fmla="*/ 2084040 w 2083680"/>
                <a:gd name="textAreaTop" fmla="*/ 0 h 1658160"/>
                <a:gd name="textAreaBottom" fmla="*/ 1658520 h 1658160"/>
              </a:gdLst>
              <a:ahLst/>
              <a:rect l="textAreaLeft" t="textAreaTop" r="textAreaRight" b="textAreaBottom"/>
              <a:pathLst>
                <a:path w="1249" h="994">
                  <a:moveTo>
                    <a:pt x="0" y="0"/>
                  </a:moveTo>
                  <a:lnTo>
                    <a:pt x="180" y="994"/>
                  </a:lnTo>
                  <a:lnTo>
                    <a:pt x="1249" y="1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84"/>
            <p:cNvSpPr/>
            <p:nvPr/>
          </p:nvSpPr>
          <p:spPr>
            <a:xfrm>
              <a:off x="6822000" y="-398880"/>
              <a:ext cx="1783440" cy="2335680"/>
            </a:xfrm>
            <a:custGeom>
              <a:avLst/>
              <a:gdLst>
                <a:gd name="textAreaLeft" fmla="*/ 0 w 1783440"/>
                <a:gd name="textAreaRight" fmla="*/ 1783800 w 1783440"/>
                <a:gd name="textAreaTop" fmla="*/ 0 h 2335680"/>
                <a:gd name="textAreaBottom" fmla="*/ 2336040 h 2335680"/>
              </a:gdLst>
              <a:ahLst/>
              <a:rect l="textAreaLeft" t="textAreaTop" r="textAreaRight" b="textAreaBottom"/>
              <a:pathLst>
                <a:path w="1069" h="1400">
                  <a:moveTo>
                    <a:pt x="0" y="975"/>
                  </a:moveTo>
                  <a:lnTo>
                    <a:pt x="974" y="1400"/>
                  </a:lnTo>
                  <a:lnTo>
                    <a:pt x="1069" y="0"/>
                  </a:lnTo>
                  <a:lnTo>
                    <a:pt x="0" y="975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85"/>
            <p:cNvSpPr/>
            <p:nvPr/>
          </p:nvSpPr>
          <p:spPr>
            <a:xfrm>
              <a:off x="6868440" y="3642480"/>
              <a:ext cx="2178720" cy="2495880"/>
            </a:xfrm>
            <a:custGeom>
              <a:avLst/>
              <a:gdLst>
                <a:gd name="textAreaLeft" fmla="*/ 0 w 2178720"/>
                <a:gd name="textAreaRight" fmla="*/ 2179080 w 2178720"/>
                <a:gd name="textAreaTop" fmla="*/ 0 h 2495880"/>
                <a:gd name="textAreaBottom" fmla="*/ 2496240 h 2495880"/>
              </a:gdLst>
              <a:ahLst/>
              <a:rect l="textAreaLeft" t="textAreaTop" r="textAreaRight" b="textAreaBottom"/>
              <a:pathLst>
                <a:path w="1306" h="1496">
                  <a:moveTo>
                    <a:pt x="0" y="76"/>
                  </a:moveTo>
                  <a:lnTo>
                    <a:pt x="530" y="1496"/>
                  </a:lnTo>
                  <a:lnTo>
                    <a:pt x="1306" y="0"/>
                  </a:lnTo>
                  <a:lnTo>
                    <a:pt x="0" y="76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86"/>
            <p:cNvSpPr/>
            <p:nvPr/>
          </p:nvSpPr>
          <p:spPr>
            <a:xfrm>
              <a:off x="6868440" y="1937160"/>
              <a:ext cx="2178720" cy="1831680"/>
            </a:xfrm>
            <a:custGeom>
              <a:avLst/>
              <a:gdLst>
                <a:gd name="textAreaLeft" fmla="*/ 0 w 2178720"/>
                <a:gd name="textAreaRight" fmla="*/ 2179080 w 2178720"/>
                <a:gd name="textAreaTop" fmla="*/ 0 h 1831680"/>
                <a:gd name="textAreaBottom" fmla="*/ 1832040 h 1831680"/>
              </a:gdLst>
              <a:ahLst/>
              <a:rect l="textAreaLeft" t="textAreaTop" r="textAreaRight" b="textAreaBottom"/>
              <a:pathLst>
                <a:path w="1306" h="1098">
                  <a:moveTo>
                    <a:pt x="946" y="0"/>
                  </a:moveTo>
                  <a:lnTo>
                    <a:pt x="0" y="1098"/>
                  </a:lnTo>
                  <a:lnTo>
                    <a:pt x="1306" y="1022"/>
                  </a:lnTo>
                  <a:lnTo>
                    <a:pt x="946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87"/>
            <p:cNvSpPr/>
            <p:nvPr/>
          </p:nvSpPr>
          <p:spPr>
            <a:xfrm>
              <a:off x="7752960" y="3642480"/>
              <a:ext cx="1436400" cy="2511000"/>
            </a:xfrm>
            <a:custGeom>
              <a:avLst/>
              <a:gdLst>
                <a:gd name="textAreaLeft" fmla="*/ 0 w 1436400"/>
                <a:gd name="textAreaRight" fmla="*/ 1436760 w 1436400"/>
                <a:gd name="textAreaTop" fmla="*/ 0 h 2511000"/>
                <a:gd name="textAreaBottom" fmla="*/ 2511360 h 2511000"/>
              </a:gdLst>
              <a:ahLst/>
              <a:rect l="textAreaLeft" t="textAreaTop" r="textAreaRight" b="textAreaBottom"/>
              <a:pathLst>
                <a:path w="861" h="1505">
                  <a:moveTo>
                    <a:pt x="776" y="0"/>
                  </a:moveTo>
                  <a:lnTo>
                    <a:pt x="0" y="1496"/>
                  </a:lnTo>
                  <a:lnTo>
                    <a:pt x="861" y="1505"/>
                  </a:lnTo>
                  <a:lnTo>
                    <a:pt x="776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88"/>
            <p:cNvSpPr/>
            <p:nvPr/>
          </p:nvSpPr>
          <p:spPr>
            <a:xfrm>
              <a:off x="8447040" y="1937160"/>
              <a:ext cx="2178720" cy="1704960"/>
            </a:xfrm>
            <a:custGeom>
              <a:avLst/>
              <a:gdLst>
                <a:gd name="textAreaLeft" fmla="*/ 0 w 2178720"/>
                <a:gd name="textAreaRight" fmla="*/ 2179080 w 2178720"/>
                <a:gd name="textAreaTop" fmla="*/ 0 h 1704960"/>
                <a:gd name="textAreaBottom" fmla="*/ 1705320 h 1704960"/>
              </a:gdLst>
              <a:ahLst/>
              <a:rect l="textAreaLeft" t="textAreaTop" r="textAreaRight" b="textAreaBottom"/>
              <a:pathLst>
                <a:path w="1306" h="1022">
                  <a:moveTo>
                    <a:pt x="0" y="0"/>
                  </a:moveTo>
                  <a:lnTo>
                    <a:pt x="360" y="1022"/>
                  </a:lnTo>
                  <a:lnTo>
                    <a:pt x="1306" y="29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89"/>
            <p:cNvSpPr/>
            <p:nvPr/>
          </p:nvSpPr>
          <p:spPr>
            <a:xfrm>
              <a:off x="9047520" y="3642480"/>
              <a:ext cx="1593000" cy="2511000"/>
            </a:xfrm>
            <a:custGeom>
              <a:avLst/>
              <a:gdLst>
                <a:gd name="textAreaLeft" fmla="*/ 0 w 1593000"/>
                <a:gd name="textAreaRight" fmla="*/ 1593360 w 1593000"/>
                <a:gd name="textAreaTop" fmla="*/ 0 h 2511000"/>
                <a:gd name="textAreaBottom" fmla="*/ 2511360 h 2511000"/>
              </a:gdLst>
              <a:ahLst/>
              <a:rect l="textAreaLeft" t="textAreaTop" r="textAreaRight" b="textAreaBottom"/>
              <a:pathLst>
                <a:path w="955" h="1505">
                  <a:moveTo>
                    <a:pt x="0" y="0"/>
                  </a:moveTo>
                  <a:lnTo>
                    <a:pt x="85" y="1505"/>
                  </a:lnTo>
                  <a:lnTo>
                    <a:pt x="955" y="148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90"/>
            <p:cNvSpPr/>
            <p:nvPr/>
          </p:nvSpPr>
          <p:spPr>
            <a:xfrm>
              <a:off x="8447040" y="-398880"/>
              <a:ext cx="2462400" cy="233568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2335680"/>
                <a:gd name="textAreaBottom" fmla="*/ 2336040 h 2335680"/>
              </a:gdLst>
              <a:ahLst/>
              <a:rect l="textAreaLeft" t="textAreaTop" r="textAreaRight" b="textAreaBottom"/>
              <a:pathLst>
                <a:path w="1476" h="1400">
                  <a:moveTo>
                    <a:pt x="95" y="0"/>
                  </a:moveTo>
                  <a:lnTo>
                    <a:pt x="0" y="1400"/>
                  </a:lnTo>
                  <a:lnTo>
                    <a:pt x="1476" y="9"/>
                  </a:lnTo>
                  <a:lnTo>
                    <a:pt x="95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91"/>
            <p:cNvSpPr/>
            <p:nvPr/>
          </p:nvSpPr>
          <p:spPr>
            <a:xfrm>
              <a:off x="8447040" y="-383760"/>
              <a:ext cx="2462400" cy="281124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2811240"/>
                <a:gd name="textAreaBottom" fmla="*/ 2811600 h 2811240"/>
              </a:gdLst>
              <a:ahLst/>
              <a:rect l="textAreaLeft" t="textAreaTop" r="textAreaRight" b="textAreaBottom"/>
              <a:pathLst>
                <a:path w="1476" h="1685">
                  <a:moveTo>
                    <a:pt x="0" y="1391"/>
                  </a:moveTo>
                  <a:lnTo>
                    <a:pt x="1306" y="1685"/>
                  </a:lnTo>
                  <a:lnTo>
                    <a:pt x="1476" y="0"/>
                  </a:lnTo>
                  <a:lnTo>
                    <a:pt x="0" y="1391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92"/>
            <p:cNvSpPr/>
            <p:nvPr/>
          </p:nvSpPr>
          <p:spPr>
            <a:xfrm>
              <a:off x="10626120" y="-383760"/>
              <a:ext cx="1356120" cy="2811240"/>
            </a:xfrm>
            <a:custGeom>
              <a:avLst/>
              <a:gdLst>
                <a:gd name="textAreaLeft" fmla="*/ 0 w 1356120"/>
                <a:gd name="textAreaRight" fmla="*/ 1356480 w 1356120"/>
                <a:gd name="textAreaTop" fmla="*/ 0 h 2811240"/>
                <a:gd name="textAreaBottom" fmla="*/ 2811600 h 2811240"/>
              </a:gdLst>
              <a:ahLst/>
              <a:rect l="textAreaLeft" t="textAreaTop" r="textAreaRight" b="textAreaBottom"/>
              <a:pathLst>
                <a:path w="813" h="1685">
                  <a:moveTo>
                    <a:pt x="170" y="0"/>
                  </a:moveTo>
                  <a:lnTo>
                    <a:pt x="0" y="1685"/>
                  </a:lnTo>
                  <a:lnTo>
                    <a:pt x="813" y="795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93"/>
            <p:cNvSpPr/>
            <p:nvPr/>
          </p:nvSpPr>
          <p:spPr>
            <a:xfrm>
              <a:off x="10626120" y="942480"/>
              <a:ext cx="1356120" cy="1926720"/>
            </a:xfrm>
            <a:custGeom>
              <a:avLst/>
              <a:gdLst>
                <a:gd name="textAreaLeft" fmla="*/ 0 w 1356120"/>
                <a:gd name="textAreaRight" fmla="*/ 1356480 w 1356120"/>
                <a:gd name="textAreaTop" fmla="*/ 0 h 1926720"/>
                <a:gd name="textAreaBottom" fmla="*/ 1927080 h 1926720"/>
              </a:gdLst>
              <a:ahLst/>
              <a:rect l="textAreaLeft" t="textAreaTop" r="textAreaRight" b="textAreaBottom"/>
              <a:pathLst>
                <a:path w="813" h="1155">
                  <a:moveTo>
                    <a:pt x="813" y="0"/>
                  </a:moveTo>
                  <a:lnTo>
                    <a:pt x="0" y="890"/>
                  </a:lnTo>
                  <a:lnTo>
                    <a:pt x="813" y="1155"/>
                  </a:lnTo>
                  <a:lnTo>
                    <a:pt x="813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94"/>
            <p:cNvSpPr/>
            <p:nvPr/>
          </p:nvSpPr>
          <p:spPr>
            <a:xfrm>
              <a:off x="9047520" y="3642480"/>
              <a:ext cx="2934720" cy="2478960"/>
            </a:xfrm>
            <a:custGeom>
              <a:avLst/>
              <a:gdLst>
                <a:gd name="textAreaLeft" fmla="*/ 0 w 2934720"/>
                <a:gd name="textAreaRight" fmla="*/ 2935080 w 2934720"/>
                <a:gd name="textAreaTop" fmla="*/ 0 h 2478960"/>
                <a:gd name="textAreaBottom" fmla="*/ 2479320 h 2478960"/>
              </a:gdLst>
              <a:ahLst/>
              <a:rect l="textAreaLeft" t="textAreaTop" r="textAreaRight" b="textAreaBottom"/>
              <a:pathLst>
                <a:path w="1759" h="1486">
                  <a:moveTo>
                    <a:pt x="0" y="0"/>
                  </a:moveTo>
                  <a:lnTo>
                    <a:pt x="955" y="1486"/>
                  </a:lnTo>
                  <a:lnTo>
                    <a:pt x="1759" y="70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95"/>
            <p:cNvSpPr/>
            <p:nvPr/>
          </p:nvSpPr>
          <p:spPr>
            <a:xfrm>
              <a:off x="9047520" y="2427840"/>
              <a:ext cx="2934720" cy="2383920"/>
            </a:xfrm>
            <a:custGeom>
              <a:avLst/>
              <a:gdLst>
                <a:gd name="textAreaLeft" fmla="*/ 0 w 2934720"/>
                <a:gd name="textAreaRight" fmla="*/ 2935080 w 293472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1759" h="1429">
                  <a:moveTo>
                    <a:pt x="946" y="0"/>
                  </a:moveTo>
                  <a:lnTo>
                    <a:pt x="0" y="728"/>
                  </a:lnTo>
                  <a:lnTo>
                    <a:pt x="1759" y="1429"/>
                  </a:lnTo>
                  <a:lnTo>
                    <a:pt x="946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96"/>
            <p:cNvSpPr/>
            <p:nvPr/>
          </p:nvSpPr>
          <p:spPr>
            <a:xfrm>
              <a:off x="10626120" y="2427840"/>
              <a:ext cx="1356120" cy="2383920"/>
            </a:xfrm>
            <a:custGeom>
              <a:avLst/>
              <a:gdLst>
                <a:gd name="textAreaLeft" fmla="*/ 0 w 1356120"/>
                <a:gd name="textAreaRight" fmla="*/ 1356480 w 135612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813" h="1429">
                  <a:moveTo>
                    <a:pt x="813" y="265"/>
                  </a:moveTo>
                  <a:lnTo>
                    <a:pt x="0" y="0"/>
                  </a:lnTo>
                  <a:lnTo>
                    <a:pt x="813" y="1429"/>
                  </a:lnTo>
                  <a:lnTo>
                    <a:pt x="813" y="265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97"/>
            <p:cNvSpPr/>
            <p:nvPr/>
          </p:nvSpPr>
          <p:spPr>
            <a:xfrm>
              <a:off x="10909800" y="-478800"/>
              <a:ext cx="1104120" cy="1421280"/>
            </a:xfrm>
            <a:custGeom>
              <a:avLst/>
              <a:gdLst>
                <a:gd name="textAreaLeft" fmla="*/ 0 w 1104120"/>
                <a:gd name="textAreaRight" fmla="*/ 1104480 w 1104120"/>
                <a:gd name="textAreaTop" fmla="*/ 0 h 1421280"/>
                <a:gd name="textAreaBottom" fmla="*/ 1421640 h 1421280"/>
              </a:gdLst>
              <a:ahLst/>
              <a:rect l="textAreaLeft" t="textAreaTop" r="textAreaRight" b="textAreaBottom"/>
              <a:pathLst>
                <a:path w="662" h="852">
                  <a:moveTo>
                    <a:pt x="0" y="57"/>
                  </a:moveTo>
                  <a:lnTo>
                    <a:pt x="643" y="852"/>
                  </a:lnTo>
                  <a:lnTo>
                    <a:pt x="662" y="0"/>
                  </a:lnTo>
                  <a:lnTo>
                    <a:pt x="0" y="57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98"/>
            <p:cNvSpPr/>
            <p:nvPr/>
          </p:nvSpPr>
          <p:spPr>
            <a:xfrm>
              <a:off x="8605440" y="-478800"/>
              <a:ext cx="3408480" cy="94680"/>
            </a:xfrm>
            <a:custGeom>
              <a:avLst/>
              <a:gdLst>
                <a:gd name="textAreaLeft" fmla="*/ 0 w 3408480"/>
                <a:gd name="textAreaRight" fmla="*/ 3408840 w 34084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2043" h="57">
                  <a:moveTo>
                    <a:pt x="0" y="48"/>
                  </a:moveTo>
                  <a:lnTo>
                    <a:pt x="1381" y="57"/>
                  </a:lnTo>
                  <a:lnTo>
                    <a:pt x="2043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99"/>
            <p:cNvSpPr/>
            <p:nvPr/>
          </p:nvSpPr>
          <p:spPr>
            <a:xfrm>
              <a:off x="10641240" y="4812120"/>
              <a:ext cx="1373040" cy="137304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373040"/>
                <a:gd name="textAreaBottom" fmla="*/ 1373400 h 1373040"/>
              </a:gdLst>
              <a:ahLst/>
              <a:rect l="textAreaLeft" t="textAreaTop" r="textAreaRight" b="textAreaBottom"/>
              <a:pathLst>
                <a:path w="823" h="823">
                  <a:moveTo>
                    <a:pt x="804" y="0"/>
                  </a:moveTo>
                  <a:lnTo>
                    <a:pt x="0" y="785"/>
                  </a:lnTo>
                  <a:lnTo>
                    <a:pt x="823" y="823"/>
                  </a:lnTo>
                  <a:lnTo>
                    <a:pt x="804" y="0"/>
                  </a:lnTo>
                  <a:close/>
                </a:path>
              </a:pathLst>
            </a:custGeom>
            <a:gradFill rotWithShape="0">
              <a:gsLst>
                <a:gs pos="0">
                  <a:srgbClr val="595959"/>
                </a:gs>
                <a:gs pos="100000">
                  <a:srgbClr val="808080"/>
                </a:gs>
              </a:gsLst>
              <a:lin ang="5400000"/>
            </a:gra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8" name="矩形 2"/>
          <p:cNvSpPr/>
          <p:nvPr/>
        </p:nvSpPr>
        <p:spPr>
          <a:xfrm>
            <a:off x="0" y="577548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9" name="任意多边形 12"/>
          <p:cNvSpPr/>
          <p:nvPr/>
        </p:nvSpPr>
        <p:spPr>
          <a:xfrm rot="10800000">
            <a:off x="707040" y="5775840"/>
            <a:ext cx="383760" cy="285480"/>
          </a:xfrm>
          <a:custGeom>
            <a:avLst/>
            <a:gdLst>
              <a:gd name="textAreaLeft" fmla="*/ 0 w 383760"/>
              <a:gd name="textAreaRight" fmla="*/ 384120 w 3837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84284" h="285750">
                <a:moveTo>
                  <a:pt x="384284" y="285750"/>
                </a:moveTo>
                <a:lnTo>
                  <a:pt x="0" y="285750"/>
                </a:lnTo>
                <a:lnTo>
                  <a:pt x="192142" y="0"/>
                </a:lnTo>
                <a:close/>
              </a:path>
            </a:pathLst>
          </a:cu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0" name="文本框 4"/>
          <p:cNvSpPr/>
          <p:nvPr/>
        </p:nvSpPr>
        <p:spPr>
          <a:xfrm>
            <a:off x="4938480" y="6047280"/>
            <a:ext cx="2314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还可以变成这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任意多边形 11"/>
          <p:cNvSpPr/>
          <p:nvPr/>
        </p:nvSpPr>
        <p:spPr>
          <a:xfrm>
            <a:off x="-2520" y="0"/>
            <a:ext cx="12196440" cy="5775120"/>
          </a:xfrm>
          <a:custGeom>
            <a:avLst/>
            <a:gdLst>
              <a:gd name="textAreaLeft" fmla="*/ 0 w 12196440"/>
              <a:gd name="textAreaRight" fmla="*/ 12196800 w 12196440"/>
              <a:gd name="textAreaTop" fmla="*/ 0 h 5775120"/>
              <a:gd name="textAreaBottom" fmla="*/ 5775480 h 5775120"/>
            </a:gdLst>
            <a:ahLst/>
            <a:rect l="textAreaLeft" t="textAreaTop" r="textAreaRight" b="textAreaBottom"/>
            <a:pathLst>
              <a:path w="12196800" h="5775603">
                <a:moveTo>
                  <a:pt x="180000" y="180601"/>
                </a:moveTo>
                <a:lnTo>
                  <a:pt x="180000" y="5595001"/>
                </a:lnTo>
                <a:lnTo>
                  <a:pt x="12016800" y="5595001"/>
                </a:lnTo>
                <a:lnTo>
                  <a:pt x="12016800" y="180601"/>
                </a:lnTo>
                <a:close/>
                <a:moveTo>
                  <a:pt x="0" y="0"/>
                </a:moveTo>
                <a:lnTo>
                  <a:pt x="12196800" y="0"/>
                </a:lnTo>
                <a:lnTo>
                  <a:pt x="12196800" y="5775603"/>
                </a:lnTo>
                <a:lnTo>
                  <a:pt x="0" y="5775603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平行四边形 79" hidden="1"/>
          <p:cNvSpPr/>
          <p:nvPr/>
        </p:nvSpPr>
        <p:spPr>
          <a:xfrm>
            <a:off x="-8884080" y="-1649160"/>
            <a:ext cx="16963200" cy="9782280"/>
          </a:xfrm>
          <a:prstGeom prst="parallelogram">
            <a:avLst>
              <a:gd name="adj" fmla="val 48294"/>
            </a:avLst>
          </a:prstGeom>
          <a:solidFill>
            <a:srgbClr val="50cedd"/>
          </a:solidFill>
          <a:ln>
            <a:solidFill>
              <a:srgbClr val="3b98a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平行四边形 80" hidden="1"/>
          <p:cNvSpPr/>
          <p:nvPr/>
        </p:nvSpPr>
        <p:spPr>
          <a:xfrm>
            <a:off x="-8884080" y="-1649160"/>
            <a:ext cx="16963200" cy="9782280"/>
          </a:xfrm>
          <a:prstGeom prst="parallelogram">
            <a:avLst>
              <a:gd name="adj" fmla="val 48294"/>
            </a:avLst>
          </a:prstGeom>
          <a:solidFill>
            <a:srgbClr val="50cedd"/>
          </a:solidFill>
          <a:ln>
            <a:solidFill>
              <a:srgbClr val="3b98a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平行四边形 81" hidden="1"/>
          <p:cNvSpPr/>
          <p:nvPr/>
        </p:nvSpPr>
        <p:spPr>
          <a:xfrm>
            <a:off x="-8884080" y="-1649160"/>
            <a:ext cx="16963200" cy="9782280"/>
          </a:xfrm>
          <a:prstGeom prst="parallelogram">
            <a:avLst>
              <a:gd name="adj" fmla="val 48294"/>
            </a:avLst>
          </a:prstGeom>
          <a:solidFill>
            <a:srgbClr val="50cedd"/>
          </a:solidFill>
          <a:ln>
            <a:solidFill>
              <a:srgbClr val="3b98a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58" name="组合 4"/>
          <p:cNvGrpSpPr/>
          <p:nvPr/>
        </p:nvGrpSpPr>
        <p:grpSpPr>
          <a:xfrm>
            <a:off x="944280" y="543240"/>
            <a:ext cx="2696040" cy="3641400"/>
            <a:chOff x="944280" y="543240"/>
            <a:chExt cx="2696040" cy="3641400"/>
          </a:xfrm>
        </p:grpSpPr>
        <p:grpSp>
          <p:nvGrpSpPr>
            <p:cNvPr id="159" name="组合 2"/>
            <p:cNvGrpSpPr/>
            <p:nvPr/>
          </p:nvGrpSpPr>
          <p:grpSpPr>
            <a:xfrm>
              <a:off x="1761120" y="3360600"/>
              <a:ext cx="1490760" cy="824040"/>
              <a:chOff x="1761120" y="3360600"/>
              <a:chExt cx="1490760" cy="824040"/>
            </a:xfrm>
          </p:grpSpPr>
          <p:grpSp>
            <p:nvGrpSpPr>
              <p:cNvPr id="160" name="组合 186"/>
              <p:cNvGrpSpPr/>
              <p:nvPr/>
            </p:nvGrpSpPr>
            <p:grpSpPr>
              <a:xfrm>
                <a:off x="1761120" y="3360600"/>
                <a:ext cx="1235520" cy="824040"/>
                <a:chOff x="1761120" y="3360600"/>
                <a:chExt cx="1235520" cy="824040"/>
              </a:xfrm>
            </p:grpSpPr>
            <p:sp>
              <p:nvSpPr>
                <p:cNvPr id="161" name="任意多边形 187"/>
                <p:cNvSpPr/>
                <p:nvPr/>
              </p:nvSpPr>
              <p:spPr>
                <a:xfrm>
                  <a:off x="1761120" y="3360600"/>
                  <a:ext cx="1235520" cy="824040"/>
                </a:xfrm>
                <a:custGeom>
                  <a:avLst/>
                  <a:gdLst>
                    <a:gd name="textAreaLeft" fmla="*/ 0 w 1235520"/>
                    <a:gd name="textAreaRight" fmla="*/ 1235880 w 1235520"/>
                    <a:gd name="textAreaTop" fmla="*/ 0 h 824040"/>
                    <a:gd name="textAreaBottom" fmla="*/ 824400 h 824040"/>
                  </a:gdLst>
                  <a:ahLst/>
                  <a:rect l="textAreaLeft" t="textAreaTop" r="textAreaRight" b="textAreaBottom"/>
                  <a:pathLst>
                    <a:path w="1915693" h="1277628">
                      <a:moveTo>
                        <a:pt x="1533352" y="0"/>
                      </a:moveTo>
                      <a:lnTo>
                        <a:pt x="1537099" y="0"/>
                      </a:lnTo>
                      <a:cubicBezTo>
                        <a:pt x="1550169" y="0"/>
                        <a:pt x="1569178" y="0"/>
                        <a:pt x="1596828" y="0"/>
                      </a:cubicBezTo>
                      <a:cubicBezTo>
                        <a:pt x="1915693" y="0"/>
                        <a:pt x="1915693" y="214608"/>
                        <a:pt x="1915693" y="479320"/>
                      </a:cubicBezTo>
                      <a:cubicBezTo>
                        <a:pt x="1915693" y="479320"/>
                        <a:pt x="1915693" y="479320"/>
                        <a:pt x="1915693" y="1277628"/>
                      </a:cubicBezTo>
                      <a:cubicBezTo>
                        <a:pt x="1915693" y="1277628"/>
                        <a:pt x="1915693" y="1277628"/>
                        <a:pt x="1204382" y="1277628"/>
                      </a:cubicBezTo>
                      <a:lnTo>
                        <a:pt x="1202643" y="1277628"/>
                      </a:lnTo>
                      <a:close/>
                      <a:moveTo>
                        <a:pt x="318865" y="0"/>
                      </a:moveTo>
                      <a:cubicBezTo>
                        <a:pt x="318865" y="0"/>
                        <a:pt x="318865" y="0"/>
                        <a:pt x="378140" y="0"/>
                      </a:cubicBezTo>
                      <a:lnTo>
                        <a:pt x="382340" y="0"/>
                      </a:lnTo>
                      <a:lnTo>
                        <a:pt x="713049" y="1277628"/>
                      </a:lnTo>
                      <a:lnTo>
                        <a:pt x="632328" y="1277628"/>
                      </a:lnTo>
                      <a:cubicBezTo>
                        <a:pt x="448991" y="1277628"/>
                        <a:pt x="239462" y="1277628"/>
                        <a:pt x="0" y="1277628"/>
                      </a:cubicBezTo>
                      <a:cubicBezTo>
                        <a:pt x="0" y="1277628"/>
                        <a:pt x="0" y="1277628"/>
                        <a:pt x="0" y="479320"/>
                      </a:cubicBezTo>
                      <a:cubicBezTo>
                        <a:pt x="0" y="214608"/>
                        <a:pt x="0" y="0"/>
                        <a:pt x="318865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62" name="图片 18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04280" y="3360600"/>
                  <a:ext cx="349200" cy="731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3" name="任意多边形 189"/>
              <p:cNvSpPr/>
              <p:nvPr/>
            </p:nvSpPr>
            <p:spPr>
              <a:xfrm flipH="1">
                <a:off x="2916000" y="3576600"/>
                <a:ext cx="333720" cy="343800"/>
              </a:xfrm>
              <a:custGeom>
                <a:avLst/>
                <a:gdLst>
                  <a:gd name="textAreaLeft" fmla="*/ -360 w 333720"/>
                  <a:gd name="textAreaRight" fmla="*/ 333720 w 33372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333940" h="344194">
                    <a:moveTo>
                      <a:pt x="282" y="0"/>
                    </a:moveTo>
                    <a:lnTo>
                      <a:pt x="84491" y="0"/>
                    </a:lnTo>
                    <a:lnTo>
                      <a:pt x="105520" y="44005"/>
                    </a:lnTo>
                    <a:cubicBezTo>
                      <a:pt x="114146" y="59469"/>
                      <a:pt x="124128" y="74662"/>
                      <a:pt x="135413" y="87902"/>
                    </a:cubicBezTo>
                    <a:cubicBezTo>
                      <a:pt x="148433" y="101792"/>
                      <a:pt x="161019" y="113947"/>
                      <a:pt x="174474" y="122194"/>
                    </a:cubicBezTo>
                    <a:cubicBezTo>
                      <a:pt x="180984" y="126535"/>
                      <a:pt x="186626" y="130442"/>
                      <a:pt x="193137" y="132613"/>
                    </a:cubicBezTo>
                    <a:cubicBezTo>
                      <a:pt x="199213" y="134783"/>
                      <a:pt x="203987" y="137822"/>
                      <a:pt x="210063" y="138690"/>
                    </a:cubicBezTo>
                    <a:cubicBezTo>
                      <a:pt x="220480" y="142162"/>
                      <a:pt x="229160" y="143465"/>
                      <a:pt x="235670" y="143465"/>
                    </a:cubicBezTo>
                    <a:cubicBezTo>
                      <a:pt x="241312" y="144333"/>
                      <a:pt x="244784" y="144333"/>
                      <a:pt x="244784" y="144333"/>
                    </a:cubicBezTo>
                    <a:cubicBezTo>
                      <a:pt x="299904" y="150844"/>
                      <a:pt x="339400" y="200330"/>
                      <a:pt x="333324" y="255024"/>
                    </a:cubicBezTo>
                    <a:cubicBezTo>
                      <a:pt x="327247" y="310153"/>
                      <a:pt x="277770" y="349655"/>
                      <a:pt x="222650" y="343578"/>
                    </a:cubicBezTo>
                    <a:cubicBezTo>
                      <a:pt x="208761" y="342275"/>
                      <a:pt x="196175" y="337934"/>
                      <a:pt x="184890" y="331857"/>
                    </a:cubicBezTo>
                    <a:cubicBezTo>
                      <a:pt x="184890" y="331857"/>
                      <a:pt x="184890" y="331857"/>
                      <a:pt x="182720" y="330555"/>
                    </a:cubicBezTo>
                    <a:cubicBezTo>
                      <a:pt x="182720" y="330555"/>
                      <a:pt x="175776" y="326214"/>
                      <a:pt x="162756" y="319269"/>
                    </a:cubicBezTo>
                    <a:cubicBezTo>
                      <a:pt x="150169" y="312757"/>
                      <a:pt x="132808" y="301037"/>
                      <a:pt x="114146" y="284976"/>
                    </a:cubicBezTo>
                    <a:cubicBezTo>
                      <a:pt x="104163" y="277597"/>
                      <a:pt x="95483" y="267613"/>
                      <a:pt x="86369" y="257629"/>
                    </a:cubicBezTo>
                    <a:cubicBezTo>
                      <a:pt x="76386" y="247645"/>
                      <a:pt x="68574" y="235924"/>
                      <a:pt x="60328" y="224204"/>
                    </a:cubicBezTo>
                    <a:cubicBezTo>
                      <a:pt x="43835" y="200330"/>
                      <a:pt x="31683" y="173416"/>
                      <a:pt x="22134" y="146937"/>
                    </a:cubicBezTo>
                    <a:cubicBezTo>
                      <a:pt x="3906" y="93111"/>
                      <a:pt x="0" y="41021"/>
                      <a:pt x="0" y="282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椭圆 192"/>
              <p:cNvSpPr/>
              <p:nvPr/>
            </p:nvSpPr>
            <p:spPr>
              <a:xfrm>
                <a:off x="3165120" y="3544200"/>
                <a:ext cx="86760" cy="86760"/>
              </a:xfrm>
              <a:prstGeom prst="ellipse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65" name="组合 195"/>
            <p:cNvGrpSpPr/>
            <p:nvPr/>
          </p:nvGrpSpPr>
          <p:grpSpPr>
            <a:xfrm>
              <a:off x="944280" y="543240"/>
              <a:ext cx="2696040" cy="2667240"/>
              <a:chOff x="944280" y="543240"/>
              <a:chExt cx="2696040" cy="2667240"/>
            </a:xfrm>
          </p:grpSpPr>
          <p:grpSp>
            <p:nvGrpSpPr>
              <p:cNvPr id="166" name="组合 196"/>
              <p:cNvGrpSpPr/>
              <p:nvPr/>
            </p:nvGrpSpPr>
            <p:grpSpPr>
              <a:xfrm>
                <a:off x="944280" y="543240"/>
                <a:ext cx="2696040" cy="2667240"/>
                <a:chOff x="944280" y="543240"/>
                <a:chExt cx="2696040" cy="2667240"/>
              </a:xfrm>
            </p:grpSpPr>
            <p:sp>
              <p:nvSpPr>
                <p:cNvPr id="167" name="右耳朵"/>
                <p:cNvSpPr/>
                <p:nvPr/>
              </p:nvSpPr>
              <p:spPr>
                <a:xfrm flipH="1">
                  <a:off x="3063240" y="2191320"/>
                  <a:ext cx="250560" cy="396720"/>
                </a:xfrm>
                <a:custGeom>
                  <a:avLst/>
                  <a:gdLst>
                    <a:gd name="textAreaLeft" fmla="*/ 360 w 250560"/>
                    <a:gd name="textAreaRight" fmla="*/ 251280 w 250560"/>
                    <a:gd name="textAreaTop" fmla="*/ 0 h 396720"/>
                    <a:gd name="textAreaBottom" fmla="*/ 397080 h 396720"/>
                  </a:gdLst>
                  <a:ahLst/>
                  <a:rect l="textAreaLeft" t="textAreaTop" r="textAreaRight" b="textAreaBottom"/>
                  <a:pathLst>
                    <a:path w="80" h="126">
                      <a:moveTo>
                        <a:pt x="80" y="63"/>
                      </a:moveTo>
                      <a:cubicBezTo>
                        <a:pt x="80" y="98"/>
                        <a:pt x="62" y="126"/>
                        <a:pt x="39" y="126"/>
                      </a:cubicBezTo>
                      <a:cubicBezTo>
                        <a:pt x="17" y="126"/>
                        <a:pt x="0" y="83"/>
                        <a:pt x="0" y="48"/>
                      </a:cubicBezTo>
                      <a:cubicBezTo>
                        <a:pt x="0" y="13"/>
                        <a:pt x="17" y="0"/>
                        <a:pt x="39" y="0"/>
                      </a:cubicBezTo>
                      <a:cubicBezTo>
                        <a:pt x="62" y="0"/>
                        <a:pt x="80" y="28"/>
                        <a:pt x="80" y="63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8" name="左耳朵"/>
                <p:cNvSpPr/>
                <p:nvPr/>
              </p:nvSpPr>
              <p:spPr>
                <a:xfrm>
                  <a:off x="1426680" y="2191320"/>
                  <a:ext cx="250560" cy="39672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396720"/>
                    <a:gd name="textAreaBottom" fmla="*/ 397080 h 396720"/>
                  </a:gdLst>
                  <a:ahLst/>
                  <a:rect l="textAreaLeft" t="textAreaTop" r="textAreaRight" b="textAreaBottom"/>
                  <a:pathLst>
                    <a:path w="80" h="126">
                      <a:moveTo>
                        <a:pt x="80" y="63"/>
                      </a:moveTo>
                      <a:cubicBezTo>
                        <a:pt x="80" y="98"/>
                        <a:pt x="62" y="126"/>
                        <a:pt x="39" y="126"/>
                      </a:cubicBezTo>
                      <a:cubicBezTo>
                        <a:pt x="17" y="126"/>
                        <a:pt x="0" y="83"/>
                        <a:pt x="0" y="48"/>
                      </a:cubicBezTo>
                      <a:cubicBezTo>
                        <a:pt x="0" y="13"/>
                        <a:pt x="17" y="0"/>
                        <a:pt x="39" y="0"/>
                      </a:cubicBezTo>
                      <a:cubicBezTo>
                        <a:pt x="62" y="0"/>
                        <a:pt x="80" y="28"/>
                        <a:pt x="80" y="63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脸蛋"/>
                <p:cNvSpPr/>
                <p:nvPr/>
              </p:nvSpPr>
              <p:spPr>
                <a:xfrm>
                  <a:off x="1523880" y="1065960"/>
                  <a:ext cx="1695240" cy="2144520"/>
                </a:xfrm>
                <a:custGeom>
                  <a:avLst/>
                  <a:gdLst>
                    <a:gd name="textAreaLeft" fmla="*/ 0 w 1695240"/>
                    <a:gd name="textAreaRight" fmla="*/ 1695600 w 1695240"/>
                    <a:gd name="textAreaTop" fmla="*/ 0 h 2144520"/>
                    <a:gd name="textAreaBottom" fmla="*/ 2144880 h 2144520"/>
                  </a:gdLst>
                  <a:ahLst/>
                  <a:rect l="textAreaLeft" t="textAreaTop" r="textAreaRight" b="textAreaBottom"/>
                  <a:pathLst>
                    <a:path w="200" h="278">
                      <a:moveTo>
                        <a:pt x="100" y="0"/>
                      </a:moveTo>
                      <a:cubicBezTo>
                        <a:pt x="155" y="0"/>
                        <a:pt x="200" y="62"/>
                        <a:pt x="200" y="138"/>
                      </a:cubicBezTo>
                      <a:cubicBezTo>
                        <a:pt x="200" y="215"/>
                        <a:pt x="157" y="270"/>
                        <a:pt x="100" y="278"/>
                      </a:cubicBezTo>
                      <a:cubicBezTo>
                        <a:pt x="42" y="270"/>
                        <a:pt x="0" y="215"/>
                        <a:pt x="0" y="139"/>
                      </a:cubicBezTo>
                      <a:cubicBezTo>
                        <a:pt x="0" y="62"/>
                        <a:pt x="44" y="0"/>
                        <a:pt x="100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0" name="头发"/>
                <p:cNvSpPr/>
                <p:nvPr/>
              </p:nvSpPr>
              <p:spPr>
                <a:xfrm>
                  <a:off x="944280" y="543240"/>
                  <a:ext cx="2696040" cy="1975320"/>
                </a:xfrm>
                <a:custGeom>
                  <a:avLst/>
                  <a:gdLst>
                    <a:gd name="textAreaLeft" fmla="*/ 0 w 2696040"/>
                    <a:gd name="textAreaRight" fmla="*/ 2696400 w 2696040"/>
                    <a:gd name="textAreaTop" fmla="*/ 0 h 1975320"/>
                    <a:gd name="textAreaBottom" fmla="*/ 1975680 h 1975320"/>
                  </a:gdLst>
                  <a:ahLst/>
                  <a:rect l="textAreaLeft" t="textAreaTop" r="textAreaRight" b="textAreaBottom"/>
                  <a:pathLst>
                    <a:path w="318" h="233">
                      <a:moveTo>
                        <a:pt x="0" y="148"/>
                      </a:moveTo>
                      <a:cubicBezTo>
                        <a:pt x="13" y="162"/>
                        <a:pt x="23" y="162"/>
                        <a:pt x="31" y="157"/>
                      </a:cubicBezTo>
                      <a:cubicBezTo>
                        <a:pt x="21" y="155"/>
                        <a:pt x="16" y="142"/>
                        <a:pt x="15" y="130"/>
                      </a:cubicBezTo>
                      <a:cubicBezTo>
                        <a:pt x="12" y="109"/>
                        <a:pt x="33" y="83"/>
                        <a:pt x="55" y="75"/>
                      </a:cubicBezTo>
                      <a:cubicBezTo>
                        <a:pt x="52" y="74"/>
                        <a:pt x="48" y="73"/>
                        <a:pt x="45" y="72"/>
                      </a:cubicBezTo>
                      <a:cubicBezTo>
                        <a:pt x="65" y="68"/>
                        <a:pt x="77" y="64"/>
                        <a:pt x="77" y="47"/>
                      </a:cubicBezTo>
                      <a:cubicBezTo>
                        <a:pt x="77" y="26"/>
                        <a:pt x="102" y="15"/>
                        <a:pt x="121" y="25"/>
                      </a:cubicBezTo>
                      <a:cubicBezTo>
                        <a:pt x="131" y="15"/>
                        <a:pt x="149" y="13"/>
                        <a:pt x="162" y="25"/>
                      </a:cubicBezTo>
                      <a:cubicBezTo>
                        <a:pt x="164" y="25"/>
                        <a:pt x="164" y="25"/>
                        <a:pt x="164" y="25"/>
                      </a:cubicBezTo>
                      <a:cubicBezTo>
                        <a:pt x="174" y="1"/>
                        <a:pt x="207" y="0"/>
                        <a:pt x="215" y="21"/>
                      </a:cubicBezTo>
                      <a:cubicBezTo>
                        <a:pt x="220" y="35"/>
                        <a:pt x="233" y="35"/>
                        <a:pt x="252" y="25"/>
                      </a:cubicBezTo>
                      <a:cubicBezTo>
                        <a:pt x="251" y="32"/>
                        <a:pt x="247" y="36"/>
                        <a:pt x="242" y="38"/>
                      </a:cubicBezTo>
                      <a:cubicBezTo>
                        <a:pt x="260" y="38"/>
                        <a:pt x="278" y="49"/>
                        <a:pt x="278" y="67"/>
                      </a:cubicBezTo>
                      <a:cubicBezTo>
                        <a:pt x="278" y="71"/>
                        <a:pt x="278" y="76"/>
                        <a:pt x="279" y="80"/>
                      </a:cubicBezTo>
                      <a:cubicBezTo>
                        <a:pt x="281" y="82"/>
                        <a:pt x="283" y="84"/>
                        <a:pt x="285" y="86"/>
                      </a:cubicBezTo>
                      <a:cubicBezTo>
                        <a:pt x="303" y="96"/>
                        <a:pt x="318" y="117"/>
                        <a:pt x="316" y="134"/>
                      </a:cubicBezTo>
                      <a:cubicBezTo>
                        <a:pt x="315" y="144"/>
                        <a:pt x="311" y="155"/>
                        <a:pt x="304" y="158"/>
                      </a:cubicBezTo>
                      <a:cubicBezTo>
                        <a:pt x="304" y="159"/>
                        <a:pt x="304" y="159"/>
                        <a:pt x="304" y="159"/>
                      </a:cubicBezTo>
                      <a:cubicBezTo>
                        <a:pt x="308" y="157"/>
                        <a:pt x="312" y="154"/>
                        <a:pt x="317" y="149"/>
                      </a:cubicBezTo>
                      <a:cubicBezTo>
                        <a:pt x="317" y="161"/>
                        <a:pt x="310" y="170"/>
                        <a:pt x="301" y="175"/>
                      </a:cubicBezTo>
                      <a:cubicBezTo>
                        <a:pt x="300" y="180"/>
                        <a:pt x="299" y="185"/>
                        <a:pt x="298" y="189"/>
                      </a:cubicBezTo>
                      <a:cubicBezTo>
                        <a:pt x="307" y="230"/>
                        <a:pt x="250" y="212"/>
                        <a:pt x="264" y="213"/>
                      </a:cubicBezTo>
                      <a:cubicBezTo>
                        <a:pt x="263" y="166"/>
                        <a:pt x="254" y="193"/>
                        <a:pt x="229" y="172"/>
                      </a:cubicBezTo>
                      <a:cubicBezTo>
                        <a:pt x="220" y="164"/>
                        <a:pt x="215" y="149"/>
                        <a:pt x="202" y="112"/>
                      </a:cubicBezTo>
                      <a:cubicBezTo>
                        <a:pt x="181" y="148"/>
                        <a:pt x="98" y="233"/>
                        <a:pt x="40" y="214"/>
                      </a:cubicBezTo>
                      <a:cubicBezTo>
                        <a:pt x="49" y="213"/>
                        <a:pt x="69" y="165"/>
                        <a:pt x="61" y="170"/>
                      </a:cubicBezTo>
                      <a:cubicBezTo>
                        <a:pt x="47" y="182"/>
                        <a:pt x="28" y="212"/>
                        <a:pt x="0" y="148"/>
                      </a:cubicBezTo>
                      <a:close/>
                      <a:moveTo>
                        <a:pt x="40" y="136"/>
                      </a:moveTo>
                      <a:cubicBezTo>
                        <a:pt x="41" y="129"/>
                        <a:pt x="42" y="124"/>
                        <a:pt x="43" y="127"/>
                      </a:cubicBezTo>
                      <a:cubicBezTo>
                        <a:pt x="43" y="127"/>
                        <a:pt x="43" y="127"/>
                        <a:pt x="43" y="127"/>
                      </a:cubicBezTo>
                      <a:cubicBezTo>
                        <a:pt x="43" y="125"/>
                        <a:pt x="43" y="125"/>
                        <a:pt x="43" y="125"/>
                      </a:cubicBezTo>
                      <a:cubicBezTo>
                        <a:pt x="31" y="133"/>
                        <a:pt x="19" y="144"/>
                        <a:pt x="34" y="153"/>
                      </a:cubicBezTo>
                      <a:cubicBezTo>
                        <a:pt x="35" y="152"/>
                        <a:pt x="36" y="151"/>
                        <a:pt x="37" y="150"/>
                      </a:cubicBezTo>
                      <a:cubicBezTo>
                        <a:pt x="38" y="146"/>
                        <a:pt x="39" y="141"/>
                        <a:pt x="40" y="136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accent5"/>
                    </a:solidFill>
                    <a:latin typeface="Calibri"/>
                  </a:endParaRPr>
                </a:p>
              </p:txBody>
            </p:sp>
            <p:sp>
              <p:nvSpPr>
                <p:cNvPr id="171" name="右眼"/>
                <p:cNvSpPr/>
                <p:nvPr/>
              </p:nvSpPr>
              <p:spPr>
                <a:xfrm>
                  <a:off x="2685960" y="2299320"/>
                  <a:ext cx="270720" cy="90000"/>
                </a:xfrm>
                <a:prstGeom prst="roundRect">
                  <a:avLst>
                    <a:gd name="adj" fmla="val 50000"/>
                  </a:avLst>
                </a:prstGeom>
                <a:solidFill>
                  <a:schemeClr val="tx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" name="眼镜"/>
                <p:cNvSpPr/>
                <p:nvPr/>
              </p:nvSpPr>
              <p:spPr>
                <a:xfrm>
                  <a:off x="1472040" y="2025360"/>
                  <a:ext cx="1800360" cy="636480"/>
                </a:xfrm>
                <a:custGeom>
                  <a:avLst/>
                  <a:gdLst>
                    <a:gd name="textAreaLeft" fmla="*/ 0 w 1800360"/>
                    <a:gd name="textAreaRight" fmla="*/ 1800720 w 1800360"/>
                    <a:gd name="textAreaTop" fmla="*/ 0 h 636480"/>
                    <a:gd name="textAreaBottom" fmla="*/ 636840 h 636480"/>
                  </a:gdLst>
                  <a:ahLst/>
                  <a:rect l="textAreaLeft" t="textAreaTop" r="textAreaRight" b="textAreaBottom"/>
                  <a:pathLst>
                    <a:path w="1660" h="587">
                      <a:moveTo>
                        <a:pt x="1658" y="103"/>
                      </a:moveTo>
                      <a:cubicBezTo>
                        <a:pt x="1658" y="71"/>
                        <a:pt x="1653" y="83"/>
                        <a:pt x="1596" y="68"/>
                      </a:cubicBezTo>
                      <a:cubicBezTo>
                        <a:pt x="1539" y="52"/>
                        <a:pt x="1364" y="0"/>
                        <a:pt x="1096" y="39"/>
                      </a:cubicBezTo>
                      <a:cubicBezTo>
                        <a:pt x="872" y="72"/>
                        <a:pt x="929" y="146"/>
                        <a:pt x="837" y="149"/>
                      </a:cubicBezTo>
                      <a:cubicBezTo>
                        <a:pt x="823" y="149"/>
                        <a:pt x="823" y="149"/>
                        <a:pt x="823" y="149"/>
                      </a:cubicBezTo>
                      <a:cubicBezTo>
                        <a:pt x="731" y="146"/>
                        <a:pt x="788" y="72"/>
                        <a:pt x="564" y="39"/>
                      </a:cubicBezTo>
                      <a:cubicBezTo>
                        <a:pt x="296" y="0"/>
                        <a:pt x="121" y="52"/>
                        <a:pt x="64" y="68"/>
                      </a:cubicBezTo>
                      <a:cubicBezTo>
                        <a:pt x="7" y="83"/>
                        <a:pt x="2" y="71"/>
                        <a:pt x="2" y="103"/>
                      </a:cubicBezTo>
                      <a:cubicBezTo>
                        <a:pt x="3" y="135"/>
                        <a:pt x="0" y="161"/>
                        <a:pt x="27" y="161"/>
                      </a:cubicBezTo>
                      <a:cubicBezTo>
                        <a:pt x="55" y="161"/>
                        <a:pt x="55" y="161"/>
                        <a:pt x="98" y="296"/>
                      </a:cubicBezTo>
                      <a:cubicBezTo>
                        <a:pt x="150" y="458"/>
                        <a:pt x="164" y="504"/>
                        <a:pt x="214" y="541"/>
                      </a:cubicBezTo>
                      <a:cubicBezTo>
                        <a:pt x="275" y="587"/>
                        <a:pt x="531" y="587"/>
                        <a:pt x="614" y="537"/>
                      </a:cubicBezTo>
                      <a:cubicBezTo>
                        <a:pt x="717" y="475"/>
                        <a:pt x="704" y="241"/>
                        <a:pt x="828" y="238"/>
                      </a:cubicBezTo>
                      <a:cubicBezTo>
                        <a:pt x="829" y="238"/>
                        <a:pt x="831" y="238"/>
                        <a:pt x="832" y="238"/>
                      </a:cubicBezTo>
                      <a:cubicBezTo>
                        <a:pt x="956" y="241"/>
                        <a:pt x="943" y="475"/>
                        <a:pt x="1046" y="537"/>
                      </a:cubicBezTo>
                      <a:cubicBezTo>
                        <a:pt x="1129" y="587"/>
                        <a:pt x="1385" y="587"/>
                        <a:pt x="1446" y="541"/>
                      </a:cubicBezTo>
                      <a:cubicBezTo>
                        <a:pt x="1496" y="504"/>
                        <a:pt x="1510" y="458"/>
                        <a:pt x="1562" y="296"/>
                      </a:cubicBezTo>
                      <a:cubicBezTo>
                        <a:pt x="1605" y="161"/>
                        <a:pt x="1605" y="161"/>
                        <a:pt x="1633" y="161"/>
                      </a:cubicBezTo>
                      <a:cubicBezTo>
                        <a:pt x="1660" y="161"/>
                        <a:pt x="1657" y="135"/>
                        <a:pt x="1658" y="103"/>
                      </a:cubicBezTo>
                      <a:close/>
                      <a:moveTo>
                        <a:pt x="670" y="341"/>
                      </a:moveTo>
                      <a:cubicBezTo>
                        <a:pt x="644" y="407"/>
                        <a:pt x="624" y="465"/>
                        <a:pt x="588" y="489"/>
                      </a:cubicBezTo>
                      <a:cubicBezTo>
                        <a:pt x="550" y="515"/>
                        <a:pt x="494" y="520"/>
                        <a:pt x="411" y="519"/>
                      </a:cubicBezTo>
                      <a:cubicBezTo>
                        <a:pt x="341" y="517"/>
                        <a:pt x="266" y="520"/>
                        <a:pt x="234" y="490"/>
                      </a:cubicBezTo>
                      <a:cubicBezTo>
                        <a:pt x="208" y="465"/>
                        <a:pt x="182" y="386"/>
                        <a:pt x="160" y="316"/>
                      </a:cubicBezTo>
                      <a:cubicBezTo>
                        <a:pt x="129" y="219"/>
                        <a:pt x="115" y="161"/>
                        <a:pt x="146" y="132"/>
                      </a:cubicBezTo>
                      <a:cubicBezTo>
                        <a:pt x="185" y="97"/>
                        <a:pt x="286" y="91"/>
                        <a:pt x="405" y="89"/>
                      </a:cubicBezTo>
                      <a:cubicBezTo>
                        <a:pt x="524" y="88"/>
                        <a:pt x="682" y="123"/>
                        <a:pt x="702" y="170"/>
                      </a:cubicBezTo>
                      <a:cubicBezTo>
                        <a:pt x="718" y="205"/>
                        <a:pt x="693" y="282"/>
                        <a:pt x="670" y="341"/>
                      </a:cubicBezTo>
                      <a:close/>
                      <a:moveTo>
                        <a:pt x="1500" y="316"/>
                      </a:moveTo>
                      <a:cubicBezTo>
                        <a:pt x="1478" y="386"/>
                        <a:pt x="1452" y="465"/>
                        <a:pt x="1426" y="490"/>
                      </a:cubicBezTo>
                      <a:cubicBezTo>
                        <a:pt x="1394" y="520"/>
                        <a:pt x="1319" y="517"/>
                        <a:pt x="1249" y="519"/>
                      </a:cubicBezTo>
                      <a:cubicBezTo>
                        <a:pt x="1166" y="520"/>
                        <a:pt x="1110" y="515"/>
                        <a:pt x="1072" y="489"/>
                      </a:cubicBezTo>
                      <a:cubicBezTo>
                        <a:pt x="1036" y="465"/>
                        <a:pt x="1016" y="407"/>
                        <a:pt x="990" y="341"/>
                      </a:cubicBezTo>
                      <a:cubicBezTo>
                        <a:pt x="967" y="282"/>
                        <a:pt x="942" y="205"/>
                        <a:pt x="958" y="170"/>
                      </a:cubicBezTo>
                      <a:cubicBezTo>
                        <a:pt x="978" y="123"/>
                        <a:pt x="1136" y="88"/>
                        <a:pt x="1255" y="89"/>
                      </a:cubicBezTo>
                      <a:cubicBezTo>
                        <a:pt x="1374" y="91"/>
                        <a:pt x="1475" y="97"/>
                        <a:pt x="1514" y="132"/>
                      </a:cubicBezTo>
                      <a:cubicBezTo>
                        <a:pt x="1546" y="161"/>
                        <a:pt x="1531" y="219"/>
                        <a:pt x="1500" y="316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accent4"/>
                    </a:solidFill>
                    <a:latin typeface="Calibri"/>
                  </a:endParaRPr>
                </a:p>
              </p:txBody>
            </p:sp>
            <p:sp>
              <p:nvSpPr>
                <p:cNvPr id="173" name="左眼"/>
                <p:cNvSpPr/>
                <p:nvPr/>
              </p:nvSpPr>
              <p:spPr>
                <a:xfrm>
                  <a:off x="1802520" y="2299320"/>
                  <a:ext cx="270720" cy="90000"/>
                </a:xfrm>
                <a:prstGeom prst="roundRect">
                  <a:avLst>
                    <a:gd name="adj" fmla="val 50000"/>
                  </a:avLst>
                </a:prstGeom>
                <a:solidFill>
                  <a:schemeClr val="tx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4" name="Freeform 67"/>
              <p:cNvSpPr/>
              <p:nvPr/>
            </p:nvSpPr>
            <p:spPr>
              <a:xfrm>
                <a:off x="1986840" y="2736720"/>
                <a:ext cx="780480" cy="222120"/>
              </a:xfrm>
              <a:custGeom>
                <a:avLst/>
                <a:gdLst>
                  <a:gd name="textAreaLeft" fmla="*/ 0 w 780480"/>
                  <a:gd name="textAreaRight" fmla="*/ 780840 w 78048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2019" h="574">
                    <a:moveTo>
                      <a:pt x="1263" y="404"/>
                    </a:moveTo>
                    <a:cubicBezTo>
                      <a:pt x="1209" y="412"/>
                      <a:pt x="1299" y="482"/>
                      <a:pt x="1313" y="505"/>
                    </a:cubicBezTo>
                    <a:cubicBezTo>
                      <a:pt x="1199" y="543"/>
                      <a:pt x="1068" y="380"/>
                      <a:pt x="1010" y="278"/>
                    </a:cubicBezTo>
                    <a:cubicBezTo>
                      <a:pt x="911" y="372"/>
                      <a:pt x="849" y="504"/>
                      <a:pt x="682" y="530"/>
                    </a:cubicBezTo>
                    <a:cubicBezTo>
                      <a:pt x="689" y="479"/>
                      <a:pt x="750" y="481"/>
                      <a:pt x="758" y="429"/>
                    </a:cubicBezTo>
                    <a:cubicBezTo>
                      <a:pt x="636" y="451"/>
                      <a:pt x="596" y="554"/>
                      <a:pt x="429" y="530"/>
                    </a:cubicBezTo>
                    <a:cubicBezTo>
                      <a:pt x="437" y="479"/>
                      <a:pt x="498" y="481"/>
                      <a:pt x="505" y="429"/>
                    </a:cubicBezTo>
                    <a:cubicBezTo>
                      <a:pt x="429" y="463"/>
                      <a:pt x="303" y="463"/>
                      <a:pt x="227" y="429"/>
                    </a:cubicBezTo>
                    <a:cubicBezTo>
                      <a:pt x="231" y="400"/>
                      <a:pt x="273" y="408"/>
                      <a:pt x="303" y="404"/>
                    </a:cubicBezTo>
                    <a:cubicBezTo>
                      <a:pt x="183" y="296"/>
                      <a:pt x="11" y="241"/>
                      <a:pt x="0" y="25"/>
                    </a:cubicBezTo>
                    <a:cubicBezTo>
                      <a:pt x="141" y="308"/>
                      <a:pt x="715" y="319"/>
                      <a:pt x="884" y="50"/>
                    </a:cubicBezTo>
                    <a:cubicBezTo>
                      <a:pt x="983" y="39"/>
                      <a:pt x="1015" y="103"/>
                      <a:pt x="1061" y="25"/>
                    </a:cubicBezTo>
                    <a:cubicBezTo>
                      <a:pt x="1248" y="264"/>
                      <a:pt x="1870" y="375"/>
                      <a:pt x="1995" y="0"/>
                    </a:cubicBezTo>
                    <a:cubicBezTo>
                      <a:pt x="2019" y="133"/>
                      <a:pt x="1904" y="346"/>
                      <a:pt x="1717" y="354"/>
                    </a:cubicBezTo>
                    <a:cubicBezTo>
                      <a:pt x="1708" y="396"/>
                      <a:pt x="1737" y="401"/>
                      <a:pt x="1768" y="404"/>
                    </a:cubicBezTo>
                    <a:cubicBezTo>
                      <a:pt x="1743" y="470"/>
                      <a:pt x="1570" y="472"/>
                      <a:pt x="1515" y="429"/>
                    </a:cubicBezTo>
                    <a:cubicBezTo>
                      <a:pt x="1455" y="437"/>
                      <a:pt x="1543" y="498"/>
                      <a:pt x="1566" y="505"/>
                    </a:cubicBezTo>
                    <a:cubicBezTo>
                      <a:pt x="1462" y="574"/>
                      <a:pt x="1319" y="467"/>
                      <a:pt x="1263" y="40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75" name="文本框 26"/>
          <p:cNvSpPr/>
          <p:nvPr/>
        </p:nvSpPr>
        <p:spPr>
          <a:xfrm>
            <a:off x="8634960" y="447480"/>
            <a:ext cx="2400120" cy="38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20000"/>
              </a:lnSpc>
            </a:pPr>
            <a:r>
              <a:rPr b="0" lang="zh-CN" sz="40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扑面而来的小清新伙伴们，今天的主题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6373440" y="5866920"/>
            <a:ext cx="566280" cy="753840"/>
            <a:chOff x="6373440" y="5866920"/>
            <a:chExt cx="566280" cy="753840"/>
          </a:xfrm>
        </p:grpSpPr>
        <p:sp>
          <p:nvSpPr>
            <p:cNvPr id="177" name="Freeform 10"/>
            <p:cNvSpPr/>
            <p:nvPr/>
          </p:nvSpPr>
          <p:spPr>
            <a:xfrm>
              <a:off x="6373440" y="6244920"/>
              <a:ext cx="566280" cy="37584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052" h="701">
                  <a:moveTo>
                    <a:pt x="526" y="0"/>
                  </a:moveTo>
                  <a:cubicBezTo>
                    <a:pt x="235" y="0"/>
                    <a:pt x="0" y="235"/>
                    <a:pt x="0" y="526"/>
                  </a:cubicBezTo>
                  <a:cubicBezTo>
                    <a:pt x="0" y="623"/>
                    <a:pt x="78" y="701"/>
                    <a:pt x="175" y="701"/>
                  </a:cubicBezTo>
                  <a:cubicBezTo>
                    <a:pt x="876" y="701"/>
                    <a:pt x="876" y="701"/>
                    <a:pt x="876" y="701"/>
                  </a:cubicBezTo>
                  <a:cubicBezTo>
                    <a:pt x="973" y="701"/>
                    <a:pt x="1052" y="623"/>
                    <a:pt x="1052" y="526"/>
                  </a:cubicBezTo>
                  <a:cubicBezTo>
                    <a:pt x="1052" y="235"/>
                    <a:pt x="816" y="0"/>
                    <a:pt x="52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Oval 11"/>
            <p:cNvSpPr/>
            <p:nvPr/>
          </p:nvSpPr>
          <p:spPr>
            <a:xfrm>
              <a:off x="6514920" y="5866920"/>
              <a:ext cx="283680" cy="28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组合 23"/>
          <p:cNvGrpSpPr/>
          <p:nvPr/>
        </p:nvGrpSpPr>
        <p:grpSpPr>
          <a:xfrm>
            <a:off x="5160600" y="5870520"/>
            <a:ext cx="566280" cy="750240"/>
            <a:chOff x="5160600" y="5870520"/>
            <a:chExt cx="566280" cy="750240"/>
          </a:xfrm>
        </p:grpSpPr>
        <p:sp>
          <p:nvSpPr>
            <p:cNvPr id="180" name="Freeform 10"/>
            <p:cNvSpPr/>
            <p:nvPr/>
          </p:nvSpPr>
          <p:spPr>
            <a:xfrm>
              <a:off x="5160600" y="6244920"/>
              <a:ext cx="566280" cy="37584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052" h="701">
                  <a:moveTo>
                    <a:pt x="526" y="0"/>
                  </a:moveTo>
                  <a:cubicBezTo>
                    <a:pt x="235" y="0"/>
                    <a:pt x="0" y="235"/>
                    <a:pt x="0" y="526"/>
                  </a:cubicBezTo>
                  <a:cubicBezTo>
                    <a:pt x="0" y="623"/>
                    <a:pt x="78" y="701"/>
                    <a:pt x="175" y="701"/>
                  </a:cubicBezTo>
                  <a:cubicBezTo>
                    <a:pt x="876" y="701"/>
                    <a:pt x="876" y="701"/>
                    <a:pt x="876" y="701"/>
                  </a:cubicBezTo>
                  <a:cubicBezTo>
                    <a:pt x="973" y="701"/>
                    <a:pt x="1052" y="623"/>
                    <a:pt x="1052" y="526"/>
                  </a:cubicBezTo>
                  <a:cubicBezTo>
                    <a:pt x="1052" y="235"/>
                    <a:pt x="816" y="0"/>
                    <a:pt x="52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5"/>
            <p:cNvSpPr/>
            <p:nvPr/>
          </p:nvSpPr>
          <p:spPr>
            <a:xfrm>
              <a:off x="5191920" y="5870520"/>
              <a:ext cx="504000" cy="28224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387" h="1336">
                  <a:moveTo>
                    <a:pt x="2062" y="1004"/>
                  </a:moveTo>
                  <a:cubicBezTo>
                    <a:pt x="2115" y="998"/>
                    <a:pt x="2199" y="802"/>
                    <a:pt x="2281" y="632"/>
                  </a:cubicBezTo>
                  <a:cubicBezTo>
                    <a:pt x="2294" y="604"/>
                    <a:pt x="2317" y="559"/>
                    <a:pt x="2327" y="529"/>
                  </a:cubicBezTo>
                  <a:cubicBezTo>
                    <a:pt x="2387" y="346"/>
                    <a:pt x="2337" y="81"/>
                    <a:pt x="2106" y="58"/>
                  </a:cubicBezTo>
                  <a:cubicBezTo>
                    <a:pt x="1967" y="44"/>
                    <a:pt x="1821" y="118"/>
                    <a:pt x="1718" y="187"/>
                  </a:cubicBezTo>
                  <a:cubicBezTo>
                    <a:pt x="1692" y="204"/>
                    <a:pt x="1656" y="201"/>
                    <a:pt x="1633" y="179"/>
                  </a:cubicBezTo>
                  <a:cubicBezTo>
                    <a:pt x="1514" y="68"/>
                    <a:pt x="1354" y="0"/>
                    <a:pt x="1178" y="0"/>
                  </a:cubicBezTo>
                  <a:cubicBezTo>
                    <a:pt x="1009" y="0"/>
                    <a:pt x="854" y="63"/>
                    <a:pt x="737" y="167"/>
                  </a:cubicBezTo>
                  <a:cubicBezTo>
                    <a:pt x="713" y="187"/>
                    <a:pt x="676" y="191"/>
                    <a:pt x="650" y="174"/>
                  </a:cubicBezTo>
                  <a:cubicBezTo>
                    <a:pt x="549" y="109"/>
                    <a:pt x="412" y="45"/>
                    <a:pt x="281" y="58"/>
                  </a:cubicBezTo>
                  <a:cubicBezTo>
                    <a:pt x="50" y="81"/>
                    <a:pt x="0" y="346"/>
                    <a:pt x="60" y="529"/>
                  </a:cubicBezTo>
                  <a:cubicBezTo>
                    <a:pt x="70" y="559"/>
                    <a:pt x="93" y="604"/>
                    <a:pt x="106" y="632"/>
                  </a:cubicBezTo>
                  <a:cubicBezTo>
                    <a:pt x="188" y="802"/>
                    <a:pt x="272" y="998"/>
                    <a:pt x="326" y="1004"/>
                  </a:cubicBezTo>
                  <a:cubicBezTo>
                    <a:pt x="379" y="1011"/>
                    <a:pt x="208" y="600"/>
                    <a:pt x="331" y="472"/>
                  </a:cubicBezTo>
                  <a:cubicBezTo>
                    <a:pt x="352" y="450"/>
                    <a:pt x="403" y="439"/>
                    <a:pt x="434" y="442"/>
                  </a:cubicBezTo>
                  <a:cubicBezTo>
                    <a:pt x="450" y="443"/>
                    <a:pt x="468" y="446"/>
                    <a:pt x="487" y="450"/>
                  </a:cubicBezTo>
                  <a:cubicBezTo>
                    <a:pt x="517" y="458"/>
                    <a:pt x="533" y="492"/>
                    <a:pt x="526" y="522"/>
                  </a:cubicBezTo>
                  <a:cubicBezTo>
                    <a:pt x="516" y="569"/>
                    <a:pt x="510" y="618"/>
                    <a:pt x="510" y="668"/>
                  </a:cubicBezTo>
                  <a:cubicBezTo>
                    <a:pt x="510" y="1037"/>
                    <a:pt x="809" y="1336"/>
                    <a:pt x="1178" y="1336"/>
                  </a:cubicBezTo>
                  <a:cubicBezTo>
                    <a:pt x="1547" y="1336"/>
                    <a:pt x="1846" y="1037"/>
                    <a:pt x="1846" y="668"/>
                  </a:cubicBezTo>
                  <a:cubicBezTo>
                    <a:pt x="1846" y="623"/>
                    <a:pt x="1841" y="578"/>
                    <a:pt x="1832" y="535"/>
                  </a:cubicBezTo>
                  <a:cubicBezTo>
                    <a:pt x="1826" y="505"/>
                    <a:pt x="1841" y="469"/>
                    <a:pt x="1871" y="459"/>
                  </a:cubicBezTo>
                  <a:cubicBezTo>
                    <a:pt x="1903" y="448"/>
                    <a:pt x="1931" y="443"/>
                    <a:pt x="1953" y="441"/>
                  </a:cubicBezTo>
                  <a:cubicBezTo>
                    <a:pt x="1984" y="439"/>
                    <a:pt x="2035" y="450"/>
                    <a:pt x="2057" y="472"/>
                  </a:cubicBezTo>
                  <a:cubicBezTo>
                    <a:pt x="2180" y="600"/>
                    <a:pt x="2009" y="1011"/>
                    <a:pt x="2062" y="10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56"/>
          <p:cNvGrpSpPr/>
          <p:nvPr/>
        </p:nvGrpSpPr>
        <p:grpSpPr>
          <a:xfrm>
            <a:off x="3948120" y="5870520"/>
            <a:ext cx="566280" cy="750240"/>
            <a:chOff x="3948120" y="5870520"/>
            <a:chExt cx="566280" cy="750240"/>
          </a:xfrm>
        </p:grpSpPr>
        <p:sp>
          <p:nvSpPr>
            <p:cNvPr id="183" name="Freeform 10"/>
            <p:cNvSpPr/>
            <p:nvPr/>
          </p:nvSpPr>
          <p:spPr>
            <a:xfrm>
              <a:off x="3948120" y="6244920"/>
              <a:ext cx="566280" cy="37584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052" h="701">
                  <a:moveTo>
                    <a:pt x="526" y="0"/>
                  </a:moveTo>
                  <a:cubicBezTo>
                    <a:pt x="235" y="0"/>
                    <a:pt x="0" y="235"/>
                    <a:pt x="0" y="526"/>
                  </a:cubicBezTo>
                  <a:cubicBezTo>
                    <a:pt x="0" y="623"/>
                    <a:pt x="78" y="701"/>
                    <a:pt x="175" y="701"/>
                  </a:cubicBezTo>
                  <a:cubicBezTo>
                    <a:pt x="876" y="701"/>
                    <a:pt x="876" y="701"/>
                    <a:pt x="876" y="701"/>
                  </a:cubicBezTo>
                  <a:cubicBezTo>
                    <a:pt x="973" y="701"/>
                    <a:pt x="1052" y="623"/>
                    <a:pt x="1052" y="526"/>
                  </a:cubicBezTo>
                  <a:cubicBezTo>
                    <a:pt x="1052" y="235"/>
                    <a:pt x="816" y="0"/>
                    <a:pt x="52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5"/>
            <p:cNvSpPr/>
            <p:nvPr/>
          </p:nvSpPr>
          <p:spPr>
            <a:xfrm>
              <a:off x="3979080" y="5870520"/>
              <a:ext cx="504000" cy="28224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387" h="1336">
                  <a:moveTo>
                    <a:pt x="2062" y="1004"/>
                  </a:moveTo>
                  <a:cubicBezTo>
                    <a:pt x="2115" y="998"/>
                    <a:pt x="2199" y="802"/>
                    <a:pt x="2281" y="632"/>
                  </a:cubicBezTo>
                  <a:cubicBezTo>
                    <a:pt x="2294" y="604"/>
                    <a:pt x="2317" y="559"/>
                    <a:pt x="2327" y="529"/>
                  </a:cubicBezTo>
                  <a:cubicBezTo>
                    <a:pt x="2387" y="346"/>
                    <a:pt x="2337" y="81"/>
                    <a:pt x="2106" y="58"/>
                  </a:cubicBezTo>
                  <a:cubicBezTo>
                    <a:pt x="1967" y="44"/>
                    <a:pt x="1821" y="118"/>
                    <a:pt x="1718" y="187"/>
                  </a:cubicBezTo>
                  <a:cubicBezTo>
                    <a:pt x="1692" y="204"/>
                    <a:pt x="1656" y="201"/>
                    <a:pt x="1633" y="179"/>
                  </a:cubicBezTo>
                  <a:cubicBezTo>
                    <a:pt x="1514" y="68"/>
                    <a:pt x="1354" y="0"/>
                    <a:pt x="1178" y="0"/>
                  </a:cubicBezTo>
                  <a:cubicBezTo>
                    <a:pt x="1009" y="0"/>
                    <a:pt x="854" y="63"/>
                    <a:pt x="737" y="167"/>
                  </a:cubicBezTo>
                  <a:cubicBezTo>
                    <a:pt x="713" y="187"/>
                    <a:pt x="676" y="191"/>
                    <a:pt x="650" y="174"/>
                  </a:cubicBezTo>
                  <a:cubicBezTo>
                    <a:pt x="549" y="109"/>
                    <a:pt x="412" y="45"/>
                    <a:pt x="281" y="58"/>
                  </a:cubicBezTo>
                  <a:cubicBezTo>
                    <a:pt x="50" y="81"/>
                    <a:pt x="0" y="346"/>
                    <a:pt x="60" y="529"/>
                  </a:cubicBezTo>
                  <a:cubicBezTo>
                    <a:pt x="70" y="559"/>
                    <a:pt x="93" y="604"/>
                    <a:pt x="106" y="632"/>
                  </a:cubicBezTo>
                  <a:cubicBezTo>
                    <a:pt x="188" y="802"/>
                    <a:pt x="272" y="998"/>
                    <a:pt x="326" y="1004"/>
                  </a:cubicBezTo>
                  <a:cubicBezTo>
                    <a:pt x="379" y="1011"/>
                    <a:pt x="208" y="600"/>
                    <a:pt x="331" y="472"/>
                  </a:cubicBezTo>
                  <a:cubicBezTo>
                    <a:pt x="352" y="450"/>
                    <a:pt x="403" y="439"/>
                    <a:pt x="434" y="442"/>
                  </a:cubicBezTo>
                  <a:cubicBezTo>
                    <a:pt x="450" y="443"/>
                    <a:pt x="468" y="446"/>
                    <a:pt x="487" y="450"/>
                  </a:cubicBezTo>
                  <a:cubicBezTo>
                    <a:pt x="517" y="458"/>
                    <a:pt x="533" y="492"/>
                    <a:pt x="526" y="522"/>
                  </a:cubicBezTo>
                  <a:cubicBezTo>
                    <a:pt x="516" y="569"/>
                    <a:pt x="510" y="618"/>
                    <a:pt x="510" y="668"/>
                  </a:cubicBezTo>
                  <a:cubicBezTo>
                    <a:pt x="510" y="1037"/>
                    <a:pt x="809" y="1336"/>
                    <a:pt x="1178" y="1336"/>
                  </a:cubicBezTo>
                  <a:cubicBezTo>
                    <a:pt x="1547" y="1336"/>
                    <a:pt x="1846" y="1037"/>
                    <a:pt x="1846" y="668"/>
                  </a:cubicBezTo>
                  <a:cubicBezTo>
                    <a:pt x="1846" y="623"/>
                    <a:pt x="1841" y="578"/>
                    <a:pt x="1832" y="535"/>
                  </a:cubicBezTo>
                  <a:cubicBezTo>
                    <a:pt x="1826" y="505"/>
                    <a:pt x="1841" y="469"/>
                    <a:pt x="1871" y="459"/>
                  </a:cubicBezTo>
                  <a:cubicBezTo>
                    <a:pt x="1903" y="448"/>
                    <a:pt x="1931" y="443"/>
                    <a:pt x="1953" y="441"/>
                  </a:cubicBezTo>
                  <a:cubicBezTo>
                    <a:pt x="1984" y="439"/>
                    <a:pt x="2035" y="450"/>
                    <a:pt x="2057" y="472"/>
                  </a:cubicBezTo>
                  <a:cubicBezTo>
                    <a:pt x="2180" y="600"/>
                    <a:pt x="2009" y="1011"/>
                    <a:pt x="2062" y="10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9"/>
          <p:cNvGrpSpPr/>
          <p:nvPr/>
        </p:nvGrpSpPr>
        <p:grpSpPr>
          <a:xfrm>
            <a:off x="7586280" y="5868000"/>
            <a:ext cx="566280" cy="753480"/>
            <a:chOff x="7586280" y="5868000"/>
            <a:chExt cx="566280" cy="753480"/>
          </a:xfrm>
        </p:grpSpPr>
        <p:sp>
          <p:nvSpPr>
            <p:cNvPr id="186" name="Freeform 10"/>
            <p:cNvSpPr/>
            <p:nvPr/>
          </p:nvSpPr>
          <p:spPr>
            <a:xfrm>
              <a:off x="7586280" y="6245640"/>
              <a:ext cx="566280" cy="37584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052" h="701">
                  <a:moveTo>
                    <a:pt x="526" y="0"/>
                  </a:moveTo>
                  <a:cubicBezTo>
                    <a:pt x="235" y="0"/>
                    <a:pt x="0" y="235"/>
                    <a:pt x="0" y="526"/>
                  </a:cubicBezTo>
                  <a:cubicBezTo>
                    <a:pt x="0" y="623"/>
                    <a:pt x="78" y="701"/>
                    <a:pt x="175" y="701"/>
                  </a:cubicBezTo>
                  <a:cubicBezTo>
                    <a:pt x="876" y="701"/>
                    <a:pt x="876" y="701"/>
                    <a:pt x="876" y="701"/>
                  </a:cubicBezTo>
                  <a:cubicBezTo>
                    <a:pt x="973" y="701"/>
                    <a:pt x="1052" y="623"/>
                    <a:pt x="1052" y="526"/>
                  </a:cubicBezTo>
                  <a:cubicBezTo>
                    <a:pt x="1052" y="235"/>
                    <a:pt x="816" y="0"/>
                    <a:pt x="52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Oval 11"/>
            <p:cNvSpPr/>
            <p:nvPr/>
          </p:nvSpPr>
          <p:spPr>
            <a:xfrm>
              <a:off x="7727400" y="5868000"/>
              <a:ext cx="283680" cy="28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组合 28"/>
          <p:cNvGrpSpPr/>
          <p:nvPr/>
        </p:nvGrpSpPr>
        <p:grpSpPr>
          <a:xfrm>
            <a:off x="3024000" y="4506480"/>
            <a:ext cx="1476000" cy="1348200"/>
            <a:chOff x="3024000" y="4506480"/>
            <a:chExt cx="1476000" cy="1348200"/>
          </a:xfrm>
        </p:grpSpPr>
        <p:sp>
          <p:nvSpPr>
            <p:cNvPr id="189" name="椭圆形标注 64"/>
            <p:cNvSpPr/>
            <p:nvPr/>
          </p:nvSpPr>
          <p:spPr>
            <a:xfrm flipH="1" rot="20443800">
              <a:off x="3155760" y="4678200"/>
              <a:ext cx="1212480" cy="100404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chemeClr val="accent3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0" name="文本框 27"/>
            <p:cNvSpPr/>
            <p:nvPr/>
          </p:nvSpPr>
          <p:spPr>
            <a:xfrm rot="19869000">
              <a:off x="3462840" y="4853880"/>
              <a:ext cx="5673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00" strike="noStrike">
                  <a:solidFill>
                    <a:srgbClr val="000000"/>
                  </a:solidFill>
                  <a:latin typeface="造字工房悦黑（非商用）常规体"/>
                  <a:ea typeface="造字工房悦黑（非商用）常规体"/>
                </a:rPr>
                <a:t>大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800" spc="-100" strike="noStrike">
                  <a:solidFill>
                    <a:srgbClr val="000000"/>
                  </a:solidFill>
                  <a:latin typeface="造字工房悦黑（非商用）常规体"/>
                  <a:ea typeface="造字工房悦黑（非商用）常规体"/>
                </a:rPr>
                <a:t>切克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30"/>
          <p:cNvGrpSpPr/>
          <p:nvPr/>
        </p:nvGrpSpPr>
        <p:grpSpPr>
          <a:xfrm>
            <a:off x="5740920" y="4415760"/>
            <a:ext cx="1488240" cy="1275120"/>
            <a:chOff x="5740920" y="4415760"/>
            <a:chExt cx="1488240" cy="1275120"/>
          </a:xfrm>
        </p:grpSpPr>
        <p:sp>
          <p:nvSpPr>
            <p:cNvPr id="192" name="椭圆形标注 69"/>
            <p:cNvSpPr/>
            <p:nvPr/>
          </p:nvSpPr>
          <p:spPr>
            <a:xfrm rot="331800">
              <a:off x="5792760" y="4479480"/>
              <a:ext cx="1384200" cy="114696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chemeClr val="accent3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文本框 70"/>
            <p:cNvSpPr/>
            <p:nvPr/>
          </p:nvSpPr>
          <p:spPr>
            <a:xfrm>
              <a:off x="6130800" y="4684320"/>
              <a:ext cx="7045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00" strike="noStrike">
                  <a:solidFill>
                    <a:srgbClr val="000000"/>
                  </a:solidFill>
                  <a:latin typeface="造字工房悦黑（非商用）常规体"/>
                  <a:ea typeface="造字工房悦黑（非商用）常规体"/>
                </a:rPr>
                <a:t>我爸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400" spc="-100" strike="noStrike">
                  <a:solidFill>
                    <a:srgbClr val="000000"/>
                  </a:solidFill>
                  <a:latin typeface="造字工房悦黑（非商用）常规体"/>
                  <a:ea typeface="造字工房悦黑（非商用）常规体"/>
                </a:rPr>
                <a:t>李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31"/>
          <p:cNvGrpSpPr/>
          <p:nvPr/>
        </p:nvGrpSpPr>
        <p:grpSpPr>
          <a:xfrm>
            <a:off x="7855560" y="4698720"/>
            <a:ext cx="1260000" cy="1158840"/>
            <a:chOff x="7855560" y="4698720"/>
            <a:chExt cx="1260000" cy="1158840"/>
          </a:xfrm>
        </p:grpSpPr>
        <p:sp>
          <p:nvSpPr>
            <p:cNvPr id="195" name="椭圆形标注 24"/>
            <p:cNvSpPr/>
            <p:nvPr/>
          </p:nvSpPr>
          <p:spPr>
            <a:xfrm rot="1258800">
              <a:off x="7973280" y="4853880"/>
              <a:ext cx="1024200" cy="84852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chemeClr val="accent3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6" name="文本框 71"/>
            <p:cNvSpPr/>
            <p:nvPr/>
          </p:nvSpPr>
          <p:spPr>
            <a:xfrm rot="19800">
              <a:off x="8233560" y="4973760"/>
              <a:ext cx="4428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00" strike="noStrike">
                  <a:solidFill>
                    <a:srgbClr val="000000"/>
                  </a:solidFill>
                  <a:latin typeface="造字工房悦黑（非商用）常规体"/>
                  <a:ea typeface="造字工房悦黑（非商用）常规体"/>
                </a:rPr>
                <a:t>大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800" spc="-100" strike="noStrike">
                  <a:solidFill>
                    <a:srgbClr val="000000"/>
                  </a:solidFill>
                  <a:latin typeface="造字工房悦黑（非商用）常规体"/>
                  <a:ea typeface="造字工房悦黑（非商用）常规体"/>
                </a:rPr>
                <a:t>加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9"/>
          <p:cNvGrpSpPr/>
          <p:nvPr/>
        </p:nvGrpSpPr>
        <p:grpSpPr>
          <a:xfrm>
            <a:off x="4563000" y="6009120"/>
            <a:ext cx="566280" cy="753840"/>
            <a:chOff x="4563000" y="6009120"/>
            <a:chExt cx="566280" cy="753840"/>
          </a:xfrm>
        </p:grpSpPr>
        <p:sp>
          <p:nvSpPr>
            <p:cNvPr id="198" name="Freeform 10"/>
            <p:cNvSpPr/>
            <p:nvPr/>
          </p:nvSpPr>
          <p:spPr>
            <a:xfrm>
              <a:off x="4563000" y="6387120"/>
              <a:ext cx="566280" cy="37584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052" h="701">
                  <a:moveTo>
                    <a:pt x="526" y="0"/>
                  </a:moveTo>
                  <a:cubicBezTo>
                    <a:pt x="235" y="0"/>
                    <a:pt x="0" y="235"/>
                    <a:pt x="0" y="526"/>
                  </a:cubicBezTo>
                  <a:cubicBezTo>
                    <a:pt x="0" y="623"/>
                    <a:pt x="78" y="701"/>
                    <a:pt x="175" y="701"/>
                  </a:cubicBezTo>
                  <a:cubicBezTo>
                    <a:pt x="876" y="701"/>
                    <a:pt x="876" y="701"/>
                    <a:pt x="876" y="701"/>
                  </a:cubicBezTo>
                  <a:cubicBezTo>
                    <a:pt x="973" y="701"/>
                    <a:pt x="1052" y="623"/>
                    <a:pt x="1052" y="526"/>
                  </a:cubicBezTo>
                  <a:cubicBezTo>
                    <a:pt x="1052" y="235"/>
                    <a:pt x="816" y="0"/>
                    <a:pt x="52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Oval 11"/>
            <p:cNvSpPr/>
            <p:nvPr/>
          </p:nvSpPr>
          <p:spPr>
            <a:xfrm>
              <a:off x="4704120" y="6009120"/>
              <a:ext cx="283680" cy="28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Group 9"/>
          <p:cNvGrpSpPr/>
          <p:nvPr/>
        </p:nvGrpSpPr>
        <p:grpSpPr>
          <a:xfrm>
            <a:off x="5791320" y="6009840"/>
            <a:ext cx="566280" cy="753840"/>
            <a:chOff x="5791320" y="6009840"/>
            <a:chExt cx="566280" cy="753840"/>
          </a:xfrm>
        </p:grpSpPr>
        <p:sp>
          <p:nvSpPr>
            <p:cNvPr id="201" name="Freeform 10"/>
            <p:cNvSpPr/>
            <p:nvPr/>
          </p:nvSpPr>
          <p:spPr>
            <a:xfrm>
              <a:off x="5791320" y="6387840"/>
              <a:ext cx="566280" cy="37584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052" h="701">
                  <a:moveTo>
                    <a:pt x="526" y="0"/>
                  </a:moveTo>
                  <a:cubicBezTo>
                    <a:pt x="235" y="0"/>
                    <a:pt x="0" y="235"/>
                    <a:pt x="0" y="526"/>
                  </a:cubicBezTo>
                  <a:cubicBezTo>
                    <a:pt x="0" y="623"/>
                    <a:pt x="78" y="701"/>
                    <a:pt x="175" y="701"/>
                  </a:cubicBezTo>
                  <a:cubicBezTo>
                    <a:pt x="876" y="701"/>
                    <a:pt x="876" y="701"/>
                    <a:pt x="876" y="701"/>
                  </a:cubicBezTo>
                  <a:cubicBezTo>
                    <a:pt x="973" y="701"/>
                    <a:pt x="1052" y="623"/>
                    <a:pt x="1052" y="526"/>
                  </a:cubicBezTo>
                  <a:cubicBezTo>
                    <a:pt x="1052" y="235"/>
                    <a:pt x="816" y="0"/>
                    <a:pt x="52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5932440" y="6009840"/>
              <a:ext cx="283680" cy="28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9"/>
          <p:cNvGrpSpPr/>
          <p:nvPr/>
        </p:nvGrpSpPr>
        <p:grpSpPr>
          <a:xfrm>
            <a:off x="3295080" y="6009840"/>
            <a:ext cx="566280" cy="753840"/>
            <a:chOff x="3295080" y="6009840"/>
            <a:chExt cx="566280" cy="753840"/>
          </a:xfrm>
        </p:grpSpPr>
        <p:sp>
          <p:nvSpPr>
            <p:cNvPr id="204" name="Freeform 10"/>
            <p:cNvSpPr/>
            <p:nvPr/>
          </p:nvSpPr>
          <p:spPr>
            <a:xfrm>
              <a:off x="3295080" y="6387840"/>
              <a:ext cx="566280" cy="37584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052" h="701">
                  <a:moveTo>
                    <a:pt x="526" y="0"/>
                  </a:moveTo>
                  <a:cubicBezTo>
                    <a:pt x="235" y="0"/>
                    <a:pt x="0" y="235"/>
                    <a:pt x="0" y="526"/>
                  </a:cubicBezTo>
                  <a:cubicBezTo>
                    <a:pt x="0" y="623"/>
                    <a:pt x="78" y="701"/>
                    <a:pt x="175" y="701"/>
                  </a:cubicBezTo>
                  <a:cubicBezTo>
                    <a:pt x="876" y="701"/>
                    <a:pt x="876" y="701"/>
                    <a:pt x="876" y="701"/>
                  </a:cubicBezTo>
                  <a:cubicBezTo>
                    <a:pt x="973" y="701"/>
                    <a:pt x="1052" y="623"/>
                    <a:pt x="1052" y="526"/>
                  </a:cubicBezTo>
                  <a:cubicBezTo>
                    <a:pt x="1052" y="235"/>
                    <a:pt x="816" y="0"/>
                    <a:pt x="52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Oval 11"/>
            <p:cNvSpPr/>
            <p:nvPr/>
          </p:nvSpPr>
          <p:spPr>
            <a:xfrm>
              <a:off x="3436200" y="6009840"/>
              <a:ext cx="283680" cy="28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组合 89"/>
          <p:cNvGrpSpPr/>
          <p:nvPr/>
        </p:nvGrpSpPr>
        <p:grpSpPr>
          <a:xfrm>
            <a:off x="6968520" y="6008400"/>
            <a:ext cx="566280" cy="750240"/>
            <a:chOff x="6968520" y="6008400"/>
            <a:chExt cx="566280" cy="750240"/>
          </a:xfrm>
        </p:grpSpPr>
        <p:sp>
          <p:nvSpPr>
            <p:cNvPr id="207" name="Freeform 10"/>
            <p:cNvSpPr/>
            <p:nvPr/>
          </p:nvSpPr>
          <p:spPr>
            <a:xfrm>
              <a:off x="6968520" y="6382800"/>
              <a:ext cx="566280" cy="37584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052" h="701">
                  <a:moveTo>
                    <a:pt x="526" y="0"/>
                  </a:moveTo>
                  <a:cubicBezTo>
                    <a:pt x="235" y="0"/>
                    <a:pt x="0" y="235"/>
                    <a:pt x="0" y="526"/>
                  </a:cubicBezTo>
                  <a:cubicBezTo>
                    <a:pt x="0" y="623"/>
                    <a:pt x="78" y="701"/>
                    <a:pt x="175" y="701"/>
                  </a:cubicBezTo>
                  <a:cubicBezTo>
                    <a:pt x="876" y="701"/>
                    <a:pt x="876" y="701"/>
                    <a:pt x="876" y="701"/>
                  </a:cubicBezTo>
                  <a:cubicBezTo>
                    <a:pt x="973" y="701"/>
                    <a:pt x="1052" y="623"/>
                    <a:pt x="1052" y="526"/>
                  </a:cubicBezTo>
                  <a:cubicBezTo>
                    <a:pt x="1052" y="235"/>
                    <a:pt x="816" y="0"/>
                    <a:pt x="52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5"/>
            <p:cNvSpPr/>
            <p:nvPr/>
          </p:nvSpPr>
          <p:spPr>
            <a:xfrm>
              <a:off x="6999840" y="6008400"/>
              <a:ext cx="504000" cy="28224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387" h="1336">
                  <a:moveTo>
                    <a:pt x="2062" y="1004"/>
                  </a:moveTo>
                  <a:cubicBezTo>
                    <a:pt x="2115" y="998"/>
                    <a:pt x="2199" y="802"/>
                    <a:pt x="2281" y="632"/>
                  </a:cubicBezTo>
                  <a:cubicBezTo>
                    <a:pt x="2294" y="604"/>
                    <a:pt x="2317" y="559"/>
                    <a:pt x="2327" y="529"/>
                  </a:cubicBezTo>
                  <a:cubicBezTo>
                    <a:pt x="2387" y="346"/>
                    <a:pt x="2337" y="81"/>
                    <a:pt x="2106" y="58"/>
                  </a:cubicBezTo>
                  <a:cubicBezTo>
                    <a:pt x="1967" y="44"/>
                    <a:pt x="1821" y="118"/>
                    <a:pt x="1718" y="187"/>
                  </a:cubicBezTo>
                  <a:cubicBezTo>
                    <a:pt x="1692" y="204"/>
                    <a:pt x="1656" y="201"/>
                    <a:pt x="1633" y="179"/>
                  </a:cubicBezTo>
                  <a:cubicBezTo>
                    <a:pt x="1514" y="68"/>
                    <a:pt x="1354" y="0"/>
                    <a:pt x="1178" y="0"/>
                  </a:cubicBezTo>
                  <a:cubicBezTo>
                    <a:pt x="1009" y="0"/>
                    <a:pt x="854" y="63"/>
                    <a:pt x="737" y="167"/>
                  </a:cubicBezTo>
                  <a:cubicBezTo>
                    <a:pt x="713" y="187"/>
                    <a:pt x="676" y="191"/>
                    <a:pt x="650" y="174"/>
                  </a:cubicBezTo>
                  <a:cubicBezTo>
                    <a:pt x="549" y="109"/>
                    <a:pt x="412" y="45"/>
                    <a:pt x="281" y="58"/>
                  </a:cubicBezTo>
                  <a:cubicBezTo>
                    <a:pt x="50" y="81"/>
                    <a:pt x="0" y="346"/>
                    <a:pt x="60" y="529"/>
                  </a:cubicBezTo>
                  <a:cubicBezTo>
                    <a:pt x="70" y="559"/>
                    <a:pt x="93" y="604"/>
                    <a:pt x="106" y="632"/>
                  </a:cubicBezTo>
                  <a:cubicBezTo>
                    <a:pt x="188" y="802"/>
                    <a:pt x="272" y="998"/>
                    <a:pt x="326" y="1004"/>
                  </a:cubicBezTo>
                  <a:cubicBezTo>
                    <a:pt x="379" y="1011"/>
                    <a:pt x="208" y="600"/>
                    <a:pt x="331" y="472"/>
                  </a:cubicBezTo>
                  <a:cubicBezTo>
                    <a:pt x="352" y="450"/>
                    <a:pt x="403" y="439"/>
                    <a:pt x="434" y="442"/>
                  </a:cubicBezTo>
                  <a:cubicBezTo>
                    <a:pt x="450" y="443"/>
                    <a:pt x="468" y="446"/>
                    <a:pt x="487" y="450"/>
                  </a:cubicBezTo>
                  <a:cubicBezTo>
                    <a:pt x="517" y="458"/>
                    <a:pt x="533" y="492"/>
                    <a:pt x="526" y="522"/>
                  </a:cubicBezTo>
                  <a:cubicBezTo>
                    <a:pt x="516" y="569"/>
                    <a:pt x="510" y="618"/>
                    <a:pt x="510" y="668"/>
                  </a:cubicBezTo>
                  <a:cubicBezTo>
                    <a:pt x="510" y="1037"/>
                    <a:pt x="809" y="1336"/>
                    <a:pt x="1178" y="1336"/>
                  </a:cubicBezTo>
                  <a:cubicBezTo>
                    <a:pt x="1547" y="1336"/>
                    <a:pt x="1846" y="1037"/>
                    <a:pt x="1846" y="668"/>
                  </a:cubicBezTo>
                  <a:cubicBezTo>
                    <a:pt x="1846" y="623"/>
                    <a:pt x="1841" y="578"/>
                    <a:pt x="1832" y="535"/>
                  </a:cubicBezTo>
                  <a:cubicBezTo>
                    <a:pt x="1826" y="505"/>
                    <a:pt x="1841" y="469"/>
                    <a:pt x="1871" y="459"/>
                  </a:cubicBezTo>
                  <a:cubicBezTo>
                    <a:pt x="1903" y="448"/>
                    <a:pt x="1931" y="443"/>
                    <a:pt x="1953" y="441"/>
                  </a:cubicBezTo>
                  <a:cubicBezTo>
                    <a:pt x="1984" y="439"/>
                    <a:pt x="2035" y="450"/>
                    <a:pt x="2057" y="472"/>
                  </a:cubicBezTo>
                  <a:cubicBezTo>
                    <a:pt x="2180" y="600"/>
                    <a:pt x="2009" y="1011"/>
                    <a:pt x="2062" y="10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组合 92"/>
          <p:cNvGrpSpPr/>
          <p:nvPr/>
        </p:nvGrpSpPr>
        <p:grpSpPr>
          <a:xfrm>
            <a:off x="8266680" y="6013800"/>
            <a:ext cx="566280" cy="750240"/>
            <a:chOff x="8266680" y="6013800"/>
            <a:chExt cx="566280" cy="750240"/>
          </a:xfrm>
        </p:grpSpPr>
        <p:sp>
          <p:nvSpPr>
            <p:cNvPr id="210" name="Freeform 10"/>
            <p:cNvSpPr/>
            <p:nvPr/>
          </p:nvSpPr>
          <p:spPr>
            <a:xfrm>
              <a:off x="8266680" y="6388200"/>
              <a:ext cx="566280" cy="375840"/>
            </a:xfrm>
            <a:custGeom>
              <a:avLst/>
              <a:gdLst>
                <a:gd name="textAreaLeft" fmla="*/ 0 w 566280"/>
                <a:gd name="textAreaRight" fmla="*/ 566640 w 56628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052" h="701">
                  <a:moveTo>
                    <a:pt x="526" y="0"/>
                  </a:moveTo>
                  <a:cubicBezTo>
                    <a:pt x="235" y="0"/>
                    <a:pt x="0" y="235"/>
                    <a:pt x="0" y="526"/>
                  </a:cubicBezTo>
                  <a:cubicBezTo>
                    <a:pt x="0" y="623"/>
                    <a:pt x="78" y="701"/>
                    <a:pt x="175" y="701"/>
                  </a:cubicBezTo>
                  <a:cubicBezTo>
                    <a:pt x="876" y="701"/>
                    <a:pt x="876" y="701"/>
                    <a:pt x="876" y="701"/>
                  </a:cubicBezTo>
                  <a:cubicBezTo>
                    <a:pt x="973" y="701"/>
                    <a:pt x="1052" y="623"/>
                    <a:pt x="1052" y="526"/>
                  </a:cubicBezTo>
                  <a:cubicBezTo>
                    <a:pt x="1052" y="235"/>
                    <a:pt x="816" y="0"/>
                    <a:pt x="52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8298000" y="6013800"/>
              <a:ext cx="504000" cy="28224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387" h="1336">
                  <a:moveTo>
                    <a:pt x="2062" y="1004"/>
                  </a:moveTo>
                  <a:cubicBezTo>
                    <a:pt x="2115" y="998"/>
                    <a:pt x="2199" y="802"/>
                    <a:pt x="2281" y="632"/>
                  </a:cubicBezTo>
                  <a:cubicBezTo>
                    <a:pt x="2294" y="604"/>
                    <a:pt x="2317" y="559"/>
                    <a:pt x="2327" y="529"/>
                  </a:cubicBezTo>
                  <a:cubicBezTo>
                    <a:pt x="2387" y="346"/>
                    <a:pt x="2337" y="81"/>
                    <a:pt x="2106" y="58"/>
                  </a:cubicBezTo>
                  <a:cubicBezTo>
                    <a:pt x="1967" y="44"/>
                    <a:pt x="1821" y="118"/>
                    <a:pt x="1718" y="187"/>
                  </a:cubicBezTo>
                  <a:cubicBezTo>
                    <a:pt x="1692" y="204"/>
                    <a:pt x="1656" y="201"/>
                    <a:pt x="1633" y="179"/>
                  </a:cubicBezTo>
                  <a:cubicBezTo>
                    <a:pt x="1514" y="68"/>
                    <a:pt x="1354" y="0"/>
                    <a:pt x="1178" y="0"/>
                  </a:cubicBezTo>
                  <a:cubicBezTo>
                    <a:pt x="1009" y="0"/>
                    <a:pt x="854" y="63"/>
                    <a:pt x="737" y="167"/>
                  </a:cubicBezTo>
                  <a:cubicBezTo>
                    <a:pt x="713" y="187"/>
                    <a:pt x="676" y="191"/>
                    <a:pt x="650" y="174"/>
                  </a:cubicBezTo>
                  <a:cubicBezTo>
                    <a:pt x="549" y="109"/>
                    <a:pt x="412" y="45"/>
                    <a:pt x="281" y="58"/>
                  </a:cubicBezTo>
                  <a:cubicBezTo>
                    <a:pt x="50" y="81"/>
                    <a:pt x="0" y="346"/>
                    <a:pt x="60" y="529"/>
                  </a:cubicBezTo>
                  <a:cubicBezTo>
                    <a:pt x="70" y="559"/>
                    <a:pt x="93" y="604"/>
                    <a:pt x="106" y="632"/>
                  </a:cubicBezTo>
                  <a:cubicBezTo>
                    <a:pt x="188" y="802"/>
                    <a:pt x="272" y="998"/>
                    <a:pt x="326" y="1004"/>
                  </a:cubicBezTo>
                  <a:cubicBezTo>
                    <a:pt x="379" y="1011"/>
                    <a:pt x="208" y="600"/>
                    <a:pt x="331" y="472"/>
                  </a:cubicBezTo>
                  <a:cubicBezTo>
                    <a:pt x="352" y="450"/>
                    <a:pt x="403" y="439"/>
                    <a:pt x="434" y="442"/>
                  </a:cubicBezTo>
                  <a:cubicBezTo>
                    <a:pt x="450" y="443"/>
                    <a:pt x="468" y="446"/>
                    <a:pt x="487" y="450"/>
                  </a:cubicBezTo>
                  <a:cubicBezTo>
                    <a:pt x="517" y="458"/>
                    <a:pt x="533" y="492"/>
                    <a:pt x="526" y="522"/>
                  </a:cubicBezTo>
                  <a:cubicBezTo>
                    <a:pt x="516" y="569"/>
                    <a:pt x="510" y="618"/>
                    <a:pt x="510" y="668"/>
                  </a:cubicBezTo>
                  <a:cubicBezTo>
                    <a:pt x="510" y="1037"/>
                    <a:pt x="809" y="1336"/>
                    <a:pt x="1178" y="1336"/>
                  </a:cubicBezTo>
                  <a:cubicBezTo>
                    <a:pt x="1547" y="1336"/>
                    <a:pt x="1846" y="1037"/>
                    <a:pt x="1846" y="668"/>
                  </a:cubicBezTo>
                  <a:cubicBezTo>
                    <a:pt x="1846" y="623"/>
                    <a:pt x="1841" y="578"/>
                    <a:pt x="1832" y="535"/>
                  </a:cubicBezTo>
                  <a:cubicBezTo>
                    <a:pt x="1826" y="505"/>
                    <a:pt x="1841" y="469"/>
                    <a:pt x="1871" y="459"/>
                  </a:cubicBezTo>
                  <a:cubicBezTo>
                    <a:pt x="1903" y="448"/>
                    <a:pt x="1931" y="443"/>
                    <a:pt x="1953" y="441"/>
                  </a:cubicBezTo>
                  <a:cubicBezTo>
                    <a:pt x="1984" y="439"/>
                    <a:pt x="2035" y="450"/>
                    <a:pt x="2057" y="472"/>
                  </a:cubicBezTo>
                  <a:cubicBezTo>
                    <a:pt x="2180" y="600"/>
                    <a:pt x="2009" y="1011"/>
                    <a:pt x="2062" y="100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组合 19"/>
          <p:cNvGrpSpPr/>
          <p:nvPr/>
        </p:nvGrpSpPr>
        <p:grpSpPr>
          <a:xfrm>
            <a:off x="3188160" y="2734920"/>
            <a:ext cx="510480" cy="890280"/>
            <a:chOff x="3188160" y="2734920"/>
            <a:chExt cx="510480" cy="890280"/>
          </a:xfrm>
        </p:grpSpPr>
        <p:cxnSp>
          <p:nvCxnSpPr>
            <p:cNvPr id="213" name="直接连接符 95"/>
            <p:cNvCxnSpPr/>
            <p:nvPr/>
          </p:nvCxnSpPr>
          <p:spPr>
            <a:xfrm flipV="1">
              <a:off x="3188160" y="2778840"/>
              <a:ext cx="462960" cy="846720"/>
            </a:xfrm>
            <a:prstGeom prst="straightConnector1">
              <a:avLst/>
            </a:prstGeom>
            <a:ln w="38100">
              <a:solidFill>
                <a:srgbClr val="000000"/>
              </a:solidFill>
            </a:ln>
          </p:spPr>
        </p:cxnSp>
        <p:sp>
          <p:nvSpPr>
            <p:cNvPr id="214" name="椭圆 96"/>
            <p:cNvSpPr/>
            <p:nvPr/>
          </p:nvSpPr>
          <p:spPr>
            <a:xfrm>
              <a:off x="3610800" y="2734920"/>
              <a:ext cx="87840" cy="878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5" name="组合 20"/>
          <p:cNvGrpSpPr/>
          <p:nvPr/>
        </p:nvGrpSpPr>
        <p:grpSpPr>
          <a:xfrm>
            <a:off x="3981960" y="1262160"/>
            <a:ext cx="4227840" cy="2670120"/>
            <a:chOff x="3981960" y="1262160"/>
            <a:chExt cx="4227840" cy="2670120"/>
          </a:xfrm>
        </p:grpSpPr>
        <p:sp>
          <p:nvSpPr>
            <p:cNvPr id="216" name="矩形 13"/>
            <p:cNvSpPr/>
            <p:nvPr/>
          </p:nvSpPr>
          <p:spPr>
            <a:xfrm>
              <a:off x="3981960" y="1415880"/>
              <a:ext cx="4227840" cy="2390400"/>
            </a:xfrm>
            <a:prstGeom prst="rect">
              <a:avLst/>
            </a:prstGeom>
            <a:noFill/>
            <a:ln>
              <a:solidFill>
                <a:srgbClr val="50cedd">
                  <a:lumMod val="20000"/>
                  <a:lumOff val="8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17" name="组合 97"/>
            <p:cNvGrpSpPr/>
            <p:nvPr/>
          </p:nvGrpSpPr>
          <p:grpSpPr>
            <a:xfrm>
              <a:off x="4898520" y="1262160"/>
              <a:ext cx="2341080" cy="2670120"/>
              <a:chOff x="4898520" y="1262160"/>
              <a:chExt cx="2341080" cy="2670120"/>
            </a:xfrm>
          </p:grpSpPr>
          <p:sp>
            <p:nvSpPr>
              <p:cNvPr id="218" name="3"/>
              <p:cNvSpPr/>
              <p:nvPr/>
            </p:nvSpPr>
            <p:spPr>
              <a:xfrm>
                <a:off x="4955400" y="1319400"/>
                <a:ext cx="2284200" cy="26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20000"/>
                  </a:lnSpc>
                </a:pPr>
                <a:r>
                  <a:rPr b="0" lang="zh-CN" sz="138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背景</a:t>
                </a:r>
                <a:endParaRPr b="0" lang="en-US" sz="1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2"/>
              <p:cNvSpPr/>
              <p:nvPr/>
            </p:nvSpPr>
            <p:spPr>
              <a:xfrm>
                <a:off x="4936320" y="1300320"/>
                <a:ext cx="2284200" cy="26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20000"/>
                  </a:lnSpc>
                </a:pPr>
                <a:r>
                  <a:rPr b="0" lang="zh-CN" sz="13800" spc="-1" strike="noStrike">
                    <a:solidFill>
                      <a:schemeClr val="accent1"/>
                    </a:solidFill>
                    <a:latin typeface="方正正大黑简体"/>
                    <a:ea typeface="方正正大黑简体"/>
                  </a:rPr>
                  <a:t>背景</a:t>
                </a:r>
                <a:endParaRPr b="0" lang="en-US" sz="1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1"/>
              <p:cNvSpPr/>
              <p:nvPr/>
            </p:nvSpPr>
            <p:spPr>
              <a:xfrm>
                <a:off x="4898520" y="1262160"/>
                <a:ext cx="2284200" cy="26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20000"/>
                  </a:lnSpc>
                </a:pPr>
                <a:r>
                  <a:rPr b="0" lang="zh-CN" sz="13800" spc="-1" strike="noStrike">
                    <a:solidFill>
                      <a:srgbClr val="000000"/>
                    </a:solidFill>
                    <a:latin typeface="方正正大黑简体"/>
                    <a:ea typeface="方正正大黑简体"/>
                  </a:rPr>
                  <a:t>背景</a:t>
                </a:r>
                <a:endParaRPr b="0" lang="en-US" sz="1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组合 3"/>
          <p:cNvGrpSpPr/>
          <p:nvPr/>
        </p:nvGrpSpPr>
        <p:grpSpPr>
          <a:xfrm>
            <a:off x="177480" y="0"/>
            <a:ext cx="11836800" cy="6663960"/>
            <a:chOff x="177480" y="0"/>
            <a:chExt cx="11836800" cy="6663960"/>
          </a:xfrm>
        </p:grpSpPr>
        <p:sp>
          <p:nvSpPr>
            <p:cNvPr id="583" name="Freeform 56"/>
            <p:cNvSpPr/>
            <p:nvPr/>
          </p:nvSpPr>
          <p:spPr>
            <a:xfrm>
              <a:off x="177480" y="0"/>
              <a:ext cx="488520" cy="1342800"/>
            </a:xfrm>
            <a:custGeom>
              <a:avLst/>
              <a:gdLst>
                <a:gd name="textAreaLeft" fmla="*/ 0 w 488520"/>
                <a:gd name="textAreaRight" fmla="*/ 488880 w 48852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293" h="805">
                  <a:moveTo>
                    <a:pt x="0" y="0"/>
                  </a:moveTo>
                  <a:lnTo>
                    <a:pt x="19" y="805"/>
                  </a:lnTo>
                  <a:lnTo>
                    <a:pt x="293" y="2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7"/>
            <p:cNvSpPr/>
            <p:nvPr/>
          </p:nvSpPr>
          <p:spPr>
            <a:xfrm>
              <a:off x="177480" y="3490560"/>
              <a:ext cx="1135800" cy="2005200"/>
            </a:xfrm>
            <a:custGeom>
              <a:avLst/>
              <a:gdLst>
                <a:gd name="textAreaLeft" fmla="*/ 0 w 1135800"/>
                <a:gd name="textAreaRight" fmla="*/ 1136160 w 1135800"/>
                <a:gd name="textAreaTop" fmla="*/ 0 h 2005200"/>
                <a:gd name="textAreaBottom" fmla="*/ 2005560 h 2005200"/>
              </a:gdLst>
              <a:ahLst/>
              <a:rect l="textAreaLeft" t="textAreaTop" r="textAreaRight" b="textAreaBottom"/>
              <a:pathLst>
                <a:path w="681" h="1202">
                  <a:moveTo>
                    <a:pt x="9" y="0"/>
                  </a:moveTo>
                  <a:lnTo>
                    <a:pt x="0" y="1202"/>
                  </a:lnTo>
                  <a:lnTo>
                    <a:pt x="681" y="539"/>
                  </a:lnTo>
                  <a:lnTo>
                    <a:pt x="9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58"/>
            <p:cNvSpPr/>
            <p:nvPr/>
          </p:nvSpPr>
          <p:spPr>
            <a:xfrm>
              <a:off x="209160" y="48240"/>
              <a:ext cx="1783440" cy="1294560"/>
            </a:xfrm>
            <a:custGeom>
              <a:avLst/>
              <a:gdLst>
                <a:gd name="textAreaLeft" fmla="*/ 0 w 1783440"/>
                <a:gd name="textAreaRight" fmla="*/ 1783800 w 1783440"/>
                <a:gd name="textAreaTop" fmla="*/ 0 h 1294560"/>
                <a:gd name="textAreaBottom" fmla="*/ 1294920 h 1294560"/>
              </a:gdLst>
              <a:ahLst/>
              <a:rect l="textAreaLeft" t="textAreaTop" r="textAreaRight" b="textAreaBottom"/>
              <a:pathLst>
                <a:path w="1069" h="776">
                  <a:moveTo>
                    <a:pt x="274" y="0"/>
                  </a:moveTo>
                  <a:lnTo>
                    <a:pt x="0" y="776"/>
                  </a:lnTo>
                  <a:lnTo>
                    <a:pt x="1069" y="624"/>
                  </a:lnTo>
                  <a:lnTo>
                    <a:pt x="274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59"/>
            <p:cNvSpPr/>
            <p:nvPr/>
          </p:nvSpPr>
          <p:spPr>
            <a:xfrm>
              <a:off x="192600" y="1089720"/>
              <a:ext cx="1800000" cy="2400840"/>
            </a:xfrm>
            <a:custGeom>
              <a:avLst/>
              <a:gdLst>
                <a:gd name="textAreaLeft" fmla="*/ 0 w 1800000"/>
                <a:gd name="textAreaRight" fmla="*/ 1800360 w 1800000"/>
                <a:gd name="textAreaTop" fmla="*/ 0 h 2400840"/>
                <a:gd name="textAreaBottom" fmla="*/ 2401200 h 2400840"/>
              </a:gdLst>
              <a:ahLst/>
              <a:rect l="textAreaLeft" t="textAreaTop" r="textAreaRight" b="textAreaBottom"/>
              <a:pathLst>
                <a:path w="1079" h="1439">
                  <a:moveTo>
                    <a:pt x="10" y="152"/>
                  </a:moveTo>
                  <a:lnTo>
                    <a:pt x="0" y="1439"/>
                  </a:lnTo>
                  <a:lnTo>
                    <a:pt x="1079" y="0"/>
                  </a:lnTo>
                  <a:lnTo>
                    <a:pt x="10" y="152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60"/>
            <p:cNvSpPr/>
            <p:nvPr/>
          </p:nvSpPr>
          <p:spPr>
            <a:xfrm>
              <a:off x="177480" y="5496120"/>
              <a:ext cx="2130480" cy="116748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167480"/>
                <a:gd name="textAreaBottom" fmla="*/ 1167840 h 1167480"/>
              </a:gdLst>
              <a:ahLst/>
              <a:rect l="textAreaLeft" t="textAreaTop" r="textAreaRight" b="textAreaBottom"/>
              <a:pathLst>
                <a:path w="1277" h="700">
                  <a:moveTo>
                    <a:pt x="0" y="0"/>
                  </a:moveTo>
                  <a:lnTo>
                    <a:pt x="0" y="700"/>
                  </a:lnTo>
                  <a:lnTo>
                    <a:pt x="1277" y="68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61"/>
            <p:cNvSpPr/>
            <p:nvPr/>
          </p:nvSpPr>
          <p:spPr>
            <a:xfrm>
              <a:off x="177480" y="4389840"/>
              <a:ext cx="2130480" cy="224208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2242080"/>
                <a:gd name="textAreaBottom" fmla="*/ 2242440 h 2242080"/>
              </a:gdLst>
              <a:ahLst/>
              <a:rect l="textAreaLeft" t="textAreaTop" r="textAreaRight" b="textAreaBottom"/>
              <a:pathLst>
                <a:path w="1277" h="1344">
                  <a:moveTo>
                    <a:pt x="681" y="0"/>
                  </a:moveTo>
                  <a:lnTo>
                    <a:pt x="0" y="663"/>
                  </a:lnTo>
                  <a:lnTo>
                    <a:pt x="1277" y="1344"/>
                  </a:lnTo>
                  <a:lnTo>
                    <a:pt x="681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62"/>
            <p:cNvSpPr/>
            <p:nvPr/>
          </p:nvSpPr>
          <p:spPr>
            <a:xfrm>
              <a:off x="192600" y="2796480"/>
              <a:ext cx="2652480" cy="1593000"/>
            </a:xfrm>
            <a:custGeom>
              <a:avLst/>
              <a:gdLst>
                <a:gd name="textAreaLeft" fmla="*/ 0 w 2652480"/>
                <a:gd name="textAreaRight" fmla="*/ 2652840 w 2652480"/>
                <a:gd name="textAreaTop" fmla="*/ 0 h 1593000"/>
                <a:gd name="textAreaBottom" fmla="*/ 1593360 h 1593000"/>
              </a:gdLst>
              <a:ahLst/>
              <a:rect l="textAreaLeft" t="textAreaTop" r="textAreaRight" b="textAreaBottom"/>
              <a:pathLst>
                <a:path w="1590" h="955">
                  <a:moveTo>
                    <a:pt x="0" y="416"/>
                  </a:moveTo>
                  <a:lnTo>
                    <a:pt x="672" y="955"/>
                  </a:lnTo>
                  <a:lnTo>
                    <a:pt x="1590" y="0"/>
                  </a:lnTo>
                  <a:lnTo>
                    <a:pt x="0" y="416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63"/>
            <p:cNvSpPr/>
            <p:nvPr/>
          </p:nvSpPr>
          <p:spPr>
            <a:xfrm>
              <a:off x="192600" y="1089720"/>
              <a:ext cx="2652480" cy="2400840"/>
            </a:xfrm>
            <a:custGeom>
              <a:avLst/>
              <a:gdLst>
                <a:gd name="textAreaLeft" fmla="*/ 0 w 2652480"/>
                <a:gd name="textAreaRight" fmla="*/ 2652840 w 2652480"/>
                <a:gd name="textAreaTop" fmla="*/ 0 h 2400840"/>
                <a:gd name="textAreaBottom" fmla="*/ 2401200 h 2400840"/>
              </a:gdLst>
              <a:ahLst/>
              <a:rect l="textAreaLeft" t="textAreaTop" r="textAreaRight" b="textAreaBottom"/>
              <a:pathLst>
                <a:path w="1590" h="1439">
                  <a:moveTo>
                    <a:pt x="1079" y="0"/>
                  </a:moveTo>
                  <a:lnTo>
                    <a:pt x="0" y="1439"/>
                  </a:lnTo>
                  <a:lnTo>
                    <a:pt x="1590" y="1023"/>
                  </a:lnTo>
                  <a:lnTo>
                    <a:pt x="107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64"/>
            <p:cNvSpPr/>
            <p:nvPr/>
          </p:nvSpPr>
          <p:spPr>
            <a:xfrm>
              <a:off x="666360" y="16560"/>
              <a:ext cx="2430720" cy="1072440"/>
            </a:xfrm>
            <a:custGeom>
              <a:avLst/>
              <a:gdLst>
                <a:gd name="textAreaLeft" fmla="*/ 0 w 2430720"/>
                <a:gd name="textAreaRight" fmla="*/ 2431080 w 2430720"/>
                <a:gd name="textAreaTop" fmla="*/ 0 h 1072440"/>
                <a:gd name="textAreaBottom" fmla="*/ 1072800 h 1072440"/>
              </a:gdLst>
              <a:ahLst/>
              <a:rect l="textAreaLeft" t="textAreaTop" r="textAreaRight" b="textAreaBottom"/>
              <a:pathLst>
                <a:path w="1457" h="643">
                  <a:moveTo>
                    <a:pt x="0" y="19"/>
                  </a:moveTo>
                  <a:lnTo>
                    <a:pt x="795" y="643"/>
                  </a:lnTo>
                  <a:lnTo>
                    <a:pt x="1457" y="0"/>
                  </a:lnTo>
                  <a:lnTo>
                    <a:pt x="0" y="19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65"/>
            <p:cNvSpPr/>
            <p:nvPr/>
          </p:nvSpPr>
          <p:spPr>
            <a:xfrm>
              <a:off x="177480" y="0"/>
              <a:ext cx="2919600" cy="47880"/>
            </a:xfrm>
            <a:custGeom>
              <a:avLst/>
              <a:gdLst>
                <a:gd name="textAreaLeft" fmla="*/ 0 w 2919600"/>
                <a:gd name="textAreaRight" fmla="*/ 2919960 w 29196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750" h="29">
                  <a:moveTo>
                    <a:pt x="0" y="0"/>
                  </a:moveTo>
                  <a:lnTo>
                    <a:pt x="293" y="29"/>
                  </a:lnTo>
                  <a:lnTo>
                    <a:pt x="1750" y="1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120" bIns="24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66"/>
            <p:cNvSpPr/>
            <p:nvPr/>
          </p:nvSpPr>
          <p:spPr>
            <a:xfrm>
              <a:off x="1314000" y="4389840"/>
              <a:ext cx="2399040" cy="2242080"/>
            </a:xfrm>
            <a:custGeom>
              <a:avLst/>
              <a:gdLst>
                <a:gd name="textAreaLeft" fmla="*/ 0 w 2399040"/>
                <a:gd name="textAreaRight" fmla="*/ 2399400 w 2399040"/>
                <a:gd name="textAreaTop" fmla="*/ 0 h 2242080"/>
                <a:gd name="textAreaBottom" fmla="*/ 2242440 h 2242080"/>
              </a:gdLst>
              <a:ahLst/>
              <a:rect l="textAreaLeft" t="textAreaTop" r="textAreaRight" b="textAreaBottom"/>
              <a:pathLst>
                <a:path w="1438" h="1344">
                  <a:moveTo>
                    <a:pt x="0" y="0"/>
                  </a:moveTo>
                  <a:lnTo>
                    <a:pt x="596" y="1344"/>
                  </a:lnTo>
                  <a:lnTo>
                    <a:pt x="1438" y="27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67"/>
            <p:cNvSpPr/>
            <p:nvPr/>
          </p:nvSpPr>
          <p:spPr>
            <a:xfrm>
              <a:off x="1314000" y="2796480"/>
              <a:ext cx="2399040" cy="2052000"/>
            </a:xfrm>
            <a:custGeom>
              <a:avLst/>
              <a:gdLst>
                <a:gd name="textAreaLeft" fmla="*/ 0 w 2399040"/>
                <a:gd name="textAreaRight" fmla="*/ 2399400 w 2399040"/>
                <a:gd name="textAreaTop" fmla="*/ 0 h 2052000"/>
                <a:gd name="textAreaBottom" fmla="*/ 2052360 h 2052000"/>
              </a:gdLst>
              <a:ahLst/>
              <a:rect l="textAreaLeft" t="textAreaTop" r="textAreaRight" b="textAreaBottom"/>
              <a:pathLst>
                <a:path w="1438" h="1230">
                  <a:moveTo>
                    <a:pt x="918" y="0"/>
                  </a:moveTo>
                  <a:lnTo>
                    <a:pt x="0" y="955"/>
                  </a:lnTo>
                  <a:lnTo>
                    <a:pt x="1438" y="1230"/>
                  </a:lnTo>
                  <a:lnTo>
                    <a:pt x="918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68"/>
            <p:cNvSpPr/>
            <p:nvPr/>
          </p:nvSpPr>
          <p:spPr>
            <a:xfrm>
              <a:off x="1992960" y="522360"/>
              <a:ext cx="1956960" cy="2273760"/>
            </a:xfrm>
            <a:custGeom>
              <a:avLst/>
              <a:gdLst>
                <a:gd name="textAreaLeft" fmla="*/ 0 w 1956960"/>
                <a:gd name="textAreaRight" fmla="*/ 1957320 w 1956960"/>
                <a:gd name="textAreaTop" fmla="*/ 0 h 2273760"/>
                <a:gd name="textAreaBottom" fmla="*/ 2274120 h 2273760"/>
              </a:gdLst>
              <a:ahLst/>
              <a:rect l="textAreaLeft" t="textAreaTop" r="textAreaRight" b="textAreaBottom"/>
              <a:pathLst>
                <a:path w="1173" h="1363">
                  <a:moveTo>
                    <a:pt x="0" y="340"/>
                  </a:moveTo>
                  <a:lnTo>
                    <a:pt x="511" y="1363"/>
                  </a:lnTo>
                  <a:lnTo>
                    <a:pt x="1173" y="0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69"/>
            <p:cNvSpPr/>
            <p:nvPr/>
          </p:nvSpPr>
          <p:spPr>
            <a:xfrm>
              <a:off x="1992960" y="16560"/>
              <a:ext cx="1956960" cy="1072440"/>
            </a:xfrm>
            <a:custGeom>
              <a:avLst/>
              <a:gdLst>
                <a:gd name="textAreaLeft" fmla="*/ 0 w 1956960"/>
                <a:gd name="textAreaRight" fmla="*/ 1957320 w 1956960"/>
                <a:gd name="textAreaTop" fmla="*/ 0 h 1072440"/>
                <a:gd name="textAreaBottom" fmla="*/ 1072800 h 1072440"/>
              </a:gdLst>
              <a:ahLst/>
              <a:rect l="textAreaLeft" t="textAreaTop" r="textAreaRight" b="textAreaBottom"/>
              <a:pathLst>
                <a:path w="1173" h="643">
                  <a:moveTo>
                    <a:pt x="662" y="0"/>
                  </a:moveTo>
                  <a:lnTo>
                    <a:pt x="0" y="643"/>
                  </a:lnTo>
                  <a:lnTo>
                    <a:pt x="1173" y="303"/>
                  </a:lnTo>
                  <a:lnTo>
                    <a:pt x="66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70"/>
            <p:cNvSpPr/>
            <p:nvPr/>
          </p:nvSpPr>
          <p:spPr>
            <a:xfrm>
              <a:off x="2308320" y="4848840"/>
              <a:ext cx="1893600" cy="1783440"/>
            </a:xfrm>
            <a:custGeom>
              <a:avLst/>
              <a:gdLst>
                <a:gd name="textAreaLeft" fmla="*/ 0 w 1893600"/>
                <a:gd name="textAreaRight" fmla="*/ 1893960 w 1893600"/>
                <a:gd name="textAreaTop" fmla="*/ 0 h 1783440"/>
                <a:gd name="textAreaBottom" fmla="*/ 1783800 h 1783440"/>
              </a:gdLst>
              <a:ahLst/>
              <a:rect l="textAreaLeft" t="textAreaTop" r="textAreaRight" b="textAreaBottom"/>
              <a:pathLst>
                <a:path w="1135" h="1069">
                  <a:moveTo>
                    <a:pt x="842" y="0"/>
                  </a:moveTo>
                  <a:lnTo>
                    <a:pt x="0" y="1069"/>
                  </a:lnTo>
                  <a:lnTo>
                    <a:pt x="1135" y="1041"/>
                  </a:lnTo>
                  <a:lnTo>
                    <a:pt x="842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71"/>
            <p:cNvSpPr/>
            <p:nvPr/>
          </p:nvSpPr>
          <p:spPr>
            <a:xfrm>
              <a:off x="3097440" y="16560"/>
              <a:ext cx="1734840" cy="505080"/>
            </a:xfrm>
            <a:custGeom>
              <a:avLst/>
              <a:gdLst>
                <a:gd name="textAreaLeft" fmla="*/ 0 w 1734840"/>
                <a:gd name="textAreaRight" fmla="*/ 1735200 w 173484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040" h="303">
                  <a:moveTo>
                    <a:pt x="0" y="0"/>
                  </a:moveTo>
                  <a:lnTo>
                    <a:pt x="511" y="303"/>
                  </a:lnTo>
                  <a:lnTo>
                    <a:pt x="1040" y="1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72"/>
            <p:cNvSpPr/>
            <p:nvPr/>
          </p:nvSpPr>
          <p:spPr>
            <a:xfrm>
              <a:off x="3950280" y="48240"/>
              <a:ext cx="1197720" cy="3109680"/>
            </a:xfrm>
            <a:custGeom>
              <a:avLst/>
              <a:gdLst>
                <a:gd name="textAreaLeft" fmla="*/ 0 w 1197720"/>
                <a:gd name="textAreaRight" fmla="*/ 1198080 w 1197720"/>
                <a:gd name="textAreaTop" fmla="*/ 0 h 3109680"/>
                <a:gd name="textAreaBottom" fmla="*/ 3110040 h 3109680"/>
              </a:gdLst>
              <a:ahLst/>
              <a:rect l="textAreaLeft" t="textAreaTop" r="textAreaRight" b="textAreaBottom"/>
              <a:pathLst>
                <a:path w="718" h="1864">
                  <a:moveTo>
                    <a:pt x="529" y="0"/>
                  </a:moveTo>
                  <a:lnTo>
                    <a:pt x="0" y="284"/>
                  </a:lnTo>
                  <a:lnTo>
                    <a:pt x="718" y="1864"/>
                  </a:lnTo>
                  <a:lnTo>
                    <a:pt x="52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73"/>
            <p:cNvSpPr/>
            <p:nvPr/>
          </p:nvSpPr>
          <p:spPr>
            <a:xfrm>
              <a:off x="2845800" y="2796480"/>
              <a:ext cx="2302200" cy="2052000"/>
            </a:xfrm>
            <a:custGeom>
              <a:avLst/>
              <a:gdLst>
                <a:gd name="textAreaLeft" fmla="*/ 0 w 2302200"/>
                <a:gd name="textAreaRight" fmla="*/ 2302560 w 2302200"/>
                <a:gd name="textAreaTop" fmla="*/ 0 h 2052000"/>
                <a:gd name="textAreaBottom" fmla="*/ 2052360 h 2052000"/>
              </a:gdLst>
              <a:ahLst/>
              <a:rect l="textAreaLeft" t="textAreaTop" r="textAreaRight" b="textAreaBottom"/>
              <a:pathLst>
                <a:path w="1380" h="1230">
                  <a:moveTo>
                    <a:pt x="0" y="0"/>
                  </a:moveTo>
                  <a:lnTo>
                    <a:pt x="520" y="1230"/>
                  </a:lnTo>
                  <a:lnTo>
                    <a:pt x="1380" y="21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74"/>
            <p:cNvSpPr/>
            <p:nvPr/>
          </p:nvSpPr>
          <p:spPr>
            <a:xfrm>
              <a:off x="2845800" y="522360"/>
              <a:ext cx="2302200" cy="2635920"/>
            </a:xfrm>
            <a:custGeom>
              <a:avLst/>
              <a:gdLst>
                <a:gd name="textAreaLeft" fmla="*/ 0 w 2302200"/>
                <a:gd name="textAreaRight" fmla="*/ 2302560 w 2302200"/>
                <a:gd name="textAreaTop" fmla="*/ 0 h 2635920"/>
                <a:gd name="textAreaBottom" fmla="*/ 2636280 h 2635920"/>
              </a:gdLst>
              <a:ahLst/>
              <a:rect l="textAreaLeft" t="textAreaTop" r="textAreaRight" b="textAreaBottom"/>
              <a:pathLst>
                <a:path w="1380" h="1580">
                  <a:moveTo>
                    <a:pt x="662" y="0"/>
                  </a:moveTo>
                  <a:lnTo>
                    <a:pt x="0" y="1363"/>
                  </a:lnTo>
                  <a:lnTo>
                    <a:pt x="1380" y="1580"/>
                  </a:lnTo>
                  <a:lnTo>
                    <a:pt x="66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75"/>
            <p:cNvSpPr/>
            <p:nvPr/>
          </p:nvSpPr>
          <p:spPr>
            <a:xfrm>
              <a:off x="3713400" y="4848840"/>
              <a:ext cx="2397240" cy="1783440"/>
            </a:xfrm>
            <a:custGeom>
              <a:avLst/>
              <a:gdLst>
                <a:gd name="textAreaLeft" fmla="*/ 0 w 2397240"/>
                <a:gd name="textAreaRight" fmla="*/ 2397600 w 2397240"/>
                <a:gd name="textAreaTop" fmla="*/ 0 h 1783440"/>
                <a:gd name="textAreaBottom" fmla="*/ 1783800 h 1783440"/>
              </a:gdLst>
              <a:ahLst/>
              <a:rect l="textAreaLeft" t="textAreaTop" r="textAreaRight" b="textAreaBottom"/>
              <a:pathLst>
                <a:path w="1437" h="1069">
                  <a:moveTo>
                    <a:pt x="0" y="0"/>
                  </a:moveTo>
                  <a:lnTo>
                    <a:pt x="293" y="1041"/>
                  </a:lnTo>
                  <a:lnTo>
                    <a:pt x="1437" y="106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76"/>
            <p:cNvSpPr/>
            <p:nvPr/>
          </p:nvSpPr>
          <p:spPr>
            <a:xfrm>
              <a:off x="4833000" y="48240"/>
              <a:ext cx="1988640" cy="3109680"/>
            </a:xfrm>
            <a:custGeom>
              <a:avLst/>
              <a:gdLst>
                <a:gd name="textAreaLeft" fmla="*/ 0 w 1988640"/>
                <a:gd name="textAreaRight" fmla="*/ 1989000 w 1988640"/>
                <a:gd name="textAreaTop" fmla="*/ 0 h 3109680"/>
                <a:gd name="textAreaBottom" fmla="*/ 3110040 h 3109680"/>
              </a:gdLst>
              <a:ahLst/>
              <a:rect l="textAreaLeft" t="textAreaTop" r="textAreaRight" b="textAreaBottom"/>
              <a:pathLst>
                <a:path w="1192" h="1864">
                  <a:moveTo>
                    <a:pt x="0" y="0"/>
                  </a:moveTo>
                  <a:lnTo>
                    <a:pt x="189" y="1864"/>
                  </a:lnTo>
                  <a:lnTo>
                    <a:pt x="1192" y="99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77"/>
            <p:cNvSpPr/>
            <p:nvPr/>
          </p:nvSpPr>
          <p:spPr>
            <a:xfrm>
              <a:off x="4833000" y="48240"/>
              <a:ext cx="1988640" cy="1658160"/>
            </a:xfrm>
            <a:custGeom>
              <a:avLst/>
              <a:gdLst>
                <a:gd name="textAreaLeft" fmla="*/ 0 w 1988640"/>
                <a:gd name="textAreaRight" fmla="*/ 1989000 w 1988640"/>
                <a:gd name="textAreaTop" fmla="*/ 0 h 1658160"/>
                <a:gd name="textAreaBottom" fmla="*/ 1658520 h 1658160"/>
              </a:gdLst>
              <a:ahLst/>
              <a:rect l="textAreaLeft" t="textAreaTop" r="textAreaRight" b="textAreaBottom"/>
              <a:pathLst>
                <a:path w="1192" h="994">
                  <a:moveTo>
                    <a:pt x="1012" y="0"/>
                  </a:moveTo>
                  <a:lnTo>
                    <a:pt x="0" y="0"/>
                  </a:lnTo>
                  <a:lnTo>
                    <a:pt x="1192" y="994"/>
                  </a:lnTo>
                  <a:lnTo>
                    <a:pt x="101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78"/>
            <p:cNvSpPr/>
            <p:nvPr/>
          </p:nvSpPr>
          <p:spPr>
            <a:xfrm>
              <a:off x="5148360" y="1707120"/>
              <a:ext cx="1720080" cy="2540880"/>
            </a:xfrm>
            <a:custGeom>
              <a:avLst/>
              <a:gdLst>
                <a:gd name="textAreaLeft" fmla="*/ 0 w 1720080"/>
                <a:gd name="textAreaRight" fmla="*/ 1720440 w 1720080"/>
                <a:gd name="textAreaTop" fmla="*/ 0 h 2540880"/>
                <a:gd name="textAreaBottom" fmla="*/ 2541240 h 2540880"/>
              </a:gdLst>
              <a:ahLst/>
              <a:rect l="textAreaLeft" t="textAreaTop" r="textAreaRight" b="textAreaBottom"/>
              <a:pathLst>
                <a:path w="1031" h="1523">
                  <a:moveTo>
                    <a:pt x="1003" y="0"/>
                  </a:moveTo>
                  <a:lnTo>
                    <a:pt x="0" y="870"/>
                  </a:lnTo>
                  <a:lnTo>
                    <a:pt x="1031" y="1523"/>
                  </a:lnTo>
                  <a:lnTo>
                    <a:pt x="1003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79"/>
            <p:cNvSpPr/>
            <p:nvPr/>
          </p:nvSpPr>
          <p:spPr>
            <a:xfrm>
              <a:off x="3713400" y="3158640"/>
              <a:ext cx="3155040" cy="1689840"/>
            </a:xfrm>
            <a:custGeom>
              <a:avLst/>
              <a:gdLst>
                <a:gd name="textAreaLeft" fmla="*/ 0 w 3155040"/>
                <a:gd name="textAreaRight" fmla="*/ 3155400 w 3155040"/>
                <a:gd name="textAreaTop" fmla="*/ 0 h 1689840"/>
                <a:gd name="textAreaBottom" fmla="*/ 1690200 h 1689840"/>
              </a:gdLst>
              <a:ahLst/>
              <a:rect l="textAreaLeft" t="textAreaTop" r="textAreaRight" b="textAreaBottom"/>
              <a:pathLst>
                <a:path w="1891" h="1013">
                  <a:moveTo>
                    <a:pt x="860" y="0"/>
                  </a:moveTo>
                  <a:lnTo>
                    <a:pt x="0" y="1013"/>
                  </a:lnTo>
                  <a:lnTo>
                    <a:pt x="1891" y="653"/>
                  </a:lnTo>
                  <a:lnTo>
                    <a:pt x="86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80"/>
            <p:cNvSpPr/>
            <p:nvPr/>
          </p:nvSpPr>
          <p:spPr>
            <a:xfrm>
              <a:off x="3713400" y="4248000"/>
              <a:ext cx="3155040" cy="2383920"/>
            </a:xfrm>
            <a:custGeom>
              <a:avLst/>
              <a:gdLst>
                <a:gd name="textAreaLeft" fmla="*/ 0 w 3155040"/>
                <a:gd name="textAreaRight" fmla="*/ 3155400 w 315504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1891" h="1429">
                  <a:moveTo>
                    <a:pt x="0" y="360"/>
                  </a:moveTo>
                  <a:lnTo>
                    <a:pt x="1437" y="1429"/>
                  </a:lnTo>
                  <a:lnTo>
                    <a:pt x="1891" y="0"/>
                  </a:lnTo>
                  <a:lnTo>
                    <a:pt x="0" y="36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81"/>
            <p:cNvSpPr/>
            <p:nvPr/>
          </p:nvSpPr>
          <p:spPr>
            <a:xfrm>
              <a:off x="6111000" y="4248000"/>
              <a:ext cx="1641600" cy="2383920"/>
            </a:xfrm>
            <a:custGeom>
              <a:avLst/>
              <a:gdLst>
                <a:gd name="textAreaLeft" fmla="*/ 0 w 1641600"/>
                <a:gd name="textAreaRight" fmla="*/ 1641960 w 164160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984" h="1429">
                  <a:moveTo>
                    <a:pt x="454" y="0"/>
                  </a:moveTo>
                  <a:lnTo>
                    <a:pt x="0" y="1429"/>
                  </a:lnTo>
                  <a:lnTo>
                    <a:pt x="984" y="1420"/>
                  </a:lnTo>
                  <a:lnTo>
                    <a:pt x="454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82"/>
            <p:cNvSpPr/>
            <p:nvPr/>
          </p:nvSpPr>
          <p:spPr>
            <a:xfrm>
              <a:off x="6822000" y="1707120"/>
              <a:ext cx="1624680" cy="2540880"/>
            </a:xfrm>
            <a:custGeom>
              <a:avLst/>
              <a:gdLst>
                <a:gd name="textAreaLeft" fmla="*/ 0 w 1624680"/>
                <a:gd name="textAreaRight" fmla="*/ 1625040 w 1624680"/>
                <a:gd name="textAreaTop" fmla="*/ 0 h 2540880"/>
                <a:gd name="textAreaBottom" fmla="*/ 2541240 h 2540880"/>
              </a:gdLst>
              <a:ahLst/>
              <a:rect l="textAreaLeft" t="textAreaTop" r="textAreaRight" b="textAreaBottom"/>
              <a:pathLst>
                <a:path w="974" h="1523">
                  <a:moveTo>
                    <a:pt x="0" y="0"/>
                  </a:moveTo>
                  <a:lnTo>
                    <a:pt x="28" y="1523"/>
                  </a:lnTo>
                  <a:lnTo>
                    <a:pt x="974" y="42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83"/>
            <p:cNvSpPr/>
            <p:nvPr/>
          </p:nvSpPr>
          <p:spPr>
            <a:xfrm>
              <a:off x="6521400" y="48240"/>
              <a:ext cx="2083680" cy="1658160"/>
            </a:xfrm>
            <a:custGeom>
              <a:avLst/>
              <a:gdLst>
                <a:gd name="textAreaLeft" fmla="*/ 0 w 2083680"/>
                <a:gd name="textAreaRight" fmla="*/ 2084040 w 2083680"/>
                <a:gd name="textAreaTop" fmla="*/ 0 h 1658160"/>
                <a:gd name="textAreaBottom" fmla="*/ 1658520 h 1658160"/>
              </a:gdLst>
              <a:ahLst/>
              <a:rect l="textAreaLeft" t="textAreaTop" r="textAreaRight" b="textAreaBottom"/>
              <a:pathLst>
                <a:path w="1249" h="994">
                  <a:moveTo>
                    <a:pt x="0" y="0"/>
                  </a:moveTo>
                  <a:lnTo>
                    <a:pt x="180" y="994"/>
                  </a:lnTo>
                  <a:lnTo>
                    <a:pt x="1249" y="1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84"/>
            <p:cNvSpPr/>
            <p:nvPr/>
          </p:nvSpPr>
          <p:spPr>
            <a:xfrm>
              <a:off x="6822000" y="79920"/>
              <a:ext cx="1783440" cy="2335680"/>
            </a:xfrm>
            <a:custGeom>
              <a:avLst/>
              <a:gdLst>
                <a:gd name="textAreaLeft" fmla="*/ 0 w 1783440"/>
                <a:gd name="textAreaRight" fmla="*/ 1783800 w 1783440"/>
                <a:gd name="textAreaTop" fmla="*/ 0 h 2335680"/>
                <a:gd name="textAreaBottom" fmla="*/ 2336040 h 2335680"/>
              </a:gdLst>
              <a:ahLst/>
              <a:rect l="textAreaLeft" t="textAreaTop" r="textAreaRight" b="textAreaBottom"/>
              <a:pathLst>
                <a:path w="1069" h="1400">
                  <a:moveTo>
                    <a:pt x="0" y="975"/>
                  </a:moveTo>
                  <a:lnTo>
                    <a:pt x="974" y="1400"/>
                  </a:lnTo>
                  <a:lnTo>
                    <a:pt x="1069" y="0"/>
                  </a:lnTo>
                  <a:lnTo>
                    <a:pt x="0" y="975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85"/>
            <p:cNvSpPr/>
            <p:nvPr/>
          </p:nvSpPr>
          <p:spPr>
            <a:xfrm>
              <a:off x="6868440" y="4121280"/>
              <a:ext cx="2178720" cy="2495880"/>
            </a:xfrm>
            <a:custGeom>
              <a:avLst/>
              <a:gdLst>
                <a:gd name="textAreaLeft" fmla="*/ 0 w 2178720"/>
                <a:gd name="textAreaRight" fmla="*/ 2179080 w 2178720"/>
                <a:gd name="textAreaTop" fmla="*/ 0 h 2495880"/>
                <a:gd name="textAreaBottom" fmla="*/ 2496240 h 2495880"/>
              </a:gdLst>
              <a:ahLst/>
              <a:rect l="textAreaLeft" t="textAreaTop" r="textAreaRight" b="textAreaBottom"/>
              <a:pathLst>
                <a:path w="1306" h="1496">
                  <a:moveTo>
                    <a:pt x="0" y="76"/>
                  </a:moveTo>
                  <a:lnTo>
                    <a:pt x="530" y="1496"/>
                  </a:lnTo>
                  <a:lnTo>
                    <a:pt x="1306" y="0"/>
                  </a:lnTo>
                  <a:lnTo>
                    <a:pt x="0" y="76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86"/>
            <p:cNvSpPr/>
            <p:nvPr/>
          </p:nvSpPr>
          <p:spPr>
            <a:xfrm>
              <a:off x="6868440" y="2415960"/>
              <a:ext cx="2178720" cy="1831680"/>
            </a:xfrm>
            <a:custGeom>
              <a:avLst/>
              <a:gdLst>
                <a:gd name="textAreaLeft" fmla="*/ 0 w 2178720"/>
                <a:gd name="textAreaRight" fmla="*/ 2179080 w 2178720"/>
                <a:gd name="textAreaTop" fmla="*/ 0 h 1831680"/>
                <a:gd name="textAreaBottom" fmla="*/ 1832040 h 1831680"/>
              </a:gdLst>
              <a:ahLst/>
              <a:rect l="textAreaLeft" t="textAreaTop" r="textAreaRight" b="textAreaBottom"/>
              <a:pathLst>
                <a:path w="1306" h="1098">
                  <a:moveTo>
                    <a:pt x="946" y="0"/>
                  </a:moveTo>
                  <a:lnTo>
                    <a:pt x="0" y="1098"/>
                  </a:lnTo>
                  <a:lnTo>
                    <a:pt x="1306" y="1022"/>
                  </a:lnTo>
                  <a:lnTo>
                    <a:pt x="946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87"/>
            <p:cNvSpPr/>
            <p:nvPr/>
          </p:nvSpPr>
          <p:spPr>
            <a:xfrm>
              <a:off x="7752960" y="4121280"/>
              <a:ext cx="1436400" cy="2511000"/>
            </a:xfrm>
            <a:custGeom>
              <a:avLst/>
              <a:gdLst>
                <a:gd name="textAreaLeft" fmla="*/ 0 w 1436400"/>
                <a:gd name="textAreaRight" fmla="*/ 1436760 w 1436400"/>
                <a:gd name="textAreaTop" fmla="*/ 0 h 2511000"/>
                <a:gd name="textAreaBottom" fmla="*/ 2511360 h 2511000"/>
              </a:gdLst>
              <a:ahLst/>
              <a:rect l="textAreaLeft" t="textAreaTop" r="textAreaRight" b="textAreaBottom"/>
              <a:pathLst>
                <a:path w="861" h="1505">
                  <a:moveTo>
                    <a:pt x="776" y="0"/>
                  </a:moveTo>
                  <a:lnTo>
                    <a:pt x="0" y="1496"/>
                  </a:lnTo>
                  <a:lnTo>
                    <a:pt x="861" y="1505"/>
                  </a:lnTo>
                  <a:lnTo>
                    <a:pt x="776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88"/>
            <p:cNvSpPr/>
            <p:nvPr/>
          </p:nvSpPr>
          <p:spPr>
            <a:xfrm>
              <a:off x="8447040" y="2415960"/>
              <a:ext cx="2178720" cy="1704960"/>
            </a:xfrm>
            <a:custGeom>
              <a:avLst/>
              <a:gdLst>
                <a:gd name="textAreaLeft" fmla="*/ 0 w 2178720"/>
                <a:gd name="textAreaRight" fmla="*/ 2179080 w 2178720"/>
                <a:gd name="textAreaTop" fmla="*/ 0 h 1704960"/>
                <a:gd name="textAreaBottom" fmla="*/ 1705320 h 1704960"/>
              </a:gdLst>
              <a:ahLst/>
              <a:rect l="textAreaLeft" t="textAreaTop" r="textAreaRight" b="textAreaBottom"/>
              <a:pathLst>
                <a:path w="1306" h="1022">
                  <a:moveTo>
                    <a:pt x="0" y="0"/>
                  </a:moveTo>
                  <a:lnTo>
                    <a:pt x="360" y="1022"/>
                  </a:lnTo>
                  <a:lnTo>
                    <a:pt x="1306" y="29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89"/>
            <p:cNvSpPr/>
            <p:nvPr/>
          </p:nvSpPr>
          <p:spPr>
            <a:xfrm>
              <a:off x="9047520" y="4121280"/>
              <a:ext cx="1593000" cy="2511000"/>
            </a:xfrm>
            <a:custGeom>
              <a:avLst/>
              <a:gdLst>
                <a:gd name="textAreaLeft" fmla="*/ 0 w 1593000"/>
                <a:gd name="textAreaRight" fmla="*/ 1593360 w 1593000"/>
                <a:gd name="textAreaTop" fmla="*/ 0 h 2511000"/>
                <a:gd name="textAreaBottom" fmla="*/ 2511360 h 2511000"/>
              </a:gdLst>
              <a:ahLst/>
              <a:rect l="textAreaLeft" t="textAreaTop" r="textAreaRight" b="textAreaBottom"/>
              <a:pathLst>
                <a:path w="955" h="1505">
                  <a:moveTo>
                    <a:pt x="0" y="0"/>
                  </a:moveTo>
                  <a:lnTo>
                    <a:pt x="85" y="1505"/>
                  </a:lnTo>
                  <a:lnTo>
                    <a:pt x="955" y="148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90"/>
            <p:cNvSpPr/>
            <p:nvPr/>
          </p:nvSpPr>
          <p:spPr>
            <a:xfrm>
              <a:off x="8447040" y="79920"/>
              <a:ext cx="2462400" cy="233568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2335680"/>
                <a:gd name="textAreaBottom" fmla="*/ 2336040 h 2335680"/>
              </a:gdLst>
              <a:ahLst/>
              <a:rect l="textAreaLeft" t="textAreaTop" r="textAreaRight" b="textAreaBottom"/>
              <a:pathLst>
                <a:path w="1476" h="1400">
                  <a:moveTo>
                    <a:pt x="95" y="0"/>
                  </a:moveTo>
                  <a:lnTo>
                    <a:pt x="0" y="1400"/>
                  </a:lnTo>
                  <a:lnTo>
                    <a:pt x="1476" y="9"/>
                  </a:lnTo>
                  <a:lnTo>
                    <a:pt x="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91"/>
            <p:cNvSpPr/>
            <p:nvPr/>
          </p:nvSpPr>
          <p:spPr>
            <a:xfrm>
              <a:off x="8447040" y="95040"/>
              <a:ext cx="2462400" cy="2811240"/>
            </a:xfrm>
            <a:custGeom>
              <a:avLst/>
              <a:gdLst>
                <a:gd name="textAreaLeft" fmla="*/ 0 w 2462400"/>
                <a:gd name="textAreaRight" fmla="*/ 2462760 w 2462400"/>
                <a:gd name="textAreaTop" fmla="*/ 0 h 2811240"/>
                <a:gd name="textAreaBottom" fmla="*/ 2811600 h 2811240"/>
              </a:gdLst>
              <a:ahLst/>
              <a:rect l="textAreaLeft" t="textAreaTop" r="textAreaRight" b="textAreaBottom"/>
              <a:pathLst>
                <a:path w="1476" h="1685">
                  <a:moveTo>
                    <a:pt x="0" y="1391"/>
                  </a:moveTo>
                  <a:lnTo>
                    <a:pt x="1306" y="1685"/>
                  </a:lnTo>
                  <a:lnTo>
                    <a:pt x="1476" y="0"/>
                  </a:lnTo>
                  <a:lnTo>
                    <a:pt x="0" y="1391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92"/>
            <p:cNvSpPr/>
            <p:nvPr/>
          </p:nvSpPr>
          <p:spPr>
            <a:xfrm>
              <a:off x="10626120" y="95040"/>
              <a:ext cx="1356120" cy="2811240"/>
            </a:xfrm>
            <a:custGeom>
              <a:avLst/>
              <a:gdLst>
                <a:gd name="textAreaLeft" fmla="*/ 0 w 1356120"/>
                <a:gd name="textAreaRight" fmla="*/ 1356480 w 1356120"/>
                <a:gd name="textAreaTop" fmla="*/ 0 h 2811240"/>
                <a:gd name="textAreaBottom" fmla="*/ 2811600 h 2811240"/>
              </a:gdLst>
              <a:ahLst/>
              <a:rect l="textAreaLeft" t="textAreaTop" r="textAreaRight" b="textAreaBottom"/>
              <a:pathLst>
                <a:path w="813" h="1685">
                  <a:moveTo>
                    <a:pt x="170" y="0"/>
                  </a:moveTo>
                  <a:lnTo>
                    <a:pt x="0" y="1685"/>
                  </a:lnTo>
                  <a:lnTo>
                    <a:pt x="813" y="795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93"/>
            <p:cNvSpPr/>
            <p:nvPr/>
          </p:nvSpPr>
          <p:spPr>
            <a:xfrm>
              <a:off x="10626120" y="1421640"/>
              <a:ext cx="1356120" cy="1926720"/>
            </a:xfrm>
            <a:custGeom>
              <a:avLst/>
              <a:gdLst>
                <a:gd name="textAreaLeft" fmla="*/ 0 w 1356120"/>
                <a:gd name="textAreaRight" fmla="*/ 1356480 w 1356120"/>
                <a:gd name="textAreaTop" fmla="*/ 0 h 1926720"/>
                <a:gd name="textAreaBottom" fmla="*/ 1927080 h 1926720"/>
              </a:gdLst>
              <a:ahLst/>
              <a:rect l="textAreaLeft" t="textAreaTop" r="textAreaRight" b="textAreaBottom"/>
              <a:pathLst>
                <a:path w="813" h="1155">
                  <a:moveTo>
                    <a:pt x="813" y="0"/>
                  </a:moveTo>
                  <a:lnTo>
                    <a:pt x="0" y="890"/>
                  </a:lnTo>
                  <a:lnTo>
                    <a:pt x="813" y="1155"/>
                  </a:lnTo>
                  <a:lnTo>
                    <a:pt x="813" y="0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94"/>
            <p:cNvSpPr/>
            <p:nvPr/>
          </p:nvSpPr>
          <p:spPr>
            <a:xfrm>
              <a:off x="9047520" y="4121280"/>
              <a:ext cx="2934720" cy="2478960"/>
            </a:xfrm>
            <a:custGeom>
              <a:avLst/>
              <a:gdLst>
                <a:gd name="textAreaLeft" fmla="*/ 0 w 2934720"/>
                <a:gd name="textAreaRight" fmla="*/ 2935080 w 2934720"/>
                <a:gd name="textAreaTop" fmla="*/ 0 h 2478960"/>
                <a:gd name="textAreaBottom" fmla="*/ 2479320 h 2478960"/>
              </a:gdLst>
              <a:ahLst/>
              <a:rect l="textAreaLeft" t="textAreaTop" r="textAreaRight" b="textAreaBottom"/>
              <a:pathLst>
                <a:path w="1759" h="1486">
                  <a:moveTo>
                    <a:pt x="0" y="0"/>
                  </a:moveTo>
                  <a:lnTo>
                    <a:pt x="955" y="1486"/>
                  </a:lnTo>
                  <a:lnTo>
                    <a:pt x="1759" y="70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95"/>
            <p:cNvSpPr/>
            <p:nvPr/>
          </p:nvSpPr>
          <p:spPr>
            <a:xfrm>
              <a:off x="9047520" y="2906640"/>
              <a:ext cx="2934720" cy="2383920"/>
            </a:xfrm>
            <a:custGeom>
              <a:avLst/>
              <a:gdLst>
                <a:gd name="textAreaLeft" fmla="*/ 0 w 2934720"/>
                <a:gd name="textAreaRight" fmla="*/ 2935080 w 293472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1759" h="1429">
                  <a:moveTo>
                    <a:pt x="946" y="0"/>
                  </a:moveTo>
                  <a:lnTo>
                    <a:pt x="0" y="728"/>
                  </a:lnTo>
                  <a:lnTo>
                    <a:pt x="1759" y="1429"/>
                  </a:lnTo>
                  <a:lnTo>
                    <a:pt x="946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96"/>
            <p:cNvSpPr/>
            <p:nvPr/>
          </p:nvSpPr>
          <p:spPr>
            <a:xfrm>
              <a:off x="10626120" y="2906640"/>
              <a:ext cx="1356120" cy="2383920"/>
            </a:xfrm>
            <a:custGeom>
              <a:avLst/>
              <a:gdLst>
                <a:gd name="textAreaLeft" fmla="*/ 0 w 1356120"/>
                <a:gd name="textAreaRight" fmla="*/ 1356480 w 1356120"/>
                <a:gd name="textAreaTop" fmla="*/ 0 h 2383920"/>
                <a:gd name="textAreaBottom" fmla="*/ 2384280 h 2383920"/>
              </a:gdLst>
              <a:ahLst/>
              <a:rect l="textAreaLeft" t="textAreaTop" r="textAreaRight" b="textAreaBottom"/>
              <a:pathLst>
                <a:path w="813" h="1429">
                  <a:moveTo>
                    <a:pt x="813" y="265"/>
                  </a:moveTo>
                  <a:lnTo>
                    <a:pt x="0" y="0"/>
                  </a:lnTo>
                  <a:lnTo>
                    <a:pt x="813" y="1429"/>
                  </a:lnTo>
                  <a:lnTo>
                    <a:pt x="813" y="265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97"/>
            <p:cNvSpPr/>
            <p:nvPr/>
          </p:nvSpPr>
          <p:spPr>
            <a:xfrm>
              <a:off x="10909800" y="0"/>
              <a:ext cx="1104120" cy="1421280"/>
            </a:xfrm>
            <a:custGeom>
              <a:avLst/>
              <a:gdLst>
                <a:gd name="textAreaLeft" fmla="*/ 0 w 1104120"/>
                <a:gd name="textAreaRight" fmla="*/ 1104480 w 1104120"/>
                <a:gd name="textAreaTop" fmla="*/ 0 h 1421280"/>
                <a:gd name="textAreaBottom" fmla="*/ 1421640 h 1421280"/>
              </a:gdLst>
              <a:ahLst/>
              <a:rect l="textAreaLeft" t="textAreaTop" r="textAreaRight" b="textAreaBottom"/>
              <a:pathLst>
                <a:path w="662" h="852">
                  <a:moveTo>
                    <a:pt x="0" y="57"/>
                  </a:moveTo>
                  <a:lnTo>
                    <a:pt x="643" y="852"/>
                  </a:lnTo>
                  <a:lnTo>
                    <a:pt x="662" y="0"/>
                  </a:lnTo>
                  <a:lnTo>
                    <a:pt x="0" y="57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98"/>
            <p:cNvSpPr/>
            <p:nvPr/>
          </p:nvSpPr>
          <p:spPr>
            <a:xfrm>
              <a:off x="8605440" y="0"/>
              <a:ext cx="3408480" cy="94680"/>
            </a:xfrm>
            <a:custGeom>
              <a:avLst/>
              <a:gdLst>
                <a:gd name="textAreaLeft" fmla="*/ 0 w 3408480"/>
                <a:gd name="textAreaRight" fmla="*/ 3408840 w 34084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2043" h="57">
                  <a:moveTo>
                    <a:pt x="0" y="48"/>
                  </a:moveTo>
                  <a:lnTo>
                    <a:pt x="1381" y="57"/>
                  </a:lnTo>
                  <a:lnTo>
                    <a:pt x="2043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97e272"/>
                </a:gs>
                <a:gs pos="100000">
                  <a:srgbClr val="50cedd"/>
                </a:gs>
              </a:gsLst>
              <a:lin ang="5400000"/>
            </a:gradFill>
            <a:ln w="0">
              <a:solidFill>
                <a:srgbClr val="97e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99"/>
            <p:cNvSpPr/>
            <p:nvPr/>
          </p:nvSpPr>
          <p:spPr>
            <a:xfrm>
              <a:off x="10641240" y="5290920"/>
              <a:ext cx="1373040" cy="137304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373040"/>
                <a:gd name="textAreaBottom" fmla="*/ 1373400 h 1373040"/>
              </a:gdLst>
              <a:ahLst/>
              <a:rect l="textAreaLeft" t="textAreaTop" r="textAreaRight" b="textAreaBottom"/>
              <a:pathLst>
                <a:path w="823" h="823">
                  <a:moveTo>
                    <a:pt x="804" y="0"/>
                  </a:moveTo>
                  <a:lnTo>
                    <a:pt x="0" y="785"/>
                  </a:lnTo>
                  <a:lnTo>
                    <a:pt x="823" y="823"/>
                  </a:lnTo>
                  <a:lnTo>
                    <a:pt x="804" y="0"/>
                  </a:lnTo>
                  <a:close/>
                </a:path>
              </a:pathLst>
            </a:custGeom>
            <a:gradFill rotWithShape="0">
              <a:gsLst>
                <a:gs pos="0">
                  <a:srgbClr val="50cedd"/>
                </a:gs>
                <a:gs pos="100000">
                  <a:srgbClr val="dcf5f8"/>
                </a:gs>
              </a:gsLst>
              <a:lin ang="5400000"/>
            </a:gradFill>
            <a:ln w="0">
              <a:solidFill>
                <a:srgbClr val="50ce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7" name="矩形 2"/>
          <p:cNvSpPr/>
          <p:nvPr/>
        </p:nvSpPr>
        <p:spPr>
          <a:xfrm>
            <a:off x="0" y="577548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8" name="任意多边形 12"/>
          <p:cNvSpPr/>
          <p:nvPr/>
        </p:nvSpPr>
        <p:spPr>
          <a:xfrm rot="10800000">
            <a:off x="707040" y="5775840"/>
            <a:ext cx="383760" cy="285480"/>
          </a:xfrm>
          <a:custGeom>
            <a:avLst/>
            <a:gdLst>
              <a:gd name="textAreaLeft" fmla="*/ 0 w 383760"/>
              <a:gd name="textAreaRight" fmla="*/ 384120 w 3837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84284" h="285750">
                <a:moveTo>
                  <a:pt x="384284" y="285750"/>
                </a:moveTo>
                <a:lnTo>
                  <a:pt x="0" y="285750"/>
                </a:lnTo>
                <a:lnTo>
                  <a:pt x="192142" y="0"/>
                </a:lnTo>
                <a:close/>
              </a:path>
            </a:pathLst>
          </a:cu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9" name="文本框 4"/>
          <p:cNvSpPr/>
          <p:nvPr/>
        </p:nvSpPr>
        <p:spPr>
          <a:xfrm>
            <a:off x="4480920" y="6047280"/>
            <a:ext cx="3229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还可以调成渐变的样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任意多边形 11"/>
          <p:cNvSpPr/>
          <p:nvPr/>
        </p:nvSpPr>
        <p:spPr>
          <a:xfrm>
            <a:off x="-2520" y="0"/>
            <a:ext cx="12196440" cy="5775120"/>
          </a:xfrm>
          <a:custGeom>
            <a:avLst/>
            <a:gdLst>
              <a:gd name="textAreaLeft" fmla="*/ 0 w 12196440"/>
              <a:gd name="textAreaRight" fmla="*/ 12196800 w 12196440"/>
              <a:gd name="textAreaTop" fmla="*/ 0 h 5775120"/>
              <a:gd name="textAreaBottom" fmla="*/ 5775480 h 5775120"/>
            </a:gdLst>
            <a:ahLst/>
            <a:rect l="textAreaLeft" t="textAreaTop" r="textAreaRight" b="textAreaBottom"/>
            <a:pathLst>
              <a:path w="12196800" h="5775603">
                <a:moveTo>
                  <a:pt x="180000" y="180601"/>
                </a:moveTo>
                <a:lnTo>
                  <a:pt x="180000" y="5595001"/>
                </a:lnTo>
                <a:lnTo>
                  <a:pt x="12016800" y="5595001"/>
                </a:lnTo>
                <a:lnTo>
                  <a:pt x="12016800" y="180601"/>
                </a:lnTo>
                <a:close/>
                <a:moveTo>
                  <a:pt x="0" y="0"/>
                </a:moveTo>
                <a:lnTo>
                  <a:pt x="12196800" y="0"/>
                </a:lnTo>
                <a:lnTo>
                  <a:pt x="12196800" y="5775603"/>
                </a:lnTo>
                <a:lnTo>
                  <a:pt x="0" y="5775603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组合 60"/>
          <p:cNvGrpSpPr/>
          <p:nvPr/>
        </p:nvGrpSpPr>
        <p:grpSpPr>
          <a:xfrm>
            <a:off x="0" y="5490000"/>
            <a:ext cx="12191760" cy="1367640"/>
            <a:chOff x="0" y="5490000"/>
            <a:chExt cx="12191760" cy="1367640"/>
          </a:xfrm>
        </p:grpSpPr>
        <p:sp>
          <p:nvSpPr>
            <p:cNvPr id="222" name="矩形 58"/>
            <p:cNvSpPr/>
            <p:nvPr/>
          </p:nvSpPr>
          <p:spPr>
            <a:xfrm>
              <a:off x="0" y="5775480"/>
              <a:ext cx="12191760" cy="10821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3" name="等腰三角形 59"/>
            <p:cNvSpPr/>
            <p:nvPr/>
          </p:nvSpPr>
          <p:spPr>
            <a:xfrm rot="10800000">
              <a:off x="514800" y="5490000"/>
              <a:ext cx="768240" cy="571320"/>
            </a:xfrm>
            <a:prstGeom prst="triangle">
              <a:avLst>
                <a:gd name="adj" fmla="val 50000"/>
              </a:avLst>
            </a:prstGeom>
            <a:solidFill>
              <a:srgbClr val="50ce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24" name="文本框 61"/>
          <p:cNvSpPr/>
          <p:nvPr/>
        </p:nvSpPr>
        <p:spPr>
          <a:xfrm>
            <a:off x="3566880" y="6047280"/>
            <a:ext cx="505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喂，跑题了，快讲低面风格背景制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62"/>
          <p:cNvSpPr/>
          <p:nvPr/>
        </p:nvSpPr>
        <p:spPr>
          <a:xfrm>
            <a:off x="5167800" y="858960"/>
            <a:ext cx="16617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20000"/>
              </a:lnSpc>
            </a:pPr>
            <a:r>
              <a:rPr b="0" lang="zh-CN" sz="40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在这个拼爹的世界里，没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75"/>
          <p:cNvGrpSpPr/>
          <p:nvPr/>
        </p:nvGrpSpPr>
        <p:grpSpPr>
          <a:xfrm>
            <a:off x="6604200" y="381240"/>
            <a:ext cx="4888440" cy="4750920"/>
            <a:chOff x="6604200" y="381240"/>
            <a:chExt cx="4888440" cy="4750920"/>
          </a:xfrm>
        </p:grpSpPr>
        <p:grpSp>
          <p:nvGrpSpPr>
            <p:cNvPr id="227" name="组合 57"/>
            <p:cNvGrpSpPr/>
            <p:nvPr/>
          </p:nvGrpSpPr>
          <p:grpSpPr>
            <a:xfrm>
              <a:off x="6604200" y="381240"/>
              <a:ext cx="3826440" cy="4750920"/>
              <a:chOff x="6604200" y="381240"/>
              <a:chExt cx="3826440" cy="4750920"/>
            </a:xfrm>
          </p:grpSpPr>
          <p:grpSp>
            <p:nvGrpSpPr>
              <p:cNvPr id="228" name="组合 56"/>
              <p:cNvGrpSpPr/>
              <p:nvPr/>
            </p:nvGrpSpPr>
            <p:grpSpPr>
              <a:xfrm>
                <a:off x="8087400" y="2789640"/>
                <a:ext cx="2343240" cy="2342520"/>
                <a:chOff x="8087400" y="2789640"/>
                <a:chExt cx="2343240" cy="2342520"/>
              </a:xfrm>
            </p:grpSpPr>
            <p:sp>
              <p:nvSpPr>
                <p:cNvPr id="229" name="Freeform 22"/>
                <p:cNvSpPr/>
                <p:nvPr/>
              </p:nvSpPr>
              <p:spPr>
                <a:xfrm>
                  <a:off x="9041040" y="4166640"/>
                  <a:ext cx="1389600" cy="965520"/>
                </a:xfrm>
                <a:custGeom>
                  <a:avLst/>
                  <a:gdLst>
                    <a:gd name="textAreaLeft" fmla="*/ 0 w 1389600"/>
                    <a:gd name="textAreaRight" fmla="*/ 1389960 w 1389600"/>
                    <a:gd name="textAreaTop" fmla="*/ 0 h 965520"/>
                    <a:gd name="textAreaBottom" fmla="*/ 965880 h 965520"/>
                  </a:gdLst>
                  <a:ahLst/>
                  <a:rect l="textAreaLeft" t="textAreaTop" r="textAreaRight" b="textAreaBottom"/>
                  <a:pathLst>
                    <a:path w="2622" h="1822">
                      <a:moveTo>
                        <a:pt x="224" y="1597"/>
                      </a:moveTo>
                      <a:lnTo>
                        <a:pt x="224" y="0"/>
                      </a:lnTo>
                      <a:lnTo>
                        <a:pt x="0" y="0"/>
                      </a:lnTo>
                      <a:lnTo>
                        <a:pt x="0" y="1822"/>
                      </a:lnTo>
                      <a:lnTo>
                        <a:pt x="2622" y="1822"/>
                      </a:lnTo>
                      <a:lnTo>
                        <a:pt x="2622" y="1597"/>
                      </a:lnTo>
                      <a:lnTo>
                        <a:pt x="224" y="1597"/>
                      </a:lnTo>
                      <a:close/>
                    </a:path>
                  </a:pathLst>
                </a:custGeom>
                <a:solidFill>
                  <a:srgbClr val="0e0f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" name="Freeform 23"/>
                <p:cNvSpPr/>
                <p:nvPr/>
              </p:nvSpPr>
              <p:spPr>
                <a:xfrm>
                  <a:off x="8087400" y="2789640"/>
                  <a:ext cx="1837440" cy="1696320"/>
                </a:xfrm>
                <a:custGeom>
                  <a:avLst/>
                  <a:gdLst>
                    <a:gd name="textAreaLeft" fmla="*/ 0 w 1837440"/>
                    <a:gd name="textAreaRight" fmla="*/ 1837800 w 1837440"/>
                    <a:gd name="textAreaTop" fmla="*/ 0 h 1696320"/>
                    <a:gd name="textAreaBottom" fmla="*/ 1696680 h 1696320"/>
                  </a:gdLst>
                  <a:ahLst/>
                  <a:rect l="textAreaLeft" t="textAreaTop" r="textAreaRight" b="textAreaBottom"/>
                  <a:pathLst>
                    <a:path w="1465" h="1353">
                      <a:moveTo>
                        <a:pt x="918" y="988"/>
                      </a:moveTo>
                      <a:cubicBezTo>
                        <a:pt x="971" y="1063"/>
                        <a:pt x="1037" y="1128"/>
                        <a:pt x="1106" y="1188"/>
                      </a:cubicBezTo>
                      <a:cubicBezTo>
                        <a:pt x="1155" y="1231"/>
                        <a:pt x="1218" y="1221"/>
                        <a:pt x="1254" y="1169"/>
                      </a:cubicBezTo>
                      <a:cubicBezTo>
                        <a:pt x="1323" y="1072"/>
                        <a:pt x="1384" y="973"/>
                        <a:pt x="1424" y="861"/>
                      </a:cubicBezTo>
                      <a:cubicBezTo>
                        <a:pt x="1465" y="746"/>
                        <a:pt x="1283" y="697"/>
                        <a:pt x="1242" y="810"/>
                      </a:cubicBezTo>
                      <a:cubicBezTo>
                        <a:pt x="1221" y="870"/>
                        <a:pt x="1190" y="925"/>
                        <a:pt x="1157" y="978"/>
                      </a:cubicBezTo>
                      <a:cubicBezTo>
                        <a:pt x="1110" y="931"/>
                        <a:pt x="1069" y="881"/>
                        <a:pt x="1037" y="822"/>
                      </a:cubicBezTo>
                      <a:cubicBezTo>
                        <a:pt x="1034" y="816"/>
                        <a:pt x="1030" y="811"/>
                        <a:pt x="1026" y="806"/>
                      </a:cubicBezTo>
                      <a:cubicBezTo>
                        <a:pt x="1024" y="791"/>
                        <a:pt x="1020" y="777"/>
                        <a:pt x="1014" y="763"/>
                      </a:cubicBezTo>
                      <a:cubicBezTo>
                        <a:pt x="982" y="690"/>
                        <a:pt x="955" y="629"/>
                        <a:pt x="928" y="569"/>
                      </a:cubicBezTo>
                      <a:cubicBezTo>
                        <a:pt x="888" y="481"/>
                        <a:pt x="851" y="397"/>
                        <a:pt x="804" y="285"/>
                      </a:cubicBezTo>
                      <a:cubicBezTo>
                        <a:pt x="803" y="283"/>
                        <a:pt x="802" y="281"/>
                        <a:pt x="801" y="279"/>
                      </a:cubicBezTo>
                      <a:cubicBezTo>
                        <a:pt x="827" y="251"/>
                        <a:pt x="858" y="227"/>
                        <a:pt x="895" y="215"/>
                      </a:cubicBezTo>
                      <a:cubicBezTo>
                        <a:pt x="980" y="188"/>
                        <a:pt x="1077" y="203"/>
                        <a:pt x="1163" y="209"/>
                      </a:cubicBezTo>
                      <a:cubicBezTo>
                        <a:pt x="1285" y="217"/>
                        <a:pt x="1299" y="28"/>
                        <a:pt x="1177" y="19"/>
                      </a:cubicBezTo>
                      <a:cubicBezTo>
                        <a:pt x="1065" y="11"/>
                        <a:pt x="948" y="0"/>
                        <a:pt x="840" y="34"/>
                      </a:cubicBezTo>
                      <a:cubicBezTo>
                        <a:pt x="755" y="62"/>
                        <a:pt x="689" y="117"/>
                        <a:pt x="635" y="183"/>
                      </a:cubicBezTo>
                      <a:cubicBezTo>
                        <a:pt x="619" y="185"/>
                        <a:pt x="602" y="189"/>
                        <a:pt x="586" y="195"/>
                      </a:cubicBezTo>
                      <a:cubicBezTo>
                        <a:pt x="509" y="228"/>
                        <a:pt x="469" y="311"/>
                        <a:pt x="490" y="390"/>
                      </a:cubicBezTo>
                      <a:cubicBezTo>
                        <a:pt x="436" y="503"/>
                        <a:pt x="236" y="515"/>
                        <a:pt x="123" y="516"/>
                      </a:cubicBezTo>
                      <a:cubicBezTo>
                        <a:pt x="0" y="517"/>
                        <a:pt x="0" y="707"/>
                        <a:pt x="123" y="706"/>
                      </a:cubicBezTo>
                      <a:cubicBezTo>
                        <a:pt x="267" y="705"/>
                        <a:pt x="451" y="675"/>
                        <a:pt x="571" y="585"/>
                      </a:cubicBezTo>
                      <a:cubicBezTo>
                        <a:pt x="589" y="626"/>
                        <a:pt x="607" y="665"/>
                        <a:pt x="625" y="706"/>
                      </a:cubicBezTo>
                      <a:cubicBezTo>
                        <a:pt x="649" y="759"/>
                        <a:pt x="674" y="815"/>
                        <a:pt x="702" y="880"/>
                      </a:cubicBezTo>
                      <a:cubicBezTo>
                        <a:pt x="520" y="960"/>
                        <a:pt x="325" y="1053"/>
                        <a:pt x="152" y="1125"/>
                      </a:cubicBezTo>
                      <a:cubicBezTo>
                        <a:pt x="42" y="1170"/>
                        <a:pt x="90" y="1353"/>
                        <a:pt x="203" y="1307"/>
                      </a:cubicBezTo>
                      <a:cubicBezTo>
                        <a:pt x="423" y="1216"/>
                        <a:pt x="680" y="1089"/>
                        <a:pt x="900" y="998"/>
                      </a:cubicBezTo>
                      <a:cubicBezTo>
                        <a:pt x="907" y="995"/>
                        <a:pt x="913" y="992"/>
                        <a:pt x="918" y="988"/>
                      </a:cubicBezTo>
                      <a:close/>
                    </a:path>
                  </a:pathLst>
                </a:custGeom>
                <a:solidFill>
                  <a:srgbClr val="0e0f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31" name="组合 46"/>
              <p:cNvGrpSpPr/>
              <p:nvPr/>
            </p:nvGrpSpPr>
            <p:grpSpPr>
              <a:xfrm>
                <a:off x="6604200" y="381240"/>
                <a:ext cx="2940120" cy="2930400"/>
                <a:chOff x="6604200" y="381240"/>
                <a:chExt cx="2940120" cy="2930400"/>
              </a:xfrm>
            </p:grpSpPr>
            <p:grpSp>
              <p:nvGrpSpPr>
                <p:cNvPr id="232" name="组合 47"/>
                <p:cNvGrpSpPr/>
                <p:nvPr/>
              </p:nvGrpSpPr>
              <p:grpSpPr>
                <a:xfrm>
                  <a:off x="6604200" y="381240"/>
                  <a:ext cx="2940120" cy="2930400"/>
                  <a:chOff x="6604200" y="381240"/>
                  <a:chExt cx="2940120" cy="2930400"/>
                </a:xfrm>
              </p:grpSpPr>
              <p:sp>
                <p:nvSpPr>
                  <p:cNvPr id="233" name="右耳朵"/>
                  <p:cNvSpPr/>
                  <p:nvPr/>
                </p:nvSpPr>
                <p:spPr>
                  <a:xfrm flipH="1" rot="21130200">
                    <a:off x="8953560" y="2073240"/>
                    <a:ext cx="250920" cy="396720"/>
                  </a:xfrm>
                  <a:custGeom>
                    <a:avLst/>
                    <a:gdLst>
                      <a:gd name="textAreaLeft" fmla="*/ -360 w 250920"/>
                      <a:gd name="textAreaRight" fmla="*/ 250920 w 250920"/>
                      <a:gd name="textAreaTop" fmla="*/ 0 h 396720"/>
                      <a:gd name="textAreaBottom" fmla="*/ 397080 h 396720"/>
                    </a:gdLst>
                    <a:ahLst/>
                    <a:rect l="textAreaLeft" t="textAreaTop" r="textAreaRight" b="textAreaBottom"/>
                    <a:pathLst>
                      <a:path w="80" h="126">
                        <a:moveTo>
                          <a:pt x="80" y="63"/>
                        </a:moveTo>
                        <a:cubicBezTo>
                          <a:pt x="80" y="98"/>
                          <a:pt x="62" y="126"/>
                          <a:pt x="39" y="126"/>
                        </a:cubicBezTo>
                        <a:cubicBezTo>
                          <a:pt x="17" y="126"/>
                          <a:pt x="0" y="83"/>
                          <a:pt x="0" y="48"/>
                        </a:cubicBezTo>
                        <a:cubicBezTo>
                          <a:pt x="0" y="13"/>
                          <a:pt x="17" y="0"/>
                          <a:pt x="39" y="0"/>
                        </a:cubicBezTo>
                        <a:cubicBezTo>
                          <a:pt x="62" y="0"/>
                          <a:pt x="80" y="28"/>
                          <a:pt x="80" y="63"/>
                        </a:cubicBezTo>
                        <a:close/>
                      </a:path>
                    </a:pathLst>
                  </a:custGeom>
                  <a:solidFill>
                    <a:schemeClr val="bg1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4" name="左耳朵"/>
                  <p:cNvSpPr/>
                  <p:nvPr/>
                </p:nvSpPr>
                <p:spPr>
                  <a:xfrm rot="21130200">
                    <a:off x="7331760" y="2296080"/>
                    <a:ext cx="250560" cy="396720"/>
                  </a:xfrm>
                  <a:custGeom>
                    <a:avLst/>
                    <a:gdLst>
                      <a:gd name="textAreaLeft" fmla="*/ 0 w 250560"/>
                      <a:gd name="textAreaRight" fmla="*/ 250920 w 250560"/>
                      <a:gd name="textAreaTop" fmla="*/ 0 h 396720"/>
                      <a:gd name="textAreaBottom" fmla="*/ 397080 h 396720"/>
                    </a:gdLst>
                    <a:ahLst/>
                    <a:rect l="textAreaLeft" t="textAreaTop" r="textAreaRight" b="textAreaBottom"/>
                    <a:pathLst>
                      <a:path w="80" h="126">
                        <a:moveTo>
                          <a:pt x="80" y="63"/>
                        </a:moveTo>
                        <a:cubicBezTo>
                          <a:pt x="80" y="98"/>
                          <a:pt x="62" y="126"/>
                          <a:pt x="39" y="126"/>
                        </a:cubicBezTo>
                        <a:cubicBezTo>
                          <a:pt x="17" y="126"/>
                          <a:pt x="0" y="83"/>
                          <a:pt x="0" y="48"/>
                        </a:cubicBezTo>
                        <a:cubicBezTo>
                          <a:pt x="0" y="13"/>
                          <a:pt x="17" y="0"/>
                          <a:pt x="39" y="0"/>
                        </a:cubicBezTo>
                        <a:cubicBezTo>
                          <a:pt x="62" y="0"/>
                          <a:pt x="80" y="28"/>
                          <a:pt x="80" y="63"/>
                        </a:cubicBezTo>
                        <a:close/>
                      </a:path>
                    </a:pathLst>
                  </a:custGeom>
                  <a:solidFill>
                    <a:schemeClr val="bg1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5" name="脸蛋"/>
                  <p:cNvSpPr/>
                  <p:nvPr/>
                </p:nvSpPr>
                <p:spPr>
                  <a:xfrm rot="21130200">
                    <a:off x="7387200" y="1061640"/>
                    <a:ext cx="1695240" cy="2144520"/>
                  </a:xfrm>
                  <a:custGeom>
                    <a:avLst/>
                    <a:gdLst>
                      <a:gd name="textAreaLeft" fmla="*/ 0 w 1695240"/>
                      <a:gd name="textAreaRight" fmla="*/ 1695600 w 1695240"/>
                      <a:gd name="textAreaTop" fmla="*/ 0 h 2144520"/>
                      <a:gd name="textAreaBottom" fmla="*/ 2144880 h 2144520"/>
                    </a:gdLst>
                    <a:ahLst/>
                    <a:rect l="textAreaLeft" t="textAreaTop" r="textAreaRight" b="textAreaBottom"/>
                    <a:pathLst>
                      <a:path w="200" h="278">
                        <a:moveTo>
                          <a:pt x="100" y="0"/>
                        </a:moveTo>
                        <a:cubicBezTo>
                          <a:pt x="155" y="0"/>
                          <a:pt x="200" y="62"/>
                          <a:pt x="200" y="138"/>
                        </a:cubicBezTo>
                        <a:cubicBezTo>
                          <a:pt x="200" y="215"/>
                          <a:pt x="157" y="270"/>
                          <a:pt x="100" y="278"/>
                        </a:cubicBezTo>
                        <a:cubicBezTo>
                          <a:pt x="42" y="270"/>
                          <a:pt x="0" y="215"/>
                          <a:pt x="0" y="139"/>
                        </a:cubicBezTo>
                        <a:cubicBezTo>
                          <a:pt x="0" y="62"/>
                          <a:pt x="44" y="0"/>
                          <a:pt x="100" y="0"/>
                        </a:cubicBezTo>
                        <a:close/>
                      </a:path>
                    </a:pathLst>
                  </a:custGeom>
                  <a:solidFill>
                    <a:schemeClr val="bg1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6" name="头发"/>
                  <p:cNvSpPr/>
                  <p:nvPr/>
                </p:nvSpPr>
                <p:spPr>
                  <a:xfrm rot="21130200">
                    <a:off x="6725880" y="555480"/>
                    <a:ext cx="2696040" cy="1975320"/>
                  </a:xfrm>
                  <a:custGeom>
                    <a:avLst/>
                    <a:gdLst>
                      <a:gd name="textAreaLeft" fmla="*/ 0 w 2696040"/>
                      <a:gd name="textAreaRight" fmla="*/ 2696400 w 2696040"/>
                      <a:gd name="textAreaTop" fmla="*/ 0 h 1975320"/>
                      <a:gd name="textAreaBottom" fmla="*/ 1975680 h 1975320"/>
                    </a:gdLst>
                    <a:ahLst/>
                    <a:rect l="textAreaLeft" t="textAreaTop" r="textAreaRight" b="textAreaBottom"/>
                    <a:pathLst>
                      <a:path w="318" h="233">
                        <a:moveTo>
                          <a:pt x="0" y="148"/>
                        </a:moveTo>
                        <a:cubicBezTo>
                          <a:pt x="13" y="162"/>
                          <a:pt x="23" y="162"/>
                          <a:pt x="31" y="157"/>
                        </a:cubicBezTo>
                        <a:cubicBezTo>
                          <a:pt x="21" y="155"/>
                          <a:pt x="16" y="142"/>
                          <a:pt x="15" y="130"/>
                        </a:cubicBezTo>
                        <a:cubicBezTo>
                          <a:pt x="12" y="109"/>
                          <a:pt x="33" y="83"/>
                          <a:pt x="55" y="75"/>
                        </a:cubicBezTo>
                        <a:cubicBezTo>
                          <a:pt x="52" y="74"/>
                          <a:pt x="48" y="73"/>
                          <a:pt x="45" y="72"/>
                        </a:cubicBezTo>
                        <a:cubicBezTo>
                          <a:pt x="65" y="68"/>
                          <a:pt x="77" y="64"/>
                          <a:pt x="77" y="47"/>
                        </a:cubicBezTo>
                        <a:cubicBezTo>
                          <a:pt x="77" y="26"/>
                          <a:pt x="102" y="15"/>
                          <a:pt x="121" y="25"/>
                        </a:cubicBezTo>
                        <a:cubicBezTo>
                          <a:pt x="131" y="15"/>
                          <a:pt x="149" y="13"/>
                          <a:pt x="162" y="25"/>
                        </a:cubicBezTo>
                        <a:cubicBezTo>
                          <a:pt x="164" y="25"/>
                          <a:pt x="164" y="25"/>
                          <a:pt x="164" y="25"/>
                        </a:cubicBezTo>
                        <a:cubicBezTo>
                          <a:pt x="174" y="1"/>
                          <a:pt x="207" y="0"/>
                          <a:pt x="215" y="21"/>
                        </a:cubicBezTo>
                        <a:cubicBezTo>
                          <a:pt x="220" y="35"/>
                          <a:pt x="233" y="35"/>
                          <a:pt x="252" y="25"/>
                        </a:cubicBezTo>
                        <a:cubicBezTo>
                          <a:pt x="251" y="32"/>
                          <a:pt x="247" y="36"/>
                          <a:pt x="242" y="38"/>
                        </a:cubicBezTo>
                        <a:cubicBezTo>
                          <a:pt x="260" y="38"/>
                          <a:pt x="278" y="49"/>
                          <a:pt x="278" y="67"/>
                        </a:cubicBezTo>
                        <a:cubicBezTo>
                          <a:pt x="278" y="71"/>
                          <a:pt x="278" y="76"/>
                          <a:pt x="279" y="80"/>
                        </a:cubicBezTo>
                        <a:cubicBezTo>
                          <a:pt x="281" y="82"/>
                          <a:pt x="283" y="84"/>
                          <a:pt x="285" y="86"/>
                        </a:cubicBezTo>
                        <a:cubicBezTo>
                          <a:pt x="303" y="96"/>
                          <a:pt x="318" y="117"/>
                          <a:pt x="316" y="134"/>
                        </a:cubicBezTo>
                        <a:cubicBezTo>
                          <a:pt x="315" y="144"/>
                          <a:pt x="311" y="155"/>
                          <a:pt x="304" y="158"/>
                        </a:cubicBezTo>
                        <a:cubicBezTo>
                          <a:pt x="304" y="159"/>
                          <a:pt x="304" y="159"/>
                          <a:pt x="304" y="159"/>
                        </a:cubicBezTo>
                        <a:cubicBezTo>
                          <a:pt x="308" y="157"/>
                          <a:pt x="312" y="154"/>
                          <a:pt x="317" y="149"/>
                        </a:cubicBezTo>
                        <a:cubicBezTo>
                          <a:pt x="317" y="161"/>
                          <a:pt x="310" y="170"/>
                          <a:pt x="301" y="175"/>
                        </a:cubicBezTo>
                        <a:cubicBezTo>
                          <a:pt x="300" y="180"/>
                          <a:pt x="299" y="185"/>
                          <a:pt x="298" y="189"/>
                        </a:cubicBezTo>
                        <a:cubicBezTo>
                          <a:pt x="307" y="230"/>
                          <a:pt x="250" y="212"/>
                          <a:pt x="264" y="213"/>
                        </a:cubicBezTo>
                        <a:cubicBezTo>
                          <a:pt x="263" y="166"/>
                          <a:pt x="254" y="193"/>
                          <a:pt x="229" y="172"/>
                        </a:cubicBezTo>
                        <a:cubicBezTo>
                          <a:pt x="220" y="164"/>
                          <a:pt x="215" y="149"/>
                          <a:pt x="202" y="112"/>
                        </a:cubicBezTo>
                        <a:cubicBezTo>
                          <a:pt x="181" y="148"/>
                          <a:pt x="98" y="233"/>
                          <a:pt x="40" y="214"/>
                        </a:cubicBezTo>
                        <a:cubicBezTo>
                          <a:pt x="49" y="213"/>
                          <a:pt x="69" y="165"/>
                          <a:pt x="61" y="170"/>
                        </a:cubicBezTo>
                        <a:cubicBezTo>
                          <a:pt x="47" y="182"/>
                          <a:pt x="28" y="212"/>
                          <a:pt x="0" y="148"/>
                        </a:cubicBezTo>
                        <a:close/>
                        <a:moveTo>
                          <a:pt x="40" y="136"/>
                        </a:moveTo>
                        <a:cubicBezTo>
                          <a:pt x="41" y="129"/>
                          <a:pt x="42" y="124"/>
                          <a:pt x="43" y="127"/>
                        </a:cubicBezTo>
                        <a:cubicBezTo>
                          <a:pt x="43" y="127"/>
                          <a:pt x="43" y="127"/>
                          <a:pt x="43" y="127"/>
                        </a:cubicBezTo>
                        <a:cubicBezTo>
                          <a:pt x="43" y="125"/>
                          <a:pt x="43" y="125"/>
                          <a:pt x="43" y="125"/>
                        </a:cubicBezTo>
                        <a:cubicBezTo>
                          <a:pt x="31" y="133"/>
                          <a:pt x="19" y="144"/>
                          <a:pt x="34" y="153"/>
                        </a:cubicBezTo>
                        <a:cubicBezTo>
                          <a:pt x="35" y="152"/>
                          <a:pt x="36" y="151"/>
                          <a:pt x="37" y="150"/>
                        </a:cubicBezTo>
                        <a:cubicBezTo>
                          <a:pt x="38" y="146"/>
                          <a:pt x="39" y="141"/>
                          <a:pt x="40" y="136"/>
                        </a:cubicBezTo>
                        <a:close/>
                      </a:path>
                    </a:pathLst>
                  </a:custGeom>
                  <a:solidFill>
                    <a:schemeClr val="tx1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accent5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7" name="右眼"/>
                  <p:cNvSpPr/>
                  <p:nvPr/>
                </p:nvSpPr>
                <p:spPr>
                  <a:xfrm rot="21130200">
                    <a:off x="8573400" y="2232000"/>
                    <a:ext cx="270720" cy="900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chemeClr val="tx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9080" bIns="19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8" name="眼镜"/>
                  <p:cNvSpPr/>
                  <p:nvPr/>
                </p:nvSpPr>
                <p:spPr>
                  <a:xfrm rot="21130200">
                    <a:off x="7363800" y="2019240"/>
                    <a:ext cx="1800360" cy="636480"/>
                  </a:xfrm>
                  <a:custGeom>
                    <a:avLst/>
                    <a:gdLst>
                      <a:gd name="textAreaLeft" fmla="*/ 0 w 1800360"/>
                      <a:gd name="textAreaRight" fmla="*/ 1800720 w 1800360"/>
                      <a:gd name="textAreaTop" fmla="*/ 0 h 636480"/>
                      <a:gd name="textAreaBottom" fmla="*/ 636840 h 636480"/>
                    </a:gdLst>
                    <a:ahLst/>
                    <a:rect l="textAreaLeft" t="textAreaTop" r="textAreaRight" b="textAreaBottom"/>
                    <a:pathLst>
                      <a:path w="1660" h="587">
                        <a:moveTo>
                          <a:pt x="1658" y="103"/>
                        </a:moveTo>
                        <a:cubicBezTo>
                          <a:pt x="1658" y="71"/>
                          <a:pt x="1653" y="83"/>
                          <a:pt x="1596" y="68"/>
                        </a:cubicBezTo>
                        <a:cubicBezTo>
                          <a:pt x="1539" y="52"/>
                          <a:pt x="1364" y="0"/>
                          <a:pt x="1096" y="39"/>
                        </a:cubicBezTo>
                        <a:cubicBezTo>
                          <a:pt x="872" y="72"/>
                          <a:pt x="929" y="146"/>
                          <a:pt x="837" y="149"/>
                        </a:cubicBezTo>
                        <a:cubicBezTo>
                          <a:pt x="823" y="149"/>
                          <a:pt x="823" y="149"/>
                          <a:pt x="823" y="149"/>
                        </a:cubicBezTo>
                        <a:cubicBezTo>
                          <a:pt x="731" y="146"/>
                          <a:pt x="788" y="72"/>
                          <a:pt x="564" y="39"/>
                        </a:cubicBezTo>
                        <a:cubicBezTo>
                          <a:pt x="296" y="0"/>
                          <a:pt x="121" y="52"/>
                          <a:pt x="64" y="68"/>
                        </a:cubicBezTo>
                        <a:cubicBezTo>
                          <a:pt x="7" y="83"/>
                          <a:pt x="2" y="71"/>
                          <a:pt x="2" y="103"/>
                        </a:cubicBezTo>
                        <a:cubicBezTo>
                          <a:pt x="3" y="135"/>
                          <a:pt x="0" y="161"/>
                          <a:pt x="27" y="161"/>
                        </a:cubicBezTo>
                        <a:cubicBezTo>
                          <a:pt x="55" y="161"/>
                          <a:pt x="55" y="161"/>
                          <a:pt x="98" y="296"/>
                        </a:cubicBezTo>
                        <a:cubicBezTo>
                          <a:pt x="150" y="458"/>
                          <a:pt x="164" y="504"/>
                          <a:pt x="214" y="541"/>
                        </a:cubicBezTo>
                        <a:cubicBezTo>
                          <a:pt x="275" y="587"/>
                          <a:pt x="531" y="587"/>
                          <a:pt x="614" y="537"/>
                        </a:cubicBezTo>
                        <a:cubicBezTo>
                          <a:pt x="717" y="475"/>
                          <a:pt x="704" y="241"/>
                          <a:pt x="828" y="238"/>
                        </a:cubicBezTo>
                        <a:cubicBezTo>
                          <a:pt x="829" y="238"/>
                          <a:pt x="831" y="238"/>
                          <a:pt x="832" y="238"/>
                        </a:cubicBezTo>
                        <a:cubicBezTo>
                          <a:pt x="956" y="241"/>
                          <a:pt x="943" y="475"/>
                          <a:pt x="1046" y="537"/>
                        </a:cubicBezTo>
                        <a:cubicBezTo>
                          <a:pt x="1129" y="587"/>
                          <a:pt x="1385" y="587"/>
                          <a:pt x="1446" y="541"/>
                        </a:cubicBezTo>
                        <a:cubicBezTo>
                          <a:pt x="1496" y="504"/>
                          <a:pt x="1510" y="458"/>
                          <a:pt x="1562" y="296"/>
                        </a:cubicBezTo>
                        <a:cubicBezTo>
                          <a:pt x="1605" y="161"/>
                          <a:pt x="1605" y="161"/>
                          <a:pt x="1633" y="161"/>
                        </a:cubicBezTo>
                        <a:cubicBezTo>
                          <a:pt x="1660" y="161"/>
                          <a:pt x="1657" y="135"/>
                          <a:pt x="1658" y="103"/>
                        </a:cubicBezTo>
                        <a:close/>
                        <a:moveTo>
                          <a:pt x="670" y="341"/>
                        </a:moveTo>
                        <a:cubicBezTo>
                          <a:pt x="644" y="407"/>
                          <a:pt x="624" y="465"/>
                          <a:pt x="588" y="489"/>
                        </a:cubicBezTo>
                        <a:cubicBezTo>
                          <a:pt x="550" y="515"/>
                          <a:pt x="494" y="520"/>
                          <a:pt x="411" y="519"/>
                        </a:cubicBezTo>
                        <a:cubicBezTo>
                          <a:pt x="341" y="517"/>
                          <a:pt x="266" y="520"/>
                          <a:pt x="234" y="490"/>
                        </a:cubicBezTo>
                        <a:cubicBezTo>
                          <a:pt x="208" y="465"/>
                          <a:pt x="182" y="386"/>
                          <a:pt x="160" y="316"/>
                        </a:cubicBezTo>
                        <a:cubicBezTo>
                          <a:pt x="129" y="219"/>
                          <a:pt x="115" y="161"/>
                          <a:pt x="146" y="132"/>
                        </a:cubicBezTo>
                        <a:cubicBezTo>
                          <a:pt x="185" y="97"/>
                          <a:pt x="286" y="91"/>
                          <a:pt x="405" y="89"/>
                        </a:cubicBezTo>
                        <a:cubicBezTo>
                          <a:pt x="524" y="88"/>
                          <a:pt x="682" y="123"/>
                          <a:pt x="702" y="170"/>
                        </a:cubicBezTo>
                        <a:cubicBezTo>
                          <a:pt x="718" y="205"/>
                          <a:pt x="693" y="282"/>
                          <a:pt x="670" y="341"/>
                        </a:cubicBezTo>
                        <a:close/>
                        <a:moveTo>
                          <a:pt x="1500" y="316"/>
                        </a:moveTo>
                        <a:cubicBezTo>
                          <a:pt x="1478" y="386"/>
                          <a:pt x="1452" y="465"/>
                          <a:pt x="1426" y="490"/>
                        </a:cubicBezTo>
                        <a:cubicBezTo>
                          <a:pt x="1394" y="520"/>
                          <a:pt x="1319" y="517"/>
                          <a:pt x="1249" y="519"/>
                        </a:cubicBezTo>
                        <a:cubicBezTo>
                          <a:pt x="1166" y="520"/>
                          <a:pt x="1110" y="515"/>
                          <a:pt x="1072" y="489"/>
                        </a:cubicBezTo>
                        <a:cubicBezTo>
                          <a:pt x="1036" y="465"/>
                          <a:pt x="1016" y="407"/>
                          <a:pt x="990" y="341"/>
                        </a:cubicBezTo>
                        <a:cubicBezTo>
                          <a:pt x="967" y="282"/>
                          <a:pt x="942" y="205"/>
                          <a:pt x="958" y="170"/>
                        </a:cubicBezTo>
                        <a:cubicBezTo>
                          <a:pt x="978" y="123"/>
                          <a:pt x="1136" y="88"/>
                          <a:pt x="1255" y="89"/>
                        </a:cubicBezTo>
                        <a:cubicBezTo>
                          <a:pt x="1374" y="91"/>
                          <a:pt x="1475" y="97"/>
                          <a:pt x="1514" y="132"/>
                        </a:cubicBezTo>
                        <a:cubicBezTo>
                          <a:pt x="1546" y="161"/>
                          <a:pt x="1531" y="219"/>
                          <a:pt x="1500" y="316"/>
                        </a:cubicBezTo>
                        <a:close/>
                      </a:path>
                    </a:pathLst>
                  </a:custGeom>
                  <a:solidFill>
                    <a:schemeClr val="tx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accent4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9" name="左眼"/>
                  <p:cNvSpPr/>
                  <p:nvPr/>
                </p:nvSpPr>
                <p:spPr>
                  <a:xfrm rot="21130200">
                    <a:off x="7698240" y="2352240"/>
                    <a:ext cx="270720" cy="900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chemeClr val="tx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9080" bIns="19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40" name="Freeform 67"/>
                <p:cNvSpPr/>
                <p:nvPr/>
              </p:nvSpPr>
              <p:spPr>
                <a:xfrm rot="21130200">
                  <a:off x="7947000" y="2724840"/>
                  <a:ext cx="780480" cy="222120"/>
                </a:xfrm>
                <a:custGeom>
                  <a:avLst/>
                  <a:gdLst>
                    <a:gd name="textAreaLeft" fmla="*/ 0 w 780480"/>
                    <a:gd name="textAreaRight" fmla="*/ 780840 w 78048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2019" h="574">
                      <a:moveTo>
                        <a:pt x="1263" y="404"/>
                      </a:moveTo>
                      <a:cubicBezTo>
                        <a:pt x="1209" y="412"/>
                        <a:pt x="1299" y="482"/>
                        <a:pt x="1313" y="505"/>
                      </a:cubicBezTo>
                      <a:cubicBezTo>
                        <a:pt x="1199" y="543"/>
                        <a:pt x="1068" y="380"/>
                        <a:pt x="1010" y="278"/>
                      </a:cubicBezTo>
                      <a:cubicBezTo>
                        <a:pt x="911" y="372"/>
                        <a:pt x="849" y="504"/>
                        <a:pt x="682" y="530"/>
                      </a:cubicBezTo>
                      <a:cubicBezTo>
                        <a:pt x="689" y="479"/>
                        <a:pt x="750" y="481"/>
                        <a:pt x="758" y="429"/>
                      </a:cubicBezTo>
                      <a:cubicBezTo>
                        <a:pt x="636" y="451"/>
                        <a:pt x="596" y="554"/>
                        <a:pt x="429" y="530"/>
                      </a:cubicBezTo>
                      <a:cubicBezTo>
                        <a:pt x="437" y="479"/>
                        <a:pt x="498" y="481"/>
                        <a:pt x="505" y="429"/>
                      </a:cubicBezTo>
                      <a:cubicBezTo>
                        <a:pt x="429" y="463"/>
                        <a:pt x="303" y="463"/>
                        <a:pt x="227" y="429"/>
                      </a:cubicBezTo>
                      <a:cubicBezTo>
                        <a:pt x="231" y="400"/>
                        <a:pt x="273" y="408"/>
                        <a:pt x="303" y="404"/>
                      </a:cubicBezTo>
                      <a:cubicBezTo>
                        <a:pt x="183" y="296"/>
                        <a:pt x="11" y="241"/>
                        <a:pt x="0" y="25"/>
                      </a:cubicBezTo>
                      <a:cubicBezTo>
                        <a:pt x="141" y="308"/>
                        <a:pt x="715" y="319"/>
                        <a:pt x="884" y="50"/>
                      </a:cubicBezTo>
                      <a:cubicBezTo>
                        <a:pt x="983" y="39"/>
                        <a:pt x="1015" y="103"/>
                        <a:pt x="1061" y="25"/>
                      </a:cubicBezTo>
                      <a:cubicBezTo>
                        <a:pt x="1248" y="264"/>
                        <a:pt x="1870" y="375"/>
                        <a:pt x="1995" y="0"/>
                      </a:cubicBezTo>
                      <a:cubicBezTo>
                        <a:pt x="2019" y="133"/>
                        <a:pt x="1904" y="346"/>
                        <a:pt x="1717" y="354"/>
                      </a:cubicBezTo>
                      <a:cubicBezTo>
                        <a:pt x="1708" y="396"/>
                        <a:pt x="1737" y="401"/>
                        <a:pt x="1768" y="404"/>
                      </a:cubicBezTo>
                      <a:cubicBezTo>
                        <a:pt x="1743" y="470"/>
                        <a:pt x="1570" y="472"/>
                        <a:pt x="1515" y="429"/>
                      </a:cubicBezTo>
                      <a:cubicBezTo>
                        <a:pt x="1455" y="437"/>
                        <a:pt x="1543" y="498"/>
                        <a:pt x="1566" y="505"/>
                      </a:cubicBezTo>
                      <a:cubicBezTo>
                        <a:pt x="1462" y="574"/>
                        <a:pt x="1319" y="467"/>
                        <a:pt x="1263" y="40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1" name="文本框 63"/>
            <p:cNvSpPr/>
            <p:nvPr/>
          </p:nvSpPr>
          <p:spPr>
            <a:xfrm rot="19974000">
              <a:off x="8795880" y="3153600"/>
              <a:ext cx="627480" cy="9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2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造字工房悦黑体验版细体"/>
                  <a:ea typeface="造字工房悦黑体验版细体"/>
                </a:rPr>
                <a:t>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组合 72"/>
            <p:cNvGrpSpPr/>
            <p:nvPr/>
          </p:nvGrpSpPr>
          <p:grpSpPr>
            <a:xfrm>
              <a:off x="9465480" y="2026080"/>
              <a:ext cx="2012400" cy="2028240"/>
              <a:chOff x="9465480" y="2026080"/>
              <a:chExt cx="2012400" cy="2028240"/>
            </a:xfrm>
          </p:grpSpPr>
          <p:sp>
            <p:nvSpPr>
              <p:cNvPr id="243" name="椭圆形标注 66"/>
              <p:cNvSpPr/>
              <p:nvPr/>
            </p:nvSpPr>
            <p:spPr>
              <a:xfrm rot="2868000">
                <a:off x="9695520" y="2386800"/>
                <a:ext cx="1553040" cy="1306800"/>
              </a:xfrm>
              <a:prstGeom prst="wedgeEllipseCallout">
                <a:avLst>
                  <a:gd name="adj1" fmla="val -20833"/>
                  <a:gd name="adj2" fmla="val 62500"/>
                </a:avLst>
              </a:prstGeom>
              <a:solidFill>
                <a:schemeClr val="accent3">
                  <a:lumMod val="60000"/>
                  <a:lumOff val="4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4" name="任意多边形 71"/>
              <p:cNvSpPr/>
              <p:nvPr/>
            </p:nvSpPr>
            <p:spPr>
              <a:xfrm rot="2868000">
                <a:off x="9645120" y="2502360"/>
                <a:ext cx="1545840" cy="1171080"/>
              </a:xfrm>
              <a:custGeom>
                <a:avLst/>
                <a:gdLst>
                  <a:gd name="textAreaLeft" fmla="*/ 0 w 1545840"/>
                  <a:gd name="textAreaRight" fmla="*/ 1546200 w 1545840"/>
                  <a:gd name="textAreaTop" fmla="*/ 0 h 1171080"/>
                  <a:gd name="textAreaBottom" fmla="*/ 1171440 h 1171080"/>
                </a:gdLst>
                <a:ahLst/>
                <a:rect l="textAreaLeft" t="textAreaTop" r="textAreaRight" b="textAreaBottom"/>
                <a:pathLst>
                  <a:path w="1546234" h="1171566">
                    <a:moveTo>
                      <a:pt x="91197" y="325778"/>
                    </a:moveTo>
                    <a:cubicBezTo>
                      <a:pt x="139486" y="273466"/>
                      <a:pt x="192229" y="226043"/>
                      <a:pt x="253527" y="190188"/>
                    </a:cubicBezTo>
                    <a:cubicBezTo>
                      <a:pt x="351168" y="134794"/>
                      <a:pt x="457878" y="119802"/>
                      <a:pt x="564693" y="125227"/>
                    </a:cubicBezTo>
                    <a:cubicBezTo>
                      <a:pt x="580035" y="112045"/>
                      <a:pt x="598076" y="99618"/>
                      <a:pt x="617133" y="89806"/>
                    </a:cubicBezTo>
                    <a:cubicBezTo>
                      <a:pt x="712676" y="46059"/>
                      <a:pt x="823486" y="78814"/>
                      <a:pt x="879174" y="164882"/>
                    </a:cubicBezTo>
                    <a:cubicBezTo>
                      <a:pt x="992031" y="198648"/>
                      <a:pt x="1121320" y="108240"/>
                      <a:pt x="1219477" y="16984"/>
                    </a:cubicBezTo>
                    <a:lnTo>
                      <a:pt x="1236889" y="0"/>
                    </a:lnTo>
                    <a:lnTo>
                      <a:pt x="1286164" y="29411"/>
                    </a:lnTo>
                    <a:cubicBezTo>
                      <a:pt x="1324049" y="57124"/>
                      <a:pt x="1358412" y="87720"/>
                      <a:pt x="1388923" y="120655"/>
                    </a:cubicBezTo>
                    <a:lnTo>
                      <a:pt x="1415284" y="155502"/>
                    </a:lnTo>
                    <a:lnTo>
                      <a:pt x="1379830" y="190273"/>
                    </a:lnTo>
                    <a:cubicBezTo>
                      <a:pt x="1268136" y="289018"/>
                      <a:pt x="1130603" y="377665"/>
                      <a:pt x="992056" y="404427"/>
                    </a:cubicBezTo>
                    <a:cubicBezTo>
                      <a:pt x="1014973" y="455694"/>
                      <a:pt x="1036033" y="505275"/>
                      <a:pt x="1058950" y="556542"/>
                    </a:cubicBezTo>
                    <a:cubicBezTo>
                      <a:pt x="1087958" y="623493"/>
                      <a:pt x="1118910" y="693901"/>
                      <a:pt x="1155695" y="774679"/>
                    </a:cubicBezTo>
                    <a:cubicBezTo>
                      <a:pt x="1269539" y="723819"/>
                      <a:pt x="1389140" y="672679"/>
                      <a:pt x="1506865" y="621740"/>
                    </a:cubicBezTo>
                    <a:lnTo>
                      <a:pt x="1546234" y="604523"/>
                    </a:lnTo>
                    <a:lnTo>
                      <a:pt x="1516473" y="722176"/>
                    </a:lnTo>
                    <a:cubicBezTo>
                      <a:pt x="1487877" y="797380"/>
                      <a:pt x="1444327" y="865592"/>
                      <a:pt x="1389273" y="924969"/>
                    </a:cubicBezTo>
                    <a:lnTo>
                      <a:pt x="1383400" y="930287"/>
                    </a:lnTo>
                    <a:lnTo>
                      <a:pt x="1310996" y="961617"/>
                    </a:lnTo>
                    <a:cubicBezTo>
                      <a:pt x="1237456" y="993938"/>
                      <a:pt x="1165935" y="1026131"/>
                      <a:pt x="1098453" y="1058071"/>
                    </a:cubicBezTo>
                    <a:cubicBezTo>
                      <a:pt x="1089766" y="1062049"/>
                      <a:pt x="1081923" y="1065096"/>
                      <a:pt x="1073994" y="1066372"/>
                    </a:cubicBezTo>
                    <a:lnTo>
                      <a:pt x="1082005" y="1123463"/>
                    </a:lnTo>
                    <a:lnTo>
                      <a:pt x="1075513" y="1126310"/>
                    </a:lnTo>
                    <a:cubicBezTo>
                      <a:pt x="1034609" y="1140673"/>
                      <a:pt x="992122" y="1152137"/>
                      <a:pt x="948484" y="1160469"/>
                    </a:cubicBezTo>
                    <a:lnTo>
                      <a:pt x="851848" y="1171566"/>
                    </a:lnTo>
                    <a:lnTo>
                      <a:pt x="850324" y="1157128"/>
                    </a:lnTo>
                    <a:cubicBezTo>
                      <a:pt x="843363" y="1116734"/>
                      <a:pt x="833430" y="1076819"/>
                      <a:pt x="819509" y="1037100"/>
                    </a:cubicBezTo>
                    <a:cubicBezTo>
                      <a:pt x="816464" y="1029257"/>
                      <a:pt x="815190" y="1021328"/>
                      <a:pt x="813916" y="1013399"/>
                    </a:cubicBezTo>
                    <a:cubicBezTo>
                      <a:pt x="801668" y="998903"/>
                      <a:pt x="792034" y="983392"/>
                      <a:pt x="784085" y="966023"/>
                    </a:cubicBezTo>
                    <a:cubicBezTo>
                      <a:pt x="743240" y="874788"/>
                      <a:pt x="709328" y="798310"/>
                      <a:pt x="676346" y="722674"/>
                    </a:cubicBezTo>
                    <a:cubicBezTo>
                      <a:pt x="628309" y="611369"/>
                      <a:pt x="581459" y="506222"/>
                      <a:pt x="517026" y="368194"/>
                    </a:cubicBezTo>
                    <a:cubicBezTo>
                      <a:pt x="516011" y="365579"/>
                      <a:pt x="514996" y="362966"/>
                      <a:pt x="513980" y="360352"/>
                    </a:cubicBezTo>
                    <a:cubicBezTo>
                      <a:pt x="466060" y="360922"/>
                      <a:pt x="417642" y="369508"/>
                      <a:pt x="375315" y="393779"/>
                    </a:cubicBezTo>
                    <a:cubicBezTo>
                      <a:pt x="278603" y="450015"/>
                      <a:pt x="210794" y="552785"/>
                      <a:pt x="143895" y="637751"/>
                    </a:cubicBezTo>
                    <a:cubicBezTo>
                      <a:pt x="120050" y="667777"/>
                      <a:pt x="90456" y="681158"/>
                      <a:pt x="60954" y="682450"/>
                    </a:cubicBezTo>
                    <a:lnTo>
                      <a:pt x="22876" y="676702"/>
                    </a:lnTo>
                    <a:lnTo>
                      <a:pt x="1162" y="558040"/>
                    </a:lnTo>
                    <a:cubicBezTo>
                      <a:pt x="-1633" y="515064"/>
                      <a:pt x="594" y="471698"/>
                      <a:pt x="8042" y="428591"/>
                    </a:cubicBezTo>
                    <a:lnTo>
                      <a:pt x="10130" y="421600"/>
                    </a:lnTo>
                    <a:lnTo>
                      <a:pt x="21594" y="407075"/>
                    </a:lnTo>
                    <a:cubicBezTo>
                      <a:pt x="44023" y="379310"/>
                      <a:pt x="67053" y="351933"/>
                      <a:pt x="91197" y="325778"/>
                    </a:cubicBezTo>
                    <a:close/>
                  </a:path>
                </a:pathLst>
              </a:cu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45" name="文本框 73"/>
            <p:cNvSpPr/>
            <p:nvPr/>
          </p:nvSpPr>
          <p:spPr>
            <a:xfrm flipH="1" rot="1626000">
              <a:off x="10097640" y="2776320"/>
              <a:ext cx="627480" cy="9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>
                <a:lnSpc>
                  <a:spcPct val="12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造字工房悦黑体验版细体"/>
                  <a:ea typeface="造字工房悦黑体验版细体"/>
                </a:rPr>
                <a:t>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 rot="996600">
              <a:off x="10217520" y="2019600"/>
              <a:ext cx="122508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方正正大黑简体"/>
                  <a:ea typeface="方正正大黑简体"/>
                </a:rPr>
                <a:t>另一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8"/>
          <p:cNvGrpSpPr/>
          <p:nvPr/>
        </p:nvGrpSpPr>
        <p:grpSpPr>
          <a:xfrm>
            <a:off x="2828880" y="759960"/>
            <a:ext cx="2790000" cy="3688560"/>
            <a:chOff x="2828880" y="759960"/>
            <a:chExt cx="2790000" cy="3688560"/>
          </a:xfrm>
        </p:grpSpPr>
        <p:sp>
          <p:nvSpPr>
            <p:cNvPr id="248" name="3"/>
            <p:cNvSpPr/>
            <p:nvPr/>
          </p:nvSpPr>
          <p:spPr>
            <a:xfrm>
              <a:off x="2886120" y="817200"/>
              <a:ext cx="2732760" cy="36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38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背景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2"/>
            <p:cNvSpPr/>
            <p:nvPr/>
          </p:nvSpPr>
          <p:spPr>
            <a:xfrm>
              <a:off x="2867040" y="798120"/>
              <a:ext cx="2732760" cy="36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3800" spc="-1" strike="noStrike">
                  <a:solidFill>
                    <a:schemeClr val="accent1"/>
                  </a:solidFill>
                  <a:latin typeface="方正正大黑简体"/>
                  <a:ea typeface="方正正大黑简体"/>
                </a:rPr>
                <a:t>背景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1"/>
            <p:cNvSpPr/>
            <p:nvPr/>
          </p:nvSpPr>
          <p:spPr>
            <a:xfrm>
              <a:off x="2828880" y="759960"/>
              <a:ext cx="2732760" cy="36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38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背景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矩形 82"/>
          <p:cNvSpPr/>
          <p:nvPr/>
        </p:nvSpPr>
        <p:spPr>
          <a:xfrm>
            <a:off x="626400" y="2615040"/>
            <a:ext cx="240012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20000"/>
              </a:lnSpc>
            </a:pPr>
            <a:r>
              <a:rPr b="0" lang="zh-CN" sz="40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的我们会遇到更多的阻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组合 39"/>
          <p:cNvGrpSpPr/>
          <p:nvPr/>
        </p:nvGrpSpPr>
        <p:grpSpPr>
          <a:xfrm>
            <a:off x="1193400" y="1125360"/>
            <a:ext cx="4035600" cy="3641400"/>
            <a:chOff x="1193400" y="1125360"/>
            <a:chExt cx="4035600" cy="3641400"/>
          </a:xfrm>
        </p:grpSpPr>
        <p:grpSp>
          <p:nvGrpSpPr>
            <p:cNvPr id="253" name="组合 38"/>
            <p:cNvGrpSpPr/>
            <p:nvPr/>
          </p:nvGrpSpPr>
          <p:grpSpPr>
            <a:xfrm>
              <a:off x="3338280" y="3297600"/>
              <a:ext cx="1890720" cy="1167840"/>
              <a:chOff x="3338280" y="3297600"/>
              <a:chExt cx="1890720" cy="1167840"/>
            </a:xfrm>
          </p:grpSpPr>
          <p:grpSp>
            <p:nvGrpSpPr>
              <p:cNvPr id="254" name="组合 13"/>
              <p:cNvGrpSpPr/>
              <p:nvPr/>
            </p:nvGrpSpPr>
            <p:grpSpPr>
              <a:xfrm>
                <a:off x="3338280" y="3356280"/>
                <a:ext cx="1252440" cy="1075680"/>
                <a:chOff x="3338280" y="3356280"/>
                <a:chExt cx="1252440" cy="1075680"/>
              </a:xfrm>
            </p:grpSpPr>
            <p:sp>
              <p:nvSpPr>
                <p:cNvPr id="255" name="Rectangle 13"/>
                <p:cNvSpPr/>
                <p:nvPr/>
              </p:nvSpPr>
              <p:spPr>
                <a:xfrm>
                  <a:off x="4530960" y="3704040"/>
                  <a:ext cx="59760" cy="358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" name="任意多边形 15"/>
                <p:cNvSpPr/>
                <p:nvPr/>
              </p:nvSpPr>
              <p:spPr>
                <a:xfrm>
                  <a:off x="3338280" y="3356280"/>
                  <a:ext cx="1135080" cy="1075680"/>
                </a:xfrm>
                <a:custGeom>
                  <a:avLst/>
                  <a:gdLst>
                    <a:gd name="textAreaLeft" fmla="*/ 0 w 1135080"/>
                    <a:gd name="textAreaRight" fmla="*/ 1135440 w 1135080"/>
                    <a:gd name="textAreaTop" fmla="*/ 0 h 1075680"/>
                    <a:gd name="textAreaBottom" fmla="*/ 1076040 h 1075680"/>
                  </a:gdLst>
                  <a:ahLst/>
                  <a:rect l="textAreaLeft" t="textAreaTop" r="textAreaRight" b="textAreaBottom"/>
                  <a:pathLst>
                    <a:path w="1135385" h="1076095">
                      <a:moveTo>
                        <a:pt x="179199" y="358715"/>
                      </a:moveTo>
                      <a:cubicBezTo>
                        <a:pt x="146211" y="358715"/>
                        <a:pt x="119300" y="385607"/>
                        <a:pt x="119300" y="418573"/>
                      </a:cubicBezTo>
                      <a:cubicBezTo>
                        <a:pt x="119300" y="418573"/>
                        <a:pt x="119300" y="418573"/>
                        <a:pt x="119300" y="657571"/>
                      </a:cubicBezTo>
                      <a:cubicBezTo>
                        <a:pt x="119300" y="690536"/>
                        <a:pt x="146211" y="717429"/>
                        <a:pt x="179199" y="717429"/>
                      </a:cubicBezTo>
                      <a:cubicBezTo>
                        <a:pt x="179199" y="717429"/>
                        <a:pt x="179199" y="717429"/>
                        <a:pt x="418365" y="717429"/>
                      </a:cubicBezTo>
                      <a:cubicBezTo>
                        <a:pt x="418365" y="717429"/>
                        <a:pt x="418365" y="717429"/>
                        <a:pt x="418365" y="358715"/>
                      </a:cubicBezTo>
                      <a:cubicBezTo>
                        <a:pt x="418365" y="358715"/>
                        <a:pt x="418365" y="358715"/>
                        <a:pt x="179199" y="358715"/>
                      </a:cubicBezTo>
                      <a:close/>
                      <a:moveTo>
                        <a:pt x="896378" y="182626"/>
                      </a:moveTo>
                      <a:lnTo>
                        <a:pt x="478014" y="322353"/>
                      </a:lnTo>
                      <a:lnTo>
                        <a:pt x="478014" y="752974"/>
                      </a:lnTo>
                      <a:lnTo>
                        <a:pt x="896378" y="897195"/>
                      </a:lnTo>
                      <a:close/>
                      <a:moveTo>
                        <a:pt x="1016086" y="142996"/>
                      </a:moveTo>
                      <a:lnTo>
                        <a:pt x="956028" y="162606"/>
                      </a:lnTo>
                      <a:lnTo>
                        <a:pt x="956028" y="915580"/>
                      </a:lnTo>
                      <a:lnTo>
                        <a:pt x="1016086" y="933148"/>
                      </a:lnTo>
                      <a:close/>
                      <a:moveTo>
                        <a:pt x="1135385" y="0"/>
                      </a:moveTo>
                      <a:cubicBezTo>
                        <a:pt x="1135385" y="0"/>
                        <a:pt x="1135385" y="0"/>
                        <a:pt x="1135385" y="1076095"/>
                      </a:cubicBezTo>
                      <a:cubicBezTo>
                        <a:pt x="1135385" y="1076095"/>
                        <a:pt x="1135385" y="1076095"/>
                        <a:pt x="531726" y="879016"/>
                      </a:cubicBezTo>
                      <a:lnTo>
                        <a:pt x="406395" y="838099"/>
                      </a:lnTo>
                      <a:lnTo>
                        <a:pt x="406395" y="835910"/>
                      </a:lnTo>
                      <a:lnTo>
                        <a:pt x="169296" y="835910"/>
                      </a:lnTo>
                      <a:lnTo>
                        <a:pt x="143136" y="833270"/>
                      </a:lnTo>
                      <a:cubicBezTo>
                        <a:pt x="61474" y="816546"/>
                        <a:pt x="0" y="744237"/>
                        <a:pt x="0" y="657638"/>
                      </a:cubicBezTo>
                      <a:cubicBezTo>
                        <a:pt x="0" y="657638"/>
                        <a:pt x="0" y="657638"/>
                        <a:pt x="0" y="418457"/>
                      </a:cubicBezTo>
                      <a:cubicBezTo>
                        <a:pt x="0" y="319486"/>
                        <a:pt x="80293" y="239181"/>
                        <a:pt x="179249" y="239181"/>
                      </a:cubicBezTo>
                      <a:cubicBezTo>
                        <a:pt x="179249" y="239181"/>
                        <a:pt x="179249" y="239181"/>
                        <a:pt x="402767" y="239181"/>
                      </a:cubicBezTo>
                      <a:cubicBezTo>
                        <a:pt x="402767" y="239181"/>
                        <a:pt x="402767" y="239181"/>
                        <a:pt x="1135385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57" name="Rectangle 13"/>
              <p:cNvSpPr/>
              <p:nvPr/>
            </p:nvSpPr>
            <p:spPr>
              <a:xfrm rot="3154200">
                <a:off x="4835880" y="3250800"/>
                <a:ext cx="59760" cy="358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Rectangle 13"/>
              <p:cNvSpPr/>
              <p:nvPr/>
            </p:nvSpPr>
            <p:spPr>
              <a:xfrm rot="4422000">
                <a:off x="5016600" y="3566160"/>
                <a:ext cx="59760" cy="358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Rectangle 13"/>
              <p:cNvSpPr/>
              <p:nvPr/>
            </p:nvSpPr>
            <p:spPr>
              <a:xfrm rot="6195600">
                <a:off x="5017680" y="3904920"/>
                <a:ext cx="59760" cy="358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Rectangle 13"/>
              <p:cNvSpPr/>
              <p:nvPr/>
            </p:nvSpPr>
            <p:spPr>
              <a:xfrm rot="7361400">
                <a:off x="4849560" y="4164120"/>
                <a:ext cx="59760" cy="358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1" name="组合 21"/>
            <p:cNvGrpSpPr/>
            <p:nvPr/>
          </p:nvGrpSpPr>
          <p:grpSpPr>
            <a:xfrm>
              <a:off x="1193400" y="1125360"/>
              <a:ext cx="2696040" cy="3641400"/>
              <a:chOff x="1193400" y="1125360"/>
              <a:chExt cx="2696040" cy="3641400"/>
            </a:xfrm>
          </p:grpSpPr>
          <p:grpSp>
            <p:nvGrpSpPr>
              <p:cNvPr id="262" name="组合 22"/>
              <p:cNvGrpSpPr/>
              <p:nvPr/>
            </p:nvGrpSpPr>
            <p:grpSpPr>
              <a:xfrm>
                <a:off x="2010240" y="3942720"/>
                <a:ext cx="1490400" cy="824040"/>
                <a:chOff x="2010240" y="3942720"/>
                <a:chExt cx="1490400" cy="824040"/>
              </a:xfrm>
            </p:grpSpPr>
            <p:grpSp>
              <p:nvGrpSpPr>
                <p:cNvPr id="263" name="组合 33"/>
                <p:cNvGrpSpPr/>
                <p:nvPr/>
              </p:nvGrpSpPr>
              <p:grpSpPr>
                <a:xfrm>
                  <a:off x="2010240" y="3942720"/>
                  <a:ext cx="1235520" cy="824040"/>
                  <a:chOff x="2010240" y="3942720"/>
                  <a:chExt cx="1235520" cy="824040"/>
                </a:xfrm>
              </p:grpSpPr>
              <p:sp>
                <p:nvSpPr>
                  <p:cNvPr id="264" name="任意多边形 36"/>
                  <p:cNvSpPr/>
                  <p:nvPr/>
                </p:nvSpPr>
                <p:spPr>
                  <a:xfrm>
                    <a:off x="2010240" y="3942720"/>
                    <a:ext cx="1235520" cy="824040"/>
                  </a:xfrm>
                  <a:custGeom>
                    <a:avLst/>
                    <a:gdLst>
                      <a:gd name="textAreaLeft" fmla="*/ 0 w 1235520"/>
                      <a:gd name="textAreaRight" fmla="*/ 1235880 w 1235520"/>
                      <a:gd name="textAreaTop" fmla="*/ 0 h 824040"/>
                      <a:gd name="textAreaBottom" fmla="*/ 824400 h 824040"/>
                    </a:gdLst>
                    <a:ahLst/>
                    <a:rect l="textAreaLeft" t="textAreaTop" r="textAreaRight" b="textAreaBottom"/>
                    <a:pathLst>
                      <a:path w="1915693" h="1277628">
                        <a:moveTo>
                          <a:pt x="1533352" y="0"/>
                        </a:moveTo>
                        <a:lnTo>
                          <a:pt x="1537099" y="0"/>
                        </a:lnTo>
                        <a:cubicBezTo>
                          <a:pt x="1550169" y="0"/>
                          <a:pt x="1569178" y="0"/>
                          <a:pt x="1596828" y="0"/>
                        </a:cubicBezTo>
                        <a:cubicBezTo>
                          <a:pt x="1915693" y="0"/>
                          <a:pt x="1915693" y="214608"/>
                          <a:pt x="1915693" y="479320"/>
                        </a:cubicBezTo>
                        <a:cubicBezTo>
                          <a:pt x="1915693" y="479320"/>
                          <a:pt x="1915693" y="479320"/>
                          <a:pt x="1915693" y="1277628"/>
                        </a:cubicBezTo>
                        <a:cubicBezTo>
                          <a:pt x="1915693" y="1277628"/>
                          <a:pt x="1915693" y="1277628"/>
                          <a:pt x="1204382" y="1277628"/>
                        </a:cubicBezTo>
                        <a:lnTo>
                          <a:pt x="1202643" y="1277628"/>
                        </a:lnTo>
                        <a:close/>
                        <a:moveTo>
                          <a:pt x="318865" y="0"/>
                        </a:moveTo>
                        <a:cubicBezTo>
                          <a:pt x="318865" y="0"/>
                          <a:pt x="318865" y="0"/>
                          <a:pt x="378140" y="0"/>
                        </a:cubicBezTo>
                        <a:lnTo>
                          <a:pt x="382340" y="0"/>
                        </a:lnTo>
                        <a:lnTo>
                          <a:pt x="713049" y="1277628"/>
                        </a:lnTo>
                        <a:lnTo>
                          <a:pt x="632328" y="1277628"/>
                        </a:lnTo>
                        <a:cubicBezTo>
                          <a:pt x="448991" y="1277628"/>
                          <a:pt x="239462" y="1277628"/>
                          <a:pt x="0" y="1277628"/>
                        </a:cubicBezTo>
                        <a:cubicBezTo>
                          <a:pt x="0" y="1277628"/>
                          <a:pt x="0" y="1277628"/>
                          <a:pt x="0" y="479320"/>
                        </a:cubicBezTo>
                        <a:cubicBezTo>
                          <a:pt x="0" y="214608"/>
                          <a:pt x="0" y="0"/>
                          <a:pt x="318865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265" name="图片 3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2453400" y="3942720"/>
                    <a:ext cx="3492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66" name="任意多边形 34"/>
                <p:cNvSpPr/>
                <p:nvPr/>
              </p:nvSpPr>
              <p:spPr>
                <a:xfrm flipH="1">
                  <a:off x="3165120" y="4158720"/>
                  <a:ext cx="333720" cy="343800"/>
                </a:xfrm>
                <a:custGeom>
                  <a:avLst/>
                  <a:gdLst>
                    <a:gd name="textAreaLeft" fmla="*/ -360 w 333720"/>
                    <a:gd name="textAreaRight" fmla="*/ 333720 w 333720"/>
                    <a:gd name="textAreaTop" fmla="*/ 0 h 343800"/>
                    <a:gd name="textAreaBottom" fmla="*/ 344160 h 343800"/>
                  </a:gdLst>
                  <a:ahLst/>
                  <a:rect l="textAreaLeft" t="textAreaTop" r="textAreaRight" b="textAreaBottom"/>
                  <a:pathLst>
                    <a:path w="333940" h="344194">
                      <a:moveTo>
                        <a:pt x="282" y="0"/>
                      </a:moveTo>
                      <a:lnTo>
                        <a:pt x="84491" y="0"/>
                      </a:lnTo>
                      <a:lnTo>
                        <a:pt x="105520" y="44005"/>
                      </a:lnTo>
                      <a:cubicBezTo>
                        <a:pt x="114146" y="59469"/>
                        <a:pt x="124128" y="74662"/>
                        <a:pt x="135413" y="87902"/>
                      </a:cubicBezTo>
                      <a:cubicBezTo>
                        <a:pt x="148433" y="101792"/>
                        <a:pt x="161019" y="113947"/>
                        <a:pt x="174474" y="122194"/>
                      </a:cubicBezTo>
                      <a:cubicBezTo>
                        <a:pt x="180984" y="126535"/>
                        <a:pt x="186626" y="130442"/>
                        <a:pt x="193137" y="132613"/>
                      </a:cubicBezTo>
                      <a:cubicBezTo>
                        <a:pt x="199213" y="134783"/>
                        <a:pt x="203987" y="137822"/>
                        <a:pt x="210063" y="138690"/>
                      </a:cubicBezTo>
                      <a:cubicBezTo>
                        <a:pt x="220480" y="142162"/>
                        <a:pt x="229160" y="143465"/>
                        <a:pt x="235670" y="143465"/>
                      </a:cubicBezTo>
                      <a:cubicBezTo>
                        <a:pt x="241312" y="144333"/>
                        <a:pt x="244784" y="144333"/>
                        <a:pt x="244784" y="144333"/>
                      </a:cubicBezTo>
                      <a:cubicBezTo>
                        <a:pt x="299904" y="150844"/>
                        <a:pt x="339400" y="200330"/>
                        <a:pt x="333324" y="255024"/>
                      </a:cubicBezTo>
                      <a:cubicBezTo>
                        <a:pt x="327247" y="310153"/>
                        <a:pt x="277770" y="349655"/>
                        <a:pt x="222650" y="343578"/>
                      </a:cubicBezTo>
                      <a:cubicBezTo>
                        <a:pt x="208761" y="342275"/>
                        <a:pt x="196175" y="337934"/>
                        <a:pt x="184890" y="331857"/>
                      </a:cubicBezTo>
                      <a:cubicBezTo>
                        <a:pt x="184890" y="331857"/>
                        <a:pt x="184890" y="331857"/>
                        <a:pt x="182720" y="330555"/>
                      </a:cubicBezTo>
                      <a:cubicBezTo>
                        <a:pt x="182720" y="330555"/>
                        <a:pt x="175776" y="326214"/>
                        <a:pt x="162756" y="319269"/>
                      </a:cubicBezTo>
                      <a:cubicBezTo>
                        <a:pt x="150169" y="312757"/>
                        <a:pt x="132808" y="301037"/>
                        <a:pt x="114146" y="284976"/>
                      </a:cubicBezTo>
                      <a:cubicBezTo>
                        <a:pt x="104163" y="277597"/>
                        <a:pt x="95483" y="267613"/>
                        <a:pt x="86369" y="257629"/>
                      </a:cubicBezTo>
                      <a:cubicBezTo>
                        <a:pt x="76386" y="247645"/>
                        <a:pt x="68574" y="235924"/>
                        <a:pt x="60328" y="224204"/>
                      </a:cubicBezTo>
                      <a:cubicBezTo>
                        <a:pt x="43835" y="200330"/>
                        <a:pt x="31683" y="173416"/>
                        <a:pt x="22134" y="146937"/>
                      </a:cubicBezTo>
                      <a:cubicBezTo>
                        <a:pt x="3906" y="93111"/>
                        <a:pt x="0" y="41021"/>
                        <a:pt x="0" y="282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椭圆 35"/>
                <p:cNvSpPr/>
                <p:nvPr/>
              </p:nvSpPr>
              <p:spPr>
                <a:xfrm>
                  <a:off x="3413880" y="4126320"/>
                  <a:ext cx="86760" cy="86760"/>
                </a:xfrm>
                <a:prstGeom prst="ellipse">
                  <a:avLst/>
                </a:prstGeom>
                <a:solidFill>
                  <a:schemeClr val="tx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8" name="组合 23"/>
              <p:cNvGrpSpPr/>
              <p:nvPr/>
            </p:nvGrpSpPr>
            <p:grpSpPr>
              <a:xfrm>
                <a:off x="1193400" y="1125360"/>
                <a:ext cx="2696040" cy="2667600"/>
                <a:chOff x="1193400" y="1125360"/>
                <a:chExt cx="2696040" cy="2667600"/>
              </a:xfrm>
            </p:grpSpPr>
            <p:grpSp>
              <p:nvGrpSpPr>
                <p:cNvPr id="269" name="组合 24"/>
                <p:cNvGrpSpPr/>
                <p:nvPr/>
              </p:nvGrpSpPr>
              <p:grpSpPr>
                <a:xfrm>
                  <a:off x="1193400" y="1125360"/>
                  <a:ext cx="2696040" cy="2667600"/>
                  <a:chOff x="1193400" y="1125360"/>
                  <a:chExt cx="2696040" cy="2667600"/>
                </a:xfrm>
              </p:grpSpPr>
              <p:sp>
                <p:nvSpPr>
                  <p:cNvPr id="270" name="右耳朵"/>
                  <p:cNvSpPr/>
                  <p:nvPr/>
                </p:nvSpPr>
                <p:spPr>
                  <a:xfrm flipH="1">
                    <a:off x="3312360" y="2773440"/>
                    <a:ext cx="250560" cy="396720"/>
                  </a:xfrm>
                  <a:custGeom>
                    <a:avLst/>
                    <a:gdLst>
                      <a:gd name="textAreaLeft" fmla="*/ 360 w 250560"/>
                      <a:gd name="textAreaRight" fmla="*/ 251280 w 250560"/>
                      <a:gd name="textAreaTop" fmla="*/ 0 h 396720"/>
                      <a:gd name="textAreaBottom" fmla="*/ 397080 h 396720"/>
                    </a:gdLst>
                    <a:ahLst/>
                    <a:rect l="textAreaLeft" t="textAreaTop" r="textAreaRight" b="textAreaBottom"/>
                    <a:pathLst>
                      <a:path w="80" h="126">
                        <a:moveTo>
                          <a:pt x="80" y="63"/>
                        </a:moveTo>
                        <a:cubicBezTo>
                          <a:pt x="80" y="98"/>
                          <a:pt x="62" y="126"/>
                          <a:pt x="39" y="126"/>
                        </a:cubicBezTo>
                        <a:cubicBezTo>
                          <a:pt x="17" y="126"/>
                          <a:pt x="0" y="83"/>
                          <a:pt x="0" y="48"/>
                        </a:cubicBezTo>
                        <a:cubicBezTo>
                          <a:pt x="0" y="13"/>
                          <a:pt x="17" y="0"/>
                          <a:pt x="39" y="0"/>
                        </a:cubicBezTo>
                        <a:cubicBezTo>
                          <a:pt x="62" y="0"/>
                          <a:pt x="80" y="28"/>
                          <a:pt x="80" y="63"/>
                        </a:cubicBezTo>
                        <a:close/>
                      </a:path>
                    </a:pathLst>
                  </a:custGeom>
                  <a:solidFill>
                    <a:schemeClr val="bg1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1" name="左耳朵"/>
                  <p:cNvSpPr/>
                  <p:nvPr/>
                </p:nvSpPr>
                <p:spPr>
                  <a:xfrm>
                    <a:off x="1675440" y="2773440"/>
                    <a:ext cx="250560" cy="396720"/>
                  </a:xfrm>
                  <a:custGeom>
                    <a:avLst/>
                    <a:gdLst>
                      <a:gd name="textAreaLeft" fmla="*/ 0 w 250560"/>
                      <a:gd name="textAreaRight" fmla="*/ 250920 w 250560"/>
                      <a:gd name="textAreaTop" fmla="*/ 0 h 396720"/>
                      <a:gd name="textAreaBottom" fmla="*/ 397080 h 396720"/>
                    </a:gdLst>
                    <a:ahLst/>
                    <a:rect l="textAreaLeft" t="textAreaTop" r="textAreaRight" b="textAreaBottom"/>
                    <a:pathLst>
                      <a:path w="80" h="126">
                        <a:moveTo>
                          <a:pt x="80" y="63"/>
                        </a:moveTo>
                        <a:cubicBezTo>
                          <a:pt x="80" y="98"/>
                          <a:pt x="62" y="126"/>
                          <a:pt x="39" y="126"/>
                        </a:cubicBezTo>
                        <a:cubicBezTo>
                          <a:pt x="17" y="126"/>
                          <a:pt x="0" y="83"/>
                          <a:pt x="0" y="48"/>
                        </a:cubicBezTo>
                        <a:cubicBezTo>
                          <a:pt x="0" y="13"/>
                          <a:pt x="17" y="0"/>
                          <a:pt x="39" y="0"/>
                        </a:cubicBezTo>
                        <a:cubicBezTo>
                          <a:pt x="62" y="0"/>
                          <a:pt x="80" y="28"/>
                          <a:pt x="80" y="63"/>
                        </a:cubicBezTo>
                        <a:close/>
                      </a:path>
                    </a:pathLst>
                  </a:custGeom>
                  <a:solidFill>
                    <a:schemeClr val="bg1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2" name="脸蛋"/>
                  <p:cNvSpPr/>
                  <p:nvPr/>
                </p:nvSpPr>
                <p:spPr>
                  <a:xfrm>
                    <a:off x="1773000" y="1648440"/>
                    <a:ext cx="1695240" cy="2144520"/>
                  </a:xfrm>
                  <a:custGeom>
                    <a:avLst/>
                    <a:gdLst>
                      <a:gd name="textAreaLeft" fmla="*/ 0 w 1695240"/>
                      <a:gd name="textAreaRight" fmla="*/ 1695600 w 1695240"/>
                      <a:gd name="textAreaTop" fmla="*/ 0 h 2144520"/>
                      <a:gd name="textAreaBottom" fmla="*/ 2144880 h 2144520"/>
                    </a:gdLst>
                    <a:ahLst/>
                    <a:rect l="textAreaLeft" t="textAreaTop" r="textAreaRight" b="textAreaBottom"/>
                    <a:pathLst>
                      <a:path w="200" h="278">
                        <a:moveTo>
                          <a:pt x="100" y="0"/>
                        </a:moveTo>
                        <a:cubicBezTo>
                          <a:pt x="155" y="0"/>
                          <a:pt x="200" y="62"/>
                          <a:pt x="200" y="138"/>
                        </a:cubicBezTo>
                        <a:cubicBezTo>
                          <a:pt x="200" y="215"/>
                          <a:pt x="157" y="270"/>
                          <a:pt x="100" y="278"/>
                        </a:cubicBezTo>
                        <a:cubicBezTo>
                          <a:pt x="42" y="270"/>
                          <a:pt x="0" y="215"/>
                          <a:pt x="0" y="139"/>
                        </a:cubicBezTo>
                        <a:cubicBezTo>
                          <a:pt x="0" y="62"/>
                          <a:pt x="44" y="0"/>
                          <a:pt x="100" y="0"/>
                        </a:cubicBezTo>
                        <a:close/>
                      </a:path>
                    </a:pathLst>
                  </a:custGeom>
                  <a:solidFill>
                    <a:schemeClr val="bg1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3" name="头发"/>
                  <p:cNvSpPr/>
                  <p:nvPr/>
                </p:nvSpPr>
                <p:spPr>
                  <a:xfrm>
                    <a:off x="1193400" y="1125360"/>
                    <a:ext cx="2696040" cy="1975320"/>
                  </a:xfrm>
                  <a:custGeom>
                    <a:avLst/>
                    <a:gdLst>
                      <a:gd name="textAreaLeft" fmla="*/ 0 w 2696040"/>
                      <a:gd name="textAreaRight" fmla="*/ 2696400 w 2696040"/>
                      <a:gd name="textAreaTop" fmla="*/ 0 h 1975320"/>
                      <a:gd name="textAreaBottom" fmla="*/ 1975680 h 1975320"/>
                    </a:gdLst>
                    <a:ahLst/>
                    <a:rect l="textAreaLeft" t="textAreaTop" r="textAreaRight" b="textAreaBottom"/>
                    <a:pathLst>
                      <a:path w="318" h="233">
                        <a:moveTo>
                          <a:pt x="0" y="148"/>
                        </a:moveTo>
                        <a:cubicBezTo>
                          <a:pt x="13" y="162"/>
                          <a:pt x="23" y="162"/>
                          <a:pt x="31" y="157"/>
                        </a:cubicBezTo>
                        <a:cubicBezTo>
                          <a:pt x="21" y="155"/>
                          <a:pt x="16" y="142"/>
                          <a:pt x="15" y="130"/>
                        </a:cubicBezTo>
                        <a:cubicBezTo>
                          <a:pt x="12" y="109"/>
                          <a:pt x="33" y="83"/>
                          <a:pt x="55" y="75"/>
                        </a:cubicBezTo>
                        <a:cubicBezTo>
                          <a:pt x="52" y="74"/>
                          <a:pt x="48" y="73"/>
                          <a:pt x="45" y="72"/>
                        </a:cubicBezTo>
                        <a:cubicBezTo>
                          <a:pt x="65" y="68"/>
                          <a:pt x="77" y="64"/>
                          <a:pt x="77" y="47"/>
                        </a:cubicBezTo>
                        <a:cubicBezTo>
                          <a:pt x="77" y="26"/>
                          <a:pt x="102" y="15"/>
                          <a:pt x="121" y="25"/>
                        </a:cubicBezTo>
                        <a:cubicBezTo>
                          <a:pt x="131" y="15"/>
                          <a:pt x="149" y="13"/>
                          <a:pt x="162" y="25"/>
                        </a:cubicBezTo>
                        <a:cubicBezTo>
                          <a:pt x="164" y="25"/>
                          <a:pt x="164" y="25"/>
                          <a:pt x="164" y="25"/>
                        </a:cubicBezTo>
                        <a:cubicBezTo>
                          <a:pt x="174" y="1"/>
                          <a:pt x="207" y="0"/>
                          <a:pt x="215" y="21"/>
                        </a:cubicBezTo>
                        <a:cubicBezTo>
                          <a:pt x="220" y="35"/>
                          <a:pt x="233" y="35"/>
                          <a:pt x="252" y="25"/>
                        </a:cubicBezTo>
                        <a:cubicBezTo>
                          <a:pt x="251" y="32"/>
                          <a:pt x="247" y="36"/>
                          <a:pt x="242" y="38"/>
                        </a:cubicBezTo>
                        <a:cubicBezTo>
                          <a:pt x="260" y="38"/>
                          <a:pt x="278" y="49"/>
                          <a:pt x="278" y="67"/>
                        </a:cubicBezTo>
                        <a:cubicBezTo>
                          <a:pt x="278" y="71"/>
                          <a:pt x="278" y="76"/>
                          <a:pt x="279" y="80"/>
                        </a:cubicBezTo>
                        <a:cubicBezTo>
                          <a:pt x="281" y="82"/>
                          <a:pt x="283" y="84"/>
                          <a:pt x="285" y="86"/>
                        </a:cubicBezTo>
                        <a:cubicBezTo>
                          <a:pt x="303" y="96"/>
                          <a:pt x="318" y="117"/>
                          <a:pt x="316" y="134"/>
                        </a:cubicBezTo>
                        <a:cubicBezTo>
                          <a:pt x="315" y="144"/>
                          <a:pt x="311" y="155"/>
                          <a:pt x="304" y="158"/>
                        </a:cubicBezTo>
                        <a:cubicBezTo>
                          <a:pt x="304" y="159"/>
                          <a:pt x="304" y="159"/>
                          <a:pt x="304" y="159"/>
                        </a:cubicBezTo>
                        <a:cubicBezTo>
                          <a:pt x="308" y="157"/>
                          <a:pt x="312" y="154"/>
                          <a:pt x="317" y="149"/>
                        </a:cubicBezTo>
                        <a:cubicBezTo>
                          <a:pt x="317" y="161"/>
                          <a:pt x="310" y="170"/>
                          <a:pt x="301" y="175"/>
                        </a:cubicBezTo>
                        <a:cubicBezTo>
                          <a:pt x="300" y="180"/>
                          <a:pt x="299" y="185"/>
                          <a:pt x="298" y="189"/>
                        </a:cubicBezTo>
                        <a:cubicBezTo>
                          <a:pt x="307" y="230"/>
                          <a:pt x="250" y="212"/>
                          <a:pt x="264" y="213"/>
                        </a:cubicBezTo>
                        <a:cubicBezTo>
                          <a:pt x="263" y="166"/>
                          <a:pt x="254" y="193"/>
                          <a:pt x="229" y="172"/>
                        </a:cubicBezTo>
                        <a:cubicBezTo>
                          <a:pt x="220" y="164"/>
                          <a:pt x="215" y="149"/>
                          <a:pt x="202" y="112"/>
                        </a:cubicBezTo>
                        <a:cubicBezTo>
                          <a:pt x="181" y="148"/>
                          <a:pt x="98" y="233"/>
                          <a:pt x="40" y="214"/>
                        </a:cubicBezTo>
                        <a:cubicBezTo>
                          <a:pt x="49" y="213"/>
                          <a:pt x="69" y="165"/>
                          <a:pt x="61" y="170"/>
                        </a:cubicBezTo>
                        <a:cubicBezTo>
                          <a:pt x="47" y="182"/>
                          <a:pt x="28" y="212"/>
                          <a:pt x="0" y="148"/>
                        </a:cubicBezTo>
                        <a:close/>
                        <a:moveTo>
                          <a:pt x="40" y="136"/>
                        </a:moveTo>
                        <a:cubicBezTo>
                          <a:pt x="41" y="129"/>
                          <a:pt x="42" y="124"/>
                          <a:pt x="43" y="127"/>
                        </a:cubicBezTo>
                        <a:cubicBezTo>
                          <a:pt x="43" y="127"/>
                          <a:pt x="43" y="127"/>
                          <a:pt x="43" y="127"/>
                        </a:cubicBezTo>
                        <a:cubicBezTo>
                          <a:pt x="43" y="125"/>
                          <a:pt x="43" y="125"/>
                          <a:pt x="43" y="125"/>
                        </a:cubicBezTo>
                        <a:cubicBezTo>
                          <a:pt x="31" y="133"/>
                          <a:pt x="19" y="144"/>
                          <a:pt x="34" y="153"/>
                        </a:cubicBezTo>
                        <a:cubicBezTo>
                          <a:pt x="35" y="152"/>
                          <a:pt x="36" y="151"/>
                          <a:pt x="37" y="150"/>
                        </a:cubicBezTo>
                        <a:cubicBezTo>
                          <a:pt x="38" y="146"/>
                          <a:pt x="39" y="141"/>
                          <a:pt x="40" y="136"/>
                        </a:cubicBezTo>
                        <a:close/>
                      </a:path>
                    </a:pathLst>
                  </a:custGeom>
                  <a:solidFill>
                    <a:schemeClr val="tx1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accent5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4" name="右眼"/>
                  <p:cNvSpPr/>
                  <p:nvPr/>
                </p:nvSpPr>
                <p:spPr>
                  <a:xfrm>
                    <a:off x="2935080" y="2881800"/>
                    <a:ext cx="270720" cy="900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chemeClr val="tx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9080" bIns="19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5" name="眼镜"/>
                  <p:cNvSpPr/>
                  <p:nvPr/>
                </p:nvSpPr>
                <p:spPr>
                  <a:xfrm>
                    <a:off x="1721160" y="2607480"/>
                    <a:ext cx="1800360" cy="636480"/>
                  </a:xfrm>
                  <a:custGeom>
                    <a:avLst/>
                    <a:gdLst>
                      <a:gd name="textAreaLeft" fmla="*/ 0 w 1800360"/>
                      <a:gd name="textAreaRight" fmla="*/ 1800720 w 1800360"/>
                      <a:gd name="textAreaTop" fmla="*/ 0 h 636480"/>
                      <a:gd name="textAreaBottom" fmla="*/ 636840 h 636480"/>
                    </a:gdLst>
                    <a:ahLst/>
                    <a:rect l="textAreaLeft" t="textAreaTop" r="textAreaRight" b="textAreaBottom"/>
                    <a:pathLst>
                      <a:path w="1660" h="587">
                        <a:moveTo>
                          <a:pt x="1658" y="103"/>
                        </a:moveTo>
                        <a:cubicBezTo>
                          <a:pt x="1658" y="71"/>
                          <a:pt x="1653" y="83"/>
                          <a:pt x="1596" y="68"/>
                        </a:cubicBezTo>
                        <a:cubicBezTo>
                          <a:pt x="1539" y="52"/>
                          <a:pt x="1364" y="0"/>
                          <a:pt x="1096" y="39"/>
                        </a:cubicBezTo>
                        <a:cubicBezTo>
                          <a:pt x="872" y="72"/>
                          <a:pt x="929" y="146"/>
                          <a:pt x="837" y="149"/>
                        </a:cubicBezTo>
                        <a:cubicBezTo>
                          <a:pt x="823" y="149"/>
                          <a:pt x="823" y="149"/>
                          <a:pt x="823" y="149"/>
                        </a:cubicBezTo>
                        <a:cubicBezTo>
                          <a:pt x="731" y="146"/>
                          <a:pt x="788" y="72"/>
                          <a:pt x="564" y="39"/>
                        </a:cubicBezTo>
                        <a:cubicBezTo>
                          <a:pt x="296" y="0"/>
                          <a:pt x="121" y="52"/>
                          <a:pt x="64" y="68"/>
                        </a:cubicBezTo>
                        <a:cubicBezTo>
                          <a:pt x="7" y="83"/>
                          <a:pt x="2" y="71"/>
                          <a:pt x="2" y="103"/>
                        </a:cubicBezTo>
                        <a:cubicBezTo>
                          <a:pt x="3" y="135"/>
                          <a:pt x="0" y="161"/>
                          <a:pt x="27" y="161"/>
                        </a:cubicBezTo>
                        <a:cubicBezTo>
                          <a:pt x="55" y="161"/>
                          <a:pt x="55" y="161"/>
                          <a:pt x="98" y="296"/>
                        </a:cubicBezTo>
                        <a:cubicBezTo>
                          <a:pt x="150" y="458"/>
                          <a:pt x="164" y="504"/>
                          <a:pt x="214" y="541"/>
                        </a:cubicBezTo>
                        <a:cubicBezTo>
                          <a:pt x="275" y="587"/>
                          <a:pt x="531" y="587"/>
                          <a:pt x="614" y="537"/>
                        </a:cubicBezTo>
                        <a:cubicBezTo>
                          <a:pt x="717" y="475"/>
                          <a:pt x="704" y="241"/>
                          <a:pt x="828" y="238"/>
                        </a:cubicBezTo>
                        <a:cubicBezTo>
                          <a:pt x="829" y="238"/>
                          <a:pt x="831" y="238"/>
                          <a:pt x="832" y="238"/>
                        </a:cubicBezTo>
                        <a:cubicBezTo>
                          <a:pt x="956" y="241"/>
                          <a:pt x="943" y="475"/>
                          <a:pt x="1046" y="537"/>
                        </a:cubicBezTo>
                        <a:cubicBezTo>
                          <a:pt x="1129" y="587"/>
                          <a:pt x="1385" y="587"/>
                          <a:pt x="1446" y="541"/>
                        </a:cubicBezTo>
                        <a:cubicBezTo>
                          <a:pt x="1496" y="504"/>
                          <a:pt x="1510" y="458"/>
                          <a:pt x="1562" y="296"/>
                        </a:cubicBezTo>
                        <a:cubicBezTo>
                          <a:pt x="1605" y="161"/>
                          <a:pt x="1605" y="161"/>
                          <a:pt x="1633" y="161"/>
                        </a:cubicBezTo>
                        <a:cubicBezTo>
                          <a:pt x="1660" y="161"/>
                          <a:pt x="1657" y="135"/>
                          <a:pt x="1658" y="103"/>
                        </a:cubicBezTo>
                        <a:close/>
                        <a:moveTo>
                          <a:pt x="670" y="341"/>
                        </a:moveTo>
                        <a:cubicBezTo>
                          <a:pt x="644" y="407"/>
                          <a:pt x="624" y="465"/>
                          <a:pt x="588" y="489"/>
                        </a:cubicBezTo>
                        <a:cubicBezTo>
                          <a:pt x="550" y="515"/>
                          <a:pt x="494" y="520"/>
                          <a:pt x="411" y="519"/>
                        </a:cubicBezTo>
                        <a:cubicBezTo>
                          <a:pt x="341" y="517"/>
                          <a:pt x="266" y="520"/>
                          <a:pt x="234" y="490"/>
                        </a:cubicBezTo>
                        <a:cubicBezTo>
                          <a:pt x="208" y="465"/>
                          <a:pt x="182" y="386"/>
                          <a:pt x="160" y="316"/>
                        </a:cubicBezTo>
                        <a:cubicBezTo>
                          <a:pt x="129" y="219"/>
                          <a:pt x="115" y="161"/>
                          <a:pt x="146" y="132"/>
                        </a:cubicBezTo>
                        <a:cubicBezTo>
                          <a:pt x="185" y="97"/>
                          <a:pt x="286" y="91"/>
                          <a:pt x="405" y="89"/>
                        </a:cubicBezTo>
                        <a:cubicBezTo>
                          <a:pt x="524" y="88"/>
                          <a:pt x="682" y="123"/>
                          <a:pt x="702" y="170"/>
                        </a:cubicBezTo>
                        <a:cubicBezTo>
                          <a:pt x="718" y="205"/>
                          <a:pt x="693" y="282"/>
                          <a:pt x="670" y="341"/>
                        </a:cubicBezTo>
                        <a:close/>
                        <a:moveTo>
                          <a:pt x="1500" y="316"/>
                        </a:moveTo>
                        <a:cubicBezTo>
                          <a:pt x="1478" y="386"/>
                          <a:pt x="1452" y="465"/>
                          <a:pt x="1426" y="490"/>
                        </a:cubicBezTo>
                        <a:cubicBezTo>
                          <a:pt x="1394" y="520"/>
                          <a:pt x="1319" y="517"/>
                          <a:pt x="1249" y="519"/>
                        </a:cubicBezTo>
                        <a:cubicBezTo>
                          <a:pt x="1166" y="520"/>
                          <a:pt x="1110" y="515"/>
                          <a:pt x="1072" y="489"/>
                        </a:cubicBezTo>
                        <a:cubicBezTo>
                          <a:pt x="1036" y="465"/>
                          <a:pt x="1016" y="407"/>
                          <a:pt x="990" y="341"/>
                        </a:cubicBezTo>
                        <a:cubicBezTo>
                          <a:pt x="967" y="282"/>
                          <a:pt x="942" y="205"/>
                          <a:pt x="958" y="170"/>
                        </a:cubicBezTo>
                        <a:cubicBezTo>
                          <a:pt x="978" y="123"/>
                          <a:pt x="1136" y="88"/>
                          <a:pt x="1255" y="89"/>
                        </a:cubicBezTo>
                        <a:cubicBezTo>
                          <a:pt x="1374" y="91"/>
                          <a:pt x="1475" y="97"/>
                          <a:pt x="1514" y="132"/>
                        </a:cubicBezTo>
                        <a:cubicBezTo>
                          <a:pt x="1546" y="161"/>
                          <a:pt x="1531" y="219"/>
                          <a:pt x="1500" y="316"/>
                        </a:cubicBezTo>
                        <a:close/>
                      </a:path>
                    </a:pathLst>
                  </a:custGeom>
                  <a:solidFill>
                    <a:schemeClr val="tx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accent4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6" name="左眼"/>
                  <p:cNvSpPr/>
                  <p:nvPr/>
                </p:nvSpPr>
                <p:spPr>
                  <a:xfrm>
                    <a:off x="2051640" y="2881800"/>
                    <a:ext cx="270720" cy="900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chemeClr val="tx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9080" bIns="19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77" name="Freeform 67"/>
                <p:cNvSpPr/>
                <p:nvPr/>
              </p:nvSpPr>
              <p:spPr>
                <a:xfrm>
                  <a:off x="2235960" y="3318840"/>
                  <a:ext cx="780480" cy="222120"/>
                </a:xfrm>
                <a:custGeom>
                  <a:avLst/>
                  <a:gdLst>
                    <a:gd name="textAreaLeft" fmla="*/ 0 w 780480"/>
                    <a:gd name="textAreaRight" fmla="*/ 780840 w 78048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2019" h="574">
                      <a:moveTo>
                        <a:pt x="1263" y="404"/>
                      </a:moveTo>
                      <a:cubicBezTo>
                        <a:pt x="1209" y="412"/>
                        <a:pt x="1299" y="482"/>
                        <a:pt x="1313" y="505"/>
                      </a:cubicBezTo>
                      <a:cubicBezTo>
                        <a:pt x="1199" y="543"/>
                        <a:pt x="1068" y="380"/>
                        <a:pt x="1010" y="278"/>
                      </a:cubicBezTo>
                      <a:cubicBezTo>
                        <a:pt x="911" y="372"/>
                        <a:pt x="849" y="504"/>
                        <a:pt x="682" y="530"/>
                      </a:cubicBezTo>
                      <a:cubicBezTo>
                        <a:pt x="689" y="479"/>
                        <a:pt x="750" y="481"/>
                        <a:pt x="758" y="429"/>
                      </a:cubicBezTo>
                      <a:cubicBezTo>
                        <a:pt x="636" y="451"/>
                        <a:pt x="596" y="554"/>
                        <a:pt x="429" y="530"/>
                      </a:cubicBezTo>
                      <a:cubicBezTo>
                        <a:pt x="437" y="479"/>
                        <a:pt x="498" y="481"/>
                        <a:pt x="505" y="429"/>
                      </a:cubicBezTo>
                      <a:cubicBezTo>
                        <a:pt x="429" y="463"/>
                        <a:pt x="303" y="463"/>
                        <a:pt x="227" y="429"/>
                      </a:cubicBezTo>
                      <a:cubicBezTo>
                        <a:pt x="231" y="400"/>
                        <a:pt x="273" y="408"/>
                        <a:pt x="303" y="404"/>
                      </a:cubicBezTo>
                      <a:cubicBezTo>
                        <a:pt x="183" y="296"/>
                        <a:pt x="11" y="241"/>
                        <a:pt x="0" y="25"/>
                      </a:cubicBezTo>
                      <a:cubicBezTo>
                        <a:pt x="141" y="308"/>
                        <a:pt x="715" y="319"/>
                        <a:pt x="884" y="50"/>
                      </a:cubicBezTo>
                      <a:cubicBezTo>
                        <a:pt x="983" y="39"/>
                        <a:pt x="1015" y="103"/>
                        <a:pt x="1061" y="25"/>
                      </a:cubicBezTo>
                      <a:cubicBezTo>
                        <a:pt x="1248" y="264"/>
                        <a:pt x="1870" y="375"/>
                        <a:pt x="1995" y="0"/>
                      </a:cubicBezTo>
                      <a:cubicBezTo>
                        <a:pt x="2019" y="133"/>
                        <a:pt x="1904" y="346"/>
                        <a:pt x="1717" y="354"/>
                      </a:cubicBezTo>
                      <a:cubicBezTo>
                        <a:pt x="1708" y="396"/>
                        <a:pt x="1737" y="401"/>
                        <a:pt x="1768" y="404"/>
                      </a:cubicBezTo>
                      <a:cubicBezTo>
                        <a:pt x="1743" y="470"/>
                        <a:pt x="1570" y="472"/>
                        <a:pt x="1515" y="429"/>
                      </a:cubicBezTo>
                      <a:cubicBezTo>
                        <a:pt x="1455" y="437"/>
                        <a:pt x="1543" y="498"/>
                        <a:pt x="1566" y="505"/>
                      </a:cubicBezTo>
                      <a:cubicBezTo>
                        <a:pt x="1462" y="574"/>
                        <a:pt x="1319" y="467"/>
                        <a:pt x="1263" y="40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78" name="任意多边形 40"/>
          <p:cNvSpPr/>
          <p:nvPr/>
        </p:nvSpPr>
        <p:spPr>
          <a:xfrm>
            <a:off x="5667120" y="1125360"/>
            <a:ext cx="5502600" cy="3641040"/>
          </a:xfrm>
          <a:custGeom>
            <a:avLst/>
            <a:gdLst>
              <a:gd name="textAreaLeft" fmla="*/ 0 w 5502600"/>
              <a:gd name="textAreaRight" fmla="*/ 5502960 w 5502600"/>
              <a:gd name="textAreaTop" fmla="*/ 0 h 3641040"/>
              <a:gd name="textAreaBottom" fmla="*/ 3641400 h 3641040"/>
            </a:gdLst>
            <a:ahLst/>
            <a:rect l="textAreaLeft" t="textAreaTop" r="textAreaRight" b="textAreaBottom"/>
            <a:pathLst>
              <a:path w="5502971" h="3641562">
                <a:moveTo>
                  <a:pt x="2751486" y="0"/>
                </a:moveTo>
                <a:lnTo>
                  <a:pt x="5502971" y="801841"/>
                </a:lnTo>
                <a:lnTo>
                  <a:pt x="5502971" y="3641562"/>
                </a:lnTo>
                <a:lnTo>
                  <a:pt x="0" y="3641562"/>
                </a:lnTo>
                <a:lnTo>
                  <a:pt x="0" y="801841"/>
                </a:lnTo>
                <a:close/>
              </a:path>
            </a:pathLst>
          </a:custGeom>
          <a:solidFill>
            <a:schemeClr val="accent6"/>
          </a:solidFill>
          <a:ln>
            <a:noFill/>
          </a:ln>
          <a:scene3d>
            <a:camera prst="obliqueBottomRight"/>
            <a:lightRig dir="t" rig="flat"/>
          </a:scene3d>
          <a:sp3d extrusionH="12700000" prstMaterial="matte">
            <a:extrusionClr>
              <a:schemeClr val="accent1">
                <a:lumMod val="75000"/>
              </a:schemeClr>
            </a:extrusion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79" name="组合 57"/>
          <p:cNvGrpSpPr/>
          <p:nvPr/>
        </p:nvGrpSpPr>
        <p:grpSpPr>
          <a:xfrm>
            <a:off x="0" y="5490000"/>
            <a:ext cx="12191760" cy="1367640"/>
            <a:chOff x="0" y="5490000"/>
            <a:chExt cx="12191760" cy="1367640"/>
          </a:xfrm>
        </p:grpSpPr>
        <p:sp>
          <p:nvSpPr>
            <p:cNvPr id="280" name="矩形 58"/>
            <p:cNvSpPr/>
            <p:nvPr/>
          </p:nvSpPr>
          <p:spPr>
            <a:xfrm>
              <a:off x="0" y="5775480"/>
              <a:ext cx="12191760" cy="10821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" name="等腰三角形 59"/>
            <p:cNvSpPr/>
            <p:nvPr/>
          </p:nvSpPr>
          <p:spPr>
            <a:xfrm rot="10800000">
              <a:off x="514800" y="5490000"/>
              <a:ext cx="768240" cy="571320"/>
            </a:xfrm>
            <a:prstGeom prst="triangle">
              <a:avLst>
                <a:gd name="adj" fmla="val 50000"/>
              </a:avLst>
            </a:prstGeom>
            <a:solidFill>
              <a:srgbClr val="50ce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82" name="文本框 60"/>
          <p:cNvSpPr/>
          <p:nvPr/>
        </p:nvSpPr>
        <p:spPr>
          <a:xfrm>
            <a:off x="2652480" y="6047280"/>
            <a:ext cx="6886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我勒个擦，都是扁平风格啊，哪里看出要做低面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64"/>
          <p:cNvSpPr/>
          <p:nvPr/>
        </p:nvSpPr>
        <p:spPr>
          <a:xfrm>
            <a:off x="5853600" y="2062800"/>
            <a:ext cx="508752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/>
            </a:scene3d>
            <a:sp3d extrusionH="6350000" prstMaterial="matte">
              <a:extrusionClr>
                <a:schemeClr val="accent1">
                  <a:lumMod val="75000"/>
                </a:schemeClr>
              </a:extrusionClr>
            </a:sp3d>
          </a:bodyPr>
          <a:p>
            <a:pPr>
              <a:lnSpc>
                <a:spcPct val="120000"/>
              </a:lnSpc>
            </a:pPr>
            <a:r>
              <a:rPr b="0" lang="zh-CN" sz="3200" spc="-1" strike="noStrike">
                <a:solidFill>
                  <a:schemeClr val="accent1">
                    <a:lumMod val="50000"/>
                  </a:schemeClr>
                </a:solidFill>
                <a:latin typeface="方正正大黑简体"/>
                <a:ea typeface="方正正大黑简体"/>
              </a:rPr>
              <a:t>所以，没有背景的我们只好为自己创造背景。今天，大叔和盘托出的是从爷爷的爷爷的爷爷那里传下来的手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reeform 21"/>
          <p:cNvSpPr/>
          <p:nvPr/>
        </p:nvSpPr>
        <p:spPr>
          <a:xfrm>
            <a:off x="-150840" y="-3348000"/>
            <a:ext cx="15010920" cy="9319680"/>
          </a:xfrm>
          <a:custGeom>
            <a:avLst/>
            <a:gdLst>
              <a:gd name="textAreaLeft" fmla="*/ 0 w 15010920"/>
              <a:gd name="textAreaRight" fmla="*/ 15011280 w 15010920"/>
              <a:gd name="textAreaTop" fmla="*/ 0 h 9319680"/>
              <a:gd name="textAreaBottom" fmla="*/ 9320040 h 9319680"/>
            </a:gdLst>
            <a:ahLst/>
            <a:rect l="textAreaLeft" t="textAreaTop" r="textAreaRight" b="textAreaBottom"/>
            <a:pathLst>
              <a:path w="4000" h="2483">
                <a:moveTo>
                  <a:pt x="4000" y="6"/>
                </a:moveTo>
                <a:cubicBezTo>
                  <a:pt x="3971" y="2"/>
                  <a:pt x="3942" y="0"/>
                  <a:pt x="3913" y="0"/>
                </a:cubicBezTo>
                <a:cubicBezTo>
                  <a:pt x="3559" y="0"/>
                  <a:pt x="3271" y="283"/>
                  <a:pt x="3265" y="635"/>
                </a:cubicBezTo>
                <a:cubicBezTo>
                  <a:pt x="3113" y="696"/>
                  <a:pt x="3007" y="844"/>
                  <a:pt x="3007" y="1017"/>
                </a:cubicBezTo>
                <a:cubicBezTo>
                  <a:pt x="3007" y="1032"/>
                  <a:pt x="3007" y="1047"/>
                  <a:pt x="3009" y="1061"/>
                </a:cubicBezTo>
                <a:cubicBezTo>
                  <a:pt x="2923" y="1075"/>
                  <a:pt x="2849" y="1127"/>
                  <a:pt x="2808" y="1200"/>
                </a:cubicBezTo>
                <a:cubicBezTo>
                  <a:pt x="2729" y="1156"/>
                  <a:pt x="2637" y="1130"/>
                  <a:pt x="2540" y="1130"/>
                </a:cubicBezTo>
                <a:cubicBezTo>
                  <a:pt x="2259" y="1130"/>
                  <a:pt x="2027" y="1343"/>
                  <a:pt x="2000" y="1617"/>
                </a:cubicBezTo>
                <a:cubicBezTo>
                  <a:pt x="1958" y="1605"/>
                  <a:pt x="1914" y="1598"/>
                  <a:pt x="1868" y="1598"/>
                </a:cubicBezTo>
                <a:cubicBezTo>
                  <a:pt x="1724" y="1598"/>
                  <a:pt x="1595" y="1664"/>
                  <a:pt x="1511" y="1768"/>
                </a:cubicBezTo>
                <a:cubicBezTo>
                  <a:pt x="1458" y="1677"/>
                  <a:pt x="1360" y="1616"/>
                  <a:pt x="1247" y="1616"/>
                </a:cubicBezTo>
                <a:cubicBezTo>
                  <a:pt x="1235" y="1616"/>
                  <a:pt x="1224" y="1616"/>
                  <a:pt x="1213" y="1618"/>
                </a:cubicBezTo>
                <a:cubicBezTo>
                  <a:pt x="1219" y="1589"/>
                  <a:pt x="1223" y="1559"/>
                  <a:pt x="1223" y="1529"/>
                </a:cubicBezTo>
                <a:cubicBezTo>
                  <a:pt x="1223" y="1402"/>
                  <a:pt x="1166" y="1288"/>
                  <a:pt x="1076" y="1212"/>
                </a:cubicBezTo>
                <a:cubicBezTo>
                  <a:pt x="1122" y="1167"/>
                  <a:pt x="1151" y="1106"/>
                  <a:pt x="1151" y="1037"/>
                </a:cubicBezTo>
                <a:cubicBezTo>
                  <a:pt x="1151" y="903"/>
                  <a:pt x="1042" y="794"/>
                  <a:pt x="908" y="794"/>
                </a:cubicBezTo>
                <a:cubicBezTo>
                  <a:pt x="880" y="794"/>
                  <a:pt x="852" y="799"/>
                  <a:pt x="827" y="808"/>
                </a:cubicBezTo>
                <a:cubicBezTo>
                  <a:pt x="742" y="509"/>
                  <a:pt x="467" y="290"/>
                  <a:pt x="141" y="290"/>
                </a:cubicBezTo>
                <a:cubicBezTo>
                  <a:pt x="92" y="290"/>
                  <a:pt x="45" y="295"/>
                  <a:pt x="0" y="304"/>
                </a:cubicBezTo>
                <a:cubicBezTo>
                  <a:pt x="0" y="1704"/>
                  <a:pt x="0" y="1704"/>
                  <a:pt x="0" y="1704"/>
                </a:cubicBezTo>
                <a:cubicBezTo>
                  <a:pt x="45" y="1713"/>
                  <a:pt x="92" y="1718"/>
                  <a:pt x="141" y="1718"/>
                </a:cubicBezTo>
                <a:cubicBezTo>
                  <a:pt x="236" y="1718"/>
                  <a:pt x="328" y="1699"/>
                  <a:pt x="411" y="1664"/>
                </a:cubicBezTo>
                <a:cubicBezTo>
                  <a:pt x="468" y="1828"/>
                  <a:pt x="623" y="1946"/>
                  <a:pt x="806" y="1946"/>
                </a:cubicBezTo>
                <a:cubicBezTo>
                  <a:pt x="853" y="1946"/>
                  <a:pt x="898" y="1938"/>
                  <a:pt x="941" y="1923"/>
                </a:cubicBezTo>
                <a:cubicBezTo>
                  <a:pt x="942" y="2092"/>
                  <a:pt x="1078" y="2228"/>
                  <a:pt x="1247" y="2228"/>
                </a:cubicBezTo>
                <a:cubicBezTo>
                  <a:pt x="1312" y="2228"/>
                  <a:pt x="1373" y="2207"/>
                  <a:pt x="1423" y="2172"/>
                </a:cubicBezTo>
                <a:cubicBezTo>
                  <a:pt x="1460" y="2314"/>
                  <a:pt x="1563" y="2429"/>
                  <a:pt x="1697" y="2483"/>
                </a:cubicBezTo>
                <a:cubicBezTo>
                  <a:pt x="2038" y="2483"/>
                  <a:pt x="2038" y="2483"/>
                  <a:pt x="2038" y="2483"/>
                </a:cubicBezTo>
                <a:cubicBezTo>
                  <a:pt x="2174" y="2429"/>
                  <a:pt x="2278" y="2311"/>
                  <a:pt x="2313" y="2167"/>
                </a:cubicBezTo>
                <a:cubicBezTo>
                  <a:pt x="2382" y="2198"/>
                  <a:pt x="2459" y="2216"/>
                  <a:pt x="2540" y="2216"/>
                </a:cubicBezTo>
                <a:cubicBezTo>
                  <a:pt x="2840" y="2216"/>
                  <a:pt x="3083" y="1973"/>
                  <a:pt x="3083" y="1673"/>
                </a:cubicBezTo>
                <a:cubicBezTo>
                  <a:pt x="3083" y="1655"/>
                  <a:pt x="3082" y="1638"/>
                  <a:pt x="3080" y="1620"/>
                </a:cubicBezTo>
                <a:cubicBezTo>
                  <a:pt x="3197" y="1609"/>
                  <a:pt x="3293" y="1527"/>
                  <a:pt x="3324" y="1417"/>
                </a:cubicBezTo>
                <a:cubicBezTo>
                  <a:pt x="3354" y="1424"/>
                  <a:pt x="3385" y="1428"/>
                  <a:pt x="3418" y="1428"/>
                </a:cubicBezTo>
                <a:cubicBezTo>
                  <a:pt x="3548" y="1428"/>
                  <a:pt x="3664" y="1367"/>
                  <a:pt x="3739" y="1273"/>
                </a:cubicBezTo>
                <a:cubicBezTo>
                  <a:pt x="3795" y="1288"/>
                  <a:pt x="3853" y="1296"/>
                  <a:pt x="3913" y="1296"/>
                </a:cubicBezTo>
                <a:cubicBezTo>
                  <a:pt x="3942" y="1296"/>
                  <a:pt x="3971" y="1294"/>
                  <a:pt x="4000" y="1290"/>
                </a:cubicBezTo>
                <a:lnTo>
                  <a:pt x="4000" y="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组合 82"/>
          <p:cNvGrpSpPr/>
          <p:nvPr/>
        </p:nvGrpSpPr>
        <p:grpSpPr>
          <a:xfrm>
            <a:off x="6807240" y="399240"/>
            <a:ext cx="3540960" cy="4007880"/>
            <a:chOff x="6807240" y="399240"/>
            <a:chExt cx="3540960" cy="4007880"/>
          </a:xfrm>
        </p:grpSpPr>
        <p:grpSp>
          <p:nvGrpSpPr>
            <p:cNvPr id="286" name="组合 58"/>
            <p:cNvGrpSpPr/>
            <p:nvPr/>
          </p:nvGrpSpPr>
          <p:grpSpPr>
            <a:xfrm>
              <a:off x="7355160" y="399240"/>
              <a:ext cx="2993040" cy="3016080"/>
              <a:chOff x="7355160" y="399240"/>
              <a:chExt cx="2993040" cy="3016080"/>
            </a:xfrm>
          </p:grpSpPr>
          <p:grpSp>
            <p:nvGrpSpPr>
              <p:cNvPr id="287" name="组合 59"/>
              <p:cNvGrpSpPr/>
              <p:nvPr/>
            </p:nvGrpSpPr>
            <p:grpSpPr>
              <a:xfrm>
                <a:off x="7355160" y="399240"/>
                <a:ext cx="2993040" cy="3016080"/>
                <a:chOff x="7355160" y="399240"/>
                <a:chExt cx="2993040" cy="3016080"/>
              </a:xfrm>
            </p:grpSpPr>
            <p:sp>
              <p:nvSpPr>
                <p:cNvPr id="288" name="右耳朵"/>
                <p:cNvSpPr/>
                <p:nvPr/>
              </p:nvSpPr>
              <p:spPr>
                <a:xfrm flipH="1" rot="588600">
                  <a:off x="9463320" y="2402640"/>
                  <a:ext cx="250560" cy="396720"/>
                </a:xfrm>
                <a:custGeom>
                  <a:avLst/>
                  <a:gdLst>
                    <a:gd name="textAreaLeft" fmla="*/ 360 w 250560"/>
                    <a:gd name="textAreaRight" fmla="*/ 251280 w 250560"/>
                    <a:gd name="textAreaTop" fmla="*/ 0 h 396720"/>
                    <a:gd name="textAreaBottom" fmla="*/ 397080 h 396720"/>
                  </a:gdLst>
                  <a:ahLst/>
                  <a:rect l="textAreaLeft" t="textAreaTop" r="textAreaRight" b="textAreaBottom"/>
                  <a:pathLst>
                    <a:path w="80" h="126">
                      <a:moveTo>
                        <a:pt x="80" y="63"/>
                      </a:moveTo>
                      <a:cubicBezTo>
                        <a:pt x="80" y="98"/>
                        <a:pt x="62" y="126"/>
                        <a:pt x="39" y="126"/>
                      </a:cubicBezTo>
                      <a:cubicBezTo>
                        <a:pt x="17" y="126"/>
                        <a:pt x="0" y="83"/>
                        <a:pt x="0" y="48"/>
                      </a:cubicBezTo>
                      <a:cubicBezTo>
                        <a:pt x="0" y="13"/>
                        <a:pt x="17" y="0"/>
                        <a:pt x="39" y="0"/>
                      </a:cubicBezTo>
                      <a:cubicBezTo>
                        <a:pt x="62" y="0"/>
                        <a:pt x="80" y="28"/>
                        <a:pt x="80" y="63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9" name="左耳朵"/>
                <p:cNvSpPr/>
                <p:nvPr/>
              </p:nvSpPr>
              <p:spPr>
                <a:xfrm rot="588600">
                  <a:off x="7850520" y="2123640"/>
                  <a:ext cx="250560" cy="39672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396720"/>
                    <a:gd name="textAreaBottom" fmla="*/ 397080 h 396720"/>
                  </a:gdLst>
                  <a:ahLst/>
                  <a:rect l="textAreaLeft" t="textAreaTop" r="textAreaRight" b="textAreaBottom"/>
                  <a:pathLst>
                    <a:path w="80" h="126">
                      <a:moveTo>
                        <a:pt x="80" y="63"/>
                      </a:moveTo>
                      <a:cubicBezTo>
                        <a:pt x="80" y="98"/>
                        <a:pt x="62" y="126"/>
                        <a:pt x="39" y="126"/>
                      </a:cubicBezTo>
                      <a:cubicBezTo>
                        <a:pt x="17" y="126"/>
                        <a:pt x="0" y="83"/>
                        <a:pt x="0" y="48"/>
                      </a:cubicBezTo>
                      <a:cubicBezTo>
                        <a:pt x="0" y="13"/>
                        <a:pt x="17" y="0"/>
                        <a:pt x="39" y="0"/>
                      </a:cubicBezTo>
                      <a:cubicBezTo>
                        <a:pt x="62" y="0"/>
                        <a:pt x="80" y="28"/>
                        <a:pt x="80" y="63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0" name="脸蛋"/>
                <p:cNvSpPr/>
                <p:nvPr/>
              </p:nvSpPr>
              <p:spPr>
                <a:xfrm rot="588600">
                  <a:off x="7978680" y="1141920"/>
                  <a:ext cx="1695240" cy="2144520"/>
                </a:xfrm>
                <a:custGeom>
                  <a:avLst/>
                  <a:gdLst>
                    <a:gd name="textAreaLeft" fmla="*/ 0 w 1695240"/>
                    <a:gd name="textAreaRight" fmla="*/ 1695600 w 1695240"/>
                    <a:gd name="textAreaTop" fmla="*/ 0 h 2144520"/>
                    <a:gd name="textAreaBottom" fmla="*/ 2144880 h 2144520"/>
                  </a:gdLst>
                  <a:ahLst/>
                  <a:rect l="textAreaLeft" t="textAreaTop" r="textAreaRight" b="textAreaBottom"/>
                  <a:pathLst>
                    <a:path w="200" h="278">
                      <a:moveTo>
                        <a:pt x="100" y="0"/>
                      </a:moveTo>
                      <a:cubicBezTo>
                        <a:pt x="155" y="0"/>
                        <a:pt x="200" y="62"/>
                        <a:pt x="200" y="138"/>
                      </a:cubicBezTo>
                      <a:cubicBezTo>
                        <a:pt x="200" y="215"/>
                        <a:pt x="157" y="270"/>
                        <a:pt x="100" y="278"/>
                      </a:cubicBezTo>
                      <a:cubicBezTo>
                        <a:pt x="42" y="270"/>
                        <a:pt x="0" y="215"/>
                        <a:pt x="0" y="139"/>
                      </a:cubicBezTo>
                      <a:cubicBezTo>
                        <a:pt x="0" y="62"/>
                        <a:pt x="44" y="0"/>
                        <a:pt x="100" y="0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1" name="头发"/>
                <p:cNvSpPr/>
                <p:nvPr/>
              </p:nvSpPr>
              <p:spPr>
                <a:xfrm rot="588600">
                  <a:off x="7503480" y="614160"/>
                  <a:ext cx="2696040" cy="1975320"/>
                </a:xfrm>
                <a:custGeom>
                  <a:avLst/>
                  <a:gdLst>
                    <a:gd name="textAreaLeft" fmla="*/ 0 w 2696040"/>
                    <a:gd name="textAreaRight" fmla="*/ 2696400 w 2696040"/>
                    <a:gd name="textAreaTop" fmla="*/ 0 h 1975320"/>
                    <a:gd name="textAreaBottom" fmla="*/ 1975680 h 1975320"/>
                  </a:gdLst>
                  <a:ahLst/>
                  <a:rect l="textAreaLeft" t="textAreaTop" r="textAreaRight" b="textAreaBottom"/>
                  <a:pathLst>
                    <a:path w="318" h="233">
                      <a:moveTo>
                        <a:pt x="0" y="148"/>
                      </a:moveTo>
                      <a:cubicBezTo>
                        <a:pt x="13" y="162"/>
                        <a:pt x="23" y="162"/>
                        <a:pt x="31" y="157"/>
                      </a:cubicBezTo>
                      <a:cubicBezTo>
                        <a:pt x="21" y="155"/>
                        <a:pt x="16" y="142"/>
                        <a:pt x="15" y="130"/>
                      </a:cubicBezTo>
                      <a:cubicBezTo>
                        <a:pt x="12" y="109"/>
                        <a:pt x="33" y="83"/>
                        <a:pt x="55" y="75"/>
                      </a:cubicBezTo>
                      <a:cubicBezTo>
                        <a:pt x="52" y="74"/>
                        <a:pt x="48" y="73"/>
                        <a:pt x="45" y="72"/>
                      </a:cubicBezTo>
                      <a:cubicBezTo>
                        <a:pt x="65" y="68"/>
                        <a:pt x="77" y="64"/>
                        <a:pt x="77" y="47"/>
                      </a:cubicBezTo>
                      <a:cubicBezTo>
                        <a:pt x="77" y="26"/>
                        <a:pt x="102" y="15"/>
                        <a:pt x="121" y="25"/>
                      </a:cubicBezTo>
                      <a:cubicBezTo>
                        <a:pt x="131" y="15"/>
                        <a:pt x="149" y="13"/>
                        <a:pt x="162" y="25"/>
                      </a:cubicBezTo>
                      <a:cubicBezTo>
                        <a:pt x="164" y="25"/>
                        <a:pt x="164" y="25"/>
                        <a:pt x="164" y="25"/>
                      </a:cubicBezTo>
                      <a:cubicBezTo>
                        <a:pt x="174" y="1"/>
                        <a:pt x="207" y="0"/>
                        <a:pt x="215" y="21"/>
                      </a:cubicBezTo>
                      <a:cubicBezTo>
                        <a:pt x="220" y="35"/>
                        <a:pt x="233" y="35"/>
                        <a:pt x="252" y="25"/>
                      </a:cubicBezTo>
                      <a:cubicBezTo>
                        <a:pt x="251" y="32"/>
                        <a:pt x="247" y="36"/>
                        <a:pt x="242" y="38"/>
                      </a:cubicBezTo>
                      <a:cubicBezTo>
                        <a:pt x="260" y="38"/>
                        <a:pt x="278" y="49"/>
                        <a:pt x="278" y="67"/>
                      </a:cubicBezTo>
                      <a:cubicBezTo>
                        <a:pt x="278" y="71"/>
                        <a:pt x="278" y="76"/>
                        <a:pt x="279" y="80"/>
                      </a:cubicBezTo>
                      <a:cubicBezTo>
                        <a:pt x="281" y="82"/>
                        <a:pt x="283" y="84"/>
                        <a:pt x="285" y="86"/>
                      </a:cubicBezTo>
                      <a:cubicBezTo>
                        <a:pt x="303" y="96"/>
                        <a:pt x="318" y="117"/>
                        <a:pt x="316" y="134"/>
                      </a:cubicBezTo>
                      <a:cubicBezTo>
                        <a:pt x="315" y="144"/>
                        <a:pt x="311" y="155"/>
                        <a:pt x="304" y="158"/>
                      </a:cubicBezTo>
                      <a:cubicBezTo>
                        <a:pt x="304" y="159"/>
                        <a:pt x="304" y="159"/>
                        <a:pt x="304" y="159"/>
                      </a:cubicBezTo>
                      <a:cubicBezTo>
                        <a:pt x="308" y="157"/>
                        <a:pt x="312" y="154"/>
                        <a:pt x="317" y="149"/>
                      </a:cubicBezTo>
                      <a:cubicBezTo>
                        <a:pt x="317" y="161"/>
                        <a:pt x="310" y="170"/>
                        <a:pt x="301" y="175"/>
                      </a:cubicBezTo>
                      <a:cubicBezTo>
                        <a:pt x="300" y="180"/>
                        <a:pt x="299" y="185"/>
                        <a:pt x="298" y="189"/>
                      </a:cubicBezTo>
                      <a:cubicBezTo>
                        <a:pt x="307" y="230"/>
                        <a:pt x="250" y="212"/>
                        <a:pt x="264" y="213"/>
                      </a:cubicBezTo>
                      <a:cubicBezTo>
                        <a:pt x="263" y="166"/>
                        <a:pt x="254" y="193"/>
                        <a:pt x="229" y="172"/>
                      </a:cubicBezTo>
                      <a:cubicBezTo>
                        <a:pt x="220" y="164"/>
                        <a:pt x="215" y="149"/>
                        <a:pt x="202" y="112"/>
                      </a:cubicBezTo>
                      <a:cubicBezTo>
                        <a:pt x="181" y="148"/>
                        <a:pt x="98" y="233"/>
                        <a:pt x="40" y="214"/>
                      </a:cubicBezTo>
                      <a:cubicBezTo>
                        <a:pt x="49" y="213"/>
                        <a:pt x="69" y="165"/>
                        <a:pt x="61" y="170"/>
                      </a:cubicBezTo>
                      <a:cubicBezTo>
                        <a:pt x="47" y="182"/>
                        <a:pt x="28" y="212"/>
                        <a:pt x="0" y="148"/>
                      </a:cubicBezTo>
                      <a:close/>
                      <a:moveTo>
                        <a:pt x="40" y="136"/>
                      </a:moveTo>
                      <a:cubicBezTo>
                        <a:pt x="41" y="129"/>
                        <a:pt x="42" y="124"/>
                        <a:pt x="43" y="127"/>
                      </a:cubicBezTo>
                      <a:cubicBezTo>
                        <a:pt x="43" y="127"/>
                        <a:pt x="43" y="127"/>
                        <a:pt x="43" y="127"/>
                      </a:cubicBezTo>
                      <a:cubicBezTo>
                        <a:pt x="43" y="125"/>
                        <a:pt x="43" y="125"/>
                        <a:pt x="43" y="125"/>
                      </a:cubicBezTo>
                      <a:cubicBezTo>
                        <a:pt x="31" y="133"/>
                        <a:pt x="19" y="144"/>
                        <a:pt x="34" y="153"/>
                      </a:cubicBezTo>
                      <a:cubicBezTo>
                        <a:pt x="35" y="152"/>
                        <a:pt x="36" y="151"/>
                        <a:pt x="37" y="150"/>
                      </a:cubicBezTo>
                      <a:cubicBezTo>
                        <a:pt x="38" y="146"/>
                        <a:pt x="39" y="141"/>
                        <a:pt x="40" y="136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5715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accent5"/>
                    </a:solidFill>
                    <a:latin typeface="Calibri"/>
                  </a:endParaRPr>
                </a:p>
              </p:txBody>
            </p:sp>
            <p:sp>
              <p:nvSpPr>
                <p:cNvPr id="292" name="右眼"/>
                <p:cNvSpPr/>
                <p:nvPr/>
              </p:nvSpPr>
              <p:spPr>
                <a:xfrm rot="588600">
                  <a:off x="9099000" y="2449080"/>
                  <a:ext cx="270720" cy="90000"/>
                </a:xfrm>
                <a:prstGeom prst="roundRect">
                  <a:avLst>
                    <a:gd name="adj" fmla="val 50000"/>
                  </a:avLst>
                </a:prstGeom>
                <a:solidFill>
                  <a:schemeClr val="tx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3" name="眼镜"/>
                <p:cNvSpPr/>
                <p:nvPr/>
              </p:nvSpPr>
              <p:spPr>
                <a:xfrm rot="588600">
                  <a:off x="7891560" y="2098440"/>
                  <a:ext cx="1800360" cy="636480"/>
                </a:xfrm>
                <a:custGeom>
                  <a:avLst/>
                  <a:gdLst>
                    <a:gd name="textAreaLeft" fmla="*/ 0 w 1800360"/>
                    <a:gd name="textAreaRight" fmla="*/ 1800720 w 1800360"/>
                    <a:gd name="textAreaTop" fmla="*/ 0 h 636480"/>
                    <a:gd name="textAreaBottom" fmla="*/ 636840 h 636480"/>
                  </a:gdLst>
                  <a:ahLst/>
                  <a:rect l="textAreaLeft" t="textAreaTop" r="textAreaRight" b="textAreaBottom"/>
                  <a:pathLst>
                    <a:path w="1660" h="587">
                      <a:moveTo>
                        <a:pt x="1658" y="103"/>
                      </a:moveTo>
                      <a:cubicBezTo>
                        <a:pt x="1658" y="71"/>
                        <a:pt x="1653" y="83"/>
                        <a:pt x="1596" y="68"/>
                      </a:cubicBezTo>
                      <a:cubicBezTo>
                        <a:pt x="1539" y="52"/>
                        <a:pt x="1364" y="0"/>
                        <a:pt x="1096" y="39"/>
                      </a:cubicBezTo>
                      <a:cubicBezTo>
                        <a:pt x="872" y="72"/>
                        <a:pt x="929" y="146"/>
                        <a:pt x="837" y="149"/>
                      </a:cubicBezTo>
                      <a:cubicBezTo>
                        <a:pt x="823" y="149"/>
                        <a:pt x="823" y="149"/>
                        <a:pt x="823" y="149"/>
                      </a:cubicBezTo>
                      <a:cubicBezTo>
                        <a:pt x="731" y="146"/>
                        <a:pt x="788" y="72"/>
                        <a:pt x="564" y="39"/>
                      </a:cubicBezTo>
                      <a:cubicBezTo>
                        <a:pt x="296" y="0"/>
                        <a:pt x="121" y="52"/>
                        <a:pt x="64" y="68"/>
                      </a:cubicBezTo>
                      <a:cubicBezTo>
                        <a:pt x="7" y="83"/>
                        <a:pt x="2" y="71"/>
                        <a:pt x="2" y="103"/>
                      </a:cubicBezTo>
                      <a:cubicBezTo>
                        <a:pt x="3" y="135"/>
                        <a:pt x="0" y="161"/>
                        <a:pt x="27" y="161"/>
                      </a:cubicBezTo>
                      <a:cubicBezTo>
                        <a:pt x="55" y="161"/>
                        <a:pt x="55" y="161"/>
                        <a:pt x="98" y="296"/>
                      </a:cubicBezTo>
                      <a:cubicBezTo>
                        <a:pt x="150" y="458"/>
                        <a:pt x="164" y="504"/>
                        <a:pt x="214" y="541"/>
                      </a:cubicBezTo>
                      <a:cubicBezTo>
                        <a:pt x="275" y="587"/>
                        <a:pt x="531" y="587"/>
                        <a:pt x="614" y="537"/>
                      </a:cubicBezTo>
                      <a:cubicBezTo>
                        <a:pt x="717" y="475"/>
                        <a:pt x="704" y="241"/>
                        <a:pt x="828" y="238"/>
                      </a:cubicBezTo>
                      <a:cubicBezTo>
                        <a:pt x="829" y="238"/>
                        <a:pt x="831" y="238"/>
                        <a:pt x="832" y="238"/>
                      </a:cubicBezTo>
                      <a:cubicBezTo>
                        <a:pt x="956" y="241"/>
                        <a:pt x="943" y="475"/>
                        <a:pt x="1046" y="537"/>
                      </a:cubicBezTo>
                      <a:cubicBezTo>
                        <a:pt x="1129" y="587"/>
                        <a:pt x="1385" y="587"/>
                        <a:pt x="1446" y="541"/>
                      </a:cubicBezTo>
                      <a:cubicBezTo>
                        <a:pt x="1496" y="504"/>
                        <a:pt x="1510" y="458"/>
                        <a:pt x="1562" y="296"/>
                      </a:cubicBezTo>
                      <a:cubicBezTo>
                        <a:pt x="1605" y="161"/>
                        <a:pt x="1605" y="161"/>
                        <a:pt x="1633" y="161"/>
                      </a:cubicBezTo>
                      <a:cubicBezTo>
                        <a:pt x="1660" y="161"/>
                        <a:pt x="1657" y="135"/>
                        <a:pt x="1658" y="103"/>
                      </a:cubicBezTo>
                      <a:close/>
                      <a:moveTo>
                        <a:pt x="670" y="341"/>
                      </a:moveTo>
                      <a:cubicBezTo>
                        <a:pt x="644" y="407"/>
                        <a:pt x="624" y="465"/>
                        <a:pt x="588" y="489"/>
                      </a:cubicBezTo>
                      <a:cubicBezTo>
                        <a:pt x="550" y="515"/>
                        <a:pt x="494" y="520"/>
                        <a:pt x="411" y="519"/>
                      </a:cubicBezTo>
                      <a:cubicBezTo>
                        <a:pt x="341" y="517"/>
                        <a:pt x="266" y="520"/>
                        <a:pt x="234" y="490"/>
                      </a:cubicBezTo>
                      <a:cubicBezTo>
                        <a:pt x="208" y="465"/>
                        <a:pt x="182" y="386"/>
                        <a:pt x="160" y="316"/>
                      </a:cubicBezTo>
                      <a:cubicBezTo>
                        <a:pt x="129" y="219"/>
                        <a:pt x="115" y="161"/>
                        <a:pt x="146" y="132"/>
                      </a:cubicBezTo>
                      <a:cubicBezTo>
                        <a:pt x="185" y="97"/>
                        <a:pt x="286" y="91"/>
                        <a:pt x="405" y="89"/>
                      </a:cubicBezTo>
                      <a:cubicBezTo>
                        <a:pt x="524" y="88"/>
                        <a:pt x="682" y="123"/>
                        <a:pt x="702" y="170"/>
                      </a:cubicBezTo>
                      <a:cubicBezTo>
                        <a:pt x="718" y="205"/>
                        <a:pt x="693" y="282"/>
                        <a:pt x="670" y="341"/>
                      </a:cubicBezTo>
                      <a:close/>
                      <a:moveTo>
                        <a:pt x="1500" y="316"/>
                      </a:moveTo>
                      <a:cubicBezTo>
                        <a:pt x="1478" y="386"/>
                        <a:pt x="1452" y="465"/>
                        <a:pt x="1426" y="490"/>
                      </a:cubicBezTo>
                      <a:cubicBezTo>
                        <a:pt x="1394" y="520"/>
                        <a:pt x="1319" y="517"/>
                        <a:pt x="1249" y="519"/>
                      </a:cubicBezTo>
                      <a:cubicBezTo>
                        <a:pt x="1166" y="520"/>
                        <a:pt x="1110" y="515"/>
                        <a:pt x="1072" y="489"/>
                      </a:cubicBezTo>
                      <a:cubicBezTo>
                        <a:pt x="1036" y="465"/>
                        <a:pt x="1016" y="407"/>
                        <a:pt x="990" y="341"/>
                      </a:cubicBezTo>
                      <a:cubicBezTo>
                        <a:pt x="967" y="282"/>
                        <a:pt x="942" y="205"/>
                        <a:pt x="958" y="170"/>
                      </a:cubicBezTo>
                      <a:cubicBezTo>
                        <a:pt x="978" y="123"/>
                        <a:pt x="1136" y="88"/>
                        <a:pt x="1255" y="89"/>
                      </a:cubicBezTo>
                      <a:cubicBezTo>
                        <a:pt x="1374" y="91"/>
                        <a:pt x="1475" y="97"/>
                        <a:pt x="1514" y="132"/>
                      </a:cubicBezTo>
                      <a:cubicBezTo>
                        <a:pt x="1546" y="161"/>
                        <a:pt x="1531" y="219"/>
                        <a:pt x="1500" y="316"/>
                      </a:cubicBezTo>
                      <a:close/>
                    </a:path>
                  </a:pathLst>
                </a:custGeom>
                <a:solidFill>
                  <a:schemeClr val="tx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accent4"/>
                    </a:solidFill>
                    <a:latin typeface="Calibri"/>
                  </a:endParaRPr>
                </a:p>
              </p:txBody>
            </p:sp>
            <p:sp>
              <p:nvSpPr>
                <p:cNvPr id="294" name="左眼"/>
                <p:cNvSpPr/>
                <p:nvPr/>
              </p:nvSpPr>
              <p:spPr>
                <a:xfrm rot="588600">
                  <a:off x="8228520" y="2298600"/>
                  <a:ext cx="270720" cy="90000"/>
                </a:xfrm>
                <a:prstGeom prst="roundRect">
                  <a:avLst>
                    <a:gd name="adj" fmla="val 50000"/>
                  </a:avLst>
                </a:prstGeom>
                <a:solidFill>
                  <a:schemeClr val="tx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5" name="Freeform 67"/>
              <p:cNvSpPr/>
              <p:nvPr/>
            </p:nvSpPr>
            <p:spPr>
              <a:xfrm rot="588600">
                <a:off x="8320680" y="2803320"/>
                <a:ext cx="780480" cy="222120"/>
              </a:xfrm>
              <a:custGeom>
                <a:avLst/>
                <a:gdLst>
                  <a:gd name="textAreaLeft" fmla="*/ 0 w 780480"/>
                  <a:gd name="textAreaRight" fmla="*/ 780840 w 78048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2019" h="574">
                    <a:moveTo>
                      <a:pt x="1263" y="404"/>
                    </a:moveTo>
                    <a:cubicBezTo>
                      <a:pt x="1209" y="412"/>
                      <a:pt x="1299" y="482"/>
                      <a:pt x="1313" y="505"/>
                    </a:cubicBezTo>
                    <a:cubicBezTo>
                      <a:pt x="1199" y="543"/>
                      <a:pt x="1068" y="380"/>
                      <a:pt x="1010" y="278"/>
                    </a:cubicBezTo>
                    <a:cubicBezTo>
                      <a:pt x="911" y="372"/>
                      <a:pt x="849" y="504"/>
                      <a:pt x="682" y="530"/>
                    </a:cubicBezTo>
                    <a:cubicBezTo>
                      <a:pt x="689" y="479"/>
                      <a:pt x="750" y="481"/>
                      <a:pt x="758" y="429"/>
                    </a:cubicBezTo>
                    <a:cubicBezTo>
                      <a:pt x="636" y="451"/>
                      <a:pt x="596" y="554"/>
                      <a:pt x="429" y="530"/>
                    </a:cubicBezTo>
                    <a:cubicBezTo>
                      <a:pt x="437" y="479"/>
                      <a:pt x="498" y="481"/>
                      <a:pt x="505" y="429"/>
                    </a:cubicBezTo>
                    <a:cubicBezTo>
                      <a:pt x="429" y="463"/>
                      <a:pt x="303" y="463"/>
                      <a:pt x="227" y="429"/>
                    </a:cubicBezTo>
                    <a:cubicBezTo>
                      <a:pt x="231" y="400"/>
                      <a:pt x="273" y="408"/>
                      <a:pt x="303" y="404"/>
                    </a:cubicBezTo>
                    <a:cubicBezTo>
                      <a:pt x="183" y="296"/>
                      <a:pt x="11" y="241"/>
                      <a:pt x="0" y="25"/>
                    </a:cubicBezTo>
                    <a:cubicBezTo>
                      <a:pt x="141" y="308"/>
                      <a:pt x="715" y="319"/>
                      <a:pt x="884" y="50"/>
                    </a:cubicBezTo>
                    <a:cubicBezTo>
                      <a:pt x="983" y="39"/>
                      <a:pt x="1015" y="103"/>
                      <a:pt x="1061" y="25"/>
                    </a:cubicBezTo>
                    <a:cubicBezTo>
                      <a:pt x="1248" y="264"/>
                      <a:pt x="1870" y="375"/>
                      <a:pt x="1995" y="0"/>
                    </a:cubicBezTo>
                    <a:cubicBezTo>
                      <a:pt x="2019" y="133"/>
                      <a:pt x="1904" y="346"/>
                      <a:pt x="1717" y="354"/>
                    </a:cubicBezTo>
                    <a:cubicBezTo>
                      <a:pt x="1708" y="396"/>
                      <a:pt x="1737" y="401"/>
                      <a:pt x="1768" y="404"/>
                    </a:cubicBezTo>
                    <a:cubicBezTo>
                      <a:pt x="1743" y="470"/>
                      <a:pt x="1570" y="472"/>
                      <a:pt x="1515" y="429"/>
                    </a:cubicBezTo>
                    <a:cubicBezTo>
                      <a:pt x="1455" y="437"/>
                      <a:pt x="1543" y="498"/>
                      <a:pt x="1566" y="505"/>
                    </a:cubicBezTo>
                    <a:cubicBezTo>
                      <a:pt x="1462" y="574"/>
                      <a:pt x="1319" y="467"/>
                      <a:pt x="1263" y="40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96" name="图片 80" descr=""/>
            <p:cNvPicPr/>
            <p:nvPr/>
          </p:nvPicPr>
          <p:blipFill>
            <a:blip r:embed="rId1"/>
            <a:stretch/>
          </p:blipFill>
          <p:spPr>
            <a:xfrm rot="20700000">
              <a:off x="6897600" y="3089160"/>
              <a:ext cx="2437200" cy="10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Freeform 22"/>
          <p:cNvSpPr/>
          <p:nvPr/>
        </p:nvSpPr>
        <p:spPr>
          <a:xfrm>
            <a:off x="-150840" y="-531720"/>
            <a:ext cx="15010920" cy="7848360"/>
          </a:xfrm>
          <a:custGeom>
            <a:avLst/>
            <a:gdLst>
              <a:gd name="textAreaLeft" fmla="*/ 0 w 15010920"/>
              <a:gd name="textAreaRight" fmla="*/ 15011280 w 15010920"/>
              <a:gd name="textAreaTop" fmla="*/ 0 h 7848360"/>
              <a:gd name="textAreaBottom" fmla="*/ 7848720 h 7848360"/>
            </a:gdLst>
            <a:ahLst/>
            <a:rect l="textAreaLeft" t="textAreaTop" r="textAreaRight" b="textAreaBottom"/>
            <a:pathLst>
              <a:path w="4000" h="2091">
                <a:moveTo>
                  <a:pt x="4000" y="55"/>
                </a:moveTo>
                <a:cubicBezTo>
                  <a:pt x="3925" y="20"/>
                  <a:pt x="3841" y="0"/>
                  <a:pt x="3752" y="0"/>
                </a:cubicBezTo>
                <a:cubicBezTo>
                  <a:pt x="3429" y="0"/>
                  <a:pt x="3167" y="262"/>
                  <a:pt x="3167" y="585"/>
                </a:cubicBezTo>
                <a:cubicBezTo>
                  <a:pt x="3167" y="627"/>
                  <a:pt x="3172" y="668"/>
                  <a:pt x="3180" y="708"/>
                </a:cubicBezTo>
                <a:cubicBezTo>
                  <a:pt x="3059" y="712"/>
                  <a:pt x="2955" y="779"/>
                  <a:pt x="2897" y="877"/>
                </a:cubicBezTo>
                <a:cubicBezTo>
                  <a:pt x="2883" y="874"/>
                  <a:pt x="2869" y="873"/>
                  <a:pt x="2855" y="873"/>
                </a:cubicBezTo>
                <a:cubicBezTo>
                  <a:pt x="2711" y="873"/>
                  <a:pt x="2594" y="990"/>
                  <a:pt x="2594" y="1134"/>
                </a:cubicBezTo>
                <a:cubicBezTo>
                  <a:pt x="2594" y="1139"/>
                  <a:pt x="2595" y="1144"/>
                  <a:pt x="2595" y="1150"/>
                </a:cubicBezTo>
                <a:cubicBezTo>
                  <a:pt x="2592" y="1149"/>
                  <a:pt x="2590" y="1149"/>
                  <a:pt x="2587" y="1149"/>
                </a:cubicBezTo>
                <a:cubicBezTo>
                  <a:pt x="2494" y="1149"/>
                  <a:pt x="2411" y="1192"/>
                  <a:pt x="2355" y="1258"/>
                </a:cubicBezTo>
                <a:cubicBezTo>
                  <a:pt x="2296" y="1216"/>
                  <a:pt x="2223" y="1191"/>
                  <a:pt x="2144" y="1191"/>
                </a:cubicBezTo>
                <a:cubicBezTo>
                  <a:pt x="2009" y="1191"/>
                  <a:pt x="1891" y="1265"/>
                  <a:pt x="1827" y="1374"/>
                </a:cubicBezTo>
                <a:cubicBezTo>
                  <a:pt x="1795" y="1364"/>
                  <a:pt x="1760" y="1359"/>
                  <a:pt x="1724" y="1359"/>
                </a:cubicBezTo>
                <a:cubicBezTo>
                  <a:pt x="1657" y="1359"/>
                  <a:pt x="1594" y="1378"/>
                  <a:pt x="1540" y="1409"/>
                </a:cubicBezTo>
                <a:cubicBezTo>
                  <a:pt x="1501" y="1327"/>
                  <a:pt x="1417" y="1269"/>
                  <a:pt x="1319" y="1269"/>
                </a:cubicBezTo>
                <a:cubicBezTo>
                  <a:pt x="1315" y="1269"/>
                  <a:pt x="1310" y="1269"/>
                  <a:pt x="1305" y="1270"/>
                </a:cubicBezTo>
                <a:cubicBezTo>
                  <a:pt x="1273" y="1058"/>
                  <a:pt x="1092" y="896"/>
                  <a:pt x="872" y="891"/>
                </a:cubicBezTo>
                <a:cubicBezTo>
                  <a:pt x="872" y="883"/>
                  <a:pt x="872" y="875"/>
                  <a:pt x="872" y="867"/>
                </a:cubicBezTo>
                <a:cubicBezTo>
                  <a:pt x="872" y="539"/>
                  <a:pt x="606" y="273"/>
                  <a:pt x="278" y="273"/>
                </a:cubicBezTo>
                <a:cubicBezTo>
                  <a:pt x="178" y="273"/>
                  <a:pt x="83" y="298"/>
                  <a:pt x="0" y="343"/>
                </a:cubicBezTo>
                <a:cubicBezTo>
                  <a:pt x="0" y="1392"/>
                  <a:pt x="0" y="1392"/>
                  <a:pt x="0" y="1392"/>
                </a:cubicBezTo>
                <a:cubicBezTo>
                  <a:pt x="83" y="1436"/>
                  <a:pt x="178" y="1461"/>
                  <a:pt x="278" y="1461"/>
                </a:cubicBezTo>
                <a:cubicBezTo>
                  <a:pt x="330" y="1461"/>
                  <a:pt x="381" y="1455"/>
                  <a:pt x="429" y="1442"/>
                </a:cubicBezTo>
                <a:cubicBezTo>
                  <a:pt x="475" y="1639"/>
                  <a:pt x="652" y="1785"/>
                  <a:pt x="863" y="1785"/>
                </a:cubicBezTo>
                <a:cubicBezTo>
                  <a:pt x="971" y="1785"/>
                  <a:pt x="1070" y="1747"/>
                  <a:pt x="1147" y="1684"/>
                </a:cubicBezTo>
                <a:cubicBezTo>
                  <a:pt x="1191" y="1728"/>
                  <a:pt x="1252" y="1755"/>
                  <a:pt x="1319" y="1755"/>
                </a:cubicBezTo>
                <a:cubicBezTo>
                  <a:pt x="1333" y="1755"/>
                  <a:pt x="1346" y="1754"/>
                  <a:pt x="1359" y="1752"/>
                </a:cubicBezTo>
                <a:cubicBezTo>
                  <a:pt x="1373" y="1942"/>
                  <a:pt x="1531" y="2091"/>
                  <a:pt x="1724" y="2091"/>
                </a:cubicBezTo>
                <a:cubicBezTo>
                  <a:pt x="1860" y="2091"/>
                  <a:pt x="1978" y="2018"/>
                  <a:pt x="2041" y="1909"/>
                </a:cubicBezTo>
                <a:cubicBezTo>
                  <a:pt x="2074" y="1918"/>
                  <a:pt x="2109" y="1923"/>
                  <a:pt x="2144" y="1923"/>
                </a:cubicBezTo>
                <a:cubicBezTo>
                  <a:pt x="2284" y="1923"/>
                  <a:pt x="2406" y="1845"/>
                  <a:pt x="2468" y="1729"/>
                </a:cubicBezTo>
                <a:cubicBezTo>
                  <a:pt x="2504" y="1745"/>
                  <a:pt x="2545" y="1754"/>
                  <a:pt x="2587" y="1754"/>
                </a:cubicBezTo>
                <a:cubicBezTo>
                  <a:pt x="2754" y="1754"/>
                  <a:pt x="2890" y="1618"/>
                  <a:pt x="2890" y="1452"/>
                </a:cubicBezTo>
                <a:cubicBezTo>
                  <a:pt x="2890" y="1432"/>
                  <a:pt x="2888" y="1412"/>
                  <a:pt x="2884" y="1394"/>
                </a:cubicBezTo>
                <a:cubicBezTo>
                  <a:pt x="2931" y="1389"/>
                  <a:pt x="2974" y="1371"/>
                  <a:pt x="3010" y="1345"/>
                </a:cubicBezTo>
                <a:cubicBezTo>
                  <a:pt x="3063" y="1379"/>
                  <a:pt x="3126" y="1398"/>
                  <a:pt x="3194" y="1398"/>
                </a:cubicBezTo>
                <a:cubicBezTo>
                  <a:pt x="3359" y="1398"/>
                  <a:pt x="3497" y="1282"/>
                  <a:pt x="3531" y="1127"/>
                </a:cubicBezTo>
                <a:cubicBezTo>
                  <a:pt x="3599" y="1155"/>
                  <a:pt x="3674" y="1170"/>
                  <a:pt x="3752" y="1170"/>
                </a:cubicBezTo>
                <a:cubicBezTo>
                  <a:pt x="3841" y="1170"/>
                  <a:pt x="3925" y="1151"/>
                  <a:pt x="4000" y="1115"/>
                </a:cubicBezTo>
                <a:lnTo>
                  <a:pt x="4000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23"/>
          <p:cNvSpPr/>
          <p:nvPr/>
        </p:nvSpPr>
        <p:spPr>
          <a:xfrm>
            <a:off x="-150840" y="1682640"/>
            <a:ext cx="15010920" cy="6316200"/>
          </a:xfrm>
          <a:custGeom>
            <a:avLst/>
            <a:gdLst>
              <a:gd name="textAreaLeft" fmla="*/ 0 w 15010920"/>
              <a:gd name="textAreaRight" fmla="*/ 15011280 w 15010920"/>
              <a:gd name="textAreaTop" fmla="*/ 0 h 6316200"/>
              <a:gd name="textAreaBottom" fmla="*/ 6316560 h 6316200"/>
            </a:gdLst>
            <a:ahLst/>
            <a:rect l="textAreaLeft" t="textAreaTop" r="textAreaRight" b="textAreaBottom"/>
            <a:pathLst>
              <a:path w="4000" h="1683">
                <a:moveTo>
                  <a:pt x="4000" y="0"/>
                </a:moveTo>
                <a:cubicBezTo>
                  <a:pt x="3867" y="73"/>
                  <a:pt x="3760" y="188"/>
                  <a:pt x="3697" y="327"/>
                </a:cubicBezTo>
                <a:cubicBezTo>
                  <a:pt x="3668" y="319"/>
                  <a:pt x="3638" y="316"/>
                  <a:pt x="3606" y="316"/>
                </a:cubicBezTo>
                <a:cubicBezTo>
                  <a:pt x="3470" y="316"/>
                  <a:pt x="3350" y="388"/>
                  <a:pt x="3283" y="496"/>
                </a:cubicBezTo>
                <a:cubicBezTo>
                  <a:pt x="3261" y="488"/>
                  <a:pt x="3238" y="483"/>
                  <a:pt x="3214" y="483"/>
                </a:cubicBezTo>
                <a:cubicBezTo>
                  <a:pt x="3110" y="483"/>
                  <a:pt x="3025" y="568"/>
                  <a:pt x="3025" y="672"/>
                </a:cubicBezTo>
                <a:cubicBezTo>
                  <a:pt x="3025" y="677"/>
                  <a:pt x="3026" y="682"/>
                  <a:pt x="3026" y="687"/>
                </a:cubicBezTo>
                <a:cubicBezTo>
                  <a:pt x="2882" y="709"/>
                  <a:pt x="2770" y="826"/>
                  <a:pt x="2757" y="972"/>
                </a:cubicBezTo>
                <a:cubicBezTo>
                  <a:pt x="2712" y="956"/>
                  <a:pt x="2664" y="948"/>
                  <a:pt x="2614" y="948"/>
                </a:cubicBezTo>
                <a:cubicBezTo>
                  <a:pt x="2453" y="948"/>
                  <a:pt x="2312" y="1036"/>
                  <a:pt x="2236" y="1166"/>
                </a:cubicBezTo>
                <a:cubicBezTo>
                  <a:pt x="2196" y="1134"/>
                  <a:pt x="2145" y="1116"/>
                  <a:pt x="2090" y="1116"/>
                </a:cubicBezTo>
                <a:cubicBezTo>
                  <a:pt x="2000" y="1116"/>
                  <a:pt x="1921" y="1166"/>
                  <a:pt x="1881" y="1241"/>
                </a:cubicBezTo>
                <a:cubicBezTo>
                  <a:pt x="1831" y="1210"/>
                  <a:pt x="1772" y="1191"/>
                  <a:pt x="1709" y="1191"/>
                </a:cubicBezTo>
                <a:cubicBezTo>
                  <a:pt x="1652" y="1191"/>
                  <a:pt x="1598" y="1206"/>
                  <a:pt x="1551" y="1233"/>
                </a:cubicBezTo>
                <a:cubicBezTo>
                  <a:pt x="1489" y="1112"/>
                  <a:pt x="1363" y="1029"/>
                  <a:pt x="1217" y="1029"/>
                </a:cubicBezTo>
                <a:cubicBezTo>
                  <a:pt x="1134" y="1029"/>
                  <a:pt x="1057" y="1056"/>
                  <a:pt x="994" y="1102"/>
                </a:cubicBezTo>
                <a:cubicBezTo>
                  <a:pt x="964" y="988"/>
                  <a:pt x="865" y="901"/>
                  <a:pt x="744" y="890"/>
                </a:cubicBezTo>
                <a:cubicBezTo>
                  <a:pt x="744" y="884"/>
                  <a:pt x="744" y="878"/>
                  <a:pt x="744" y="872"/>
                </a:cubicBezTo>
                <a:cubicBezTo>
                  <a:pt x="744" y="619"/>
                  <a:pt x="539" y="413"/>
                  <a:pt x="285" y="413"/>
                </a:cubicBezTo>
                <a:cubicBezTo>
                  <a:pt x="177" y="413"/>
                  <a:pt x="78" y="450"/>
                  <a:pt x="0" y="512"/>
                </a:cubicBezTo>
                <a:cubicBezTo>
                  <a:pt x="0" y="1683"/>
                  <a:pt x="0" y="1683"/>
                  <a:pt x="0" y="1683"/>
                </a:cubicBezTo>
                <a:cubicBezTo>
                  <a:pt x="4000" y="1683"/>
                  <a:pt x="4000" y="1683"/>
                  <a:pt x="4000" y="1683"/>
                </a:cubicBezTo>
                <a:lnTo>
                  <a:pt x="40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文本框 90"/>
          <p:cNvSpPr/>
          <p:nvPr/>
        </p:nvSpPr>
        <p:spPr>
          <a:xfrm>
            <a:off x="348120" y="3582000"/>
            <a:ext cx="39189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/>
            </a:scene3d>
            <a:sp3d extrusionH="6350000" prstMaterial="matte">
              <a:extrusionClr>
                <a:schemeClr val="accent1">
                  <a:lumMod val="75000"/>
                </a:schemeClr>
              </a:extrusionClr>
            </a:sp3d>
          </a:bodyPr>
          <a:p>
            <a:pPr>
              <a:lnSpc>
                <a:spcPct val="120000"/>
              </a:lnSpc>
            </a:pPr>
            <a:r>
              <a:rPr b="0" lang="zh-CN" sz="3600" spc="-1" strike="noStrike">
                <a:solidFill>
                  <a:schemeClr val="accent1">
                    <a:lumMod val="50000"/>
                  </a:schemeClr>
                </a:solidFill>
                <a:latin typeface="方正正大黑简体"/>
                <a:ea typeface="方正正大黑简体"/>
              </a:rPr>
              <a:t>制作低面风格背景其实很简单，你需要的只是一款神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93"/>
          <p:cNvGrpSpPr/>
          <p:nvPr/>
        </p:nvGrpSpPr>
        <p:grpSpPr>
          <a:xfrm>
            <a:off x="7188840" y="4368600"/>
            <a:ext cx="4878720" cy="2617200"/>
            <a:chOff x="7188840" y="4368600"/>
            <a:chExt cx="4878720" cy="2617200"/>
          </a:xfrm>
        </p:grpSpPr>
        <p:sp>
          <p:nvSpPr>
            <p:cNvPr id="301" name="文本框 91"/>
            <p:cNvSpPr/>
            <p:nvPr/>
          </p:nvSpPr>
          <p:spPr>
            <a:xfrm>
              <a:off x="7188840" y="4368600"/>
              <a:ext cx="4878720" cy="18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  <a:scene3d>
                <a:camera prst="orthographicFront"/>
                <a:lightRig dir="t" rig="flat"/>
              </a:scene3d>
              <a:sp3d extrusionH="6350000" prstMaterial="matte">
                <a:extrusionClr>
                  <a:schemeClr val="accent1">
                    <a:lumMod val="75000"/>
                  </a:schemeClr>
                </a:extrusionClr>
              </a:sp3d>
            </a:bodyPr>
            <a:p>
              <a:pPr algn="ctr">
                <a:lnSpc>
                  <a:spcPct val="120000"/>
                </a:lnSpc>
              </a:pPr>
              <a:r>
                <a:rPr b="0" lang="en-US" sz="4800" spc="-1" strike="noStrike">
                  <a:solidFill>
                    <a:schemeClr val="accent1">
                      <a:lumMod val="50000"/>
                    </a:schemeClr>
                  </a:solidFill>
                  <a:latin typeface="方正正大黑简体"/>
                  <a:ea typeface="方正正大黑简体"/>
                </a:rPr>
                <a:t>Triangulate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en-US" sz="4800" spc="-1" strike="noStrike">
                  <a:solidFill>
                    <a:schemeClr val="accent1">
                      <a:lumMod val="50000"/>
                    </a:schemeClr>
                  </a:solidFill>
                  <a:latin typeface="方正正大黑简体"/>
                  <a:ea typeface="方正正大黑简体"/>
                </a:rPr>
                <a:t>Imag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文本框 92"/>
            <p:cNvSpPr/>
            <p:nvPr/>
          </p:nvSpPr>
          <p:spPr>
            <a:xfrm>
              <a:off x="10927440" y="4793400"/>
              <a:ext cx="631440" cy="21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  <a:scene3d>
                <a:camera prst="orthographicFront"/>
                <a:lightRig dir="t" rig="flat"/>
              </a:scene3d>
              <a:sp3d extrusionH="6350000" prstMaterial="matte">
                <a:extrusionClr>
                  <a:schemeClr val="accent1">
                    <a:lumMod val="75000"/>
                  </a:schemeClr>
                </a:extrusionClr>
              </a:sp3d>
            </a:bodyPr>
            <a:p>
              <a:pPr algn="ctr">
                <a:lnSpc>
                  <a:spcPct val="120000"/>
                </a:lnSpc>
              </a:pPr>
              <a:r>
                <a:rPr b="0" lang="en-US" sz="11500" spc="-1" strike="noStrike">
                  <a:solidFill>
                    <a:schemeClr val="accent2"/>
                  </a:solidFill>
                  <a:latin typeface="方正正大黑简体"/>
                  <a:ea typeface="方正正大黑简体"/>
                </a:rPr>
                <a:t>5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弧形 94"/>
          <p:cNvSpPr/>
          <p:nvPr/>
        </p:nvSpPr>
        <p:spPr>
          <a:xfrm rot="8260800">
            <a:off x="3423600" y="910800"/>
            <a:ext cx="5837040" cy="5557320"/>
          </a:xfrm>
          <a:prstGeom prst="arc">
            <a:avLst>
              <a:gd name="adj1" fmla="val 16212459"/>
              <a:gd name="adj2" fmla="val 21566886"/>
            </a:avLst>
          </a:prstGeom>
          <a:noFill/>
          <a:ln w="38100">
            <a:solidFill>
              <a:srgbClr val="d797ec"/>
            </a:solidFill>
            <a:prstDash val="lgDash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348120" y="64742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图片 10" descr=""/>
          <p:cNvPicPr/>
          <p:nvPr/>
        </p:nvPicPr>
        <p:blipFill>
          <a:blip r:embed="rId1"/>
          <a:stretch/>
        </p:blipFill>
        <p:spPr>
          <a:xfrm>
            <a:off x="1930320" y="977760"/>
            <a:ext cx="8330760" cy="5879880"/>
          </a:xfrm>
          <a:prstGeom prst="rect">
            <a:avLst/>
          </a:prstGeom>
          <a:ln w="0">
            <a:noFill/>
          </a:ln>
        </p:spPr>
      </p:pic>
      <p:cxnSp>
        <p:nvCxnSpPr>
          <p:cNvPr id="306" name="肘形连接符 21"/>
          <p:cNvCxnSpPr/>
          <p:nvPr/>
        </p:nvCxnSpPr>
        <p:spPr>
          <a:xfrm>
            <a:off x="85680" y="3112920"/>
            <a:ext cx="2324160" cy="727920"/>
          </a:xfrm>
          <a:prstGeom prst="bentConnector2">
            <a:avLst/>
          </a:prstGeom>
          <a:ln w="19050">
            <a:solidFill>
              <a:srgbClr val="97e272"/>
            </a:solidFill>
          </a:ln>
        </p:spPr>
      </p:cxnSp>
      <p:grpSp>
        <p:nvGrpSpPr>
          <p:cNvPr id="307" name="组合 37"/>
          <p:cNvGrpSpPr/>
          <p:nvPr/>
        </p:nvGrpSpPr>
        <p:grpSpPr>
          <a:xfrm>
            <a:off x="1803600" y="3976560"/>
            <a:ext cx="2634840" cy="651600"/>
            <a:chOff x="1803600" y="3976560"/>
            <a:chExt cx="2634840" cy="651600"/>
          </a:xfrm>
        </p:grpSpPr>
        <p:cxnSp>
          <p:nvCxnSpPr>
            <p:cNvPr id="308" name="直接连接符 32"/>
            <p:cNvCxnSpPr/>
            <p:nvPr/>
          </p:nvCxnSpPr>
          <p:spPr>
            <a:xfrm flipH="1">
              <a:off x="1803600" y="4618440"/>
              <a:ext cx="2635200" cy="360"/>
            </a:xfrm>
            <a:prstGeom prst="straightConnector1">
              <a:avLst/>
            </a:prstGeom>
            <a:ln w="19050">
              <a:solidFill>
                <a:srgbClr val="97e272"/>
              </a:solidFill>
            </a:ln>
          </p:spPr>
        </p:cxnSp>
        <p:cxnSp>
          <p:nvCxnSpPr>
            <p:cNvPr id="309" name="直接连接符 33"/>
            <p:cNvCxnSpPr/>
            <p:nvPr/>
          </p:nvCxnSpPr>
          <p:spPr>
            <a:xfrm>
              <a:off x="4438440" y="3976560"/>
              <a:ext cx="360" cy="651960"/>
            </a:xfrm>
            <a:prstGeom prst="straightConnector1">
              <a:avLst/>
            </a:prstGeom>
            <a:ln w="19050">
              <a:solidFill>
                <a:srgbClr val="97e272"/>
              </a:solidFill>
            </a:ln>
          </p:spPr>
        </p:cxnSp>
      </p:grpSp>
      <p:sp>
        <p:nvSpPr>
          <p:cNvPr id="310" name="矩形 2"/>
          <p:cNvSpPr/>
          <p:nvPr/>
        </p:nvSpPr>
        <p:spPr>
          <a:xfrm>
            <a:off x="0" y="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1" name="等腰三角形 3"/>
          <p:cNvSpPr/>
          <p:nvPr/>
        </p:nvSpPr>
        <p:spPr>
          <a:xfrm rot="10800000">
            <a:off x="514800" y="851400"/>
            <a:ext cx="768240" cy="57132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2" name="文本框 5"/>
          <p:cNvSpPr/>
          <p:nvPr/>
        </p:nvSpPr>
        <p:spPr>
          <a:xfrm>
            <a:off x="2275200" y="181440"/>
            <a:ext cx="7641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下面是酷炫的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【</a:t>
            </a:r>
            <a:r>
              <a:rPr b="0" lang="en-US" sz="4000" spc="-1" strike="noStrike">
                <a:solidFill>
                  <a:schemeClr val="accent1">
                    <a:lumMod val="50000"/>
                  </a:schemeClr>
                </a:solidFill>
                <a:latin typeface="方正正大黑简体"/>
                <a:ea typeface="方正正大黑简体"/>
              </a:rPr>
              <a:t>Triangulate Image </a:t>
            </a:r>
            <a:r>
              <a:rPr b="0" lang="en-US" sz="4000" spc="-1" strike="noStrike">
                <a:solidFill>
                  <a:schemeClr val="accent2"/>
                </a:solidFill>
                <a:latin typeface="方正正大黑简体"/>
                <a:ea typeface="方正正大黑简体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】界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11"/>
          <p:cNvSpPr/>
          <p:nvPr/>
        </p:nvSpPr>
        <p:spPr>
          <a:xfrm>
            <a:off x="6319800" y="1295280"/>
            <a:ext cx="1966680" cy="6742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/>
            </a:scene3d>
            <a:sp3d extrusionH="6350000" prstMaterial="matte">
              <a:extrusionClr>
                <a:schemeClr val="accent1">
                  <a:lumMod val="75000"/>
                </a:schemeClr>
              </a:extrusionClr>
            </a:sp3d>
          </a:bodyPr>
          <a:p>
            <a:pPr algn="ctr">
              <a:lnSpc>
                <a:spcPct val="120000"/>
              </a:lnSpc>
            </a:pPr>
            <a:r>
              <a:rPr b="0" lang="zh-CN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打开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2"/>
          <p:cNvSpPr/>
          <p:nvPr/>
        </p:nvSpPr>
        <p:spPr>
          <a:xfrm>
            <a:off x="6319800" y="2364840"/>
            <a:ext cx="1966680" cy="6742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/>
            </a:scene3d>
            <a:sp3d extrusionH="6350000" prstMaterial="matte">
              <a:extrusionClr>
                <a:schemeClr val="accent1">
                  <a:lumMod val="75000"/>
                </a:schemeClr>
              </a:extrusionClr>
            </a:sp3d>
          </a:bodyPr>
          <a:p>
            <a:pPr algn="ctr">
              <a:lnSpc>
                <a:spcPct val="120000"/>
              </a:lnSpc>
            </a:pPr>
            <a:r>
              <a:rPr b="0" lang="zh-CN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模糊参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4"/>
          <p:cNvSpPr/>
          <p:nvPr/>
        </p:nvSpPr>
        <p:spPr>
          <a:xfrm>
            <a:off x="6319800" y="3434040"/>
            <a:ext cx="1966680" cy="6742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/>
            </a:scene3d>
            <a:sp3d extrusionH="6350000" prstMaterial="matte">
              <a:extrusionClr>
                <a:schemeClr val="accent1">
                  <a:lumMod val="75000"/>
                </a:schemeClr>
              </a:extrusionClr>
            </a:sp3d>
          </a:bodyPr>
          <a:p>
            <a:pPr algn="ctr">
              <a:lnSpc>
                <a:spcPct val="120000"/>
              </a:lnSpc>
            </a:pPr>
            <a:r>
              <a:rPr b="0" lang="zh-CN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保存</a:t>
            </a:r>
            <a:r>
              <a:rPr b="0" lang="en-US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/</a:t>
            </a:r>
            <a:r>
              <a:rPr b="0" lang="zh-CN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载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5"/>
          <p:cNvSpPr/>
          <p:nvPr/>
        </p:nvSpPr>
        <p:spPr>
          <a:xfrm>
            <a:off x="-44280" y="4269960"/>
            <a:ext cx="1974600" cy="6742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/>
            </a:scene3d>
            <a:sp3d extrusionH="6350000" prstMaterial="matte">
              <a:extrusionClr>
                <a:schemeClr val="accent1">
                  <a:lumMod val="75000"/>
                </a:schemeClr>
              </a:extrusionClr>
            </a:sp3d>
          </a:bodyPr>
          <a:p>
            <a:pPr algn="ctr">
              <a:lnSpc>
                <a:spcPct val="120000"/>
              </a:lnSpc>
            </a:pPr>
            <a:r>
              <a:rPr b="0" lang="zh-CN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保存</a:t>
            </a:r>
            <a:r>
              <a:rPr b="0" lang="en-US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/</a:t>
            </a:r>
            <a:r>
              <a:rPr b="0" lang="zh-CN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载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16"/>
          <p:cNvSpPr/>
          <p:nvPr/>
        </p:nvSpPr>
        <p:spPr>
          <a:xfrm>
            <a:off x="-44280" y="2701440"/>
            <a:ext cx="1974600" cy="6742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/>
            </a:scene3d>
            <a:sp3d extrusionH="6350000" prstMaterial="matte">
              <a:extrusionClr>
                <a:schemeClr val="accent1">
                  <a:lumMod val="75000"/>
                </a:schemeClr>
              </a:extrusionClr>
            </a:sp3d>
          </a:bodyPr>
          <a:p>
            <a:pPr algn="ctr">
              <a:lnSpc>
                <a:spcPct val="120000"/>
              </a:lnSpc>
            </a:pPr>
            <a:r>
              <a:rPr b="0" lang="zh-CN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橡皮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38"/>
          <p:cNvSpPr/>
          <p:nvPr/>
        </p:nvSpPr>
        <p:spPr>
          <a:xfrm>
            <a:off x="6319800" y="4503600"/>
            <a:ext cx="1966680" cy="6742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/>
            </a:scene3d>
            <a:sp3d extrusionH="6350000" prstMaterial="matte">
              <a:extrusionClr>
                <a:schemeClr val="accent1">
                  <a:lumMod val="75000"/>
                </a:schemeClr>
              </a:extrusionClr>
            </a:sp3d>
          </a:bodyPr>
          <a:p>
            <a:pPr algn="ctr">
              <a:lnSpc>
                <a:spcPct val="120000"/>
              </a:lnSpc>
            </a:pPr>
            <a:r>
              <a:rPr b="0" lang="zh-CN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显示模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39"/>
          <p:cNvSpPr/>
          <p:nvPr/>
        </p:nvSpPr>
        <p:spPr>
          <a:xfrm>
            <a:off x="6319800" y="5570280"/>
            <a:ext cx="1966680" cy="6742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/>
            </a:scene3d>
            <a:sp3d extrusionH="6350000" prstMaterial="matte">
              <a:extrusionClr>
                <a:schemeClr val="accent1">
                  <a:lumMod val="75000"/>
                </a:schemeClr>
              </a:extrusionClr>
            </a:sp3d>
          </a:bodyPr>
          <a:p>
            <a:pPr algn="ctr">
              <a:lnSpc>
                <a:spcPct val="120000"/>
              </a:lnSpc>
            </a:pPr>
            <a:r>
              <a:rPr b="0" lang="zh-CN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保存</a:t>
            </a:r>
            <a:r>
              <a:rPr b="0" lang="en-US" sz="3200" spc="-1" strike="noStrike">
                <a:solidFill>
                  <a:schemeClr val="accent5"/>
                </a:solidFill>
                <a:latin typeface="方正正大黑简体"/>
                <a:ea typeface="方正正大黑简体"/>
              </a:rPr>
              <a:t>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41"/>
          <p:cNvSpPr/>
          <p:nvPr/>
        </p:nvSpPr>
        <p:spPr>
          <a:xfrm>
            <a:off x="10428480" y="1412640"/>
            <a:ext cx="1658520" cy="33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/>
            </a:scene3d>
            <a:sp3d extrusionH="6350000" prstMaterial="matte">
              <a:extrusionClr>
                <a:schemeClr val="accent1">
                  <a:lumMod val="75000"/>
                </a:schemeClr>
              </a:extrusionClr>
            </a:sp3d>
          </a:bodyPr>
          <a:p>
            <a:pPr>
              <a:lnSpc>
                <a:spcPct val="120000"/>
              </a:lnSpc>
            </a:pPr>
            <a:r>
              <a:rPr b="0" lang="zh-CN" sz="48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32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如果打不开软件，请直接度娘，通关密语：</a:t>
            </a:r>
            <a:r>
              <a:rPr b="0" lang="en-US" sz="32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JRE</a:t>
            </a:r>
            <a:r>
              <a:rPr b="0" lang="zh-CN" sz="32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文本框 10"/>
          <p:cNvSpPr/>
          <p:nvPr/>
        </p:nvSpPr>
        <p:spPr>
          <a:xfrm>
            <a:off x="4115520" y="571680"/>
            <a:ext cx="3960720" cy="76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96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吉</a:t>
            </a:r>
            <a:endParaRPr b="0" lang="en-US" sz="4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11"/>
          <p:cNvGrpSpPr/>
          <p:nvPr/>
        </p:nvGrpSpPr>
        <p:grpSpPr>
          <a:xfrm>
            <a:off x="0" y="5490000"/>
            <a:ext cx="12191760" cy="1367640"/>
            <a:chOff x="0" y="5490000"/>
            <a:chExt cx="12191760" cy="1367640"/>
          </a:xfrm>
        </p:grpSpPr>
        <p:sp>
          <p:nvSpPr>
            <p:cNvPr id="323" name="矩形 12"/>
            <p:cNvSpPr/>
            <p:nvPr/>
          </p:nvSpPr>
          <p:spPr>
            <a:xfrm>
              <a:off x="0" y="5775480"/>
              <a:ext cx="12191760" cy="10821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4" name="等腰三角形 13"/>
            <p:cNvSpPr/>
            <p:nvPr/>
          </p:nvSpPr>
          <p:spPr>
            <a:xfrm rot="10800000">
              <a:off x="514800" y="5490000"/>
              <a:ext cx="768240" cy="571320"/>
            </a:xfrm>
            <a:prstGeom prst="triangle">
              <a:avLst>
                <a:gd name="adj" fmla="val 50000"/>
              </a:avLst>
            </a:prstGeom>
            <a:solidFill>
              <a:srgbClr val="50ced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25" name="文本框 14"/>
          <p:cNvSpPr/>
          <p:nvPr/>
        </p:nvSpPr>
        <p:spPr>
          <a:xfrm>
            <a:off x="4024080" y="6047280"/>
            <a:ext cx="4143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大叔真会选，真真是个好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组合 32"/>
          <p:cNvGrpSpPr/>
          <p:nvPr/>
        </p:nvGrpSpPr>
        <p:grpSpPr>
          <a:xfrm>
            <a:off x="6463080" y="121680"/>
            <a:ext cx="5210280" cy="5070240"/>
            <a:chOff x="6463080" y="121680"/>
            <a:chExt cx="5210280" cy="5070240"/>
          </a:xfrm>
        </p:grpSpPr>
        <p:grpSp>
          <p:nvGrpSpPr>
            <p:cNvPr id="327" name="组合 29"/>
            <p:cNvGrpSpPr/>
            <p:nvPr/>
          </p:nvGrpSpPr>
          <p:grpSpPr>
            <a:xfrm>
              <a:off x="6463080" y="121680"/>
              <a:ext cx="4561920" cy="5070240"/>
              <a:chOff x="6463080" y="121680"/>
              <a:chExt cx="4561920" cy="5070240"/>
            </a:xfrm>
          </p:grpSpPr>
          <p:grpSp>
            <p:nvGrpSpPr>
              <p:cNvPr id="328" name="组合 27"/>
              <p:cNvGrpSpPr/>
              <p:nvPr/>
            </p:nvGrpSpPr>
            <p:grpSpPr>
              <a:xfrm>
                <a:off x="6463080" y="1951200"/>
                <a:ext cx="3207600" cy="3240720"/>
                <a:chOff x="6463080" y="1951200"/>
                <a:chExt cx="3207600" cy="3240720"/>
              </a:xfrm>
            </p:grpSpPr>
            <p:sp>
              <p:nvSpPr>
                <p:cNvPr id="329" name="圆角矩形 3"/>
                <p:cNvSpPr/>
                <p:nvPr/>
              </p:nvSpPr>
              <p:spPr>
                <a:xfrm>
                  <a:off x="6463080" y="1951200"/>
                  <a:ext cx="3207600" cy="3207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efef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" name="任意多边形 7"/>
                <p:cNvSpPr/>
                <p:nvPr/>
              </p:nvSpPr>
              <p:spPr>
                <a:xfrm>
                  <a:off x="6463080" y="2076480"/>
                  <a:ext cx="3207600" cy="763560"/>
                </a:xfrm>
                <a:custGeom>
                  <a:avLst/>
                  <a:gdLst>
                    <a:gd name="textAreaLeft" fmla="*/ 0 w 3207600"/>
                    <a:gd name="textAreaRight" fmla="*/ 3207960 w 3207600"/>
                    <a:gd name="textAreaTop" fmla="*/ 0 h 763560"/>
                    <a:gd name="textAreaBottom" fmla="*/ 763920 h 763560"/>
                  </a:gdLst>
                  <a:ahLst/>
                  <a:rect l="textAreaLeft" t="textAreaTop" r="textAreaRight" b="textAreaBottom"/>
                  <a:pathLst>
                    <a:path w="3208015" h="764058">
                      <a:moveTo>
                        <a:pt x="534680" y="0"/>
                      </a:moveTo>
                      <a:lnTo>
                        <a:pt x="2673335" y="0"/>
                      </a:lnTo>
                      <a:cubicBezTo>
                        <a:pt x="2968631" y="0"/>
                        <a:pt x="3208015" y="239384"/>
                        <a:pt x="3208015" y="534680"/>
                      </a:cubicBezTo>
                      <a:lnTo>
                        <a:pt x="3208015" y="764058"/>
                      </a:lnTo>
                      <a:lnTo>
                        <a:pt x="0" y="764058"/>
                      </a:lnTo>
                      <a:lnTo>
                        <a:pt x="0" y="534680"/>
                      </a:lnTo>
                      <a:cubicBezTo>
                        <a:pt x="0" y="239384"/>
                        <a:pt x="239384" y="0"/>
                        <a:pt x="534680" y="0"/>
                      </a:cubicBezTo>
                      <a:close/>
                    </a:path>
                  </a:pathLst>
                </a:custGeom>
                <a:solidFill>
                  <a:srgbClr val="cf7668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" name="任意多边形 6"/>
                <p:cNvSpPr/>
                <p:nvPr/>
              </p:nvSpPr>
              <p:spPr>
                <a:xfrm>
                  <a:off x="6463080" y="1951200"/>
                  <a:ext cx="3207600" cy="763560"/>
                </a:xfrm>
                <a:custGeom>
                  <a:avLst/>
                  <a:gdLst>
                    <a:gd name="textAreaLeft" fmla="*/ 0 w 3207600"/>
                    <a:gd name="textAreaRight" fmla="*/ 3207960 w 3207600"/>
                    <a:gd name="textAreaTop" fmla="*/ 0 h 763560"/>
                    <a:gd name="textAreaBottom" fmla="*/ 763920 h 763560"/>
                  </a:gdLst>
                  <a:ahLst/>
                  <a:rect l="textAreaLeft" t="textAreaTop" r="textAreaRight" b="textAreaBottom"/>
                  <a:pathLst>
                    <a:path w="3208015" h="764058">
                      <a:moveTo>
                        <a:pt x="534680" y="0"/>
                      </a:moveTo>
                      <a:lnTo>
                        <a:pt x="2673335" y="0"/>
                      </a:lnTo>
                      <a:cubicBezTo>
                        <a:pt x="2968631" y="0"/>
                        <a:pt x="3208015" y="239384"/>
                        <a:pt x="3208015" y="534680"/>
                      </a:cubicBezTo>
                      <a:lnTo>
                        <a:pt x="3208015" y="764058"/>
                      </a:lnTo>
                      <a:lnTo>
                        <a:pt x="0" y="764058"/>
                      </a:lnTo>
                      <a:lnTo>
                        <a:pt x="0" y="534680"/>
                      </a:lnTo>
                      <a:cubicBezTo>
                        <a:pt x="0" y="239384"/>
                        <a:pt x="239384" y="0"/>
                        <a:pt x="534680" y="0"/>
                      </a:cubicBezTo>
                      <a:close/>
                    </a:path>
                  </a:pathLst>
                </a:custGeom>
                <a:solidFill>
                  <a:srgbClr val="e8867a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2" name="椭圆 8"/>
                <p:cNvSpPr/>
                <p:nvPr/>
              </p:nvSpPr>
              <p:spPr>
                <a:xfrm>
                  <a:off x="7976880" y="2243160"/>
                  <a:ext cx="179640" cy="179640"/>
                </a:xfrm>
                <a:prstGeom prst="ellipse">
                  <a:avLst/>
                </a:prstGeom>
                <a:solidFill>
                  <a:schemeClr val="tx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" name="文本框 9"/>
                <p:cNvSpPr/>
                <p:nvPr/>
              </p:nvSpPr>
              <p:spPr>
                <a:xfrm>
                  <a:off x="6953400" y="2999520"/>
                  <a:ext cx="2186640" cy="21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800" spc="-1" strike="noStrike">
                      <a:solidFill>
                        <a:srgbClr val="000000"/>
                      </a:solidFill>
                      <a:latin typeface="方正正大黑简体"/>
                      <a:ea typeface="方正正大黑简体"/>
                    </a:rPr>
                    <a:t>32</a:t>
                  </a:r>
                  <a:endParaRPr b="0" lang="en-US" sz="13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组合 15"/>
              <p:cNvGrpSpPr/>
              <p:nvPr/>
            </p:nvGrpSpPr>
            <p:grpSpPr>
              <a:xfrm>
                <a:off x="7953120" y="121680"/>
                <a:ext cx="3071880" cy="3111480"/>
                <a:chOff x="7953120" y="121680"/>
                <a:chExt cx="3071880" cy="3111480"/>
              </a:xfrm>
            </p:grpSpPr>
            <p:grpSp>
              <p:nvGrpSpPr>
                <p:cNvPr id="335" name="组合 16"/>
                <p:cNvGrpSpPr/>
                <p:nvPr/>
              </p:nvGrpSpPr>
              <p:grpSpPr>
                <a:xfrm>
                  <a:off x="7953120" y="121680"/>
                  <a:ext cx="3071880" cy="3111480"/>
                  <a:chOff x="7953120" y="121680"/>
                  <a:chExt cx="3071880" cy="3111480"/>
                </a:xfrm>
              </p:grpSpPr>
              <p:sp>
                <p:nvSpPr>
                  <p:cNvPr id="336" name="右耳朵"/>
                  <p:cNvSpPr/>
                  <p:nvPr/>
                </p:nvSpPr>
                <p:spPr>
                  <a:xfrm flipH="1" rot="781800">
                    <a:off x="10042560" y="2228040"/>
                    <a:ext cx="250560" cy="396720"/>
                  </a:xfrm>
                  <a:custGeom>
                    <a:avLst/>
                    <a:gdLst>
                      <a:gd name="textAreaLeft" fmla="*/ 360 w 250560"/>
                      <a:gd name="textAreaRight" fmla="*/ 251280 w 250560"/>
                      <a:gd name="textAreaTop" fmla="*/ 0 h 396720"/>
                      <a:gd name="textAreaBottom" fmla="*/ 397080 h 396720"/>
                    </a:gdLst>
                    <a:ahLst/>
                    <a:rect l="textAreaLeft" t="textAreaTop" r="textAreaRight" b="textAreaBottom"/>
                    <a:pathLst>
                      <a:path w="80" h="126">
                        <a:moveTo>
                          <a:pt x="80" y="63"/>
                        </a:moveTo>
                        <a:cubicBezTo>
                          <a:pt x="80" y="98"/>
                          <a:pt x="62" y="126"/>
                          <a:pt x="39" y="126"/>
                        </a:cubicBezTo>
                        <a:cubicBezTo>
                          <a:pt x="17" y="126"/>
                          <a:pt x="0" y="83"/>
                          <a:pt x="0" y="48"/>
                        </a:cubicBezTo>
                        <a:cubicBezTo>
                          <a:pt x="0" y="13"/>
                          <a:pt x="17" y="0"/>
                          <a:pt x="39" y="0"/>
                        </a:cubicBezTo>
                        <a:cubicBezTo>
                          <a:pt x="62" y="0"/>
                          <a:pt x="80" y="28"/>
                          <a:pt x="80" y="63"/>
                        </a:cubicBezTo>
                        <a:close/>
                      </a:path>
                    </a:pathLst>
                  </a:custGeom>
                  <a:solidFill>
                    <a:schemeClr val="bg1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7" name="左耳朵"/>
                  <p:cNvSpPr/>
                  <p:nvPr/>
                </p:nvSpPr>
                <p:spPr>
                  <a:xfrm rot="781800">
                    <a:off x="8448480" y="1859040"/>
                    <a:ext cx="250560" cy="396720"/>
                  </a:xfrm>
                  <a:custGeom>
                    <a:avLst/>
                    <a:gdLst>
                      <a:gd name="textAreaLeft" fmla="*/ 0 w 250560"/>
                      <a:gd name="textAreaRight" fmla="*/ 250920 w 250560"/>
                      <a:gd name="textAreaTop" fmla="*/ 0 h 396720"/>
                      <a:gd name="textAreaBottom" fmla="*/ 397080 h 396720"/>
                    </a:gdLst>
                    <a:ahLst/>
                    <a:rect l="textAreaLeft" t="textAreaTop" r="textAreaRight" b="textAreaBottom"/>
                    <a:pathLst>
                      <a:path w="80" h="126">
                        <a:moveTo>
                          <a:pt x="80" y="63"/>
                        </a:moveTo>
                        <a:cubicBezTo>
                          <a:pt x="80" y="98"/>
                          <a:pt x="62" y="126"/>
                          <a:pt x="39" y="126"/>
                        </a:cubicBezTo>
                        <a:cubicBezTo>
                          <a:pt x="17" y="126"/>
                          <a:pt x="0" y="83"/>
                          <a:pt x="0" y="48"/>
                        </a:cubicBezTo>
                        <a:cubicBezTo>
                          <a:pt x="0" y="13"/>
                          <a:pt x="17" y="0"/>
                          <a:pt x="39" y="0"/>
                        </a:cubicBezTo>
                        <a:cubicBezTo>
                          <a:pt x="62" y="0"/>
                          <a:pt x="80" y="28"/>
                          <a:pt x="80" y="63"/>
                        </a:cubicBezTo>
                        <a:close/>
                      </a:path>
                    </a:pathLst>
                  </a:custGeom>
                  <a:solidFill>
                    <a:schemeClr val="bg1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8" name="脸蛋"/>
                  <p:cNvSpPr/>
                  <p:nvPr/>
                </p:nvSpPr>
                <p:spPr>
                  <a:xfrm rot="781800">
                    <a:off x="8581320" y="925200"/>
                    <a:ext cx="1695240" cy="2144520"/>
                  </a:xfrm>
                  <a:custGeom>
                    <a:avLst/>
                    <a:gdLst>
                      <a:gd name="textAreaLeft" fmla="*/ 0 w 1695240"/>
                      <a:gd name="textAreaRight" fmla="*/ 1695600 w 1695240"/>
                      <a:gd name="textAreaTop" fmla="*/ 0 h 2144520"/>
                      <a:gd name="textAreaBottom" fmla="*/ 2144880 h 2144520"/>
                    </a:gdLst>
                    <a:ahLst/>
                    <a:rect l="textAreaLeft" t="textAreaTop" r="textAreaRight" b="textAreaBottom"/>
                    <a:pathLst>
                      <a:path w="200" h="278">
                        <a:moveTo>
                          <a:pt x="100" y="0"/>
                        </a:moveTo>
                        <a:cubicBezTo>
                          <a:pt x="155" y="0"/>
                          <a:pt x="200" y="62"/>
                          <a:pt x="200" y="138"/>
                        </a:cubicBezTo>
                        <a:cubicBezTo>
                          <a:pt x="200" y="215"/>
                          <a:pt x="157" y="270"/>
                          <a:pt x="100" y="278"/>
                        </a:cubicBezTo>
                        <a:cubicBezTo>
                          <a:pt x="42" y="270"/>
                          <a:pt x="0" y="215"/>
                          <a:pt x="0" y="139"/>
                        </a:cubicBezTo>
                        <a:cubicBezTo>
                          <a:pt x="0" y="62"/>
                          <a:pt x="44" y="0"/>
                          <a:pt x="100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39" name="头发"/>
                  <p:cNvSpPr/>
                  <p:nvPr/>
                </p:nvSpPr>
                <p:spPr>
                  <a:xfrm rot="781800">
                    <a:off x="8141040" y="399960"/>
                    <a:ext cx="2696040" cy="1975320"/>
                  </a:xfrm>
                  <a:custGeom>
                    <a:avLst/>
                    <a:gdLst>
                      <a:gd name="textAreaLeft" fmla="*/ 0 w 2696040"/>
                      <a:gd name="textAreaRight" fmla="*/ 2696400 w 2696040"/>
                      <a:gd name="textAreaTop" fmla="*/ 0 h 1975320"/>
                      <a:gd name="textAreaBottom" fmla="*/ 1975680 h 1975320"/>
                    </a:gdLst>
                    <a:ahLst/>
                    <a:rect l="textAreaLeft" t="textAreaTop" r="textAreaRight" b="textAreaBottom"/>
                    <a:pathLst>
                      <a:path w="318" h="233">
                        <a:moveTo>
                          <a:pt x="0" y="148"/>
                        </a:moveTo>
                        <a:cubicBezTo>
                          <a:pt x="13" y="162"/>
                          <a:pt x="23" y="162"/>
                          <a:pt x="31" y="157"/>
                        </a:cubicBezTo>
                        <a:cubicBezTo>
                          <a:pt x="21" y="155"/>
                          <a:pt x="16" y="142"/>
                          <a:pt x="15" y="130"/>
                        </a:cubicBezTo>
                        <a:cubicBezTo>
                          <a:pt x="12" y="109"/>
                          <a:pt x="33" y="83"/>
                          <a:pt x="55" y="75"/>
                        </a:cubicBezTo>
                        <a:cubicBezTo>
                          <a:pt x="52" y="74"/>
                          <a:pt x="48" y="73"/>
                          <a:pt x="45" y="72"/>
                        </a:cubicBezTo>
                        <a:cubicBezTo>
                          <a:pt x="65" y="68"/>
                          <a:pt x="77" y="64"/>
                          <a:pt x="77" y="47"/>
                        </a:cubicBezTo>
                        <a:cubicBezTo>
                          <a:pt x="77" y="26"/>
                          <a:pt x="102" y="15"/>
                          <a:pt x="121" y="25"/>
                        </a:cubicBezTo>
                        <a:cubicBezTo>
                          <a:pt x="131" y="15"/>
                          <a:pt x="149" y="13"/>
                          <a:pt x="162" y="25"/>
                        </a:cubicBezTo>
                        <a:cubicBezTo>
                          <a:pt x="164" y="25"/>
                          <a:pt x="164" y="25"/>
                          <a:pt x="164" y="25"/>
                        </a:cubicBezTo>
                        <a:cubicBezTo>
                          <a:pt x="174" y="1"/>
                          <a:pt x="207" y="0"/>
                          <a:pt x="215" y="21"/>
                        </a:cubicBezTo>
                        <a:cubicBezTo>
                          <a:pt x="220" y="35"/>
                          <a:pt x="233" y="35"/>
                          <a:pt x="252" y="25"/>
                        </a:cubicBezTo>
                        <a:cubicBezTo>
                          <a:pt x="251" y="32"/>
                          <a:pt x="247" y="36"/>
                          <a:pt x="242" y="38"/>
                        </a:cubicBezTo>
                        <a:cubicBezTo>
                          <a:pt x="260" y="38"/>
                          <a:pt x="278" y="49"/>
                          <a:pt x="278" y="67"/>
                        </a:cubicBezTo>
                        <a:cubicBezTo>
                          <a:pt x="278" y="71"/>
                          <a:pt x="278" y="76"/>
                          <a:pt x="279" y="80"/>
                        </a:cubicBezTo>
                        <a:cubicBezTo>
                          <a:pt x="281" y="82"/>
                          <a:pt x="283" y="84"/>
                          <a:pt x="285" y="86"/>
                        </a:cubicBezTo>
                        <a:cubicBezTo>
                          <a:pt x="303" y="96"/>
                          <a:pt x="318" y="117"/>
                          <a:pt x="316" y="134"/>
                        </a:cubicBezTo>
                        <a:cubicBezTo>
                          <a:pt x="315" y="144"/>
                          <a:pt x="311" y="155"/>
                          <a:pt x="304" y="158"/>
                        </a:cubicBezTo>
                        <a:cubicBezTo>
                          <a:pt x="304" y="159"/>
                          <a:pt x="304" y="159"/>
                          <a:pt x="304" y="159"/>
                        </a:cubicBezTo>
                        <a:cubicBezTo>
                          <a:pt x="308" y="157"/>
                          <a:pt x="312" y="154"/>
                          <a:pt x="317" y="149"/>
                        </a:cubicBezTo>
                        <a:cubicBezTo>
                          <a:pt x="317" y="161"/>
                          <a:pt x="310" y="170"/>
                          <a:pt x="301" y="175"/>
                        </a:cubicBezTo>
                        <a:cubicBezTo>
                          <a:pt x="300" y="180"/>
                          <a:pt x="299" y="185"/>
                          <a:pt x="298" y="189"/>
                        </a:cubicBezTo>
                        <a:cubicBezTo>
                          <a:pt x="307" y="230"/>
                          <a:pt x="250" y="212"/>
                          <a:pt x="264" y="213"/>
                        </a:cubicBezTo>
                        <a:cubicBezTo>
                          <a:pt x="263" y="166"/>
                          <a:pt x="254" y="193"/>
                          <a:pt x="229" y="172"/>
                        </a:cubicBezTo>
                        <a:cubicBezTo>
                          <a:pt x="220" y="164"/>
                          <a:pt x="215" y="149"/>
                          <a:pt x="202" y="112"/>
                        </a:cubicBezTo>
                        <a:cubicBezTo>
                          <a:pt x="181" y="148"/>
                          <a:pt x="98" y="233"/>
                          <a:pt x="40" y="214"/>
                        </a:cubicBezTo>
                        <a:cubicBezTo>
                          <a:pt x="49" y="213"/>
                          <a:pt x="69" y="165"/>
                          <a:pt x="61" y="170"/>
                        </a:cubicBezTo>
                        <a:cubicBezTo>
                          <a:pt x="47" y="182"/>
                          <a:pt x="28" y="212"/>
                          <a:pt x="0" y="148"/>
                        </a:cubicBezTo>
                        <a:close/>
                        <a:moveTo>
                          <a:pt x="40" y="136"/>
                        </a:moveTo>
                        <a:cubicBezTo>
                          <a:pt x="41" y="129"/>
                          <a:pt x="42" y="124"/>
                          <a:pt x="43" y="127"/>
                        </a:cubicBezTo>
                        <a:cubicBezTo>
                          <a:pt x="43" y="127"/>
                          <a:pt x="43" y="127"/>
                          <a:pt x="43" y="127"/>
                        </a:cubicBezTo>
                        <a:cubicBezTo>
                          <a:pt x="43" y="125"/>
                          <a:pt x="43" y="125"/>
                          <a:pt x="43" y="125"/>
                        </a:cubicBezTo>
                        <a:cubicBezTo>
                          <a:pt x="31" y="133"/>
                          <a:pt x="19" y="144"/>
                          <a:pt x="34" y="153"/>
                        </a:cubicBezTo>
                        <a:cubicBezTo>
                          <a:pt x="35" y="152"/>
                          <a:pt x="36" y="151"/>
                          <a:pt x="37" y="150"/>
                        </a:cubicBezTo>
                        <a:cubicBezTo>
                          <a:pt x="38" y="146"/>
                          <a:pt x="39" y="141"/>
                          <a:pt x="40" y="136"/>
                        </a:cubicBezTo>
                        <a:close/>
                      </a:path>
                    </a:pathLst>
                  </a:custGeom>
                  <a:solidFill>
                    <a:schemeClr val="tx1"/>
                  </a:solidFill>
                  <a:ln w="5715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accent5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0" name="右眼"/>
                  <p:cNvSpPr/>
                  <p:nvPr/>
                </p:nvSpPr>
                <p:spPr>
                  <a:xfrm rot="781800">
                    <a:off x="9685800" y="2254320"/>
                    <a:ext cx="270720" cy="900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chemeClr val="tx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9080" bIns="19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1" name="眼镜"/>
                  <p:cNvSpPr/>
                  <p:nvPr/>
                </p:nvSpPr>
                <p:spPr>
                  <a:xfrm rot="781800">
                    <a:off x="8483400" y="1879560"/>
                    <a:ext cx="1800360" cy="636480"/>
                  </a:xfrm>
                  <a:custGeom>
                    <a:avLst/>
                    <a:gdLst>
                      <a:gd name="textAreaLeft" fmla="*/ 0 w 1800360"/>
                      <a:gd name="textAreaRight" fmla="*/ 1800720 w 1800360"/>
                      <a:gd name="textAreaTop" fmla="*/ 0 h 636480"/>
                      <a:gd name="textAreaBottom" fmla="*/ 636840 h 636480"/>
                    </a:gdLst>
                    <a:ahLst/>
                    <a:rect l="textAreaLeft" t="textAreaTop" r="textAreaRight" b="textAreaBottom"/>
                    <a:pathLst>
                      <a:path w="1660" h="587">
                        <a:moveTo>
                          <a:pt x="1658" y="103"/>
                        </a:moveTo>
                        <a:cubicBezTo>
                          <a:pt x="1658" y="71"/>
                          <a:pt x="1653" y="83"/>
                          <a:pt x="1596" y="68"/>
                        </a:cubicBezTo>
                        <a:cubicBezTo>
                          <a:pt x="1539" y="52"/>
                          <a:pt x="1364" y="0"/>
                          <a:pt x="1096" y="39"/>
                        </a:cubicBezTo>
                        <a:cubicBezTo>
                          <a:pt x="872" y="72"/>
                          <a:pt x="929" y="146"/>
                          <a:pt x="837" y="149"/>
                        </a:cubicBezTo>
                        <a:cubicBezTo>
                          <a:pt x="823" y="149"/>
                          <a:pt x="823" y="149"/>
                          <a:pt x="823" y="149"/>
                        </a:cubicBezTo>
                        <a:cubicBezTo>
                          <a:pt x="731" y="146"/>
                          <a:pt x="788" y="72"/>
                          <a:pt x="564" y="39"/>
                        </a:cubicBezTo>
                        <a:cubicBezTo>
                          <a:pt x="296" y="0"/>
                          <a:pt x="121" y="52"/>
                          <a:pt x="64" y="68"/>
                        </a:cubicBezTo>
                        <a:cubicBezTo>
                          <a:pt x="7" y="83"/>
                          <a:pt x="2" y="71"/>
                          <a:pt x="2" y="103"/>
                        </a:cubicBezTo>
                        <a:cubicBezTo>
                          <a:pt x="3" y="135"/>
                          <a:pt x="0" y="161"/>
                          <a:pt x="27" y="161"/>
                        </a:cubicBezTo>
                        <a:cubicBezTo>
                          <a:pt x="55" y="161"/>
                          <a:pt x="55" y="161"/>
                          <a:pt x="98" y="296"/>
                        </a:cubicBezTo>
                        <a:cubicBezTo>
                          <a:pt x="150" y="458"/>
                          <a:pt x="164" y="504"/>
                          <a:pt x="214" y="541"/>
                        </a:cubicBezTo>
                        <a:cubicBezTo>
                          <a:pt x="275" y="587"/>
                          <a:pt x="531" y="587"/>
                          <a:pt x="614" y="537"/>
                        </a:cubicBezTo>
                        <a:cubicBezTo>
                          <a:pt x="717" y="475"/>
                          <a:pt x="704" y="241"/>
                          <a:pt x="828" y="238"/>
                        </a:cubicBezTo>
                        <a:cubicBezTo>
                          <a:pt x="829" y="238"/>
                          <a:pt x="831" y="238"/>
                          <a:pt x="832" y="238"/>
                        </a:cubicBezTo>
                        <a:cubicBezTo>
                          <a:pt x="956" y="241"/>
                          <a:pt x="943" y="475"/>
                          <a:pt x="1046" y="537"/>
                        </a:cubicBezTo>
                        <a:cubicBezTo>
                          <a:pt x="1129" y="587"/>
                          <a:pt x="1385" y="587"/>
                          <a:pt x="1446" y="541"/>
                        </a:cubicBezTo>
                        <a:cubicBezTo>
                          <a:pt x="1496" y="504"/>
                          <a:pt x="1510" y="458"/>
                          <a:pt x="1562" y="296"/>
                        </a:cubicBezTo>
                        <a:cubicBezTo>
                          <a:pt x="1605" y="161"/>
                          <a:pt x="1605" y="161"/>
                          <a:pt x="1633" y="161"/>
                        </a:cubicBezTo>
                        <a:cubicBezTo>
                          <a:pt x="1660" y="161"/>
                          <a:pt x="1657" y="135"/>
                          <a:pt x="1658" y="103"/>
                        </a:cubicBezTo>
                        <a:close/>
                        <a:moveTo>
                          <a:pt x="670" y="341"/>
                        </a:moveTo>
                        <a:cubicBezTo>
                          <a:pt x="644" y="407"/>
                          <a:pt x="624" y="465"/>
                          <a:pt x="588" y="489"/>
                        </a:cubicBezTo>
                        <a:cubicBezTo>
                          <a:pt x="550" y="515"/>
                          <a:pt x="494" y="520"/>
                          <a:pt x="411" y="519"/>
                        </a:cubicBezTo>
                        <a:cubicBezTo>
                          <a:pt x="341" y="517"/>
                          <a:pt x="266" y="520"/>
                          <a:pt x="234" y="490"/>
                        </a:cubicBezTo>
                        <a:cubicBezTo>
                          <a:pt x="208" y="465"/>
                          <a:pt x="182" y="386"/>
                          <a:pt x="160" y="316"/>
                        </a:cubicBezTo>
                        <a:cubicBezTo>
                          <a:pt x="129" y="219"/>
                          <a:pt x="115" y="161"/>
                          <a:pt x="146" y="132"/>
                        </a:cubicBezTo>
                        <a:cubicBezTo>
                          <a:pt x="185" y="97"/>
                          <a:pt x="286" y="91"/>
                          <a:pt x="405" y="89"/>
                        </a:cubicBezTo>
                        <a:cubicBezTo>
                          <a:pt x="524" y="88"/>
                          <a:pt x="682" y="123"/>
                          <a:pt x="702" y="170"/>
                        </a:cubicBezTo>
                        <a:cubicBezTo>
                          <a:pt x="718" y="205"/>
                          <a:pt x="693" y="282"/>
                          <a:pt x="670" y="341"/>
                        </a:cubicBezTo>
                        <a:close/>
                        <a:moveTo>
                          <a:pt x="1500" y="316"/>
                        </a:moveTo>
                        <a:cubicBezTo>
                          <a:pt x="1478" y="386"/>
                          <a:pt x="1452" y="465"/>
                          <a:pt x="1426" y="490"/>
                        </a:cubicBezTo>
                        <a:cubicBezTo>
                          <a:pt x="1394" y="520"/>
                          <a:pt x="1319" y="517"/>
                          <a:pt x="1249" y="519"/>
                        </a:cubicBezTo>
                        <a:cubicBezTo>
                          <a:pt x="1166" y="520"/>
                          <a:pt x="1110" y="515"/>
                          <a:pt x="1072" y="489"/>
                        </a:cubicBezTo>
                        <a:cubicBezTo>
                          <a:pt x="1036" y="465"/>
                          <a:pt x="1016" y="407"/>
                          <a:pt x="990" y="341"/>
                        </a:cubicBezTo>
                        <a:cubicBezTo>
                          <a:pt x="967" y="282"/>
                          <a:pt x="942" y="205"/>
                          <a:pt x="958" y="170"/>
                        </a:cubicBezTo>
                        <a:cubicBezTo>
                          <a:pt x="978" y="123"/>
                          <a:pt x="1136" y="88"/>
                          <a:pt x="1255" y="89"/>
                        </a:cubicBezTo>
                        <a:cubicBezTo>
                          <a:pt x="1374" y="91"/>
                          <a:pt x="1475" y="97"/>
                          <a:pt x="1514" y="132"/>
                        </a:cubicBezTo>
                        <a:cubicBezTo>
                          <a:pt x="1546" y="161"/>
                          <a:pt x="1531" y="219"/>
                          <a:pt x="1500" y="316"/>
                        </a:cubicBezTo>
                        <a:close/>
                      </a:path>
                    </a:pathLst>
                  </a:custGeom>
                  <a:solidFill>
                    <a:schemeClr val="tx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accent4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42" name="左眼"/>
                  <p:cNvSpPr/>
                  <p:nvPr/>
                </p:nvSpPr>
                <p:spPr>
                  <a:xfrm rot="781800">
                    <a:off x="8825040" y="2055240"/>
                    <a:ext cx="270720" cy="900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chemeClr val="tx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19080" bIns="19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43" name="Freeform 67"/>
                <p:cNvSpPr/>
                <p:nvPr/>
              </p:nvSpPr>
              <p:spPr>
                <a:xfrm rot="781800">
                  <a:off x="8884800" y="2578680"/>
                  <a:ext cx="780480" cy="222120"/>
                </a:xfrm>
                <a:custGeom>
                  <a:avLst/>
                  <a:gdLst>
                    <a:gd name="textAreaLeft" fmla="*/ 0 w 780480"/>
                    <a:gd name="textAreaRight" fmla="*/ 780840 w 780480"/>
                    <a:gd name="textAreaTop" fmla="*/ 0 h 222120"/>
                    <a:gd name="textAreaBottom" fmla="*/ 222480 h 222120"/>
                  </a:gdLst>
                  <a:ahLst/>
                  <a:rect l="textAreaLeft" t="textAreaTop" r="textAreaRight" b="textAreaBottom"/>
                  <a:pathLst>
                    <a:path w="2019" h="574">
                      <a:moveTo>
                        <a:pt x="1263" y="404"/>
                      </a:moveTo>
                      <a:cubicBezTo>
                        <a:pt x="1209" y="412"/>
                        <a:pt x="1299" y="482"/>
                        <a:pt x="1313" y="505"/>
                      </a:cubicBezTo>
                      <a:cubicBezTo>
                        <a:pt x="1199" y="543"/>
                        <a:pt x="1068" y="380"/>
                        <a:pt x="1010" y="278"/>
                      </a:cubicBezTo>
                      <a:cubicBezTo>
                        <a:pt x="911" y="372"/>
                        <a:pt x="849" y="504"/>
                        <a:pt x="682" y="530"/>
                      </a:cubicBezTo>
                      <a:cubicBezTo>
                        <a:pt x="689" y="479"/>
                        <a:pt x="750" y="481"/>
                        <a:pt x="758" y="429"/>
                      </a:cubicBezTo>
                      <a:cubicBezTo>
                        <a:pt x="636" y="451"/>
                        <a:pt x="596" y="554"/>
                        <a:pt x="429" y="530"/>
                      </a:cubicBezTo>
                      <a:cubicBezTo>
                        <a:pt x="437" y="479"/>
                        <a:pt x="498" y="481"/>
                        <a:pt x="505" y="429"/>
                      </a:cubicBezTo>
                      <a:cubicBezTo>
                        <a:pt x="429" y="463"/>
                        <a:pt x="303" y="463"/>
                        <a:pt x="227" y="429"/>
                      </a:cubicBezTo>
                      <a:cubicBezTo>
                        <a:pt x="231" y="400"/>
                        <a:pt x="273" y="408"/>
                        <a:pt x="303" y="404"/>
                      </a:cubicBezTo>
                      <a:cubicBezTo>
                        <a:pt x="183" y="296"/>
                        <a:pt x="11" y="241"/>
                        <a:pt x="0" y="25"/>
                      </a:cubicBezTo>
                      <a:cubicBezTo>
                        <a:pt x="141" y="308"/>
                        <a:pt x="715" y="319"/>
                        <a:pt x="884" y="50"/>
                      </a:cubicBezTo>
                      <a:cubicBezTo>
                        <a:pt x="983" y="39"/>
                        <a:pt x="1015" y="103"/>
                        <a:pt x="1061" y="25"/>
                      </a:cubicBezTo>
                      <a:cubicBezTo>
                        <a:pt x="1248" y="264"/>
                        <a:pt x="1870" y="375"/>
                        <a:pt x="1995" y="0"/>
                      </a:cubicBezTo>
                      <a:cubicBezTo>
                        <a:pt x="2019" y="133"/>
                        <a:pt x="1904" y="346"/>
                        <a:pt x="1717" y="354"/>
                      </a:cubicBezTo>
                      <a:cubicBezTo>
                        <a:pt x="1708" y="396"/>
                        <a:pt x="1737" y="401"/>
                        <a:pt x="1768" y="404"/>
                      </a:cubicBezTo>
                      <a:cubicBezTo>
                        <a:pt x="1743" y="470"/>
                        <a:pt x="1570" y="472"/>
                        <a:pt x="1515" y="429"/>
                      </a:cubicBezTo>
                      <a:cubicBezTo>
                        <a:pt x="1455" y="437"/>
                        <a:pt x="1543" y="498"/>
                        <a:pt x="1566" y="505"/>
                      </a:cubicBezTo>
                      <a:cubicBezTo>
                        <a:pt x="1462" y="574"/>
                        <a:pt x="1319" y="467"/>
                        <a:pt x="1263" y="40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44" name="椭圆形标注 30"/>
            <p:cNvSpPr/>
            <p:nvPr/>
          </p:nvSpPr>
          <p:spPr>
            <a:xfrm rot="6300000">
              <a:off x="10064520" y="2841120"/>
              <a:ext cx="1553040" cy="130680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chemeClr val="accent3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5" name="文本框 31"/>
            <p:cNvSpPr/>
            <p:nvPr/>
          </p:nvSpPr>
          <p:spPr>
            <a:xfrm rot="1143600">
              <a:off x="10525680" y="3020040"/>
              <a:ext cx="5950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00" strike="noStrike">
                  <a:solidFill>
                    <a:srgbClr val="000000"/>
                  </a:solidFill>
                  <a:latin typeface="造字工房悦黑（非商用）常规体"/>
                  <a:ea typeface="造字工房悦黑（非商用）常规体"/>
                </a:rPr>
                <a:t>就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800" spc="-100" strike="noStrike">
                  <a:solidFill>
                    <a:srgbClr val="000000"/>
                  </a:solidFill>
                  <a:latin typeface="造字工房悦黑（非商用）常规体"/>
                  <a:ea typeface="造字工房悦黑（非商用）常规体"/>
                </a:rPr>
                <a:t>这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文本框 33"/>
          <p:cNvSpPr/>
          <p:nvPr/>
        </p:nvSpPr>
        <p:spPr>
          <a:xfrm>
            <a:off x="3039840" y="836640"/>
            <a:ext cx="313884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20000"/>
              </a:lnSpc>
            </a:pPr>
            <a:r>
              <a:rPr b="0" lang="zh-CN" sz="4000" spc="-1" strike="noStrike">
                <a:solidFill>
                  <a:schemeClr val="accent1">
                    <a:lumMod val="20000"/>
                    <a:lumOff val="80000"/>
                  </a:schemeClr>
                </a:solidFill>
                <a:latin typeface="方正正大黑简体"/>
                <a:ea typeface="方正正大黑简体"/>
              </a:rPr>
              <a:t>接下来的日子里，你要夜观天象，择选吉日，准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35"/>
          <p:cNvGrpSpPr/>
          <p:nvPr/>
        </p:nvGrpSpPr>
        <p:grpSpPr>
          <a:xfrm>
            <a:off x="975240" y="1741680"/>
            <a:ext cx="2790000" cy="3688560"/>
            <a:chOff x="975240" y="1741680"/>
            <a:chExt cx="2790000" cy="3688560"/>
          </a:xfrm>
        </p:grpSpPr>
        <p:sp>
          <p:nvSpPr>
            <p:cNvPr id="348" name="3"/>
            <p:cNvSpPr/>
            <p:nvPr/>
          </p:nvSpPr>
          <p:spPr>
            <a:xfrm>
              <a:off x="1032480" y="1798920"/>
              <a:ext cx="2732760" cy="36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38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开工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2"/>
            <p:cNvSpPr/>
            <p:nvPr/>
          </p:nvSpPr>
          <p:spPr>
            <a:xfrm>
              <a:off x="1013400" y="1779840"/>
              <a:ext cx="2732760" cy="36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3800" spc="-1" strike="noStrike">
                  <a:solidFill>
                    <a:schemeClr val="accent1"/>
                  </a:solidFill>
                  <a:latin typeface="方正正大黑简体"/>
                  <a:ea typeface="方正正大黑简体"/>
                </a:rPr>
                <a:t>开工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1"/>
            <p:cNvSpPr/>
            <p:nvPr/>
          </p:nvSpPr>
          <p:spPr>
            <a:xfrm>
              <a:off x="975240" y="1741680"/>
              <a:ext cx="2732760" cy="36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 vert="vert" rot="54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3800" spc="-1" strike="noStrike">
                  <a:solidFill>
                    <a:schemeClr val="accent1">
                      <a:lumMod val="20000"/>
                      <a:lumOff val="80000"/>
                    </a:schemeClr>
                  </a:solidFill>
                  <a:latin typeface="方正正大黑简体"/>
                  <a:ea typeface="方正正大黑简体"/>
                </a:rPr>
                <a:t>开工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图片 6" descr=""/>
          <p:cNvPicPr/>
          <p:nvPr/>
        </p:nvPicPr>
        <p:blipFill>
          <a:blip r:embed="rId1"/>
          <a:stretch/>
        </p:blipFill>
        <p:spPr>
          <a:xfrm>
            <a:off x="177480" y="0"/>
            <a:ext cx="11836440" cy="6659640"/>
          </a:xfrm>
          <a:prstGeom prst="rect">
            <a:avLst/>
          </a:prstGeom>
          <a:ln w="0">
            <a:noFill/>
          </a:ln>
        </p:spPr>
      </p:pic>
      <p:sp>
        <p:nvSpPr>
          <p:cNvPr id="352" name="矩形 2"/>
          <p:cNvSpPr/>
          <p:nvPr/>
        </p:nvSpPr>
        <p:spPr>
          <a:xfrm>
            <a:off x="0" y="577548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3" name="任意多边形 12"/>
          <p:cNvSpPr/>
          <p:nvPr/>
        </p:nvSpPr>
        <p:spPr>
          <a:xfrm rot="10800000">
            <a:off x="707040" y="5775840"/>
            <a:ext cx="383760" cy="285480"/>
          </a:xfrm>
          <a:custGeom>
            <a:avLst/>
            <a:gdLst>
              <a:gd name="textAreaLeft" fmla="*/ 0 w 383760"/>
              <a:gd name="textAreaRight" fmla="*/ 384120 w 3837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84284" h="285750">
                <a:moveTo>
                  <a:pt x="384284" y="285750"/>
                </a:moveTo>
                <a:lnTo>
                  <a:pt x="0" y="285750"/>
                </a:lnTo>
                <a:lnTo>
                  <a:pt x="192142" y="0"/>
                </a:lnTo>
                <a:close/>
              </a:path>
            </a:pathLst>
          </a:cu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4" name="文本框 4"/>
          <p:cNvSpPr/>
          <p:nvPr/>
        </p:nvSpPr>
        <p:spPr>
          <a:xfrm>
            <a:off x="5751360" y="6047280"/>
            <a:ext cx="688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首先，用神器打开一张图片，比如简单的射线渐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11"/>
          <p:cNvSpPr/>
          <p:nvPr/>
        </p:nvSpPr>
        <p:spPr>
          <a:xfrm>
            <a:off x="-2520" y="0"/>
            <a:ext cx="12196440" cy="5775120"/>
          </a:xfrm>
          <a:custGeom>
            <a:avLst/>
            <a:gdLst>
              <a:gd name="textAreaLeft" fmla="*/ 0 w 12196440"/>
              <a:gd name="textAreaRight" fmla="*/ 12196800 w 12196440"/>
              <a:gd name="textAreaTop" fmla="*/ 0 h 5775120"/>
              <a:gd name="textAreaBottom" fmla="*/ 5775480 h 5775120"/>
            </a:gdLst>
            <a:ahLst/>
            <a:rect l="textAreaLeft" t="textAreaTop" r="textAreaRight" b="textAreaBottom"/>
            <a:pathLst>
              <a:path w="12196800" h="5775603">
                <a:moveTo>
                  <a:pt x="180000" y="180601"/>
                </a:moveTo>
                <a:lnTo>
                  <a:pt x="180000" y="5595001"/>
                </a:lnTo>
                <a:lnTo>
                  <a:pt x="12016800" y="5595001"/>
                </a:lnTo>
                <a:lnTo>
                  <a:pt x="12016800" y="180601"/>
                </a:lnTo>
                <a:close/>
                <a:moveTo>
                  <a:pt x="0" y="0"/>
                </a:moveTo>
                <a:lnTo>
                  <a:pt x="12196800" y="0"/>
                </a:lnTo>
                <a:lnTo>
                  <a:pt x="12196800" y="5775603"/>
                </a:lnTo>
                <a:lnTo>
                  <a:pt x="0" y="5775603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8" descr=""/>
          <p:cNvPicPr/>
          <p:nvPr/>
        </p:nvPicPr>
        <p:blipFill>
          <a:blip r:embed="rId1"/>
          <a:stretch/>
        </p:blipFill>
        <p:spPr>
          <a:xfrm>
            <a:off x="177480" y="0"/>
            <a:ext cx="11836440" cy="6669000"/>
          </a:xfrm>
          <a:prstGeom prst="rect">
            <a:avLst/>
          </a:prstGeom>
          <a:ln w="0">
            <a:noFill/>
          </a:ln>
        </p:spPr>
      </p:pic>
      <p:sp>
        <p:nvSpPr>
          <p:cNvPr id="357" name="矩形 2"/>
          <p:cNvSpPr/>
          <p:nvPr/>
        </p:nvSpPr>
        <p:spPr>
          <a:xfrm>
            <a:off x="0" y="5775480"/>
            <a:ext cx="12191760" cy="10821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8" name="任意多边形 12"/>
          <p:cNvSpPr/>
          <p:nvPr/>
        </p:nvSpPr>
        <p:spPr>
          <a:xfrm rot="10800000">
            <a:off x="707040" y="5775840"/>
            <a:ext cx="383760" cy="285480"/>
          </a:xfrm>
          <a:custGeom>
            <a:avLst/>
            <a:gdLst>
              <a:gd name="textAreaLeft" fmla="*/ 0 w 383760"/>
              <a:gd name="textAreaRight" fmla="*/ 384120 w 38376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384284" h="285750">
                <a:moveTo>
                  <a:pt x="384284" y="285750"/>
                </a:moveTo>
                <a:lnTo>
                  <a:pt x="0" y="285750"/>
                </a:lnTo>
                <a:lnTo>
                  <a:pt x="192142" y="0"/>
                </a:lnTo>
                <a:close/>
              </a:path>
            </a:pathLst>
          </a:custGeom>
          <a:solidFill>
            <a:srgbClr val="50ced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9" name="文本框 4"/>
          <p:cNvSpPr/>
          <p:nvPr/>
        </p:nvSpPr>
        <p:spPr>
          <a:xfrm>
            <a:off x="5772240" y="6047280"/>
            <a:ext cx="647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在神器中点成喜欢的样子，我点、我点、我点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任意多边形 11"/>
          <p:cNvSpPr/>
          <p:nvPr/>
        </p:nvSpPr>
        <p:spPr>
          <a:xfrm>
            <a:off x="-2520" y="0"/>
            <a:ext cx="12196440" cy="5775120"/>
          </a:xfrm>
          <a:custGeom>
            <a:avLst/>
            <a:gdLst>
              <a:gd name="textAreaLeft" fmla="*/ 0 w 12196440"/>
              <a:gd name="textAreaRight" fmla="*/ 12196800 w 12196440"/>
              <a:gd name="textAreaTop" fmla="*/ 0 h 5775120"/>
              <a:gd name="textAreaBottom" fmla="*/ 5775480 h 5775120"/>
            </a:gdLst>
            <a:ahLst/>
            <a:rect l="textAreaLeft" t="textAreaTop" r="textAreaRight" b="textAreaBottom"/>
            <a:pathLst>
              <a:path w="12196800" h="5775603">
                <a:moveTo>
                  <a:pt x="180000" y="180601"/>
                </a:moveTo>
                <a:lnTo>
                  <a:pt x="180000" y="5595001"/>
                </a:lnTo>
                <a:lnTo>
                  <a:pt x="12016800" y="5595001"/>
                </a:lnTo>
                <a:lnTo>
                  <a:pt x="12016800" y="180601"/>
                </a:lnTo>
                <a:close/>
                <a:moveTo>
                  <a:pt x="0" y="0"/>
                </a:moveTo>
                <a:lnTo>
                  <a:pt x="12196800" y="0"/>
                </a:lnTo>
                <a:lnTo>
                  <a:pt x="12196800" y="5775603"/>
                </a:lnTo>
                <a:lnTo>
                  <a:pt x="0" y="5775603"/>
                </a:ln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2pt小清新">
      <a:dk1>
        <a:srgbClr val="000000"/>
      </a:dk1>
      <a:lt1>
        <a:srgbClr val="ffffff"/>
      </a:lt1>
      <a:dk2>
        <a:srgbClr val="4d4d4d"/>
      </a:dk2>
      <a:lt2>
        <a:srgbClr val="f2f2f2"/>
      </a:lt2>
      <a:accent1>
        <a:srgbClr val="50cedd"/>
      </a:accent1>
      <a:accent2>
        <a:srgbClr val="e1bc62"/>
      </a:accent2>
      <a:accent3>
        <a:srgbClr val="97e272"/>
      </a:accent3>
      <a:accent4>
        <a:srgbClr val="d797ec"/>
      </a:accent4>
      <a:accent5>
        <a:srgbClr val="676767"/>
      </a:accent5>
      <a:accent6>
        <a:srgbClr val="a9e4e8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2pt小清新">
      <a:dk1>
        <a:srgbClr val="000000"/>
      </a:dk1>
      <a:lt1>
        <a:srgbClr val="ffffff"/>
      </a:lt1>
      <a:dk2>
        <a:srgbClr val="4d4d4d"/>
      </a:dk2>
      <a:lt2>
        <a:srgbClr val="f2f2f2"/>
      </a:lt2>
      <a:accent1>
        <a:srgbClr val="50cedd"/>
      </a:accent1>
      <a:accent2>
        <a:srgbClr val="e1bc62"/>
      </a:accent2>
      <a:accent3>
        <a:srgbClr val="97e272"/>
      </a:accent3>
      <a:accent4>
        <a:srgbClr val="d797ec"/>
      </a:accent4>
      <a:accent5>
        <a:srgbClr val="676767"/>
      </a:accent5>
      <a:accent6>
        <a:srgbClr val="a9e4e8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2pt小清新">
      <a:dk1>
        <a:srgbClr val="000000"/>
      </a:dk1>
      <a:lt1>
        <a:srgbClr val="ffffff"/>
      </a:lt1>
      <a:dk2>
        <a:srgbClr val="4d4d4d"/>
      </a:dk2>
      <a:lt2>
        <a:srgbClr val="f2f2f2"/>
      </a:lt2>
      <a:accent1>
        <a:srgbClr val="50cedd"/>
      </a:accent1>
      <a:accent2>
        <a:srgbClr val="e1bc62"/>
      </a:accent2>
      <a:accent3>
        <a:srgbClr val="97e272"/>
      </a:accent3>
      <a:accent4>
        <a:srgbClr val="d797ec"/>
      </a:accent4>
      <a:accent5>
        <a:srgbClr val="676767"/>
      </a:accent5>
      <a:accent6>
        <a:srgbClr val="a9e4e8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d4d4d"/>
      </a:dk2>
      <a:lt2>
        <a:srgbClr val="f2f2f2"/>
      </a:lt2>
      <a:accent1>
        <a:srgbClr val="50cedd"/>
      </a:accent1>
      <a:accent2>
        <a:srgbClr val="e1bc62"/>
      </a:accent2>
      <a:accent3>
        <a:srgbClr val="97e272"/>
      </a:accent3>
      <a:accent4>
        <a:srgbClr val="d797ec"/>
      </a:accent4>
      <a:accent5>
        <a:srgbClr val="676767"/>
      </a:accent5>
      <a:accent6>
        <a:srgbClr val="a9e4e8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  <Words>442</Words>
  <Paragraphs>85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2T02:09:12Z</dcterms:created>
  <dc:creator>Administrator</dc:creator>
  <dc:description/>
  <dc:language>en-US</dc:language>
  <cp:lastModifiedBy>王玉清</cp:lastModifiedBy>
  <dcterms:modified xsi:type="dcterms:W3CDTF">2016-02-23T03:48:25Z</dcterms:modified>
  <cp:revision>1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宽屏</vt:lpwstr>
  </property>
  <property fmtid="{D5CDD505-2E9C-101B-9397-08002B2CF9AE}" pid="4" name="Slides">
    <vt:r8>20</vt:r8>
  </property>
</Properties>
</file>