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C44-54AB-4E9C-A10D-E3507C42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EEC-10C3-4209-9996-417ACAB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B5-29C7-4307-AB99-B3F7139A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FB3-1DCC-4E3D-8BE5-D48F9473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95810-EFBB-476A-9468-D6D6AE314C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399A-126D-45C0-A289-3CE90B0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CEB64-0D4E-4541-8F9E-F5FF593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513D-F274-439A-8599-3CC23C8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22BF-40AE-4213-8AD7-460609D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D41F-51E2-4AEB-90B0-C39D98B8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8450-D677-424A-AB57-DF32971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265-287B-48CC-8226-867A263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DC87-06ED-4EF5-8E50-93BCA1EE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1310-E2A3-436A-BEEE-DCEBDF3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DB7AB-7AF0-4467-AAA2-7B06F522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E3E4A-3002-47BC-B885-C1B5BED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47C47-0C61-4FCB-9648-D338DA445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076-34CA-40D4-A385-F24FC38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DC4-5E75-495E-9EED-0E51BC2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A93-1D9B-447A-B2B3-D20377D6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37C-2754-465D-9757-7CE42398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8E1-DE0C-4FD4-90A9-391080A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467-6458-4CEB-8FB2-75EA09B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AAF-973D-4099-A332-0C876353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p2_s"/>
          <p:cNvPicPr/>
          <p:nvPr/>
        </p:nvPicPr>
        <p:blipFill>
          <a:blip r:embed="rId3"/>
          <a:stretch/>
        </p:blipFill>
        <p:spPr>
          <a:xfrm>
            <a:off x="6831000" y="0"/>
            <a:ext cx="2313000" cy="320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0B53-874E-4B75-861C-10D7312C2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933480"/>
            <a:ext cx="8077320" cy="76320"/>
          </a:xfrm>
          <a:prstGeom prst="rect">
            <a:avLst/>
          </a:prstGeom>
          <a:gradFill rotWithShape="0">
            <a:gsLst>
              <a:gs pos="0">
                <a:srgbClr val="b1e7fa"/>
              </a:gs>
              <a:gs pos="100000">
                <a:srgbClr val="85d9f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806436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7ad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0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gradFill rotWithShape="0">
            <a:gsLst>
              <a:gs pos="0">
                <a:srgbClr val="85d9f7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A92-1A4F-4D32-B9CC-5F99C7BF6DBB}" type="slidenum">
              <a:rPr b="0" lang="en-US" sz="1400" spc="-1" strike="noStrike">
                <a:solidFill>
                  <a:srgbClr val="0033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78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5d9f7"/>
                </a:solidFill>
                <a:latin typeface="Arial"/>
                <a:ea typeface="宋体"/>
              </a:rPr>
              <a:t>地球商务合作</a:t>
            </a:r>
            <a:r>
              <a:rPr b="1" lang="en-US" sz="4000" spc="-1" strike="noStrike">
                <a:solidFill>
                  <a:srgbClr val="85d9f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85d9f7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413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6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8" name="Freeform 34"/>
          <p:cNvSpPr/>
          <p:nvPr/>
        </p:nvSpPr>
        <p:spPr>
          <a:xfrm>
            <a:off x="9907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57150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 rot="20876400">
            <a:off x="3138480" y="48070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7"/>
          <p:cNvSpPr/>
          <p:nvPr/>
        </p:nvSpPr>
        <p:spPr>
          <a:xfrm>
            <a:off x="3070080" y="358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8"/>
          <p:cNvSpPr/>
          <p:nvPr/>
        </p:nvSpPr>
        <p:spPr>
          <a:xfrm>
            <a:off x="3090960" y="3597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39"/>
          <p:cNvSpPr/>
          <p:nvPr/>
        </p:nvSpPr>
        <p:spPr>
          <a:xfrm>
            <a:off x="3108240" y="36133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40"/>
          <p:cNvSpPr/>
          <p:nvPr/>
        </p:nvSpPr>
        <p:spPr>
          <a:xfrm>
            <a:off x="3200400" y="3657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3488040" y="4214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42"/>
          <p:cNvSpPr/>
          <p:nvPr/>
        </p:nvSpPr>
        <p:spPr>
          <a:xfrm rot="20826600">
            <a:off x="1309680" y="41968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33360" y="3206880"/>
            <a:ext cx="1371240" cy="1441080"/>
            <a:chOff x="1233360" y="3206880"/>
            <a:chExt cx="1371240" cy="1441080"/>
          </a:xfrm>
        </p:grpSpPr>
        <p:sp>
          <p:nvSpPr>
            <p:cNvPr id="288" name="Oval 44"/>
            <p:cNvSpPr/>
            <p:nvPr/>
          </p:nvSpPr>
          <p:spPr>
            <a:xfrm>
              <a:off x="1233360" y="3206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45"/>
            <p:cNvSpPr/>
            <p:nvPr/>
          </p:nvSpPr>
          <p:spPr>
            <a:xfrm>
              <a:off x="1251000" y="32151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46"/>
            <p:cNvSpPr/>
            <p:nvPr/>
          </p:nvSpPr>
          <p:spPr>
            <a:xfrm>
              <a:off x="1264320" y="32288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47"/>
            <p:cNvSpPr/>
            <p:nvPr/>
          </p:nvSpPr>
          <p:spPr>
            <a:xfrm>
              <a:off x="1335960" y="32655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48"/>
            <p:cNvSpPr/>
            <p:nvPr/>
          </p:nvSpPr>
          <p:spPr>
            <a:xfrm>
              <a:off x="151380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974880" y="2441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50"/>
          <p:cNvSpPr/>
          <p:nvPr/>
        </p:nvSpPr>
        <p:spPr>
          <a:xfrm>
            <a:off x="1050840" y="18352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51"/>
          <p:cNvSpPr/>
          <p:nvPr/>
        </p:nvSpPr>
        <p:spPr>
          <a:xfrm>
            <a:off x="1063800" y="183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52"/>
          <p:cNvSpPr/>
          <p:nvPr/>
        </p:nvSpPr>
        <p:spPr>
          <a:xfrm>
            <a:off x="1074600" y="18511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3"/>
          <p:cNvSpPr/>
          <p:nvPr/>
        </p:nvSpPr>
        <p:spPr>
          <a:xfrm>
            <a:off x="1128600" y="18763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1248120" y="218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55"/>
          <p:cNvSpPr/>
          <p:nvPr/>
        </p:nvSpPr>
        <p:spPr>
          <a:xfrm>
            <a:off x="2270160" y="191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56"/>
          <p:cNvSpPr/>
          <p:nvPr/>
        </p:nvSpPr>
        <p:spPr>
          <a:xfrm>
            <a:off x="2392200" y="137808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57"/>
          <p:cNvSpPr/>
          <p:nvPr/>
        </p:nvSpPr>
        <p:spPr>
          <a:xfrm>
            <a:off x="2401920" y="138096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58"/>
          <p:cNvSpPr/>
          <p:nvPr/>
        </p:nvSpPr>
        <p:spPr>
          <a:xfrm>
            <a:off x="2408400" y="13874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59"/>
          <p:cNvSpPr/>
          <p:nvPr/>
        </p:nvSpPr>
        <p:spPr>
          <a:xfrm>
            <a:off x="2444760" y="140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2462760" y="160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 rot="17973000">
            <a:off x="4777560" y="2254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 rot="3465600">
            <a:off x="4777200" y="4419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 rot="14368800">
            <a:off x="355824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 rot="7534800">
            <a:off x="3520080" y="438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356080" y="33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8"/>
          <p:cNvSpPr/>
          <p:nvPr/>
        </p:nvSpPr>
        <p:spPr>
          <a:xfrm rot="10800000">
            <a:off x="2945880" y="33760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2692440" y="1614600"/>
            <a:ext cx="37432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3429000" y="1673280"/>
            <a:ext cx="360360" cy="360360"/>
            <a:chOff x="3429000" y="1673280"/>
            <a:chExt cx="360360" cy="360360"/>
          </a:xfrm>
        </p:grpSpPr>
        <p:sp>
          <p:nvSpPr>
            <p:cNvPr id="314" name="Oval 11"/>
            <p:cNvSpPr/>
            <p:nvPr/>
          </p:nvSpPr>
          <p:spPr>
            <a:xfrm>
              <a:off x="3429000" y="1673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2"/>
            <p:cNvSpPr/>
            <p:nvPr/>
          </p:nvSpPr>
          <p:spPr>
            <a:xfrm>
              <a:off x="3444840" y="1703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2484360" y="3328920"/>
            <a:ext cx="360360" cy="360360"/>
            <a:chOff x="2484360" y="3328920"/>
            <a:chExt cx="360360" cy="360360"/>
          </a:xfrm>
        </p:grpSpPr>
        <p:sp>
          <p:nvSpPr>
            <p:cNvPr id="317" name="Oval 14"/>
            <p:cNvSpPr/>
            <p:nvPr/>
          </p:nvSpPr>
          <p:spPr>
            <a:xfrm>
              <a:off x="248436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5"/>
            <p:cNvSpPr/>
            <p:nvPr/>
          </p:nvSpPr>
          <p:spPr>
            <a:xfrm>
              <a:off x="250020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348000" y="4871880"/>
            <a:ext cx="360360" cy="360360"/>
            <a:chOff x="3348000" y="4871880"/>
            <a:chExt cx="360360" cy="360360"/>
          </a:xfrm>
        </p:grpSpPr>
        <p:sp>
          <p:nvSpPr>
            <p:cNvPr id="320" name="Oval 17"/>
            <p:cNvSpPr/>
            <p:nvPr/>
          </p:nvSpPr>
          <p:spPr>
            <a:xfrm>
              <a:off x="3348000" y="4871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8"/>
            <p:cNvSpPr/>
            <p:nvPr/>
          </p:nvSpPr>
          <p:spPr>
            <a:xfrm>
              <a:off x="3363840" y="4902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5278320" y="1652760"/>
            <a:ext cx="360360" cy="360360"/>
            <a:chOff x="5278320" y="1652760"/>
            <a:chExt cx="360360" cy="360360"/>
          </a:xfrm>
        </p:grpSpPr>
        <p:sp>
          <p:nvSpPr>
            <p:cNvPr id="323" name="Oval 20"/>
            <p:cNvSpPr/>
            <p:nvPr/>
          </p:nvSpPr>
          <p:spPr>
            <a:xfrm>
              <a:off x="5278320" y="1652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5294160" y="1683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22"/>
          <p:cNvGrpSpPr/>
          <p:nvPr/>
        </p:nvGrpSpPr>
        <p:grpSpPr>
          <a:xfrm>
            <a:off x="6227640" y="3328920"/>
            <a:ext cx="360360" cy="360360"/>
            <a:chOff x="6227640" y="3328920"/>
            <a:chExt cx="360360" cy="360360"/>
          </a:xfrm>
        </p:grpSpPr>
        <p:sp>
          <p:nvSpPr>
            <p:cNvPr id="326" name="Oval 23"/>
            <p:cNvSpPr/>
            <p:nvPr/>
          </p:nvSpPr>
          <p:spPr>
            <a:xfrm>
              <a:off x="622764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624348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5"/>
          <p:cNvGrpSpPr/>
          <p:nvPr/>
        </p:nvGrpSpPr>
        <p:grpSpPr>
          <a:xfrm>
            <a:off x="5334120" y="4929120"/>
            <a:ext cx="360360" cy="360360"/>
            <a:chOff x="5334120" y="4929120"/>
            <a:chExt cx="360360" cy="360360"/>
          </a:xfrm>
        </p:grpSpPr>
        <p:sp>
          <p:nvSpPr>
            <p:cNvPr id="329" name="Oval 26"/>
            <p:cNvSpPr/>
            <p:nvPr/>
          </p:nvSpPr>
          <p:spPr>
            <a:xfrm>
              <a:off x="5334120" y="4929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7"/>
            <p:cNvSpPr/>
            <p:nvPr/>
          </p:nvSpPr>
          <p:spPr>
            <a:xfrm>
              <a:off x="5349960" y="49590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5671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29160" y="2573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69388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6668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4"/>
          <p:cNvGrpSpPr/>
          <p:nvPr/>
        </p:nvGrpSpPr>
        <p:grpSpPr>
          <a:xfrm>
            <a:off x="3835440" y="2778120"/>
            <a:ext cx="1522440" cy="1522440"/>
            <a:chOff x="3835440" y="277812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27781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279720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28065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28209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285768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267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4952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4890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54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366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388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389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92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95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01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06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07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10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18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23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24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27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30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36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41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42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45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48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54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0" name="AutoShape 88"/>
          <p:cNvCxnSpPr>
            <a:stCxn id="466" idx="3"/>
            <a:endCxn id="46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AutoShape 89"/>
          <p:cNvCxnSpPr>
            <a:stCxn id="467" idx="3"/>
            <a:endCxn id="46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AutoShape 90"/>
          <p:cNvCxnSpPr>
            <a:stCxn id="468" idx="3"/>
            <a:endCxn id="46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AutoShape 3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486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488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e64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494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00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e647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219320" y="1981080"/>
          <a:ext cx="6705360" cy="365760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590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Oval 2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211e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2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rc 2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rc 2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rc 2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rc 2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3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3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rc 3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reeform 3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3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4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d0e42"/>
              </a:gs>
              <a:gs pos="100000">
                <a:srgbClr val="003bb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4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5d9f7"/>
              </a:gs>
              <a:gs pos="100000">
                <a:srgbClr val="2c32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880920" y="4176720"/>
            <a:ext cx="1544760" cy="1544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91440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f7adf">
                  <a:alpha val="85098"/>
                </a:srgbClr>
              </a:gs>
              <a:gs pos="100000">
                <a:srgbClr val="1e4e8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Oval 10"/>
          <p:cNvSpPr/>
          <p:nvPr/>
        </p:nvSpPr>
        <p:spPr>
          <a:xfrm>
            <a:off x="97164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2259a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11" descr="Picture1"/>
          <p:cNvPicPr/>
          <p:nvPr/>
        </p:nvPicPr>
        <p:blipFill>
          <a:blip r:embed="rId2"/>
          <a:stretch/>
        </p:blipFill>
        <p:spPr>
          <a:xfrm>
            <a:off x="91440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2"/>
          <p:cNvSpPr/>
          <p:nvPr/>
        </p:nvSpPr>
        <p:spPr>
          <a:xfrm>
            <a:off x="123084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2819520" y="4176720"/>
            <a:ext cx="1544400" cy="15447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6"/>
          <p:cNvSpPr/>
          <p:nvPr/>
        </p:nvSpPr>
        <p:spPr>
          <a:xfrm>
            <a:off x="285264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8a52c8">
                  <a:alpha val="85098"/>
                </a:srgbClr>
              </a:gs>
              <a:gs pos="100000">
                <a:srgbClr val="5834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7"/>
          <p:cNvSpPr/>
          <p:nvPr/>
        </p:nvSpPr>
        <p:spPr>
          <a:xfrm>
            <a:off x="290988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643b9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8" descr="Picture1"/>
          <p:cNvPicPr/>
          <p:nvPr/>
        </p:nvPicPr>
        <p:blipFill>
          <a:blip r:embed="rId4"/>
          <a:stretch/>
        </p:blipFill>
        <p:spPr>
          <a:xfrm>
            <a:off x="2852640" y="426708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9"/>
          <p:cNvSpPr/>
          <p:nvPr/>
        </p:nvSpPr>
        <p:spPr>
          <a:xfrm>
            <a:off x="316908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22"/>
          <p:cNvSpPr/>
          <p:nvPr/>
        </p:nvSpPr>
        <p:spPr>
          <a:xfrm>
            <a:off x="4800600" y="4176720"/>
            <a:ext cx="1544760" cy="15447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23"/>
          <p:cNvSpPr/>
          <p:nvPr/>
        </p:nvSpPr>
        <p:spPr>
          <a:xfrm>
            <a:off x="483408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ab14b">
                  <a:alpha val="85098"/>
                </a:srgbClr>
              </a:gs>
              <a:gs pos="100000">
                <a:srgbClr val="3970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4"/>
          <p:cNvSpPr/>
          <p:nvPr/>
        </p:nvSpPr>
        <p:spPr>
          <a:xfrm>
            <a:off x="4890960" y="426708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41803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25" descr="Picture1"/>
          <p:cNvPicPr/>
          <p:nvPr/>
        </p:nvPicPr>
        <p:blipFill>
          <a:blip r:embed="rId6"/>
          <a:stretch/>
        </p:blipFill>
        <p:spPr>
          <a:xfrm>
            <a:off x="483408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6"/>
          <p:cNvSpPr/>
          <p:nvPr/>
        </p:nvSpPr>
        <p:spPr>
          <a:xfrm>
            <a:off x="515016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6781680" y="4176720"/>
            <a:ext cx="1544760" cy="15447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6815160" y="421308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c48352">
                  <a:alpha val="85098"/>
                </a:srgbClr>
              </a:gs>
              <a:gs pos="100000">
                <a:srgbClr val="7d53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6872400" y="426708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8e5f3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32" descr="Picture1"/>
          <p:cNvPicPr/>
          <p:nvPr/>
        </p:nvPicPr>
        <p:blipFill>
          <a:blip r:embed="rId8"/>
          <a:stretch/>
        </p:blipFill>
        <p:spPr>
          <a:xfrm>
            <a:off x="6815160" y="42670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3"/>
          <p:cNvSpPr/>
          <p:nvPr/>
        </p:nvSpPr>
        <p:spPr>
          <a:xfrm>
            <a:off x="7131600" y="4795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78000" y="6276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9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1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95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67012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67012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05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09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67012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67012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3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209680" y="3413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7150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139" name="Group 24"/>
          <p:cNvGrpSpPr/>
          <p:nvPr/>
        </p:nvGrpSpPr>
        <p:grpSpPr>
          <a:xfrm>
            <a:off x="461160" y="1175040"/>
            <a:ext cx="8083080" cy="5225400"/>
            <a:chOff x="461160" y="1175040"/>
            <a:chExt cx="8083080" cy="5225400"/>
          </a:xfrm>
        </p:grpSpPr>
        <p:sp>
          <p:nvSpPr>
            <p:cNvPr id="140" name="Freeform 4"/>
            <p:cNvSpPr/>
            <p:nvPr/>
          </p:nvSpPr>
          <p:spPr>
            <a:xfrm rot="20241600">
              <a:off x="108252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c"/>
                </a:gs>
                <a:gs pos="100000">
                  <a:srgbClr val="2f7ad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 rot="20056200">
              <a:off x="4492440" y="232884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 rot="20056200">
              <a:off x="7391520" y="257292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 rot="20056200">
              <a:off x="2895480" y="548604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 rot="20056200">
              <a:off x="5635440" y="491976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 rot="20056200">
              <a:off x="1977840" y="377676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3814920" y="152388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1300320" y="304812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218268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4957920" y="4114800"/>
              <a:ext cx="1284120" cy="127476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c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78672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55268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414432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707616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>
              <a:off x="528660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46564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343368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247824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22"/>
            <p:cNvCxnSpPr/>
            <p:nvPr/>
          </p:nvCxnSpPr>
          <p:spPr>
            <a:xfrm flipH="1">
              <a:off x="461160" y="1810800"/>
              <a:ext cx="2017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9" name="Text Box 23"/>
            <p:cNvSpPr/>
            <p:nvPr/>
          </p:nvSpPr>
          <p:spPr>
            <a:xfrm>
              <a:off x="53928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5d9f7"/>
              </a:gs>
              <a:gs pos="100000">
                <a:srgbClr val="3e6472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e6472">
                  <a:alpha val="12156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d9f7"/>
              </a:gs>
              <a:gs pos="100000">
                <a:srgbClr val="b1e7fa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0265d"/>
              </a:gs>
              <a:gs pos="50000">
                <a:srgbClr val="8a52c8"/>
              </a:gs>
              <a:gs pos="100000">
                <a:srgbClr val="4026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1e7fa">
                  <a:alpha val="12156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1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206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2c326a"/>
              </a:gs>
              <a:gs pos="100000">
                <a:srgbClr val="6c89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08:15Z</dcterms:created>
  <dc:creator>ppt宝藏</dc:creator>
  <dc:description/>
  <dc:language>en-US</dc:language>
  <cp:lastModifiedBy>a</cp:lastModifiedBy>
  <dcterms:modified xsi:type="dcterms:W3CDTF">2015-07-25T07:28:46Z</dcterms:modified>
  <cp:revision>12</cp:revision>
  <dc:subject/>
  <dc:title>www.pptbz.com</dc:title>
</cp:coreProperties>
</file>