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27.png" ContentType="image/png"/>
  <Override PartName="/ppt/media/image33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29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453641AD-E1EA-47F2-8352-30B7A3AC5EF6}" type="doc">
      <dgm:prSet loTypeId="urn:microsoft.com/office/officeart/2005/8/layout/matrix3" loCatId="matrix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1123F633-C210-4B28-98C6-970AF0512282}">
      <dgm:prSet custT="1"/>
      <dgm:spPr>
        <a:solidFill>
          <a:srgbClr val="F784A5"/>
        </a:solidFill>
        <a:ln>
          <a:noFill/>
        </a:ln>
      </dgm:spPr>
      <dgm:t>
        <a:bodyPr/>
        <a:lstStyle/>
        <a:p>
          <a:pPr rtl="0"/>
          <a:r>
            <a:rPr lang="zh-CN" altLang="en-US" sz="3200" b="1" dirty="0" smtClean="0">
              <a:latin typeface="微软雅黑" panose="020B0503020204020204" pitchFamily="34" charset="-122"/>
              <a:ea typeface="微软雅黑" panose="020B0503020204020204" pitchFamily="34" charset="-122"/>
            </a:rPr>
            <a:t>大数据量</a:t>
          </a:r>
          <a:endParaRPr lang="zh-CN" altLang="en-US" sz="3200" b="1" dirty="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8ED265F7-A972-458F-B4B4-6B31F06E682D}" type="parTrans" cxnId="{B7DC3584-25B9-4EF1-A247-8B0B02F69EF3}">
      <dgm:prSet/>
      <dgm:spPr/>
      <dgm:t>
        <a:bodyPr/>
        <a:lstStyle/>
        <a:p>
          <a:endParaRPr lang="zh-CN" altLang="en-US"/>
        </a:p>
      </dgm:t>
    </dgm:pt>
    <dgm:pt modelId="{63E4D21D-51BB-4966-8ADB-223B08062A6A}" type="sibTrans" cxnId="{B7DC3584-25B9-4EF1-A247-8B0B02F69EF3}">
      <dgm:prSet/>
      <dgm:spPr/>
      <dgm:t>
        <a:bodyPr/>
        <a:lstStyle/>
        <a:p>
          <a:endParaRPr lang="zh-CN" altLang="en-US"/>
        </a:p>
      </dgm:t>
    </dgm:pt>
    <dgm:pt modelId="{B3FB8813-6AB8-41AB-BEAD-358AF33730F1}">
      <dgm:prSet custT="1"/>
      <dgm:spPr>
        <a:solidFill>
          <a:srgbClr val="F784A5"/>
        </a:solidFill>
        <a:ln>
          <a:noFill/>
        </a:ln>
      </dgm:spPr>
      <dgm:t>
        <a:bodyPr/>
        <a:lstStyle/>
        <a:p>
          <a:pPr rtl="0"/>
          <a:r>
            <a:rPr lang="zh-CN" sz="3200" b="1" dirty="0" smtClean="0">
              <a:latin typeface="微软雅黑" panose="020B0503020204020204" pitchFamily="34" charset="-122"/>
              <a:ea typeface="微软雅黑" panose="020B0503020204020204" pitchFamily="34" charset="-122"/>
            </a:rPr>
            <a:t>即使记录</a:t>
          </a:r>
          <a:endParaRPr lang="zh-CN" altLang="en-US" sz="3200" b="1" dirty="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0D3E8D92-A975-4233-A9F0-8C171A018BC3}" type="parTrans" cxnId="{73366ABA-3838-4AF3-8100-997DE1C60C48}">
      <dgm:prSet/>
      <dgm:spPr/>
      <dgm:t>
        <a:bodyPr/>
        <a:lstStyle/>
        <a:p>
          <a:endParaRPr lang="zh-CN" altLang="en-US"/>
        </a:p>
      </dgm:t>
    </dgm:pt>
    <dgm:pt modelId="{CE6C90BA-8313-453D-B60A-2225FA1EB8C6}" type="sibTrans" cxnId="{73366ABA-3838-4AF3-8100-997DE1C60C48}">
      <dgm:prSet/>
      <dgm:spPr/>
      <dgm:t>
        <a:bodyPr/>
        <a:lstStyle/>
        <a:p>
          <a:endParaRPr lang="zh-CN" altLang="en-US"/>
        </a:p>
      </dgm:t>
    </dgm:pt>
    <dgm:pt modelId="{9A60A1CA-BB12-49C3-92F7-100A771BFA07}">
      <dgm:prSet custT="1"/>
      <dgm:spPr>
        <a:solidFill>
          <a:srgbClr val="F784A5"/>
        </a:solidFill>
      </dgm:spPr>
      <dgm:t>
        <a:bodyPr/>
        <a:lstStyle/>
        <a:p>
          <a:pPr rtl="0"/>
          <a:r>
            <a:rPr lang="zh-CN" sz="3200" b="1" dirty="0" smtClean="0">
              <a:latin typeface="微软雅黑" panose="020B0503020204020204" pitchFamily="34" charset="-122"/>
              <a:ea typeface="微软雅黑" panose="020B0503020204020204" pitchFamily="34" charset="-122"/>
            </a:rPr>
            <a:t>信息防护</a:t>
          </a:r>
          <a:endParaRPr lang="zh-CN" altLang="en-US" sz="3200" b="1" dirty="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78360362-E40D-4AC8-825D-DBF1A58E22FB}" type="parTrans" cxnId="{7056D418-7BAE-43F0-9B9E-63AEDEB9E97E}">
      <dgm:prSet/>
      <dgm:spPr/>
      <dgm:t>
        <a:bodyPr/>
        <a:lstStyle/>
        <a:p>
          <a:endParaRPr lang="zh-CN" altLang="en-US"/>
        </a:p>
      </dgm:t>
    </dgm:pt>
    <dgm:pt modelId="{473E76E9-FA24-4F1E-81F9-7693FB656CF5}" type="sibTrans" cxnId="{7056D418-7BAE-43F0-9B9E-63AEDEB9E97E}">
      <dgm:prSet/>
      <dgm:spPr/>
      <dgm:t>
        <a:bodyPr/>
        <a:lstStyle/>
        <a:p>
          <a:endParaRPr lang="zh-CN" altLang="en-US"/>
        </a:p>
      </dgm:t>
    </dgm:pt>
    <dgm:pt modelId="{431F3AC3-2D89-48F5-B687-D1366E657ECE}">
      <dgm:prSet custT="1"/>
      <dgm:spPr>
        <a:solidFill>
          <a:srgbClr val="F784A5"/>
        </a:solidFill>
        <a:ln>
          <a:noFill/>
        </a:ln>
      </dgm:spPr>
      <dgm:t>
        <a:bodyPr/>
        <a:lstStyle/>
        <a:p>
          <a:pPr rtl="0"/>
          <a:r>
            <a:rPr lang="zh-CN" sz="3200" b="1" dirty="0" smtClean="0">
              <a:latin typeface="微软雅黑" panose="020B0503020204020204" pitchFamily="34" charset="-122"/>
              <a:ea typeface="微软雅黑" panose="020B0503020204020204" pitchFamily="34" charset="-122"/>
            </a:rPr>
            <a:t>提升效率</a:t>
          </a:r>
          <a:endParaRPr lang="zh-CN" altLang="en-US" sz="3200" b="1" dirty="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56ECF9A4-62F3-4CCE-99CE-47C3DC4D77B1}" type="parTrans" cxnId="{752C46A9-390A-4450-BA08-CC7EF2D9C7DA}">
      <dgm:prSet/>
      <dgm:spPr/>
      <dgm:t>
        <a:bodyPr/>
        <a:lstStyle/>
        <a:p>
          <a:endParaRPr lang="zh-CN" altLang="en-US"/>
        </a:p>
      </dgm:t>
    </dgm:pt>
    <dgm:pt modelId="{5AC5D1DF-469E-494B-857C-F051D866CD51}" type="sibTrans" cxnId="{752C46A9-390A-4450-BA08-CC7EF2D9C7DA}">
      <dgm:prSet/>
      <dgm:spPr/>
      <dgm:t>
        <a:bodyPr/>
        <a:lstStyle/>
        <a:p>
          <a:endParaRPr lang="zh-CN" altLang="en-US"/>
        </a:p>
      </dgm:t>
    </dgm:pt>
    <dgm:pt modelId="{EA408365-FAEA-4A5D-98A8-78B04AC87224}" type="pres">
      <dgm:prSet presAssocID="{453641AD-E1EA-47F2-8352-30B7A3AC5EF6}" presName="matrix" presStyleCnt="0">
        <dgm:presLayoutVars>
          <dgm:chMax val="1"/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F8ECE3B1-33B2-421F-856B-7416B095AF65}" type="pres">
      <dgm:prSet presAssocID="{453641AD-E1EA-47F2-8352-30B7A3AC5EF6}" presName="diamond" presStyleLbl="bgShp" presStyleIdx="0" presStyleCnt="1"/>
      <dgm:spPr>
        <a:solidFill>
          <a:schemeClr val="tx1"/>
        </a:solidFill>
      </dgm:spPr>
      <dgm:t>
        <a:bodyPr/>
        <a:lstStyle/>
        <a:p>
          <a:endParaRPr lang="zh-CN" altLang="en-US"/>
        </a:p>
      </dgm:t>
    </dgm:pt>
    <dgm:pt modelId="{86DB0C43-0227-48AF-A369-BA2CAEED3F66}" type="pres">
      <dgm:prSet presAssocID="{453641AD-E1EA-47F2-8352-30B7A3AC5EF6}" presName="quad1" presStyleLbl="node1" presStyleIdx="0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4206AD5-23B6-4C9B-BD42-EB941E692826}" type="pres">
      <dgm:prSet presAssocID="{453641AD-E1EA-47F2-8352-30B7A3AC5EF6}" presName="quad2" presStyleLbl="node1" presStyleIdx="1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C2F3C71-0772-45DE-939C-0BB2F477B158}" type="pres">
      <dgm:prSet presAssocID="{453641AD-E1EA-47F2-8352-30B7A3AC5EF6}" presName="quad3" presStyleLbl="node1" presStyleIdx="2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ADCA3D3-04D1-4332-88A3-0053AEEF75EF}" type="pres">
      <dgm:prSet presAssocID="{453641AD-E1EA-47F2-8352-30B7A3AC5EF6}" presName="quad4" presStyleLbl="node1" presStyleIdx="3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73366ABA-3838-4AF3-8100-997DE1C60C48}" srcId="{453641AD-E1EA-47F2-8352-30B7A3AC5EF6}" destId="{B3FB8813-6AB8-41AB-BEAD-358AF33730F1}" srcOrd="1" destOrd="0" parTransId="{0D3E8D92-A975-4233-A9F0-8C171A018BC3}" sibTransId="{CE6C90BA-8313-453D-B60A-2225FA1EB8C6}"/>
    <dgm:cxn modelId="{4149A602-61F5-4DE9-B8A6-A28248438950}" type="presOf" srcId="{1123F633-C210-4B28-98C6-970AF0512282}" destId="{86DB0C43-0227-48AF-A369-BA2CAEED3F66}" srcOrd="0" destOrd="0" presId="urn:microsoft.com/office/officeart/2005/8/layout/matrix3"/>
    <dgm:cxn modelId="{B7DC3584-25B9-4EF1-A247-8B0B02F69EF3}" srcId="{453641AD-E1EA-47F2-8352-30B7A3AC5EF6}" destId="{1123F633-C210-4B28-98C6-970AF0512282}" srcOrd="0" destOrd="0" parTransId="{8ED265F7-A972-458F-B4B4-6B31F06E682D}" sibTransId="{63E4D21D-51BB-4966-8ADB-223B08062A6A}"/>
    <dgm:cxn modelId="{752C46A9-390A-4450-BA08-CC7EF2D9C7DA}" srcId="{453641AD-E1EA-47F2-8352-30B7A3AC5EF6}" destId="{431F3AC3-2D89-48F5-B687-D1366E657ECE}" srcOrd="3" destOrd="0" parTransId="{56ECF9A4-62F3-4CCE-99CE-47C3DC4D77B1}" sibTransId="{5AC5D1DF-469E-494B-857C-F051D866CD51}"/>
    <dgm:cxn modelId="{04117042-83D9-46A8-A7DB-E8AC40470167}" type="presOf" srcId="{453641AD-E1EA-47F2-8352-30B7A3AC5EF6}" destId="{EA408365-FAEA-4A5D-98A8-78B04AC87224}" srcOrd="0" destOrd="0" presId="urn:microsoft.com/office/officeart/2005/8/layout/matrix3"/>
    <dgm:cxn modelId="{F9D07F9C-DEEA-4D25-9773-F575160A3A10}" type="presOf" srcId="{B3FB8813-6AB8-41AB-BEAD-358AF33730F1}" destId="{E4206AD5-23B6-4C9B-BD42-EB941E692826}" srcOrd="0" destOrd="0" presId="urn:microsoft.com/office/officeart/2005/8/layout/matrix3"/>
    <dgm:cxn modelId="{7056D418-7BAE-43F0-9B9E-63AEDEB9E97E}" srcId="{453641AD-E1EA-47F2-8352-30B7A3AC5EF6}" destId="{9A60A1CA-BB12-49C3-92F7-100A771BFA07}" srcOrd="2" destOrd="0" parTransId="{78360362-E40D-4AC8-825D-DBF1A58E22FB}" sibTransId="{473E76E9-FA24-4F1E-81F9-7693FB656CF5}"/>
    <dgm:cxn modelId="{CAF3D9D5-AD2C-450A-8153-4876A6059CFC}" type="presOf" srcId="{9A60A1CA-BB12-49C3-92F7-100A771BFA07}" destId="{CC2F3C71-0772-45DE-939C-0BB2F477B158}" srcOrd="0" destOrd="0" presId="urn:microsoft.com/office/officeart/2005/8/layout/matrix3"/>
    <dgm:cxn modelId="{D0A17AC4-1355-4FF6-9967-D1D68FD7B5D2}" type="presOf" srcId="{431F3AC3-2D89-48F5-B687-D1366E657ECE}" destId="{BADCA3D3-04D1-4332-88A3-0053AEEF75EF}" srcOrd="0" destOrd="0" presId="urn:microsoft.com/office/officeart/2005/8/layout/matrix3"/>
    <dgm:cxn modelId="{5D04E85A-C29E-4A94-85E6-E84887FE12C9}" type="presParOf" srcId="{EA408365-FAEA-4A5D-98A8-78B04AC87224}" destId="{F8ECE3B1-33B2-421F-856B-7416B095AF65}" srcOrd="0" destOrd="0" presId="urn:microsoft.com/office/officeart/2005/8/layout/matrix3"/>
    <dgm:cxn modelId="{C8A5078D-AECC-4BA8-AD50-132C8236B1F8}" type="presParOf" srcId="{EA408365-FAEA-4A5D-98A8-78B04AC87224}" destId="{86DB0C43-0227-48AF-A369-BA2CAEED3F66}" srcOrd="1" destOrd="0" presId="urn:microsoft.com/office/officeart/2005/8/layout/matrix3"/>
    <dgm:cxn modelId="{6A7AF3AD-D487-4F18-B775-CEF2ABBDFCC7}" type="presParOf" srcId="{EA408365-FAEA-4A5D-98A8-78B04AC87224}" destId="{E4206AD5-23B6-4C9B-BD42-EB941E692826}" srcOrd="2" destOrd="0" presId="urn:microsoft.com/office/officeart/2005/8/layout/matrix3"/>
    <dgm:cxn modelId="{9C7DA60B-EE26-42BA-AF56-BFF328E0712D}" type="presParOf" srcId="{EA408365-FAEA-4A5D-98A8-78B04AC87224}" destId="{CC2F3C71-0772-45DE-939C-0BB2F477B158}" srcOrd="3" destOrd="0" presId="urn:microsoft.com/office/officeart/2005/8/layout/matrix3"/>
    <dgm:cxn modelId="{A62E9477-D1CE-4FF0-82C4-8E6F6678FA41}" type="presParOf" srcId="{EA408365-FAEA-4A5D-98A8-78B04AC87224}" destId="{BADCA3D3-04D1-4332-88A3-0053AEEF75EF}" srcOrd="4" destOrd="0" presId="urn:microsoft.com/office/officeart/2005/8/layout/matrix3"/>
  </dgm:cxnLst>
  <dgm:bg/>
  <dgm:whole/>
  <dgm:extLst>
    <a:ext uri="http://schemas.microsoft.com/office/drawing/2008/diagram">
      <dsp:dataModelExt xmlns:dsp="http://schemas.microsoft.com/office/drawing/2008/diagram" relId="rId21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9518181-03CA-4EA1-8833-F85DDEFFA35B}" type="doc">
      <dgm:prSet loTypeId="urn:microsoft.com/office/officeart/2005/8/layout/gear1" loCatId="cycle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10695AB5-40A9-4EBF-BF20-C70257D82279}">
      <dgm:prSet custT="1"/>
      <dgm:spPr>
        <a:solidFill>
          <a:srgbClr val="F784A5"/>
        </a:solidFill>
        <a:ln>
          <a:noFill/>
        </a:ln>
      </dgm:spPr>
      <dgm:t>
        <a:bodyPr/>
        <a:lstStyle/>
        <a:p>
          <a:pPr rtl="0"/>
          <a:r>
            <a:rPr lang="zh-CN" altLang="en-US" sz="2400" smtClean="0">
              <a:latin typeface="微软雅黑" panose="020B0503020204020204" pitchFamily="34" charset="-122"/>
              <a:ea typeface="微软雅黑" panose="020B0503020204020204" pitchFamily="34" charset="-122"/>
            </a:rPr>
            <a:t>数据清洗</a:t>
          </a:r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B68769A0-5F7B-44ED-A6FC-12A54E4155CA}" type="parTrans" cxnId="{6D626B70-612C-4090-843F-17C801144B4F}">
      <dgm:prSet/>
      <dgm:spPr/>
      <dgm:t>
        <a:bodyPr/>
        <a:lstStyle/>
        <a:p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9ACBDADC-43BB-44AA-8802-67C05D1D408F}" type="sibTrans" cxnId="{6D626B70-612C-4090-843F-17C801144B4F}">
      <dgm:prSet/>
      <dgm:spPr>
        <a:solidFill>
          <a:srgbClr val="F784A5"/>
        </a:solidFill>
      </dgm:spPr>
      <dgm:t>
        <a:bodyPr/>
        <a:lstStyle/>
        <a:p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657445A7-5198-4D86-821C-94D51D30DFA8}">
      <dgm:prSet custT="1"/>
      <dgm:spPr>
        <a:solidFill>
          <a:srgbClr val="31B5D6"/>
        </a:solidFill>
        <a:ln>
          <a:noFill/>
        </a:ln>
      </dgm:spPr>
      <dgm:t>
        <a:bodyPr/>
        <a:lstStyle/>
        <a:p>
          <a:pPr rtl="0"/>
          <a:r>
            <a:rPr lang="zh-CN" altLang="en-US" sz="2400" smtClean="0">
              <a:latin typeface="微软雅黑" panose="020B0503020204020204" pitchFamily="34" charset="-122"/>
              <a:ea typeface="微软雅黑" panose="020B0503020204020204" pitchFamily="34" charset="-122"/>
            </a:rPr>
            <a:t>分析技术</a:t>
          </a:r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DBD3CDED-C257-4997-B061-DB54DA843FA9}" type="parTrans" cxnId="{22F58946-E38F-4866-B044-8581214EFFF5}">
      <dgm:prSet/>
      <dgm:spPr/>
      <dgm:t>
        <a:bodyPr/>
        <a:lstStyle/>
        <a:p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E57864B1-A1C0-403F-8EA4-D3A39838A15E}" type="sibTrans" cxnId="{22F58946-E38F-4866-B044-8581214EFFF5}">
      <dgm:prSet/>
      <dgm:spPr>
        <a:solidFill>
          <a:srgbClr val="31B5D6"/>
        </a:solidFill>
      </dgm:spPr>
      <dgm:t>
        <a:bodyPr/>
        <a:lstStyle/>
        <a:p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8AA4CDCB-FADC-4F17-974C-3686BC9BCE63}">
      <dgm:prSet custT="1"/>
      <dgm:spPr>
        <a:solidFill>
          <a:schemeClr val="tx1"/>
        </a:solidFill>
        <a:ln>
          <a:noFill/>
        </a:ln>
      </dgm:spPr>
      <dgm:t>
        <a:bodyPr/>
        <a:lstStyle/>
        <a:p>
          <a:pPr rtl="0"/>
          <a:r>
            <a:rPr lang="zh-CN" altLang="en-US" sz="2400" smtClean="0">
              <a:latin typeface="微软雅黑" panose="020B0503020204020204" pitchFamily="34" charset="-122"/>
              <a:ea typeface="微软雅黑" panose="020B0503020204020204" pitchFamily="34" charset="-122"/>
            </a:rPr>
            <a:t>数据挖掘</a:t>
          </a:r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8E1E53FE-A8E8-47D3-92B7-EB28A233EBC9}" type="parTrans" cxnId="{6D43F873-0778-4962-8E6F-C8709EF4BCE1}">
      <dgm:prSet/>
      <dgm:spPr/>
      <dgm:t>
        <a:bodyPr/>
        <a:lstStyle/>
        <a:p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A3E8F981-B45E-4B51-94B9-A4ED1153FC37}" type="sibTrans" cxnId="{6D43F873-0778-4962-8E6F-C8709EF4BCE1}">
      <dgm:prSet/>
      <dgm:spPr>
        <a:solidFill>
          <a:schemeClr val="tx1"/>
        </a:solidFill>
      </dgm:spPr>
      <dgm:t>
        <a:bodyPr/>
        <a:lstStyle/>
        <a:p>
          <a:endParaRPr lang="zh-CN" altLang="en-US" sz="2400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D32C229D-66AA-41A1-8B88-10AEBAC32CE8}" type="pres">
      <dgm:prSet presAssocID="{79518181-03CA-4EA1-8833-F85DDEFFA35B}" presName="composite" presStyleCnt="0">
        <dgm:presLayoutVars>
          <dgm:chMax val="3"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55DB95C-F3E7-4680-8E59-0AE5AE0E71B3}" type="pres">
      <dgm:prSet presAssocID="{10695AB5-40A9-4EBF-BF20-C70257D82279}" presName="gear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3D27828-4A3E-4987-8122-6CFD3B0DEBF4}" type="pres">
      <dgm:prSet presAssocID="{10695AB5-40A9-4EBF-BF20-C70257D82279}" presName="gear1srcNode" presStyleLbl="node1" presStyleIdx="0" presStyleCnt="3"/>
      <dgm:spPr/>
      <dgm:t>
        <a:bodyPr/>
        <a:lstStyle/>
        <a:p>
          <a:endParaRPr lang="zh-CN" altLang="en-US"/>
        </a:p>
      </dgm:t>
    </dgm:pt>
    <dgm:pt modelId="{3543F0C1-9A1A-4957-8634-5F5D43BA743C}" type="pres">
      <dgm:prSet presAssocID="{10695AB5-40A9-4EBF-BF20-C70257D82279}" presName="gear1dstNode" presStyleLbl="node1" presStyleIdx="0" presStyleCnt="3"/>
      <dgm:spPr/>
      <dgm:t>
        <a:bodyPr/>
        <a:lstStyle/>
        <a:p>
          <a:endParaRPr lang="zh-CN" altLang="en-US"/>
        </a:p>
      </dgm:t>
    </dgm:pt>
    <dgm:pt modelId="{5D280763-7827-4E7D-9B28-4993FB63B48E}" type="pres">
      <dgm:prSet presAssocID="{8AA4CDCB-FADC-4F17-974C-3686BC9BCE63}" presName="gear2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B41F86C-7D62-45F3-A12C-52D03FF01535}" type="pres">
      <dgm:prSet presAssocID="{8AA4CDCB-FADC-4F17-974C-3686BC9BCE63}" presName="gear2srcNode" presStyleLbl="node1" presStyleIdx="1" presStyleCnt="3"/>
      <dgm:spPr/>
      <dgm:t>
        <a:bodyPr/>
        <a:lstStyle/>
        <a:p>
          <a:endParaRPr lang="zh-CN" altLang="en-US"/>
        </a:p>
      </dgm:t>
    </dgm:pt>
    <dgm:pt modelId="{1B1C1ECB-1219-4D43-896A-65FC43328F37}" type="pres">
      <dgm:prSet presAssocID="{8AA4CDCB-FADC-4F17-974C-3686BC9BCE63}" presName="gear2dstNode" presStyleLbl="node1" presStyleIdx="1" presStyleCnt="3"/>
      <dgm:spPr/>
      <dgm:t>
        <a:bodyPr/>
        <a:lstStyle/>
        <a:p>
          <a:endParaRPr lang="zh-CN" altLang="en-US"/>
        </a:p>
      </dgm:t>
    </dgm:pt>
    <dgm:pt modelId="{FA9C5DA0-3FA5-40DE-9676-D516CE49E195}" type="pres">
      <dgm:prSet presAssocID="{657445A7-5198-4D86-821C-94D51D30DFA8}" presName="gear3" presStyleLbl="node1" presStyleIdx="2" presStyleCnt="3"/>
      <dgm:spPr/>
      <dgm:t>
        <a:bodyPr/>
        <a:lstStyle/>
        <a:p>
          <a:endParaRPr lang="zh-CN" altLang="en-US"/>
        </a:p>
      </dgm:t>
    </dgm:pt>
    <dgm:pt modelId="{61272F5B-B729-4AC9-BEB2-113BBA3B918B}" type="pres">
      <dgm:prSet presAssocID="{657445A7-5198-4D86-821C-94D51D30DFA8}" presName="gear3tx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762ECEBD-E1AD-476D-9628-7268CCAC1FD9}" type="pres">
      <dgm:prSet presAssocID="{657445A7-5198-4D86-821C-94D51D30DFA8}" presName="gear3srcNode" presStyleLbl="node1" presStyleIdx="2" presStyleCnt="3"/>
      <dgm:spPr/>
      <dgm:t>
        <a:bodyPr/>
        <a:lstStyle/>
        <a:p>
          <a:endParaRPr lang="zh-CN" altLang="en-US"/>
        </a:p>
      </dgm:t>
    </dgm:pt>
    <dgm:pt modelId="{AEAD1F93-2A91-42D6-9ECD-FBF932AC5DC4}" type="pres">
      <dgm:prSet presAssocID="{657445A7-5198-4D86-821C-94D51D30DFA8}" presName="gear3dstNode" presStyleLbl="node1" presStyleIdx="2" presStyleCnt="3"/>
      <dgm:spPr/>
      <dgm:t>
        <a:bodyPr/>
        <a:lstStyle/>
        <a:p>
          <a:endParaRPr lang="zh-CN" altLang="en-US"/>
        </a:p>
      </dgm:t>
    </dgm:pt>
    <dgm:pt modelId="{2A333BA7-D7E4-4E2E-AFDB-61AC67F31717}" type="pres">
      <dgm:prSet presAssocID="{9ACBDADC-43BB-44AA-8802-67C05D1D408F}" presName="connector1" presStyleLbl="sibTrans2D1" presStyleIdx="0" presStyleCnt="3"/>
      <dgm:spPr/>
      <dgm:t>
        <a:bodyPr/>
        <a:lstStyle/>
        <a:p>
          <a:endParaRPr lang="zh-CN" altLang="en-US"/>
        </a:p>
      </dgm:t>
    </dgm:pt>
    <dgm:pt modelId="{AB8A7DC9-8EA1-41FC-8652-5A7C7473DFD0}" type="pres">
      <dgm:prSet presAssocID="{A3E8F981-B45E-4B51-94B9-A4ED1153FC37}" presName="connector2" presStyleLbl="sibTrans2D1" presStyleIdx="1" presStyleCnt="3"/>
      <dgm:spPr/>
      <dgm:t>
        <a:bodyPr/>
        <a:lstStyle/>
        <a:p>
          <a:endParaRPr lang="zh-CN" altLang="en-US"/>
        </a:p>
      </dgm:t>
    </dgm:pt>
    <dgm:pt modelId="{B7E98E5F-12CD-4EB7-B039-B1215BD54C1A}" type="pres">
      <dgm:prSet presAssocID="{E57864B1-A1C0-403F-8EA4-D3A39838A15E}" presName="connector3" presStyleLbl="sibTrans2D1" presStyleIdx="2" presStyleCnt="3"/>
      <dgm:spPr/>
      <dgm:t>
        <a:bodyPr/>
        <a:lstStyle/>
        <a:p>
          <a:endParaRPr lang="zh-CN" altLang="en-US"/>
        </a:p>
      </dgm:t>
    </dgm:pt>
  </dgm:ptLst>
  <dgm:cxnLst>
    <dgm:cxn modelId="{9F54AA48-1531-46E0-8051-29F4243372D6}" type="presOf" srcId="{657445A7-5198-4D86-821C-94D51D30DFA8}" destId="{61272F5B-B729-4AC9-BEB2-113BBA3B918B}" srcOrd="1" destOrd="0" presId="urn:microsoft.com/office/officeart/2005/8/layout/gear1"/>
    <dgm:cxn modelId="{6D43F873-0778-4962-8E6F-C8709EF4BCE1}" srcId="{79518181-03CA-4EA1-8833-F85DDEFFA35B}" destId="{8AA4CDCB-FADC-4F17-974C-3686BC9BCE63}" srcOrd="1" destOrd="0" parTransId="{8E1E53FE-A8E8-47D3-92B7-EB28A233EBC9}" sibTransId="{A3E8F981-B45E-4B51-94B9-A4ED1153FC37}"/>
    <dgm:cxn modelId="{0CE3E077-2DF8-4648-BD2F-DDDE94F81239}" type="presOf" srcId="{8AA4CDCB-FADC-4F17-974C-3686BC9BCE63}" destId="{EB41F86C-7D62-45F3-A12C-52D03FF01535}" srcOrd="1" destOrd="0" presId="urn:microsoft.com/office/officeart/2005/8/layout/gear1"/>
    <dgm:cxn modelId="{3C6AD9F4-ECD9-4F65-8FAD-FE1293D59E23}" type="presOf" srcId="{657445A7-5198-4D86-821C-94D51D30DFA8}" destId="{AEAD1F93-2A91-42D6-9ECD-FBF932AC5DC4}" srcOrd="3" destOrd="0" presId="urn:microsoft.com/office/officeart/2005/8/layout/gear1"/>
    <dgm:cxn modelId="{5BCAE965-C301-424F-B7CA-58E3408E5FBC}" type="presOf" srcId="{8AA4CDCB-FADC-4F17-974C-3686BC9BCE63}" destId="{5D280763-7827-4E7D-9B28-4993FB63B48E}" srcOrd="0" destOrd="0" presId="urn:microsoft.com/office/officeart/2005/8/layout/gear1"/>
    <dgm:cxn modelId="{6D626B70-612C-4090-843F-17C801144B4F}" srcId="{79518181-03CA-4EA1-8833-F85DDEFFA35B}" destId="{10695AB5-40A9-4EBF-BF20-C70257D82279}" srcOrd="0" destOrd="0" parTransId="{B68769A0-5F7B-44ED-A6FC-12A54E4155CA}" sibTransId="{9ACBDADC-43BB-44AA-8802-67C05D1D408F}"/>
    <dgm:cxn modelId="{090991D9-0E25-4172-ABB1-D9B3835C2DA8}" type="presOf" srcId="{657445A7-5198-4D86-821C-94D51D30DFA8}" destId="{FA9C5DA0-3FA5-40DE-9676-D516CE49E195}" srcOrd="0" destOrd="0" presId="urn:microsoft.com/office/officeart/2005/8/layout/gear1"/>
    <dgm:cxn modelId="{B0B1BB44-A1D1-402A-95B3-241228138564}" type="presOf" srcId="{657445A7-5198-4D86-821C-94D51D30DFA8}" destId="{762ECEBD-E1AD-476D-9628-7268CCAC1FD9}" srcOrd="2" destOrd="0" presId="urn:microsoft.com/office/officeart/2005/8/layout/gear1"/>
    <dgm:cxn modelId="{D758E482-5FE5-4EF8-A147-76C111ADDDA1}" type="presOf" srcId="{79518181-03CA-4EA1-8833-F85DDEFFA35B}" destId="{D32C229D-66AA-41A1-8B88-10AEBAC32CE8}" srcOrd="0" destOrd="0" presId="urn:microsoft.com/office/officeart/2005/8/layout/gear1"/>
    <dgm:cxn modelId="{141AB86D-852D-44D2-8171-03469DB00689}" type="presOf" srcId="{10695AB5-40A9-4EBF-BF20-C70257D82279}" destId="{055DB95C-F3E7-4680-8E59-0AE5AE0E71B3}" srcOrd="0" destOrd="0" presId="urn:microsoft.com/office/officeart/2005/8/layout/gear1"/>
    <dgm:cxn modelId="{05F03B2C-74B9-440B-B10F-440D7CF03BAE}" type="presOf" srcId="{E57864B1-A1C0-403F-8EA4-D3A39838A15E}" destId="{B7E98E5F-12CD-4EB7-B039-B1215BD54C1A}" srcOrd="0" destOrd="0" presId="urn:microsoft.com/office/officeart/2005/8/layout/gear1"/>
    <dgm:cxn modelId="{D88A95D6-4867-4A89-87AB-ABE028093BCC}" type="presOf" srcId="{9ACBDADC-43BB-44AA-8802-67C05D1D408F}" destId="{2A333BA7-D7E4-4E2E-AFDB-61AC67F31717}" srcOrd="0" destOrd="0" presId="urn:microsoft.com/office/officeart/2005/8/layout/gear1"/>
    <dgm:cxn modelId="{2D3FB13E-EAE8-45A8-9D14-55915D98FBFE}" type="presOf" srcId="{8AA4CDCB-FADC-4F17-974C-3686BC9BCE63}" destId="{1B1C1ECB-1219-4D43-896A-65FC43328F37}" srcOrd="2" destOrd="0" presId="urn:microsoft.com/office/officeart/2005/8/layout/gear1"/>
    <dgm:cxn modelId="{22F58946-E38F-4866-B044-8581214EFFF5}" srcId="{79518181-03CA-4EA1-8833-F85DDEFFA35B}" destId="{657445A7-5198-4D86-821C-94D51D30DFA8}" srcOrd="2" destOrd="0" parTransId="{DBD3CDED-C257-4997-B061-DB54DA843FA9}" sibTransId="{E57864B1-A1C0-403F-8EA4-D3A39838A15E}"/>
    <dgm:cxn modelId="{D210CDA6-F693-4E99-9418-EDA885CD52FC}" type="presOf" srcId="{10695AB5-40A9-4EBF-BF20-C70257D82279}" destId="{33D27828-4A3E-4987-8122-6CFD3B0DEBF4}" srcOrd="1" destOrd="0" presId="urn:microsoft.com/office/officeart/2005/8/layout/gear1"/>
    <dgm:cxn modelId="{2601B5B7-4BC7-43E2-BD6D-8FA0D94E3FB8}" type="presOf" srcId="{10695AB5-40A9-4EBF-BF20-C70257D82279}" destId="{3543F0C1-9A1A-4957-8634-5F5D43BA743C}" srcOrd="2" destOrd="0" presId="urn:microsoft.com/office/officeart/2005/8/layout/gear1"/>
    <dgm:cxn modelId="{8B8A05DF-319F-4E77-8F0A-B8BEABD662D3}" type="presOf" srcId="{A3E8F981-B45E-4B51-94B9-A4ED1153FC37}" destId="{AB8A7DC9-8EA1-41FC-8652-5A7C7473DFD0}" srcOrd="0" destOrd="0" presId="urn:microsoft.com/office/officeart/2005/8/layout/gear1"/>
    <dgm:cxn modelId="{114BBE0B-7EAE-4880-9A2A-0DB7747DE6CC}" type="presParOf" srcId="{D32C229D-66AA-41A1-8B88-10AEBAC32CE8}" destId="{055DB95C-F3E7-4680-8E59-0AE5AE0E71B3}" srcOrd="0" destOrd="0" presId="urn:microsoft.com/office/officeart/2005/8/layout/gear1"/>
    <dgm:cxn modelId="{89535E4A-DCAA-4B8B-9608-70BBE7440BE3}" type="presParOf" srcId="{D32C229D-66AA-41A1-8B88-10AEBAC32CE8}" destId="{33D27828-4A3E-4987-8122-6CFD3B0DEBF4}" srcOrd="1" destOrd="0" presId="urn:microsoft.com/office/officeart/2005/8/layout/gear1"/>
    <dgm:cxn modelId="{E7646BEA-2879-4311-9506-7DC2F49E4548}" type="presParOf" srcId="{D32C229D-66AA-41A1-8B88-10AEBAC32CE8}" destId="{3543F0C1-9A1A-4957-8634-5F5D43BA743C}" srcOrd="2" destOrd="0" presId="urn:microsoft.com/office/officeart/2005/8/layout/gear1"/>
    <dgm:cxn modelId="{80BF9204-2C90-4673-B5E0-0D7B517679D2}" type="presParOf" srcId="{D32C229D-66AA-41A1-8B88-10AEBAC32CE8}" destId="{5D280763-7827-4E7D-9B28-4993FB63B48E}" srcOrd="3" destOrd="0" presId="urn:microsoft.com/office/officeart/2005/8/layout/gear1"/>
    <dgm:cxn modelId="{CDC18609-6984-4433-BBE2-643C9FAFDA09}" type="presParOf" srcId="{D32C229D-66AA-41A1-8B88-10AEBAC32CE8}" destId="{EB41F86C-7D62-45F3-A12C-52D03FF01535}" srcOrd="4" destOrd="0" presId="urn:microsoft.com/office/officeart/2005/8/layout/gear1"/>
    <dgm:cxn modelId="{FB303F19-77CC-44FD-9003-C4027A2D9BF2}" type="presParOf" srcId="{D32C229D-66AA-41A1-8B88-10AEBAC32CE8}" destId="{1B1C1ECB-1219-4D43-896A-65FC43328F37}" srcOrd="5" destOrd="0" presId="urn:microsoft.com/office/officeart/2005/8/layout/gear1"/>
    <dgm:cxn modelId="{BFF60E02-ADE0-41C9-8DC2-B9386FE0FE12}" type="presParOf" srcId="{D32C229D-66AA-41A1-8B88-10AEBAC32CE8}" destId="{FA9C5DA0-3FA5-40DE-9676-D516CE49E195}" srcOrd="6" destOrd="0" presId="urn:microsoft.com/office/officeart/2005/8/layout/gear1"/>
    <dgm:cxn modelId="{0C11570E-4ECF-47A3-90E4-D2011FBD052D}" type="presParOf" srcId="{D32C229D-66AA-41A1-8B88-10AEBAC32CE8}" destId="{61272F5B-B729-4AC9-BEB2-113BBA3B918B}" srcOrd="7" destOrd="0" presId="urn:microsoft.com/office/officeart/2005/8/layout/gear1"/>
    <dgm:cxn modelId="{C50D205B-17A5-48E5-B64B-EAE1ACE5E601}" type="presParOf" srcId="{D32C229D-66AA-41A1-8B88-10AEBAC32CE8}" destId="{762ECEBD-E1AD-476D-9628-7268CCAC1FD9}" srcOrd="8" destOrd="0" presId="urn:microsoft.com/office/officeart/2005/8/layout/gear1"/>
    <dgm:cxn modelId="{536C37DC-E5F0-4D35-A45C-A39179910ED3}" type="presParOf" srcId="{D32C229D-66AA-41A1-8B88-10AEBAC32CE8}" destId="{AEAD1F93-2A91-42D6-9ECD-FBF932AC5DC4}" srcOrd="9" destOrd="0" presId="urn:microsoft.com/office/officeart/2005/8/layout/gear1"/>
    <dgm:cxn modelId="{37959BA3-5324-40AA-812E-C23A9B7ED9B2}" type="presParOf" srcId="{D32C229D-66AA-41A1-8B88-10AEBAC32CE8}" destId="{2A333BA7-D7E4-4E2E-AFDB-61AC67F31717}" srcOrd="10" destOrd="0" presId="urn:microsoft.com/office/officeart/2005/8/layout/gear1"/>
    <dgm:cxn modelId="{1DCEB5DF-BE59-4B3E-821B-CDA73D03D3D4}" type="presParOf" srcId="{D32C229D-66AA-41A1-8B88-10AEBAC32CE8}" destId="{AB8A7DC9-8EA1-41FC-8652-5A7C7473DFD0}" srcOrd="11" destOrd="0" presId="urn:microsoft.com/office/officeart/2005/8/layout/gear1"/>
    <dgm:cxn modelId="{C5754649-B9FD-4FE1-96F9-97B2E88FE5A1}" type="presParOf" srcId="{D32C229D-66AA-41A1-8B88-10AEBAC32CE8}" destId="{B7E98E5F-12CD-4EB7-B039-B1215BD54C1A}" srcOrd="12" destOrd="0" presId="urn:microsoft.com/office/officeart/2005/8/layout/gear1"/>
  </dgm:cxnLst>
  <dgm:bg>
    <a:noFill/>
  </dgm:bg>
  <dgm:whole/>
  <dgm:extLst>
    <a:ext uri="http://schemas.microsoft.com/office/drawing/2008/diagram">
      <dsp:dataModelExt xmlns:dsp="http://schemas.microsoft.com/office/drawing/2008/diagram" relId="rId21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matrix3">
  <dgm:title val=""/>
  <dgm:desc val=""/>
  <dgm:catLst>
    <dgm:cat type="matrix" pri="1000"/>
    <dgm:cat type="convert" pri="18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0" destOrd="0"/>
        <dgm:cxn modelId="8" srcId="0" destId="4" srcOrd="1" destOrd="0"/>
      </dgm:cxnLst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matrix">
    <dgm:varLst>
      <dgm:chMax val="1"/>
      <dgm:dir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w" for="ch" forName="diamond" refType="w"/>
          <dgm:constr type="h" for="ch" forName="diamond" refType="h"/>
          <dgm:constr type="w" for="ch" forName="quad1" refType="w" fact="0.39"/>
          <dgm:constr type="h" for="ch" forName="quad1" refType="h" fact="0.39"/>
          <dgm:constr type="ctrX" for="ch" forName="quad1" refType="w" fact="0.29"/>
          <dgm:constr type="ctrY" for="ch" forName="quad1" refType="h" fact="0.29"/>
          <dgm:constr type="w" for="ch" forName="quad2" refType="w" fact="0.39"/>
          <dgm:constr type="h" for="ch" forName="quad2" refType="h" fact="0.39"/>
          <dgm:constr type="ctrX" for="ch" forName="quad2" refType="w" fact="0.71"/>
          <dgm:constr type="ctrY" for="ch" forName="quad2" refType="h" fact="0.29"/>
          <dgm:constr type="w" for="ch" forName="quad3" refType="w" fact="0.39"/>
          <dgm:constr type="h" for="ch" forName="quad3" refType="h" fact="0.39"/>
          <dgm:constr type="ctrX" for="ch" forName="quad3" refType="w" fact="0.29"/>
          <dgm:constr type="ctrY" for="ch" forName="quad3" refType="h" fact="0.71"/>
          <dgm:constr type="w" for="ch" forName="quad4" refType="w" fact="0.39"/>
          <dgm:constr type="h" for="ch" forName="quad4" refType="h" fact="0.39"/>
          <dgm:constr type="ctrX" for="ch" forName="quad4" refType="w" fact="0.71"/>
          <dgm:constr type="ctrY" for="ch" forName="quad4" refType="h" fact="0.71"/>
          <dgm:constr type="primFontSz" for="des" ptType="node" op="equ" val="65"/>
        </dgm:constrLst>
      </dgm:if>
      <dgm:else name="Name2">
        <dgm:constrLst>
          <dgm:constr type="w" for="ch" forName="diamond" refType="w"/>
          <dgm:constr type="h" for="ch" forName="diamond" refType="h"/>
          <dgm:constr type="w" for="ch" forName="quad1" refType="w" fact="0.39"/>
          <dgm:constr type="h" for="ch" forName="quad1" refType="h" fact="0.39"/>
          <dgm:constr type="ctrX" for="ch" forName="quad1" refType="w" fact="0.71"/>
          <dgm:constr type="ctrY" for="ch" forName="quad1" refType="h" fact="0.29"/>
          <dgm:constr type="w" for="ch" forName="quad2" refType="w" fact="0.39"/>
          <dgm:constr type="h" for="ch" forName="quad2" refType="h" fact="0.39"/>
          <dgm:constr type="ctrX" for="ch" forName="quad2" refType="w" fact="0.29"/>
          <dgm:constr type="ctrY" for="ch" forName="quad2" refType="h" fact="0.29"/>
          <dgm:constr type="w" for="ch" forName="quad3" refType="w" fact="0.39"/>
          <dgm:constr type="h" for="ch" forName="quad3" refType="h" fact="0.39"/>
          <dgm:constr type="ctrX" for="ch" forName="quad3" refType="w" fact="0.71"/>
          <dgm:constr type="ctrY" for="ch" forName="quad3" refType="h" fact="0.71"/>
          <dgm:constr type="w" for="ch" forName="quad4" refType="w" fact="0.39"/>
          <dgm:constr type="h" for="ch" forName="quad4" refType="h" fact="0.39"/>
          <dgm:constr type="ctrX" for="ch" forName="quad4" refType="w" fact="0.29"/>
          <dgm:constr type="ctrY" for="ch" forName="quad4" refType="h" fact="0.71"/>
          <dgm:constr type="primFontSz" for="des" ptType="node" op="equ" val="65"/>
        </dgm:constrLst>
      </dgm:else>
    </dgm:choose>
    <dgm:ruleLst/>
    <dgm:choose name="Name3">
      <dgm:if name="Name4" axis="ch" ptType="node" func="cnt" op="gte" val="1">
        <dgm:layoutNode name="diamond" styleLbl="bgShp">
          <dgm:alg type="sp"/>
          <dgm:shape xmlns:r="http://schemas.openxmlformats.org/officeDocument/2006/relationships" type="diamond" r:blip="">
            <dgm:adjLst/>
          </dgm:shape>
          <dgm:presOf/>
          <dgm:constrLst>
            <dgm:constr type="w" refType="h" op="equ"/>
          </dgm:constrLst>
          <dgm:ruleLst/>
        </dgm:layoutNode>
        <dgm:layoutNode name="quad1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1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quad2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2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quad3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3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quad4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4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5"/>
    </dgm:choos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gear1">
  <dgm:title val=""/>
  <dgm:desc val=""/>
  <dgm:catLst>
    <dgm:cat type="relationship" pri="3000"/>
    <dgm:cat type="process" pri="28000"/>
    <dgm:cat type="cycle" pri="14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 useDef="1">
    <dgm:dataModel>
      <dgm:ptLst/>
      <dgm:bg/>
      <dgm:whole/>
    </dgm:dataModel>
  </dgm:clrData>
  <dgm:layoutNode name="composite">
    <dgm:varLst>
      <dgm:chMax val="3"/>
      <dgm:animLvl val="lvl"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lte" val="1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05"/>
          <dgm:constr type="t" for="ch" forName="gear1" refType="w" fact="0.05"/>
          <dgm:constr type="w" for="ch" forName="gear1srcNode" val="1"/>
          <dgm:constr type="h" for="ch" forName="gear1srcNode" val="1"/>
          <dgm:constr type="l" for="ch" forName="gear1srcNode" refType="w" fact="0.32"/>
          <dgm:constr type="t" for="ch" forName="gear1srcNode"/>
          <dgm:constr type="w" for="ch" forName="gear1dstNode" val="1"/>
          <dgm:constr type="h" for="ch" forName="gear1dstNode" val="1"/>
          <dgm:constr type="r" for="ch" forName="gear1dstNode" refType="w" fact="0.58"/>
          <dgm:constr type="t" for="ch" forName="gear1dstNode" refType="h" fact="0.5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/>
          <dgm:constr type="b" for="ch" forName="gear1ch" refType="h" fact="0.6"/>
        </dgm:constrLst>
      </dgm:if>
      <dgm:if name="Name2" axis="ch" ptType="node" func="cnt" op="equ" val="2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2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2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7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w" fact="0.8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1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0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3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 refType="w" fact="0.34"/>
          <dgm:constr type="t" for="ch" forName="gear2ch" refType="w" fact="0.04"/>
        </dgm:constrLst>
      </dgm:if>
      <dgm:else name="Name3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4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4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95"/>
          <dgm:constr type="diam" for="des" forName="connector1" refType="w" refFor="ch" refForName="gear1" op="equ" fact="1.15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h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3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2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5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/>
          <dgm:constr type="t" for="ch" forName="gear2ch" refType="w" fact="0.58"/>
          <dgm:constr type="w" for="ch" forName="gear3" refType="w" fact="0.48"/>
          <dgm:constr type="h" for="ch" forName="gear3" refType="w" fact="0.48"/>
          <dgm:constr type="l" for="ch" forName="gear3" refType="w" fact="0.31"/>
          <dgm:constr type="t" for="ch" forName="gear3"/>
          <dgm:constr type="w" for="ch" forName="gear3tx" refType="w" fact="0.22"/>
          <dgm:constr type="h" for="ch" forName="gear3tx" refType="w" fact="0.22"/>
          <dgm:constr type="ctrX" for="ch" forName="gear3tx" refType="ctrX" refFor="ch" refForName="gear3"/>
          <dgm:constr type="ctrY" for="ch" forName="gear3tx" refType="ctrY" refFor="ch" refForName="gear3"/>
          <dgm:constr type="w" for="ch" forName="gear3srcNode" val="1"/>
          <dgm:constr type="h" for="ch" forName="gear3srcNode" val="1"/>
          <dgm:constr type="l" for="ch" forName="gear3srcNode" refType="w" fact="0.3"/>
          <dgm:constr type="t" for="ch" forName="gear3srcNode" refType="w" fact="0.25"/>
          <dgm:constr type="w" for="ch" forName="gear3dstNode" val="1"/>
          <dgm:constr type="h" for="ch" forName="gear3dstNode" val="1"/>
          <dgm:constr type="l" for="ch" forName="gear3dstNode" refType="w" fact="0.38"/>
          <dgm:constr type="t" for="ch" forName="gear3dstNode" refType="h" fact="0.05"/>
          <dgm:constr type="diam" for="des" forName="connector3" refType="w" refFor="ch" refForName="gear3" op="equ"/>
          <dgm:constr type="h" for="des" forName="connector3" refType="w" refFor="ch" refForName="gear1" op="equ" fact="0.1"/>
          <dgm:constr type="w" for="ch" forName="gear3ch" refType="w" fact="0.35"/>
          <dgm:constr type="h" for="ch" forName="gear3ch" refType="w" refFor="ch" refForName="gear3ch" fact="0.6"/>
          <dgm:constr type="l" for="ch" forName="gear3ch" refType="w" fact="0.65"/>
          <dgm:constr type="t" for="ch" forName="gear3ch" refType="h" fact="0.13"/>
        </dgm:constrLst>
      </dgm:else>
    </dgm:choose>
    <dgm:ruleLst/>
    <dgm:forEach name="Name4" axis="ch" ptType="node" cnt="1">
      <dgm:layoutNode name="gear1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9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1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1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5">
        <dgm:if name="Name6" axis="ch" ptType="node" func="cnt" op="gte" val="1">
          <dgm:layoutNode name="gear1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7"/>
      </dgm:choose>
    </dgm:forEach>
    <dgm:forEach name="Name8" axis="ch" ptType="node" st="2" cnt="1">
      <dgm:layoutNode name="gear2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6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2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2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9">
        <dgm:if name="Name10" axis="ch" ptType="node" func="cnt" op="gte" val="1">
          <dgm:layoutNode name="gear2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1"/>
      </dgm:choose>
    </dgm:forEach>
    <dgm:forEach name="Name12" axis="ch" ptType="node" st="3" cnt="1">
      <dgm:layoutNode name="gear3" styleLbl="node1">
        <dgm:alg type="sp"/>
        <dgm:shape xmlns:r="http://schemas.openxmlformats.org/officeDocument/2006/relationships" rot="-15" type="gear6" r:blip="">
          <dgm:adjLst/>
        </dgm:shape>
        <dgm:presOf axis="self"/>
        <dgm:constrLst/>
        <dgm:ruleLst/>
      </dgm:layoutNode>
      <dgm:layoutNode name="gear3tx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3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3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13">
        <dgm:if name="Name14" axis="ch" ptType="node" func="cnt" op="gte" val="1">
          <dgm:layoutNode name="gear3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5"/>
      </dgm:choose>
    </dgm:forEach>
    <dgm:forEach name="Name16" axis="ch" ptType="sibTrans" hideLastTrans="0" cnt="1">
      <dgm:layoutNode name="connector1" styleLbl="sibTrans2D1">
        <dgm:alg type="conn">
          <dgm:param type="connRout" val="curve"/>
          <dgm:param type="srcNode" val="gear1srcNode"/>
          <dgm:param type="dstNode" val="gear1dstNode"/>
          <dgm:param type="begPts" val="midR"/>
          <dgm:param type="endPts" val="tCtr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7" axis="ch" ptType="sibTrans" hideLastTrans="0" st="2" cnt="1">
      <dgm:layoutNode name="connector2" styleLbl="sibTrans2D1">
        <dgm:alg type="conn">
          <dgm:param type="connRout" val="curve"/>
          <dgm:param type="srcNode" val="gear2srcNode"/>
          <dgm:param type="dstNode" val="gear2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8" axis="ch" ptType="sibTrans" hideLastTrans="0" st="3" cnt="1">
      <dgm:layoutNode name="connector3" styleLbl="sibTrans2D1">
        <dgm:alg type="conn">
          <dgm:param type="connRout" val="curve"/>
          <dgm:param type="srcNode" val="gear3srcNode"/>
          <dgm:param type="dstNode" val="gear3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AF9553-871C-4FDA-97D3-5FC9580F8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30F302-E4CD-4FF5-98D8-E6E5268A859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36034D-135E-446B-8EA3-8501F8A553C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2CF-766F-4BAE-939B-AA6712ED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683-2FE2-4CEE-A6FF-5C10C068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94AE-9745-4A73-AE0A-ECC7E273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ECB-BCB3-4F49-B658-93416093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F0A-1D4C-4949-9C7F-B0D970DD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DD40-8F1B-4EB5-B850-BF6192A8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B370-BBCE-4404-995D-37749FCB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E067-E02F-4BC7-9581-861C64A7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5091-7363-4360-ADD1-DA4FC0C7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37CF-81B4-4626-B005-9B0948D3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994A-36E5-4E97-B756-B2F8F18D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7823-6F1F-4D40-9F7F-E072549E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967B-FFC1-4378-B7A5-AC9D41AF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DE8A-1B0C-4A7B-9C74-D193692A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EB7D-DF93-490E-9CB9-C7E73570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7772-F8CB-4D73-B04B-25A59334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997D-619A-4341-BF64-A5E1BBAD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7CBD-B910-48F7-BBD7-6A26E2E9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74B-73AF-4A28-81DF-BC6ECCB9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CD2-0CD5-4628-9258-72D0AD6F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D9D-9EFB-444F-988C-94808D56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7BF-8A46-4734-ABF7-33FB1E00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C1B-CEB4-43ED-9BC3-D87CF657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F04-B3B5-4860-8D67-7E884B1B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2f2f2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20709" r="0" b="20364"/>
          <a:stretch/>
        </p:blipFill>
        <p:spPr>
          <a:xfrm>
            <a:off x="152280" y="-14400"/>
            <a:ext cx="11503800" cy="687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0F3DFF-F8E1-45DB-8A84-F3EC8CDAB58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2f2f2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6"/>
          <p:cNvGrpSpPr/>
          <p:nvPr/>
        </p:nvGrpSpPr>
        <p:grpSpPr>
          <a:xfrm>
            <a:off x="3586320" y="1245960"/>
            <a:ext cx="6479640" cy="6479640"/>
            <a:chOff x="3586320" y="1245960"/>
            <a:chExt cx="6479640" cy="6479640"/>
          </a:xfrm>
        </p:grpSpPr>
        <p:sp>
          <p:nvSpPr>
            <p:cNvPr id="43" name="弧形 7"/>
            <p:cNvSpPr/>
            <p:nvPr/>
          </p:nvSpPr>
          <p:spPr>
            <a:xfrm>
              <a:off x="4305240" y="1964880"/>
              <a:ext cx="5041440" cy="5041440"/>
            </a:xfrm>
            <a:prstGeom prst="arc">
              <a:avLst>
                <a:gd name="adj1" fmla="val 13814770"/>
                <a:gd name="adj2" fmla="val 1284488"/>
              </a:avLst>
            </a:prstGeom>
            <a:noFill/>
            <a:ln w="381000">
              <a:solidFill>
                <a:srgbClr val="31b5d6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弧形 8"/>
            <p:cNvSpPr/>
            <p:nvPr/>
          </p:nvSpPr>
          <p:spPr>
            <a:xfrm>
              <a:off x="3946320" y="1605960"/>
              <a:ext cx="5759640" cy="5759640"/>
            </a:xfrm>
            <a:prstGeom prst="arc">
              <a:avLst>
                <a:gd name="adj1" fmla="val 13814770"/>
                <a:gd name="adj2" fmla="val 1284488"/>
              </a:avLst>
            </a:prstGeom>
            <a:noFill/>
            <a:ln w="381000">
              <a:solidFill>
                <a:srgbClr val="f784a5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弧形 9"/>
            <p:cNvSpPr/>
            <p:nvPr/>
          </p:nvSpPr>
          <p:spPr>
            <a:xfrm>
              <a:off x="3586320" y="1245960"/>
              <a:ext cx="6479640" cy="6479640"/>
            </a:xfrm>
            <a:prstGeom prst="arc">
              <a:avLst>
                <a:gd name="adj1" fmla="val 13814770"/>
                <a:gd name="adj2" fmla="val 1284488"/>
              </a:avLst>
            </a:prstGeom>
            <a:noFill/>
            <a:ln w="381000">
              <a:solidFill>
                <a:srgbClr val="000000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Oval 15"/>
          <p:cNvSpPr/>
          <p:nvPr/>
        </p:nvSpPr>
        <p:spPr>
          <a:xfrm>
            <a:off x="1608120" y="1405080"/>
            <a:ext cx="6132960" cy="4271400"/>
          </a:xfrm>
          <a:custGeom>
            <a:avLst/>
            <a:gdLst>
              <a:gd name="textAreaLeft" fmla="*/ 0 w 6132960"/>
              <a:gd name="textAreaRight" fmla="*/ 6133320 w 6132960"/>
              <a:gd name="textAreaTop" fmla="*/ 0 h 4271400"/>
              <a:gd name="textAreaBottom" fmla="*/ 4271760 h 4271400"/>
            </a:gdLst>
            <a:ahLst/>
            <a:rect l="textAreaLeft" t="textAreaTop" r="textAreaRight" b="textAreaBottom"/>
            <a:pathLst>
              <a:path w="2895600" h="2016782">
                <a:moveTo>
                  <a:pt x="1112520" y="0"/>
                </a:moveTo>
                <a:cubicBezTo>
                  <a:pt x="1435175" y="0"/>
                  <a:pt x="1705787" y="222820"/>
                  <a:pt x="1776897" y="523460"/>
                </a:cubicBezTo>
                <a:cubicBezTo>
                  <a:pt x="1830330" y="473455"/>
                  <a:pt x="1902261" y="443446"/>
                  <a:pt x="1981200" y="443446"/>
                </a:cubicBezTo>
                <a:cubicBezTo>
                  <a:pt x="2141537" y="443446"/>
                  <a:pt x="2272959" y="567249"/>
                  <a:pt x="2283615" y="724590"/>
                </a:cubicBezTo>
                <a:cubicBezTo>
                  <a:pt x="2337590" y="699394"/>
                  <a:pt x="2397838" y="685800"/>
                  <a:pt x="2461260" y="685800"/>
                </a:cubicBezTo>
                <a:cubicBezTo>
                  <a:pt x="2701139" y="685800"/>
                  <a:pt x="2895600" y="880261"/>
                  <a:pt x="2895600" y="1120140"/>
                </a:cubicBezTo>
                <a:cubicBezTo>
                  <a:pt x="2895600" y="1271517"/>
                  <a:pt x="2818161" y="1404807"/>
                  <a:pt x="2698117" y="1478280"/>
                </a:cubicBezTo>
                <a:cubicBezTo>
                  <a:pt x="2458910" y="1537585"/>
                  <a:pt x="2394049" y="1380358"/>
                  <a:pt x="2274446" y="1443080"/>
                </a:cubicBezTo>
                <a:cubicBezTo>
                  <a:pt x="2154843" y="1505802"/>
                  <a:pt x="2151967" y="1888906"/>
                  <a:pt x="1980496" y="1854611"/>
                </a:cubicBezTo>
                <a:cubicBezTo>
                  <a:pt x="1772281" y="1858285"/>
                  <a:pt x="1627756" y="1721107"/>
                  <a:pt x="1458734" y="1685588"/>
                </a:cubicBezTo>
                <a:cubicBezTo>
                  <a:pt x="1265216" y="1766425"/>
                  <a:pt x="1017807" y="2029757"/>
                  <a:pt x="878180" y="2016284"/>
                </a:cubicBezTo>
                <a:cubicBezTo>
                  <a:pt x="738553" y="2002811"/>
                  <a:pt x="756615" y="1679722"/>
                  <a:pt x="620974" y="1604752"/>
                </a:cubicBezTo>
                <a:cubicBezTo>
                  <a:pt x="473085" y="1609394"/>
                  <a:pt x="222944" y="1512917"/>
                  <a:pt x="64333" y="1478280"/>
                </a:cubicBezTo>
                <a:cubicBezTo>
                  <a:pt x="23189" y="1414624"/>
                  <a:pt x="0" y="1338670"/>
                  <a:pt x="0" y="1257300"/>
                </a:cubicBezTo>
                <a:cubicBezTo>
                  <a:pt x="0" y="1025837"/>
                  <a:pt x="187637" y="838200"/>
                  <a:pt x="419100" y="838200"/>
                </a:cubicBezTo>
                <a:lnTo>
                  <a:pt x="445895" y="840901"/>
                </a:lnTo>
                <a:cubicBezTo>
                  <a:pt x="432838" y="791300"/>
                  <a:pt x="426720" y="739265"/>
                  <a:pt x="426720" y="685800"/>
                </a:cubicBezTo>
                <a:cubicBezTo>
                  <a:pt x="426720" y="307043"/>
                  <a:pt x="733763" y="0"/>
                  <a:pt x="1112520" y="0"/>
                </a:cubicBezTo>
                <a:close/>
              </a:path>
            </a:pathLst>
          </a:custGeom>
          <a:solidFill>
            <a:schemeClr val="bg2"/>
          </a:solidFill>
          <a:ln w="571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48640" bIns="9144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Oval 15"/>
          <p:cNvSpPr/>
          <p:nvPr/>
        </p:nvSpPr>
        <p:spPr>
          <a:xfrm>
            <a:off x="8066880" y="4699080"/>
            <a:ext cx="4124520" cy="2158560"/>
          </a:xfrm>
          <a:custGeom>
            <a:avLst/>
            <a:gdLst>
              <a:gd name="textAreaLeft" fmla="*/ 0 w 4124520"/>
              <a:gd name="textAreaRight" fmla="*/ 4124880 w 4124520"/>
              <a:gd name="textAreaTop" fmla="*/ 0 h 2158560"/>
              <a:gd name="textAreaBottom" fmla="*/ 2158920 h 2158560"/>
            </a:gdLst>
            <a:ahLst/>
            <a:rect l="textAreaLeft" t="textAreaTop" r="textAreaRight" b="textAreaBottom"/>
            <a:pathLst>
              <a:path w="2895600" h="1478280">
                <a:moveTo>
                  <a:pt x="1112520" y="0"/>
                </a:moveTo>
                <a:cubicBezTo>
                  <a:pt x="1435175" y="0"/>
                  <a:pt x="1705787" y="222820"/>
                  <a:pt x="1776897" y="523460"/>
                </a:cubicBezTo>
                <a:cubicBezTo>
                  <a:pt x="1830330" y="473455"/>
                  <a:pt x="1902261" y="443446"/>
                  <a:pt x="1981200" y="443446"/>
                </a:cubicBezTo>
                <a:cubicBezTo>
                  <a:pt x="2141537" y="443446"/>
                  <a:pt x="2272959" y="567249"/>
                  <a:pt x="2283615" y="724590"/>
                </a:cubicBezTo>
                <a:cubicBezTo>
                  <a:pt x="2337590" y="699394"/>
                  <a:pt x="2397838" y="685800"/>
                  <a:pt x="2461260" y="685800"/>
                </a:cubicBezTo>
                <a:cubicBezTo>
                  <a:pt x="2701139" y="685800"/>
                  <a:pt x="2895600" y="880261"/>
                  <a:pt x="2895600" y="1120140"/>
                </a:cubicBezTo>
                <a:cubicBezTo>
                  <a:pt x="2895600" y="1271517"/>
                  <a:pt x="2818161" y="1404807"/>
                  <a:pt x="2698117" y="1478280"/>
                </a:cubicBezTo>
                <a:lnTo>
                  <a:pt x="64333" y="1478280"/>
                </a:lnTo>
                <a:cubicBezTo>
                  <a:pt x="23189" y="1414624"/>
                  <a:pt x="0" y="1338670"/>
                  <a:pt x="0" y="1257300"/>
                </a:cubicBezTo>
                <a:cubicBezTo>
                  <a:pt x="0" y="1025837"/>
                  <a:pt x="187637" y="838200"/>
                  <a:pt x="419100" y="838200"/>
                </a:cubicBezTo>
                <a:lnTo>
                  <a:pt x="445895" y="840901"/>
                </a:lnTo>
                <a:cubicBezTo>
                  <a:pt x="432838" y="791300"/>
                  <a:pt x="426720" y="739265"/>
                  <a:pt x="426720" y="685800"/>
                </a:cubicBezTo>
                <a:cubicBezTo>
                  <a:pt x="426720" y="307043"/>
                  <a:pt x="733763" y="0"/>
                  <a:pt x="1112520" y="0"/>
                </a:cubicBezTo>
                <a:close/>
              </a:path>
            </a:pathLst>
          </a:custGeom>
          <a:solidFill>
            <a:schemeClr val="bg2"/>
          </a:solidFill>
          <a:ln w="571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48640" bIns="9144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2f2f2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DCC570-3FDC-432B-AE37-287E3B71835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41.png"/><Relationship Id="rId17" Type="http://schemas.openxmlformats.org/officeDocument/2006/relationships/image" Target="../media/image42.png"/><Relationship Id="rId18" Type="http://schemas.openxmlformats.org/officeDocument/2006/relationships/image" Target="../media/image43.png"/><Relationship Id="rId19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47.png"/><Relationship Id="rId17" Type="http://schemas.openxmlformats.org/officeDocument/2006/relationships/image" Target="../media/image48.png"/><Relationship Id="rId18" Type="http://schemas.openxmlformats.org/officeDocument/2006/relationships/image" Target="../media/image49.png"/><Relationship Id="rId19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7.png"/><Relationship Id="rId17" Type="http://schemas.openxmlformats.org/officeDocument/2006/relationships/image" Target="../media/image38.png"/><Relationship Id="rId18" Type="http://schemas.openxmlformats.org/officeDocument/2006/relationships/image" Target="../media/image39.png"/><Relationship Id="rId19" Type="http://schemas.openxmlformats.org/officeDocument/2006/relationships/image" Target="../media/image40.png"/><Relationship Id="rId20" Type="http://schemas.openxmlformats.org/officeDocument/2006/relationships/slideLayout" Target="../slideLayouts/slideLayout26.xml"/><Relationship Id="rId2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diagramData" Target="../diagrams/data1.xml"/><Relationship Id="rId17" Type="http://schemas.openxmlformats.org/officeDocument/2006/relationships/diagramLayout" Target="../diagrams/layout1.xml"/><Relationship Id="rId18" Type="http://schemas.openxmlformats.org/officeDocument/2006/relationships/diagramQuickStyle" Target="../diagrams/quickStyle1.xml"/><Relationship Id="rId19" Type="http://schemas.openxmlformats.org/officeDocument/2006/relationships/diagramColors" Target="../diagrams/colors1.xml"/><Relationship Id="rId20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diagramData" Target="../diagrams/data2.xml"/><Relationship Id="rId17" Type="http://schemas.openxmlformats.org/officeDocument/2006/relationships/diagramLayout" Target="../diagrams/layout2.xml"/><Relationship Id="rId18" Type="http://schemas.openxmlformats.org/officeDocument/2006/relationships/diagramQuickStyle" Target="../diagrams/quickStyle2.xml"/><Relationship Id="rId19" Type="http://schemas.openxmlformats.org/officeDocument/2006/relationships/diagramColors" Target="../diagrams/colors2.xml"/><Relationship Id="rId20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5" descr=""/>
          <p:cNvPicPr/>
          <p:nvPr/>
        </p:nvPicPr>
        <p:blipFill>
          <a:blip r:embed="rId1"/>
          <a:stretch/>
        </p:blipFill>
        <p:spPr>
          <a:xfrm>
            <a:off x="5423760" y="3447360"/>
            <a:ext cx="1344240" cy="1547280"/>
          </a:xfrm>
          <a:prstGeom prst="rect">
            <a:avLst/>
          </a:prstGeom>
          <a:ln w="0">
            <a:noFill/>
          </a:ln>
        </p:spPr>
      </p:pic>
      <p:sp>
        <p:nvSpPr>
          <p:cNvPr id="134" name="任意多边形 67"/>
          <p:cNvSpPr/>
          <p:nvPr/>
        </p:nvSpPr>
        <p:spPr>
          <a:xfrm>
            <a:off x="0" y="4659480"/>
            <a:ext cx="12191760" cy="155196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1551960"/>
              <a:gd name="textAreaBottom" fmla="*/ 1552320 h 1551960"/>
            </a:gdLst>
            <a:ahLst/>
            <a:rect l="textAreaLeft" t="textAreaTop" r="textAreaRight" b="textAreaBottom"/>
            <a:pathLst>
              <a:path w="12192000" h="2711003">
                <a:moveTo>
                  <a:pt x="0" y="0"/>
                </a:moveTo>
                <a:lnTo>
                  <a:pt x="12192000" y="0"/>
                </a:lnTo>
                <a:lnTo>
                  <a:pt x="12192000" y="2711003"/>
                </a:lnTo>
                <a:lnTo>
                  <a:pt x="0" y="2711003"/>
                </a:lnTo>
                <a:close/>
              </a:path>
            </a:pathLst>
          </a:cu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文本框 69"/>
          <p:cNvSpPr/>
          <p:nvPr/>
        </p:nvSpPr>
        <p:spPr>
          <a:xfrm>
            <a:off x="1765800" y="4780080"/>
            <a:ext cx="9493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大数据治国时代的来临通用</a:t>
            </a:r>
            <a:r>
              <a:rPr b="0" lang="en-US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01"/>
          <p:cNvSpPr/>
          <p:nvPr/>
        </p:nvSpPr>
        <p:spPr>
          <a:xfrm>
            <a:off x="672480" y="6344280"/>
            <a:ext cx="422316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200" spc="-1" strike="noStrike">
                <a:solidFill>
                  <a:srgbClr val="181717"/>
                </a:solidFill>
                <a:latin typeface="方正书宋简体"/>
                <a:ea typeface="方正书宋简体"/>
              </a:rPr>
              <a:t>徐继华 冯启娜 陈贞汝◎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17"/>
          <p:cNvGrpSpPr/>
          <p:nvPr/>
        </p:nvGrpSpPr>
        <p:grpSpPr>
          <a:xfrm>
            <a:off x="1773720" y="144720"/>
            <a:ext cx="8837280" cy="3313800"/>
            <a:chOff x="1773720" y="144720"/>
            <a:chExt cx="8837280" cy="3313800"/>
          </a:xfrm>
        </p:grpSpPr>
        <p:grpSp>
          <p:nvGrpSpPr>
            <p:cNvPr id="138" name="组合 7187"/>
            <p:cNvGrpSpPr/>
            <p:nvPr/>
          </p:nvGrpSpPr>
          <p:grpSpPr>
            <a:xfrm>
              <a:off x="4530240" y="144720"/>
              <a:ext cx="776160" cy="892800"/>
              <a:chOff x="4530240" y="144720"/>
              <a:chExt cx="776160" cy="892800"/>
            </a:xfrm>
          </p:grpSpPr>
          <p:pic>
            <p:nvPicPr>
              <p:cNvPr id="139" name="图片 7167" descr=""/>
              <p:cNvPicPr/>
              <p:nvPr/>
            </p:nvPicPr>
            <p:blipFill>
              <a:blip r:embed="rId2"/>
              <a:srcRect l="7617" t="-1417" r="6200" b="16888"/>
              <a:stretch/>
            </p:blipFill>
            <p:spPr>
              <a:xfrm rot="20997000">
                <a:off x="4601160" y="285120"/>
                <a:ext cx="654480" cy="63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椭圆 24"/>
              <p:cNvSpPr/>
              <p:nvPr/>
            </p:nvSpPr>
            <p:spPr>
              <a:xfrm rot="20997000">
                <a:off x="4594320" y="19440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41" name="组合 7188"/>
            <p:cNvGrpSpPr/>
            <p:nvPr/>
          </p:nvGrpSpPr>
          <p:grpSpPr>
            <a:xfrm>
              <a:off x="9366840" y="1081080"/>
              <a:ext cx="1004760" cy="1019880"/>
              <a:chOff x="9366840" y="1081080"/>
              <a:chExt cx="1004760" cy="1019880"/>
            </a:xfrm>
          </p:grpSpPr>
          <p:pic>
            <p:nvPicPr>
              <p:cNvPr id="142" name="图片 28" descr=""/>
              <p:cNvPicPr/>
              <p:nvPr/>
            </p:nvPicPr>
            <p:blipFill>
              <a:blip r:embed="rId3"/>
              <a:srcRect l="16837" t="0" r="13868" b="27647"/>
              <a:stretch/>
            </p:blipFill>
            <p:spPr>
              <a:xfrm rot="2455800">
                <a:off x="9568800" y="1261800"/>
                <a:ext cx="642240" cy="66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椭圆 25"/>
              <p:cNvSpPr/>
              <p:nvPr/>
            </p:nvSpPr>
            <p:spPr>
              <a:xfrm rot="2455800">
                <a:off x="9547920" y="119448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44" name="组合 7189"/>
            <p:cNvGrpSpPr/>
            <p:nvPr/>
          </p:nvGrpSpPr>
          <p:grpSpPr>
            <a:xfrm>
              <a:off x="3790440" y="984240"/>
              <a:ext cx="852840" cy="950760"/>
              <a:chOff x="3790440" y="984240"/>
              <a:chExt cx="852840" cy="950760"/>
            </a:xfrm>
          </p:grpSpPr>
          <p:pic>
            <p:nvPicPr>
              <p:cNvPr id="145" name="图片 7174" descr=""/>
              <p:cNvPicPr/>
              <p:nvPr/>
            </p:nvPicPr>
            <p:blipFill>
              <a:blip r:embed="rId4"/>
              <a:srcRect l="17068" t="11812" r="20526" b="18534"/>
              <a:stretch/>
            </p:blipFill>
            <p:spPr>
              <a:xfrm rot="20539200">
                <a:off x="3921480" y="1118880"/>
                <a:ext cx="575280" cy="63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椭圆 33"/>
              <p:cNvSpPr/>
              <p:nvPr/>
            </p:nvSpPr>
            <p:spPr>
              <a:xfrm rot="20539200">
                <a:off x="3895560" y="106308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47" name="组合 7190"/>
            <p:cNvGrpSpPr/>
            <p:nvPr/>
          </p:nvGrpSpPr>
          <p:grpSpPr>
            <a:xfrm>
              <a:off x="6927120" y="379800"/>
              <a:ext cx="774720" cy="895680"/>
              <a:chOff x="6927120" y="379800"/>
              <a:chExt cx="774720" cy="895680"/>
            </a:xfrm>
          </p:grpSpPr>
          <p:pic>
            <p:nvPicPr>
              <p:cNvPr id="148" name="图片 7170" descr=""/>
              <p:cNvPicPr/>
              <p:nvPr/>
            </p:nvPicPr>
            <p:blipFill>
              <a:blip r:embed="rId5"/>
              <a:stretch/>
            </p:blipFill>
            <p:spPr>
              <a:xfrm rot="622200">
                <a:off x="6994080" y="510840"/>
                <a:ext cx="642240" cy="63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椭圆 36"/>
              <p:cNvSpPr/>
              <p:nvPr/>
            </p:nvSpPr>
            <p:spPr>
              <a:xfrm rot="622200">
                <a:off x="6993360" y="43092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50" name="组合 13"/>
            <p:cNvGrpSpPr/>
            <p:nvPr/>
          </p:nvGrpSpPr>
          <p:grpSpPr>
            <a:xfrm>
              <a:off x="2657160" y="536040"/>
              <a:ext cx="882000" cy="969480"/>
              <a:chOff x="2657160" y="536040"/>
              <a:chExt cx="882000" cy="969480"/>
            </a:xfrm>
          </p:grpSpPr>
          <p:sp>
            <p:nvSpPr>
              <p:cNvPr id="151" name="椭圆 44"/>
              <p:cNvSpPr/>
              <p:nvPr/>
            </p:nvSpPr>
            <p:spPr>
              <a:xfrm rot="20351400">
                <a:off x="2777040" y="62424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52" name="图片 12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2783160" y="720360"/>
                <a:ext cx="642240" cy="63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3" name="组合 7172"/>
            <p:cNvGrpSpPr/>
            <p:nvPr/>
          </p:nvGrpSpPr>
          <p:grpSpPr>
            <a:xfrm>
              <a:off x="8164800" y="1334160"/>
              <a:ext cx="964080" cy="1012680"/>
              <a:chOff x="8164800" y="1334160"/>
              <a:chExt cx="964080" cy="1012680"/>
            </a:xfrm>
          </p:grpSpPr>
          <p:sp>
            <p:nvSpPr>
              <p:cNvPr id="154" name="椭圆 35"/>
              <p:cNvSpPr/>
              <p:nvPr/>
            </p:nvSpPr>
            <p:spPr>
              <a:xfrm rot="1912800">
                <a:off x="8325360" y="144360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55" name="图片 14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8363880" y="1472400"/>
                <a:ext cx="642240" cy="63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6" name="组合 7175"/>
            <p:cNvGrpSpPr/>
            <p:nvPr/>
          </p:nvGrpSpPr>
          <p:grpSpPr>
            <a:xfrm>
              <a:off x="7129440" y="1162440"/>
              <a:ext cx="897480" cy="978840"/>
              <a:chOff x="7129440" y="1162440"/>
              <a:chExt cx="897480" cy="978840"/>
            </a:xfrm>
          </p:grpSpPr>
          <p:sp>
            <p:nvSpPr>
              <p:cNvPr id="157" name="椭圆 45"/>
              <p:cNvSpPr/>
              <p:nvPr/>
            </p:nvSpPr>
            <p:spPr>
              <a:xfrm rot="1354200">
                <a:off x="7256880" y="125496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58" name="图片 16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7321320" y="1316880"/>
                <a:ext cx="487800" cy="63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" name="组合 7171"/>
            <p:cNvGrpSpPr/>
            <p:nvPr/>
          </p:nvGrpSpPr>
          <p:grpSpPr>
            <a:xfrm>
              <a:off x="3153240" y="1645200"/>
              <a:ext cx="944640" cy="1004040"/>
              <a:chOff x="3153240" y="1645200"/>
              <a:chExt cx="944640" cy="1004040"/>
            </a:xfrm>
          </p:grpSpPr>
          <p:sp>
            <p:nvSpPr>
              <p:cNvPr id="160" name="椭圆 23"/>
              <p:cNvSpPr/>
              <p:nvPr/>
            </p:nvSpPr>
            <p:spPr>
              <a:xfrm rot="19874400">
                <a:off x="3304080" y="175032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61" name="图片 22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3294000" y="1821960"/>
                <a:ext cx="642240" cy="63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" name="组合 7173"/>
            <p:cNvGrpSpPr/>
            <p:nvPr/>
          </p:nvGrpSpPr>
          <p:grpSpPr>
            <a:xfrm>
              <a:off x="1997640" y="2431440"/>
              <a:ext cx="987840" cy="1019160"/>
              <a:chOff x="1997640" y="2431440"/>
              <a:chExt cx="987840" cy="1019160"/>
            </a:xfrm>
          </p:grpSpPr>
          <p:sp>
            <p:nvSpPr>
              <p:cNvPr id="163" name="椭圆 40"/>
              <p:cNvSpPr/>
              <p:nvPr/>
            </p:nvSpPr>
            <p:spPr>
              <a:xfrm rot="19414200">
                <a:off x="2170080" y="254448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64" name="图片 7169" descr=""/>
              <p:cNvPicPr/>
              <p:nvPr/>
            </p:nvPicPr>
            <p:blipFill>
              <a:blip r:embed="rId10"/>
              <a:stretch/>
            </p:blipFill>
            <p:spPr>
              <a:xfrm rot="19414200">
                <a:off x="2158920" y="2599920"/>
                <a:ext cx="642240" cy="63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" name="组合 7181"/>
            <p:cNvGrpSpPr/>
            <p:nvPr/>
          </p:nvGrpSpPr>
          <p:grpSpPr>
            <a:xfrm>
              <a:off x="8726400" y="2124000"/>
              <a:ext cx="1022040" cy="983160"/>
              <a:chOff x="8726400" y="2124000"/>
              <a:chExt cx="1022040" cy="983160"/>
            </a:xfrm>
          </p:grpSpPr>
          <p:sp>
            <p:nvSpPr>
              <p:cNvPr id="166" name="椭圆 34"/>
              <p:cNvSpPr/>
              <p:nvPr/>
            </p:nvSpPr>
            <p:spPr>
              <a:xfrm rot="3261600">
                <a:off x="8920080" y="2214000"/>
                <a:ext cx="634320" cy="8028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67" name="图片 7176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8926200" y="2302920"/>
                <a:ext cx="634320" cy="642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8" name="组合 7183"/>
            <p:cNvGrpSpPr/>
            <p:nvPr/>
          </p:nvGrpSpPr>
          <p:grpSpPr>
            <a:xfrm>
              <a:off x="8361000" y="387360"/>
              <a:ext cx="960840" cy="1011600"/>
              <a:chOff x="8361000" y="387360"/>
              <a:chExt cx="960840" cy="1011600"/>
            </a:xfrm>
          </p:grpSpPr>
          <p:sp>
            <p:nvSpPr>
              <p:cNvPr id="169" name="椭圆 32"/>
              <p:cNvSpPr/>
              <p:nvPr/>
            </p:nvSpPr>
            <p:spPr>
              <a:xfrm rot="1881600">
                <a:off x="8520120" y="49644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70" name="图片 7178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8530200" y="567360"/>
                <a:ext cx="642240" cy="63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1" name="组合 7185"/>
            <p:cNvGrpSpPr/>
            <p:nvPr/>
          </p:nvGrpSpPr>
          <p:grpSpPr>
            <a:xfrm>
              <a:off x="9587880" y="2431800"/>
              <a:ext cx="1023120" cy="997920"/>
              <a:chOff x="9587880" y="2431800"/>
              <a:chExt cx="1023120" cy="997920"/>
            </a:xfrm>
          </p:grpSpPr>
          <p:sp>
            <p:nvSpPr>
              <p:cNvPr id="172" name="椭圆 1"/>
              <p:cNvSpPr/>
              <p:nvPr/>
            </p:nvSpPr>
            <p:spPr>
              <a:xfrm rot="3066600">
                <a:off x="9782280" y="2529000"/>
                <a:ext cx="634320" cy="8028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73" name="图片 717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9781560" y="2608560"/>
                <a:ext cx="634320" cy="642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组合 7182"/>
            <p:cNvGrpSpPr/>
            <p:nvPr/>
          </p:nvGrpSpPr>
          <p:grpSpPr>
            <a:xfrm>
              <a:off x="4539240" y="1408680"/>
              <a:ext cx="798840" cy="913320"/>
              <a:chOff x="4539240" y="1408680"/>
              <a:chExt cx="798840" cy="913320"/>
            </a:xfrm>
          </p:grpSpPr>
          <p:sp>
            <p:nvSpPr>
              <p:cNvPr id="175" name="椭圆 26"/>
              <p:cNvSpPr/>
              <p:nvPr/>
            </p:nvSpPr>
            <p:spPr>
              <a:xfrm rot="20849400">
                <a:off x="4617360" y="146844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76" name="图片 7180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4619880" y="1547640"/>
                <a:ext cx="642240" cy="63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7" name="组合 7184"/>
            <p:cNvGrpSpPr/>
            <p:nvPr/>
          </p:nvGrpSpPr>
          <p:grpSpPr>
            <a:xfrm>
              <a:off x="1773720" y="1375200"/>
              <a:ext cx="957240" cy="1010160"/>
              <a:chOff x="1773720" y="1375200"/>
              <a:chExt cx="957240" cy="1010160"/>
            </a:xfrm>
          </p:grpSpPr>
          <p:pic>
            <p:nvPicPr>
              <p:cNvPr id="178" name="图片 7177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1918440" y="1563480"/>
                <a:ext cx="642240" cy="63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椭圆 65"/>
              <p:cNvSpPr/>
              <p:nvPr/>
            </p:nvSpPr>
            <p:spPr>
              <a:xfrm rot="19756200">
                <a:off x="1931040" y="1483560"/>
                <a:ext cx="642240" cy="79308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180" name="直接连接符 7192"/>
            <p:cNvCxnSpPr>
              <a:stCxn id="160" idx="4"/>
              <a:endCxn id="133" idx="0"/>
            </p:cNvCxnSpPr>
            <p:nvPr/>
          </p:nvCxnSpPr>
          <p:spPr>
            <a:xfrm>
              <a:off x="3744000" y="2363400"/>
              <a:ext cx="2352240" cy="108432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1" name="直接连接符 48"/>
            <p:cNvCxnSpPr>
              <a:stCxn id="179" idx="4"/>
            </p:cNvCxnSpPr>
            <p:nvPr/>
          </p:nvCxnSpPr>
          <p:spPr>
            <a:xfrm>
              <a:off x="2377800" y="2091600"/>
              <a:ext cx="3717360" cy="1367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2" name="直接连接符 51"/>
            <p:cNvCxnSpPr>
              <a:stCxn id="151" idx="4"/>
              <a:endCxn id="133" idx="0"/>
            </p:cNvCxnSpPr>
            <p:nvPr/>
          </p:nvCxnSpPr>
          <p:spPr>
            <a:xfrm>
              <a:off x="3185640" y="1250640"/>
              <a:ext cx="2910600" cy="21970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3" name="直接连接符 53"/>
            <p:cNvCxnSpPr>
              <a:stCxn id="146" idx="4"/>
              <a:endCxn id="133" idx="0"/>
            </p:cNvCxnSpPr>
            <p:nvPr/>
          </p:nvCxnSpPr>
          <p:spPr>
            <a:xfrm>
              <a:off x="4291560" y="1694160"/>
              <a:ext cx="1804680" cy="17535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4" name="直接连接符 55"/>
            <p:cNvCxnSpPr>
              <a:stCxn id="140" idx="4"/>
              <a:endCxn id="133" idx="0"/>
            </p:cNvCxnSpPr>
            <p:nvPr/>
          </p:nvCxnSpPr>
          <p:spPr>
            <a:xfrm>
              <a:off x="4958640" y="833760"/>
              <a:ext cx="1137600" cy="2613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5" name="直接连接符 57"/>
            <p:cNvCxnSpPr>
              <a:stCxn id="163" idx="4"/>
              <a:endCxn id="133" idx="0"/>
            </p:cNvCxnSpPr>
            <p:nvPr/>
          </p:nvCxnSpPr>
          <p:spPr>
            <a:xfrm>
              <a:off x="2637360" y="3139560"/>
              <a:ext cx="3458880" cy="3081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6" name="直接连接符 59"/>
            <p:cNvCxnSpPr>
              <a:stCxn id="175" idx="4"/>
              <a:endCxn id="133" idx="0"/>
            </p:cNvCxnSpPr>
            <p:nvPr/>
          </p:nvCxnSpPr>
          <p:spPr>
            <a:xfrm>
              <a:off x="4991760" y="2105640"/>
              <a:ext cx="1104480" cy="13420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7" name="直接连接符 61"/>
            <p:cNvCxnSpPr>
              <a:stCxn id="149" idx="4"/>
              <a:endCxn id="133" idx="0"/>
            </p:cNvCxnSpPr>
            <p:nvPr/>
          </p:nvCxnSpPr>
          <p:spPr>
            <a:xfrm flipH="1">
              <a:off x="6095880" y="1069920"/>
              <a:ext cx="1174680" cy="2377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8" name="直接连接符 66"/>
            <p:cNvCxnSpPr>
              <a:stCxn id="157" idx="4"/>
              <a:endCxn id="133" idx="0"/>
            </p:cNvCxnSpPr>
            <p:nvPr/>
          </p:nvCxnSpPr>
          <p:spPr>
            <a:xfrm flipH="1">
              <a:off x="6095880" y="1879200"/>
              <a:ext cx="1388520" cy="156852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89" name="直接连接符 68"/>
            <p:cNvCxnSpPr>
              <a:stCxn id="169" idx="4"/>
              <a:endCxn id="133" idx="0"/>
            </p:cNvCxnSpPr>
            <p:nvPr/>
          </p:nvCxnSpPr>
          <p:spPr>
            <a:xfrm flipH="1">
              <a:off x="6095880" y="1103400"/>
              <a:ext cx="2618640" cy="234432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90" name="直接连接符 72"/>
            <p:cNvCxnSpPr>
              <a:stCxn id="154" idx="4"/>
              <a:endCxn id="133" idx="0"/>
            </p:cNvCxnSpPr>
            <p:nvPr/>
          </p:nvCxnSpPr>
          <p:spPr>
            <a:xfrm flipH="1">
              <a:off x="6095880" y="2049480"/>
              <a:ext cx="2421720" cy="1398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91" name="直接连接符 74"/>
            <p:cNvCxnSpPr>
              <a:stCxn id="143" idx="4"/>
              <a:endCxn id="133" idx="0"/>
            </p:cNvCxnSpPr>
            <p:nvPr/>
          </p:nvCxnSpPr>
          <p:spPr>
            <a:xfrm flipH="1">
              <a:off x="6095880" y="1776960"/>
              <a:ext cx="3612960" cy="1670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92" name="直接连接符 76"/>
            <p:cNvCxnSpPr>
              <a:stCxn id="172" idx="4"/>
              <a:endCxn id="133" idx="0"/>
            </p:cNvCxnSpPr>
            <p:nvPr/>
          </p:nvCxnSpPr>
          <p:spPr>
            <a:xfrm flipH="1">
              <a:off x="6095880" y="3077280"/>
              <a:ext cx="3822480" cy="3704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93" name="直接连接符 78"/>
            <p:cNvCxnSpPr>
              <a:stCxn id="166" idx="4"/>
              <a:endCxn id="133" idx="0"/>
            </p:cNvCxnSpPr>
            <p:nvPr/>
          </p:nvCxnSpPr>
          <p:spPr>
            <a:xfrm flipH="1">
              <a:off x="6095880" y="2751480"/>
              <a:ext cx="2952000" cy="696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pic>
          <p:nvPicPr>
            <p:cNvPr id="194" name="图片 90" descr=""/>
            <p:cNvPicPr/>
            <p:nvPr/>
          </p:nvPicPr>
          <p:blipFill>
            <a:blip r:embed="rId16"/>
            <a:stretch/>
          </p:blipFill>
          <p:spPr>
            <a:xfrm>
              <a:off x="5615640" y="842400"/>
              <a:ext cx="961200" cy="1181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95" name="直接连接符 8"/>
            <p:cNvCxnSpPr>
              <a:stCxn id="133" idx="0"/>
              <a:endCxn id="194" idx="2"/>
            </p:cNvCxnSpPr>
            <p:nvPr/>
          </p:nvCxnSpPr>
          <p:spPr>
            <a:xfrm flipV="1">
              <a:off x="6095880" y="2024280"/>
              <a:ext cx="720" cy="14234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19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1012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1013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4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15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1016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18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1019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21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1022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3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24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1025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6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27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1028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29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0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1031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32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3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1034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35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6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1037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38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9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1040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41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2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1043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44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5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1046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47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8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1049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50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1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1052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053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1055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6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1057" name="直接连接符 289"/>
            <p:cNvCxnSpPr>
              <a:stCxn id="1037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58" name="直接连接符 290"/>
            <p:cNvCxnSpPr>
              <a:stCxn id="1056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59" name="直接连接符 291"/>
            <p:cNvCxnSpPr>
              <a:stCxn id="1028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0" name="直接连接符 292"/>
            <p:cNvCxnSpPr>
              <a:stCxn id="1020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1" name="直接连接符 293"/>
            <p:cNvCxnSpPr>
              <a:stCxn id="1014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2" name="直接连接符 294"/>
            <p:cNvCxnSpPr>
              <a:stCxn id="1040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3" name="直接连接符 295"/>
            <p:cNvCxnSpPr>
              <a:stCxn id="1052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4" name="直接连接符 296"/>
            <p:cNvCxnSpPr>
              <a:stCxn id="1023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5" name="直接连接符 297"/>
            <p:cNvCxnSpPr>
              <a:stCxn id="1026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6" name="直接连接符 298"/>
            <p:cNvCxnSpPr>
              <a:stCxn id="1034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7" name="直接连接符 299"/>
            <p:cNvCxnSpPr>
              <a:stCxn id="1046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8" name="直接连接符 300"/>
            <p:cNvCxnSpPr>
              <a:stCxn id="1031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69" name="直接连接符 301"/>
            <p:cNvCxnSpPr>
              <a:stCxn id="1017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70" name="直接连接符 302"/>
            <p:cNvCxnSpPr>
              <a:stCxn id="1049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071" name="直接连接符 303"/>
            <p:cNvCxnSpPr>
              <a:stCxn id="1043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1072" name="矩形 267"/>
          <p:cNvSpPr/>
          <p:nvPr/>
        </p:nvSpPr>
        <p:spPr>
          <a:xfrm flipV="1">
            <a:off x="65520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矩形 268"/>
          <p:cNvSpPr/>
          <p:nvPr/>
        </p:nvSpPr>
        <p:spPr>
          <a:xfrm flipV="1">
            <a:off x="21520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矩形 269"/>
          <p:cNvSpPr/>
          <p:nvPr/>
        </p:nvSpPr>
        <p:spPr>
          <a:xfrm flipV="1">
            <a:off x="36489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270"/>
          <p:cNvSpPr/>
          <p:nvPr/>
        </p:nvSpPr>
        <p:spPr>
          <a:xfrm flipV="1">
            <a:off x="51454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矩形 271"/>
          <p:cNvSpPr/>
          <p:nvPr/>
        </p:nvSpPr>
        <p:spPr>
          <a:xfrm flipV="1">
            <a:off x="66423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矩形 272"/>
          <p:cNvSpPr/>
          <p:nvPr/>
        </p:nvSpPr>
        <p:spPr>
          <a:xfrm flipV="1">
            <a:off x="8138880" y="1031040"/>
            <a:ext cx="1496520" cy="66600"/>
          </a:xfrm>
          <a:prstGeom prst="rect">
            <a:avLst/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8" name="矩形 273"/>
          <p:cNvSpPr/>
          <p:nvPr/>
        </p:nvSpPr>
        <p:spPr>
          <a:xfrm flipV="1">
            <a:off x="96357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9" name="文本框 335"/>
          <p:cNvSpPr/>
          <p:nvPr/>
        </p:nvSpPr>
        <p:spPr>
          <a:xfrm>
            <a:off x="4048920" y="308520"/>
            <a:ext cx="322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智慧政府：大数据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145"/>
          <p:cNvSpPr/>
          <p:nvPr/>
        </p:nvSpPr>
        <p:spPr>
          <a:xfrm>
            <a:off x="1905840" y="1264320"/>
            <a:ext cx="383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62626"/>
                </a:solidFill>
                <a:latin typeface="华康俪金黑W8(P)"/>
                <a:ea typeface="华康俪金黑W8(P)"/>
              </a:rPr>
              <a:t>应用一：快速反应的公共安全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椭圆 150"/>
          <p:cNvSpPr/>
          <p:nvPr/>
        </p:nvSpPr>
        <p:spPr>
          <a:xfrm>
            <a:off x="1253520" y="2083680"/>
            <a:ext cx="1223640" cy="122364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57150">
            <a:solidFill>
              <a:srgbClr val="f784a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2" name="矩形 8"/>
          <p:cNvSpPr/>
          <p:nvPr/>
        </p:nvSpPr>
        <p:spPr>
          <a:xfrm>
            <a:off x="2838960" y="2184840"/>
            <a:ext cx="9684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椭圆 155"/>
          <p:cNvSpPr/>
          <p:nvPr/>
        </p:nvSpPr>
        <p:spPr>
          <a:xfrm>
            <a:off x="2372400" y="3498120"/>
            <a:ext cx="1223640" cy="122364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57150">
            <a:solidFill>
              <a:srgbClr val="31b5d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4" name="椭圆 160"/>
          <p:cNvSpPr/>
          <p:nvPr/>
        </p:nvSpPr>
        <p:spPr>
          <a:xfrm>
            <a:off x="1253520" y="4984560"/>
            <a:ext cx="1223640" cy="1223640"/>
          </a:xfrm>
          <a:prstGeom prst="ellipse">
            <a:avLst/>
          </a:prstGeom>
          <a:blipFill rotWithShape="0">
            <a:blip r:embed="rId18"/>
            <a:srcRect/>
            <a:tile tx="0" ty="85352" sx="99970" sy="99970" algn="tl"/>
          </a:blipFill>
          <a:ln w="5715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085" name="直接连接符 8"/>
          <p:cNvCxnSpPr/>
          <p:nvPr/>
        </p:nvCxnSpPr>
        <p:spPr>
          <a:xfrm>
            <a:off x="2705760" y="2086560"/>
            <a:ext cx="360" cy="1260360"/>
          </a:xfrm>
          <a:prstGeom prst="straightConnector1">
            <a:avLst/>
          </a:prstGeom>
          <a:ln w="57150">
            <a:solidFill>
              <a:srgbClr val="f784a5"/>
            </a:solidFill>
          </a:ln>
        </p:spPr>
      </p:cxnSp>
      <p:cxnSp>
        <p:nvCxnSpPr>
          <p:cNvPr id="1086" name="直接连接符 167"/>
          <p:cNvCxnSpPr/>
          <p:nvPr/>
        </p:nvCxnSpPr>
        <p:spPr>
          <a:xfrm>
            <a:off x="3824280" y="3491280"/>
            <a:ext cx="360" cy="1260360"/>
          </a:xfrm>
          <a:prstGeom prst="straightConnector1">
            <a:avLst/>
          </a:prstGeom>
          <a:ln w="57150">
            <a:solidFill>
              <a:srgbClr val="31b5d6"/>
            </a:solidFill>
          </a:ln>
        </p:spPr>
      </p:cxnSp>
      <p:cxnSp>
        <p:nvCxnSpPr>
          <p:cNvPr id="1087" name="直接连接符 168"/>
          <p:cNvCxnSpPr/>
          <p:nvPr/>
        </p:nvCxnSpPr>
        <p:spPr>
          <a:xfrm>
            <a:off x="2712960" y="4984560"/>
            <a:ext cx="360" cy="1260360"/>
          </a:xfrm>
          <a:prstGeom prst="straightConnector1">
            <a:avLst/>
          </a:prstGeom>
          <a:ln w="57150">
            <a:solidFill>
              <a:srgbClr val="000000"/>
            </a:solidFill>
          </a:ln>
        </p:spPr>
      </p:cxnSp>
      <p:sp>
        <p:nvSpPr>
          <p:cNvPr id="1088" name="矩形 8"/>
          <p:cNvSpPr/>
          <p:nvPr/>
        </p:nvSpPr>
        <p:spPr>
          <a:xfrm>
            <a:off x="3579480" y="2278800"/>
            <a:ext cx="8163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互联网技术成为食品安全监管的“千里眼”，通过构建食品安全互联网，实现对食品的“高效、节能、安全、环保”的“管、控、营”一体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8"/>
          <p:cNvSpPr/>
          <p:nvPr/>
        </p:nvSpPr>
        <p:spPr>
          <a:xfrm>
            <a:off x="3912840" y="3540600"/>
            <a:ext cx="968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击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8"/>
          <p:cNvSpPr/>
          <p:nvPr/>
        </p:nvSpPr>
        <p:spPr>
          <a:xfrm>
            <a:off x="2838960" y="5093640"/>
            <a:ext cx="968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急救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8"/>
          <p:cNvSpPr/>
          <p:nvPr/>
        </p:nvSpPr>
        <p:spPr>
          <a:xfrm>
            <a:off x="4646160" y="3679200"/>
            <a:ext cx="68922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眼、互联网等应用，让警方及时掌握社会治安动态；数据模型更有助于更针对性地锁定犯罪易发点，高效打击犯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矩形 8"/>
          <p:cNvSpPr/>
          <p:nvPr/>
        </p:nvSpPr>
        <p:spPr>
          <a:xfrm>
            <a:off x="3648600" y="5168520"/>
            <a:ext cx="80935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采集和处理的采集与共享，现场数据迅速同步给涉及救援需求的所有部门，便于组织协调力量，整合资源，最快速度进行救援，减少损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1094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1095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6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97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1098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00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1101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03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1104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06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1107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09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1110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11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2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1113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14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5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1116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17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8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1119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20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1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1122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23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4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1125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26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7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1128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29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0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1131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32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3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1134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35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6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1137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8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1139" name="直接连接符 289"/>
            <p:cNvCxnSpPr>
              <a:stCxn id="1119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0" name="直接连接符 290"/>
            <p:cNvCxnSpPr>
              <a:stCxn id="1138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1" name="直接连接符 291"/>
            <p:cNvCxnSpPr>
              <a:stCxn id="1110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2" name="直接连接符 292"/>
            <p:cNvCxnSpPr>
              <a:stCxn id="1102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3" name="直接连接符 293"/>
            <p:cNvCxnSpPr>
              <a:stCxn id="1096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4" name="直接连接符 294"/>
            <p:cNvCxnSpPr>
              <a:stCxn id="1122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5" name="直接连接符 295"/>
            <p:cNvCxnSpPr>
              <a:stCxn id="1134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6" name="直接连接符 296"/>
            <p:cNvCxnSpPr>
              <a:stCxn id="1105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7" name="直接连接符 297"/>
            <p:cNvCxnSpPr>
              <a:stCxn id="1108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8" name="直接连接符 298"/>
            <p:cNvCxnSpPr>
              <a:stCxn id="1116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49" name="直接连接符 299"/>
            <p:cNvCxnSpPr>
              <a:stCxn id="1128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50" name="直接连接符 300"/>
            <p:cNvCxnSpPr>
              <a:stCxn id="1113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51" name="直接连接符 301"/>
            <p:cNvCxnSpPr>
              <a:stCxn id="1099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52" name="直接连接符 302"/>
            <p:cNvCxnSpPr>
              <a:stCxn id="1131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153" name="直接连接符 303"/>
            <p:cNvCxnSpPr>
              <a:stCxn id="1125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1154" name="矩形 267"/>
          <p:cNvSpPr/>
          <p:nvPr/>
        </p:nvSpPr>
        <p:spPr>
          <a:xfrm flipV="1">
            <a:off x="65520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矩形 268"/>
          <p:cNvSpPr/>
          <p:nvPr/>
        </p:nvSpPr>
        <p:spPr>
          <a:xfrm flipV="1">
            <a:off x="21520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矩形 269"/>
          <p:cNvSpPr/>
          <p:nvPr/>
        </p:nvSpPr>
        <p:spPr>
          <a:xfrm flipV="1">
            <a:off x="36489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矩形 270"/>
          <p:cNvSpPr/>
          <p:nvPr/>
        </p:nvSpPr>
        <p:spPr>
          <a:xfrm flipV="1">
            <a:off x="51454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矩形 271"/>
          <p:cNvSpPr/>
          <p:nvPr/>
        </p:nvSpPr>
        <p:spPr>
          <a:xfrm flipV="1">
            <a:off x="66423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矩形 272"/>
          <p:cNvSpPr/>
          <p:nvPr/>
        </p:nvSpPr>
        <p:spPr>
          <a:xfrm flipV="1">
            <a:off x="8138880" y="1031040"/>
            <a:ext cx="1496520" cy="66600"/>
          </a:xfrm>
          <a:prstGeom prst="rect">
            <a:avLst/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0" name="矩形 273"/>
          <p:cNvSpPr/>
          <p:nvPr/>
        </p:nvSpPr>
        <p:spPr>
          <a:xfrm flipV="1">
            <a:off x="96357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1" name="文本框 335"/>
          <p:cNvSpPr/>
          <p:nvPr/>
        </p:nvSpPr>
        <p:spPr>
          <a:xfrm>
            <a:off x="4048920" y="308520"/>
            <a:ext cx="322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智慧政府：大数据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145"/>
          <p:cNvSpPr/>
          <p:nvPr/>
        </p:nvSpPr>
        <p:spPr>
          <a:xfrm>
            <a:off x="1822320" y="1264320"/>
            <a:ext cx="3594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62626"/>
                </a:solidFill>
                <a:latin typeface="华康俪金黑W8(P)"/>
                <a:ea typeface="华康俪金黑W8(P)"/>
              </a:rPr>
              <a:t>应用二：数据化调控的公共交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274"/>
          <p:cNvSpPr/>
          <p:nvPr/>
        </p:nvSpPr>
        <p:spPr>
          <a:xfrm>
            <a:off x="4299120" y="3704400"/>
            <a:ext cx="1439640" cy="1439640"/>
          </a:xfrm>
          <a:prstGeom prst="flowChartConnector">
            <a:avLst/>
          </a:prstGeom>
          <a:solidFill>
            <a:srgbClr val="f784a5"/>
          </a:solidFill>
          <a:ln w="0">
            <a:noFill/>
          </a:ln>
          <a:effectLst>
            <a:reflection algn="bl" dir="5400000" dist="50800" endPos="21000" rotWithShape="0" sy="-100000"/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369"/>
          <p:cNvSpPr/>
          <p:nvPr/>
        </p:nvSpPr>
        <p:spPr>
          <a:xfrm>
            <a:off x="6921000" y="3721680"/>
            <a:ext cx="1439640" cy="1439640"/>
          </a:xfrm>
          <a:prstGeom prst="flowChartConnector">
            <a:avLst/>
          </a:prstGeom>
          <a:solidFill>
            <a:srgbClr val="31b5d6"/>
          </a:solidFill>
          <a:ln w="0">
            <a:noFill/>
          </a:ln>
          <a:effectLst>
            <a:reflection algn="bl" dir="5400000" dist="50800" endPos="21000" rotWithShape="0" sy="-100000"/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33"/>
          <p:cNvSpPr/>
          <p:nvPr/>
        </p:nvSpPr>
        <p:spPr>
          <a:xfrm>
            <a:off x="4722480" y="4015080"/>
            <a:ext cx="59256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治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治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Box 35"/>
          <p:cNvSpPr/>
          <p:nvPr/>
        </p:nvSpPr>
        <p:spPr>
          <a:xfrm>
            <a:off x="7367400" y="4013280"/>
            <a:ext cx="546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兼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7" name="直接箭头连接符 80"/>
          <p:cNvCxnSpPr/>
          <p:nvPr/>
        </p:nvCxnSpPr>
        <p:spPr>
          <a:xfrm flipH="1">
            <a:off x="2055960" y="3508920"/>
            <a:ext cx="1728720" cy="360"/>
          </a:xfrm>
          <a:prstGeom prst="straightConnector1">
            <a:avLst/>
          </a:prstGeom>
          <a:ln>
            <a:solidFill>
              <a:srgbClr val="f784a5"/>
            </a:solidFill>
            <a:tailEnd len="med" type="oval" w="med"/>
          </a:ln>
        </p:spPr>
      </p:cxnSp>
      <p:cxnSp>
        <p:nvCxnSpPr>
          <p:cNvPr id="1168" name="直接连接符 81"/>
          <p:cNvCxnSpPr>
            <a:endCxn id="1163" idx="1"/>
          </p:cNvCxnSpPr>
          <p:nvPr/>
        </p:nvCxnSpPr>
        <p:spPr>
          <a:xfrm>
            <a:off x="3784320" y="3508920"/>
            <a:ext cx="725760" cy="406440"/>
          </a:xfrm>
          <a:prstGeom prst="straightConnector1">
            <a:avLst/>
          </a:prstGeom>
          <a:ln>
            <a:solidFill>
              <a:srgbClr val="f784a5"/>
            </a:solidFill>
          </a:ln>
        </p:spPr>
      </p:cxnSp>
      <p:cxnSp>
        <p:nvCxnSpPr>
          <p:cNvPr id="1169" name="直接连接符 82"/>
          <p:cNvCxnSpPr/>
          <p:nvPr/>
        </p:nvCxnSpPr>
        <p:spPr>
          <a:xfrm>
            <a:off x="8753040" y="3508920"/>
            <a:ext cx="1728360" cy="360"/>
          </a:xfrm>
          <a:prstGeom prst="straightConnector1">
            <a:avLst/>
          </a:prstGeom>
          <a:ln>
            <a:solidFill>
              <a:srgbClr val="31b5d6"/>
            </a:solidFill>
            <a:tailEnd len="med" type="oval" w="med"/>
          </a:ln>
        </p:spPr>
      </p:cxnSp>
      <p:cxnSp>
        <p:nvCxnSpPr>
          <p:cNvPr id="1170" name="直接连接符 83"/>
          <p:cNvCxnSpPr>
            <a:endCxn id="1164" idx="1"/>
          </p:cNvCxnSpPr>
          <p:nvPr/>
        </p:nvCxnSpPr>
        <p:spPr>
          <a:xfrm flipH="1">
            <a:off x="8150040" y="3508920"/>
            <a:ext cx="597960" cy="423720"/>
          </a:xfrm>
          <a:prstGeom prst="straightConnector1">
            <a:avLst/>
          </a:prstGeom>
          <a:ln>
            <a:solidFill>
              <a:srgbClr val="31b5d6"/>
            </a:solidFill>
          </a:ln>
        </p:spPr>
      </p:cxnSp>
      <p:sp>
        <p:nvSpPr>
          <p:cNvPr id="1171" name="文本框 87"/>
          <p:cNvSpPr/>
          <p:nvPr/>
        </p:nvSpPr>
        <p:spPr>
          <a:xfrm>
            <a:off x="1552680" y="2660040"/>
            <a:ext cx="1008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着经济社会快速发展，交通拥堵问题已经成为影响城市居民生活质量的主要原因之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文本框 88"/>
          <p:cNvSpPr/>
          <p:nvPr/>
        </p:nvSpPr>
        <p:spPr>
          <a:xfrm>
            <a:off x="2040840" y="3938040"/>
            <a:ext cx="1718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3b3838"/>
                </a:solidFill>
                <a:latin typeface="微软雅黑"/>
                <a:ea typeface="微软雅黑"/>
              </a:rPr>
              <a:t>加大基础设施投入，通过不断拓宽道路、增加里程来增强交通能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文本框 89"/>
          <p:cNvSpPr/>
          <p:nvPr/>
        </p:nvSpPr>
        <p:spPr>
          <a:xfrm>
            <a:off x="8749440" y="3932640"/>
            <a:ext cx="1772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3b3838"/>
                </a:solidFill>
                <a:latin typeface="微软雅黑"/>
                <a:ea typeface="微软雅黑"/>
              </a:rPr>
              <a:t>及时、全面、海量的数据基础上建立的科学分析交通管理系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1175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1176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7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78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1179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81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1182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3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84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1185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6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87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1188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9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90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1191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92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3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1194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95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6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1197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198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9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1200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01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2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1203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04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5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1206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07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8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1209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10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1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1212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13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4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1215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16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7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1218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9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1220" name="直接连接符 289"/>
            <p:cNvCxnSpPr>
              <a:stCxn id="1200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1" name="直接连接符 290"/>
            <p:cNvCxnSpPr>
              <a:stCxn id="1219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2" name="直接连接符 291"/>
            <p:cNvCxnSpPr>
              <a:stCxn id="1191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3" name="直接连接符 292"/>
            <p:cNvCxnSpPr>
              <a:stCxn id="1183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4" name="直接连接符 293"/>
            <p:cNvCxnSpPr>
              <a:stCxn id="1177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5" name="直接连接符 294"/>
            <p:cNvCxnSpPr>
              <a:stCxn id="1203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6" name="直接连接符 295"/>
            <p:cNvCxnSpPr>
              <a:stCxn id="1215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7" name="直接连接符 296"/>
            <p:cNvCxnSpPr>
              <a:stCxn id="1186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8" name="直接连接符 297"/>
            <p:cNvCxnSpPr>
              <a:stCxn id="1189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29" name="直接连接符 298"/>
            <p:cNvCxnSpPr>
              <a:stCxn id="1197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30" name="直接连接符 299"/>
            <p:cNvCxnSpPr>
              <a:stCxn id="1209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31" name="直接连接符 300"/>
            <p:cNvCxnSpPr>
              <a:stCxn id="1194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32" name="直接连接符 301"/>
            <p:cNvCxnSpPr>
              <a:stCxn id="1180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33" name="直接连接符 302"/>
            <p:cNvCxnSpPr>
              <a:stCxn id="1212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34" name="直接连接符 303"/>
            <p:cNvCxnSpPr>
              <a:stCxn id="1206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1235" name="矩形 267"/>
          <p:cNvSpPr/>
          <p:nvPr/>
        </p:nvSpPr>
        <p:spPr>
          <a:xfrm flipV="1">
            <a:off x="65520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矩形 268"/>
          <p:cNvSpPr/>
          <p:nvPr/>
        </p:nvSpPr>
        <p:spPr>
          <a:xfrm flipV="1">
            <a:off x="21520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矩形 269"/>
          <p:cNvSpPr/>
          <p:nvPr/>
        </p:nvSpPr>
        <p:spPr>
          <a:xfrm flipV="1">
            <a:off x="36489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矩形 270"/>
          <p:cNvSpPr/>
          <p:nvPr/>
        </p:nvSpPr>
        <p:spPr>
          <a:xfrm flipV="1">
            <a:off x="51454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矩形 271"/>
          <p:cNvSpPr/>
          <p:nvPr/>
        </p:nvSpPr>
        <p:spPr>
          <a:xfrm flipV="1">
            <a:off x="66423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矩形 272"/>
          <p:cNvSpPr/>
          <p:nvPr/>
        </p:nvSpPr>
        <p:spPr>
          <a:xfrm flipV="1">
            <a:off x="8138880" y="1031040"/>
            <a:ext cx="1496520" cy="66600"/>
          </a:xfrm>
          <a:prstGeom prst="rect">
            <a:avLst/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1" name="矩形 273"/>
          <p:cNvSpPr/>
          <p:nvPr/>
        </p:nvSpPr>
        <p:spPr>
          <a:xfrm flipV="1">
            <a:off x="96357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2" name="文本框 335"/>
          <p:cNvSpPr/>
          <p:nvPr/>
        </p:nvSpPr>
        <p:spPr>
          <a:xfrm>
            <a:off x="4048920" y="308520"/>
            <a:ext cx="322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智慧政府：大数据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文本框 145"/>
          <p:cNvSpPr/>
          <p:nvPr/>
        </p:nvSpPr>
        <p:spPr>
          <a:xfrm>
            <a:off x="1905840" y="1264320"/>
            <a:ext cx="383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62626"/>
                </a:solidFill>
                <a:latin typeface="华康俪金黑W8(P)"/>
                <a:ea typeface="华康俪金黑W8(P)"/>
              </a:rPr>
              <a:t>应用三：以人为本的综合社会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组合 2"/>
          <p:cNvGrpSpPr/>
          <p:nvPr/>
        </p:nvGrpSpPr>
        <p:grpSpPr>
          <a:xfrm>
            <a:off x="1636200" y="4408200"/>
            <a:ext cx="4282200" cy="1747800"/>
            <a:chOff x="1636200" y="4408200"/>
            <a:chExt cx="4282200" cy="1747800"/>
          </a:xfrm>
        </p:grpSpPr>
        <p:sp>
          <p:nvSpPr>
            <p:cNvPr id="1245" name="矩形 99"/>
            <p:cNvSpPr/>
            <p:nvPr/>
          </p:nvSpPr>
          <p:spPr>
            <a:xfrm>
              <a:off x="1636200" y="6140160"/>
              <a:ext cx="4282200" cy="1584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f2f2f2"/>
                </a:gs>
              </a:gsLst>
              <a:lin ang="108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46" name="椭圆 3"/>
            <p:cNvSpPr/>
            <p:nvPr/>
          </p:nvSpPr>
          <p:spPr>
            <a:xfrm>
              <a:off x="1766160" y="5868360"/>
              <a:ext cx="4022640" cy="274320"/>
            </a:xfrm>
            <a:custGeom>
              <a:avLst/>
              <a:gdLst>
                <a:gd name="textAreaLeft" fmla="*/ 0 w 4022640"/>
                <a:gd name="textAreaRight" fmla="*/ 4023000 w 40226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5967726" h="372256">
                  <a:moveTo>
                    <a:pt x="2983863" y="0"/>
                  </a:moveTo>
                  <a:cubicBezTo>
                    <a:pt x="4505610" y="0"/>
                    <a:pt x="5763890" y="161740"/>
                    <a:pt x="5967726" y="372256"/>
                  </a:cubicBezTo>
                  <a:lnTo>
                    <a:pt x="0" y="372256"/>
                  </a:lnTo>
                  <a:cubicBezTo>
                    <a:pt x="203837" y="161740"/>
                    <a:pt x="1462116" y="0"/>
                    <a:pt x="2983863" y="0"/>
                  </a:cubicBezTo>
                  <a:close/>
                </a:path>
              </a:pathLst>
            </a:custGeom>
            <a:gradFill rotWithShape="0">
              <a:gsLst>
                <a:gs pos="26000">
                  <a:srgbClr val="f2f2f2">
                    <a:alpha val="0"/>
                  </a:srgbClr>
                </a:gs>
                <a:gs pos="100000">
                  <a:srgbClr val="fda403">
                    <a:alpha val="38039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47" name="椭圆 6"/>
            <p:cNvSpPr/>
            <p:nvPr/>
          </p:nvSpPr>
          <p:spPr>
            <a:xfrm>
              <a:off x="2545920" y="4408200"/>
              <a:ext cx="2205720" cy="1734480"/>
            </a:xfrm>
            <a:custGeom>
              <a:avLst/>
              <a:gdLst>
                <a:gd name="textAreaLeft" fmla="*/ 0 w 2205720"/>
                <a:gd name="textAreaRight" fmla="*/ 2206080 w 2205720"/>
                <a:gd name="textAreaTop" fmla="*/ 0 h 1734480"/>
                <a:gd name="textAreaBottom" fmla="*/ 1734840 h 1734480"/>
              </a:gdLst>
              <a:ahLst/>
              <a:rect l="textAreaLeft" t="textAreaTop" r="textAreaRight" b="textAreaBottom"/>
              <a:pathLst>
                <a:path w="2448272" h="1925181">
                  <a:moveTo>
                    <a:pt x="1224136" y="0"/>
                  </a:moveTo>
                  <a:cubicBezTo>
                    <a:pt x="1900208" y="0"/>
                    <a:pt x="2448272" y="548064"/>
                    <a:pt x="2448272" y="1224136"/>
                  </a:cubicBezTo>
                  <a:cubicBezTo>
                    <a:pt x="2448272" y="1485100"/>
                    <a:pt x="2366613" y="1726991"/>
                    <a:pt x="2226782" y="1925181"/>
                  </a:cubicBezTo>
                  <a:lnTo>
                    <a:pt x="221490" y="1925181"/>
                  </a:lnTo>
                  <a:cubicBezTo>
                    <a:pt x="81659" y="1726991"/>
                    <a:pt x="0" y="1485100"/>
                    <a:pt x="0" y="1224136"/>
                  </a:cubicBezTo>
                  <a:cubicBezTo>
                    <a:pt x="0" y="548064"/>
                    <a:pt x="548064" y="0"/>
                    <a:pt x="1224136" y="0"/>
                  </a:cubicBezTo>
                  <a:close/>
                </a:path>
              </a:pathLst>
            </a:custGeom>
            <a:solidFill>
              <a:schemeClr val="bg2"/>
            </a:solidFill>
            <a:ln>
              <a:noFill/>
            </a:ln>
            <a:effectLst>
              <a:outerShdw blurRad="50760" dir="16200000" dist="38160" rotWithShape="0" sx="101000" sy="10100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48" name="椭圆 6"/>
            <p:cNvSpPr/>
            <p:nvPr/>
          </p:nvSpPr>
          <p:spPr>
            <a:xfrm>
              <a:off x="2610720" y="4503960"/>
              <a:ext cx="2080080" cy="1635480"/>
            </a:xfrm>
            <a:custGeom>
              <a:avLst/>
              <a:gdLst>
                <a:gd name="textAreaLeft" fmla="*/ 0 w 2080080"/>
                <a:gd name="textAreaRight" fmla="*/ 2080440 w 2080080"/>
                <a:gd name="textAreaTop" fmla="*/ 0 h 1635480"/>
                <a:gd name="textAreaBottom" fmla="*/ 1635840 h 1635480"/>
              </a:gdLst>
              <a:ahLst/>
              <a:rect l="textAreaLeft" t="textAreaTop" r="textAreaRight" b="textAreaBottom"/>
              <a:pathLst>
                <a:path w="2448272" h="1925181">
                  <a:moveTo>
                    <a:pt x="1224136" y="0"/>
                  </a:moveTo>
                  <a:cubicBezTo>
                    <a:pt x="1900208" y="0"/>
                    <a:pt x="2448272" y="548064"/>
                    <a:pt x="2448272" y="1224136"/>
                  </a:cubicBezTo>
                  <a:cubicBezTo>
                    <a:pt x="2448272" y="1485100"/>
                    <a:pt x="2366613" y="1726991"/>
                    <a:pt x="2226782" y="1925181"/>
                  </a:cubicBezTo>
                  <a:lnTo>
                    <a:pt x="221490" y="1925181"/>
                  </a:lnTo>
                  <a:cubicBezTo>
                    <a:pt x="81659" y="1726991"/>
                    <a:pt x="0" y="1485100"/>
                    <a:pt x="0" y="1224136"/>
                  </a:cubicBezTo>
                  <a:cubicBezTo>
                    <a:pt x="0" y="548064"/>
                    <a:pt x="548064" y="0"/>
                    <a:pt x="1224136" y="0"/>
                  </a:cubicBezTo>
                  <a:close/>
                </a:path>
              </a:pathLst>
            </a:custGeom>
            <a:solidFill>
              <a:srgbClr val="31b5d6"/>
            </a:solidFill>
            <a:ln>
              <a:noFill/>
            </a:ln>
            <a:effectLst>
              <a:innerShdw blurRad="114300">
                <a:srgbClr val="7c3b06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49" name="椭圆 6"/>
            <p:cNvSpPr/>
            <p:nvPr/>
          </p:nvSpPr>
          <p:spPr>
            <a:xfrm>
              <a:off x="2630880" y="4716000"/>
              <a:ext cx="2029320" cy="1439640"/>
            </a:xfrm>
            <a:custGeom>
              <a:avLst/>
              <a:gdLst>
                <a:gd name="textAreaLeft" fmla="*/ 0 w 2029320"/>
                <a:gd name="textAreaRight" fmla="*/ 2029680 w 2029320"/>
                <a:gd name="textAreaTop" fmla="*/ 0 h 1439640"/>
                <a:gd name="textAreaBottom" fmla="*/ 1440000 h 1439640"/>
              </a:gdLst>
              <a:ahLst/>
              <a:rect l="textAreaLeft" t="textAreaTop" r="textAreaRight" b="textAreaBottom"/>
              <a:pathLst>
                <a:path w="2029626" h="1543927">
                  <a:moveTo>
                    <a:pt x="1014813" y="0"/>
                  </a:moveTo>
                  <a:cubicBezTo>
                    <a:pt x="1575279" y="0"/>
                    <a:pt x="2029626" y="454347"/>
                    <a:pt x="2029626" y="1014813"/>
                  </a:cubicBezTo>
                  <a:cubicBezTo>
                    <a:pt x="2029626" y="1209411"/>
                    <a:pt x="1974854" y="1391215"/>
                    <a:pt x="1877153" y="1543927"/>
                  </a:cubicBezTo>
                  <a:lnTo>
                    <a:pt x="152474" y="1543927"/>
                  </a:lnTo>
                  <a:cubicBezTo>
                    <a:pt x="54772" y="1391215"/>
                    <a:pt x="0" y="1209411"/>
                    <a:pt x="0" y="1014813"/>
                  </a:cubicBezTo>
                  <a:cubicBezTo>
                    <a:pt x="0" y="454347"/>
                    <a:pt x="454347" y="0"/>
                    <a:pt x="1014813" y="0"/>
                  </a:cubicBez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>
              <a:noFill/>
            </a:ln>
            <a:effectLst>
              <a:innerShdw blurRad="114300">
                <a:srgbClr val="7c3b06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250" name="组合 3"/>
          <p:cNvGrpSpPr/>
          <p:nvPr/>
        </p:nvGrpSpPr>
        <p:grpSpPr>
          <a:xfrm>
            <a:off x="5774760" y="4408200"/>
            <a:ext cx="4282200" cy="1747800"/>
            <a:chOff x="5774760" y="4408200"/>
            <a:chExt cx="4282200" cy="1747800"/>
          </a:xfrm>
        </p:grpSpPr>
        <p:sp>
          <p:nvSpPr>
            <p:cNvPr id="1251" name="矩形 105"/>
            <p:cNvSpPr/>
            <p:nvPr/>
          </p:nvSpPr>
          <p:spPr>
            <a:xfrm>
              <a:off x="5774760" y="6140160"/>
              <a:ext cx="4282200" cy="1584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f2f2f2"/>
                </a:gs>
              </a:gsLst>
              <a:lin ang="108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2" name="椭圆 3"/>
            <p:cNvSpPr/>
            <p:nvPr/>
          </p:nvSpPr>
          <p:spPr>
            <a:xfrm>
              <a:off x="5904360" y="5868360"/>
              <a:ext cx="4022640" cy="274320"/>
            </a:xfrm>
            <a:custGeom>
              <a:avLst/>
              <a:gdLst>
                <a:gd name="textAreaLeft" fmla="*/ 0 w 4022640"/>
                <a:gd name="textAreaRight" fmla="*/ 4023000 w 40226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5967726" h="372256">
                  <a:moveTo>
                    <a:pt x="2983863" y="0"/>
                  </a:moveTo>
                  <a:cubicBezTo>
                    <a:pt x="4505610" y="0"/>
                    <a:pt x="5763890" y="161740"/>
                    <a:pt x="5967726" y="372256"/>
                  </a:cubicBezTo>
                  <a:lnTo>
                    <a:pt x="0" y="372256"/>
                  </a:lnTo>
                  <a:cubicBezTo>
                    <a:pt x="203837" y="161740"/>
                    <a:pt x="1462116" y="0"/>
                    <a:pt x="2983863" y="0"/>
                  </a:cubicBezTo>
                  <a:close/>
                </a:path>
              </a:pathLst>
            </a:custGeom>
            <a:gradFill rotWithShape="0">
              <a:gsLst>
                <a:gs pos="26000">
                  <a:srgbClr val="f2f2f2">
                    <a:alpha val="0"/>
                  </a:srgbClr>
                </a:gs>
                <a:gs pos="100000">
                  <a:srgbClr val="7c7c7c">
                    <a:alpha val="36078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3" name="椭圆 6"/>
            <p:cNvSpPr/>
            <p:nvPr/>
          </p:nvSpPr>
          <p:spPr>
            <a:xfrm>
              <a:off x="6684480" y="4408200"/>
              <a:ext cx="2205720" cy="1734480"/>
            </a:xfrm>
            <a:custGeom>
              <a:avLst/>
              <a:gdLst>
                <a:gd name="textAreaLeft" fmla="*/ 0 w 2205720"/>
                <a:gd name="textAreaRight" fmla="*/ 2206080 w 2205720"/>
                <a:gd name="textAreaTop" fmla="*/ 0 h 1734480"/>
                <a:gd name="textAreaBottom" fmla="*/ 1734840 h 1734480"/>
              </a:gdLst>
              <a:ahLst/>
              <a:rect l="textAreaLeft" t="textAreaTop" r="textAreaRight" b="textAreaBottom"/>
              <a:pathLst>
                <a:path w="2448272" h="1925181">
                  <a:moveTo>
                    <a:pt x="1224136" y="0"/>
                  </a:moveTo>
                  <a:cubicBezTo>
                    <a:pt x="1900208" y="0"/>
                    <a:pt x="2448272" y="548064"/>
                    <a:pt x="2448272" y="1224136"/>
                  </a:cubicBezTo>
                  <a:cubicBezTo>
                    <a:pt x="2448272" y="1485100"/>
                    <a:pt x="2366613" y="1726991"/>
                    <a:pt x="2226782" y="1925181"/>
                  </a:cubicBezTo>
                  <a:lnTo>
                    <a:pt x="221490" y="1925181"/>
                  </a:lnTo>
                  <a:cubicBezTo>
                    <a:pt x="81659" y="1726991"/>
                    <a:pt x="0" y="1485100"/>
                    <a:pt x="0" y="1224136"/>
                  </a:cubicBezTo>
                  <a:cubicBezTo>
                    <a:pt x="0" y="548064"/>
                    <a:pt x="548064" y="0"/>
                    <a:pt x="1224136" y="0"/>
                  </a:cubicBezTo>
                  <a:close/>
                </a:path>
              </a:pathLst>
            </a:custGeom>
            <a:solidFill>
              <a:schemeClr val="bg2"/>
            </a:solidFill>
            <a:ln>
              <a:noFill/>
            </a:ln>
            <a:effectLst>
              <a:outerShdw blurRad="50760" dir="16200000" dist="38160" rotWithShape="0" sx="101000" sy="10100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4" name="椭圆 6"/>
            <p:cNvSpPr/>
            <p:nvPr/>
          </p:nvSpPr>
          <p:spPr>
            <a:xfrm>
              <a:off x="6749280" y="4503960"/>
              <a:ext cx="2080080" cy="1635480"/>
            </a:xfrm>
            <a:custGeom>
              <a:avLst/>
              <a:gdLst>
                <a:gd name="textAreaLeft" fmla="*/ 0 w 2080080"/>
                <a:gd name="textAreaRight" fmla="*/ 2080440 w 2080080"/>
                <a:gd name="textAreaTop" fmla="*/ 0 h 1635480"/>
                <a:gd name="textAreaBottom" fmla="*/ 1635840 h 1635480"/>
              </a:gdLst>
              <a:ahLst/>
              <a:rect l="textAreaLeft" t="textAreaTop" r="textAreaRight" b="textAreaBottom"/>
              <a:pathLst>
                <a:path w="2448272" h="1925181">
                  <a:moveTo>
                    <a:pt x="1224136" y="0"/>
                  </a:moveTo>
                  <a:cubicBezTo>
                    <a:pt x="1900208" y="0"/>
                    <a:pt x="2448272" y="548064"/>
                    <a:pt x="2448272" y="1224136"/>
                  </a:cubicBezTo>
                  <a:cubicBezTo>
                    <a:pt x="2448272" y="1485100"/>
                    <a:pt x="2366613" y="1726991"/>
                    <a:pt x="2226782" y="1925181"/>
                  </a:cubicBezTo>
                  <a:lnTo>
                    <a:pt x="221490" y="1925181"/>
                  </a:lnTo>
                  <a:cubicBezTo>
                    <a:pt x="81659" y="1726991"/>
                    <a:pt x="0" y="1485100"/>
                    <a:pt x="0" y="1224136"/>
                  </a:cubicBezTo>
                  <a:cubicBezTo>
                    <a:pt x="0" y="548064"/>
                    <a:pt x="548064" y="0"/>
                    <a:pt x="1224136" y="0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  <a:effectLst>
              <a:innerShdw blurRad="114300">
                <a:srgbClr val="7c3b06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5" name="椭圆 6"/>
            <p:cNvSpPr/>
            <p:nvPr/>
          </p:nvSpPr>
          <p:spPr>
            <a:xfrm>
              <a:off x="6769440" y="4716000"/>
              <a:ext cx="2029320" cy="1439640"/>
            </a:xfrm>
            <a:custGeom>
              <a:avLst/>
              <a:gdLst>
                <a:gd name="textAreaLeft" fmla="*/ 0 w 2029320"/>
                <a:gd name="textAreaRight" fmla="*/ 2029680 w 2029320"/>
                <a:gd name="textAreaTop" fmla="*/ 0 h 1439640"/>
                <a:gd name="textAreaBottom" fmla="*/ 1440000 h 1439640"/>
              </a:gdLst>
              <a:ahLst/>
              <a:rect l="textAreaLeft" t="textAreaTop" r="textAreaRight" b="textAreaBottom"/>
              <a:pathLst>
                <a:path w="2029626" h="1543927">
                  <a:moveTo>
                    <a:pt x="1014813" y="0"/>
                  </a:moveTo>
                  <a:cubicBezTo>
                    <a:pt x="1575279" y="0"/>
                    <a:pt x="2029626" y="454347"/>
                    <a:pt x="2029626" y="1014813"/>
                  </a:cubicBezTo>
                  <a:cubicBezTo>
                    <a:pt x="2029626" y="1209411"/>
                    <a:pt x="1974854" y="1391215"/>
                    <a:pt x="1877153" y="1543927"/>
                  </a:cubicBezTo>
                  <a:lnTo>
                    <a:pt x="152474" y="1543927"/>
                  </a:lnTo>
                  <a:cubicBezTo>
                    <a:pt x="54772" y="1391215"/>
                    <a:pt x="0" y="1209411"/>
                    <a:pt x="0" y="1014813"/>
                  </a:cubicBezTo>
                  <a:cubicBezTo>
                    <a:pt x="0" y="454347"/>
                    <a:pt x="454347" y="0"/>
                    <a:pt x="1014813" y="0"/>
                  </a:cubicBez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>
              <a:noFill/>
            </a:ln>
            <a:effectLst>
              <a:innerShdw blurRad="114300">
                <a:schemeClr val="accent3">
                  <a:lumMod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256" name="组合 4"/>
          <p:cNvGrpSpPr/>
          <p:nvPr/>
        </p:nvGrpSpPr>
        <p:grpSpPr>
          <a:xfrm>
            <a:off x="3686400" y="2124000"/>
            <a:ext cx="4282200" cy="2323440"/>
            <a:chOff x="3686400" y="2124000"/>
            <a:chExt cx="4282200" cy="2323440"/>
          </a:xfrm>
        </p:grpSpPr>
        <p:sp>
          <p:nvSpPr>
            <p:cNvPr id="1257" name="椭圆 6"/>
            <p:cNvSpPr/>
            <p:nvPr/>
          </p:nvSpPr>
          <p:spPr>
            <a:xfrm>
              <a:off x="4724640" y="2124000"/>
              <a:ext cx="2205720" cy="1734480"/>
            </a:xfrm>
            <a:custGeom>
              <a:avLst/>
              <a:gdLst>
                <a:gd name="textAreaLeft" fmla="*/ 0 w 2205720"/>
                <a:gd name="textAreaRight" fmla="*/ 2206080 w 2205720"/>
                <a:gd name="textAreaTop" fmla="*/ 0 h 1734480"/>
                <a:gd name="textAreaBottom" fmla="*/ 1734840 h 1734480"/>
              </a:gdLst>
              <a:ahLst/>
              <a:rect l="textAreaLeft" t="textAreaTop" r="textAreaRight" b="textAreaBottom"/>
              <a:pathLst>
                <a:path w="2448272" h="1925181">
                  <a:moveTo>
                    <a:pt x="1224136" y="0"/>
                  </a:moveTo>
                  <a:cubicBezTo>
                    <a:pt x="1900208" y="0"/>
                    <a:pt x="2448272" y="548064"/>
                    <a:pt x="2448272" y="1224136"/>
                  </a:cubicBezTo>
                  <a:cubicBezTo>
                    <a:pt x="2448272" y="1485100"/>
                    <a:pt x="2366613" y="1726991"/>
                    <a:pt x="2226782" y="1925181"/>
                  </a:cubicBezTo>
                  <a:lnTo>
                    <a:pt x="221490" y="1925181"/>
                  </a:lnTo>
                  <a:cubicBezTo>
                    <a:pt x="81659" y="1726991"/>
                    <a:pt x="0" y="1485100"/>
                    <a:pt x="0" y="1224136"/>
                  </a:cubicBezTo>
                  <a:cubicBezTo>
                    <a:pt x="0" y="548064"/>
                    <a:pt x="548064" y="0"/>
                    <a:pt x="1224136" y="0"/>
                  </a:cubicBezTo>
                  <a:close/>
                </a:path>
              </a:pathLst>
            </a:custGeom>
            <a:solidFill>
              <a:schemeClr val="bg2"/>
            </a:solidFill>
            <a:ln>
              <a:solidFill>
                <a:srgbClr val="ffffff"/>
              </a:solidFill>
            </a:ln>
            <a:effectLst>
              <a:outerShdw blurRad="50760" dir="16200000" dist="38160" rotWithShape="0" sx="101000" sy="10100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8" name="矩形 93"/>
            <p:cNvSpPr/>
            <p:nvPr/>
          </p:nvSpPr>
          <p:spPr>
            <a:xfrm>
              <a:off x="3686400" y="3855600"/>
              <a:ext cx="4282200" cy="1584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f2f2f2"/>
                </a:gs>
              </a:gsLst>
              <a:lin ang="108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9" name="椭圆 3"/>
            <p:cNvSpPr/>
            <p:nvPr/>
          </p:nvSpPr>
          <p:spPr>
            <a:xfrm>
              <a:off x="3816360" y="3675240"/>
              <a:ext cx="4022640" cy="182880"/>
            </a:xfrm>
            <a:custGeom>
              <a:avLst/>
              <a:gdLst>
                <a:gd name="textAreaLeft" fmla="*/ 0 w 4022640"/>
                <a:gd name="textAreaRight" fmla="*/ 4023000 w 4022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5967726" h="372256">
                  <a:moveTo>
                    <a:pt x="2983863" y="0"/>
                  </a:moveTo>
                  <a:cubicBezTo>
                    <a:pt x="4505610" y="0"/>
                    <a:pt x="5763890" y="161740"/>
                    <a:pt x="5967726" y="372256"/>
                  </a:cubicBezTo>
                  <a:lnTo>
                    <a:pt x="0" y="372256"/>
                  </a:lnTo>
                  <a:cubicBezTo>
                    <a:pt x="203837" y="161740"/>
                    <a:pt x="1462116" y="0"/>
                    <a:pt x="2983863" y="0"/>
                  </a:cubicBezTo>
                  <a:close/>
                </a:path>
              </a:pathLst>
            </a:custGeom>
            <a:gradFill rotWithShape="0">
              <a:gsLst>
                <a:gs pos="26000">
                  <a:srgbClr val="f2f2f2">
                    <a:alpha val="0"/>
                  </a:srgbClr>
                </a:gs>
                <a:gs pos="100000">
                  <a:srgbClr val="548235">
                    <a:alpha val="40000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0" name="椭圆 6"/>
            <p:cNvSpPr/>
            <p:nvPr/>
          </p:nvSpPr>
          <p:spPr>
            <a:xfrm>
              <a:off x="4787640" y="2219760"/>
              <a:ext cx="2080080" cy="1635480"/>
            </a:xfrm>
            <a:custGeom>
              <a:avLst/>
              <a:gdLst>
                <a:gd name="textAreaLeft" fmla="*/ 0 w 2080080"/>
                <a:gd name="textAreaRight" fmla="*/ 2080440 w 2080080"/>
                <a:gd name="textAreaTop" fmla="*/ 0 h 1635480"/>
                <a:gd name="textAreaBottom" fmla="*/ 1635840 h 1635480"/>
              </a:gdLst>
              <a:ahLst/>
              <a:rect l="textAreaLeft" t="textAreaTop" r="textAreaRight" b="textAreaBottom"/>
              <a:pathLst>
                <a:path w="2448272" h="1925181">
                  <a:moveTo>
                    <a:pt x="1224136" y="0"/>
                  </a:moveTo>
                  <a:cubicBezTo>
                    <a:pt x="1900208" y="0"/>
                    <a:pt x="2448272" y="548064"/>
                    <a:pt x="2448272" y="1224136"/>
                  </a:cubicBezTo>
                  <a:cubicBezTo>
                    <a:pt x="2448272" y="1485100"/>
                    <a:pt x="2366613" y="1726991"/>
                    <a:pt x="2226782" y="1925181"/>
                  </a:cubicBezTo>
                  <a:lnTo>
                    <a:pt x="221490" y="1925181"/>
                  </a:lnTo>
                  <a:cubicBezTo>
                    <a:pt x="81659" y="1726991"/>
                    <a:pt x="0" y="1485100"/>
                    <a:pt x="0" y="1224136"/>
                  </a:cubicBezTo>
                  <a:cubicBezTo>
                    <a:pt x="0" y="548064"/>
                    <a:pt x="548064" y="0"/>
                    <a:pt x="1224136" y="0"/>
                  </a:cubicBezTo>
                  <a:close/>
                </a:path>
              </a:pathLst>
            </a:custGeom>
            <a:solidFill>
              <a:srgbClr val="f784a5"/>
            </a:solidFill>
            <a:ln>
              <a:noFill/>
            </a:ln>
            <a:effectLst>
              <a:innerShdw blurRad="114300">
                <a:srgbClr val="7c3b06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1" name="椭圆 6"/>
            <p:cNvSpPr/>
            <p:nvPr/>
          </p:nvSpPr>
          <p:spPr>
            <a:xfrm>
              <a:off x="4812840" y="2412000"/>
              <a:ext cx="2029320" cy="1459800"/>
            </a:xfrm>
            <a:custGeom>
              <a:avLst/>
              <a:gdLst>
                <a:gd name="textAreaLeft" fmla="*/ 0 w 2029320"/>
                <a:gd name="textAreaRight" fmla="*/ 2029680 w 2029320"/>
                <a:gd name="textAreaTop" fmla="*/ 0 h 1459800"/>
                <a:gd name="textAreaBottom" fmla="*/ 1460160 h 1459800"/>
              </a:gdLst>
              <a:ahLst/>
              <a:rect l="textAreaLeft" t="textAreaTop" r="textAreaRight" b="textAreaBottom"/>
              <a:pathLst>
                <a:path w="2029626" h="1543927">
                  <a:moveTo>
                    <a:pt x="1014813" y="0"/>
                  </a:moveTo>
                  <a:cubicBezTo>
                    <a:pt x="1575279" y="0"/>
                    <a:pt x="2029626" y="454347"/>
                    <a:pt x="2029626" y="1014813"/>
                  </a:cubicBezTo>
                  <a:cubicBezTo>
                    <a:pt x="2029626" y="1209411"/>
                    <a:pt x="1974854" y="1391215"/>
                    <a:pt x="1877153" y="1543927"/>
                  </a:cubicBezTo>
                  <a:lnTo>
                    <a:pt x="152474" y="1543927"/>
                  </a:lnTo>
                  <a:cubicBezTo>
                    <a:pt x="54772" y="1391215"/>
                    <a:pt x="0" y="1209411"/>
                    <a:pt x="0" y="1014813"/>
                  </a:cubicBezTo>
                  <a:cubicBezTo>
                    <a:pt x="0" y="454347"/>
                    <a:pt x="454347" y="0"/>
                    <a:pt x="1014813" y="0"/>
                  </a:cubicBez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>
              <a:noFill/>
            </a:ln>
            <a:effectLst>
              <a:innerShdw blurRad="114300">
                <a:srgbClr val="7c3b06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2" name="TextBox 113"/>
            <p:cNvSpPr/>
            <p:nvPr/>
          </p:nvSpPr>
          <p:spPr>
            <a:xfrm>
              <a:off x="4851720" y="3882600"/>
              <a:ext cx="195192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30000"/>
                </a:lnSpc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社区网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TextBox 113"/>
          <p:cNvSpPr/>
          <p:nvPr/>
        </p:nvSpPr>
        <p:spPr>
          <a:xfrm>
            <a:off x="2630880" y="6235920"/>
            <a:ext cx="195192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张通行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13"/>
          <p:cNvSpPr/>
          <p:nvPr/>
        </p:nvSpPr>
        <p:spPr>
          <a:xfrm>
            <a:off x="6846840" y="6203520"/>
            <a:ext cx="195192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出租屋治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1266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1267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8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69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1270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1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72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1273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4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75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1276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7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78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1279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0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81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1282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83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4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1285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86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7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1288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89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0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1291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92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3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1294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95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6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1297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298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9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1300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301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02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1303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304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05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1306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1307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08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1309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0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1311" name="直接连接符 289"/>
            <p:cNvCxnSpPr>
              <a:stCxn id="1291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12" name="直接连接符 290"/>
            <p:cNvCxnSpPr>
              <a:stCxn id="1310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13" name="直接连接符 291"/>
            <p:cNvCxnSpPr>
              <a:stCxn id="1282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14" name="直接连接符 292"/>
            <p:cNvCxnSpPr>
              <a:stCxn id="1274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15" name="直接连接符 293"/>
            <p:cNvCxnSpPr>
              <a:stCxn id="1268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16" name="直接连接符 294"/>
            <p:cNvCxnSpPr>
              <a:stCxn id="1294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17" name="直接连接符 295"/>
            <p:cNvCxnSpPr>
              <a:stCxn id="1306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18" name="直接连接符 296"/>
            <p:cNvCxnSpPr>
              <a:stCxn id="1277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19" name="直接连接符 297"/>
            <p:cNvCxnSpPr>
              <a:stCxn id="1280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20" name="直接连接符 298"/>
            <p:cNvCxnSpPr>
              <a:stCxn id="1288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21" name="直接连接符 299"/>
            <p:cNvCxnSpPr>
              <a:stCxn id="1300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22" name="直接连接符 300"/>
            <p:cNvCxnSpPr>
              <a:stCxn id="1285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23" name="直接连接符 301"/>
            <p:cNvCxnSpPr>
              <a:stCxn id="1271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24" name="直接连接符 302"/>
            <p:cNvCxnSpPr>
              <a:stCxn id="1303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325" name="直接连接符 303"/>
            <p:cNvCxnSpPr>
              <a:stCxn id="1297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1326" name="矩形 267"/>
          <p:cNvSpPr/>
          <p:nvPr/>
        </p:nvSpPr>
        <p:spPr>
          <a:xfrm flipV="1">
            <a:off x="65520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矩形 268"/>
          <p:cNvSpPr/>
          <p:nvPr/>
        </p:nvSpPr>
        <p:spPr>
          <a:xfrm flipV="1">
            <a:off x="21520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矩形 269"/>
          <p:cNvSpPr/>
          <p:nvPr/>
        </p:nvSpPr>
        <p:spPr>
          <a:xfrm flipV="1">
            <a:off x="36489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矩形 270"/>
          <p:cNvSpPr/>
          <p:nvPr/>
        </p:nvSpPr>
        <p:spPr>
          <a:xfrm flipV="1">
            <a:off x="51454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矩形 271"/>
          <p:cNvSpPr/>
          <p:nvPr/>
        </p:nvSpPr>
        <p:spPr>
          <a:xfrm flipV="1">
            <a:off x="66423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矩形 272"/>
          <p:cNvSpPr/>
          <p:nvPr/>
        </p:nvSpPr>
        <p:spPr>
          <a:xfrm flipV="1">
            <a:off x="8138880" y="1031040"/>
            <a:ext cx="1496520" cy="66600"/>
          </a:xfrm>
          <a:prstGeom prst="rect">
            <a:avLst/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2" name="矩形 273"/>
          <p:cNvSpPr/>
          <p:nvPr/>
        </p:nvSpPr>
        <p:spPr>
          <a:xfrm flipV="1">
            <a:off x="96357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3" name="文本框 335"/>
          <p:cNvSpPr/>
          <p:nvPr/>
        </p:nvSpPr>
        <p:spPr>
          <a:xfrm>
            <a:off x="4048920" y="308520"/>
            <a:ext cx="322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智慧政府：大数据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文本框 145"/>
          <p:cNvSpPr/>
          <p:nvPr/>
        </p:nvSpPr>
        <p:spPr>
          <a:xfrm>
            <a:off x="2072160" y="1264320"/>
            <a:ext cx="4326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62626"/>
                </a:solidFill>
                <a:latin typeface="华康俪金黑W8(P)"/>
                <a:ea typeface="华康俪金黑W8(P)"/>
              </a:rPr>
              <a:t>应用四：智慧监测下的公共卫生与医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组合 10"/>
          <p:cNvGrpSpPr/>
          <p:nvPr/>
        </p:nvGrpSpPr>
        <p:grpSpPr>
          <a:xfrm>
            <a:off x="1548000" y="2184840"/>
            <a:ext cx="2553840" cy="1886040"/>
            <a:chOff x="1548000" y="2184840"/>
            <a:chExt cx="2553840" cy="1886040"/>
          </a:xfrm>
        </p:grpSpPr>
        <p:grpSp>
          <p:nvGrpSpPr>
            <p:cNvPr id="1336" name="组合 7"/>
            <p:cNvGrpSpPr/>
            <p:nvPr/>
          </p:nvGrpSpPr>
          <p:grpSpPr>
            <a:xfrm>
              <a:off x="1548000" y="2184840"/>
              <a:ext cx="2553840" cy="1263240"/>
              <a:chOff x="1548000" y="2184840"/>
              <a:chExt cx="2553840" cy="1263240"/>
            </a:xfrm>
          </p:grpSpPr>
          <p:sp>
            <p:nvSpPr>
              <p:cNvPr id="1337" name="椭圆 92"/>
              <p:cNvSpPr/>
              <p:nvPr/>
            </p:nvSpPr>
            <p:spPr>
              <a:xfrm>
                <a:off x="1548000" y="2184840"/>
                <a:ext cx="1223640" cy="122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57150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38" name="矩形 8"/>
              <p:cNvSpPr/>
              <p:nvPr/>
            </p:nvSpPr>
            <p:spPr>
              <a:xfrm>
                <a:off x="3133440" y="2286360"/>
                <a:ext cx="968400" cy="56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30000"/>
                  </a:lnSpc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实时监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39" name="直接连接符 112"/>
              <p:cNvCxnSpPr/>
              <p:nvPr/>
            </p:nvCxnSpPr>
            <p:spPr>
              <a:xfrm>
                <a:off x="3000600" y="2188080"/>
                <a:ext cx="360" cy="1260360"/>
              </a:xfrm>
              <a:prstGeom prst="straightConnector1">
                <a:avLst/>
              </a:prstGeom>
              <a:ln w="57150">
                <a:solidFill>
                  <a:srgbClr val="f784a5"/>
                </a:solidFill>
              </a:ln>
            </p:spPr>
          </p:cxnSp>
        </p:grpSp>
        <p:sp>
          <p:nvSpPr>
            <p:cNvPr id="1340" name="矩形 8"/>
            <p:cNvSpPr/>
            <p:nvPr/>
          </p:nvSpPr>
          <p:spPr>
            <a:xfrm>
              <a:off x="1670400" y="3584880"/>
              <a:ext cx="23097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不同数据，快速检测传染病，进行全面的疫情监测，快速进行响应，达到控制疾病的流行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1" name="组合 11"/>
          <p:cNvGrpSpPr/>
          <p:nvPr/>
        </p:nvGrpSpPr>
        <p:grpSpPr>
          <a:xfrm>
            <a:off x="5002200" y="3084840"/>
            <a:ext cx="2508840" cy="1826640"/>
            <a:chOff x="5002200" y="3084840"/>
            <a:chExt cx="2508840" cy="1826640"/>
          </a:xfrm>
        </p:grpSpPr>
        <p:grpSp>
          <p:nvGrpSpPr>
            <p:cNvPr id="1342" name="组合 8"/>
            <p:cNvGrpSpPr/>
            <p:nvPr/>
          </p:nvGrpSpPr>
          <p:grpSpPr>
            <a:xfrm>
              <a:off x="5002200" y="3084840"/>
              <a:ext cx="2508840" cy="1260000"/>
              <a:chOff x="5002200" y="3084840"/>
              <a:chExt cx="2508840" cy="1260000"/>
            </a:xfrm>
          </p:grpSpPr>
          <p:sp>
            <p:nvSpPr>
              <p:cNvPr id="1343" name="椭圆 104"/>
              <p:cNvSpPr/>
              <p:nvPr/>
            </p:nvSpPr>
            <p:spPr>
              <a:xfrm>
                <a:off x="5002200" y="3091680"/>
                <a:ext cx="1223640" cy="122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57150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344" name="直接连接符 113"/>
              <p:cNvCxnSpPr/>
              <p:nvPr/>
            </p:nvCxnSpPr>
            <p:spPr>
              <a:xfrm>
                <a:off x="6454440" y="3084840"/>
                <a:ext cx="360" cy="1260360"/>
              </a:xfrm>
              <a:prstGeom prst="straightConnector1">
                <a:avLst/>
              </a:prstGeom>
              <a:ln w="57150">
                <a:solidFill>
                  <a:srgbClr val="31b5d6"/>
                </a:solidFill>
              </a:ln>
            </p:spPr>
          </p:cxnSp>
          <p:sp>
            <p:nvSpPr>
              <p:cNvPr id="1345" name="矩形 8"/>
              <p:cNvSpPr/>
              <p:nvPr/>
            </p:nvSpPr>
            <p:spPr>
              <a:xfrm>
                <a:off x="6542640" y="3134160"/>
                <a:ext cx="968400" cy="10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30000"/>
                  </a:lnSpc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切断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传播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矩形 8"/>
            <p:cNvSpPr/>
            <p:nvPr/>
          </p:nvSpPr>
          <p:spPr>
            <a:xfrm>
              <a:off x="5101920" y="4425480"/>
              <a:ext cx="23097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危机进一步扩散前，利用数据识别出传播路径和可能影响，采取措施，切断传播路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组合 12"/>
          <p:cNvGrpSpPr/>
          <p:nvPr/>
        </p:nvGrpSpPr>
        <p:grpSpPr>
          <a:xfrm>
            <a:off x="8411760" y="2184840"/>
            <a:ext cx="2553480" cy="1960560"/>
            <a:chOff x="8411760" y="2184840"/>
            <a:chExt cx="2553480" cy="1960560"/>
          </a:xfrm>
        </p:grpSpPr>
        <p:grpSp>
          <p:nvGrpSpPr>
            <p:cNvPr id="1348" name="组合 9"/>
            <p:cNvGrpSpPr/>
            <p:nvPr/>
          </p:nvGrpSpPr>
          <p:grpSpPr>
            <a:xfrm>
              <a:off x="8411760" y="2184840"/>
              <a:ext cx="2553480" cy="1260000"/>
              <a:chOff x="8411760" y="2184840"/>
              <a:chExt cx="2553480" cy="1260000"/>
            </a:xfrm>
          </p:grpSpPr>
          <p:sp>
            <p:nvSpPr>
              <p:cNvPr id="1349" name="椭圆 111"/>
              <p:cNvSpPr/>
              <p:nvPr/>
            </p:nvSpPr>
            <p:spPr>
              <a:xfrm>
                <a:off x="8411760" y="2184840"/>
                <a:ext cx="1223640" cy="122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57150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350" name="直接连接符 114"/>
              <p:cNvCxnSpPr/>
              <p:nvPr/>
            </p:nvCxnSpPr>
            <p:spPr>
              <a:xfrm>
                <a:off x="9871200" y="2184840"/>
                <a:ext cx="360" cy="1260360"/>
              </a:xfrm>
              <a:prstGeom prst="straightConnector1">
                <a:avLst/>
              </a:prstGeom>
              <a:ln w="57150">
                <a:solidFill>
                  <a:srgbClr val="000000"/>
                </a:solidFill>
              </a:ln>
            </p:spPr>
          </p:cxnSp>
          <p:sp>
            <p:nvSpPr>
              <p:cNvPr id="1351" name="矩形 8"/>
              <p:cNvSpPr/>
              <p:nvPr/>
            </p:nvSpPr>
            <p:spPr>
              <a:xfrm>
                <a:off x="9996840" y="2294280"/>
                <a:ext cx="968400" cy="56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30000"/>
                  </a:lnSpc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智慧医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2" name="矩形 8"/>
            <p:cNvSpPr/>
            <p:nvPr/>
          </p:nvSpPr>
          <p:spPr>
            <a:xfrm>
              <a:off x="8533800" y="3659400"/>
              <a:ext cx="23097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利用医疗卫生数据提升医疗效率，助力机构迅速、灵活、正确地诊断和治疗疾病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27"/>
          <p:cNvSpPr/>
          <p:nvPr/>
        </p:nvSpPr>
        <p:spPr>
          <a:xfrm>
            <a:off x="2400120" y="217800"/>
            <a:ext cx="9964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62626"/>
                </a:solidFill>
                <a:latin typeface="华康俪金黑W8(P)"/>
                <a:ea typeface="华康俪金黑W8(P)"/>
              </a:rPr>
              <a:t>目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29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199" name="组合 30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200" name="图片 88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椭圆 89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02" name="组合 31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203" name="图片 86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椭圆 87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05" name="组合 32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206" name="图片 84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椭圆 85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08" name="组合 33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209" name="图片 82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椭圆 83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11" name="组合 34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212" name="图片 80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椭圆 81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14" name="组合 35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215" name="椭圆 78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16" name="图片 79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7" name="组合 36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218" name="椭圆 76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19" name="图片 77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0" name="组合 37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221" name="椭圆 74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22" name="图片 75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3" name="组合 38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224" name="椭圆 72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25" name="图片 73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6" name="组合 39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227" name="椭圆 70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28" name="图片 71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" name="组合 40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230" name="椭圆 68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31" name="图片 69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2" name="组合 41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233" name="椭圆 66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34" name="图片 67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5" name="组合 42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236" name="椭圆 64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37" name="图片 65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8" name="组合 43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239" name="椭圆 62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40" name="图片 63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" name="组合 44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242" name="图片 60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椭圆 61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244" name="直接连接符 45"/>
            <p:cNvCxnSpPr>
              <a:stCxn id="224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45" name="直接连接符 46"/>
            <p:cNvCxnSpPr>
              <a:stCxn id="243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46" name="直接连接符 47"/>
            <p:cNvCxnSpPr>
              <a:stCxn id="215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47" name="直接连接符 48"/>
            <p:cNvCxnSpPr>
              <a:stCxn id="207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48" name="直接连接符 49"/>
            <p:cNvCxnSpPr>
              <a:stCxn id="201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49" name="直接连接符 50"/>
            <p:cNvCxnSpPr>
              <a:stCxn id="227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0" name="直接连接符 51"/>
            <p:cNvCxnSpPr>
              <a:stCxn id="239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1" name="直接连接符 52"/>
            <p:cNvCxnSpPr>
              <a:stCxn id="210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2" name="直接连接符 53"/>
            <p:cNvCxnSpPr>
              <a:stCxn id="213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3" name="直接连接符 54"/>
            <p:cNvCxnSpPr>
              <a:stCxn id="221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4" name="直接连接符 55"/>
            <p:cNvCxnSpPr>
              <a:stCxn id="233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5" name="直接连接符 56"/>
            <p:cNvCxnSpPr>
              <a:stCxn id="218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6" name="直接连接符 57"/>
            <p:cNvCxnSpPr>
              <a:stCxn id="204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7" name="直接连接符 58"/>
            <p:cNvCxnSpPr>
              <a:stCxn id="236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258" name="直接连接符 59"/>
            <p:cNvCxnSpPr>
              <a:stCxn id="230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259" name="文本框 105"/>
          <p:cNvSpPr/>
          <p:nvPr/>
        </p:nvSpPr>
        <p:spPr>
          <a:xfrm>
            <a:off x="3930120" y="2787120"/>
            <a:ext cx="3198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31b5d6"/>
                </a:solidFill>
                <a:latin typeface="华康俪金黑W8(P)"/>
                <a:ea typeface="华康俪金黑W8(P)"/>
              </a:rPr>
              <a:t>万千气象：感受数据之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06"/>
          <p:cNvSpPr/>
          <p:nvPr/>
        </p:nvSpPr>
        <p:spPr>
          <a:xfrm>
            <a:off x="3742920" y="3966840"/>
            <a:ext cx="2649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784a5"/>
                </a:solidFill>
                <a:latin typeface="华康俪金黑W8(P)"/>
                <a:ea typeface="华康俪金黑W8(P)"/>
              </a:rPr>
              <a:t>多胜算：驾驭大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07"/>
          <p:cNvSpPr/>
          <p:nvPr/>
        </p:nvSpPr>
        <p:spPr>
          <a:xfrm>
            <a:off x="3836520" y="5165280"/>
            <a:ext cx="292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262626"/>
                </a:solidFill>
                <a:latin typeface="华康俪金黑W8(P)"/>
                <a:ea typeface="华康俪金黑W8(P)"/>
              </a:rPr>
              <a:t>智慧政府：大数据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90"/>
          <p:cNvSpPr/>
          <p:nvPr/>
        </p:nvSpPr>
        <p:spPr>
          <a:xfrm>
            <a:off x="2340360" y="2831400"/>
            <a:ext cx="557640" cy="557640"/>
          </a:xfrm>
          <a:prstGeom prst="ellipse">
            <a:avLst/>
          </a:prstGeom>
          <a:noFill/>
          <a:ln w="28575">
            <a:solidFill>
              <a:srgbClr val="31b5d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31b5d6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91"/>
          <p:cNvSpPr/>
          <p:nvPr/>
        </p:nvSpPr>
        <p:spPr>
          <a:xfrm>
            <a:off x="2340360" y="4011120"/>
            <a:ext cx="557640" cy="557640"/>
          </a:xfrm>
          <a:prstGeom prst="ellipse">
            <a:avLst/>
          </a:prstGeom>
          <a:noFill/>
          <a:ln w="28575">
            <a:solidFill>
              <a:srgbClr val="f784a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784a5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92"/>
          <p:cNvSpPr/>
          <p:nvPr/>
        </p:nvSpPr>
        <p:spPr>
          <a:xfrm>
            <a:off x="2340360" y="5209200"/>
            <a:ext cx="557640" cy="557640"/>
          </a:xfrm>
          <a:prstGeom prst="ellipse">
            <a:avLst/>
          </a:prstGeom>
          <a:noFill/>
          <a:ln w="28575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347" descr=""/>
          <p:cNvPicPr/>
          <p:nvPr/>
        </p:nvPicPr>
        <p:blipFill>
          <a:blip r:embed="rId1"/>
          <a:srcRect l="0" t="0" r="2273" b="20894"/>
          <a:stretch/>
        </p:blipFill>
        <p:spPr>
          <a:xfrm>
            <a:off x="8320680" y="1832400"/>
            <a:ext cx="3046680" cy="40388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grpSp>
        <p:nvGrpSpPr>
          <p:cNvPr id="266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267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268" name="图片 332" descr=""/>
              <p:cNvPicPr/>
              <p:nvPr/>
            </p:nvPicPr>
            <p:blipFill>
              <a:blip r:embed="rId2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70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271" name="图片 330" descr=""/>
              <p:cNvPicPr/>
              <p:nvPr/>
            </p:nvPicPr>
            <p:blipFill>
              <a:blip r:embed="rId3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73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274" name="图片 328" descr=""/>
              <p:cNvPicPr/>
              <p:nvPr/>
            </p:nvPicPr>
            <p:blipFill>
              <a:blip r:embed="rId4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76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277" name="图片 326" descr=""/>
              <p:cNvPicPr/>
              <p:nvPr/>
            </p:nvPicPr>
            <p:blipFill>
              <a:blip r:embed="rId5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79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280" name="图片 324" descr=""/>
              <p:cNvPicPr/>
              <p:nvPr/>
            </p:nvPicPr>
            <p:blipFill>
              <a:blip r:embed="rId6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82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283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84" name="图片 323" descr=""/>
              <p:cNvPicPr/>
              <p:nvPr/>
            </p:nvPicPr>
            <p:blipFill>
              <a:blip r:embed="rId7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5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286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87" name="图片 321" descr=""/>
              <p:cNvPicPr/>
              <p:nvPr/>
            </p:nvPicPr>
            <p:blipFill>
              <a:blip r:embed="rId8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8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289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90" name="图片 319" descr=""/>
              <p:cNvPicPr/>
              <p:nvPr/>
            </p:nvPicPr>
            <p:blipFill>
              <a:blip r:embed="rId9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292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93" name="图片 317" descr=""/>
              <p:cNvPicPr/>
              <p:nvPr/>
            </p:nvPicPr>
            <p:blipFill>
              <a:blip r:embed="rId10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4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295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96" name="图片 3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298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299" name="图片 313" descr=""/>
              <p:cNvPicPr/>
              <p:nvPr/>
            </p:nvPicPr>
            <p:blipFill>
              <a:blip r:embed="rId12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0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301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302" name="图片 311" descr=""/>
              <p:cNvPicPr/>
              <p:nvPr/>
            </p:nvPicPr>
            <p:blipFill>
              <a:blip r:embed="rId13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3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304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305" name="图片 309" descr=""/>
              <p:cNvPicPr/>
              <p:nvPr/>
            </p:nvPicPr>
            <p:blipFill>
              <a:blip r:embed="rId14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6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307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308" name="图片 307" descr=""/>
              <p:cNvPicPr/>
              <p:nvPr/>
            </p:nvPicPr>
            <p:blipFill>
              <a:blip r:embed="rId15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9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310" name="图片 304" descr=""/>
              <p:cNvPicPr/>
              <p:nvPr/>
            </p:nvPicPr>
            <p:blipFill>
              <a:blip r:embed="rId16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312" name="直接连接符 289"/>
            <p:cNvCxnSpPr>
              <a:stCxn id="292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13" name="直接连接符 290"/>
            <p:cNvCxnSpPr>
              <a:stCxn id="311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14" name="直接连接符 291"/>
            <p:cNvCxnSpPr>
              <a:stCxn id="283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15" name="直接连接符 292"/>
            <p:cNvCxnSpPr>
              <a:stCxn id="275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16" name="直接连接符 293"/>
            <p:cNvCxnSpPr>
              <a:stCxn id="269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17" name="直接连接符 294"/>
            <p:cNvCxnSpPr>
              <a:stCxn id="295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18" name="直接连接符 295"/>
            <p:cNvCxnSpPr>
              <a:stCxn id="307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19" name="直接连接符 296"/>
            <p:cNvCxnSpPr>
              <a:stCxn id="278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20" name="直接连接符 297"/>
            <p:cNvCxnSpPr>
              <a:stCxn id="281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21" name="直接连接符 298"/>
            <p:cNvCxnSpPr>
              <a:stCxn id="289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22" name="直接连接符 299"/>
            <p:cNvCxnSpPr>
              <a:stCxn id="301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23" name="直接连接符 300"/>
            <p:cNvCxnSpPr>
              <a:stCxn id="286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24" name="直接连接符 301"/>
            <p:cNvCxnSpPr>
              <a:stCxn id="272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25" name="直接连接符 302"/>
            <p:cNvCxnSpPr>
              <a:stCxn id="304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326" name="直接连接符 303"/>
            <p:cNvCxnSpPr>
              <a:stCxn id="298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grpSp>
        <p:nvGrpSpPr>
          <p:cNvPr id="327" name="组合 342"/>
          <p:cNvGrpSpPr/>
          <p:nvPr/>
        </p:nvGrpSpPr>
        <p:grpSpPr>
          <a:xfrm>
            <a:off x="655200" y="1031760"/>
            <a:ext cx="10477080" cy="66600"/>
            <a:chOff x="655200" y="1031760"/>
            <a:chExt cx="10477080" cy="66600"/>
          </a:xfrm>
        </p:grpSpPr>
        <p:sp>
          <p:nvSpPr>
            <p:cNvPr id="328" name="矩形 267"/>
            <p:cNvSpPr/>
            <p:nvPr/>
          </p:nvSpPr>
          <p:spPr>
            <a:xfrm flipV="1">
              <a:off x="65520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矩形 268"/>
            <p:cNvSpPr/>
            <p:nvPr/>
          </p:nvSpPr>
          <p:spPr>
            <a:xfrm flipV="1">
              <a:off x="215208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矩形 269"/>
            <p:cNvSpPr/>
            <p:nvPr/>
          </p:nvSpPr>
          <p:spPr>
            <a:xfrm flipV="1">
              <a:off x="364896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1" name="矩形 270"/>
            <p:cNvSpPr/>
            <p:nvPr/>
          </p:nvSpPr>
          <p:spPr>
            <a:xfrm flipV="1">
              <a:off x="514548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2" name="矩形 271"/>
            <p:cNvSpPr/>
            <p:nvPr/>
          </p:nvSpPr>
          <p:spPr>
            <a:xfrm flipV="1">
              <a:off x="664236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3" name="矩形 272"/>
            <p:cNvSpPr/>
            <p:nvPr/>
          </p:nvSpPr>
          <p:spPr>
            <a:xfrm flipV="1">
              <a:off x="8138880" y="1031040"/>
              <a:ext cx="1496520" cy="66600"/>
            </a:xfrm>
            <a:prstGeom prst="rect">
              <a:avLst/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4" name="矩形 273"/>
            <p:cNvSpPr/>
            <p:nvPr/>
          </p:nvSpPr>
          <p:spPr>
            <a:xfrm flipV="1">
              <a:off x="9635760" y="1031040"/>
              <a:ext cx="1496520" cy="6660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35" name="文本框 335"/>
          <p:cNvSpPr/>
          <p:nvPr/>
        </p:nvSpPr>
        <p:spPr>
          <a:xfrm>
            <a:off x="3640320" y="331200"/>
            <a:ext cx="3533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31b5d6"/>
                </a:solidFill>
                <a:latin typeface="华康俪金黑W8(P)"/>
                <a:ea typeface="华康俪金黑W8(P)"/>
              </a:rPr>
              <a:t>万千气象：感受数据之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338"/>
          <p:cNvSpPr/>
          <p:nvPr/>
        </p:nvSpPr>
        <p:spPr>
          <a:xfrm>
            <a:off x="1626840" y="124740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31b5d6"/>
                </a:solidFill>
                <a:latin typeface="华康俪金黑W8(P)"/>
                <a:ea typeface="华康俪金黑W8(P)"/>
              </a:rPr>
              <a:t>什么是大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339"/>
          <p:cNvSpPr/>
          <p:nvPr/>
        </p:nvSpPr>
        <p:spPr>
          <a:xfrm>
            <a:off x="679680" y="1316520"/>
            <a:ext cx="445680" cy="446040"/>
          </a:xfrm>
          <a:prstGeom prst="ellipse">
            <a:avLst/>
          </a:prstGeom>
          <a:noFill/>
          <a:ln w="28575">
            <a:solidFill>
              <a:srgbClr val="31b5d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31b5d6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340"/>
          <p:cNvSpPr/>
          <p:nvPr/>
        </p:nvSpPr>
        <p:spPr>
          <a:xfrm>
            <a:off x="1168200" y="2693880"/>
            <a:ext cx="6598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大数据是需要新处理模式才能具有更强的决策力、洞察力和流程优化能力的海量、高增长率和多样化的信息资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圆角矩形 343"/>
          <p:cNvSpPr/>
          <p:nvPr/>
        </p:nvSpPr>
        <p:spPr>
          <a:xfrm>
            <a:off x="1188360" y="4991040"/>
            <a:ext cx="7688520" cy="850680"/>
          </a:xfrm>
          <a:prstGeom prst="roundRect">
            <a:avLst>
              <a:gd name="adj" fmla="val 9394"/>
            </a:avLst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0" name="矩形 346"/>
          <p:cNvSpPr/>
          <p:nvPr/>
        </p:nvSpPr>
        <p:spPr>
          <a:xfrm>
            <a:off x="2665440" y="5062680"/>
            <a:ext cx="3533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，社会变革的结合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77"/>
          <p:cNvSpPr/>
          <p:nvPr/>
        </p:nvSpPr>
        <p:spPr>
          <a:xfrm>
            <a:off x="1168200" y="4249080"/>
            <a:ext cx="6598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大数据的核心是数据，再是数据技术和思维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1"/>
          <p:cNvGrpSpPr/>
          <p:nvPr/>
        </p:nvGrpSpPr>
        <p:grpSpPr>
          <a:xfrm>
            <a:off x="5756040" y="1350720"/>
            <a:ext cx="4966920" cy="4935600"/>
            <a:chOff x="5756040" y="1350720"/>
            <a:chExt cx="4966920" cy="4935600"/>
          </a:xfrm>
        </p:grpSpPr>
        <p:sp>
          <p:nvSpPr>
            <p:cNvPr id="343" name="Freeform 35"/>
            <p:cNvSpPr/>
            <p:nvPr/>
          </p:nvSpPr>
          <p:spPr>
            <a:xfrm flipH="1">
              <a:off x="5765760" y="1350720"/>
              <a:ext cx="2376000" cy="2376000"/>
            </a:xfrm>
            <a:custGeom>
              <a:avLst/>
              <a:gdLst>
                <a:gd name="textAreaLeft" fmla="*/ 360 w 2376000"/>
                <a:gd name="textAreaRight" fmla="*/ 2376720 w 2376000"/>
                <a:gd name="textAreaTop" fmla="*/ 0 h 2376000"/>
                <a:gd name="textAreaBottom" fmla="*/ 2376360 h 2376000"/>
              </a:gdLst>
              <a:ahLst/>
              <a:rect l="textAreaLeft" t="textAreaTop" r="textAreaRight" b="textAreaBottom"/>
              <a:pathLst>
                <a:path w="1016" h="1016">
                  <a:moveTo>
                    <a:pt x="508" y="0"/>
                  </a:moveTo>
                  <a:cubicBezTo>
                    <a:pt x="227" y="0"/>
                    <a:pt x="0" y="227"/>
                    <a:pt x="0" y="508"/>
                  </a:cubicBezTo>
                  <a:cubicBezTo>
                    <a:pt x="0" y="1016"/>
                    <a:pt x="0" y="1016"/>
                    <a:pt x="0" y="1016"/>
                  </a:cubicBezTo>
                  <a:cubicBezTo>
                    <a:pt x="508" y="1016"/>
                    <a:pt x="508" y="1016"/>
                    <a:pt x="508" y="1016"/>
                  </a:cubicBezTo>
                  <a:cubicBezTo>
                    <a:pt x="789" y="1016"/>
                    <a:pt x="1016" y="789"/>
                    <a:pt x="1016" y="508"/>
                  </a:cubicBezTo>
                  <a:cubicBezTo>
                    <a:pt x="1016" y="227"/>
                    <a:pt x="789" y="0"/>
                    <a:pt x="508" y="0"/>
                  </a:cubicBezTo>
                  <a:close/>
                </a:path>
              </a:pathLst>
            </a:cu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4" name="Freeform 35"/>
            <p:cNvSpPr/>
            <p:nvPr/>
          </p:nvSpPr>
          <p:spPr>
            <a:xfrm>
              <a:off x="8346960" y="1350720"/>
              <a:ext cx="2376000" cy="2376000"/>
            </a:xfrm>
            <a:custGeom>
              <a:avLst/>
              <a:gdLst>
                <a:gd name="textAreaLeft" fmla="*/ 0 w 2376000"/>
                <a:gd name="textAreaRight" fmla="*/ 2376360 w 2376000"/>
                <a:gd name="textAreaTop" fmla="*/ 0 h 2376000"/>
                <a:gd name="textAreaBottom" fmla="*/ 2376360 h 2376000"/>
              </a:gdLst>
              <a:ahLst/>
              <a:rect l="textAreaLeft" t="textAreaTop" r="textAreaRight" b="textAreaBottom"/>
              <a:pathLst>
                <a:path w="1016" h="1016">
                  <a:moveTo>
                    <a:pt x="508" y="0"/>
                  </a:moveTo>
                  <a:cubicBezTo>
                    <a:pt x="227" y="0"/>
                    <a:pt x="0" y="227"/>
                    <a:pt x="0" y="508"/>
                  </a:cubicBezTo>
                  <a:cubicBezTo>
                    <a:pt x="0" y="1016"/>
                    <a:pt x="0" y="1016"/>
                    <a:pt x="0" y="1016"/>
                  </a:cubicBezTo>
                  <a:cubicBezTo>
                    <a:pt x="508" y="1016"/>
                    <a:pt x="508" y="1016"/>
                    <a:pt x="508" y="1016"/>
                  </a:cubicBezTo>
                  <a:cubicBezTo>
                    <a:pt x="789" y="1016"/>
                    <a:pt x="1016" y="789"/>
                    <a:pt x="1016" y="508"/>
                  </a:cubicBezTo>
                  <a:cubicBezTo>
                    <a:pt x="1016" y="227"/>
                    <a:pt x="789" y="0"/>
                    <a:pt x="508" y="0"/>
                  </a:cubicBezTo>
                  <a:close/>
                </a:path>
              </a:pathLst>
            </a:cu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5" name="矩形 22"/>
            <p:cNvSpPr/>
            <p:nvPr/>
          </p:nvSpPr>
          <p:spPr>
            <a:xfrm>
              <a:off x="8342280" y="3899520"/>
              <a:ext cx="2376000" cy="2376000"/>
            </a:xfrm>
            <a:custGeom>
              <a:avLst/>
              <a:gdLst>
                <a:gd name="textAreaLeft" fmla="*/ 0 w 2376000"/>
                <a:gd name="textAreaRight" fmla="*/ 2376360 w 2376000"/>
                <a:gd name="textAreaTop" fmla="*/ 0 h 2376000"/>
                <a:gd name="textAreaBottom" fmla="*/ 2376360 h 2376000"/>
              </a:gdLst>
              <a:ahLst/>
              <a:rect l="textAreaLeft" t="textAreaTop" r="textAreaRight" b="textAreaBottom"/>
              <a:pathLst>
                <a:path w="2376488" h="2376487">
                  <a:moveTo>
                    <a:pt x="0" y="0"/>
                  </a:moveTo>
                  <a:cubicBezTo>
                    <a:pt x="1188244" y="0"/>
                    <a:pt x="1188244" y="0"/>
                    <a:pt x="1188244" y="0"/>
                  </a:cubicBezTo>
                  <a:cubicBezTo>
                    <a:pt x="1845521" y="0"/>
                    <a:pt x="2376488" y="530967"/>
                    <a:pt x="2376488" y="1188243"/>
                  </a:cubicBezTo>
                  <a:cubicBezTo>
                    <a:pt x="2376488" y="1845520"/>
                    <a:pt x="1845521" y="2376487"/>
                    <a:pt x="1188244" y="2376487"/>
                  </a:cubicBezTo>
                  <a:cubicBezTo>
                    <a:pt x="530967" y="2376487"/>
                    <a:pt x="0" y="1845520"/>
                    <a:pt x="0" y="1188243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矩形 26"/>
            <p:cNvSpPr/>
            <p:nvPr/>
          </p:nvSpPr>
          <p:spPr>
            <a:xfrm>
              <a:off x="5756040" y="3910320"/>
              <a:ext cx="2376000" cy="2376000"/>
            </a:xfrm>
            <a:custGeom>
              <a:avLst/>
              <a:gdLst>
                <a:gd name="textAreaLeft" fmla="*/ 0 w 2376000"/>
                <a:gd name="textAreaRight" fmla="*/ 2376360 w 2376000"/>
                <a:gd name="textAreaTop" fmla="*/ 0 h 2376000"/>
                <a:gd name="textAreaBottom" fmla="*/ 2376360 h 2376000"/>
              </a:gdLst>
              <a:ahLst/>
              <a:rect l="textAreaLeft" t="textAreaTop" r="textAreaRight" b="textAreaBottom"/>
              <a:pathLst>
                <a:path w="2376487" h="2376487">
                  <a:moveTo>
                    <a:pt x="1188244" y="0"/>
                  </a:moveTo>
                  <a:cubicBezTo>
                    <a:pt x="1188256" y="0"/>
                    <a:pt x="1192038" y="0"/>
                    <a:pt x="2376487" y="0"/>
                  </a:cubicBezTo>
                  <a:cubicBezTo>
                    <a:pt x="2376487" y="19"/>
                    <a:pt x="2376487" y="4713"/>
                    <a:pt x="2376487" y="1188244"/>
                  </a:cubicBezTo>
                  <a:cubicBezTo>
                    <a:pt x="2376487" y="1845520"/>
                    <a:pt x="1845520" y="2376487"/>
                    <a:pt x="1188244" y="2376487"/>
                  </a:cubicBezTo>
                  <a:cubicBezTo>
                    <a:pt x="530967" y="2376487"/>
                    <a:pt x="0" y="1845520"/>
                    <a:pt x="0" y="1188244"/>
                  </a:cubicBezTo>
                  <a:cubicBezTo>
                    <a:pt x="0" y="530967"/>
                    <a:pt x="530967" y="0"/>
                    <a:pt x="1188244" y="0"/>
                  </a:cubicBezTo>
                  <a:close/>
                </a:path>
              </a:pathLst>
            </a:cu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7" name="TextBox 1"/>
            <p:cNvSpPr/>
            <p:nvPr/>
          </p:nvSpPr>
          <p:spPr>
            <a:xfrm>
              <a:off x="7227000" y="332532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容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50"/>
            <p:cNvSpPr/>
            <p:nvPr/>
          </p:nvSpPr>
          <p:spPr>
            <a:xfrm>
              <a:off x="8679960" y="332532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速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51"/>
            <p:cNvSpPr/>
            <p:nvPr/>
          </p:nvSpPr>
          <p:spPr>
            <a:xfrm>
              <a:off x="8679960" y="393876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真实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Box 52"/>
            <p:cNvSpPr/>
            <p:nvPr/>
          </p:nvSpPr>
          <p:spPr>
            <a:xfrm>
              <a:off x="7227000" y="393876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多样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椭圆 22"/>
            <p:cNvSpPr/>
            <p:nvPr/>
          </p:nvSpPr>
          <p:spPr>
            <a:xfrm>
              <a:off x="6043680" y="1653120"/>
              <a:ext cx="1691640" cy="1691640"/>
            </a:xfrm>
            <a:prstGeom prst="ellipse">
              <a:avLst/>
            </a:prstGeom>
            <a:solidFill>
              <a:schemeClr val="bg2"/>
            </a:solidFill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2" name="椭圆 24"/>
            <p:cNvSpPr/>
            <p:nvPr/>
          </p:nvSpPr>
          <p:spPr>
            <a:xfrm>
              <a:off x="6465600" y="2062800"/>
              <a:ext cx="134640" cy="134640"/>
            </a:xfrm>
            <a:prstGeom prst="ellipse">
              <a:avLst/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3" name="椭圆 25"/>
            <p:cNvSpPr/>
            <p:nvPr/>
          </p:nvSpPr>
          <p:spPr>
            <a:xfrm>
              <a:off x="6643800" y="2062800"/>
              <a:ext cx="134640" cy="134640"/>
            </a:xfrm>
            <a:prstGeom prst="ellipse">
              <a:avLst/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4" name="椭圆 26"/>
            <p:cNvSpPr/>
            <p:nvPr/>
          </p:nvSpPr>
          <p:spPr>
            <a:xfrm>
              <a:off x="6822000" y="2062800"/>
              <a:ext cx="134640" cy="134640"/>
            </a:xfrm>
            <a:prstGeom prst="ellipse">
              <a:avLst/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5" name="椭圆 27"/>
            <p:cNvSpPr/>
            <p:nvPr/>
          </p:nvSpPr>
          <p:spPr>
            <a:xfrm>
              <a:off x="7000200" y="2062800"/>
              <a:ext cx="134640" cy="134640"/>
            </a:xfrm>
            <a:prstGeom prst="ellipse">
              <a:avLst/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6" name="椭圆 28"/>
            <p:cNvSpPr/>
            <p:nvPr/>
          </p:nvSpPr>
          <p:spPr>
            <a:xfrm>
              <a:off x="7178400" y="2062800"/>
              <a:ext cx="134640" cy="134640"/>
            </a:xfrm>
            <a:prstGeom prst="ellipse">
              <a:avLst/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7" name="椭圆 29"/>
            <p:cNvSpPr/>
            <p:nvPr/>
          </p:nvSpPr>
          <p:spPr>
            <a:xfrm>
              <a:off x="6465600" y="224712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8" name="椭圆 30"/>
            <p:cNvSpPr/>
            <p:nvPr/>
          </p:nvSpPr>
          <p:spPr>
            <a:xfrm>
              <a:off x="6643800" y="224712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9" name="椭圆 31"/>
            <p:cNvSpPr/>
            <p:nvPr/>
          </p:nvSpPr>
          <p:spPr>
            <a:xfrm>
              <a:off x="6822000" y="224712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0" name="椭圆 32"/>
            <p:cNvSpPr/>
            <p:nvPr/>
          </p:nvSpPr>
          <p:spPr>
            <a:xfrm>
              <a:off x="7000200" y="224712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1" name="椭圆 33"/>
            <p:cNvSpPr/>
            <p:nvPr/>
          </p:nvSpPr>
          <p:spPr>
            <a:xfrm>
              <a:off x="7178400" y="224712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2" name="椭圆 34"/>
            <p:cNvSpPr/>
            <p:nvPr/>
          </p:nvSpPr>
          <p:spPr>
            <a:xfrm>
              <a:off x="6465600" y="243144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3" name="椭圆 35"/>
            <p:cNvSpPr/>
            <p:nvPr/>
          </p:nvSpPr>
          <p:spPr>
            <a:xfrm>
              <a:off x="6643800" y="243144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4" name="椭圆 36"/>
            <p:cNvSpPr/>
            <p:nvPr/>
          </p:nvSpPr>
          <p:spPr>
            <a:xfrm>
              <a:off x="6822000" y="243144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5" name="椭圆 37"/>
            <p:cNvSpPr/>
            <p:nvPr/>
          </p:nvSpPr>
          <p:spPr>
            <a:xfrm>
              <a:off x="7000200" y="243144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6" name="椭圆 38"/>
            <p:cNvSpPr/>
            <p:nvPr/>
          </p:nvSpPr>
          <p:spPr>
            <a:xfrm>
              <a:off x="7178400" y="2431440"/>
              <a:ext cx="134640" cy="134640"/>
            </a:xfrm>
            <a:prstGeom prst="ellipse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7" name="椭圆 39"/>
            <p:cNvSpPr/>
            <p:nvPr/>
          </p:nvSpPr>
          <p:spPr>
            <a:xfrm>
              <a:off x="6465600" y="261576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8" name="椭圆 40"/>
            <p:cNvSpPr/>
            <p:nvPr/>
          </p:nvSpPr>
          <p:spPr>
            <a:xfrm>
              <a:off x="6643800" y="261576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9" name="椭圆 41"/>
            <p:cNvSpPr/>
            <p:nvPr/>
          </p:nvSpPr>
          <p:spPr>
            <a:xfrm>
              <a:off x="6822000" y="261576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0" name="椭圆 42"/>
            <p:cNvSpPr/>
            <p:nvPr/>
          </p:nvSpPr>
          <p:spPr>
            <a:xfrm>
              <a:off x="7000200" y="261576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1" name="椭圆 43"/>
            <p:cNvSpPr/>
            <p:nvPr/>
          </p:nvSpPr>
          <p:spPr>
            <a:xfrm>
              <a:off x="7178400" y="261576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2" name="椭圆 44"/>
            <p:cNvSpPr/>
            <p:nvPr/>
          </p:nvSpPr>
          <p:spPr>
            <a:xfrm>
              <a:off x="6465600" y="280008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椭圆 45"/>
            <p:cNvSpPr/>
            <p:nvPr/>
          </p:nvSpPr>
          <p:spPr>
            <a:xfrm>
              <a:off x="6643800" y="280008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4" name="椭圆 46"/>
            <p:cNvSpPr/>
            <p:nvPr/>
          </p:nvSpPr>
          <p:spPr>
            <a:xfrm>
              <a:off x="6822000" y="280008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5" name="椭圆 47"/>
            <p:cNvSpPr/>
            <p:nvPr/>
          </p:nvSpPr>
          <p:spPr>
            <a:xfrm>
              <a:off x="7000200" y="280008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6" name="椭圆 48"/>
            <p:cNvSpPr/>
            <p:nvPr/>
          </p:nvSpPr>
          <p:spPr>
            <a:xfrm>
              <a:off x="7178400" y="2800080"/>
              <a:ext cx="134640" cy="134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7" name="椭圆 50"/>
            <p:cNvSpPr/>
            <p:nvPr/>
          </p:nvSpPr>
          <p:spPr>
            <a:xfrm>
              <a:off x="8659440" y="1653480"/>
              <a:ext cx="1691640" cy="1691640"/>
            </a:xfrm>
            <a:prstGeom prst="ellipse">
              <a:avLst/>
            </a:prstGeom>
            <a:solidFill>
              <a:schemeClr val="bg2"/>
            </a:solidFill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78" name="组合 52"/>
            <p:cNvGrpSpPr/>
            <p:nvPr/>
          </p:nvGrpSpPr>
          <p:grpSpPr>
            <a:xfrm>
              <a:off x="9047520" y="2035080"/>
              <a:ext cx="354600" cy="142200"/>
              <a:chOff x="9047520" y="2035080"/>
              <a:chExt cx="354600" cy="142200"/>
            </a:xfrm>
          </p:grpSpPr>
          <p:sp>
            <p:nvSpPr>
              <p:cNvPr id="379" name="椭圆 89"/>
              <p:cNvSpPr/>
              <p:nvPr/>
            </p:nvSpPr>
            <p:spPr>
              <a:xfrm>
                <a:off x="9259920" y="2035080"/>
                <a:ext cx="142200" cy="142200"/>
              </a:xfrm>
              <a:prstGeom prst="ellipse">
                <a:avLst/>
              </a:prstGeom>
              <a:solidFill>
                <a:srgbClr val="f784a5"/>
              </a:solidFill>
              <a:ln w="28575">
                <a:solidFill>
                  <a:srgbClr val="f784a5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80" name="组合 90"/>
              <p:cNvGrpSpPr/>
              <p:nvPr/>
            </p:nvGrpSpPr>
            <p:grpSpPr>
              <a:xfrm>
                <a:off x="9047520" y="2049480"/>
                <a:ext cx="269280" cy="118440"/>
                <a:chOff x="9047520" y="2049480"/>
                <a:chExt cx="269280" cy="118440"/>
              </a:xfrm>
            </p:grpSpPr>
            <p:cxnSp>
              <p:nvCxnSpPr>
                <p:cNvPr id="381" name="直接连接符 91"/>
                <p:cNvCxnSpPr/>
                <p:nvPr/>
              </p:nvCxnSpPr>
              <p:spPr>
                <a:xfrm>
                  <a:off x="9047520" y="2104200"/>
                  <a:ext cx="269640" cy="360"/>
                </a:xfrm>
                <a:prstGeom prst="straightConnector1">
                  <a:avLst/>
                </a:prstGeom>
                <a:ln w="28575">
                  <a:solidFill>
                    <a:srgbClr val="f784a5"/>
                  </a:solidFill>
                </a:ln>
              </p:spPr>
            </p:cxnSp>
            <p:cxnSp>
              <p:nvCxnSpPr>
                <p:cNvPr id="382" name="直接连接符 92"/>
                <p:cNvCxnSpPr/>
                <p:nvPr/>
              </p:nvCxnSpPr>
              <p:spPr>
                <a:xfrm>
                  <a:off x="9110880" y="216792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f784a5"/>
                  </a:solidFill>
                </a:ln>
              </p:spPr>
            </p:cxnSp>
            <p:cxnSp>
              <p:nvCxnSpPr>
                <p:cNvPr id="383" name="直接连接符 93"/>
                <p:cNvCxnSpPr/>
                <p:nvPr/>
              </p:nvCxnSpPr>
              <p:spPr>
                <a:xfrm>
                  <a:off x="9110880" y="204948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f784a5"/>
                  </a:solidFill>
                </a:ln>
              </p:spPr>
            </p:cxnSp>
          </p:grpSp>
        </p:grpSp>
        <p:grpSp>
          <p:nvGrpSpPr>
            <p:cNvPr id="384" name="组合 53"/>
            <p:cNvGrpSpPr/>
            <p:nvPr/>
          </p:nvGrpSpPr>
          <p:grpSpPr>
            <a:xfrm>
              <a:off x="9608400" y="2035080"/>
              <a:ext cx="354600" cy="142200"/>
              <a:chOff x="9608400" y="2035080"/>
              <a:chExt cx="354600" cy="142200"/>
            </a:xfrm>
          </p:grpSpPr>
          <p:sp>
            <p:nvSpPr>
              <p:cNvPr id="385" name="椭圆 84"/>
              <p:cNvSpPr/>
              <p:nvPr/>
            </p:nvSpPr>
            <p:spPr>
              <a:xfrm>
                <a:off x="9820800" y="2035080"/>
                <a:ext cx="142200" cy="142200"/>
              </a:xfrm>
              <a:prstGeom prst="ellipse">
                <a:avLst/>
              </a:prstGeom>
              <a:solidFill>
                <a:srgbClr val="f784a5"/>
              </a:solidFill>
              <a:ln w="28575">
                <a:solidFill>
                  <a:srgbClr val="f784a5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86" name="组合 85"/>
              <p:cNvGrpSpPr/>
              <p:nvPr/>
            </p:nvGrpSpPr>
            <p:grpSpPr>
              <a:xfrm>
                <a:off x="9608400" y="2049480"/>
                <a:ext cx="269280" cy="118440"/>
                <a:chOff x="9608400" y="2049480"/>
                <a:chExt cx="269280" cy="118440"/>
              </a:xfrm>
            </p:grpSpPr>
            <p:cxnSp>
              <p:nvCxnSpPr>
                <p:cNvPr id="387" name="直接连接符 86"/>
                <p:cNvCxnSpPr/>
                <p:nvPr/>
              </p:nvCxnSpPr>
              <p:spPr>
                <a:xfrm>
                  <a:off x="9608400" y="2104200"/>
                  <a:ext cx="269640" cy="360"/>
                </a:xfrm>
                <a:prstGeom prst="straightConnector1">
                  <a:avLst/>
                </a:prstGeom>
                <a:ln w="28575">
                  <a:solidFill>
                    <a:srgbClr val="f784a5"/>
                  </a:solidFill>
                </a:ln>
              </p:spPr>
            </p:cxnSp>
            <p:cxnSp>
              <p:nvCxnSpPr>
                <p:cNvPr id="388" name="直接连接符 87"/>
                <p:cNvCxnSpPr/>
                <p:nvPr/>
              </p:nvCxnSpPr>
              <p:spPr>
                <a:xfrm>
                  <a:off x="9671760" y="216792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f784a5"/>
                  </a:solidFill>
                </a:ln>
              </p:spPr>
            </p:cxnSp>
            <p:cxnSp>
              <p:nvCxnSpPr>
                <p:cNvPr id="389" name="直接连接符 88"/>
                <p:cNvCxnSpPr/>
                <p:nvPr/>
              </p:nvCxnSpPr>
              <p:spPr>
                <a:xfrm>
                  <a:off x="9671760" y="204948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f784a5"/>
                  </a:solidFill>
                </a:ln>
              </p:spPr>
            </p:cxnSp>
          </p:grpSp>
        </p:grpSp>
        <p:grpSp>
          <p:nvGrpSpPr>
            <p:cNvPr id="390" name="组合 54"/>
            <p:cNvGrpSpPr/>
            <p:nvPr/>
          </p:nvGrpSpPr>
          <p:grpSpPr>
            <a:xfrm>
              <a:off x="9316800" y="2253600"/>
              <a:ext cx="354600" cy="142200"/>
              <a:chOff x="9316800" y="2253600"/>
              <a:chExt cx="354600" cy="142200"/>
            </a:xfrm>
          </p:grpSpPr>
          <p:sp>
            <p:nvSpPr>
              <p:cNvPr id="391" name="椭圆 79"/>
              <p:cNvSpPr/>
              <p:nvPr/>
            </p:nvSpPr>
            <p:spPr>
              <a:xfrm>
                <a:off x="9529200" y="2253600"/>
                <a:ext cx="142200" cy="142200"/>
              </a:xfrm>
              <a:prstGeom prst="ellipse">
                <a:avLst/>
              </a:prstGeom>
              <a:solidFill>
                <a:srgbClr val="31b5d6"/>
              </a:solidFill>
              <a:ln w="28575">
                <a:solidFill>
                  <a:srgbClr val="31b5d6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92" name="组合 80"/>
              <p:cNvGrpSpPr/>
              <p:nvPr/>
            </p:nvGrpSpPr>
            <p:grpSpPr>
              <a:xfrm>
                <a:off x="9316800" y="2268000"/>
                <a:ext cx="269280" cy="118440"/>
                <a:chOff x="9316800" y="2268000"/>
                <a:chExt cx="269280" cy="118440"/>
              </a:xfrm>
            </p:grpSpPr>
            <p:cxnSp>
              <p:nvCxnSpPr>
                <p:cNvPr id="393" name="直接连接符 81"/>
                <p:cNvCxnSpPr/>
                <p:nvPr/>
              </p:nvCxnSpPr>
              <p:spPr>
                <a:xfrm>
                  <a:off x="9316800" y="2322720"/>
                  <a:ext cx="26964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  <p:cxnSp>
              <p:nvCxnSpPr>
                <p:cNvPr id="394" name="直接连接符 82"/>
                <p:cNvCxnSpPr/>
                <p:nvPr/>
              </p:nvCxnSpPr>
              <p:spPr>
                <a:xfrm>
                  <a:off x="9380160" y="238644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  <p:cxnSp>
              <p:nvCxnSpPr>
                <p:cNvPr id="395" name="直接连接符 83"/>
                <p:cNvCxnSpPr/>
                <p:nvPr/>
              </p:nvCxnSpPr>
              <p:spPr>
                <a:xfrm>
                  <a:off x="9380160" y="226800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</p:grpSp>
        </p:grpSp>
        <p:grpSp>
          <p:nvGrpSpPr>
            <p:cNvPr id="396" name="组合 55"/>
            <p:cNvGrpSpPr/>
            <p:nvPr/>
          </p:nvGrpSpPr>
          <p:grpSpPr>
            <a:xfrm>
              <a:off x="9047520" y="2450520"/>
              <a:ext cx="354600" cy="142200"/>
              <a:chOff x="9047520" y="2450520"/>
              <a:chExt cx="354600" cy="142200"/>
            </a:xfrm>
          </p:grpSpPr>
          <p:sp>
            <p:nvSpPr>
              <p:cNvPr id="397" name="椭圆 74"/>
              <p:cNvSpPr/>
              <p:nvPr/>
            </p:nvSpPr>
            <p:spPr>
              <a:xfrm>
                <a:off x="9259920" y="2450520"/>
                <a:ext cx="142200" cy="142200"/>
              </a:xfrm>
              <a:prstGeom prst="ellipse">
                <a:avLst/>
              </a:prstGeom>
              <a:solidFill>
                <a:srgbClr val="31b5d6"/>
              </a:solidFill>
              <a:ln w="28575">
                <a:solidFill>
                  <a:srgbClr val="31b5d6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98" name="组合 75"/>
              <p:cNvGrpSpPr/>
              <p:nvPr/>
            </p:nvGrpSpPr>
            <p:grpSpPr>
              <a:xfrm>
                <a:off x="9047520" y="2464920"/>
                <a:ext cx="269280" cy="118800"/>
                <a:chOff x="9047520" y="2464920"/>
                <a:chExt cx="269280" cy="118800"/>
              </a:xfrm>
            </p:grpSpPr>
            <p:cxnSp>
              <p:nvCxnSpPr>
                <p:cNvPr id="399" name="直接连接符 76"/>
                <p:cNvCxnSpPr/>
                <p:nvPr/>
              </p:nvCxnSpPr>
              <p:spPr>
                <a:xfrm>
                  <a:off x="9047520" y="2519640"/>
                  <a:ext cx="26964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  <p:cxnSp>
              <p:nvCxnSpPr>
                <p:cNvPr id="400" name="直接连接符 77"/>
                <p:cNvCxnSpPr/>
                <p:nvPr/>
              </p:nvCxnSpPr>
              <p:spPr>
                <a:xfrm>
                  <a:off x="9110880" y="258372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  <p:cxnSp>
              <p:nvCxnSpPr>
                <p:cNvPr id="401" name="直接连接符 78"/>
                <p:cNvCxnSpPr/>
                <p:nvPr/>
              </p:nvCxnSpPr>
              <p:spPr>
                <a:xfrm>
                  <a:off x="9110880" y="246492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</p:grpSp>
        </p:grpSp>
        <p:grpSp>
          <p:nvGrpSpPr>
            <p:cNvPr id="402" name="组合 56"/>
            <p:cNvGrpSpPr/>
            <p:nvPr/>
          </p:nvGrpSpPr>
          <p:grpSpPr>
            <a:xfrm>
              <a:off x="9182160" y="2676600"/>
              <a:ext cx="354600" cy="142200"/>
              <a:chOff x="9182160" y="2676600"/>
              <a:chExt cx="354600" cy="142200"/>
            </a:xfrm>
          </p:grpSpPr>
          <p:sp>
            <p:nvSpPr>
              <p:cNvPr id="403" name="椭圆 69"/>
              <p:cNvSpPr/>
              <p:nvPr/>
            </p:nvSpPr>
            <p:spPr>
              <a:xfrm>
                <a:off x="9394560" y="2676600"/>
                <a:ext cx="142200" cy="142200"/>
              </a:xfrm>
              <a:prstGeom prst="ellipse">
                <a:avLst/>
              </a:prstGeom>
              <a:solidFill>
                <a:schemeClr val="tx1"/>
              </a:solidFill>
              <a:ln w="28575">
                <a:solidFill>
                  <a:srgbClr val="000000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04" name="组合 70"/>
              <p:cNvGrpSpPr/>
              <p:nvPr/>
            </p:nvGrpSpPr>
            <p:grpSpPr>
              <a:xfrm>
                <a:off x="9182160" y="2691000"/>
                <a:ext cx="269280" cy="118440"/>
                <a:chOff x="9182160" y="2691000"/>
                <a:chExt cx="269280" cy="118440"/>
              </a:xfrm>
            </p:grpSpPr>
            <p:cxnSp>
              <p:nvCxnSpPr>
                <p:cNvPr id="405" name="直接连接符 71"/>
                <p:cNvCxnSpPr/>
                <p:nvPr/>
              </p:nvCxnSpPr>
              <p:spPr>
                <a:xfrm>
                  <a:off x="9182160" y="2745720"/>
                  <a:ext cx="269640" cy="360"/>
                </a:xfrm>
                <a:prstGeom prst="straightConnector1">
                  <a:avLst/>
                </a:prstGeom>
                <a:ln w="28575">
                  <a:solidFill>
                    <a:srgbClr val="000000"/>
                  </a:solidFill>
                </a:ln>
              </p:spPr>
            </p:cxnSp>
            <p:cxnSp>
              <p:nvCxnSpPr>
                <p:cNvPr id="406" name="直接连接符 72"/>
                <p:cNvCxnSpPr/>
                <p:nvPr/>
              </p:nvCxnSpPr>
              <p:spPr>
                <a:xfrm>
                  <a:off x="9245520" y="280944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000000"/>
                  </a:solidFill>
                </a:ln>
              </p:spPr>
            </p:cxnSp>
            <p:cxnSp>
              <p:nvCxnSpPr>
                <p:cNvPr id="407" name="直接连接符 73"/>
                <p:cNvCxnSpPr/>
                <p:nvPr/>
              </p:nvCxnSpPr>
              <p:spPr>
                <a:xfrm>
                  <a:off x="9245520" y="269100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000000"/>
                  </a:solidFill>
                </a:ln>
              </p:spPr>
            </p:cxnSp>
          </p:grpSp>
        </p:grpSp>
        <p:grpSp>
          <p:nvGrpSpPr>
            <p:cNvPr id="408" name="组合 57"/>
            <p:cNvGrpSpPr/>
            <p:nvPr/>
          </p:nvGrpSpPr>
          <p:grpSpPr>
            <a:xfrm>
              <a:off x="9572040" y="2504880"/>
              <a:ext cx="354600" cy="142200"/>
              <a:chOff x="9572040" y="2504880"/>
              <a:chExt cx="354600" cy="142200"/>
            </a:xfrm>
          </p:grpSpPr>
          <p:sp>
            <p:nvSpPr>
              <p:cNvPr id="409" name="椭圆 64"/>
              <p:cNvSpPr/>
              <p:nvPr/>
            </p:nvSpPr>
            <p:spPr>
              <a:xfrm>
                <a:off x="9784440" y="2504880"/>
                <a:ext cx="142200" cy="142200"/>
              </a:xfrm>
              <a:prstGeom prst="ellipse">
                <a:avLst/>
              </a:prstGeom>
              <a:solidFill>
                <a:srgbClr val="31b5d6"/>
              </a:solidFill>
              <a:ln w="28575">
                <a:solidFill>
                  <a:srgbClr val="31b5d6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0" name="组合 65"/>
              <p:cNvGrpSpPr/>
              <p:nvPr/>
            </p:nvGrpSpPr>
            <p:grpSpPr>
              <a:xfrm>
                <a:off x="9572040" y="2519280"/>
                <a:ext cx="269280" cy="118440"/>
                <a:chOff x="9572040" y="2519280"/>
                <a:chExt cx="269280" cy="118440"/>
              </a:xfrm>
            </p:grpSpPr>
            <p:cxnSp>
              <p:nvCxnSpPr>
                <p:cNvPr id="411" name="直接连接符 66"/>
                <p:cNvCxnSpPr/>
                <p:nvPr/>
              </p:nvCxnSpPr>
              <p:spPr>
                <a:xfrm>
                  <a:off x="9572040" y="2574000"/>
                  <a:ext cx="26964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  <p:cxnSp>
              <p:nvCxnSpPr>
                <p:cNvPr id="412" name="直接连接符 67"/>
                <p:cNvCxnSpPr/>
                <p:nvPr/>
              </p:nvCxnSpPr>
              <p:spPr>
                <a:xfrm>
                  <a:off x="9635400" y="263772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  <p:cxnSp>
              <p:nvCxnSpPr>
                <p:cNvPr id="413" name="直接连接符 68"/>
                <p:cNvCxnSpPr/>
                <p:nvPr/>
              </p:nvCxnSpPr>
              <p:spPr>
                <a:xfrm>
                  <a:off x="9635400" y="251928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31b5d6"/>
                  </a:solidFill>
                </a:ln>
              </p:spPr>
            </p:cxnSp>
          </p:grpSp>
        </p:grpSp>
        <p:grpSp>
          <p:nvGrpSpPr>
            <p:cNvPr id="414" name="组合 58"/>
            <p:cNvGrpSpPr/>
            <p:nvPr/>
          </p:nvGrpSpPr>
          <p:grpSpPr>
            <a:xfrm>
              <a:off x="9522720" y="2829600"/>
              <a:ext cx="354600" cy="142200"/>
              <a:chOff x="9522720" y="2829600"/>
              <a:chExt cx="354600" cy="142200"/>
            </a:xfrm>
          </p:grpSpPr>
          <p:sp>
            <p:nvSpPr>
              <p:cNvPr id="415" name="椭圆 59"/>
              <p:cNvSpPr/>
              <p:nvPr/>
            </p:nvSpPr>
            <p:spPr>
              <a:xfrm>
                <a:off x="9735120" y="2829600"/>
                <a:ext cx="142200" cy="142200"/>
              </a:xfrm>
              <a:prstGeom prst="ellipse">
                <a:avLst/>
              </a:prstGeom>
              <a:solidFill>
                <a:schemeClr val="tx1"/>
              </a:solidFill>
              <a:ln w="28575">
                <a:solidFill>
                  <a:srgbClr val="000000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6" name="组合 60"/>
              <p:cNvGrpSpPr/>
              <p:nvPr/>
            </p:nvGrpSpPr>
            <p:grpSpPr>
              <a:xfrm>
                <a:off x="9522720" y="2843640"/>
                <a:ext cx="269280" cy="118800"/>
                <a:chOff x="9522720" y="2843640"/>
                <a:chExt cx="269280" cy="118800"/>
              </a:xfrm>
            </p:grpSpPr>
            <p:cxnSp>
              <p:nvCxnSpPr>
                <p:cNvPr id="417" name="直接连接符 61"/>
                <p:cNvCxnSpPr/>
                <p:nvPr/>
              </p:nvCxnSpPr>
              <p:spPr>
                <a:xfrm>
                  <a:off x="9522720" y="2898360"/>
                  <a:ext cx="269640" cy="360"/>
                </a:xfrm>
                <a:prstGeom prst="straightConnector1">
                  <a:avLst/>
                </a:prstGeom>
                <a:ln w="28575">
                  <a:solidFill>
                    <a:srgbClr val="000000"/>
                  </a:solidFill>
                </a:ln>
              </p:spPr>
            </p:cxnSp>
            <p:cxnSp>
              <p:nvCxnSpPr>
                <p:cNvPr id="418" name="直接连接符 62"/>
                <p:cNvCxnSpPr/>
                <p:nvPr/>
              </p:nvCxnSpPr>
              <p:spPr>
                <a:xfrm>
                  <a:off x="9586080" y="296244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000000"/>
                  </a:solidFill>
                </a:ln>
              </p:spPr>
            </p:cxnSp>
            <p:cxnSp>
              <p:nvCxnSpPr>
                <p:cNvPr id="419" name="直接连接符 63"/>
                <p:cNvCxnSpPr/>
                <p:nvPr/>
              </p:nvCxnSpPr>
              <p:spPr>
                <a:xfrm>
                  <a:off x="9586080" y="2843640"/>
                  <a:ext cx="206280" cy="360"/>
                </a:xfrm>
                <a:prstGeom prst="straightConnector1">
                  <a:avLst/>
                </a:prstGeom>
                <a:ln w="28575">
                  <a:solidFill>
                    <a:srgbClr val="000000"/>
                  </a:solidFill>
                </a:ln>
              </p:spPr>
            </p:cxnSp>
          </p:grpSp>
        </p:grpSp>
        <p:sp>
          <p:nvSpPr>
            <p:cNvPr id="420" name="椭圆 95"/>
            <p:cNvSpPr/>
            <p:nvPr/>
          </p:nvSpPr>
          <p:spPr>
            <a:xfrm>
              <a:off x="6048360" y="4335840"/>
              <a:ext cx="1691640" cy="1691640"/>
            </a:xfrm>
            <a:prstGeom prst="ellipse">
              <a:avLst/>
            </a:prstGeom>
            <a:solidFill>
              <a:schemeClr val="bg2"/>
            </a:solidFill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1" name="椭圆 97"/>
            <p:cNvSpPr/>
            <p:nvPr/>
          </p:nvSpPr>
          <p:spPr>
            <a:xfrm>
              <a:off x="7038720" y="4903560"/>
              <a:ext cx="400680" cy="40068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2" name="椭圆 98"/>
            <p:cNvSpPr/>
            <p:nvPr/>
          </p:nvSpPr>
          <p:spPr>
            <a:xfrm>
              <a:off x="6897600" y="4678200"/>
              <a:ext cx="256320" cy="256320"/>
            </a:xfrm>
            <a:prstGeom prst="ellipse">
              <a:avLst/>
            </a:prstGeom>
            <a:solidFill>
              <a:srgbClr val="31b5d6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3" name="椭圆 99"/>
            <p:cNvSpPr/>
            <p:nvPr/>
          </p:nvSpPr>
          <p:spPr>
            <a:xfrm>
              <a:off x="6768360" y="5089680"/>
              <a:ext cx="278280" cy="278280"/>
            </a:xfrm>
            <a:prstGeom prst="ellipse">
              <a:avLst/>
            </a:prstGeom>
            <a:solidFill>
              <a:srgbClr val="31b5d6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4" name="椭圆 100"/>
            <p:cNvSpPr/>
            <p:nvPr/>
          </p:nvSpPr>
          <p:spPr>
            <a:xfrm>
              <a:off x="6810120" y="4920480"/>
              <a:ext cx="151920" cy="151920"/>
            </a:xfrm>
            <a:prstGeom prst="ellipse">
              <a:avLst/>
            </a:prstGeom>
            <a:solidFill>
              <a:srgbClr val="f784a5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5" name="椭圆 101"/>
            <p:cNvSpPr/>
            <p:nvPr/>
          </p:nvSpPr>
          <p:spPr>
            <a:xfrm>
              <a:off x="6501600" y="4996440"/>
              <a:ext cx="180000" cy="180000"/>
            </a:xfrm>
            <a:prstGeom prst="ellipse">
              <a:avLst/>
            </a:prstGeom>
            <a:solidFill>
              <a:srgbClr val="f784a5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6" name="椭圆 102"/>
            <p:cNvSpPr/>
            <p:nvPr/>
          </p:nvSpPr>
          <p:spPr>
            <a:xfrm>
              <a:off x="6322680" y="5152320"/>
              <a:ext cx="151920" cy="151920"/>
            </a:xfrm>
            <a:prstGeom prst="ellipse">
              <a:avLst/>
            </a:prstGeom>
            <a:solidFill>
              <a:srgbClr val="f784a5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7" name="椭圆 103"/>
            <p:cNvSpPr/>
            <p:nvPr/>
          </p:nvSpPr>
          <p:spPr>
            <a:xfrm>
              <a:off x="6510240" y="5215680"/>
              <a:ext cx="232200" cy="232200"/>
            </a:xfrm>
            <a:prstGeom prst="ellipse">
              <a:avLst/>
            </a:prstGeom>
            <a:solidFill>
              <a:srgbClr val="31b5d6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8" name="椭圆 104"/>
            <p:cNvSpPr/>
            <p:nvPr/>
          </p:nvSpPr>
          <p:spPr>
            <a:xfrm>
              <a:off x="7247160" y="5384520"/>
              <a:ext cx="278280" cy="278280"/>
            </a:xfrm>
            <a:prstGeom prst="ellipse">
              <a:avLst/>
            </a:prstGeom>
            <a:solidFill>
              <a:srgbClr val="31b5d6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9" name="椭圆 105"/>
            <p:cNvSpPr/>
            <p:nvPr/>
          </p:nvSpPr>
          <p:spPr>
            <a:xfrm>
              <a:off x="6644880" y="5449680"/>
              <a:ext cx="216000" cy="216000"/>
            </a:xfrm>
            <a:prstGeom prst="ellipse">
              <a:avLst/>
            </a:prstGeom>
            <a:solidFill>
              <a:srgbClr val="f784a5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0" name="椭圆 106"/>
            <p:cNvSpPr/>
            <p:nvPr/>
          </p:nvSpPr>
          <p:spPr>
            <a:xfrm>
              <a:off x="6262560" y="5421240"/>
              <a:ext cx="278280" cy="27828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1" name="椭圆 107"/>
            <p:cNvSpPr/>
            <p:nvPr/>
          </p:nvSpPr>
          <p:spPr>
            <a:xfrm>
              <a:off x="6593040" y="4786920"/>
              <a:ext cx="204480" cy="204480"/>
            </a:xfrm>
            <a:prstGeom prst="ellipse">
              <a:avLst/>
            </a:prstGeom>
            <a:solidFill>
              <a:srgbClr val="f784a5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2" name="椭圆 108"/>
            <p:cNvSpPr/>
            <p:nvPr/>
          </p:nvSpPr>
          <p:spPr>
            <a:xfrm>
              <a:off x="6861240" y="5373000"/>
              <a:ext cx="313200" cy="31320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3" name="椭圆 110"/>
            <p:cNvSpPr/>
            <p:nvPr/>
          </p:nvSpPr>
          <p:spPr>
            <a:xfrm>
              <a:off x="8687160" y="4335840"/>
              <a:ext cx="1691640" cy="1691640"/>
            </a:xfrm>
            <a:prstGeom prst="ellipse">
              <a:avLst/>
            </a:prstGeom>
            <a:solidFill>
              <a:schemeClr val="bg2"/>
            </a:solidFill>
            <a:ln w="762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4" name="等腰三角形 112"/>
            <p:cNvSpPr/>
            <p:nvPr/>
          </p:nvSpPr>
          <p:spPr>
            <a:xfrm>
              <a:off x="9110160" y="4624560"/>
              <a:ext cx="307080" cy="264960"/>
            </a:xfrm>
            <a:prstGeom prst="triangle">
              <a:avLst>
                <a:gd name="adj" fmla="val 50000"/>
              </a:avLst>
            </a:prstGeom>
            <a:solidFill>
              <a:srgbClr val="f784a5"/>
            </a:solidFill>
            <a:ln>
              <a:solidFill>
                <a:srgbClr val="f784a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5" name="矩形 113"/>
            <p:cNvSpPr/>
            <p:nvPr/>
          </p:nvSpPr>
          <p:spPr>
            <a:xfrm>
              <a:off x="9909720" y="5157000"/>
              <a:ext cx="295920" cy="295920"/>
            </a:xfrm>
            <a:prstGeom prst="rect">
              <a:avLst/>
            </a:prstGeom>
            <a:solidFill>
              <a:srgbClr val="31b5d6"/>
            </a:solidFill>
            <a:ln>
              <a:solidFill>
                <a:srgbClr val="31b5d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6" name="椭圆 114"/>
            <p:cNvSpPr/>
            <p:nvPr/>
          </p:nvSpPr>
          <p:spPr>
            <a:xfrm>
              <a:off x="9273600" y="4998240"/>
              <a:ext cx="288360" cy="28836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7" name="椭圆 115"/>
            <p:cNvSpPr/>
            <p:nvPr/>
          </p:nvSpPr>
          <p:spPr>
            <a:xfrm>
              <a:off x="9613800" y="5608440"/>
              <a:ext cx="182520" cy="14112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8" name="平行四边形 116"/>
            <p:cNvSpPr/>
            <p:nvPr/>
          </p:nvSpPr>
          <p:spPr>
            <a:xfrm>
              <a:off x="8859960" y="4969800"/>
              <a:ext cx="405360" cy="335160"/>
            </a:xfrm>
            <a:prstGeom prst="parallelogram">
              <a:avLst>
                <a:gd name="adj" fmla="val 25000"/>
              </a:avLst>
            </a:prstGeom>
            <a:solidFill>
              <a:srgbClr val="31b5d6"/>
            </a:solidFill>
            <a:ln>
              <a:solidFill>
                <a:srgbClr val="31b5d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9" name="椭圆 117"/>
            <p:cNvSpPr/>
            <p:nvPr/>
          </p:nvSpPr>
          <p:spPr>
            <a:xfrm>
              <a:off x="9634680" y="4959360"/>
              <a:ext cx="155520" cy="15552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0" name="椭圆 118"/>
            <p:cNvSpPr/>
            <p:nvPr/>
          </p:nvSpPr>
          <p:spPr>
            <a:xfrm>
              <a:off x="9536400" y="4664160"/>
              <a:ext cx="196560" cy="19656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1" name="正五边形 119"/>
            <p:cNvSpPr/>
            <p:nvPr/>
          </p:nvSpPr>
          <p:spPr>
            <a:xfrm>
              <a:off x="9478440" y="5200920"/>
              <a:ext cx="366120" cy="34884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rgbClr val="f784a5"/>
            </a:solidFill>
            <a:ln>
              <a:solidFill>
                <a:srgbClr val="f784a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2" name="椭圆 120"/>
            <p:cNvSpPr/>
            <p:nvPr/>
          </p:nvSpPr>
          <p:spPr>
            <a:xfrm>
              <a:off x="9796680" y="4745520"/>
              <a:ext cx="367200" cy="28368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3" name="椭圆 121"/>
            <p:cNvSpPr/>
            <p:nvPr/>
          </p:nvSpPr>
          <p:spPr>
            <a:xfrm>
              <a:off x="9090000" y="5377320"/>
              <a:ext cx="367200" cy="28368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444" name="直接连接符 184"/>
          <p:cNvCxnSpPr/>
          <p:nvPr/>
        </p:nvCxnSpPr>
        <p:spPr>
          <a:xfrm>
            <a:off x="701280" y="4368240"/>
            <a:ext cx="40989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445" name="直接连接符 185"/>
          <p:cNvCxnSpPr/>
          <p:nvPr/>
        </p:nvCxnSpPr>
        <p:spPr>
          <a:xfrm>
            <a:off x="701280" y="4908240"/>
            <a:ext cx="40989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446" name="直接连接符 186"/>
          <p:cNvCxnSpPr/>
          <p:nvPr/>
        </p:nvCxnSpPr>
        <p:spPr>
          <a:xfrm>
            <a:off x="701280" y="5448240"/>
            <a:ext cx="40989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447" name="直接连接符 187"/>
          <p:cNvCxnSpPr/>
          <p:nvPr/>
        </p:nvCxnSpPr>
        <p:spPr>
          <a:xfrm>
            <a:off x="701280" y="5988240"/>
            <a:ext cx="40989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sp>
        <p:nvSpPr>
          <p:cNvPr id="448" name="矩形 188"/>
          <p:cNvSpPr/>
          <p:nvPr/>
        </p:nvSpPr>
        <p:spPr>
          <a:xfrm>
            <a:off x="1162440" y="455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49" name="矩形 189"/>
          <p:cNvSpPr/>
          <p:nvPr/>
        </p:nvSpPr>
        <p:spPr>
          <a:xfrm>
            <a:off x="1162440" y="509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50" name="矩形 190"/>
          <p:cNvSpPr/>
          <p:nvPr/>
        </p:nvSpPr>
        <p:spPr>
          <a:xfrm>
            <a:off x="1162440" y="563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51" name="文本框 12"/>
          <p:cNvSpPr/>
          <p:nvPr/>
        </p:nvSpPr>
        <p:spPr>
          <a:xfrm>
            <a:off x="1522440" y="437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处理速度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13"/>
          <p:cNvSpPr/>
          <p:nvPr/>
        </p:nvSpPr>
        <p:spPr>
          <a:xfrm>
            <a:off x="1522440" y="491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数据类型繁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14"/>
          <p:cNvSpPr/>
          <p:nvPr/>
        </p:nvSpPr>
        <p:spPr>
          <a:xfrm>
            <a:off x="1519560" y="545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追求高质量的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455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456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58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459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61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462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64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465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67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468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70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471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72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3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474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75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6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477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78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9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480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81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2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483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84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486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87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8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489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90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1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492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93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4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495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496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7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498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500" name="直接连接符 289"/>
            <p:cNvCxnSpPr>
              <a:stCxn id="480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1" name="直接连接符 290"/>
            <p:cNvCxnSpPr>
              <a:stCxn id="499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2" name="直接连接符 291"/>
            <p:cNvCxnSpPr>
              <a:stCxn id="471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3" name="直接连接符 292"/>
            <p:cNvCxnSpPr>
              <a:stCxn id="463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4" name="直接连接符 293"/>
            <p:cNvCxnSpPr>
              <a:stCxn id="457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5" name="直接连接符 294"/>
            <p:cNvCxnSpPr>
              <a:stCxn id="483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6" name="直接连接符 295"/>
            <p:cNvCxnSpPr>
              <a:stCxn id="495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7" name="直接连接符 296"/>
            <p:cNvCxnSpPr>
              <a:stCxn id="466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8" name="直接连接符 297"/>
            <p:cNvCxnSpPr>
              <a:stCxn id="469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09" name="直接连接符 298"/>
            <p:cNvCxnSpPr>
              <a:stCxn id="477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10" name="直接连接符 299"/>
            <p:cNvCxnSpPr>
              <a:stCxn id="489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11" name="直接连接符 300"/>
            <p:cNvCxnSpPr>
              <a:stCxn id="474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12" name="直接连接符 301"/>
            <p:cNvCxnSpPr>
              <a:stCxn id="460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13" name="直接连接符 302"/>
            <p:cNvCxnSpPr>
              <a:stCxn id="492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14" name="直接连接符 303"/>
            <p:cNvCxnSpPr>
              <a:stCxn id="486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grpSp>
        <p:nvGrpSpPr>
          <p:cNvPr id="515" name="组合 2"/>
          <p:cNvGrpSpPr/>
          <p:nvPr/>
        </p:nvGrpSpPr>
        <p:grpSpPr>
          <a:xfrm>
            <a:off x="655200" y="1031760"/>
            <a:ext cx="10477080" cy="66600"/>
            <a:chOff x="655200" y="1031760"/>
            <a:chExt cx="10477080" cy="66600"/>
          </a:xfrm>
        </p:grpSpPr>
        <p:sp>
          <p:nvSpPr>
            <p:cNvPr id="516" name="矩形 267"/>
            <p:cNvSpPr/>
            <p:nvPr/>
          </p:nvSpPr>
          <p:spPr>
            <a:xfrm flipV="1">
              <a:off x="65520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7" name="矩形 268"/>
            <p:cNvSpPr/>
            <p:nvPr/>
          </p:nvSpPr>
          <p:spPr>
            <a:xfrm flipV="1">
              <a:off x="215208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8" name="矩形 269"/>
            <p:cNvSpPr/>
            <p:nvPr/>
          </p:nvSpPr>
          <p:spPr>
            <a:xfrm flipV="1">
              <a:off x="364896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9" name="矩形 270"/>
            <p:cNvSpPr/>
            <p:nvPr/>
          </p:nvSpPr>
          <p:spPr>
            <a:xfrm flipV="1">
              <a:off x="514548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0" name="矩形 271"/>
            <p:cNvSpPr/>
            <p:nvPr/>
          </p:nvSpPr>
          <p:spPr>
            <a:xfrm flipV="1">
              <a:off x="664236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1" name="矩形 272"/>
            <p:cNvSpPr/>
            <p:nvPr/>
          </p:nvSpPr>
          <p:spPr>
            <a:xfrm flipV="1">
              <a:off x="8138880" y="1031040"/>
              <a:ext cx="1496520" cy="66600"/>
            </a:xfrm>
            <a:prstGeom prst="rect">
              <a:avLst/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2" name="矩形 273"/>
            <p:cNvSpPr/>
            <p:nvPr/>
          </p:nvSpPr>
          <p:spPr>
            <a:xfrm flipV="1">
              <a:off x="9635760" y="1031040"/>
              <a:ext cx="1496520" cy="6660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23" name="文本框 335"/>
          <p:cNvSpPr/>
          <p:nvPr/>
        </p:nvSpPr>
        <p:spPr>
          <a:xfrm>
            <a:off x="3640320" y="331200"/>
            <a:ext cx="3533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31b5d6"/>
                </a:solidFill>
                <a:latin typeface="华康俪金黑W8(P)"/>
                <a:ea typeface="华康俪金黑W8(P)"/>
              </a:rPr>
              <a:t>万千气象：感受数据之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182"/>
          <p:cNvSpPr/>
          <p:nvPr/>
        </p:nvSpPr>
        <p:spPr>
          <a:xfrm>
            <a:off x="1626840" y="124740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31b5d6"/>
                </a:solidFill>
                <a:latin typeface="华康俪金黑W8(P)"/>
                <a:ea typeface="华康俪金黑W8(P)"/>
              </a:rPr>
              <a:t>大数据的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98"/>
          <p:cNvSpPr/>
          <p:nvPr/>
        </p:nvSpPr>
        <p:spPr>
          <a:xfrm>
            <a:off x="1155240" y="402588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26" name="文本框 12"/>
          <p:cNvSpPr/>
          <p:nvPr/>
        </p:nvSpPr>
        <p:spPr>
          <a:xfrm>
            <a:off x="1515240" y="384768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数据巨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椭圆 194"/>
          <p:cNvSpPr/>
          <p:nvPr/>
        </p:nvSpPr>
        <p:spPr>
          <a:xfrm>
            <a:off x="679680" y="1316520"/>
            <a:ext cx="445680" cy="446040"/>
          </a:xfrm>
          <a:prstGeom prst="ellipse">
            <a:avLst/>
          </a:prstGeom>
          <a:noFill/>
          <a:ln w="28575">
            <a:solidFill>
              <a:srgbClr val="31b5d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31b5d6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图片 4" descr=""/>
          <p:cNvPicPr/>
          <p:nvPr/>
        </p:nvPicPr>
        <p:blipFill>
          <a:blip r:embed="rId1"/>
          <a:stretch/>
        </p:blipFill>
        <p:spPr>
          <a:xfrm>
            <a:off x="5849280" y="1895760"/>
            <a:ext cx="3786120" cy="2339640"/>
          </a:xfrm>
          <a:prstGeom prst="rect">
            <a:avLst/>
          </a:prstGeom>
          <a:ln cap="sq" w="88900">
            <a:solidFill>
              <a:srgbClr val="31b5d6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perspectiveHeroicExtremeRightFacing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529" name="图片 5" descr=""/>
          <p:cNvPicPr/>
          <p:nvPr/>
        </p:nvPicPr>
        <p:blipFill>
          <a:blip r:embed="rId2"/>
          <a:stretch/>
        </p:blipFill>
        <p:spPr>
          <a:xfrm>
            <a:off x="7009560" y="2800080"/>
            <a:ext cx="3678840" cy="2339640"/>
          </a:xfrm>
          <a:prstGeom prst="rect">
            <a:avLst/>
          </a:prstGeom>
          <a:ln cap="sq" w="88900">
            <a:solidFill>
              <a:srgbClr val="31b5d6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perspectiveHeroicExtremeRightFacing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530" name="图片 3" descr=""/>
          <p:cNvPicPr/>
          <p:nvPr/>
        </p:nvPicPr>
        <p:blipFill>
          <a:blip r:embed="rId3"/>
          <a:stretch/>
        </p:blipFill>
        <p:spPr>
          <a:xfrm>
            <a:off x="8062920" y="3656520"/>
            <a:ext cx="3990240" cy="2339640"/>
          </a:xfrm>
          <a:prstGeom prst="rect">
            <a:avLst/>
          </a:prstGeom>
          <a:ln cap="sq" w="88900">
            <a:solidFill>
              <a:srgbClr val="31b5d6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perspectiveHeroicExtremeRightFacing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531" name="文本框 274"/>
          <p:cNvSpPr/>
          <p:nvPr/>
        </p:nvSpPr>
        <p:spPr>
          <a:xfrm>
            <a:off x="1626840" y="124740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31b5d6"/>
                </a:solidFill>
                <a:latin typeface="华康俪金黑W8(P)"/>
                <a:ea typeface="华康俪金黑W8(P)"/>
              </a:rPr>
              <a:t>大数据的例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组合 276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533" name="组合 277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534" name="图片 335" descr=""/>
              <p:cNvPicPr/>
              <p:nvPr/>
            </p:nvPicPr>
            <p:blipFill>
              <a:blip r:embed="rId4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椭圆 336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36" name="组合 278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537" name="图片 333" descr=""/>
              <p:cNvPicPr/>
              <p:nvPr/>
            </p:nvPicPr>
            <p:blipFill>
              <a:blip r:embed="rId5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椭圆 334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39" name="组合 279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540" name="图片 331" descr=""/>
              <p:cNvPicPr/>
              <p:nvPr/>
            </p:nvPicPr>
            <p:blipFill>
              <a:blip r:embed="rId6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椭圆 332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42" name="组合 280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543" name="图片 329" descr=""/>
              <p:cNvPicPr/>
              <p:nvPr/>
            </p:nvPicPr>
            <p:blipFill>
              <a:blip r:embed="rId7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椭圆 330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45" name="组合 281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546" name="图片 327" descr=""/>
              <p:cNvPicPr/>
              <p:nvPr/>
            </p:nvPicPr>
            <p:blipFill>
              <a:blip r:embed="rId8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椭圆 328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48" name="组合 282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549" name="椭圆 325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50" name="图片 326" descr=""/>
              <p:cNvPicPr/>
              <p:nvPr/>
            </p:nvPicPr>
            <p:blipFill>
              <a:blip r:embed="rId9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1" name="组合 283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552" name="椭圆 323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53" name="图片 324" descr=""/>
              <p:cNvPicPr/>
              <p:nvPr/>
            </p:nvPicPr>
            <p:blipFill>
              <a:blip r:embed="rId10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4" name="组合 284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555" name="椭圆 321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56" name="图片 322" descr=""/>
              <p:cNvPicPr/>
              <p:nvPr/>
            </p:nvPicPr>
            <p:blipFill>
              <a:blip r:embed="rId11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7" name="组合 285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558" name="椭圆 319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59" name="图片 320" descr=""/>
              <p:cNvPicPr/>
              <p:nvPr/>
            </p:nvPicPr>
            <p:blipFill>
              <a:blip r:embed="rId12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0" name="组合 286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561" name="椭圆 317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62" name="图片 318" descr=""/>
              <p:cNvPicPr/>
              <p:nvPr/>
            </p:nvPicPr>
            <p:blipFill>
              <a:blip r:embed="rId13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3" name="组合 287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564" name="椭圆 315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65" name="图片 316" descr=""/>
              <p:cNvPicPr/>
              <p:nvPr/>
            </p:nvPicPr>
            <p:blipFill>
              <a:blip r:embed="rId14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6" name="组合 288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567" name="椭圆 313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68" name="图片 314" descr=""/>
              <p:cNvPicPr/>
              <p:nvPr/>
            </p:nvPicPr>
            <p:blipFill>
              <a:blip r:embed="rId15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9" name="组合 289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570" name="椭圆 311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71" name="图片 312" descr=""/>
              <p:cNvPicPr/>
              <p:nvPr/>
            </p:nvPicPr>
            <p:blipFill>
              <a:blip r:embed="rId16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2" name="组合 290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573" name="椭圆 309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574" name="图片 310" descr=""/>
              <p:cNvPicPr/>
              <p:nvPr/>
            </p:nvPicPr>
            <p:blipFill>
              <a:blip r:embed="rId17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5" name="组合 291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576" name="图片 307" descr=""/>
              <p:cNvPicPr/>
              <p:nvPr/>
            </p:nvPicPr>
            <p:blipFill>
              <a:blip r:embed="rId18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椭圆 308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578" name="直接连接符 292"/>
            <p:cNvCxnSpPr>
              <a:stCxn id="558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79" name="直接连接符 293"/>
            <p:cNvCxnSpPr>
              <a:stCxn id="577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0" name="直接连接符 294"/>
            <p:cNvCxnSpPr>
              <a:stCxn id="549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1" name="直接连接符 295"/>
            <p:cNvCxnSpPr>
              <a:stCxn id="541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2" name="直接连接符 296"/>
            <p:cNvCxnSpPr>
              <a:stCxn id="535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3" name="直接连接符 297"/>
            <p:cNvCxnSpPr>
              <a:stCxn id="561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4" name="直接连接符 298"/>
            <p:cNvCxnSpPr>
              <a:stCxn id="573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5" name="直接连接符 299"/>
            <p:cNvCxnSpPr>
              <a:stCxn id="544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6" name="直接连接符 300"/>
            <p:cNvCxnSpPr>
              <a:stCxn id="547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7" name="直接连接符 301"/>
            <p:cNvCxnSpPr>
              <a:stCxn id="555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8" name="直接连接符 302"/>
            <p:cNvCxnSpPr>
              <a:stCxn id="567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89" name="直接连接符 303"/>
            <p:cNvCxnSpPr>
              <a:stCxn id="552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90" name="直接连接符 304"/>
            <p:cNvCxnSpPr>
              <a:stCxn id="538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91" name="直接连接符 305"/>
            <p:cNvCxnSpPr>
              <a:stCxn id="570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92" name="直接连接符 306"/>
            <p:cNvCxnSpPr>
              <a:stCxn id="564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grpSp>
        <p:nvGrpSpPr>
          <p:cNvPr id="593" name="组合 6"/>
          <p:cNvGrpSpPr/>
          <p:nvPr/>
        </p:nvGrpSpPr>
        <p:grpSpPr>
          <a:xfrm>
            <a:off x="655200" y="1031760"/>
            <a:ext cx="10477080" cy="66600"/>
            <a:chOff x="655200" y="1031760"/>
            <a:chExt cx="10477080" cy="66600"/>
          </a:xfrm>
        </p:grpSpPr>
        <p:sp>
          <p:nvSpPr>
            <p:cNvPr id="594" name="矩形 337"/>
            <p:cNvSpPr/>
            <p:nvPr/>
          </p:nvSpPr>
          <p:spPr>
            <a:xfrm flipV="1">
              <a:off x="65520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" name="矩形 338"/>
            <p:cNvSpPr/>
            <p:nvPr/>
          </p:nvSpPr>
          <p:spPr>
            <a:xfrm flipV="1">
              <a:off x="215208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" name="矩形 339"/>
            <p:cNvSpPr/>
            <p:nvPr/>
          </p:nvSpPr>
          <p:spPr>
            <a:xfrm flipV="1">
              <a:off x="364896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" name="矩形 340"/>
            <p:cNvSpPr/>
            <p:nvPr/>
          </p:nvSpPr>
          <p:spPr>
            <a:xfrm flipV="1">
              <a:off x="514548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" name="矩形 341"/>
            <p:cNvSpPr/>
            <p:nvPr/>
          </p:nvSpPr>
          <p:spPr>
            <a:xfrm flipV="1">
              <a:off x="6642360" y="1031040"/>
              <a:ext cx="1496520" cy="66600"/>
            </a:xfrm>
            <a:prstGeom prst="rect">
              <a:avLst/>
            </a:prstGeom>
            <a:solidFill>
              <a:srgbClr val="31b5d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" name="矩形 342"/>
            <p:cNvSpPr/>
            <p:nvPr/>
          </p:nvSpPr>
          <p:spPr>
            <a:xfrm flipV="1">
              <a:off x="8138880" y="1031040"/>
              <a:ext cx="1496520" cy="66600"/>
            </a:xfrm>
            <a:prstGeom prst="rect">
              <a:avLst/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" name="矩形 343"/>
            <p:cNvSpPr/>
            <p:nvPr/>
          </p:nvSpPr>
          <p:spPr>
            <a:xfrm flipV="1">
              <a:off x="9635760" y="1031040"/>
              <a:ext cx="1496520" cy="6660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01" name="文本框 344"/>
          <p:cNvSpPr/>
          <p:nvPr/>
        </p:nvSpPr>
        <p:spPr>
          <a:xfrm>
            <a:off x="3640320" y="331200"/>
            <a:ext cx="3533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31b5d6"/>
                </a:solidFill>
                <a:latin typeface="华康俪金黑W8(P)"/>
                <a:ea typeface="华康俪金黑W8(P)"/>
              </a:rPr>
              <a:t>万千气象：感受数据之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79"/>
          <p:cNvSpPr/>
          <p:nvPr/>
        </p:nvSpPr>
        <p:spPr>
          <a:xfrm>
            <a:off x="1408680" y="5439600"/>
            <a:ext cx="3099600" cy="622800"/>
          </a:xfrm>
          <a:prstGeom prst="rect">
            <a:avLst/>
          </a:prstGeom>
          <a:noFill/>
          <a:ln w="0">
            <a:solidFill>
              <a:srgbClr val="000000"/>
            </a:solidFill>
          </a:ln>
          <a:scene3d>
            <a:camera prst="perspectiveRelaxedModerately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5000"/>
              </a:lnSpc>
            </a:pPr>
            <a:r>
              <a:rPr b="0" lang="en-US" sz="2800" spc="-1" strike="noStrike">
                <a:solidFill>
                  <a:srgbClr val="31b5d6"/>
                </a:solidFill>
                <a:latin typeface="微软雅黑"/>
                <a:ea typeface="微软雅黑"/>
              </a:rPr>
              <a:t>30</a:t>
            </a:r>
            <a:r>
              <a:rPr b="0" lang="zh-CN" sz="2800" spc="-1" strike="noStrike">
                <a:solidFill>
                  <a:srgbClr val="31b5d6"/>
                </a:solidFill>
                <a:latin typeface="微软雅黑"/>
                <a:ea typeface="微软雅黑"/>
              </a:rPr>
              <a:t>亿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流感搜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80"/>
          <p:cNvSpPr/>
          <p:nvPr/>
        </p:nvSpPr>
        <p:spPr>
          <a:xfrm>
            <a:off x="1408680" y="4239360"/>
            <a:ext cx="3099600" cy="622800"/>
          </a:xfrm>
          <a:prstGeom prst="rect">
            <a:avLst/>
          </a:prstGeom>
          <a:noFill/>
          <a:ln w="0">
            <a:solidFill>
              <a:srgbClr val="000000"/>
            </a:solidFill>
          </a:ln>
          <a:scene3d>
            <a:camera prst="perspectiveRelaxedModerately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5000"/>
              </a:lnSpc>
            </a:pPr>
            <a:r>
              <a:rPr b="0" lang="en-US" sz="2800" spc="-1" strike="noStrike">
                <a:solidFill>
                  <a:srgbClr val="31b5d6"/>
                </a:solidFill>
                <a:latin typeface="微软雅黑"/>
                <a:ea typeface="微软雅黑"/>
              </a:rPr>
              <a:t>45</a:t>
            </a:r>
            <a:r>
              <a:rPr b="0" lang="zh-CN" sz="2800" spc="-1" strike="noStrike">
                <a:solidFill>
                  <a:srgbClr val="31b5d6"/>
                </a:solidFill>
                <a:latin typeface="微软雅黑"/>
                <a:ea typeface="微软雅黑"/>
              </a:rPr>
              <a:t>个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搜索词的组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81"/>
          <p:cNvSpPr/>
          <p:nvPr/>
        </p:nvSpPr>
        <p:spPr>
          <a:xfrm>
            <a:off x="1408680" y="2602800"/>
            <a:ext cx="3099600" cy="1080000"/>
          </a:xfrm>
          <a:prstGeom prst="rect">
            <a:avLst/>
          </a:prstGeom>
          <a:noFill/>
          <a:ln w="0">
            <a:solidFill>
              <a:srgbClr val="000000"/>
            </a:solidFill>
          </a:ln>
          <a:scene3d>
            <a:camera prst="perspectiveRelaxedModerately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监测结果与官方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关性高达</a:t>
            </a:r>
            <a:r>
              <a:rPr b="0" lang="en-US" sz="2800" spc="-1" strike="noStrike">
                <a:solidFill>
                  <a:srgbClr val="31b5d6"/>
                </a:solidFill>
                <a:latin typeface="微软雅黑"/>
                <a:ea typeface="微软雅黑"/>
              </a:rPr>
              <a:t>9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上箭头 7"/>
          <p:cNvSpPr/>
          <p:nvPr/>
        </p:nvSpPr>
        <p:spPr>
          <a:xfrm>
            <a:off x="2684160" y="4818600"/>
            <a:ext cx="482400" cy="684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6" name="上箭头 83"/>
          <p:cNvSpPr/>
          <p:nvPr/>
        </p:nvSpPr>
        <p:spPr>
          <a:xfrm>
            <a:off x="2684160" y="3609720"/>
            <a:ext cx="482400" cy="684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7" name="椭圆 82"/>
          <p:cNvSpPr/>
          <p:nvPr/>
        </p:nvSpPr>
        <p:spPr>
          <a:xfrm>
            <a:off x="679680" y="1316520"/>
            <a:ext cx="445680" cy="446040"/>
          </a:xfrm>
          <a:prstGeom prst="ellipse">
            <a:avLst/>
          </a:prstGeom>
          <a:noFill/>
          <a:ln w="28575">
            <a:solidFill>
              <a:srgbClr val="31b5d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31b5d6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609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610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12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613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15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616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7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18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619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0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21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622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24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625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26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7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628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29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0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631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32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634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35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6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637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38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9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640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41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2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643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44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5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646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47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8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649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50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1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652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654" name="直接连接符 289"/>
            <p:cNvCxnSpPr>
              <a:stCxn id="634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55" name="直接连接符 290"/>
            <p:cNvCxnSpPr>
              <a:stCxn id="653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56" name="直接连接符 291"/>
            <p:cNvCxnSpPr>
              <a:stCxn id="625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57" name="直接连接符 292"/>
            <p:cNvCxnSpPr>
              <a:stCxn id="617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58" name="直接连接符 293"/>
            <p:cNvCxnSpPr>
              <a:stCxn id="611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59" name="直接连接符 294"/>
            <p:cNvCxnSpPr>
              <a:stCxn id="637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0" name="直接连接符 295"/>
            <p:cNvCxnSpPr>
              <a:stCxn id="649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1" name="直接连接符 296"/>
            <p:cNvCxnSpPr>
              <a:stCxn id="620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2" name="直接连接符 297"/>
            <p:cNvCxnSpPr>
              <a:stCxn id="623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3" name="直接连接符 298"/>
            <p:cNvCxnSpPr>
              <a:stCxn id="631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4" name="直接连接符 299"/>
            <p:cNvCxnSpPr>
              <a:stCxn id="643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5" name="直接连接符 300"/>
            <p:cNvCxnSpPr>
              <a:stCxn id="628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6" name="直接连接符 301"/>
            <p:cNvCxnSpPr>
              <a:stCxn id="614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7" name="直接连接符 302"/>
            <p:cNvCxnSpPr>
              <a:stCxn id="646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668" name="直接连接符 303"/>
            <p:cNvCxnSpPr>
              <a:stCxn id="640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669" name="矩形 267"/>
          <p:cNvSpPr/>
          <p:nvPr/>
        </p:nvSpPr>
        <p:spPr>
          <a:xfrm flipV="1">
            <a:off x="65520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0" name="矩形 268"/>
          <p:cNvSpPr/>
          <p:nvPr/>
        </p:nvSpPr>
        <p:spPr>
          <a:xfrm flipV="1">
            <a:off x="215208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1" name="矩形 269"/>
          <p:cNvSpPr/>
          <p:nvPr/>
        </p:nvSpPr>
        <p:spPr>
          <a:xfrm flipV="1">
            <a:off x="36489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2" name="矩形 270"/>
          <p:cNvSpPr/>
          <p:nvPr/>
        </p:nvSpPr>
        <p:spPr>
          <a:xfrm flipV="1">
            <a:off x="514548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3" name="矩形 271"/>
          <p:cNvSpPr/>
          <p:nvPr/>
        </p:nvSpPr>
        <p:spPr>
          <a:xfrm flipV="1">
            <a:off x="66423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4" name="矩形 272"/>
          <p:cNvSpPr/>
          <p:nvPr/>
        </p:nvSpPr>
        <p:spPr>
          <a:xfrm flipV="1">
            <a:off x="81388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5" name="矩形 273"/>
          <p:cNvSpPr/>
          <p:nvPr/>
        </p:nvSpPr>
        <p:spPr>
          <a:xfrm flipV="1">
            <a:off x="9635760" y="1031040"/>
            <a:ext cx="1496520" cy="66600"/>
          </a:xfrm>
          <a:prstGeom prst="rect">
            <a:avLst/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6" name="文本框 335"/>
          <p:cNvSpPr/>
          <p:nvPr/>
        </p:nvSpPr>
        <p:spPr>
          <a:xfrm>
            <a:off x="4457520" y="33120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784a5"/>
                </a:solidFill>
                <a:latin typeface="华康俪金黑W8(P)"/>
                <a:ea typeface="华康俪金黑W8(P)"/>
              </a:rPr>
              <a:t>多胜算：驾驭大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70"/>
          <p:cNvSpPr/>
          <p:nvPr/>
        </p:nvSpPr>
        <p:spPr>
          <a:xfrm>
            <a:off x="2126520" y="1247400"/>
            <a:ext cx="310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784a5"/>
                </a:solidFill>
                <a:latin typeface="华康俪金黑W8(P)"/>
                <a:ea typeface="华康俪金黑W8(P)"/>
              </a:rPr>
              <a:t>数据采集：遍布全球的触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组合 7"/>
          <p:cNvGrpSpPr/>
          <p:nvPr/>
        </p:nvGrpSpPr>
        <p:grpSpPr>
          <a:xfrm>
            <a:off x="944640" y="2135880"/>
            <a:ext cx="2497680" cy="3342600"/>
            <a:chOff x="944640" y="2135880"/>
            <a:chExt cx="2497680" cy="3342600"/>
          </a:xfrm>
        </p:grpSpPr>
        <p:sp>
          <p:nvSpPr>
            <p:cNvPr id="679" name="圆角矩形 81"/>
            <p:cNvSpPr/>
            <p:nvPr/>
          </p:nvSpPr>
          <p:spPr>
            <a:xfrm>
              <a:off x="944640" y="4048560"/>
              <a:ext cx="2497680" cy="932040"/>
            </a:xfrm>
            <a:prstGeom prst="roundRect">
              <a:avLst>
                <a:gd name="adj" fmla="val 16667"/>
              </a:avLst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0" name="TextBox 7179"/>
            <p:cNvSpPr/>
            <p:nvPr/>
          </p:nvSpPr>
          <p:spPr>
            <a:xfrm>
              <a:off x="944640" y="4048560"/>
              <a:ext cx="2497680" cy="14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业务数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共部门、企业生产、商业服务等产生的业务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数据实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动产登记信息、企业登记信息、医院就医信息、人口健康信息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1" name="组合 4"/>
            <p:cNvGrpSpPr/>
            <p:nvPr/>
          </p:nvGrpSpPr>
          <p:grpSpPr>
            <a:xfrm>
              <a:off x="1347120" y="2135880"/>
              <a:ext cx="1692720" cy="1692720"/>
              <a:chOff x="1347120" y="2135880"/>
              <a:chExt cx="1692720" cy="1692720"/>
            </a:xfrm>
          </p:grpSpPr>
          <p:pic>
            <p:nvPicPr>
              <p:cNvPr id="682" name="图片 10" descr=""/>
              <p:cNvPicPr/>
              <p:nvPr/>
            </p:nvPicPr>
            <p:blipFill>
              <a:blip r:embed="rId16"/>
              <a:stretch/>
            </p:blipFill>
            <p:spPr>
              <a:xfrm>
                <a:off x="1716840" y="2505240"/>
                <a:ext cx="953640" cy="9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椭圆 84"/>
              <p:cNvSpPr/>
              <p:nvPr/>
            </p:nvSpPr>
            <p:spPr>
              <a:xfrm>
                <a:off x="1347120" y="2135880"/>
                <a:ext cx="1692720" cy="1692720"/>
              </a:xfrm>
              <a:prstGeom prst="ellipse">
                <a:avLst/>
              </a:prstGeom>
              <a:noFill/>
              <a:ln w="9525">
                <a:solidFill>
                  <a:srgbClr val="f784a5"/>
                </a:solidFill>
                <a:prstDash val="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84" name="组合 12"/>
          <p:cNvGrpSpPr/>
          <p:nvPr/>
        </p:nvGrpSpPr>
        <p:grpSpPr>
          <a:xfrm>
            <a:off x="3642480" y="2135880"/>
            <a:ext cx="2497680" cy="3342600"/>
            <a:chOff x="3642480" y="2135880"/>
            <a:chExt cx="2497680" cy="3342600"/>
          </a:xfrm>
        </p:grpSpPr>
        <p:grpSp>
          <p:nvGrpSpPr>
            <p:cNvPr id="685" name="组合 3"/>
            <p:cNvGrpSpPr/>
            <p:nvPr/>
          </p:nvGrpSpPr>
          <p:grpSpPr>
            <a:xfrm>
              <a:off x="4044960" y="2135880"/>
              <a:ext cx="1692720" cy="1692720"/>
              <a:chOff x="4044960" y="2135880"/>
              <a:chExt cx="1692720" cy="1692720"/>
            </a:xfrm>
          </p:grpSpPr>
          <p:pic>
            <p:nvPicPr>
              <p:cNvPr id="686" name="图片 9" descr=""/>
              <p:cNvPicPr/>
              <p:nvPr/>
            </p:nvPicPr>
            <p:blipFill>
              <a:blip r:embed="rId17"/>
              <a:stretch/>
            </p:blipFill>
            <p:spPr>
              <a:xfrm>
                <a:off x="4414320" y="2505240"/>
                <a:ext cx="953640" cy="9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椭圆 102"/>
              <p:cNvSpPr/>
              <p:nvPr/>
            </p:nvSpPr>
            <p:spPr>
              <a:xfrm>
                <a:off x="4044960" y="2135880"/>
                <a:ext cx="1692720" cy="1692720"/>
              </a:xfrm>
              <a:prstGeom prst="ellipse">
                <a:avLst/>
              </a:prstGeom>
              <a:noFill/>
              <a:ln w="9525">
                <a:solidFill>
                  <a:srgbClr val="f784a5"/>
                </a:solidFill>
                <a:prstDash val="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88" name="圆角矩形 112"/>
            <p:cNvSpPr/>
            <p:nvPr/>
          </p:nvSpPr>
          <p:spPr>
            <a:xfrm>
              <a:off x="3642480" y="4048560"/>
              <a:ext cx="2497680" cy="932040"/>
            </a:xfrm>
            <a:prstGeom prst="roundRect">
              <a:avLst>
                <a:gd name="adj" fmla="val 16667"/>
              </a:avLst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9" name="TextBox 7179"/>
            <p:cNvSpPr/>
            <p:nvPr/>
          </p:nvSpPr>
          <p:spPr>
            <a:xfrm>
              <a:off x="3642480" y="4048560"/>
              <a:ext cx="2497680" cy="14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调查数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政府部门、科研机构、公司组织等专业调查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数据实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国家统计数据、财政赋税数据、综合社会调查、市场调查数据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13"/>
          <p:cNvGrpSpPr/>
          <p:nvPr/>
        </p:nvGrpSpPr>
        <p:grpSpPr>
          <a:xfrm>
            <a:off x="6339960" y="2135880"/>
            <a:ext cx="2497680" cy="3564360"/>
            <a:chOff x="6339960" y="2135880"/>
            <a:chExt cx="2497680" cy="3564360"/>
          </a:xfrm>
        </p:grpSpPr>
        <p:grpSp>
          <p:nvGrpSpPr>
            <p:cNvPr id="691" name="组合 5"/>
            <p:cNvGrpSpPr/>
            <p:nvPr/>
          </p:nvGrpSpPr>
          <p:grpSpPr>
            <a:xfrm>
              <a:off x="6742440" y="2135880"/>
              <a:ext cx="1692720" cy="1692720"/>
              <a:chOff x="6742440" y="2135880"/>
              <a:chExt cx="1692720" cy="1692720"/>
            </a:xfrm>
          </p:grpSpPr>
          <p:pic>
            <p:nvPicPr>
              <p:cNvPr id="692" name="图片 8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12160" y="2505240"/>
                <a:ext cx="953640" cy="9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椭圆 106"/>
              <p:cNvSpPr/>
              <p:nvPr/>
            </p:nvSpPr>
            <p:spPr>
              <a:xfrm>
                <a:off x="6742440" y="2135880"/>
                <a:ext cx="1692720" cy="1692720"/>
              </a:xfrm>
              <a:prstGeom prst="ellipse">
                <a:avLst/>
              </a:prstGeom>
              <a:noFill/>
              <a:ln w="9525">
                <a:solidFill>
                  <a:srgbClr val="f784a5"/>
                </a:solidFill>
                <a:prstDash val="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94" name="圆角矩形 114"/>
            <p:cNvSpPr/>
            <p:nvPr/>
          </p:nvSpPr>
          <p:spPr>
            <a:xfrm>
              <a:off x="6339960" y="4026960"/>
              <a:ext cx="2497680" cy="932040"/>
            </a:xfrm>
            <a:prstGeom prst="roundRect">
              <a:avLst>
                <a:gd name="adj" fmla="val 16667"/>
              </a:avLst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95" name="TextBox 7179"/>
            <p:cNvSpPr/>
            <p:nvPr/>
          </p:nvSpPr>
          <p:spPr>
            <a:xfrm>
              <a:off x="6339960" y="4026960"/>
              <a:ext cx="2497680" cy="16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环境数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来自于公共生活环境的数据，气候生态等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数据实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温度、湿度、露水、光照度、土壤含水量，车流量，海洋潮汐变化等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组合 14"/>
          <p:cNvGrpSpPr/>
          <p:nvPr/>
        </p:nvGrpSpPr>
        <p:grpSpPr>
          <a:xfrm>
            <a:off x="9037440" y="2135880"/>
            <a:ext cx="2497680" cy="3564360"/>
            <a:chOff x="9037440" y="2135880"/>
            <a:chExt cx="2497680" cy="3564360"/>
          </a:xfrm>
        </p:grpSpPr>
        <p:grpSp>
          <p:nvGrpSpPr>
            <p:cNvPr id="697" name="组合 6"/>
            <p:cNvGrpSpPr/>
            <p:nvPr/>
          </p:nvGrpSpPr>
          <p:grpSpPr>
            <a:xfrm>
              <a:off x="9440280" y="2135880"/>
              <a:ext cx="1692720" cy="1692720"/>
              <a:chOff x="9440280" y="2135880"/>
              <a:chExt cx="1692720" cy="1692720"/>
            </a:xfrm>
          </p:grpSpPr>
          <p:pic>
            <p:nvPicPr>
              <p:cNvPr id="698" name="图片 11" descr=""/>
              <p:cNvPicPr/>
              <p:nvPr/>
            </p:nvPicPr>
            <p:blipFill>
              <a:blip r:embed="rId19"/>
              <a:stretch/>
            </p:blipFill>
            <p:spPr>
              <a:xfrm>
                <a:off x="9809640" y="2505240"/>
                <a:ext cx="953640" cy="9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椭圆 107"/>
              <p:cNvSpPr/>
              <p:nvPr/>
            </p:nvSpPr>
            <p:spPr>
              <a:xfrm>
                <a:off x="9440280" y="2135880"/>
                <a:ext cx="1692720" cy="1692720"/>
              </a:xfrm>
              <a:prstGeom prst="ellipse">
                <a:avLst/>
              </a:prstGeom>
              <a:noFill/>
              <a:ln w="9525">
                <a:solidFill>
                  <a:srgbClr val="f784a5"/>
                </a:solidFill>
                <a:prstDash val="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700" name="圆角矩形 116"/>
            <p:cNvSpPr/>
            <p:nvPr/>
          </p:nvSpPr>
          <p:spPr>
            <a:xfrm>
              <a:off x="9037440" y="4026960"/>
              <a:ext cx="2497680" cy="932040"/>
            </a:xfrm>
            <a:prstGeom prst="roundRect">
              <a:avLst>
                <a:gd name="adj" fmla="val 16667"/>
              </a:avLst>
            </a:prstGeom>
            <a:solidFill>
              <a:srgbClr val="f784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1" name="TextBox 7179"/>
            <p:cNvSpPr/>
            <p:nvPr/>
          </p:nvSpPr>
          <p:spPr>
            <a:xfrm>
              <a:off x="9037440" y="4026960"/>
              <a:ext cx="2497680" cy="16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用户生产数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人用户产出的信息群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数据实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网数据、使用手机、软件下载、观看电视、人际网络等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椭圆 96"/>
          <p:cNvSpPr/>
          <p:nvPr/>
        </p:nvSpPr>
        <p:spPr>
          <a:xfrm>
            <a:off x="679680" y="1316520"/>
            <a:ext cx="445680" cy="446040"/>
          </a:xfrm>
          <a:prstGeom prst="ellipse">
            <a:avLst/>
          </a:prstGeom>
          <a:noFill/>
          <a:ln w="28575">
            <a:solidFill>
              <a:srgbClr val="f784a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784a5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704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705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07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708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9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10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711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2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13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714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16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717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8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19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720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21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2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723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24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5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726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27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8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729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30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1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732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33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4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735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36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7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738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39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0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741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42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3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744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745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6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747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8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749" name="直接连接符 289"/>
            <p:cNvCxnSpPr>
              <a:stCxn id="729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0" name="直接连接符 290"/>
            <p:cNvCxnSpPr>
              <a:stCxn id="748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1" name="直接连接符 291"/>
            <p:cNvCxnSpPr>
              <a:stCxn id="720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2" name="直接连接符 292"/>
            <p:cNvCxnSpPr>
              <a:stCxn id="712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3" name="直接连接符 293"/>
            <p:cNvCxnSpPr>
              <a:stCxn id="706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4" name="直接连接符 294"/>
            <p:cNvCxnSpPr>
              <a:stCxn id="732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5" name="直接连接符 295"/>
            <p:cNvCxnSpPr>
              <a:stCxn id="744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6" name="直接连接符 296"/>
            <p:cNvCxnSpPr>
              <a:stCxn id="715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7" name="直接连接符 297"/>
            <p:cNvCxnSpPr>
              <a:stCxn id="718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8" name="直接连接符 298"/>
            <p:cNvCxnSpPr>
              <a:stCxn id="726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59" name="直接连接符 299"/>
            <p:cNvCxnSpPr>
              <a:stCxn id="738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60" name="直接连接符 300"/>
            <p:cNvCxnSpPr>
              <a:stCxn id="723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61" name="直接连接符 301"/>
            <p:cNvCxnSpPr>
              <a:stCxn id="709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62" name="直接连接符 302"/>
            <p:cNvCxnSpPr>
              <a:stCxn id="741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763" name="直接连接符 303"/>
            <p:cNvCxnSpPr>
              <a:stCxn id="735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764" name="矩形 267"/>
          <p:cNvSpPr/>
          <p:nvPr/>
        </p:nvSpPr>
        <p:spPr>
          <a:xfrm flipV="1">
            <a:off x="65520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5" name="矩形 268"/>
          <p:cNvSpPr/>
          <p:nvPr/>
        </p:nvSpPr>
        <p:spPr>
          <a:xfrm flipV="1">
            <a:off x="215208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6" name="矩形 269"/>
          <p:cNvSpPr/>
          <p:nvPr/>
        </p:nvSpPr>
        <p:spPr>
          <a:xfrm flipV="1">
            <a:off x="36489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7" name="矩形 270"/>
          <p:cNvSpPr/>
          <p:nvPr/>
        </p:nvSpPr>
        <p:spPr>
          <a:xfrm flipV="1">
            <a:off x="514548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8" name="矩形 271"/>
          <p:cNvSpPr/>
          <p:nvPr/>
        </p:nvSpPr>
        <p:spPr>
          <a:xfrm flipV="1">
            <a:off x="66423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9" name="矩形 272"/>
          <p:cNvSpPr/>
          <p:nvPr/>
        </p:nvSpPr>
        <p:spPr>
          <a:xfrm flipV="1">
            <a:off x="81388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0" name="矩形 273"/>
          <p:cNvSpPr/>
          <p:nvPr/>
        </p:nvSpPr>
        <p:spPr>
          <a:xfrm flipV="1">
            <a:off x="9635760" y="1031040"/>
            <a:ext cx="1496520" cy="66600"/>
          </a:xfrm>
          <a:prstGeom prst="rect">
            <a:avLst/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1" name="文本框 335"/>
          <p:cNvSpPr/>
          <p:nvPr/>
        </p:nvSpPr>
        <p:spPr>
          <a:xfrm>
            <a:off x="4457520" y="33120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784a5"/>
                </a:solidFill>
                <a:latin typeface="华康俪金黑W8(P)"/>
                <a:ea typeface="华康俪金黑W8(P)"/>
              </a:rPr>
              <a:t>多胜算：驾驭大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70"/>
          <p:cNvSpPr/>
          <p:nvPr/>
        </p:nvSpPr>
        <p:spPr>
          <a:xfrm>
            <a:off x="2126520" y="1247400"/>
            <a:ext cx="310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784a5"/>
                </a:solidFill>
                <a:latin typeface="华康俪金黑W8(P)"/>
                <a:ea typeface="华康俪金黑W8(P)"/>
              </a:rPr>
              <a:t>数据存储：海量吞吐的威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879364407"/>
              </p:ext>
            </p:extLst>
          </p:nvPr>
        </p:nvGraphicFramePr>
        <p:xfrm>
          <a:off x="145080" y="2120760"/>
          <a:ext cx="5602320" cy="3945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cxnSp>
        <p:nvCxnSpPr>
          <p:cNvPr id="773" name="直接连接符 74"/>
          <p:cNvCxnSpPr/>
          <p:nvPr/>
        </p:nvCxnSpPr>
        <p:spPr>
          <a:xfrm>
            <a:off x="6942600" y="4368240"/>
            <a:ext cx="409860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774" name="直接连接符 75"/>
          <p:cNvCxnSpPr/>
          <p:nvPr/>
        </p:nvCxnSpPr>
        <p:spPr>
          <a:xfrm>
            <a:off x="6942600" y="4908240"/>
            <a:ext cx="409860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775" name="直接连接符 76"/>
          <p:cNvCxnSpPr/>
          <p:nvPr/>
        </p:nvCxnSpPr>
        <p:spPr>
          <a:xfrm>
            <a:off x="6942600" y="5448240"/>
            <a:ext cx="409860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776" name="直接连接符 77"/>
          <p:cNvCxnSpPr/>
          <p:nvPr/>
        </p:nvCxnSpPr>
        <p:spPr>
          <a:xfrm>
            <a:off x="6942600" y="5988240"/>
            <a:ext cx="409860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sp>
        <p:nvSpPr>
          <p:cNvPr id="777" name="矩形 78"/>
          <p:cNvSpPr/>
          <p:nvPr/>
        </p:nvSpPr>
        <p:spPr>
          <a:xfrm>
            <a:off x="7403760" y="455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78" name="矩形 79"/>
          <p:cNvSpPr/>
          <p:nvPr/>
        </p:nvSpPr>
        <p:spPr>
          <a:xfrm>
            <a:off x="7403760" y="509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79" name="矩形 80"/>
          <p:cNvSpPr/>
          <p:nvPr/>
        </p:nvSpPr>
        <p:spPr>
          <a:xfrm>
            <a:off x="7403760" y="563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80" name="文本框 12"/>
          <p:cNvSpPr/>
          <p:nvPr/>
        </p:nvSpPr>
        <p:spPr>
          <a:xfrm>
            <a:off x="7763760" y="437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处理速度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13"/>
          <p:cNvSpPr/>
          <p:nvPr/>
        </p:nvSpPr>
        <p:spPr>
          <a:xfrm>
            <a:off x="7763760" y="491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数据类型繁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14"/>
          <p:cNvSpPr/>
          <p:nvPr/>
        </p:nvSpPr>
        <p:spPr>
          <a:xfrm>
            <a:off x="7760520" y="545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追求高质量的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84"/>
          <p:cNvSpPr/>
          <p:nvPr/>
        </p:nvSpPr>
        <p:spPr>
          <a:xfrm>
            <a:off x="7396560" y="402588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84" name="文本框 12"/>
          <p:cNvSpPr/>
          <p:nvPr/>
        </p:nvSpPr>
        <p:spPr>
          <a:xfrm>
            <a:off x="7760520" y="385668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数据巨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椭圆 86"/>
          <p:cNvSpPr/>
          <p:nvPr/>
        </p:nvSpPr>
        <p:spPr>
          <a:xfrm>
            <a:off x="679680" y="1316520"/>
            <a:ext cx="445680" cy="446040"/>
          </a:xfrm>
          <a:prstGeom prst="ellipse">
            <a:avLst/>
          </a:prstGeom>
          <a:noFill/>
          <a:ln w="28575">
            <a:solidFill>
              <a:srgbClr val="f784a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784a5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787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788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9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90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791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93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794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5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96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797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99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800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02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803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04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5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806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07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8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809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10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1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812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13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4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815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16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7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818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19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0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821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22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3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824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25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6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827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28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9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830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832" name="直接连接符 289"/>
            <p:cNvCxnSpPr>
              <a:stCxn id="812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33" name="直接连接符 290"/>
            <p:cNvCxnSpPr>
              <a:stCxn id="831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34" name="直接连接符 291"/>
            <p:cNvCxnSpPr>
              <a:stCxn id="803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35" name="直接连接符 292"/>
            <p:cNvCxnSpPr>
              <a:stCxn id="795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36" name="直接连接符 293"/>
            <p:cNvCxnSpPr>
              <a:stCxn id="789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37" name="直接连接符 294"/>
            <p:cNvCxnSpPr>
              <a:stCxn id="815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38" name="直接连接符 295"/>
            <p:cNvCxnSpPr>
              <a:stCxn id="827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39" name="直接连接符 296"/>
            <p:cNvCxnSpPr>
              <a:stCxn id="798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40" name="直接连接符 297"/>
            <p:cNvCxnSpPr>
              <a:stCxn id="801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41" name="直接连接符 298"/>
            <p:cNvCxnSpPr>
              <a:stCxn id="809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42" name="直接连接符 299"/>
            <p:cNvCxnSpPr>
              <a:stCxn id="821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43" name="直接连接符 300"/>
            <p:cNvCxnSpPr>
              <a:stCxn id="806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44" name="直接连接符 301"/>
            <p:cNvCxnSpPr>
              <a:stCxn id="792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45" name="直接连接符 302"/>
            <p:cNvCxnSpPr>
              <a:stCxn id="824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846" name="直接连接符 303"/>
            <p:cNvCxnSpPr>
              <a:stCxn id="818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847" name="矩形 267"/>
          <p:cNvSpPr/>
          <p:nvPr/>
        </p:nvSpPr>
        <p:spPr>
          <a:xfrm flipV="1">
            <a:off x="65520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8" name="矩形 268"/>
          <p:cNvSpPr/>
          <p:nvPr/>
        </p:nvSpPr>
        <p:spPr>
          <a:xfrm flipV="1">
            <a:off x="215208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9" name="矩形 269"/>
          <p:cNvSpPr/>
          <p:nvPr/>
        </p:nvSpPr>
        <p:spPr>
          <a:xfrm flipV="1">
            <a:off x="36489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0" name="矩形 270"/>
          <p:cNvSpPr/>
          <p:nvPr/>
        </p:nvSpPr>
        <p:spPr>
          <a:xfrm flipV="1">
            <a:off x="514548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1" name="矩形 271"/>
          <p:cNvSpPr/>
          <p:nvPr/>
        </p:nvSpPr>
        <p:spPr>
          <a:xfrm flipV="1">
            <a:off x="66423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2" name="矩形 272"/>
          <p:cNvSpPr/>
          <p:nvPr/>
        </p:nvSpPr>
        <p:spPr>
          <a:xfrm flipV="1">
            <a:off x="81388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3" name="矩形 273"/>
          <p:cNvSpPr/>
          <p:nvPr/>
        </p:nvSpPr>
        <p:spPr>
          <a:xfrm flipV="1">
            <a:off x="9635760" y="1031040"/>
            <a:ext cx="1496520" cy="66600"/>
          </a:xfrm>
          <a:prstGeom prst="rect">
            <a:avLst/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4" name="文本框 335"/>
          <p:cNvSpPr/>
          <p:nvPr/>
        </p:nvSpPr>
        <p:spPr>
          <a:xfrm>
            <a:off x="4457520" y="33120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784a5"/>
                </a:solidFill>
                <a:latin typeface="华康俪金黑W8(P)"/>
                <a:ea typeface="华康俪金黑W8(P)"/>
              </a:rPr>
              <a:t>多胜算：驾驭大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文本框 70"/>
          <p:cNvSpPr/>
          <p:nvPr/>
        </p:nvSpPr>
        <p:spPr>
          <a:xfrm>
            <a:off x="2126520" y="1247400"/>
            <a:ext cx="3107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784a5"/>
                </a:solidFill>
                <a:latin typeface="华康俪金黑W8(P)"/>
                <a:ea typeface="华康俪金黑W8(P)"/>
              </a:rPr>
              <a:t>数据分析：无序中建立有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423046717"/>
              </p:ext>
            </p:extLst>
          </p:nvPr>
        </p:nvGraphicFramePr>
        <p:xfrm>
          <a:off x="4302360" y="1832400"/>
          <a:ext cx="8036640" cy="44121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cxnSp>
        <p:nvCxnSpPr>
          <p:cNvPr id="856" name="直接连接符 73"/>
          <p:cNvCxnSpPr/>
          <p:nvPr/>
        </p:nvCxnSpPr>
        <p:spPr>
          <a:xfrm>
            <a:off x="701280" y="4368240"/>
            <a:ext cx="40989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857" name="直接连接符 74"/>
          <p:cNvCxnSpPr/>
          <p:nvPr/>
        </p:nvCxnSpPr>
        <p:spPr>
          <a:xfrm>
            <a:off x="701280" y="4908240"/>
            <a:ext cx="40989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858" name="直接连接符 75"/>
          <p:cNvCxnSpPr/>
          <p:nvPr/>
        </p:nvCxnSpPr>
        <p:spPr>
          <a:xfrm>
            <a:off x="701280" y="5448240"/>
            <a:ext cx="40989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859" name="直接连接符 76"/>
          <p:cNvCxnSpPr/>
          <p:nvPr/>
        </p:nvCxnSpPr>
        <p:spPr>
          <a:xfrm>
            <a:off x="701280" y="5988240"/>
            <a:ext cx="40989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sp>
        <p:nvSpPr>
          <p:cNvPr id="860" name="矩形 77"/>
          <p:cNvSpPr/>
          <p:nvPr/>
        </p:nvSpPr>
        <p:spPr>
          <a:xfrm>
            <a:off x="1162440" y="455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61" name="矩形 78"/>
          <p:cNvSpPr/>
          <p:nvPr/>
        </p:nvSpPr>
        <p:spPr>
          <a:xfrm>
            <a:off x="1162440" y="509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62" name="矩形 79"/>
          <p:cNvSpPr/>
          <p:nvPr/>
        </p:nvSpPr>
        <p:spPr>
          <a:xfrm>
            <a:off x="1162440" y="563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63" name="文本框 12"/>
          <p:cNvSpPr/>
          <p:nvPr/>
        </p:nvSpPr>
        <p:spPr>
          <a:xfrm>
            <a:off x="1522440" y="437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发现纠正数据错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13"/>
          <p:cNvSpPr/>
          <p:nvPr/>
        </p:nvSpPr>
        <p:spPr>
          <a:xfrm>
            <a:off x="1522440" y="491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统一范式转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文本框 14"/>
          <p:cNvSpPr/>
          <p:nvPr/>
        </p:nvSpPr>
        <p:spPr>
          <a:xfrm>
            <a:off x="1519560" y="545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发现隐藏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椭圆 83"/>
          <p:cNvSpPr/>
          <p:nvPr/>
        </p:nvSpPr>
        <p:spPr>
          <a:xfrm>
            <a:off x="679680" y="1316520"/>
            <a:ext cx="445680" cy="446040"/>
          </a:xfrm>
          <a:prstGeom prst="ellipse">
            <a:avLst/>
          </a:prstGeom>
          <a:noFill/>
          <a:ln w="28575">
            <a:solidFill>
              <a:srgbClr val="f784a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784a5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组合 265"/>
          <p:cNvGrpSpPr/>
          <p:nvPr/>
        </p:nvGrpSpPr>
        <p:grpSpPr>
          <a:xfrm>
            <a:off x="572400" y="254880"/>
            <a:ext cx="1282680" cy="766440"/>
            <a:chOff x="572400" y="254880"/>
            <a:chExt cx="1282680" cy="766440"/>
          </a:xfrm>
        </p:grpSpPr>
        <p:grpSp>
          <p:nvGrpSpPr>
            <p:cNvPr id="868" name="组合 274"/>
            <p:cNvGrpSpPr/>
            <p:nvPr/>
          </p:nvGrpSpPr>
          <p:grpSpPr>
            <a:xfrm>
              <a:off x="1054440" y="254880"/>
              <a:ext cx="122400" cy="188280"/>
              <a:chOff x="1054440" y="254880"/>
              <a:chExt cx="122400" cy="188280"/>
            </a:xfrm>
          </p:grpSpPr>
          <p:pic>
            <p:nvPicPr>
              <p:cNvPr id="869" name="图片 332" descr=""/>
              <p:cNvPicPr/>
              <p:nvPr/>
            </p:nvPicPr>
            <p:blipFill>
              <a:blip r:embed="rId1"/>
              <a:srcRect l="7717" t="-1302" r="6109" b="16920"/>
              <a:stretch/>
            </p:blipFill>
            <p:spPr>
              <a:xfrm rot="20997000">
                <a:off x="1069560" y="281160"/>
                <a:ext cx="950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0" name="椭圆 333"/>
              <p:cNvSpPr/>
              <p:nvPr/>
            </p:nvSpPr>
            <p:spPr>
              <a:xfrm rot="20997000">
                <a:off x="1068840" y="261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71" name="组合 275"/>
            <p:cNvGrpSpPr/>
            <p:nvPr/>
          </p:nvGrpSpPr>
          <p:grpSpPr>
            <a:xfrm>
              <a:off x="1595160" y="487440"/>
              <a:ext cx="185040" cy="192960"/>
              <a:chOff x="1595160" y="487440"/>
              <a:chExt cx="185040" cy="192960"/>
            </a:xfrm>
          </p:grpSpPr>
          <p:pic>
            <p:nvPicPr>
              <p:cNvPr id="872" name="图片 330" descr=""/>
              <p:cNvPicPr/>
              <p:nvPr/>
            </p:nvPicPr>
            <p:blipFill>
              <a:blip r:embed="rId2"/>
              <a:srcRect l="16798" t="0" r="13911" b="27617"/>
              <a:stretch/>
            </p:blipFill>
            <p:spPr>
              <a:xfrm rot="2455800">
                <a:off x="1644480" y="510480"/>
                <a:ext cx="9324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3" name="椭圆 331"/>
              <p:cNvSpPr/>
              <p:nvPr/>
            </p:nvSpPr>
            <p:spPr>
              <a:xfrm rot="2455800">
                <a:off x="1640880" y="4964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74" name="组合 276"/>
            <p:cNvGrpSpPr/>
            <p:nvPr/>
          </p:nvGrpSpPr>
          <p:grpSpPr>
            <a:xfrm>
              <a:off x="921960" y="483120"/>
              <a:ext cx="141840" cy="194760"/>
              <a:chOff x="921960" y="483120"/>
              <a:chExt cx="141840" cy="194760"/>
            </a:xfrm>
          </p:grpSpPr>
          <p:pic>
            <p:nvPicPr>
              <p:cNvPr id="875" name="图片 328" descr=""/>
              <p:cNvPicPr/>
              <p:nvPr/>
            </p:nvPicPr>
            <p:blipFill>
              <a:blip r:embed="rId3"/>
              <a:srcRect l="17073" t="11733" r="20596" b="18592"/>
              <a:stretch/>
            </p:blipFill>
            <p:spPr>
              <a:xfrm rot="20539200">
                <a:off x="949320" y="505080"/>
                <a:ext cx="8352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6" name="椭圆 329"/>
              <p:cNvSpPr/>
              <p:nvPr/>
            </p:nvSpPr>
            <p:spPr>
              <a:xfrm rot="20539200">
                <a:off x="946080" y="493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77" name="组合 277"/>
            <p:cNvGrpSpPr/>
            <p:nvPr/>
          </p:nvGrpSpPr>
          <p:grpSpPr>
            <a:xfrm>
              <a:off x="1225080" y="536040"/>
              <a:ext cx="123120" cy="188640"/>
              <a:chOff x="1225080" y="536040"/>
              <a:chExt cx="123120" cy="188640"/>
            </a:xfrm>
          </p:grpSpPr>
          <p:pic>
            <p:nvPicPr>
              <p:cNvPr id="878" name="图片 326" descr=""/>
              <p:cNvPicPr/>
              <p:nvPr/>
            </p:nvPicPr>
            <p:blipFill>
              <a:blip r:embed="rId4"/>
              <a:stretch/>
            </p:blipFill>
            <p:spPr>
              <a:xfrm rot="622200">
                <a:off x="1239840" y="5605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9" name="椭圆 327"/>
              <p:cNvSpPr/>
              <p:nvPr/>
            </p:nvSpPr>
            <p:spPr>
              <a:xfrm rot="622200">
                <a:off x="1239840" y="5428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80" name="组合 278"/>
            <p:cNvGrpSpPr/>
            <p:nvPr/>
          </p:nvGrpSpPr>
          <p:grpSpPr>
            <a:xfrm>
              <a:off x="1328040" y="308520"/>
              <a:ext cx="127080" cy="193320"/>
              <a:chOff x="1328040" y="308520"/>
              <a:chExt cx="127080" cy="193320"/>
            </a:xfrm>
          </p:grpSpPr>
          <p:pic>
            <p:nvPicPr>
              <p:cNvPr id="881" name="图片 324" descr=""/>
              <p:cNvPicPr/>
              <p:nvPr/>
            </p:nvPicPr>
            <p:blipFill>
              <a:blip r:embed="rId5"/>
              <a:srcRect l="17087" t="0" r="18768" b="27860"/>
              <a:stretch/>
            </p:blipFill>
            <p:spPr>
              <a:xfrm rot="714000">
                <a:off x="1353240" y="315360"/>
                <a:ext cx="8280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椭圆 325"/>
              <p:cNvSpPr/>
              <p:nvPr/>
            </p:nvSpPr>
            <p:spPr>
              <a:xfrm rot="714000">
                <a:off x="1344960" y="3193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83" name="组合 279"/>
            <p:cNvGrpSpPr/>
            <p:nvPr/>
          </p:nvGrpSpPr>
          <p:grpSpPr>
            <a:xfrm>
              <a:off x="735840" y="329400"/>
              <a:ext cx="149040" cy="196200"/>
              <a:chOff x="735840" y="329400"/>
              <a:chExt cx="149040" cy="196200"/>
            </a:xfrm>
          </p:grpSpPr>
          <p:sp>
            <p:nvSpPr>
              <p:cNvPr id="884" name="椭圆 322"/>
              <p:cNvSpPr/>
              <p:nvPr/>
            </p:nvSpPr>
            <p:spPr>
              <a:xfrm rot="20351400">
                <a:off x="763560" y="34020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85" name="图片 323" descr=""/>
              <p:cNvPicPr/>
              <p:nvPr/>
            </p:nvPicPr>
            <p:blipFill>
              <a:blip r:embed="rId6"/>
              <a:stretch/>
            </p:blipFill>
            <p:spPr>
              <a:xfrm rot="20351400">
                <a:off x="765360" y="36144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6" name="组合 280"/>
            <p:cNvGrpSpPr/>
            <p:nvPr/>
          </p:nvGrpSpPr>
          <p:grpSpPr>
            <a:xfrm>
              <a:off x="1444680" y="554400"/>
              <a:ext cx="171360" cy="197640"/>
              <a:chOff x="1444680" y="554400"/>
              <a:chExt cx="171360" cy="197640"/>
            </a:xfrm>
          </p:grpSpPr>
          <p:sp>
            <p:nvSpPr>
              <p:cNvPr id="887" name="椭圆 320"/>
              <p:cNvSpPr/>
              <p:nvPr/>
            </p:nvSpPr>
            <p:spPr>
              <a:xfrm rot="1912800">
                <a:off x="1483560" y="5655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88" name="图片 321" descr=""/>
              <p:cNvPicPr/>
              <p:nvPr/>
            </p:nvPicPr>
            <p:blipFill>
              <a:blip r:embed="rId7"/>
              <a:stretch/>
            </p:blipFill>
            <p:spPr>
              <a:xfrm rot="1912800">
                <a:off x="1491840" y="57168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9" name="组合 281"/>
            <p:cNvGrpSpPr/>
            <p:nvPr/>
          </p:nvGrpSpPr>
          <p:grpSpPr>
            <a:xfrm>
              <a:off x="1331640" y="520920"/>
              <a:ext cx="153000" cy="196920"/>
              <a:chOff x="1331640" y="520920"/>
              <a:chExt cx="153000" cy="196920"/>
            </a:xfrm>
          </p:grpSpPr>
          <p:sp>
            <p:nvSpPr>
              <p:cNvPr id="890" name="椭圆 318"/>
              <p:cNvSpPr/>
              <p:nvPr/>
            </p:nvSpPr>
            <p:spPr>
              <a:xfrm rot="1354200">
                <a:off x="1361520" y="5320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91" name="图片 319" descr=""/>
              <p:cNvPicPr/>
              <p:nvPr/>
            </p:nvPicPr>
            <p:blipFill>
              <a:blip r:embed="rId8"/>
              <a:stretch/>
            </p:blipFill>
            <p:spPr>
              <a:xfrm rot="1354200">
                <a:off x="1371240" y="546120"/>
                <a:ext cx="7056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2" name="组合 282"/>
            <p:cNvGrpSpPr/>
            <p:nvPr/>
          </p:nvGrpSpPr>
          <p:grpSpPr>
            <a:xfrm>
              <a:off x="810720" y="635760"/>
              <a:ext cx="165600" cy="198000"/>
              <a:chOff x="810720" y="635760"/>
              <a:chExt cx="165600" cy="198000"/>
            </a:xfrm>
          </p:grpSpPr>
          <p:sp>
            <p:nvSpPr>
              <p:cNvPr id="893" name="椭圆 316"/>
              <p:cNvSpPr/>
              <p:nvPr/>
            </p:nvSpPr>
            <p:spPr>
              <a:xfrm rot="19874400">
                <a:off x="846720" y="64728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94" name="图片 317" descr=""/>
              <p:cNvPicPr/>
              <p:nvPr/>
            </p:nvPicPr>
            <p:blipFill>
              <a:blip r:embed="rId9"/>
              <a:stretch/>
            </p:blipFill>
            <p:spPr>
              <a:xfrm rot="19874400">
                <a:off x="844920" y="662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5" name="组合 283"/>
            <p:cNvGrpSpPr/>
            <p:nvPr/>
          </p:nvGrpSpPr>
          <p:grpSpPr>
            <a:xfrm>
              <a:off x="1188360" y="375840"/>
              <a:ext cx="93960" cy="174600"/>
              <a:chOff x="1188360" y="375840"/>
              <a:chExt cx="93960" cy="174600"/>
            </a:xfrm>
          </p:grpSpPr>
          <p:sp>
            <p:nvSpPr>
              <p:cNvPr id="896" name="椭圆 314"/>
              <p:cNvSpPr/>
              <p:nvPr/>
            </p:nvSpPr>
            <p:spPr>
              <a:xfrm>
                <a:off x="1188360" y="37584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897" name="图片 3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89080" y="38772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8" name="组合 284"/>
            <p:cNvGrpSpPr/>
            <p:nvPr/>
          </p:nvGrpSpPr>
          <p:grpSpPr>
            <a:xfrm>
              <a:off x="1477800" y="746640"/>
              <a:ext cx="176040" cy="181440"/>
              <a:chOff x="1477800" y="746640"/>
              <a:chExt cx="176040" cy="181440"/>
            </a:xfrm>
          </p:grpSpPr>
          <p:sp>
            <p:nvSpPr>
              <p:cNvPr id="899" name="椭圆 312"/>
              <p:cNvSpPr/>
              <p:nvPr/>
            </p:nvSpPr>
            <p:spPr>
              <a:xfrm rot="3261600">
                <a:off x="1495800" y="77904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900" name="图片 313" descr=""/>
              <p:cNvPicPr/>
              <p:nvPr/>
            </p:nvPicPr>
            <p:blipFill>
              <a:blip r:embed="rId11"/>
              <a:stretch/>
            </p:blipFill>
            <p:spPr>
              <a:xfrm rot="3261600">
                <a:off x="1497240" y="79236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1" name="组合 285"/>
            <p:cNvGrpSpPr/>
            <p:nvPr/>
          </p:nvGrpSpPr>
          <p:grpSpPr>
            <a:xfrm>
              <a:off x="1481400" y="358200"/>
              <a:ext cx="170280" cy="197640"/>
              <a:chOff x="1481400" y="358200"/>
              <a:chExt cx="170280" cy="197640"/>
            </a:xfrm>
          </p:grpSpPr>
          <p:sp>
            <p:nvSpPr>
              <p:cNvPr id="902" name="椭圆 310"/>
              <p:cNvSpPr/>
              <p:nvPr/>
            </p:nvSpPr>
            <p:spPr>
              <a:xfrm rot="1881600">
                <a:off x="1519560" y="36936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903" name="图片 311" descr=""/>
              <p:cNvPicPr/>
              <p:nvPr/>
            </p:nvPicPr>
            <p:blipFill>
              <a:blip r:embed="rId12"/>
              <a:stretch/>
            </p:blipFill>
            <p:spPr>
              <a:xfrm rot="1881600">
                <a:off x="1521720" y="3852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4" name="组合 286"/>
            <p:cNvGrpSpPr/>
            <p:nvPr/>
          </p:nvGrpSpPr>
          <p:grpSpPr>
            <a:xfrm>
              <a:off x="1676520" y="760320"/>
              <a:ext cx="178560" cy="181800"/>
              <a:chOff x="1676520" y="760320"/>
              <a:chExt cx="178560" cy="181800"/>
            </a:xfrm>
          </p:grpSpPr>
          <p:sp>
            <p:nvSpPr>
              <p:cNvPr id="905" name="椭圆 308"/>
              <p:cNvSpPr/>
              <p:nvPr/>
            </p:nvSpPr>
            <p:spPr>
              <a:xfrm rot="3066600">
                <a:off x="1695600" y="792720"/>
                <a:ext cx="139680" cy="11664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906" name="图片 309" descr=""/>
              <p:cNvPicPr/>
              <p:nvPr/>
            </p:nvPicPr>
            <p:blipFill>
              <a:blip r:embed="rId13"/>
              <a:stretch/>
            </p:blipFill>
            <p:spPr>
              <a:xfrm rot="3066600">
                <a:off x="1695600" y="804240"/>
                <a:ext cx="139680" cy="9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7" name="组合 287"/>
            <p:cNvGrpSpPr/>
            <p:nvPr/>
          </p:nvGrpSpPr>
          <p:grpSpPr>
            <a:xfrm>
              <a:off x="1042560" y="529200"/>
              <a:ext cx="128880" cy="190440"/>
              <a:chOff x="1042560" y="529200"/>
              <a:chExt cx="128880" cy="190440"/>
            </a:xfrm>
          </p:grpSpPr>
          <p:sp>
            <p:nvSpPr>
              <p:cNvPr id="908" name="椭圆 306"/>
              <p:cNvSpPr/>
              <p:nvPr/>
            </p:nvSpPr>
            <p:spPr>
              <a:xfrm rot="20849400">
                <a:off x="1060200" y="5371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909" name="图片 307" descr=""/>
              <p:cNvPicPr/>
              <p:nvPr/>
            </p:nvPicPr>
            <p:blipFill>
              <a:blip r:embed="rId14"/>
              <a:stretch/>
            </p:blipFill>
            <p:spPr>
              <a:xfrm rot="20849400">
                <a:off x="1060560" y="55476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0" name="组合 288"/>
            <p:cNvGrpSpPr/>
            <p:nvPr/>
          </p:nvGrpSpPr>
          <p:grpSpPr>
            <a:xfrm>
              <a:off x="572400" y="574560"/>
              <a:ext cx="169200" cy="197640"/>
              <a:chOff x="572400" y="574560"/>
              <a:chExt cx="169200" cy="197640"/>
            </a:xfrm>
          </p:grpSpPr>
          <p:pic>
            <p:nvPicPr>
              <p:cNvPr id="911" name="图片 304" descr=""/>
              <p:cNvPicPr/>
              <p:nvPr/>
            </p:nvPicPr>
            <p:blipFill>
              <a:blip r:embed="rId15"/>
              <a:stretch/>
            </p:blipFill>
            <p:spPr>
              <a:xfrm rot="19756200">
                <a:off x="608040" y="603000"/>
                <a:ext cx="93240" cy="1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2" name="椭圆 305"/>
              <p:cNvSpPr/>
              <p:nvPr/>
            </p:nvSpPr>
            <p:spPr>
              <a:xfrm rot="19756200">
                <a:off x="610200" y="585720"/>
                <a:ext cx="93240" cy="174600"/>
              </a:xfrm>
              <a:prstGeom prst="ellipse">
                <a:avLst/>
              </a:prstGeom>
              <a:noFill/>
              <a:ln w="28575"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913" name="直接连接符 289"/>
            <p:cNvCxnSpPr>
              <a:stCxn id="893" idx="4"/>
            </p:cNvCxnSpPr>
            <p:nvPr/>
          </p:nvCxnSpPr>
          <p:spPr>
            <a:xfrm>
              <a:off x="921240" y="811440"/>
              <a:ext cx="295560" cy="210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14" name="直接连接符 290"/>
            <p:cNvCxnSpPr>
              <a:stCxn id="912" idx="4"/>
            </p:cNvCxnSpPr>
            <p:nvPr/>
          </p:nvCxnSpPr>
          <p:spPr>
            <a:xfrm>
              <a:off x="686520" y="748440"/>
              <a:ext cx="530280" cy="273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15" name="直接连接符 291"/>
            <p:cNvCxnSpPr>
              <a:stCxn id="884" idx="4"/>
            </p:cNvCxnSpPr>
            <p:nvPr/>
          </p:nvCxnSpPr>
          <p:spPr>
            <a:xfrm>
              <a:off x="831240" y="509040"/>
              <a:ext cx="385560" cy="5126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16" name="直接连接符 292"/>
            <p:cNvCxnSpPr>
              <a:stCxn id="876" idx="4"/>
            </p:cNvCxnSpPr>
            <p:nvPr/>
          </p:nvCxnSpPr>
          <p:spPr>
            <a:xfrm>
              <a:off x="1010520" y="663840"/>
              <a:ext cx="206280" cy="357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17" name="直接连接符 293"/>
            <p:cNvCxnSpPr>
              <a:stCxn id="870" idx="4"/>
            </p:cNvCxnSpPr>
            <p:nvPr/>
          </p:nvCxnSpPr>
          <p:spPr>
            <a:xfrm>
              <a:off x="1125360" y="434880"/>
              <a:ext cx="91440" cy="5868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18" name="直接连接符 294"/>
            <p:cNvCxnSpPr>
              <a:stCxn id="896" idx="4"/>
            </p:cNvCxnSpPr>
            <p:nvPr/>
          </p:nvCxnSpPr>
          <p:spPr>
            <a:xfrm flipH="1">
              <a:off x="1216440" y="550440"/>
              <a:ext cx="18720" cy="4712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19" name="直接连接符 295"/>
            <p:cNvCxnSpPr>
              <a:stCxn id="908" idx="4"/>
            </p:cNvCxnSpPr>
            <p:nvPr/>
          </p:nvCxnSpPr>
          <p:spPr>
            <a:xfrm>
              <a:off x="1119600" y="709920"/>
              <a:ext cx="97200" cy="3117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20" name="直接连接符 296"/>
            <p:cNvCxnSpPr>
              <a:stCxn id="879" idx="4"/>
            </p:cNvCxnSpPr>
            <p:nvPr/>
          </p:nvCxnSpPr>
          <p:spPr>
            <a:xfrm flipH="1">
              <a:off x="1216440" y="716400"/>
              <a:ext cx="60120" cy="3052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21" name="直接连接符 297"/>
            <p:cNvCxnSpPr>
              <a:stCxn id="882" idx="4"/>
            </p:cNvCxnSpPr>
            <p:nvPr/>
          </p:nvCxnSpPr>
          <p:spPr>
            <a:xfrm flipH="1">
              <a:off x="1216440" y="492480"/>
              <a:ext cx="163800" cy="52920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22" name="直接连接符 298"/>
            <p:cNvCxnSpPr>
              <a:stCxn id="890" idx="4"/>
            </p:cNvCxnSpPr>
            <p:nvPr/>
          </p:nvCxnSpPr>
          <p:spPr>
            <a:xfrm flipH="1">
              <a:off x="1216440" y="700200"/>
              <a:ext cx="169920" cy="321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23" name="直接连接符 299"/>
            <p:cNvCxnSpPr>
              <a:stCxn id="902" idx="4"/>
            </p:cNvCxnSpPr>
            <p:nvPr/>
          </p:nvCxnSpPr>
          <p:spPr>
            <a:xfrm flipH="1">
              <a:off x="1216440" y="531720"/>
              <a:ext cx="320400" cy="4899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24" name="直接连接符 300"/>
            <p:cNvCxnSpPr>
              <a:stCxn id="887" idx="4"/>
            </p:cNvCxnSpPr>
            <p:nvPr/>
          </p:nvCxnSpPr>
          <p:spPr>
            <a:xfrm flipH="1">
              <a:off x="1216440" y="727200"/>
              <a:ext cx="283680" cy="2944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25" name="直接连接符 301"/>
            <p:cNvCxnSpPr>
              <a:stCxn id="873" idx="4"/>
            </p:cNvCxnSpPr>
            <p:nvPr/>
          </p:nvCxnSpPr>
          <p:spPr>
            <a:xfrm flipH="1">
              <a:off x="1216440" y="649800"/>
              <a:ext cx="433440" cy="37188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26" name="直接连接符 302"/>
            <p:cNvCxnSpPr>
              <a:stCxn id="905" idx="4"/>
            </p:cNvCxnSpPr>
            <p:nvPr/>
          </p:nvCxnSpPr>
          <p:spPr>
            <a:xfrm flipH="1">
              <a:off x="1216440" y="906840"/>
              <a:ext cx="503640" cy="114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927" name="直接连接符 303"/>
            <p:cNvCxnSpPr>
              <a:stCxn id="899" idx="4"/>
            </p:cNvCxnSpPr>
            <p:nvPr/>
          </p:nvCxnSpPr>
          <p:spPr>
            <a:xfrm flipH="1">
              <a:off x="1216440" y="888840"/>
              <a:ext cx="302400" cy="13284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sp>
        <p:nvSpPr>
          <p:cNvPr id="928" name="矩形 267"/>
          <p:cNvSpPr/>
          <p:nvPr/>
        </p:nvSpPr>
        <p:spPr>
          <a:xfrm flipV="1">
            <a:off x="65520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矩形 268"/>
          <p:cNvSpPr/>
          <p:nvPr/>
        </p:nvSpPr>
        <p:spPr>
          <a:xfrm flipV="1">
            <a:off x="21520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矩形 269"/>
          <p:cNvSpPr/>
          <p:nvPr/>
        </p:nvSpPr>
        <p:spPr>
          <a:xfrm flipV="1">
            <a:off x="36489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矩形 270"/>
          <p:cNvSpPr/>
          <p:nvPr/>
        </p:nvSpPr>
        <p:spPr>
          <a:xfrm flipV="1">
            <a:off x="514548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 271"/>
          <p:cNvSpPr/>
          <p:nvPr/>
        </p:nvSpPr>
        <p:spPr>
          <a:xfrm flipV="1">
            <a:off x="6642360" y="1031040"/>
            <a:ext cx="1496520" cy="666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 272"/>
          <p:cNvSpPr/>
          <p:nvPr/>
        </p:nvSpPr>
        <p:spPr>
          <a:xfrm flipV="1">
            <a:off x="8138880" y="1031040"/>
            <a:ext cx="1496520" cy="66600"/>
          </a:xfrm>
          <a:prstGeom prst="rect">
            <a:avLst/>
          </a:prstGeom>
          <a:solidFill>
            <a:srgbClr val="31b5d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4" name="矩形 273"/>
          <p:cNvSpPr/>
          <p:nvPr/>
        </p:nvSpPr>
        <p:spPr>
          <a:xfrm flipV="1">
            <a:off x="9635760" y="1031040"/>
            <a:ext cx="1496520" cy="66600"/>
          </a:xfrm>
          <a:prstGeom prst="rect">
            <a:avLst/>
          </a:prstGeom>
          <a:solidFill>
            <a:srgbClr val="f784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5" name="文本框 335"/>
          <p:cNvSpPr/>
          <p:nvPr/>
        </p:nvSpPr>
        <p:spPr>
          <a:xfrm>
            <a:off x="4048920" y="308520"/>
            <a:ext cx="322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智慧政府：大数据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71"/>
          <p:cNvSpPr/>
          <p:nvPr/>
        </p:nvSpPr>
        <p:spPr>
          <a:xfrm>
            <a:off x="2292840" y="1247400"/>
            <a:ext cx="3594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政府应成为大数据时代的领跑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组合 3"/>
          <p:cNvGrpSpPr/>
          <p:nvPr/>
        </p:nvGrpSpPr>
        <p:grpSpPr>
          <a:xfrm>
            <a:off x="1120320" y="1872000"/>
            <a:ext cx="6963840" cy="4569120"/>
            <a:chOff x="1120320" y="1872000"/>
            <a:chExt cx="6963840" cy="4569120"/>
          </a:xfrm>
        </p:grpSpPr>
        <p:grpSp>
          <p:nvGrpSpPr>
            <p:cNvPr id="938" name="组合 2"/>
            <p:cNvGrpSpPr/>
            <p:nvPr/>
          </p:nvGrpSpPr>
          <p:grpSpPr>
            <a:xfrm>
              <a:off x="1404720" y="1872000"/>
              <a:ext cx="6679440" cy="4452120"/>
              <a:chOff x="1404720" y="1872000"/>
              <a:chExt cx="6679440" cy="4452120"/>
            </a:xfrm>
          </p:grpSpPr>
          <p:cxnSp>
            <p:nvCxnSpPr>
              <p:cNvPr id="939" name="直接连接符 77"/>
              <p:cNvCxnSpPr/>
              <p:nvPr/>
            </p:nvCxnSpPr>
            <p:spPr>
              <a:xfrm>
                <a:off x="1865520" y="5870160"/>
                <a:ext cx="6219000" cy="360"/>
              </a:xfrm>
              <a:prstGeom prst="straightConnector1">
                <a:avLst/>
              </a:prstGeom>
              <a:ln w="38100">
                <a:solidFill>
                  <a:srgbClr val="5b9bd5"/>
                </a:solidFill>
                <a:tailEnd len="med" type="stealth" w="med"/>
              </a:ln>
            </p:spPr>
          </p:cxnSp>
          <p:cxnSp>
            <p:nvCxnSpPr>
              <p:cNvPr id="940" name="直接连接符 78"/>
              <p:cNvCxnSpPr/>
              <p:nvPr/>
            </p:nvCxnSpPr>
            <p:spPr>
              <a:xfrm flipV="1">
                <a:off x="1873440" y="2076840"/>
                <a:ext cx="360" cy="3809160"/>
              </a:xfrm>
              <a:prstGeom prst="straightConnector1">
                <a:avLst/>
              </a:prstGeom>
              <a:ln w="38100">
                <a:solidFill>
                  <a:srgbClr val="5b9bd5"/>
                </a:solidFill>
                <a:tailEnd len="med" type="stealth" w="med"/>
              </a:ln>
            </p:spPr>
          </p:cxnSp>
          <p:sp>
            <p:nvSpPr>
              <p:cNvPr id="941" name="椭圆 79"/>
              <p:cNvSpPr/>
              <p:nvPr/>
            </p:nvSpPr>
            <p:spPr>
              <a:xfrm>
                <a:off x="5737320" y="4943520"/>
                <a:ext cx="740520" cy="722880"/>
              </a:xfrm>
              <a:prstGeom prst="ellipse">
                <a:avLst/>
              </a:prstGeom>
              <a:solidFill>
                <a:srgbClr val="f784a5"/>
              </a:solidFill>
              <a:ln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42" name="椭圆 80"/>
              <p:cNvSpPr/>
              <p:nvPr/>
            </p:nvSpPr>
            <p:spPr>
              <a:xfrm>
                <a:off x="3236400" y="2670840"/>
                <a:ext cx="621360" cy="606600"/>
              </a:xfrm>
              <a:prstGeom prst="ellipse">
                <a:avLst/>
              </a:prstGeom>
              <a:solidFill>
                <a:srgbClr val="f784a5"/>
              </a:solidFill>
              <a:ln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43" name="椭圆 81"/>
              <p:cNvSpPr/>
              <p:nvPr/>
            </p:nvSpPr>
            <p:spPr>
              <a:xfrm>
                <a:off x="4049640" y="2364840"/>
                <a:ext cx="273600" cy="26676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44" name="椭圆 82"/>
              <p:cNvSpPr/>
              <p:nvPr/>
            </p:nvSpPr>
            <p:spPr>
              <a:xfrm>
                <a:off x="4062600" y="4263120"/>
                <a:ext cx="280800" cy="27432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45" name="椭圆 83"/>
              <p:cNvSpPr/>
              <p:nvPr/>
            </p:nvSpPr>
            <p:spPr>
              <a:xfrm>
                <a:off x="4276440" y="4430160"/>
                <a:ext cx="493200" cy="481320"/>
              </a:xfrm>
              <a:prstGeom prst="ellipse">
                <a:avLst/>
              </a:prstGeom>
              <a:solidFill>
                <a:srgbClr val="31b5d6"/>
              </a:solidFill>
              <a:ln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46" name="椭圆 84"/>
              <p:cNvSpPr/>
              <p:nvPr/>
            </p:nvSpPr>
            <p:spPr>
              <a:xfrm>
                <a:off x="4102560" y="5179320"/>
                <a:ext cx="213480" cy="20808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47" name="椭圆 85"/>
              <p:cNvSpPr/>
              <p:nvPr/>
            </p:nvSpPr>
            <p:spPr>
              <a:xfrm>
                <a:off x="4102560" y="5457960"/>
                <a:ext cx="213480" cy="20808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48" name="椭圆 86"/>
              <p:cNvSpPr/>
              <p:nvPr/>
            </p:nvSpPr>
            <p:spPr>
              <a:xfrm>
                <a:off x="3702960" y="4537440"/>
                <a:ext cx="309960" cy="30240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49" name="椭圆 87"/>
              <p:cNvSpPr/>
              <p:nvPr/>
            </p:nvSpPr>
            <p:spPr>
              <a:xfrm>
                <a:off x="2997720" y="3863880"/>
                <a:ext cx="436680" cy="426240"/>
              </a:xfrm>
              <a:prstGeom prst="ellipse">
                <a:avLst/>
              </a:prstGeom>
              <a:solidFill>
                <a:srgbClr val="31b5d6"/>
              </a:solidFill>
              <a:ln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0" name="椭圆 88"/>
              <p:cNvSpPr/>
              <p:nvPr/>
            </p:nvSpPr>
            <p:spPr>
              <a:xfrm>
                <a:off x="3348720" y="3902760"/>
                <a:ext cx="357480" cy="348840"/>
              </a:xfrm>
              <a:prstGeom prst="ellipse">
                <a:avLst/>
              </a:prstGeom>
              <a:solidFill>
                <a:srgbClr val="31b5d6"/>
              </a:solidFill>
              <a:ln>
                <a:solidFill>
                  <a:srgbClr val="e7e6e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1" name="椭圆 89"/>
              <p:cNvSpPr/>
              <p:nvPr/>
            </p:nvSpPr>
            <p:spPr>
              <a:xfrm>
                <a:off x="6041520" y="2774160"/>
                <a:ext cx="568440" cy="554760"/>
              </a:xfrm>
              <a:prstGeom prst="ellipse">
                <a:avLst/>
              </a:prstGeom>
              <a:solidFill>
                <a:srgbClr val="f784a5"/>
              </a:solidFill>
              <a:ln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2" name="椭圆 90"/>
              <p:cNvSpPr/>
              <p:nvPr/>
            </p:nvSpPr>
            <p:spPr>
              <a:xfrm>
                <a:off x="5737320" y="2826000"/>
                <a:ext cx="462600" cy="451440"/>
              </a:xfrm>
              <a:prstGeom prst="ellipse">
                <a:avLst/>
              </a:prstGeom>
              <a:solidFill>
                <a:srgbClr val="31b5d6"/>
              </a:solidFill>
              <a:ln>
                <a:solidFill>
                  <a:srgbClr val="e7e6e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3" name="椭圆 91"/>
              <p:cNvSpPr/>
              <p:nvPr/>
            </p:nvSpPr>
            <p:spPr>
              <a:xfrm>
                <a:off x="4591440" y="2774160"/>
                <a:ext cx="462600" cy="451440"/>
              </a:xfrm>
              <a:prstGeom prst="ellipse">
                <a:avLst/>
              </a:prstGeom>
              <a:solidFill>
                <a:srgbClr val="31b5d6"/>
              </a:solidFill>
              <a:ln>
                <a:solidFill>
                  <a:srgbClr val="31b5d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4" name="椭圆 92"/>
              <p:cNvSpPr/>
              <p:nvPr/>
            </p:nvSpPr>
            <p:spPr>
              <a:xfrm>
                <a:off x="4496400" y="3010680"/>
                <a:ext cx="273600" cy="26676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e7e6e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5" name="椭圆 93"/>
              <p:cNvSpPr/>
              <p:nvPr/>
            </p:nvSpPr>
            <p:spPr>
              <a:xfrm>
                <a:off x="4758480" y="3458160"/>
                <a:ext cx="740520" cy="722880"/>
              </a:xfrm>
              <a:prstGeom prst="ellipse">
                <a:avLst/>
              </a:prstGeom>
              <a:solidFill>
                <a:srgbClr val="f784a5"/>
              </a:solidFill>
              <a:ln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6" name="椭圆 94"/>
              <p:cNvSpPr/>
              <p:nvPr/>
            </p:nvSpPr>
            <p:spPr>
              <a:xfrm>
                <a:off x="4210920" y="3305520"/>
                <a:ext cx="519120" cy="506520"/>
              </a:xfrm>
              <a:prstGeom prst="ellipse">
                <a:avLst/>
              </a:prstGeom>
              <a:solidFill>
                <a:srgbClr val="f784a5"/>
              </a:solidFill>
              <a:ln>
                <a:solidFill>
                  <a:srgbClr val="f784a5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7" name="椭圆 95"/>
              <p:cNvSpPr/>
              <p:nvPr/>
            </p:nvSpPr>
            <p:spPr>
              <a:xfrm>
                <a:off x="4686120" y="3445920"/>
                <a:ext cx="273600" cy="26676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e7e6e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8" name="椭圆 96"/>
              <p:cNvSpPr/>
              <p:nvPr/>
            </p:nvSpPr>
            <p:spPr>
              <a:xfrm>
                <a:off x="4950000" y="3384360"/>
                <a:ext cx="357480" cy="348840"/>
              </a:xfrm>
              <a:prstGeom prst="ellipse">
                <a:avLst/>
              </a:prstGeom>
              <a:solidFill>
                <a:srgbClr val="31b5d6"/>
              </a:solidFill>
              <a:ln>
                <a:solidFill>
                  <a:srgbClr val="e7e6e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59" name="椭圆 97"/>
              <p:cNvSpPr/>
              <p:nvPr/>
            </p:nvSpPr>
            <p:spPr>
              <a:xfrm>
                <a:off x="4878720" y="3672000"/>
                <a:ext cx="273600" cy="26676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e7e6e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60" name="椭圆 98"/>
              <p:cNvSpPr/>
              <p:nvPr/>
            </p:nvSpPr>
            <p:spPr>
              <a:xfrm>
                <a:off x="5209920" y="3891600"/>
                <a:ext cx="462600" cy="451440"/>
              </a:xfrm>
              <a:prstGeom prst="ellipse">
                <a:avLst/>
              </a:prstGeom>
              <a:solidFill>
                <a:srgbClr val="31b5d6"/>
              </a:solidFill>
              <a:ln>
                <a:solidFill>
                  <a:srgbClr val="e7e6e6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961" name="文本框 99"/>
              <p:cNvSpPr/>
              <p:nvPr/>
            </p:nvSpPr>
            <p:spPr>
              <a:xfrm>
                <a:off x="6544440" y="5172840"/>
                <a:ext cx="4554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784a5"/>
                    </a:solidFill>
                    <a:latin typeface="微软雅黑"/>
                    <a:ea typeface="微软雅黑"/>
                  </a:rPr>
                  <a:t>政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文本框 100"/>
              <p:cNvSpPr/>
              <p:nvPr/>
            </p:nvSpPr>
            <p:spPr>
              <a:xfrm>
                <a:off x="4537800" y="5128200"/>
                <a:ext cx="866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教育服务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文本框 101"/>
              <p:cNvSpPr/>
              <p:nvPr/>
            </p:nvSpPr>
            <p:spPr>
              <a:xfrm>
                <a:off x="4537800" y="5423400"/>
                <a:ext cx="866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文化娱乐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文本框 102"/>
              <p:cNvSpPr/>
              <p:nvPr/>
            </p:nvSpPr>
            <p:spPr>
              <a:xfrm>
                <a:off x="2849760" y="4984560"/>
                <a:ext cx="866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其他服务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文本框 103"/>
              <p:cNvSpPr/>
              <p:nvPr/>
            </p:nvSpPr>
            <p:spPr>
              <a:xfrm>
                <a:off x="4843800" y="4523040"/>
                <a:ext cx="592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31b5d6"/>
                    </a:solidFill>
                    <a:latin typeface="微软雅黑"/>
                    <a:ea typeface="微软雅黑"/>
                  </a:rPr>
                  <a:t>零售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文本框 104"/>
              <p:cNvSpPr/>
              <p:nvPr/>
            </p:nvSpPr>
            <p:spPr>
              <a:xfrm>
                <a:off x="2646720" y="4492440"/>
                <a:ext cx="729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31b5d6"/>
                    </a:solidFill>
                    <a:latin typeface="微软雅黑"/>
                    <a:ea typeface="微软雅黑"/>
                  </a:rPr>
                  <a:t>行政服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文本框 105"/>
              <p:cNvSpPr/>
              <p:nvPr/>
            </p:nvSpPr>
            <p:spPr>
              <a:xfrm>
                <a:off x="2391120" y="3836880"/>
                <a:ext cx="592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31b5d6"/>
                    </a:solidFill>
                    <a:latin typeface="微软雅黑"/>
                    <a:ea typeface="微软雅黑"/>
                  </a:rPr>
                  <a:t>建筑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文本框 106"/>
              <p:cNvSpPr/>
              <p:nvPr/>
            </p:nvSpPr>
            <p:spPr>
              <a:xfrm>
                <a:off x="6770520" y="4290840"/>
                <a:ext cx="729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31b5d6"/>
                    </a:solidFill>
                    <a:latin typeface="微软雅黑"/>
                    <a:ea typeface="微软雅黑"/>
                  </a:rPr>
                  <a:t>批发贸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文本框 107"/>
              <p:cNvSpPr/>
              <p:nvPr/>
            </p:nvSpPr>
            <p:spPr>
              <a:xfrm>
                <a:off x="6770520" y="3894480"/>
                <a:ext cx="729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企业管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文本框 108"/>
              <p:cNvSpPr/>
              <p:nvPr/>
            </p:nvSpPr>
            <p:spPr>
              <a:xfrm>
                <a:off x="6770520" y="3572280"/>
                <a:ext cx="729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784a5"/>
                    </a:solidFill>
                    <a:latin typeface="微软雅黑"/>
                    <a:ea typeface="微软雅黑"/>
                  </a:rPr>
                  <a:t>房地产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文本框 109"/>
              <p:cNvSpPr/>
              <p:nvPr/>
            </p:nvSpPr>
            <p:spPr>
              <a:xfrm>
                <a:off x="6713640" y="3269880"/>
                <a:ext cx="866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31b5d6"/>
                    </a:solidFill>
                    <a:latin typeface="微软雅黑"/>
                    <a:ea typeface="微软雅黑"/>
                  </a:rPr>
                  <a:t>交通仓储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文本框 110"/>
              <p:cNvSpPr/>
              <p:nvPr/>
            </p:nvSpPr>
            <p:spPr>
              <a:xfrm>
                <a:off x="6713640" y="2917080"/>
                <a:ext cx="866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784a5"/>
                    </a:solidFill>
                    <a:latin typeface="微软雅黑"/>
                    <a:ea typeface="微软雅黑"/>
                  </a:rPr>
                  <a:t>金融保险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文本框 111"/>
              <p:cNvSpPr/>
              <p:nvPr/>
            </p:nvSpPr>
            <p:spPr>
              <a:xfrm>
                <a:off x="5737320" y="2508120"/>
                <a:ext cx="592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31b5d6"/>
                    </a:solidFill>
                    <a:latin typeface="微软雅黑"/>
                    <a:ea typeface="微软雅黑"/>
                  </a:rPr>
                  <a:t>信息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文本框 112"/>
              <p:cNvSpPr/>
              <p:nvPr/>
            </p:nvSpPr>
            <p:spPr>
              <a:xfrm>
                <a:off x="5522760" y="2153160"/>
                <a:ext cx="1689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计算机及其电子产品行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文本框 113"/>
              <p:cNvSpPr/>
              <p:nvPr/>
            </p:nvSpPr>
            <p:spPr>
              <a:xfrm>
                <a:off x="4482720" y="1872000"/>
                <a:ext cx="729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31b5d6"/>
                    </a:solidFill>
                    <a:latin typeface="微软雅黑"/>
                    <a:ea typeface="微软雅黑"/>
                  </a:rPr>
                  <a:t>公共事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文本框 114"/>
              <p:cNvSpPr/>
              <p:nvPr/>
            </p:nvSpPr>
            <p:spPr>
              <a:xfrm>
                <a:off x="3884760" y="2106720"/>
                <a:ext cx="729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自然资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文本框 115"/>
              <p:cNvSpPr/>
              <p:nvPr/>
            </p:nvSpPr>
            <p:spPr>
              <a:xfrm>
                <a:off x="2892960" y="2332080"/>
                <a:ext cx="592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制造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文本框 116"/>
              <p:cNvSpPr/>
              <p:nvPr/>
            </p:nvSpPr>
            <p:spPr>
              <a:xfrm>
                <a:off x="2375280" y="2814120"/>
                <a:ext cx="866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784a5"/>
                    </a:solidFill>
                    <a:latin typeface="微软雅黑"/>
                    <a:ea typeface="微软雅黑"/>
                  </a:rPr>
                  <a:t>医疗保健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文本框 117"/>
              <p:cNvSpPr/>
              <p:nvPr/>
            </p:nvSpPr>
            <p:spPr>
              <a:xfrm>
                <a:off x="3021120" y="3401280"/>
                <a:ext cx="866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784a5"/>
                    </a:solidFill>
                    <a:latin typeface="微软雅黑"/>
                    <a:ea typeface="微软雅黑"/>
                  </a:rPr>
                  <a:t>咨询服务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文本框 118"/>
              <p:cNvSpPr/>
              <p:nvPr/>
            </p:nvSpPr>
            <p:spPr>
              <a:xfrm>
                <a:off x="3825720" y="3826080"/>
                <a:ext cx="866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餐饮住宿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1" name="直接连接符 119"/>
              <p:cNvCxnSpPr/>
              <p:nvPr/>
            </p:nvCxnSpPr>
            <p:spPr>
              <a:xfrm>
                <a:off x="3588480" y="2495880"/>
                <a:ext cx="947880" cy="5540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982" name="直接连接符 120"/>
              <p:cNvCxnSpPr/>
              <p:nvPr/>
            </p:nvCxnSpPr>
            <p:spPr>
              <a:xfrm flipH="1">
                <a:off x="4822920" y="2199960"/>
                <a:ext cx="25200" cy="574560"/>
              </a:xfrm>
              <a:prstGeom prst="straightConnector1">
                <a:avLst/>
              </a:prstGeom>
              <a:ln>
                <a:solidFill>
                  <a:srgbClr val="31b5d6"/>
                </a:solidFill>
              </a:ln>
            </p:spPr>
          </p:cxnSp>
          <p:cxnSp>
            <p:nvCxnSpPr>
              <p:cNvPr id="983" name="直接连接符 121"/>
              <p:cNvCxnSpPr/>
              <p:nvPr/>
            </p:nvCxnSpPr>
            <p:spPr>
              <a:xfrm flipH="1" flipV="1">
                <a:off x="5968440" y="2825640"/>
                <a:ext cx="65520" cy="10800"/>
              </a:xfrm>
              <a:prstGeom prst="straightConnector1">
                <a:avLst/>
              </a:prstGeom>
              <a:ln>
                <a:solidFill>
                  <a:srgbClr val="5b9bd5"/>
                </a:solidFill>
              </a:ln>
            </p:spPr>
          </p:cxnSp>
          <p:cxnSp>
            <p:nvCxnSpPr>
              <p:cNvPr id="984" name="直接连接符 122"/>
              <p:cNvCxnSpPr/>
              <p:nvPr/>
            </p:nvCxnSpPr>
            <p:spPr>
              <a:xfrm flipH="1">
                <a:off x="4063680" y="3558600"/>
                <a:ext cx="147240" cy="6840"/>
              </a:xfrm>
              <a:prstGeom prst="straightConnector1">
                <a:avLst/>
              </a:prstGeom>
              <a:ln>
                <a:solidFill>
                  <a:srgbClr val="f784a5"/>
                </a:solidFill>
              </a:ln>
            </p:spPr>
          </p:cxnSp>
          <p:cxnSp>
            <p:nvCxnSpPr>
              <p:cNvPr id="985" name="直接连接符 123"/>
              <p:cNvCxnSpPr/>
              <p:nvPr/>
            </p:nvCxnSpPr>
            <p:spPr>
              <a:xfrm flipV="1">
                <a:off x="3011760" y="4251600"/>
                <a:ext cx="516240" cy="241200"/>
              </a:xfrm>
              <a:prstGeom prst="straightConnector1">
                <a:avLst/>
              </a:prstGeom>
              <a:ln>
                <a:solidFill>
                  <a:srgbClr val="31b5d6"/>
                </a:solidFill>
              </a:ln>
            </p:spPr>
          </p:cxnSp>
          <p:cxnSp>
            <p:nvCxnSpPr>
              <p:cNvPr id="986" name="直接连接符 124"/>
              <p:cNvCxnSpPr/>
              <p:nvPr/>
            </p:nvCxnSpPr>
            <p:spPr>
              <a:xfrm>
                <a:off x="3858120" y="4840200"/>
                <a:ext cx="34560" cy="30852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987" name="直接连接符 125"/>
              <p:cNvCxnSpPr/>
              <p:nvPr/>
            </p:nvCxnSpPr>
            <p:spPr>
              <a:xfrm>
                <a:off x="5672880" y="4117320"/>
                <a:ext cx="958680" cy="337680"/>
              </a:xfrm>
              <a:prstGeom prst="straightConnector1">
                <a:avLst/>
              </a:prstGeom>
              <a:ln>
                <a:solidFill>
                  <a:srgbClr val="31b5d6"/>
                </a:solidFill>
              </a:ln>
            </p:spPr>
          </p:cxnSp>
          <p:cxnSp>
            <p:nvCxnSpPr>
              <p:cNvPr id="988" name="直接连接符 126"/>
              <p:cNvCxnSpPr/>
              <p:nvPr/>
            </p:nvCxnSpPr>
            <p:spPr>
              <a:xfrm flipH="1">
                <a:off x="4203360" y="4154040"/>
                <a:ext cx="56160" cy="10908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989" name="肘形连接符 127"/>
              <p:cNvCxnSpPr/>
              <p:nvPr/>
            </p:nvCxnSpPr>
            <p:spPr>
              <a:xfrm flipV="1">
                <a:off x="4822920" y="2419560"/>
                <a:ext cx="676800" cy="1026360"/>
              </a:xfrm>
              <a:prstGeom prst="bentConnector2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990" name="直接连接符 128"/>
              <p:cNvCxnSpPr/>
              <p:nvPr/>
            </p:nvCxnSpPr>
            <p:spPr>
              <a:xfrm flipV="1">
                <a:off x="5255280" y="3433680"/>
                <a:ext cx="1283040" cy="1800"/>
              </a:xfrm>
              <a:prstGeom prst="straightConnector1">
                <a:avLst/>
              </a:prstGeom>
              <a:ln>
                <a:solidFill>
                  <a:srgbClr val="31b5d6"/>
                </a:solidFill>
              </a:ln>
            </p:spPr>
          </p:cxnSp>
          <p:cxnSp>
            <p:nvCxnSpPr>
              <p:cNvPr id="991" name="直接连接符 129"/>
              <p:cNvCxnSpPr/>
              <p:nvPr/>
            </p:nvCxnSpPr>
            <p:spPr>
              <a:xfrm>
                <a:off x="5390640" y="3563640"/>
                <a:ext cx="1240920" cy="172800"/>
              </a:xfrm>
              <a:prstGeom prst="straightConnector1">
                <a:avLst/>
              </a:prstGeom>
              <a:ln>
                <a:solidFill>
                  <a:srgbClr val="f784a5"/>
                </a:solidFill>
              </a:ln>
            </p:spPr>
          </p:cxnSp>
          <p:cxnSp>
            <p:nvCxnSpPr>
              <p:cNvPr id="992" name="直接连接符 130"/>
              <p:cNvCxnSpPr/>
              <p:nvPr/>
            </p:nvCxnSpPr>
            <p:spPr>
              <a:xfrm flipH="1" flipV="1">
                <a:off x="5152320" y="3805200"/>
                <a:ext cx="1479240" cy="253440"/>
              </a:xfrm>
              <a:prstGeom prst="straightConnector1">
                <a:avLst/>
              </a:prstGeom>
              <a:ln>
                <a:solidFill>
                  <a:srgbClr val="5b9bd5"/>
                </a:solidFill>
              </a:ln>
            </p:spPr>
          </p:cxnSp>
          <p:sp>
            <p:nvSpPr>
              <p:cNvPr id="993" name="文本框 131"/>
              <p:cNvSpPr/>
              <p:nvPr/>
            </p:nvSpPr>
            <p:spPr>
              <a:xfrm>
                <a:off x="1922400" y="5960160"/>
                <a:ext cx="3182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文本框 132"/>
              <p:cNvSpPr/>
              <p:nvPr/>
            </p:nvSpPr>
            <p:spPr>
              <a:xfrm>
                <a:off x="7619040" y="5960160"/>
                <a:ext cx="3182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文本框 133"/>
              <p:cNvSpPr/>
              <p:nvPr/>
            </p:nvSpPr>
            <p:spPr>
              <a:xfrm>
                <a:off x="1404720" y="5441040"/>
                <a:ext cx="3182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文本框 134"/>
              <p:cNvSpPr/>
              <p:nvPr/>
            </p:nvSpPr>
            <p:spPr>
              <a:xfrm>
                <a:off x="1408680" y="2100960"/>
                <a:ext cx="3182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7" name="文本框 75"/>
            <p:cNvSpPr/>
            <p:nvPr/>
          </p:nvSpPr>
          <p:spPr>
            <a:xfrm>
              <a:off x="1120320" y="2542320"/>
              <a:ext cx="645840" cy="29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5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开发的难易程度指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文本框 76"/>
            <p:cNvSpPr/>
            <p:nvPr/>
          </p:nvSpPr>
          <p:spPr>
            <a:xfrm>
              <a:off x="3625200" y="5894280"/>
              <a:ext cx="302688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价值潜力的大小指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99" name="直接连接符 135"/>
          <p:cNvCxnSpPr/>
          <p:nvPr/>
        </p:nvCxnSpPr>
        <p:spPr>
          <a:xfrm>
            <a:off x="8539200" y="4368240"/>
            <a:ext cx="324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1000" name="直接连接符 136"/>
          <p:cNvCxnSpPr/>
          <p:nvPr/>
        </p:nvCxnSpPr>
        <p:spPr>
          <a:xfrm>
            <a:off x="8539200" y="4908240"/>
            <a:ext cx="324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1001" name="直接连接符 137"/>
          <p:cNvCxnSpPr/>
          <p:nvPr/>
        </p:nvCxnSpPr>
        <p:spPr>
          <a:xfrm>
            <a:off x="8539200" y="5448240"/>
            <a:ext cx="324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cxnSp>
        <p:nvCxnSpPr>
          <p:cNvPr id="1002" name="直接连接符 138"/>
          <p:cNvCxnSpPr/>
          <p:nvPr/>
        </p:nvCxnSpPr>
        <p:spPr>
          <a:xfrm>
            <a:off x="8539200" y="5988240"/>
            <a:ext cx="324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sp>
        <p:nvSpPr>
          <p:cNvPr id="1003" name="矩形 139"/>
          <p:cNvSpPr/>
          <p:nvPr/>
        </p:nvSpPr>
        <p:spPr>
          <a:xfrm>
            <a:off x="9000360" y="455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04" name="矩形 140"/>
          <p:cNvSpPr/>
          <p:nvPr/>
        </p:nvSpPr>
        <p:spPr>
          <a:xfrm>
            <a:off x="9000360" y="509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05" name="矩形 141"/>
          <p:cNvSpPr/>
          <p:nvPr/>
        </p:nvSpPr>
        <p:spPr>
          <a:xfrm>
            <a:off x="9000360" y="5635800"/>
            <a:ext cx="215640" cy="215640"/>
          </a:xfrm>
          <a:prstGeom prst="rect">
            <a:avLst/>
          </a:prstGeom>
          <a:solidFill>
            <a:srgbClr val="3230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06" name="文本框 12"/>
          <p:cNvSpPr/>
          <p:nvPr/>
        </p:nvSpPr>
        <p:spPr>
          <a:xfrm>
            <a:off x="9360360" y="437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面临困难最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13"/>
          <p:cNvSpPr/>
          <p:nvPr/>
        </p:nvSpPr>
        <p:spPr>
          <a:xfrm>
            <a:off x="9360360" y="491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获得收益更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14"/>
          <p:cNvSpPr/>
          <p:nvPr/>
        </p:nvSpPr>
        <p:spPr>
          <a:xfrm>
            <a:off x="9357120" y="5457600"/>
            <a:ext cx="327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价值潜力更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椭圆 145"/>
          <p:cNvSpPr/>
          <p:nvPr/>
        </p:nvSpPr>
        <p:spPr>
          <a:xfrm>
            <a:off x="679680" y="1316520"/>
            <a:ext cx="445680" cy="446040"/>
          </a:xfrm>
          <a:prstGeom prst="ellipse">
            <a:avLst/>
          </a:prstGeom>
          <a:noFill/>
          <a:ln w="28575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默认设计模板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  <Words>774</Words>
  <Paragraphs>145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11:56:09Z</dcterms:created>
  <dc:creator>xu zhao</dc:creator>
  <dc:description/>
  <dc:language>en-US</dc:language>
  <cp:lastModifiedBy>王玉清</cp:lastModifiedBy>
  <dcterms:modified xsi:type="dcterms:W3CDTF">2016-02-23T02:35:38Z</dcterms:modified>
  <cp:revision>1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宽屏</vt:lpwstr>
  </property>
  <property fmtid="{D5CDD505-2E9C-101B-9397-08002B2CF9AE}" pid="4" name="Slides">
    <vt:r8>13</vt:r8>
  </property>
</Properties>
</file>