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8.png" ContentType="image/png"/>
  <Override PartName="/ppt/media/image7.png" ContentType="image/png"/>
  <Override PartName="/ppt/media/image12.jpeg" ContentType="image/jpe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13.jpeg" ContentType="image/jpeg"/>
  <Override PartName="/ppt/media/image5.png" ContentType="image/png"/>
  <Override PartName="/ppt/media/image10.png" ContentType="image/png"/>
  <Override PartName="/ppt/media/image6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7199313" cy="467995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0DACA8-175F-4EDD-849C-E1C18CB3009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3D3A84-4294-444D-8909-DA273956DC0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6EF6E0-E919-4DB5-82D9-2E9F8498FE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03ABC8-B350-4E83-98AF-C2F8B4513CB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873E47C-7387-4C21-9984-3491F2D298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FDD8D69-3382-4411-B16D-AFDC432AA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A8EBB5-0B53-4282-A9AC-E7D3F4CDD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0797347-509C-47A6-8EFF-482E50C5A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EE08586-C945-4482-ACC7-86B2AAE4EA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8853C59-F216-4642-8E87-05C6D491BC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7FAE4F4-0F4C-4E9B-A38B-72C1DA27D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488"/>
              </a:spcBef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F7A86B-FD38-4CEC-AE0B-4CC809ADF85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F86E2F7-056D-4278-A1AE-CF39F8276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FD71A07-27C3-4575-97DE-E605EE642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E0A318C-C182-4A3A-AE97-135503B6FA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ADF069E-4469-4A77-B69F-BC738EC60F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52612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770000" y="76824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28224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52612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4770000" y="2512800"/>
            <a:ext cx="21366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9A299FD-132E-49ED-AF47-A8D9AD2CD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6966AC-2EF2-486B-9CA2-B2BFB1A650C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31C9D3F-C1A6-49C5-9884-3EA5128A9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B065933-A1B4-42BD-9775-016ED9A81371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60000" y="186480"/>
            <a:ext cx="6479640" cy="362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488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0EE083-7A50-46A6-86F8-4335B6AB1E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BACD68-5837-4F16-9A0A-D484C7D6D7B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3682800" y="251280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12CAD-4383-49CC-BB6D-BB3FA67B4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60000" y="186480"/>
            <a:ext cx="6479640" cy="781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1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8224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3682800" y="768240"/>
            <a:ext cx="323820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282240" y="2512800"/>
            <a:ext cx="6635880" cy="159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110000"/>
              </a:lnSpc>
              <a:spcBef>
                <a:spcPts val="488"/>
              </a:spcBef>
              <a:buNone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8C613CA-659C-43D6-8D67-81A5BAA3286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282240" y="768240"/>
            <a:ext cx="6635880" cy="33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09520" indent="-209520">
              <a:lnSpc>
                <a:spcPct val="110000"/>
              </a:lnSpc>
              <a:spcBef>
                <a:spcPts val="488"/>
              </a:spcBef>
              <a:buClr>
                <a:srgbClr val="cc0033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1" marL="419040" indent="-20160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2" marL="560520" indent="936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4" marL="1620720" indent="-180720">
              <a:lnSpc>
                <a:spcPct val="110000"/>
              </a:lnSpc>
              <a:spcBef>
                <a:spcPts val="488"/>
              </a:spcBef>
              <a:buClr>
                <a:srgbClr val="6d7579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5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lvl="6" marL="1620720" indent="-180720">
              <a:lnSpc>
                <a:spcPct val="110000"/>
              </a:lnSpc>
              <a:spcBef>
                <a:spcPts val="488"/>
              </a:spcBef>
              <a:buClr>
                <a:srgbClr val="000000"/>
              </a:buClr>
              <a:buFont typeface="Audi Type"/>
              <a:buChar char="►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5160960" y="4211280"/>
            <a:ext cx="1765440" cy="523800"/>
          </a:xfrm>
          <a:prstGeom prst="rect">
            <a:avLst/>
          </a:prstGeom>
          <a:noFill/>
          <a:ln w="0">
            <a:noFill/>
          </a:ln>
        </p:spPr>
        <p:txBody>
          <a:bodyPr lIns="283680" rIns="283680" tIns="170280" bIns="17028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600" spc="-1" strike="noStrike">
                <a:solidFill>
                  <a:srgbClr val="6d757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FB73149E-BB77-45C4-AB36-ABA0B6523A39}" type="slidenum">
              <a:rPr b="0" lang="zh-CN" sz="600" spc="-1" strike="noStrike">
                <a:solidFill>
                  <a:srgbClr val="6d7579"/>
                </a:solidFill>
                <a:latin typeface="Arial"/>
              </a:rPr>
              <a:t>&lt;number&gt;</a:t>
            </a:fld>
            <a:r>
              <a:rPr b="0" lang="de-DE" sz="600" spc="-1" strike="noStrike">
                <a:solidFill>
                  <a:srgbClr val="6d7579"/>
                </a:solidFill>
                <a:latin typeface="Arial"/>
              </a:rPr>
              <a:t>  Titel oder Name, Abteilung,  </a:t>
            </a:r>
            <a:r>
              <a:rPr b="0" lang="zh-CN" sz="600" spc="-1" strike="noStrike">
                <a:solidFill>
                  <a:srgbClr val="6d7579"/>
                </a:solidFill>
                <a:latin typeface="Arial"/>
              </a:rPr>
              <a:t>Datum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Text Box 7"/>
          <p:cNvSpPr/>
          <p:nvPr/>
        </p:nvSpPr>
        <p:spPr>
          <a:xfrm>
            <a:off x="1482840" y="4108320"/>
            <a:ext cx="1560240" cy="46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72000" rIns="72000" tIns="36000" bIns="360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By   </a:t>
            </a:r>
            <a:r>
              <a:rPr b="0" lang="zh-CN" sz="1100" spc="-1" strike="noStrike">
                <a:solidFill>
                  <a:srgbClr val="ffffff"/>
                </a:solidFill>
                <a:latin typeface="微软雅黑"/>
                <a:ea typeface="微软雅黑"/>
              </a:rPr>
              <a:t>活动策划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Oct.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  <a:ea typeface="PMingLiU"/>
              </a:rPr>
              <a:t> 31th</a:t>
            </a:r>
            <a:r>
              <a:rPr b="0" lang="en-US" sz="1300" spc="-1" strike="noStrike">
                <a:solidFill>
                  <a:srgbClr val="ffffff"/>
                </a:solidFill>
                <a:latin typeface="Calibri"/>
              </a:rPr>
              <a:t>, 2011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" name="Picture 10" descr="图片1副本"/>
          <p:cNvPicPr/>
          <p:nvPr/>
        </p:nvPicPr>
        <p:blipFill>
          <a:blip r:embed="rId2"/>
          <a:stretch/>
        </p:blipFill>
        <p:spPr>
          <a:xfrm>
            <a:off x="282600" y="4141800"/>
            <a:ext cx="1192320" cy="309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60360" y="187200"/>
            <a:ext cx="6480000" cy="77976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ctr">
            <a:noAutofit/>
          </a:bodyPr>
          <a:p>
            <a:pPr indent="0" algn="ct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35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360360" y="1091880"/>
            <a:ext cx="6480000" cy="308772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rmAutofit fontScale="96000"/>
          </a:bodyPr>
          <a:p>
            <a:pPr marL="259200" indent="-25920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1" marL="561960" indent="-21600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2" marL="864000" indent="-172080">
              <a:spcBef>
                <a:spcPts val="624"/>
              </a:spcBef>
              <a:buClr>
                <a:srgbClr val="000000"/>
              </a:buClr>
              <a:buFont typeface="Arial"/>
              <a:buChar char="•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3" marL="1209600" indent="-173160">
              <a:spcBef>
                <a:spcPts val="624"/>
              </a:spcBef>
              <a:buClr>
                <a:srgbClr val="000000"/>
              </a:buClr>
              <a:buFont typeface="Arial"/>
              <a:buChar char="–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4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5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  <a:p>
            <a:pPr lvl="6" marL="1555560" indent="-173160">
              <a:spcBef>
                <a:spcPts val="624"/>
              </a:spcBef>
              <a:buClr>
                <a:srgbClr val="000000"/>
              </a:buClr>
              <a:buFont typeface="Arial"/>
              <a:buChar char="»"/>
              <a:tabLst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3600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2460600" y="4262400"/>
            <a:ext cx="227952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5160600" y="4262400"/>
            <a:ext cx="1679400" cy="325440"/>
          </a:xfrm>
          <a:prstGeom prst="rect">
            <a:avLst/>
          </a:prstGeom>
          <a:noFill/>
          <a:ln w="0">
            <a:noFill/>
          </a:ln>
        </p:spPr>
        <p:txBody>
          <a:bodyPr lIns="72000" rIns="72000" tIns="36000" bIns="36000" anchor="t">
            <a:noAutofit/>
          </a:bodyPr>
          <a:lstStyle>
            <a:lvl1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  <a:defRPr b="0" lang="zh-CN" sz="11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fld id="{7816481E-36A6-4A6B-A507-726317C87F08}" type="slidenum">
              <a:rPr b="0" lang="zh-CN" sz="11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5" name="Picture 7" descr="未标题-1"/>
          <p:cNvPicPr/>
          <p:nvPr/>
        </p:nvPicPr>
        <p:blipFill>
          <a:blip r:embed="rId2"/>
          <a:stretch/>
        </p:blipFill>
        <p:spPr>
          <a:xfrm>
            <a:off x="0" y="797040"/>
            <a:ext cx="7201080" cy="1245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5.png"/><Relationship Id="rId6" Type="http://schemas.openxmlformats.org/officeDocument/2006/relationships/image" Target="../media/image6.pn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image" Target="../media/image5.png"/><Relationship Id="rId12" Type="http://schemas.openxmlformats.org/officeDocument/2006/relationships/image" Target="../media/image6.png"/><Relationship Id="rId13" Type="http://schemas.openxmlformats.org/officeDocument/2006/relationships/image" Target="../media/image5.png"/><Relationship Id="rId14" Type="http://schemas.openxmlformats.org/officeDocument/2006/relationships/image" Target="../media/image6.png"/><Relationship Id="rId15" Type="http://schemas.openxmlformats.org/officeDocument/2006/relationships/image" Target="../media/image5.png"/><Relationship Id="rId16" Type="http://schemas.openxmlformats.org/officeDocument/2006/relationships/image" Target="../media/image6.png"/><Relationship Id="rId17" Type="http://schemas.openxmlformats.org/officeDocument/2006/relationships/image" Target="../media/image7.png"/><Relationship Id="rId1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0.png"/><Relationship Id="rId3" Type="http://schemas.openxmlformats.org/officeDocument/2006/relationships/hyperlink" Target="http://www.eeppt.com/moban/" TargetMode="External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image" Target="../media/image18.pn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46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49" descr="飞吧"/>
          <p:cNvPicPr/>
          <p:nvPr/>
        </p:nvPicPr>
        <p:blipFill>
          <a:blip r:embed="rId2"/>
          <a:stretch/>
        </p:blipFill>
        <p:spPr>
          <a:xfrm>
            <a:off x="3782880" y="1332000"/>
            <a:ext cx="2909880" cy="1665360"/>
          </a:xfrm>
          <a:prstGeom prst="rect">
            <a:avLst/>
          </a:prstGeom>
          <a:ln w="0">
            <a:noFill/>
          </a:ln>
        </p:spPr>
      </p:pic>
      <p:grpSp>
        <p:nvGrpSpPr>
          <p:cNvPr id="84" name="Group 50"/>
          <p:cNvGrpSpPr/>
          <p:nvPr/>
        </p:nvGrpSpPr>
        <p:grpSpPr>
          <a:xfrm>
            <a:off x="0" y="0"/>
            <a:ext cx="7238880" cy="652320"/>
            <a:chOff x="0" y="0"/>
            <a:chExt cx="7238880" cy="652320"/>
          </a:xfrm>
        </p:grpSpPr>
        <p:pic>
          <p:nvPicPr>
            <p:cNvPr id="85" name="Picture 51" descr="未标题-2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6" name="Picture 52" descr="未标题-2"/>
            <p:cNvPicPr/>
            <p:nvPr/>
          </p:nvPicPr>
          <p:blipFill>
            <a:blip r:embed="rId4"/>
            <a:stretch/>
          </p:blipFill>
          <p:spPr>
            <a:xfrm>
              <a:off x="4482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7" name="Picture 53" descr="未标题-2"/>
            <p:cNvPicPr/>
            <p:nvPr/>
          </p:nvPicPr>
          <p:blipFill>
            <a:blip r:embed="rId5"/>
            <a:stretch/>
          </p:blipFill>
          <p:spPr>
            <a:xfrm>
              <a:off x="110844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8" name="Picture 54" descr="未标题-2"/>
            <p:cNvPicPr/>
            <p:nvPr/>
          </p:nvPicPr>
          <p:blipFill>
            <a:blip r:embed="rId6"/>
            <a:stretch/>
          </p:blipFill>
          <p:spPr>
            <a:xfrm>
              <a:off x="15566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55" descr="未标题-2"/>
            <p:cNvPicPr/>
            <p:nvPr/>
          </p:nvPicPr>
          <p:blipFill>
            <a:blip r:embed="rId7"/>
            <a:stretch/>
          </p:blipFill>
          <p:spPr>
            <a:xfrm>
              <a:off x="21520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56" descr="未标题-2"/>
            <p:cNvPicPr/>
            <p:nvPr/>
          </p:nvPicPr>
          <p:blipFill>
            <a:blip r:embed="rId8"/>
            <a:stretch/>
          </p:blipFill>
          <p:spPr>
            <a:xfrm>
              <a:off x="260028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57" descr="未标题-2"/>
            <p:cNvPicPr/>
            <p:nvPr/>
          </p:nvPicPr>
          <p:blipFill>
            <a:blip r:embed="rId9"/>
            <a:stretch/>
          </p:blipFill>
          <p:spPr>
            <a:xfrm>
              <a:off x="326052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2" name="Picture 58" descr="未标题-2"/>
            <p:cNvPicPr/>
            <p:nvPr/>
          </p:nvPicPr>
          <p:blipFill>
            <a:blip r:embed="rId10"/>
            <a:stretch/>
          </p:blipFill>
          <p:spPr>
            <a:xfrm>
              <a:off x="370872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3" name="Picture 59" descr="未标题-2"/>
            <p:cNvPicPr/>
            <p:nvPr/>
          </p:nvPicPr>
          <p:blipFill>
            <a:blip r:embed="rId11"/>
            <a:stretch/>
          </p:blipFill>
          <p:spPr>
            <a:xfrm>
              <a:off x="43434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4" name="Picture 60" descr="未标题-2"/>
            <p:cNvPicPr/>
            <p:nvPr/>
          </p:nvPicPr>
          <p:blipFill>
            <a:blip r:embed="rId12"/>
            <a:stretch/>
          </p:blipFill>
          <p:spPr>
            <a:xfrm>
              <a:off x="479196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5" name="Picture 61" descr="未标题-2"/>
            <p:cNvPicPr/>
            <p:nvPr/>
          </p:nvPicPr>
          <p:blipFill>
            <a:blip r:embed="rId13"/>
            <a:stretch/>
          </p:blipFill>
          <p:spPr>
            <a:xfrm>
              <a:off x="545220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62" descr="未标题-2"/>
            <p:cNvPicPr/>
            <p:nvPr/>
          </p:nvPicPr>
          <p:blipFill>
            <a:blip r:embed="rId14"/>
            <a:stretch/>
          </p:blipFill>
          <p:spPr>
            <a:xfrm>
              <a:off x="590040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63" descr="未标题-2"/>
            <p:cNvPicPr/>
            <p:nvPr/>
          </p:nvPicPr>
          <p:blipFill>
            <a:blip r:embed="rId15"/>
            <a:stretch/>
          </p:blipFill>
          <p:spPr>
            <a:xfrm>
              <a:off x="6495480" y="0"/>
              <a:ext cx="196560" cy="4345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64" descr="未标题-2"/>
            <p:cNvPicPr/>
            <p:nvPr/>
          </p:nvPicPr>
          <p:blipFill>
            <a:blip r:embed="rId16"/>
            <a:stretch/>
          </p:blipFill>
          <p:spPr>
            <a:xfrm>
              <a:off x="6944040" y="0"/>
              <a:ext cx="294840" cy="65232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99" name="树叶的梦想.mp3" descr=""/>
          <p:cNvPicPr/>
          <p:nvPr/>
        </p:nvPicPr>
        <p:blipFill>
          <a:blip r:embed="rId17"/>
          <a:stretch/>
        </p:blipFill>
        <p:spPr>
          <a:xfrm>
            <a:off x="196920" y="4140360"/>
            <a:ext cx="304560" cy="304560"/>
          </a:xfrm>
          <a:prstGeom prst="rect">
            <a:avLst/>
          </a:prstGeom>
          <a:ln w="0">
            <a:noFill/>
          </a:ln>
        </p:spPr>
      </p:pic>
      <p:sp>
        <p:nvSpPr>
          <p:cNvPr id="100" name="矩形 1"/>
          <p:cNvSpPr/>
          <p:nvPr/>
        </p:nvSpPr>
        <p:spPr>
          <a:xfrm>
            <a:off x="1134000" y="352440"/>
            <a:ext cx="506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飞吧通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模板动画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12"/>
          <p:cNvSpPr/>
          <p:nvPr/>
        </p:nvSpPr>
        <p:spPr>
          <a:xfrm>
            <a:off x="453960" y="424332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12000"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" dur="50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mph" presetID="26" repeatCount="300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1" dur="3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2" dur="1500" autoRev="1" fill="hold"/>
                                        <p:tgtEl>
                                          <p:spTgt spid="84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50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680000"/>
          </a:xfrm>
          <a:prstGeom prst="rect">
            <a:avLst/>
          </a:prstGeom>
          <a:ln w="0">
            <a:noFill/>
          </a:ln>
        </p:spPr>
      </p:pic>
      <p:sp>
        <p:nvSpPr>
          <p:cNvPr id="103" name="Oval 708"/>
          <p:cNvSpPr/>
          <p:nvPr/>
        </p:nvSpPr>
        <p:spPr>
          <a:xfrm rot="21079800">
            <a:off x="-11269440" y="-3051000"/>
            <a:ext cx="9296640" cy="8424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val 797"/>
          <p:cNvSpPr/>
          <p:nvPr/>
        </p:nvSpPr>
        <p:spPr>
          <a:xfrm rot="21079800">
            <a:off x="-8992800" y="-4356000"/>
            <a:ext cx="9296280" cy="7173720"/>
          </a:xfrm>
          <a:prstGeom prst="ellipse">
            <a:avLst/>
          </a:prstGeom>
          <a:gradFill rotWithShape="0">
            <a:gsLst>
              <a:gs pos="0">
                <a:srgbClr val="ffffff">
                  <a:alpha val="40000"/>
                </a:srgbClr>
              </a:gs>
              <a:gs pos="100000">
                <a:srgbClr val="000000">
                  <a:alpha val="0"/>
                </a:srgbClr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798"/>
          <p:cNvSpPr/>
          <p:nvPr/>
        </p:nvSpPr>
        <p:spPr>
          <a:xfrm>
            <a:off x="2989800" y="325440"/>
            <a:ext cx="935280" cy="402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1" lang="zh-CN" sz="14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在空中飞翔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高山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过大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那遥远的天堂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和你扬帆远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狂风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见巨浪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遇到那美丽的地方！</a:t>
            </a:r>
            <a:br>
              <a:rPr sz="1100"/>
            </a:b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我有一个梦想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梦想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美丽的爱情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向我招手</a:t>
            </a:r>
            <a:br>
              <a:rPr sz="1100"/>
            </a:br>
            <a:r>
              <a:rPr b="0" lang="zh-CN" sz="1100" spc="-1" strike="noStrike">
                <a:solidFill>
                  <a:srgbClr val="336600"/>
                </a:solidFill>
                <a:latin typeface="微软雅黑"/>
                <a:ea typeface="微软雅黑"/>
              </a:rPr>
              <a:t>带我到爱的天堂！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6" name="Group 975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107" name="Freeform 976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08" name="Group 977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109" name="Group 978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110" name="AutoShape 979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Freeform 980"/>
                <p:cNvSpPr/>
                <p:nvPr/>
              </p:nvSpPr>
              <p:spPr>
                <a:xfrm rot="399000">
                  <a:off x="-558000" y="35208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2" name="Oval 981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3" name="Group 982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114" name="Freeform 983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5" name="Freeform 984"/>
                <p:cNvSpPr/>
                <p:nvPr/>
              </p:nvSpPr>
              <p:spPr>
                <a:xfrm rot="399000">
                  <a:off x="-778680" y="3495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6" name="Freeform 985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Freeform 986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8" name="Freeform 987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9" name="Freeform 988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Freeform 989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1" name="Freeform 990"/>
                <p:cNvSpPr/>
                <p:nvPr/>
              </p:nvSpPr>
              <p:spPr>
                <a:xfrm rot="399000">
                  <a:off x="-739440" y="3312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2" name="Freeform 991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Freeform 992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4" name="Line 993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5" name="Freeform 994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Freeform 995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7" name="Freeform 996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8" name="Freeform 997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Freeform 998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0" name="Freeform 999"/>
                <p:cNvSpPr/>
                <p:nvPr/>
              </p:nvSpPr>
              <p:spPr>
                <a:xfrm rot="399000">
                  <a:off x="-459000" y="3250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1" name="Freeform 1000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Freeform 1001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3" name="Freeform 1002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4" name="Freeform 1003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Freeform 1004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6" name="Freeform 1005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7" name="Freeform 1006"/>
                <p:cNvSpPr/>
                <p:nvPr/>
              </p:nvSpPr>
              <p:spPr>
                <a:xfrm rot="399000">
                  <a:off x="-47808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Freeform 1007"/>
                <p:cNvSpPr/>
                <p:nvPr/>
              </p:nvSpPr>
              <p:spPr>
                <a:xfrm rot="399000">
                  <a:off x="-478080" y="35460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9" name="Freeform 1008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0" name="Freeform 1009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Freeform 1010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Freeform 1011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Freeform 1012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Freeform 1013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5" name="Freeform 1014"/>
                <p:cNvSpPr/>
                <p:nvPr/>
              </p:nvSpPr>
              <p:spPr>
                <a:xfrm rot="399000">
                  <a:off x="-619200" y="34945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Freeform 1015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Freeform 1016"/>
                <p:cNvSpPr/>
                <p:nvPr/>
              </p:nvSpPr>
              <p:spPr>
                <a:xfrm rot="399000">
                  <a:off x="-487080" y="35535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8" name="Freeform 1017"/>
                <p:cNvSpPr/>
                <p:nvPr/>
              </p:nvSpPr>
              <p:spPr>
                <a:xfrm rot="1080000">
                  <a:off x="-438840" y="35132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9" name="Freeform 1018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50" name="Group 1328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151" name="Freeform 1329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52" name="Group 1330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153" name="Group 1331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154" name="AutoShape 1332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Freeform 1333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Oval 1334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Group 1335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158" name="Freeform 1336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Freeform 1337"/>
                <p:cNvSpPr/>
                <p:nvPr/>
              </p:nvSpPr>
              <p:spPr>
                <a:xfrm rot="251400">
                  <a:off x="-761040" y="404928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Freeform 1338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Freeform 1339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Freeform 1340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3" name="Freeform 1341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Freeform 1342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Freeform 1343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6" name="Freeform 1344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7" name="Freeform 1345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Line 1346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9" name="Freeform 1347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0" name="Freeform 1348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Freeform 1349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2" name="Freeform 1350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3" name="Freeform 1351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Freeform 1352"/>
                <p:cNvSpPr/>
                <p:nvPr/>
              </p:nvSpPr>
              <p:spPr>
                <a:xfrm rot="251400">
                  <a:off x="-447120" y="379512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5" name="Freeform 1353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6" name="Freeform 1354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Freeform 1355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8" name="Freeform 1356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1357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Freeform 1358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1" name="Freeform 1359"/>
                <p:cNvSpPr/>
                <p:nvPr/>
              </p:nvSpPr>
              <p:spPr>
                <a:xfrm rot="251400">
                  <a:off x="-459360" y="408636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2" name="Freeform 1360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Freeform 1361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4" name="Freeform 1362"/>
                <p:cNvSpPr/>
                <p:nvPr/>
              </p:nvSpPr>
              <p:spPr>
                <a:xfrm rot="251400">
                  <a:off x="-484920" y="409644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5" name="Freeform 1363"/>
                <p:cNvSpPr/>
                <p:nvPr/>
              </p:nvSpPr>
              <p:spPr>
                <a:xfrm rot="251400">
                  <a:off x="-699840" y="40395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Freeform 1364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7" name="Freeform 1365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8" name="Freeform 1366"/>
                <p:cNvSpPr/>
                <p:nvPr/>
              </p:nvSpPr>
              <p:spPr>
                <a:xfrm rot="251400">
                  <a:off x="-459000" y="38044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Freeform 1367"/>
                <p:cNvSpPr/>
                <p:nvPr/>
              </p:nvSpPr>
              <p:spPr>
                <a:xfrm rot="251400">
                  <a:off x="-599760" y="404388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0" name="Freeform 1368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1" name="Freeform 1369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Freeform 1370"/>
                <p:cNvSpPr/>
                <p:nvPr/>
              </p:nvSpPr>
              <p:spPr>
                <a:xfrm rot="932400">
                  <a:off x="-421200" y="40554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3" name="Freeform 1371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94" name="Group 1372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195" name="Freeform 1373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Group 1374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197" name="Group 1375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198" name="AutoShape 1376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9" name="Freeform 1377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0" name="Oval 1378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1" name="Group 1379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202" name="Freeform 1380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3" name="Freeform 1381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Freeform 1382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5" name="Freeform 1383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6" name="Freeform 1384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Freeform 1385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Freeform 1386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Freeform 1387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Freeform 1388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1" name="Freeform 1389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Line 1390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Freeform 1391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4" name="Freeform 1392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5" name="Freeform 1393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Freeform 1394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Freeform 1395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Freeform 1396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Freeform 1397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0" name="Freeform 1398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Freeform 1399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Freeform 1400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3" name="Freeform 1401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4" name="Freeform 1402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Freeform 1403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Freeform 1404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Freeform 1405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Freeform 1406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9" name="Freeform 1407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Freeform 1408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Freeform 1409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2" name="Freeform 1410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3" name="Freeform 1411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Freeform 1412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5" name="Freeform 1413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Freeform 1414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Freeform 1415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8" name="Group 1416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239" name="Freeform 1417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40" name="Group 1418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241" name="Group 1419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242" name="AutoShape 1420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Freeform 1421"/>
                <p:cNvSpPr/>
                <p:nvPr/>
              </p:nvSpPr>
              <p:spPr>
                <a:xfrm rot="20032800">
                  <a:off x="-565560" y="3853800"/>
                  <a:ext cx="32040" cy="3020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4" name="Oval 1422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5" name="Group 1423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246" name="Freeform 1424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7" name="Freeform 1425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8" name="Freeform 1426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Freeform 1427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Freeform 1428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1" name="Freeform 1429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Freeform 1430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3" name="Freeform 1431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Freeform 1432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Freeform 1433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6" name="Line 1434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7" name="Freeform 1435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Freeform 1436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Freeform 1437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0" name="Freeform 1438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Freeform 1439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2" name="Freeform 1440"/>
                <p:cNvSpPr/>
                <p:nvPr/>
              </p:nvSpPr>
              <p:spPr>
                <a:xfrm rot="20032800">
                  <a:off x="-636840" y="3671640"/>
                  <a:ext cx="31320" cy="19764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3" name="Freeform 1441"/>
                <p:cNvSpPr/>
                <p:nvPr/>
              </p:nvSpPr>
              <p:spPr>
                <a:xfrm rot="20032800">
                  <a:off x="-627480" y="3686040"/>
                  <a:ext cx="55080" cy="165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Freeform 1442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5" name="Freeform 1443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6" name="Freeform 1444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Freeform 1445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8" name="Freeform 1446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9" name="Freeform 1447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Freeform 1448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1" name="Freeform 1449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2" name="Freeform 1450"/>
                <p:cNvSpPr/>
                <p:nvPr/>
              </p:nvSpPr>
              <p:spPr>
                <a:xfrm rot="20032800">
                  <a:off x="-592920" y="3867480"/>
                  <a:ext cx="4500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Freeform 1451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4" name="Freeform 1452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5" name="Freeform 1453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Freeform 1454"/>
                <p:cNvSpPr/>
                <p:nvPr/>
              </p:nvSpPr>
              <p:spPr>
                <a:xfrm rot="20032800">
                  <a:off x="-642600" y="3688920"/>
                  <a:ext cx="5760" cy="1818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7" name="Freeform 1455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8" name="Freeform 1456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Freeform 1457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0" name="Freeform 1458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1" name="Freeform 1459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0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withEffect" fill="hold" presetClass="path" presetID="39" repeatCount="indefinite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1" dur="2000" fill="hold"/>
                                        <p:tgtEl>
                                          <p:spTgt spid="10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2" nodeType="withEffect" fill="hold" presetClass="path" presetID="39" repeatCount="2000">
                                  <p:stCondLst>
                                    <p:cond delay="1000"/>
                                  </p:stCondLst>
                                  <p:childTnLst>
                                    <p:animMotion origin="layout" path="M 1.94444E-006 -2.96296E-006 C 1.94444E-006 0.04676 0.25052 0.08264 0.55538 0.08264 C 0.86944 0.08264 1.11996 0.04676 1.11996 -2.96296E-006 C 1.11996 -0.04676 1.37031 -0.08264 1.68455 -0.08264 C 1.98941 -0.08264 2.23993 -0.04676 2.23993 -2.96296E-006 E">
                                      <p:cBhvr>
                                        <p:cTn id="23" dur="500" fill="hold"/>
                                        <p:tgtEl>
                                          <p:spTgt spid="1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5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28" dur="5000" fill="hold"/>
                                        <p:tgtEl>
                                          <p:spTgt spid="10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9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30" dur="5000" fill="hold"/>
                                        <p:tgtEl>
                                          <p:spTgt spid="15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1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32" dur="5000" fill="hold"/>
                                        <p:tgtEl>
                                          <p:spTgt spid="19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3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34" dur="5000" fill="hold"/>
                                        <p:tgtEl>
                                          <p:spTgt spid="23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35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36" dur="3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2" name="Picture 44" descr="页面1"/>
          <p:cNvPicPr/>
          <p:nvPr/>
        </p:nvPicPr>
        <p:blipFill>
          <a:blip r:embed="rId1"/>
          <a:stretch/>
        </p:blipFill>
        <p:spPr>
          <a:xfrm>
            <a:off x="1440" y="3240"/>
            <a:ext cx="7199640" cy="4703760"/>
          </a:xfrm>
          <a:prstGeom prst="rect">
            <a:avLst/>
          </a:prstGeom>
          <a:ln w="0">
            <a:noFill/>
          </a:ln>
        </p:spPr>
      </p:pic>
      <p:sp>
        <p:nvSpPr>
          <p:cNvPr id="283" name="Text Box 43"/>
          <p:cNvSpPr/>
          <p:nvPr/>
        </p:nvSpPr>
        <p:spPr>
          <a:xfrm>
            <a:off x="5040360" y="826920"/>
            <a:ext cx="201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梦想装上一个螺旋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俯视大地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心装上一双翅膀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一起去飞翔</a:t>
            </a:r>
            <a:br>
              <a:rPr sz="1200"/>
            </a:b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给天空装上一扇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让它带着我去星辰徜徉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4" name="Picture 48" descr="飞吧副本"/>
          <p:cNvPicPr/>
          <p:nvPr/>
        </p:nvPicPr>
        <p:blipFill>
          <a:blip r:embed="rId2"/>
          <a:stretch/>
        </p:blipFill>
        <p:spPr>
          <a:xfrm>
            <a:off x="144360" y="221760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285" name="Group 49"/>
          <p:cNvGrpSpPr/>
          <p:nvPr/>
        </p:nvGrpSpPr>
        <p:grpSpPr>
          <a:xfrm>
            <a:off x="-926640" y="1680480"/>
            <a:ext cx="874440" cy="734400"/>
            <a:chOff x="-926640" y="1680480"/>
            <a:chExt cx="874440" cy="734400"/>
          </a:xfrm>
        </p:grpSpPr>
        <p:sp>
          <p:nvSpPr>
            <p:cNvPr id="286" name="Freeform 50"/>
            <p:cNvSpPr/>
            <p:nvPr/>
          </p:nvSpPr>
          <p:spPr>
            <a:xfrm rot="2931600">
              <a:off x="-381240" y="20710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87" name="Group 51"/>
            <p:cNvGrpSpPr/>
            <p:nvPr/>
          </p:nvGrpSpPr>
          <p:grpSpPr>
            <a:xfrm>
              <a:off x="-926640" y="1680480"/>
              <a:ext cx="874440" cy="734400"/>
              <a:chOff x="-926640" y="1680480"/>
              <a:chExt cx="874440" cy="734400"/>
            </a:xfrm>
          </p:grpSpPr>
          <p:grpSp>
            <p:nvGrpSpPr>
              <p:cNvPr id="288" name="Group 52"/>
              <p:cNvGrpSpPr/>
              <p:nvPr/>
            </p:nvGrpSpPr>
            <p:grpSpPr>
              <a:xfrm>
                <a:off x="-926640" y="1973520"/>
                <a:ext cx="597240" cy="441360"/>
                <a:chOff x="-926640" y="1973520"/>
                <a:chExt cx="597240" cy="441360"/>
              </a:xfrm>
            </p:grpSpPr>
            <p:sp>
              <p:nvSpPr>
                <p:cNvPr id="289" name="AutoShape 53"/>
                <p:cNvSpPr/>
                <p:nvPr/>
              </p:nvSpPr>
              <p:spPr>
                <a:xfrm rot="2931600">
                  <a:off x="-436320" y="19944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0" name="Freeform 54"/>
                <p:cNvSpPr/>
                <p:nvPr/>
              </p:nvSpPr>
              <p:spPr>
                <a:xfrm rot="2931600">
                  <a:off x="-608760" y="195336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Oval 55"/>
                <p:cNvSpPr/>
                <p:nvPr/>
              </p:nvSpPr>
              <p:spPr>
                <a:xfrm rot="3475200">
                  <a:off x="-853920" y="22442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Group 56"/>
              <p:cNvGrpSpPr/>
              <p:nvPr/>
            </p:nvGrpSpPr>
            <p:grpSpPr>
              <a:xfrm>
                <a:off x="-653760" y="1680480"/>
                <a:ext cx="601560" cy="618840"/>
                <a:chOff x="-653760" y="1680480"/>
                <a:chExt cx="601560" cy="618840"/>
              </a:xfrm>
            </p:grpSpPr>
            <p:sp>
              <p:nvSpPr>
                <p:cNvPr id="293" name="Freeform 57"/>
                <p:cNvSpPr/>
                <p:nvPr/>
              </p:nvSpPr>
              <p:spPr>
                <a:xfrm rot="2931600">
                  <a:off x="-540720" y="1949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Freeform 58"/>
                <p:cNvSpPr/>
                <p:nvPr/>
              </p:nvSpPr>
              <p:spPr>
                <a:xfrm rot="2931600">
                  <a:off x="-659880" y="19137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5" name="Freeform 59"/>
                <p:cNvSpPr/>
                <p:nvPr/>
              </p:nvSpPr>
              <p:spPr>
                <a:xfrm rot="2931600">
                  <a:off x="-624240" y="18547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6" name="Freeform 60"/>
                <p:cNvSpPr/>
                <p:nvPr/>
              </p:nvSpPr>
              <p:spPr>
                <a:xfrm rot="2931600">
                  <a:off x="-632160" y="18054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Freeform 61"/>
                <p:cNvSpPr/>
                <p:nvPr/>
              </p:nvSpPr>
              <p:spPr>
                <a:xfrm rot="2931600">
                  <a:off x="-608400" y="180252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8" name="Freeform 62"/>
                <p:cNvSpPr/>
                <p:nvPr/>
              </p:nvSpPr>
              <p:spPr>
                <a:xfrm rot="2931600">
                  <a:off x="-583200" y="18259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9" name="Freeform 63"/>
                <p:cNvSpPr/>
                <p:nvPr/>
              </p:nvSpPr>
              <p:spPr>
                <a:xfrm rot="2931600">
                  <a:off x="-505800" y="178632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Freeform 64"/>
                <p:cNvSpPr/>
                <p:nvPr/>
              </p:nvSpPr>
              <p:spPr>
                <a:xfrm rot="2931600">
                  <a:off x="-535680" y="17841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1" name="Freeform 65"/>
                <p:cNvSpPr/>
                <p:nvPr/>
              </p:nvSpPr>
              <p:spPr>
                <a:xfrm rot="2931600">
                  <a:off x="-538920" y="18331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2" name="Freeform 66"/>
                <p:cNvSpPr/>
                <p:nvPr/>
              </p:nvSpPr>
              <p:spPr>
                <a:xfrm rot="2931600">
                  <a:off x="-515160" y="17388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Line 67"/>
                <p:cNvSpPr/>
                <p:nvPr/>
              </p:nvSpPr>
              <p:spPr>
                <a:xfrm flipV="1">
                  <a:off x="-396360" y="1754640"/>
                  <a:ext cx="61920" cy="31680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4" name="Freeform 68"/>
                <p:cNvSpPr/>
                <p:nvPr/>
              </p:nvSpPr>
              <p:spPr>
                <a:xfrm rot="2931600">
                  <a:off x="-443160" y="17902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5" name="Freeform 69"/>
                <p:cNvSpPr/>
                <p:nvPr/>
              </p:nvSpPr>
              <p:spPr>
                <a:xfrm rot="2931600">
                  <a:off x="-401040" y="1790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Freeform 70"/>
                <p:cNvSpPr/>
                <p:nvPr/>
              </p:nvSpPr>
              <p:spPr>
                <a:xfrm rot="2931600">
                  <a:off x="-360720" y="1793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7" name="Freeform 71"/>
                <p:cNvSpPr/>
                <p:nvPr/>
              </p:nvSpPr>
              <p:spPr>
                <a:xfrm rot="2931600">
                  <a:off x="-319320" y="180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8" name="Freeform 72"/>
                <p:cNvSpPr/>
                <p:nvPr/>
              </p:nvSpPr>
              <p:spPr>
                <a:xfrm rot="2931600">
                  <a:off x="-298440" y="17884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Freeform 73"/>
                <p:cNvSpPr/>
                <p:nvPr/>
              </p:nvSpPr>
              <p:spPr>
                <a:xfrm rot="2931600">
                  <a:off x="-302400" y="18396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0" name="Freeform 74"/>
                <p:cNvSpPr/>
                <p:nvPr/>
              </p:nvSpPr>
              <p:spPr>
                <a:xfrm rot="2931600">
                  <a:off x="-309960" y="18925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1" name="Freeform 75"/>
                <p:cNvSpPr/>
                <p:nvPr/>
              </p:nvSpPr>
              <p:spPr>
                <a:xfrm rot="2931600">
                  <a:off x="-300600" y="18586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Freeform 76"/>
                <p:cNvSpPr/>
                <p:nvPr/>
              </p:nvSpPr>
              <p:spPr>
                <a:xfrm rot="2931600">
                  <a:off x="-334800" y="19224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3" name="Freeform 77"/>
                <p:cNvSpPr/>
                <p:nvPr/>
              </p:nvSpPr>
              <p:spPr>
                <a:xfrm rot="2931600">
                  <a:off x="-355320" y="1992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4" name="Freeform 78"/>
                <p:cNvSpPr/>
                <p:nvPr/>
              </p:nvSpPr>
              <p:spPr>
                <a:xfrm rot="2931600">
                  <a:off x="-374400" y="203472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Freeform 79"/>
                <p:cNvSpPr/>
                <p:nvPr/>
              </p:nvSpPr>
              <p:spPr>
                <a:xfrm rot="2931600">
                  <a:off x="-406440" y="20422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6" name="Freeform 80"/>
                <p:cNvSpPr/>
                <p:nvPr/>
              </p:nvSpPr>
              <p:spPr>
                <a:xfrm rot="2931600">
                  <a:off x="-443520" y="213012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7" name="Freeform 81"/>
                <p:cNvSpPr/>
                <p:nvPr/>
              </p:nvSpPr>
              <p:spPr>
                <a:xfrm rot="2931600">
                  <a:off x="-441000" y="21099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Freeform 82"/>
                <p:cNvSpPr/>
                <p:nvPr/>
              </p:nvSpPr>
              <p:spPr>
                <a:xfrm rot="2931600">
                  <a:off x="-462600" y="20851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9" name="Freeform 83"/>
                <p:cNvSpPr/>
                <p:nvPr/>
              </p:nvSpPr>
              <p:spPr>
                <a:xfrm rot="2931600">
                  <a:off x="-469080" y="2064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0" name="Freeform 84"/>
                <p:cNvSpPr/>
                <p:nvPr/>
              </p:nvSpPr>
              <p:spPr>
                <a:xfrm rot="2931600">
                  <a:off x="-585360" y="19407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Freeform 85"/>
                <p:cNvSpPr/>
                <p:nvPr/>
              </p:nvSpPr>
              <p:spPr>
                <a:xfrm rot="2931600">
                  <a:off x="-440640" y="2140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2" name="Freeform 86"/>
                <p:cNvSpPr/>
                <p:nvPr/>
              </p:nvSpPr>
              <p:spPr>
                <a:xfrm rot="2931600">
                  <a:off x="-474840" y="2099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3" name="Freeform 87"/>
                <p:cNvSpPr/>
                <p:nvPr/>
              </p:nvSpPr>
              <p:spPr>
                <a:xfrm rot="2931600">
                  <a:off x="-303840" y="182844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Freeform 88"/>
                <p:cNvSpPr/>
                <p:nvPr/>
              </p:nvSpPr>
              <p:spPr>
                <a:xfrm rot="2931600">
                  <a:off x="-550440" y="196200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5" name="Freeform 89"/>
                <p:cNvSpPr/>
                <p:nvPr/>
              </p:nvSpPr>
              <p:spPr>
                <a:xfrm rot="2931600">
                  <a:off x="-596880" y="197028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6" name="Freeform 90"/>
                <p:cNvSpPr/>
                <p:nvPr/>
              </p:nvSpPr>
              <p:spPr>
                <a:xfrm rot="2931600">
                  <a:off x="-492120" y="20721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Freeform 91"/>
                <p:cNvSpPr/>
                <p:nvPr/>
              </p:nvSpPr>
              <p:spPr>
                <a:xfrm rot="3612600">
                  <a:off x="-381240" y="21020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8" name="Freeform 92"/>
                <p:cNvSpPr/>
                <p:nvPr/>
              </p:nvSpPr>
              <p:spPr>
                <a:xfrm rot="2931600">
                  <a:off x="-345240" y="19188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nodeType="clickEffect" fill="hold">
                      <p:stCondLst>
                        <p:cond delay="0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5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3000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3000" fill="hold"/>
                                        <p:tgtEl>
                                          <p:spTgt spid="2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4.05644E-007 -4.55285E-006 C 0.08995 0.01457 0.32716 0.09147 0.53968 0.08673 C 0.75198 0.08198 1.12081 -0.00406 1.27337 -0.02777 E">
                                      <p:cBhvr>
                                        <p:cTn id="51" dur="5000" fill="hold"/>
                                        <p:tgtEl>
                                          <p:spTgt spid="28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9" name="Picture 5" descr="页面1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26080"/>
          </a:xfrm>
          <a:prstGeom prst="rect">
            <a:avLst/>
          </a:prstGeom>
          <a:ln w="0">
            <a:noFill/>
          </a:ln>
        </p:spPr>
      </p:pic>
      <p:pic>
        <p:nvPicPr>
          <p:cNvPr id="330" name="Picture 7" descr="飞吧副本"/>
          <p:cNvPicPr/>
          <p:nvPr/>
        </p:nvPicPr>
        <p:blipFill>
          <a:blip r:embed="rId2"/>
          <a:stretch/>
        </p:blipFill>
        <p:spPr>
          <a:xfrm>
            <a:off x="144360" y="287352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31" name="Text Box 6"/>
          <p:cNvSpPr/>
          <p:nvPr/>
        </p:nvSpPr>
        <p:spPr>
          <a:xfrm>
            <a:off x="647640" y="539640"/>
            <a:ext cx="288144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曾经握在手心不放也不舍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平摊了晒在阳光下的诗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怎么也撕不碎梦想中的缠绵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用笔尖细吐生活的心酸和甘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留在夕去的日子怀念今天的当年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时光的尾巴看似很长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不知道何时的一瞬间就定格在了永远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画着世人看不见的光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人生就此别过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对错不重要功过也成烟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2" name="Group 52"/>
          <p:cNvGrpSpPr/>
          <p:nvPr/>
        </p:nvGrpSpPr>
        <p:grpSpPr>
          <a:xfrm>
            <a:off x="-905760" y="2221920"/>
            <a:ext cx="682200" cy="934920"/>
            <a:chOff x="-905760" y="2221920"/>
            <a:chExt cx="682200" cy="934920"/>
          </a:xfrm>
        </p:grpSpPr>
        <p:sp>
          <p:nvSpPr>
            <p:cNvPr id="333" name="Freeform 53"/>
            <p:cNvSpPr/>
            <p:nvPr/>
          </p:nvSpPr>
          <p:spPr>
            <a:xfrm rot="251400">
              <a:off x="-533520" y="250632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34" name="Group 54"/>
            <p:cNvGrpSpPr/>
            <p:nvPr/>
          </p:nvGrpSpPr>
          <p:grpSpPr>
            <a:xfrm>
              <a:off x="-905760" y="2221920"/>
              <a:ext cx="682200" cy="934920"/>
              <a:chOff x="-905760" y="2221920"/>
              <a:chExt cx="682200" cy="934920"/>
            </a:xfrm>
          </p:grpSpPr>
          <p:grpSp>
            <p:nvGrpSpPr>
              <p:cNvPr id="335" name="Group 55"/>
              <p:cNvGrpSpPr/>
              <p:nvPr/>
            </p:nvGrpSpPr>
            <p:grpSpPr>
              <a:xfrm>
                <a:off x="-700200" y="2483280"/>
                <a:ext cx="191160" cy="673560"/>
                <a:chOff x="-700200" y="2483280"/>
                <a:chExt cx="191160" cy="673560"/>
              </a:xfrm>
            </p:grpSpPr>
            <p:sp>
              <p:nvSpPr>
                <p:cNvPr id="336" name="AutoShape 56"/>
                <p:cNvSpPr/>
                <p:nvPr/>
              </p:nvSpPr>
              <p:spPr>
                <a:xfrm rot="251400">
                  <a:off x="-604080" y="248652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7" name="Freeform 57"/>
                <p:cNvSpPr/>
                <p:nvPr/>
              </p:nvSpPr>
              <p:spPr>
                <a:xfrm rot="251400">
                  <a:off x="-621720" y="254196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8" name="Oval 58"/>
                <p:cNvSpPr/>
                <p:nvPr/>
              </p:nvSpPr>
              <p:spPr>
                <a:xfrm rot="795000">
                  <a:off x="-677880" y="295668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9" name="Group 59"/>
              <p:cNvGrpSpPr/>
              <p:nvPr/>
            </p:nvGrpSpPr>
            <p:grpSpPr>
              <a:xfrm>
                <a:off x="-905760" y="2221920"/>
                <a:ext cx="682200" cy="542520"/>
                <a:chOff x="-905760" y="2221920"/>
                <a:chExt cx="682200" cy="542520"/>
              </a:xfrm>
            </p:grpSpPr>
            <p:sp>
              <p:nvSpPr>
                <p:cNvPr id="340" name="Freeform 60"/>
                <p:cNvSpPr/>
                <p:nvPr/>
              </p:nvSpPr>
              <p:spPr>
                <a:xfrm rot="251400">
                  <a:off x="-721800" y="250380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1" name="Freeform 61"/>
                <p:cNvSpPr/>
                <p:nvPr/>
              </p:nvSpPr>
              <p:spPr>
                <a:xfrm rot="251400">
                  <a:off x="-851400" y="25221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Freeform 62"/>
                <p:cNvSpPr/>
                <p:nvPr/>
              </p:nvSpPr>
              <p:spPr>
                <a:xfrm rot="251400">
                  <a:off x="-869400" y="24508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3" name="Freeform 63"/>
                <p:cNvSpPr/>
                <p:nvPr/>
              </p:nvSpPr>
              <p:spPr>
                <a:xfrm rot="251400">
                  <a:off x="-902520" y="241380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4" name="Freeform 64"/>
                <p:cNvSpPr/>
                <p:nvPr/>
              </p:nvSpPr>
              <p:spPr>
                <a:xfrm rot="251400">
                  <a:off x="-878760" y="239220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Freeform 65"/>
                <p:cNvSpPr/>
                <p:nvPr/>
              </p:nvSpPr>
              <p:spPr>
                <a:xfrm rot="251400">
                  <a:off x="-843480" y="239472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6" name="Freeform 66"/>
                <p:cNvSpPr/>
                <p:nvPr/>
              </p:nvSpPr>
              <p:spPr>
                <a:xfrm rot="251400">
                  <a:off x="-781200" y="2327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7" name="Freeform 67"/>
                <p:cNvSpPr/>
                <p:nvPr/>
              </p:nvSpPr>
              <p:spPr>
                <a:xfrm rot="251400">
                  <a:off x="-817560" y="23374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Freeform 68"/>
                <p:cNvSpPr/>
                <p:nvPr/>
              </p:nvSpPr>
              <p:spPr>
                <a:xfrm rot="251400">
                  <a:off x="-785520" y="23745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9" name="Freeform 69"/>
                <p:cNvSpPr/>
                <p:nvPr/>
              </p:nvSpPr>
              <p:spPr>
                <a:xfrm rot="251400">
                  <a:off x="-805680" y="2273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0" name="Line 70"/>
                <p:cNvSpPr/>
                <p:nvPr/>
              </p:nvSpPr>
              <p:spPr>
                <a:xfrm flipH="1" flipV="1">
                  <a:off x="-715320" y="228816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Freeform 71"/>
                <p:cNvSpPr/>
                <p:nvPr/>
              </p:nvSpPr>
              <p:spPr>
                <a:xfrm rot="251400">
                  <a:off x="-701280" y="229608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2" name="Freeform 72"/>
                <p:cNvSpPr/>
                <p:nvPr/>
              </p:nvSpPr>
              <p:spPr>
                <a:xfrm rot="251400">
                  <a:off x="-663480" y="22780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3" name="Freeform 73"/>
                <p:cNvSpPr/>
                <p:nvPr/>
              </p:nvSpPr>
              <p:spPr>
                <a:xfrm rot="251400">
                  <a:off x="-621000" y="226440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Freeform 74"/>
                <p:cNvSpPr/>
                <p:nvPr/>
              </p:nvSpPr>
              <p:spPr>
                <a:xfrm rot="251400">
                  <a:off x="-567720" y="2259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5" name="Freeform 75"/>
                <p:cNvSpPr/>
                <p:nvPr/>
              </p:nvSpPr>
              <p:spPr>
                <a:xfrm rot="251400">
                  <a:off x="-559800" y="222300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6" name="Freeform 76"/>
                <p:cNvSpPr/>
                <p:nvPr/>
              </p:nvSpPr>
              <p:spPr>
                <a:xfrm rot="251400">
                  <a:off x="-537480" y="22680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Freeform 77"/>
                <p:cNvSpPr/>
                <p:nvPr/>
              </p:nvSpPr>
              <p:spPr>
                <a:xfrm rot="251400">
                  <a:off x="-527040" y="230544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8" name="Freeform 78"/>
                <p:cNvSpPr/>
                <p:nvPr/>
              </p:nvSpPr>
              <p:spPr>
                <a:xfrm rot="251400">
                  <a:off x="-535680" y="223776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9" name="Freeform 79"/>
                <p:cNvSpPr/>
                <p:nvPr/>
              </p:nvSpPr>
              <p:spPr>
                <a:xfrm rot="251400">
                  <a:off x="-537840" y="229752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Freeform 80"/>
                <p:cNvSpPr/>
                <p:nvPr/>
              </p:nvSpPr>
              <p:spPr>
                <a:xfrm rot="251400">
                  <a:off x="-528480" y="235836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1" name="Freeform 81"/>
                <p:cNvSpPr/>
                <p:nvPr/>
              </p:nvSpPr>
              <p:spPr>
                <a:xfrm rot="251400">
                  <a:off x="-529920" y="23936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2" name="Freeform 82"/>
                <p:cNvSpPr/>
                <p:nvPr/>
              </p:nvSpPr>
              <p:spPr>
                <a:xfrm rot="251400">
                  <a:off x="-554400" y="240552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Freeform 83"/>
                <p:cNvSpPr/>
                <p:nvPr/>
              </p:nvSpPr>
              <p:spPr>
                <a:xfrm rot="251400">
                  <a:off x="-549720" y="2559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4" name="Freeform 84"/>
                <p:cNvSpPr/>
                <p:nvPr/>
              </p:nvSpPr>
              <p:spPr>
                <a:xfrm rot="251400">
                  <a:off x="-549720" y="256212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5" name="Freeform 85"/>
                <p:cNvSpPr/>
                <p:nvPr/>
              </p:nvSpPr>
              <p:spPr>
                <a:xfrm rot="251400">
                  <a:off x="-563400" y="257076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Freeform 86"/>
                <p:cNvSpPr/>
                <p:nvPr/>
              </p:nvSpPr>
              <p:spPr>
                <a:xfrm rot="251400">
                  <a:off x="-575280" y="2568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7" name="Freeform 87"/>
                <p:cNvSpPr/>
                <p:nvPr/>
              </p:nvSpPr>
              <p:spPr>
                <a:xfrm rot="251400">
                  <a:off x="-790200" y="2512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8" name="Freeform 88"/>
                <p:cNvSpPr/>
                <p:nvPr/>
              </p:nvSpPr>
              <p:spPr>
                <a:xfrm rot="251400">
                  <a:off x="-547920" y="255384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Freeform 89"/>
                <p:cNvSpPr/>
                <p:nvPr/>
              </p:nvSpPr>
              <p:spPr>
                <a:xfrm rot="251400">
                  <a:off x="-563760" y="256176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0" name="Freeform 90"/>
                <p:cNvSpPr/>
                <p:nvPr/>
              </p:nvSpPr>
              <p:spPr>
                <a:xfrm rot="251400">
                  <a:off x="-549360" y="227736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1" name="Freeform 91"/>
                <p:cNvSpPr/>
                <p:nvPr/>
              </p:nvSpPr>
              <p:spPr>
                <a:xfrm rot="251400">
                  <a:off x="-690120" y="25167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Freeform 92"/>
                <p:cNvSpPr/>
                <p:nvPr/>
              </p:nvSpPr>
              <p:spPr>
                <a:xfrm rot="251400">
                  <a:off x="-695160" y="25509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3" name="Freeform 93"/>
                <p:cNvSpPr/>
                <p:nvPr/>
              </p:nvSpPr>
              <p:spPr>
                <a:xfrm rot="251400">
                  <a:off x="-554760" y="257112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4" name="Freeform 94"/>
                <p:cNvSpPr/>
                <p:nvPr/>
              </p:nvSpPr>
              <p:spPr>
                <a:xfrm rot="932400">
                  <a:off x="-511560" y="2528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Freeform 95"/>
                <p:cNvSpPr/>
                <p:nvPr/>
              </p:nvSpPr>
              <p:spPr>
                <a:xfrm rot="251400">
                  <a:off x="-552600" y="236124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376" name="Text Box 3"/>
          <p:cNvSpPr/>
          <p:nvPr/>
        </p:nvSpPr>
        <p:spPr>
          <a:xfrm>
            <a:off x="297000" y="4314960"/>
            <a:ext cx="532764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6d7579"/>
                </a:solidFill>
                <a:uFillTx/>
                <a:latin typeface="Arial"/>
                <a:hlinkClick r:id="rId3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advTm="8000">
    <p:fade/>
  </p:transition>
  <p:timing>
    <p:tnLst>
      <p:par>
        <p:cTn id="52" dur="indefinite" restart="never" nodeType="tmRoot">
          <p:childTnLst>
            <p:seq>
              <p:cTn id="53" dur="indefinite" nodeType="mainSeq">
                <p:childTnLst>
                  <p:par>
                    <p:cTn id="54" nodeType="clickEffect" fill="hold">
                      <p:stCondLst>
                        <p:cond delay="0"/>
                      </p:stCondLst>
                      <p:childTnLst>
                        <p:par>
                          <p:cTn id="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8" dur="5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1" dur="3000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2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3000" fill="hold"/>
                                        <p:tgtEl>
                                          <p:spTgt spid="3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65" dur="5000" fill="hold"/>
                                        <p:tgtEl>
                                          <p:spTgt spid="33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7" name="Picture 40" descr="页面2"/>
          <p:cNvPicPr/>
          <p:nvPr/>
        </p:nvPicPr>
        <p:blipFill>
          <a:blip r:embed="rId1"/>
          <a:stretch/>
        </p:blipFill>
        <p:spPr>
          <a:xfrm>
            <a:off x="0" y="-36360"/>
            <a:ext cx="7201080" cy="4762440"/>
          </a:xfrm>
          <a:prstGeom prst="rect">
            <a:avLst/>
          </a:prstGeom>
          <a:ln w="0">
            <a:noFill/>
          </a:ln>
        </p:spPr>
      </p:pic>
      <p:pic>
        <p:nvPicPr>
          <p:cNvPr id="378" name="Picture 41" descr="飞吧副本"/>
          <p:cNvPicPr/>
          <p:nvPr/>
        </p:nvPicPr>
        <p:blipFill>
          <a:blip r:embed="rId2"/>
          <a:stretch/>
        </p:blipFill>
        <p:spPr>
          <a:xfrm>
            <a:off x="4176720" y="291636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379" name="Text Box 44"/>
          <p:cNvSpPr/>
          <p:nvPr/>
        </p:nvSpPr>
        <p:spPr>
          <a:xfrm>
            <a:off x="4392720" y="468360"/>
            <a:ext cx="2592360" cy="199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青春里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放肆、张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把世界随心所欲地翻转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青春，是一朵艳丽的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梦想在花蕊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妖冶地飞舞歌唱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迷失在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Arial"/>
                <a:ea typeface="微软雅黑"/>
              </a:rPr>
              <a:t>那上演着繁华不肯谢幕的年华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0" name="Group 45"/>
          <p:cNvGrpSpPr/>
          <p:nvPr/>
        </p:nvGrpSpPr>
        <p:grpSpPr>
          <a:xfrm>
            <a:off x="-745560" y="3160080"/>
            <a:ext cx="682200" cy="934920"/>
            <a:chOff x="-745560" y="3160080"/>
            <a:chExt cx="682200" cy="934920"/>
          </a:xfrm>
        </p:grpSpPr>
        <p:sp>
          <p:nvSpPr>
            <p:cNvPr id="381" name="Freeform 46"/>
            <p:cNvSpPr/>
            <p:nvPr/>
          </p:nvSpPr>
          <p:spPr>
            <a:xfrm rot="251400">
              <a:off x="-373320" y="344448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382" name="Group 47"/>
            <p:cNvGrpSpPr/>
            <p:nvPr/>
          </p:nvGrpSpPr>
          <p:grpSpPr>
            <a:xfrm>
              <a:off x="-745560" y="3160080"/>
              <a:ext cx="682200" cy="934920"/>
              <a:chOff x="-745560" y="3160080"/>
              <a:chExt cx="682200" cy="934920"/>
            </a:xfrm>
          </p:grpSpPr>
          <p:grpSp>
            <p:nvGrpSpPr>
              <p:cNvPr id="383" name="Group 48"/>
              <p:cNvGrpSpPr/>
              <p:nvPr/>
            </p:nvGrpSpPr>
            <p:grpSpPr>
              <a:xfrm>
                <a:off x="-540000" y="3421440"/>
                <a:ext cx="191160" cy="673560"/>
                <a:chOff x="-540000" y="3421440"/>
                <a:chExt cx="191160" cy="673560"/>
              </a:xfrm>
            </p:grpSpPr>
            <p:sp>
              <p:nvSpPr>
                <p:cNvPr id="384" name="AutoShape 49"/>
                <p:cNvSpPr/>
                <p:nvPr/>
              </p:nvSpPr>
              <p:spPr>
                <a:xfrm rot="251400">
                  <a:off x="-443880" y="342468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5" name="Freeform 50"/>
                <p:cNvSpPr/>
                <p:nvPr/>
              </p:nvSpPr>
              <p:spPr>
                <a:xfrm rot="251400">
                  <a:off x="-461520" y="348012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6" name="Oval 51"/>
                <p:cNvSpPr/>
                <p:nvPr/>
              </p:nvSpPr>
              <p:spPr>
                <a:xfrm rot="795000">
                  <a:off x="-517680" y="389484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7" name="Group 52"/>
              <p:cNvGrpSpPr/>
              <p:nvPr/>
            </p:nvGrpSpPr>
            <p:grpSpPr>
              <a:xfrm>
                <a:off x="-745560" y="3160080"/>
                <a:ext cx="682200" cy="542520"/>
                <a:chOff x="-745560" y="3160080"/>
                <a:chExt cx="682200" cy="542520"/>
              </a:xfrm>
            </p:grpSpPr>
            <p:sp>
              <p:nvSpPr>
                <p:cNvPr id="388" name="Freeform 53"/>
                <p:cNvSpPr/>
                <p:nvPr/>
              </p:nvSpPr>
              <p:spPr>
                <a:xfrm rot="251400">
                  <a:off x="-561600" y="344196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9" name="Freeform 54"/>
                <p:cNvSpPr/>
                <p:nvPr/>
              </p:nvSpPr>
              <p:spPr>
                <a:xfrm rot="251400">
                  <a:off x="-691200" y="346032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0" name="Freeform 55"/>
                <p:cNvSpPr/>
                <p:nvPr/>
              </p:nvSpPr>
              <p:spPr>
                <a:xfrm rot="251400">
                  <a:off x="-709200" y="338904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1" name="Freeform 56"/>
                <p:cNvSpPr/>
                <p:nvPr/>
              </p:nvSpPr>
              <p:spPr>
                <a:xfrm rot="251400">
                  <a:off x="-742320" y="33519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2" name="Freeform 57"/>
                <p:cNvSpPr/>
                <p:nvPr/>
              </p:nvSpPr>
              <p:spPr>
                <a:xfrm rot="251400">
                  <a:off x="-718560" y="333036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3" name="Freeform 58"/>
                <p:cNvSpPr/>
                <p:nvPr/>
              </p:nvSpPr>
              <p:spPr>
                <a:xfrm rot="251400">
                  <a:off x="-683280" y="333288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4" name="Freeform 59"/>
                <p:cNvSpPr/>
                <p:nvPr/>
              </p:nvSpPr>
              <p:spPr>
                <a:xfrm rot="251400">
                  <a:off x="-621000" y="32652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5" name="Freeform 60"/>
                <p:cNvSpPr/>
                <p:nvPr/>
              </p:nvSpPr>
              <p:spPr>
                <a:xfrm rot="251400">
                  <a:off x="-657360" y="327564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6" name="Freeform 61"/>
                <p:cNvSpPr/>
                <p:nvPr/>
              </p:nvSpPr>
              <p:spPr>
                <a:xfrm rot="251400">
                  <a:off x="-625320" y="3312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7" name="Freeform 62"/>
                <p:cNvSpPr/>
                <p:nvPr/>
              </p:nvSpPr>
              <p:spPr>
                <a:xfrm rot="251400">
                  <a:off x="-645480" y="32112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8" name="Line 63"/>
                <p:cNvSpPr/>
                <p:nvPr/>
              </p:nvSpPr>
              <p:spPr>
                <a:xfrm flipH="1" flipV="1">
                  <a:off x="-555120" y="322632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99" name="Freeform 64"/>
                <p:cNvSpPr/>
                <p:nvPr/>
              </p:nvSpPr>
              <p:spPr>
                <a:xfrm rot="251400">
                  <a:off x="-541080" y="323424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0" name="Freeform 65"/>
                <p:cNvSpPr/>
                <p:nvPr/>
              </p:nvSpPr>
              <p:spPr>
                <a:xfrm rot="251400">
                  <a:off x="-503280" y="321624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1" name="Freeform 66"/>
                <p:cNvSpPr/>
                <p:nvPr/>
              </p:nvSpPr>
              <p:spPr>
                <a:xfrm rot="251400">
                  <a:off x="-460800" y="32025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2" name="Freeform 67"/>
                <p:cNvSpPr/>
                <p:nvPr/>
              </p:nvSpPr>
              <p:spPr>
                <a:xfrm rot="251400">
                  <a:off x="-407520" y="319752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3" name="Freeform 68"/>
                <p:cNvSpPr/>
                <p:nvPr/>
              </p:nvSpPr>
              <p:spPr>
                <a:xfrm rot="251400">
                  <a:off x="-399600" y="316116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4" name="Freeform 69"/>
                <p:cNvSpPr/>
                <p:nvPr/>
              </p:nvSpPr>
              <p:spPr>
                <a:xfrm rot="251400">
                  <a:off x="-377280" y="320616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5" name="Freeform 70"/>
                <p:cNvSpPr/>
                <p:nvPr/>
              </p:nvSpPr>
              <p:spPr>
                <a:xfrm rot="251400">
                  <a:off x="-366840" y="324360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6" name="Freeform 71"/>
                <p:cNvSpPr/>
                <p:nvPr/>
              </p:nvSpPr>
              <p:spPr>
                <a:xfrm rot="251400">
                  <a:off x="-375480" y="31759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7" name="Freeform 72"/>
                <p:cNvSpPr/>
                <p:nvPr/>
              </p:nvSpPr>
              <p:spPr>
                <a:xfrm rot="251400">
                  <a:off x="-377640" y="323568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8" name="Freeform 73"/>
                <p:cNvSpPr/>
                <p:nvPr/>
              </p:nvSpPr>
              <p:spPr>
                <a:xfrm rot="251400">
                  <a:off x="-368280" y="329652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09" name="Freeform 74"/>
                <p:cNvSpPr/>
                <p:nvPr/>
              </p:nvSpPr>
              <p:spPr>
                <a:xfrm rot="251400">
                  <a:off x="-369720" y="333180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0" name="Freeform 75"/>
                <p:cNvSpPr/>
                <p:nvPr/>
              </p:nvSpPr>
              <p:spPr>
                <a:xfrm rot="251400">
                  <a:off x="-394200" y="334368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1" name="Freeform 76"/>
                <p:cNvSpPr/>
                <p:nvPr/>
              </p:nvSpPr>
              <p:spPr>
                <a:xfrm rot="251400">
                  <a:off x="-389520" y="34974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2" name="Freeform 77"/>
                <p:cNvSpPr/>
                <p:nvPr/>
              </p:nvSpPr>
              <p:spPr>
                <a:xfrm rot="251400">
                  <a:off x="-389520" y="350028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3" name="Freeform 78"/>
                <p:cNvSpPr/>
                <p:nvPr/>
              </p:nvSpPr>
              <p:spPr>
                <a:xfrm rot="251400">
                  <a:off x="-403200" y="350892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4" name="Freeform 79"/>
                <p:cNvSpPr/>
                <p:nvPr/>
              </p:nvSpPr>
              <p:spPr>
                <a:xfrm rot="251400">
                  <a:off x="-415080" y="350712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5" name="Freeform 80"/>
                <p:cNvSpPr/>
                <p:nvPr/>
              </p:nvSpPr>
              <p:spPr>
                <a:xfrm rot="251400">
                  <a:off x="-630000" y="34506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6" name="Freeform 81"/>
                <p:cNvSpPr/>
                <p:nvPr/>
              </p:nvSpPr>
              <p:spPr>
                <a:xfrm rot="251400">
                  <a:off x="-387720" y="349200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7" name="Freeform 82"/>
                <p:cNvSpPr/>
                <p:nvPr/>
              </p:nvSpPr>
              <p:spPr>
                <a:xfrm rot="251400">
                  <a:off x="-403560" y="349992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8" name="Freeform 83"/>
                <p:cNvSpPr/>
                <p:nvPr/>
              </p:nvSpPr>
              <p:spPr>
                <a:xfrm rot="251400">
                  <a:off x="-389160" y="321552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19" name="Freeform 84"/>
                <p:cNvSpPr/>
                <p:nvPr/>
              </p:nvSpPr>
              <p:spPr>
                <a:xfrm rot="251400">
                  <a:off x="-529920" y="34549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0" name="Freeform 85"/>
                <p:cNvSpPr/>
                <p:nvPr/>
              </p:nvSpPr>
              <p:spPr>
                <a:xfrm rot="251400">
                  <a:off x="-534960" y="348912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1" name="Freeform 86"/>
                <p:cNvSpPr/>
                <p:nvPr/>
              </p:nvSpPr>
              <p:spPr>
                <a:xfrm rot="251400">
                  <a:off x="-394560" y="350928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2" name="Freeform 87"/>
                <p:cNvSpPr/>
                <p:nvPr/>
              </p:nvSpPr>
              <p:spPr>
                <a:xfrm rot="932400">
                  <a:off x="-351360" y="34664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23" name="Freeform 88"/>
                <p:cNvSpPr/>
                <p:nvPr/>
              </p:nvSpPr>
              <p:spPr>
                <a:xfrm rot="251400">
                  <a:off x="-392400" y="329940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0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5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3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74" dur="5000" fill="hold"/>
                                        <p:tgtEl>
                                          <p:spTgt spid="38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75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30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30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4" name="Picture 5" descr="页面5副本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425" name="Picture 4" descr="飞吧副本"/>
          <p:cNvPicPr/>
          <p:nvPr/>
        </p:nvPicPr>
        <p:blipFill>
          <a:blip r:embed="rId2"/>
          <a:stretch/>
        </p:blipFill>
        <p:spPr>
          <a:xfrm>
            <a:off x="2232000" y="3017880"/>
            <a:ext cx="2592360" cy="1484280"/>
          </a:xfrm>
          <a:prstGeom prst="rect">
            <a:avLst/>
          </a:prstGeom>
          <a:ln w="0">
            <a:noFill/>
          </a:ln>
        </p:spPr>
      </p:pic>
      <p:sp>
        <p:nvSpPr>
          <p:cNvPr id="426" name="Text Box 3"/>
          <p:cNvSpPr/>
          <p:nvPr/>
        </p:nvSpPr>
        <p:spPr>
          <a:xfrm>
            <a:off x="4032360" y="468360"/>
            <a:ext cx="2305080" cy="25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活的精彩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生命的延续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是由于梦想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再泥泞的道路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也无法阻拦我的前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因为就在不远的前方</a:t>
            </a:r>
            <a:br>
              <a:rPr sz="1200"/>
            </a:b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有一道通向梦想的曙光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27" name="Group 6"/>
          <p:cNvGrpSpPr/>
          <p:nvPr/>
        </p:nvGrpSpPr>
        <p:grpSpPr>
          <a:xfrm>
            <a:off x="-661320" y="2549160"/>
            <a:ext cx="682200" cy="934920"/>
            <a:chOff x="-661320" y="2549160"/>
            <a:chExt cx="682200" cy="934920"/>
          </a:xfrm>
        </p:grpSpPr>
        <p:sp>
          <p:nvSpPr>
            <p:cNvPr id="428" name="Freeform 7"/>
            <p:cNvSpPr/>
            <p:nvPr/>
          </p:nvSpPr>
          <p:spPr>
            <a:xfrm rot="251400">
              <a:off x="-289080" y="283356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29" name="Group 8"/>
            <p:cNvGrpSpPr/>
            <p:nvPr/>
          </p:nvGrpSpPr>
          <p:grpSpPr>
            <a:xfrm>
              <a:off x="-661320" y="2549160"/>
              <a:ext cx="682200" cy="934920"/>
              <a:chOff x="-661320" y="2549160"/>
              <a:chExt cx="682200" cy="934920"/>
            </a:xfrm>
          </p:grpSpPr>
          <p:grpSp>
            <p:nvGrpSpPr>
              <p:cNvPr id="430" name="Group 9"/>
              <p:cNvGrpSpPr/>
              <p:nvPr/>
            </p:nvGrpSpPr>
            <p:grpSpPr>
              <a:xfrm>
                <a:off x="-455760" y="2810520"/>
                <a:ext cx="191160" cy="673560"/>
                <a:chOff x="-455760" y="2810520"/>
                <a:chExt cx="191160" cy="673560"/>
              </a:xfrm>
            </p:grpSpPr>
            <p:sp>
              <p:nvSpPr>
                <p:cNvPr id="431" name="AutoShape 10"/>
                <p:cNvSpPr/>
                <p:nvPr/>
              </p:nvSpPr>
              <p:spPr>
                <a:xfrm rot="251400">
                  <a:off x="-359640" y="28137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2" name="Freeform 11"/>
                <p:cNvSpPr/>
                <p:nvPr/>
              </p:nvSpPr>
              <p:spPr>
                <a:xfrm rot="251400">
                  <a:off x="-377280" y="28692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3" name="Oval 12"/>
                <p:cNvSpPr/>
                <p:nvPr/>
              </p:nvSpPr>
              <p:spPr>
                <a:xfrm rot="795000">
                  <a:off x="-433440" y="328392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34" name="Group 13"/>
              <p:cNvGrpSpPr/>
              <p:nvPr/>
            </p:nvGrpSpPr>
            <p:grpSpPr>
              <a:xfrm>
                <a:off x="-661320" y="2549160"/>
                <a:ext cx="682200" cy="542520"/>
                <a:chOff x="-661320" y="2549160"/>
                <a:chExt cx="682200" cy="542520"/>
              </a:xfrm>
            </p:grpSpPr>
            <p:sp>
              <p:nvSpPr>
                <p:cNvPr id="435" name="Freeform 14"/>
                <p:cNvSpPr/>
                <p:nvPr/>
              </p:nvSpPr>
              <p:spPr>
                <a:xfrm rot="251400">
                  <a:off x="-477360" y="28310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6" name="Freeform 15"/>
                <p:cNvSpPr/>
                <p:nvPr/>
              </p:nvSpPr>
              <p:spPr>
                <a:xfrm rot="251400">
                  <a:off x="-606960" y="28494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7" name="Freeform 16"/>
                <p:cNvSpPr/>
                <p:nvPr/>
              </p:nvSpPr>
              <p:spPr>
                <a:xfrm rot="251400">
                  <a:off x="-624960" y="277812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8" name="Freeform 17"/>
                <p:cNvSpPr/>
                <p:nvPr/>
              </p:nvSpPr>
              <p:spPr>
                <a:xfrm rot="251400">
                  <a:off x="-658080" y="274104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39" name="Freeform 18"/>
                <p:cNvSpPr/>
                <p:nvPr/>
              </p:nvSpPr>
              <p:spPr>
                <a:xfrm rot="251400">
                  <a:off x="-634320" y="27194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0" name="Freeform 19"/>
                <p:cNvSpPr/>
                <p:nvPr/>
              </p:nvSpPr>
              <p:spPr>
                <a:xfrm rot="251400">
                  <a:off x="-599040" y="272196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1" name="Freeform 20"/>
                <p:cNvSpPr/>
                <p:nvPr/>
              </p:nvSpPr>
              <p:spPr>
                <a:xfrm rot="251400">
                  <a:off x="-536760" y="265428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2" name="Freeform 21"/>
                <p:cNvSpPr/>
                <p:nvPr/>
              </p:nvSpPr>
              <p:spPr>
                <a:xfrm rot="251400">
                  <a:off x="-573120" y="266472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3" name="Freeform 22"/>
                <p:cNvSpPr/>
                <p:nvPr/>
              </p:nvSpPr>
              <p:spPr>
                <a:xfrm rot="251400">
                  <a:off x="-541080" y="270180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4" name="Freeform 23"/>
                <p:cNvSpPr/>
                <p:nvPr/>
              </p:nvSpPr>
              <p:spPr>
                <a:xfrm rot="251400">
                  <a:off x="-561240" y="260028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5" name="Line 24"/>
                <p:cNvSpPr/>
                <p:nvPr/>
              </p:nvSpPr>
              <p:spPr>
                <a:xfrm flipH="1" flipV="1">
                  <a:off x="-470880" y="2615400"/>
                  <a:ext cx="178200" cy="26892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6" name="Freeform 25"/>
                <p:cNvSpPr/>
                <p:nvPr/>
              </p:nvSpPr>
              <p:spPr>
                <a:xfrm rot="251400">
                  <a:off x="-456840" y="262332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7" name="Freeform 26"/>
                <p:cNvSpPr/>
                <p:nvPr/>
              </p:nvSpPr>
              <p:spPr>
                <a:xfrm rot="251400">
                  <a:off x="-419040" y="2605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8" name="Freeform 27"/>
                <p:cNvSpPr/>
                <p:nvPr/>
              </p:nvSpPr>
              <p:spPr>
                <a:xfrm rot="251400">
                  <a:off x="-376560" y="259164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49" name="Freeform 28"/>
                <p:cNvSpPr/>
                <p:nvPr/>
              </p:nvSpPr>
              <p:spPr>
                <a:xfrm rot="251400">
                  <a:off x="-323280" y="258660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0" name="Freeform 29"/>
                <p:cNvSpPr/>
                <p:nvPr/>
              </p:nvSpPr>
              <p:spPr>
                <a:xfrm rot="251400">
                  <a:off x="-315360" y="255024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1" name="Freeform 30"/>
                <p:cNvSpPr/>
                <p:nvPr/>
              </p:nvSpPr>
              <p:spPr>
                <a:xfrm rot="251400">
                  <a:off x="-293040" y="25952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2" name="Freeform 31"/>
                <p:cNvSpPr/>
                <p:nvPr/>
              </p:nvSpPr>
              <p:spPr>
                <a:xfrm rot="251400">
                  <a:off x="-282600" y="263268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3" name="Freeform 32"/>
                <p:cNvSpPr/>
                <p:nvPr/>
              </p:nvSpPr>
              <p:spPr>
                <a:xfrm rot="251400">
                  <a:off x="-291240" y="256500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4" name="Freeform 33"/>
                <p:cNvSpPr/>
                <p:nvPr/>
              </p:nvSpPr>
              <p:spPr>
                <a:xfrm rot="251400">
                  <a:off x="-293400" y="26247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5" name="Freeform 34"/>
                <p:cNvSpPr/>
                <p:nvPr/>
              </p:nvSpPr>
              <p:spPr>
                <a:xfrm rot="251400">
                  <a:off x="-284040" y="268560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6" name="Freeform 35"/>
                <p:cNvSpPr/>
                <p:nvPr/>
              </p:nvSpPr>
              <p:spPr>
                <a:xfrm rot="251400">
                  <a:off x="-285480" y="272088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7" name="Freeform 36"/>
                <p:cNvSpPr/>
                <p:nvPr/>
              </p:nvSpPr>
              <p:spPr>
                <a:xfrm rot="251400">
                  <a:off x="-309960" y="273276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8" name="Freeform 37"/>
                <p:cNvSpPr/>
                <p:nvPr/>
              </p:nvSpPr>
              <p:spPr>
                <a:xfrm rot="251400">
                  <a:off x="-305280" y="288648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59" name="Freeform 38"/>
                <p:cNvSpPr/>
                <p:nvPr/>
              </p:nvSpPr>
              <p:spPr>
                <a:xfrm rot="251400">
                  <a:off x="-305280" y="288936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0" name="Freeform 39"/>
                <p:cNvSpPr/>
                <p:nvPr/>
              </p:nvSpPr>
              <p:spPr>
                <a:xfrm rot="251400">
                  <a:off x="-318960" y="28980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1" name="Freeform 40"/>
                <p:cNvSpPr/>
                <p:nvPr/>
              </p:nvSpPr>
              <p:spPr>
                <a:xfrm rot="251400">
                  <a:off x="-330840" y="289620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2" name="Freeform 41"/>
                <p:cNvSpPr/>
                <p:nvPr/>
              </p:nvSpPr>
              <p:spPr>
                <a:xfrm rot="251400">
                  <a:off x="-545760" y="283968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3" name="Freeform 42"/>
                <p:cNvSpPr/>
                <p:nvPr/>
              </p:nvSpPr>
              <p:spPr>
                <a:xfrm rot="251400">
                  <a:off x="-303480" y="28810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4" name="Freeform 43"/>
                <p:cNvSpPr/>
                <p:nvPr/>
              </p:nvSpPr>
              <p:spPr>
                <a:xfrm rot="251400">
                  <a:off x="-319320" y="288900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5" name="Freeform 44"/>
                <p:cNvSpPr/>
                <p:nvPr/>
              </p:nvSpPr>
              <p:spPr>
                <a:xfrm rot="251400">
                  <a:off x="-304920" y="260460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6" name="Freeform 45"/>
                <p:cNvSpPr/>
                <p:nvPr/>
              </p:nvSpPr>
              <p:spPr>
                <a:xfrm rot="251400">
                  <a:off x="-445680" y="284400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7" name="Freeform 46"/>
                <p:cNvSpPr/>
                <p:nvPr/>
              </p:nvSpPr>
              <p:spPr>
                <a:xfrm rot="251400">
                  <a:off x="-450720" y="287820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8" name="Freeform 47"/>
                <p:cNvSpPr/>
                <p:nvPr/>
              </p:nvSpPr>
              <p:spPr>
                <a:xfrm rot="251400">
                  <a:off x="-310320" y="28983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69" name="Freeform 48"/>
                <p:cNvSpPr/>
                <p:nvPr/>
              </p:nvSpPr>
              <p:spPr>
                <a:xfrm rot="932400">
                  <a:off x="-267120" y="285552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0" name="Freeform 49"/>
                <p:cNvSpPr/>
                <p:nvPr/>
              </p:nvSpPr>
              <p:spPr>
                <a:xfrm rot="251400">
                  <a:off x="-308160" y="26884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nodeType="clickEffect" fill="hold">
                      <p:stCondLst>
                        <p:cond delay="0"/>
                      </p:stCondLst>
                      <p:childTnLst>
                        <p:par>
                          <p:cTn id="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5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3000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3000" fill="hold"/>
                                        <p:tgtEl>
                                          <p:spTgt spid="4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3000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3000" fill="hold"/>
                                        <p:tgtEl>
                                          <p:spTgt spid="4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3000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3000" fill="hold"/>
                                        <p:tgtEl>
                                          <p:spTgt spid="4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4" dur="3000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5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3000" fill="hold"/>
                                        <p:tgtEl>
                                          <p:spTgt spid="4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2.7866E-006 -1.43631E-006 C 0.13073 -0.0603 0.5926 -0.29946 0.78461 -0.3628 C 0.97663 -0.42615 1.07584 -0.37703 1.15256 -0.38076 E">
                                      <p:cBhvr>
                                        <p:cTn id="108" dur="5000" fill="hold"/>
                                        <p:tgtEl>
                                          <p:spTgt spid="42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1" name="Picture 6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sp>
        <p:nvSpPr>
          <p:cNvPr id="472" name="Text Box 5"/>
          <p:cNvSpPr/>
          <p:nvPr/>
        </p:nvSpPr>
        <p:spPr>
          <a:xfrm>
            <a:off x="936720" y="468360"/>
            <a:ext cx="2952720" cy="282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阳光的孩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都向往自由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喜欢这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云淡风轻的日子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把自己化作一架纸飞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伴着风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飘逸在空气中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划出一道优美的弧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载满快乐和幸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720720"/>
                <a:tab algn="l" pos="1441440"/>
                <a:tab algn="l" pos="2162160"/>
                <a:tab algn="l" pos="2882880"/>
                <a:tab algn="l" pos="3603600"/>
                <a:tab algn="l" pos="4324320"/>
                <a:tab algn="l" pos="5045040"/>
                <a:tab algn="l" pos="5765760"/>
                <a:tab algn="l" pos="6486480"/>
                <a:tab algn="l" pos="7207200"/>
                <a:tab algn="l" pos="7927920"/>
                <a:tab algn="l" pos="8648640"/>
                <a:tab algn="l" pos="9369360"/>
                <a:tab algn="l" pos="10090080"/>
                <a:tab algn="l" pos="10810800"/>
              </a:tabLst>
            </a:pPr>
            <a:r>
              <a:rPr b="0" lang="zh-CN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飞向远方</a:t>
            </a:r>
            <a:r>
              <a:rPr b="0" lang="en-US" sz="1200" spc="-1" strike="noStrike">
                <a:solidFill>
                  <a:srgbClr val="336600"/>
                </a:solidFill>
                <a:latin typeface="微软雅黑"/>
                <a:ea typeface="微软雅黑"/>
              </a:rPr>
              <a:t>… …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3" name="Picture 7" descr="飞吧副本"/>
          <p:cNvPicPr/>
          <p:nvPr/>
        </p:nvPicPr>
        <p:blipFill>
          <a:blip r:embed="rId2"/>
          <a:stretch/>
        </p:blipFill>
        <p:spPr>
          <a:xfrm>
            <a:off x="1584360" y="3017880"/>
            <a:ext cx="2592360" cy="1484280"/>
          </a:xfrm>
          <a:prstGeom prst="rect">
            <a:avLst/>
          </a:prstGeom>
          <a:ln w="0">
            <a:noFill/>
          </a:ln>
        </p:spPr>
      </p:pic>
      <p:grpSp>
        <p:nvGrpSpPr>
          <p:cNvPr id="474" name="Group 12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475" name="Freeform 13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476" name="Group 14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477" name="Group 15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478" name="AutoShape 16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79" name="Freeform 17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0" name="Oval 18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481" name="Group 19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482" name="Freeform 20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3" name="Freeform 21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4" name="Freeform 22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5" name="Freeform 23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6" name="Freeform 24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7" name="Freeform 25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8" name="Freeform 26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89" name="Freeform 27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0" name="Freeform 28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1" name="Freeform 29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2" name="Line 30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3" name="Freeform 31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4" name="Freeform 32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5" name="Freeform 33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6" name="Freeform 34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7" name="Freeform 35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8" name="Freeform 36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499" name="Freeform 37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0" name="Freeform 38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1" name="Freeform 39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2" name="Freeform 40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3" name="Freeform 41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4" name="Freeform 42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5" name="Freeform 43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6" name="Freeform 44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7" name="Freeform 45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8" name="Freeform 46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09" name="Freeform 47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0" name="Freeform 48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1" name="Freeform 49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2" name="Freeform 50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3" name="Freeform 51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4" name="Freeform 52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5" name="Freeform 53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6" name="Freeform 54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17" name="Freeform 55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8000">
    <p:fade/>
  </p:transition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nodeType="clickEffect" fill="hold">
                      <p:stCondLst>
                        <p:cond delay="0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" dur="5000"/>
                                        <p:tgtEl>
                                          <p:spTgt spid="4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3000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" dur="3000" fill="hold"/>
                                        <p:tgtEl>
                                          <p:spTgt spid="4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3000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4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" dur="3000" fill="hold"/>
                                        <p:tgtEl>
                                          <p:spTgt spid="4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3000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9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3000" fill="hold"/>
                                        <p:tgtEl>
                                          <p:spTgt spid="4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3000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4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3000" fill="hold"/>
                                        <p:tgtEl>
                                          <p:spTgt spid="4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8" dur="3000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9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3000" fill="hold"/>
                                        <p:tgtEl>
                                          <p:spTgt spid="47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3" dur="3000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4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3000" fill="hold"/>
                                        <p:tgtEl>
                                          <p:spTgt spid="47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8" dur="3000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49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0" dur="3000" fill="hold"/>
                                        <p:tgtEl>
                                          <p:spTgt spid="47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3" dur="3000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4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0" fill="hold"/>
                                        <p:tgtEl>
                                          <p:spTgt spid="47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8" dur="3000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59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3000" fill="hold"/>
                                        <p:tgtEl>
                                          <p:spTgt spid="47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3000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64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3000" fill="hold"/>
                                        <p:tgtEl>
                                          <p:spTgt spid="472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6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67" dur="5000" fill="hold"/>
                                        <p:tgtEl>
                                          <p:spTgt spid="47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8" name="Picture 39" descr=""/>
          <p:cNvPicPr/>
          <p:nvPr/>
        </p:nvPicPr>
        <p:blipFill>
          <a:blip r:embed="rId1"/>
          <a:stretch/>
        </p:blipFill>
        <p:spPr>
          <a:xfrm>
            <a:off x="0" y="0"/>
            <a:ext cx="7201080" cy="4716360"/>
          </a:xfrm>
          <a:prstGeom prst="rect">
            <a:avLst/>
          </a:prstGeom>
          <a:ln w="0">
            <a:noFill/>
          </a:ln>
        </p:spPr>
      </p:pic>
      <p:pic>
        <p:nvPicPr>
          <p:cNvPr id="519" name="Picture 43" descr="不是你的天使"/>
          <p:cNvPicPr/>
          <p:nvPr/>
        </p:nvPicPr>
        <p:blipFill>
          <a:blip r:embed="rId2"/>
          <a:stretch/>
        </p:blipFill>
        <p:spPr>
          <a:xfrm>
            <a:off x="720720" y="1476360"/>
            <a:ext cx="5961240" cy="1303200"/>
          </a:xfrm>
          <a:prstGeom prst="rect">
            <a:avLst/>
          </a:prstGeom>
          <a:ln w="0">
            <a:noFill/>
          </a:ln>
        </p:spPr>
      </p:pic>
      <p:pic>
        <p:nvPicPr>
          <p:cNvPr id="520" name="Picture 44" descr="飞吧副本"/>
          <p:cNvPicPr/>
          <p:nvPr/>
        </p:nvPicPr>
        <p:blipFill>
          <a:blip r:embed="rId3"/>
          <a:stretch/>
        </p:blipFill>
        <p:spPr>
          <a:xfrm>
            <a:off x="5113440" y="3484440"/>
            <a:ext cx="2087640" cy="1195560"/>
          </a:xfrm>
          <a:prstGeom prst="rect">
            <a:avLst/>
          </a:prstGeom>
          <a:ln w="0">
            <a:noFill/>
          </a:ln>
        </p:spPr>
      </p:pic>
      <p:pic>
        <p:nvPicPr>
          <p:cNvPr id="521" name="Picture 47" descr="页面4副本"/>
          <p:cNvPicPr/>
          <p:nvPr/>
        </p:nvPicPr>
        <p:blipFill>
          <a:blip r:embed="rId4"/>
          <a:stretch/>
        </p:blipFill>
        <p:spPr>
          <a:xfrm>
            <a:off x="98280" y="-36360"/>
            <a:ext cx="4559400" cy="4752720"/>
          </a:xfrm>
          <a:prstGeom prst="rect">
            <a:avLst/>
          </a:prstGeom>
          <a:ln w="0">
            <a:noFill/>
          </a:ln>
        </p:spPr>
      </p:pic>
      <p:grpSp>
        <p:nvGrpSpPr>
          <p:cNvPr id="522" name="Group 92"/>
          <p:cNvGrpSpPr/>
          <p:nvPr/>
        </p:nvGrpSpPr>
        <p:grpSpPr>
          <a:xfrm>
            <a:off x="-830520" y="3203640"/>
            <a:ext cx="685080" cy="929160"/>
            <a:chOff x="-830520" y="3203640"/>
            <a:chExt cx="685080" cy="929160"/>
          </a:xfrm>
        </p:grpSpPr>
        <p:sp>
          <p:nvSpPr>
            <p:cNvPr id="523" name="Freeform 93"/>
            <p:cNvSpPr/>
            <p:nvPr/>
          </p:nvSpPr>
          <p:spPr>
            <a:xfrm rot="399000">
              <a:off x="-459360" y="34902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4" name="Group 94"/>
            <p:cNvGrpSpPr/>
            <p:nvPr/>
          </p:nvGrpSpPr>
          <p:grpSpPr>
            <a:xfrm>
              <a:off x="-830520" y="3203640"/>
              <a:ext cx="685080" cy="929160"/>
              <a:chOff x="-830520" y="3203640"/>
              <a:chExt cx="685080" cy="929160"/>
            </a:xfrm>
          </p:grpSpPr>
          <p:grpSp>
            <p:nvGrpSpPr>
              <p:cNvPr id="525" name="Group 95"/>
              <p:cNvGrpSpPr/>
              <p:nvPr/>
            </p:nvGrpSpPr>
            <p:grpSpPr>
              <a:xfrm>
                <a:off x="-653040" y="3462120"/>
                <a:ext cx="219240" cy="670680"/>
                <a:chOff x="-653040" y="3462120"/>
                <a:chExt cx="219240" cy="670680"/>
              </a:xfrm>
            </p:grpSpPr>
            <p:sp>
              <p:nvSpPr>
                <p:cNvPr id="526" name="AutoShape 96"/>
                <p:cNvSpPr/>
                <p:nvPr/>
              </p:nvSpPr>
              <p:spPr>
                <a:xfrm rot="399000">
                  <a:off x="-530280" y="346716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7" name="Freeform 97"/>
                <p:cNvSpPr/>
                <p:nvPr/>
              </p:nvSpPr>
              <p:spPr>
                <a:xfrm rot="399000">
                  <a:off x="-558000" y="3520800"/>
                  <a:ext cx="47160" cy="4442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8" name="Oval 98"/>
                <p:cNvSpPr/>
                <p:nvPr/>
              </p:nvSpPr>
              <p:spPr>
                <a:xfrm rot="942600">
                  <a:off x="-627120" y="3933000"/>
                  <a:ext cx="46440" cy="197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29" name="Group 99"/>
              <p:cNvGrpSpPr/>
              <p:nvPr/>
            </p:nvGrpSpPr>
            <p:grpSpPr>
              <a:xfrm>
                <a:off x="-830520" y="3203640"/>
                <a:ext cx="685080" cy="540720"/>
                <a:chOff x="-830520" y="3203640"/>
                <a:chExt cx="685080" cy="540720"/>
              </a:xfrm>
            </p:grpSpPr>
            <p:sp>
              <p:nvSpPr>
                <p:cNvPr id="530" name="Freeform 100"/>
                <p:cNvSpPr/>
                <p:nvPr/>
              </p:nvSpPr>
              <p:spPr>
                <a:xfrm rot="399000">
                  <a:off x="-648720" y="348084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1" name="Freeform 101"/>
                <p:cNvSpPr/>
                <p:nvPr/>
              </p:nvSpPr>
              <p:spPr>
                <a:xfrm rot="399000">
                  <a:off x="-778680" y="349596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2" name="Freeform 102"/>
                <p:cNvSpPr/>
                <p:nvPr/>
              </p:nvSpPr>
              <p:spPr>
                <a:xfrm rot="399000">
                  <a:off x="-793440" y="34246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3" name="Freeform 103"/>
                <p:cNvSpPr/>
                <p:nvPr/>
              </p:nvSpPr>
              <p:spPr>
                <a:xfrm rot="399000">
                  <a:off x="-825840" y="33861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4" name="Freeform 104"/>
                <p:cNvSpPr/>
                <p:nvPr/>
              </p:nvSpPr>
              <p:spPr>
                <a:xfrm rot="399000">
                  <a:off x="-801360" y="33656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5" name="Freeform 105"/>
                <p:cNvSpPr/>
                <p:nvPr/>
              </p:nvSpPr>
              <p:spPr>
                <a:xfrm rot="399000">
                  <a:off x="-766800" y="336960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6" name="Freeform 106"/>
                <p:cNvSpPr/>
                <p:nvPr/>
              </p:nvSpPr>
              <p:spPr>
                <a:xfrm rot="399000">
                  <a:off x="-703080" y="330300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7" name="Freeform 107"/>
                <p:cNvSpPr/>
                <p:nvPr/>
              </p:nvSpPr>
              <p:spPr>
                <a:xfrm rot="399000">
                  <a:off x="-739440" y="331236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8" name="Freeform 108"/>
                <p:cNvSpPr/>
                <p:nvPr/>
              </p:nvSpPr>
              <p:spPr>
                <a:xfrm rot="399000">
                  <a:off x="-708480" y="3350880"/>
                  <a:ext cx="255960" cy="16236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39" name="Freeform 109"/>
                <p:cNvSpPr/>
                <p:nvPr/>
              </p:nvSpPr>
              <p:spPr>
                <a:xfrm rot="399000">
                  <a:off x="-726480" y="324900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0" name="Line 110"/>
                <p:cNvSpPr/>
                <p:nvPr/>
              </p:nvSpPr>
              <p:spPr>
                <a:xfrm flipH="1" flipV="1">
                  <a:off x="-631440" y="3262320"/>
                  <a:ext cx="166680" cy="2764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1" name="Freeform 111"/>
                <p:cNvSpPr/>
                <p:nvPr/>
              </p:nvSpPr>
              <p:spPr>
                <a:xfrm rot="399000">
                  <a:off x="-623160" y="3274200"/>
                  <a:ext cx="162720" cy="25524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2" name="Freeform 112"/>
                <p:cNvSpPr/>
                <p:nvPr/>
              </p:nvSpPr>
              <p:spPr>
                <a:xfrm rot="399000">
                  <a:off x="-584640" y="325728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3" name="Freeform 113"/>
                <p:cNvSpPr/>
                <p:nvPr/>
              </p:nvSpPr>
              <p:spPr>
                <a:xfrm rot="399000">
                  <a:off x="-542160" y="32443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4" name="Freeform 114"/>
                <p:cNvSpPr/>
                <p:nvPr/>
              </p:nvSpPr>
              <p:spPr>
                <a:xfrm rot="399000">
                  <a:off x="-489240" y="3240360"/>
                  <a:ext cx="41760" cy="29700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5" name="Freeform 115"/>
                <p:cNvSpPr/>
                <p:nvPr/>
              </p:nvSpPr>
              <p:spPr>
                <a:xfrm rot="399000">
                  <a:off x="-480240" y="320508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6" name="Freeform 116"/>
                <p:cNvSpPr/>
                <p:nvPr/>
              </p:nvSpPr>
              <p:spPr>
                <a:xfrm rot="399000">
                  <a:off x="-459000" y="325080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7" name="Freeform 117"/>
                <p:cNvSpPr/>
                <p:nvPr/>
              </p:nvSpPr>
              <p:spPr>
                <a:xfrm rot="399000">
                  <a:off x="-448920" y="3289320"/>
                  <a:ext cx="81000" cy="2437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8" name="Freeform 118"/>
                <p:cNvSpPr/>
                <p:nvPr/>
              </p:nvSpPr>
              <p:spPr>
                <a:xfrm rot="399000">
                  <a:off x="-456120" y="32230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49" name="Freeform 119"/>
                <p:cNvSpPr/>
                <p:nvPr/>
              </p:nvSpPr>
              <p:spPr>
                <a:xfrm rot="399000">
                  <a:off x="-460440" y="328356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0" name="Freeform 120"/>
                <p:cNvSpPr/>
                <p:nvPr/>
              </p:nvSpPr>
              <p:spPr>
                <a:xfrm rot="399000">
                  <a:off x="-452520" y="3345480"/>
                  <a:ext cx="244080" cy="197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1" name="Freeform 121"/>
                <p:cNvSpPr/>
                <p:nvPr/>
              </p:nvSpPr>
              <p:spPr>
                <a:xfrm rot="399000">
                  <a:off x="-454320" y="3381840"/>
                  <a:ext cx="279000" cy="16236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2" name="Freeform 122"/>
                <p:cNvSpPr/>
                <p:nvPr/>
              </p:nvSpPr>
              <p:spPr>
                <a:xfrm rot="399000">
                  <a:off x="-479160" y="3393000"/>
                  <a:ext cx="325440" cy="16236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3" name="Freeform 123"/>
                <p:cNvSpPr/>
                <p:nvPr/>
              </p:nvSpPr>
              <p:spPr>
                <a:xfrm rot="399000">
                  <a:off x="-478080" y="354420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4" name="Freeform 124"/>
                <p:cNvSpPr/>
                <p:nvPr/>
              </p:nvSpPr>
              <p:spPr>
                <a:xfrm rot="399000">
                  <a:off x="-478080" y="35460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5" name="Freeform 125"/>
                <p:cNvSpPr/>
                <p:nvPr/>
              </p:nvSpPr>
              <p:spPr>
                <a:xfrm rot="399000">
                  <a:off x="-493560" y="35532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6" name="Freeform 126"/>
                <p:cNvSpPr/>
                <p:nvPr/>
              </p:nvSpPr>
              <p:spPr>
                <a:xfrm rot="399000">
                  <a:off x="-505080" y="35499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7" name="Freeform 127"/>
                <p:cNvSpPr/>
                <p:nvPr/>
              </p:nvSpPr>
              <p:spPr>
                <a:xfrm rot="399000">
                  <a:off x="-716400" y="348840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8" name="Freeform 128"/>
                <p:cNvSpPr/>
                <p:nvPr/>
              </p:nvSpPr>
              <p:spPr>
                <a:xfrm rot="399000">
                  <a:off x="-475920" y="353988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59" name="Freeform 129"/>
                <p:cNvSpPr/>
                <p:nvPr/>
              </p:nvSpPr>
              <p:spPr>
                <a:xfrm rot="399000">
                  <a:off x="-493560" y="354564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0" name="Freeform 130"/>
                <p:cNvSpPr/>
                <p:nvPr/>
              </p:nvSpPr>
              <p:spPr>
                <a:xfrm rot="399000">
                  <a:off x="-470880" y="3259080"/>
                  <a:ext cx="8640" cy="26712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1" name="Freeform 131"/>
                <p:cNvSpPr/>
                <p:nvPr/>
              </p:nvSpPr>
              <p:spPr>
                <a:xfrm rot="399000">
                  <a:off x="-619200" y="349452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2" name="Freeform 132"/>
                <p:cNvSpPr/>
                <p:nvPr/>
              </p:nvSpPr>
              <p:spPr>
                <a:xfrm rot="399000">
                  <a:off x="-626760" y="3528360"/>
                  <a:ext cx="127440" cy="20916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3" name="Freeform 133"/>
                <p:cNvSpPr/>
                <p:nvPr/>
              </p:nvSpPr>
              <p:spPr>
                <a:xfrm rot="399000">
                  <a:off x="-487080" y="3553560"/>
                  <a:ext cx="81000" cy="17388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4" name="Freeform 134"/>
                <p:cNvSpPr/>
                <p:nvPr/>
              </p:nvSpPr>
              <p:spPr>
                <a:xfrm rot="1080000">
                  <a:off x="-438840" y="351324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65" name="Freeform 135"/>
                <p:cNvSpPr/>
                <p:nvPr/>
              </p:nvSpPr>
              <p:spPr>
                <a:xfrm rot="399000">
                  <a:off x="-475560" y="3343680"/>
                  <a:ext cx="69840" cy="1857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566" name="Group 136"/>
          <p:cNvGrpSpPr/>
          <p:nvPr/>
        </p:nvGrpSpPr>
        <p:grpSpPr>
          <a:xfrm>
            <a:off x="-815400" y="3749040"/>
            <a:ext cx="682200" cy="935640"/>
            <a:chOff x="-815400" y="3749040"/>
            <a:chExt cx="682200" cy="935640"/>
          </a:xfrm>
        </p:grpSpPr>
        <p:sp>
          <p:nvSpPr>
            <p:cNvPr id="567" name="Freeform 137"/>
            <p:cNvSpPr/>
            <p:nvPr/>
          </p:nvSpPr>
          <p:spPr>
            <a:xfrm rot="251400">
              <a:off x="-443160" y="40338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68" name="Group 138"/>
            <p:cNvGrpSpPr/>
            <p:nvPr/>
          </p:nvGrpSpPr>
          <p:grpSpPr>
            <a:xfrm>
              <a:off x="-815400" y="3749040"/>
              <a:ext cx="682200" cy="935640"/>
              <a:chOff x="-815400" y="3749040"/>
              <a:chExt cx="682200" cy="935640"/>
            </a:xfrm>
          </p:grpSpPr>
          <p:grpSp>
            <p:nvGrpSpPr>
              <p:cNvPr id="569" name="Group 139"/>
              <p:cNvGrpSpPr/>
              <p:nvPr/>
            </p:nvGrpSpPr>
            <p:grpSpPr>
              <a:xfrm>
                <a:off x="-609840" y="4010400"/>
                <a:ext cx="191160" cy="674280"/>
                <a:chOff x="-609840" y="4010400"/>
                <a:chExt cx="191160" cy="674280"/>
              </a:xfrm>
            </p:grpSpPr>
            <p:sp>
              <p:nvSpPr>
                <p:cNvPr id="570" name="AutoShape 140"/>
                <p:cNvSpPr/>
                <p:nvPr/>
              </p:nvSpPr>
              <p:spPr>
                <a:xfrm rot="251400">
                  <a:off x="-513720" y="401364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1" name="Freeform 141"/>
                <p:cNvSpPr/>
                <p:nvPr/>
              </p:nvSpPr>
              <p:spPr>
                <a:xfrm rot="251400">
                  <a:off x="-531360" y="406908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2" name="Oval 142"/>
                <p:cNvSpPr/>
                <p:nvPr/>
              </p:nvSpPr>
              <p:spPr>
                <a:xfrm rot="795000">
                  <a:off x="-587520" y="448416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573" name="Group 143"/>
              <p:cNvGrpSpPr/>
              <p:nvPr/>
            </p:nvGrpSpPr>
            <p:grpSpPr>
              <a:xfrm>
                <a:off x="-815400" y="3749040"/>
                <a:ext cx="682200" cy="542880"/>
                <a:chOff x="-815400" y="3749040"/>
                <a:chExt cx="682200" cy="542880"/>
              </a:xfrm>
            </p:grpSpPr>
            <p:sp>
              <p:nvSpPr>
                <p:cNvPr id="574" name="Freeform 144"/>
                <p:cNvSpPr/>
                <p:nvPr/>
              </p:nvSpPr>
              <p:spPr>
                <a:xfrm rot="251400">
                  <a:off x="-631440" y="403092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5" name="Freeform 145"/>
                <p:cNvSpPr/>
                <p:nvPr/>
              </p:nvSpPr>
              <p:spPr>
                <a:xfrm rot="251400">
                  <a:off x="-761040" y="404928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6" name="Freeform 146"/>
                <p:cNvSpPr/>
                <p:nvPr/>
              </p:nvSpPr>
              <p:spPr>
                <a:xfrm rot="251400">
                  <a:off x="-779040" y="397836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7" name="Freeform 147"/>
                <p:cNvSpPr/>
                <p:nvPr/>
              </p:nvSpPr>
              <p:spPr>
                <a:xfrm rot="251400">
                  <a:off x="-812160" y="394128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8" name="Freeform 148"/>
                <p:cNvSpPr/>
                <p:nvPr/>
              </p:nvSpPr>
              <p:spPr>
                <a:xfrm rot="251400">
                  <a:off x="-788400" y="391968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79" name="Freeform 149"/>
                <p:cNvSpPr/>
                <p:nvPr/>
              </p:nvSpPr>
              <p:spPr>
                <a:xfrm rot="251400">
                  <a:off x="-753120" y="39218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0" name="Freeform 150"/>
                <p:cNvSpPr/>
                <p:nvPr/>
              </p:nvSpPr>
              <p:spPr>
                <a:xfrm rot="251400">
                  <a:off x="-690840" y="385416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1" name="Freeform 151"/>
                <p:cNvSpPr/>
                <p:nvPr/>
              </p:nvSpPr>
              <p:spPr>
                <a:xfrm rot="251400">
                  <a:off x="-727200" y="38646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2" name="Freeform 152"/>
                <p:cNvSpPr/>
                <p:nvPr/>
              </p:nvSpPr>
              <p:spPr>
                <a:xfrm rot="251400">
                  <a:off x="-695160" y="390204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3" name="Freeform 153"/>
                <p:cNvSpPr/>
                <p:nvPr/>
              </p:nvSpPr>
              <p:spPr>
                <a:xfrm rot="251400">
                  <a:off x="-715320" y="380016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4" name="Line 154"/>
                <p:cNvSpPr/>
                <p:nvPr/>
              </p:nvSpPr>
              <p:spPr>
                <a:xfrm flipH="1" flipV="1">
                  <a:off x="-625320" y="3815640"/>
                  <a:ext cx="178560" cy="26928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5" name="Freeform 155"/>
                <p:cNvSpPr/>
                <p:nvPr/>
              </p:nvSpPr>
              <p:spPr>
                <a:xfrm rot="251400">
                  <a:off x="-610920" y="382320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6" name="Freeform 156"/>
                <p:cNvSpPr/>
                <p:nvPr/>
              </p:nvSpPr>
              <p:spPr>
                <a:xfrm rot="251400">
                  <a:off x="-573120" y="380520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7" name="Freeform 157"/>
                <p:cNvSpPr/>
                <p:nvPr/>
              </p:nvSpPr>
              <p:spPr>
                <a:xfrm rot="251400">
                  <a:off x="-530640" y="379152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8" name="Freeform 158"/>
                <p:cNvSpPr/>
                <p:nvPr/>
              </p:nvSpPr>
              <p:spPr>
                <a:xfrm rot="251400">
                  <a:off x="-477360" y="378648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89" name="Freeform 159"/>
                <p:cNvSpPr/>
                <p:nvPr/>
              </p:nvSpPr>
              <p:spPr>
                <a:xfrm rot="251400">
                  <a:off x="-469440" y="3750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0" name="Freeform 160"/>
                <p:cNvSpPr/>
                <p:nvPr/>
              </p:nvSpPr>
              <p:spPr>
                <a:xfrm rot="251400">
                  <a:off x="-447120" y="379512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1" name="Freeform 161"/>
                <p:cNvSpPr/>
                <p:nvPr/>
              </p:nvSpPr>
              <p:spPr>
                <a:xfrm rot="251400">
                  <a:off x="-436680" y="38325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2" name="Freeform 162"/>
                <p:cNvSpPr/>
                <p:nvPr/>
              </p:nvSpPr>
              <p:spPr>
                <a:xfrm rot="251400">
                  <a:off x="-445320" y="376488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3" name="Freeform 163"/>
                <p:cNvSpPr/>
                <p:nvPr/>
              </p:nvSpPr>
              <p:spPr>
                <a:xfrm rot="251400">
                  <a:off x="-447480" y="382464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4" name="Freeform 164"/>
                <p:cNvSpPr/>
                <p:nvPr/>
              </p:nvSpPr>
              <p:spPr>
                <a:xfrm rot="251400">
                  <a:off x="-438120" y="388548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5" name="Freeform 165"/>
                <p:cNvSpPr/>
                <p:nvPr/>
              </p:nvSpPr>
              <p:spPr>
                <a:xfrm rot="251400">
                  <a:off x="-439920" y="392112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6" name="Freeform 166"/>
                <p:cNvSpPr/>
                <p:nvPr/>
              </p:nvSpPr>
              <p:spPr>
                <a:xfrm rot="251400">
                  <a:off x="-464040" y="39326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7" name="Freeform 167"/>
                <p:cNvSpPr/>
                <p:nvPr/>
              </p:nvSpPr>
              <p:spPr>
                <a:xfrm rot="251400">
                  <a:off x="-459360" y="408636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8" name="Freeform 168"/>
                <p:cNvSpPr/>
                <p:nvPr/>
              </p:nvSpPr>
              <p:spPr>
                <a:xfrm rot="251400">
                  <a:off x="-459360" y="40896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99" name="Freeform 169"/>
                <p:cNvSpPr/>
                <p:nvPr/>
              </p:nvSpPr>
              <p:spPr>
                <a:xfrm rot="251400">
                  <a:off x="-473040" y="409824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0" name="Freeform 170"/>
                <p:cNvSpPr/>
                <p:nvPr/>
              </p:nvSpPr>
              <p:spPr>
                <a:xfrm rot="251400">
                  <a:off x="-484920" y="409644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1" name="Freeform 171"/>
                <p:cNvSpPr/>
                <p:nvPr/>
              </p:nvSpPr>
              <p:spPr>
                <a:xfrm rot="251400">
                  <a:off x="-699840" y="403956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2" name="Freeform 172"/>
                <p:cNvSpPr/>
                <p:nvPr/>
              </p:nvSpPr>
              <p:spPr>
                <a:xfrm rot="251400">
                  <a:off x="-457560" y="408096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3" name="Freeform 173"/>
                <p:cNvSpPr/>
                <p:nvPr/>
              </p:nvSpPr>
              <p:spPr>
                <a:xfrm rot="251400">
                  <a:off x="-473400" y="40888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4" name="Freeform 174"/>
                <p:cNvSpPr/>
                <p:nvPr/>
              </p:nvSpPr>
              <p:spPr>
                <a:xfrm rot="251400">
                  <a:off x="-459000" y="380448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5" name="Freeform 175"/>
                <p:cNvSpPr/>
                <p:nvPr/>
              </p:nvSpPr>
              <p:spPr>
                <a:xfrm rot="251400">
                  <a:off x="-599760" y="404388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6" name="Freeform 176"/>
                <p:cNvSpPr/>
                <p:nvPr/>
              </p:nvSpPr>
              <p:spPr>
                <a:xfrm rot="251400">
                  <a:off x="-604800" y="407808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7" name="Freeform 177"/>
                <p:cNvSpPr/>
                <p:nvPr/>
              </p:nvSpPr>
              <p:spPr>
                <a:xfrm rot="251400">
                  <a:off x="-464400" y="409860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8" name="Freeform 178"/>
                <p:cNvSpPr/>
                <p:nvPr/>
              </p:nvSpPr>
              <p:spPr>
                <a:xfrm rot="932400">
                  <a:off x="-421200" y="405540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09" name="Freeform 179"/>
                <p:cNvSpPr/>
                <p:nvPr/>
              </p:nvSpPr>
              <p:spPr>
                <a:xfrm rot="251400">
                  <a:off x="-462240" y="388836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10" name="Group 180"/>
          <p:cNvGrpSpPr/>
          <p:nvPr/>
        </p:nvGrpSpPr>
        <p:grpSpPr>
          <a:xfrm>
            <a:off x="-1427400" y="2236680"/>
            <a:ext cx="685080" cy="929880"/>
            <a:chOff x="-1427400" y="2236680"/>
            <a:chExt cx="685080" cy="929880"/>
          </a:xfrm>
        </p:grpSpPr>
        <p:sp>
          <p:nvSpPr>
            <p:cNvPr id="611" name="Freeform 181"/>
            <p:cNvSpPr/>
            <p:nvPr/>
          </p:nvSpPr>
          <p:spPr>
            <a:xfrm rot="399000">
              <a:off x="-1056600" y="2523600"/>
              <a:ext cx="104760" cy="2304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760" bIns="-2376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12" name="Group 182"/>
            <p:cNvGrpSpPr/>
            <p:nvPr/>
          </p:nvGrpSpPr>
          <p:grpSpPr>
            <a:xfrm>
              <a:off x="-1427400" y="2236680"/>
              <a:ext cx="685080" cy="929880"/>
              <a:chOff x="-1427400" y="2236680"/>
              <a:chExt cx="685080" cy="929880"/>
            </a:xfrm>
          </p:grpSpPr>
          <p:grpSp>
            <p:nvGrpSpPr>
              <p:cNvPr id="613" name="Group 183"/>
              <p:cNvGrpSpPr/>
              <p:nvPr/>
            </p:nvGrpSpPr>
            <p:grpSpPr>
              <a:xfrm>
                <a:off x="-1250280" y="2495160"/>
                <a:ext cx="219600" cy="671400"/>
                <a:chOff x="-1250280" y="2495160"/>
                <a:chExt cx="219600" cy="671400"/>
              </a:xfrm>
            </p:grpSpPr>
            <p:sp>
              <p:nvSpPr>
                <p:cNvPr id="614" name="AutoShape 184"/>
                <p:cNvSpPr/>
                <p:nvPr/>
              </p:nvSpPr>
              <p:spPr>
                <a:xfrm rot="399000">
                  <a:off x="-1127160" y="2500200"/>
                  <a:ext cx="92520" cy="8100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1600" bIns="-216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5" name="Freeform 185"/>
                <p:cNvSpPr/>
                <p:nvPr/>
              </p:nvSpPr>
              <p:spPr>
                <a:xfrm rot="399000">
                  <a:off x="-1154880" y="2553840"/>
                  <a:ext cx="47160" cy="44460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6" name="Oval 186"/>
                <p:cNvSpPr/>
                <p:nvPr/>
              </p:nvSpPr>
              <p:spPr>
                <a:xfrm rot="942600">
                  <a:off x="-1224000" y="2966400"/>
                  <a:ext cx="46440" cy="19764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17" name="Group 187"/>
              <p:cNvGrpSpPr/>
              <p:nvPr/>
            </p:nvGrpSpPr>
            <p:grpSpPr>
              <a:xfrm>
                <a:off x="-1427400" y="2236680"/>
                <a:ext cx="685080" cy="541080"/>
                <a:chOff x="-1427400" y="2236680"/>
                <a:chExt cx="685080" cy="541080"/>
              </a:xfrm>
            </p:grpSpPr>
            <p:sp>
              <p:nvSpPr>
                <p:cNvPr id="618" name="Freeform 188"/>
                <p:cNvSpPr/>
                <p:nvPr/>
              </p:nvSpPr>
              <p:spPr>
                <a:xfrm rot="399000">
                  <a:off x="-1245600" y="2513880"/>
                  <a:ext cx="162000" cy="7740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0600" bIns="306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19" name="Freeform 189"/>
                <p:cNvSpPr/>
                <p:nvPr/>
              </p:nvSpPr>
              <p:spPr>
                <a:xfrm rot="399000">
                  <a:off x="-1375560" y="2529000"/>
                  <a:ext cx="279360" cy="6948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0" name="Freeform 190"/>
                <p:cNvSpPr/>
                <p:nvPr/>
              </p:nvSpPr>
              <p:spPr>
                <a:xfrm rot="399000">
                  <a:off x="-1390320" y="2458080"/>
                  <a:ext cx="290880" cy="6948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1" name="Freeform 191"/>
                <p:cNvSpPr/>
                <p:nvPr/>
              </p:nvSpPr>
              <p:spPr>
                <a:xfrm rot="399000">
                  <a:off x="-1422720" y="2419560"/>
                  <a:ext cx="302400" cy="9288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2" name="Freeform 192"/>
                <p:cNvSpPr/>
                <p:nvPr/>
              </p:nvSpPr>
              <p:spPr>
                <a:xfrm rot="399000">
                  <a:off x="-1398240" y="2399040"/>
                  <a:ext cx="300600" cy="1180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3" name="Freeform 193"/>
                <p:cNvSpPr/>
                <p:nvPr/>
              </p:nvSpPr>
              <p:spPr>
                <a:xfrm rot="399000">
                  <a:off x="-1363680" y="2402640"/>
                  <a:ext cx="290880" cy="11592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4" name="Freeform 194"/>
                <p:cNvSpPr/>
                <p:nvPr/>
              </p:nvSpPr>
              <p:spPr>
                <a:xfrm rot="399000">
                  <a:off x="-1299960" y="2336040"/>
                  <a:ext cx="219600" cy="1854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5" name="Freeform 195"/>
                <p:cNvSpPr/>
                <p:nvPr/>
              </p:nvSpPr>
              <p:spPr>
                <a:xfrm rot="399000">
                  <a:off x="-1336320" y="234540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6" name="Freeform 196"/>
                <p:cNvSpPr/>
                <p:nvPr/>
              </p:nvSpPr>
              <p:spPr>
                <a:xfrm rot="399000">
                  <a:off x="-1305720" y="2384280"/>
                  <a:ext cx="255960" cy="1627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7" name="Freeform 197"/>
                <p:cNvSpPr/>
                <p:nvPr/>
              </p:nvSpPr>
              <p:spPr>
                <a:xfrm rot="399000">
                  <a:off x="-1323360" y="2282040"/>
                  <a:ext cx="269280" cy="25092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8" name="Line 198"/>
                <p:cNvSpPr/>
                <p:nvPr/>
              </p:nvSpPr>
              <p:spPr>
                <a:xfrm flipH="1" flipV="1">
                  <a:off x="-1228320" y="2295720"/>
                  <a:ext cx="166680" cy="27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29" name="Freeform 199"/>
                <p:cNvSpPr/>
                <p:nvPr/>
              </p:nvSpPr>
              <p:spPr>
                <a:xfrm rot="399000">
                  <a:off x="-1220040" y="2307240"/>
                  <a:ext cx="162720" cy="25560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0" name="Freeform 200"/>
                <p:cNvSpPr/>
                <p:nvPr/>
              </p:nvSpPr>
              <p:spPr>
                <a:xfrm rot="399000">
                  <a:off x="-1181520" y="2290320"/>
                  <a:ext cx="126000" cy="26280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1" name="Freeform 201"/>
                <p:cNvSpPr/>
                <p:nvPr/>
              </p:nvSpPr>
              <p:spPr>
                <a:xfrm rot="399000">
                  <a:off x="-1139040" y="2277360"/>
                  <a:ext cx="84600" cy="27828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2" name="Freeform 202"/>
                <p:cNvSpPr/>
                <p:nvPr/>
              </p:nvSpPr>
              <p:spPr>
                <a:xfrm rot="399000">
                  <a:off x="-1086120" y="2273400"/>
                  <a:ext cx="41760" cy="2973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3" name="Freeform 203"/>
                <p:cNvSpPr/>
                <p:nvPr/>
              </p:nvSpPr>
              <p:spPr>
                <a:xfrm rot="399000">
                  <a:off x="-1077120" y="2238120"/>
                  <a:ext cx="48960" cy="32256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4" name="Freeform 204"/>
                <p:cNvSpPr/>
                <p:nvPr/>
              </p:nvSpPr>
              <p:spPr>
                <a:xfrm rot="399000">
                  <a:off x="-1055880" y="2283840"/>
                  <a:ext cx="46080" cy="29052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5" name="Freeform 205"/>
                <p:cNvSpPr/>
                <p:nvPr/>
              </p:nvSpPr>
              <p:spPr>
                <a:xfrm rot="399000">
                  <a:off x="-1046160" y="2322360"/>
                  <a:ext cx="81000" cy="24408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6" name="Freeform 206"/>
                <p:cNvSpPr/>
                <p:nvPr/>
              </p:nvSpPr>
              <p:spPr>
                <a:xfrm rot="399000">
                  <a:off x="-1053000" y="2256120"/>
                  <a:ext cx="162720" cy="30204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7" name="Freeform 207"/>
                <p:cNvSpPr/>
                <p:nvPr/>
              </p:nvSpPr>
              <p:spPr>
                <a:xfrm rot="399000">
                  <a:off x="-1057320" y="2316600"/>
                  <a:ext cx="209160" cy="25560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8" name="Freeform 208"/>
                <p:cNvSpPr/>
                <p:nvPr/>
              </p:nvSpPr>
              <p:spPr>
                <a:xfrm rot="399000">
                  <a:off x="-1049400" y="2378520"/>
                  <a:ext cx="244080" cy="19764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39" name="Freeform 209"/>
                <p:cNvSpPr/>
                <p:nvPr/>
              </p:nvSpPr>
              <p:spPr>
                <a:xfrm rot="399000">
                  <a:off x="-1051200" y="2415240"/>
                  <a:ext cx="279000" cy="1627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0" name="Freeform 210"/>
                <p:cNvSpPr/>
                <p:nvPr/>
              </p:nvSpPr>
              <p:spPr>
                <a:xfrm rot="399000">
                  <a:off x="-1076040" y="2426040"/>
                  <a:ext cx="325440" cy="1627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1" name="Freeform 211"/>
                <p:cNvSpPr/>
                <p:nvPr/>
              </p:nvSpPr>
              <p:spPr>
                <a:xfrm rot="399000">
                  <a:off x="-1074960" y="2577240"/>
                  <a:ext cx="198720" cy="2196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840" bIns="-248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2" name="Freeform 212"/>
                <p:cNvSpPr/>
                <p:nvPr/>
              </p:nvSpPr>
              <p:spPr>
                <a:xfrm rot="399000">
                  <a:off x="-1074960" y="2579400"/>
                  <a:ext cx="139320" cy="3456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2240" bIns="-122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3" name="Freeform 213"/>
                <p:cNvSpPr/>
                <p:nvPr/>
              </p:nvSpPr>
              <p:spPr>
                <a:xfrm rot="399000">
                  <a:off x="-1090440" y="2586600"/>
                  <a:ext cx="92880" cy="6948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2680" bIns="22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4" name="Freeform 214"/>
                <p:cNvSpPr/>
                <p:nvPr/>
              </p:nvSpPr>
              <p:spPr>
                <a:xfrm rot="399000">
                  <a:off x="-1101960" y="2583360"/>
                  <a:ext cx="66600" cy="7812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1320" bIns="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5" name="Freeform 215"/>
                <p:cNvSpPr/>
                <p:nvPr/>
              </p:nvSpPr>
              <p:spPr>
                <a:xfrm rot="399000">
                  <a:off x="-1313280" y="2521440"/>
                  <a:ext cx="232560" cy="1836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8440" bIns="-284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6" name="Freeform 216"/>
                <p:cNvSpPr/>
                <p:nvPr/>
              </p:nvSpPr>
              <p:spPr>
                <a:xfrm rot="399000">
                  <a:off x="-1072800" y="2572920"/>
                  <a:ext cx="232560" cy="1404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2760" bIns="-32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7" name="Freeform 217"/>
                <p:cNvSpPr/>
                <p:nvPr/>
              </p:nvSpPr>
              <p:spPr>
                <a:xfrm rot="399000">
                  <a:off x="-1090440" y="2578680"/>
                  <a:ext cx="162720" cy="9288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080" bIns="46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8" name="Freeform 218"/>
                <p:cNvSpPr/>
                <p:nvPr/>
              </p:nvSpPr>
              <p:spPr>
                <a:xfrm rot="399000">
                  <a:off x="-1067760" y="2292120"/>
                  <a:ext cx="8640" cy="26748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49" name="Freeform 219"/>
                <p:cNvSpPr/>
                <p:nvPr/>
              </p:nvSpPr>
              <p:spPr>
                <a:xfrm rot="399000">
                  <a:off x="-1216080" y="2527560"/>
                  <a:ext cx="139320" cy="1512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0" name="Freeform 220"/>
                <p:cNvSpPr/>
                <p:nvPr/>
              </p:nvSpPr>
              <p:spPr>
                <a:xfrm rot="399000">
                  <a:off x="-1223640" y="2561400"/>
                  <a:ext cx="127440" cy="20952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1" name="Freeform 221"/>
                <p:cNvSpPr/>
                <p:nvPr/>
              </p:nvSpPr>
              <p:spPr>
                <a:xfrm rot="399000">
                  <a:off x="-1083960" y="2586960"/>
                  <a:ext cx="81000" cy="1742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2" name="Freeform 222"/>
                <p:cNvSpPr/>
                <p:nvPr/>
              </p:nvSpPr>
              <p:spPr>
                <a:xfrm rot="1080000">
                  <a:off x="-1035720" y="2546280"/>
                  <a:ext cx="104760" cy="2304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760" bIns="-23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3" name="Freeform 223"/>
                <p:cNvSpPr/>
                <p:nvPr/>
              </p:nvSpPr>
              <p:spPr>
                <a:xfrm rot="399000">
                  <a:off x="-1072440" y="2376720"/>
                  <a:ext cx="69840" cy="18612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654" name="Group 224"/>
          <p:cNvGrpSpPr/>
          <p:nvPr/>
        </p:nvGrpSpPr>
        <p:grpSpPr>
          <a:xfrm>
            <a:off x="-850320" y="3619080"/>
            <a:ext cx="450000" cy="645840"/>
            <a:chOff x="-850320" y="3619080"/>
            <a:chExt cx="450000" cy="645840"/>
          </a:xfrm>
        </p:grpSpPr>
        <p:sp>
          <p:nvSpPr>
            <p:cNvPr id="655" name="Freeform 225"/>
            <p:cNvSpPr/>
            <p:nvPr/>
          </p:nvSpPr>
          <p:spPr>
            <a:xfrm rot="20032800">
              <a:off x="-601200" y="3812760"/>
              <a:ext cx="71280" cy="15480"/>
            </a:xfrm>
            <a:custGeom>
              <a:avLst/>
              <a:gdLst/>
              <a:ahLst/>
              <a:rect l="l" t="t" r="r" b="b"/>
              <a:pathLst>
                <a:path w="409" h="90">
                  <a:moveTo>
                    <a:pt x="0" y="90"/>
                  </a:moveTo>
                  <a:cubicBezTo>
                    <a:pt x="36" y="85"/>
                    <a:pt x="149" y="77"/>
                    <a:pt x="217" y="62"/>
                  </a:cubicBezTo>
                  <a:lnTo>
                    <a:pt x="409" y="0"/>
                  </a:lnTo>
                </a:path>
              </a:pathLst>
            </a:custGeom>
            <a:noFill/>
            <a:ln cap="rnd" w="9360">
              <a:solidFill>
                <a:srgbClr val="ffffff"/>
              </a:solidFill>
              <a:custDash>
                <a:ds d="100000" sp="1000"/>
              </a:custDash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1320" bIns="-31320" anchor="t">
              <a:noAutofit/>
            </a:bodyPr>
            <a:p>
              <a:endParaRPr b="0" lang="en-US" sz="13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6" name="Group 226"/>
            <p:cNvGrpSpPr/>
            <p:nvPr/>
          </p:nvGrpSpPr>
          <p:grpSpPr>
            <a:xfrm>
              <a:off x="-850320" y="3619080"/>
              <a:ext cx="450000" cy="645840"/>
              <a:chOff x="-850320" y="3619080"/>
              <a:chExt cx="450000" cy="645840"/>
            </a:xfrm>
          </p:grpSpPr>
          <p:grpSp>
            <p:nvGrpSpPr>
              <p:cNvPr id="657" name="Group 227"/>
              <p:cNvGrpSpPr/>
              <p:nvPr/>
            </p:nvGrpSpPr>
            <p:grpSpPr>
              <a:xfrm>
                <a:off x="-648000" y="3813480"/>
                <a:ext cx="199800" cy="451440"/>
                <a:chOff x="-648000" y="3813480"/>
                <a:chExt cx="199800" cy="451440"/>
              </a:xfrm>
            </p:grpSpPr>
            <p:sp>
              <p:nvSpPr>
                <p:cNvPr id="658" name="AutoShape 228"/>
                <p:cNvSpPr/>
                <p:nvPr/>
              </p:nvSpPr>
              <p:spPr>
                <a:xfrm rot="20032800">
                  <a:off x="-639000" y="3824280"/>
                  <a:ext cx="63000" cy="55080"/>
                </a:xfrm>
                <a:prstGeom prst="irregularSeal1">
                  <a:avLst/>
                </a:prstGeom>
                <a:solidFill>
                  <a:srgbClr val="ffffff"/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-29520" bIns="-2952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59" name="Freeform 229"/>
                <p:cNvSpPr/>
                <p:nvPr/>
              </p:nvSpPr>
              <p:spPr>
                <a:xfrm rot="20032800">
                  <a:off x="-565560" y="3853800"/>
                  <a:ext cx="32040" cy="302040"/>
                </a:xfrm>
                <a:custGeom>
                  <a:avLst/>
                  <a:gdLst/>
                  <a:ahLst/>
                  <a:rect l="l" t="t" r="r" b="b"/>
                  <a:pathLst>
                    <a:path w="185" h="1735">
                      <a:moveTo>
                        <a:pt x="185" y="0"/>
                      </a:moveTo>
                      <a:cubicBezTo>
                        <a:pt x="174" y="126"/>
                        <a:pt x="137" y="578"/>
                        <a:pt x="120" y="757"/>
                      </a:cubicBezTo>
                      <a:lnTo>
                        <a:pt x="84" y="1075"/>
                      </a:lnTo>
                      <a:lnTo>
                        <a:pt x="0" y="1735"/>
                      </a:lnTo>
                    </a:path>
                  </a:pathLst>
                </a:custGeom>
                <a:noFill/>
                <a:ln w="11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0" name="Oval 230"/>
                <p:cNvSpPr/>
                <p:nvPr/>
              </p:nvSpPr>
              <p:spPr>
                <a:xfrm rot="20576400">
                  <a:off x="-498960" y="4128480"/>
                  <a:ext cx="31680" cy="134280"/>
                </a:xfrm>
                <a:prstGeom prst="ellipse">
                  <a:avLst/>
                </a:prstGeom>
                <a:solidFill>
                  <a:srgbClr val="ffffff">
                    <a:alpha val="86000"/>
                  </a:srgbClr>
                </a:solidFill>
                <a:ln w="936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661" name="Group 231"/>
              <p:cNvGrpSpPr/>
              <p:nvPr/>
            </p:nvGrpSpPr>
            <p:grpSpPr>
              <a:xfrm>
                <a:off x="-850320" y="3619080"/>
                <a:ext cx="450000" cy="416880"/>
                <a:chOff x="-850320" y="3619080"/>
                <a:chExt cx="450000" cy="416880"/>
              </a:xfrm>
            </p:grpSpPr>
            <p:sp>
              <p:nvSpPr>
                <p:cNvPr id="662" name="Freeform 232"/>
                <p:cNvSpPr/>
                <p:nvPr/>
              </p:nvSpPr>
              <p:spPr>
                <a:xfrm rot="20032800">
                  <a:off x="-706320" y="3863520"/>
                  <a:ext cx="110160" cy="52560"/>
                </a:xfrm>
                <a:custGeom>
                  <a:avLst/>
                  <a:gdLst/>
                  <a:ahLst/>
                  <a:rect l="l" t="t" r="r" b="b"/>
                  <a:pathLst>
                    <a:path w="632" h="303">
                      <a:moveTo>
                        <a:pt x="544" y="303"/>
                      </a:moveTo>
                      <a:cubicBezTo>
                        <a:pt x="553" y="278"/>
                        <a:pt x="593" y="184"/>
                        <a:pt x="598" y="153"/>
                      </a:cubicBezTo>
                      <a:cubicBezTo>
                        <a:pt x="603" y="122"/>
                        <a:pt x="632" y="137"/>
                        <a:pt x="574" y="117"/>
                      </a:cubicBezTo>
                      <a:cubicBezTo>
                        <a:pt x="516" y="97"/>
                        <a:pt x="346" y="0"/>
                        <a:pt x="250" y="31"/>
                      </a:cubicBezTo>
                      <a:cubicBezTo>
                        <a:pt x="154" y="62"/>
                        <a:pt x="52" y="245"/>
                        <a:pt x="0" y="303"/>
                      </a:cubicBezTo>
                    </a:path>
                  </a:pathLst>
                </a:custGeom>
                <a:noFill/>
                <a:ln cap="rnd" w="144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5760" bIns="57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3" name="Freeform 233"/>
                <p:cNvSpPr/>
                <p:nvPr/>
              </p:nvSpPr>
              <p:spPr>
                <a:xfrm rot="20032800">
                  <a:off x="-783000" y="3898800"/>
                  <a:ext cx="189720" cy="47160"/>
                </a:xfrm>
                <a:custGeom>
                  <a:avLst/>
                  <a:gdLst/>
                  <a:ahLst/>
                  <a:rect l="l" t="t" r="r" b="b"/>
                  <a:pathLst>
                    <a:path w="1089" h="272">
                      <a:moveTo>
                        <a:pt x="1089" y="0"/>
                      </a:moveTo>
                      <a:cubicBezTo>
                        <a:pt x="988" y="18"/>
                        <a:pt x="663" y="64"/>
                        <a:pt x="482" y="109"/>
                      </a:cubicBezTo>
                      <a:cubicBezTo>
                        <a:pt x="301" y="154"/>
                        <a:pt x="100" y="238"/>
                        <a:pt x="0" y="2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4" name="Freeform 234"/>
                <p:cNvSpPr/>
                <p:nvPr/>
              </p:nvSpPr>
              <p:spPr>
                <a:xfrm rot="20032800">
                  <a:off x="-817920" y="3861360"/>
                  <a:ext cx="197640" cy="47160"/>
                </a:xfrm>
                <a:custGeom>
                  <a:avLst/>
                  <a:gdLst/>
                  <a:ahLst/>
                  <a:rect l="l" t="t" r="r" b="b"/>
                  <a:pathLst>
                    <a:path w="1134" h="272">
                      <a:moveTo>
                        <a:pt x="1134" y="272"/>
                      </a:moveTo>
                      <a:cubicBezTo>
                        <a:pt x="1024" y="241"/>
                        <a:pt x="663" y="129"/>
                        <a:pt x="474" y="84"/>
                      </a:cubicBezTo>
                      <a:cubicBezTo>
                        <a:pt x="285" y="39"/>
                        <a:pt x="99" y="1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5" name="Freeform 235"/>
                <p:cNvSpPr/>
                <p:nvPr/>
              </p:nvSpPr>
              <p:spPr>
                <a:xfrm rot="20032800">
                  <a:off x="-846720" y="3848040"/>
                  <a:ext cx="205560" cy="63000"/>
                </a:xfrm>
                <a:custGeom>
                  <a:avLst/>
                  <a:gdLst/>
                  <a:ahLst/>
                  <a:rect l="l" t="t" r="r" b="b"/>
                  <a:pathLst>
                    <a:path w="1180" h="363">
                      <a:moveTo>
                        <a:pt x="1180" y="363"/>
                      </a:moveTo>
                      <a:cubicBezTo>
                        <a:pt x="1067" y="321"/>
                        <a:pt x="699" y="172"/>
                        <a:pt x="502" y="112"/>
                      </a:cubicBezTo>
                      <a:cubicBezTo>
                        <a:pt x="305" y="52"/>
                        <a:pt x="105" y="23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6" name="Freeform 236"/>
                <p:cNvSpPr/>
                <p:nvPr/>
              </p:nvSpPr>
              <p:spPr>
                <a:xfrm rot="20032800">
                  <a:off x="-835200" y="3826080"/>
                  <a:ext cx="204480" cy="80280"/>
                </a:xfrm>
                <a:custGeom>
                  <a:avLst/>
                  <a:gdLst/>
                  <a:ahLst/>
                  <a:rect l="l" t="t" r="r" b="b"/>
                  <a:pathLst>
                    <a:path w="1173" h="461">
                      <a:moveTo>
                        <a:pt x="1173" y="461"/>
                      </a:moveTo>
                      <a:cubicBezTo>
                        <a:pt x="1088" y="425"/>
                        <a:pt x="862" y="323"/>
                        <a:pt x="666" y="246"/>
                      </a:cubicBezTo>
                      <a:cubicBezTo>
                        <a:pt x="470" y="169"/>
                        <a:pt x="139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3480" bIns="33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7" name="Freeform 237"/>
                <p:cNvSpPr/>
                <p:nvPr/>
              </p:nvSpPr>
              <p:spPr>
                <a:xfrm rot="20032800">
                  <a:off x="-814320" y="3817080"/>
                  <a:ext cx="197640" cy="78840"/>
                </a:xfrm>
                <a:custGeom>
                  <a:avLst/>
                  <a:gdLst/>
                  <a:ahLst/>
                  <a:rect l="l" t="t" r="r" b="b"/>
                  <a:pathLst>
                    <a:path w="1134" h="453">
                      <a:moveTo>
                        <a:pt x="1134" y="453"/>
                      </a:moveTo>
                      <a:cubicBezTo>
                        <a:pt x="1034" y="407"/>
                        <a:pt x="722" y="254"/>
                        <a:pt x="533" y="178"/>
                      </a:cubicBezTo>
                      <a:cubicBezTo>
                        <a:pt x="344" y="102"/>
                        <a:pt x="111" y="37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2040" bIns="3204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8" name="Freeform 238"/>
                <p:cNvSpPr/>
                <p:nvPr/>
              </p:nvSpPr>
              <p:spPr>
                <a:xfrm rot="20032800">
                  <a:off x="-786240" y="3764880"/>
                  <a:ext cx="149040" cy="126000"/>
                </a:xfrm>
                <a:custGeom>
                  <a:avLst/>
                  <a:gdLst/>
                  <a:ahLst/>
                  <a:rect l="l" t="t" r="r" b="b"/>
                  <a:pathLst>
                    <a:path w="856" h="724">
                      <a:moveTo>
                        <a:pt x="856" y="724"/>
                      </a:moveTo>
                      <a:lnTo>
                        <a:pt x="372" y="234"/>
                      </a:lnTo>
                      <a:cubicBezTo>
                        <a:pt x="229" y="113"/>
                        <a:pt x="77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69" name="Freeform 239"/>
                <p:cNvSpPr/>
                <p:nvPr/>
              </p:nvSpPr>
              <p:spPr>
                <a:xfrm rot="20032800">
                  <a:off x="-809280" y="37785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lnTo>
                        <a:pt x="220" y="111"/>
                      </a:lnTo>
                      <a:lnTo>
                        <a:pt x="0" y="0"/>
                      </a:ln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0" name="Freeform 240"/>
                <p:cNvSpPr/>
                <p:nvPr/>
              </p:nvSpPr>
              <p:spPr>
                <a:xfrm rot="20032800">
                  <a:off x="-777960" y="3789360"/>
                  <a:ext cx="173880" cy="110520"/>
                </a:xfrm>
                <a:custGeom>
                  <a:avLst/>
                  <a:gdLst/>
                  <a:ahLst/>
                  <a:rect l="l" t="t" r="r" b="b"/>
                  <a:pathLst>
                    <a:path w="998" h="635">
                      <a:moveTo>
                        <a:pt x="998" y="635"/>
                      </a:moveTo>
                      <a:cubicBezTo>
                        <a:pt x="882" y="554"/>
                        <a:pt x="466" y="255"/>
                        <a:pt x="300" y="149"/>
                      </a:cubicBezTo>
                      <a:cubicBezTo>
                        <a:pt x="134" y="43"/>
                        <a:pt x="62" y="3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1" name="Freeform 241"/>
                <p:cNvSpPr/>
                <p:nvPr/>
              </p:nvSpPr>
              <p:spPr>
                <a:xfrm rot="20032800">
                  <a:off x="-809640" y="3730320"/>
                  <a:ext cx="182880" cy="170640"/>
                </a:xfrm>
                <a:custGeom>
                  <a:avLst/>
                  <a:gdLst/>
                  <a:ahLst/>
                  <a:rect l="l" t="t" r="r" b="b"/>
                  <a:pathLst>
                    <a:path w="1050" h="980">
                      <a:moveTo>
                        <a:pt x="1050" y="980"/>
                      </a:moveTo>
                      <a:lnTo>
                        <a:pt x="378" y="234"/>
                      </a:lnTo>
                      <a:cubicBezTo>
                        <a:pt x="203" y="71"/>
                        <a:pt x="79" y="49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2" name="Line 242"/>
                <p:cNvSpPr/>
                <p:nvPr/>
              </p:nvSpPr>
              <p:spPr>
                <a:xfrm flipH="1" flipV="1">
                  <a:off x="-782280" y="3766320"/>
                  <a:ext cx="196920" cy="96840"/>
                </a:xfrm>
                <a:prstGeom prst="line">
                  <a:avLst/>
                </a:prstGeom>
                <a:ln w="2520">
                  <a:solidFill>
                    <a:srgbClr val="ffffff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3" name="Freeform 243"/>
                <p:cNvSpPr/>
                <p:nvPr/>
              </p:nvSpPr>
              <p:spPr>
                <a:xfrm rot="20032800">
                  <a:off x="-734760" y="3726000"/>
                  <a:ext cx="110520" cy="173520"/>
                </a:xfrm>
                <a:custGeom>
                  <a:avLst/>
                  <a:gdLst/>
                  <a:ahLst/>
                  <a:rect l="l" t="t" r="r" b="b"/>
                  <a:pathLst>
                    <a:path w="635" h="997">
                      <a:moveTo>
                        <a:pt x="635" y="997"/>
                      </a:moveTo>
                      <a:cubicBezTo>
                        <a:pt x="569" y="887"/>
                        <a:pt x="345" y="500"/>
                        <a:pt x="239" y="334"/>
                      </a:cubicBezTo>
                      <a:cubicBezTo>
                        <a:pt x="133" y="168"/>
                        <a:pt x="50" y="7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4" name="Freeform 244"/>
                <p:cNvSpPr/>
                <p:nvPr/>
              </p:nvSpPr>
              <p:spPr>
                <a:xfrm rot="20032800">
                  <a:off x="-715680" y="3708720"/>
                  <a:ext cx="85680" cy="178560"/>
                </a:xfrm>
                <a:custGeom>
                  <a:avLst/>
                  <a:gdLst/>
                  <a:ahLst/>
                  <a:rect l="l" t="t" r="r" b="b"/>
                  <a:pathLst>
                    <a:path w="492" h="1026">
                      <a:moveTo>
                        <a:pt x="492" y="1026"/>
                      </a:moveTo>
                      <a:cubicBezTo>
                        <a:pt x="452" y="924"/>
                        <a:pt x="334" y="585"/>
                        <a:pt x="252" y="414"/>
                      </a:cubicBezTo>
                      <a:cubicBezTo>
                        <a:pt x="170" y="243"/>
                        <a:pt x="53" y="8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5" name="Freeform 245"/>
                <p:cNvSpPr/>
                <p:nvPr/>
              </p:nvSpPr>
              <p:spPr>
                <a:xfrm rot="20032800">
                  <a:off x="-690840" y="3692520"/>
                  <a:ext cx="57240" cy="189000"/>
                </a:xfrm>
                <a:custGeom>
                  <a:avLst/>
                  <a:gdLst/>
                  <a:ahLst/>
                  <a:rect l="l" t="t" r="r" b="b"/>
                  <a:pathLst>
                    <a:path w="330" h="1086">
                      <a:moveTo>
                        <a:pt x="330" y="1086"/>
                      </a:moveTo>
                      <a:cubicBezTo>
                        <a:pt x="302" y="966"/>
                        <a:pt x="217" y="547"/>
                        <a:pt x="162" y="366"/>
                      </a:cubicBezTo>
                      <a:cubicBezTo>
                        <a:pt x="107" y="185"/>
                        <a:pt x="34" y="76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6" name="Freeform 246"/>
                <p:cNvSpPr/>
                <p:nvPr/>
              </p:nvSpPr>
              <p:spPr>
                <a:xfrm rot="20032800">
                  <a:off x="-655920" y="3677040"/>
                  <a:ext cx="28440" cy="201960"/>
                </a:xfrm>
                <a:custGeom>
                  <a:avLst/>
                  <a:gdLst/>
                  <a:ahLst/>
                  <a:rect l="l" t="t" r="r" b="b"/>
                  <a:pathLst>
                    <a:path w="164" h="1160">
                      <a:moveTo>
                        <a:pt x="164" y="1160"/>
                      </a:moveTo>
                      <a:cubicBezTo>
                        <a:pt x="148" y="1008"/>
                        <a:pt x="93" y="439"/>
                        <a:pt x="66" y="246"/>
                      </a:cubicBezTo>
                      <a:cubicBezTo>
                        <a:pt x="39" y="53"/>
                        <a:pt x="14" y="51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7" name="Freeform 247"/>
                <p:cNvSpPr/>
                <p:nvPr/>
              </p:nvSpPr>
              <p:spPr>
                <a:xfrm rot="20032800">
                  <a:off x="-659880" y="3651120"/>
                  <a:ext cx="33120" cy="219240"/>
                </a:xfrm>
                <a:custGeom>
                  <a:avLst/>
                  <a:gdLst/>
                  <a:ahLst/>
                  <a:rect l="l" t="t" r="r" b="b"/>
                  <a:pathLst>
                    <a:path w="191" h="1259">
                      <a:moveTo>
                        <a:pt x="140" y="1259"/>
                      </a:moveTo>
                      <a:cubicBezTo>
                        <a:pt x="145" y="1113"/>
                        <a:pt x="191" y="594"/>
                        <a:pt x="168" y="384"/>
                      </a:cubicBezTo>
                      <a:cubicBezTo>
                        <a:pt x="145" y="174"/>
                        <a:pt x="35" y="80"/>
                        <a:pt x="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8" name="Freeform 248"/>
                <p:cNvSpPr/>
                <p:nvPr/>
              </p:nvSpPr>
              <p:spPr>
                <a:xfrm rot="20032800">
                  <a:off x="-636840" y="3671640"/>
                  <a:ext cx="31320" cy="197640"/>
                </a:xfrm>
                <a:custGeom>
                  <a:avLst/>
                  <a:gdLst/>
                  <a:ahLst/>
                  <a:rect l="l" t="t" r="r" b="b"/>
                  <a:pathLst>
                    <a:path w="181" h="1134">
                      <a:moveTo>
                        <a:pt x="0" y="1134"/>
                      </a:moveTo>
                      <a:cubicBezTo>
                        <a:pt x="19" y="988"/>
                        <a:pt x="85" y="445"/>
                        <a:pt x="115" y="256"/>
                      </a:cubicBezTo>
                      <a:cubicBezTo>
                        <a:pt x="145" y="67"/>
                        <a:pt x="167" y="53"/>
                        <a:pt x="181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79" name="Freeform 249"/>
                <p:cNvSpPr/>
                <p:nvPr/>
              </p:nvSpPr>
              <p:spPr>
                <a:xfrm rot="20032800">
                  <a:off x="-627480" y="3686040"/>
                  <a:ext cx="55080" cy="1659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0" name="Freeform 250"/>
                <p:cNvSpPr/>
                <p:nvPr/>
              </p:nvSpPr>
              <p:spPr>
                <a:xfrm rot="20032800">
                  <a:off x="-649800" y="3632760"/>
                  <a:ext cx="110520" cy="205200"/>
                </a:xfrm>
                <a:custGeom>
                  <a:avLst/>
                  <a:gdLst/>
                  <a:ahLst/>
                  <a:rect l="l" t="t" r="r" b="b"/>
                  <a:pathLst>
                    <a:path w="635" h="1179">
                      <a:moveTo>
                        <a:pt x="0" y="1179"/>
                      </a:moveTo>
                      <a:cubicBezTo>
                        <a:pt x="70" y="1066"/>
                        <a:pt x="315" y="697"/>
                        <a:pt x="421" y="501"/>
                      </a:cubicBezTo>
                      <a:cubicBezTo>
                        <a:pt x="527" y="305"/>
                        <a:pt x="591" y="105"/>
                        <a:pt x="635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1" name="Freeform 251"/>
                <p:cNvSpPr/>
                <p:nvPr/>
              </p:nvSpPr>
              <p:spPr>
                <a:xfrm rot="20032800">
                  <a:off x="-640440" y="3663000"/>
                  <a:ext cx="142200" cy="173880"/>
                </a:xfrm>
                <a:custGeom>
                  <a:avLst/>
                  <a:gdLst/>
                  <a:ahLst/>
                  <a:rect l="l" t="t" r="r" b="b"/>
                  <a:pathLst>
                    <a:path w="816" h="998">
                      <a:moveTo>
                        <a:pt x="0" y="998"/>
                      </a:moveTo>
                      <a:cubicBezTo>
                        <a:pt x="102" y="891"/>
                        <a:pt x="477" y="523"/>
                        <a:pt x="613" y="357"/>
                      </a:cubicBezTo>
                      <a:cubicBezTo>
                        <a:pt x="749" y="191"/>
                        <a:pt x="774" y="75"/>
                        <a:pt x="816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2" name="Freeform 252"/>
                <p:cNvSpPr/>
                <p:nvPr/>
              </p:nvSpPr>
              <p:spPr>
                <a:xfrm rot="20032800">
                  <a:off x="-626040" y="3691800"/>
                  <a:ext cx="165960" cy="134280"/>
                </a:xfrm>
                <a:custGeom>
                  <a:avLst/>
                  <a:gdLst/>
                  <a:ahLst/>
                  <a:rect l="l" t="t" r="r" b="b"/>
                  <a:pathLst>
                    <a:path w="952" h="771">
                      <a:moveTo>
                        <a:pt x="0" y="771"/>
                      </a:moveTo>
                      <a:cubicBezTo>
                        <a:pt x="91" y="704"/>
                        <a:pt x="385" y="497"/>
                        <a:pt x="544" y="369"/>
                      </a:cubicBezTo>
                      <a:cubicBezTo>
                        <a:pt x="703" y="241"/>
                        <a:pt x="867" y="77"/>
                        <a:pt x="952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3" name="Freeform 253"/>
                <p:cNvSpPr/>
                <p:nvPr/>
              </p:nvSpPr>
              <p:spPr>
                <a:xfrm rot="20032800">
                  <a:off x="-622080" y="3709080"/>
                  <a:ext cx="189720" cy="110520"/>
                </a:xfrm>
                <a:custGeom>
                  <a:avLst/>
                  <a:gdLst/>
                  <a:ahLst/>
                  <a:rect l="l" t="t" r="r" b="b"/>
                  <a:pathLst>
                    <a:path w="1088" h="635">
                      <a:moveTo>
                        <a:pt x="0" y="635"/>
                      </a:moveTo>
                      <a:cubicBezTo>
                        <a:pt x="109" y="581"/>
                        <a:pt x="471" y="417"/>
                        <a:pt x="652" y="311"/>
                      </a:cubicBezTo>
                      <a:cubicBezTo>
                        <a:pt x="833" y="205"/>
                        <a:pt x="997" y="65"/>
                        <a:pt x="1088" y="0"/>
                      </a:cubicBezTo>
                    </a:path>
                  </a:pathLst>
                </a:custGeom>
                <a:noFill/>
                <a:ln w="648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4" name="Freeform 254"/>
                <p:cNvSpPr/>
                <p:nvPr/>
              </p:nvSpPr>
              <p:spPr>
                <a:xfrm rot="20032800">
                  <a:off x="-634320" y="3715560"/>
                  <a:ext cx="221400" cy="110520"/>
                </a:xfrm>
                <a:custGeom>
                  <a:avLst/>
                  <a:gdLst/>
                  <a:ahLst/>
                  <a:rect l="l" t="t" r="r" b="b"/>
                  <a:pathLst>
                    <a:path w="1270" h="635">
                      <a:moveTo>
                        <a:pt x="0" y="635"/>
                      </a:moveTo>
                      <a:cubicBezTo>
                        <a:pt x="120" y="588"/>
                        <a:pt x="537" y="430"/>
                        <a:pt x="719" y="352"/>
                      </a:cubicBezTo>
                      <a:cubicBezTo>
                        <a:pt x="901" y="274"/>
                        <a:pt x="999" y="225"/>
                        <a:pt x="1091" y="166"/>
                      </a:cubicBezTo>
                      <a:cubicBezTo>
                        <a:pt x="1183" y="107"/>
                        <a:pt x="1233" y="35"/>
                        <a:pt x="1270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5" name="Freeform 255"/>
                <p:cNvSpPr/>
                <p:nvPr/>
              </p:nvSpPr>
              <p:spPr>
                <a:xfrm rot="20032800">
                  <a:off x="-597240" y="3832920"/>
                  <a:ext cx="135360" cy="15120"/>
                </a:xfrm>
                <a:custGeom>
                  <a:avLst/>
                  <a:gdLst/>
                  <a:ahLst/>
                  <a:rect l="l" t="t" r="r" b="b"/>
                  <a:pathLst>
                    <a:path w="776" h="87">
                      <a:moveTo>
                        <a:pt x="0" y="0"/>
                      </a:moveTo>
                      <a:cubicBezTo>
                        <a:pt x="63" y="14"/>
                        <a:pt x="255" y="81"/>
                        <a:pt x="384" y="84"/>
                      </a:cubicBezTo>
                      <a:cubicBezTo>
                        <a:pt x="513" y="87"/>
                        <a:pt x="694" y="33"/>
                        <a:pt x="776" y="2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680" bIns="-316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6" name="Freeform 256"/>
                <p:cNvSpPr/>
                <p:nvPr/>
              </p:nvSpPr>
              <p:spPr>
                <a:xfrm rot="20032800">
                  <a:off x="-591480" y="3844080"/>
                  <a:ext cx="94680" cy="23400"/>
                </a:xfrm>
                <a:custGeom>
                  <a:avLst/>
                  <a:gdLst/>
                  <a:ahLst/>
                  <a:rect l="l" t="t" r="r" b="b"/>
                  <a:pathLst>
                    <a:path w="544" h="135">
                      <a:moveTo>
                        <a:pt x="0" y="0"/>
                      </a:moveTo>
                      <a:lnTo>
                        <a:pt x="289" y="99"/>
                      </a:lnTo>
                      <a:cubicBezTo>
                        <a:pt x="380" y="121"/>
                        <a:pt x="491" y="128"/>
                        <a:pt x="544" y="13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3400" bIns="-234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7" name="Freeform 257"/>
                <p:cNvSpPr/>
                <p:nvPr/>
              </p:nvSpPr>
              <p:spPr>
                <a:xfrm rot="20032800">
                  <a:off x="-588240" y="3860640"/>
                  <a:ext cx="63000" cy="47160"/>
                </a:xfrm>
                <a:custGeom>
                  <a:avLst/>
                  <a:gdLst/>
                  <a:ahLst/>
                  <a:rect l="l" t="t" r="r" b="b"/>
                  <a:pathLst>
                    <a:path w="363" h="272">
                      <a:moveTo>
                        <a:pt x="0" y="0"/>
                      </a:moveTo>
                      <a:cubicBezTo>
                        <a:pt x="34" y="32"/>
                        <a:pt x="143" y="147"/>
                        <a:pt x="203" y="192"/>
                      </a:cubicBezTo>
                      <a:cubicBezTo>
                        <a:pt x="263" y="237"/>
                        <a:pt x="330" y="255"/>
                        <a:pt x="363" y="272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60" bIns="3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8" name="Freeform 258"/>
                <p:cNvSpPr/>
                <p:nvPr/>
              </p:nvSpPr>
              <p:spPr>
                <a:xfrm rot="20032800">
                  <a:off x="-592920" y="3867480"/>
                  <a:ext cx="45000" cy="53280"/>
                </a:xfrm>
                <a:custGeom>
                  <a:avLst/>
                  <a:gdLst/>
                  <a:ahLst/>
                  <a:rect l="l" t="t" r="r" b="b"/>
                  <a:pathLst>
                    <a:path w="260" h="306">
                      <a:moveTo>
                        <a:pt x="0" y="0"/>
                      </a:moveTo>
                      <a:cubicBezTo>
                        <a:pt x="24" y="33"/>
                        <a:pt x="103" y="147"/>
                        <a:pt x="146" y="198"/>
                      </a:cubicBezTo>
                      <a:cubicBezTo>
                        <a:pt x="189" y="249"/>
                        <a:pt x="236" y="284"/>
                        <a:pt x="260" y="306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89" name="Freeform 259"/>
                <p:cNvSpPr/>
                <p:nvPr/>
              </p:nvSpPr>
              <p:spPr>
                <a:xfrm rot="20032800">
                  <a:off x="-756720" y="3882600"/>
                  <a:ext cx="158040" cy="12240"/>
                </a:xfrm>
                <a:custGeom>
                  <a:avLst/>
                  <a:gdLst/>
                  <a:ahLst/>
                  <a:rect l="l" t="t" r="r" b="b"/>
                  <a:pathLst>
                    <a:path w="907" h="72">
                      <a:moveTo>
                        <a:pt x="0" y="27"/>
                      </a:moveTo>
                      <a:cubicBezTo>
                        <a:pt x="55" y="24"/>
                        <a:pt x="180" y="0"/>
                        <a:pt x="331" y="7"/>
                      </a:cubicBezTo>
                      <a:cubicBezTo>
                        <a:pt x="482" y="14"/>
                        <a:pt x="787" y="59"/>
                        <a:pt x="907" y="72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4560" bIns="-3456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0" name="Freeform 260"/>
                <p:cNvSpPr/>
                <p:nvPr/>
              </p:nvSpPr>
              <p:spPr>
                <a:xfrm rot="20032800">
                  <a:off x="-601200" y="3823560"/>
                  <a:ext cx="158040" cy="9720"/>
                </a:xfrm>
                <a:custGeom>
                  <a:avLst/>
                  <a:gdLst/>
                  <a:ahLst/>
                  <a:rect l="l" t="t" r="r" b="b"/>
                  <a:pathLst>
                    <a:path w="907" h="56">
                      <a:moveTo>
                        <a:pt x="0" y="0"/>
                      </a:moveTo>
                      <a:cubicBezTo>
                        <a:pt x="86" y="8"/>
                        <a:pt x="366" y="42"/>
                        <a:pt x="517" y="49"/>
                      </a:cubicBezTo>
                      <a:cubicBezTo>
                        <a:pt x="668" y="56"/>
                        <a:pt x="826" y="46"/>
                        <a:pt x="907" y="45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7080" bIns="-3708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1" name="Freeform 261"/>
                <p:cNvSpPr/>
                <p:nvPr/>
              </p:nvSpPr>
              <p:spPr>
                <a:xfrm rot="20032800">
                  <a:off x="-590760" y="3842280"/>
                  <a:ext cx="110520" cy="63000"/>
                </a:xfrm>
                <a:custGeom>
                  <a:avLst/>
                  <a:gdLst/>
                  <a:ahLst/>
                  <a:rect l="l" t="t" r="r" b="b"/>
                  <a:pathLst>
                    <a:path w="635" h="363">
                      <a:moveTo>
                        <a:pt x="0" y="0"/>
                      </a:moveTo>
                      <a:cubicBezTo>
                        <a:pt x="57" y="40"/>
                        <a:pt x="235" y="178"/>
                        <a:pt x="341" y="238"/>
                      </a:cubicBezTo>
                      <a:cubicBezTo>
                        <a:pt x="447" y="298"/>
                        <a:pt x="574" y="337"/>
                        <a:pt x="635" y="363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6200" bIns="162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2" name="Freeform 262"/>
                <p:cNvSpPr/>
                <p:nvPr/>
              </p:nvSpPr>
              <p:spPr>
                <a:xfrm rot="20032800">
                  <a:off x="-642600" y="3688920"/>
                  <a:ext cx="5760" cy="181800"/>
                </a:xfrm>
                <a:custGeom>
                  <a:avLst/>
                  <a:gdLst/>
                  <a:ahLst/>
                  <a:rect l="l" t="t" r="r" b="b"/>
                  <a:pathLst>
                    <a:path w="35" h="1043">
                      <a:moveTo>
                        <a:pt x="0" y="0"/>
                      </a:moveTo>
                      <a:cubicBezTo>
                        <a:pt x="6" y="84"/>
                        <a:pt x="35" y="330"/>
                        <a:pt x="35" y="504"/>
                      </a:cubicBezTo>
                      <a:cubicBezTo>
                        <a:pt x="35" y="678"/>
                        <a:pt x="7" y="931"/>
                        <a:pt x="0" y="1043"/>
                      </a:cubicBezTo>
                    </a:path>
                  </a:pathLst>
                </a:custGeom>
                <a:noFill/>
                <a:ln w="936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3" name="Freeform 263"/>
                <p:cNvSpPr/>
                <p:nvPr/>
              </p:nvSpPr>
              <p:spPr>
                <a:xfrm rot="20032800">
                  <a:off x="-669240" y="3860640"/>
                  <a:ext cx="94680" cy="102600"/>
                </a:xfrm>
                <a:custGeom>
                  <a:avLst/>
                  <a:gdLst/>
                  <a:ahLst/>
                  <a:rect l="l" t="t" r="r" b="b"/>
                  <a:pathLst>
                    <a:path w="544" h="590">
                      <a:moveTo>
                        <a:pt x="544" y="0"/>
                      </a:moveTo>
                      <a:cubicBezTo>
                        <a:pt x="495" y="45"/>
                        <a:pt x="341" y="173"/>
                        <a:pt x="250" y="271"/>
                      </a:cubicBezTo>
                      <a:cubicBezTo>
                        <a:pt x="159" y="369"/>
                        <a:pt x="52" y="524"/>
                        <a:pt x="0" y="590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4" name="Freeform 264"/>
                <p:cNvSpPr/>
                <p:nvPr/>
              </p:nvSpPr>
              <p:spPr>
                <a:xfrm rot="20032800">
                  <a:off x="-650160" y="3881520"/>
                  <a:ext cx="86760" cy="142200"/>
                </a:xfrm>
                <a:custGeom>
                  <a:avLst/>
                  <a:gdLst/>
                  <a:ahLst/>
                  <a:rect l="l" t="t" r="r" b="b"/>
                  <a:pathLst>
                    <a:path w="498" h="817">
                      <a:moveTo>
                        <a:pt x="498" y="0"/>
                      </a:moveTo>
                      <a:cubicBezTo>
                        <a:pt x="455" y="58"/>
                        <a:pt x="323" y="210"/>
                        <a:pt x="240" y="346"/>
                      </a:cubicBezTo>
                      <a:cubicBezTo>
                        <a:pt x="157" y="482"/>
                        <a:pt x="50" y="719"/>
                        <a:pt x="0" y="817"/>
                      </a:cubicBezTo>
                    </a:path>
                  </a:pathLst>
                </a:custGeom>
                <a:noFill/>
                <a:ln w="144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5" name="Freeform 265"/>
                <p:cNvSpPr/>
                <p:nvPr/>
              </p:nvSpPr>
              <p:spPr>
                <a:xfrm rot="20032800">
                  <a:off x="-564480" y="3855240"/>
                  <a:ext cx="55080" cy="118440"/>
                </a:xfrm>
                <a:custGeom>
                  <a:avLst/>
                  <a:gdLst/>
                  <a:ahLst/>
                  <a:rect l="l" t="t" r="r" b="b"/>
                  <a:pathLst>
                    <a:path w="317" h="680">
                      <a:moveTo>
                        <a:pt x="0" y="0"/>
                      </a:moveTo>
                      <a:cubicBezTo>
                        <a:pt x="27" y="48"/>
                        <a:pt x="120" y="212"/>
                        <a:pt x="164" y="288"/>
                      </a:cubicBezTo>
                      <a:cubicBezTo>
                        <a:pt x="208" y="364"/>
                        <a:pt x="238" y="391"/>
                        <a:pt x="264" y="456"/>
                      </a:cubicBezTo>
                      <a:cubicBezTo>
                        <a:pt x="290" y="521"/>
                        <a:pt x="306" y="633"/>
                        <a:pt x="317" y="68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6" name="Freeform 266"/>
                <p:cNvSpPr/>
                <p:nvPr/>
              </p:nvSpPr>
              <p:spPr>
                <a:xfrm rot="20714400">
                  <a:off x="-581040" y="3818160"/>
                  <a:ext cx="71280" cy="15480"/>
                </a:xfrm>
                <a:custGeom>
                  <a:avLst/>
                  <a:gdLst/>
                  <a:ahLst/>
                  <a:rect l="l" t="t" r="r" b="b"/>
                  <a:pathLst>
                    <a:path w="409" h="90">
                      <a:moveTo>
                        <a:pt x="0" y="90"/>
                      </a:moveTo>
                      <a:cubicBezTo>
                        <a:pt x="36" y="85"/>
                        <a:pt x="149" y="77"/>
                        <a:pt x="217" y="62"/>
                      </a:cubicBezTo>
                      <a:lnTo>
                        <a:pt x="409" y="0"/>
                      </a:lnTo>
                    </a:path>
                  </a:pathLst>
                </a:custGeom>
                <a:noFill/>
                <a:ln cap="rnd" w="2520">
                  <a:solidFill>
                    <a:srgbClr val="ffffff"/>
                  </a:solidFill>
                  <a:custDash>
                    <a:ds d="100000" sp="1000"/>
                  </a:custDash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31320" bIns="-3132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697" name="Freeform 267"/>
                <p:cNvSpPr/>
                <p:nvPr/>
              </p:nvSpPr>
              <p:spPr>
                <a:xfrm rot="20032800">
                  <a:off x="-632520" y="3732480"/>
                  <a:ext cx="47520" cy="126360"/>
                </a:xfrm>
                <a:custGeom>
                  <a:avLst/>
                  <a:gdLst/>
                  <a:ahLst/>
                  <a:rect l="l" t="t" r="r" b="b"/>
                  <a:pathLst>
                    <a:path w="317" h="952">
                      <a:moveTo>
                        <a:pt x="0" y="952"/>
                      </a:moveTo>
                      <a:cubicBezTo>
                        <a:pt x="43" y="837"/>
                        <a:pt x="203" y="422"/>
                        <a:pt x="256" y="263"/>
                      </a:cubicBezTo>
                      <a:cubicBezTo>
                        <a:pt x="309" y="104"/>
                        <a:pt x="304" y="55"/>
                        <a:pt x="317" y="0"/>
                      </a:cubicBezTo>
                    </a:path>
                  </a:pathLst>
                </a:custGeom>
                <a:noFill/>
                <a:ln w="2520">
                  <a:solidFill>
                    <a:srgbClr val="ffffff"/>
                  </a:solidFill>
                  <a:round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3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p:transition advTm="30000">
    <p:fade/>
  </p:transition>
  <p:timing>
    <p:tnLst>
      <p:par>
        <p:cTn id="168" dur="indefinite" restart="never" nodeType="tmRoot">
          <p:childTnLst>
            <p:seq>
              <p:cTn id="169" dur="indefinite" nodeType="mainSeq">
                <p:childTnLst>
                  <p:par>
                    <p:cTn id="170" nodeType="clickEffect" fill="hold">
                      <p:stCondLst>
                        <p:cond delay="0"/>
                      </p:stCondLst>
                      <p:childTnLst>
                        <p:par>
                          <p:cTn id="1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4" dur="5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5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8" nodeType="withEffect" fill="hold" presetClass="path" presetID="0">
                                  <p:stCondLst>
                                    <p:cond delay="2000"/>
                                  </p:stCondLst>
                                  <p:childTnLst>
                                    <p:animMotion origin="layout" path="M 4.32194E-006 3.26087E-007 C 0.0785 -0.05876 0.25799 -0.31997 0.47166 -0.35292 C 0.68511 -0.38587 1.1129 -0.22996 1.2818 -0.19769 E">
                                      <p:cBhvr>
                                        <p:cTn id="179" dur="5000" fill="hold"/>
                                        <p:tgtEl>
                                          <p:spTgt spid="52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0" nodeType="withEffect" fill="hold" presetClass="path" presetID="0">
                                  <p:stCondLst>
                                    <p:cond delay="4000"/>
                                  </p:stCondLst>
                                  <p:childTnLst>
                                    <p:animMotion origin="layout" path="M -3.28556E-006 -3.91304E-006 C 0.08027 0.00238 0.28005 0.06896 0.48137 0.01393 C 0.68225 -0.0411 1.05513 -0.25917 1.20618 -0.33118 E">
                                      <p:cBhvr>
                                        <p:cTn id="181" dur="5000" fill="hold"/>
                                        <p:tgtEl>
                                          <p:spTgt spid="56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2" nodeType="withEffect" fill="hold" presetClass="path" presetID="0">
                                  <p:stCondLst>
                                    <p:cond delay="6000"/>
                                  </p:stCondLst>
                                  <p:childTnLst>
                                    <p:animMotion origin="layout" path="M 2.31041E-006 -5.96206E-007 C 0.08333 -0.0586 0.27315 -0.32012 0.49956 -0.35298 C 0.72531 -0.38584 1.17857 -0.23001 1.35736 -0.19783 E">
                                      <p:cBhvr>
                                        <p:cTn id="183" dur="5000" fill="hold"/>
                                        <p:tgtEl>
                                          <p:spTgt spid="61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4" nodeType="withEffect" fill="hold" presetClass="path" presetID="0">
                                  <p:stCondLst>
                                    <p:cond delay="8000"/>
                                  </p:stCondLst>
                                  <p:childTnLst>
                                    <p:animMotion origin="layout" path="M 5.51268E-007 2.6087E-006 C 0.08842 -0.02718 0.3118 -0.13417 0.5301 -0.16339 C 0.7484 -0.1926 1.14774 -0.17324 1.31025 -0.17561 E">
                                      <p:cBhvr>
                                        <p:cTn id="185" dur="5000" fill="hold"/>
                                        <p:tgtEl>
                                          <p:spTgt spid="65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186" nodeType="withEffect" fill="hold" presetClass="exit" presetID="10">
                                  <p:stCondLst>
                                    <p:cond delay="800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7" dur="3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29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5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1-12T14:20:13Z</dcterms:created>
  <dc:creator>jones keller</dc:creator>
  <dc:description/>
  <cp:keywords/>
  <dc:language>en-US</dc:language>
  <cp:lastModifiedBy>王玉清</cp:lastModifiedBy>
  <cp:lastPrinted>1899-12-30T00:00:00Z</cp:lastPrinted>
  <dcterms:modified xsi:type="dcterms:W3CDTF">2016-02-20T04:03:27Z</dcterms:modified>
  <cp:revision>1269</cp:revision>
  <dc:subject/>
  <dc:title>Folie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55</vt:lpwstr>
  </property>
</Properties>
</file>