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6AC-83DA-48D4-949E-6C924BE7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4A6-53B0-459E-ADD0-EDD05EB1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DBD-3A0F-49FC-A936-92802595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11C-C28A-48EA-A8C1-6AD27FF4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F582-906A-48B8-B2DE-F8E0917F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D658-1FF1-49C9-B019-CEBAA85E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115C-9158-4655-AA11-97419C65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E4EA-C9EA-4F50-B681-011A037D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6A8F-1BBB-46B6-B5B5-6048B4EE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2057400"/>
            <a:ext cx="914364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A6EB-F709-4867-B67E-9F9B4E16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AB61-87E4-4F02-83E4-4C394F5A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8E5-11EB-40CA-9155-7599AF44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6BB3-0039-43E7-96A5-5CB722EC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7DB5-9E94-4ABC-8118-34C80E4C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31E5-17E4-426E-B992-F5AC631F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3C18-03BE-4F65-933C-BD9AF74D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1A23-1987-4578-AB0B-F51B663E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190-4ABD-4A3F-AD5B-825859B3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93E-AEA8-494B-80CB-C10AC0F9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F8B-7534-4E23-8911-F02BF9BF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2057400"/>
            <a:ext cx="9143640" cy="25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D0F-6E0B-41EA-88B7-28B8DE2E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667-84CB-43BF-901B-303DFFFB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C41-78FA-46A3-A3C7-60DDAE75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0F1-7D0C-4153-9A9A-515D1425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galleon"/>
          <p:cNvPicPr/>
          <p:nvPr/>
        </p:nvPicPr>
        <p:blipFill>
          <a:blip r:embed="rId3"/>
          <a:stretch/>
        </p:blipFill>
        <p:spPr>
          <a:xfrm>
            <a:off x="6095880" y="3581280"/>
            <a:ext cx="3296880" cy="3428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68988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7E9F82-4358-41DC-8792-97CE8E061821}" type="slidenum">
              <a:rPr b="0" lang="en-US" sz="1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galleon"/>
          <p:cNvPicPr/>
          <p:nvPr/>
        </p:nvPicPr>
        <p:blipFill>
          <a:blip r:embed="rId3"/>
          <a:stretch/>
        </p:blipFill>
        <p:spPr>
          <a:xfrm>
            <a:off x="6095880" y="3581280"/>
            <a:ext cx="3296880" cy="342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685800"/>
            <a:ext cx="4190760" cy="5866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单击此处编辑母版文本样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第二级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第三级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第四级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第五级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648320" y="685800"/>
            <a:ext cx="4190760" cy="5866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单击此处编辑母版文本样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第二级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第三级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第四级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第五级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0" y="6661080"/>
            <a:ext cx="2133360" cy="19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7010280" y="6689880"/>
            <a:ext cx="2133360" cy="136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0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4BBDF4-88BC-4D7E-AA82-F0302770D51C}" type="slidenum">
              <a:rPr b="1" lang="en-US" sz="10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Gentle Bree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590920"/>
            <a:ext cx="914364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Your 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galleon"/>
          <p:cNvPicPr/>
          <p:nvPr/>
        </p:nvPicPr>
        <p:blipFill>
          <a:blip r:embed="rId1"/>
          <a:stretch/>
        </p:blipFill>
        <p:spPr>
          <a:xfrm>
            <a:off x="-540720" y="1196640"/>
            <a:ext cx="5541480" cy="5943240"/>
          </a:xfrm>
          <a:prstGeom prst="rect">
            <a:avLst/>
          </a:prstGeom>
          <a:ln w="0">
            <a:noFill/>
          </a:ln>
        </p:spPr>
      </p:pic>
      <p:sp>
        <p:nvSpPr>
          <p:cNvPr id="88" name="矩形 1"/>
          <p:cNvSpPr/>
          <p:nvPr/>
        </p:nvSpPr>
        <p:spPr>
          <a:xfrm>
            <a:off x="2137320" y="73332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帆船与蓝色海洋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88960" cy="5866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2590920"/>
            <a:ext cx="914364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4188960" cy="5866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3640" cy="552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6" descr="gentle_breeze_sld"/>
          <p:cNvPicPr/>
          <p:nvPr/>
        </p:nvPicPr>
        <p:blipFill>
          <a:blip r:embed="rId1"/>
          <a:stretch/>
        </p:blipFill>
        <p:spPr>
          <a:xfrm>
            <a:off x="2389320" y="152280"/>
            <a:ext cx="2128320" cy="1596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7" descr="gentle_breeze_trs"/>
          <p:cNvPicPr/>
          <p:nvPr/>
        </p:nvPicPr>
        <p:blipFill>
          <a:blip r:embed="rId2"/>
          <a:stretch/>
        </p:blipFill>
        <p:spPr>
          <a:xfrm>
            <a:off x="4626000" y="152280"/>
            <a:ext cx="2128320" cy="1596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8" descr="gentle_breeze_prt"/>
          <p:cNvPicPr/>
          <p:nvPr/>
        </p:nvPicPr>
        <p:blipFill>
          <a:blip r:embed="rId3"/>
          <a:stretch/>
        </p:blipFill>
        <p:spPr>
          <a:xfrm>
            <a:off x="6861240" y="152280"/>
            <a:ext cx="2130120" cy="159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9" descr="gentle_breeze_qx"/>
          <p:cNvPicPr/>
          <p:nvPr/>
        </p:nvPicPr>
        <p:blipFill>
          <a:blip r:embed="rId4"/>
          <a:stretch/>
        </p:blipFill>
        <p:spPr>
          <a:xfrm>
            <a:off x="152280" y="152280"/>
            <a:ext cx="2130120" cy="1596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2" descr="galleon"/>
          <p:cNvPicPr/>
          <p:nvPr/>
        </p:nvPicPr>
        <p:blipFill>
          <a:blip r:embed="rId5"/>
          <a:stretch/>
        </p:blipFill>
        <p:spPr>
          <a:xfrm>
            <a:off x="2653560" y="2675880"/>
            <a:ext cx="3836520" cy="41144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0" y="2590920"/>
            <a:ext cx="914364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/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gentle_breeze">
  <a:themeElements>
    <a:clrScheme name="silly_mi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entle_breeze">
  <a:themeElements>
    <a:clrScheme name="silly_mim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gentle_breeze</Template>
  <TotalTime>1</TotalTime>
  <Application>LibreOffice/7.4.7.2$Linux_X86_64 LibreOffice_project/40$Build-2</Application>
  <AppVersion>15.0000</AppVersion>
  <Words>35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4T05:13:50Z</dcterms:created>
  <dc:creator>YANGS</dc:creator>
  <dc:description/>
  <dc:language>en-US</dc:language>
  <cp:lastModifiedBy>王玉清</cp:lastModifiedBy>
  <dcterms:modified xsi:type="dcterms:W3CDTF">2016-02-24T02:43:35Z</dcterms:modified>
  <cp:revision>2</cp:revision>
  <dc:subject/>
  <dc:title>Gentle Breez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