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318-9224-41A1-BD23-8110A894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F90-ADD0-4E71-9A66-D7119F9B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76C-7B21-460D-A4D2-A17AF46F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131-5D99-4872-B9F2-C2965B93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9D1-F5E7-47A3-8EF2-D92011EB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323D-8529-437F-B000-C9F9765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B39-41C0-4772-B936-A21AD24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FB34-7471-4813-8A76-B1A9E249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CAB0-6522-4C54-95A2-4CE2A8C0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542B-5F76-4EBC-B8E0-642A116B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9164-137E-4134-B246-463C479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9FF-2762-4FD1-8A9E-E2E2D77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4EE-819F-4C8F-ADBE-A1FF9C5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1E1-D5C8-4AD1-B514-380FAEFC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7B5-0C59-430C-BFB5-6F698BCD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5C97-1D4F-47CF-842F-B986C95A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F51-B53B-41B9-9A8F-DFE74DC2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F343-24A6-4F19-A796-EB0A3E39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0CBD-F742-4FD6-910F-002AAACB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3803-A060-40FB-BC5C-60EE858D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0354-E463-49BC-A1A9-7250B3D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5411-98CF-49BD-BD63-252C2B4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80D-8BA3-4E73-8EB1-7B2ECFCB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4C1D-087C-48CE-A035-1DEE4D4E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B4A6-CDF7-4054-98A9-38AAD7E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1174-B6C0-4267-AF58-2FAE1DC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D2C5-C850-4E86-AC23-CB746D8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A86B-7E51-4DDE-A609-EF28FAA2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FBA5-0E53-4816-A005-4A48812A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614F-ECFD-4792-B18D-AD86A67A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710-76EA-49D9-947B-98949EB5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12A-ACA9-4CFF-AB67-C860DE52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964-8572-4798-B820-D22AF17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D0D-ED74-4656-A09C-5023B61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1FD-F2F6-462E-8840-282BEE3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F9B-C15D-422B-9362-37E9F22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ED9-2867-4C88-AF07-3917222FBD4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-23760" y="1054080"/>
            <a:ext cx="5754600" cy="8497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DD05-B3E2-4ED2-BBAC-E44575621FE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矩形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矩形 7"/>
          <p:cNvGrpSpPr/>
          <p:nvPr/>
        </p:nvGrpSpPr>
        <p:grpSpPr>
          <a:xfrm>
            <a:off x="0" y="0"/>
            <a:ext cx="9144000" cy="1268280"/>
            <a:chOff x="0" y="0"/>
            <a:chExt cx="9144000" cy="1268280"/>
          </a:xfrm>
        </p:grpSpPr>
        <p:pic>
          <p:nvPicPr>
            <p:cNvPr id="90" name="矩形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图片 8" descr=""/>
          <p:cNvPicPr/>
          <p:nvPr/>
        </p:nvPicPr>
        <p:blipFill>
          <a:blip r:embed="rId4"/>
          <a:stretch/>
        </p:blipFill>
        <p:spPr>
          <a:xfrm>
            <a:off x="-122400" y="-23760"/>
            <a:ext cx="1676520" cy="244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St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C7E-23F1-47DF-9786-E1E484B8FC1D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357280"/>
            <a:ext cx="856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rush Script Std"/>
              </a:rPr>
              <a:t>粉红色调主调通用</a:t>
            </a:r>
            <a:r>
              <a:rPr b="1" lang="en-US" sz="4000" spc="-1" strike="noStrike">
                <a:solidFill>
                  <a:srgbClr val="000000"/>
                </a:solidFill>
                <a:latin typeface="Brush Script Std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Brush Script Std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70167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点此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684360" y="507960"/>
            <a:ext cx="1150920" cy="360360"/>
          </a:xfrm>
          <a:prstGeom prst="rect">
            <a:avLst/>
          </a:prstGeom>
          <a:noFill/>
          <a:ln w="12600">
            <a:solidFill>
              <a:srgbClr val="0d0d0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417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ush Script Std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  <p:grpSp>
        <p:nvGrpSpPr>
          <p:cNvPr id="139" name="组合 19"/>
          <p:cNvGrpSpPr/>
          <p:nvPr/>
        </p:nvGrpSpPr>
        <p:grpSpPr>
          <a:xfrm>
            <a:off x="2673360" y="2303640"/>
            <a:ext cx="4330800" cy="850680"/>
            <a:chOff x="2673360" y="2303640"/>
            <a:chExt cx="4330800" cy="850680"/>
          </a:xfrm>
        </p:grpSpPr>
        <p:pic>
          <p:nvPicPr>
            <p:cNvPr id="140" name="圆角矩形 18" descr=""/>
            <p:cNvPicPr/>
            <p:nvPr/>
          </p:nvPicPr>
          <p:blipFill>
            <a:blip r:embed="rId1"/>
            <a:stretch/>
          </p:blipFill>
          <p:spPr>
            <a:xfrm>
              <a:off x="3150000" y="2457720"/>
              <a:ext cx="3854160" cy="69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14" descr=""/>
            <p:cNvPicPr/>
            <p:nvPr/>
          </p:nvPicPr>
          <p:blipFill>
            <a:blip r:embed="rId2"/>
            <a:stretch/>
          </p:blipFill>
          <p:spPr>
            <a:xfrm>
              <a:off x="2673360" y="2303640"/>
              <a:ext cx="80856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5"/>
            <p:cNvSpPr/>
            <p:nvPr/>
          </p:nvSpPr>
          <p:spPr>
            <a:xfrm>
              <a:off x="2861640" y="244368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c7e4"/>
                  </a:solidFill>
                  <a:latin typeface="方正大黑简体"/>
                  <a:ea typeface="方正大黑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6"/>
            <p:cNvSpPr/>
            <p:nvPr/>
          </p:nvSpPr>
          <p:spPr>
            <a:xfrm>
              <a:off x="3369600" y="2494440"/>
              <a:ext cx="32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20"/>
          <p:cNvGrpSpPr/>
          <p:nvPr/>
        </p:nvGrpSpPr>
        <p:grpSpPr>
          <a:xfrm>
            <a:off x="2673360" y="3230640"/>
            <a:ext cx="4330800" cy="852480"/>
            <a:chOff x="2673360" y="3230640"/>
            <a:chExt cx="4330800" cy="852480"/>
          </a:xfrm>
        </p:grpSpPr>
        <p:pic>
          <p:nvPicPr>
            <p:cNvPr id="145" name="圆角矩形 21" descr=""/>
            <p:cNvPicPr/>
            <p:nvPr/>
          </p:nvPicPr>
          <p:blipFill>
            <a:blip r:embed="rId3"/>
            <a:stretch/>
          </p:blipFill>
          <p:spPr>
            <a:xfrm>
              <a:off x="3150000" y="3390120"/>
              <a:ext cx="3854160" cy="6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图片 22" descr=""/>
            <p:cNvPicPr/>
            <p:nvPr/>
          </p:nvPicPr>
          <p:blipFill>
            <a:blip r:embed="rId4"/>
            <a:stretch/>
          </p:blipFill>
          <p:spPr>
            <a:xfrm>
              <a:off x="2673360" y="3230640"/>
              <a:ext cx="808560" cy="63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23"/>
            <p:cNvSpPr/>
            <p:nvPr/>
          </p:nvSpPr>
          <p:spPr>
            <a:xfrm>
              <a:off x="2861640" y="337284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c7e4"/>
                  </a:solidFill>
                  <a:latin typeface="方正大黑简体"/>
                  <a:ea typeface="方正大黑简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Box 24"/>
            <p:cNvSpPr/>
            <p:nvPr/>
          </p:nvSpPr>
          <p:spPr>
            <a:xfrm>
              <a:off x="3369600" y="3422880"/>
              <a:ext cx="32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25"/>
          <p:cNvGrpSpPr/>
          <p:nvPr/>
        </p:nvGrpSpPr>
        <p:grpSpPr>
          <a:xfrm>
            <a:off x="2673360" y="4157640"/>
            <a:ext cx="4330800" cy="852480"/>
            <a:chOff x="2673360" y="4157640"/>
            <a:chExt cx="4330800" cy="852480"/>
          </a:xfrm>
        </p:grpSpPr>
        <p:pic>
          <p:nvPicPr>
            <p:cNvPr id="150" name="圆角矩形 26" descr=""/>
            <p:cNvPicPr/>
            <p:nvPr/>
          </p:nvPicPr>
          <p:blipFill>
            <a:blip r:embed="rId5"/>
            <a:stretch/>
          </p:blipFill>
          <p:spPr>
            <a:xfrm>
              <a:off x="3150000" y="4317120"/>
              <a:ext cx="3854160" cy="6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27" descr=""/>
            <p:cNvPicPr/>
            <p:nvPr/>
          </p:nvPicPr>
          <p:blipFill>
            <a:blip r:embed="rId6"/>
            <a:stretch/>
          </p:blipFill>
          <p:spPr>
            <a:xfrm>
              <a:off x="2673360" y="4157640"/>
              <a:ext cx="808560" cy="63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28"/>
            <p:cNvSpPr/>
            <p:nvPr/>
          </p:nvSpPr>
          <p:spPr>
            <a:xfrm>
              <a:off x="2861640" y="429984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c7e4"/>
                  </a:solidFill>
                  <a:latin typeface="方正大黑简体"/>
                  <a:ea typeface="方正大黑简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3369600" y="4349880"/>
              <a:ext cx="32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组合 30"/>
          <p:cNvGrpSpPr/>
          <p:nvPr/>
        </p:nvGrpSpPr>
        <p:grpSpPr>
          <a:xfrm>
            <a:off x="2673360" y="5084640"/>
            <a:ext cx="4330800" cy="852480"/>
            <a:chOff x="2673360" y="5084640"/>
            <a:chExt cx="4330800" cy="852480"/>
          </a:xfrm>
        </p:grpSpPr>
        <p:pic>
          <p:nvPicPr>
            <p:cNvPr id="155" name="圆角矩形 31" descr=""/>
            <p:cNvPicPr/>
            <p:nvPr/>
          </p:nvPicPr>
          <p:blipFill>
            <a:blip r:embed="rId7"/>
            <a:stretch/>
          </p:blipFill>
          <p:spPr>
            <a:xfrm>
              <a:off x="3150000" y="5241960"/>
              <a:ext cx="38541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图片 32" descr=""/>
            <p:cNvPicPr/>
            <p:nvPr/>
          </p:nvPicPr>
          <p:blipFill>
            <a:blip r:embed="rId8"/>
            <a:stretch/>
          </p:blipFill>
          <p:spPr>
            <a:xfrm>
              <a:off x="2673360" y="5084640"/>
              <a:ext cx="80856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33"/>
            <p:cNvSpPr/>
            <p:nvPr/>
          </p:nvSpPr>
          <p:spPr>
            <a:xfrm>
              <a:off x="2861640" y="522540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c7e4"/>
                  </a:solidFill>
                  <a:latin typeface="方正大黑简体"/>
                  <a:ea typeface="方正大黑简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34"/>
            <p:cNvSpPr/>
            <p:nvPr/>
          </p:nvSpPr>
          <p:spPr>
            <a:xfrm>
              <a:off x="3369600" y="5275080"/>
              <a:ext cx="32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35"/>
          <p:cNvSpPr/>
          <p:nvPr/>
        </p:nvSpPr>
        <p:spPr>
          <a:xfrm>
            <a:off x="7596360" y="490680"/>
            <a:ext cx="1152360" cy="360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920" y="437760"/>
            <a:ext cx="7143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ush Script Std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  <p:grpSp>
        <p:nvGrpSpPr>
          <p:cNvPr id="161" name="组合 3"/>
          <p:cNvGrpSpPr/>
          <p:nvPr/>
        </p:nvGrpSpPr>
        <p:grpSpPr>
          <a:xfrm>
            <a:off x="2673360" y="3297240"/>
            <a:ext cx="4330800" cy="852480"/>
            <a:chOff x="2673360" y="3297240"/>
            <a:chExt cx="4330800" cy="852480"/>
          </a:xfrm>
        </p:grpSpPr>
        <p:pic>
          <p:nvPicPr>
            <p:cNvPr id="16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3150000" y="3457080"/>
              <a:ext cx="3854160" cy="6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5" descr=""/>
            <p:cNvPicPr/>
            <p:nvPr/>
          </p:nvPicPr>
          <p:blipFill>
            <a:blip r:embed="rId2"/>
            <a:stretch/>
          </p:blipFill>
          <p:spPr>
            <a:xfrm>
              <a:off x="2673360" y="3297240"/>
              <a:ext cx="808560" cy="6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6"/>
            <p:cNvSpPr/>
            <p:nvPr/>
          </p:nvSpPr>
          <p:spPr>
            <a:xfrm>
              <a:off x="2861640" y="343944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9c7e4"/>
                  </a:solidFill>
                  <a:latin typeface="方正大黑简体"/>
                  <a:ea typeface="方正大黑简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3369600" y="3489480"/>
              <a:ext cx="32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8"/>
          <p:cNvSpPr/>
          <p:nvPr/>
        </p:nvSpPr>
        <p:spPr>
          <a:xfrm>
            <a:off x="7596360" y="490680"/>
            <a:ext cx="1152360" cy="360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7"/>
          <p:cNvSpPr/>
          <p:nvPr/>
        </p:nvSpPr>
        <p:spPr>
          <a:xfrm>
            <a:off x="1547640" y="2313000"/>
            <a:ext cx="6480360" cy="370836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437760"/>
            <a:ext cx="7143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ush Script Std"/>
              </a:rPr>
              <a:t>内页一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377640" y="2133720"/>
            <a:ext cx="1618920" cy="358560"/>
            <a:chOff x="377640" y="2133720"/>
            <a:chExt cx="1618920" cy="358560"/>
          </a:xfrm>
        </p:grpSpPr>
        <p:sp>
          <p:nvSpPr>
            <p:cNvPr id="170" name="直接连接符 4"/>
            <p:cNvSpPr/>
            <p:nvPr/>
          </p:nvSpPr>
          <p:spPr>
            <a:xfrm flipH="1">
              <a:off x="377640" y="2313000"/>
              <a:ext cx="1618920" cy="0"/>
            </a:xfrm>
            <a:prstGeom prst="line">
              <a:avLst/>
            </a:prstGeom>
            <a:ln w="9360">
              <a:solidFill>
                <a:srgbClr val="af2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流程图: 对照 5"/>
            <p:cNvSpPr/>
            <p:nvPr/>
          </p:nvSpPr>
          <p:spPr>
            <a:xfrm rot="5400000">
              <a:off x="1023840" y="2114640"/>
              <a:ext cx="358560" cy="396720"/>
            </a:xfrm>
            <a:prstGeom prst="flowChartCollate">
              <a:avLst/>
            </a:prstGeom>
            <a:solidFill>
              <a:srgbClr val="af2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TextBox 8"/>
          <p:cNvSpPr/>
          <p:nvPr/>
        </p:nvSpPr>
        <p:spPr>
          <a:xfrm>
            <a:off x="1000080" y="2781360"/>
            <a:ext cx="21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制作精品   追求卓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1"/>
          <a:srcRect l="0" t="0" r="16148" b="0"/>
          <a:stretch/>
        </p:blipFill>
        <p:spPr>
          <a:xfrm>
            <a:off x="6875640" y="5013360"/>
            <a:ext cx="1981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11"/>
          <p:cNvGrpSpPr/>
          <p:nvPr/>
        </p:nvGrpSpPr>
        <p:grpSpPr>
          <a:xfrm>
            <a:off x="7524720" y="2133720"/>
            <a:ext cx="1619280" cy="358560"/>
            <a:chOff x="7524720" y="2133720"/>
            <a:chExt cx="1619280" cy="358560"/>
          </a:xfrm>
        </p:grpSpPr>
        <p:sp>
          <p:nvSpPr>
            <p:cNvPr id="175" name="直接连接符 12"/>
            <p:cNvSpPr/>
            <p:nvPr/>
          </p:nvSpPr>
          <p:spPr>
            <a:xfrm flipH="1">
              <a:off x="7524720" y="2313000"/>
              <a:ext cx="1619280" cy="0"/>
            </a:xfrm>
            <a:prstGeom prst="line">
              <a:avLst/>
            </a:prstGeom>
            <a:ln w="9360">
              <a:solidFill>
                <a:srgbClr val="af2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流程图: 对照 13"/>
            <p:cNvSpPr/>
            <p:nvPr/>
          </p:nvSpPr>
          <p:spPr>
            <a:xfrm rot="5400000">
              <a:off x="8170920" y="2114640"/>
              <a:ext cx="358560" cy="396720"/>
            </a:xfrm>
            <a:prstGeom prst="flowChartCollate">
              <a:avLst/>
            </a:prstGeom>
            <a:solidFill>
              <a:srgbClr val="af2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矩形 14"/>
          <p:cNvSpPr/>
          <p:nvPr/>
        </p:nvSpPr>
        <p:spPr>
          <a:xfrm>
            <a:off x="7596360" y="490680"/>
            <a:ext cx="1152360" cy="360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437760"/>
            <a:ext cx="7143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ush Script Std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9360">
            <a:solidFill>
              <a:srgbClr val="7f7f7f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单击此处添加文本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rush Script Std"/>
              </a:rPr>
              <a:t>粉红色调主调模版</a:t>
            </a:r>
            <a:endParaRPr b="0" lang="en-US" sz="4400" spc="-1" strike="noStrike">
              <a:solidFill>
                <a:srgbClr val="000000"/>
              </a:solidFill>
              <a:latin typeface="Brush Script St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70167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Calibri"/>
              </a:rPr>
              <a:t>点此添加副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684360" y="507960"/>
            <a:ext cx="1150920" cy="360360"/>
          </a:xfrm>
          <a:prstGeom prst="rect">
            <a:avLst/>
          </a:prstGeom>
          <a:noFill/>
          <a:ln w="12600">
            <a:solidFill>
              <a:srgbClr val="0d0d0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1:43:03Z</dcterms:created>
  <dc:creator>王琳</dc:creator>
  <dc:description/>
  <dc:language>en-US</dc:language>
  <cp:lastModifiedBy>王玉清</cp:lastModifiedBy>
  <dcterms:modified xsi:type="dcterms:W3CDTF">2016-02-25T02:42:22Z</dcterms:modified>
  <cp:revision>7</cp:revision>
  <dc:subject/>
  <dc:title>粉红色调主调模版</dc:title>
</cp:coreProperties>
</file>