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F9C-139F-4156-8358-7EFFE284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1CF-3D24-4242-9A57-6A577AF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034-757E-4FAF-9628-AFD1BD7F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0A3-27A1-45AF-B74C-F0436044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DF5-0F97-47F3-9C6B-AB031B4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66D-331D-429D-80CA-101172E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17F-4C58-4F08-8853-331C0F16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CE1-B822-4A3F-8AC2-864DA6E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644-F91C-4334-B209-469ADBC5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6FD-A015-4422-9AAE-328F591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4E2-CAC9-4446-BD12-1E8D0A2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AF0-FFD7-490F-85BB-B07D1B0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D31-EC60-4825-B3FD-83F41F400894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矩形 9"/>
          <p:cNvGrpSpPr/>
          <p:nvPr/>
        </p:nvGrpSpPr>
        <p:grpSpPr>
          <a:xfrm>
            <a:off x="212760" y="785880"/>
            <a:ext cx="8718480" cy="5827680"/>
            <a:chOff x="212760" y="785880"/>
            <a:chExt cx="8718480" cy="5827680"/>
          </a:xfrm>
        </p:grpSpPr>
        <p:pic>
          <p:nvPicPr>
            <p:cNvPr id="83" name="矩形 9" descr=""/>
            <p:cNvPicPr/>
            <p:nvPr/>
          </p:nvPicPr>
          <p:blipFill>
            <a:blip r:embed="rId5"/>
            <a:stretch/>
          </p:blipFill>
          <p:spPr>
            <a:xfrm>
              <a:off x="212760" y="785880"/>
              <a:ext cx="871848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276120" y="819360"/>
              <a:ext cx="8591760" cy="57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2759040" y="1900080"/>
            <a:ext cx="660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典动态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31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36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40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44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48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52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57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67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68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89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72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73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74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>
                <a:gd name="textAreaLeft" fmla="*/ 220320 w 2160720"/>
                <a:gd name="textAreaRight" fmla="*/ 1940400 w 21607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82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83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84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>
                <a:gd name="textAreaLeft" fmla="*/ 220680 w 2162160"/>
                <a:gd name="textAreaRight" fmla="*/ 1941480 w 216216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7f7f7f">
              <a:alpha val="84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92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93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94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>
                <a:gd name="textAreaLeft" fmla="*/ 220320 w 2161080"/>
                <a:gd name="textAreaRight" fmla="*/ 1940760 w 216108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200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sp>
          <p:nvSpPr>
            <p:cNvPr id="204" name="Line 11"/>
            <p:cNvSpPr/>
            <p:nvPr/>
          </p:nvSpPr>
          <p:spPr>
            <a:xfrm>
              <a:off x="2703600" y="2975040"/>
              <a:ext cx="1440" cy="203184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>
              <a:off x="4457880" y="2975040"/>
              <a:ext cx="1440" cy="203184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>
              <a:off x="6201000" y="2975040"/>
              <a:ext cx="2880" cy="203184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1014480" y="2065320"/>
            <a:ext cx="0" cy="295272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004760" y="5016600"/>
            <a:ext cx="6840720" cy="0"/>
          </a:xfrm>
          <a:prstGeom prst="line">
            <a:avLst/>
          </a:prstGeom>
          <a:ln w="255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29000"/>
              </a:srgbClr>
            </a:outerShdw>
          </a:effectLst>
        </p:spPr>
      </p:pic>
      <p:sp>
        <p:nvSpPr>
          <p:cNvPr id="23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35:42Z</dcterms:modified>
  <cp:revision>1</cp:revision>
  <dc:subject/>
  <dc:title>PowerPoint 演示文稿</dc:title>
</cp:coreProperties>
</file>