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7AD-739E-4FE8-9039-A929A118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B0F-CF99-4B2D-B386-C6A11100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E5B72-8D58-41E4-A270-42F7C27A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20F9E-9E00-4A1A-9B6F-38C77BF1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FE378-D3B8-46AE-9DB7-B389B8A2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51C07-7E9F-4355-931E-68697E5F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1B779-64FE-4EF8-84AF-0C6A52F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48D02-F64A-40DB-8048-7E89DB08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8EF60-86A4-42CB-A59A-BECBAB40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B00FC-270A-4028-9274-5AD84D40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B88A0-E48E-46EF-A0C7-BCA91786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69A59-A689-4842-A168-8E81106E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7EE-03D0-4568-B1E4-C0F5599E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38E3E-9C8E-43BE-8003-F5CC3A03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743B0-FD5D-45B4-A78A-982B9629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CFA71-892C-4F24-B20A-FDEF1E89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F6CEA-7D76-4711-8CF9-7CFBE57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9DB5C-6840-47E5-B171-80B450D6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8FEB9-4A78-4B3D-A3C6-4E47FA84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10E56-F680-4F04-91AB-B2E0C11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A8640-B1B1-4552-BF35-0C7441C0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257E7-3431-48A1-8B51-82A09220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AF154-861F-474E-A4D1-6D36EFEE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3A1-7CD1-4911-9287-821443B9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F61BD-9F47-48C5-8C8B-1E3D2860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2C1A2-3051-46DE-9FE7-B0138B3D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BACCB-3ACE-438F-862D-C13222A0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5ADCE-2FB2-4843-BAB8-F35A0EFB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1F714-2184-4479-8906-DF3B566E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2DD52-9BE7-424D-B7CB-77F5C20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82D4B-8137-47FD-95CC-5E53FEFD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1EF4D-2C9D-48F2-8E1B-4824716A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DBFBE-BD5E-46C9-B1A0-ECDBFB87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F0631-9E6A-4FD1-8AC0-497693D5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F22C-2A34-498D-81B4-C5EA3AD7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7CF1B-E5CF-4482-9ACB-5D6885CC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EF002-6E28-40D7-B8EC-8BEB39A1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CDCF9-BFDE-4551-A719-A8231676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1FD1F-5D08-4DD6-92A8-5A665E48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7A93A-647B-4331-BC72-85CDB310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98FAB-1DCD-4079-8116-E9BFA352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E47F8-D474-4F86-8AD3-C2C79215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1EEE9-420E-4104-869E-5C7F1F56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A405B-3320-4934-B323-71B70E68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379CB-048B-46E9-BD8D-E1A2A517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A4D5-985F-49A9-B404-7B140670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235DE-2B09-462F-94CA-FA2FD808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C270E-EEA0-4804-B94A-B3BED6B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471D1-745D-406E-A89D-022AEDD2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B4191-DF63-45A5-B972-F64FD2C9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E544E-1474-409B-ABAC-3F223C54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62254-4299-40E2-A135-0CD8AB42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3DCA2-DB4F-403B-8182-74106BAA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7E3B2-D910-40BC-A513-C37698A2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BFC01-B543-4AE4-AB08-AE90BE27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5BA80-60BC-48A5-BEF4-405112C2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1F66-050F-4A7A-BC14-C656A27F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0A509-979A-4FBE-81EA-7805C705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053DF-1579-41BB-B6A7-BBBF2E2A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6099D-493D-4119-A57C-577F76A0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4B481-866B-4134-8842-DA936C64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B8254-3A03-4EA1-94FC-3FBFD02B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CB479-0387-47D1-AFDF-D41199F5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86739-14EF-43F9-BA6F-E46DBFAD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A6B8-D34E-4FD7-B01A-1906B252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06C8-8D8B-4CA6-8CF0-EB06809D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050B-7783-4D0B-A062-8274AEDC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4C74-5E6B-4118-83A0-D6544FBE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20F-D04D-4DE7-8B1B-441EE52F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B8D7-505F-4E71-BC12-53F988A6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2D5B-87A9-4B48-94D5-43308C5C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A7E8-13F0-4F39-9455-DFF761DF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DC3C-C2B3-421D-A4AA-C4A6CD55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FD4E-BC39-47BE-9092-C1C1F6EB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2A6-6E16-42F5-B689-96A82F50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F086F-2136-4CE3-ACC4-6CA123F1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B1ED-2EA7-4DF4-B8B8-2F7CA8DA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056B-1536-45F7-83CB-67CA1644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571-A3E6-4EA0-AE2B-22679ED3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3708-E723-43B2-BB7C-578E8749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7EE8D-A89A-401C-B4DB-6BFD9052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CE7F-58D5-4EFD-899E-EA3BFD3B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6DF0-66A9-47CB-B0FD-D7016BBE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A09A-47B8-4E0C-B3DB-48F5EA0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A28FB-B55B-48B3-8712-A9AC8945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2226B-10A5-489A-AA8F-29DCD0E3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51D8-9E3A-4DE6-BE07-47504D1C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F027C-B696-4348-BF31-4D2D15A8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659D2-000A-4269-BD11-0AE5A550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2A2-C4A9-4903-9F09-1D2F4613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B2FE-0E50-4EBC-83F6-3E2342EF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E4B1-6FB2-48B6-8DE6-46264399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1BED2-502C-43BE-8F96-82697173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8C1B-EEA1-4317-BBA3-C26D2F1F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8C856-82F2-49F9-9EF1-9BF6DB25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7991A-22A3-45AF-9B09-E08B26F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2471C-7CE8-4EAE-B2B1-433B596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66669-0FA5-4EC6-90F2-27AFB01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80DA-1D9A-40C7-83B8-5F5E40BD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C4DA-1604-43CD-A6D2-FAF3CA8A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861-3611-4672-90E0-737B44D0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DD18-37D6-4370-AA3B-FAE97B7B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30BD-BE5E-4B8F-A774-3C204B5B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AAEAF-502F-42E1-95D5-FBCDB938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57068-CD45-4096-B04D-E77B680D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7A0D4-F1D5-4CB1-8B42-4C14F59B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CCE2-962D-43D0-BDD1-BD71EA33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A86E5-390C-41FD-93B5-B1E36BA6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1146-105E-4C29-8F41-FBEA6586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AE2AA-6F23-411C-9C70-4BBC47AA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6F96F-6793-4760-A292-FEA138F2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E7D-288C-4541-AF2E-4BE4C1AC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FA47A-E2CF-401A-BC0D-E414342A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C385C-08F1-4F4F-BD19-B5D0E6D7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C44C5-BD1A-486C-B032-6A352EE0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40C3F-BE58-4252-8BA4-91A2AE23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5CCA5-7C7C-453B-9E44-3762889F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9457C-B3E9-4297-AD26-0AE1B316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E343-C932-47A5-8AF2-969D501B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AE53C-6CDC-4D26-9042-0F6C64E2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F68EF-4FEC-4A6F-AE78-18F50E11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D4DA8-B5EF-492E-8B80-908F21A6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24D-9372-4F82-96E5-CE90632A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C9B1D-1F4B-469D-B552-59D30C50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8C8C6-3727-4AD7-BE22-7E74DC4D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55ABD-3E21-4FAD-BDEC-6CE3F113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A1187-61E9-44FE-99CD-115133FE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BC413-B774-4901-A187-3C5852C3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95AFA-D41A-42C3-ACAD-B70A8A72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9DAAE-8E28-493F-AD84-9E99C80C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FEB79-E4F0-443B-BBAF-01E32B11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EE900-1828-4E07-9FA3-2EE2D750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69738-8C3B-4F59-8435-18A8B123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5FF-67C7-45CC-9987-88BBC906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A9384-71A7-46BE-8130-404FCEA4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9CE47-504F-4E0A-8544-C42CC440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7616E-22B1-4F3F-A776-A28EF8F5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6E922-4C2B-4CF3-93D1-9007BDB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529FB-A6C2-41D4-8830-0B54D856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88373-B022-4152-85FA-705194E5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F94DF-60F7-4296-8FD0-78E8115D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A2C4C-CB7B-4CBD-AA29-9A3EF217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1DF39-F986-4489-9945-66C43FCA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29BA-B402-4F2A-8D76-C1885660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2C7D-C249-4261-8C13-6CA917332C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6064-7544-4807-B19B-DF736A6F30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4152-3891-4979-98F0-A56E5CDEA5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714B-000D-40A8-81F0-9134014E7E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4FC3-3006-45FD-8C65-0668003442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D26B-17A1-4A53-B405-92615BFC01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573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F870-6CEA-48E7-8A71-61B822A720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AEA9-BAFD-44FE-AEDE-990119CCDC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0925-9767-46F6-A513-C00BA93A76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AC23-0871-4198-90F8-EF41E44739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2311-4D87-4B24-A1BA-57782A9E2B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BF64-352E-4D30-9CC1-9FB760C6BD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矩形 4" descr=""/>
          <p:cNvPicPr/>
          <p:nvPr/>
        </p:nvPicPr>
        <p:blipFill>
          <a:blip r:embed="rId1"/>
          <a:stretch/>
        </p:blipFill>
        <p:spPr>
          <a:xfrm>
            <a:off x="828720" y="1395360"/>
            <a:ext cx="3468600" cy="2036880"/>
          </a:xfrm>
          <a:prstGeom prst="rect">
            <a:avLst/>
          </a:prstGeom>
          <a:ln w="0">
            <a:noFill/>
          </a:ln>
        </p:spPr>
      </p:pic>
      <p:sp>
        <p:nvSpPr>
          <p:cNvPr id="532" name="矩形 12"/>
          <p:cNvSpPr/>
          <p:nvPr/>
        </p:nvSpPr>
        <p:spPr>
          <a:xfrm>
            <a:off x="234720" y="4944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16:41Z</dcterms:created>
  <dc:creator>李晓婧</dc:creator>
  <dc:description/>
  <dc:language>en-US</dc:language>
  <cp:lastModifiedBy>王玉清</cp:lastModifiedBy>
  <dcterms:modified xsi:type="dcterms:W3CDTF">2016-03-05T12:55:53Z</dcterms:modified>
  <cp:revision>12</cp:revision>
  <dc:subject/>
  <dc:title>PowerPoint 演示文稿</dc:title>
</cp:coreProperties>
</file>