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B8B-89F0-49E9-B87B-C0ABE73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FE7-2A1B-4DC2-9285-39F7F2D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7B3-CBDF-45BF-97A4-9799A5B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FCF-F7BE-43F8-990B-AB96180F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5153-0E4B-4BAA-91F5-AE5D826E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853-432B-4FC6-B564-88AF00A9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7D08-3363-4BAF-96EF-E45235F9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821-16A4-4FBD-91B3-24E2194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B00-C1C3-4A25-ACB1-A781D68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A38C-7F36-4A8A-A9D7-E44429A6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A7F-0DD3-48B3-88C4-8EE773B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F99-9F34-4F2D-8C4A-93A3FB7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9351-0075-4B98-B51F-33990CDF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630C-EC01-4C62-B355-87EF9060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0D88-D5FD-4B94-BFF8-FDC75701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7502-15EC-4A2E-A68C-BE22DC88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2049-06A6-46EA-98A0-D26B3BF8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6C4-917B-4FEB-A016-B30B75F7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BB4-355D-4870-9DA5-713273E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DD3-7A25-48E6-A913-C578A4B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130-B2C6-4B37-9101-66C05F1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518-AF63-445C-8BCE-A28D535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01E-F5BB-47A0-92DE-FBBE39B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21B-9EB2-46BD-864A-A160CE2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E8E-10FE-4F1C-A490-9BCC4D27A0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C46-D04E-47E8-968B-04F6FC4B5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70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193840" y="3333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荷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57D-7A93-465A-8834-B7830D009A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1T01:22:12Z</dcterms:created>
  <dc:creator>Administrator</dc:creator>
  <dc:description/>
  <dc:language>en-US</dc:language>
  <cp:lastModifiedBy>user</cp:lastModifiedBy>
  <dcterms:modified xsi:type="dcterms:W3CDTF">2015-07-20T10:02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