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1F7-1316-4FCD-A40E-98418E5C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594-1695-45C2-AC21-A85F17F0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5F8-ACF6-4A4D-8D18-1437BFD9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6A0-8CAC-4E22-9D5F-206093DF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B3A3-4A8A-4652-9B4F-DC2C2FCD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914C-D828-4FAD-93C7-D16637E9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D9E5-0532-4181-8482-B038ACE6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706B-6A0B-45F5-A570-9D2FA7CC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20BB-DF0F-41A9-A67A-2F50DB32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F619-5628-4B26-9778-AB7A996F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0668-58A4-45CA-8FAD-036ADA0E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25D-2A3D-4840-9992-76BA2315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10FF-8B16-429B-868B-ADCCB41C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D049-EDE5-4190-AB70-8BC728EC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11FE-D953-45F7-A08F-C399DF24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4EBD-85A9-45B9-A203-7E226769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0C12-F8CF-45FE-8CD9-50F87350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1C5-C969-4D52-8510-1B49DCEE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B1A-221B-4F5D-8E89-895C82B3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33E-32A8-45A7-8E37-847EF907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769-AB21-44BF-B058-101B8244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9B5-FCA3-4AD6-AFA6-5EC4A96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03D-FDA9-46E3-9A8B-B02113A8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6C8-DBEB-4787-BC21-60870172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800" spc="-1" strike="noStrike">
                <a:solidFill>
                  <a:srgbClr val="ffffff"/>
                </a:solidFill>
                <a:latin typeface="Tahoma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ffff"/>
                </a:solidFill>
                <a:latin typeface="Tahoma"/>
                <a:ea typeface="PMingLiU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800" spc="-1" strike="noStrike">
                <a:solidFill>
                  <a:srgbClr val="ffffff"/>
                </a:solidFill>
                <a:latin typeface="Tahoma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ffff"/>
                </a:solidFill>
                <a:latin typeface="Tahoma"/>
                <a:ea typeface="PMingLiU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800" spc="-1" strike="noStrike">
                <a:solidFill>
                  <a:srgbClr val="ffffff"/>
                </a:solidFill>
                <a:latin typeface="Tahoma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AE09-4BFF-472B-BC2D-383FA173ADF4}" type="slidenum">
              <a:rPr b="1" lang="zh-TW" sz="800" spc="-1" strike="noStrike">
                <a:solidFill>
                  <a:srgbClr val="ffffff"/>
                </a:solidFill>
                <a:latin typeface="Tahoma"/>
                <a:ea typeface="PMingLiU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ffffff"/>
                </a:solidFill>
                <a:latin typeface="Arial Black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ffffff"/>
                </a:solidFill>
                <a:latin typeface="Arial Black"/>
                <a:ea typeface="PMingLiU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ffffff"/>
                </a:solidFill>
                <a:latin typeface="Arial Black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ffffff"/>
                </a:solidFill>
                <a:latin typeface="Arial Black"/>
                <a:ea typeface="PMingLiU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ffffff"/>
                </a:solidFill>
                <a:latin typeface="Arial Black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9923-0017-43E9-9852-8FA4E776D253}" type="slidenum">
              <a:rPr b="0" lang="zh-TW" sz="800" spc="-1" strike="noStrike">
                <a:solidFill>
                  <a:srgbClr val="ffffff"/>
                </a:solidFill>
                <a:latin typeface="Arial Black"/>
                <a:ea typeface="PMingLiU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17240" y="333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航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Impact"/>
                <a:ea typeface="PMingLiU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PMingLiU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PMingLiU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52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PMingLiU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Impact"/>
                <a:ea typeface="PMingLiU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93D-B497-4E9F-92A3-61BFA4867C2A}" type="slidenum">
              <a:t>5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6:34:1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39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