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D265-D6D5-4FDE-A885-E6A0EDC5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059-A1DC-4DC4-AAC8-C899E6CC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830-D356-4728-9E64-1B394BAA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727-1D43-4F92-8732-87D96B0F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C0B-0957-420F-8018-1807C431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FF4-00B3-45EC-B6C4-BBDE9F20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D8E-4EFD-40CB-BD95-E6F0693B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06D-4ECB-439A-A773-B51EC38D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DAE-628A-42F4-B9B7-791DDE4B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FD3-384C-49A3-AED5-9877F0C8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88FC-7FA9-401F-AC5A-11E83EA1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2E0-1D2B-492E-8151-BD090D16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FB4F-07B8-4786-B325-0FD255CBCD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6491160" y="4389480"/>
            <a:ext cx="28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方正综艺_GBK"/>
                <a:ea typeface="方正综艺_GBK"/>
              </a:rPr>
              <a:t>适用于铁路运输及相关类别演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46609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2125800" y="195120"/>
            <a:ext cx="393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和谐号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549360" y="4932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方正综艺_GBK"/>
                <a:ea typeface="方正综艺_GBK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-11160" y="974880"/>
            <a:ext cx="33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2f2"/>
                </a:solidFill>
                <a:latin typeface="Arial"/>
                <a:ea typeface="黑体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-55440" y="1779480"/>
            <a:ext cx="33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方正综艺_GBK"/>
                <a:ea typeface="方正综艺_GBK"/>
              </a:rPr>
              <a:t>谢谢观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8864-DD8B-43E3-AB1F-45D0875CC0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1:24:4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44:5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