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C40-3569-4B2C-AAE9-F8DB3228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AD0-BDFD-4B9C-98F5-71B25F5F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971-2FD5-4A91-83A7-429468F3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5D3-EAC8-450E-B9B5-A4F620ADC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9BB-2ABE-4792-B575-0323FA6E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C208-D1C0-4C7A-87BF-9803A2EB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C2D-C020-4744-9EDF-D36A0508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A916-5BF2-41DC-8919-0AF4814C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BEE-7643-4F91-8381-410931D4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4E7-F695-4FBB-A0F2-B20B3D1F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C94-143F-49ED-8156-CC089809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5C0-6865-4F12-8A72-51D5AC50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等线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4058D5-790F-469F-80EB-5F1C5C764BA1}" type="slidenum">
              <a:rPr b="0" lang="en-US" sz="1200" spc="-1" strike="noStrike">
                <a:solidFill>
                  <a:srgbClr val="8b8b8b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8"/>
          <p:cNvSpPr/>
          <p:nvPr/>
        </p:nvSpPr>
        <p:spPr>
          <a:xfrm>
            <a:off x="2955960" y="98280"/>
            <a:ext cx="9235800" cy="307440"/>
          </a:xfrm>
          <a:prstGeom prst="rect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grpSp>
        <p:nvGrpSpPr>
          <p:cNvPr id="42" name="组合 19"/>
          <p:cNvGrpSpPr/>
          <p:nvPr/>
        </p:nvGrpSpPr>
        <p:grpSpPr>
          <a:xfrm>
            <a:off x="0" y="6513480"/>
            <a:ext cx="12191760" cy="348840"/>
            <a:chOff x="0" y="6513480"/>
            <a:chExt cx="12191760" cy="348840"/>
          </a:xfrm>
        </p:grpSpPr>
        <p:sp>
          <p:nvSpPr>
            <p:cNvPr id="43" name="矩形 12"/>
            <p:cNvSpPr/>
            <p:nvPr/>
          </p:nvSpPr>
          <p:spPr>
            <a:xfrm>
              <a:off x="0" y="6513480"/>
              <a:ext cx="12191760" cy="198000"/>
            </a:xfrm>
            <a:prstGeom prst="rect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44" name="矩形 14"/>
            <p:cNvSpPr/>
            <p:nvPr/>
          </p:nvSpPr>
          <p:spPr>
            <a:xfrm>
              <a:off x="0" y="6553080"/>
              <a:ext cx="12191760" cy="309240"/>
            </a:xfrm>
            <a:prstGeom prst="rect">
              <a:avLst/>
            </a:prstGeom>
            <a:solidFill>
              <a:srgbClr val="036e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sp>
        <p:nvSpPr>
          <p:cNvPr id="45" name="矩形 20"/>
          <p:cNvSpPr/>
          <p:nvPr/>
        </p:nvSpPr>
        <p:spPr>
          <a:xfrm>
            <a:off x="-9360" y="93600"/>
            <a:ext cx="1101240" cy="318600"/>
          </a:xfrm>
          <a:prstGeom prst="rect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6" name="文本框 10"/>
          <p:cNvSpPr/>
          <p:nvPr/>
        </p:nvSpPr>
        <p:spPr>
          <a:xfrm>
            <a:off x="9766440" y="6545160"/>
            <a:ext cx="2830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ＰＯＷＥＲＰＯＩＮ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十字箭头标注 11"/>
          <p:cNvSpPr/>
          <p:nvPr/>
        </p:nvSpPr>
        <p:spPr>
          <a:xfrm>
            <a:off x="9477360" y="6566040"/>
            <a:ext cx="288720" cy="291600"/>
          </a:xfrm>
          <a:prstGeom prst="quadArrowCallout">
            <a:avLst>
              <a:gd name="adj1" fmla="val 18515"/>
              <a:gd name="adj2" fmla="val 18515"/>
              <a:gd name="adj3" fmla="val 18515"/>
              <a:gd name="adj4" fmla="val 48123"/>
            </a:avLst>
          </a:prstGeom>
          <a:solidFill>
            <a:schemeClr val="bg1"/>
          </a:solidFill>
          <a:ln>
            <a:noFill/>
          </a:ln>
          <a:effectLst>
            <a:outerShdw algn="bl" blurRad="431640" dir="18900000" dist="37674" rotWithShape="0" sx="60000" sy="60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4"/>
          <p:cNvGrpSpPr/>
          <p:nvPr/>
        </p:nvGrpSpPr>
        <p:grpSpPr>
          <a:xfrm>
            <a:off x="2411280" y="2508120"/>
            <a:ext cx="6980040" cy="2163600"/>
            <a:chOff x="2411280" y="2508120"/>
            <a:chExt cx="6980040" cy="2163600"/>
          </a:xfrm>
        </p:grpSpPr>
        <p:sp>
          <p:nvSpPr>
            <p:cNvPr id="87" name="MH_Other_1"/>
            <p:cNvSpPr/>
            <p:nvPr/>
          </p:nvSpPr>
          <p:spPr>
            <a:xfrm>
              <a:off x="2411280" y="2508120"/>
              <a:ext cx="6980040" cy="1861920"/>
            </a:xfrm>
            <a:custGeom>
              <a:avLst/>
              <a:gdLst>
                <a:gd name="textAreaLeft" fmla="*/ 0 w 6980040"/>
                <a:gd name="textAreaRight" fmla="*/ 6980400 w 6980040"/>
                <a:gd name="textAreaTop" fmla="*/ 0 h 1861920"/>
                <a:gd name="textAreaBottom" fmla="*/ 1862280 h 1861920"/>
              </a:gdLst>
              <a:ahLst/>
              <a:rect l="textAreaLeft" t="textAreaTop" r="textAreaRight" b="textAreaBottom"/>
              <a:pathLst>
                <a:path w="3302000" h="990600">
                  <a:moveTo>
                    <a:pt x="0" y="304800"/>
                  </a:moveTo>
                  <a:lnTo>
                    <a:pt x="397933" y="922867"/>
                  </a:lnTo>
                  <a:lnTo>
                    <a:pt x="3090333" y="990600"/>
                  </a:lnTo>
                  <a:lnTo>
                    <a:pt x="3302000" y="0"/>
                  </a:lnTo>
                  <a:lnTo>
                    <a:pt x="0" y="304800"/>
                  </a:lnTo>
                  <a:close/>
                </a:path>
              </a:pathLst>
            </a:custGeom>
            <a:solidFill>
              <a:srgbClr val="036eb8"/>
            </a:solidFill>
            <a:ln>
              <a:noFill/>
            </a:ln>
            <a:effectLst>
              <a:outerShdw algn="bl" blurRad="431640" dir="18900000" dist="37674" rotWithShape="0" sx="60000" sy="60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88" name="MH_Other_2"/>
            <p:cNvSpPr/>
            <p:nvPr/>
          </p:nvSpPr>
          <p:spPr>
            <a:xfrm>
              <a:off x="3002040" y="2859120"/>
              <a:ext cx="5995800" cy="1812600"/>
            </a:xfrm>
            <a:custGeom>
              <a:avLst/>
              <a:gdLst>
                <a:gd name="textAreaLeft" fmla="*/ 0 w 5995800"/>
                <a:gd name="textAreaRight" fmla="*/ 5996160 w 5995800"/>
                <a:gd name="textAreaTop" fmla="*/ 0 h 1812600"/>
                <a:gd name="textAreaBottom" fmla="*/ 1812960 h 1812600"/>
              </a:gdLst>
              <a:ahLst/>
              <a:rect l="textAreaLeft" t="textAreaTop" r="textAreaRight" b="textAreaBottom"/>
              <a:pathLst>
                <a:path w="2836333" h="965200">
                  <a:moveTo>
                    <a:pt x="0" y="0"/>
                  </a:moveTo>
                  <a:lnTo>
                    <a:pt x="245533" y="685800"/>
                  </a:lnTo>
                  <a:lnTo>
                    <a:pt x="2658533" y="965200"/>
                  </a:lnTo>
                  <a:lnTo>
                    <a:pt x="2836333" y="10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sp>
        <p:nvSpPr>
          <p:cNvPr id="89" name="文本框 5"/>
          <p:cNvSpPr/>
          <p:nvPr/>
        </p:nvSpPr>
        <p:spPr>
          <a:xfrm>
            <a:off x="2034720" y="3274920"/>
            <a:ext cx="82710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项目报告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"/>
          <p:cNvSpPr/>
          <p:nvPr/>
        </p:nvSpPr>
        <p:spPr>
          <a:xfrm>
            <a:off x="5838840" y="4057560"/>
            <a:ext cx="32605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13"/>
          <p:cNvGrpSpPr/>
          <p:nvPr/>
        </p:nvGrpSpPr>
        <p:grpSpPr>
          <a:xfrm>
            <a:off x="3686040" y="1298520"/>
            <a:ext cx="4586040" cy="1209240"/>
            <a:chOff x="3686040" y="1298520"/>
            <a:chExt cx="4586040" cy="1209240"/>
          </a:xfrm>
        </p:grpSpPr>
        <p:sp>
          <p:nvSpPr>
            <p:cNvPr id="92" name="文本框 11"/>
            <p:cNvSpPr/>
            <p:nvPr/>
          </p:nvSpPr>
          <p:spPr>
            <a:xfrm>
              <a:off x="4895280" y="1646640"/>
              <a:ext cx="33768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ＰＯＷＥＲＰＯＩＮ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十字箭头标注 12"/>
            <p:cNvSpPr/>
            <p:nvPr/>
          </p:nvSpPr>
          <p:spPr>
            <a:xfrm>
              <a:off x="3686040" y="1298520"/>
              <a:ext cx="1209240" cy="1209240"/>
            </a:xfrm>
            <a:prstGeom prst="quadArrowCallout">
              <a:avLst>
                <a:gd name="adj1" fmla="val 18515"/>
                <a:gd name="adj2" fmla="val 18515"/>
                <a:gd name="adj3" fmla="val 18515"/>
                <a:gd name="adj4" fmla="val 48123"/>
              </a:avLst>
            </a:prstGeom>
            <a:solidFill>
              <a:srgbClr val="036eb8"/>
            </a:solidFill>
            <a:ln>
              <a:noFill/>
            </a:ln>
            <a:effectLst>
              <a:outerShdw algn="bl" blurRad="431640" dir="18900000" dist="37674" rotWithShape="0" sx="60000" sy="60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ＬＯＧ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组合 4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261" name="文本框 5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文本框 6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需求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文本框 8"/>
          <p:cNvSpPr/>
          <p:nvPr/>
        </p:nvSpPr>
        <p:spPr>
          <a:xfrm>
            <a:off x="446040" y="961920"/>
            <a:ext cx="3985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36eb8"/>
                </a:solidFill>
                <a:latin typeface="等线"/>
                <a:ea typeface="等线"/>
              </a:rPr>
              <a:t>如何进行准确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12"/>
          <p:cNvGrpSpPr/>
          <p:nvPr/>
        </p:nvGrpSpPr>
        <p:grpSpPr>
          <a:xfrm>
            <a:off x="3596760" y="1318680"/>
            <a:ext cx="5043240" cy="4967640"/>
            <a:chOff x="3596760" y="1318680"/>
            <a:chExt cx="5043240" cy="4967640"/>
          </a:xfrm>
        </p:grpSpPr>
        <p:grpSp>
          <p:nvGrpSpPr>
            <p:cNvPr id="265" name="组合 13"/>
            <p:cNvGrpSpPr/>
            <p:nvPr/>
          </p:nvGrpSpPr>
          <p:grpSpPr>
            <a:xfrm>
              <a:off x="3596760" y="1318680"/>
              <a:ext cx="2824560" cy="4939920"/>
              <a:chOff x="3596760" y="1318680"/>
              <a:chExt cx="2824560" cy="4939920"/>
            </a:xfrm>
          </p:grpSpPr>
          <p:sp>
            <p:nvSpPr>
              <p:cNvPr id="266" name="椭圆 17"/>
              <p:cNvSpPr/>
              <p:nvPr/>
            </p:nvSpPr>
            <p:spPr>
              <a:xfrm rot="326400">
                <a:off x="3801960" y="3890880"/>
                <a:ext cx="2266560" cy="2265120"/>
              </a:xfrm>
              <a:prstGeom prst="ellipse">
                <a:avLst/>
              </a:prstGeom>
              <a:blipFill rotWithShape="0">
                <a:blip r:embed="rId1"/>
                <a:srcRect/>
                <a:stretch/>
              </a:blipFill>
              <a:ln w="57150">
                <a:solidFill>
                  <a:srgbClr val="00d998"/>
                </a:solidFill>
              </a:ln>
              <a:effectLst>
                <a:outerShdw algn="l" blurRad="380880" dist="38160" rotWithShape="0" sx="95000" sy="95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267" name="椭圆 18"/>
              <p:cNvSpPr/>
              <p:nvPr/>
            </p:nvSpPr>
            <p:spPr>
              <a:xfrm rot="1308000">
                <a:off x="3922560" y="1644120"/>
                <a:ext cx="2172960" cy="217296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57150">
                <a:solidFill>
                  <a:srgbClr val="00d998"/>
                </a:solidFill>
              </a:ln>
              <a:effectLst>
                <a:outerShdw algn="l" blurRad="380880" dist="38160" rotWithShape="0" sx="95000" sy="95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</p:grpSp>
        <p:grpSp>
          <p:nvGrpSpPr>
            <p:cNvPr id="268" name="组合 14"/>
            <p:cNvGrpSpPr/>
            <p:nvPr/>
          </p:nvGrpSpPr>
          <p:grpSpPr>
            <a:xfrm>
              <a:off x="5884920" y="1340280"/>
              <a:ext cx="2755080" cy="4946040"/>
              <a:chOff x="5884920" y="1340280"/>
              <a:chExt cx="2755080" cy="4946040"/>
            </a:xfrm>
          </p:grpSpPr>
          <p:sp>
            <p:nvSpPr>
              <p:cNvPr id="269" name="椭圆 15"/>
              <p:cNvSpPr/>
              <p:nvPr/>
            </p:nvSpPr>
            <p:spPr>
              <a:xfrm rot="283800">
                <a:off x="6135480" y="3943080"/>
                <a:ext cx="2253960" cy="225396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57150">
                <a:solidFill>
                  <a:srgbClr val="00d998"/>
                </a:solidFill>
              </a:ln>
              <a:effectLst>
                <a:outerShdw algn="l" blurRad="380880" dist="38160" rotWithShape="0" sx="95000" sy="95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270" name="椭圆 16"/>
              <p:cNvSpPr/>
              <p:nvPr/>
            </p:nvSpPr>
            <p:spPr>
              <a:xfrm rot="20607000">
                <a:off x="6159240" y="1608120"/>
                <a:ext cx="2206440" cy="2246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57150">
                <a:solidFill>
                  <a:srgbClr val="00d998"/>
                </a:solidFill>
              </a:ln>
              <a:effectLst>
                <a:outerShdw algn="l" blurRad="380880" dist="38160" rotWithShape="0" sx="95000" sy="9500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</p:grpSp>
      </p:grpSp>
      <p:cxnSp>
        <p:nvCxnSpPr>
          <p:cNvPr id="271" name="直接连接符 19"/>
          <p:cNvCxnSpPr/>
          <p:nvPr/>
        </p:nvCxnSpPr>
        <p:spPr>
          <a:xfrm>
            <a:off x="3663720" y="2118960"/>
            <a:ext cx="360" cy="1002240"/>
          </a:xfrm>
          <a:prstGeom prst="straightConnector1">
            <a:avLst/>
          </a:prstGeom>
          <a:ln>
            <a:solidFill>
              <a:srgbClr val="ed7d31"/>
            </a:solidFill>
          </a:ln>
        </p:spPr>
      </p:cxnSp>
      <p:cxnSp>
        <p:nvCxnSpPr>
          <p:cNvPr id="272" name="直接连接符 20"/>
          <p:cNvCxnSpPr/>
          <p:nvPr/>
        </p:nvCxnSpPr>
        <p:spPr>
          <a:xfrm>
            <a:off x="8640720" y="2118960"/>
            <a:ext cx="360" cy="1002240"/>
          </a:xfrm>
          <a:prstGeom prst="straightConnector1">
            <a:avLst/>
          </a:prstGeom>
          <a:ln>
            <a:solidFill>
              <a:srgbClr val="ed7d31"/>
            </a:solidFill>
          </a:ln>
        </p:spPr>
      </p:cxnSp>
      <p:cxnSp>
        <p:nvCxnSpPr>
          <p:cNvPr id="273" name="直接连接符 21"/>
          <p:cNvCxnSpPr/>
          <p:nvPr/>
        </p:nvCxnSpPr>
        <p:spPr>
          <a:xfrm>
            <a:off x="3663720" y="4492440"/>
            <a:ext cx="360" cy="1003680"/>
          </a:xfrm>
          <a:prstGeom prst="straightConnector1">
            <a:avLst/>
          </a:prstGeom>
          <a:ln>
            <a:solidFill>
              <a:srgbClr val="ed7d31"/>
            </a:solidFill>
          </a:ln>
        </p:spPr>
      </p:cxnSp>
      <p:grpSp>
        <p:nvGrpSpPr>
          <p:cNvPr id="274" name="组合 22"/>
          <p:cNvGrpSpPr/>
          <p:nvPr/>
        </p:nvGrpSpPr>
        <p:grpSpPr>
          <a:xfrm>
            <a:off x="868320" y="2077920"/>
            <a:ext cx="10532880" cy="3736080"/>
            <a:chOff x="868320" y="2077920"/>
            <a:chExt cx="10532880" cy="3736080"/>
          </a:xfrm>
        </p:grpSpPr>
        <p:grpSp>
          <p:nvGrpSpPr>
            <p:cNvPr id="275" name="组合 23"/>
            <p:cNvGrpSpPr/>
            <p:nvPr/>
          </p:nvGrpSpPr>
          <p:grpSpPr>
            <a:xfrm>
              <a:off x="868320" y="2077920"/>
              <a:ext cx="2796840" cy="1355040"/>
              <a:chOff x="868320" y="2077920"/>
              <a:chExt cx="2796840" cy="1355040"/>
            </a:xfrm>
          </p:grpSpPr>
          <p:sp>
            <p:nvSpPr>
              <p:cNvPr id="276" name="文本框 33"/>
              <p:cNvSpPr/>
              <p:nvPr/>
            </p:nvSpPr>
            <p:spPr>
              <a:xfrm>
                <a:off x="868320" y="2077920"/>
                <a:ext cx="279684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ts val="1800"/>
                  </a:lnSpc>
                </a:pPr>
                <a:r>
                  <a:rPr b="0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第一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文本框 34"/>
              <p:cNvSpPr/>
              <p:nvPr/>
            </p:nvSpPr>
            <p:spPr>
              <a:xfrm>
                <a:off x="1787400" y="2428920"/>
                <a:ext cx="187596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在此处单击更改自己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的文字在此处更改自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己的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ts val="18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组合 24"/>
            <p:cNvGrpSpPr/>
            <p:nvPr/>
          </p:nvGrpSpPr>
          <p:grpSpPr>
            <a:xfrm>
              <a:off x="8604360" y="2084400"/>
              <a:ext cx="2796840" cy="1342080"/>
              <a:chOff x="8604360" y="2084400"/>
              <a:chExt cx="2796840" cy="1342080"/>
            </a:xfrm>
          </p:grpSpPr>
          <p:sp>
            <p:nvSpPr>
              <p:cNvPr id="279" name="文本框 31"/>
              <p:cNvSpPr/>
              <p:nvPr/>
            </p:nvSpPr>
            <p:spPr>
              <a:xfrm>
                <a:off x="8604360" y="2084400"/>
                <a:ext cx="279684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第二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文本框 32"/>
              <p:cNvSpPr/>
              <p:nvPr/>
            </p:nvSpPr>
            <p:spPr>
              <a:xfrm>
                <a:off x="8605800" y="2422440"/>
                <a:ext cx="187596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在此处单击更改自己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的文字在此处更改自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己的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8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组合 25"/>
            <p:cNvGrpSpPr/>
            <p:nvPr/>
          </p:nvGrpSpPr>
          <p:grpSpPr>
            <a:xfrm>
              <a:off x="868320" y="4438800"/>
              <a:ext cx="2796840" cy="1354680"/>
              <a:chOff x="868320" y="4438800"/>
              <a:chExt cx="2796840" cy="1354680"/>
            </a:xfrm>
          </p:grpSpPr>
          <p:sp>
            <p:nvSpPr>
              <p:cNvPr id="282" name="文本框 29"/>
              <p:cNvSpPr/>
              <p:nvPr/>
            </p:nvSpPr>
            <p:spPr>
              <a:xfrm>
                <a:off x="868320" y="4438800"/>
                <a:ext cx="279684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ts val="1800"/>
                  </a:lnSpc>
                </a:pPr>
                <a:r>
                  <a:rPr b="0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第三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文本框 30"/>
              <p:cNvSpPr/>
              <p:nvPr/>
            </p:nvSpPr>
            <p:spPr>
              <a:xfrm>
                <a:off x="1787400" y="4789440"/>
                <a:ext cx="187596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r"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在此处单击更改自己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的文字在此处更改自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己的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ts val="18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组合 26"/>
            <p:cNvGrpSpPr/>
            <p:nvPr/>
          </p:nvGrpSpPr>
          <p:grpSpPr>
            <a:xfrm>
              <a:off x="8599320" y="4471920"/>
              <a:ext cx="2795400" cy="1342080"/>
              <a:chOff x="8599320" y="4471920"/>
              <a:chExt cx="2795400" cy="1342080"/>
            </a:xfrm>
          </p:grpSpPr>
          <p:sp>
            <p:nvSpPr>
              <p:cNvPr id="285" name="文本框 27"/>
              <p:cNvSpPr/>
              <p:nvPr/>
            </p:nvSpPr>
            <p:spPr>
              <a:xfrm>
                <a:off x="8599320" y="4471920"/>
                <a:ext cx="279540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zh-CN" sz="16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第四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文本框 28"/>
              <p:cNvSpPr/>
              <p:nvPr/>
            </p:nvSpPr>
            <p:spPr>
              <a:xfrm>
                <a:off x="8601120" y="4809960"/>
                <a:ext cx="187452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在此处单击更改自己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的文字在此处更改自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800"/>
                  </a:lnSpc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己的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800"/>
                  </a:lnSpc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287" name="直接连接符 35"/>
          <p:cNvCxnSpPr/>
          <p:nvPr/>
        </p:nvCxnSpPr>
        <p:spPr>
          <a:xfrm>
            <a:off x="8599320" y="4520880"/>
            <a:ext cx="360" cy="1002240"/>
          </a:xfrm>
          <a:prstGeom prst="straightConnector1">
            <a:avLst/>
          </a:prstGeom>
          <a:ln>
            <a:solidFill>
              <a:srgbClr val="ed7d31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4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289" name="文本框 5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6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需求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文本框 8"/>
          <p:cNvSpPr/>
          <p:nvPr/>
        </p:nvSpPr>
        <p:spPr>
          <a:xfrm>
            <a:off x="446040" y="961920"/>
            <a:ext cx="3985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36eb8"/>
                </a:solidFill>
                <a:latin typeface="等线"/>
                <a:ea typeface="等线"/>
              </a:rPr>
              <a:t>设计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1" descr=""/>
          <p:cNvPicPr/>
          <p:nvPr/>
        </p:nvPicPr>
        <p:blipFill>
          <a:blip r:embed="rId1"/>
          <a:stretch/>
        </p:blipFill>
        <p:spPr>
          <a:xfrm>
            <a:off x="10147320" y="4146480"/>
            <a:ext cx="1528560" cy="2292120"/>
          </a:xfrm>
          <a:prstGeom prst="rect">
            <a:avLst/>
          </a:prstGeom>
          <a:ln w="9525">
            <a:noFill/>
          </a:ln>
        </p:spPr>
      </p:pic>
      <p:sp>
        <p:nvSpPr>
          <p:cNvPr id="293" name="椭圆 1064"/>
          <p:cNvSpPr/>
          <p:nvPr/>
        </p:nvSpPr>
        <p:spPr>
          <a:xfrm>
            <a:off x="1727280" y="2440080"/>
            <a:ext cx="914040" cy="914040"/>
          </a:xfrm>
          <a:prstGeom prst="ellipse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94" name="椭圆 139"/>
          <p:cNvSpPr/>
          <p:nvPr/>
        </p:nvSpPr>
        <p:spPr>
          <a:xfrm>
            <a:off x="3919680" y="4070520"/>
            <a:ext cx="406080" cy="406080"/>
          </a:xfrm>
          <a:prstGeom prst="ellipse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95" name="椭圆 140"/>
          <p:cNvSpPr/>
          <p:nvPr/>
        </p:nvSpPr>
        <p:spPr>
          <a:xfrm>
            <a:off x="6146640" y="2160720"/>
            <a:ext cx="1193400" cy="1193400"/>
          </a:xfrm>
          <a:prstGeom prst="ellipse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96" name="椭圆 142"/>
          <p:cNvSpPr/>
          <p:nvPr/>
        </p:nvSpPr>
        <p:spPr>
          <a:xfrm>
            <a:off x="9317160" y="4070520"/>
            <a:ext cx="406080" cy="406080"/>
          </a:xfrm>
          <a:prstGeom prst="ellipse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cxnSp>
        <p:nvCxnSpPr>
          <p:cNvPr id="297" name="直接连接符 1066"/>
          <p:cNvCxnSpPr>
            <a:stCxn id="293" idx="5"/>
            <a:endCxn id="294" idx="1"/>
          </p:cNvCxnSpPr>
          <p:nvPr/>
        </p:nvCxnSpPr>
        <p:spPr>
          <a:xfrm>
            <a:off x="2508120" y="3220920"/>
            <a:ext cx="1470240" cy="910080"/>
          </a:xfrm>
          <a:prstGeom prst="straightConnector1">
            <a:avLst/>
          </a:prstGeom>
          <a:ln>
            <a:solidFill>
              <a:srgbClr val="036eb8"/>
            </a:solidFill>
          </a:ln>
        </p:spPr>
      </p:cxnSp>
      <p:cxnSp>
        <p:nvCxnSpPr>
          <p:cNvPr id="298" name="直接连接符 1068"/>
          <p:cNvCxnSpPr>
            <a:stCxn id="294" idx="6"/>
            <a:endCxn id="295" idx="3"/>
          </p:cNvCxnSpPr>
          <p:nvPr/>
        </p:nvCxnSpPr>
        <p:spPr>
          <a:xfrm flipV="1">
            <a:off x="4325760" y="3179520"/>
            <a:ext cx="1995840" cy="109404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299" name="直接连接符 1070"/>
          <p:cNvCxnSpPr>
            <a:stCxn id="295" idx="6"/>
            <a:endCxn id="296" idx="1"/>
          </p:cNvCxnSpPr>
          <p:nvPr/>
        </p:nvCxnSpPr>
        <p:spPr>
          <a:xfrm>
            <a:off x="7340400" y="2757240"/>
            <a:ext cx="2035440" cy="13737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00" name="直接连接符 1072"/>
          <p:cNvCxnSpPr>
            <a:stCxn id="293" idx="5"/>
            <a:endCxn id="294" idx="0"/>
          </p:cNvCxnSpPr>
          <p:nvPr/>
        </p:nvCxnSpPr>
        <p:spPr>
          <a:xfrm>
            <a:off x="2508120" y="3220920"/>
            <a:ext cx="1614960" cy="849600"/>
          </a:xfrm>
          <a:prstGeom prst="straightConnector1">
            <a:avLst/>
          </a:prstGeom>
          <a:ln>
            <a:solidFill>
              <a:srgbClr val="036eb8"/>
            </a:solidFill>
          </a:ln>
        </p:spPr>
      </p:cxnSp>
      <p:cxnSp>
        <p:nvCxnSpPr>
          <p:cNvPr id="301" name="直接连接符 1074"/>
          <p:cNvCxnSpPr>
            <a:stCxn id="293" idx="5"/>
            <a:endCxn id="294" idx="2"/>
          </p:cNvCxnSpPr>
          <p:nvPr/>
        </p:nvCxnSpPr>
        <p:spPr>
          <a:xfrm>
            <a:off x="2508120" y="3220920"/>
            <a:ext cx="1411560" cy="1052640"/>
          </a:xfrm>
          <a:prstGeom prst="straightConnector1">
            <a:avLst/>
          </a:prstGeom>
          <a:ln>
            <a:solidFill>
              <a:srgbClr val="036eb8"/>
            </a:solidFill>
          </a:ln>
        </p:spPr>
      </p:cxnSp>
      <p:cxnSp>
        <p:nvCxnSpPr>
          <p:cNvPr id="302" name="直接连接符 1079"/>
          <p:cNvCxnSpPr>
            <a:stCxn id="294" idx="7"/>
            <a:endCxn id="295" idx="3"/>
          </p:cNvCxnSpPr>
          <p:nvPr/>
        </p:nvCxnSpPr>
        <p:spPr>
          <a:xfrm flipV="1">
            <a:off x="4267080" y="3179520"/>
            <a:ext cx="2054520" cy="95148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03" name="直接连接符 1081"/>
          <p:cNvCxnSpPr>
            <a:stCxn id="294" idx="5"/>
            <a:endCxn id="295" idx="3"/>
          </p:cNvCxnSpPr>
          <p:nvPr/>
        </p:nvCxnSpPr>
        <p:spPr>
          <a:xfrm flipV="1">
            <a:off x="4267080" y="3179520"/>
            <a:ext cx="2054520" cy="12387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04" name="直接连接符 1083"/>
          <p:cNvCxnSpPr>
            <a:stCxn id="295" idx="6"/>
            <a:endCxn id="296" idx="0"/>
          </p:cNvCxnSpPr>
          <p:nvPr/>
        </p:nvCxnSpPr>
        <p:spPr>
          <a:xfrm>
            <a:off x="7340400" y="2757240"/>
            <a:ext cx="2180160" cy="131328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305" name="直接连接符 1085"/>
          <p:cNvCxnSpPr>
            <a:stCxn id="295" idx="6"/>
            <a:endCxn id="296" idx="2"/>
          </p:cNvCxnSpPr>
          <p:nvPr/>
        </p:nvCxnSpPr>
        <p:spPr>
          <a:xfrm>
            <a:off x="7340400" y="2757240"/>
            <a:ext cx="1976760" cy="15163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grpSp>
        <p:nvGrpSpPr>
          <p:cNvPr id="306" name="组合 129"/>
          <p:cNvGrpSpPr/>
          <p:nvPr/>
        </p:nvGrpSpPr>
        <p:grpSpPr>
          <a:xfrm>
            <a:off x="1357200" y="3516480"/>
            <a:ext cx="1639440" cy="764640"/>
            <a:chOff x="1357200" y="3516480"/>
            <a:chExt cx="1639440" cy="764640"/>
          </a:xfrm>
        </p:grpSpPr>
        <p:sp>
          <p:nvSpPr>
            <p:cNvPr id="307" name="文本框 1086"/>
            <p:cNvSpPr/>
            <p:nvPr/>
          </p:nvSpPr>
          <p:spPr>
            <a:xfrm>
              <a:off x="1703160" y="3516480"/>
              <a:ext cx="9144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巧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128"/>
            <p:cNvSpPr/>
            <p:nvPr/>
          </p:nvSpPr>
          <p:spPr>
            <a:xfrm>
              <a:off x="1357200" y="3917160"/>
              <a:ext cx="16394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每一个模板都用心设计，一切以实用为原则，不浮夸，不做作，不免费。爱学习，好交流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168"/>
          <p:cNvGrpSpPr/>
          <p:nvPr/>
        </p:nvGrpSpPr>
        <p:grpSpPr>
          <a:xfrm>
            <a:off x="6012000" y="3516480"/>
            <a:ext cx="1638000" cy="764640"/>
            <a:chOff x="6012000" y="3516480"/>
            <a:chExt cx="1638000" cy="764640"/>
          </a:xfrm>
        </p:grpSpPr>
        <p:sp>
          <p:nvSpPr>
            <p:cNvPr id="310" name="文本框 169"/>
            <p:cNvSpPr/>
            <p:nvPr/>
          </p:nvSpPr>
          <p:spPr>
            <a:xfrm>
              <a:off x="6357600" y="3516480"/>
              <a:ext cx="9136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巧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文本框 170"/>
            <p:cNvSpPr/>
            <p:nvPr/>
          </p:nvSpPr>
          <p:spPr>
            <a:xfrm>
              <a:off x="6012000" y="3917160"/>
              <a:ext cx="16380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每一个模板都用心设计，一切以实用为原则，不浮夸，不做作，不免费。爱学习，好交流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171"/>
          <p:cNvGrpSpPr/>
          <p:nvPr/>
        </p:nvGrpSpPr>
        <p:grpSpPr>
          <a:xfrm>
            <a:off x="8975880" y="1452600"/>
            <a:ext cx="1638000" cy="765000"/>
            <a:chOff x="8975880" y="1452600"/>
            <a:chExt cx="1638000" cy="765000"/>
          </a:xfrm>
        </p:grpSpPr>
        <p:sp>
          <p:nvSpPr>
            <p:cNvPr id="313" name="文本框 172"/>
            <p:cNvSpPr/>
            <p:nvPr/>
          </p:nvSpPr>
          <p:spPr>
            <a:xfrm>
              <a:off x="9321480" y="1452600"/>
              <a:ext cx="9136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巧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文本框 173"/>
            <p:cNvSpPr/>
            <p:nvPr/>
          </p:nvSpPr>
          <p:spPr>
            <a:xfrm>
              <a:off x="8975880" y="1853640"/>
              <a:ext cx="16380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每一个模板都用心设计，一切以实用为原则，不浮夸，不做作，不免费。爱学习，好交流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74"/>
          <p:cNvGrpSpPr/>
          <p:nvPr/>
        </p:nvGrpSpPr>
        <p:grpSpPr>
          <a:xfrm>
            <a:off x="3419640" y="1400040"/>
            <a:ext cx="1638000" cy="765000"/>
            <a:chOff x="3419640" y="1400040"/>
            <a:chExt cx="1638000" cy="765000"/>
          </a:xfrm>
        </p:grpSpPr>
        <p:sp>
          <p:nvSpPr>
            <p:cNvPr id="316" name="文本框 175"/>
            <p:cNvSpPr/>
            <p:nvPr/>
          </p:nvSpPr>
          <p:spPr>
            <a:xfrm>
              <a:off x="3765240" y="1400040"/>
              <a:ext cx="9136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技巧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176"/>
            <p:cNvSpPr/>
            <p:nvPr/>
          </p:nvSpPr>
          <p:spPr>
            <a:xfrm>
              <a:off x="3419640" y="1801080"/>
              <a:ext cx="16380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每一个模板都用心设计，一切以实用为原则，不浮夸，不做作，不免费。爱学习，好交流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8"/>
          <p:cNvSpPr/>
          <p:nvPr/>
        </p:nvSpPr>
        <p:spPr>
          <a:xfrm>
            <a:off x="63360" y="62953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组合 4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320" name="文本框 5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文本框 6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需求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文本框 8"/>
          <p:cNvSpPr/>
          <p:nvPr/>
        </p:nvSpPr>
        <p:spPr>
          <a:xfrm>
            <a:off x="446040" y="961920"/>
            <a:ext cx="3985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36eb8"/>
                </a:solidFill>
                <a:latin typeface="等线"/>
                <a:ea typeface="等线"/>
              </a:rPr>
              <a:t>案例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3"/>
          <p:cNvSpPr/>
          <p:nvPr/>
        </p:nvSpPr>
        <p:spPr>
          <a:xfrm>
            <a:off x="1092240" y="1798560"/>
            <a:ext cx="243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案例情况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9"/>
          <p:cNvSpPr/>
          <p:nvPr/>
        </p:nvSpPr>
        <p:spPr>
          <a:xfrm>
            <a:off x="1092240" y="2171880"/>
            <a:ext cx="976608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爱学习，好交流，想用设计结交更多志同道合的朋友。欢迎咨询交流，共同进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3"/>
          <p:cNvGrpSpPr/>
          <p:nvPr/>
        </p:nvGrpSpPr>
        <p:grpSpPr>
          <a:xfrm>
            <a:off x="1091880" y="3475080"/>
            <a:ext cx="9766440" cy="909360"/>
            <a:chOff x="1091880" y="3475080"/>
            <a:chExt cx="9766440" cy="909360"/>
          </a:xfrm>
        </p:grpSpPr>
        <p:sp>
          <p:nvSpPr>
            <p:cNvPr id="326" name="文本框 7"/>
            <p:cNvSpPr/>
            <p:nvPr/>
          </p:nvSpPr>
          <p:spPr>
            <a:xfrm>
              <a:off x="1092240" y="3475080"/>
              <a:ext cx="2628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036eb8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36eb8"/>
                  </a:solidFill>
                  <a:latin typeface="等线"/>
                  <a:ea typeface="等线"/>
                </a:rPr>
                <a:t>讨论点一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直接连接符 11"/>
            <p:cNvCxnSpPr/>
            <p:nvPr/>
          </p:nvCxnSpPr>
          <p:spPr>
            <a:xfrm>
              <a:off x="1091880" y="3908160"/>
              <a:ext cx="9766800" cy="360"/>
            </a:xfrm>
            <a:prstGeom prst="straightConnector1">
              <a:avLst/>
            </a:prstGeom>
            <a:ln>
              <a:solidFill>
                <a:srgbClr val="e7e6e6">
                  <a:lumMod val="75000"/>
                </a:srgbClr>
              </a:solidFill>
              <a:prstDash val="dash"/>
            </a:ln>
          </p:spPr>
        </p:cxnSp>
        <p:sp>
          <p:nvSpPr>
            <p:cNvPr id="328" name="文本框 12"/>
            <p:cNvSpPr/>
            <p:nvPr/>
          </p:nvSpPr>
          <p:spPr>
            <a:xfrm>
              <a:off x="1092240" y="3883320"/>
              <a:ext cx="976608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每一个模板都用心设计，一切以实用为原则，不浮夸，不做作，不免费。爱学习，好交流，想用设计结交更多志同道合的朋友。欢迎咨询交流，共同进步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14"/>
          <p:cNvGrpSpPr/>
          <p:nvPr/>
        </p:nvGrpSpPr>
        <p:grpSpPr>
          <a:xfrm>
            <a:off x="1091880" y="4834080"/>
            <a:ext cx="9766440" cy="909360"/>
            <a:chOff x="1091880" y="4834080"/>
            <a:chExt cx="9766440" cy="909360"/>
          </a:xfrm>
        </p:grpSpPr>
        <p:sp>
          <p:nvSpPr>
            <p:cNvPr id="330" name="文本框 15"/>
            <p:cNvSpPr/>
            <p:nvPr/>
          </p:nvSpPr>
          <p:spPr>
            <a:xfrm>
              <a:off x="1092240" y="4834080"/>
              <a:ext cx="26287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036eb8"/>
                </a:buClr>
                <a:buFont typeface="Arial"/>
                <a:buChar char="•"/>
              </a:pPr>
              <a:r>
                <a:rPr b="0" lang="zh-CN" sz="1800" spc="-1" strike="noStrike">
                  <a:solidFill>
                    <a:srgbClr val="036eb8"/>
                  </a:solidFill>
                  <a:latin typeface="等线"/>
                  <a:ea typeface="等线"/>
                </a:rPr>
                <a:t>讨论点二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1" name="直接连接符 16"/>
            <p:cNvCxnSpPr/>
            <p:nvPr/>
          </p:nvCxnSpPr>
          <p:spPr>
            <a:xfrm>
              <a:off x="1091880" y="5267160"/>
              <a:ext cx="9766800" cy="360"/>
            </a:xfrm>
            <a:prstGeom prst="straightConnector1">
              <a:avLst/>
            </a:prstGeom>
            <a:ln>
              <a:solidFill>
                <a:srgbClr val="e7e6e6">
                  <a:lumMod val="75000"/>
                </a:srgbClr>
              </a:solidFill>
              <a:prstDash val="dash"/>
            </a:ln>
          </p:spPr>
        </p:cxnSp>
        <p:sp>
          <p:nvSpPr>
            <p:cNvPr id="332" name="文本框 17"/>
            <p:cNvSpPr/>
            <p:nvPr/>
          </p:nvSpPr>
          <p:spPr>
            <a:xfrm>
              <a:off x="1092240" y="5242320"/>
              <a:ext cx="976608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just"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每一个模板都用心设计，一切以实用为原则，不浮夸，不做作，不免费。爱学习，好交流，想用设计结交更多志同道合的朋友。欢迎咨询交流，共同进步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3" name="直接连接符 19"/>
          <p:cNvCxnSpPr/>
          <p:nvPr/>
        </p:nvCxnSpPr>
        <p:spPr>
          <a:xfrm>
            <a:off x="2804760" y="1989000"/>
            <a:ext cx="8053920" cy="360"/>
          </a:xfrm>
          <a:prstGeom prst="straightConnector1">
            <a:avLst/>
          </a:prstGeom>
          <a:ln>
            <a:solidFill>
              <a:srgbClr val="e7e6e6">
                <a:lumMod val="75000"/>
              </a:srgbClr>
            </a:solidFill>
          </a:ln>
        </p:spPr>
      </p:cxnSp>
      <p:cxnSp>
        <p:nvCxnSpPr>
          <p:cNvPr id="334" name="直接连接符 20"/>
          <p:cNvCxnSpPr/>
          <p:nvPr/>
        </p:nvCxnSpPr>
        <p:spPr>
          <a:xfrm>
            <a:off x="1233360" y="3321000"/>
            <a:ext cx="9625320" cy="360"/>
          </a:xfrm>
          <a:prstGeom prst="straightConnector1">
            <a:avLst/>
          </a:prstGeom>
          <a:ln>
            <a:solidFill>
              <a:srgbClr val="e7e6e6">
                <a:lumMod val="75000"/>
              </a:srgbClr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组合 4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336" name="文本框 5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文本框 6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需求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文本框 10"/>
          <p:cNvSpPr/>
          <p:nvPr/>
        </p:nvSpPr>
        <p:spPr>
          <a:xfrm>
            <a:off x="446040" y="961920"/>
            <a:ext cx="3985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36eb8"/>
                </a:solidFill>
                <a:latin typeface="等线"/>
                <a:ea typeface="等线"/>
              </a:rPr>
              <a:t>用户需求</a:t>
            </a:r>
            <a:r>
              <a:rPr b="0" lang="zh-CN" sz="3200" spc="-1" strike="noStrike">
                <a:solidFill>
                  <a:schemeClr val="accent2"/>
                </a:solidFill>
                <a:latin typeface="等线"/>
                <a:ea typeface="等线"/>
              </a:rPr>
              <a:t>定向</a:t>
            </a:r>
            <a:r>
              <a:rPr b="0" lang="zh-CN" sz="3200" spc="-1" strike="noStrike">
                <a:solidFill>
                  <a:srgbClr val="036eb8"/>
                </a:solidFill>
                <a:latin typeface="等线"/>
                <a:ea typeface="等线"/>
              </a:rPr>
              <a:t>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组合 59"/>
          <p:cNvGrpSpPr/>
          <p:nvPr/>
        </p:nvGrpSpPr>
        <p:grpSpPr>
          <a:xfrm>
            <a:off x="2035080" y="2043000"/>
            <a:ext cx="4695840" cy="3665520"/>
            <a:chOff x="2035080" y="2043000"/>
            <a:chExt cx="4695840" cy="3665520"/>
          </a:xfrm>
        </p:grpSpPr>
        <p:sp>
          <p:nvSpPr>
            <p:cNvPr id="340" name="椭圆 14"/>
            <p:cNvSpPr/>
            <p:nvPr/>
          </p:nvSpPr>
          <p:spPr>
            <a:xfrm>
              <a:off x="3798720" y="2043000"/>
              <a:ext cx="1168200" cy="1168200"/>
            </a:xfrm>
            <a:prstGeom prst="ellipse">
              <a:avLst/>
            </a:prstGeom>
            <a:solidFill>
              <a:schemeClr val="bg2">
                <a:lumMod val="9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341" name="文本框 17"/>
            <p:cNvSpPr/>
            <p:nvPr/>
          </p:nvSpPr>
          <p:spPr>
            <a:xfrm>
              <a:off x="3932280" y="2211840"/>
              <a:ext cx="901440" cy="821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针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调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组合 22"/>
            <p:cNvGrpSpPr/>
            <p:nvPr/>
          </p:nvGrpSpPr>
          <p:grpSpPr>
            <a:xfrm>
              <a:off x="3798720" y="4540320"/>
              <a:ext cx="1168200" cy="1168200"/>
              <a:chOff x="3798720" y="4540320"/>
              <a:chExt cx="1168200" cy="1168200"/>
            </a:xfrm>
          </p:grpSpPr>
          <p:sp>
            <p:nvSpPr>
              <p:cNvPr id="343" name="椭圆 16"/>
              <p:cNvSpPr/>
              <p:nvPr/>
            </p:nvSpPr>
            <p:spPr>
              <a:xfrm>
                <a:off x="3798720" y="4540320"/>
                <a:ext cx="1168200" cy="1168200"/>
              </a:xfrm>
              <a:prstGeom prst="ellipse">
                <a:avLst/>
              </a:prstGeom>
              <a:solidFill>
                <a:schemeClr val="bg2">
                  <a:lumMod val="9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344" name="文本框 18"/>
              <p:cNvSpPr/>
              <p:nvPr/>
            </p:nvSpPr>
            <p:spPr>
              <a:xfrm>
                <a:off x="3932280" y="4708800"/>
                <a:ext cx="901440" cy="82116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036eb8"/>
                    </a:solidFill>
                    <a:latin typeface="微软雅黑"/>
                    <a:ea typeface="微软雅黑"/>
                  </a:rPr>
                  <a:t>合作方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椭圆 20"/>
            <p:cNvSpPr/>
            <p:nvPr/>
          </p:nvSpPr>
          <p:spPr>
            <a:xfrm>
              <a:off x="2035080" y="3422520"/>
              <a:ext cx="1168200" cy="1168200"/>
            </a:xfrm>
            <a:prstGeom prst="ellipse">
              <a:avLst/>
            </a:prstGeom>
            <a:solidFill>
              <a:schemeClr val="bg2">
                <a:lumMod val="9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346" name="椭圆 21"/>
            <p:cNvSpPr/>
            <p:nvPr/>
          </p:nvSpPr>
          <p:spPr>
            <a:xfrm>
              <a:off x="5562720" y="3422520"/>
              <a:ext cx="1168200" cy="1168200"/>
            </a:xfrm>
            <a:prstGeom prst="ellipse">
              <a:avLst/>
            </a:prstGeom>
            <a:solidFill>
              <a:schemeClr val="bg2">
                <a:lumMod val="9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347" name="文本框 34"/>
            <p:cNvSpPr/>
            <p:nvPr/>
          </p:nvSpPr>
          <p:spPr>
            <a:xfrm>
              <a:off x="5695920" y="3591720"/>
              <a:ext cx="901440" cy="821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项目技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35"/>
            <p:cNvSpPr/>
            <p:nvPr/>
          </p:nvSpPr>
          <p:spPr>
            <a:xfrm>
              <a:off x="2168640" y="3591720"/>
              <a:ext cx="901440" cy="821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方案沟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9" name="直接箭头连接符 37"/>
            <p:cNvCxnSpPr/>
            <p:nvPr/>
          </p:nvCxnSpPr>
          <p:spPr>
            <a:xfrm flipH="1">
              <a:off x="3124080" y="3060360"/>
              <a:ext cx="754200" cy="584640"/>
            </a:xfrm>
            <a:prstGeom prst="straightConnector1">
              <a:avLst/>
            </a:prstGeom>
            <a:ln w="57150">
              <a:solidFill>
                <a:srgbClr val="ed7d31">
                  <a:lumMod val="60000"/>
                  <a:lumOff val="40000"/>
                </a:srgbClr>
              </a:solidFill>
              <a:tailEnd len="med" type="triangle" w="med"/>
            </a:ln>
          </p:spPr>
        </p:cxnSp>
        <p:cxnSp>
          <p:nvCxnSpPr>
            <p:cNvPr id="350" name="直接箭头连接符 39"/>
            <p:cNvCxnSpPr/>
            <p:nvPr/>
          </p:nvCxnSpPr>
          <p:spPr>
            <a:xfrm>
              <a:off x="4833720" y="3055680"/>
              <a:ext cx="729000" cy="589320"/>
            </a:xfrm>
            <a:prstGeom prst="straightConnector1">
              <a:avLst/>
            </a:prstGeom>
            <a:ln w="57150">
              <a:solidFill>
                <a:srgbClr val="ed7d31">
                  <a:lumMod val="60000"/>
                  <a:lumOff val="40000"/>
                </a:srgbClr>
              </a:solidFill>
              <a:tailEnd len="med" type="triangle" w="med"/>
            </a:ln>
          </p:spPr>
        </p:cxnSp>
        <p:cxnSp>
          <p:nvCxnSpPr>
            <p:cNvPr id="351" name="直接箭头连接符 43"/>
            <p:cNvCxnSpPr/>
            <p:nvPr/>
          </p:nvCxnSpPr>
          <p:spPr>
            <a:xfrm flipH="1">
              <a:off x="4305240" y="3282840"/>
              <a:ext cx="20880" cy="1173600"/>
            </a:xfrm>
            <a:prstGeom prst="straightConnector1">
              <a:avLst/>
            </a:prstGeom>
            <a:ln w="57150">
              <a:solidFill>
                <a:srgbClr val="ed7d31">
                  <a:lumMod val="60000"/>
                  <a:lumOff val="40000"/>
                </a:srgbClr>
              </a:solidFill>
              <a:tailEnd len="med" type="triangle" w="med"/>
            </a:ln>
          </p:spPr>
        </p:cxnSp>
        <p:cxnSp>
          <p:nvCxnSpPr>
            <p:cNvPr id="352" name="直接箭头连接符 45"/>
            <p:cNvCxnSpPr/>
            <p:nvPr/>
          </p:nvCxnSpPr>
          <p:spPr>
            <a:xfrm flipV="1">
              <a:off x="4458960" y="3281040"/>
              <a:ext cx="19440" cy="1141920"/>
            </a:xfrm>
            <a:prstGeom prst="straightConnector1">
              <a:avLst/>
            </a:prstGeom>
            <a:ln w="57150">
              <a:solidFill>
                <a:srgbClr val="ed7d31">
                  <a:lumMod val="60000"/>
                  <a:lumOff val="40000"/>
                </a:srgbClr>
              </a:solidFill>
              <a:tailEnd len="med" type="triangle" w="med"/>
            </a:ln>
          </p:spPr>
        </p:cxnSp>
        <p:cxnSp>
          <p:nvCxnSpPr>
            <p:cNvPr id="353" name="直接箭头连接符 50"/>
            <p:cNvCxnSpPr/>
            <p:nvPr/>
          </p:nvCxnSpPr>
          <p:spPr>
            <a:xfrm flipV="1">
              <a:off x="5000400" y="4536720"/>
              <a:ext cx="695880" cy="397440"/>
            </a:xfrm>
            <a:prstGeom prst="straightConnector1">
              <a:avLst/>
            </a:prstGeom>
            <a:ln w="57150">
              <a:solidFill>
                <a:srgbClr val="ed7d31">
                  <a:lumMod val="60000"/>
                  <a:lumOff val="40000"/>
                </a:srgbClr>
              </a:solidFill>
              <a:tailEnd len="med" type="triangle" w="med"/>
            </a:ln>
          </p:spPr>
        </p:cxnSp>
        <p:cxnSp>
          <p:nvCxnSpPr>
            <p:cNvPr id="354" name="直接箭头连接符 53"/>
            <p:cNvCxnSpPr/>
            <p:nvPr/>
          </p:nvCxnSpPr>
          <p:spPr>
            <a:xfrm flipH="1" flipV="1">
              <a:off x="2963520" y="4539960"/>
              <a:ext cx="783000" cy="414720"/>
            </a:xfrm>
            <a:prstGeom prst="straightConnector1">
              <a:avLst/>
            </a:prstGeom>
            <a:ln w="57150">
              <a:solidFill>
                <a:srgbClr val="ed7d31">
                  <a:lumMod val="60000"/>
                  <a:lumOff val="40000"/>
                </a:srgbClr>
              </a:solidFill>
              <a:tailEnd len="med" type="triangle" w="med"/>
            </a:ln>
          </p:spPr>
        </p:cxnSp>
      </p:grpSp>
      <p:grpSp>
        <p:nvGrpSpPr>
          <p:cNvPr id="355" name="组合 58"/>
          <p:cNvGrpSpPr/>
          <p:nvPr/>
        </p:nvGrpSpPr>
        <p:grpSpPr>
          <a:xfrm>
            <a:off x="7815240" y="2712960"/>
            <a:ext cx="3649320" cy="1071720"/>
            <a:chOff x="7815240" y="2712960"/>
            <a:chExt cx="3649320" cy="1071720"/>
          </a:xfrm>
        </p:grpSpPr>
        <p:sp>
          <p:nvSpPr>
            <p:cNvPr id="356" name="文本框 56"/>
            <p:cNvSpPr/>
            <p:nvPr/>
          </p:nvSpPr>
          <p:spPr>
            <a:xfrm>
              <a:off x="7815240" y="3283560"/>
              <a:ext cx="3649320" cy="501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针对所获得全部数据进行可视化处理，直观展现。每一个模板都用心设计，一切以实用为原则，不浮夸，不做作，不免费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文本框 57"/>
            <p:cNvSpPr/>
            <p:nvPr/>
          </p:nvSpPr>
          <p:spPr>
            <a:xfrm>
              <a:off x="7859880" y="2712960"/>
              <a:ext cx="205308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数据处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58" name="直接连接符 61"/>
          <p:cNvCxnSpPr/>
          <p:nvPr/>
        </p:nvCxnSpPr>
        <p:spPr>
          <a:xfrm>
            <a:off x="7887960" y="3211200"/>
            <a:ext cx="3404160" cy="360"/>
          </a:xfrm>
          <a:prstGeom prst="straightConnector1">
            <a:avLst/>
          </a:prstGeom>
          <a:ln>
            <a:solidFill>
              <a:srgbClr val="e7e6e6">
                <a:lumMod val="75000"/>
              </a:srgbClr>
            </a:solidFill>
            <a:prstDash val="sys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矩形 4"/>
          <p:cNvSpPr/>
          <p:nvPr/>
        </p:nvSpPr>
        <p:spPr>
          <a:xfrm>
            <a:off x="0" y="2100240"/>
            <a:ext cx="12191760" cy="2671560"/>
          </a:xfrm>
          <a:prstGeom prst="rect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grpSp>
        <p:nvGrpSpPr>
          <p:cNvPr id="360" name="组合 5"/>
          <p:cNvGrpSpPr/>
          <p:nvPr/>
        </p:nvGrpSpPr>
        <p:grpSpPr>
          <a:xfrm>
            <a:off x="5705640" y="2086560"/>
            <a:ext cx="780480" cy="2684880"/>
            <a:chOff x="5705640" y="2086560"/>
            <a:chExt cx="780480" cy="2684880"/>
          </a:xfrm>
        </p:grpSpPr>
        <p:sp>
          <p:nvSpPr>
            <p:cNvPr id="361" name="等腰三角形 8"/>
            <p:cNvSpPr/>
            <p:nvPr/>
          </p:nvSpPr>
          <p:spPr>
            <a:xfrm flipV="1">
              <a:off x="5705640" y="2086560"/>
              <a:ext cx="780480" cy="580320"/>
            </a:xfrm>
            <a:prstGeom prst="triangle">
              <a:avLst>
                <a:gd name="adj" fmla="val 50000"/>
              </a:avLst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362" name="等腰三角形 9"/>
            <p:cNvSpPr/>
            <p:nvPr/>
          </p:nvSpPr>
          <p:spPr>
            <a:xfrm>
              <a:off x="5705640" y="4191120"/>
              <a:ext cx="780480" cy="580320"/>
            </a:xfrm>
            <a:prstGeom prst="triangle">
              <a:avLst>
                <a:gd name="adj" fmla="val 50000"/>
              </a:avLst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grpSp>
        <p:nvGrpSpPr>
          <p:cNvPr id="363" name="组合 1"/>
          <p:cNvGrpSpPr/>
          <p:nvPr/>
        </p:nvGrpSpPr>
        <p:grpSpPr>
          <a:xfrm>
            <a:off x="3598920" y="2908440"/>
            <a:ext cx="4601880" cy="820800"/>
            <a:chOff x="3598920" y="2908440"/>
            <a:chExt cx="4601880" cy="820800"/>
          </a:xfrm>
        </p:grpSpPr>
        <p:sp>
          <p:nvSpPr>
            <p:cNvPr id="364" name="文本框 6"/>
            <p:cNvSpPr/>
            <p:nvPr/>
          </p:nvSpPr>
          <p:spPr>
            <a:xfrm>
              <a:off x="4310280" y="2908440"/>
              <a:ext cx="38905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项目设计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7"/>
            <p:cNvSpPr/>
            <p:nvPr/>
          </p:nvSpPr>
          <p:spPr>
            <a:xfrm>
              <a:off x="3598920" y="2908440"/>
              <a:ext cx="10015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组合 2"/>
          <p:cNvGrpSpPr/>
          <p:nvPr/>
        </p:nvGrpSpPr>
        <p:grpSpPr>
          <a:xfrm>
            <a:off x="3267000" y="1552680"/>
            <a:ext cx="5657400" cy="4949640"/>
            <a:chOff x="3267000" y="1552680"/>
            <a:chExt cx="5657400" cy="4949640"/>
          </a:xfrm>
        </p:grpSpPr>
        <p:sp>
          <p:nvSpPr>
            <p:cNvPr id="367" name="MH_SubTitle_4"/>
            <p:cNvSpPr/>
            <p:nvPr/>
          </p:nvSpPr>
          <p:spPr>
            <a:xfrm>
              <a:off x="3267000" y="2292480"/>
              <a:ext cx="2731680" cy="712440"/>
            </a:xfrm>
            <a:custGeom>
              <a:avLst/>
              <a:gdLst>
                <a:gd name="textAreaLeft" fmla="*/ 0 w 2731680"/>
                <a:gd name="textAreaRight" fmla="*/ 2732040 w 273168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3024977" h="790148">
                  <a:moveTo>
                    <a:pt x="520353" y="0"/>
                  </a:moveTo>
                  <a:lnTo>
                    <a:pt x="520353" y="154147"/>
                  </a:lnTo>
                  <a:lnTo>
                    <a:pt x="3024977" y="154147"/>
                  </a:lnTo>
                  <a:lnTo>
                    <a:pt x="3024977" y="636001"/>
                  </a:lnTo>
                  <a:lnTo>
                    <a:pt x="520353" y="636001"/>
                  </a:lnTo>
                  <a:lnTo>
                    <a:pt x="520353" y="790148"/>
                  </a:lnTo>
                  <a:lnTo>
                    <a:pt x="0" y="395074"/>
                  </a:lnTo>
                  <a:close/>
                </a:path>
              </a:pathLst>
            </a:custGeom>
            <a:solidFill>
              <a:srgbClr val="036e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MH_SubTitle_3"/>
            <p:cNvSpPr/>
            <p:nvPr/>
          </p:nvSpPr>
          <p:spPr>
            <a:xfrm flipH="1">
              <a:off x="6192720" y="3152880"/>
              <a:ext cx="2731680" cy="712440"/>
            </a:xfrm>
            <a:custGeom>
              <a:avLst/>
              <a:gdLst>
                <a:gd name="textAreaLeft" fmla="*/ 360 w 2731680"/>
                <a:gd name="textAreaRight" fmla="*/ 2732400 w 273168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3024977" h="790148">
                  <a:moveTo>
                    <a:pt x="520353" y="0"/>
                  </a:moveTo>
                  <a:lnTo>
                    <a:pt x="520353" y="154147"/>
                  </a:lnTo>
                  <a:lnTo>
                    <a:pt x="3024977" y="154147"/>
                  </a:lnTo>
                  <a:lnTo>
                    <a:pt x="3024977" y="636001"/>
                  </a:lnTo>
                  <a:lnTo>
                    <a:pt x="520353" y="636001"/>
                  </a:lnTo>
                  <a:lnTo>
                    <a:pt x="520353" y="790148"/>
                  </a:lnTo>
                  <a:lnTo>
                    <a:pt x="0" y="395074"/>
                  </a:lnTo>
                  <a:close/>
                </a:path>
              </a:pathLst>
            </a:cu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MH_SubTitle_2"/>
            <p:cNvSpPr/>
            <p:nvPr/>
          </p:nvSpPr>
          <p:spPr>
            <a:xfrm>
              <a:off x="3267000" y="4013280"/>
              <a:ext cx="2731680" cy="712440"/>
            </a:xfrm>
            <a:custGeom>
              <a:avLst/>
              <a:gdLst>
                <a:gd name="textAreaLeft" fmla="*/ 0 w 2731680"/>
                <a:gd name="textAreaRight" fmla="*/ 2732040 w 2731680"/>
                <a:gd name="textAreaTop" fmla="*/ 0 h 712440"/>
                <a:gd name="textAreaBottom" fmla="*/ 712800 h 712440"/>
              </a:gdLst>
              <a:ahLst/>
              <a:rect l="textAreaLeft" t="textAreaTop" r="textAreaRight" b="textAreaBottom"/>
              <a:pathLst>
                <a:path w="3024977" h="790148">
                  <a:moveTo>
                    <a:pt x="520353" y="0"/>
                  </a:moveTo>
                  <a:lnTo>
                    <a:pt x="520353" y="154147"/>
                  </a:lnTo>
                  <a:lnTo>
                    <a:pt x="3024977" y="154147"/>
                  </a:lnTo>
                  <a:lnTo>
                    <a:pt x="3024977" y="636001"/>
                  </a:lnTo>
                  <a:lnTo>
                    <a:pt x="520353" y="636001"/>
                  </a:lnTo>
                  <a:lnTo>
                    <a:pt x="520353" y="790148"/>
                  </a:lnTo>
                  <a:lnTo>
                    <a:pt x="0" y="395074"/>
                  </a:lnTo>
                  <a:close/>
                </a:path>
              </a:pathLst>
            </a:custGeom>
            <a:solidFill>
              <a:srgbClr val="036e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MH_SubTitle_1"/>
            <p:cNvSpPr/>
            <p:nvPr/>
          </p:nvSpPr>
          <p:spPr>
            <a:xfrm flipH="1">
              <a:off x="6192720" y="4873680"/>
              <a:ext cx="2731680" cy="713880"/>
            </a:xfrm>
            <a:custGeom>
              <a:avLst/>
              <a:gdLst>
                <a:gd name="textAreaLeft" fmla="*/ 360 w 2731680"/>
                <a:gd name="textAreaRight" fmla="*/ 2732400 w 2731680"/>
                <a:gd name="textAreaTop" fmla="*/ 0 h 713880"/>
                <a:gd name="textAreaBottom" fmla="*/ 714240 h 713880"/>
              </a:gdLst>
              <a:ahLst/>
              <a:rect l="textAreaLeft" t="textAreaTop" r="textAreaRight" b="textAreaBottom"/>
              <a:pathLst>
                <a:path w="3024977" h="790148">
                  <a:moveTo>
                    <a:pt x="520353" y="0"/>
                  </a:moveTo>
                  <a:lnTo>
                    <a:pt x="520353" y="154147"/>
                  </a:lnTo>
                  <a:lnTo>
                    <a:pt x="3024977" y="154147"/>
                  </a:lnTo>
                  <a:lnTo>
                    <a:pt x="3024977" y="636001"/>
                  </a:lnTo>
                  <a:lnTo>
                    <a:pt x="520353" y="636001"/>
                  </a:lnTo>
                  <a:lnTo>
                    <a:pt x="520353" y="790148"/>
                  </a:lnTo>
                  <a:lnTo>
                    <a:pt x="0" y="395074"/>
                  </a:lnTo>
                  <a:close/>
                </a:path>
              </a:pathLst>
            </a:cu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MH_Other_1"/>
            <p:cNvSpPr/>
            <p:nvPr/>
          </p:nvSpPr>
          <p:spPr>
            <a:xfrm>
              <a:off x="5699160" y="2401920"/>
              <a:ext cx="779040" cy="12024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923925" h="142875">
                  <a:moveTo>
                    <a:pt x="0" y="142875"/>
                  </a:moveTo>
                  <a:lnTo>
                    <a:pt x="469900" y="0"/>
                  </a:lnTo>
                  <a:lnTo>
                    <a:pt x="923925" y="139700"/>
                  </a:lnTo>
                  <a:lnTo>
                    <a:pt x="0" y="142875"/>
                  </a:lnTo>
                  <a:close/>
                </a:path>
              </a:pathLst>
            </a:cu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72" name="MH_Other_2"/>
            <p:cNvSpPr/>
            <p:nvPr/>
          </p:nvSpPr>
          <p:spPr>
            <a:xfrm flipH="1">
              <a:off x="5713560" y="3262320"/>
              <a:ext cx="777600" cy="120240"/>
            </a:xfrm>
            <a:custGeom>
              <a:avLst/>
              <a:gdLst>
                <a:gd name="textAreaLeft" fmla="*/ 360 w 777600"/>
                <a:gd name="textAreaRight" fmla="*/ 778320 w 77760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923925" h="142875">
                  <a:moveTo>
                    <a:pt x="0" y="142875"/>
                  </a:moveTo>
                  <a:lnTo>
                    <a:pt x="469900" y="0"/>
                  </a:lnTo>
                  <a:lnTo>
                    <a:pt x="923925" y="139700"/>
                  </a:lnTo>
                  <a:lnTo>
                    <a:pt x="0" y="142875"/>
                  </a:lnTo>
                  <a:close/>
                </a:path>
              </a:pathLst>
            </a:custGeom>
            <a:solidFill>
              <a:srgbClr val="1755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373" name="MH_Other_3"/>
            <p:cNvSpPr/>
            <p:nvPr/>
          </p:nvSpPr>
          <p:spPr>
            <a:xfrm>
              <a:off x="5699160" y="4122720"/>
              <a:ext cx="779040" cy="12024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923925" h="142875">
                  <a:moveTo>
                    <a:pt x="0" y="142875"/>
                  </a:moveTo>
                  <a:lnTo>
                    <a:pt x="469900" y="0"/>
                  </a:lnTo>
                  <a:lnTo>
                    <a:pt x="923925" y="139700"/>
                  </a:lnTo>
                  <a:lnTo>
                    <a:pt x="0" y="142875"/>
                  </a:lnTo>
                  <a:close/>
                </a:path>
              </a:pathLst>
            </a:custGeom>
            <a:solidFill>
              <a:schemeClr val="accent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74" name="MH_Other_4"/>
            <p:cNvSpPr/>
            <p:nvPr/>
          </p:nvSpPr>
          <p:spPr>
            <a:xfrm flipH="1">
              <a:off x="5713560" y="4983120"/>
              <a:ext cx="777600" cy="120240"/>
            </a:xfrm>
            <a:custGeom>
              <a:avLst/>
              <a:gdLst>
                <a:gd name="textAreaLeft" fmla="*/ 360 w 777600"/>
                <a:gd name="textAreaRight" fmla="*/ 778320 w 77760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923925" h="142875">
                  <a:moveTo>
                    <a:pt x="0" y="142875"/>
                  </a:moveTo>
                  <a:lnTo>
                    <a:pt x="469900" y="0"/>
                  </a:lnTo>
                  <a:lnTo>
                    <a:pt x="923925" y="139700"/>
                  </a:lnTo>
                  <a:lnTo>
                    <a:pt x="0" y="142875"/>
                  </a:lnTo>
                  <a:close/>
                </a:path>
              </a:pathLst>
            </a:custGeom>
            <a:solidFill>
              <a:srgbClr val="17552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375" name="MH_Other_5"/>
            <p:cNvSpPr/>
            <p:nvPr/>
          </p:nvSpPr>
          <p:spPr>
            <a:xfrm>
              <a:off x="5789520" y="1552680"/>
              <a:ext cx="588600" cy="4949640"/>
            </a:xfrm>
            <a:custGeom>
              <a:avLst/>
              <a:gdLst>
                <a:gd name="textAreaLeft" fmla="*/ 0 w 588600"/>
                <a:gd name="textAreaRight" fmla="*/ 588960 w 588600"/>
                <a:gd name="textAreaTop" fmla="*/ 0 h 4949640"/>
                <a:gd name="textAreaBottom" fmla="*/ 4950000 h 4949640"/>
              </a:gdLst>
              <a:ahLst/>
              <a:rect l="textAreaLeft" t="textAreaTop" r="textAreaRight" b="textAreaBottom"/>
              <a:pathLst>
                <a:path w="790147" h="4634927">
                  <a:moveTo>
                    <a:pt x="395074" y="0"/>
                  </a:moveTo>
                  <a:lnTo>
                    <a:pt x="688487" y="386455"/>
                  </a:lnTo>
                  <a:lnTo>
                    <a:pt x="790147" y="520352"/>
                  </a:lnTo>
                  <a:lnTo>
                    <a:pt x="610143" y="520352"/>
                  </a:lnTo>
                  <a:lnTo>
                    <a:pt x="610143" y="4634927"/>
                  </a:lnTo>
                  <a:lnTo>
                    <a:pt x="180006" y="4634927"/>
                  </a:lnTo>
                  <a:lnTo>
                    <a:pt x="180006" y="520352"/>
                  </a:lnTo>
                  <a:lnTo>
                    <a:pt x="0" y="520352"/>
                  </a:lnTo>
                  <a:lnTo>
                    <a:pt x="101661" y="386455"/>
                  </a:lnTo>
                  <a:close/>
                </a:path>
              </a:pathLst>
            </a:cu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376" name="MH_Other_6"/>
            <p:cNvSpPr/>
            <p:nvPr/>
          </p:nvSpPr>
          <p:spPr>
            <a:xfrm>
              <a:off x="5699160" y="2521080"/>
              <a:ext cx="779040" cy="4345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MH_Other_7"/>
            <p:cNvSpPr/>
            <p:nvPr/>
          </p:nvSpPr>
          <p:spPr>
            <a:xfrm flipH="1">
              <a:off x="5711760" y="3381480"/>
              <a:ext cx="779040" cy="434520"/>
            </a:xfrm>
            <a:prstGeom prst="rect">
              <a:avLst/>
            </a:prstGeom>
            <a:solidFill>
              <a:srgbClr val="27913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MH_Other_8"/>
            <p:cNvSpPr/>
            <p:nvPr/>
          </p:nvSpPr>
          <p:spPr>
            <a:xfrm>
              <a:off x="5699160" y="4241880"/>
              <a:ext cx="779040" cy="434520"/>
            </a:xfrm>
            <a:prstGeom prst="rect">
              <a:avLst/>
            </a:prstGeom>
            <a:solidFill>
              <a:schemeClr val="accent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MH_Other_9"/>
            <p:cNvSpPr/>
            <p:nvPr/>
          </p:nvSpPr>
          <p:spPr>
            <a:xfrm flipH="1">
              <a:off x="5711760" y="5102280"/>
              <a:ext cx="779040" cy="434520"/>
            </a:xfrm>
            <a:prstGeom prst="rect">
              <a:avLst/>
            </a:prstGeom>
            <a:solidFill>
              <a:srgbClr val="27913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Impact"/>
                  <a:ea typeface="微软雅黑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4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381" name="文本框 5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文本框 6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项目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文本框 39"/>
          <p:cNvSpPr/>
          <p:nvPr/>
        </p:nvSpPr>
        <p:spPr>
          <a:xfrm>
            <a:off x="4538520" y="871560"/>
            <a:ext cx="32778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36eb8"/>
                </a:solidFill>
                <a:latin typeface="微软雅黑"/>
                <a:ea typeface="微软雅黑"/>
              </a:rPr>
              <a:t>最大化项目效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8067600" y="4957920"/>
            <a:ext cx="29458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单击更改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单击更改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9"/>
          <p:cNvSpPr/>
          <p:nvPr/>
        </p:nvSpPr>
        <p:spPr>
          <a:xfrm>
            <a:off x="-812880" y="4041720"/>
            <a:ext cx="40795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单击更改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单击更改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3"/>
          <p:cNvSpPr/>
          <p:nvPr/>
        </p:nvSpPr>
        <p:spPr>
          <a:xfrm>
            <a:off x="6581880" y="5506920"/>
            <a:ext cx="183636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36"/>
          <p:cNvSpPr/>
          <p:nvPr/>
        </p:nvSpPr>
        <p:spPr>
          <a:xfrm>
            <a:off x="3990960" y="4695840"/>
            <a:ext cx="15537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35"/>
          <p:cNvSpPr/>
          <p:nvPr/>
        </p:nvSpPr>
        <p:spPr>
          <a:xfrm>
            <a:off x="8067600" y="3170160"/>
            <a:ext cx="29458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单击更改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单击更改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37"/>
          <p:cNvSpPr/>
          <p:nvPr/>
        </p:nvSpPr>
        <p:spPr>
          <a:xfrm>
            <a:off x="320760" y="2328840"/>
            <a:ext cx="29458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914400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单击更改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单击更改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4"/>
          <p:cNvSpPr/>
          <p:nvPr/>
        </p:nvSpPr>
        <p:spPr>
          <a:xfrm>
            <a:off x="0" y="2100240"/>
            <a:ext cx="12191760" cy="2671560"/>
          </a:xfrm>
          <a:prstGeom prst="rect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grpSp>
        <p:nvGrpSpPr>
          <p:cNvPr id="391" name="组合 5"/>
          <p:cNvGrpSpPr/>
          <p:nvPr/>
        </p:nvGrpSpPr>
        <p:grpSpPr>
          <a:xfrm>
            <a:off x="5705640" y="2086560"/>
            <a:ext cx="780480" cy="2684880"/>
            <a:chOff x="5705640" y="2086560"/>
            <a:chExt cx="780480" cy="2684880"/>
          </a:xfrm>
        </p:grpSpPr>
        <p:sp>
          <p:nvSpPr>
            <p:cNvPr id="392" name="等腰三角形 8"/>
            <p:cNvSpPr/>
            <p:nvPr/>
          </p:nvSpPr>
          <p:spPr>
            <a:xfrm flipV="1">
              <a:off x="5705640" y="2086560"/>
              <a:ext cx="780480" cy="580320"/>
            </a:xfrm>
            <a:prstGeom prst="triangle">
              <a:avLst>
                <a:gd name="adj" fmla="val 50000"/>
              </a:avLst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393" name="等腰三角形 9"/>
            <p:cNvSpPr/>
            <p:nvPr/>
          </p:nvSpPr>
          <p:spPr>
            <a:xfrm>
              <a:off x="5705640" y="4191120"/>
              <a:ext cx="780480" cy="580320"/>
            </a:xfrm>
            <a:prstGeom prst="triangle">
              <a:avLst>
                <a:gd name="adj" fmla="val 50000"/>
              </a:avLst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grpSp>
        <p:nvGrpSpPr>
          <p:cNvPr id="394" name="组合 1"/>
          <p:cNvGrpSpPr/>
          <p:nvPr/>
        </p:nvGrpSpPr>
        <p:grpSpPr>
          <a:xfrm>
            <a:off x="2900520" y="2908440"/>
            <a:ext cx="6390720" cy="820800"/>
            <a:chOff x="2900520" y="2908440"/>
            <a:chExt cx="6390720" cy="820800"/>
          </a:xfrm>
        </p:grpSpPr>
        <p:sp>
          <p:nvSpPr>
            <p:cNvPr id="395" name="文本框 6"/>
            <p:cNvSpPr/>
            <p:nvPr/>
          </p:nvSpPr>
          <p:spPr>
            <a:xfrm>
              <a:off x="3611520" y="2908440"/>
              <a:ext cx="56797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各方需要配合的工作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7"/>
            <p:cNvSpPr/>
            <p:nvPr/>
          </p:nvSpPr>
          <p:spPr>
            <a:xfrm>
              <a:off x="2900520" y="2908440"/>
              <a:ext cx="100116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0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10"/>
          <p:cNvGrpSpPr/>
          <p:nvPr/>
        </p:nvGrpSpPr>
        <p:grpSpPr>
          <a:xfrm>
            <a:off x="3686040" y="5013360"/>
            <a:ext cx="4586040" cy="1207800"/>
            <a:chOff x="3686040" y="5013360"/>
            <a:chExt cx="4586040" cy="1207800"/>
          </a:xfrm>
        </p:grpSpPr>
        <p:sp>
          <p:nvSpPr>
            <p:cNvPr id="398" name="文本框 11"/>
            <p:cNvSpPr/>
            <p:nvPr/>
          </p:nvSpPr>
          <p:spPr>
            <a:xfrm>
              <a:off x="4967280" y="5764320"/>
              <a:ext cx="32191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599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9" name="文本框 12"/>
            <p:cNvSpPr/>
            <p:nvPr/>
          </p:nvSpPr>
          <p:spPr>
            <a:xfrm>
              <a:off x="4895280" y="5360760"/>
              <a:ext cx="33768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ＰＯＷＥＲＰＯＩＮ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十字箭头标注 13"/>
            <p:cNvSpPr/>
            <p:nvPr/>
          </p:nvSpPr>
          <p:spPr>
            <a:xfrm>
              <a:off x="3686040" y="5013360"/>
              <a:ext cx="1209240" cy="1207800"/>
            </a:xfrm>
            <a:prstGeom prst="quadArrowCallout">
              <a:avLst>
                <a:gd name="adj1" fmla="val 18515"/>
                <a:gd name="adj2" fmla="val 18515"/>
                <a:gd name="adj3" fmla="val 18515"/>
                <a:gd name="adj4" fmla="val 48123"/>
              </a:avLst>
            </a:prstGeom>
            <a:solidFill>
              <a:srgbClr val="036eb8"/>
            </a:solidFill>
            <a:ln>
              <a:noFill/>
            </a:ln>
            <a:effectLst>
              <a:outerShdw algn="bl" blurRad="431640" dir="18900000" dist="37674" rotWithShape="0" sx="60000" sy="60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ＬＯＧ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组合 4"/>
          <p:cNvGrpSpPr/>
          <p:nvPr/>
        </p:nvGrpSpPr>
        <p:grpSpPr>
          <a:xfrm>
            <a:off x="73080" y="84240"/>
            <a:ext cx="2964960" cy="364680"/>
            <a:chOff x="73080" y="84240"/>
            <a:chExt cx="2964960" cy="364680"/>
          </a:xfrm>
        </p:grpSpPr>
        <p:sp>
          <p:nvSpPr>
            <p:cNvPr id="402" name="文本框 5"/>
            <p:cNvSpPr/>
            <p:nvPr/>
          </p:nvSpPr>
          <p:spPr>
            <a:xfrm>
              <a:off x="73080" y="8496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文本框 6"/>
            <p:cNvSpPr/>
            <p:nvPr/>
          </p:nvSpPr>
          <p:spPr>
            <a:xfrm>
              <a:off x="1006560" y="84240"/>
              <a:ext cx="20314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各方需要配合的工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12"/>
          <p:cNvGrpSpPr/>
          <p:nvPr/>
        </p:nvGrpSpPr>
        <p:grpSpPr>
          <a:xfrm>
            <a:off x="7696080" y="1800360"/>
            <a:ext cx="1345680" cy="2236320"/>
            <a:chOff x="7696080" y="1800360"/>
            <a:chExt cx="1345680" cy="2236320"/>
          </a:xfrm>
        </p:grpSpPr>
        <p:sp>
          <p:nvSpPr>
            <p:cNvPr id="405" name="MH_Other_3"/>
            <p:cNvSpPr/>
            <p:nvPr/>
          </p:nvSpPr>
          <p:spPr>
            <a:xfrm>
              <a:off x="7696080" y="1800360"/>
              <a:ext cx="1345680" cy="2236320"/>
            </a:xfrm>
            <a:custGeom>
              <a:avLst/>
              <a:gdLst>
                <a:gd name="textAreaLeft" fmla="*/ 0 w 1345680"/>
                <a:gd name="textAreaRight" fmla="*/ 1346040 w 1345680"/>
                <a:gd name="textAreaTop" fmla="*/ 0 h 2236320"/>
                <a:gd name="textAreaBottom" fmla="*/ 2236680 h 2236320"/>
              </a:gdLst>
              <a:ahLst/>
              <a:rect l="textAreaLeft" t="textAreaTop" r="textAreaRight" b="textAreaBottom"/>
              <a:pathLst>
                <a:path w="1536700" h="2555648">
                  <a:moveTo>
                    <a:pt x="588566" y="2172931"/>
                  </a:moveTo>
                  <a:lnTo>
                    <a:pt x="588566" y="2232462"/>
                  </a:lnTo>
                  <a:lnTo>
                    <a:pt x="948135" y="2232462"/>
                  </a:lnTo>
                  <a:lnTo>
                    <a:pt x="948135" y="2172931"/>
                  </a:lnTo>
                  <a:close/>
                  <a:moveTo>
                    <a:pt x="588566" y="2014319"/>
                  </a:moveTo>
                  <a:lnTo>
                    <a:pt x="588566" y="2073850"/>
                  </a:lnTo>
                  <a:lnTo>
                    <a:pt x="948135" y="2073850"/>
                  </a:lnTo>
                  <a:lnTo>
                    <a:pt x="948135" y="2014319"/>
                  </a:lnTo>
                  <a:close/>
                  <a:moveTo>
                    <a:pt x="439655" y="1865655"/>
                  </a:moveTo>
                  <a:lnTo>
                    <a:pt x="1097045" y="1865655"/>
                  </a:lnTo>
                  <a:cubicBezTo>
                    <a:pt x="1147961" y="1865655"/>
                    <a:pt x="1189236" y="1904861"/>
                    <a:pt x="1189236" y="1953225"/>
                  </a:cubicBezTo>
                  <a:cubicBezTo>
                    <a:pt x="1189236" y="2001589"/>
                    <a:pt x="1147961" y="2040795"/>
                    <a:pt x="1097045" y="2040795"/>
                  </a:cubicBezTo>
                  <a:cubicBezTo>
                    <a:pt x="1147961" y="2040795"/>
                    <a:pt x="1189236" y="2080001"/>
                    <a:pt x="1189236" y="2128365"/>
                  </a:cubicBezTo>
                  <a:cubicBezTo>
                    <a:pt x="1189236" y="2176729"/>
                    <a:pt x="1147961" y="2215935"/>
                    <a:pt x="1097045" y="2215935"/>
                  </a:cubicBezTo>
                  <a:cubicBezTo>
                    <a:pt x="1147961" y="2215935"/>
                    <a:pt x="1189236" y="2255141"/>
                    <a:pt x="1189236" y="2303505"/>
                  </a:cubicBezTo>
                  <a:cubicBezTo>
                    <a:pt x="1189236" y="2351869"/>
                    <a:pt x="1147961" y="2391075"/>
                    <a:pt x="1097045" y="2391075"/>
                  </a:cubicBezTo>
                  <a:lnTo>
                    <a:pt x="948071" y="2391075"/>
                  </a:lnTo>
                  <a:lnTo>
                    <a:pt x="937297" y="2444188"/>
                  </a:lnTo>
                  <a:cubicBezTo>
                    <a:pt x="909462" y="2509689"/>
                    <a:pt x="844299" y="2555648"/>
                    <a:pt x="768350" y="2555648"/>
                  </a:cubicBezTo>
                  <a:cubicBezTo>
                    <a:pt x="692402" y="2555648"/>
                    <a:pt x="627238" y="2509689"/>
                    <a:pt x="599403" y="2444188"/>
                  </a:cubicBezTo>
                  <a:lnTo>
                    <a:pt x="588630" y="2391075"/>
                  </a:lnTo>
                  <a:lnTo>
                    <a:pt x="439655" y="2391075"/>
                  </a:lnTo>
                  <a:cubicBezTo>
                    <a:pt x="388739" y="2391075"/>
                    <a:pt x="347464" y="2351869"/>
                    <a:pt x="347464" y="2303505"/>
                  </a:cubicBezTo>
                  <a:cubicBezTo>
                    <a:pt x="347464" y="2255141"/>
                    <a:pt x="388739" y="2215935"/>
                    <a:pt x="439655" y="2215935"/>
                  </a:cubicBezTo>
                  <a:cubicBezTo>
                    <a:pt x="388739" y="2215935"/>
                    <a:pt x="347464" y="2176729"/>
                    <a:pt x="347464" y="2128365"/>
                  </a:cubicBezTo>
                  <a:cubicBezTo>
                    <a:pt x="347464" y="2080001"/>
                    <a:pt x="388739" y="2040795"/>
                    <a:pt x="439655" y="2040795"/>
                  </a:cubicBezTo>
                  <a:cubicBezTo>
                    <a:pt x="388739" y="2040795"/>
                    <a:pt x="347464" y="2001589"/>
                    <a:pt x="347464" y="1953225"/>
                  </a:cubicBezTo>
                  <a:cubicBezTo>
                    <a:pt x="347464" y="1904861"/>
                    <a:pt x="388739" y="1865655"/>
                    <a:pt x="439655" y="1865655"/>
                  </a:cubicBezTo>
                  <a:close/>
                  <a:moveTo>
                    <a:pt x="768350" y="0"/>
                  </a:moveTo>
                  <a:cubicBezTo>
                    <a:pt x="1192698" y="0"/>
                    <a:pt x="1536700" y="344894"/>
                    <a:pt x="1536700" y="770343"/>
                  </a:cubicBezTo>
                  <a:cubicBezTo>
                    <a:pt x="1536700" y="823524"/>
                    <a:pt x="1531325" y="875447"/>
                    <a:pt x="1521090" y="925594"/>
                  </a:cubicBezTo>
                  <a:lnTo>
                    <a:pt x="1491688" y="1020556"/>
                  </a:lnTo>
                  <a:lnTo>
                    <a:pt x="1491950" y="1020556"/>
                  </a:lnTo>
                  <a:lnTo>
                    <a:pt x="1140478" y="1823920"/>
                  </a:lnTo>
                  <a:lnTo>
                    <a:pt x="396222" y="1823920"/>
                  </a:lnTo>
                  <a:lnTo>
                    <a:pt x="44750" y="1020556"/>
                  </a:lnTo>
                  <a:lnTo>
                    <a:pt x="45012" y="1020556"/>
                  </a:lnTo>
                  <a:lnTo>
                    <a:pt x="15610" y="925594"/>
                  </a:lnTo>
                  <a:cubicBezTo>
                    <a:pt x="5375" y="875447"/>
                    <a:pt x="0" y="823524"/>
                    <a:pt x="0" y="770343"/>
                  </a:cubicBezTo>
                  <a:cubicBezTo>
                    <a:pt x="0" y="344894"/>
                    <a:pt x="344002" y="0"/>
                    <a:pt x="768350" y="0"/>
                  </a:cubicBezTo>
                  <a:close/>
                </a:path>
              </a:pathLst>
            </a:custGeom>
            <a:solidFill>
              <a:srgbClr val="036e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MH_SubTitle_2"/>
            <p:cNvSpPr/>
            <p:nvPr/>
          </p:nvSpPr>
          <p:spPr>
            <a:xfrm>
              <a:off x="7746480" y="1857240"/>
              <a:ext cx="1248120" cy="1479960"/>
            </a:xfrm>
            <a:custGeom>
              <a:avLst/>
              <a:gdLst>
                <a:gd name="textAreaLeft" fmla="*/ 0 w 1248120"/>
                <a:gd name="textAreaRight" fmla="*/ 1248480 w 1248120"/>
                <a:gd name="textAreaTop" fmla="*/ 0 h 1479960"/>
                <a:gd name="textAreaBottom" fmla="*/ 1480320 h 1479960"/>
              </a:gdLst>
              <a:ahLst/>
              <a:rect l="textAreaLeft" t="textAreaTop" r="textAreaRight" b="textAreaBottom"/>
              <a:pathLst>
                <a:path w="1146175" h="1359564">
                  <a:moveTo>
                    <a:pt x="573088" y="0"/>
                  </a:moveTo>
                  <a:cubicBezTo>
                    <a:pt x="889595" y="0"/>
                    <a:pt x="1146175" y="257087"/>
                    <a:pt x="1146175" y="574220"/>
                  </a:cubicBezTo>
                  <a:cubicBezTo>
                    <a:pt x="1146175" y="613861"/>
                    <a:pt x="1142166" y="652565"/>
                    <a:pt x="1134532" y="689945"/>
                  </a:cubicBezTo>
                  <a:lnTo>
                    <a:pt x="1112602" y="760731"/>
                  </a:lnTo>
                  <a:lnTo>
                    <a:pt x="1112798" y="760731"/>
                  </a:lnTo>
                  <a:lnTo>
                    <a:pt x="850646" y="1359564"/>
                  </a:lnTo>
                  <a:lnTo>
                    <a:pt x="295529" y="1359564"/>
                  </a:lnTo>
                  <a:lnTo>
                    <a:pt x="33378" y="760731"/>
                  </a:lnTo>
                  <a:lnTo>
                    <a:pt x="33573" y="760731"/>
                  </a:lnTo>
                  <a:lnTo>
                    <a:pt x="11643" y="689945"/>
                  </a:lnTo>
                  <a:cubicBezTo>
                    <a:pt x="4009" y="652565"/>
                    <a:pt x="0" y="613861"/>
                    <a:pt x="0" y="574220"/>
                  </a:cubicBezTo>
                  <a:cubicBezTo>
                    <a:pt x="0" y="257087"/>
                    <a:pt x="256580" y="0"/>
                    <a:pt x="573088" y="0"/>
                  </a:cubicBezTo>
                  <a:close/>
                </a:path>
              </a:pathLst>
            </a:custGeom>
            <a:solidFill>
              <a:srgbClr val="fefff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72000" rIns="72000" tIns="72000" bIns="72000" anchor="ctr">
              <a:norm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333333"/>
                  </a:solidFill>
                  <a:latin typeface="等线"/>
                  <a:ea typeface="宋体"/>
                </a:rPr>
                <a:t>单击更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26"/>
          <p:cNvGrpSpPr/>
          <p:nvPr/>
        </p:nvGrpSpPr>
        <p:grpSpPr>
          <a:xfrm>
            <a:off x="2606760" y="1800360"/>
            <a:ext cx="6989400" cy="3896280"/>
            <a:chOff x="2606760" y="1800360"/>
            <a:chExt cx="6989400" cy="3896280"/>
          </a:xfrm>
        </p:grpSpPr>
        <p:grpSp>
          <p:nvGrpSpPr>
            <p:cNvPr id="408" name="组合 11"/>
            <p:cNvGrpSpPr/>
            <p:nvPr/>
          </p:nvGrpSpPr>
          <p:grpSpPr>
            <a:xfrm>
              <a:off x="3284640" y="1800360"/>
              <a:ext cx="1345680" cy="2236320"/>
              <a:chOff x="3284640" y="1800360"/>
              <a:chExt cx="1345680" cy="2236320"/>
            </a:xfrm>
          </p:grpSpPr>
          <p:sp>
            <p:nvSpPr>
              <p:cNvPr id="409" name="MH_Other_2"/>
              <p:cNvSpPr/>
              <p:nvPr/>
            </p:nvSpPr>
            <p:spPr>
              <a:xfrm>
                <a:off x="3284640" y="1800360"/>
                <a:ext cx="1345680" cy="2236320"/>
              </a:xfrm>
              <a:custGeom>
                <a:avLst/>
                <a:gdLst>
                  <a:gd name="textAreaLeft" fmla="*/ 0 w 1345680"/>
                  <a:gd name="textAreaRight" fmla="*/ 1346040 w 1345680"/>
                  <a:gd name="textAreaTop" fmla="*/ 0 h 2236320"/>
                  <a:gd name="textAreaBottom" fmla="*/ 2236680 h 2236320"/>
                </a:gdLst>
                <a:ahLst/>
                <a:rect l="textAreaLeft" t="textAreaTop" r="textAreaRight" b="textAreaBottom"/>
                <a:pathLst>
                  <a:path w="1536700" h="2555648">
                    <a:moveTo>
                      <a:pt x="588566" y="2172931"/>
                    </a:moveTo>
                    <a:lnTo>
                      <a:pt x="588566" y="2232462"/>
                    </a:lnTo>
                    <a:lnTo>
                      <a:pt x="948135" y="2232462"/>
                    </a:lnTo>
                    <a:lnTo>
                      <a:pt x="948135" y="2172931"/>
                    </a:lnTo>
                    <a:close/>
                    <a:moveTo>
                      <a:pt x="588566" y="2014319"/>
                    </a:moveTo>
                    <a:lnTo>
                      <a:pt x="588566" y="2073850"/>
                    </a:lnTo>
                    <a:lnTo>
                      <a:pt x="948135" y="2073850"/>
                    </a:lnTo>
                    <a:lnTo>
                      <a:pt x="948135" y="2014319"/>
                    </a:lnTo>
                    <a:close/>
                    <a:moveTo>
                      <a:pt x="439655" y="1865655"/>
                    </a:moveTo>
                    <a:lnTo>
                      <a:pt x="1097045" y="1865655"/>
                    </a:lnTo>
                    <a:cubicBezTo>
                      <a:pt x="1147961" y="1865655"/>
                      <a:pt x="1189236" y="1904861"/>
                      <a:pt x="1189236" y="1953225"/>
                    </a:cubicBezTo>
                    <a:cubicBezTo>
                      <a:pt x="1189236" y="2001589"/>
                      <a:pt x="1147961" y="2040795"/>
                      <a:pt x="1097045" y="2040795"/>
                    </a:cubicBezTo>
                    <a:cubicBezTo>
                      <a:pt x="1147961" y="2040795"/>
                      <a:pt x="1189236" y="2080001"/>
                      <a:pt x="1189236" y="2128365"/>
                    </a:cubicBezTo>
                    <a:cubicBezTo>
                      <a:pt x="1189236" y="2176729"/>
                      <a:pt x="1147961" y="2215935"/>
                      <a:pt x="1097045" y="2215935"/>
                    </a:cubicBezTo>
                    <a:cubicBezTo>
                      <a:pt x="1147961" y="2215935"/>
                      <a:pt x="1189236" y="2255141"/>
                      <a:pt x="1189236" y="2303505"/>
                    </a:cubicBezTo>
                    <a:cubicBezTo>
                      <a:pt x="1189236" y="2351869"/>
                      <a:pt x="1147961" y="2391075"/>
                      <a:pt x="1097045" y="2391075"/>
                    </a:cubicBezTo>
                    <a:lnTo>
                      <a:pt x="948071" y="2391075"/>
                    </a:lnTo>
                    <a:lnTo>
                      <a:pt x="937297" y="2444188"/>
                    </a:lnTo>
                    <a:cubicBezTo>
                      <a:pt x="909462" y="2509689"/>
                      <a:pt x="844299" y="2555648"/>
                      <a:pt x="768350" y="2555648"/>
                    </a:cubicBezTo>
                    <a:cubicBezTo>
                      <a:pt x="692402" y="2555648"/>
                      <a:pt x="627238" y="2509689"/>
                      <a:pt x="599403" y="2444188"/>
                    </a:cubicBezTo>
                    <a:lnTo>
                      <a:pt x="588630" y="2391075"/>
                    </a:lnTo>
                    <a:lnTo>
                      <a:pt x="439655" y="2391075"/>
                    </a:lnTo>
                    <a:cubicBezTo>
                      <a:pt x="388739" y="2391075"/>
                      <a:pt x="347464" y="2351869"/>
                      <a:pt x="347464" y="2303505"/>
                    </a:cubicBezTo>
                    <a:cubicBezTo>
                      <a:pt x="347464" y="2255141"/>
                      <a:pt x="388739" y="2215935"/>
                      <a:pt x="439655" y="2215935"/>
                    </a:cubicBezTo>
                    <a:cubicBezTo>
                      <a:pt x="388739" y="2215935"/>
                      <a:pt x="347464" y="2176729"/>
                      <a:pt x="347464" y="2128365"/>
                    </a:cubicBezTo>
                    <a:cubicBezTo>
                      <a:pt x="347464" y="2080001"/>
                      <a:pt x="388739" y="2040795"/>
                      <a:pt x="439655" y="2040795"/>
                    </a:cubicBezTo>
                    <a:cubicBezTo>
                      <a:pt x="388739" y="2040795"/>
                      <a:pt x="347464" y="2001589"/>
                      <a:pt x="347464" y="1953225"/>
                    </a:cubicBezTo>
                    <a:cubicBezTo>
                      <a:pt x="347464" y="1904861"/>
                      <a:pt x="388739" y="1865655"/>
                      <a:pt x="439655" y="1865655"/>
                    </a:cubicBezTo>
                    <a:close/>
                    <a:moveTo>
                      <a:pt x="768350" y="0"/>
                    </a:moveTo>
                    <a:cubicBezTo>
                      <a:pt x="1192698" y="0"/>
                      <a:pt x="1536700" y="344894"/>
                      <a:pt x="1536700" y="770343"/>
                    </a:cubicBezTo>
                    <a:cubicBezTo>
                      <a:pt x="1536700" y="823524"/>
                      <a:pt x="1531325" y="875447"/>
                      <a:pt x="1521090" y="925594"/>
                    </a:cubicBezTo>
                    <a:lnTo>
                      <a:pt x="1491688" y="1020556"/>
                    </a:lnTo>
                    <a:lnTo>
                      <a:pt x="1491950" y="1020556"/>
                    </a:lnTo>
                    <a:lnTo>
                      <a:pt x="1140478" y="1823920"/>
                    </a:lnTo>
                    <a:lnTo>
                      <a:pt x="396222" y="1823920"/>
                    </a:lnTo>
                    <a:lnTo>
                      <a:pt x="44750" y="1020556"/>
                    </a:lnTo>
                    <a:lnTo>
                      <a:pt x="45012" y="1020556"/>
                    </a:lnTo>
                    <a:lnTo>
                      <a:pt x="15610" y="925594"/>
                    </a:lnTo>
                    <a:cubicBezTo>
                      <a:pt x="5375" y="875447"/>
                      <a:pt x="0" y="823524"/>
                      <a:pt x="0" y="770343"/>
                    </a:cubicBezTo>
                    <a:cubicBezTo>
                      <a:pt x="0" y="344894"/>
                      <a:pt x="344002" y="0"/>
                      <a:pt x="768350" y="0"/>
                    </a:cubicBezTo>
                    <a:close/>
                  </a:path>
                </a:pathLst>
              </a:cu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chemeClr val="lt1"/>
                    </a:solidFill>
                    <a:latin typeface="等线"/>
                    <a:ea typeface="宋体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MH_SubTitle_1"/>
              <p:cNvSpPr/>
              <p:nvPr/>
            </p:nvSpPr>
            <p:spPr>
              <a:xfrm>
                <a:off x="3334320" y="1857240"/>
                <a:ext cx="1247760" cy="1479960"/>
              </a:xfrm>
              <a:custGeom>
                <a:avLst/>
                <a:gdLst>
                  <a:gd name="textAreaLeft" fmla="*/ 0 w 1247760"/>
                  <a:gd name="textAreaRight" fmla="*/ 1248120 w 1247760"/>
                  <a:gd name="textAreaTop" fmla="*/ 0 h 1479960"/>
                  <a:gd name="textAreaBottom" fmla="*/ 1480320 h 1479960"/>
                </a:gdLst>
                <a:ahLst/>
                <a:rect l="textAreaLeft" t="textAreaTop" r="textAreaRight" b="textAreaBottom"/>
                <a:pathLst>
                  <a:path w="1146175" h="1359564">
                    <a:moveTo>
                      <a:pt x="573088" y="0"/>
                    </a:moveTo>
                    <a:cubicBezTo>
                      <a:pt x="889595" y="0"/>
                      <a:pt x="1146175" y="257087"/>
                      <a:pt x="1146175" y="574220"/>
                    </a:cubicBezTo>
                    <a:cubicBezTo>
                      <a:pt x="1146175" y="613861"/>
                      <a:pt x="1142166" y="652565"/>
                      <a:pt x="1134532" y="689945"/>
                    </a:cubicBezTo>
                    <a:lnTo>
                      <a:pt x="1112602" y="760731"/>
                    </a:lnTo>
                    <a:lnTo>
                      <a:pt x="1112798" y="760731"/>
                    </a:lnTo>
                    <a:lnTo>
                      <a:pt x="850646" y="1359564"/>
                    </a:lnTo>
                    <a:lnTo>
                      <a:pt x="295529" y="1359564"/>
                    </a:lnTo>
                    <a:lnTo>
                      <a:pt x="33378" y="760731"/>
                    </a:lnTo>
                    <a:lnTo>
                      <a:pt x="33573" y="760731"/>
                    </a:lnTo>
                    <a:lnTo>
                      <a:pt x="11643" y="689945"/>
                    </a:lnTo>
                    <a:cubicBezTo>
                      <a:pt x="4009" y="652565"/>
                      <a:pt x="0" y="613861"/>
                      <a:pt x="0" y="574220"/>
                    </a:cubicBezTo>
                    <a:cubicBezTo>
                      <a:pt x="0" y="257087"/>
                      <a:pt x="256580" y="0"/>
                      <a:pt x="573088" y="0"/>
                    </a:cubicBezTo>
                    <a:close/>
                  </a:path>
                </a:pathLst>
              </a:custGeom>
              <a:solidFill>
                <a:srgbClr val="feffff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72000" rIns="72000" tIns="72000" bIns="72000" anchor="ctr">
                <a:normAutofit/>
                <a:scene3d>
                  <a:camera prst="orthographicFront"/>
                  <a:lightRig dir="t" rig="threePt"/>
                </a:scene3d>
                <a:sp3d>
                  <a:contourClr>
                    <a:srgbClr val="ffffff"/>
                  </a:contourClr>
                </a:sp3d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333333"/>
                    </a:solidFill>
                    <a:latin typeface="等线"/>
                    <a:ea typeface="宋体"/>
                  </a:rPr>
                  <a:t>单击更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文本框 15"/>
            <p:cNvSpPr/>
            <p:nvPr/>
          </p:nvSpPr>
          <p:spPr>
            <a:xfrm>
              <a:off x="2606760" y="4235400"/>
              <a:ext cx="2455560" cy="14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</a:rPr>
                <a:t>请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</a:rPr>
                <a:t>请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</a:rPr>
                <a:t>请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17"/>
            <p:cNvSpPr/>
            <p:nvPr/>
          </p:nvSpPr>
          <p:spPr>
            <a:xfrm>
              <a:off x="7140600" y="4235400"/>
              <a:ext cx="2455560" cy="14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</a:rPr>
                <a:t>请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</a:rPr>
                <a:t>请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</a:rPr>
                <a:t>请单击更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文本框 25"/>
          <p:cNvSpPr/>
          <p:nvPr/>
        </p:nvSpPr>
        <p:spPr>
          <a:xfrm>
            <a:off x="446040" y="961920"/>
            <a:ext cx="3985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36eb8"/>
                </a:solidFill>
                <a:latin typeface="等线"/>
                <a:ea typeface="等线"/>
              </a:rPr>
              <a:t>各方需配合的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27"/>
          <p:cNvSpPr/>
          <p:nvPr/>
        </p:nvSpPr>
        <p:spPr>
          <a:xfrm>
            <a:off x="5645160" y="2436840"/>
            <a:ext cx="961560" cy="961560"/>
          </a:xfrm>
          <a:prstGeom prst="ellipse">
            <a:avLst/>
          </a:prstGeom>
          <a:solidFill>
            <a:srgbClr val="27913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等线"/>
                <a:ea typeface="宋体"/>
              </a:rPr>
              <a:t>合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等线"/>
                <a:ea typeface="宋体"/>
              </a:rPr>
              <a:t>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直接箭头连接符 29"/>
          <p:cNvCxnSpPr/>
          <p:nvPr/>
        </p:nvCxnSpPr>
        <p:spPr>
          <a:xfrm flipH="1">
            <a:off x="4554360" y="2912760"/>
            <a:ext cx="1014840" cy="360"/>
          </a:xfrm>
          <a:prstGeom prst="straightConnector1">
            <a:avLst/>
          </a:prstGeom>
          <a:ln>
            <a:solidFill>
              <a:srgbClr val="e7e6e6">
                <a:lumMod val="75000"/>
              </a:srgbClr>
            </a:solidFill>
            <a:headEnd len="med" type="triangle" w="med"/>
            <a:tailEnd len="med" type="triangle" w="med"/>
          </a:ln>
        </p:spPr>
      </p:cxnSp>
      <p:cxnSp>
        <p:nvCxnSpPr>
          <p:cNvPr id="416" name="直接箭头连接符 30"/>
          <p:cNvCxnSpPr/>
          <p:nvPr/>
        </p:nvCxnSpPr>
        <p:spPr>
          <a:xfrm flipH="1">
            <a:off x="6681600" y="2912760"/>
            <a:ext cx="1014840" cy="360"/>
          </a:xfrm>
          <a:prstGeom prst="straightConnector1">
            <a:avLst/>
          </a:prstGeom>
          <a:ln>
            <a:solidFill>
              <a:srgbClr val="e7e6e6">
                <a:lumMod val="75000"/>
              </a:srgbClr>
            </a:solidFill>
            <a:headEnd len="med" type="triangle" w="med"/>
            <a:tailEnd len="med" type="triangle" w="med"/>
          </a:ln>
        </p:spPr>
      </p:cxnSp>
      <p:sp>
        <p:nvSpPr>
          <p:cNvPr id="417" name="Text Box 8"/>
          <p:cNvSpPr/>
          <p:nvPr/>
        </p:nvSpPr>
        <p:spPr>
          <a:xfrm>
            <a:off x="63360" y="62953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8" name="直接箭头连接符 13"/>
          <p:cNvCxnSpPr/>
          <p:nvPr/>
        </p:nvCxnSpPr>
        <p:spPr>
          <a:xfrm>
            <a:off x="1320480" y="3490560"/>
            <a:ext cx="9536760" cy="360"/>
          </a:xfrm>
          <a:prstGeom prst="straightConnector1">
            <a:avLst/>
          </a:prstGeom>
          <a:ln w="28575">
            <a:solidFill>
              <a:srgbClr val="e7e6e6">
                <a:lumMod val="75000"/>
              </a:srgbClr>
            </a:solidFill>
            <a:tailEnd len="med" type="triangle" w="med"/>
          </a:ln>
        </p:spPr>
      </p:cxnSp>
      <p:grpSp>
        <p:nvGrpSpPr>
          <p:cNvPr id="419" name="组合 4"/>
          <p:cNvGrpSpPr/>
          <p:nvPr/>
        </p:nvGrpSpPr>
        <p:grpSpPr>
          <a:xfrm>
            <a:off x="1681200" y="1590840"/>
            <a:ext cx="1248840" cy="1904400"/>
            <a:chOff x="1681200" y="1590840"/>
            <a:chExt cx="1248840" cy="1904400"/>
          </a:xfrm>
        </p:grpSpPr>
        <p:sp>
          <p:nvSpPr>
            <p:cNvPr id="420" name="MH_SubTitle_1"/>
            <p:cNvSpPr/>
            <p:nvPr/>
          </p:nvSpPr>
          <p:spPr>
            <a:xfrm>
              <a:off x="1681200" y="1590840"/>
              <a:ext cx="1248840" cy="1480320"/>
            </a:xfrm>
            <a:custGeom>
              <a:avLst/>
              <a:gdLst>
                <a:gd name="textAreaLeft" fmla="*/ 0 w 1248840"/>
                <a:gd name="textAreaRight" fmla="*/ 1249200 w 1248840"/>
                <a:gd name="textAreaTop" fmla="*/ 0 h 1480320"/>
                <a:gd name="textAreaBottom" fmla="*/ 1480680 h 1480320"/>
              </a:gdLst>
              <a:ahLst/>
              <a:rect l="textAreaLeft" t="textAreaTop" r="textAreaRight" b="textAreaBottom"/>
              <a:pathLst>
                <a:path w="1146175" h="1359564">
                  <a:moveTo>
                    <a:pt x="573088" y="0"/>
                  </a:moveTo>
                  <a:cubicBezTo>
                    <a:pt x="889595" y="0"/>
                    <a:pt x="1146175" y="257087"/>
                    <a:pt x="1146175" y="574220"/>
                  </a:cubicBezTo>
                  <a:cubicBezTo>
                    <a:pt x="1146175" y="613861"/>
                    <a:pt x="1142166" y="652565"/>
                    <a:pt x="1134532" y="689945"/>
                  </a:cubicBezTo>
                  <a:lnTo>
                    <a:pt x="1112602" y="760731"/>
                  </a:lnTo>
                  <a:lnTo>
                    <a:pt x="1112798" y="760731"/>
                  </a:lnTo>
                  <a:lnTo>
                    <a:pt x="850646" y="1359564"/>
                  </a:lnTo>
                  <a:lnTo>
                    <a:pt x="295529" y="1359564"/>
                  </a:lnTo>
                  <a:lnTo>
                    <a:pt x="33378" y="760731"/>
                  </a:lnTo>
                  <a:lnTo>
                    <a:pt x="33573" y="760731"/>
                  </a:lnTo>
                  <a:lnTo>
                    <a:pt x="11643" y="689945"/>
                  </a:lnTo>
                  <a:cubicBezTo>
                    <a:pt x="4009" y="652565"/>
                    <a:pt x="0" y="613861"/>
                    <a:pt x="0" y="574220"/>
                  </a:cubicBezTo>
                  <a:cubicBezTo>
                    <a:pt x="0" y="257087"/>
                    <a:pt x="256580" y="0"/>
                    <a:pt x="573088" y="0"/>
                  </a:cubicBezTo>
                  <a:close/>
                </a:path>
              </a:pathLst>
            </a:cu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72000" rIns="72000" tIns="72000" bIns="72000" anchor="ctr">
              <a:norm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333333"/>
                  </a:solidFill>
                  <a:latin typeface="等线"/>
                  <a:ea typeface="宋体"/>
                </a:rPr>
                <a:t>单击更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组合 3"/>
            <p:cNvGrpSpPr/>
            <p:nvPr/>
          </p:nvGrpSpPr>
          <p:grpSpPr>
            <a:xfrm>
              <a:off x="2023920" y="2695680"/>
              <a:ext cx="563040" cy="799560"/>
              <a:chOff x="2023920" y="2695680"/>
              <a:chExt cx="563040" cy="799560"/>
            </a:xfrm>
          </p:grpSpPr>
          <p:sp>
            <p:nvSpPr>
              <p:cNvPr id="422" name="KSO_Shape"/>
              <p:cNvSpPr/>
              <p:nvPr/>
            </p:nvSpPr>
            <p:spPr>
              <a:xfrm>
                <a:off x="2023920" y="2695680"/>
                <a:ext cx="563040" cy="799560"/>
              </a:xfrm>
              <a:custGeom>
                <a:avLst/>
                <a:gdLst>
                  <a:gd name="textAreaLeft" fmla="*/ 0 w 563040"/>
                  <a:gd name="textAreaRight" fmla="*/ 563400 w 563040"/>
                  <a:gd name="textAreaTop" fmla="*/ 0 h 799560"/>
                  <a:gd name="textAreaBottom" fmla="*/ 799920 h 799560"/>
                </a:gdLst>
                <a:ahLst/>
                <a:rect l="textAreaLeft" t="textAreaTop" r="textAreaRight" b="textAreaBottom"/>
                <a:pathLst>
                  <a:path w="1173161" h="1672438">
                    <a:moveTo>
                      <a:pt x="586581" y="0"/>
                    </a:moveTo>
                    <a:cubicBezTo>
                      <a:pt x="736700" y="0"/>
                      <a:pt x="886819" y="57269"/>
                      <a:pt x="1001356" y="171806"/>
                    </a:cubicBezTo>
                    <a:cubicBezTo>
                      <a:pt x="1230430" y="400880"/>
                      <a:pt x="1230430" y="772282"/>
                      <a:pt x="1001356" y="1001357"/>
                    </a:cubicBezTo>
                    <a:cubicBezTo>
                      <a:pt x="820380" y="1182333"/>
                      <a:pt x="682121" y="1406027"/>
                      <a:pt x="586581" y="1672438"/>
                    </a:cubicBezTo>
                    <a:cubicBezTo>
                      <a:pt x="491040" y="1406027"/>
                      <a:pt x="352782" y="1182333"/>
                      <a:pt x="171805" y="1001357"/>
                    </a:cubicBezTo>
                    <a:cubicBezTo>
                      <a:pt x="-57269" y="772282"/>
                      <a:pt x="-57269" y="400880"/>
                      <a:pt x="171805" y="171806"/>
                    </a:cubicBezTo>
                    <a:cubicBezTo>
                      <a:pt x="286343" y="57269"/>
                      <a:pt x="436462" y="0"/>
                      <a:pt x="586581" y="0"/>
                    </a:cubicBezTo>
                    <a:close/>
                  </a:path>
                </a:pathLst>
              </a:cu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576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423" name="文本框 18"/>
              <p:cNvSpPr/>
              <p:nvPr/>
            </p:nvSpPr>
            <p:spPr>
              <a:xfrm>
                <a:off x="2124720" y="2759760"/>
                <a:ext cx="361800" cy="455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组合 5"/>
          <p:cNvGrpSpPr/>
          <p:nvPr/>
        </p:nvGrpSpPr>
        <p:grpSpPr>
          <a:xfrm>
            <a:off x="4078440" y="1600200"/>
            <a:ext cx="1248840" cy="1875960"/>
            <a:chOff x="4078440" y="1600200"/>
            <a:chExt cx="1248840" cy="1875960"/>
          </a:xfrm>
        </p:grpSpPr>
        <p:sp>
          <p:nvSpPr>
            <p:cNvPr id="425" name="KSO_Shape"/>
            <p:cNvSpPr/>
            <p:nvPr/>
          </p:nvSpPr>
          <p:spPr>
            <a:xfrm>
              <a:off x="4421160" y="2674800"/>
              <a:ext cx="563040" cy="801360"/>
            </a:xfrm>
            <a:custGeom>
              <a:avLst/>
              <a:gdLst>
                <a:gd name="textAreaLeft" fmla="*/ 0 w 563040"/>
                <a:gd name="textAreaRight" fmla="*/ 563400 w 563040"/>
                <a:gd name="textAreaTop" fmla="*/ 0 h 801360"/>
                <a:gd name="textAreaBottom" fmla="*/ 801720 h 801360"/>
              </a:gdLst>
              <a:ahLst/>
              <a:rect l="textAreaLeft" t="textAreaTop" r="textAreaRight" b="textAreaBottom"/>
              <a:pathLst>
                <a:path w="1173161" h="1672438">
                  <a:moveTo>
                    <a:pt x="586581" y="0"/>
                  </a:moveTo>
                  <a:cubicBezTo>
                    <a:pt x="736700" y="0"/>
                    <a:pt x="886819" y="57269"/>
                    <a:pt x="1001356" y="171806"/>
                  </a:cubicBezTo>
                  <a:cubicBezTo>
                    <a:pt x="1230430" y="400880"/>
                    <a:pt x="1230430" y="772282"/>
                    <a:pt x="1001356" y="1001357"/>
                  </a:cubicBezTo>
                  <a:cubicBezTo>
                    <a:pt x="820380" y="1182333"/>
                    <a:pt x="682121" y="1406027"/>
                    <a:pt x="586581" y="1672438"/>
                  </a:cubicBezTo>
                  <a:cubicBezTo>
                    <a:pt x="491040" y="1406027"/>
                    <a:pt x="352782" y="1182333"/>
                    <a:pt x="171805" y="1001357"/>
                  </a:cubicBezTo>
                  <a:cubicBezTo>
                    <a:pt x="-57269" y="772282"/>
                    <a:pt x="-57269" y="400880"/>
                    <a:pt x="171805" y="171806"/>
                  </a:cubicBezTo>
                  <a:cubicBezTo>
                    <a:pt x="286343" y="57269"/>
                    <a:pt x="436462" y="0"/>
                    <a:pt x="586581" y="0"/>
                  </a:cubicBezTo>
                  <a:close/>
                </a:path>
              </a:pathLst>
            </a:custGeom>
            <a:solidFill>
              <a:srgbClr val="036e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576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  <a:ea typeface="宋体"/>
              </a:endParaRPr>
            </a:p>
          </p:txBody>
        </p:sp>
        <p:sp>
          <p:nvSpPr>
            <p:cNvPr id="426" name="MH_SubTitle_2"/>
            <p:cNvSpPr/>
            <p:nvPr/>
          </p:nvSpPr>
          <p:spPr>
            <a:xfrm>
              <a:off x="4078440" y="1600200"/>
              <a:ext cx="1248840" cy="1480320"/>
            </a:xfrm>
            <a:custGeom>
              <a:avLst/>
              <a:gdLst>
                <a:gd name="textAreaLeft" fmla="*/ 0 w 1248840"/>
                <a:gd name="textAreaRight" fmla="*/ 1249200 w 1248840"/>
                <a:gd name="textAreaTop" fmla="*/ 0 h 1480320"/>
                <a:gd name="textAreaBottom" fmla="*/ 1480680 h 1480320"/>
              </a:gdLst>
              <a:ahLst/>
              <a:rect l="textAreaLeft" t="textAreaTop" r="textAreaRight" b="textAreaBottom"/>
              <a:pathLst>
                <a:path w="1146175" h="1359564">
                  <a:moveTo>
                    <a:pt x="573088" y="0"/>
                  </a:moveTo>
                  <a:cubicBezTo>
                    <a:pt x="889595" y="0"/>
                    <a:pt x="1146175" y="257087"/>
                    <a:pt x="1146175" y="574220"/>
                  </a:cubicBezTo>
                  <a:cubicBezTo>
                    <a:pt x="1146175" y="613861"/>
                    <a:pt x="1142166" y="652565"/>
                    <a:pt x="1134532" y="689945"/>
                  </a:cubicBezTo>
                  <a:lnTo>
                    <a:pt x="1112602" y="760731"/>
                  </a:lnTo>
                  <a:lnTo>
                    <a:pt x="1112798" y="760731"/>
                  </a:lnTo>
                  <a:lnTo>
                    <a:pt x="850646" y="1359564"/>
                  </a:lnTo>
                  <a:lnTo>
                    <a:pt x="295529" y="1359564"/>
                  </a:lnTo>
                  <a:lnTo>
                    <a:pt x="33378" y="760731"/>
                  </a:lnTo>
                  <a:lnTo>
                    <a:pt x="33573" y="760731"/>
                  </a:lnTo>
                  <a:lnTo>
                    <a:pt x="11643" y="689945"/>
                  </a:lnTo>
                  <a:cubicBezTo>
                    <a:pt x="4009" y="652565"/>
                    <a:pt x="0" y="613861"/>
                    <a:pt x="0" y="574220"/>
                  </a:cubicBezTo>
                  <a:cubicBezTo>
                    <a:pt x="0" y="257087"/>
                    <a:pt x="256580" y="0"/>
                    <a:pt x="573088" y="0"/>
                  </a:cubicBezTo>
                  <a:close/>
                </a:path>
              </a:pathLst>
            </a:cu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72000" rIns="72000" tIns="72000" bIns="72000" anchor="ctr">
              <a:norm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333333"/>
                  </a:solidFill>
                  <a:latin typeface="等线"/>
                  <a:ea typeface="宋体"/>
                </a:rPr>
                <a:t>单机更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文本框 19"/>
            <p:cNvSpPr/>
            <p:nvPr/>
          </p:nvSpPr>
          <p:spPr>
            <a:xfrm>
              <a:off x="4521960" y="2740680"/>
              <a:ext cx="3618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文本框 22"/>
          <p:cNvSpPr/>
          <p:nvPr/>
        </p:nvSpPr>
        <p:spPr>
          <a:xfrm>
            <a:off x="446040" y="961920"/>
            <a:ext cx="3985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36eb8"/>
                </a:solidFill>
                <a:latin typeface="等线"/>
                <a:ea typeface="等线"/>
              </a:rPr>
              <a:t>各方需配合的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组合 16"/>
          <p:cNvGrpSpPr/>
          <p:nvPr/>
        </p:nvGrpSpPr>
        <p:grpSpPr>
          <a:xfrm>
            <a:off x="73080" y="84240"/>
            <a:ext cx="2964960" cy="364680"/>
            <a:chOff x="73080" y="84240"/>
            <a:chExt cx="2964960" cy="364680"/>
          </a:xfrm>
        </p:grpSpPr>
        <p:sp>
          <p:nvSpPr>
            <p:cNvPr id="430" name="文本框 23"/>
            <p:cNvSpPr/>
            <p:nvPr/>
          </p:nvSpPr>
          <p:spPr>
            <a:xfrm>
              <a:off x="73080" y="8496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24"/>
            <p:cNvSpPr/>
            <p:nvPr/>
          </p:nvSpPr>
          <p:spPr>
            <a:xfrm>
              <a:off x="1006560" y="84240"/>
              <a:ext cx="203148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各方需要配合的工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25"/>
          <p:cNvSpPr/>
          <p:nvPr/>
        </p:nvSpPr>
        <p:spPr>
          <a:xfrm>
            <a:off x="1077840" y="3657600"/>
            <a:ext cx="2455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文本框 26"/>
          <p:cNvSpPr/>
          <p:nvPr/>
        </p:nvSpPr>
        <p:spPr>
          <a:xfrm>
            <a:off x="5872320" y="3657600"/>
            <a:ext cx="2455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7"/>
          <p:cNvSpPr/>
          <p:nvPr/>
        </p:nvSpPr>
        <p:spPr>
          <a:xfrm>
            <a:off x="3475080" y="3657600"/>
            <a:ext cx="2455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29"/>
          <p:cNvSpPr/>
          <p:nvPr/>
        </p:nvSpPr>
        <p:spPr>
          <a:xfrm>
            <a:off x="8269200" y="3657600"/>
            <a:ext cx="24555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请单击更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组合 30"/>
          <p:cNvGrpSpPr/>
          <p:nvPr/>
        </p:nvGrpSpPr>
        <p:grpSpPr>
          <a:xfrm>
            <a:off x="6602400" y="1590840"/>
            <a:ext cx="1247400" cy="1904400"/>
            <a:chOff x="6602400" y="1590840"/>
            <a:chExt cx="1247400" cy="1904400"/>
          </a:xfrm>
        </p:grpSpPr>
        <p:sp>
          <p:nvSpPr>
            <p:cNvPr id="437" name="MH_SubTitle_1"/>
            <p:cNvSpPr/>
            <p:nvPr/>
          </p:nvSpPr>
          <p:spPr>
            <a:xfrm>
              <a:off x="6602400" y="1590840"/>
              <a:ext cx="1247400" cy="1480320"/>
            </a:xfrm>
            <a:custGeom>
              <a:avLst/>
              <a:gdLst>
                <a:gd name="textAreaLeft" fmla="*/ 0 w 1247400"/>
                <a:gd name="textAreaRight" fmla="*/ 1247760 w 1247400"/>
                <a:gd name="textAreaTop" fmla="*/ 0 h 1480320"/>
                <a:gd name="textAreaBottom" fmla="*/ 1480680 h 1480320"/>
              </a:gdLst>
              <a:ahLst/>
              <a:rect l="textAreaLeft" t="textAreaTop" r="textAreaRight" b="textAreaBottom"/>
              <a:pathLst>
                <a:path w="1146175" h="1359564">
                  <a:moveTo>
                    <a:pt x="573088" y="0"/>
                  </a:moveTo>
                  <a:cubicBezTo>
                    <a:pt x="889595" y="0"/>
                    <a:pt x="1146175" y="257087"/>
                    <a:pt x="1146175" y="574220"/>
                  </a:cubicBezTo>
                  <a:cubicBezTo>
                    <a:pt x="1146175" y="613861"/>
                    <a:pt x="1142166" y="652565"/>
                    <a:pt x="1134532" y="689945"/>
                  </a:cubicBezTo>
                  <a:lnTo>
                    <a:pt x="1112602" y="760731"/>
                  </a:lnTo>
                  <a:lnTo>
                    <a:pt x="1112798" y="760731"/>
                  </a:lnTo>
                  <a:lnTo>
                    <a:pt x="850646" y="1359564"/>
                  </a:lnTo>
                  <a:lnTo>
                    <a:pt x="295529" y="1359564"/>
                  </a:lnTo>
                  <a:lnTo>
                    <a:pt x="33378" y="760731"/>
                  </a:lnTo>
                  <a:lnTo>
                    <a:pt x="33573" y="760731"/>
                  </a:lnTo>
                  <a:lnTo>
                    <a:pt x="11643" y="689945"/>
                  </a:lnTo>
                  <a:cubicBezTo>
                    <a:pt x="4009" y="652565"/>
                    <a:pt x="0" y="613861"/>
                    <a:pt x="0" y="574220"/>
                  </a:cubicBezTo>
                  <a:cubicBezTo>
                    <a:pt x="0" y="257087"/>
                    <a:pt x="256580" y="0"/>
                    <a:pt x="573088" y="0"/>
                  </a:cubicBezTo>
                  <a:close/>
                </a:path>
              </a:pathLst>
            </a:cu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72000" rIns="72000" tIns="72000" bIns="72000" anchor="ctr">
              <a:norm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333333"/>
                  </a:solidFill>
                  <a:latin typeface="等线"/>
                  <a:ea typeface="宋体"/>
                </a:rPr>
                <a:t>单击更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组合 32"/>
            <p:cNvGrpSpPr/>
            <p:nvPr/>
          </p:nvGrpSpPr>
          <p:grpSpPr>
            <a:xfrm>
              <a:off x="6945480" y="2695680"/>
              <a:ext cx="561600" cy="799560"/>
              <a:chOff x="6945480" y="2695680"/>
              <a:chExt cx="561600" cy="799560"/>
            </a:xfrm>
          </p:grpSpPr>
          <p:sp>
            <p:nvSpPr>
              <p:cNvPr id="439" name="KSO_Shape"/>
              <p:cNvSpPr/>
              <p:nvPr/>
            </p:nvSpPr>
            <p:spPr>
              <a:xfrm>
                <a:off x="6945480" y="2695680"/>
                <a:ext cx="561600" cy="799560"/>
              </a:xfrm>
              <a:custGeom>
                <a:avLst/>
                <a:gdLst>
                  <a:gd name="textAreaLeft" fmla="*/ 0 w 561600"/>
                  <a:gd name="textAreaRight" fmla="*/ 561960 w 561600"/>
                  <a:gd name="textAreaTop" fmla="*/ 0 h 799560"/>
                  <a:gd name="textAreaBottom" fmla="*/ 799920 h 799560"/>
                </a:gdLst>
                <a:ahLst/>
                <a:rect l="textAreaLeft" t="textAreaTop" r="textAreaRight" b="textAreaBottom"/>
                <a:pathLst>
                  <a:path w="1173161" h="1672438">
                    <a:moveTo>
                      <a:pt x="586581" y="0"/>
                    </a:moveTo>
                    <a:cubicBezTo>
                      <a:pt x="736700" y="0"/>
                      <a:pt x="886819" y="57269"/>
                      <a:pt x="1001356" y="171806"/>
                    </a:cubicBezTo>
                    <a:cubicBezTo>
                      <a:pt x="1230430" y="400880"/>
                      <a:pt x="1230430" y="772282"/>
                      <a:pt x="1001356" y="1001357"/>
                    </a:cubicBezTo>
                    <a:cubicBezTo>
                      <a:pt x="820380" y="1182333"/>
                      <a:pt x="682121" y="1406027"/>
                      <a:pt x="586581" y="1672438"/>
                    </a:cubicBezTo>
                    <a:cubicBezTo>
                      <a:pt x="491040" y="1406027"/>
                      <a:pt x="352782" y="1182333"/>
                      <a:pt x="171805" y="1001357"/>
                    </a:cubicBezTo>
                    <a:cubicBezTo>
                      <a:pt x="-57269" y="772282"/>
                      <a:pt x="-57269" y="400880"/>
                      <a:pt x="171805" y="171806"/>
                    </a:cubicBezTo>
                    <a:cubicBezTo>
                      <a:pt x="286343" y="57269"/>
                      <a:pt x="436462" y="0"/>
                      <a:pt x="586581" y="0"/>
                    </a:cubicBezTo>
                    <a:close/>
                  </a:path>
                </a:pathLst>
              </a:cu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576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440" name="文本框 34"/>
              <p:cNvSpPr/>
              <p:nvPr/>
            </p:nvSpPr>
            <p:spPr>
              <a:xfrm>
                <a:off x="7045560" y="2759760"/>
                <a:ext cx="361440" cy="455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组合 35"/>
          <p:cNvGrpSpPr/>
          <p:nvPr/>
        </p:nvGrpSpPr>
        <p:grpSpPr>
          <a:xfrm>
            <a:off x="8999640" y="1600200"/>
            <a:ext cx="1247400" cy="1875960"/>
            <a:chOff x="8999640" y="1600200"/>
            <a:chExt cx="1247400" cy="1875960"/>
          </a:xfrm>
        </p:grpSpPr>
        <p:sp>
          <p:nvSpPr>
            <p:cNvPr id="442" name="KSO_Shape"/>
            <p:cNvSpPr/>
            <p:nvPr/>
          </p:nvSpPr>
          <p:spPr>
            <a:xfrm>
              <a:off x="9342360" y="2674800"/>
              <a:ext cx="561600" cy="801360"/>
            </a:xfrm>
            <a:custGeom>
              <a:avLst/>
              <a:gdLst>
                <a:gd name="textAreaLeft" fmla="*/ 0 w 561600"/>
                <a:gd name="textAreaRight" fmla="*/ 561960 w 561600"/>
                <a:gd name="textAreaTop" fmla="*/ 0 h 801360"/>
                <a:gd name="textAreaBottom" fmla="*/ 801720 h 801360"/>
              </a:gdLst>
              <a:ahLst/>
              <a:rect l="textAreaLeft" t="textAreaTop" r="textAreaRight" b="textAreaBottom"/>
              <a:pathLst>
                <a:path w="1173161" h="1672438">
                  <a:moveTo>
                    <a:pt x="586581" y="0"/>
                  </a:moveTo>
                  <a:cubicBezTo>
                    <a:pt x="736700" y="0"/>
                    <a:pt x="886819" y="57269"/>
                    <a:pt x="1001356" y="171806"/>
                  </a:cubicBezTo>
                  <a:cubicBezTo>
                    <a:pt x="1230430" y="400880"/>
                    <a:pt x="1230430" y="772282"/>
                    <a:pt x="1001356" y="1001357"/>
                  </a:cubicBezTo>
                  <a:cubicBezTo>
                    <a:pt x="820380" y="1182333"/>
                    <a:pt x="682121" y="1406027"/>
                    <a:pt x="586581" y="1672438"/>
                  </a:cubicBezTo>
                  <a:cubicBezTo>
                    <a:pt x="491040" y="1406027"/>
                    <a:pt x="352782" y="1182333"/>
                    <a:pt x="171805" y="1001357"/>
                  </a:cubicBezTo>
                  <a:cubicBezTo>
                    <a:pt x="-57269" y="772282"/>
                    <a:pt x="-57269" y="400880"/>
                    <a:pt x="171805" y="171806"/>
                  </a:cubicBezTo>
                  <a:cubicBezTo>
                    <a:pt x="286343" y="57269"/>
                    <a:pt x="436462" y="0"/>
                    <a:pt x="586581" y="0"/>
                  </a:cubicBezTo>
                  <a:close/>
                </a:path>
              </a:pathLst>
            </a:custGeom>
            <a:solidFill>
              <a:srgbClr val="036e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576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等线"/>
                <a:ea typeface="宋体"/>
              </a:endParaRPr>
            </a:p>
          </p:txBody>
        </p:sp>
        <p:sp>
          <p:nvSpPr>
            <p:cNvPr id="443" name="MH_SubTitle_2"/>
            <p:cNvSpPr/>
            <p:nvPr/>
          </p:nvSpPr>
          <p:spPr>
            <a:xfrm>
              <a:off x="8999640" y="1600200"/>
              <a:ext cx="1247400" cy="1480320"/>
            </a:xfrm>
            <a:custGeom>
              <a:avLst/>
              <a:gdLst>
                <a:gd name="textAreaLeft" fmla="*/ 0 w 1247400"/>
                <a:gd name="textAreaRight" fmla="*/ 1247760 w 1247400"/>
                <a:gd name="textAreaTop" fmla="*/ 0 h 1480320"/>
                <a:gd name="textAreaBottom" fmla="*/ 1480680 h 1480320"/>
              </a:gdLst>
              <a:ahLst/>
              <a:rect l="textAreaLeft" t="textAreaTop" r="textAreaRight" b="textAreaBottom"/>
              <a:pathLst>
                <a:path w="1146175" h="1359564">
                  <a:moveTo>
                    <a:pt x="573088" y="0"/>
                  </a:moveTo>
                  <a:cubicBezTo>
                    <a:pt x="889595" y="0"/>
                    <a:pt x="1146175" y="257087"/>
                    <a:pt x="1146175" y="574220"/>
                  </a:cubicBezTo>
                  <a:cubicBezTo>
                    <a:pt x="1146175" y="613861"/>
                    <a:pt x="1142166" y="652565"/>
                    <a:pt x="1134532" y="689945"/>
                  </a:cubicBezTo>
                  <a:lnTo>
                    <a:pt x="1112602" y="760731"/>
                  </a:lnTo>
                  <a:lnTo>
                    <a:pt x="1112798" y="760731"/>
                  </a:lnTo>
                  <a:lnTo>
                    <a:pt x="850646" y="1359564"/>
                  </a:lnTo>
                  <a:lnTo>
                    <a:pt x="295529" y="1359564"/>
                  </a:lnTo>
                  <a:lnTo>
                    <a:pt x="33378" y="760731"/>
                  </a:lnTo>
                  <a:lnTo>
                    <a:pt x="33573" y="760731"/>
                  </a:lnTo>
                  <a:lnTo>
                    <a:pt x="11643" y="689945"/>
                  </a:lnTo>
                  <a:cubicBezTo>
                    <a:pt x="4009" y="652565"/>
                    <a:pt x="0" y="613861"/>
                    <a:pt x="0" y="574220"/>
                  </a:cubicBezTo>
                  <a:cubicBezTo>
                    <a:pt x="0" y="257087"/>
                    <a:pt x="256580" y="0"/>
                    <a:pt x="573088" y="0"/>
                  </a:cubicBezTo>
                  <a:close/>
                </a:path>
              </a:pathLst>
            </a:custGeom>
            <a:noFill/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72000" rIns="72000" tIns="72000" bIns="72000" anchor="ctr">
              <a:normAutofit/>
              <a:scene3d>
                <a:camera prst="orthographicFront"/>
                <a:lightRig dir="t" rig="threePt"/>
              </a:scene3d>
              <a:sp3d>
                <a:contourClr>
                  <a:srgbClr val="ffffff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333333"/>
                  </a:solidFill>
                  <a:latin typeface="等线"/>
                  <a:ea typeface="宋体"/>
                </a:rPr>
                <a:t>单机更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文本框 38"/>
            <p:cNvSpPr/>
            <p:nvPr/>
          </p:nvSpPr>
          <p:spPr>
            <a:xfrm>
              <a:off x="9442440" y="2740680"/>
              <a:ext cx="3614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矩形 4"/>
          <p:cNvSpPr/>
          <p:nvPr/>
        </p:nvSpPr>
        <p:spPr>
          <a:xfrm>
            <a:off x="0" y="2100240"/>
            <a:ext cx="12191760" cy="2671560"/>
          </a:xfrm>
          <a:prstGeom prst="rect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grpSp>
        <p:nvGrpSpPr>
          <p:cNvPr id="446" name="组合 5"/>
          <p:cNvGrpSpPr/>
          <p:nvPr/>
        </p:nvGrpSpPr>
        <p:grpSpPr>
          <a:xfrm>
            <a:off x="5705640" y="2086560"/>
            <a:ext cx="780480" cy="2684880"/>
            <a:chOff x="5705640" y="2086560"/>
            <a:chExt cx="780480" cy="2684880"/>
          </a:xfrm>
        </p:grpSpPr>
        <p:sp>
          <p:nvSpPr>
            <p:cNvPr id="447" name="等腰三角形 8"/>
            <p:cNvSpPr/>
            <p:nvPr/>
          </p:nvSpPr>
          <p:spPr>
            <a:xfrm flipV="1">
              <a:off x="5705640" y="2086560"/>
              <a:ext cx="780480" cy="580320"/>
            </a:xfrm>
            <a:prstGeom prst="triangle">
              <a:avLst>
                <a:gd name="adj" fmla="val 50000"/>
              </a:avLst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448" name="等腰三角形 9"/>
            <p:cNvSpPr/>
            <p:nvPr/>
          </p:nvSpPr>
          <p:spPr>
            <a:xfrm>
              <a:off x="5705640" y="4191120"/>
              <a:ext cx="780480" cy="580320"/>
            </a:xfrm>
            <a:prstGeom prst="triangle">
              <a:avLst>
                <a:gd name="adj" fmla="val 50000"/>
              </a:avLst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grpSp>
        <p:nvGrpSpPr>
          <p:cNvPr id="449" name="组合 1"/>
          <p:cNvGrpSpPr/>
          <p:nvPr/>
        </p:nvGrpSpPr>
        <p:grpSpPr>
          <a:xfrm>
            <a:off x="4332240" y="2908440"/>
            <a:ext cx="3527280" cy="820800"/>
            <a:chOff x="4332240" y="2908440"/>
            <a:chExt cx="3527280" cy="820800"/>
          </a:xfrm>
        </p:grpSpPr>
        <p:sp>
          <p:nvSpPr>
            <p:cNvPr id="450" name="文本框 6"/>
            <p:cNvSpPr/>
            <p:nvPr/>
          </p:nvSpPr>
          <p:spPr>
            <a:xfrm>
              <a:off x="5043600" y="2908440"/>
              <a:ext cx="28159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项目预算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文本框 7"/>
            <p:cNvSpPr/>
            <p:nvPr/>
          </p:nvSpPr>
          <p:spPr>
            <a:xfrm>
              <a:off x="4332240" y="2908440"/>
              <a:ext cx="100116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0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组合 10"/>
          <p:cNvGrpSpPr/>
          <p:nvPr/>
        </p:nvGrpSpPr>
        <p:grpSpPr>
          <a:xfrm>
            <a:off x="3686040" y="5013360"/>
            <a:ext cx="4586040" cy="1207800"/>
            <a:chOff x="3686040" y="5013360"/>
            <a:chExt cx="4586040" cy="1207800"/>
          </a:xfrm>
        </p:grpSpPr>
        <p:sp>
          <p:nvSpPr>
            <p:cNvPr id="453" name="文本框 11"/>
            <p:cNvSpPr/>
            <p:nvPr/>
          </p:nvSpPr>
          <p:spPr>
            <a:xfrm>
              <a:off x="4967280" y="5764320"/>
              <a:ext cx="3219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599" strike="noStrike">
                  <a:solidFill>
                    <a:srgbClr val="000000"/>
                  </a:solidFill>
                  <a:latin typeface="等线"/>
                </a:rPr>
                <a:t>ORANGEPPT</a:t>
              </a:r>
              <a:r>
                <a:rPr b="0" lang="zh-CN" sz="1800" spc="599" strike="noStrike">
                  <a:solidFill>
                    <a:srgbClr val="000000"/>
                  </a:solidFill>
                  <a:latin typeface="等线"/>
                </a:rPr>
                <a:t>工作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文本框 12"/>
            <p:cNvSpPr/>
            <p:nvPr/>
          </p:nvSpPr>
          <p:spPr>
            <a:xfrm>
              <a:off x="4895280" y="5360760"/>
              <a:ext cx="33768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ＰＯＷＥＲＰＯＩＮ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十字箭头标注 13"/>
            <p:cNvSpPr/>
            <p:nvPr/>
          </p:nvSpPr>
          <p:spPr>
            <a:xfrm>
              <a:off x="3686040" y="5013360"/>
              <a:ext cx="1209240" cy="1207800"/>
            </a:xfrm>
            <a:prstGeom prst="quadArrowCallout">
              <a:avLst>
                <a:gd name="adj1" fmla="val 18515"/>
                <a:gd name="adj2" fmla="val 18515"/>
                <a:gd name="adj3" fmla="val 18515"/>
                <a:gd name="adj4" fmla="val 48123"/>
              </a:avLst>
            </a:prstGeom>
            <a:solidFill>
              <a:srgbClr val="036eb8"/>
            </a:solidFill>
            <a:ln>
              <a:noFill/>
            </a:ln>
            <a:effectLst>
              <a:outerShdw algn="bl" blurRad="431640" dir="18900000" dist="37674" rotWithShape="0" sx="60000" sy="60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ＬＯＧ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2"/>
          <p:cNvSpPr/>
          <p:nvPr/>
        </p:nvSpPr>
        <p:spPr>
          <a:xfrm>
            <a:off x="0" y="268200"/>
            <a:ext cx="1292040" cy="928440"/>
          </a:xfrm>
          <a:prstGeom prst="rect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1509840" y="268200"/>
            <a:ext cx="174240" cy="928440"/>
          </a:xfrm>
          <a:prstGeom prst="rect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97" name="文本框 4"/>
          <p:cNvSpPr/>
          <p:nvPr/>
        </p:nvSpPr>
        <p:spPr>
          <a:xfrm>
            <a:off x="2031840" y="268200"/>
            <a:ext cx="1625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5"/>
          <p:cNvSpPr/>
          <p:nvPr/>
        </p:nvSpPr>
        <p:spPr>
          <a:xfrm>
            <a:off x="3527280" y="668160"/>
            <a:ext cx="2830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49"/>
          <p:cNvGrpSpPr/>
          <p:nvPr/>
        </p:nvGrpSpPr>
        <p:grpSpPr>
          <a:xfrm>
            <a:off x="1463400" y="2106720"/>
            <a:ext cx="9963000" cy="3141720"/>
            <a:chOff x="1463400" y="2106720"/>
            <a:chExt cx="9963000" cy="3141720"/>
          </a:xfrm>
        </p:grpSpPr>
        <p:grpSp>
          <p:nvGrpSpPr>
            <p:cNvPr id="100" name="组合 6"/>
            <p:cNvGrpSpPr/>
            <p:nvPr/>
          </p:nvGrpSpPr>
          <p:grpSpPr>
            <a:xfrm>
              <a:off x="1463760" y="2109600"/>
              <a:ext cx="468360" cy="579240"/>
              <a:chOff x="1463760" y="2109600"/>
              <a:chExt cx="468360" cy="579240"/>
            </a:xfrm>
          </p:grpSpPr>
          <p:sp>
            <p:nvSpPr>
              <p:cNvPr id="101" name="矩形 7"/>
              <p:cNvSpPr/>
              <p:nvPr/>
            </p:nvSpPr>
            <p:spPr>
              <a:xfrm>
                <a:off x="1463760" y="2208240"/>
                <a:ext cx="468000" cy="480600"/>
              </a:xfrm>
              <a:prstGeom prst="rect">
                <a:avLst/>
              </a:pr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102" name="文本框 8"/>
              <p:cNvSpPr/>
              <p:nvPr/>
            </p:nvSpPr>
            <p:spPr>
              <a:xfrm>
                <a:off x="1482480" y="2109600"/>
                <a:ext cx="449640" cy="55548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文本框 9"/>
            <p:cNvSpPr/>
            <p:nvPr/>
          </p:nvSpPr>
          <p:spPr>
            <a:xfrm>
              <a:off x="1955880" y="2149560"/>
              <a:ext cx="2012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项目介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组合 10"/>
            <p:cNvGrpSpPr/>
            <p:nvPr/>
          </p:nvGrpSpPr>
          <p:grpSpPr>
            <a:xfrm>
              <a:off x="5583240" y="2106720"/>
              <a:ext cx="471240" cy="699120"/>
              <a:chOff x="5583240" y="2106720"/>
              <a:chExt cx="471240" cy="699120"/>
            </a:xfrm>
          </p:grpSpPr>
          <p:sp>
            <p:nvSpPr>
              <p:cNvPr id="105" name="矩形 11"/>
              <p:cNvSpPr/>
              <p:nvPr/>
            </p:nvSpPr>
            <p:spPr>
              <a:xfrm>
                <a:off x="5583240" y="2200320"/>
                <a:ext cx="471240" cy="485280"/>
              </a:xfrm>
              <a:prstGeom prst="rect">
                <a:avLst/>
              </a:pr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106" name="文本框 12"/>
              <p:cNvSpPr/>
              <p:nvPr/>
            </p:nvSpPr>
            <p:spPr>
              <a:xfrm>
                <a:off x="5601600" y="2106720"/>
                <a:ext cx="452160" cy="699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文本框 13"/>
            <p:cNvSpPr/>
            <p:nvPr/>
          </p:nvSpPr>
          <p:spPr>
            <a:xfrm>
              <a:off x="6114960" y="2187720"/>
              <a:ext cx="37047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各方需要配合的工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组合 18"/>
            <p:cNvGrpSpPr/>
            <p:nvPr/>
          </p:nvGrpSpPr>
          <p:grpSpPr>
            <a:xfrm>
              <a:off x="5583240" y="3275280"/>
              <a:ext cx="471240" cy="699120"/>
              <a:chOff x="5583240" y="3275280"/>
              <a:chExt cx="471240" cy="699120"/>
            </a:xfrm>
          </p:grpSpPr>
          <p:sp>
            <p:nvSpPr>
              <p:cNvPr id="109" name="矩形 19"/>
              <p:cNvSpPr/>
              <p:nvPr/>
            </p:nvSpPr>
            <p:spPr>
              <a:xfrm>
                <a:off x="5583240" y="3373560"/>
                <a:ext cx="471240" cy="483840"/>
              </a:xfrm>
              <a:prstGeom prst="rect">
                <a:avLst/>
              </a:pr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110" name="文本框 20"/>
              <p:cNvSpPr/>
              <p:nvPr/>
            </p:nvSpPr>
            <p:spPr>
              <a:xfrm>
                <a:off x="5601600" y="3275280"/>
                <a:ext cx="452160" cy="699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文本框 21"/>
            <p:cNvSpPr/>
            <p:nvPr/>
          </p:nvSpPr>
          <p:spPr>
            <a:xfrm>
              <a:off x="6114960" y="3360600"/>
              <a:ext cx="27190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项目预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组合 14"/>
            <p:cNvGrpSpPr/>
            <p:nvPr/>
          </p:nvGrpSpPr>
          <p:grpSpPr>
            <a:xfrm>
              <a:off x="1463760" y="3297240"/>
              <a:ext cx="444600" cy="699120"/>
              <a:chOff x="1463760" y="3297240"/>
              <a:chExt cx="444600" cy="699120"/>
            </a:xfrm>
          </p:grpSpPr>
          <p:sp>
            <p:nvSpPr>
              <p:cNvPr id="113" name="矩形 15"/>
              <p:cNvSpPr/>
              <p:nvPr/>
            </p:nvSpPr>
            <p:spPr>
              <a:xfrm>
                <a:off x="1463760" y="3386160"/>
                <a:ext cx="444240" cy="479160"/>
              </a:xfrm>
              <a:prstGeom prst="rect">
                <a:avLst/>
              </a:pr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114" name="文本框 16"/>
              <p:cNvSpPr/>
              <p:nvPr/>
            </p:nvSpPr>
            <p:spPr>
              <a:xfrm>
                <a:off x="1481400" y="3297240"/>
                <a:ext cx="426960" cy="699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文本框 17"/>
            <p:cNvSpPr/>
            <p:nvPr/>
          </p:nvSpPr>
          <p:spPr>
            <a:xfrm>
              <a:off x="1955880" y="3370320"/>
              <a:ext cx="25668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需求分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组合 35"/>
            <p:cNvGrpSpPr/>
            <p:nvPr/>
          </p:nvGrpSpPr>
          <p:grpSpPr>
            <a:xfrm>
              <a:off x="1463760" y="4549320"/>
              <a:ext cx="444600" cy="699120"/>
              <a:chOff x="1463760" y="4549320"/>
              <a:chExt cx="444600" cy="699120"/>
            </a:xfrm>
          </p:grpSpPr>
          <p:sp>
            <p:nvSpPr>
              <p:cNvPr id="117" name="矩形 23"/>
              <p:cNvSpPr/>
              <p:nvPr/>
            </p:nvSpPr>
            <p:spPr>
              <a:xfrm>
                <a:off x="1463760" y="4648320"/>
                <a:ext cx="444240" cy="479160"/>
              </a:xfrm>
              <a:prstGeom prst="rect">
                <a:avLst/>
              </a:pr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118" name="文本框 24"/>
              <p:cNvSpPr/>
              <p:nvPr/>
            </p:nvSpPr>
            <p:spPr>
              <a:xfrm>
                <a:off x="1481400" y="4549320"/>
                <a:ext cx="426960" cy="699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文本框 25"/>
            <p:cNvSpPr/>
            <p:nvPr/>
          </p:nvSpPr>
          <p:spPr>
            <a:xfrm>
              <a:off x="1955880" y="4632480"/>
              <a:ext cx="25668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项目设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组合 26"/>
            <p:cNvGrpSpPr/>
            <p:nvPr/>
          </p:nvGrpSpPr>
          <p:grpSpPr>
            <a:xfrm>
              <a:off x="5602320" y="4538160"/>
              <a:ext cx="471240" cy="699120"/>
              <a:chOff x="5602320" y="4538160"/>
              <a:chExt cx="471240" cy="699120"/>
            </a:xfrm>
          </p:grpSpPr>
          <p:sp>
            <p:nvSpPr>
              <p:cNvPr id="121" name="矩形 27"/>
              <p:cNvSpPr/>
              <p:nvPr/>
            </p:nvSpPr>
            <p:spPr>
              <a:xfrm>
                <a:off x="5602320" y="4637160"/>
                <a:ext cx="471240" cy="482400"/>
              </a:xfrm>
              <a:prstGeom prst="rect">
                <a:avLst/>
              </a:prstGeom>
              <a:solidFill>
                <a:srgbClr val="036eb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122" name="文本框 28"/>
              <p:cNvSpPr/>
              <p:nvPr/>
            </p:nvSpPr>
            <p:spPr>
              <a:xfrm>
                <a:off x="5620320" y="4538160"/>
                <a:ext cx="452160" cy="6991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文本框 29"/>
            <p:cNvSpPr/>
            <p:nvPr/>
          </p:nvSpPr>
          <p:spPr>
            <a:xfrm>
              <a:off x="6134040" y="4622760"/>
              <a:ext cx="27172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总结致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4" name="直接连接符 41"/>
            <p:cNvCxnSpPr/>
            <p:nvPr/>
          </p:nvCxnSpPr>
          <p:spPr>
            <a:xfrm>
              <a:off x="1463400" y="2697120"/>
              <a:ext cx="3319920" cy="3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prstDash val="sysDash"/>
            </a:ln>
          </p:spPr>
        </p:cxnSp>
        <p:cxnSp>
          <p:nvCxnSpPr>
            <p:cNvPr id="125" name="直接连接符 42"/>
            <p:cNvCxnSpPr/>
            <p:nvPr/>
          </p:nvCxnSpPr>
          <p:spPr>
            <a:xfrm>
              <a:off x="1463400" y="3877920"/>
              <a:ext cx="3319920" cy="3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prstDash val="sysDash"/>
            </a:ln>
          </p:spPr>
        </p:cxnSp>
        <p:cxnSp>
          <p:nvCxnSpPr>
            <p:cNvPr id="126" name="直接连接符 43"/>
            <p:cNvCxnSpPr/>
            <p:nvPr/>
          </p:nvCxnSpPr>
          <p:spPr>
            <a:xfrm>
              <a:off x="1463400" y="5144760"/>
              <a:ext cx="3319920" cy="3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prstDash val="sysDash"/>
            </a:ln>
          </p:spPr>
        </p:cxnSp>
        <p:cxnSp>
          <p:nvCxnSpPr>
            <p:cNvPr id="127" name="直接连接符 44"/>
            <p:cNvCxnSpPr/>
            <p:nvPr/>
          </p:nvCxnSpPr>
          <p:spPr>
            <a:xfrm>
              <a:off x="5582880" y="2697120"/>
              <a:ext cx="3771000" cy="3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prstDash val="sysDash"/>
            </a:ln>
          </p:spPr>
        </p:cxnSp>
        <p:cxnSp>
          <p:nvCxnSpPr>
            <p:cNvPr id="128" name="直接连接符 45"/>
            <p:cNvCxnSpPr/>
            <p:nvPr/>
          </p:nvCxnSpPr>
          <p:spPr>
            <a:xfrm>
              <a:off x="5582880" y="3877920"/>
              <a:ext cx="3771000" cy="3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prstDash val="sysDash"/>
            </a:ln>
          </p:spPr>
        </p:cxnSp>
        <p:cxnSp>
          <p:nvCxnSpPr>
            <p:cNvPr id="129" name="直接连接符 46"/>
            <p:cNvCxnSpPr/>
            <p:nvPr/>
          </p:nvCxnSpPr>
          <p:spPr>
            <a:xfrm>
              <a:off x="5582880" y="5144760"/>
              <a:ext cx="3771000" cy="360"/>
            </a:xfrm>
            <a:prstGeom prst="straightConnector1">
              <a:avLst/>
            </a:prstGeom>
            <a:ln>
              <a:solidFill>
                <a:srgbClr val="000000">
                  <a:lumMod val="50000"/>
                  <a:lumOff val="50000"/>
                </a:srgbClr>
              </a:solidFill>
              <a:prstDash val="sysDash"/>
            </a:ln>
          </p:spPr>
        </p:cxnSp>
        <p:pic>
          <p:nvPicPr>
            <p:cNvPr id="130" name="图片 48" descr=""/>
            <p:cNvPicPr/>
            <p:nvPr/>
          </p:nvPicPr>
          <p:blipFill>
            <a:blip r:embed="rId1"/>
            <a:stretch/>
          </p:blipFill>
          <p:spPr>
            <a:xfrm>
              <a:off x="10283760" y="2989800"/>
              <a:ext cx="1142640" cy="2154240"/>
            </a:xfrm>
            <a:prstGeom prst="rect">
              <a:avLst/>
            </a:prstGeom>
            <a:ln w="9525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组合 4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457" name="文本框 5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文本框 6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合作项目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59" name="表格 7"/>
          <p:cNvGraphicFramePr/>
          <p:nvPr/>
        </p:nvGraphicFramePr>
        <p:xfrm>
          <a:off x="2031840" y="1995480"/>
          <a:ext cx="8127720" cy="2707200"/>
        </p:xfrm>
        <a:graphic>
          <a:graphicData uri="http://schemas.openxmlformats.org/drawingml/2006/table">
            <a:tbl>
              <a:tblPr/>
              <a:tblGrid>
                <a:gridCol w="4063680"/>
                <a:gridCol w="4063680"/>
              </a:tblGrid>
              <a:tr h="45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等线"/>
                        </a:rPr>
                        <a:t>项目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chemeClr val="lt1"/>
                          </a:solidFill>
                          <a:latin typeface="等线"/>
                        </a:rPr>
                        <a:t>具体报价（十万元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5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45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45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  <a:tr h="45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  <a:tr h="45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合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等线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1deef"/>
                    </a:solidFill>
                  </a:tcPr>
                </a:tc>
              </a:tr>
            </a:tbl>
          </a:graphicData>
        </a:graphic>
      </p:graphicFrame>
      <p:sp>
        <p:nvSpPr>
          <p:cNvPr id="460" name="文本框 8"/>
          <p:cNvSpPr/>
          <p:nvPr/>
        </p:nvSpPr>
        <p:spPr>
          <a:xfrm>
            <a:off x="3411360" y="1089000"/>
            <a:ext cx="53686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36eb8"/>
                </a:solidFill>
                <a:latin typeface="微软雅黑"/>
                <a:ea typeface="微软雅黑"/>
              </a:rPr>
              <a:t>项目报价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10"/>
          <p:cNvSpPr/>
          <p:nvPr/>
        </p:nvSpPr>
        <p:spPr>
          <a:xfrm>
            <a:off x="2031840" y="5086440"/>
            <a:ext cx="812772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更改说明文字：每一个模板都用心设计，一切以实用为原则，不浮夸，不做作，不免费。每一个模板都用心设计，一切以实用为原则，不浮夸，不做作，不免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63360" y="62953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直角三角形 2"/>
          <p:cNvSpPr/>
          <p:nvPr/>
        </p:nvSpPr>
        <p:spPr>
          <a:xfrm rot="9561000">
            <a:off x="8707320" y="2490840"/>
            <a:ext cx="544320" cy="1184040"/>
          </a:xfrm>
          <a:prstGeom prst="rtTriangle">
            <a:avLst/>
          </a:prstGeom>
          <a:solidFill>
            <a:srgbClr val="2a9a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64" name="直角三角形 3"/>
          <p:cNvSpPr/>
          <p:nvPr/>
        </p:nvSpPr>
        <p:spPr>
          <a:xfrm rot="19063200">
            <a:off x="7858080" y="3381480"/>
            <a:ext cx="680760" cy="1184040"/>
          </a:xfrm>
          <a:prstGeom prst="rtTriangle">
            <a:avLst/>
          </a:prstGeom>
          <a:solidFill>
            <a:srgbClr val="2a9a3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65" name="矩形 4"/>
          <p:cNvSpPr/>
          <p:nvPr/>
        </p:nvSpPr>
        <p:spPr>
          <a:xfrm>
            <a:off x="0" y="2895480"/>
            <a:ext cx="12191760" cy="1318680"/>
          </a:xfrm>
          <a:prstGeom prst="rect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66" name="任意多边形 6"/>
          <p:cNvSpPr/>
          <p:nvPr/>
        </p:nvSpPr>
        <p:spPr>
          <a:xfrm>
            <a:off x="3021120" y="2430360"/>
            <a:ext cx="6008400" cy="2219040"/>
          </a:xfrm>
          <a:custGeom>
            <a:avLst/>
            <a:gdLst>
              <a:gd name="textAreaLeft" fmla="*/ 0 w 6008400"/>
              <a:gd name="textAreaRight" fmla="*/ 6008760 w 6008400"/>
              <a:gd name="textAreaTop" fmla="*/ 0 h 2219040"/>
              <a:gd name="textAreaBottom" fmla="*/ 2219400 h 2219040"/>
            </a:gdLst>
            <a:ahLst/>
            <a:rect l="textAreaLeft" t="textAreaTop" r="textAreaRight" b="textAreaBottom"/>
            <a:pathLst>
              <a:path w="6008914" h="2220686">
                <a:moveTo>
                  <a:pt x="0" y="452846"/>
                </a:moveTo>
                <a:lnTo>
                  <a:pt x="252548" y="1793966"/>
                </a:lnTo>
                <a:lnTo>
                  <a:pt x="5320937" y="2220686"/>
                </a:lnTo>
                <a:lnTo>
                  <a:pt x="6008914" y="0"/>
                </a:lnTo>
                <a:lnTo>
                  <a:pt x="0" y="452846"/>
                </a:lnTo>
                <a:close/>
              </a:path>
            </a:pathLst>
          </a:custGeom>
          <a:solidFill>
            <a:srgbClr val="34bf49"/>
          </a:solidFill>
          <a:ln>
            <a:noFill/>
          </a:ln>
          <a:effectLst>
            <a:outerShdw algn="l" blurRad="5076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67" name="任意多边形 7"/>
          <p:cNvSpPr/>
          <p:nvPr/>
        </p:nvSpPr>
        <p:spPr>
          <a:xfrm>
            <a:off x="9086760" y="2482920"/>
            <a:ext cx="399600" cy="158400"/>
          </a:xfrm>
          <a:custGeom>
            <a:avLst/>
            <a:gdLst>
              <a:gd name="textAreaLeft" fmla="*/ 0 w 399600"/>
              <a:gd name="textAreaRight" fmla="*/ 399960 w 399600"/>
              <a:gd name="textAreaTop" fmla="*/ 0 h 158400"/>
              <a:gd name="textAreaBottom" fmla="*/ 158760 h 158400"/>
            </a:gdLst>
            <a:ahLst/>
            <a:rect l="textAreaLeft" t="textAreaTop" r="textAreaRight" b="textAreaBottom"/>
            <a:pathLst>
              <a:path w="400050" h="158750">
                <a:moveTo>
                  <a:pt x="0" y="152400"/>
                </a:moveTo>
                <a:lnTo>
                  <a:pt x="374650" y="0"/>
                </a:lnTo>
                <a:lnTo>
                  <a:pt x="400050" y="158750"/>
                </a:lnTo>
                <a:lnTo>
                  <a:pt x="0" y="152400"/>
                </a:lnTo>
                <a:close/>
              </a:path>
            </a:pathLst>
          </a:custGeom>
          <a:solidFill>
            <a:srgbClr val="34bf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68" name="任意多边形 8"/>
          <p:cNvSpPr/>
          <p:nvPr/>
        </p:nvSpPr>
        <p:spPr>
          <a:xfrm>
            <a:off x="8959680" y="1936800"/>
            <a:ext cx="367920" cy="342720"/>
          </a:xfrm>
          <a:custGeom>
            <a:avLst/>
            <a:gdLst>
              <a:gd name="textAreaLeft" fmla="*/ 0 w 367920"/>
              <a:gd name="textAreaRight" fmla="*/ 368280 w 36792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368300" h="342900">
                <a:moveTo>
                  <a:pt x="0" y="342900"/>
                </a:moveTo>
                <a:lnTo>
                  <a:pt x="254000" y="0"/>
                </a:lnTo>
                <a:lnTo>
                  <a:pt x="368300" y="139700"/>
                </a:lnTo>
                <a:lnTo>
                  <a:pt x="0" y="342900"/>
                </a:lnTo>
                <a:close/>
              </a:path>
            </a:pathLst>
          </a:custGeom>
          <a:solidFill>
            <a:srgbClr val="34bf49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469" name="文本框 5"/>
          <p:cNvSpPr/>
          <p:nvPr/>
        </p:nvSpPr>
        <p:spPr>
          <a:xfrm rot="21345600">
            <a:off x="2904840" y="2419200"/>
            <a:ext cx="6124320" cy="1684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000" spc="-1" strike="noStrike">
                <a:solidFill>
                  <a:srgbClr val="ffffff"/>
                </a:solidFill>
                <a:latin typeface="Bodoni MT Black"/>
                <a:ea typeface="幼圆"/>
              </a:rPr>
              <a:t>THANK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11"/>
          <p:cNvSpPr/>
          <p:nvPr/>
        </p:nvSpPr>
        <p:spPr>
          <a:xfrm>
            <a:off x="276120" y="3516480"/>
            <a:ext cx="2638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等线"/>
                <a:ea typeface="等线"/>
              </a:rPr>
              <a:t>初设计系列第二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12"/>
          <p:cNvSpPr/>
          <p:nvPr/>
        </p:nvSpPr>
        <p:spPr>
          <a:xfrm>
            <a:off x="9199440" y="3076560"/>
            <a:ext cx="2638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等线"/>
                <a:ea typeface="等线"/>
              </a:rPr>
              <a:t>相信设计的力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13"/>
          <p:cNvSpPr/>
          <p:nvPr/>
        </p:nvSpPr>
        <p:spPr>
          <a:xfrm>
            <a:off x="9199440" y="3516480"/>
            <a:ext cx="2638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等线"/>
                <a:ea typeface="等线"/>
              </a:rPr>
              <a:t>相信原创的力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3"/>
          <p:cNvGrpSpPr/>
          <p:nvPr/>
        </p:nvGrpSpPr>
        <p:grpSpPr>
          <a:xfrm>
            <a:off x="0" y="2085840"/>
            <a:ext cx="12191760" cy="2685960"/>
            <a:chOff x="0" y="2085840"/>
            <a:chExt cx="12191760" cy="2685960"/>
          </a:xfrm>
        </p:grpSpPr>
        <p:sp>
          <p:nvSpPr>
            <p:cNvPr id="132" name="矩形 4"/>
            <p:cNvSpPr/>
            <p:nvPr/>
          </p:nvSpPr>
          <p:spPr>
            <a:xfrm>
              <a:off x="0" y="2100240"/>
              <a:ext cx="12191760" cy="2671560"/>
            </a:xfrm>
            <a:prstGeom prst="rect">
              <a:avLst/>
            </a:prstGeom>
            <a:solidFill>
              <a:srgbClr val="036e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grpSp>
          <p:nvGrpSpPr>
            <p:cNvPr id="133" name="组合 5"/>
            <p:cNvGrpSpPr/>
            <p:nvPr/>
          </p:nvGrpSpPr>
          <p:grpSpPr>
            <a:xfrm>
              <a:off x="5705640" y="2085840"/>
              <a:ext cx="780480" cy="2685600"/>
              <a:chOff x="5705640" y="2085840"/>
              <a:chExt cx="780480" cy="2685600"/>
            </a:xfrm>
          </p:grpSpPr>
          <p:sp>
            <p:nvSpPr>
              <p:cNvPr id="134" name="等腰三角形 8"/>
              <p:cNvSpPr/>
              <p:nvPr/>
            </p:nvSpPr>
            <p:spPr>
              <a:xfrm flipV="1">
                <a:off x="5705640" y="2085840"/>
                <a:ext cx="780480" cy="580320"/>
              </a:xfrm>
              <a:prstGeom prst="triangle">
                <a:avLst>
                  <a:gd name="adj" fmla="val 50000"/>
                </a:avLst>
              </a:prstGeom>
              <a:solidFill>
                <a:srgbClr val="34bf4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  <p:sp>
            <p:nvSpPr>
              <p:cNvPr id="135" name="等腰三角形 9"/>
              <p:cNvSpPr/>
              <p:nvPr/>
            </p:nvSpPr>
            <p:spPr>
              <a:xfrm>
                <a:off x="5705640" y="4191120"/>
                <a:ext cx="780480" cy="580320"/>
              </a:xfrm>
              <a:prstGeom prst="triangle">
                <a:avLst>
                  <a:gd name="adj" fmla="val 50000"/>
                </a:avLst>
              </a:prstGeom>
              <a:solidFill>
                <a:srgbClr val="34bf49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等线"/>
                  <a:ea typeface="宋体"/>
                </a:endParaRPr>
              </a:p>
            </p:txBody>
          </p:sp>
        </p:grpSp>
        <p:sp>
          <p:nvSpPr>
            <p:cNvPr id="136" name="文本框 6"/>
            <p:cNvSpPr/>
            <p:nvPr/>
          </p:nvSpPr>
          <p:spPr>
            <a:xfrm>
              <a:off x="4310640" y="2908080"/>
              <a:ext cx="35701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项目介绍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7"/>
            <p:cNvSpPr/>
            <p:nvPr/>
          </p:nvSpPr>
          <p:spPr>
            <a:xfrm>
              <a:off x="3599640" y="2908080"/>
              <a:ext cx="100116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10"/>
          <p:cNvGrpSpPr/>
          <p:nvPr/>
        </p:nvGrpSpPr>
        <p:grpSpPr>
          <a:xfrm>
            <a:off x="3686040" y="5013360"/>
            <a:ext cx="4586040" cy="1207800"/>
            <a:chOff x="3686040" y="5013360"/>
            <a:chExt cx="4586040" cy="1207800"/>
          </a:xfrm>
        </p:grpSpPr>
        <p:sp>
          <p:nvSpPr>
            <p:cNvPr id="139" name="文本框 12"/>
            <p:cNvSpPr/>
            <p:nvPr/>
          </p:nvSpPr>
          <p:spPr>
            <a:xfrm>
              <a:off x="4895280" y="5360760"/>
              <a:ext cx="33768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ＰＯＷＥＲＰＯＩＮ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十字箭头标注 13"/>
            <p:cNvSpPr/>
            <p:nvPr/>
          </p:nvSpPr>
          <p:spPr>
            <a:xfrm>
              <a:off x="3686040" y="5013360"/>
              <a:ext cx="1209240" cy="1207800"/>
            </a:xfrm>
            <a:prstGeom prst="quadArrowCallout">
              <a:avLst>
                <a:gd name="adj1" fmla="val 18515"/>
                <a:gd name="adj2" fmla="val 18515"/>
                <a:gd name="adj3" fmla="val 18515"/>
                <a:gd name="adj4" fmla="val 48123"/>
              </a:avLst>
            </a:prstGeom>
            <a:solidFill>
              <a:srgbClr val="036eb8"/>
            </a:solidFill>
            <a:ln>
              <a:noFill/>
            </a:ln>
            <a:effectLst>
              <a:outerShdw algn="bl" blurRad="431640" dir="18900000" dist="37674" rotWithShape="0" sx="60000" sy="60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ＬＯＧ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36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142" name="文本框 9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10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项目介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4" name="直接连接符 32"/>
          <p:cNvCxnSpPr/>
          <p:nvPr/>
        </p:nvCxnSpPr>
        <p:spPr>
          <a:xfrm>
            <a:off x="3498840" y="2423880"/>
            <a:ext cx="564552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grpSp>
        <p:nvGrpSpPr>
          <p:cNvPr id="145" name="组合 31"/>
          <p:cNvGrpSpPr/>
          <p:nvPr/>
        </p:nvGrpSpPr>
        <p:grpSpPr>
          <a:xfrm>
            <a:off x="2314440" y="1658880"/>
            <a:ext cx="4586040" cy="1207800"/>
            <a:chOff x="2314440" y="1658880"/>
            <a:chExt cx="4586040" cy="1207800"/>
          </a:xfrm>
        </p:grpSpPr>
        <p:sp>
          <p:nvSpPr>
            <p:cNvPr id="146" name="文本框 33"/>
            <p:cNvSpPr/>
            <p:nvPr/>
          </p:nvSpPr>
          <p:spPr>
            <a:xfrm>
              <a:off x="3519360" y="2409840"/>
              <a:ext cx="32191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599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7" name="文本框 35"/>
            <p:cNvSpPr/>
            <p:nvPr/>
          </p:nvSpPr>
          <p:spPr>
            <a:xfrm>
              <a:off x="3523680" y="2006280"/>
              <a:ext cx="33768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ＰＯＷＥＲＰＯＩＮ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十字箭头标注 37"/>
            <p:cNvSpPr/>
            <p:nvPr/>
          </p:nvSpPr>
          <p:spPr>
            <a:xfrm>
              <a:off x="2314440" y="1658880"/>
              <a:ext cx="1209240" cy="1207800"/>
            </a:xfrm>
            <a:prstGeom prst="quadArrowCallout">
              <a:avLst>
                <a:gd name="adj1" fmla="val 18515"/>
                <a:gd name="adj2" fmla="val 18515"/>
                <a:gd name="adj3" fmla="val 18515"/>
                <a:gd name="adj4" fmla="val 48123"/>
              </a:avLst>
            </a:prstGeom>
            <a:solidFill>
              <a:srgbClr val="036eb8"/>
            </a:solidFill>
            <a:ln>
              <a:noFill/>
            </a:ln>
            <a:effectLst>
              <a:outerShdw algn="bl" blurRad="431640" dir="18900000" dist="37674" rotWithShape="0" sx="60000" sy="60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ＬＯＧ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45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150" name="文本框 46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47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项目介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5"/>
          <p:cNvGrpSpPr/>
          <p:nvPr/>
        </p:nvGrpSpPr>
        <p:grpSpPr>
          <a:xfrm>
            <a:off x="546120" y="2113200"/>
            <a:ext cx="5549760" cy="3828960"/>
            <a:chOff x="546120" y="2113200"/>
            <a:chExt cx="5549760" cy="3828960"/>
          </a:xfrm>
        </p:grpSpPr>
        <p:cxnSp>
          <p:nvCxnSpPr>
            <p:cNvPr id="153" name="直接连接符 6"/>
            <p:cNvCxnSpPr/>
            <p:nvPr/>
          </p:nvCxnSpPr>
          <p:spPr>
            <a:xfrm flipV="1">
              <a:off x="1036440" y="2282760"/>
              <a:ext cx="4799520" cy="396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cxnSp>
          <p:nvCxnSpPr>
            <p:cNvPr id="154" name="直接连接符 7"/>
            <p:cNvCxnSpPr/>
            <p:nvPr/>
          </p:nvCxnSpPr>
          <p:spPr>
            <a:xfrm>
              <a:off x="1039320" y="2808360"/>
              <a:ext cx="4781160" cy="324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cxnSp>
          <p:nvCxnSpPr>
            <p:cNvPr id="155" name="直接连接符 8"/>
            <p:cNvCxnSpPr/>
            <p:nvPr/>
          </p:nvCxnSpPr>
          <p:spPr>
            <a:xfrm flipV="1">
              <a:off x="1039320" y="3320280"/>
              <a:ext cx="4781160" cy="684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cxnSp>
          <p:nvCxnSpPr>
            <p:cNvPr id="156" name="直接连接符 9"/>
            <p:cNvCxnSpPr/>
            <p:nvPr/>
          </p:nvCxnSpPr>
          <p:spPr>
            <a:xfrm>
              <a:off x="1039320" y="3844800"/>
              <a:ext cx="4781160" cy="396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cxnSp>
          <p:nvCxnSpPr>
            <p:cNvPr id="157" name="直接连接符 10"/>
            <p:cNvCxnSpPr/>
            <p:nvPr/>
          </p:nvCxnSpPr>
          <p:spPr>
            <a:xfrm>
              <a:off x="1039320" y="4363200"/>
              <a:ext cx="4781160" cy="36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cxnSp>
          <p:nvCxnSpPr>
            <p:cNvPr id="158" name="直接连接符 11"/>
            <p:cNvCxnSpPr/>
            <p:nvPr/>
          </p:nvCxnSpPr>
          <p:spPr>
            <a:xfrm>
              <a:off x="1039320" y="4881600"/>
              <a:ext cx="4781160" cy="36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cxnSp>
          <p:nvCxnSpPr>
            <p:cNvPr id="159" name="直接连接符 12"/>
            <p:cNvCxnSpPr>
              <a:endCxn id="160" idx="0"/>
            </p:cNvCxnSpPr>
            <p:nvPr/>
          </p:nvCxnSpPr>
          <p:spPr>
            <a:xfrm flipV="1">
              <a:off x="1030680" y="5387400"/>
              <a:ext cx="4789800" cy="1260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cxnSp>
          <p:nvCxnSpPr>
            <p:cNvPr id="161" name="直接连接符 13"/>
            <p:cNvCxnSpPr>
              <a:stCxn id="162" idx="3"/>
            </p:cNvCxnSpPr>
            <p:nvPr/>
          </p:nvCxnSpPr>
          <p:spPr>
            <a:xfrm>
              <a:off x="1034640" y="2276640"/>
              <a:ext cx="360" cy="315216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cxnSp>
          <p:nvCxnSpPr>
            <p:cNvPr id="163" name="直接连接符 14"/>
            <p:cNvCxnSpPr/>
            <p:nvPr/>
          </p:nvCxnSpPr>
          <p:spPr>
            <a:xfrm>
              <a:off x="5820120" y="2290320"/>
              <a:ext cx="360" cy="3102480"/>
            </a:xfrm>
            <a:prstGeom prst="straightConnector1">
              <a:avLst/>
            </a:prstGeom>
            <a:ln>
              <a:solidFill>
                <a:srgbClr val="e7e6e6">
                  <a:lumMod val="50000"/>
                </a:srgbClr>
              </a:solidFill>
            </a:ln>
          </p:spPr>
        </p:cxnSp>
        <p:grpSp>
          <p:nvGrpSpPr>
            <p:cNvPr id="164" name="组合 15"/>
            <p:cNvGrpSpPr/>
            <p:nvPr/>
          </p:nvGrpSpPr>
          <p:grpSpPr>
            <a:xfrm>
              <a:off x="546120" y="2113200"/>
              <a:ext cx="586440" cy="3397320"/>
              <a:chOff x="546120" y="2113200"/>
              <a:chExt cx="586440" cy="3397320"/>
            </a:xfrm>
          </p:grpSpPr>
          <p:sp>
            <p:nvSpPr>
              <p:cNvPr id="162" name="文本框 38"/>
              <p:cNvSpPr/>
              <p:nvPr/>
            </p:nvSpPr>
            <p:spPr>
              <a:xfrm>
                <a:off x="546120" y="2113200"/>
                <a:ext cx="488160" cy="32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endParaRPr b="0" lang="en-US" sz="1800" spc="-1" strike="noStrike">
                  <a:solidFill>
                    <a:srgbClr val="767171"/>
                  </a:solidFill>
                  <a:latin typeface="等线"/>
                </a:endParaRPr>
              </a:p>
            </p:txBody>
          </p:sp>
          <p:sp>
            <p:nvSpPr>
              <p:cNvPr id="165" name="文本框 39"/>
              <p:cNvSpPr/>
              <p:nvPr/>
            </p:nvSpPr>
            <p:spPr>
              <a:xfrm>
                <a:off x="642600" y="2655000"/>
                <a:ext cx="48060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en-US" sz="1800" spc="-1" strike="noStrike">
                    <a:solidFill>
                      <a:srgbClr val="767171"/>
                    </a:solidFill>
                    <a:latin typeface="等线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文本框 40"/>
              <p:cNvSpPr/>
              <p:nvPr/>
            </p:nvSpPr>
            <p:spPr>
              <a:xfrm>
                <a:off x="648360" y="3165120"/>
                <a:ext cx="48420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en-US" sz="1800" spc="-1" strike="noStrike">
                    <a:solidFill>
                      <a:srgbClr val="767171"/>
                    </a:solidFill>
                    <a:latin typeface="等线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文本框 41"/>
              <p:cNvSpPr/>
              <p:nvPr/>
            </p:nvSpPr>
            <p:spPr>
              <a:xfrm>
                <a:off x="726840" y="3674880"/>
                <a:ext cx="31392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en-US" sz="1800" spc="-1" strike="noStrike">
                    <a:solidFill>
                      <a:srgbClr val="767171"/>
                    </a:solidFill>
                    <a:latin typeface="等线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文本框 42"/>
              <p:cNvSpPr/>
              <p:nvPr/>
            </p:nvSpPr>
            <p:spPr>
              <a:xfrm>
                <a:off x="734760" y="4154760"/>
                <a:ext cx="29664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en-US" sz="1800" spc="-1" strike="noStrike">
                    <a:solidFill>
                      <a:srgbClr val="767171"/>
                    </a:solidFill>
                    <a:latin typeface="等线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文本框 43"/>
              <p:cNvSpPr/>
              <p:nvPr/>
            </p:nvSpPr>
            <p:spPr>
              <a:xfrm>
                <a:off x="734760" y="4673520"/>
                <a:ext cx="29664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en-US" sz="1800" spc="-1" strike="noStrike">
                    <a:solidFill>
                      <a:srgbClr val="767171"/>
                    </a:solidFill>
                    <a:latin typeface="等线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文本框 44"/>
              <p:cNvSpPr/>
              <p:nvPr/>
            </p:nvSpPr>
            <p:spPr>
              <a:xfrm>
                <a:off x="734760" y="5192280"/>
                <a:ext cx="296640" cy="3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ts val="1800"/>
                  </a:lnSpc>
                </a:pPr>
                <a:r>
                  <a:rPr b="0" lang="en-US" sz="1800" spc="-1" strike="noStrike">
                    <a:solidFill>
                      <a:srgbClr val="767171"/>
                    </a:solidFill>
                    <a:latin typeface="等线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组合 16"/>
            <p:cNvGrpSpPr/>
            <p:nvPr/>
          </p:nvGrpSpPr>
          <p:grpSpPr>
            <a:xfrm>
              <a:off x="856080" y="5387760"/>
              <a:ext cx="5239800" cy="554400"/>
              <a:chOff x="856080" y="5387760"/>
              <a:chExt cx="5239800" cy="554400"/>
            </a:xfrm>
          </p:grpSpPr>
          <p:grpSp>
            <p:nvGrpSpPr>
              <p:cNvPr id="172" name="组合 25"/>
              <p:cNvGrpSpPr/>
              <p:nvPr/>
            </p:nvGrpSpPr>
            <p:grpSpPr>
              <a:xfrm>
                <a:off x="856080" y="5395320"/>
                <a:ext cx="1847880" cy="546840"/>
                <a:chOff x="856080" y="5395320"/>
                <a:chExt cx="1847880" cy="546840"/>
              </a:xfrm>
            </p:grpSpPr>
            <p:sp>
              <p:nvSpPr>
                <p:cNvPr id="173" name="文本框 34"/>
                <p:cNvSpPr/>
                <p:nvPr/>
              </p:nvSpPr>
              <p:spPr>
                <a:xfrm>
                  <a:off x="2265120" y="5395320"/>
                  <a:ext cx="438840" cy="54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ts val="1800"/>
                    </a:lnSpc>
                  </a:pPr>
                  <a:r>
                    <a:rPr b="0" lang="en-US" sz="1800" spc="-1" strike="noStrike">
                      <a:solidFill>
                        <a:srgbClr val="767171"/>
                      </a:solidFill>
                      <a:latin typeface="等线"/>
                    </a:rPr>
                    <a:t>1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文本框 37"/>
                <p:cNvSpPr/>
                <p:nvPr/>
              </p:nvSpPr>
              <p:spPr>
                <a:xfrm>
                  <a:off x="856080" y="5395320"/>
                  <a:ext cx="450720" cy="31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ts val="1800"/>
                    </a:lnSpc>
                  </a:pPr>
                  <a:r>
                    <a:rPr b="0" lang="en-US" sz="1800" spc="-1" strike="noStrike">
                      <a:solidFill>
                        <a:srgbClr val="767171"/>
                      </a:solidFill>
                      <a:latin typeface="等线"/>
                    </a:rPr>
                    <a:t>1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组合 26"/>
              <p:cNvGrpSpPr/>
              <p:nvPr/>
            </p:nvGrpSpPr>
            <p:grpSpPr>
              <a:xfrm>
                <a:off x="3632040" y="5387760"/>
                <a:ext cx="2463840" cy="554400"/>
                <a:chOff x="3632040" y="5387760"/>
                <a:chExt cx="2463840" cy="554400"/>
              </a:xfrm>
            </p:grpSpPr>
            <p:sp>
              <p:nvSpPr>
                <p:cNvPr id="160" name="文本框 27"/>
                <p:cNvSpPr/>
                <p:nvPr/>
              </p:nvSpPr>
              <p:spPr>
                <a:xfrm>
                  <a:off x="5544720" y="5387760"/>
                  <a:ext cx="551160" cy="31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ts val="1800"/>
                    </a:lnSpc>
                  </a:pPr>
                  <a:r>
                    <a:rPr b="0" lang="en-US" sz="1800" spc="-1" strike="noStrike">
                      <a:solidFill>
                        <a:srgbClr val="767171"/>
                      </a:solidFill>
                      <a:latin typeface="等线"/>
                    </a:rPr>
                    <a:t>1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文本框 28"/>
                <p:cNvSpPr/>
                <p:nvPr/>
              </p:nvSpPr>
              <p:spPr>
                <a:xfrm>
                  <a:off x="5066640" y="5395320"/>
                  <a:ext cx="273240" cy="32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ts val="1800"/>
                    </a:lnSpc>
                  </a:pPr>
                  <a:endParaRPr b="0" lang="en-US" sz="1800" spc="-1" strike="noStrike">
                    <a:solidFill>
                      <a:srgbClr val="767171"/>
                    </a:solidFill>
                    <a:latin typeface="等线"/>
                  </a:endParaRPr>
                </a:p>
              </p:txBody>
            </p:sp>
            <p:sp>
              <p:nvSpPr>
                <p:cNvPr id="177" name="文本框 29"/>
                <p:cNvSpPr/>
                <p:nvPr/>
              </p:nvSpPr>
              <p:spPr>
                <a:xfrm>
                  <a:off x="4637520" y="5395320"/>
                  <a:ext cx="536400" cy="31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ts val="1800"/>
                    </a:lnSpc>
                  </a:pPr>
                  <a:r>
                    <a:rPr b="0" lang="en-US" sz="1800" spc="-1" strike="noStrike">
                      <a:solidFill>
                        <a:srgbClr val="767171"/>
                      </a:solidFill>
                      <a:latin typeface="等线"/>
                    </a:rPr>
                    <a:t>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文本框 31"/>
                <p:cNvSpPr/>
                <p:nvPr/>
              </p:nvSpPr>
              <p:spPr>
                <a:xfrm>
                  <a:off x="3632040" y="5395320"/>
                  <a:ext cx="433800" cy="54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ts val="1800"/>
                    </a:lnSpc>
                  </a:pPr>
                  <a:r>
                    <a:rPr b="0" lang="en-US" sz="1800" spc="-1" strike="noStrike">
                      <a:solidFill>
                        <a:srgbClr val="767171"/>
                      </a:solidFill>
                      <a:latin typeface="等线"/>
                    </a:rPr>
                    <a:t>1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9" name="椭圆 17"/>
            <p:cNvSpPr/>
            <p:nvPr/>
          </p:nvSpPr>
          <p:spPr>
            <a:xfrm>
              <a:off x="2415600" y="4815000"/>
              <a:ext cx="148320" cy="134640"/>
            </a:xfrm>
            <a:prstGeom prst="ellipse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80" name="椭圆 18"/>
            <p:cNvSpPr/>
            <p:nvPr/>
          </p:nvSpPr>
          <p:spPr>
            <a:xfrm>
              <a:off x="3773160" y="3792240"/>
              <a:ext cx="148320" cy="134640"/>
            </a:xfrm>
            <a:prstGeom prst="ellipse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81" name="椭圆 19"/>
            <p:cNvSpPr/>
            <p:nvPr/>
          </p:nvSpPr>
          <p:spPr>
            <a:xfrm>
              <a:off x="4708440" y="3570840"/>
              <a:ext cx="148320" cy="134640"/>
            </a:xfrm>
            <a:prstGeom prst="ellipse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82" name="椭圆 20"/>
            <p:cNvSpPr/>
            <p:nvPr/>
          </p:nvSpPr>
          <p:spPr>
            <a:xfrm>
              <a:off x="5731920" y="3235320"/>
              <a:ext cx="148320" cy="134640"/>
            </a:xfrm>
            <a:prstGeom prst="ellipse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83" name="流程图: 过程 21"/>
            <p:cNvSpPr/>
            <p:nvPr/>
          </p:nvSpPr>
          <p:spPr>
            <a:xfrm rot="20437200">
              <a:off x="1013400" y="5113440"/>
              <a:ext cx="1492560" cy="51480"/>
            </a:xfrm>
            <a:prstGeom prst="flowChartProcess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84" name="流程图: 过程 22"/>
            <p:cNvSpPr/>
            <p:nvPr/>
          </p:nvSpPr>
          <p:spPr>
            <a:xfrm rot="19357200">
              <a:off x="2333160" y="4337640"/>
              <a:ext cx="1657080" cy="57240"/>
            </a:xfrm>
            <a:prstGeom prst="flowChartProcess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2600" bIns="126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85" name="流程图: 过程 23"/>
            <p:cNvSpPr/>
            <p:nvPr/>
          </p:nvSpPr>
          <p:spPr>
            <a:xfrm rot="20868000">
              <a:off x="3890880" y="3706560"/>
              <a:ext cx="900720" cy="51480"/>
            </a:xfrm>
            <a:prstGeom prst="flowChartProcess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86" name="流程图: 过程 24"/>
            <p:cNvSpPr/>
            <p:nvPr/>
          </p:nvSpPr>
          <p:spPr>
            <a:xfrm rot="20504400">
              <a:off x="4746960" y="3436200"/>
              <a:ext cx="1108080" cy="51480"/>
            </a:xfrm>
            <a:prstGeom prst="flowChartProcess">
              <a:avLst/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sp>
        <p:nvSpPr>
          <p:cNvPr id="187" name="矩形 57"/>
          <p:cNvSpPr/>
          <p:nvPr/>
        </p:nvSpPr>
        <p:spPr>
          <a:xfrm>
            <a:off x="1023840" y="1647720"/>
            <a:ext cx="4811400" cy="460080"/>
          </a:xfrm>
          <a:prstGeom prst="rect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188" name="文本框 58"/>
          <p:cNvSpPr/>
          <p:nvPr/>
        </p:nvSpPr>
        <p:spPr>
          <a:xfrm>
            <a:off x="1314360" y="1646280"/>
            <a:ext cx="4230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某某某数据统计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0"/>
          <p:cNvSpPr/>
          <p:nvPr/>
        </p:nvSpPr>
        <p:spPr>
          <a:xfrm>
            <a:off x="7242120" y="1770120"/>
            <a:ext cx="3409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  <a:ea typeface="等线"/>
              </a:rPr>
              <a:t>ORANGE PPT 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原创工作室只做实用原创设计，竭诚为您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61"/>
          <p:cNvSpPr/>
          <p:nvPr/>
        </p:nvSpPr>
        <p:spPr>
          <a:xfrm>
            <a:off x="7155000" y="3959280"/>
            <a:ext cx="34095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直接连接符 69"/>
          <p:cNvCxnSpPr/>
          <p:nvPr/>
        </p:nvCxnSpPr>
        <p:spPr>
          <a:xfrm>
            <a:off x="6527520" y="1670040"/>
            <a:ext cx="360" cy="3759480"/>
          </a:xfrm>
          <a:prstGeom prst="straightConnector1">
            <a:avLst/>
          </a:prstGeom>
          <a:ln w="19050">
            <a:solidFill>
              <a:srgbClr val="e7e6e6">
                <a:lumMod val="75000"/>
              </a:srgbClr>
            </a:solidFill>
            <a:prstDash val="dash"/>
          </a:ln>
        </p:spPr>
      </p:cxnSp>
      <p:cxnSp>
        <p:nvCxnSpPr>
          <p:cNvPr id="192" name="直接连接符 71"/>
          <p:cNvCxnSpPr/>
          <p:nvPr/>
        </p:nvCxnSpPr>
        <p:spPr>
          <a:xfrm>
            <a:off x="6603840" y="3429000"/>
            <a:ext cx="3961080" cy="360"/>
          </a:xfrm>
          <a:prstGeom prst="straightConnector1">
            <a:avLst/>
          </a:prstGeom>
          <a:ln w="19050">
            <a:solidFill>
              <a:srgbClr val="e7e6e6">
                <a:lumMod val="75000"/>
              </a:srgbClr>
            </a:solidFill>
            <a:prstDash val="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4"/>
          <p:cNvGrpSpPr/>
          <p:nvPr/>
        </p:nvGrpSpPr>
        <p:grpSpPr>
          <a:xfrm>
            <a:off x="73080" y="69840"/>
            <a:ext cx="2891880" cy="367200"/>
            <a:chOff x="73080" y="69840"/>
            <a:chExt cx="2891880" cy="367200"/>
          </a:xfrm>
        </p:grpSpPr>
        <p:sp>
          <p:nvSpPr>
            <p:cNvPr id="194" name="文本框 5"/>
            <p:cNvSpPr/>
            <p:nvPr/>
          </p:nvSpPr>
          <p:spPr>
            <a:xfrm>
              <a:off x="73080" y="730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6"/>
            <p:cNvSpPr/>
            <p:nvPr/>
          </p:nvSpPr>
          <p:spPr>
            <a:xfrm>
              <a:off x="1092240" y="698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项目介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9"/>
          <p:cNvGrpSpPr/>
          <p:nvPr/>
        </p:nvGrpSpPr>
        <p:grpSpPr>
          <a:xfrm>
            <a:off x="884160" y="966960"/>
            <a:ext cx="4811400" cy="461520"/>
            <a:chOff x="884160" y="966960"/>
            <a:chExt cx="4811400" cy="461520"/>
          </a:xfrm>
        </p:grpSpPr>
        <p:sp>
          <p:nvSpPr>
            <p:cNvPr id="197" name="矩形 7"/>
            <p:cNvSpPr/>
            <p:nvPr/>
          </p:nvSpPr>
          <p:spPr>
            <a:xfrm>
              <a:off x="884160" y="966960"/>
              <a:ext cx="4811400" cy="461520"/>
            </a:xfrm>
            <a:prstGeom prst="rect">
              <a:avLst/>
            </a:prstGeom>
            <a:solidFill>
              <a:srgbClr val="036eb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198" name="文本框 8"/>
            <p:cNvSpPr/>
            <p:nvPr/>
          </p:nvSpPr>
          <p:spPr>
            <a:xfrm>
              <a:off x="1347840" y="966960"/>
              <a:ext cx="38840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大数据精确定位客户需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文本框 10"/>
          <p:cNvSpPr/>
          <p:nvPr/>
        </p:nvSpPr>
        <p:spPr>
          <a:xfrm>
            <a:off x="6210360" y="2522520"/>
            <a:ext cx="54655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每一个模板都用心设计，一切以实用为原则，不浮夸，不做作，不免费。爱学习，好交流，想用设计结交更多志同道合的朋友。欢迎咨询交流，共同进步。每一个模板都用心设计，一切以实用为原则，不浮夸，不做作，不免费。爱学习，好交流，想用设计结交更多志同道合的朋友。欢迎咨询交流，共同进步每一个模板都用心设计，一切以实用为原则，不浮夸，不做作，不免费。爱学习，好交流，想用设计结交更多志同道合的朋友。欢迎咨询交流，共同进步。每一个模板都用心设计，一切以实用为原则，不浮夸，不做作，不免费。爱学习，好交流，想用设计结交更多志同道合的朋友。欢迎咨询交流，共同进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2"/>
          <p:cNvSpPr/>
          <p:nvPr/>
        </p:nvSpPr>
        <p:spPr>
          <a:xfrm>
            <a:off x="884160" y="1428840"/>
            <a:ext cx="4811400" cy="4539960"/>
          </a:xfrm>
          <a:prstGeom prst="rect">
            <a:avLst/>
          </a:prstGeom>
          <a:solidFill>
            <a:schemeClr val="bg2">
              <a:lumMod val="9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grpSp>
        <p:nvGrpSpPr>
          <p:cNvPr id="201" name="组合 18"/>
          <p:cNvGrpSpPr/>
          <p:nvPr/>
        </p:nvGrpSpPr>
        <p:grpSpPr>
          <a:xfrm>
            <a:off x="6210360" y="966960"/>
            <a:ext cx="5498640" cy="1053360"/>
            <a:chOff x="6210360" y="966960"/>
            <a:chExt cx="5498640" cy="1053360"/>
          </a:xfrm>
        </p:grpSpPr>
        <p:sp>
          <p:nvSpPr>
            <p:cNvPr id="202" name="文本框 14"/>
            <p:cNvSpPr/>
            <p:nvPr/>
          </p:nvSpPr>
          <p:spPr>
            <a:xfrm>
              <a:off x="6210360" y="966960"/>
              <a:ext cx="28026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THE </a:t>
              </a:r>
              <a:r>
                <a:rPr b="0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ＯＲＡＮＧ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3" name="直接连接符 16"/>
            <p:cNvCxnSpPr/>
            <p:nvPr/>
          </p:nvCxnSpPr>
          <p:spPr>
            <a:xfrm>
              <a:off x="6298920" y="1428480"/>
              <a:ext cx="2394360" cy="360"/>
            </a:xfrm>
            <a:prstGeom prst="straightConnector1">
              <a:avLst/>
            </a:prstGeom>
            <a:ln w="12700">
              <a:solidFill>
                <a:srgbClr val="e7e6e6">
                  <a:lumMod val="75000"/>
                </a:srgbClr>
              </a:solidFill>
              <a:prstDash val="sysDash"/>
            </a:ln>
          </p:spPr>
        </p:cxnSp>
        <p:sp>
          <p:nvSpPr>
            <p:cNvPr id="204" name="文本框 17"/>
            <p:cNvSpPr/>
            <p:nvPr/>
          </p:nvSpPr>
          <p:spPr>
            <a:xfrm>
              <a:off x="6210360" y="1656360"/>
              <a:ext cx="54986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ORANGE PPT </a:t>
              </a:r>
              <a:r>
                <a:rPr b="0" lang="zh-CN" sz="1800" spc="-1" strike="noStrike">
                  <a:solidFill>
                    <a:srgbClr val="000000"/>
                  </a:solidFill>
                  <a:latin typeface="等线"/>
                  <a:ea typeface="等线"/>
                </a:rPr>
                <a:t>原创工作室只做实用原创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图片 19" descr=""/>
          <p:cNvPicPr/>
          <p:nvPr/>
        </p:nvPicPr>
        <p:blipFill>
          <a:blip r:embed="rId1"/>
          <a:srcRect l="0" t="0" r="0" b="5645"/>
          <a:stretch/>
        </p:blipFill>
        <p:spPr>
          <a:xfrm>
            <a:off x="884160" y="1428840"/>
            <a:ext cx="4811400" cy="45399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4"/>
          <p:cNvSpPr/>
          <p:nvPr/>
        </p:nvSpPr>
        <p:spPr>
          <a:xfrm>
            <a:off x="0" y="2100240"/>
            <a:ext cx="12191760" cy="2671560"/>
          </a:xfrm>
          <a:prstGeom prst="rect">
            <a:avLst/>
          </a:prstGeom>
          <a:solidFill>
            <a:srgbClr val="036eb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grpSp>
        <p:nvGrpSpPr>
          <p:cNvPr id="207" name="组合 5"/>
          <p:cNvGrpSpPr/>
          <p:nvPr/>
        </p:nvGrpSpPr>
        <p:grpSpPr>
          <a:xfrm>
            <a:off x="5705640" y="2086560"/>
            <a:ext cx="780480" cy="2684880"/>
            <a:chOff x="5705640" y="2086560"/>
            <a:chExt cx="780480" cy="2684880"/>
          </a:xfrm>
        </p:grpSpPr>
        <p:sp>
          <p:nvSpPr>
            <p:cNvPr id="208" name="等腰三角形 8"/>
            <p:cNvSpPr/>
            <p:nvPr/>
          </p:nvSpPr>
          <p:spPr>
            <a:xfrm flipV="1">
              <a:off x="5705640" y="2086560"/>
              <a:ext cx="780480" cy="580320"/>
            </a:xfrm>
            <a:prstGeom prst="triangle">
              <a:avLst>
                <a:gd name="adj" fmla="val 50000"/>
              </a:avLst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209" name="等腰三角形 9"/>
            <p:cNvSpPr/>
            <p:nvPr/>
          </p:nvSpPr>
          <p:spPr>
            <a:xfrm>
              <a:off x="5705640" y="4191120"/>
              <a:ext cx="780480" cy="580320"/>
            </a:xfrm>
            <a:prstGeom prst="triangle">
              <a:avLst>
                <a:gd name="adj" fmla="val 50000"/>
              </a:avLst>
            </a:prstGeom>
            <a:solidFill>
              <a:srgbClr val="34bf4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</p:grpSp>
      <p:grpSp>
        <p:nvGrpSpPr>
          <p:cNvPr id="210" name="组合 1"/>
          <p:cNvGrpSpPr/>
          <p:nvPr/>
        </p:nvGrpSpPr>
        <p:grpSpPr>
          <a:xfrm>
            <a:off x="3598920" y="2908440"/>
            <a:ext cx="4601880" cy="820800"/>
            <a:chOff x="3598920" y="2908440"/>
            <a:chExt cx="4601880" cy="820800"/>
          </a:xfrm>
        </p:grpSpPr>
        <p:sp>
          <p:nvSpPr>
            <p:cNvPr id="211" name="文本框 6"/>
            <p:cNvSpPr/>
            <p:nvPr/>
          </p:nvSpPr>
          <p:spPr>
            <a:xfrm>
              <a:off x="4310280" y="2908440"/>
              <a:ext cx="38905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需求分析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文本框 7"/>
            <p:cNvSpPr/>
            <p:nvPr/>
          </p:nvSpPr>
          <p:spPr>
            <a:xfrm>
              <a:off x="3598920" y="2908440"/>
              <a:ext cx="100152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3686040" y="5013360"/>
            <a:ext cx="4586040" cy="1207800"/>
            <a:chOff x="3686040" y="5013360"/>
            <a:chExt cx="4586040" cy="1207800"/>
          </a:xfrm>
        </p:grpSpPr>
        <p:sp>
          <p:nvSpPr>
            <p:cNvPr id="214" name="文本框 11"/>
            <p:cNvSpPr/>
            <p:nvPr/>
          </p:nvSpPr>
          <p:spPr>
            <a:xfrm>
              <a:off x="4967280" y="5764320"/>
              <a:ext cx="32191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en-US" sz="1800" spc="599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4895280" y="5360760"/>
              <a:ext cx="337680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ＰＯＷＥＲＰＯＩＮ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十字箭头标注 13"/>
            <p:cNvSpPr/>
            <p:nvPr/>
          </p:nvSpPr>
          <p:spPr>
            <a:xfrm>
              <a:off x="3686040" y="5013360"/>
              <a:ext cx="1209240" cy="1207800"/>
            </a:xfrm>
            <a:prstGeom prst="quadArrowCallout">
              <a:avLst>
                <a:gd name="adj1" fmla="val 18515"/>
                <a:gd name="adj2" fmla="val 18515"/>
                <a:gd name="adj3" fmla="val 18515"/>
                <a:gd name="adj4" fmla="val 48123"/>
              </a:avLst>
            </a:prstGeom>
            <a:solidFill>
              <a:srgbClr val="036eb8"/>
            </a:solidFill>
            <a:ln>
              <a:noFill/>
            </a:ln>
            <a:effectLst>
              <a:outerShdw algn="bl" blurRad="431640" dir="18900000" dist="37674" rotWithShape="0" sx="60000" sy="6000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chemeClr val="lt1"/>
                  </a:solidFill>
                  <a:latin typeface="等线"/>
                  <a:ea typeface="宋体"/>
                </a:rPr>
                <a:t>ＬＯＧ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8"/>
          <p:cNvSpPr/>
          <p:nvPr/>
        </p:nvSpPr>
        <p:spPr>
          <a:xfrm>
            <a:off x="63360" y="62953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组合 4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219" name="文本框 5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文本框 6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需求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39"/>
          <p:cNvGrpSpPr/>
          <p:nvPr/>
        </p:nvGrpSpPr>
        <p:grpSpPr>
          <a:xfrm>
            <a:off x="592200" y="1604880"/>
            <a:ext cx="10564560" cy="3705120"/>
            <a:chOff x="592200" y="1604880"/>
            <a:chExt cx="10564560" cy="3705120"/>
          </a:xfrm>
        </p:grpSpPr>
        <p:sp>
          <p:nvSpPr>
            <p:cNvPr id="222" name="圆角矩形 16"/>
            <p:cNvSpPr/>
            <p:nvPr/>
          </p:nvSpPr>
          <p:spPr>
            <a:xfrm>
              <a:off x="5219640" y="2981160"/>
              <a:ext cx="1854000" cy="952200"/>
            </a:xfrm>
            <a:prstGeom prst="roundRect">
              <a:avLst>
                <a:gd name="adj" fmla="val 16667"/>
              </a:avLst>
            </a:prstGeom>
            <a:solidFill>
              <a:schemeClr val="bg2">
                <a:lumMod val="90000"/>
              </a:schemeClr>
            </a:solidFill>
            <a:ln>
              <a:solidFill>
                <a:srgbClr val="036eb8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等线"/>
                <a:ea typeface="宋体"/>
              </a:endParaRPr>
            </a:p>
          </p:txBody>
        </p:sp>
        <p:sp>
          <p:nvSpPr>
            <p:cNvPr id="223" name="文本框 7"/>
            <p:cNvSpPr/>
            <p:nvPr/>
          </p:nvSpPr>
          <p:spPr>
            <a:xfrm>
              <a:off x="4210200" y="2980440"/>
              <a:ext cx="3796920" cy="9428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某某调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36eb8"/>
                  </a:solidFill>
                  <a:latin typeface="微软雅黑"/>
                  <a:ea typeface="微软雅黑"/>
                </a:rPr>
                <a:t>报告节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12"/>
            <p:cNvSpPr/>
            <p:nvPr/>
          </p:nvSpPr>
          <p:spPr>
            <a:xfrm>
              <a:off x="1005120" y="1608480"/>
              <a:ext cx="19933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85840" indent="-285840" algn="ctr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36eb8"/>
                  </a:solidFill>
                  <a:latin typeface="等线"/>
                  <a:ea typeface="等线"/>
                </a:rPr>
                <a:t>新技术  新理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13"/>
            <p:cNvSpPr/>
            <p:nvPr/>
          </p:nvSpPr>
          <p:spPr>
            <a:xfrm>
              <a:off x="7328520" y="1606680"/>
              <a:ext cx="285624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36eb8"/>
                  </a:solidFill>
                  <a:latin typeface="等线"/>
                  <a:ea typeface="等线"/>
                </a:rPr>
                <a:t>如何进行准确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14"/>
            <p:cNvSpPr/>
            <p:nvPr/>
          </p:nvSpPr>
          <p:spPr>
            <a:xfrm>
              <a:off x="592200" y="3594600"/>
              <a:ext cx="184788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36eb8"/>
                  </a:solidFill>
                  <a:latin typeface="等线"/>
                  <a:ea typeface="等线"/>
                </a:rPr>
                <a:t>设计技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文本框 15"/>
            <p:cNvSpPr/>
            <p:nvPr/>
          </p:nvSpPr>
          <p:spPr>
            <a:xfrm>
              <a:off x="7346520" y="3640320"/>
              <a:ext cx="21711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lvl="1" marL="743040" indent="-285840">
                <a:lnSpc>
                  <a:spcPct val="100000"/>
                </a:lnSpc>
                <a:buClr>
                  <a:srgbClr val="036eb8"/>
                </a:buClr>
                <a:buFont typeface="Wingdings" charset="2"/>
                <a:buChar char=""/>
              </a:pPr>
              <a:r>
                <a:rPr b="0" lang="zh-CN" sz="1800" spc="-1" strike="noStrike">
                  <a:solidFill>
                    <a:srgbClr val="036eb8"/>
                  </a:solidFill>
                  <a:latin typeface="等线"/>
                  <a:ea typeface="等线"/>
                </a:rPr>
                <a:t>案例讨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8" name="直接连接符 18"/>
            <p:cNvCxnSpPr/>
            <p:nvPr/>
          </p:nvCxnSpPr>
          <p:spPr>
            <a:xfrm flipH="1" flipV="1">
              <a:off x="4344840" y="1604880"/>
              <a:ext cx="933840" cy="1420920"/>
            </a:xfrm>
            <a:prstGeom prst="straightConnector1">
              <a:avLst/>
            </a:prstGeom>
            <a:ln w="12700">
              <a:solidFill>
                <a:srgbClr val="036eb8"/>
              </a:solidFill>
              <a:prstDash val="sysDash"/>
            </a:ln>
          </p:spPr>
        </p:cxnSp>
        <p:cxnSp>
          <p:nvCxnSpPr>
            <p:cNvPr id="229" name="直接连接符 19"/>
            <p:cNvCxnSpPr/>
            <p:nvPr/>
          </p:nvCxnSpPr>
          <p:spPr>
            <a:xfrm flipH="1">
              <a:off x="4344840" y="3875040"/>
              <a:ext cx="912960" cy="1435320"/>
            </a:xfrm>
            <a:prstGeom prst="straightConnector1">
              <a:avLst/>
            </a:prstGeom>
            <a:ln w="12700">
              <a:solidFill>
                <a:srgbClr val="036eb8"/>
              </a:solidFill>
              <a:prstDash val="sysDash"/>
            </a:ln>
          </p:spPr>
        </p:cxnSp>
        <p:cxnSp>
          <p:nvCxnSpPr>
            <p:cNvPr id="230" name="直接连接符 22"/>
            <p:cNvCxnSpPr/>
            <p:nvPr/>
          </p:nvCxnSpPr>
          <p:spPr>
            <a:xfrm flipV="1">
              <a:off x="7041960" y="1622160"/>
              <a:ext cx="817920" cy="1411560"/>
            </a:xfrm>
            <a:prstGeom prst="straightConnector1">
              <a:avLst/>
            </a:prstGeom>
            <a:ln w="12700">
              <a:solidFill>
                <a:srgbClr val="036eb8"/>
              </a:solidFill>
              <a:prstDash val="sysDash"/>
            </a:ln>
          </p:spPr>
        </p:cxnSp>
        <p:cxnSp>
          <p:nvCxnSpPr>
            <p:cNvPr id="231" name="直接连接符 25"/>
            <p:cNvCxnSpPr/>
            <p:nvPr/>
          </p:nvCxnSpPr>
          <p:spPr>
            <a:xfrm>
              <a:off x="7040520" y="3875040"/>
              <a:ext cx="824040" cy="1435320"/>
            </a:xfrm>
            <a:prstGeom prst="straightConnector1">
              <a:avLst/>
            </a:prstGeom>
            <a:ln w="12700">
              <a:solidFill>
                <a:srgbClr val="036eb8"/>
              </a:solidFill>
              <a:prstDash val="sysDash"/>
            </a:ln>
          </p:spPr>
        </p:cxnSp>
        <p:cxnSp>
          <p:nvCxnSpPr>
            <p:cNvPr id="232" name="直接连接符 35"/>
            <p:cNvCxnSpPr/>
            <p:nvPr/>
          </p:nvCxnSpPr>
          <p:spPr>
            <a:xfrm>
              <a:off x="1104840" y="1606320"/>
              <a:ext cx="3240360" cy="360"/>
            </a:xfrm>
            <a:prstGeom prst="straightConnector1">
              <a:avLst/>
            </a:prstGeom>
            <a:ln w="12700">
              <a:solidFill>
                <a:srgbClr val="036eb8"/>
              </a:solidFill>
              <a:prstDash val="sysDash"/>
            </a:ln>
          </p:spPr>
        </p:cxnSp>
        <p:cxnSp>
          <p:nvCxnSpPr>
            <p:cNvPr id="233" name="直接连接符 36"/>
            <p:cNvCxnSpPr/>
            <p:nvPr/>
          </p:nvCxnSpPr>
          <p:spPr>
            <a:xfrm>
              <a:off x="7848360" y="1622160"/>
              <a:ext cx="3302280" cy="360"/>
            </a:xfrm>
            <a:prstGeom prst="straightConnector1">
              <a:avLst/>
            </a:prstGeom>
            <a:ln w="12700">
              <a:solidFill>
                <a:srgbClr val="036eb8"/>
              </a:solidFill>
              <a:prstDash val="sysDash"/>
            </a:ln>
          </p:spPr>
        </p:cxnSp>
        <p:cxnSp>
          <p:nvCxnSpPr>
            <p:cNvPr id="234" name="直接连接符 37"/>
            <p:cNvCxnSpPr/>
            <p:nvPr/>
          </p:nvCxnSpPr>
          <p:spPr>
            <a:xfrm>
              <a:off x="1104840" y="5303520"/>
              <a:ext cx="3240360" cy="360"/>
            </a:xfrm>
            <a:prstGeom prst="straightConnector1">
              <a:avLst/>
            </a:prstGeom>
            <a:ln w="12700">
              <a:solidFill>
                <a:srgbClr val="036eb8"/>
              </a:solidFill>
              <a:prstDash val="sysDash"/>
            </a:ln>
          </p:spPr>
        </p:cxnSp>
        <p:cxnSp>
          <p:nvCxnSpPr>
            <p:cNvPr id="235" name="直接连接符 38"/>
            <p:cNvCxnSpPr/>
            <p:nvPr/>
          </p:nvCxnSpPr>
          <p:spPr>
            <a:xfrm>
              <a:off x="7854840" y="5310000"/>
              <a:ext cx="3302280" cy="360"/>
            </a:xfrm>
            <a:prstGeom prst="straightConnector1">
              <a:avLst/>
            </a:prstGeom>
            <a:ln w="12700">
              <a:solidFill>
                <a:srgbClr val="036eb8"/>
              </a:solidFill>
              <a:prstDash val="sysDash"/>
            </a:ln>
          </p:spPr>
        </p:cxnSp>
      </p:grpSp>
      <p:sp>
        <p:nvSpPr>
          <p:cNvPr id="236" name="文本框 46"/>
          <p:cNvSpPr/>
          <p:nvPr/>
        </p:nvSpPr>
        <p:spPr>
          <a:xfrm>
            <a:off x="7800840" y="1911240"/>
            <a:ext cx="35190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47"/>
          <p:cNvSpPr/>
          <p:nvPr/>
        </p:nvSpPr>
        <p:spPr>
          <a:xfrm>
            <a:off x="7800840" y="3935520"/>
            <a:ext cx="35190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48"/>
          <p:cNvSpPr/>
          <p:nvPr/>
        </p:nvSpPr>
        <p:spPr>
          <a:xfrm>
            <a:off x="932040" y="3935520"/>
            <a:ext cx="35190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49"/>
          <p:cNvSpPr/>
          <p:nvPr/>
        </p:nvSpPr>
        <p:spPr>
          <a:xfrm>
            <a:off x="925560" y="1981080"/>
            <a:ext cx="351900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直接连接符 69"/>
          <p:cNvCxnSpPr/>
          <p:nvPr/>
        </p:nvCxnSpPr>
        <p:spPr>
          <a:xfrm>
            <a:off x="1091880" y="3465360"/>
            <a:ext cx="3253320" cy="360"/>
          </a:xfrm>
          <a:prstGeom prst="straightConnector1">
            <a:avLst/>
          </a:prstGeom>
          <a:ln>
            <a:solidFill>
              <a:srgbClr val="e7e6e6">
                <a:lumMod val="75000"/>
              </a:srgbClr>
            </a:solidFill>
            <a:prstDash val="sysDash"/>
          </a:ln>
        </p:spPr>
      </p:cxnSp>
      <p:cxnSp>
        <p:nvCxnSpPr>
          <p:cNvPr id="241" name="直接连接符 70"/>
          <p:cNvCxnSpPr/>
          <p:nvPr/>
        </p:nvCxnSpPr>
        <p:spPr>
          <a:xfrm>
            <a:off x="7848360" y="3465360"/>
            <a:ext cx="3253320" cy="360"/>
          </a:xfrm>
          <a:prstGeom prst="straightConnector1">
            <a:avLst/>
          </a:prstGeom>
          <a:ln>
            <a:solidFill>
              <a:srgbClr val="e7e6e6">
                <a:lumMod val="75000"/>
              </a:srgbClr>
            </a:solidFill>
            <a:prstDash val="sysDash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4"/>
          <p:cNvGrpSpPr/>
          <p:nvPr/>
        </p:nvGrpSpPr>
        <p:grpSpPr>
          <a:xfrm>
            <a:off x="73080" y="82440"/>
            <a:ext cx="2891880" cy="367200"/>
            <a:chOff x="73080" y="82440"/>
            <a:chExt cx="2891880" cy="367200"/>
          </a:xfrm>
        </p:grpSpPr>
        <p:sp>
          <p:nvSpPr>
            <p:cNvPr id="243" name="文本框 5"/>
            <p:cNvSpPr/>
            <p:nvPr/>
          </p:nvSpPr>
          <p:spPr>
            <a:xfrm>
              <a:off x="73080" y="85680"/>
              <a:ext cx="1018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文本框 6"/>
            <p:cNvSpPr/>
            <p:nvPr/>
          </p:nvSpPr>
          <p:spPr>
            <a:xfrm>
              <a:off x="1092240" y="82440"/>
              <a:ext cx="1872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需求分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文本框 8"/>
          <p:cNvSpPr/>
          <p:nvPr/>
        </p:nvSpPr>
        <p:spPr>
          <a:xfrm>
            <a:off x="446040" y="961920"/>
            <a:ext cx="3985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036eb8"/>
              </a:buClr>
              <a:buFont typeface="Wingdings" charset="2"/>
              <a:buChar char=""/>
            </a:pPr>
            <a:r>
              <a:rPr b="0" lang="zh-CN" sz="3200" spc="-1" strike="noStrike">
                <a:solidFill>
                  <a:srgbClr val="036eb8"/>
                </a:solidFill>
                <a:latin typeface="等线"/>
                <a:ea typeface="等线"/>
              </a:rPr>
              <a:t>新技术  新理念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11"/>
          <p:cNvSpPr/>
          <p:nvPr/>
        </p:nvSpPr>
        <p:spPr>
          <a:xfrm>
            <a:off x="6705720" y="1573200"/>
            <a:ext cx="4970160" cy="1976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技术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等线"/>
                <a:ea typeface="等线"/>
              </a:rPr>
              <a:t>理念详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等线"/>
                <a:ea typeface="等线"/>
              </a:rPr>
              <a:t>每一个模板都用心设计，一切以实用为原则，不浮夸，不做作，不免费。爱学习，好交流，想用设计结交更多志同道合的朋友。欢迎咨询交流，共同进步。每一个模板都用心设计，一切以实用为原则，不浮夸，不做作，不免费。爱学习，好交流，想用设计结交更多志同道合的朋友。欢迎咨询交流，共同进步每一个模板都用心设计，一切以实用为原则，不浮夸，不做作，不免费。爱学习，好交流，想用设计结交更多志同道合的朋友。欢迎咨询交流，共同进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1"/>
          <p:cNvSpPr/>
          <p:nvPr/>
        </p:nvSpPr>
        <p:spPr>
          <a:xfrm>
            <a:off x="2660760" y="1662120"/>
            <a:ext cx="1298160" cy="1298160"/>
          </a:xfrm>
          <a:prstGeom prst="ellipse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48" name="椭圆 10"/>
          <p:cNvSpPr/>
          <p:nvPr/>
        </p:nvSpPr>
        <p:spPr>
          <a:xfrm>
            <a:off x="4648320" y="2097000"/>
            <a:ext cx="1298160" cy="1298160"/>
          </a:xfrm>
          <a:prstGeom prst="ellipse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49" name="椭圆 12"/>
          <p:cNvSpPr/>
          <p:nvPr/>
        </p:nvSpPr>
        <p:spPr>
          <a:xfrm>
            <a:off x="4648320" y="3876840"/>
            <a:ext cx="1298160" cy="1299960"/>
          </a:xfrm>
          <a:prstGeom prst="ellipse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50" name="椭圆 13"/>
          <p:cNvSpPr/>
          <p:nvPr/>
        </p:nvSpPr>
        <p:spPr>
          <a:xfrm>
            <a:off x="638280" y="2097000"/>
            <a:ext cx="1298160" cy="1298160"/>
          </a:xfrm>
          <a:prstGeom prst="ellipse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51" name="椭圆 14"/>
          <p:cNvSpPr/>
          <p:nvPr/>
        </p:nvSpPr>
        <p:spPr>
          <a:xfrm>
            <a:off x="638280" y="3876840"/>
            <a:ext cx="1298160" cy="1299960"/>
          </a:xfrm>
          <a:prstGeom prst="ellipse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52" name="椭圆 15"/>
          <p:cNvSpPr/>
          <p:nvPr/>
        </p:nvSpPr>
        <p:spPr>
          <a:xfrm>
            <a:off x="2660760" y="4503600"/>
            <a:ext cx="1298160" cy="1299960"/>
          </a:xfrm>
          <a:prstGeom prst="ellipse">
            <a:avLst/>
          </a:prstGeom>
          <a:solidFill>
            <a:schemeClr val="bg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等线"/>
              <a:ea typeface="宋体"/>
            </a:endParaRPr>
          </a:p>
        </p:txBody>
      </p:sp>
      <p:sp>
        <p:nvSpPr>
          <p:cNvPr id="253" name="文本框 2"/>
          <p:cNvSpPr/>
          <p:nvPr/>
        </p:nvSpPr>
        <p:spPr>
          <a:xfrm>
            <a:off x="2948040" y="1957320"/>
            <a:ext cx="7236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点击更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17"/>
          <p:cNvSpPr/>
          <p:nvPr/>
        </p:nvSpPr>
        <p:spPr>
          <a:xfrm>
            <a:off x="4935600" y="2392200"/>
            <a:ext cx="7236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点击更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8"/>
          <p:cNvSpPr/>
          <p:nvPr/>
        </p:nvSpPr>
        <p:spPr>
          <a:xfrm>
            <a:off x="4935600" y="4172040"/>
            <a:ext cx="7236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点击更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19"/>
          <p:cNvSpPr/>
          <p:nvPr/>
        </p:nvSpPr>
        <p:spPr>
          <a:xfrm>
            <a:off x="942840" y="2392200"/>
            <a:ext cx="7236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点击更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20"/>
          <p:cNvSpPr/>
          <p:nvPr/>
        </p:nvSpPr>
        <p:spPr>
          <a:xfrm>
            <a:off x="942840" y="4172040"/>
            <a:ext cx="7236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点击更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文本框 21"/>
          <p:cNvSpPr/>
          <p:nvPr/>
        </p:nvSpPr>
        <p:spPr>
          <a:xfrm>
            <a:off x="2948040" y="4792680"/>
            <a:ext cx="723600" cy="69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等线"/>
              </a:rPr>
              <a:t>点击更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3"/>
          <p:cNvSpPr/>
          <p:nvPr/>
        </p:nvSpPr>
        <p:spPr>
          <a:xfrm>
            <a:off x="2028960" y="3468600"/>
            <a:ext cx="265392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36eb8"/>
                </a:solidFill>
                <a:latin typeface="微软雅黑"/>
                <a:ea typeface="微软雅黑"/>
              </a:rPr>
              <a:t>XXX</a:t>
            </a:r>
            <a:r>
              <a:rPr b="0" lang="zh-CN" sz="2000" spc="-1" strike="noStrike">
                <a:solidFill>
                  <a:srgbClr val="036eb8"/>
                </a:solidFill>
                <a:latin typeface="微软雅黑"/>
                <a:ea typeface="微软雅黑"/>
              </a:rPr>
              <a:t>系统构成详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  <Words>1370</Words>
  <Paragraphs>2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9T02:22:12Z</dcterms:created>
  <dc:creator>Administrator</dc:creator>
  <dc:description/>
  <dc:language>en-US</dc:language>
  <cp:lastModifiedBy>王玉清</cp:lastModifiedBy>
  <dcterms:modified xsi:type="dcterms:W3CDTF">2016-03-05T09:24:16Z</dcterms:modified>
  <cp:revision>9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1</vt:r8>
  </property>
</Properties>
</file>