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6B15-A3DD-4211-ADFB-B67A6AF4C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B28E-BCA7-49B4-B966-5E8EECB5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2BA44-5D68-4587-971F-47A81154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25D26-EB8A-440E-9625-D562E084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EC221-9679-4E14-82A6-CE4ADF80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82D3C-9DB2-4C6F-B6AA-93992514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7D66A-D109-42CA-B7B6-A1DF023B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CF5E0-8278-40F9-A072-411E4A1B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91869-7798-47EF-B0FC-5FD6D1CC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FDC43-F9B1-412E-BBF3-9677E8023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8D5BA-7A4E-4EE9-80B5-C5603407C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67DC47-48B7-4274-9BDC-F158D0846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996A-8B6D-425F-8F34-95FBAA773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18790A-AE48-4F91-9A63-8DB2B38F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40BDA-4824-4BEC-8431-4E4C38B7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76E19F-F839-486B-9B5F-7FC13B14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8631B-9224-4001-9920-1A4562F0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C7C21-8B13-4FBF-9F87-F8FA9A1C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0D8358-D784-47CC-B57E-D4392DA0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2F1668-C476-4A69-B3D5-FED93890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2E88E-7754-4BF1-BE76-826A9169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DE63B6-4DCA-4DFD-A166-16D5D52D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4C901E-5832-459F-916D-E78133992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02E9-C391-43B2-A7BE-E53E3D980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3587B-0000-43A8-9542-9D65D218E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98AAB-7F1E-42DA-BD44-894AED360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703E8-6B37-4DFE-927F-088E788D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83C23-2493-4FEC-81C8-98FFCF45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7F41C-685E-4ABC-BA73-FC00E9B9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45E41-4A8C-466E-A0CB-9F12CECE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30C24-264A-40BD-A072-6F254EA8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BA42B-DC9F-4CF6-8770-69BFFB54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54512-5757-48D4-9729-526AA1D3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BD53D-7FC8-4643-BDE7-1CA14DFD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FF68-2330-4D8A-ABE8-DF164F984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0690D-A326-4A9C-B679-37FDA03F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AC753-88C6-4B3F-BB38-8D1B64BE5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5FBF6-40EC-42F4-A1EC-FCCF50B5D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921A63-BF61-4EC1-B2C4-B96223624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F9AE14-321E-429E-837C-24340E5C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C7A4EF-3412-40D2-B95C-D7BD20B3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895973-02B1-41E0-84F1-1C5BEB2B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0708F3-546E-4122-A34B-FBB0F290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B231E3-2ED3-43A6-9BBD-FAA16A71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6E3721-CB9F-46E0-AC82-77B1300B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D05A-7646-4A8F-A1DD-3B5313C5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D807D5-5F7A-46F2-BE5E-39329CD4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8B50DC-EDBB-483D-906B-0A08824A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C05864-9D6A-4D9A-A893-B9701DA3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14FC42-32DE-4CE3-A04C-DFACE3040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9A651F-1EE0-4DED-8528-B7D2B219B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572FCA-733D-4AE4-94F2-939CA2189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B4A028-4956-4688-89A7-5CD86BF9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0FAFD0-0553-44B4-84F5-39DF3CB3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7231D2-BACB-42FF-8A6C-8751C865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2585F7-B24B-4142-A645-A97C099D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C4FA-D78A-4093-966D-968EDB87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09D5FC-53FC-4DCA-9FF7-098535E6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98BD66-7C7D-41B0-B07B-EC1E8E56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0CBA01-87B2-4E51-B9EC-AD3968C4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18F0BF-C8A3-4874-A041-7868D2BE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3DB3E5-4D1B-4AAC-B9E8-DA26FBDE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89C6FF-D48E-4ECA-86C9-EB91A4C19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FA72EB-8C10-4574-A5F0-95B7D8193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AD5E-FCC5-41AD-BD4B-78D967BE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F89B-AE08-42F4-9FCB-DC830B09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34B9-7C93-4064-A693-0C5998E5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62D3-77F7-4F5C-BF35-1859C405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5F90-3BE5-42F6-9A0E-25CE50EC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4536-39B3-412A-95B8-52D6F10A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ED1C-BB86-43F2-8937-A55A8DB0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F148-9332-4CF4-A2CC-47592416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0D5C-4F3D-4AE5-A9A3-4F7DF9DFE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99E8-B0A1-48AD-BA7B-8B3AFEFDD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1F96B-54C0-4A59-A15A-683A836B1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5729C-CFB7-47C0-8E12-ACB45D00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41A8F-F897-4174-9C77-D4DBAB3F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E8731-74CB-4A6E-8107-C5AA84A5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D095C-9235-4A54-AB35-31ADE10E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DBE6-FAF6-4052-8FF3-04684BCF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852C2-FC4A-41DF-90B0-3874E3DA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83D01-DEDA-49EA-8FE5-F6604B37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676F1-6916-46F9-A2D9-98E3D849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73F16-6230-4E0B-B6C1-06ECD5D2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84BA2-5B14-4477-8FCF-7A5FAD0D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8AEF3-D8E5-44EC-B674-15545BA6D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CD9A0-53B6-434C-866E-8E72DF975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807B5-8700-407F-B687-6DA469D1C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0F560-25C3-4F42-8ADE-45AF856C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08055-6A1D-4F62-A4FF-3A71090A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984E-7B92-4D57-9C31-0F3B0E8B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BA811-3F2F-4A69-A43C-7AEC38E6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6FBE0-FD2A-4316-A545-3E8F3F3F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A95B9-8434-482D-B749-C86CE501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39AE9-23C5-4744-82E1-3C98CDAE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2C137-EFDF-4F6F-804B-E22558AB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DA5F5-F40B-449E-A921-FB735C27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F7555-B281-4698-BA1B-F5E7EFD9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B90F5-9E3D-4CC0-BB7B-10EC57E32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D758A-E411-4336-B61A-8E40AF42C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84B5F-BC6D-430D-90F2-9E71E850F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6B85-5657-4EEC-A5C0-AC9E4142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B86AF-9FD9-4275-9B41-C16747E3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AAD87-1F1F-4921-A017-8B749F01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67ED6-7483-4B52-8296-6E7B4091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8193F-847D-4D75-9D42-EE4B2F16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BBBBF-D457-45FD-9449-B36B12AC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6878D-8584-4502-A200-D95146A9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99EBA-6B8E-4A19-98E3-AF5C048F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FB3E7-920B-4795-A0D0-3A93E407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BBE9A-9B6E-48C6-9367-7FF3D38C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B93A7-AF8D-44C9-B617-90C57AB99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4729-2488-420A-A888-EA17D59B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517F9-2D95-425F-8348-64DC7CEF2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F0858-08F6-46FF-BD5A-3FF423116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97455-510F-46AE-A32A-58A2E646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B7AA5-FCA3-4210-95D4-65E1C446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DD004-F8E3-4CAC-8B31-46A7DF5B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5DB11-D9CF-42BC-892A-BC168AB3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5BC31-5117-45DD-8160-5EF0045B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AF0DD-D5EE-41C0-AEFA-9C1FABB7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96961-F676-4476-BEA8-0C634666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01981-E257-46A9-994F-0247799E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8BF9-F09F-41A5-AF73-9903B7AB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82178-35B8-4360-89A6-2EA75F6F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4A2B6-D457-4B8F-AE30-BEB2C47E1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F85CF-110A-450C-873C-8747E9578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0F348-C377-40A6-A50B-6EBA386D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AAF0C-2D00-4335-BDD6-A9A890EC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28F47-B7EA-4A8F-954B-89B96078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126EA-B934-4D2B-B969-A7F26639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70BCE-5437-4A5E-BCC4-B6882F97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7CC71-774E-4825-8040-2A145429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C2717-8B95-47F5-BEF1-34BCED78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C19E-EFE5-4BD1-8195-C4860013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8B007-CCA4-487C-ACC7-CC7B6B36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5471F-7E57-435A-8633-138736B2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F157F-F343-4042-9D11-FF28C1AF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95976-B0E6-4950-89D0-2D4530BD7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F72B7-5C79-4A73-8453-8F4129956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828E4-DB17-4539-AB84-8D55207F1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52D84-219B-49E3-B2DD-E495D6E6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42B45-38D1-42FF-BC82-51CD8922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1C2BE-019E-43BC-A560-41F2C82A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BBC66-E64F-4F59-8BB4-CD18845E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E0B2-26D0-4AB6-AB38-49BC63C1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5653E-A174-4997-B4FB-262BF9AC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BC547-20DF-459D-9ABC-29B57DEB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EB74A-E90C-41CA-BE4F-B1575ED9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AEE28-EFB9-4FD8-99E7-8779DED7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2B171-A5E5-43C7-9A68-3B6813D8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204CA-2007-4112-825B-0CE2C9FCF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DE034-A189-4229-A17B-EA3B39822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3783F-2ECB-439B-BFEF-DC49E2859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382FC-958A-4BDE-AA45-1DD6D1B0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FBE82-039C-4E57-8178-906CCBB3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8e8"/>
                </a:solidFill>
                <a:latin typeface="나눔명조"/>
              </a:rPr>
              <a:t>Click to edit the title text format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Click to edit the outline text format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1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con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2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Thir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3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our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4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if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ix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ven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3745-E15D-4E5D-AA7D-56DA847A4EC5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C540-3B17-4579-B69A-01371D28978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8e8"/>
                </a:solidFill>
                <a:latin typeface="나눔명조"/>
              </a:rPr>
              <a:t>Click to edit the title text format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Click to edit the outline text format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1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con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2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Thir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3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our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4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if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ix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ven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6B28-504C-4D15-822F-11E46658EB21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07CB-E493-445C-AE39-1F5653B97B2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8e8"/>
                </a:solidFill>
                <a:latin typeface="나눔명조"/>
              </a:rPr>
              <a:t>Click to edit the title text format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Click to edit the outline text format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1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con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2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Thir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3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our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4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if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ix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ven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3DDF-E452-4B81-A766-49609326BF8C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22A3-56E1-4ED8-A87F-737DF1184CA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8e8"/>
                </a:solidFill>
                <a:latin typeface="나눔명조"/>
              </a:rPr>
              <a:t>Click to edit the title text format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Click to edit the outline text format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1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con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2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Thir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3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our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4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if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ix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ven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3D30-BFE3-4148-803A-2C5E4B8CA7E5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8F64-4BB7-499C-B8EF-35EEB1B27CF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8e8"/>
                </a:solidFill>
                <a:latin typeface="나눔명조"/>
              </a:rPr>
              <a:t>Click to edit the title text format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Click to edit the outline text format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1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con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2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Thir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3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our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4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if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ix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ven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FC63-8B58-4950-BC46-836C885725C5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FB51-A06F-413D-9921-3D8A95662A0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8e8"/>
                </a:solidFill>
                <a:latin typeface="나눔명조"/>
              </a:rPr>
              <a:t>Click to edit the title text format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Click to edit the outline text format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1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con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2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Thir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3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our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4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if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ix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ven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1D4C-CFDE-4CA3-A7A0-496FEFED3E15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43F8-CC15-41E9-BCA3-75DAB3FD1B2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8e8"/>
                </a:solidFill>
                <a:latin typeface="나눔명조"/>
              </a:rPr>
              <a:t>Click to edit the title text format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Click to edit the outline text format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1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con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2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Thir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3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our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4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if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ix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ven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2686-C696-4944-BA2D-FF7093904B9D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39AB-DB06-41FC-813A-035513C9B11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8e8"/>
                </a:solidFill>
                <a:latin typeface="나눔명조"/>
              </a:rPr>
              <a:t>Click to edit the title text format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Click to edit the outline text format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1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con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2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Thir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3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our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4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if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ix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ven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0B07-F7AF-4A22-A277-F5D0070F5C44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E20B-9B35-45C9-A4D1-564681CFB18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8e8"/>
                </a:solidFill>
                <a:latin typeface="나눔명조"/>
              </a:rPr>
              <a:t>Click to edit the title text format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Click to edit the outline text format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1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con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2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Thir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3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our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4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if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ix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ven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AD6D-63F0-4C0C-99E9-DE115CF94C3B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61AB-71EC-41AC-ABFF-85F585069EC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8e8"/>
                </a:solidFill>
                <a:latin typeface="나눔명조"/>
              </a:rPr>
              <a:t>Click to edit the title text format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Click to edit the outline text format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1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con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2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Thir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3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our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4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if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ix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ven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FB73-2257-4004-918A-6A888CA8D674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3426-B4A3-4FEC-AC17-6998F3E5CA7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8e8"/>
                </a:solidFill>
                <a:latin typeface="나눔명조"/>
              </a:rPr>
              <a:t>Click to edit the title text format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Click to edit the outline text format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1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con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2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Thir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3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our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4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if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ix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ven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4821-1865-46BC-BF18-D07690F9D7E3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847F-F5EC-4CBB-AE4A-BA08573DF03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8e8"/>
                </a:solidFill>
                <a:latin typeface="나눔명조"/>
              </a:rPr>
              <a:t>Click to edit the title text format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Click to edit the outline text format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1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con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2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Thir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3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our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4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if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ix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ven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C4B2-B528-4282-B0DB-6AF1EEA05D4F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BFFF-CA68-40FA-B08F-CB6115C3833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8e8"/>
                </a:solidFill>
                <a:latin typeface="나눔명조"/>
              </a:rPr>
              <a:t>Click to edit the title text format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Click to edit the outline text format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1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con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2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Thir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3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our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4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if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ix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ven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9D0D-9E6B-46C0-BD31-186A2E6A2D0F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F7FB-2A72-4686-BD3D-C1AEA4E8A70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hangeul.naver.com/font" TargetMode="External"/><Relationship Id="rId3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그림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Box 6"/>
          <p:cNvSpPr/>
          <p:nvPr/>
        </p:nvSpPr>
        <p:spPr>
          <a:xfrm>
            <a:off x="3989520" y="5013360"/>
            <a:ext cx="216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80a02"/>
                </a:solidFill>
                <a:latin typeface="나눔고딕 ExtraBold"/>
                <a:ea typeface="나눔고딕 ExtraBold"/>
              </a:rPr>
              <a:t>이름</a:t>
            </a:r>
            <a:r>
              <a:rPr b="0" lang="en-US" sz="1200" spc="-1" strike="noStrike">
                <a:solidFill>
                  <a:srgbClr val="180a02"/>
                </a:solidFill>
                <a:latin typeface="나눔고딕 ExtraBold"/>
                <a:ea typeface="나눔고딕 ExtraBold"/>
              </a:rPr>
              <a:t>·</a:t>
            </a:r>
            <a:r>
              <a:rPr b="0" lang="zh-CN" sz="1200" spc="-1" strike="noStrike">
                <a:solidFill>
                  <a:srgbClr val="180a02"/>
                </a:solidFill>
                <a:latin typeface="나눔고딕 ExtraBold"/>
                <a:ea typeface="나눔고딕 ExtraBold"/>
              </a:rPr>
              <a:t>이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그림 4" descr=""/>
          <p:cNvPicPr/>
          <p:nvPr/>
        </p:nvPicPr>
        <p:blipFill>
          <a:blip r:embed="rId2"/>
          <a:stretch/>
        </p:blipFill>
        <p:spPr>
          <a:xfrm>
            <a:off x="2965320" y="2184480"/>
            <a:ext cx="3876840" cy="2781360"/>
          </a:xfrm>
          <a:prstGeom prst="rect">
            <a:avLst/>
          </a:prstGeom>
          <a:ln w="0">
            <a:noFill/>
          </a:ln>
        </p:spPr>
      </p:pic>
      <p:sp>
        <p:nvSpPr>
          <p:cNvPr id="536" name="矩形 1"/>
          <p:cNvSpPr/>
          <p:nvPr/>
        </p:nvSpPr>
        <p:spPr>
          <a:xfrm>
            <a:off x="2522160" y="60660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结婚纪念册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2888-2355-47E8-ACE9-EC9382B74C4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그림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0" name="그림 5" descr=""/>
          <p:cNvPicPr/>
          <p:nvPr/>
        </p:nvPicPr>
        <p:blipFill>
          <a:blip r:embed="rId2"/>
          <a:stretch/>
        </p:blipFill>
        <p:spPr>
          <a:xfrm>
            <a:off x="2965320" y="2184480"/>
            <a:ext cx="3876840" cy="2781360"/>
          </a:xfrm>
          <a:prstGeom prst="rect">
            <a:avLst/>
          </a:prstGeom>
          <a:ln w="0">
            <a:noFill/>
          </a:ln>
        </p:spPr>
      </p:pic>
      <p:sp>
        <p:nvSpPr>
          <p:cNvPr id="541" name="TextBox 6"/>
          <p:cNvSpPr/>
          <p:nvPr/>
        </p:nvSpPr>
        <p:spPr>
          <a:xfrm>
            <a:off x="4494240" y="504036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80a02"/>
                </a:solidFill>
                <a:latin typeface="나눔고딕 ExtraBold"/>
                <a:ea typeface="나눔고딕 ExtraBold"/>
              </a:rPr>
              <a:t>이름</a:t>
            </a:r>
            <a:r>
              <a:rPr b="0" lang="en-US" sz="1200" spc="-1" strike="noStrike">
                <a:solidFill>
                  <a:srgbClr val="180a02"/>
                </a:solidFill>
                <a:latin typeface="나눔고딕 ExtraBold"/>
                <a:ea typeface="나눔고딕 ExtraBold"/>
              </a:rPr>
              <a:t>·</a:t>
            </a:r>
            <a:r>
              <a:rPr b="0" lang="zh-CN" sz="1200" spc="-1" strike="noStrike">
                <a:solidFill>
                  <a:srgbClr val="180a02"/>
                </a:solidFill>
                <a:latin typeface="나눔고딕 ExtraBold"/>
                <a:ea typeface="나눔고딕 ExtraBold"/>
              </a:rPr>
              <a:t>이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矩形 1"/>
          <p:cNvSpPr/>
          <p:nvPr/>
        </p:nvSpPr>
        <p:spPr>
          <a:xfrm>
            <a:off x="1384920" y="835200"/>
            <a:ext cx="218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1000" spc="-1" strike="noStrike" u="sng">
                <a:solidFill>
                  <a:srgbClr val="7f7f7f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그림 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4" name="그림 4" descr=""/>
          <p:cNvPicPr/>
          <p:nvPr/>
        </p:nvPicPr>
        <p:blipFill>
          <a:blip r:embed="rId3"/>
          <a:stretch/>
        </p:blipFill>
        <p:spPr>
          <a:xfrm>
            <a:off x="1698480" y="1592280"/>
            <a:ext cx="5734080" cy="3683160"/>
          </a:xfrm>
          <a:prstGeom prst="rect">
            <a:avLst/>
          </a:prstGeom>
          <a:ln cap="sq" w="1440">
            <a:solidFill>
              <a:srgbClr val="000000"/>
            </a:solidFill>
            <a:miter/>
          </a:ln>
        </p:spPr>
      </p:pic>
      <p:sp>
        <p:nvSpPr>
          <p:cNvPr id="545" name="TextBox 8"/>
          <p:cNvSpPr/>
          <p:nvPr/>
        </p:nvSpPr>
        <p:spPr>
          <a:xfrm>
            <a:off x="4302000" y="5353200"/>
            <a:ext cx="3240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09090"/>
                </a:solidFill>
                <a:latin typeface="나눔고딕"/>
                <a:ea typeface="나눔고딕"/>
              </a:rPr>
              <a:t>I  LOVE YO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그림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7" name="그림 4" descr=""/>
          <p:cNvPicPr/>
          <p:nvPr/>
        </p:nvPicPr>
        <p:blipFill>
          <a:blip r:embed="rId2"/>
          <a:stretch/>
        </p:blipFill>
        <p:spPr>
          <a:xfrm>
            <a:off x="749160" y="746280"/>
            <a:ext cx="3733920" cy="4457520"/>
          </a:xfrm>
          <a:prstGeom prst="rect">
            <a:avLst/>
          </a:prstGeom>
          <a:ln w="0">
            <a:noFill/>
          </a:ln>
        </p:spPr>
      </p:pic>
      <p:pic>
        <p:nvPicPr>
          <p:cNvPr id="548" name="그림 5" descr=""/>
          <p:cNvPicPr/>
          <p:nvPr/>
        </p:nvPicPr>
        <p:blipFill>
          <a:blip r:embed="rId3"/>
          <a:stretch/>
        </p:blipFill>
        <p:spPr>
          <a:xfrm>
            <a:off x="4657680" y="1554120"/>
            <a:ext cx="3733920" cy="4457880"/>
          </a:xfrm>
          <a:prstGeom prst="rect">
            <a:avLst/>
          </a:prstGeom>
          <a:ln w="0">
            <a:noFill/>
          </a:ln>
        </p:spPr>
      </p:pic>
      <p:sp>
        <p:nvSpPr>
          <p:cNvPr id="549" name="TextBox 6"/>
          <p:cNvSpPr/>
          <p:nvPr/>
        </p:nvSpPr>
        <p:spPr>
          <a:xfrm>
            <a:off x="5257800" y="6078600"/>
            <a:ext cx="3241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09090"/>
                </a:solidFill>
                <a:latin typeface="나눔고딕"/>
                <a:ea typeface="나눔고딕"/>
              </a:rPr>
              <a:t>I  LOVE YO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그림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1" name="그림 4" descr=""/>
          <p:cNvPicPr/>
          <p:nvPr/>
        </p:nvPicPr>
        <p:blipFill>
          <a:blip r:embed="rId2"/>
          <a:stretch/>
        </p:blipFill>
        <p:spPr>
          <a:xfrm>
            <a:off x="727200" y="563400"/>
            <a:ext cx="3352680" cy="2648160"/>
          </a:xfrm>
          <a:prstGeom prst="rect">
            <a:avLst/>
          </a:prstGeom>
          <a:ln w="0">
            <a:noFill/>
          </a:ln>
        </p:spPr>
      </p:pic>
      <p:pic>
        <p:nvPicPr>
          <p:cNvPr id="552" name="그림 5" descr=""/>
          <p:cNvPicPr/>
          <p:nvPr/>
        </p:nvPicPr>
        <p:blipFill>
          <a:blip r:embed="rId3"/>
          <a:stretch/>
        </p:blipFill>
        <p:spPr>
          <a:xfrm>
            <a:off x="4255920" y="577800"/>
            <a:ext cx="4305600" cy="5467320"/>
          </a:xfrm>
          <a:prstGeom prst="rect">
            <a:avLst/>
          </a:prstGeom>
          <a:ln w="0">
            <a:noFill/>
          </a:ln>
        </p:spPr>
      </p:pic>
      <p:pic>
        <p:nvPicPr>
          <p:cNvPr id="553" name="그림 6" descr=""/>
          <p:cNvPicPr/>
          <p:nvPr/>
        </p:nvPicPr>
        <p:blipFill>
          <a:blip r:embed="rId4"/>
          <a:stretch/>
        </p:blipFill>
        <p:spPr>
          <a:xfrm>
            <a:off x="723960" y="3390840"/>
            <a:ext cx="3352680" cy="2648160"/>
          </a:xfrm>
          <a:prstGeom prst="rect">
            <a:avLst/>
          </a:prstGeom>
          <a:ln w="0">
            <a:noFill/>
          </a:ln>
        </p:spPr>
      </p:pic>
      <p:sp>
        <p:nvSpPr>
          <p:cNvPr id="554" name="TextBox 11"/>
          <p:cNvSpPr/>
          <p:nvPr/>
        </p:nvSpPr>
        <p:spPr>
          <a:xfrm>
            <a:off x="5429160" y="6107040"/>
            <a:ext cx="3241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09090"/>
                </a:solidFill>
                <a:latin typeface="나눔고딕"/>
                <a:ea typeface="나눔고딕"/>
              </a:rPr>
              <a:t>I  LOVE YO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그림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7" name="TextBox 4"/>
          <p:cNvSpPr/>
          <p:nvPr/>
        </p:nvSpPr>
        <p:spPr>
          <a:xfrm>
            <a:off x="2308320" y="2421000"/>
            <a:ext cx="45273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나눔명조"/>
              </a:rPr>
              <a:t>Thank you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5"/>
          <p:cNvSpPr/>
          <p:nvPr/>
        </p:nvSpPr>
        <p:spPr>
          <a:xfrm>
            <a:off x="2232000" y="3348000"/>
            <a:ext cx="4680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e9e9e"/>
                </a:solidFill>
                <a:latin typeface="나눔명조"/>
              </a:rPr>
              <a:t>이 순간을 영원히 기억하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e9e9e"/>
                </a:solidFill>
                <a:latin typeface="나눔명조"/>
              </a:rPr>
              <a:t>아끼는 마음으로 행복하게 살겠습니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8"/>
          <p:cNvSpPr/>
          <p:nvPr/>
        </p:nvSpPr>
        <p:spPr>
          <a:xfrm>
            <a:off x="3348000" y="6324480"/>
            <a:ext cx="24480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e8e8e"/>
                </a:solidFill>
                <a:latin typeface="나눔고딕"/>
                <a:ea typeface="나눔고딕"/>
              </a:rPr>
              <a:t>이 문서는 나눔글꼴로 작성되었습니다</a:t>
            </a:r>
            <a:r>
              <a:rPr b="0" lang="en-US" sz="800" spc="-1" strike="noStrike">
                <a:solidFill>
                  <a:srgbClr val="8e8e8e"/>
                </a:solidFill>
                <a:latin typeface="나눔고딕"/>
                <a:ea typeface="나눔고딕"/>
              </a:rPr>
              <a:t>.  </a:t>
            </a:r>
            <a:r>
              <a:rPr b="0" lang="zh-CN" sz="800" spc="-1" strike="noStrike" u="sng">
                <a:solidFill>
                  <a:srgbClr val="7f7f7f"/>
                </a:solidFill>
                <a:uFillTx/>
                <a:latin typeface="나눔고딕"/>
                <a:ea typeface="나눔고딕"/>
                <a:hlinkClick r:id="rId2"/>
              </a:rPr>
              <a:t>설치하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14:21:00Z</dcterms:created>
  <dc:creator>네이버 한글캠페인</dc:creator>
  <dc:description/>
  <cp:keywords/>
  <dc:language>en-US</dc:language>
  <cp:lastModifiedBy>王玉清</cp:lastModifiedBy>
  <cp:lastPrinted>1899-12-30T00:00:00Z</cp:lastPrinted>
  <dcterms:modified xsi:type="dcterms:W3CDTF">2016-02-20T03:57:13Z</dcterms:modified>
  <cp:revision>4</cp:revision>
  <dc:subject/>
  <dc:title>슬라이드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