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8B47-21AC-4E08-A8EC-CE14E958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2BB-CC4D-4B2C-AF45-EBA8DCC6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1733-B26D-47C4-86B2-36094C06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D2C0-58BF-4EE6-B61C-55BBEF5A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7F8A-4599-4F9C-B797-D70E3DC9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1893-AE5C-4A33-BD37-4194378C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0B7D-EC1E-4853-90EE-10F9ECAA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9ABD-BE9D-4B27-A3F8-8A9AEAE8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C3BB-3E1E-4E07-85D2-A8B28B57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841680"/>
            <a:ext cx="6857640" cy="82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6CC8-8499-483B-85C9-C2D45924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87ED-FC82-4117-A8C9-884EBAF8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845-EB65-41B1-8418-BEB49E51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4E06-5DB2-441A-ADEB-11069D1B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2A3E-22D2-4C37-BCC3-92FB30EE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FB44-09E8-4C92-9598-008FD4B6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8725-E31D-4E96-8F99-1560EE5A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0885-0706-468B-83A9-BC321060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2F3D-848A-4D04-A901-274E424A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856-D00F-4558-AAFC-F8CE81B9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BFE0-EE2C-465D-8F19-8A1911AC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841680"/>
            <a:ext cx="6857640" cy="82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93E-3A78-454A-BAA6-26C7B171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2EE-6845-4998-8BF8-25BF59FF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526E-0EFF-41C7-80E0-3A1E065C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FC8-1F75-4AC5-9010-423D9F89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4500" spc="-1" strike="noStrike">
                <a:solidFill>
                  <a:srgbClr val="000000"/>
                </a:solidFill>
                <a:latin typeface="华文细黑"/>
                <a:ea typeface="微软雅黑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FD2A34-0533-400B-A176-471D844F2D18}" type="slidenum">
              <a: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1350" spc="-1" strike="noStrike">
              <a:solidFill>
                <a:srgbClr val="000000"/>
              </a:solidFill>
              <a:latin typeface="华文细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1350" spc="-1" strike="noStrike">
              <a:solidFill>
                <a:srgbClr val="000000"/>
              </a:solidFill>
              <a:latin typeface="华文细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华文细黑"/>
                <a:ea typeface="微软雅黑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69080"/>
            <a:ext cx="7886520" cy="326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100" spc="-1" strike="noStrike">
                <a:solidFill>
                  <a:srgbClr val="000000"/>
                </a:solidFill>
                <a:latin typeface="华文细黑"/>
                <a:ea typeface="微软雅黑"/>
              </a:rPr>
              <a:t>编辑母版文本样式</a:t>
            </a: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三级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35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四级</a:t>
            </a:r>
            <a:endParaRPr b="0" lang="en-US" sz="1350" spc="-1" strike="noStrike">
              <a:solidFill>
                <a:srgbClr val="000000"/>
              </a:solidFill>
              <a:latin typeface="华文细黑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35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五级</a:t>
            </a:r>
            <a:endParaRPr b="0" lang="en-US" sz="135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D174E0-8F75-4B44-A941-03C72B80C092}" type="slidenum">
              <a: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2" name="直接连接符 8"/>
          <p:cNvCxnSpPr/>
          <p:nvPr/>
        </p:nvCxnSpPr>
        <p:spPr>
          <a:xfrm flipH="1">
            <a:off x="4093560" y="1848240"/>
            <a:ext cx="898920" cy="1803960"/>
          </a:xfrm>
          <a:prstGeom prst="straightConnector1">
            <a:avLst/>
          </a:prstGeom>
          <a:ln w="12700">
            <a:solidFill>
              <a:srgbClr val="ffffff"/>
            </a:solidFill>
          </a:ln>
        </p:spPr>
      </p:cxnSp>
      <p:sp>
        <p:nvSpPr>
          <p:cNvPr id="83" name="TextBox 1"/>
          <p:cNvSpPr/>
          <p:nvPr/>
        </p:nvSpPr>
        <p:spPr>
          <a:xfrm>
            <a:off x="1908000" y="2107800"/>
            <a:ext cx="5622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洁大气喜庆公司介绍通用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文本框 2"/>
          <p:cNvSpPr/>
          <p:nvPr/>
        </p:nvSpPr>
        <p:spPr>
          <a:xfrm>
            <a:off x="827640" y="1707480"/>
            <a:ext cx="2381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横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316800" y="4587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组合 13"/>
          <p:cNvGrpSpPr/>
          <p:nvPr/>
        </p:nvGrpSpPr>
        <p:grpSpPr>
          <a:xfrm>
            <a:off x="2388960" y="1657800"/>
            <a:ext cx="4145040" cy="1575360"/>
            <a:chOff x="2388960" y="1657800"/>
            <a:chExt cx="4145040" cy="1575360"/>
          </a:xfrm>
        </p:grpSpPr>
        <p:sp>
          <p:nvSpPr>
            <p:cNvPr id="186" name="椭圆 14"/>
            <p:cNvSpPr/>
            <p:nvPr/>
          </p:nvSpPr>
          <p:spPr>
            <a:xfrm rot="597000">
              <a:off x="5481720" y="166500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187" name="直接连接符 17"/>
            <p:cNvCxnSpPr/>
            <p:nvPr/>
          </p:nvCxnSpPr>
          <p:spPr>
            <a:xfrm flipV="1">
              <a:off x="2523240" y="1706400"/>
              <a:ext cx="3006720" cy="103140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188" name="直接连接符 18"/>
            <p:cNvCxnSpPr/>
            <p:nvPr/>
          </p:nvCxnSpPr>
          <p:spPr>
            <a:xfrm flipH="1" flipV="1">
              <a:off x="5529600" y="1706400"/>
              <a:ext cx="171720" cy="131832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189" name="直接连接符 19"/>
            <p:cNvCxnSpPr/>
            <p:nvPr/>
          </p:nvCxnSpPr>
          <p:spPr>
            <a:xfrm flipH="1" flipV="1">
              <a:off x="5699880" y="3041280"/>
              <a:ext cx="777240" cy="14688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sp>
          <p:nvSpPr>
            <p:cNvPr id="190" name="椭圆 20"/>
            <p:cNvSpPr/>
            <p:nvPr/>
          </p:nvSpPr>
          <p:spPr>
            <a:xfrm rot="597000">
              <a:off x="5623920" y="2965320"/>
              <a:ext cx="152280" cy="15228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1" name="椭圆 21"/>
            <p:cNvSpPr/>
            <p:nvPr/>
          </p:nvSpPr>
          <p:spPr>
            <a:xfrm rot="597000">
              <a:off x="6430680" y="312984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2" name="椭圆 16"/>
            <p:cNvSpPr/>
            <p:nvPr/>
          </p:nvSpPr>
          <p:spPr>
            <a:xfrm rot="597000">
              <a:off x="2405520" y="2639520"/>
              <a:ext cx="211680" cy="211680"/>
            </a:xfrm>
            <a:prstGeom prst="ellipse">
              <a:avLst/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93" name="TextBox 22"/>
          <p:cNvSpPr/>
          <p:nvPr/>
        </p:nvSpPr>
        <p:spPr>
          <a:xfrm>
            <a:off x="2123640" y="2221920"/>
            <a:ext cx="465300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具体业务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5"/>
          <p:cNvSpPr/>
          <p:nvPr/>
        </p:nvSpPr>
        <p:spPr>
          <a:xfrm>
            <a:off x="164520" y="93960"/>
            <a:ext cx="188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PART 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业务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3"/>
          <p:cNvSpPr/>
          <p:nvPr/>
        </p:nvSpPr>
        <p:spPr>
          <a:xfrm>
            <a:off x="0" y="122400"/>
            <a:ext cx="178920" cy="380520"/>
          </a:xfrm>
          <a:prstGeom prst="rect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9360" y="3445920"/>
            <a:ext cx="9144000" cy="1584000"/>
            <a:chOff x="9360" y="3445920"/>
            <a:chExt cx="9144000" cy="1584000"/>
          </a:xfrm>
        </p:grpSpPr>
        <p:grpSp>
          <p:nvGrpSpPr>
            <p:cNvPr id="197" name="Group 3"/>
            <p:cNvGrpSpPr/>
            <p:nvPr/>
          </p:nvGrpSpPr>
          <p:grpSpPr>
            <a:xfrm>
              <a:off x="4580280" y="3445920"/>
              <a:ext cx="4573080" cy="1584000"/>
              <a:chOff x="4580280" y="3445920"/>
              <a:chExt cx="4573080" cy="1584000"/>
            </a:xfrm>
          </p:grpSpPr>
          <p:sp>
            <p:nvSpPr>
              <p:cNvPr id="198" name="Line 4"/>
              <p:cNvSpPr/>
              <p:nvPr/>
            </p:nvSpPr>
            <p:spPr>
              <a:xfrm>
                <a:off x="4580280" y="3445920"/>
                <a:ext cx="4573080" cy="120528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199" name="Line 5"/>
              <p:cNvSpPr/>
              <p:nvPr/>
            </p:nvSpPr>
            <p:spPr>
              <a:xfrm>
                <a:off x="4580280" y="3445920"/>
                <a:ext cx="4573080" cy="141984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0" name="Line 6"/>
              <p:cNvSpPr/>
              <p:nvPr/>
            </p:nvSpPr>
            <p:spPr>
              <a:xfrm>
                <a:off x="4580280" y="3445920"/>
                <a:ext cx="433764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1" name="Line 7"/>
              <p:cNvSpPr/>
              <p:nvPr/>
            </p:nvSpPr>
            <p:spPr>
              <a:xfrm>
                <a:off x="4580280" y="3445920"/>
                <a:ext cx="363312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2" name="Line 8"/>
              <p:cNvSpPr/>
              <p:nvPr/>
            </p:nvSpPr>
            <p:spPr>
              <a:xfrm>
                <a:off x="4580280" y="3445920"/>
                <a:ext cx="297180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3" name="Line 9"/>
              <p:cNvSpPr/>
              <p:nvPr/>
            </p:nvSpPr>
            <p:spPr>
              <a:xfrm>
                <a:off x="4580280" y="3445920"/>
                <a:ext cx="230580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4" name="Line 10"/>
              <p:cNvSpPr/>
              <p:nvPr/>
            </p:nvSpPr>
            <p:spPr>
              <a:xfrm>
                <a:off x="4580280" y="3445920"/>
                <a:ext cx="171972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5" name="Line 11"/>
              <p:cNvSpPr/>
              <p:nvPr/>
            </p:nvSpPr>
            <p:spPr>
              <a:xfrm>
                <a:off x="4580280" y="3445920"/>
                <a:ext cx="113544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6" name="Line 12"/>
              <p:cNvSpPr/>
              <p:nvPr/>
            </p:nvSpPr>
            <p:spPr>
              <a:xfrm>
                <a:off x="4580280" y="3445920"/>
                <a:ext cx="54756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7" name="Line 13"/>
              <p:cNvSpPr/>
              <p:nvPr/>
            </p:nvSpPr>
            <p:spPr>
              <a:xfrm>
                <a:off x="4580280" y="3445920"/>
                <a:ext cx="36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8" name="Line 14"/>
              <p:cNvSpPr/>
              <p:nvPr/>
            </p:nvSpPr>
            <p:spPr>
              <a:xfrm>
                <a:off x="4580280" y="3445920"/>
                <a:ext cx="4573080" cy="1042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9" name="Line 15"/>
              <p:cNvSpPr/>
              <p:nvPr/>
            </p:nvSpPr>
            <p:spPr>
              <a:xfrm>
                <a:off x="4580280" y="3445920"/>
                <a:ext cx="4573080" cy="8982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0" name="Line 16"/>
              <p:cNvSpPr/>
              <p:nvPr/>
            </p:nvSpPr>
            <p:spPr>
              <a:xfrm>
                <a:off x="4580280" y="3445920"/>
                <a:ext cx="4573080" cy="77364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1" name="Line 17"/>
              <p:cNvSpPr/>
              <p:nvPr/>
            </p:nvSpPr>
            <p:spPr>
              <a:xfrm>
                <a:off x="4580280" y="3445920"/>
                <a:ext cx="4573080" cy="648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2" name="Line 18"/>
              <p:cNvSpPr/>
              <p:nvPr/>
            </p:nvSpPr>
            <p:spPr>
              <a:xfrm>
                <a:off x="4620240" y="3445920"/>
                <a:ext cx="4533120" cy="54036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3" name="Line 19"/>
              <p:cNvSpPr/>
              <p:nvPr/>
            </p:nvSpPr>
            <p:spPr>
              <a:xfrm>
                <a:off x="4580280" y="3445920"/>
                <a:ext cx="4573080" cy="4327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4" name="Line 20"/>
              <p:cNvSpPr/>
              <p:nvPr/>
            </p:nvSpPr>
            <p:spPr>
              <a:xfrm>
                <a:off x="4580280" y="3445920"/>
                <a:ext cx="4573080" cy="340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5" name="Line 21"/>
              <p:cNvSpPr/>
              <p:nvPr/>
            </p:nvSpPr>
            <p:spPr>
              <a:xfrm>
                <a:off x="4580280" y="3445920"/>
                <a:ext cx="4573080" cy="250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6" name="Line 22"/>
              <p:cNvSpPr/>
              <p:nvPr/>
            </p:nvSpPr>
            <p:spPr>
              <a:xfrm>
                <a:off x="4580280" y="3445920"/>
                <a:ext cx="4573080" cy="17928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7" name="Line 23"/>
              <p:cNvSpPr/>
              <p:nvPr/>
            </p:nvSpPr>
            <p:spPr>
              <a:xfrm>
                <a:off x="4580280" y="3445920"/>
                <a:ext cx="4573080" cy="1062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8" name="Line 24"/>
              <p:cNvSpPr/>
              <p:nvPr/>
            </p:nvSpPr>
            <p:spPr>
              <a:xfrm>
                <a:off x="4580280" y="3445920"/>
                <a:ext cx="4573080" cy="52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</p:grpSp>
        <p:grpSp>
          <p:nvGrpSpPr>
            <p:cNvPr id="219" name="Group 25"/>
            <p:cNvGrpSpPr/>
            <p:nvPr/>
          </p:nvGrpSpPr>
          <p:grpSpPr>
            <a:xfrm>
              <a:off x="9360" y="3445920"/>
              <a:ext cx="4570920" cy="1584000"/>
              <a:chOff x="9360" y="3445920"/>
              <a:chExt cx="4570920" cy="1584000"/>
            </a:xfrm>
          </p:grpSpPr>
          <p:sp>
            <p:nvSpPr>
              <p:cNvPr id="220" name="Line 26"/>
              <p:cNvSpPr/>
              <p:nvPr/>
            </p:nvSpPr>
            <p:spPr>
              <a:xfrm flipH="1">
                <a:off x="9360" y="3445920"/>
                <a:ext cx="4570920" cy="36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1" name="Line 27"/>
              <p:cNvSpPr/>
              <p:nvPr/>
            </p:nvSpPr>
            <p:spPr>
              <a:xfrm flipH="1">
                <a:off x="9360" y="3445920"/>
                <a:ext cx="4570920" cy="120528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2" name="Line 28"/>
              <p:cNvSpPr/>
              <p:nvPr/>
            </p:nvSpPr>
            <p:spPr>
              <a:xfrm flipH="1">
                <a:off x="9360" y="3445920"/>
                <a:ext cx="4570920" cy="141984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3" name="Line 29"/>
              <p:cNvSpPr/>
              <p:nvPr/>
            </p:nvSpPr>
            <p:spPr>
              <a:xfrm flipH="1">
                <a:off x="246600" y="3445920"/>
                <a:ext cx="433368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4" name="Line 30"/>
              <p:cNvSpPr/>
              <p:nvPr/>
            </p:nvSpPr>
            <p:spPr>
              <a:xfrm flipH="1">
                <a:off x="950040" y="3445920"/>
                <a:ext cx="363024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5" name="Line 31"/>
              <p:cNvSpPr/>
              <p:nvPr/>
            </p:nvSpPr>
            <p:spPr>
              <a:xfrm flipH="1">
                <a:off x="1611360" y="3445920"/>
                <a:ext cx="296892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6" name="Line 32"/>
              <p:cNvSpPr/>
              <p:nvPr/>
            </p:nvSpPr>
            <p:spPr>
              <a:xfrm flipH="1">
                <a:off x="2276280" y="3445920"/>
                <a:ext cx="230400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7" name="Line 33"/>
              <p:cNvSpPr/>
              <p:nvPr/>
            </p:nvSpPr>
            <p:spPr>
              <a:xfrm flipH="1">
                <a:off x="2866320" y="3445920"/>
                <a:ext cx="171396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8" name="Line 34"/>
              <p:cNvSpPr/>
              <p:nvPr/>
            </p:nvSpPr>
            <p:spPr>
              <a:xfrm flipH="1">
                <a:off x="3449160" y="3445920"/>
                <a:ext cx="113112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9" name="Line 35"/>
              <p:cNvSpPr/>
              <p:nvPr/>
            </p:nvSpPr>
            <p:spPr>
              <a:xfrm flipH="1">
                <a:off x="4037400" y="3445920"/>
                <a:ext cx="54288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0" name="Line 36"/>
              <p:cNvSpPr/>
              <p:nvPr/>
            </p:nvSpPr>
            <p:spPr>
              <a:xfrm flipH="1">
                <a:off x="9360" y="3445920"/>
                <a:ext cx="4570920" cy="1042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1" name="Line 37"/>
              <p:cNvSpPr/>
              <p:nvPr/>
            </p:nvSpPr>
            <p:spPr>
              <a:xfrm flipH="1">
                <a:off x="9360" y="3445920"/>
                <a:ext cx="4570920" cy="8982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2" name="Line 38"/>
              <p:cNvSpPr/>
              <p:nvPr/>
            </p:nvSpPr>
            <p:spPr>
              <a:xfrm flipH="1">
                <a:off x="9360" y="3445920"/>
                <a:ext cx="4570920" cy="77364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3" name="Line 39"/>
              <p:cNvSpPr/>
              <p:nvPr/>
            </p:nvSpPr>
            <p:spPr>
              <a:xfrm flipH="1">
                <a:off x="9360" y="3445920"/>
                <a:ext cx="4570920" cy="648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4" name="Line 40"/>
              <p:cNvSpPr/>
              <p:nvPr/>
            </p:nvSpPr>
            <p:spPr>
              <a:xfrm flipH="1">
                <a:off x="9360" y="3445920"/>
                <a:ext cx="4532400" cy="54036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5" name="Line 41"/>
              <p:cNvSpPr/>
              <p:nvPr/>
            </p:nvSpPr>
            <p:spPr>
              <a:xfrm flipH="1">
                <a:off x="9360" y="3445920"/>
                <a:ext cx="4570920" cy="4327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6" name="Line 42"/>
              <p:cNvSpPr/>
              <p:nvPr/>
            </p:nvSpPr>
            <p:spPr>
              <a:xfrm flipH="1">
                <a:off x="9360" y="3445920"/>
                <a:ext cx="4570920" cy="340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7" name="Line 43"/>
              <p:cNvSpPr/>
              <p:nvPr/>
            </p:nvSpPr>
            <p:spPr>
              <a:xfrm flipH="1">
                <a:off x="9360" y="3445920"/>
                <a:ext cx="4570920" cy="250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8" name="Line 44"/>
              <p:cNvSpPr/>
              <p:nvPr/>
            </p:nvSpPr>
            <p:spPr>
              <a:xfrm flipH="1">
                <a:off x="9360" y="3445920"/>
                <a:ext cx="4570920" cy="17928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9" name="Line 45"/>
              <p:cNvSpPr/>
              <p:nvPr/>
            </p:nvSpPr>
            <p:spPr>
              <a:xfrm flipH="1">
                <a:off x="9360" y="3445920"/>
                <a:ext cx="4570920" cy="1062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40" name="Line 46"/>
              <p:cNvSpPr/>
              <p:nvPr/>
            </p:nvSpPr>
            <p:spPr>
              <a:xfrm flipH="1">
                <a:off x="9360" y="3445920"/>
                <a:ext cx="4570920" cy="52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</p:grpSp>
        <p:grpSp>
          <p:nvGrpSpPr>
            <p:cNvPr id="241" name="Group 47"/>
            <p:cNvGrpSpPr/>
            <p:nvPr/>
          </p:nvGrpSpPr>
          <p:grpSpPr>
            <a:xfrm>
              <a:off x="9360" y="3462480"/>
              <a:ext cx="9144000" cy="1351080"/>
              <a:chOff x="9360" y="3462480"/>
              <a:chExt cx="9144000" cy="1351080"/>
            </a:xfrm>
          </p:grpSpPr>
          <p:grpSp>
            <p:nvGrpSpPr>
              <p:cNvPr id="242" name="Group 48"/>
              <p:cNvGrpSpPr/>
              <p:nvPr/>
            </p:nvGrpSpPr>
            <p:grpSpPr>
              <a:xfrm>
                <a:off x="9360" y="4224960"/>
                <a:ext cx="9144000" cy="588600"/>
                <a:chOff x="9360" y="4224960"/>
                <a:chExt cx="9144000" cy="588600"/>
              </a:xfrm>
            </p:grpSpPr>
            <p:sp>
              <p:nvSpPr>
                <p:cNvPr id="243" name="Line 49"/>
                <p:cNvSpPr/>
                <p:nvPr/>
              </p:nvSpPr>
              <p:spPr>
                <a:xfrm>
                  <a:off x="9360" y="4813200"/>
                  <a:ext cx="91440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44" name="Line 50"/>
                <p:cNvSpPr/>
                <p:nvPr/>
              </p:nvSpPr>
              <p:spPr>
                <a:xfrm>
                  <a:off x="9360" y="4596120"/>
                  <a:ext cx="91440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45" name="Line 51"/>
                <p:cNvSpPr/>
                <p:nvPr/>
              </p:nvSpPr>
              <p:spPr>
                <a:xfrm>
                  <a:off x="9360" y="4399920"/>
                  <a:ext cx="91404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46" name="Line 52"/>
                <p:cNvSpPr/>
                <p:nvPr/>
              </p:nvSpPr>
              <p:spPr>
                <a:xfrm>
                  <a:off x="9360" y="4224960"/>
                  <a:ext cx="91404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</p:grpSp>
          <p:grpSp>
            <p:nvGrpSpPr>
              <p:cNvPr id="247" name="Group 53"/>
              <p:cNvGrpSpPr/>
              <p:nvPr/>
            </p:nvGrpSpPr>
            <p:grpSpPr>
              <a:xfrm>
                <a:off x="9360" y="3462480"/>
                <a:ext cx="9144000" cy="613080"/>
                <a:chOff x="9360" y="3462480"/>
                <a:chExt cx="9144000" cy="613080"/>
              </a:xfrm>
            </p:grpSpPr>
            <p:sp>
              <p:nvSpPr>
                <p:cNvPr id="248" name="Line 54"/>
                <p:cNvSpPr/>
                <p:nvPr/>
              </p:nvSpPr>
              <p:spPr>
                <a:xfrm>
                  <a:off x="9360" y="4075200"/>
                  <a:ext cx="91440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49" name="Line 55"/>
                <p:cNvSpPr/>
                <p:nvPr/>
              </p:nvSpPr>
              <p:spPr>
                <a:xfrm flipV="1">
                  <a:off x="9360" y="3931200"/>
                  <a:ext cx="9144000" cy="72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0" name="Line 56"/>
                <p:cNvSpPr/>
                <p:nvPr/>
              </p:nvSpPr>
              <p:spPr>
                <a:xfrm>
                  <a:off x="9360" y="3799800"/>
                  <a:ext cx="9144000" cy="432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1" name="Line 57"/>
                <p:cNvSpPr/>
                <p:nvPr/>
              </p:nvSpPr>
              <p:spPr>
                <a:xfrm>
                  <a:off x="9360" y="3695760"/>
                  <a:ext cx="910224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2" name="Line 58"/>
                <p:cNvSpPr/>
                <p:nvPr/>
              </p:nvSpPr>
              <p:spPr>
                <a:xfrm flipV="1">
                  <a:off x="9360" y="3606480"/>
                  <a:ext cx="9144000" cy="504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3" name="Line 59"/>
                <p:cNvSpPr/>
                <p:nvPr/>
              </p:nvSpPr>
              <p:spPr>
                <a:xfrm>
                  <a:off x="9360" y="3548160"/>
                  <a:ext cx="9144000" cy="360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4" name="Line 60"/>
                <p:cNvSpPr/>
                <p:nvPr/>
              </p:nvSpPr>
              <p:spPr>
                <a:xfrm flipV="1">
                  <a:off x="9360" y="3516480"/>
                  <a:ext cx="9144000" cy="828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5" name="Line 61"/>
                <p:cNvSpPr/>
                <p:nvPr/>
              </p:nvSpPr>
              <p:spPr>
                <a:xfrm>
                  <a:off x="49320" y="3480840"/>
                  <a:ext cx="910404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6" name="Line 62"/>
                <p:cNvSpPr/>
                <p:nvPr/>
              </p:nvSpPr>
              <p:spPr>
                <a:xfrm>
                  <a:off x="9360" y="3462480"/>
                  <a:ext cx="91440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</p:grpSp>
        </p:grpSp>
      </p:grpSp>
      <p:sp>
        <p:nvSpPr>
          <p:cNvPr id="257" name="Oval 63"/>
          <p:cNvSpPr/>
          <p:nvPr/>
        </p:nvSpPr>
        <p:spPr>
          <a:xfrm>
            <a:off x="3193200" y="4365360"/>
            <a:ext cx="2746440" cy="47808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258" name="组合 273"/>
          <p:cNvGrpSpPr/>
          <p:nvPr/>
        </p:nvGrpSpPr>
        <p:grpSpPr>
          <a:xfrm>
            <a:off x="792360" y="381960"/>
            <a:ext cx="4873680" cy="455400"/>
            <a:chOff x="792360" y="381960"/>
            <a:chExt cx="4873680" cy="455400"/>
          </a:xfrm>
        </p:grpSpPr>
        <p:sp>
          <p:nvSpPr>
            <p:cNvPr id="259" name="矩形 274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260" name="矩形 275"/>
            <p:cNvSpPr/>
            <p:nvPr/>
          </p:nvSpPr>
          <p:spPr>
            <a:xfrm>
              <a:off x="971640" y="381960"/>
              <a:ext cx="469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业务范围覆盖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椭圆 159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2" name="椭圆 160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3" name="椭圆 161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4" name="椭圆 162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5" name="椭圆 163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6" name="椭圆 164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7" name="椭圆 165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8" name="椭圆 166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9" name="椭圆 167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0" name="椭圆 168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1" name="椭圆 169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2" name="椭圆 170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3" name="椭圆 171"/>
          <p:cNvSpPr/>
          <p:nvPr/>
        </p:nvSpPr>
        <p:spPr>
          <a:xfrm>
            <a:off x="3363120" y="26010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4" name="椭圆 172"/>
          <p:cNvSpPr/>
          <p:nvPr/>
        </p:nvSpPr>
        <p:spPr>
          <a:xfrm>
            <a:off x="3363120" y="26010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5" name="椭圆 173"/>
          <p:cNvSpPr/>
          <p:nvPr/>
        </p:nvSpPr>
        <p:spPr>
          <a:xfrm>
            <a:off x="3363120" y="26010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6" name="椭圆 174"/>
          <p:cNvSpPr/>
          <p:nvPr/>
        </p:nvSpPr>
        <p:spPr>
          <a:xfrm>
            <a:off x="3363120" y="26010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7" name="椭圆 175"/>
          <p:cNvSpPr/>
          <p:nvPr/>
        </p:nvSpPr>
        <p:spPr>
          <a:xfrm>
            <a:off x="3363120" y="26010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8" name="椭圆 176"/>
          <p:cNvSpPr/>
          <p:nvPr/>
        </p:nvSpPr>
        <p:spPr>
          <a:xfrm>
            <a:off x="3355560" y="2603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9" name="椭圆 177"/>
          <p:cNvSpPr/>
          <p:nvPr/>
        </p:nvSpPr>
        <p:spPr>
          <a:xfrm>
            <a:off x="5657760" y="26118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0" name="椭圆 178"/>
          <p:cNvSpPr/>
          <p:nvPr/>
        </p:nvSpPr>
        <p:spPr>
          <a:xfrm>
            <a:off x="5661000" y="25956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1" name="椭圆 179"/>
          <p:cNvSpPr/>
          <p:nvPr/>
        </p:nvSpPr>
        <p:spPr>
          <a:xfrm>
            <a:off x="5661000" y="2590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2" name="椭圆 180"/>
          <p:cNvSpPr/>
          <p:nvPr/>
        </p:nvSpPr>
        <p:spPr>
          <a:xfrm>
            <a:off x="5309640" y="18727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3" name="椭圆 181"/>
          <p:cNvSpPr/>
          <p:nvPr/>
        </p:nvSpPr>
        <p:spPr>
          <a:xfrm>
            <a:off x="5312520" y="18561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4" name="椭圆 182"/>
          <p:cNvSpPr/>
          <p:nvPr/>
        </p:nvSpPr>
        <p:spPr>
          <a:xfrm>
            <a:off x="5312520" y="185184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5" name="椭圆 183"/>
          <p:cNvSpPr/>
          <p:nvPr/>
        </p:nvSpPr>
        <p:spPr>
          <a:xfrm>
            <a:off x="5309640" y="1862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6" name="椭圆 184"/>
          <p:cNvSpPr/>
          <p:nvPr/>
        </p:nvSpPr>
        <p:spPr>
          <a:xfrm>
            <a:off x="5309640" y="18684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7" name="椭圆 185"/>
          <p:cNvSpPr/>
          <p:nvPr/>
        </p:nvSpPr>
        <p:spPr>
          <a:xfrm>
            <a:off x="4109760" y="38656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8" name="椭圆 186"/>
          <p:cNvSpPr/>
          <p:nvPr/>
        </p:nvSpPr>
        <p:spPr>
          <a:xfrm>
            <a:off x="4122720" y="3881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9" name="椭圆 187"/>
          <p:cNvSpPr/>
          <p:nvPr/>
        </p:nvSpPr>
        <p:spPr>
          <a:xfrm>
            <a:off x="4119480" y="38811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0" name="椭圆 188"/>
          <p:cNvSpPr/>
          <p:nvPr/>
        </p:nvSpPr>
        <p:spPr>
          <a:xfrm>
            <a:off x="4122720" y="388764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1" name="椭圆 189"/>
          <p:cNvSpPr/>
          <p:nvPr/>
        </p:nvSpPr>
        <p:spPr>
          <a:xfrm>
            <a:off x="4119480" y="388764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2" name="椭圆 190"/>
          <p:cNvSpPr/>
          <p:nvPr/>
        </p:nvSpPr>
        <p:spPr>
          <a:xfrm>
            <a:off x="4119480" y="38811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3" name="椭圆 191"/>
          <p:cNvSpPr/>
          <p:nvPr/>
        </p:nvSpPr>
        <p:spPr>
          <a:xfrm>
            <a:off x="4122360" y="3881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4" name="椭圆 192"/>
          <p:cNvSpPr/>
          <p:nvPr/>
        </p:nvSpPr>
        <p:spPr>
          <a:xfrm>
            <a:off x="4902480" y="38746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5" name="椭圆 193"/>
          <p:cNvSpPr/>
          <p:nvPr/>
        </p:nvSpPr>
        <p:spPr>
          <a:xfrm>
            <a:off x="4915440" y="3890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6" name="椭圆 194"/>
          <p:cNvSpPr/>
          <p:nvPr/>
        </p:nvSpPr>
        <p:spPr>
          <a:xfrm>
            <a:off x="4912200" y="3890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7" name="椭圆 195"/>
          <p:cNvSpPr/>
          <p:nvPr/>
        </p:nvSpPr>
        <p:spPr>
          <a:xfrm>
            <a:off x="4915440" y="389664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8" name="椭圆 196"/>
          <p:cNvSpPr/>
          <p:nvPr/>
        </p:nvSpPr>
        <p:spPr>
          <a:xfrm>
            <a:off x="4912200" y="389664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9" name="椭圆 197"/>
          <p:cNvSpPr/>
          <p:nvPr/>
        </p:nvSpPr>
        <p:spPr>
          <a:xfrm>
            <a:off x="4912200" y="3890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0" name="椭圆 199"/>
          <p:cNvSpPr/>
          <p:nvPr/>
        </p:nvSpPr>
        <p:spPr>
          <a:xfrm>
            <a:off x="4908960" y="38746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1" name="椭圆 200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2" name="椭圆 201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3" name="椭圆 202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4" name="椭圆 203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5" name="椭圆 204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6" name="椭圆 205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7" name="椭圆 206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8" name="椭圆 207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9" name="椭圆 208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0" name="椭圆 209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1" name="椭圆 210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2" name="椭圆 211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313" name="Picture 2" descr="C:\Users\zhanghuili\Desktop\未标题-1副本.png"/>
          <p:cNvPicPr/>
          <p:nvPr/>
        </p:nvPicPr>
        <p:blipFill>
          <a:blip r:embed="rId1"/>
          <a:stretch/>
        </p:blipFill>
        <p:spPr>
          <a:xfrm>
            <a:off x="3488040" y="1740600"/>
            <a:ext cx="2156040" cy="2168640"/>
          </a:xfrm>
          <a:prstGeom prst="rect">
            <a:avLst/>
          </a:prstGeom>
          <a:ln w="0">
            <a:noFill/>
          </a:ln>
        </p:spPr>
      </p:pic>
      <p:grpSp>
        <p:nvGrpSpPr>
          <p:cNvPr id="314" name="组合 1"/>
          <p:cNvGrpSpPr/>
          <p:nvPr/>
        </p:nvGrpSpPr>
        <p:grpSpPr>
          <a:xfrm>
            <a:off x="2447640" y="1347480"/>
            <a:ext cx="4132440" cy="2893680"/>
            <a:chOff x="2447640" y="1347480"/>
            <a:chExt cx="4132440" cy="2893680"/>
          </a:xfrm>
        </p:grpSpPr>
        <p:sp>
          <p:nvSpPr>
            <p:cNvPr id="315" name="矩形 350"/>
            <p:cNvSpPr/>
            <p:nvPr/>
          </p:nvSpPr>
          <p:spPr>
            <a:xfrm>
              <a:off x="4189680" y="1347480"/>
              <a:ext cx="8640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矩形 351"/>
            <p:cNvSpPr/>
            <p:nvPr/>
          </p:nvSpPr>
          <p:spPr>
            <a:xfrm>
              <a:off x="2752920" y="174096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矩形 352"/>
            <p:cNvSpPr/>
            <p:nvPr/>
          </p:nvSpPr>
          <p:spPr>
            <a:xfrm>
              <a:off x="5433840" y="174888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矩形 353"/>
            <p:cNvSpPr/>
            <p:nvPr/>
          </p:nvSpPr>
          <p:spPr>
            <a:xfrm>
              <a:off x="2447640" y="251136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 354"/>
            <p:cNvSpPr/>
            <p:nvPr/>
          </p:nvSpPr>
          <p:spPr>
            <a:xfrm>
              <a:off x="5813640" y="251136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355"/>
            <p:cNvSpPr/>
            <p:nvPr/>
          </p:nvSpPr>
          <p:spPr>
            <a:xfrm>
              <a:off x="2507400" y="323784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356"/>
            <p:cNvSpPr/>
            <p:nvPr/>
          </p:nvSpPr>
          <p:spPr>
            <a:xfrm>
              <a:off x="5745240" y="325764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357"/>
            <p:cNvSpPr/>
            <p:nvPr/>
          </p:nvSpPr>
          <p:spPr>
            <a:xfrm>
              <a:off x="3430080" y="396900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358"/>
            <p:cNvSpPr/>
            <p:nvPr/>
          </p:nvSpPr>
          <p:spPr>
            <a:xfrm>
              <a:off x="4757040" y="3969000"/>
              <a:ext cx="1022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椭圆 359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5" name="椭圆 360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6" name="椭圆 361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7" name="椭圆 362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8" name="椭圆 363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9" name="椭圆 364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0" name="椭圆 365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1" name="椭圆 366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2" name="椭圆 367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3" name="椭圆 368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4" name="椭圆 369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5" name="椭圆 370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6" name="椭圆 371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7" name="椭圆 372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8" name="椭圆 373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9" name="椭圆 374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40" name="椭圆 375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41" name="椭圆 376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342" name="Picture 4" descr="C:\Users\zhanghuili\Desktop\图片1.png"/>
          <p:cNvPicPr/>
          <p:nvPr/>
        </p:nvPicPr>
        <p:blipFill>
          <a:blip r:embed="rId2"/>
          <a:stretch/>
        </p:blipFill>
        <p:spPr>
          <a:xfrm>
            <a:off x="3405600" y="199872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C:\Users\zhanghuili\Desktop\图片1.png"/>
          <p:cNvPicPr/>
          <p:nvPr/>
        </p:nvPicPr>
        <p:blipFill>
          <a:blip r:embed="rId3"/>
          <a:stretch/>
        </p:blipFill>
        <p:spPr>
          <a:xfrm rot="2278200">
            <a:off x="4018680" y="150948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C:\Users\zhanghuili\Desktop\图片1.png"/>
          <p:cNvPicPr/>
          <p:nvPr/>
        </p:nvPicPr>
        <p:blipFill>
          <a:blip r:embed="rId4"/>
          <a:stretch/>
        </p:blipFill>
        <p:spPr>
          <a:xfrm rot="4611600">
            <a:off x="4791960" y="150948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C:\Users\zhanghuili\Desktop\图片1.png"/>
          <p:cNvPicPr/>
          <p:nvPr/>
        </p:nvPicPr>
        <p:blipFill>
          <a:blip r:embed="rId5"/>
          <a:stretch/>
        </p:blipFill>
        <p:spPr>
          <a:xfrm rot="7092600">
            <a:off x="5411880" y="203616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C:\Users\zhanghuili\Desktop\图片1.png"/>
          <p:cNvPicPr/>
          <p:nvPr/>
        </p:nvPicPr>
        <p:blipFill>
          <a:blip r:embed="rId6"/>
          <a:stretch/>
        </p:blipFill>
        <p:spPr>
          <a:xfrm rot="9364200">
            <a:off x="5521320" y="281016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C:\Users\zhanghuili\Desktop\图片1.png"/>
          <p:cNvPicPr/>
          <p:nvPr/>
        </p:nvPicPr>
        <p:blipFill>
          <a:blip r:embed="rId7"/>
          <a:stretch/>
        </p:blipFill>
        <p:spPr>
          <a:xfrm rot="11626200">
            <a:off x="5157720" y="345852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C:\Users\zhanghuili\Desktop\图片1.png"/>
          <p:cNvPicPr/>
          <p:nvPr/>
        </p:nvPicPr>
        <p:blipFill>
          <a:blip r:embed="rId8"/>
          <a:stretch/>
        </p:blipFill>
        <p:spPr>
          <a:xfrm rot="14252400">
            <a:off x="4360680" y="372312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C:\Users\zhanghuili\Desktop\图片1.png"/>
          <p:cNvPicPr/>
          <p:nvPr/>
        </p:nvPicPr>
        <p:blipFill>
          <a:blip r:embed="rId9"/>
          <a:stretch/>
        </p:blipFill>
        <p:spPr>
          <a:xfrm rot="16731000">
            <a:off x="3632760" y="345420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C:\Users\zhanghuili\Desktop\图片1.png"/>
          <p:cNvPicPr/>
          <p:nvPr/>
        </p:nvPicPr>
        <p:blipFill>
          <a:blip r:embed="rId10"/>
          <a:stretch/>
        </p:blipFill>
        <p:spPr>
          <a:xfrm rot="18954600">
            <a:off x="3248280" y="2781360"/>
            <a:ext cx="347040" cy="501840"/>
          </a:xfrm>
          <a:prstGeom prst="rect">
            <a:avLst/>
          </a:prstGeom>
          <a:ln w="0">
            <a:noFill/>
          </a:ln>
        </p:spPr>
      </p:pic>
      <p:sp>
        <p:nvSpPr>
          <p:cNvPr id="351" name="椭圆 386"/>
          <p:cNvSpPr/>
          <p:nvPr/>
        </p:nvSpPr>
        <p:spPr>
          <a:xfrm>
            <a:off x="5663880" y="26276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2" name="椭圆 387"/>
          <p:cNvSpPr/>
          <p:nvPr/>
        </p:nvSpPr>
        <p:spPr>
          <a:xfrm>
            <a:off x="5666400" y="26146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3" name="椭圆 388"/>
          <p:cNvSpPr/>
          <p:nvPr/>
        </p:nvSpPr>
        <p:spPr>
          <a:xfrm>
            <a:off x="56664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4" name="椭圆 389"/>
          <p:cNvSpPr/>
          <p:nvPr/>
        </p:nvSpPr>
        <p:spPr>
          <a:xfrm>
            <a:off x="5295960" y="18817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5" name="椭圆 390"/>
          <p:cNvSpPr/>
          <p:nvPr/>
        </p:nvSpPr>
        <p:spPr>
          <a:xfrm>
            <a:off x="5298480" y="18687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6" name="椭圆 391"/>
          <p:cNvSpPr/>
          <p:nvPr/>
        </p:nvSpPr>
        <p:spPr>
          <a:xfrm>
            <a:off x="5298480" y="18651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7" name="椭圆 392"/>
          <p:cNvSpPr/>
          <p:nvPr/>
        </p:nvSpPr>
        <p:spPr>
          <a:xfrm>
            <a:off x="5295960" y="1873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8" name="椭圆 393"/>
          <p:cNvSpPr/>
          <p:nvPr/>
        </p:nvSpPr>
        <p:spPr>
          <a:xfrm>
            <a:off x="5295960" y="1878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9" name="椭圆 394"/>
          <p:cNvSpPr/>
          <p:nvPr/>
        </p:nvSpPr>
        <p:spPr>
          <a:xfrm>
            <a:off x="4127400" y="38761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0" name="椭圆 395"/>
          <p:cNvSpPr/>
          <p:nvPr/>
        </p:nvSpPr>
        <p:spPr>
          <a:xfrm>
            <a:off x="4137840" y="38887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1" name="椭圆 396"/>
          <p:cNvSpPr/>
          <p:nvPr/>
        </p:nvSpPr>
        <p:spPr>
          <a:xfrm>
            <a:off x="4135320" y="38887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2" name="椭圆 397"/>
          <p:cNvSpPr/>
          <p:nvPr/>
        </p:nvSpPr>
        <p:spPr>
          <a:xfrm>
            <a:off x="4137840" y="38937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3" name="椭圆 398"/>
          <p:cNvSpPr/>
          <p:nvPr/>
        </p:nvSpPr>
        <p:spPr>
          <a:xfrm>
            <a:off x="4135320" y="38937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4" name="椭圆 399"/>
          <p:cNvSpPr/>
          <p:nvPr/>
        </p:nvSpPr>
        <p:spPr>
          <a:xfrm>
            <a:off x="4135320" y="38887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5" name="椭圆 400"/>
          <p:cNvSpPr/>
          <p:nvPr/>
        </p:nvSpPr>
        <p:spPr>
          <a:xfrm>
            <a:off x="4132800" y="38761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6" name="椭圆 401"/>
          <p:cNvSpPr/>
          <p:nvPr/>
        </p:nvSpPr>
        <p:spPr>
          <a:xfrm>
            <a:off x="4897440" y="38732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7" name="椭圆 402"/>
          <p:cNvSpPr/>
          <p:nvPr/>
        </p:nvSpPr>
        <p:spPr>
          <a:xfrm>
            <a:off x="4907880" y="38858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8" name="椭圆 403"/>
          <p:cNvSpPr/>
          <p:nvPr/>
        </p:nvSpPr>
        <p:spPr>
          <a:xfrm>
            <a:off x="4905360" y="388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9" name="椭圆 404"/>
          <p:cNvSpPr/>
          <p:nvPr/>
        </p:nvSpPr>
        <p:spPr>
          <a:xfrm>
            <a:off x="4907880" y="38905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0" name="椭圆 405"/>
          <p:cNvSpPr/>
          <p:nvPr/>
        </p:nvSpPr>
        <p:spPr>
          <a:xfrm>
            <a:off x="4905360" y="38905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1" name="椭圆 406"/>
          <p:cNvSpPr/>
          <p:nvPr/>
        </p:nvSpPr>
        <p:spPr>
          <a:xfrm>
            <a:off x="4905360" y="388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2" name="椭圆 407"/>
          <p:cNvSpPr/>
          <p:nvPr/>
        </p:nvSpPr>
        <p:spPr>
          <a:xfrm>
            <a:off x="4902840" y="38732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3" name="椭圆 408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4" name="椭圆 409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5" name="椭圆 410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6" name="椭圆 411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7" name="椭圆 412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8" name="椭圆 413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9" name="椭圆 414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0" name="椭圆 415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1" name="椭圆 416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2" name="椭圆 417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3" name="椭圆 418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4" name="椭圆 419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5" name="椭圆 420"/>
          <p:cNvSpPr/>
          <p:nvPr/>
        </p:nvSpPr>
        <p:spPr>
          <a:xfrm>
            <a:off x="4514400" y="162252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6" name="椭圆 421"/>
          <p:cNvSpPr/>
          <p:nvPr/>
        </p:nvSpPr>
        <p:spPr>
          <a:xfrm>
            <a:off x="5283360" y="185688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7" name="椭圆 422"/>
          <p:cNvSpPr/>
          <p:nvPr/>
        </p:nvSpPr>
        <p:spPr>
          <a:xfrm>
            <a:off x="3757680" y="185292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8" name="椭圆 423"/>
          <p:cNvSpPr/>
          <p:nvPr/>
        </p:nvSpPr>
        <p:spPr>
          <a:xfrm>
            <a:off x="3371760" y="259416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9" name="椭圆 424"/>
          <p:cNvSpPr/>
          <p:nvPr/>
        </p:nvSpPr>
        <p:spPr>
          <a:xfrm>
            <a:off x="5640480" y="259416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90" name="椭圆 425"/>
          <p:cNvSpPr/>
          <p:nvPr/>
        </p:nvSpPr>
        <p:spPr>
          <a:xfrm>
            <a:off x="5521680" y="333720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91" name="椭圆 426"/>
          <p:cNvSpPr/>
          <p:nvPr/>
        </p:nvSpPr>
        <p:spPr>
          <a:xfrm>
            <a:off x="3486240" y="333720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92" name="椭圆 427"/>
          <p:cNvSpPr/>
          <p:nvPr/>
        </p:nvSpPr>
        <p:spPr>
          <a:xfrm>
            <a:off x="4880520" y="386532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93" name="椭圆 428"/>
          <p:cNvSpPr/>
          <p:nvPr/>
        </p:nvSpPr>
        <p:spPr>
          <a:xfrm>
            <a:off x="4113360" y="385740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6"/>
          <p:cNvGrpSpPr/>
          <p:nvPr/>
        </p:nvGrpSpPr>
        <p:grpSpPr>
          <a:xfrm>
            <a:off x="1785240" y="1271880"/>
            <a:ext cx="1988280" cy="740160"/>
            <a:chOff x="1785240" y="1271880"/>
            <a:chExt cx="1988280" cy="740160"/>
          </a:xfrm>
        </p:grpSpPr>
        <p:cxnSp>
          <p:nvCxnSpPr>
            <p:cNvPr id="395" name="直接连接符 45"/>
            <p:cNvCxnSpPr/>
            <p:nvPr/>
          </p:nvCxnSpPr>
          <p:spPr>
            <a:xfrm flipH="1" flipV="1">
              <a:off x="3450600" y="1638000"/>
              <a:ext cx="323280" cy="37440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cxnSp>
          <p:nvCxnSpPr>
            <p:cNvPr id="396" name="直接连接符 46"/>
            <p:cNvCxnSpPr/>
            <p:nvPr/>
          </p:nvCxnSpPr>
          <p:spPr>
            <a:xfrm>
              <a:off x="1810080" y="1632240"/>
              <a:ext cx="1638000" cy="36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sp>
          <p:nvSpPr>
            <p:cNvPr id="397" name="矩形 41"/>
            <p:cNvSpPr/>
            <p:nvPr/>
          </p:nvSpPr>
          <p:spPr>
            <a:xfrm>
              <a:off x="1785240" y="1271880"/>
              <a:ext cx="10033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  <a:spcAft>
                  <a:spcPts val="60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组合 30"/>
          <p:cNvGrpSpPr/>
          <p:nvPr/>
        </p:nvGrpSpPr>
        <p:grpSpPr>
          <a:xfrm>
            <a:off x="3666960" y="1638720"/>
            <a:ext cx="1846800" cy="1752840"/>
            <a:chOff x="3666960" y="1638720"/>
            <a:chExt cx="1846800" cy="1752840"/>
          </a:xfrm>
        </p:grpSpPr>
        <p:sp>
          <p:nvSpPr>
            <p:cNvPr id="399" name="任意多边形 31"/>
            <p:cNvSpPr/>
            <p:nvPr/>
          </p:nvSpPr>
          <p:spPr>
            <a:xfrm>
              <a:off x="3666960" y="1638720"/>
              <a:ext cx="1453680" cy="876240"/>
            </a:xfrm>
            <a:custGeom>
              <a:avLst/>
              <a:gdLst>
                <a:gd name="textAreaLeft" fmla="*/ 0 w 1453680"/>
                <a:gd name="textAreaRight" fmla="*/ 1454040 w 145368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079500" h="685800">
                  <a:moveTo>
                    <a:pt x="539750" y="0"/>
                  </a:moveTo>
                  <a:cubicBezTo>
                    <a:pt x="577012" y="0"/>
                    <a:pt x="613392" y="3776"/>
                    <a:pt x="648529" y="10966"/>
                  </a:cubicBezTo>
                  <a:lnTo>
                    <a:pt x="685800" y="22536"/>
                  </a:lnTo>
                  <a:lnTo>
                    <a:pt x="680818" y="24083"/>
                  </a:lnTo>
                  <a:lnTo>
                    <a:pt x="680820" y="24083"/>
                  </a:lnTo>
                  <a:lnTo>
                    <a:pt x="685801" y="22537"/>
                  </a:lnTo>
                  <a:lnTo>
                    <a:pt x="749846" y="42417"/>
                  </a:lnTo>
                  <a:cubicBezTo>
                    <a:pt x="878996" y="97043"/>
                    <a:pt x="982459" y="200506"/>
                    <a:pt x="1037085" y="329656"/>
                  </a:cubicBezTo>
                  <a:lnTo>
                    <a:pt x="1038237" y="333366"/>
                  </a:lnTo>
                  <a:lnTo>
                    <a:pt x="1038236" y="333366"/>
                  </a:lnTo>
                  <a:lnTo>
                    <a:pt x="1068534" y="430971"/>
                  </a:lnTo>
                  <a:cubicBezTo>
                    <a:pt x="1075724" y="466108"/>
                    <a:pt x="1079500" y="502488"/>
                    <a:pt x="1079500" y="539750"/>
                  </a:cubicBezTo>
                  <a:cubicBezTo>
                    <a:pt x="1079500" y="577012"/>
                    <a:pt x="1075724" y="613392"/>
                    <a:pt x="1068534" y="648529"/>
                  </a:cubicBezTo>
                  <a:lnTo>
                    <a:pt x="1056965" y="685800"/>
                  </a:lnTo>
                  <a:lnTo>
                    <a:pt x="1037084" y="621755"/>
                  </a:lnTo>
                  <a:cubicBezTo>
                    <a:pt x="982458" y="492605"/>
                    <a:pt x="878995" y="389142"/>
                    <a:pt x="749845" y="334516"/>
                  </a:cubicBezTo>
                  <a:lnTo>
                    <a:pt x="685802" y="314637"/>
                  </a:lnTo>
                  <a:lnTo>
                    <a:pt x="685801" y="314637"/>
                  </a:lnTo>
                  <a:lnTo>
                    <a:pt x="648530" y="303067"/>
                  </a:lnTo>
                  <a:cubicBezTo>
                    <a:pt x="613393" y="295877"/>
                    <a:pt x="577013" y="292101"/>
                    <a:pt x="539751" y="292101"/>
                  </a:cubicBezTo>
                  <a:cubicBezTo>
                    <a:pt x="502489" y="292101"/>
                    <a:pt x="466109" y="295877"/>
                    <a:pt x="430972" y="303067"/>
                  </a:cubicBezTo>
                  <a:lnTo>
                    <a:pt x="333366" y="333366"/>
                  </a:lnTo>
                  <a:lnTo>
                    <a:pt x="334517" y="329656"/>
                  </a:lnTo>
                  <a:lnTo>
                    <a:pt x="334516" y="329655"/>
                  </a:lnTo>
                  <a:lnTo>
                    <a:pt x="333365" y="333365"/>
                  </a:lnTo>
                  <a:lnTo>
                    <a:pt x="329655" y="334516"/>
                  </a:lnTo>
                  <a:cubicBezTo>
                    <a:pt x="200505" y="389142"/>
                    <a:pt x="97042" y="492605"/>
                    <a:pt x="42416" y="621755"/>
                  </a:cubicBezTo>
                  <a:lnTo>
                    <a:pt x="22536" y="685800"/>
                  </a:lnTo>
                  <a:lnTo>
                    <a:pt x="10966" y="648529"/>
                  </a:lnTo>
                  <a:cubicBezTo>
                    <a:pt x="3776" y="613392"/>
                    <a:pt x="0" y="577012"/>
                    <a:pt x="0" y="539750"/>
                  </a:cubicBezTo>
                  <a:cubicBezTo>
                    <a:pt x="0" y="241654"/>
                    <a:pt x="241654" y="0"/>
                    <a:pt x="539750" y="0"/>
                  </a:cubicBezTo>
                  <a:close/>
                </a:path>
              </a:pathLst>
            </a:cu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0" name="任意多边形 32"/>
            <p:cNvSpPr/>
            <p:nvPr/>
          </p:nvSpPr>
          <p:spPr>
            <a:xfrm>
              <a:off x="4590360" y="1638720"/>
              <a:ext cx="923040" cy="137988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685800" h="1079500">
                  <a:moveTo>
                    <a:pt x="146050" y="0"/>
                  </a:moveTo>
                  <a:cubicBezTo>
                    <a:pt x="444146" y="0"/>
                    <a:pt x="685800" y="241654"/>
                    <a:pt x="685800" y="539750"/>
                  </a:cubicBezTo>
                  <a:cubicBezTo>
                    <a:pt x="685800" y="577012"/>
                    <a:pt x="682024" y="613392"/>
                    <a:pt x="674834" y="648529"/>
                  </a:cubicBezTo>
                  <a:lnTo>
                    <a:pt x="663265" y="685799"/>
                  </a:lnTo>
                  <a:cubicBezTo>
                    <a:pt x="663265" y="685800"/>
                    <a:pt x="663266" y="685800"/>
                    <a:pt x="663266" y="685801"/>
                  </a:cubicBezTo>
                  <a:lnTo>
                    <a:pt x="643385" y="749846"/>
                  </a:lnTo>
                  <a:cubicBezTo>
                    <a:pt x="588759" y="878996"/>
                    <a:pt x="485296" y="982459"/>
                    <a:pt x="356146" y="1037085"/>
                  </a:cubicBezTo>
                  <a:lnTo>
                    <a:pt x="352437" y="1038237"/>
                  </a:lnTo>
                  <a:lnTo>
                    <a:pt x="359518" y="1015427"/>
                  </a:lnTo>
                  <a:cubicBezTo>
                    <a:pt x="359517" y="1015427"/>
                    <a:pt x="359517" y="1015428"/>
                    <a:pt x="359516" y="1015428"/>
                  </a:cubicBezTo>
                  <a:lnTo>
                    <a:pt x="352436" y="1038236"/>
                  </a:lnTo>
                  <a:lnTo>
                    <a:pt x="254829" y="1068534"/>
                  </a:lnTo>
                  <a:cubicBezTo>
                    <a:pt x="219692" y="1075724"/>
                    <a:pt x="183312" y="1079500"/>
                    <a:pt x="146050" y="1079500"/>
                  </a:cubicBezTo>
                  <a:cubicBezTo>
                    <a:pt x="108788" y="1079500"/>
                    <a:pt x="72408" y="1075724"/>
                    <a:pt x="37271" y="1068534"/>
                  </a:cubicBezTo>
                  <a:lnTo>
                    <a:pt x="0" y="1056965"/>
                  </a:lnTo>
                  <a:lnTo>
                    <a:pt x="64045" y="1037084"/>
                  </a:lnTo>
                  <a:cubicBezTo>
                    <a:pt x="193195" y="982458"/>
                    <a:pt x="296658" y="878995"/>
                    <a:pt x="351284" y="749845"/>
                  </a:cubicBezTo>
                  <a:lnTo>
                    <a:pt x="371165" y="685800"/>
                  </a:lnTo>
                  <a:lnTo>
                    <a:pt x="371166" y="685801"/>
                  </a:lnTo>
                  <a:lnTo>
                    <a:pt x="382735" y="648530"/>
                  </a:lnTo>
                  <a:cubicBezTo>
                    <a:pt x="389925" y="613393"/>
                    <a:pt x="393701" y="577013"/>
                    <a:pt x="393701" y="539751"/>
                  </a:cubicBezTo>
                  <a:cubicBezTo>
                    <a:pt x="393701" y="502489"/>
                    <a:pt x="389925" y="466109"/>
                    <a:pt x="382735" y="430972"/>
                  </a:cubicBezTo>
                  <a:lnTo>
                    <a:pt x="352437" y="333366"/>
                  </a:lnTo>
                  <a:lnTo>
                    <a:pt x="356146" y="334517"/>
                  </a:lnTo>
                  <a:lnTo>
                    <a:pt x="361544" y="337447"/>
                  </a:lnTo>
                  <a:lnTo>
                    <a:pt x="361543" y="337446"/>
                  </a:lnTo>
                  <a:lnTo>
                    <a:pt x="356145" y="334516"/>
                  </a:lnTo>
                  <a:lnTo>
                    <a:pt x="352436" y="333365"/>
                  </a:lnTo>
                  <a:lnTo>
                    <a:pt x="351284" y="329655"/>
                  </a:lnTo>
                  <a:cubicBezTo>
                    <a:pt x="296658" y="200505"/>
                    <a:pt x="193195" y="97042"/>
                    <a:pt x="64045" y="42416"/>
                  </a:cubicBezTo>
                  <a:lnTo>
                    <a:pt x="0" y="22536"/>
                  </a:lnTo>
                  <a:lnTo>
                    <a:pt x="37271" y="10966"/>
                  </a:lnTo>
                  <a:cubicBezTo>
                    <a:pt x="72408" y="3776"/>
                    <a:pt x="108788" y="0"/>
                    <a:pt x="146050" y="0"/>
                  </a:cubicBezTo>
                  <a:close/>
                </a:path>
              </a:pathLst>
            </a:cu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1" name="任意多边形 33"/>
            <p:cNvSpPr/>
            <p:nvPr/>
          </p:nvSpPr>
          <p:spPr>
            <a:xfrm>
              <a:off x="3666960" y="2011680"/>
              <a:ext cx="923040" cy="137988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685800" h="1079500">
                  <a:moveTo>
                    <a:pt x="539750" y="0"/>
                  </a:moveTo>
                  <a:cubicBezTo>
                    <a:pt x="577012" y="0"/>
                    <a:pt x="613392" y="3776"/>
                    <a:pt x="648529" y="10966"/>
                  </a:cubicBezTo>
                  <a:lnTo>
                    <a:pt x="685800" y="22536"/>
                  </a:lnTo>
                  <a:lnTo>
                    <a:pt x="621755" y="42416"/>
                  </a:lnTo>
                  <a:cubicBezTo>
                    <a:pt x="492605" y="97042"/>
                    <a:pt x="389142" y="200505"/>
                    <a:pt x="334516" y="329655"/>
                  </a:cubicBezTo>
                  <a:lnTo>
                    <a:pt x="314636" y="393699"/>
                  </a:lnTo>
                  <a:lnTo>
                    <a:pt x="314637" y="393701"/>
                  </a:lnTo>
                  <a:lnTo>
                    <a:pt x="303067" y="430972"/>
                  </a:lnTo>
                  <a:cubicBezTo>
                    <a:pt x="295877" y="466109"/>
                    <a:pt x="292101" y="502489"/>
                    <a:pt x="292101" y="539751"/>
                  </a:cubicBezTo>
                  <a:cubicBezTo>
                    <a:pt x="292101" y="577013"/>
                    <a:pt x="295877" y="613393"/>
                    <a:pt x="303067" y="648530"/>
                  </a:cubicBezTo>
                  <a:lnTo>
                    <a:pt x="333366" y="746137"/>
                  </a:lnTo>
                  <a:lnTo>
                    <a:pt x="333365" y="746137"/>
                  </a:lnTo>
                  <a:lnTo>
                    <a:pt x="334516" y="749845"/>
                  </a:lnTo>
                  <a:cubicBezTo>
                    <a:pt x="389142" y="878995"/>
                    <a:pt x="492605" y="982458"/>
                    <a:pt x="621755" y="1037084"/>
                  </a:cubicBezTo>
                  <a:lnTo>
                    <a:pt x="685800" y="1056965"/>
                  </a:lnTo>
                  <a:lnTo>
                    <a:pt x="648529" y="1068534"/>
                  </a:lnTo>
                  <a:cubicBezTo>
                    <a:pt x="613392" y="1075724"/>
                    <a:pt x="577012" y="1079500"/>
                    <a:pt x="539750" y="1079500"/>
                  </a:cubicBezTo>
                  <a:cubicBezTo>
                    <a:pt x="241654" y="1079500"/>
                    <a:pt x="0" y="837846"/>
                    <a:pt x="0" y="539750"/>
                  </a:cubicBezTo>
                  <a:cubicBezTo>
                    <a:pt x="0" y="502488"/>
                    <a:pt x="3776" y="466108"/>
                    <a:pt x="10966" y="430971"/>
                  </a:cubicBezTo>
                  <a:lnTo>
                    <a:pt x="22536" y="393700"/>
                  </a:lnTo>
                  <a:lnTo>
                    <a:pt x="26577" y="406720"/>
                  </a:lnTo>
                  <a:lnTo>
                    <a:pt x="26578" y="406718"/>
                  </a:lnTo>
                  <a:lnTo>
                    <a:pt x="22537" y="393701"/>
                  </a:lnTo>
                  <a:lnTo>
                    <a:pt x="42417" y="329656"/>
                  </a:lnTo>
                  <a:cubicBezTo>
                    <a:pt x="97043" y="200506"/>
                    <a:pt x="200506" y="97043"/>
                    <a:pt x="329656" y="42417"/>
                  </a:cubicBezTo>
                  <a:lnTo>
                    <a:pt x="333365" y="41266"/>
                  </a:lnTo>
                  <a:lnTo>
                    <a:pt x="333365" y="41265"/>
                  </a:lnTo>
                  <a:lnTo>
                    <a:pt x="430971" y="10966"/>
                  </a:lnTo>
                  <a:cubicBezTo>
                    <a:pt x="466108" y="3776"/>
                    <a:pt x="502488" y="0"/>
                    <a:pt x="539750" y="0"/>
                  </a:cubicBezTo>
                  <a:close/>
                </a:path>
              </a:pathLst>
            </a:custGeom>
            <a:solidFill>
              <a:srgbClr val="89a2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2" name="任意多边形 34"/>
            <p:cNvSpPr/>
            <p:nvPr/>
          </p:nvSpPr>
          <p:spPr>
            <a:xfrm>
              <a:off x="4061160" y="2515320"/>
              <a:ext cx="1452600" cy="87624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079500" h="685800">
                  <a:moveTo>
                    <a:pt x="22536" y="0"/>
                  </a:moveTo>
                  <a:lnTo>
                    <a:pt x="42416" y="64045"/>
                  </a:lnTo>
                  <a:cubicBezTo>
                    <a:pt x="97042" y="193195"/>
                    <a:pt x="200505" y="296658"/>
                    <a:pt x="329655" y="351284"/>
                  </a:cubicBezTo>
                  <a:lnTo>
                    <a:pt x="393700" y="371165"/>
                  </a:lnTo>
                  <a:lnTo>
                    <a:pt x="393701" y="371166"/>
                  </a:lnTo>
                  <a:lnTo>
                    <a:pt x="430972" y="382735"/>
                  </a:lnTo>
                  <a:cubicBezTo>
                    <a:pt x="466109" y="389925"/>
                    <a:pt x="502489" y="393701"/>
                    <a:pt x="539751" y="393701"/>
                  </a:cubicBezTo>
                  <a:cubicBezTo>
                    <a:pt x="577013" y="393701"/>
                    <a:pt x="613393" y="389925"/>
                    <a:pt x="648530" y="382735"/>
                  </a:cubicBezTo>
                  <a:lnTo>
                    <a:pt x="746136" y="352438"/>
                  </a:lnTo>
                  <a:lnTo>
                    <a:pt x="746136" y="352436"/>
                  </a:lnTo>
                  <a:lnTo>
                    <a:pt x="749845" y="351284"/>
                  </a:lnTo>
                  <a:cubicBezTo>
                    <a:pt x="878995" y="296658"/>
                    <a:pt x="982458" y="193195"/>
                    <a:pt x="1037084" y="64045"/>
                  </a:cubicBezTo>
                  <a:lnTo>
                    <a:pt x="1056965" y="0"/>
                  </a:lnTo>
                  <a:lnTo>
                    <a:pt x="1068534" y="37271"/>
                  </a:lnTo>
                  <a:cubicBezTo>
                    <a:pt x="1075724" y="72408"/>
                    <a:pt x="1079500" y="108788"/>
                    <a:pt x="1079500" y="146050"/>
                  </a:cubicBezTo>
                  <a:cubicBezTo>
                    <a:pt x="1079500" y="444146"/>
                    <a:pt x="837846" y="685800"/>
                    <a:pt x="539750" y="685800"/>
                  </a:cubicBezTo>
                  <a:cubicBezTo>
                    <a:pt x="502488" y="685800"/>
                    <a:pt x="466108" y="682024"/>
                    <a:pt x="430971" y="674834"/>
                  </a:cubicBezTo>
                  <a:lnTo>
                    <a:pt x="393702" y="663266"/>
                  </a:lnTo>
                  <a:lnTo>
                    <a:pt x="393701" y="663266"/>
                  </a:lnTo>
                  <a:lnTo>
                    <a:pt x="329656" y="643385"/>
                  </a:lnTo>
                  <a:cubicBezTo>
                    <a:pt x="200506" y="588759"/>
                    <a:pt x="97043" y="485296"/>
                    <a:pt x="42417" y="356146"/>
                  </a:cubicBezTo>
                  <a:lnTo>
                    <a:pt x="41266" y="352437"/>
                  </a:lnTo>
                  <a:lnTo>
                    <a:pt x="41265" y="352436"/>
                  </a:lnTo>
                  <a:lnTo>
                    <a:pt x="10966" y="254829"/>
                  </a:lnTo>
                  <a:cubicBezTo>
                    <a:pt x="3776" y="219692"/>
                    <a:pt x="0" y="183312"/>
                    <a:pt x="0" y="146050"/>
                  </a:cubicBezTo>
                  <a:cubicBezTo>
                    <a:pt x="0" y="108788"/>
                    <a:pt x="3776" y="72408"/>
                    <a:pt x="10966" y="37271"/>
                  </a:cubicBezTo>
                  <a:lnTo>
                    <a:pt x="22536" y="0"/>
                  </a:lnTo>
                  <a:close/>
                </a:path>
              </a:pathLst>
            </a:cu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3" name="新月形 35"/>
            <p:cNvSpPr/>
            <p:nvPr/>
          </p:nvSpPr>
          <p:spPr>
            <a:xfrm>
              <a:off x="3700080" y="2198160"/>
              <a:ext cx="524160" cy="994320"/>
            </a:xfrm>
            <a:prstGeom prst="moon">
              <a:avLst>
                <a:gd name="adj" fmla="val 300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4" name="新月形 36"/>
            <p:cNvSpPr/>
            <p:nvPr/>
          </p:nvSpPr>
          <p:spPr>
            <a:xfrm rot="5400000">
              <a:off x="4143600" y="1394640"/>
              <a:ext cx="496440" cy="1049040"/>
            </a:xfrm>
            <a:prstGeom prst="moon">
              <a:avLst>
                <a:gd name="adj" fmla="val 300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5" name="新月形 37"/>
            <p:cNvSpPr/>
            <p:nvPr/>
          </p:nvSpPr>
          <p:spPr>
            <a:xfrm rot="10800000">
              <a:off x="4928760" y="1823040"/>
              <a:ext cx="524160" cy="995760"/>
            </a:xfrm>
            <a:prstGeom prst="moon">
              <a:avLst>
                <a:gd name="adj" fmla="val 300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6" name="新月形 38"/>
            <p:cNvSpPr/>
            <p:nvPr/>
          </p:nvSpPr>
          <p:spPr>
            <a:xfrm rot="16200000">
              <a:off x="4561920" y="2562840"/>
              <a:ext cx="497520" cy="1047960"/>
            </a:xfrm>
            <a:prstGeom prst="moon">
              <a:avLst>
                <a:gd name="adj" fmla="val 300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407" name="组合 5"/>
          <p:cNvGrpSpPr/>
          <p:nvPr/>
        </p:nvGrpSpPr>
        <p:grpSpPr>
          <a:xfrm>
            <a:off x="5394240" y="1271880"/>
            <a:ext cx="1966320" cy="740160"/>
            <a:chOff x="5394240" y="1271880"/>
            <a:chExt cx="1966320" cy="740160"/>
          </a:xfrm>
        </p:grpSpPr>
        <p:sp>
          <p:nvSpPr>
            <p:cNvPr id="408" name="矩形 53"/>
            <p:cNvSpPr/>
            <p:nvPr/>
          </p:nvSpPr>
          <p:spPr>
            <a:xfrm>
              <a:off x="6356880" y="1271880"/>
              <a:ext cx="10033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20000"/>
                </a:lnSpc>
                <a:spcAft>
                  <a:spcPts val="60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22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9" name="直接连接符 40"/>
            <p:cNvCxnSpPr/>
            <p:nvPr/>
          </p:nvCxnSpPr>
          <p:spPr>
            <a:xfrm flipV="1">
              <a:off x="5394240" y="1638000"/>
              <a:ext cx="332280" cy="37440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cxnSp>
          <p:nvCxnSpPr>
            <p:cNvPr id="410" name="直接连接符 39"/>
            <p:cNvCxnSpPr/>
            <p:nvPr/>
          </p:nvCxnSpPr>
          <p:spPr>
            <a:xfrm>
              <a:off x="5723280" y="1638000"/>
              <a:ext cx="1637640" cy="72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</p:grpSp>
      <p:grpSp>
        <p:nvGrpSpPr>
          <p:cNvPr id="411" name="组合 3"/>
          <p:cNvGrpSpPr/>
          <p:nvPr/>
        </p:nvGrpSpPr>
        <p:grpSpPr>
          <a:xfrm>
            <a:off x="5347800" y="3105000"/>
            <a:ext cx="2076480" cy="756000"/>
            <a:chOff x="5347800" y="3105000"/>
            <a:chExt cx="2076480" cy="756000"/>
          </a:xfrm>
        </p:grpSpPr>
        <p:cxnSp>
          <p:nvCxnSpPr>
            <p:cNvPr id="412" name="直接连接符 42"/>
            <p:cNvCxnSpPr/>
            <p:nvPr/>
          </p:nvCxnSpPr>
          <p:spPr>
            <a:xfrm>
              <a:off x="5347800" y="3105000"/>
              <a:ext cx="332280" cy="37440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cxnSp>
          <p:nvCxnSpPr>
            <p:cNvPr id="413" name="直接连接符 43"/>
            <p:cNvCxnSpPr/>
            <p:nvPr/>
          </p:nvCxnSpPr>
          <p:spPr>
            <a:xfrm>
              <a:off x="5676840" y="3479040"/>
              <a:ext cx="1637640" cy="108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sp>
          <p:nvSpPr>
            <p:cNvPr id="414" name="矩形 51"/>
            <p:cNvSpPr/>
            <p:nvPr/>
          </p:nvSpPr>
          <p:spPr>
            <a:xfrm>
              <a:off x="6420960" y="3479400"/>
              <a:ext cx="10033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20000"/>
                </a:lnSpc>
                <a:spcAft>
                  <a:spcPts val="60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33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4"/>
          <p:cNvGrpSpPr/>
          <p:nvPr/>
        </p:nvGrpSpPr>
        <p:grpSpPr>
          <a:xfrm>
            <a:off x="1727640" y="3101040"/>
            <a:ext cx="2068560" cy="759960"/>
            <a:chOff x="1727640" y="3101040"/>
            <a:chExt cx="2068560" cy="759960"/>
          </a:xfrm>
        </p:grpSpPr>
        <p:cxnSp>
          <p:nvCxnSpPr>
            <p:cNvPr id="416" name="直接连接符 48"/>
            <p:cNvCxnSpPr/>
            <p:nvPr/>
          </p:nvCxnSpPr>
          <p:spPr>
            <a:xfrm flipH="1">
              <a:off x="3473280" y="3101040"/>
              <a:ext cx="323280" cy="37440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cxnSp>
          <p:nvCxnSpPr>
            <p:cNvPr id="417" name="直接连接符 49"/>
            <p:cNvCxnSpPr/>
            <p:nvPr/>
          </p:nvCxnSpPr>
          <p:spPr>
            <a:xfrm>
              <a:off x="1823400" y="3475080"/>
              <a:ext cx="1638000" cy="144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sp>
          <p:nvSpPr>
            <p:cNvPr id="418" name="矩形 52"/>
            <p:cNvSpPr/>
            <p:nvPr/>
          </p:nvSpPr>
          <p:spPr>
            <a:xfrm>
              <a:off x="1727640" y="3479400"/>
              <a:ext cx="10033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  <a:spcAft>
                  <a:spcPts val="60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44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矩形 55"/>
          <p:cNvSpPr/>
          <p:nvPr/>
        </p:nvSpPr>
        <p:spPr>
          <a:xfrm>
            <a:off x="1283400" y="4011840"/>
            <a:ext cx="6576840" cy="105912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2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组合 56"/>
          <p:cNvGrpSpPr/>
          <p:nvPr/>
        </p:nvGrpSpPr>
        <p:grpSpPr>
          <a:xfrm>
            <a:off x="792360" y="381960"/>
            <a:ext cx="3347280" cy="455400"/>
            <a:chOff x="792360" y="381960"/>
            <a:chExt cx="3347280" cy="455400"/>
          </a:xfrm>
        </p:grpSpPr>
        <p:sp>
          <p:nvSpPr>
            <p:cNvPr id="421" name="矩形 57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422" name="矩形 58"/>
            <p:cNvSpPr/>
            <p:nvPr/>
          </p:nvSpPr>
          <p:spPr>
            <a:xfrm>
              <a:off x="971640" y="381960"/>
              <a:ext cx="3168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业务范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组合 1"/>
          <p:cNvGrpSpPr/>
          <p:nvPr/>
        </p:nvGrpSpPr>
        <p:grpSpPr>
          <a:xfrm>
            <a:off x="1835640" y="712440"/>
            <a:ext cx="7308000" cy="4307400"/>
            <a:chOff x="1835640" y="712440"/>
            <a:chExt cx="7308000" cy="4307400"/>
          </a:xfrm>
        </p:grpSpPr>
        <p:pic>
          <p:nvPicPr>
            <p:cNvPr id="424" name="Picture 4" descr="C:\Users\Administrator\Desktop\图片1.png"/>
            <p:cNvPicPr/>
            <p:nvPr/>
          </p:nvPicPr>
          <p:blipFill>
            <a:blip r:embed="rId1"/>
            <a:stretch/>
          </p:blipFill>
          <p:spPr>
            <a:xfrm>
              <a:off x="1835640" y="712440"/>
              <a:ext cx="4641480" cy="430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TextBox 24"/>
            <p:cNvSpPr/>
            <p:nvPr/>
          </p:nvSpPr>
          <p:spPr>
            <a:xfrm>
              <a:off x="4265640" y="103392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1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Box 25"/>
            <p:cNvSpPr/>
            <p:nvPr/>
          </p:nvSpPr>
          <p:spPr>
            <a:xfrm>
              <a:off x="4265640" y="147168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2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Box 26"/>
            <p:cNvSpPr/>
            <p:nvPr/>
          </p:nvSpPr>
          <p:spPr>
            <a:xfrm>
              <a:off x="4265640" y="185940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33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Box 27"/>
            <p:cNvSpPr/>
            <p:nvPr/>
          </p:nvSpPr>
          <p:spPr>
            <a:xfrm>
              <a:off x="4265640" y="419724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88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Box 28"/>
            <p:cNvSpPr/>
            <p:nvPr/>
          </p:nvSpPr>
          <p:spPr>
            <a:xfrm>
              <a:off x="4265640" y="278424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5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Box 29"/>
            <p:cNvSpPr/>
            <p:nvPr/>
          </p:nvSpPr>
          <p:spPr>
            <a:xfrm>
              <a:off x="4265640" y="464868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9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30"/>
            <p:cNvSpPr/>
            <p:nvPr/>
          </p:nvSpPr>
          <p:spPr>
            <a:xfrm>
              <a:off x="4265640" y="234144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4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31"/>
            <p:cNvSpPr/>
            <p:nvPr/>
          </p:nvSpPr>
          <p:spPr>
            <a:xfrm>
              <a:off x="4265640" y="334620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66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1"/>
            <p:cNvSpPr/>
            <p:nvPr/>
          </p:nvSpPr>
          <p:spPr>
            <a:xfrm>
              <a:off x="4265640" y="379332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77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7"/>
            <p:cNvSpPr/>
            <p:nvPr/>
          </p:nvSpPr>
          <p:spPr>
            <a:xfrm>
              <a:off x="6859800" y="188244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8"/>
            <p:cNvSpPr/>
            <p:nvPr/>
          </p:nvSpPr>
          <p:spPr>
            <a:xfrm>
              <a:off x="6813360" y="149616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9"/>
            <p:cNvSpPr/>
            <p:nvPr/>
          </p:nvSpPr>
          <p:spPr>
            <a:xfrm>
              <a:off x="7047000" y="423612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10"/>
            <p:cNvSpPr/>
            <p:nvPr/>
          </p:nvSpPr>
          <p:spPr>
            <a:xfrm>
              <a:off x="7047000" y="105660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Box 14"/>
            <p:cNvSpPr/>
            <p:nvPr/>
          </p:nvSpPr>
          <p:spPr>
            <a:xfrm>
              <a:off x="6338880" y="2352960"/>
              <a:ext cx="2804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Box 19"/>
            <p:cNvSpPr/>
            <p:nvPr/>
          </p:nvSpPr>
          <p:spPr>
            <a:xfrm>
              <a:off x="6881760" y="380088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22"/>
            <p:cNvSpPr/>
            <p:nvPr/>
          </p:nvSpPr>
          <p:spPr>
            <a:xfrm>
              <a:off x="6813360" y="281988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Box 22"/>
            <p:cNvSpPr/>
            <p:nvPr/>
          </p:nvSpPr>
          <p:spPr>
            <a:xfrm>
              <a:off x="6900480" y="339228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Box 19"/>
            <p:cNvSpPr/>
            <p:nvPr/>
          </p:nvSpPr>
          <p:spPr>
            <a:xfrm>
              <a:off x="6900480" y="465984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30"/>
          <p:cNvGrpSpPr/>
          <p:nvPr/>
        </p:nvGrpSpPr>
        <p:grpSpPr>
          <a:xfrm>
            <a:off x="792360" y="381960"/>
            <a:ext cx="3347280" cy="455400"/>
            <a:chOff x="792360" y="381960"/>
            <a:chExt cx="3347280" cy="455400"/>
          </a:xfrm>
        </p:grpSpPr>
        <p:sp>
          <p:nvSpPr>
            <p:cNvPr id="444" name="矩形 31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445" name="矩形 32"/>
            <p:cNvSpPr/>
            <p:nvPr/>
          </p:nvSpPr>
          <p:spPr>
            <a:xfrm>
              <a:off x="971640" y="381960"/>
              <a:ext cx="3168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的业务价值链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图片 2"/>
          <p:cNvSpPr/>
          <p:nvPr/>
        </p:nvSpPr>
        <p:spPr>
          <a:xfrm>
            <a:off x="395640" y="2199240"/>
            <a:ext cx="1439640" cy="143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471960" y="46123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组合 13"/>
          <p:cNvGrpSpPr/>
          <p:nvPr/>
        </p:nvGrpSpPr>
        <p:grpSpPr>
          <a:xfrm>
            <a:off x="2388960" y="1657800"/>
            <a:ext cx="4145040" cy="1575360"/>
            <a:chOff x="2388960" y="1657800"/>
            <a:chExt cx="4145040" cy="1575360"/>
          </a:xfrm>
        </p:grpSpPr>
        <p:sp>
          <p:nvSpPr>
            <p:cNvPr id="449" name="椭圆 14"/>
            <p:cNvSpPr/>
            <p:nvPr/>
          </p:nvSpPr>
          <p:spPr>
            <a:xfrm rot="597000">
              <a:off x="5481720" y="166500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450" name="直接连接符 17"/>
            <p:cNvCxnSpPr/>
            <p:nvPr/>
          </p:nvCxnSpPr>
          <p:spPr>
            <a:xfrm flipV="1">
              <a:off x="2523240" y="1706400"/>
              <a:ext cx="3006720" cy="103140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451" name="直接连接符 18"/>
            <p:cNvCxnSpPr/>
            <p:nvPr/>
          </p:nvCxnSpPr>
          <p:spPr>
            <a:xfrm flipH="1" flipV="1">
              <a:off x="5529600" y="1706400"/>
              <a:ext cx="171720" cy="131832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452" name="直接连接符 19"/>
            <p:cNvCxnSpPr/>
            <p:nvPr/>
          </p:nvCxnSpPr>
          <p:spPr>
            <a:xfrm flipH="1" flipV="1">
              <a:off x="5699880" y="3041280"/>
              <a:ext cx="777240" cy="14688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sp>
          <p:nvSpPr>
            <p:cNvPr id="453" name="椭圆 20"/>
            <p:cNvSpPr/>
            <p:nvPr/>
          </p:nvSpPr>
          <p:spPr>
            <a:xfrm rot="597000">
              <a:off x="5623920" y="2965320"/>
              <a:ext cx="152280" cy="15228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54" name="椭圆 21"/>
            <p:cNvSpPr/>
            <p:nvPr/>
          </p:nvSpPr>
          <p:spPr>
            <a:xfrm rot="597000">
              <a:off x="6430680" y="312984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55" name="椭圆 16"/>
            <p:cNvSpPr/>
            <p:nvPr/>
          </p:nvSpPr>
          <p:spPr>
            <a:xfrm rot="597000">
              <a:off x="2405520" y="2639520"/>
              <a:ext cx="211680" cy="211680"/>
            </a:xfrm>
            <a:prstGeom prst="ellipse">
              <a:avLst/>
            </a:prstGeom>
            <a:solidFill>
              <a:srgbClr val="fcaa0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456" name="TextBox 22"/>
          <p:cNvSpPr/>
          <p:nvPr/>
        </p:nvSpPr>
        <p:spPr>
          <a:xfrm>
            <a:off x="1979640" y="2190600"/>
            <a:ext cx="50205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企业发展历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5"/>
          <p:cNvSpPr/>
          <p:nvPr/>
        </p:nvSpPr>
        <p:spPr>
          <a:xfrm>
            <a:off x="164520" y="93960"/>
            <a:ext cx="222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PART 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发展历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23"/>
          <p:cNvSpPr/>
          <p:nvPr/>
        </p:nvSpPr>
        <p:spPr>
          <a:xfrm>
            <a:off x="0" y="122400"/>
            <a:ext cx="178920" cy="380520"/>
          </a:xfrm>
          <a:prstGeom prst="rect">
            <a:avLst/>
          </a:prstGeom>
          <a:solidFill>
            <a:srgbClr val="fcaa0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0" descr="书2.png"/>
          <p:cNvPicPr/>
          <p:nvPr/>
        </p:nvPicPr>
        <p:blipFill>
          <a:blip r:embed="rId1"/>
          <a:srcRect l="0" t="0" r="0" b="11442"/>
          <a:stretch/>
        </p:blipFill>
        <p:spPr>
          <a:xfrm>
            <a:off x="1086840" y="3871080"/>
            <a:ext cx="7042680" cy="127224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0"/>
          <p:cNvSpPr/>
          <p:nvPr/>
        </p:nvSpPr>
        <p:spPr>
          <a:xfrm flipH="1">
            <a:off x="5272920" y="843480"/>
            <a:ext cx="7383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 flipH="1">
            <a:off x="7743240" y="843480"/>
            <a:ext cx="27648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 flipH="1">
            <a:off x="520200" y="843480"/>
            <a:ext cx="73836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3" name="直连接符 44"/>
          <p:cNvCxnSpPr/>
          <p:nvPr/>
        </p:nvCxnSpPr>
        <p:spPr>
          <a:xfrm flipH="1">
            <a:off x="7525080" y="843480"/>
            <a:ext cx="1800" cy="26859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64" name="Text Box 6"/>
          <p:cNvSpPr/>
          <p:nvPr/>
        </p:nvSpPr>
        <p:spPr>
          <a:xfrm flipH="1">
            <a:off x="4593960" y="843480"/>
            <a:ext cx="55368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1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0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"/>
          <p:cNvSpPr/>
          <p:nvPr/>
        </p:nvSpPr>
        <p:spPr>
          <a:xfrm flipH="1">
            <a:off x="8266320" y="843480"/>
            <a:ext cx="55368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6" name="直连接符 40"/>
          <p:cNvCxnSpPr/>
          <p:nvPr/>
        </p:nvCxnSpPr>
        <p:spPr>
          <a:xfrm flipH="1">
            <a:off x="8100360" y="843480"/>
            <a:ext cx="1440" cy="240012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67" name="Rectangle 12"/>
          <p:cNvSpPr/>
          <p:nvPr/>
        </p:nvSpPr>
        <p:spPr>
          <a:xfrm flipH="1">
            <a:off x="6064920" y="843480"/>
            <a:ext cx="738360" cy="27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直连接符 39"/>
          <p:cNvCxnSpPr/>
          <p:nvPr/>
        </p:nvCxnSpPr>
        <p:spPr>
          <a:xfrm flipH="1">
            <a:off x="5972400" y="843480"/>
            <a:ext cx="1440" cy="27057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69" name="Rectangle 11"/>
          <p:cNvSpPr/>
          <p:nvPr/>
        </p:nvSpPr>
        <p:spPr>
          <a:xfrm flipH="1">
            <a:off x="3760560" y="843480"/>
            <a:ext cx="738360" cy="22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直连接符 42"/>
          <p:cNvCxnSpPr/>
          <p:nvPr/>
        </p:nvCxnSpPr>
        <p:spPr>
          <a:xfrm>
            <a:off x="2844720" y="843480"/>
            <a:ext cx="360" cy="181584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cxnSp>
        <p:nvCxnSpPr>
          <p:cNvPr id="471" name="直连接符 43"/>
          <p:cNvCxnSpPr/>
          <p:nvPr/>
        </p:nvCxnSpPr>
        <p:spPr>
          <a:xfrm flipH="1">
            <a:off x="3671280" y="843480"/>
            <a:ext cx="1440" cy="226908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72" name="Rectangle 13"/>
          <p:cNvSpPr/>
          <p:nvPr/>
        </p:nvSpPr>
        <p:spPr>
          <a:xfrm flipH="1">
            <a:off x="2968560" y="843480"/>
            <a:ext cx="73836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1111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4"/>
          <p:cNvSpPr/>
          <p:nvPr/>
        </p:nvSpPr>
        <p:spPr>
          <a:xfrm flipH="1">
            <a:off x="1192320" y="843480"/>
            <a:ext cx="7383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1111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2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 flipH="1">
            <a:off x="2257560" y="843480"/>
            <a:ext cx="553680" cy="24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直连接符 40"/>
          <p:cNvCxnSpPr/>
          <p:nvPr/>
        </p:nvCxnSpPr>
        <p:spPr>
          <a:xfrm flipH="1">
            <a:off x="2070000" y="843480"/>
            <a:ext cx="1800" cy="240012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cxnSp>
        <p:nvCxnSpPr>
          <p:cNvPr id="476" name="直连接符 41"/>
          <p:cNvCxnSpPr/>
          <p:nvPr/>
        </p:nvCxnSpPr>
        <p:spPr>
          <a:xfrm flipH="1">
            <a:off x="5197680" y="843480"/>
            <a:ext cx="1800" cy="18057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cxnSp>
        <p:nvCxnSpPr>
          <p:cNvPr id="477" name="直连接符 41"/>
          <p:cNvCxnSpPr/>
          <p:nvPr/>
        </p:nvCxnSpPr>
        <p:spPr>
          <a:xfrm>
            <a:off x="4429080" y="843480"/>
            <a:ext cx="360" cy="14439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cxnSp>
        <p:nvCxnSpPr>
          <p:cNvPr id="478" name="直连接符 40"/>
          <p:cNvCxnSpPr/>
          <p:nvPr/>
        </p:nvCxnSpPr>
        <p:spPr>
          <a:xfrm flipH="1">
            <a:off x="1187280" y="843480"/>
            <a:ext cx="1800" cy="240012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cxnSp>
        <p:nvCxnSpPr>
          <p:cNvPr id="479" name="直连接符 40"/>
          <p:cNvCxnSpPr/>
          <p:nvPr/>
        </p:nvCxnSpPr>
        <p:spPr>
          <a:xfrm flipH="1">
            <a:off x="394200" y="843480"/>
            <a:ext cx="1440" cy="16617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80" name="AutoShape 21"/>
          <p:cNvSpPr/>
          <p:nvPr/>
        </p:nvSpPr>
        <p:spPr>
          <a:xfrm flipH="1" rot="2700000">
            <a:off x="8261640" y="172980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1" name="AutoShape 21"/>
          <p:cNvSpPr/>
          <p:nvPr/>
        </p:nvSpPr>
        <p:spPr>
          <a:xfrm flipH="1" rot="2700000">
            <a:off x="7752600" y="345168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2" name="AutoShape 21"/>
          <p:cNvSpPr/>
          <p:nvPr/>
        </p:nvSpPr>
        <p:spPr>
          <a:xfrm flipH="1" rot="2700000">
            <a:off x="6168240" y="340236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3" name="AutoShape 21"/>
          <p:cNvSpPr/>
          <p:nvPr/>
        </p:nvSpPr>
        <p:spPr>
          <a:xfrm flipH="1" rot="2700000">
            <a:off x="5356080" y="260064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4" name="AutoShape 21"/>
          <p:cNvSpPr/>
          <p:nvPr/>
        </p:nvSpPr>
        <p:spPr>
          <a:xfrm flipH="1" rot="2700000">
            <a:off x="4583160" y="225864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5" name="AutoShape 21"/>
          <p:cNvSpPr/>
          <p:nvPr/>
        </p:nvSpPr>
        <p:spPr>
          <a:xfrm flipH="1" rot="2700000">
            <a:off x="3838680" y="307440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6" name="AutoShape 21"/>
          <p:cNvSpPr/>
          <p:nvPr/>
        </p:nvSpPr>
        <p:spPr>
          <a:xfrm flipH="1" rot="2700000">
            <a:off x="3038040" y="268380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7" name="AutoShape 21"/>
          <p:cNvSpPr/>
          <p:nvPr/>
        </p:nvSpPr>
        <p:spPr>
          <a:xfrm flipH="1" rot="2700000">
            <a:off x="2257560" y="316224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8" name="AutoShape 21"/>
          <p:cNvSpPr/>
          <p:nvPr/>
        </p:nvSpPr>
        <p:spPr>
          <a:xfrm flipH="1" rot="2700000">
            <a:off x="1415520" y="340020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9" name="AutoShape 21"/>
          <p:cNvSpPr/>
          <p:nvPr/>
        </p:nvSpPr>
        <p:spPr>
          <a:xfrm flipH="1" rot="2700000">
            <a:off x="604800" y="248148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90" name="Text Box 13"/>
          <p:cNvSpPr/>
          <p:nvPr/>
        </p:nvSpPr>
        <p:spPr>
          <a:xfrm flipH="1">
            <a:off x="6931800" y="843480"/>
            <a:ext cx="55368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直连接符 39"/>
          <p:cNvCxnSpPr/>
          <p:nvPr/>
        </p:nvCxnSpPr>
        <p:spPr>
          <a:xfrm>
            <a:off x="6733440" y="843480"/>
            <a:ext cx="360" cy="23727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92" name="AutoShape 21"/>
          <p:cNvSpPr/>
          <p:nvPr/>
        </p:nvSpPr>
        <p:spPr>
          <a:xfrm flipH="1" rot="2700000">
            <a:off x="6910200" y="319320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13"/>
          <p:cNvGrpSpPr/>
          <p:nvPr/>
        </p:nvGrpSpPr>
        <p:grpSpPr>
          <a:xfrm>
            <a:off x="2388960" y="1657800"/>
            <a:ext cx="4145040" cy="1575360"/>
            <a:chOff x="2388960" y="1657800"/>
            <a:chExt cx="4145040" cy="1575360"/>
          </a:xfrm>
        </p:grpSpPr>
        <p:sp>
          <p:nvSpPr>
            <p:cNvPr id="87" name="椭圆 14"/>
            <p:cNvSpPr/>
            <p:nvPr/>
          </p:nvSpPr>
          <p:spPr>
            <a:xfrm rot="597000">
              <a:off x="5481720" y="166500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88" name="直接连接符 17"/>
            <p:cNvCxnSpPr/>
            <p:nvPr/>
          </p:nvCxnSpPr>
          <p:spPr>
            <a:xfrm flipV="1">
              <a:off x="2523240" y="1706400"/>
              <a:ext cx="3006720" cy="103140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89" name="直接连接符 18"/>
            <p:cNvCxnSpPr/>
            <p:nvPr/>
          </p:nvCxnSpPr>
          <p:spPr>
            <a:xfrm flipH="1" flipV="1">
              <a:off x="5529600" y="1706400"/>
              <a:ext cx="171720" cy="131832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90" name="直接连接符 19"/>
            <p:cNvCxnSpPr/>
            <p:nvPr/>
          </p:nvCxnSpPr>
          <p:spPr>
            <a:xfrm flipH="1" flipV="1">
              <a:off x="5699880" y="3041280"/>
              <a:ext cx="777240" cy="14688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sp>
          <p:nvSpPr>
            <p:cNvPr id="91" name="椭圆 20"/>
            <p:cNvSpPr/>
            <p:nvPr/>
          </p:nvSpPr>
          <p:spPr>
            <a:xfrm rot="597000">
              <a:off x="5623920" y="2965320"/>
              <a:ext cx="152280" cy="15228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92" name="椭圆 21"/>
            <p:cNvSpPr/>
            <p:nvPr/>
          </p:nvSpPr>
          <p:spPr>
            <a:xfrm rot="597000">
              <a:off x="6430680" y="312984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93" name="椭圆 16"/>
            <p:cNvSpPr/>
            <p:nvPr/>
          </p:nvSpPr>
          <p:spPr>
            <a:xfrm rot="597000">
              <a:off x="2405520" y="2639520"/>
              <a:ext cx="211680" cy="211680"/>
            </a:xfrm>
            <a:prstGeom prst="ellipse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94" name="TextBox 22"/>
          <p:cNvSpPr/>
          <p:nvPr/>
        </p:nvSpPr>
        <p:spPr>
          <a:xfrm>
            <a:off x="2674800" y="2336760"/>
            <a:ext cx="3803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595959"/>
                </a:solidFill>
                <a:latin typeface="华文细黑"/>
                <a:ea typeface="方正正中黑简体"/>
              </a:rPr>
              <a:t>WHO ARE YOU</a:t>
            </a:r>
            <a:r>
              <a:rPr b="0" lang="zh-CN" sz="2800" spc="-1" strike="noStrike">
                <a:solidFill>
                  <a:srgbClr val="595959"/>
                </a:solidFill>
                <a:latin typeface="华文细黑"/>
                <a:ea typeface="方正正中黑简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164520" y="93960"/>
            <a:ext cx="197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PART 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公司概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3"/>
          <p:cNvSpPr/>
          <p:nvPr/>
        </p:nvSpPr>
        <p:spPr>
          <a:xfrm>
            <a:off x="0" y="122400"/>
            <a:ext cx="178920" cy="380520"/>
          </a:xfrm>
          <a:prstGeom prst="rect">
            <a:avLst/>
          </a:prstGeom>
          <a:solidFill>
            <a:srgbClr val="b600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19"/>
          <p:cNvGrpSpPr/>
          <p:nvPr/>
        </p:nvGrpSpPr>
        <p:grpSpPr>
          <a:xfrm>
            <a:off x="792360" y="381960"/>
            <a:ext cx="6083640" cy="455400"/>
            <a:chOff x="792360" y="381960"/>
            <a:chExt cx="6083640" cy="455400"/>
          </a:xfrm>
        </p:grpSpPr>
        <p:sp>
          <p:nvSpPr>
            <p:cNvPr id="98" name="矩形 21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99" name="矩形 23"/>
            <p:cNvSpPr/>
            <p:nvPr/>
          </p:nvSpPr>
          <p:spPr>
            <a:xfrm>
              <a:off x="971640" y="381960"/>
              <a:ext cx="590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是一家什么样的公司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矩形 1"/>
          <p:cNvSpPr/>
          <p:nvPr/>
        </p:nvSpPr>
        <p:spPr>
          <a:xfrm>
            <a:off x="3905280" y="1816200"/>
            <a:ext cx="954720" cy="581760"/>
          </a:xfrm>
          <a:prstGeom prst="rect">
            <a:avLst/>
          </a:prstGeom>
          <a:solidFill>
            <a:srgbClr val="b600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chemeClr val="lt1"/>
                </a:solidFill>
                <a:latin typeface="微软雅黑"/>
                <a:ea typeface="微软雅黑"/>
              </a:rPr>
              <a:t>成立时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5004000" y="1779840"/>
            <a:ext cx="367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立于那一年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5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是中国最晚成立的一批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，我们与中国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共存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3902400" y="3117960"/>
            <a:ext cx="954720" cy="581760"/>
          </a:xfrm>
          <a:prstGeom prst="rect">
            <a:avLst/>
          </a:prstGeom>
          <a:solidFill>
            <a:srgbClr val="b600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chemeClr val="lt1"/>
                </a:solidFill>
                <a:latin typeface="微软雅黑"/>
                <a:ea typeface="微软雅黑"/>
              </a:rPr>
              <a:t>行业定位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5004000" y="3075840"/>
            <a:ext cx="367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来的见证、创新、引领行业的发展，现已成长为中国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的扛旗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4" descr=""/>
          <p:cNvPicPr/>
          <p:nvPr/>
        </p:nvPicPr>
        <p:blipFill>
          <a:blip r:embed="rId1"/>
          <a:srcRect l="0" t="0" r="7378" b="0"/>
          <a:stretch/>
        </p:blipFill>
        <p:spPr>
          <a:xfrm>
            <a:off x="792360" y="1816200"/>
            <a:ext cx="2944080" cy="18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35"/>
          <p:cNvGrpSpPr/>
          <p:nvPr/>
        </p:nvGrpSpPr>
        <p:grpSpPr>
          <a:xfrm>
            <a:off x="792360" y="381960"/>
            <a:ext cx="5723640" cy="455400"/>
            <a:chOff x="792360" y="381960"/>
            <a:chExt cx="5723640" cy="455400"/>
          </a:xfrm>
        </p:grpSpPr>
        <p:sp>
          <p:nvSpPr>
            <p:cNvPr id="106" name="矩形 36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07" name="矩形 37"/>
            <p:cNvSpPr/>
            <p:nvPr/>
          </p:nvSpPr>
          <p:spPr>
            <a:xfrm>
              <a:off x="971640" y="381960"/>
              <a:ext cx="554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公司的创始人及核心团队是谁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图片 3" descr=""/>
          <p:cNvPicPr/>
          <p:nvPr/>
        </p:nvPicPr>
        <p:blipFill>
          <a:blip r:embed="rId1"/>
          <a:stretch/>
        </p:blipFill>
        <p:spPr>
          <a:xfrm>
            <a:off x="784440" y="1419480"/>
            <a:ext cx="4319640" cy="287748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4"/>
          <p:cNvSpPr/>
          <p:nvPr/>
        </p:nvSpPr>
        <p:spPr>
          <a:xfrm>
            <a:off x="5763240" y="2590560"/>
            <a:ext cx="1838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张三：有什么样的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李四：有什么样的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王五：有什么样的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赵六：有什么样的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空心弧 17"/>
          <p:cNvSpPr/>
          <p:nvPr/>
        </p:nvSpPr>
        <p:spPr>
          <a:xfrm>
            <a:off x="1547640" y="1757520"/>
            <a:ext cx="1539360" cy="1541160"/>
          </a:xfrm>
          <a:custGeom>
            <a:avLst/>
            <a:gdLst>
              <a:gd name="textAreaLeft" fmla="*/ 0 w 1539360"/>
              <a:gd name="textAreaRight" fmla="*/ 1539720 w 1539360"/>
              <a:gd name="textAreaTop" fmla="*/ 0 h 1541160"/>
              <a:gd name="textAreaBottom" fmla="*/ 1541520 h 1541160"/>
            </a:gdLst>
            <a:ahLst/>
            <a:rect l="textAreaLeft" t="textAreaTop" r="textAreaRight" b="textAreaBottom"/>
            <a:pathLst>
              <a:path w="1540990" h="1540990">
                <a:moveTo>
                  <a:pt x="0" y="770495"/>
                </a:moveTo>
                <a:cubicBezTo>
                  <a:pt x="0" y="429929"/>
                  <a:pt x="223586" y="129763"/>
                  <a:pt x="549894" y="32255"/>
                </a:cubicBezTo>
                <a:cubicBezTo>
                  <a:pt x="876203" y="-65252"/>
                  <a:pt x="1227818" y="63033"/>
                  <a:pt x="1414669" y="347764"/>
                </a:cubicBezTo>
                <a:cubicBezTo>
                  <a:pt x="1601520" y="632495"/>
                  <a:pt x="1579277" y="1006120"/>
                  <a:pt x="1359963" y="1266670"/>
                </a:cubicBezTo>
                <a:cubicBezTo>
                  <a:pt x="1140649" y="1527220"/>
                  <a:pt x="776296" y="1612881"/>
                  <a:pt x="463862" y="1477346"/>
                </a:cubicBezTo>
                <a:lnTo>
                  <a:pt x="479004" y="1442442"/>
                </a:lnTo>
                <a:cubicBezTo>
                  <a:pt x="776011" y="1571284"/>
                  <a:pt x="1122372" y="1489853"/>
                  <a:pt x="1330856" y="1242169"/>
                </a:cubicBezTo>
                <a:cubicBezTo>
                  <a:pt x="1539340" y="994485"/>
                  <a:pt x="1560485" y="639309"/>
                  <a:pt x="1382861" y="368638"/>
                </a:cubicBezTo>
                <a:cubicBezTo>
                  <a:pt x="1205237" y="97967"/>
                  <a:pt x="870984" y="-23983"/>
                  <a:pt x="560788" y="68709"/>
                </a:cubicBezTo>
                <a:cubicBezTo>
                  <a:pt x="250593" y="161402"/>
                  <a:pt x="38047" y="446746"/>
                  <a:pt x="38048" y="770495"/>
                </a:cubicBezTo>
                <a:lnTo>
                  <a:pt x="0" y="770495"/>
                </a:lnTo>
                <a:close/>
              </a:path>
            </a:pathLst>
          </a:custGeom>
          <a:solidFill>
            <a:srgbClr val="b6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华文细黑"/>
              <a:ea typeface="微软雅黑"/>
            </a:endParaRPr>
          </a:p>
        </p:txBody>
      </p:sp>
      <p:sp>
        <p:nvSpPr>
          <p:cNvPr id="111" name="空心弧 27"/>
          <p:cNvSpPr/>
          <p:nvPr/>
        </p:nvSpPr>
        <p:spPr>
          <a:xfrm rot="2401200">
            <a:off x="3793680" y="1757160"/>
            <a:ext cx="1539360" cy="1541160"/>
          </a:xfrm>
          <a:custGeom>
            <a:avLst/>
            <a:gdLst>
              <a:gd name="textAreaLeft" fmla="*/ 0 w 1539360"/>
              <a:gd name="textAreaRight" fmla="*/ 1539720 w 1539360"/>
              <a:gd name="textAreaTop" fmla="*/ 0 h 1541160"/>
              <a:gd name="textAreaBottom" fmla="*/ 1541520 h 1541160"/>
            </a:gdLst>
            <a:ahLst/>
            <a:rect l="textAreaLeft" t="textAreaTop" r="textAreaRight" b="textAreaBottom"/>
            <a:pathLst>
              <a:path w="1540990" h="1540990">
                <a:moveTo>
                  <a:pt x="0" y="770495"/>
                </a:moveTo>
                <a:cubicBezTo>
                  <a:pt x="0" y="429929"/>
                  <a:pt x="223586" y="129763"/>
                  <a:pt x="549894" y="32255"/>
                </a:cubicBezTo>
                <a:cubicBezTo>
                  <a:pt x="876203" y="-65252"/>
                  <a:pt x="1227818" y="63033"/>
                  <a:pt x="1414669" y="347764"/>
                </a:cubicBezTo>
                <a:cubicBezTo>
                  <a:pt x="1601520" y="632495"/>
                  <a:pt x="1579277" y="1006120"/>
                  <a:pt x="1359963" y="1266670"/>
                </a:cubicBezTo>
                <a:cubicBezTo>
                  <a:pt x="1140649" y="1527220"/>
                  <a:pt x="776296" y="1612881"/>
                  <a:pt x="463862" y="1477346"/>
                </a:cubicBezTo>
                <a:lnTo>
                  <a:pt x="479004" y="1442442"/>
                </a:lnTo>
                <a:cubicBezTo>
                  <a:pt x="776011" y="1571284"/>
                  <a:pt x="1122372" y="1489853"/>
                  <a:pt x="1330856" y="1242169"/>
                </a:cubicBezTo>
                <a:cubicBezTo>
                  <a:pt x="1539340" y="994485"/>
                  <a:pt x="1560485" y="639309"/>
                  <a:pt x="1382861" y="368638"/>
                </a:cubicBezTo>
                <a:cubicBezTo>
                  <a:pt x="1205237" y="97967"/>
                  <a:pt x="870984" y="-23983"/>
                  <a:pt x="560788" y="68709"/>
                </a:cubicBezTo>
                <a:cubicBezTo>
                  <a:pt x="250593" y="161402"/>
                  <a:pt x="38047" y="446746"/>
                  <a:pt x="38048" y="770495"/>
                </a:cubicBezTo>
                <a:lnTo>
                  <a:pt x="0" y="770495"/>
                </a:lnTo>
                <a:close/>
              </a:path>
            </a:pathLst>
          </a:custGeom>
          <a:solidFill>
            <a:srgbClr val="fd55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华文细黑"/>
              <a:ea typeface="微软雅黑"/>
            </a:endParaRPr>
          </a:p>
        </p:txBody>
      </p:sp>
      <p:sp>
        <p:nvSpPr>
          <p:cNvPr id="112" name="空心弧 29"/>
          <p:cNvSpPr/>
          <p:nvPr/>
        </p:nvSpPr>
        <p:spPr>
          <a:xfrm rot="14547000">
            <a:off x="6066000" y="1759320"/>
            <a:ext cx="1553760" cy="1537920"/>
          </a:xfrm>
          <a:custGeom>
            <a:avLst/>
            <a:gdLst>
              <a:gd name="textAreaLeft" fmla="*/ 0 w 1553760"/>
              <a:gd name="textAreaRight" fmla="*/ 1554120 w 1553760"/>
              <a:gd name="textAreaTop" fmla="*/ 0 h 1537920"/>
              <a:gd name="textAreaBottom" fmla="*/ 1538280 h 1537920"/>
            </a:gdLst>
            <a:ahLst/>
            <a:rect l="textAreaLeft" t="textAreaTop" r="textAreaRight" b="textAreaBottom"/>
            <a:pathLst>
              <a:path w="1554642" h="1538208">
                <a:moveTo>
                  <a:pt x="0" y="769104"/>
                </a:moveTo>
                <a:cubicBezTo>
                  <a:pt x="0" y="428327"/>
                  <a:pt x="226644" y="128181"/>
                  <a:pt x="556929" y="31561"/>
                </a:cubicBezTo>
                <a:cubicBezTo>
                  <a:pt x="884266" y="-64197"/>
                  <a:pt x="1236442" y="62543"/>
                  <a:pt x="1425112" y="344000"/>
                </a:cubicBezTo>
                <a:cubicBezTo>
                  <a:pt x="1616630" y="629705"/>
                  <a:pt x="1593900" y="1006335"/>
                  <a:pt x="1369381" y="1267460"/>
                </a:cubicBezTo>
                <a:cubicBezTo>
                  <a:pt x="1148445" y="1524417"/>
                  <a:pt x="784056" y="1608919"/>
                  <a:pt x="470731" y="1475857"/>
                </a:cubicBezTo>
                <a:lnTo>
                  <a:pt x="485845" y="1441015"/>
                </a:lnTo>
                <a:cubicBezTo>
                  <a:pt x="783768" y="1567398"/>
                  <a:pt x="1130199" y="1487117"/>
                  <a:pt x="1340324" y="1243002"/>
                </a:cubicBezTo>
                <a:cubicBezTo>
                  <a:pt x="1554035" y="994720"/>
                  <a:pt x="1575669" y="636507"/>
                  <a:pt x="1393359" y="364837"/>
                </a:cubicBezTo>
                <a:cubicBezTo>
                  <a:pt x="1213899" y="97414"/>
                  <a:pt x="879055" y="-23003"/>
                  <a:pt x="567803" y="67950"/>
                </a:cubicBezTo>
                <a:cubicBezTo>
                  <a:pt x="253603" y="159764"/>
                  <a:pt x="37979" y="445115"/>
                  <a:pt x="37979" y="769105"/>
                </a:cubicBezTo>
                <a:lnTo>
                  <a:pt x="0" y="769104"/>
                </a:lnTo>
                <a:close/>
              </a:path>
            </a:pathLst>
          </a:custGeom>
          <a:solidFill>
            <a:schemeClr val="accent6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华文细黑"/>
              <a:ea typeface="微软雅黑"/>
            </a:endParaRPr>
          </a:p>
        </p:txBody>
      </p:sp>
      <p:sp>
        <p:nvSpPr>
          <p:cNvPr id="113" name="文本框 72"/>
          <p:cNvSpPr/>
          <p:nvPr/>
        </p:nvSpPr>
        <p:spPr>
          <a:xfrm>
            <a:off x="1717200" y="3299040"/>
            <a:ext cx="119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总资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72"/>
          <p:cNvSpPr/>
          <p:nvPr/>
        </p:nvSpPr>
        <p:spPr>
          <a:xfrm>
            <a:off x="3912840" y="3299040"/>
            <a:ext cx="13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营业收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72"/>
          <p:cNvSpPr/>
          <p:nvPr/>
        </p:nvSpPr>
        <p:spPr>
          <a:xfrm>
            <a:off x="6192000" y="3299040"/>
            <a:ext cx="13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净利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4"/>
          <p:cNvSpPr/>
          <p:nvPr/>
        </p:nvSpPr>
        <p:spPr>
          <a:xfrm>
            <a:off x="683640" y="4011840"/>
            <a:ext cx="7776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400" spc="-1" strike="noStrike">
                <a:solidFill>
                  <a:srgbClr val="0e1e20"/>
                </a:solidFill>
                <a:latin typeface="微软雅黑"/>
                <a:ea typeface="微软雅黑"/>
              </a:rPr>
              <a:t>你的公司介绍、你的公司介绍、你的公司介绍、你的公司介绍、你的公司介绍、你的公司介绍、你的公司介绍、你的公司介绍、你的公司介绍、你的公司介绍、你的公司介绍、你的公司介绍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75"/>
          <p:cNvGrpSpPr/>
          <p:nvPr/>
        </p:nvGrpSpPr>
        <p:grpSpPr>
          <a:xfrm>
            <a:off x="792360" y="381960"/>
            <a:ext cx="5075640" cy="455400"/>
            <a:chOff x="792360" y="381960"/>
            <a:chExt cx="5075640" cy="455400"/>
          </a:xfrm>
        </p:grpSpPr>
        <p:sp>
          <p:nvSpPr>
            <p:cNvPr id="118" name="矩形 76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19" name="矩形 77"/>
            <p:cNvSpPr/>
            <p:nvPr/>
          </p:nvSpPr>
          <p:spPr>
            <a:xfrm>
              <a:off x="971640" y="381960"/>
              <a:ext cx="4896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公司的营业状况是什么样的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3"/>
          <p:cNvGrpSpPr/>
          <p:nvPr/>
        </p:nvGrpSpPr>
        <p:grpSpPr>
          <a:xfrm>
            <a:off x="3994560" y="2211840"/>
            <a:ext cx="1154520" cy="852840"/>
            <a:chOff x="3994560" y="2211840"/>
            <a:chExt cx="1154520" cy="852840"/>
          </a:xfrm>
        </p:grpSpPr>
        <p:sp>
          <p:nvSpPr>
            <p:cNvPr id="121" name="文本框 28"/>
            <p:cNvSpPr/>
            <p:nvPr/>
          </p:nvSpPr>
          <p:spPr>
            <a:xfrm>
              <a:off x="3994560" y="2211840"/>
              <a:ext cx="115452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亿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1"/>
            <p:cNvSpPr/>
            <p:nvPr/>
          </p:nvSpPr>
          <p:spPr>
            <a:xfrm>
              <a:off x="4182480" y="2700720"/>
              <a:ext cx="763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e484f"/>
                  </a:solidFill>
                  <a:latin typeface="华文细黑"/>
                  <a:ea typeface="微软雅黑"/>
                </a:rPr>
                <a:t>+6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2"/>
          <p:cNvGrpSpPr/>
          <p:nvPr/>
        </p:nvGrpSpPr>
        <p:grpSpPr>
          <a:xfrm>
            <a:off x="1738080" y="2211840"/>
            <a:ext cx="1154520" cy="852840"/>
            <a:chOff x="1738080" y="2211840"/>
            <a:chExt cx="1154520" cy="852840"/>
          </a:xfrm>
        </p:grpSpPr>
        <p:sp>
          <p:nvSpPr>
            <p:cNvPr id="124" name="文本框 26"/>
            <p:cNvSpPr/>
            <p:nvPr/>
          </p:nvSpPr>
          <p:spPr>
            <a:xfrm>
              <a:off x="1738080" y="2211840"/>
              <a:ext cx="115452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亿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19"/>
            <p:cNvSpPr/>
            <p:nvPr/>
          </p:nvSpPr>
          <p:spPr>
            <a:xfrm>
              <a:off x="1936080" y="2700720"/>
              <a:ext cx="763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e484f"/>
                  </a:solidFill>
                  <a:latin typeface="华文细黑"/>
                  <a:ea typeface="微软雅黑"/>
                </a:rPr>
                <a:t>+6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4"/>
          <p:cNvGrpSpPr/>
          <p:nvPr/>
        </p:nvGrpSpPr>
        <p:grpSpPr>
          <a:xfrm>
            <a:off x="6156000" y="2211840"/>
            <a:ext cx="1382400" cy="852840"/>
            <a:chOff x="6156000" y="2211840"/>
            <a:chExt cx="1382400" cy="852840"/>
          </a:xfrm>
        </p:grpSpPr>
        <p:sp>
          <p:nvSpPr>
            <p:cNvPr id="127" name="文本框 30"/>
            <p:cNvSpPr/>
            <p:nvPr/>
          </p:nvSpPr>
          <p:spPr>
            <a:xfrm>
              <a:off x="6156000" y="2211840"/>
              <a:ext cx="138240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亿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20"/>
            <p:cNvSpPr/>
            <p:nvPr/>
          </p:nvSpPr>
          <p:spPr>
            <a:xfrm>
              <a:off x="6465960" y="2700720"/>
              <a:ext cx="763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e484f"/>
                  </a:solidFill>
                  <a:latin typeface="华文细黑"/>
                  <a:ea typeface="微软雅黑"/>
                </a:rPr>
                <a:t>+6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2" descr=""/>
          <p:cNvPicPr/>
          <p:nvPr/>
        </p:nvPicPr>
        <p:blipFill>
          <a:blip r:embed="rId1"/>
          <a:stretch/>
        </p:blipFill>
        <p:spPr>
          <a:xfrm>
            <a:off x="986760" y="1681200"/>
            <a:ext cx="899640" cy="1332360"/>
          </a:xfrm>
          <a:prstGeom prst="rect">
            <a:avLst/>
          </a:prstGeom>
          <a:ln w="0">
            <a:noFill/>
          </a:ln>
        </p:spPr>
      </p:pic>
      <p:grpSp>
        <p:nvGrpSpPr>
          <p:cNvPr id="130" name="组合 35"/>
          <p:cNvGrpSpPr/>
          <p:nvPr/>
        </p:nvGrpSpPr>
        <p:grpSpPr>
          <a:xfrm>
            <a:off x="792360" y="381960"/>
            <a:ext cx="4499280" cy="455400"/>
            <a:chOff x="792360" y="381960"/>
            <a:chExt cx="4499280" cy="455400"/>
          </a:xfrm>
        </p:grpSpPr>
        <p:sp>
          <p:nvSpPr>
            <p:cNvPr id="131" name="矩形 36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32" name="矩形 37"/>
            <p:cNvSpPr/>
            <p:nvPr/>
          </p:nvSpPr>
          <p:spPr>
            <a:xfrm>
              <a:off x="971640" y="381960"/>
              <a:ext cx="4320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获得过什么样的荣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矩形 16"/>
          <p:cNvSpPr/>
          <p:nvPr/>
        </p:nvSpPr>
        <p:spPr>
          <a:xfrm>
            <a:off x="649800" y="3651840"/>
            <a:ext cx="7848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获得过什么样的荣誉、获得过什么样的荣誉、获得过什么样的荣誉、获得过什么样的荣誉、获得过什么样的荣誉、获得过什么样的荣誉、获得过什么样的荣誉、获得过什么样的荣誉、获得过什么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36"/>
          <p:cNvGrpSpPr/>
          <p:nvPr/>
        </p:nvGrpSpPr>
        <p:grpSpPr>
          <a:xfrm>
            <a:off x="5676120" y="1083600"/>
            <a:ext cx="2495880" cy="2495880"/>
            <a:chOff x="5676120" y="1083600"/>
            <a:chExt cx="2495880" cy="2495880"/>
          </a:xfrm>
        </p:grpSpPr>
        <p:sp>
          <p:nvSpPr>
            <p:cNvPr id="135" name="空心弧 37"/>
            <p:cNvSpPr/>
            <p:nvPr/>
          </p:nvSpPr>
          <p:spPr>
            <a:xfrm>
              <a:off x="5676120" y="1083600"/>
              <a:ext cx="2495880" cy="2495880"/>
            </a:xfrm>
            <a:custGeom>
              <a:avLst/>
              <a:gdLst>
                <a:gd name="textAreaLeft" fmla="*/ 0 w 2495880"/>
                <a:gd name="textAreaRight" fmla="*/ 2496240 w 2495880"/>
                <a:gd name="textAreaTop" fmla="*/ 0 h 2495880"/>
                <a:gd name="textAreaBottom" fmla="*/ 2496240 h 2495880"/>
              </a:gdLst>
              <a:ahLst/>
              <a:rect l="textAreaLeft" t="textAreaTop" r="textAreaRight" b="textAreaBottom"/>
              <a:pathLst>
                <a:path w="2625438" h="2625438">
                  <a:moveTo>
                    <a:pt x="0" y="1312719"/>
                  </a:moveTo>
                  <a:cubicBezTo>
                    <a:pt x="0" y="732485"/>
                    <a:pt x="380931" y="221081"/>
                    <a:pt x="936874" y="54954"/>
                  </a:cubicBezTo>
                  <a:cubicBezTo>
                    <a:pt x="1492817" y="-111173"/>
                    <a:pt x="2091877" y="107391"/>
                    <a:pt x="2410221" y="592497"/>
                  </a:cubicBezTo>
                  <a:cubicBezTo>
                    <a:pt x="2728566" y="1077603"/>
                    <a:pt x="2690669" y="1714161"/>
                    <a:pt x="2317016" y="2158070"/>
                  </a:cubicBezTo>
                  <a:cubicBezTo>
                    <a:pt x="1943363" y="2601978"/>
                    <a:pt x="1322603" y="2747921"/>
                    <a:pt x="790297" y="2517007"/>
                  </a:cubicBezTo>
                  <a:lnTo>
                    <a:pt x="816095" y="2457539"/>
                  </a:lnTo>
                  <a:cubicBezTo>
                    <a:pt x="1322115" y="2677051"/>
                    <a:pt x="1912223" y="2538315"/>
                    <a:pt x="2267424" y="2116326"/>
                  </a:cubicBezTo>
                  <a:cubicBezTo>
                    <a:pt x="2622626" y="1694338"/>
                    <a:pt x="2658651" y="1089213"/>
                    <a:pt x="2356026" y="628061"/>
                  </a:cubicBezTo>
                  <a:cubicBezTo>
                    <a:pt x="2053401" y="166910"/>
                    <a:pt x="1483923" y="-40861"/>
                    <a:pt x="955432" y="117062"/>
                  </a:cubicBezTo>
                  <a:cubicBezTo>
                    <a:pt x="426941" y="274986"/>
                    <a:pt x="64821" y="761137"/>
                    <a:pt x="64821" y="1312719"/>
                  </a:cubicBezTo>
                  <a:lnTo>
                    <a:pt x="0" y="1312719"/>
                  </a:lnTo>
                  <a:close/>
                </a:path>
              </a:pathLst>
            </a:custGeom>
            <a:solidFill>
              <a:srgbClr val="b6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36" name="空心弧 38"/>
            <p:cNvSpPr/>
            <p:nvPr/>
          </p:nvSpPr>
          <p:spPr>
            <a:xfrm>
              <a:off x="5820840" y="1228320"/>
              <a:ext cx="2206440" cy="2206440"/>
            </a:xfrm>
            <a:custGeom>
              <a:avLst/>
              <a:gdLst>
                <a:gd name="textAreaLeft" fmla="*/ 0 w 2206440"/>
                <a:gd name="textAreaRight" fmla="*/ 2206800 w 2206440"/>
                <a:gd name="textAreaTop" fmla="*/ 0 h 2206440"/>
                <a:gd name="textAreaBottom" fmla="*/ 2206800 h 2206440"/>
              </a:gdLst>
              <a:ahLst/>
              <a:rect l="textAreaLeft" t="textAreaTop" r="textAreaRight" b="textAreaBottom"/>
              <a:pathLst>
                <a:path w="2320700" h="2320700">
                  <a:moveTo>
                    <a:pt x="0" y="1160350"/>
                  </a:moveTo>
                  <a:cubicBezTo>
                    <a:pt x="0" y="689134"/>
                    <a:pt x="284972" y="264711"/>
                    <a:pt x="721124" y="86342"/>
                  </a:cubicBezTo>
                  <a:cubicBezTo>
                    <a:pt x="1157277" y="-92027"/>
                    <a:pt x="1657988" y="11084"/>
                    <a:pt x="1988181" y="347265"/>
                  </a:cubicBezTo>
                  <a:cubicBezTo>
                    <a:pt x="2318374" y="683446"/>
                    <a:pt x="2412469" y="1185929"/>
                    <a:pt x="2226291" y="1618806"/>
                  </a:cubicBezTo>
                  <a:cubicBezTo>
                    <a:pt x="2040113" y="2051683"/>
                    <a:pt x="1610637" y="2328981"/>
                    <a:pt x="1139497" y="2320512"/>
                  </a:cubicBezTo>
                  <a:lnTo>
                    <a:pt x="1140799" y="2248049"/>
                  </a:lnTo>
                  <a:cubicBezTo>
                    <a:pt x="1582512" y="2255989"/>
                    <a:pt x="1985163" y="1996010"/>
                    <a:pt x="2159712" y="1590171"/>
                  </a:cubicBezTo>
                  <a:cubicBezTo>
                    <a:pt x="2334262" y="1184332"/>
                    <a:pt x="2246043" y="713233"/>
                    <a:pt x="1936475" y="398050"/>
                  </a:cubicBezTo>
                  <a:cubicBezTo>
                    <a:pt x="1626906" y="82867"/>
                    <a:pt x="1157469" y="-13804"/>
                    <a:pt x="748558" y="153424"/>
                  </a:cubicBezTo>
                  <a:cubicBezTo>
                    <a:pt x="339647" y="320652"/>
                    <a:pt x="72475" y="718566"/>
                    <a:pt x="72475" y="1160350"/>
                  </a:cubicBezTo>
                  <a:lnTo>
                    <a:pt x="0" y="1160350"/>
                  </a:lnTo>
                  <a:close/>
                </a:path>
              </a:pathLst>
            </a:custGeom>
            <a:solidFill>
              <a:srgbClr val="b60005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37" name="空心弧 39"/>
            <p:cNvSpPr/>
            <p:nvPr/>
          </p:nvSpPr>
          <p:spPr>
            <a:xfrm>
              <a:off x="6011640" y="1419120"/>
              <a:ext cx="1824480" cy="1824480"/>
            </a:xfrm>
            <a:custGeom>
              <a:avLst/>
              <a:gdLst>
                <a:gd name="textAreaLeft" fmla="*/ 0 w 1824480"/>
                <a:gd name="textAreaRight" fmla="*/ 1824840 w 1824480"/>
                <a:gd name="textAreaTop" fmla="*/ 0 h 1824480"/>
                <a:gd name="textAreaBottom" fmla="*/ 1824840 h 1824480"/>
              </a:gdLst>
              <a:ahLst/>
              <a:rect l="textAreaLeft" t="textAreaTop" r="textAreaRight" b="textAreaBottom"/>
              <a:pathLst>
                <a:path w="1919267" h="1919267">
                  <a:moveTo>
                    <a:pt x="0" y="959634"/>
                  </a:moveTo>
                  <a:cubicBezTo>
                    <a:pt x="0" y="485419"/>
                    <a:pt x="346382" y="82309"/>
                    <a:pt x="815194" y="10933"/>
                  </a:cubicBezTo>
                  <a:cubicBezTo>
                    <a:pt x="1284006" y="-60444"/>
                    <a:pt x="1734660" y="221317"/>
                    <a:pt x="1875787" y="674045"/>
                  </a:cubicBezTo>
                  <a:cubicBezTo>
                    <a:pt x="2016914" y="1126773"/>
                    <a:pt x="1806194" y="1614702"/>
                    <a:pt x="1379865" y="1822364"/>
                  </a:cubicBezTo>
                  <a:lnTo>
                    <a:pt x="1350583" y="1762248"/>
                  </a:lnTo>
                  <a:cubicBezTo>
                    <a:pt x="1747205" y="1569056"/>
                    <a:pt x="1943242" y="1115126"/>
                    <a:pt x="1811949" y="693945"/>
                  </a:cubicBezTo>
                  <a:cubicBezTo>
                    <a:pt x="1680656" y="272763"/>
                    <a:pt x="1261404" y="10636"/>
                    <a:pt x="825259" y="77039"/>
                  </a:cubicBezTo>
                  <a:cubicBezTo>
                    <a:pt x="389114" y="143442"/>
                    <a:pt x="66868" y="518463"/>
                    <a:pt x="66868" y="959634"/>
                  </a:cubicBezTo>
                  <a:lnTo>
                    <a:pt x="0" y="959634"/>
                  </a:lnTo>
                  <a:close/>
                </a:path>
              </a:pathLst>
            </a:custGeom>
            <a:solidFill>
              <a:srgbClr val="b60005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endParaRPr>
            </a:p>
          </p:txBody>
        </p:sp>
      </p:grpSp>
      <p:grpSp>
        <p:nvGrpSpPr>
          <p:cNvPr id="138" name="组合 1"/>
          <p:cNvGrpSpPr/>
          <p:nvPr/>
        </p:nvGrpSpPr>
        <p:grpSpPr>
          <a:xfrm>
            <a:off x="5936760" y="2019240"/>
            <a:ext cx="1974960" cy="875160"/>
            <a:chOff x="5936760" y="2019240"/>
            <a:chExt cx="1974960" cy="875160"/>
          </a:xfrm>
        </p:grpSpPr>
        <p:sp>
          <p:nvSpPr>
            <p:cNvPr id="139" name="文本框 41"/>
            <p:cNvSpPr/>
            <p:nvPr/>
          </p:nvSpPr>
          <p:spPr>
            <a:xfrm>
              <a:off x="5936760" y="2019240"/>
              <a:ext cx="19749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b60005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3600" spc="-1" strike="noStrike">
                  <a:solidFill>
                    <a:srgbClr val="b60005"/>
                  </a:solidFill>
                  <a:latin typeface="微软雅黑"/>
                  <a:ea typeface="微软雅黑"/>
                </a:rPr>
                <a:t>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3"/>
            <p:cNvSpPr/>
            <p:nvPr/>
          </p:nvSpPr>
          <p:spPr>
            <a:xfrm>
              <a:off x="7152120" y="2561400"/>
              <a:ext cx="4248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市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10"/>
          <p:cNvGrpSpPr/>
          <p:nvPr/>
        </p:nvGrpSpPr>
        <p:grpSpPr>
          <a:xfrm>
            <a:off x="816120" y="3115800"/>
            <a:ext cx="1241640" cy="421560"/>
            <a:chOff x="816120" y="3115800"/>
            <a:chExt cx="1241640" cy="421560"/>
          </a:xfrm>
        </p:grpSpPr>
        <p:sp>
          <p:nvSpPr>
            <p:cNvPr id="142" name="矩形 6"/>
            <p:cNvSpPr/>
            <p:nvPr/>
          </p:nvSpPr>
          <p:spPr>
            <a:xfrm>
              <a:off x="816120" y="3115800"/>
              <a:ext cx="1241640" cy="42156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43" name="TextBox 4"/>
            <p:cNvSpPr/>
            <p:nvPr/>
          </p:nvSpPr>
          <p:spPr>
            <a:xfrm>
              <a:off x="1165320" y="3171960"/>
              <a:ext cx="5241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ts val="1500"/>
                </a:lnSpc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吹牛逼大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8"/>
          <p:cNvGrpSpPr/>
          <p:nvPr/>
        </p:nvGrpSpPr>
        <p:grpSpPr>
          <a:xfrm>
            <a:off x="3892320" y="1563480"/>
            <a:ext cx="1241640" cy="1973880"/>
            <a:chOff x="3892320" y="1563480"/>
            <a:chExt cx="1241640" cy="1973880"/>
          </a:xfrm>
        </p:grpSpPr>
        <p:sp>
          <p:nvSpPr>
            <p:cNvPr id="145" name="矩形 42"/>
            <p:cNvSpPr/>
            <p:nvPr/>
          </p:nvSpPr>
          <p:spPr>
            <a:xfrm>
              <a:off x="3892320" y="3115800"/>
              <a:ext cx="1241640" cy="42156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pic>
          <p:nvPicPr>
            <p:cNvPr id="146" name="Picture 28" descr="半透明白色.PNG"/>
            <p:cNvPicPr/>
            <p:nvPr/>
          </p:nvPicPr>
          <p:blipFill>
            <a:blip r:embed="rId2"/>
            <a:stretch/>
          </p:blipFill>
          <p:spPr>
            <a:xfrm>
              <a:off x="3892320" y="1563480"/>
              <a:ext cx="1241640" cy="155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Box 44"/>
            <p:cNvSpPr/>
            <p:nvPr/>
          </p:nvSpPr>
          <p:spPr>
            <a:xfrm>
              <a:off x="4241520" y="3171960"/>
              <a:ext cx="5241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ts val="1500"/>
                </a:lnSpc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吹牛逼大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9"/>
          <p:cNvGrpSpPr/>
          <p:nvPr/>
        </p:nvGrpSpPr>
        <p:grpSpPr>
          <a:xfrm>
            <a:off x="2354040" y="1563480"/>
            <a:ext cx="1241640" cy="1973880"/>
            <a:chOff x="2354040" y="1563480"/>
            <a:chExt cx="1241640" cy="1973880"/>
          </a:xfrm>
        </p:grpSpPr>
        <p:sp>
          <p:nvSpPr>
            <p:cNvPr id="149" name="矩形 39"/>
            <p:cNvSpPr/>
            <p:nvPr/>
          </p:nvSpPr>
          <p:spPr>
            <a:xfrm>
              <a:off x="2354040" y="3115800"/>
              <a:ext cx="1241640" cy="42156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pic>
          <p:nvPicPr>
            <p:cNvPr id="150" name="Picture 28" descr="半透明白色.PNG"/>
            <p:cNvPicPr/>
            <p:nvPr/>
          </p:nvPicPr>
          <p:blipFill>
            <a:blip r:embed="rId3"/>
            <a:stretch/>
          </p:blipFill>
          <p:spPr>
            <a:xfrm>
              <a:off x="2354040" y="1563480"/>
              <a:ext cx="1241640" cy="155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41"/>
            <p:cNvSpPr/>
            <p:nvPr/>
          </p:nvSpPr>
          <p:spPr>
            <a:xfrm>
              <a:off x="2703240" y="3171960"/>
              <a:ext cx="5241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ts val="1500"/>
                </a:lnSpc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吹牛逼大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图片 5" descr=""/>
          <p:cNvPicPr/>
          <p:nvPr/>
        </p:nvPicPr>
        <p:blipFill>
          <a:blip r:embed="rId4"/>
          <a:stretch/>
        </p:blipFill>
        <p:spPr>
          <a:xfrm>
            <a:off x="2525040" y="1664640"/>
            <a:ext cx="899640" cy="134964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3" descr=""/>
          <p:cNvPicPr/>
          <p:nvPr/>
        </p:nvPicPr>
        <p:blipFill>
          <a:blip r:embed="rId5"/>
          <a:srcRect l="0" t="0" r="0" b="7005"/>
          <a:stretch/>
        </p:blipFill>
        <p:spPr>
          <a:xfrm>
            <a:off x="4062960" y="1662120"/>
            <a:ext cx="899640" cy="13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6"/>
          <p:cNvSpPr/>
          <p:nvPr/>
        </p:nvSpPr>
        <p:spPr>
          <a:xfrm>
            <a:off x="348120" y="1256040"/>
            <a:ext cx="3130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200000"/>
              </a:lnSpc>
            </a:pPr>
            <a:r>
              <a:rPr b="0" lang="zh-CN" sz="1400" spc="-1" strike="noStrike">
                <a:solidFill>
                  <a:srgbClr val="0e1e20"/>
                </a:solidFill>
                <a:latin typeface="微软雅黑"/>
                <a:ea typeface="微软雅黑"/>
              </a:rPr>
              <a:t>都有哪些牛逼之处、都有哪些牛逼之处、都有哪些牛逼之处、都有哪些牛逼之处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9"/>
          <p:cNvGrpSpPr/>
          <p:nvPr/>
        </p:nvGrpSpPr>
        <p:grpSpPr>
          <a:xfrm>
            <a:off x="395280" y="2605680"/>
            <a:ext cx="3131280" cy="424800"/>
            <a:chOff x="395280" y="2605680"/>
            <a:chExt cx="3131280" cy="424800"/>
          </a:xfrm>
        </p:grpSpPr>
        <p:cxnSp>
          <p:nvCxnSpPr>
            <p:cNvPr id="156" name="直接连接符 25"/>
            <p:cNvCxnSpPr/>
            <p:nvPr/>
          </p:nvCxnSpPr>
          <p:spPr>
            <a:xfrm>
              <a:off x="395280" y="2605680"/>
              <a:ext cx="3131640" cy="360"/>
            </a:xfrm>
            <a:prstGeom prst="straightConnector1">
              <a:avLst/>
            </a:prstGeom>
            <a:ln w="28575">
              <a:solidFill>
                <a:srgbClr val="c00000"/>
              </a:solidFill>
            </a:ln>
          </p:spPr>
        </p:cxnSp>
        <p:sp>
          <p:nvSpPr>
            <p:cNvPr id="157" name="TextBox 5"/>
            <p:cNvSpPr/>
            <p:nvPr/>
          </p:nvSpPr>
          <p:spPr>
            <a:xfrm>
              <a:off x="558000" y="2635920"/>
              <a:ext cx="790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牛逼之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10"/>
          <p:cNvGrpSpPr/>
          <p:nvPr/>
        </p:nvGrpSpPr>
        <p:grpSpPr>
          <a:xfrm>
            <a:off x="5624280" y="1592280"/>
            <a:ext cx="3133080" cy="416160"/>
            <a:chOff x="5624280" y="1592280"/>
            <a:chExt cx="3133080" cy="416160"/>
          </a:xfrm>
        </p:grpSpPr>
        <p:cxnSp>
          <p:nvCxnSpPr>
            <p:cNvPr id="159" name="直接连接符 26"/>
            <p:cNvCxnSpPr/>
            <p:nvPr/>
          </p:nvCxnSpPr>
          <p:spPr>
            <a:xfrm>
              <a:off x="5624280" y="2008440"/>
              <a:ext cx="3133440" cy="360"/>
            </a:xfrm>
            <a:prstGeom prst="straightConnector1">
              <a:avLst/>
            </a:prstGeom>
            <a:ln w="28575">
              <a:solidFill>
                <a:srgbClr val="323232"/>
              </a:solidFill>
            </a:ln>
          </p:spPr>
        </p:cxnSp>
        <p:sp>
          <p:nvSpPr>
            <p:cNvPr id="160" name="TextBox 29"/>
            <p:cNvSpPr/>
            <p:nvPr/>
          </p:nvSpPr>
          <p:spPr>
            <a:xfrm>
              <a:off x="7873560" y="1592280"/>
              <a:ext cx="790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牛逼之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矩形 7"/>
          <p:cNvSpPr/>
          <p:nvPr/>
        </p:nvSpPr>
        <p:spPr>
          <a:xfrm>
            <a:off x="5543640" y="1998720"/>
            <a:ext cx="3213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200000"/>
              </a:lnSpc>
            </a:pPr>
            <a:r>
              <a:rPr b="0" lang="zh-CN" sz="1400" spc="-1" strike="noStrike">
                <a:solidFill>
                  <a:srgbClr val="0e1e20"/>
                </a:solidFill>
                <a:latin typeface="微软雅黑"/>
                <a:ea typeface="微软雅黑"/>
              </a:rPr>
              <a:t>都有哪些牛逼之处、都有哪些牛逼之处、都有哪些牛逼之处、都有哪些牛逼之处、都有哪些牛逼之处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48"/>
          <p:cNvGrpSpPr/>
          <p:nvPr/>
        </p:nvGrpSpPr>
        <p:grpSpPr>
          <a:xfrm>
            <a:off x="3649680" y="771840"/>
            <a:ext cx="1842120" cy="2760120"/>
            <a:chOff x="3649680" y="771840"/>
            <a:chExt cx="1842120" cy="2760120"/>
          </a:xfrm>
        </p:grpSpPr>
        <p:grpSp>
          <p:nvGrpSpPr>
            <p:cNvPr id="163" name="组合 2"/>
            <p:cNvGrpSpPr/>
            <p:nvPr/>
          </p:nvGrpSpPr>
          <p:grpSpPr>
            <a:xfrm>
              <a:off x="3649680" y="771840"/>
              <a:ext cx="1842120" cy="2760120"/>
              <a:chOff x="3649680" y="771840"/>
              <a:chExt cx="1842120" cy="2760120"/>
            </a:xfrm>
          </p:grpSpPr>
          <p:sp>
            <p:nvSpPr>
              <p:cNvPr id="164" name="五边形 20"/>
              <p:cNvSpPr/>
              <p:nvPr/>
            </p:nvSpPr>
            <p:spPr>
              <a:xfrm rot="16200000">
                <a:off x="3331800" y="1090080"/>
                <a:ext cx="1847160" cy="1210680"/>
              </a:xfrm>
              <a:prstGeom prst="homePlate">
                <a:avLst>
                  <a:gd name="adj" fmla="val 33856"/>
                </a:avLst>
              </a:prstGeom>
              <a:solidFill>
                <a:srgbClr val="c0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165" name="五边形 21"/>
              <p:cNvSpPr/>
              <p:nvPr/>
            </p:nvSpPr>
            <p:spPr>
              <a:xfrm flipV="1" rot="5400000">
                <a:off x="4114800" y="2154960"/>
                <a:ext cx="1542960" cy="1210680"/>
              </a:xfrm>
              <a:prstGeom prst="homePlate">
                <a:avLst>
                  <a:gd name="adj" fmla="val 28026"/>
                </a:avLst>
              </a:prstGeom>
              <a:solidFill>
                <a:srgbClr val="32323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166" name="直角三角形 24"/>
              <p:cNvSpPr/>
              <p:nvPr/>
            </p:nvSpPr>
            <p:spPr>
              <a:xfrm flipH="1">
                <a:off x="3649320" y="1988640"/>
                <a:ext cx="630360" cy="630360"/>
              </a:xfrm>
              <a:prstGeom prst="rtTriangle">
                <a:avLst/>
              </a:prstGeom>
              <a:solidFill>
                <a:srgbClr val="681a1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</p:grpSp>
        <p:sp>
          <p:nvSpPr>
            <p:cNvPr id="167" name="TextBox 45"/>
            <p:cNvSpPr/>
            <p:nvPr/>
          </p:nvSpPr>
          <p:spPr>
            <a:xfrm>
              <a:off x="3794760" y="1085040"/>
              <a:ext cx="898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牛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46"/>
            <p:cNvSpPr/>
            <p:nvPr/>
          </p:nvSpPr>
          <p:spPr>
            <a:xfrm>
              <a:off x="4437360" y="2248560"/>
              <a:ext cx="898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5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逼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图片 1" descr=""/>
          <p:cNvPicPr/>
          <p:nvPr/>
        </p:nvPicPr>
        <p:blipFill>
          <a:blip r:embed="rId1"/>
          <a:stretch/>
        </p:blipFill>
        <p:spPr>
          <a:xfrm>
            <a:off x="1619640" y="2760120"/>
            <a:ext cx="2519640" cy="167508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3" descr=""/>
          <p:cNvPicPr/>
          <p:nvPr/>
        </p:nvPicPr>
        <p:blipFill>
          <a:blip r:embed="rId2"/>
          <a:stretch/>
        </p:blipFill>
        <p:spPr>
          <a:xfrm flipH="1">
            <a:off x="5032440" y="339480"/>
            <a:ext cx="25196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6" descr=""/>
          <p:cNvPicPr/>
          <p:nvPr/>
        </p:nvPicPr>
        <p:blipFill>
          <a:blip r:embed="rId1"/>
          <a:srcRect l="0" t="35554" r="0" b="44306"/>
          <a:stretch/>
        </p:blipFill>
        <p:spPr>
          <a:xfrm>
            <a:off x="3600" y="2475720"/>
            <a:ext cx="9147240" cy="9867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2" descr=""/>
          <p:cNvPicPr/>
          <p:nvPr/>
        </p:nvPicPr>
        <p:blipFill>
          <a:blip r:embed="rId2"/>
          <a:stretch/>
        </p:blipFill>
        <p:spPr>
          <a:xfrm>
            <a:off x="6262200" y="1352520"/>
            <a:ext cx="2382480" cy="1586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73" name="图片 11" descr=""/>
          <p:cNvPicPr/>
          <p:nvPr/>
        </p:nvPicPr>
        <p:blipFill>
          <a:blip r:embed="rId3"/>
          <a:stretch/>
        </p:blipFill>
        <p:spPr>
          <a:xfrm>
            <a:off x="3385800" y="1347480"/>
            <a:ext cx="2382480" cy="1586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74" name="图片 1" descr=""/>
          <p:cNvPicPr/>
          <p:nvPr/>
        </p:nvPicPr>
        <p:blipFill>
          <a:blip r:embed="rId4"/>
          <a:stretch/>
        </p:blipFill>
        <p:spPr>
          <a:xfrm>
            <a:off x="498960" y="1339920"/>
            <a:ext cx="2382480" cy="1586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75" name="矩形 2"/>
          <p:cNvSpPr/>
          <p:nvPr/>
        </p:nvSpPr>
        <p:spPr>
          <a:xfrm>
            <a:off x="866520" y="3909600"/>
            <a:ext cx="740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200000"/>
              </a:lnSpc>
            </a:pPr>
            <a:r>
              <a:rPr b="0" lang="zh-CN" sz="1400" spc="-1" strike="noStrike">
                <a:solidFill>
                  <a:srgbClr val="0e1e20"/>
                </a:solidFill>
                <a:latin typeface="微软雅黑"/>
                <a:ea typeface="微软雅黑"/>
              </a:rPr>
              <a:t>什么样的人才体系、什么样的人才体系、什么样的人才体系、什么样的人才体系、什么样的人才体系、什么样的人才体系、什么样的人才体系、什么样的人才体系、什么样的人才体系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33"/>
          <p:cNvGrpSpPr/>
          <p:nvPr/>
        </p:nvGrpSpPr>
        <p:grpSpPr>
          <a:xfrm>
            <a:off x="792360" y="381960"/>
            <a:ext cx="5075640" cy="455400"/>
            <a:chOff x="792360" y="381960"/>
            <a:chExt cx="5075640" cy="455400"/>
          </a:xfrm>
        </p:grpSpPr>
        <p:sp>
          <p:nvSpPr>
            <p:cNvPr id="177" name="矩形 34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78" name="矩形 35"/>
            <p:cNvSpPr/>
            <p:nvPr/>
          </p:nvSpPr>
          <p:spPr>
            <a:xfrm>
              <a:off x="971640" y="381960"/>
              <a:ext cx="4896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有着什么样的人才体系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6"/>
          <p:cNvSpPr/>
          <p:nvPr/>
        </p:nvSpPr>
        <p:spPr>
          <a:xfrm>
            <a:off x="471960" y="46123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33"/>
          <p:cNvGrpSpPr/>
          <p:nvPr/>
        </p:nvGrpSpPr>
        <p:grpSpPr>
          <a:xfrm>
            <a:off x="792360" y="381960"/>
            <a:ext cx="5291640" cy="455400"/>
            <a:chOff x="792360" y="381960"/>
            <a:chExt cx="5291640" cy="455400"/>
          </a:xfrm>
        </p:grpSpPr>
        <p:sp>
          <p:nvSpPr>
            <p:cNvPr id="181" name="矩形 34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82" name="矩形 35"/>
            <p:cNvSpPr/>
            <p:nvPr/>
          </p:nvSpPr>
          <p:spPr>
            <a:xfrm>
              <a:off x="971640" y="381960"/>
              <a:ext cx="5112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过什么惊天地的大品牌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6"/>
          <p:cNvSpPr/>
          <p:nvPr/>
        </p:nvSpPr>
        <p:spPr>
          <a:xfrm>
            <a:off x="804600" y="1186560"/>
            <a:ext cx="3380400" cy="16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spcBef>
                <a:spcPts val="550"/>
              </a:spcBef>
            </a:pP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我们服务</a:t>
            </a:r>
            <a:r>
              <a:rPr b="1" lang="en-US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10</a:t>
            </a: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年以上的品牌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100" spc="-1" strike="noStrike">
                <a:solidFill>
                  <a:srgbClr val="0e1e20"/>
                </a:solidFill>
                <a:latin typeface="微软雅黑"/>
                <a:ea typeface="微软雅黑"/>
              </a:rPr>
              <a:t>中国移动、中国移动、中国移动、中国移动、中国移动、中国移动、中国移动、中国移动、中国移动、中国移动、中国移动、中国移动、中国移动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我们服务</a:t>
            </a:r>
            <a:r>
              <a:rPr b="1" lang="en-US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6</a:t>
            </a: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－</a:t>
            </a:r>
            <a:r>
              <a:rPr b="1" lang="en-US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10</a:t>
            </a: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年的品牌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100" spc="-1" strike="noStrike">
                <a:solidFill>
                  <a:srgbClr val="0e1e20"/>
                </a:solidFill>
                <a:latin typeface="微软雅黑"/>
                <a:ea typeface="微软雅黑"/>
              </a:rPr>
              <a:t>中国移动、中国移动、中国移动、中国移动、中国移动、中国移动、中国移动、中国移动、中国移动、中国移动、中国移动、中国移动、中国移动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我们服务</a:t>
            </a:r>
            <a:r>
              <a:rPr b="1" lang="en-US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5</a:t>
            </a: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年以上的品牌占</a:t>
            </a:r>
            <a:r>
              <a:rPr b="1" lang="en-US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85</a:t>
            </a: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％以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550"/>
              </a:spcBef>
            </a:pPr>
            <a:r>
              <a:rPr b="0" lang="zh-CN" sz="1100" spc="-1" strike="noStrike">
                <a:solidFill>
                  <a:srgbClr val="0e1e20"/>
                </a:solidFill>
                <a:latin typeface="微软雅黑"/>
                <a:ea typeface="微软雅黑"/>
              </a:rPr>
              <a:t>中国移动、中国移动、中国移动、中国移动、中国移动、中国移动、中国移动、中国移动、中国移动、中国移动、中国移动、中国移动、中国移动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4716000" y="1923840"/>
            <a:ext cx="3645360" cy="23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theme/theme1.xml><?xml version="1.0" encoding="utf-8"?>
<a:theme xmlns:a="http://schemas.openxmlformats.org/drawingml/2006/main" name="微软雅黑-华文细黑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微软雅黑-华文细黑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Default Theme</Template>
  <TotalTime>6928</TotalTime>
  <Application>LibreOffice/7.4.7.2$Linux_X86_64 LibreOffice_project/40$Build-2</Application>
  <AppVersion>15.0000</AppVersion>
  <Words>785</Words>
  <Paragraphs>1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13:25:55Z</dcterms:created>
  <dc:creator>于皓</dc:creator>
  <dc:description/>
  <cp:keywords>2015版</cp:keywords>
  <dc:language>en-US</dc:language>
  <cp:lastModifiedBy>王玉清</cp:lastModifiedBy>
  <dcterms:modified xsi:type="dcterms:W3CDTF">2016-02-23T02:31:16Z</dcterms:modified>
  <cp:revision>631</cp:revision>
  <dc:subject/>
  <dc:title>省广股份GIMC2015年新版公司简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15</vt:r8>
  </property>
</Properties>
</file>