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cxnSp>
        <p:nvCxnSpPr>
          <p:cNvPr id="40" name="直接连接符 8"/>
          <p:cNvCxnSpPr/>
          <p:nvPr/>
        </p:nvCxnSpPr>
        <p:spPr>
          <a:xfrm>
            <a:off x="395280" y="6309000"/>
            <a:ext cx="8425440" cy="360"/>
          </a:xfrm>
          <a:prstGeom prst="straightConnector1">
            <a:avLst/>
          </a:prstGeom>
          <a:ln>
            <a:solidFill>
              <a:srgbClr val="042886"/>
            </a:solidFill>
            <a:round/>
          </a:ln>
        </p:spPr>
      </p:cxnSp>
      <p:sp>
        <p:nvSpPr>
          <p:cNvPr id="41" name="矩形 10"/>
          <p:cNvSpPr/>
          <p:nvPr/>
        </p:nvSpPr>
        <p:spPr>
          <a:xfrm>
            <a:off x="4430880" y="6453360"/>
            <a:ext cx="281880" cy="27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fld id="{22E20CA1-5C4F-410C-902D-6D758907DE1F}" type="slidenum"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1" name="矩形 7"/>
          <p:cNvSpPr/>
          <p:nvPr/>
        </p:nvSpPr>
        <p:spPr>
          <a:xfrm>
            <a:off x="4430880" y="6568920"/>
            <a:ext cx="28188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fld id="{84FDEED9-0E7E-4794-8506-0209138EF2B7}" type="slidenum">
              <a:rPr b="0" lang="en-US" sz="1200" spc="-1" strike="noStrike">
                <a:solidFill>
                  <a:srgbClr val="ffc000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4"/>
          <p:cNvSpPr/>
          <p:nvPr/>
        </p:nvSpPr>
        <p:spPr>
          <a:xfrm>
            <a:off x="2109240" y="1388520"/>
            <a:ext cx="49964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经典繁仿黑"/>
                <a:ea typeface="经典繁仿黑"/>
              </a:rPr>
              <a:t>精美商业演示</a:t>
            </a:r>
            <a:r>
              <a:rPr b="0" lang="en-US" sz="4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经典繁仿黑"/>
                <a:ea typeface="经典繁仿黑"/>
              </a:rPr>
              <a:t>PPT</a:t>
            </a:r>
            <a:r>
              <a:rPr b="0" lang="zh-CN" sz="4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经典繁仿黑"/>
                <a:ea typeface="经典繁仿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2771640" y="2205000"/>
            <a:ext cx="558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楷体"/>
                <a:ea typeface="楷体"/>
              </a:rPr>
              <a:t>点击添加你的副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683640" y="5508360"/>
            <a:ext cx="1872000" cy="577080"/>
          </a:xfrm>
          <a:prstGeom prst="rect">
            <a:avLst/>
          </a:prstGeom>
          <a:noFill/>
          <a:ln w="0">
            <a:noFill/>
          </a:ln>
          <a:effectLst>
            <a:reflection algn="bl" blurRad="6350" dir="5400000" dist="50800" endA="300" endPos="385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3200" spc="-1" strike="noStrike">
                <a:solidFill>
                  <a:srgbClr val="031b59"/>
                </a:solidFill>
                <a:latin typeface="Broadway"/>
                <a:ea typeface="楷体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4608000" y="5157360"/>
            <a:ext cx="3564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chemeClr val="accent5">
                    <a:lumMod val="50000"/>
                  </a:schemeClr>
                </a:solidFill>
                <a:latin typeface="楷体"/>
                <a:ea typeface="楷体"/>
              </a:rPr>
              <a:t>项目负责人</a:t>
            </a:r>
            <a:r>
              <a:rPr b="0" lang="en-US" sz="2000" spc="-1" strike="noStrike">
                <a:solidFill>
                  <a:schemeClr val="accent5">
                    <a:lumMod val="50000"/>
                  </a:schemeClr>
                </a:solidFill>
                <a:latin typeface="楷体"/>
                <a:ea typeface="楷体"/>
              </a:rPr>
              <a:t>: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4608000" y="5661360"/>
            <a:ext cx="3564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2000" spc="-1" strike="noStrike">
                <a:solidFill>
                  <a:schemeClr val="accent5">
                    <a:lumMod val="50000"/>
                  </a:schemeClr>
                </a:solidFill>
                <a:latin typeface="楷体"/>
                <a:ea typeface="楷体"/>
              </a:rPr>
              <a:t>2012</a:t>
            </a:r>
            <a:r>
              <a:rPr b="0" lang="zh-CN" sz="2000" spc="-1" strike="noStrike">
                <a:solidFill>
                  <a:schemeClr val="accent5">
                    <a:lumMod val="50000"/>
                  </a:schemeClr>
                </a:solidFill>
                <a:latin typeface="楷体"/>
                <a:ea typeface="楷体"/>
              </a:rPr>
              <a:t>年</a:t>
            </a:r>
            <a:r>
              <a:rPr b="0" lang="en-US" sz="2000" spc="-1" strike="noStrike">
                <a:solidFill>
                  <a:schemeClr val="accent5">
                    <a:lumMod val="50000"/>
                  </a:schemeClr>
                </a:solidFill>
                <a:latin typeface="楷体"/>
                <a:ea typeface="楷体"/>
              </a:rPr>
              <a:t>9</a:t>
            </a:r>
            <a:r>
              <a:rPr b="0" lang="zh-CN" sz="2000" spc="-1" strike="noStrike">
                <a:solidFill>
                  <a:schemeClr val="accent5">
                    <a:lumMod val="50000"/>
                  </a:schemeClr>
                </a:solidFill>
                <a:latin typeface="楷体"/>
                <a:ea typeface="楷体"/>
              </a:rPr>
              <a:t>月</a:t>
            </a:r>
            <a:r>
              <a:rPr b="0" lang="en-US" sz="2000" spc="-1" strike="noStrike">
                <a:solidFill>
                  <a:schemeClr val="accent5">
                    <a:lumMod val="50000"/>
                  </a:schemeClr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chemeClr val="accent5">
                    <a:lumMod val="50000"/>
                  </a:schemeClr>
                </a:solidFill>
                <a:latin typeface="楷体"/>
                <a:ea typeface="楷体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2"/>
          <p:cNvSpPr/>
          <p:nvPr/>
        </p:nvSpPr>
        <p:spPr>
          <a:xfrm>
            <a:off x="209160" y="65530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4"/>
          <p:cNvSpPr/>
          <p:nvPr/>
        </p:nvSpPr>
        <p:spPr>
          <a:xfrm>
            <a:off x="539640" y="332640"/>
            <a:ext cx="4771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经典繁仿黑"/>
                <a:ea typeface="经典繁仿黑"/>
              </a:rPr>
              <a:t>一、请自行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2"/>
          <p:cNvGrpSpPr/>
          <p:nvPr/>
        </p:nvGrpSpPr>
        <p:grpSpPr>
          <a:xfrm>
            <a:off x="1234440" y="1836360"/>
            <a:ext cx="6177600" cy="4033800"/>
            <a:chOff x="1234440" y="1836360"/>
            <a:chExt cx="6177600" cy="4033800"/>
          </a:xfrm>
        </p:grpSpPr>
        <p:sp>
          <p:nvSpPr>
            <p:cNvPr id="167" name="Arc 11"/>
            <p:cNvSpPr/>
            <p:nvPr/>
          </p:nvSpPr>
          <p:spPr>
            <a:xfrm>
              <a:off x="2486520" y="1836360"/>
              <a:ext cx="2072880" cy="1928520"/>
            </a:xfrm>
            <a:custGeom>
              <a:avLst/>
              <a:gdLst>
                <a:gd name="textAreaLeft" fmla="*/ 0 w 2072880"/>
                <a:gd name="textAreaRight" fmla="*/ 2073240 w 2072880"/>
                <a:gd name="textAreaTop" fmla="*/ 0 h 1928520"/>
                <a:gd name="textAreaBottom" fmla="*/ 1928880 h 1928520"/>
              </a:gdLst>
              <a:ahLst/>
              <a:rect l="textAreaLeft" t="textAreaTop" r="textAreaRight" b="textAreaBottom"/>
              <a:pathLst>
                <a:path fill="none" w="14464" h="20295">
                  <a:moveTo>
                    <a:pt x="-1" y="4252"/>
                  </a:moveTo>
                  <a:cubicBezTo>
                    <a:pt x="2061" y="2393"/>
                    <a:pt x="4462" y="949"/>
                    <a:pt x="7070" y="-1"/>
                  </a:cubicBezTo>
                </a:path>
                <a:path stroke="0" w="14464" h="20295">
                  <a:moveTo>
                    <a:pt x="-1" y="4252"/>
                  </a:moveTo>
                  <a:cubicBezTo>
                    <a:pt x="2061" y="2393"/>
                    <a:pt x="4462" y="949"/>
                    <a:pt x="7070" y="-1"/>
                  </a:cubicBezTo>
                  <a:lnTo>
                    <a:pt x="14464" y="20295"/>
                  </a:lnTo>
                  <a:lnTo>
                    <a:pt x="-1" y="4252"/>
                  </a:lnTo>
                  <a:close/>
                </a:path>
              </a:pathLst>
            </a:custGeom>
            <a:noFill/>
            <a:ln w="38100">
              <a:solidFill>
                <a:srgbClr val="ffc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68" name="Arc 39"/>
            <p:cNvSpPr/>
            <p:nvPr/>
          </p:nvSpPr>
          <p:spPr>
            <a:xfrm rot="413400">
              <a:off x="1296000" y="3820680"/>
              <a:ext cx="3096720" cy="1215720"/>
            </a:xfrm>
            <a:custGeom>
              <a:avLst/>
              <a:gdLst>
                <a:gd name="textAreaLeft" fmla="*/ 0 w 3096720"/>
                <a:gd name="textAreaRight" fmla="*/ 3097080 w 3096720"/>
                <a:gd name="textAreaTop" fmla="*/ 0 h 1215720"/>
                <a:gd name="textAreaBottom" fmla="*/ 1216080 h 1215720"/>
              </a:gdLst>
              <a:ahLst/>
              <a:rect l="textAreaLeft" t="textAreaTop" r="textAreaRight" b="textAreaBottom"/>
              <a:pathLst>
                <a:path fill="none" w="21600" h="12802">
                  <a:moveTo>
                    <a:pt x="3707" y="12801"/>
                  </a:moveTo>
                  <a:cubicBezTo>
                    <a:pt x="1291" y="9229"/>
                    <a:pt x="0" y="5014"/>
                    <a:pt x="0" y="702"/>
                  </a:cubicBezTo>
                  <a:cubicBezTo>
                    <a:pt x="-1" y="467"/>
                    <a:pt x="3" y="233"/>
                    <a:pt x="11" y="0"/>
                  </a:cubicBezTo>
                </a:path>
                <a:path stroke="0" w="21600" h="12802">
                  <a:moveTo>
                    <a:pt x="3707" y="12801"/>
                  </a:moveTo>
                  <a:cubicBezTo>
                    <a:pt x="1291" y="9229"/>
                    <a:pt x="0" y="5014"/>
                    <a:pt x="0" y="702"/>
                  </a:cubicBezTo>
                  <a:cubicBezTo>
                    <a:pt x="-1" y="467"/>
                    <a:pt x="3" y="233"/>
                    <a:pt x="11" y="0"/>
                  </a:cubicBezTo>
                  <a:lnTo>
                    <a:pt x="21600" y="702"/>
                  </a:lnTo>
                  <a:lnTo>
                    <a:pt x="3707" y="12801"/>
                  </a:lnTo>
                  <a:close/>
                </a:path>
              </a:pathLst>
            </a:custGeom>
            <a:noFill/>
            <a:ln w="38100">
              <a:solidFill>
                <a:srgbClr val="ffc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69" name="Arc 40"/>
            <p:cNvSpPr/>
            <p:nvPr/>
          </p:nvSpPr>
          <p:spPr>
            <a:xfrm>
              <a:off x="3705840" y="3817800"/>
              <a:ext cx="1344240" cy="2052360"/>
            </a:xfrm>
            <a:custGeom>
              <a:avLst/>
              <a:gdLst>
                <a:gd name="textAreaLeft" fmla="*/ 0 w 1344240"/>
                <a:gd name="textAreaRight" fmla="*/ 1344600 w 1344240"/>
                <a:gd name="textAreaTop" fmla="*/ 0 h 2052360"/>
                <a:gd name="textAreaBottom" fmla="*/ 2052720 h 2052360"/>
              </a:gdLst>
              <a:ahLst/>
              <a:rect l="textAreaLeft" t="textAreaTop" r="textAreaRight" b="textAreaBottom"/>
              <a:pathLst>
                <a:path fill="none" w="9377" h="21600">
                  <a:moveTo>
                    <a:pt x="9376" y="20929"/>
                  </a:moveTo>
                  <a:cubicBezTo>
                    <a:pt x="7631" y="21374"/>
                    <a:pt x="5837" y="21599"/>
                    <a:pt x="4037" y="21600"/>
                  </a:cubicBezTo>
                  <a:cubicBezTo>
                    <a:pt x="2682" y="21600"/>
                    <a:pt x="1330" y="21472"/>
                    <a:pt x="-1" y="21219"/>
                  </a:cubicBezTo>
                </a:path>
                <a:path stroke="0" w="9377" h="21600">
                  <a:moveTo>
                    <a:pt x="9376" y="20929"/>
                  </a:moveTo>
                  <a:cubicBezTo>
                    <a:pt x="7631" y="21374"/>
                    <a:pt x="5837" y="21599"/>
                    <a:pt x="4037" y="21600"/>
                  </a:cubicBezTo>
                  <a:cubicBezTo>
                    <a:pt x="2682" y="21600"/>
                    <a:pt x="1330" y="21472"/>
                    <a:pt x="-1" y="21219"/>
                  </a:cubicBezTo>
                  <a:lnTo>
                    <a:pt x="4037" y="0"/>
                  </a:lnTo>
                  <a:lnTo>
                    <a:pt x="9376" y="20929"/>
                  </a:lnTo>
                  <a:close/>
                </a:path>
              </a:pathLst>
            </a:custGeom>
            <a:noFill/>
            <a:ln w="38100">
              <a:solidFill>
                <a:srgbClr val="ffc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70" name="Arc 41"/>
            <p:cNvSpPr/>
            <p:nvPr/>
          </p:nvSpPr>
          <p:spPr>
            <a:xfrm>
              <a:off x="4315320" y="3695400"/>
              <a:ext cx="3096720" cy="1188720"/>
            </a:xfrm>
            <a:custGeom>
              <a:avLst/>
              <a:gdLst>
                <a:gd name="textAreaLeft" fmla="*/ 0 w 3096720"/>
                <a:gd name="textAreaRight" fmla="*/ 3097080 w 3096720"/>
                <a:gd name="textAreaTop" fmla="*/ 0 h 1188720"/>
                <a:gd name="textAreaBottom" fmla="*/ 1189080 h 1188720"/>
              </a:gdLst>
              <a:ahLst/>
              <a:rect l="textAreaLeft" t="textAreaTop" r="textAreaRight" b="textAreaBottom"/>
              <a:pathLst>
                <a:path fill="none" w="21600" h="12526">
                  <a:moveTo>
                    <a:pt x="21527" y="-1"/>
                  </a:moveTo>
                  <a:cubicBezTo>
                    <a:pt x="21575" y="589"/>
                    <a:pt x="21600" y="1181"/>
                    <a:pt x="21600" y="1773"/>
                  </a:cubicBezTo>
                  <a:cubicBezTo>
                    <a:pt x="21600" y="5546"/>
                    <a:pt x="20611" y="9253"/>
                    <a:pt x="18733" y="12526"/>
                  </a:cubicBezTo>
                </a:path>
                <a:path stroke="0" w="21600" h="12526">
                  <a:moveTo>
                    <a:pt x="21527" y="-1"/>
                  </a:moveTo>
                  <a:cubicBezTo>
                    <a:pt x="21575" y="589"/>
                    <a:pt x="21600" y="1181"/>
                    <a:pt x="21600" y="1773"/>
                  </a:cubicBezTo>
                  <a:cubicBezTo>
                    <a:pt x="21600" y="5546"/>
                    <a:pt x="20611" y="9253"/>
                    <a:pt x="18733" y="12526"/>
                  </a:cubicBezTo>
                  <a:lnTo>
                    <a:pt x="0" y="1773"/>
                  </a:lnTo>
                  <a:lnTo>
                    <a:pt x="21527" y="-1"/>
                  </a:lnTo>
                  <a:close/>
                </a:path>
              </a:pathLst>
            </a:custGeom>
            <a:noFill/>
            <a:ln w="38100">
              <a:solidFill>
                <a:srgbClr val="ffc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71" name="Arc 42"/>
            <p:cNvSpPr/>
            <p:nvPr/>
          </p:nvSpPr>
          <p:spPr>
            <a:xfrm>
              <a:off x="4479120" y="1936440"/>
              <a:ext cx="1893600" cy="1956960"/>
            </a:xfrm>
            <a:custGeom>
              <a:avLst/>
              <a:gdLst>
                <a:gd name="textAreaLeft" fmla="*/ 0 w 1893600"/>
                <a:gd name="textAreaRight" fmla="*/ 1893960 w 1893600"/>
                <a:gd name="textAreaTop" fmla="*/ 0 h 1956960"/>
                <a:gd name="textAreaBottom" fmla="*/ 1957320 h 1956960"/>
              </a:gdLst>
              <a:ahLst/>
              <a:rect l="textAreaLeft" t="textAreaTop" r="textAreaRight" b="textAreaBottom"/>
              <a:pathLst>
                <a:path fill="none" w="13214" h="20600">
                  <a:moveTo>
                    <a:pt x="6497" y="0"/>
                  </a:moveTo>
                  <a:cubicBezTo>
                    <a:pt x="8926" y="766"/>
                    <a:pt x="11199" y="1955"/>
                    <a:pt x="13213" y="3513"/>
                  </a:cubicBezTo>
                </a:path>
                <a:path stroke="0" w="13214" h="20600">
                  <a:moveTo>
                    <a:pt x="6497" y="0"/>
                  </a:moveTo>
                  <a:cubicBezTo>
                    <a:pt x="8926" y="766"/>
                    <a:pt x="11199" y="1955"/>
                    <a:pt x="13213" y="3513"/>
                  </a:cubicBezTo>
                  <a:lnTo>
                    <a:pt x="0" y="20600"/>
                  </a:lnTo>
                  <a:lnTo>
                    <a:pt x="6497" y="0"/>
                  </a:lnTo>
                  <a:close/>
                </a:path>
              </a:pathLst>
            </a:custGeom>
            <a:noFill/>
            <a:ln w="38100">
              <a:solidFill>
                <a:srgbClr val="ffc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172" name="Oval 12"/>
          <p:cNvSpPr/>
          <p:nvPr/>
        </p:nvSpPr>
        <p:spPr>
          <a:xfrm>
            <a:off x="1667520" y="2041200"/>
            <a:ext cx="5435280" cy="3603240"/>
          </a:xfrm>
          <a:prstGeom prst="ellipse">
            <a:avLst/>
          </a:prstGeom>
          <a:gradFill rotWithShape="0">
            <a:gsLst>
              <a:gs pos="28000">
                <a:srgbClr val="002060"/>
              </a:gs>
              <a:gs pos="100000">
                <a:srgbClr val="0959b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73" name="Oval 13"/>
          <p:cNvSpPr/>
          <p:nvPr/>
        </p:nvSpPr>
        <p:spPr>
          <a:xfrm>
            <a:off x="1807200" y="2079360"/>
            <a:ext cx="5157360" cy="32778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74" name="Rectangle 77"/>
          <p:cNvSpPr/>
          <p:nvPr/>
        </p:nvSpPr>
        <p:spPr>
          <a:xfrm>
            <a:off x="3790440" y="3393720"/>
            <a:ext cx="1274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2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层并列关系展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04"/>
          <p:cNvGrpSpPr/>
          <p:nvPr/>
        </p:nvGrpSpPr>
        <p:grpSpPr>
          <a:xfrm>
            <a:off x="6012360" y="2133360"/>
            <a:ext cx="1844280" cy="1788840"/>
            <a:chOff x="6012360" y="2133360"/>
            <a:chExt cx="1844280" cy="1788840"/>
          </a:xfrm>
        </p:grpSpPr>
        <p:sp>
          <p:nvSpPr>
            <p:cNvPr id="176" name="Oval 48"/>
            <p:cNvSpPr/>
            <p:nvPr/>
          </p:nvSpPr>
          <p:spPr>
            <a:xfrm>
              <a:off x="6012360" y="3141360"/>
              <a:ext cx="1844280" cy="780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77" name="Oval 52"/>
            <p:cNvSpPr/>
            <p:nvPr/>
          </p:nvSpPr>
          <p:spPr>
            <a:xfrm>
              <a:off x="6152040" y="2133360"/>
              <a:ext cx="1564920" cy="1552320"/>
            </a:xfrm>
            <a:prstGeom prst="ellips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2700000"/>
            </a:gradFill>
            <a:ln w="9525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8" name="Picture 53" descr="Picture2"/>
            <p:cNvPicPr/>
            <p:nvPr/>
          </p:nvPicPr>
          <p:blipFill>
            <a:blip r:embed="rId1"/>
            <a:stretch/>
          </p:blipFill>
          <p:spPr>
            <a:xfrm>
              <a:off x="6312600" y="2133360"/>
              <a:ext cx="1244160" cy="547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9" name="Group 54"/>
            <p:cNvGrpSpPr/>
            <p:nvPr/>
          </p:nvGrpSpPr>
          <p:grpSpPr>
            <a:xfrm>
              <a:off x="6253920" y="3141000"/>
              <a:ext cx="1366560" cy="544320"/>
              <a:chOff x="6253920" y="3141000"/>
              <a:chExt cx="1366560" cy="544320"/>
            </a:xfrm>
          </p:grpSpPr>
          <p:grpSp>
            <p:nvGrpSpPr>
              <p:cNvPr id="180" name="Group 55"/>
              <p:cNvGrpSpPr/>
              <p:nvPr/>
            </p:nvGrpSpPr>
            <p:grpSpPr>
              <a:xfrm>
                <a:off x="6492600" y="3141000"/>
                <a:ext cx="1127880" cy="512640"/>
                <a:chOff x="6492600" y="3141000"/>
                <a:chExt cx="1127880" cy="512640"/>
              </a:xfrm>
            </p:grpSpPr>
            <p:sp>
              <p:nvSpPr>
                <p:cNvPr id="181" name="AutoShape 56"/>
                <p:cNvSpPr/>
                <p:nvPr/>
              </p:nvSpPr>
              <p:spPr>
                <a:xfrm rot="14766000">
                  <a:off x="7107120" y="2987640"/>
                  <a:ext cx="19764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82" name="AutoShape 57"/>
                <p:cNvSpPr/>
                <p:nvPr/>
              </p:nvSpPr>
              <p:spPr>
                <a:xfrm rot="15580800">
                  <a:off x="6980040" y="3037680"/>
                  <a:ext cx="19764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83" name="AutoShape 58"/>
                <p:cNvSpPr/>
                <p:nvPr/>
              </p:nvSpPr>
              <p:spPr>
                <a:xfrm rot="15876600">
                  <a:off x="6902280" y="3048120"/>
                  <a:ext cx="19764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84" name="AutoShape 59"/>
                <p:cNvSpPr/>
                <p:nvPr/>
              </p:nvSpPr>
              <p:spPr>
                <a:xfrm rot="16408800">
                  <a:off x="6808320" y="3057120"/>
                  <a:ext cx="19764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</p:grpSp>
          <p:grpSp>
            <p:nvGrpSpPr>
              <p:cNvPr id="185" name="Group 60"/>
              <p:cNvGrpSpPr/>
              <p:nvPr/>
            </p:nvGrpSpPr>
            <p:grpSpPr>
              <a:xfrm>
                <a:off x="6253920" y="3147120"/>
                <a:ext cx="1125720" cy="538200"/>
                <a:chOff x="6253920" y="3147120"/>
                <a:chExt cx="1125720" cy="538200"/>
              </a:xfrm>
            </p:grpSpPr>
            <p:sp>
              <p:nvSpPr>
                <p:cNvPr id="186" name="AutoShape 61"/>
                <p:cNvSpPr/>
                <p:nvPr/>
              </p:nvSpPr>
              <p:spPr>
                <a:xfrm rot="16119000">
                  <a:off x="6868440" y="3057120"/>
                  <a:ext cx="19872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87" name="AutoShape 62"/>
                <p:cNvSpPr/>
                <p:nvPr/>
              </p:nvSpPr>
              <p:spPr>
                <a:xfrm rot="16934400">
                  <a:off x="6732000" y="3054600"/>
                  <a:ext cx="19872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88" name="AutoShape 63"/>
                <p:cNvSpPr/>
                <p:nvPr/>
              </p:nvSpPr>
              <p:spPr>
                <a:xfrm rot="17230200">
                  <a:off x="6656040" y="3034440"/>
                  <a:ext cx="19872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89" name="AutoShape 64"/>
                <p:cNvSpPr/>
                <p:nvPr/>
              </p:nvSpPr>
              <p:spPr>
                <a:xfrm rot="17762400">
                  <a:off x="6566040" y="3006360"/>
                  <a:ext cx="19872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</p:grpSp>
        </p:grpSp>
      </p:grpSp>
      <p:grpSp>
        <p:nvGrpSpPr>
          <p:cNvPr id="190" name="Group 105"/>
          <p:cNvGrpSpPr/>
          <p:nvPr/>
        </p:nvGrpSpPr>
        <p:grpSpPr>
          <a:xfrm>
            <a:off x="1043640" y="2133360"/>
            <a:ext cx="1844280" cy="1788840"/>
            <a:chOff x="1043640" y="2133360"/>
            <a:chExt cx="1844280" cy="1788840"/>
          </a:xfrm>
        </p:grpSpPr>
        <p:sp>
          <p:nvSpPr>
            <p:cNvPr id="191" name="Oval 48"/>
            <p:cNvSpPr/>
            <p:nvPr/>
          </p:nvSpPr>
          <p:spPr>
            <a:xfrm>
              <a:off x="1043640" y="3141360"/>
              <a:ext cx="1844280" cy="780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92" name="Oval 52"/>
            <p:cNvSpPr/>
            <p:nvPr/>
          </p:nvSpPr>
          <p:spPr>
            <a:xfrm>
              <a:off x="1183320" y="2133360"/>
              <a:ext cx="1564920" cy="1552320"/>
            </a:xfrm>
            <a:prstGeom prst="ellipse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72540d"/>
                </a:gs>
              </a:gsLst>
              <a:lin ang="2700000"/>
            </a:gradFill>
            <a:ln w="9525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Picture 53" descr="Picture2"/>
            <p:cNvPicPr/>
            <p:nvPr/>
          </p:nvPicPr>
          <p:blipFill>
            <a:blip r:embed="rId2"/>
            <a:stretch/>
          </p:blipFill>
          <p:spPr>
            <a:xfrm>
              <a:off x="1343520" y="2133360"/>
              <a:ext cx="1244160" cy="547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4" name="Group 54"/>
            <p:cNvGrpSpPr/>
            <p:nvPr/>
          </p:nvGrpSpPr>
          <p:grpSpPr>
            <a:xfrm>
              <a:off x="1285200" y="3141000"/>
              <a:ext cx="1366560" cy="544320"/>
              <a:chOff x="1285200" y="3141000"/>
              <a:chExt cx="1366560" cy="544320"/>
            </a:xfrm>
          </p:grpSpPr>
          <p:grpSp>
            <p:nvGrpSpPr>
              <p:cNvPr id="195" name="Group 55"/>
              <p:cNvGrpSpPr/>
              <p:nvPr/>
            </p:nvGrpSpPr>
            <p:grpSpPr>
              <a:xfrm>
                <a:off x="1523520" y="3141000"/>
                <a:ext cx="1128240" cy="512640"/>
                <a:chOff x="1523520" y="3141000"/>
                <a:chExt cx="1128240" cy="512640"/>
              </a:xfrm>
            </p:grpSpPr>
            <p:sp>
              <p:nvSpPr>
                <p:cNvPr id="196" name="AutoShape 56"/>
                <p:cNvSpPr/>
                <p:nvPr/>
              </p:nvSpPr>
              <p:spPr>
                <a:xfrm rot="14766000">
                  <a:off x="2138400" y="2987640"/>
                  <a:ext cx="19764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97" name="AutoShape 57"/>
                <p:cNvSpPr/>
                <p:nvPr/>
              </p:nvSpPr>
              <p:spPr>
                <a:xfrm rot="15580800">
                  <a:off x="2011320" y="3037680"/>
                  <a:ext cx="19764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98" name="AutoShape 58"/>
                <p:cNvSpPr/>
                <p:nvPr/>
              </p:nvSpPr>
              <p:spPr>
                <a:xfrm rot="15876600">
                  <a:off x="1933200" y="3048120"/>
                  <a:ext cx="19764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99" name="AutoShape 59"/>
                <p:cNvSpPr/>
                <p:nvPr/>
              </p:nvSpPr>
              <p:spPr>
                <a:xfrm rot="16408800">
                  <a:off x="1839240" y="3057120"/>
                  <a:ext cx="19764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</p:grpSp>
          <p:grpSp>
            <p:nvGrpSpPr>
              <p:cNvPr id="200" name="Group 60"/>
              <p:cNvGrpSpPr/>
              <p:nvPr/>
            </p:nvGrpSpPr>
            <p:grpSpPr>
              <a:xfrm>
                <a:off x="1285200" y="3147120"/>
                <a:ext cx="1125720" cy="538200"/>
                <a:chOff x="1285200" y="3147120"/>
                <a:chExt cx="1125720" cy="538200"/>
              </a:xfrm>
            </p:grpSpPr>
            <p:sp>
              <p:nvSpPr>
                <p:cNvPr id="201" name="AutoShape 61"/>
                <p:cNvSpPr/>
                <p:nvPr/>
              </p:nvSpPr>
              <p:spPr>
                <a:xfrm rot="16119000">
                  <a:off x="1899720" y="3057120"/>
                  <a:ext cx="19872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202" name="AutoShape 62"/>
                <p:cNvSpPr/>
                <p:nvPr/>
              </p:nvSpPr>
              <p:spPr>
                <a:xfrm rot="16934400">
                  <a:off x="1763280" y="3054600"/>
                  <a:ext cx="19872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203" name="AutoShape 63"/>
                <p:cNvSpPr/>
                <p:nvPr/>
              </p:nvSpPr>
              <p:spPr>
                <a:xfrm rot="17230200">
                  <a:off x="1686960" y="3034440"/>
                  <a:ext cx="19872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204" name="AutoShape 64"/>
                <p:cNvSpPr/>
                <p:nvPr/>
              </p:nvSpPr>
              <p:spPr>
                <a:xfrm rot="17762400">
                  <a:off x="1597320" y="3006360"/>
                  <a:ext cx="19872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</p:grpSp>
        </p:grpSp>
      </p:grpSp>
      <p:grpSp>
        <p:nvGrpSpPr>
          <p:cNvPr id="205" name="Group 121"/>
          <p:cNvGrpSpPr/>
          <p:nvPr/>
        </p:nvGrpSpPr>
        <p:grpSpPr>
          <a:xfrm>
            <a:off x="1808640" y="4243320"/>
            <a:ext cx="2088720" cy="2025000"/>
            <a:chOff x="1808640" y="4243320"/>
            <a:chExt cx="2088720" cy="2025000"/>
          </a:xfrm>
        </p:grpSpPr>
        <p:sp>
          <p:nvSpPr>
            <p:cNvPr id="206" name="Oval 48"/>
            <p:cNvSpPr/>
            <p:nvPr/>
          </p:nvSpPr>
          <p:spPr>
            <a:xfrm>
              <a:off x="1808640" y="5384520"/>
              <a:ext cx="2088720" cy="883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07" name="Oval 52"/>
            <p:cNvSpPr/>
            <p:nvPr/>
          </p:nvSpPr>
          <p:spPr>
            <a:xfrm>
              <a:off x="1967040" y="4243320"/>
              <a:ext cx="1772280" cy="1757520"/>
            </a:xfrm>
            <a:prstGeom prst="ellips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2700000"/>
            </a:gradFill>
            <a:ln w="9525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8" name="Picture 53" descr="Picture2"/>
            <p:cNvPicPr/>
            <p:nvPr/>
          </p:nvPicPr>
          <p:blipFill>
            <a:blip r:embed="rId3"/>
            <a:stretch/>
          </p:blipFill>
          <p:spPr>
            <a:xfrm>
              <a:off x="2148480" y="4243320"/>
              <a:ext cx="1409040" cy="619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9" name="Group 54"/>
            <p:cNvGrpSpPr/>
            <p:nvPr/>
          </p:nvGrpSpPr>
          <p:grpSpPr>
            <a:xfrm>
              <a:off x="2082240" y="5383440"/>
              <a:ext cx="1548000" cy="616680"/>
              <a:chOff x="2082240" y="5383440"/>
              <a:chExt cx="1548000" cy="616680"/>
            </a:xfrm>
          </p:grpSpPr>
          <p:grpSp>
            <p:nvGrpSpPr>
              <p:cNvPr id="210" name="Group 55"/>
              <p:cNvGrpSpPr/>
              <p:nvPr/>
            </p:nvGrpSpPr>
            <p:grpSpPr>
              <a:xfrm>
                <a:off x="2352600" y="5383440"/>
                <a:ext cx="1277640" cy="580680"/>
                <a:chOff x="2352600" y="5383440"/>
                <a:chExt cx="1277640" cy="580680"/>
              </a:xfrm>
            </p:grpSpPr>
            <p:sp>
              <p:nvSpPr>
                <p:cNvPr id="211" name="AutoShape 56"/>
                <p:cNvSpPr/>
                <p:nvPr/>
              </p:nvSpPr>
              <p:spPr>
                <a:xfrm rot="14766000">
                  <a:off x="3048840" y="5209920"/>
                  <a:ext cx="22392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212" name="AutoShape 57"/>
                <p:cNvSpPr/>
                <p:nvPr/>
              </p:nvSpPr>
              <p:spPr>
                <a:xfrm rot="15580800">
                  <a:off x="2904480" y="5266800"/>
                  <a:ext cx="22392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213" name="AutoShape 58"/>
                <p:cNvSpPr/>
                <p:nvPr/>
              </p:nvSpPr>
              <p:spPr>
                <a:xfrm rot="15876600">
                  <a:off x="2816280" y="5278320"/>
                  <a:ext cx="22392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214" name="AutoShape 59"/>
                <p:cNvSpPr/>
                <p:nvPr/>
              </p:nvSpPr>
              <p:spPr>
                <a:xfrm rot="16408800">
                  <a:off x="2710440" y="5288760"/>
                  <a:ext cx="22392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</p:grpSp>
          <p:grpSp>
            <p:nvGrpSpPr>
              <p:cNvPr id="215" name="Group 60"/>
              <p:cNvGrpSpPr/>
              <p:nvPr/>
            </p:nvGrpSpPr>
            <p:grpSpPr>
              <a:xfrm>
                <a:off x="2082240" y="5390640"/>
                <a:ext cx="1275120" cy="609480"/>
                <a:chOff x="2082240" y="5390640"/>
                <a:chExt cx="1275120" cy="609480"/>
              </a:xfrm>
            </p:grpSpPr>
            <p:sp>
              <p:nvSpPr>
                <p:cNvPr id="216" name="AutoShape 61"/>
                <p:cNvSpPr/>
                <p:nvPr/>
              </p:nvSpPr>
              <p:spPr>
                <a:xfrm rot="16119000">
                  <a:off x="2778120" y="5288760"/>
                  <a:ext cx="22536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217" name="AutoShape 62"/>
                <p:cNvSpPr/>
                <p:nvPr/>
              </p:nvSpPr>
              <p:spPr>
                <a:xfrm rot="16934400">
                  <a:off x="2623680" y="5286240"/>
                  <a:ext cx="22536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218" name="AutoShape 63"/>
                <p:cNvSpPr/>
                <p:nvPr/>
              </p:nvSpPr>
              <p:spPr>
                <a:xfrm rot="17230200">
                  <a:off x="2537640" y="5262840"/>
                  <a:ext cx="22536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219" name="AutoShape 64"/>
                <p:cNvSpPr/>
                <p:nvPr/>
              </p:nvSpPr>
              <p:spPr>
                <a:xfrm rot="17762400">
                  <a:off x="2435760" y="5231160"/>
                  <a:ext cx="22536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</p:grpSp>
        </p:grpSp>
      </p:grpSp>
      <p:grpSp>
        <p:nvGrpSpPr>
          <p:cNvPr id="220" name="Group 136"/>
          <p:cNvGrpSpPr/>
          <p:nvPr/>
        </p:nvGrpSpPr>
        <p:grpSpPr>
          <a:xfrm>
            <a:off x="4977360" y="4243320"/>
            <a:ext cx="2088720" cy="2025000"/>
            <a:chOff x="4977360" y="4243320"/>
            <a:chExt cx="2088720" cy="2025000"/>
          </a:xfrm>
        </p:grpSpPr>
        <p:sp>
          <p:nvSpPr>
            <p:cNvPr id="221" name="Oval 48"/>
            <p:cNvSpPr/>
            <p:nvPr/>
          </p:nvSpPr>
          <p:spPr>
            <a:xfrm>
              <a:off x="4977360" y="5384520"/>
              <a:ext cx="2088720" cy="883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22" name="Oval 52"/>
            <p:cNvSpPr/>
            <p:nvPr/>
          </p:nvSpPr>
          <p:spPr>
            <a:xfrm>
              <a:off x="5148360" y="4243320"/>
              <a:ext cx="1772280" cy="1757520"/>
            </a:xfrm>
            <a:prstGeom prst="ellipse">
              <a:avLst/>
            </a:prstGeom>
            <a:gradFill rotWithShape="0">
              <a:gsLst>
                <a:gs pos="0">
                  <a:srgbClr val="0070c0"/>
                </a:gs>
                <a:gs pos="100000">
                  <a:srgbClr val="002060"/>
                </a:gs>
              </a:gsLst>
              <a:lin ang="2700000"/>
            </a:gradFill>
            <a:ln w="9525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3" name="Picture 53" descr="Picture2"/>
            <p:cNvPicPr/>
            <p:nvPr/>
          </p:nvPicPr>
          <p:blipFill>
            <a:blip r:embed="rId4"/>
            <a:stretch/>
          </p:blipFill>
          <p:spPr>
            <a:xfrm>
              <a:off x="5317200" y="4243320"/>
              <a:ext cx="1409040" cy="619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4" name="Group 54"/>
            <p:cNvGrpSpPr/>
            <p:nvPr/>
          </p:nvGrpSpPr>
          <p:grpSpPr>
            <a:xfrm>
              <a:off x="5250960" y="5383440"/>
              <a:ext cx="1547640" cy="616680"/>
              <a:chOff x="5250960" y="5383440"/>
              <a:chExt cx="1547640" cy="616680"/>
            </a:xfrm>
          </p:grpSpPr>
          <p:grpSp>
            <p:nvGrpSpPr>
              <p:cNvPr id="225" name="Group 55"/>
              <p:cNvGrpSpPr/>
              <p:nvPr/>
            </p:nvGrpSpPr>
            <p:grpSpPr>
              <a:xfrm>
                <a:off x="5520960" y="5383440"/>
                <a:ext cx="1277640" cy="580680"/>
                <a:chOff x="5520960" y="5383440"/>
                <a:chExt cx="1277640" cy="580680"/>
              </a:xfrm>
            </p:grpSpPr>
            <p:sp>
              <p:nvSpPr>
                <p:cNvPr id="226" name="AutoShape 56"/>
                <p:cNvSpPr/>
                <p:nvPr/>
              </p:nvSpPr>
              <p:spPr>
                <a:xfrm rot="14766000">
                  <a:off x="6217200" y="5209920"/>
                  <a:ext cx="22392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227" name="AutoShape 57"/>
                <p:cNvSpPr/>
                <p:nvPr/>
              </p:nvSpPr>
              <p:spPr>
                <a:xfrm rot="15580800">
                  <a:off x="6073200" y="5266800"/>
                  <a:ext cx="22392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228" name="AutoShape 58"/>
                <p:cNvSpPr/>
                <p:nvPr/>
              </p:nvSpPr>
              <p:spPr>
                <a:xfrm rot="15876600">
                  <a:off x="5985000" y="5278320"/>
                  <a:ext cx="22392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229" name="AutoShape 59"/>
                <p:cNvSpPr/>
                <p:nvPr/>
              </p:nvSpPr>
              <p:spPr>
                <a:xfrm rot="16408800">
                  <a:off x="5878800" y="5288760"/>
                  <a:ext cx="22392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</p:grpSp>
          <p:grpSp>
            <p:nvGrpSpPr>
              <p:cNvPr id="230" name="Group 60"/>
              <p:cNvGrpSpPr/>
              <p:nvPr/>
            </p:nvGrpSpPr>
            <p:grpSpPr>
              <a:xfrm>
                <a:off x="5250960" y="5390640"/>
                <a:ext cx="1275120" cy="609480"/>
                <a:chOff x="5250960" y="5390640"/>
                <a:chExt cx="1275120" cy="609480"/>
              </a:xfrm>
            </p:grpSpPr>
            <p:sp>
              <p:nvSpPr>
                <p:cNvPr id="231" name="AutoShape 61"/>
                <p:cNvSpPr/>
                <p:nvPr/>
              </p:nvSpPr>
              <p:spPr>
                <a:xfrm rot="16119000">
                  <a:off x="5946840" y="5288760"/>
                  <a:ext cx="22536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232" name="AutoShape 62"/>
                <p:cNvSpPr/>
                <p:nvPr/>
              </p:nvSpPr>
              <p:spPr>
                <a:xfrm rot="16934400">
                  <a:off x="5792040" y="5286240"/>
                  <a:ext cx="22536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233" name="AutoShape 63"/>
                <p:cNvSpPr/>
                <p:nvPr/>
              </p:nvSpPr>
              <p:spPr>
                <a:xfrm rot="17230200">
                  <a:off x="5706000" y="5262840"/>
                  <a:ext cx="22536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234" name="AutoShape 64"/>
                <p:cNvSpPr/>
                <p:nvPr/>
              </p:nvSpPr>
              <p:spPr>
                <a:xfrm rot="17762400">
                  <a:off x="5604480" y="5231160"/>
                  <a:ext cx="22536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</p:grpSp>
        </p:grpSp>
      </p:grpSp>
      <p:grpSp>
        <p:nvGrpSpPr>
          <p:cNvPr id="235" name="Group 153"/>
          <p:cNvGrpSpPr/>
          <p:nvPr/>
        </p:nvGrpSpPr>
        <p:grpSpPr>
          <a:xfrm>
            <a:off x="3643920" y="1196640"/>
            <a:ext cx="1657080" cy="1606320"/>
            <a:chOff x="3643920" y="1196640"/>
            <a:chExt cx="1657080" cy="1606320"/>
          </a:xfrm>
        </p:grpSpPr>
        <p:sp>
          <p:nvSpPr>
            <p:cNvPr id="236" name="Oval 48"/>
            <p:cNvSpPr/>
            <p:nvPr/>
          </p:nvSpPr>
          <p:spPr>
            <a:xfrm>
              <a:off x="3643920" y="2102040"/>
              <a:ext cx="1657080" cy="700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37" name="Oval 52"/>
            <p:cNvSpPr/>
            <p:nvPr/>
          </p:nvSpPr>
          <p:spPr>
            <a:xfrm>
              <a:off x="3769560" y="1196640"/>
              <a:ext cx="1405800" cy="1393920"/>
            </a:xfrm>
            <a:prstGeom prst="ellips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2700000"/>
            </a:gradFill>
            <a:ln w="9525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53" descr="Picture2"/>
            <p:cNvPicPr/>
            <p:nvPr/>
          </p:nvPicPr>
          <p:blipFill>
            <a:blip r:embed="rId5"/>
            <a:stretch/>
          </p:blipFill>
          <p:spPr>
            <a:xfrm>
              <a:off x="3913560" y="1196640"/>
              <a:ext cx="1117800" cy="491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9" name="Group 54"/>
            <p:cNvGrpSpPr/>
            <p:nvPr/>
          </p:nvGrpSpPr>
          <p:grpSpPr>
            <a:xfrm>
              <a:off x="3861000" y="2101320"/>
              <a:ext cx="1227600" cy="488880"/>
              <a:chOff x="3861000" y="2101320"/>
              <a:chExt cx="1227600" cy="488880"/>
            </a:xfrm>
          </p:grpSpPr>
          <p:grpSp>
            <p:nvGrpSpPr>
              <p:cNvPr id="240" name="Group 55"/>
              <p:cNvGrpSpPr/>
              <p:nvPr/>
            </p:nvGrpSpPr>
            <p:grpSpPr>
              <a:xfrm>
                <a:off x="4075200" y="2101320"/>
                <a:ext cx="1013400" cy="460440"/>
                <a:chOff x="4075200" y="2101320"/>
                <a:chExt cx="1013400" cy="460440"/>
              </a:xfrm>
            </p:grpSpPr>
            <p:sp>
              <p:nvSpPr>
                <p:cNvPr id="241" name="AutoShape 56"/>
                <p:cNvSpPr/>
                <p:nvPr/>
              </p:nvSpPr>
              <p:spPr>
                <a:xfrm rot="14766000">
                  <a:off x="4627440" y="1963440"/>
                  <a:ext cx="177480" cy="735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242" name="AutoShape 57"/>
                <p:cNvSpPr/>
                <p:nvPr/>
              </p:nvSpPr>
              <p:spPr>
                <a:xfrm rot="15580800">
                  <a:off x="4513320" y="2008800"/>
                  <a:ext cx="177480" cy="735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243" name="AutoShape 58"/>
                <p:cNvSpPr/>
                <p:nvPr/>
              </p:nvSpPr>
              <p:spPr>
                <a:xfrm rot="15876600">
                  <a:off x="4443120" y="2017800"/>
                  <a:ext cx="177480" cy="735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244" name="AutoShape 59"/>
                <p:cNvSpPr/>
                <p:nvPr/>
              </p:nvSpPr>
              <p:spPr>
                <a:xfrm rot="16408800">
                  <a:off x="4358880" y="2025720"/>
                  <a:ext cx="177480" cy="735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</p:grpSp>
          <p:grpSp>
            <p:nvGrpSpPr>
              <p:cNvPr id="245" name="Group 60"/>
              <p:cNvGrpSpPr/>
              <p:nvPr/>
            </p:nvGrpSpPr>
            <p:grpSpPr>
              <a:xfrm>
                <a:off x="3861000" y="2106720"/>
                <a:ext cx="1011240" cy="483480"/>
                <a:chOff x="3861000" y="2106720"/>
                <a:chExt cx="1011240" cy="483480"/>
              </a:xfrm>
            </p:grpSpPr>
            <p:sp>
              <p:nvSpPr>
                <p:cNvPr id="246" name="AutoShape 61"/>
                <p:cNvSpPr/>
                <p:nvPr/>
              </p:nvSpPr>
              <p:spPr>
                <a:xfrm rot="16119000">
                  <a:off x="4412880" y="2025720"/>
                  <a:ext cx="178560" cy="735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247" name="AutoShape 62"/>
                <p:cNvSpPr/>
                <p:nvPr/>
              </p:nvSpPr>
              <p:spPr>
                <a:xfrm rot="16934400">
                  <a:off x="4290480" y="2023920"/>
                  <a:ext cx="178560" cy="735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248" name="AutoShape 63"/>
                <p:cNvSpPr/>
                <p:nvPr/>
              </p:nvSpPr>
              <p:spPr>
                <a:xfrm rot="17230200">
                  <a:off x="4222080" y="2005560"/>
                  <a:ext cx="178560" cy="735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249" name="AutoShape 64"/>
                <p:cNvSpPr/>
                <p:nvPr/>
              </p:nvSpPr>
              <p:spPr>
                <a:xfrm rot="17762400">
                  <a:off x="4141440" y="1980360"/>
                  <a:ext cx="178560" cy="735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Oval 3"/>
          <p:cNvSpPr/>
          <p:nvPr/>
        </p:nvSpPr>
        <p:spPr>
          <a:xfrm>
            <a:off x="2625480" y="3578760"/>
            <a:ext cx="1387080" cy="57384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2637360" y="2567160"/>
            <a:ext cx="1337760" cy="133236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72540d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52" name="Oval 5"/>
          <p:cNvSpPr/>
          <p:nvPr/>
        </p:nvSpPr>
        <p:spPr>
          <a:xfrm>
            <a:off x="2902680" y="2734200"/>
            <a:ext cx="223920" cy="22356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53" name="Freeform 6"/>
          <p:cNvSpPr/>
          <p:nvPr/>
        </p:nvSpPr>
        <p:spPr>
          <a:xfrm>
            <a:off x="2728800" y="2589840"/>
            <a:ext cx="1141560" cy="378720"/>
          </a:xfrm>
          <a:custGeom>
            <a:avLst/>
            <a:gdLst>
              <a:gd name="textAreaLeft" fmla="*/ 0 w 1141560"/>
              <a:gd name="textAreaRight" fmla="*/ 1141920 w 1141560"/>
              <a:gd name="textAreaTop" fmla="*/ 0 h 378720"/>
              <a:gd name="textAreaBottom" fmla="*/ 379080 h 378720"/>
            </a:gdLst>
            <a:ahLst/>
            <a:rect l="textAreaLeft" t="textAreaTop" r="textAreaRight" b="textAreaBottom"/>
            <a:pathLst>
              <a:path w="4756" h="1576">
                <a:moveTo>
                  <a:pt x="0" y="1576"/>
                </a:moveTo>
                <a:lnTo>
                  <a:pt x="0" y="1576"/>
                </a:lnTo>
                <a:lnTo>
                  <a:pt x="24" y="1518"/>
                </a:lnTo>
                <a:lnTo>
                  <a:pt x="50" y="1462"/>
                </a:lnTo>
                <a:lnTo>
                  <a:pt x="78" y="1406"/>
                </a:lnTo>
                <a:lnTo>
                  <a:pt x="108" y="1350"/>
                </a:lnTo>
                <a:lnTo>
                  <a:pt x="138" y="1296"/>
                </a:lnTo>
                <a:lnTo>
                  <a:pt x="170" y="1242"/>
                </a:lnTo>
                <a:lnTo>
                  <a:pt x="204" y="1190"/>
                </a:lnTo>
                <a:lnTo>
                  <a:pt x="238" y="1138"/>
                </a:lnTo>
                <a:lnTo>
                  <a:pt x="272" y="1086"/>
                </a:lnTo>
                <a:lnTo>
                  <a:pt x="310" y="1036"/>
                </a:lnTo>
                <a:lnTo>
                  <a:pt x="348" y="988"/>
                </a:lnTo>
                <a:lnTo>
                  <a:pt x="386" y="940"/>
                </a:lnTo>
                <a:lnTo>
                  <a:pt x="426" y="892"/>
                </a:lnTo>
                <a:lnTo>
                  <a:pt x="468" y="846"/>
                </a:lnTo>
                <a:lnTo>
                  <a:pt x="510" y="800"/>
                </a:lnTo>
                <a:lnTo>
                  <a:pt x="552" y="756"/>
                </a:lnTo>
                <a:lnTo>
                  <a:pt x="596" y="712"/>
                </a:lnTo>
                <a:lnTo>
                  <a:pt x="642" y="670"/>
                </a:lnTo>
                <a:lnTo>
                  <a:pt x="688" y="630"/>
                </a:lnTo>
                <a:lnTo>
                  <a:pt x="736" y="590"/>
                </a:lnTo>
                <a:lnTo>
                  <a:pt x="784" y="550"/>
                </a:lnTo>
                <a:lnTo>
                  <a:pt x="834" y="512"/>
                </a:lnTo>
                <a:lnTo>
                  <a:pt x="884" y="476"/>
                </a:lnTo>
                <a:lnTo>
                  <a:pt x="934" y="440"/>
                </a:lnTo>
                <a:lnTo>
                  <a:pt x="986" y="406"/>
                </a:lnTo>
                <a:lnTo>
                  <a:pt x="1040" y="374"/>
                </a:lnTo>
                <a:lnTo>
                  <a:pt x="1092" y="342"/>
                </a:lnTo>
                <a:lnTo>
                  <a:pt x="1148" y="312"/>
                </a:lnTo>
                <a:lnTo>
                  <a:pt x="1202" y="282"/>
                </a:lnTo>
                <a:lnTo>
                  <a:pt x="1258" y="254"/>
                </a:lnTo>
                <a:lnTo>
                  <a:pt x="1316" y="228"/>
                </a:lnTo>
                <a:lnTo>
                  <a:pt x="1374" y="202"/>
                </a:lnTo>
                <a:lnTo>
                  <a:pt x="1432" y="178"/>
                </a:lnTo>
                <a:lnTo>
                  <a:pt x="1490" y="156"/>
                </a:lnTo>
                <a:lnTo>
                  <a:pt x="1550" y="136"/>
                </a:lnTo>
                <a:lnTo>
                  <a:pt x="1610" y="116"/>
                </a:lnTo>
                <a:lnTo>
                  <a:pt x="1672" y="98"/>
                </a:lnTo>
                <a:lnTo>
                  <a:pt x="1732" y="80"/>
                </a:lnTo>
                <a:lnTo>
                  <a:pt x="1794" y="66"/>
                </a:lnTo>
                <a:lnTo>
                  <a:pt x="1858" y="52"/>
                </a:lnTo>
                <a:lnTo>
                  <a:pt x="1922" y="40"/>
                </a:lnTo>
                <a:lnTo>
                  <a:pt x="1984" y="30"/>
                </a:lnTo>
                <a:lnTo>
                  <a:pt x="2050" y="20"/>
                </a:lnTo>
                <a:lnTo>
                  <a:pt x="2114" y="12"/>
                </a:lnTo>
                <a:lnTo>
                  <a:pt x="2180" y="8"/>
                </a:lnTo>
                <a:lnTo>
                  <a:pt x="2246" y="2"/>
                </a:lnTo>
                <a:lnTo>
                  <a:pt x="2312" y="0"/>
                </a:lnTo>
                <a:lnTo>
                  <a:pt x="2378" y="0"/>
                </a:lnTo>
                <a:lnTo>
                  <a:pt x="2444" y="0"/>
                </a:lnTo>
                <a:lnTo>
                  <a:pt x="2510" y="2"/>
                </a:lnTo>
                <a:lnTo>
                  <a:pt x="2576" y="8"/>
                </a:lnTo>
                <a:lnTo>
                  <a:pt x="2642" y="12"/>
                </a:lnTo>
                <a:lnTo>
                  <a:pt x="2706" y="20"/>
                </a:lnTo>
                <a:lnTo>
                  <a:pt x="2772" y="30"/>
                </a:lnTo>
                <a:lnTo>
                  <a:pt x="2834" y="40"/>
                </a:lnTo>
                <a:lnTo>
                  <a:pt x="2898" y="52"/>
                </a:lnTo>
                <a:lnTo>
                  <a:pt x="2962" y="66"/>
                </a:lnTo>
                <a:lnTo>
                  <a:pt x="3024" y="80"/>
                </a:lnTo>
                <a:lnTo>
                  <a:pt x="3084" y="98"/>
                </a:lnTo>
                <a:lnTo>
                  <a:pt x="3146" y="116"/>
                </a:lnTo>
                <a:lnTo>
                  <a:pt x="3206" y="136"/>
                </a:lnTo>
                <a:lnTo>
                  <a:pt x="3266" y="156"/>
                </a:lnTo>
                <a:lnTo>
                  <a:pt x="3324" y="178"/>
                </a:lnTo>
                <a:lnTo>
                  <a:pt x="3382" y="202"/>
                </a:lnTo>
                <a:lnTo>
                  <a:pt x="3440" y="228"/>
                </a:lnTo>
                <a:lnTo>
                  <a:pt x="3498" y="254"/>
                </a:lnTo>
                <a:lnTo>
                  <a:pt x="3554" y="282"/>
                </a:lnTo>
                <a:lnTo>
                  <a:pt x="3608" y="312"/>
                </a:lnTo>
                <a:lnTo>
                  <a:pt x="3664" y="342"/>
                </a:lnTo>
                <a:lnTo>
                  <a:pt x="3716" y="374"/>
                </a:lnTo>
                <a:lnTo>
                  <a:pt x="3770" y="406"/>
                </a:lnTo>
                <a:lnTo>
                  <a:pt x="3822" y="440"/>
                </a:lnTo>
                <a:lnTo>
                  <a:pt x="3872" y="476"/>
                </a:lnTo>
                <a:lnTo>
                  <a:pt x="3922" y="512"/>
                </a:lnTo>
                <a:lnTo>
                  <a:pt x="3972" y="550"/>
                </a:lnTo>
                <a:lnTo>
                  <a:pt x="4020" y="590"/>
                </a:lnTo>
                <a:lnTo>
                  <a:pt x="4068" y="630"/>
                </a:lnTo>
                <a:lnTo>
                  <a:pt x="4114" y="670"/>
                </a:lnTo>
                <a:lnTo>
                  <a:pt x="4160" y="712"/>
                </a:lnTo>
                <a:lnTo>
                  <a:pt x="4204" y="756"/>
                </a:lnTo>
                <a:lnTo>
                  <a:pt x="4246" y="800"/>
                </a:lnTo>
                <a:lnTo>
                  <a:pt x="4288" y="846"/>
                </a:lnTo>
                <a:lnTo>
                  <a:pt x="4330" y="892"/>
                </a:lnTo>
                <a:lnTo>
                  <a:pt x="4370" y="940"/>
                </a:lnTo>
                <a:lnTo>
                  <a:pt x="4410" y="988"/>
                </a:lnTo>
                <a:lnTo>
                  <a:pt x="4446" y="1036"/>
                </a:lnTo>
                <a:lnTo>
                  <a:pt x="4484" y="1086"/>
                </a:lnTo>
                <a:lnTo>
                  <a:pt x="4518" y="1138"/>
                </a:lnTo>
                <a:lnTo>
                  <a:pt x="4552" y="1190"/>
                </a:lnTo>
                <a:lnTo>
                  <a:pt x="4586" y="1242"/>
                </a:lnTo>
                <a:lnTo>
                  <a:pt x="4618" y="1296"/>
                </a:lnTo>
                <a:lnTo>
                  <a:pt x="4648" y="1350"/>
                </a:lnTo>
                <a:lnTo>
                  <a:pt x="4678" y="1406"/>
                </a:lnTo>
                <a:lnTo>
                  <a:pt x="4706" y="1462"/>
                </a:lnTo>
                <a:lnTo>
                  <a:pt x="4732" y="1518"/>
                </a:lnTo>
                <a:lnTo>
                  <a:pt x="4756" y="1576"/>
                </a:lnTo>
                <a:lnTo>
                  <a:pt x="0" y="157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35294"/>
                </a:srgbClr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54" name="Oval 7"/>
          <p:cNvSpPr/>
          <p:nvPr/>
        </p:nvSpPr>
        <p:spPr>
          <a:xfrm>
            <a:off x="1187640" y="3578760"/>
            <a:ext cx="1387080" cy="57384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55" name="Oval 8"/>
          <p:cNvSpPr/>
          <p:nvPr/>
        </p:nvSpPr>
        <p:spPr>
          <a:xfrm>
            <a:off x="1199520" y="2567160"/>
            <a:ext cx="1337760" cy="133236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72540d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56" name="Oval 9"/>
          <p:cNvSpPr/>
          <p:nvPr/>
        </p:nvSpPr>
        <p:spPr>
          <a:xfrm>
            <a:off x="1464840" y="2734200"/>
            <a:ext cx="223920" cy="22356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57" name="Freeform 10"/>
          <p:cNvSpPr/>
          <p:nvPr/>
        </p:nvSpPr>
        <p:spPr>
          <a:xfrm>
            <a:off x="1290960" y="2589840"/>
            <a:ext cx="1141560" cy="378720"/>
          </a:xfrm>
          <a:custGeom>
            <a:avLst/>
            <a:gdLst>
              <a:gd name="textAreaLeft" fmla="*/ 0 w 1141560"/>
              <a:gd name="textAreaRight" fmla="*/ 1141920 w 1141560"/>
              <a:gd name="textAreaTop" fmla="*/ 0 h 378720"/>
              <a:gd name="textAreaBottom" fmla="*/ 379080 h 378720"/>
            </a:gdLst>
            <a:ahLst/>
            <a:rect l="textAreaLeft" t="textAreaTop" r="textAreaRight" b="textAreaBottom"/>
            <a:pathLst>
              <a:path w="4756" h="1576">
                <a:moveTo>
                  <a:pt x="0" y="1576"/>
                </a:moveTo>
                <a:lnTo>
                  <a:pt x="0" y="1576"/>
                </a:lnTo>
                <a:lnTo>
                  <a:pt x="24" y="1518"/>
                </a:lnTo>
                <a:lnTo>
                  <a:pt x="50" y="1462"/>
                </a:lnTo>
                <a:lnTo>
                  <a:pt x="78" y="1406"/>
                </a:lnTo>
                <a:lnTo>
                  <a:pt x="108" y="1350"/>
                </a:lnTo>
                <a:lnTo>
                  <a:pt x="138" y="1296"/>
                </a:lnTo>
                <a:lnTo>
                  <a:pt x="170" y="1242"/>
                </a:lnTo>
                <a:lnTo>
                  <a:pt x="204" y="1190"/>
                </a:lnTo>
                <a:lnTo>
                  <a:pt x="238" y="1138"/>
                </a:lnTo>
                <a:lnTo>
                  <a:pt x="272" y="1086"/>
                </a:lnTo>
                <a:lnTo>
                  <a:pt x="310" y="1036"/>
                </a:lnTo>
                <a:lnTo>
                  <a:pt x="348" y="988"/>
                </a:lnTo>
                <a:lnTo>
                  <a:pt x="386" y="940"/>
                </a:lnTo>
                <a:lnTo>
                  <a:pt x="426" y="892"/>
                </a:lnTo>
                <a:lnTo>
                  <a:pt x="468" y="846"/>
                </a:lnTo>
                <a:lnTo>
                  <a:pt x="510" y="800"/>
                </a:lnTo>
                <a:lnTo>
                  <a:pt x="552" y="756"/>
                </a:lnTo>
                <a:lnTo>
                  <a:pt x="596" y="712"/>
                </a:lnTo>
                <a:lnTo>
                  <a:pt x="642" y="670"/>
                </a:lnTo>
                <a:lnTo>
                  <a:pt x="688" y="630"/>
                </a:lnTo>
                <a:lnTo>
                  <a:pt x="736" y="590"/>
                </a:lnTo>
                <a:lnTo>
                  <a:pt x="784" y="550"/>
                </a:lnTo>
                <a:lnTo>
                  <a:pt x="834" y="512"/>
                </a:lnTo>
                <a:lnTo>
                  <a:pt x="884" y="476"/>
                </a:lnTo>
                <a:lnTo>
                  <a:pt x="934" y="440"/>
                </a:lnTo>
                <a:lnTo>
                  <a:pt x="986" y="406"/>
                </a:lnTo>
                <a:lnTo>
                  <a:pt x="1040" y="374"/>
                </a:lnTo>
                <a:lnTo>
                  <a:pt x="1092" y="342"/>
                </a:lnTo>
                <a:lnTo>
                  <a:pt x="1148" y="312"/>
                </a:lnTo>
                <a:lnTo>
                  <a:pt x="1202" y="282"/>
                </a:lnTo>
                <a:lnTo>
                  <a:pt x="1258" y="254"/>
                </a:lnTo>
                <a:lnTo>
                  <a:pt x="1316" y="228"/>
                </a:lnTo>
                <a:lnTo>
                  <a:pt x="1374" y="202"/>
                </a:lnTo>
                <a:lnTo>
                  <a:pt x="1432" y="178"/>
                </a:lnTo>
                <a:lnTo>
                  <a:pt x="1490" y="156"/>
                </a:lnTo>
                <a:lnTo>
                  <a:pt x="1550" y="136"/>
                </a:lnTo>
                <a:lnTo>
                  <a:pt x="1610" y="116"/>
                </a:lnTo>
                <a:lnTo>
                  <a:pt x="1672" y="98"/>
                </a:lnTo>
                <a:lnTo>
                  <a:pt x="1732" y="80"/>
                </a:lnTo>
                <a:lnTo>
                  <a:pt x="1794" y="66"/>
                </a:lnTo>
                <a:lnTo>
                  <a:pt x="1858" y="52"/>
                </a:lnTo>
                <a:lnTo>
                  <a:pt x="1922" y="40"/>
                </a:lnTo>
                <a:lnTo>
                  <a:pt x="1984" y="30"/>
                </a:lnTo>
                <a:lnTo>
                  <a:pt x="2050" y="20"/>
                </a:lnTo>
                <a:lnTo>
                  <a:pt x="2114" y="12"/>
                </a:lnTo>
                <a:lnTo>
                  <a:pt x="2180" y="8"/>
                </a:lnTo>
                <a:lnTo>
                  <a:pt x="2246" y="2"/>
                </a:lnTo>
                <a:lnTo>
                  <a:pt x="2312" y="0"/>
                </a:lnTo>
                <a:lnTo>
                  <a:pt x="2378" y="0"/>
                </a:lnTo>
                <a:lnTo>
                  <a:pt x="2444" y="0"/>
                </a:lnTo>
                <a:lnTo>
                  <a:pt x="2510" y="2"/>
                </a:lnTo>
                <a:lnTo>
                  <a:pt x="2576" y="8"/>
                </a:lnTo>
                <a:lnTo>
                  <a:pt x="2642" y="12"/>
                </a:lnTo>
                <a:lnTo>
                  <a:pt x="2706" y="20"/>
                </a:lnTo>
                <a:lnTo>
                  <a:pt x="2772" y="30"/>
                </a:lnTo>
                <a:lnTo>
                  <a:pt x="2834" y="40"/>
                </a:lnTo>
                <a:lnTo>
                  <a:pt x="2898" y="52"/>
                </a:lnTo>
                <a:lnTo>
                  <a:pt x="2962" y="66"/>
                </a:lnTo>
                <a:lnTo>
                  <a:pt x="3024" y="80"/>
                </a:lnTo>
                <a:lnTo>
                  <a:pt x="3084" y="98"/>
                </a:lnTo>
                <a:lnTo>
                  <a:pt x="3146" y="116"/>
                </a:lnTo>
                <a:lnTo>
                  <a:pt x="3206" y="136"/>
                </a:lnTo>
                <a:lnTo>
                  <a:pt x="3266" y="156"/>
                </a:lnTo>
                <a:lnTo>
                  <a:pt x="3324" y="178"/>
                </a:lnTo>
                <a:lnTo>
                  <a:pt x="3382" y="202"/>
                </a:lnTo>
                <a:lnTo>
                  <a:pt x="3440" y="228"/>
                </a:lnTo>
                <a:lnTo>
                  <a:pt x="3498" y="254"/>
                </a:lnTo>
                <a:lnTo>
                  <a:pt x="3554" y="282"/>
                </a:lnTo>
                <a:lnTo>
                  <a:pt x="3608" y="312"/>
                </a:lnTo>
                <a:lnTo>
                  <a:pt x="3664" y="342"/>
                </a:lnTo>
                <a:lnTo>
                  <a:pt x="3716" y="374"/>
                </a:lnTo>
                <a:lnTo>
                  <a:pt x="3770" y="406"/>
                </a:lnTo>
                <a:lnTo>
                  <a:pt x="3822" y="440"/>
                </a:lnTo>
                <a:lnTo>
                  <a:pt x="3872" y="476"/>
                </a:lnTo>
                <a:lnTo>
                  <a:pt x="3922" y="512"/>
                </a:lnTo>
                <a:lnTo>
                  <a:pt x="3972" y="550"/>
                </a:lnTo>
                <a:lnTo>
                  <a:pt x="4020" y="590"/>
                </a:lnTo>
                <a:lnTo>
                  <a:pt x="4068" y="630"/>
                </a:lnTo>
                <a:lnTo>
                  <a:pt x="4114" y="670"/>
                </a:lnTo>
                <a:lnTo>
                  <a:pt x="4160" y="712"/>
                </a:lnTo>
                <a:lnTo>
                  <a:pt x="4204" y="756"/>
                </a:lnTo>
                <a:lnTo>
                  <a:pt x="4246" y="800"/>
                </a:lnTo>
                <a:lnTo>
                  <a:pt x="4288" y="846"/>
                </a:lnTo>
                <a:lnTo>
                  <a:pt x="4330" y="892"/>
                </a:lnTo>
                <a:lnTo>
                  <a:pt x="4370" y="940"/>
                </a:lnTo>
                <a:lnTo>
                  <a:pt x="4410" y="988"/>
                </a:lnTo>
                <a:lnTo>
                  <a:pt x="4446" y="1036"/>
                </a:lnTo>
                <a:lnTo>
                  <a:pt x="4484" y="1086"/>
                </a:lnTo>
                <a:lnTo>
                  <a:pt x="4518" y="1138"/>
                </a:lnTo>
                <a:lnTo>
                  <a:pt x="4552" y="1190"/>
                </a:lnTo>
                <a:lnTo>
                  <a:pt x="4586" y="1242"/>
                </a:lnTo>
                <a:lnTo>
                  <a:pt x="4618" y="1296"/>
                </a:lnTo>
                <a:lnTo>
                  <a:pt x="4648" y="1350"/>
                </a:lnTo>
                <a:lnTo>
                  <a:pt x="4678" y="1406"/>
                </a:lnTo>
                <a:lnTo>
                  <a:pt x="4706" y="1462"/>
                </a:lnTo>
                <a:lnTo>
                  <a:pt x="4732" y="1518"/>
                </a:lnTo>
                <a:lnTo>
                  <a:pt x="4756" y="1576"/>
                </a:lnTo>
                <a:lnTo>
                  <a:pt x="0" y="157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35294"/>
                </a:srgbClr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58" name="Oval 11"/>
          <p:cNvSpPr/>
          <p:nvPr/>
        </p:nvSpPr>
        <p:spPr>
          <a:xfrm>
            <a:off x="4048560" y="3578760"/>
            <a:ext cx="1387080" cy="57384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59" name="Oval 12"/>
          <p:cNvSpPr/>
          <p:nvPr/>
        </p:nvSpPr>
        <p:spPr>
          <a:xfrm>
            <a:off x="4060440" y="2567160"/>
            <a:ext cx="1337760" cy="133236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72540d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60" name="Oval 13"/>
          <p:cNvSpPr/>
          <p:nvPr/>
        </p:nvSpPr>
        <p:spPr>
          <a:xfrm>
            <a:off x="4325760" y="2734200"/>
            <a:ext cx="223920" cy="22356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61" name="Freeform 14"/>
          <p:cNvSpPr/>
          <p:nvPr/>
        </p:nvSpPr>
        <p:spPr>
          <a:xfrm>
            <a:off x="4151880" y="2589840"/>
            <a:ext cx="1141560" cy="378720"/>
          </a:xfrm>
          <a:custGeom>
            <a:avLst/>
            <a:gdLst>
              <a:gd name="textAreaLeft" fmla="*/ 0 w 1141560"/>
              <a:gd name="textAreaRight" fmla="*/ 1141920 w 1141560"/>
              <a:gd name="textAreaTop" fmla="*/ 0 h 378720"/>
              <a:gd name="textAreaBottom" fmla="*/ 379080 h 378720"/>
            </a:gdLst>
            <a:ahLst/>
            <a:rect l="textAreaLeft" t="textAreaTop" r="textAreaRight" b="textAreaBottom"/>
            <a:pathLst>
              <a:path w="4756" h="1576">
                <a:moveTo>
                  <a:pt x="0" y="1576"/>
                </a:moveTo>
                <a:lnTo>
                  <a:pt x="0" y="1576"/>
                </a:lnTo>
                <a:lnTo>
                  <a:pt x="24" y="1518"/>
                </a:lnTo>
                <a:lnTo>
                  <a:pt x="50" y="1462"/>
                </a:lnTo>
                <a:lnTo>
                  <a:pt x="78" y="1406"/>
                </a:lnTo>
                <a:lnTo>
                  <a:pt x="108" y="1350"/>
                </a:lnTo>
                <a:lnTo>
                  <a:pt x="138" y="1296"/>
                </a:lnTo>
                <a:lnTo>
                  <a:pt x="170" y="1242"/>
                </a:lnTo>
                <a:lnTo>
                  <a:pt x="204" y="1190"/>
                </a:lnTo>
                <a:lnTo>
                  <a:pt x="238" y="1138"/>
                </a:lnTo>
                <a:lnTo>
                  <a:pt x="272" y="1086"/>
                </a:lnTo>
                <a:lnTo>
                  <a:pt x="310" y="1036"/>
                </a:lnTo>
                <a:lnTo>
                  <a:pt x="348" y="988"/>
                </a:lnTo>
                <a:lnTo>
                  <a:pt x="386" y="940"/>
                </a:lnTo>
                <a:lnTo>
                  <a:pt x="426" y="892"/>
                </a:lnTo>
                <a:lnTo>
                  <a:pt x="468" y="846"/>
                </a:lnTo>
                <a:lnTo>
                  <a:pt x="510" y="800"/>
                </a:lnTo>
                <a:lnTo>
                  <a:pt x="552" y="756"/>
                </a:lnTo>
                <a:lnTo>
                  <a:pt x="596" y="712"/>
                </a:lnTo>
                <a:lnTo>
                  <a:pt x="642" y="670"/>
                </a:lnTo>
                <a:lnTo>
                  <a:pt x="688" y="630"/>
                </a:lnTo>
                <a:lnTo>
                  <a:pt x="736" y="590"/>
                </a:lnTo>
                <a:lnTo>
                  <a:pt x="784" y="550"/>
                </a:lnTo>
                <a:lnTo>
                  <a:pt x="834" y="512"/>
                </a:lnTo>
                <a:lnTo>
                  <a:pt x="884" y="476"/>
                </a:lnTo>
                <a:lnTo>
                  <a:pt x="934" y="440"/>
                </a:lnTo>
                <a:lnTo>
                  <a:pt x="986" y="406"/>
                </a:lnTo>
                <a:lnTo>
                  <a:pt x="1040" y="374"/>
                </a:lnTo>
                <a:lnTo>
                  <a:pt x="1092" y="342"/>
                </a:lnTo>
                <a:lnTo>
                  <a:pt x="1148" y="312"/>
                </a:lnTo>
                <a:lnTo>
                  <a:pt x="1202" y="282"/>
                </a:lnTo>
                <a:lnTo>
                  <a:pt x="1258" y="254"/>
                </a:lnTo>
                <a:lnTo>
                  <a:pt x="1316" y="228"/>
                </a:lnTo>
                <a:lnTo>
                  <a:pt x="1374" y="202"/>
                </a:lnTo>
                <a:lnTo>
                  <a:pt x="1432" y="178"/>
                </a:lnTo>
                <a:lnTo>
                  <a:pt x="1490" y="156"/>
                </a:lnTo>
                <a:lnTo>
                  <a:pt x="1550" y="136"/>
                </a:lnTo>
                <a:lnTo>
                  <a:pt x="1610" y="116"/>
                </a:lnTo>
                <a:lnTo>
                  <a:pt x="1672" y="98"/>
                </a:lnTo>
                <a:lnTo>
                  <a:pt x="1732" y="80"/>
                </a:lnTo>
                <a:lnTo>
                  <a:pt x="1794" y="66"/>
                </a:lnTo>
                <a:lnTo>
                  <a:pt x="1858" y="52"/>
                </a:lnTo>
                <a:lnTo>
                  <a:pt x="1922" y="40"/>
                </a:lnTo>
                <a:lnTo>
                  <a:pt x="1984" y="30"/>
                </a:lnTo>
                <a:lnTo>
                  <a:pt x="2050" y="20"/>
                </a:lnTo>
                <a:lnTo>
                  <a:pt x="2114" y="12"/>
                </a:lnTo>
                <a:lnTo>
                  <a:pt x="2180" y="8"/>
                </a:lnTo>
                <a:lnTo>
                  <a:pt x="2246" y="2"/>
                </a:lnTo>
                <a:lnTo>
                  <a:pt x="2312" y="0"/>
                </a:lnTo>
                <a:lnTo>
                  <a:pt x="2378" y="0"/>
                </a:lnTo>
                <a:lnTo>
                  <a:pt x="2444" y="0"/>
                </a:lnTo>
                <a:lnTo>
                  <a:pt x="2510" y="2"/>
                </a:lnTo>
                <a:lnTo>
                  <a:pt x="2576" y="8"/>
                </a:lnTo>
                <a:lnTo>
                  <a:pt x="2642" y="12"/>
                </a:lnTo>
                <a:lnTo>
                  <a:pt x="2706" y="20"/>
                </a:lnTo>
                <a:lnTo>
                  <a:pt x="2772" y="30"/>
                </a:lnTo>
                <a:lnTo>
                  <a:pt x="2834" y="40"/>
                </a:lnTo>
                <a:lnTo>
                  <a:pt x="2898" y="52"/>
                </a:lnTo>
                <a:lnTo>
                  <a:pt x="2962" y="66"/>
                </a:lnTo>
                <a:lnTo>
                  <a:pt x="3024" y="80"/>
                </a:lnTo>
                <a:lnTo>
                  <a:pt x="3084" y="98"/>
                </a:lnTo>
                <a:lnTo>
                  <a:pt x="3146" y="116"/>
                </a:lnTo>
                <a:lnTo>
                  <a:pt x="3206" y="136"/>
                </a:lnTo>
                <a:lnTo>
                  <a:pt x="3266" y="156"/>
                </a:lnTo>
                <a:lnTo>
                  <a:pt x="3324" y="178"/>
                </a:lnTo>
                <a:lnTo>
                  <a:pt x="3382" y="202"/>
                </a:lnTo>
                <a:lnTo>
                  <a:pt x="3440" y="228"/>
                </a:lnTo>
                <a:lnTo>
                  <a:pt x="3498" y="254"/>
                </a:lnTo>
                <a:lnTo>
                  <a:pt x="3554" y="282"/>
                </a:lnTo>
                <a:lnTo>
                  <a:pt x="3608" y="312"/>
                </a:lnTo>
                <a:lnTo>
                  <a:pt x="3664" y="342"/>
                </a:lnTo>
                <a:lnTo>
                  <a:pt x="3716" y="374"/>
                </a:lnTo>
                <a:lnTo>
                  <a:pt x="3770" y="406"/>
                </a:lnTo>
                <a:lnTo>
                  <a:pt x="3822" y="440"/>
                </a:lnTo>
                <a:lnTo>
                  <a:pt x="3872" y="476"/>
                </a:lnTo>
                <a:lnTo>
                  <a:pt x="3922" y="512"/>
                </a:lnTo>
                <a:lnTo>
                  <a:pt x="3972" y="550"/>
                </a:lnTo>
                <a:lnTo>
                  <a:pt x="4020" y="590"/>
                </a:lnTo>
                <a:lnTo>
                  <a:pt x="4068" y="630"/>
                </a:lnTo>
                <a:lnTo>
                  <a:pt x="4114" y="670"/>
                </a:lnTo>
                <a:lnTo>
                  <a:pt x="4160" y="712"/>
                </a:lnTo>
                <a:lnTo>
                  <a:pt x="4204" y="756"/>
                </a:lnTo>
                <a:lnTo>
                  <a:pt x="4246" y="800"/>
                </a:lnTo>
                <a:lnTo>
                  <a:pt x="4288" y="846"/>
                </a:lnTo>
                <a:lnTo>
                  <a:pt x="4330" y="892"/>
                </a:lnTo>
                <a:lnTo>
                  <a:pt x="4370" y="940"/>
                </a:lnTo>
                <a:lnTo>
                  <a:pt x="4410" y="988"/>
                </a:lnTo>
                <a:lnTo>
                  <a:pt x="4446" y="1036"/>
                </a:lnTo>
                <a:lnTo>
                  <a:pt x="4484" y="1086"/>
                </a:lnTo>
                <a:lnTo>
                  <a:pt x="4518" y="1138"/>
                </a:lnTo>
                <a:lnTo>
                  <a:pt x="4552" y="1190"/>
                </a:lnTo>
                <a:lnTo>
                  <a:pt x="4586" y="1242"/>
                </a:lnTo>
                <a:lnTo>
                  <a:pt x="4618" y="1296"/>
                </a:lnTo>
                <a:lnTo>
                  <a:pt x="4648" y="1350"/>
                </a:lnTo>
                <a:lnTo>
                  <a:pt x="4678" y="1406"/>
                </a:lnTo>
                <a:lnTo>
                  <a:pt x="4706" y="1462"/>
                </a:lnTo>
                <a:lnTo>
                  <a:pt x="4732" y="1518"/>
                </a:lnTo>
                <a:lnTo>
                  <a:pt x="4756" y="1576"/>
                </a:lnTo>
                <a:lnTo>
                  <a:pt x="0" y="157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35294"/>
                </a:srgbClr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grpSp>
        <p:nvGrpSpPr>
          <p:cNvPr id="262" name="Group 15"/>
          <p:cNvGrpSpPr/>
          <p:nvPr/>
        </p:nvGrpSpPr>
        <p:grpSpPr>
          <a:xfrm>
            <a:off x="3327480" y="3222720"/>
            <a:ext cx="1606320" cy="1839600"/>
            <a:chOff x="3327480" y="3222720"/>
            <a:chExt cx="1606320" cy="1839600"/>
          </a:xfrm>
        </p:grpSpPr>
        <p:sp>
          <p:nvSpPr>
            <p:cNvPr id="263" name="Oval 16"/>
            <p:cNvSpPr/>
            <p:nvPr/>
          </p:nvSpPr>
          <p:spPr>
            <a:xfrm>
              <a:off x="3327480" y="4396680"/>
              <a:ext cx="1606320" cy="665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grpSp>
          <p:nvGrpSpPr>
            <p:cNvPr id="264" name="Group 17"/>
            <p:cNvGrpSpPr/>
            <p:nvPr/>
          </p:nvGrpSpPr>
          <p:grpSpPr>
            <a:xfrm>
              <a:off x="3338640" y="3222720"/>
              <a:ext cx="1550520" cy="1546560"/>
              <a:chOff x="3338640" y="3222720"/>
              <a:chExt cx="1550520" cy="1546560"/>
            </a:xfrm>
          </p:grpSpPr>
          <p:sp>
            <p:nvSpPr>
              <p:cNvPr id="265" name="Oval 18"/>
              <p:cNvSpPr/>
              <p:nvPr/>
            </p:nvSpPr>
            <p:spPr>
              <a:xfrm>
                <a:off x="3338640" y="3222720"/>
                <a:ext cx="1550520" cy="1546560"/>
              </a:xfrm>
              <a:prstGeom prst="ellipse">
                <a:avLst/>
              </a:prstGeom>
              <a:gradFill rotWithShape="0">
                <a:gsLst>
                  <a:gs pos="0">
                    <a:srgbClr val="f2f2f2"/>
                  </a:gs>
                  <a:gs pos="100000">
                    <a:srgbClr val="59595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266" name="Oval 19"/>
              <p:cNvSpPr/>
              <p:nvPr/>
            </p:nvSpPr>
            <p:spPr>
              <a:xfrm>
                <a:off x="3647520" y="3417120"/>
                <a:ext cx="259920" cy="258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endParaRPr>
              </a:p>
            </p:txBody>
          </p:sp>
        </p:grpSp>
        <p:sp>
          <p:nvSpPr>
            <p:cNvPr id="267" name="Freeform 20"/>
            <p:cNvSpPr/>
            <p:nvPr/>
          </p:nvSpPr>
          <p:spPr>
            <a:xfrm>
              <a:off x="3447000" y="3249360"/>
              <a:ext cx="1322640" cy="438840"/>
            </a:xfrm>
            <a:custGeom>
              <a:avLst/>
              <a:gdLst>
                <a:gd name="textAreaLeft" fmla="*/ 0 w 1322640"/>
                <a:gd name="textAreaRight" fmla="*/ 1323000 w 1322640"/>
                <a:gd name="textAreaTop" fmla="*/ 0 h 438840"/>
                <a:gd name="textAreaBottom" fmla="*/ 439200 h 43884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268" name="Group 21"/>
          <p:cNvGrpSpPr/>
          <p:nvPr/>
        </p:nvGrpSpPr>
        <p:grpSpPr>
          <a:xfrm>
            <a:off x="1671840" y="3222720"/>
            <a:ext cx="1607760" cy="1839600"/>
            <a:chOff x="1671840" y="3222720"/>
            <a:chExt cx="1607760" cy="1839600"/>
          </a:xfrm>
        </p:grpSpPr>
        <p:sp>
          <p:nvSpPr>
            <p:cNvPr id="269" name="Oval 22"/>
            <p:cNvSpPr/>
            <p:nvPr/>
          </p:nvSpPr>
          <p:spPr>
            <a:xfrm>
              <a:off x="1671840" y="4396680"/>
              <a:ext cx="1607760" cy="665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grpSp>
          <p:nvGrpSpPr>
            <p:cNvPr id="270" name="Group 23"/>
            <p:cNvGrpSpPr/>
            <p:nvPr/>
          </p:nvGrpSpPr>
          <p:grpSpPr>
            <a:xfrm>
              <a:off x="1683000" y="3222720"/>
              <a:ext cx="1551960" cy="1546560"/>
              <a:chOff x="1683000" y="3222720"/>
              <a:chExt cx="1551960" cy="1546560"/>
            </a:xfrm>
          </p:grpSpPr>
          <p:sp>
            <p:nvSpPr>
              <p:cNvPr id="271" name="Oval 24"/>
              <p:cNvSpPr/>
              <p:nvPr/>
            </p:nvSpPr>
            <p:spPr>
              <a:xfrm>
                <a:off x="1683000" y="3222720"/>
                <a:ext cx="1551960" cy="1546560"/>
              </a:xfrm>
              <a:prstGeom prst="ellipse">
                <a:avLst/>
              </a:prstGeom>
              <a:gradFill rotWithShape="0">
                <a:gsLst>
                  <a:gs pos="0">
                    <a:srgbClr val="f2f2f2"/>
                  </a:gs>
                  <a:gs pos="100000">
                    <a:srgbClr val="59595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272" name="Oval 25"/>
              <p:cNvSpPr/>
              <p:nvPr/>
            </p:nvSpPr>
            <p:spPr>
              <a:xfrm>
                <a:off x="1991880" y="3417120"/>
                <a:ext cx="260280" cy="258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endParaRPr>
              </a:p>
            </p:txBody>
          </p:sp>
        </p:grpSp>
        <p:sp>
          <p:nvSpPr>
            <p:cNvPr id="273" name="Freeform 26"/>
            <p:cNvSpPr/>
            <p:nvPr/>
          </p:nvSpPr>
          <p:spPr>
            <a:xfrm>
              <a:off x="1791360" y="3249360"/>
              <a:ext cx="1323720" cy="438840"/>
            </a:xfrm>
            <a:custGeom>
              <a:avLst/>
              <a:gdLst>
                <a:gd name="textAreaLeft" fmla="*/ 0 w 1323720"/>
                <a:gd name="textAreaRight" fmla="*/ 1324080 w 1323720"/>
                <a:gd name="textAreaTop" fmla="*/ 0 h 438840"/>
                <a:gd name="textAreaBottom" fmla="*/ 439200 h 43884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274" name="Oval 27"/>
          <p:cNvSpPr/>
          <p:nvPr/>
        </p:nvSpPr>
        <p:spPr>
          <a:xfrm>
            <a:off x="2531160" y="5065920"/>
            <a:ext cx="1960200" cy="81072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grpSp>
        <p:nvGrpSpPr>
          <p:cNvPr id="275" name="Group 28"/>
          <p:cNvGrpSpPr/>
          <p:nvPr/>
        </p:nvGrpSpPr>
        <p:grpSpPr>
          <a:xfrm>
            <a:off x="2319480" y="3851280"/>
            <a:ext cx="1891800" cy="1883880"/>
            <a:chOff x="2319480" y="3851280"/>
            <a:chExt cx="1891800" cy="1883880"/>
          </a:xfrm>
        </p:grpSpPr>
        <p:grpSp>
          <p:nvGrpSpPr>
            <p:cNvPr id="276" name="Group 29"/>
            <p:cNvGrpSpPr/>
            <p:nvPr/>
          </p:nvGrpSpPr>
          <p:grpSpPr>
            <a:xfrm>
              <a:off x="2319480" y="3851280"/>
              <a:ext cx="1891800" cy="1883880"/>
              <a:chOff x="2319480" y="3851280"/>
              <a:chExt cx="1891800" cy="1883880"/>
            </a:xfrm>
          </p:grpSpPr>
          <p:sp>
            <p:nvSpPr>
              <p:cNvPr id="277" name="Oval 30"/>
              <p:cNvSpPr/>
              <p:nvPr/>
            </p:nvSpPr>
            <p:spPr>
              <a:xfrm>
                <a:off x="2319480" y="3851280"/>
                <a:ext cx="1891800" cy="1883880"/>
              </a:xfrm>
              <a:prstGeom prst="ellipse">
                <a:avLst/>
              </a:prstGeom>
              <a:gradFill rotWithShape="0">
                <a:gsLst>
                  <a:gs pos="0">
                    <a:srgbClr val="0070c0"/>
                  </a:gs>
                  <a:gs pos="100000">
                    <a:srgbClr val="00206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278" name="Oval 31"/>
              <p:cNvSpPr/>
              <p:nvPr/>
            </p:nvSpPr>
            <p:spPr>
              <a:xfrm>
                <a:off x="2693520" y="4088160"/>
                <a:ext cx="317160" cy="315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endParaRPr>
              </a:p>
            </p:txBody>
          </p:sp>
        </p:grpSp>
        <p:sp>
          <p:nvSpPr>
            <p:cNvPr id="279" name="Text Box 32"/>
            <p:cNvSpPr/>
            <p:nvPr/>
          </p:nvSpPr>
          <p:spPr>
            <a:xfrm>
              <a:off x="2867040" y="4438800"/>
              <a:ext cx="79056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8f8f8"/>
                  </a:solidFill>
                  <a:latin typeface="Arial"/>
                  <a:ea typeface="微软雅黑"/>
                </a:rPr>
                <a:t>单击此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8f8f8"/>
                  </a:solidFill>
                  <a:latin typeface="Arial"/>
                  <a:ea typeface="微软雅黑"/>
                </a:rPr>
                <a:t>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33"/>
            <p:cNvSpPr/>
            <p:nvPr/>
          </p:nvSpPr>
          <p:spPr>
            <a:xfrm>
              <a:off x="2449800" y="3883320"/>
              <a:ext cx="1614240" cy="534600"/>
            </a:xfrm>
            <a:custGeom>
              <a:avLst/>
              <a:gdLst>
                <a:gd name="textAreaLeft" fmla="*/ 0 w 1614240"/>
                <a:gd name="textAreaRight" fmla="*/ 1614600 w 1614240"/>
                <a:gd name="textAreaTop" fmla="*/ 0 h 534600"/>
                <a:gd name="textAreaBottom" fmla="*/ 534960 h 53460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281" name="Text Box 34"/>
          <p:cNvSpPr/>
          <p:nvPr/>
        </p:nvSpPr>
        <p:spPr>
          <a:xfrm>
            <a:off x="1798920" y="3564000"/>
            <a:ext cx="1296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5"/>
          <p:cNvSpPr/>
          <p:nvPr/>
        </p:nvSpPr>
        <p:spPr>
          <a:xfrm>
            <a:off x="3381480" y="3564000"/>
            <a:ext cx="1441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6"/>
          <p:cNvSpPr/>
          <p:nvPr/>
        </p:nvSpPr>
        <p:spPr>
          <a:xfrm>
            <a:off x="1258920" y="2922840"/>
            <a:ext cx="1223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7"/>
          <p:cNvSpPr/>
          <p:nvPr/>
        </p:nvSpPr>
        <p:spPr>
          <a:xfrm>
            <a:off x="2698920" y="2922840"/>
            <a:ext cx="1223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8"/>
          <p:cNvSpPr/>
          <p:nvPr/>
        </p:nvSpPr>
        <p:spPr>
          <a:xfrm>
            <a:off x="4104000" y="2922840"/>
            <a:ext cx="1223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51"/>
          <p:cNvGrpSpPr/>
          <p:nvPr/>
        </p:nvGrpSpPr>
        <p:grpSpPr>
          <a:xfrm>
            <a:off x="6432480" y="4695120"/>
            <a:ext cx="407520" cy="466200"/>
            <a:chOff x="6432480" y="4695120"/>
            <a:chExt cx="407520" cy="466200"/>
          </a:xfrm>
        </p:grpSpPr>
        <p:sp>
          <p:nvSpPr>
            <p:cNvPr id="287" name="Oval 52"/>
            <p:cNvSpPr/>
            <p:nvPr/>
          </p:nvSpPr>
          <p:spPr>
            <a:xfrm>
              <a:off x="6432480" y="5026680"/>
              <a:ext cx="391680" cy="134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317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grpSp>
          <p:nvGrpSpPr>
            <p:cNvPr id="288" name="Group 53"/>
            <p:cNvGrpSpPr/>
            <p:nvPr/>
          </p:nvGrpSpPr>
          <p:grpSpPr>
            <a:xfrm>
              <a:off x="6433200" y="4695120"/>
              <a:ext cx="406800" cy="407160"/>
              <a:chOff x="6433200" y="4695120"/>
              <a:chExt cx="406800" cy="407160"/>
            </a:xfrm>
          </p:grpSpPr>
          <p:sp>
            <p:nvSpPr>
              <p:cNvPr id="289" name="Oval 54"/>
              <p:cNvSpPr/>
              <p:nvPr/>
            </p:nvSpPr>
            <p:spPr>
              <a:xfrm>
                <a:off x="6433200" y="4695120"/>
                <a:ext cx="406800" cy="407160"/>
              </a:xfrm>
              <a:prstGeom prst="ellipse">
                <a:avLst/>
              </a:prstGeom>
              <a:gradFill rotWithShape="0">
                <a:gsLst>
                  <a:gs pos="0">
                    <a:srgbClr val="0070c0"/>
                  </a:gs>
                  <a:gs pos="100000">
                    <a:srgbClr val="00206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endParaRPr>
              </a:p>
            </p:txBody>
          </p:sp>
          <p:grpSp>
            <p:nvGrpSpPr>
              <p:cNvPr id="290" name="Group 55"/>
              <p:cNvGrpSpPr/>
              <p:nvPr/>
            </p:nvGrpSpPr>
            <p:grpSpPr>
              <a:xfrm>
                <a:off x="6464520" y="4706280"/>
                <a:ext cx="342720" cy="110880"/>
                <a:chOff x="6464520" y="4706280"/>
                <a:chExt cx="342720" cy="110880"/>
              </a:xfrm>
            </p:grpSpPr>
            <p:sp>
              <p:nvSpPr>
                <p:cNvPr id="291" name="Freeform 56"/>
                <p:cNvSpPr/>
                <p:nvPr/>
              </p:nvSpPr>
              <p:spPr>
                <a:xfrm>
                  <a:off x="6464520" y="4706280"/>
                  <a:ext cx="342720" cy="110880"/>
                </a:xfrm>
                <a:custGeom>
                  <a:avLst/>
                  <a:gdLst>
                    <a:gd name="textAreaLeft" fmla="*/ 0 w 342720"/>
                    <a:gd name="textAreaRight" fmla="*/ 343080 w 342720"/>
                    <a:gd name="textAreaTop" fmla="*/ 0 h 110880"/>
                    <a:gd name="textAreaBottom" fmla="*/ 111240 h 1108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292" name="Oval 57"/>
                <p:cNvSpPr/>
                <p:nvPr/>
              </p:nvSpPr>
              <p:spPr>
                <a:xfrm>
                  <a:off x="6594840" y="4706280"/>
                  <a:ext cx="8460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</p:grpSp>
        </p:grpSp>
      </p:grpSp>
      <p:grpSp>
        <p:nvGrpSpPr>
          <p:cNvPr id="293" name="Group 58"/>
          <p:cNvGrpSpPr/>
          <p:nvPr/>
        </p:nvGrpSpPr>
        <p:grpSpPr>
          <a:xfrm>
            <a:off x="6415920" y="3549600"/>
            <a:ext cx="407520" cy="466560"/>
            <a:chOff x="6415920" y="3549600"/>
            <a:chExt cx="407520" cy="466560"/>
          </a:xfrm>
        </p:grpSpPr>
        <p:sp>
          <p:nvSpPr>
            <p:cNvPr id="294" name="Oval 59"/>
            <p:cNvSpPr/>
            <p:nvPr/>
          </p:nvSpPr>
          <p:spPr>
            <a:xfrm>
              <a:off x="6415920" y="3881520"/>
              <a:ext cx="391680" cy="134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317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grpSp>
          <p:nvGrpSpPr>
            <p:cNvPr id="295" name="Group 60"/>
            <p:cNvGrpSpPr/>
            <p:nvPr/>
          </p:nvGrpSpPr>
          <p:grpSpPr>
            <a:xfrm>
              <a:off x="6416640" y="3549600"/>
              <a:ext cx="406800" cy="407160"/>
              <a:chOff x="6416640" y="3549600"/>
              <a:chExt cx="406800" cy="407160"/>
            </a:xfrm>
          </p:grpSpPr>
          <p:sp>
            <p:nvSpPr>
              <p:cNvPr id="296" name="Oval 61"/>
              <p:cNvSpPr/>
              <p:nvPr/>
            </p:nvSpPr>
            <p:spPr>
              <a:xfrm>
                <a:off x="6416640" y="3549600"/>
                <a:ext cx="406800" cy="407160"/>
              </a:xfrm>
              <a:prstGeom prst="ellipse">
                <a:avLst/>
              </a:pr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endParaRPr>
              </a:p>
            </p:txBody>
          </p:sp>
          <p:grpSp>
            <p:nvGrpSpPr>
              <p:cNvPr id="297" name="Group 62"/>
              <p:cNvGrpSpPr/>
              <p:nvPr/>
            </p:nvGrpSpPr>
            <p:grpSpPr>
              <a:xfrm>
                <a:off x="6447600" y="3560760"/>
                <a:ext cx="342720" cy="110880"/>
                <a:chOff x="6447600" y="3560760"/>
                <a:chExt cx="342720" cy="110880"/>
              </a:xfrm>
            </p:grpSpPr>
            <p:sp>
              <p:nvSpPr>
                <p:cNvPr id="298" name="Freeform 63"/>
                <p:cNvSpPr/>
                <p:nvPr/>
              </p:nvSpPr>
              <p:spPr>
                <a:xfrm>
                  <a:off x="6447600" y="3560760"/>
                  <a:ext cx="342720" cy="110880"/>
                </a:xfrm>
                <a:custGeom>
                  <a:avLst/>
                  <a:gdLst>
                    <a:gd name="textAreaLeft" fmla="*/ 0 w 342720"/>
                    <a:gd name="textAreaRight" fmla="*/ 343080 w 342720"/>
                    <a:gd name="textAreaTop" fmla="*/ 0 h 110880"/>
                    <a:gd name="textAreaBottom" fmla="*/ 111240 h 1108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299" name="Oval 64"/>
                <p:cNvSpPr/>
                <p:nvPr/>
              </p:nvSpPr>
              <p:spPr>
                <a:xfrm>
                  <a:off x="6577920" y="3560760"/>
                  <a:ext cx="8460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</p:grpSp>
        </p:grpSp>
      </p:grpSp>
      <p:grpSp>
        <p:nvGrpSpPr>
          <p:cNvPr id="300" name="Group 65"/>
          <p:cNvGrpSpPr/>
          <p:nvPr/>
        </p:nvGrpSpPr>
        <p:grpSpPr>
          <a:xfrm>
            <a:off x="6377760" y="2421000"/>
            <a:ext cx="407520" cy="466200"/>
            <a:chOff x="6377760" y="2421000"/>
            <a:chExt cx="407520" cy="466200"/>
          </a:xfrm>
        </p:grpSpPr>
        <p:sp>
          <p:nvSpPr>
            <p:cNvPr id="301" name="Oval 66"/>
            <p:cNvSpPr/>
            <p:nvPr/>
          </p:nvSpPr>
          <p:spPr>
            <a:xfrm>
              <a:off x="6377760" y="2752560"/>
              <a:ext cx="391680" cy="134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317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grpSp>
          <p:nvGrpSpPr>
            <p:cNvPr id="302" name="Group 67"/>
            <p:cNvGrpSpPr/>
            <p:nvPr/>
          </p:nvGrpSpPr>
          <p:grpSpPr>
            <a:xfrm>
              <a:off x="6378480" y="2421000"/>
              <a:ext cx="406800" cy="407160"/>
              <a:chOff x="6378480" y="2421000"/>
              <a:chExt cx="406800" cy="407160"/>
            </a:xfrm>
          </p:grpSpPr>
          <p:sp>
            <p:nvSpPr>
              <p:cNvPr id="303" name="Oval 68"/>
              <p:cNvSpPr/>
              <p:nvPr/>
            </p:nvSpPr>
            <p:spPr>
              <a:xfrm>
                <a:off x="6378480" y="2421000"/>
                <a:ext cx="406800" cy="407160"/>
              </a:xfrm>
              <a:prstGeom prst="ellipse">
                <a:avLst/>
              </a:prstGeom>
              <a:gradFill rotWithShape="0">
                <a:gsLst>
                  <a:gs pos="0">
                    <a:srgbClr val="ffc000"/>
                  </a:gs>
                  <a:gs pos="100000">
                    <a:srgbClr val="7254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endParaRPr>
              </a:p>
            </p:txBody>
          </p:sp>
          <p:grpSp>
            <p:nvGrpSpPr>
              <p:cNvPr id="304" name="Group 69"/>
              <p:cNvGrpSpPr/>
              <p:nvPr/>
            </p:nvGrpSpPr>
            <p:grpSpPr>
              <a:xfrm>
                <a:off x="6409440" y="2432160"/>
                <a:ext cx="342720" cy="110880"/>
                <a:chOff x="6409440" y="2432160"/>
                <a:chExt cx="342720" cy="110880"/>
              </a:xfrm>
            </p:grpSpPr>
            <p:sp>
              <p:nvSpPr>
                <p:cNvPr id="305" name="Freeform 70"/>
                <p:cNvSpPr/>
                <p:nvPr/>
              </p:nvSpPr>
              <p:spPr>
                <a:xfrm>
                  <a:off x="6409440" y="2432160"/>
                  <a:ext cx="342720" cy="110880"/>
                </a:xfrm>
                <a:custGeom>
                  <a:avLst/>
                  <a:gdLst>
                    <a:gd name="textAreaLeft" fmla="*/ 0 w 342720"/>
                    <a:gd name="textAreaRight" fmla="*/ 343080 w 342720"/>
                    <a:gd name="textAreaTop" fmla="*/ 0 h 110880"/>
                    <a:gd name="textAreaBottom" fmla="*/ 111240 h 1108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06" name="Oval 71"/>
                <p:cNvSpPr/>
                <p:nvPr/>
              </p:nvSpPr>
              <p:spPr>
                <a:xfrm>
                  <a:off x="6539760" y="2432160"/>
                  <a:ext cx="8460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</p:grpSp>
        </p:grpSp>
      </p:grpSp>
      <p:sp>
        <p:nvSpPr>
          <p:cNvPr id="307" name="Rectangle 72"/>
          <p:cNvSpPr/>
          <p:nvPr/>
        </p:nvSpPr>
        <p:spPr>
          <a:xfrm>
            <a:off x="6288840" y="2789640"/>
            <a:ext cx="2027160" cy="7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单击此处添加文字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73"/>
          <p:cNvSpPr/>
          <p:nvPr/>
        </p:nvSpPr>
        <p:spPr>
          <a:xfrm>
            <a:off x="6288840" y="3933000"/>
            <a:ext cx="2027160" cy="7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74"/>
          <p:cNvSpPr/>
          <p:nvPr/>
        </p:nvSpPr>
        <p:spPr>
          <a:xfrm>
            <a:off x="6272280" y="5085000"/>
            <a:ext cx="1971720" cy="7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单击此处添加文字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0" name="直接连接符 66"/>
          <p:cNvCxnSpPr/>
          <p:nvPr/>
        </p:nvCxnSpPr>
        <p:spPr>
          <a:xfrm>
            <a:off x="6072480" y="2564640"/>
            <a:ext cx="360" cy="3215880"/>
          </a:xfrm>
          <a:prstGeom prst="straightConnector1">
            <a:avLst/>
          </a:prstGeom>
          <a:ln>
            <a:solidFill>
              <a:srgbClr val="7cb7f8">
                <a:lumMod val="25000"/>
              </a:srgbClr>
            </a:solidFill>
            <a:round/>
          </a:ln>
        </p:spPr>
      </p:cxnSp>
      <p:sp>
        <p:nvSpPr>
          <p:cNvPr id="311" name="TextBox 69"/>
          <p:cNvSpPr/>
          <p:nvPr/>
        </p:nvSpPr>
        <p:spPr>
          <a:xfrm>
            <a:off x="539640" y="332640"/>
            <a:ext cx="4771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经典繁仿黑"/>
                <a:ea typeface="经典繁仿黑"/>
              </a:rPr>
              <a:t>二、请自行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Box 4"/>
          <p:cNvSpPr/>
          <p:nvPr/>
        </p:nvSpPr>
        <p:spPr>
          <a:xfrm>
            <a:off x="539640" y="332640"/>
            <a:ext cx="4771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经典繁仿黑"/>
                <a:ea typeface="经典繁仿黑"/>
              </a:rPr>
              <a:t>三、请自行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3" name="直接连接符 6"/>
          <p:cNvCxnSpPr/>
          <p:nvPr/>
        </p:nvCxnSpPr>
        <p:spPr>
          <a:xfrm>
            <a:off x="539280" y="937440"/>
            <a:ext cx="8209440" cy="36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pic>
        <p:nvPicPr>
          <p:cNvPr id="314" name="图片 7" descr=""/>
          <p:cNvPicPr/>
          <p:nvPr/>
        </p:nvPicPr>
        <p:blipFill>
          <a:blip r:embed="rId1"/>
          <a:srcRect l="0" t="13368" r="0" b="14464"/>
          <a:stretch/>
        </p:blipFill>
        <p:spPr>
          <a:xfrm>
            <a:off x="539640" y="1216440"/>
            <a:ext cx="4257360" cy="4608720"/>
          </a:xfrm>
          <a:prstGeom prst="rect">
            <a:avLst/>
          </a:prstGeom>
          <a:ln w="0">
            <a:noFill/>
          </a:ln>
        </p:spPr>
      </p:pic>
      <p:sp>
        <p:nvSpPr>
          <p:cNvPr id="315" name="燕尾形 8"/>
          <p:cNvSpPr/>
          <p:nvPr/>
        </p:nvSpPr>
        <p:spPr>
          <a:xfrm>
            <a:off x="4932000" y="1393200"/>
            <a:ext cx="287640" cy="287640"/>
          </a:xfrm>
          <a:prstGeom prst="chevron">
            <a:avLst>
              <a:gd name="adj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316" name="燕尾形 9"/>
          <p:cNvSpPr/>
          <p:nvPr/>
        </p:nvSpPr>
        <p:spPr>
          <a:xfrm>
            <a:off x="5148000" y="1393200"/>
            <a:ext cx="287640" cy="287640"/>
          </a:xfrm>
          <a:prstGeom prst="chevron">
            <a:avLst>
              <a:gd name="adj" fmla="val 50000"/>
            </a:avLst>
          </a:prstGeom>
          <a:solidFill>
            <a:schemeClr val="bg1">
              <a:alpha val="6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cxnSp>
        <p:nvCxnSpPr>
          <p:cNvPr id="317" name="直接连接符 10"/>
          <p:cNvCxnSpPr/>
          <p:nvPr/>
        </p:nvCxnSpPr>
        <p:spPr>
          <a:xfrm>
            <a:off x="5508000" y="1216080"/>
            <a:ext cx="360" cy="4609440"/>
          </a:xfrm>
          <a:prstGeom prst="straightConnector1">
            <a:avLst/>
          </a:prstGeom>
          <a:ln>
            <a:solidFill>
              <a:srgbClr val="e4a81b">
                <a:lumMod val="20000"/>
                <a:lumOff val="80000"/>
                <a:alpha val="35000"/>
              </a:srgbClr>
            </a:solidFill>
            <a:round/>
          </a:ln>
        </p:spPr>
      </p:cxnSp>
      <p:sp>
        <p:nvSpPr>
          <p:cNvPr id="318" name="矩形 13"/>
          <p:cNvSpPr/>
          <p:nvPr/>
        </p:nvSpPr>
        <p:spPr>
          <a:xfrm>
            <a:off x="5533560" y="1151640"/>
            <a:ext cx="3214800" cy="39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文名： 俞飞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国    籍</a:t>
            </a: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： 中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民    族</a:t>
            </a: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： 汉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出生地</a:t>
            </a: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： 浙江杭州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出生日期</a:t>
            </a: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： </a:t>
            </a:r>
            <a:r>
              <a:rPr b="0" lang="en-US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1971</a:t>
            </a: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15</a:t>
            </a: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日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职业： 导演，演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 </a:t>
            </a:r>
            <a:r>
              <a:rPr b="1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毕业院校</a:t>
            </a: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： 北京电影学院表演系</a:t>
            </a:r>
            <a:r>
              <a:rPr b="1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代表作    品</a:t>
            </a: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： 《喜福会》《新十字街头》《牵手》《策马啸西风》《小李飞刀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主要成就</a:t>
            </a: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： 美国德州休斯顿亲善大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“</a:t>
            </a: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最优秀女演员”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国际电影节金贝壳奖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图片 16"/>
          <p:cNvSpPr/>
          <p:nvPr/>
        </p:nvSpPr>
        <p:spPr>
          <a:xfrm>
            <a:off x="3760920" y="4770360"/>
            <a:ext cx="1458720" cy="13489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Box 5"/>
          <p:cNvSpPr/>
          <p:nvPr/>
        </p:nvSpPr>
        <p:spPr>
          <a:xfrm>
            <a:off x="3024000" y="1340640"/>
            <a:ext cx="53643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6000" spc="-1" strike="noStrike">
                <a:solidFill>
                  <a:srgbClr val="ffffff"/>
                </a:solidFill>
                <a:latin typeface="经典繁仿黑"/>
                <a:ea typeface="经典繁仿黑"/>
              </a:rPr>
              <a:t>感谢你的聆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6"/>
          <p:cNvSpPr/>
          <p:nvPr/>
        </p:nvSpPr>
        <p:spPr>
          <a:xfrm>
            <a:off x="2735640" y="2277000"/>
            <a:ext cx="5580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2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High Tower Text"/>
                <a:ea typeface="楷体"/>
              </a:rPr>
              <a:t>www.so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7"/>
          <p:cNvSpPr/>
          <p:nvPr/>
        </p:nvSpPr>
        <p:spPr>
          <a:xfrm>
            <a:off x="6525360" y="5589360"/>
            <a:ext cx="1872000" cy="577080"/>
          </a:xfrm>
          <a:prstGeom prst="rect">
            <a:avLst/>
          </a:prstGeom>
          <a:noFill/>
          <a:ln w="0">
            <a:noFill/>
          </a:ln>
          <a:effectLst>
            <a:reflection algn="bl" blurRad="6350" dir="5400000" dist="50800" endA="300" endPos="385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  <a:ea typeface="楷体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Mountain">
      <a:dk1>
        <a:srgbClr val="000000"/>
      </a:dk1>
      <a:lt1>
        <a:srgbClr val="ffffff"/>
      </a:lt1>
      <a:dk2>
        <a:srgbClr val="0536b3"/>
      </a:dk2>
      <a:lt2>
        <a:srgbClr val="7cb7f8"/>
      </a:lt2>
      <a:accent1>
        <a:srgbClr val="3f9ee4"/>
      </a:accent1>
      <a:accent2>
        <a:srgbClr val="77b559"/>
      </a:accent2>
      <a:accent3>
        <a:srgbClr val="e4a81b"/>
      </a:accent3>
      <a:accent4>
        <a:srgbClr val="108bb4"/>
      </a:accent4>
      <a:accent5>
        <a:srgbClr val="da7328"/>
      </a:accent5>
      <a:accent6>
        <a:srgbClr val="ae589f"/>
      </a:accent6>
      <a:hlink>
        <a:srgbClr val="460245"/>
      </a:hlink>
      <a:folHlink>
        <a:srgbClr val="ac17d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Mountain">
      <a:dk1>
        <a:srgbClr val="000000"/>
      </a:dk1>
      <a:lt1>
        <a:srgbClr val="ffffff"/>
      </a:lt1>
      <a:dk2>
        <a:srgbClr val="0536b3"/>
      </a:dk2>
      <a:lt2>
        <a:srgbClr val="7cb7f8"/>
      </a:lt2>
      <a:accent1>
        <a:srgbClr val="3f9ee4"/>
      </a:accent1>
      <a:accent2>
        <a:srgbClr val="77b559"/>
      </a:accent2>
      <a:accent3>
        <a:srgbClr val="e4a81b"/>
      </a:accent3>
      <a:accent4>
        <a:srgbClr val="108bb4"/>
      </a:accent4>
      <a:accent5>
        <a:srgbClr val="da7328"/>
      </a:accent5>
      <a:accent6>
        <a:srgbClr val="ae589f"/>
      </a:accent6>
      <a:hlink>
        <a:srgbClr val="460245"/>
      </a:hlink>
      <a:folHlink>
        <a:srgbClr val="ac17d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​​">
  <a:themeElements>
    <a:clrScheme name="Mountain">
      <a:dk1>
        <a:srgbClr val="000000"/>
      </a:dk1>
      <a:lt1>
        <a:srgbClr val="ffffff"/>
      </a:lt1>
      <a:dk2>
        <a:srgbClr val="0536b3"/>
      </a:dk2>
      <a:lt2>
        <a:srgbClr val="7cb7f8"/>
      </a:lt2>
      <a:accent1>
        <a:srgbClr val="3f9ee4"/>
      </a:accent1>
      <a:accent2>
        <a:srgbClr val="77b559"/>
      </a:accent2>
      <a:accent3>
        <a:srgbClr val="e4a81b"/>
      </a:accent3>
      <a:accent4>
        <a:srgbClr val="108bb4"/>
      </a:accent4>
      <a:accent5>
        <a:srgbClr val="da7328"/>
      </a:accent5>
      <a:accent6>
        <a:srgbClr val="ae589f"/>
      </a:accent6>
      <a:hlink>
        <a:srgbClr val="460245"/>
      </a:hlink>
      <a:folHlink>
        <a:srgbClr val="ac17d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主题​​">
  <a:themeElements>
    <a:clrScheme name="Mountain">
      <a:dk1>
        <a:srgbClr val="000000"/>
      </a:dk1>
      <a:lt1>
        <a:srgbClr val="ffffff"/>
      </a:lt1>
      <a:dk2>
        <a:srgbClr val="0536b3"/>
      </a:dk2>
      <a:lt2>
        <a:srgbClr val="7cb7f8"/>
      </a:lt2>
      <a:accent1>
        <a:srgbClr val="3f9ee4"/>
      </a:accent1>
      <a:accent2>
        <a:srgbClr val="77b559"/>
      </a:accent2>
      <a:accent3>
        <a:srgbClr val="e4a81b"/>
      </a:accent3>
      <a:accent4>
        <a:srgbClr val="108bb4"/>
      </a:accent4>
      <a:accent5>
        <a:srgbClr val="da7328"/>
      </a:accent5>
      <a:accent6>
        <a:srgbClr val="ae589f"/>
      </a:accent6>
      <a:hlink>
        <a:srgbClr val="460245"/>
      </a:hlink>
      <a:folHlink>
        <a:srgbClr val="ac17d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  <Words>210</Words>
  <Paragraphs>49</Paragraphs>
  <Company>pxzx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1T07:11:28Z</dcterms:created>
  <dc:creator>ppt宝藏</dc:creator>
  <dc:description/>
  <dc:language>en-US</dc:language>
  <cp:lastModifiedBy>a</cp:lastModifiedBy>
  <dcterms:modified xsi:type="dcterms:W3CDTF">2015-07-25T12:38:24Z</dcterms:modified>
  <cp:revision>16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6</vt:r8>
  </property>
</Properties>
</file>