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9175976"/>
        <c:axId val="84527540"/>
      </c:barChart>
      <c:catAx>
        <c:axId val="7917597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84527540"/>
        <c:crosses val="autoZero"/>
        <c:auto val="1"/>
        <c:lblAlgn val="ctr"/>
        <c:lblOffset val="100"/>
        <c:noMultiLvlLbl val="0"/>
      </c:catAx>
      <c:valAx>
        <c:axId val="84527540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917597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95686892"/>
        <c:axId val="55557786"/>
      </c:barChart>
      <c:catAx>
        <c:axId val="956868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5557786"/>
        <c:crosses val="autoZero"/>
        <c:auto val="1"/>
        <c:lblAlgn val="ctr"/>
        <c:lblOffset val="100"/>
        <c:noMultiLvlLbl val="0"/>
      </c:catAx>
      <c:valAx>
        <c:axId val="55557786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95686892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8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78636173"/>
        <c:axId val="56902207"/>
      </c:lineChart>
      <c:catAx>
        <c:axId val="786361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6902207"/>
        <c:crosses val="autoZero"/>
        <c:auto val="1"/>
        <c:lblAlgn val="ctr"/>
        <c:lblOffset val="100"/>
        <c:noMultiLvlLbl val="0"/>
      </c:catAx>
      <c:valAx>
        <c:axId val="56902207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863617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6357125892906"/>
          <c:y val="0.139104876419506"/>
          <c:w val="0.742970202970569"/>
          <c:h val="0.0930768623861898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11089407"/>
        <c:axId val="20427212"/>
      </c:barChart>
      <c:catAx>
        <c:axId val="110894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20427212"/>
        <c:crosses val="autoZero"/>
        <c:auto val="1"/>
        <c:lblAlgn val="ctr"/>
        <c:lblOffset val="100"/>
        <c:noMultiLvlLbl val="0"/>
      </c:catAx>
      <c:valAx>
        <c:axId val="20427212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11089407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4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2DB39-1FD0-436E-95E4-2EFC61CD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49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70235926-BA87-464E-BD79-CDF20AD043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281-F067-4B22-A0B4-600EF9FF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EC6-8658-4E9A-85AE-7FD323A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2E3-D9F1-4045-8F6B-74B1529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EFE-58D9-4229-B876-3B9FD6B6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C585-F807-43B4-B953-211B33F4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11B-B23E-4187-BAF7-99B7443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BCFA-2D34-4626-BE35-8CAF341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2124-EEE4-48E1-9C0A-C13ABFD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DB12-80D0-4A33-9E80-7AB36A6C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6389-7FCD-4E8C-A437-0AAE119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544C-A37E-437A-8CED-E4383EF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102-177C-4747-BF55-2397834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0E7-8FC2-4BC7-A663-6509930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A76-33C4-4D09-B380-BFBC19B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112-71AA-4279-87EB-EF87DB2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008-39F1-4DD2-93A5-F73621AF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7322-131F-452F-B321-39B0D164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FAD9-042D-4AA5-9FE7-B090A862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0B75-B611-41CF-A90E-1FE811E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BFD8-D6AB-46BA-9B5B-9123C97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5442-2921-4E76-8817-0D95F7A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C4F1-AC8D-4708-AF22-0113092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349-E8DE-442F-A59C-D1A725C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5144-511F-4B1F-9062-D0F7840E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2A49-EB3A-4633-9700-0682A42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F2DA-A917-4256-8605-51DABAE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87B5-2373-4F08-AC6B-44D3C7F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F92B-A683-47AC-81F7-20F7E2D9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E9EB-0448-46C4-9A98-B947FED9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CFCE-C602-4D42-BD08-F327851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CE79-090E-4DFF-BE23-FBB7A33D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800C-3AF0-48C6-8483-E06CBE5E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EFEF-1A02-4B07-B042-181E6CB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EC3-30B8-49AD-A78C-537BC572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373F-2D74-4825-B0CD-C0DB37A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9205-1898-400A-99A7-7EA9A69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2389-0B97-4BB8-89A7-CB229A0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28E6-D73B-4646-8164-EB7B594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EC282-4DC4-47BE-8C5D-B9202B0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259D-38D2-48DF-9851-212CEB7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1223-AAA1-4456-9095-EA457076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0D28-177D-4880-96A4-8F36564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821A-E7CC-4CA2-83DD-B6396BF1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F7BE-7164-47D0-A833-307DBCFD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46B-BF84-4349-A815-F46B172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0A1E-59A5-4F42-82A1-570DCC7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B107-2A0B-4AB7-8CE9-3D0FC11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ED01-CD4B-4F51-9196-2F754DB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862C-4C51-4B88-8309-C6D47646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0AC7-1B48-4D12-BB0B-AA0242B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04CD-771A-466B-B24F-839BDF4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AC12-AB8B-49FA-90C4-D6AA391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4068-31AD-4BDA-99BE-BFD5FBC1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4B06-6A8F-4CA0-876D-2D769FCF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EF43-044D-46C6-96D9-43DE4D7A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50C-F8E9-4625-B92C-DE8F44FF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7CF0-87BE-49EA-BE7E-A988104A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D07D-DEFC-46C3-A79D-4269427F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73A9-410E-4A87-B85C-6B88CD99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6FF2-F280-4F3A-86A5-7417B0C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C806-6570-41C9-BAD0-3E20BAC6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58F4-B2C9-44F6-B179-531737C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F35E-73A3-482D-AF48-B1E8D218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A8C80-A0A2-4199-BF51-CC16F0B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B325-2E09-4439-BBCF-D450CBC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F7E0-91DA-4D2F-A908-4EE808B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9E3-B6E9-4079-AAA7-394E7F1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BB670-BD9E-410C-8022-AE8B77D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F126-4F28-4843-A239-5F698B44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0BE9-B261-49E2-A5F7-E127A494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DEE8-A671-4F05-82AD-79FBBAD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4583-5261-488F-9F51-B937CF4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E66C-D1E5-4A69-B748-93B5B8A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7CDE7-A66B-4D0F-8125-0081E324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B5E9-4965-4058-B1DC-B3E3DBF8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5A93-D719-4A28-B33A-60A1CD04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C19F-2F86-4F8F-A24F-A7FAE6B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3DF-FA50-499C-8BD4-E2472F1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89F1-77C9-4094-9872-C1E2BE4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E7A8-0FE7-478A-AD6C-FF3E0F3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1BF4-9A75-4160-B0F0-FB2C00D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CDF6-1484-4272-900D-422B44D2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DCB7-DBC5-4D88-9178-8129DC55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2B58E-3AF7-49BB-845C-E7338166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95F6-8FE5-4556-9B28-177321E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81EE-F7D0-4AD7-982D-BEB403AC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80C1-AB18-4411-A515-C63F9758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7993B-A891-4B3A-BE74-BD94124B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107-C91F-4D2E-B0CF-467D51C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A7FF-42ED-4516-B31B-1E76079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B466-11AE-4E31-9476-4ACB0F2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F27D-C69B-4611-92B0-055448F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6C9B-DF10-4225-BA85-A5D64F9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C0CC-DA80-4E83-A637-8497780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34C0-A980-4A00-8316-97FA8081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276F-9E9A-4C62-B923-EAF0E37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738288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3B842A8-2BE4-445D-8E75-85C638671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F6841-AD32-4769-A51E-63FFD277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TP-01-00001-\bg4.jpg"/>
          <p:cNvPicPr/>
          <p:nvPr/>
        </p:nvPicPr>
        <p:blipFill>
          <a:blip r:embed="rId3"/>
          <a:stretch/>
        </p:blipFill>
        <p:spPr>
          <a:xfrm>
            <a:off x="0" y="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58C18D1-25CB-494C-AE45-C27B415D9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E2C916-DE91-4C4C-8E18-BA1EA502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D24EF5F-3962-4CA7-9668-5B6E366FE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6D06894-728A-47E7-9451-DFD7F97A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FC38FD-3628-4538-9005-81C2E8EBD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A457596-E3AD-446C-BA6D-A3A3DB1F9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738072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精品蓝色商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53330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B5B-631C-4622-AFAC-2AF417D81A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136FD-57E6-4B59-ADC8-BDD434E93DB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4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CCBD83-FF71-4178-9000-5B48F0B89A5A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4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4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96A2C0-DA3B-4B35-BA48-79317D4A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3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3B18-87F0-4F2C-AEED-4669E9272D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8984166-92D2-400E-857A-42AC6E156A3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矩形 1"/>
          <p:cNvSpPr/>
          <p:nvPr/>
        </p:nvSpPr>
        <p:spPr>
          <a:xfrm>
            <a:off x="3155400" y="3244320"/>
            <a:ext cx="283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http://pppptao.taoba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5280" y="54284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A3CC-6FE0-479A-854C-FCF085BF41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98B684E8-B2F5-43B1-A47F-49E1BF43BDB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99E05D3-8E44-4791-A28C-14028ED7E519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60F003-669E-4C75-BCAB-E7861EBB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b2b2b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589a"/>
          </a:solidFill>
          <a:ln w="9525">
            <a:solidFill>
              <a:srgbClr val="00589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7a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a5a5a5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dddddd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8583-2A3D-4843-8751-A9B726D5AA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06D0FCF-D035-4210-A197-8989FD1C5DE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1AD856-365B-420F-B6B9-2A3D33AFE828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6FF32-F2FB-45B6-BE8F-1AD3CB6E6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67355C8-136B-4298-91E6-DDB922EF2A76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D2A2F3F-C6E6-4D9B-B38C-4C730EE3E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85780857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887479605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5" name="PlaceHolder 2"/>
          <p:cNvSpPr>
            <a:spLocks noGrp="1"/>
          </p:cNvSpPr>
          <p:nvPr>
            <p:ph type="dt" idx="3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D7FC52-2173-4897-B55F-19E66B4756DB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79643A1-1C72-4FD4-A355-06B711FBE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9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30" name="PlaceHolder 2"/>
          <p:cNvSpPr>
            <a:spLocks noGrp="1"/>
          </p:cNvSpPr>
          <p:nvPr>
            <p:ph type="dt" idx="4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983B04-0034-44FE-B0C0-0D68727E9C57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4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4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DAC1798-627D-4A44-9168-FE409535B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8484258-D2FD-4872-AA86-9F12FA517229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4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4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5447224-8CFE-493B-9BF9-B4925400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2" name="内容占位符 6"/>
          <p:cNvGraphicFramePr/>
          <p:nvPr/>
        </p:nvGraphicFramePr>
        <p:xfrm>
          <a:off x="450072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7917-943F-4785-ACA4-3ABC8AFFB2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A472CE48-8842-4DED-8A31-E38E7DE356E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412</Template>
  <TotalTime>19</TotalTime>
  <Application>LibreOffice/7.4.7.2$Linux_X86_64 LibreOffice_project/40$Build-2</Application>
  <AppVersion>15.0000</AppVersion>
  <Words>501</Words>
  <Paragraphs>174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7:31:49Z</dcterms:created>
  <dc:creator>ppt宝藏</dc:creator>
  <dc:description/>
  <dc:language>en-US</dc:language>
  <cp:lastModifiedBy>a</cp:lastModifiedBy>
  <dcterms:modified xsi:type="dcterms:W3CDTF">2015-07-25T12:41:48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Notes">
    <vt:r8>1</vt:r8>
  </property>
  <property fmtid="{D5CDD505-2E9C-101B-9397-08002B2CF9AE}" pid="7" name="PresentationFormat">
    <vt:lpwstr>全屏显示(4:3)</vt:lpwstr>
  </property>
  <property fmtid="{D5CDD505-2E9C-101B-9397-08002B2CF9AE}" pid="8" name="Slides">
    <vt:r8>12</vt:r8>
  </property>
</Properties>
</file>