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C2A-B697-4187-823D-53E1EBAA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FBD-1739-4577-B695-27933A0B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B21-52FB-4BF3-AA40-25ACC75A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B19-C1AC-4470-8E23-94874904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54C-2FA1-4486-A869-062167C2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5C10-5160-444D-8A75-FEF0C74B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E4BB-1A23-4774-A9E5-28FEE810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C80-77DB-435D-A118-47038E0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EED-0C7E-45D0-812C-BC103737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DF8A-71C9-4974-9095-D70DFCBC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BF8-5CC9-4FCC-8F1A-44F683F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73A-F7B8-48BE-BDB1-06504B1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3FD6-2DB5-41B6-9A99-AC710E9D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6038-CFBC-4606-BBB7-F17AA93C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954-92C6-4EBC-A399-A5466010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7EE6-8E92-49C4-A639-3CF3C515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8C8A-EC10-41C6-8188-A5EBA20E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E36-0206-4AD3-8EB2-8D2A8FB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66D-E67B-4129-9F7E-07CEAF51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A5B-52FB-404D-8BAA-FFBA881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92D-2C2B-41AF-BF50-72F1F63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9B5-BC8E-4F48-B445-B5857E5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87B-C742-4D8B-B70B-EE16864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700-A5F1-4D65-909C-DBDFE42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8E7-D6C7-4997-A330-A03A6ABC8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628F-A4EE-4C05-8397-3AE5E53F7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76360" y="1989000"/>
            <a:ext cx="457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1920" y="26028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军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00200" y="199692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057400" y="184320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600200" y="2865600"/>
            <a:ext cx="466560" cy="53316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57400" y="271296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600200" y="3733920"/>
            <a:ext cx="466560" cy="53316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057400" y="358128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50D1-6A1B-4897-AC81-372921E31CB5}" type="slidenum">
              <a:t>6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3:58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2:5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