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微软雅黑"/>
              </a:rPr>
              <a:t>Click to move the slide</a:t>
            </a:r>
            <a:endParaRPr b="1" lang="en-US" sz="24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C6E5F-A653-4B78-92AE-B9A122A719C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46c0a"/>
              </a:solidFill>
              <a:latin typeface="Arial"/>
              <a:ea typeface="微软雅黑"/>
            </a:endParaRPr>
          </a:p>
        </p:txBody>
      </p:sp>
      <p:sp>
        <p:nvSpPr>
          <p:cNvPr id="10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5624F-63E3-49CC-AC46-0229FADEB43A}" type="slidenum">
              <a:rPr b="0" lang="zh-CN" sz="1200" spc="-1" strike="noStrike">
                <a:solidFill>
                  <a:srgbClr val="26262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46c0a"/>
              </a:solidFill>
              <a:latin typeface="Arial"/>
              <a:ea typeface="微软雅黑"/>
            </a:endParaRPr>
          </a:p>
        </p:txBody>
      </p:sp>
      <p:sp>
        <p:nvSpPr>
          <p:cNvPr id="1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F7EAA-BA10-40C2-9E78-6E6AB98FC797}" type="slidenum">
              <a:rPr b="0" lang="zh-CN" sz="1200" spc="-1" strike="noStrike">
                <a:solidFill>
                  <a:srgbClr val="26262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46c0a"/>
              </a:solidFill>
              <a:latin typeface="Arial"/>
              <a:ea typeface="微软雅黑"/>
            </a:endParaRPr>
          </a:p>
        </p:txBody>
      </p:sp>
      <p:sp>
        <p:nvSpPr>
          <p:cNvPr id="1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939E6-AB11-4138-BDC2-031C70A2D1AA}" type="slidenum">
              <a:rPr b="0" lang="zh-CN" sz="1200" spc="-1" strike="noStrike">
                <a:solidFill>
                  <a:srgbClr val="26262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46c0a"/>
              </a:solidFill>
              <a:latin typeface="Arial"/>
              <a:ea typeface="微软雅黑"/>
            </a:endParaRPr>
          </a:p>
        </p:txBody>
      </p:sp>
      <p:sp>
        <p:nvSpPr>
          <p:cNvPr id="1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E2390-73FA-4FED-833E-59AE3809B0FC}" type="slidenum">
              <a:rPr b="0" lang="zh-CN" sz="1200" spc="-1" strike="noStrike">
                <a:solidFill>
                  <a:srgbClr val="26262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D212-6F2B-491D-B8F4-EBB860466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56908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50560" y="4124160"/>
            <a:ext cx="856908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F34E-57D8-4599-B9D7-2DA6A4E68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41814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1480" y="1341000"/>
            <a:ext cx="41814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50560" y="4124160"/>
            <a:ext cx="41814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1480" y="4124160"/>
            <a:ext cx="41814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D61E-BB6F-48B1-961F-9D6526A81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27590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7840" y="1341000"/>
            <a:ext cx="27590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5480" y="1341000"/>
            <a:ext cx="27590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50560" y="4124160"/>
            <a:ext cx="27590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7840" y="4124160"/>
            <a:ext cx="27590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5480" y="4124160"/>
            <a:ext cx="27590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85A7-4FCE-4A0F-9D59-C8607770B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50560" y="1341000"/>
            <a:ext cx="8569080" cy="53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569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4181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1480" y="1341000"/>
            <a:ext cx="4181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微软雅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50560" y="764640"/>
            <a:ext cx="856908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41814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1480" y="1341000"/>
            <a:ext cx="4181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50560" y="4124160"/>
            <a:ext cx="41814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50560" y="1341000"/>
            <a:ext cx="8569080" cy="53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AD20-F1D9-4D6D-A3F3-8215AAC23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4181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1480" y="1341000"/>
            <a:ext cx="41814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41480" y="4124160"/>
            <a:ext cx="41814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41814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1480" y="1341000"/>
            <a:ext cx="41814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50560" y="4124160"/>
            <a:ext cx="856908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56908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50560" y="4124160"/>
            <a:ext cx="856908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41814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1480" y="1341000"/>
            <a:ext cx="41814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50560" y="4124160"/>
            <a:ext cx="41814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41480" y="4124160"/>
            <a:ext cx="41814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27590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47840" y="1341000"/>
            <a:ext cx="27590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45480" y="1341000"/>
            <a:ext cx="27590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50560" y="4124160"/>
            <a:ext cx="27590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47840" y="4124160"/>
            <a:ext cx="27590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45480" y="4124160"/>
            <a:ext cx="27590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569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E497-0A21-4DCF-8CC6-B5387E239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4181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1480" y="1341000"/>
            <a:ext cx="4181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E1C3-E59D-402A-9F6D-C8084AB0A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20AB-7B1A-4C87-ABD4-E73389C47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0560" y="764640"/>
            <a:ext cx="856908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B9F5-8E97-422B-9973-DA20549D4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41814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1480" y="1341000"/>
            <a:ext cx="4181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50560" y="4124160"/>
            <a:ext cx="41814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E3F3-1D60-49BC-8498-1D6A5E34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4181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1480" y="1341000"/>
            <a:ext cx="41814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1480" y="4124160"/>
            <a:ext cx="41814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157B-7944-4059-ABF1-610B7000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41814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1480" y="1341000"/>
            <a:ext cx="41814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50560" y="4124160"/>
            <a:ext cx="856908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33E7-129F-4B97-8BE3-61E5FDFE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"/>
          <p:cNvPicPr/>
          <p:nvPr/>
        </p:nvPicPr>
        <p:blipFill>
          <a:blip r:embed="rId2"/>
          <a:srcRect l="0" t="1716" r="24" b="0"/>
          <a:stretch/>
        </p:blipFill>
        <p:spPr>
          <a:xfrm>
            <a:off x="-33480" y="0"/>
            <a:ext cx="91774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微软雅黑"/>
              </a:rPr>
              <a:t>Click to edit the title text format</a:t>
            </a:r>
            <a:endParaRPr b="1" lang="en-US" sz="24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Times New Roman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d8d8d"/>
                </a:solidFill>
                <a:latin typeface="Times New Roman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Times New Roman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C760D-2CFA-4AB4-8A9C-0F8A6216B9BA}" type="slidenum">
              <a:rPr b="0" lang="zh-CN" sz="1200" spc="-1" strike="noStrike">
                <a:solidFill>
                  <a:srgbClr val="8d8d8d"/>
                </a:solidFill>
                <a:latin typeface="Times New Roman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250560" y="1341000"/>
            <a:ext cx="8569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50000"/>
              </a:lnSpc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50000"/>
              </a:lnSpc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7" descr=""/>
          <p:cNvPicPr/>
          <p:nvPr/>
        </p:nvPicPr>
        <p:blipFill>
          <a:blip r:embed="rId2"/>
          <a:srcRect l="380" t="0" r="0" b="1690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微软雅黑"/>
              </a:rPr>
              <a:t>Click to edit the title text format</a:t>
            </a:r>
            <a:endParaRPr b="1" lang="en-US" sz="24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50560" y="1341000"/>
            <a:ext cx="8569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50000"/>
              </a:lnSpc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50000"/>
              </a:lnSpc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标题 3" descr=""/>
          <p:cNvPicPr/>
          <p:nvPr/>
        </p:nvPicPr>
        <p:blipFill>
          <a:blip r:embed="rId1"/>
          <a:stretch/>
        </p:blipFill>
        <p:spPr>
          <a:xfrm>
            <a:off x="1116000" y="2852640"/>
            <a:ext cx="7199280" cy="792360"/>
          </a:xfrm>
          <a:prstGeom prst="rect">
            <a:avLst/>
          </a:prstGeom>
          <a:ln w="0">
            <a:noFill/>
          </a:ln>
        </p:spPr>
      </p:pic>
      <p:pic>
        <p:nvPicPr>
          <p:cNvPr id="89" name="副标题 4" descr=""/>
          <p:cNvPicPr/>
          <p:nvPr/>
        </p:nvPicPr>
        <p:blipFill>
          <a:blip r:embed="rId2"/>
          <a:stretch/>
        </p:blipFill>
        <p:spPr>
          <a:xfrm>
            <a:off x="2712960" y="3743280"/>
            <a:ext cx="3395880" cy="676440"/>
          </a:xfrm>
          <a:prstGeom prst="rect">
            <a:avLst/>
          </a:prstGeom>
          <a:ln w="0">
            <a:noFill/>
          </a:ln>
        </p:spPr>
      </p:pic>
      <p:sp>
        <p:nvSpPr>
          <p:cNvPr id="9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62626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262626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262626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标题 3" descr=""/>
          <p:cNvPicPr/>
          <p:nvPr/>
        </p:nvPicPr>
        <p:blipFill>
          <a:blip r:embed="rId1"/>
          <a:stretch/>
        </p:blipFill>
        <p:spPr>
          <a:xfrm>
            <a:off x="2266920" y="2676600"/>
            <a:ext cx="4249800" cy="682560"/>
          </a:xfrm>
          <a:prstGeom prst="rect">
            <a:avLst/>
          </a:prstGeom>
          <a:ln w="0">
            <a:noFill/>
          </a:ln>
        </p:spPr>
      </p:pic>
      <p:pic>
        <p:nvPicPr>
          <p:cNvPr id="92" name="文本占位符 4" descr=""/>
          <p:cNvPicPr/>
          <p:nvPr/>
        </p:nvPicPr>
        <p:blipFill>
          <a:blip r:embed="rId2"/>
          <a:stretch/>
        </p:blipFill>
        <p:spPr>
          <a:xfrm>
            <a:off x="2809800" y="3359160"/>
            <a:ext cx="318312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标题 1" descr=""/>
          <p:cNvPicPr/>
          <p:nvPr/>
        </p:nvPicPr>
        <p:blipFill>
          <a:blip r:embed="rId1"/>
          <a:stretch/>
        </p:blipFill>
        <p:spPr>
          <a:xfrm>
            <a:off x="249120" y="835200"/>
            <a:ext cx="8645760" cy="5061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50920" y="1341000"/>
            <a:ext cx="864216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标题 4" descr=""/>
          <p:cNvPicPr/>
          <p:nvPr/>
        </p:nvPicPr>
        <p:blipFill>
          <a:blip r:embed="rId1"/>
          <a:stretch/>
        </p:blipFill>
        <p:spPr>
          <a:xfrm>
            <a:off x="249120" y="762120"/>
            <a:ext cx="8570880" cy="579240"/>
          </a:xfrm>
          <a:prstGeom prst="rect">
            <a:avLst/>
          </a:prstGeom>
          <a:ln w="0">
            <a:noFill/>
          </a:ln>
        </p:spPr>
      </p:pic>
      <p:sp>
        <p:nvSpPr>
          <p:cNvPr id="96" name="十字星 5"/>
          <p:cNvSpPr/>
          <p:nvPr/>
        </p:nvSpPr>
        <p:spPr>
          <a:xfrm>
            <a:off x="2131920" y="2754360"/>
            <a:ext cx="93600" cy="71280"/>
          </a:xfrm>
          <a:custGeom>
            <a:avLst/>
            <a:gdLst>
              <a:gd name="textAreaLeft" fmla="*/ 38520 w 93600"/>
              <a:gd name="textAreaRight" fmla="*/ 55080 w 93600"/>
              <a:gd name="textAreaTop" fmla="*/ 29160 h 71280"/>
              <a:gd name="textAreaBottom" fmla="*/ 42120 h 71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adee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" name="十字星 6"/>
          <p:cNvSpPr/>
          <p:nvPr/>
        </p:nvSpPr>
        <p:spPr>
          <a:xfrm>
            <a:off x="2147760" y="3473280"/>
            <a:ext cx="93960" cy="73080"/>
          </a:xfrm>
          <a:custGeom>
            <a:avLst/>
            <a:gdLst>
              <a:gd name="textAreaLeft" fmla="*/ 38520 w 93960"/>
              <a:gd name="textAreaRight" fmla="*/ 55440 w 93960"/>
              <a:gd name="textAreaTop" fmla="*/ 30240 h 73080"/>
              <a:gd name="textAreaBottom" fmla="*/ 42840 h 73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108000" y="6381720"/>
            <a:ext cx="71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262626"/>
                </a:solidFill>
                <a:latin typeface="Arial"/>
                <a:ea typeface="宋体"/>
              </a:rPr>
              <a:t>模板下载</a:t>
            </a:r>
            <a:r>
              <a:rPr b="0" lang="zh-CN" sz="1600" spc="-1" strike="noStrike" u="sng">
                <a:solidFill>
                  <a:srgbClr val="76923c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5T06:51:19Z</dcterms:created>
  <dc:creator>chen.zhb;ivywang</dc:creator>
  <dc:description/>
  <dc:language>en-US</dc:language>
  <cp:lastModifiedBy>王玉清</cp:lastModifiedBy>
  <dcterms:modified xsi:type="dcterms:W3CDTF">2016-02-29T07:46:46Z</dcterms:modified>
  <cp:revision>11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IP等级">
    <vt:lpwstr>2</vt:lpwstr>
  </property>
  <property fmtid="{D5CDD505-2E9C-101B-9397-08002B2CF9AE}" pid="3" name="价格">
    <vt:lpwstr>20</vt:lpwstr>
  </property>
  <property fmtid="{D5CDD505-2E9C-101B-9397-08002B2CF9AE}" pid="4" name="使用说明">
    <vt:lpwstr>PPT背景模板是PPT文档的格式、布局、图形效果整套美化方案，应用后不会改变PPT演示文稿本身的内容，仅仅使内容格式发生变化。点击【套用到文档】按钮即可套用该模板。</vt:lpwstr>
  </property>
  <property fmtid="{D5CDD505-2E9C-101B-9397-08002B2CF9AE}" pid="5" name="使用软件">
    <vt:lpwstr>ppt</vt:lpwstr>
  </property>
  <property fmtid="{D5CDD505-2E9C-101B-9397-08002B2CF9AE}" pid="6" name="关键字">
    <vt:lpwstr>PPT背景模板 PPT 格式 炫光 炫丽 华丽 黄 黄色 金黄 叶子 植物 光 光线 动态 动感 活力 背景 V2</vt:lpwstr>
  </property>
  <property fmtid="{D5CDD505-2E9C-101B-9397-08002B2CF9AE}" pid="7" name="操作代码">
    <vt:lpwstr>2</vt:lpwstr>
  </property>
  <property fmtid="{D5CDD505-2E9C-101B-9397-08002B2CF9AE}" pid="8" name="是否可购买">
    <vt:lpwstr>1</vt:lpwstr>
  </property>
  <property fmtid="{D5CDD505-2E9C-101B-9397-08002B2CF9AE}" pid="9" name="显示VIP等级">
    <vt:lpwstr>2</vt:lpwstr>
  </property>
  <property fmtid="{D5CDD505-2E9C-101B-9397-08002B2CF9AE}" pid="10" name="标题">
    <vt:lpwstr>炫光叶子</vt:lpwstr>
  </property>
  <property fmtid="{D5CDD505-2E9C-101B-9397-08002B2CF9AE}" pid="11" name="模板ID">
    <vt:lpwstr>A30220130313A03</vt:lpwstr>
  </property>
  <property fmtid="{D5CDD505-2E9C-101B-9397-08002B2CF9AE}" pid="12" name="模板缩略图">
    <vt:lpwstr>A30220130313A03.png</vt:lpwstr>
  </property>
  <property fmtid="{D5CDD505-2E9C-101B-9397-08002B2CF9AE}" pid="13" name="相关案例">
    <vt:lpwstr>854</vt:lpwstr>
  </property>
  <property fmtid="{D5CDD505-2E9C-101B-9397-08002B2CF9AE}" pid="14" name="缩略图标题">
    <vt:lpwstr>炫光叶子</vt:lpwstr>
  </property>
  <property fmtid="{D5CDD505-2E9C-101B-9397-08002B2CF9AE}" pid="15" name="适用软件">
    <vt:lpwstr>PowerPoint 2007及以上版本</vt:lpwstr>
  </property>
  <property fmtid="{D5CDD505-2E9C-101B-9397-08002B2CF9AE}" pid="16" name="附件ID">
    <vt:lpwstr>A30220130313A0301</vt:lpwstr>
  </property>
  <property fmtid="{D5CDD505-2E9C-101B-9397-08002B2CF9AE}" pid="17" name="附件缩略图">
    <vt:lpwstr>A30220130313A0301.png</vt:lpwstr>
  </property>
  <property fmtid="{D5CDD505-2E9C-101B-9397-08002B2CF9AE}" pid="18" name="附件路径">
    <vt:lpwstr>A30220130313A0301.pptx</vt:lpwstr>
  </property>
</Properties>
</file>