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BDB80-9790-46AA-8BF2-956CE8063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89950-7380-4DA7-9C0D-49F55B930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14703-1CDE-49AF-B190-3CAF265ED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A1499-FF47-491D-9241-FA19DF8A4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984D4-A770-4341-8BF4-58774D17A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03EA5-635A-475E-9ADC-9CA2C83B7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E71F4-CAB9-4D60-B4E7-433AE4FE5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99C9E-9796-4647-A4FA-30BCF1FCD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CB0AD-5AB2-4A26-9EE7-81BE7EE4B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A3E27-5B57-433F-9F86-2BDE41C0D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16450-C0DD-4EEA-9C42-C8C0911F2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B1ADB-FB91-4221-A9D5-DA18CD77A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CD7B7-F214-4355-839A-769A5DCC8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2C3D6-B396-4D99-A3A4-DD9FE82B4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ED174-BF4B-4F78-B3DF-4FC464C55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4ECD8-F65E-40F7-975E-A4FADD379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27AF1-30A8-4B3A-B921-70418B75D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52F21-AFDD-420E-AA26-A67B0478C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9E206-35BD-4226-82E4-69ABDC220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B68E3-B59F-47DD-B708-3F3C82396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D799D-75EC-4FF9-860E-88337E038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0ECDF-633E-440C-A8CC-1DA43DBC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18A0-DB12-4883-ABB5-7F578AC07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D7F2-B7AC-4FD2-8805-DD166D31C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C658-5563-4DC9-A339-5E77F8FA62E1}"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7E1F-1011-46DD-AA09-796CC9A10DE6}"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4"/>
          <p:cNvSpPr/>
          <p:nvPr/>
        </p:nvSpPr>
        <p:spPr>
          <a:xfrm>
            <a:off x="1305720" y="1773360"/>
            <a:ext cx="596736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正大黑简体"/>
                <a:ea typeface="方正正大黑简体"/>
              </a:rPr>
              <a:t>建筑工地工程师通用</a:t>
            </a:r>
            <a:r>
              <a:rPr b="0" lang="en-US" sz="4000" spc="-1" strike="noStrike">
                <a:solidFill>
                  <a:srgbClr val="ffffff"/>
                </a:solidFill>
                <a:latin typeface="方正正大黑简体"/>
                <a:ea typeface="方正正大黑简体"/>
              </a:rPr>
              <a:t>PPT</a:t>
            </a:r>
            <a:r>
              <a:rPr b="0" lang="zh-CN" sz="4000" spc="-1" strike="noStrike">
                <a:solidFill>
                  <a:srgbClr val="ffffff"/>
                </a:solidFill>
                <a:latin typeface="方正正大黑简体"/>
                <a:ea typeface="方正正大黑简体"/>
              </a:rPr>
              <a:t>模板下载</a:t>
            </a:r>
            <a:endParaRPr b="0" lang="en-US" sz="4000" spc="-1" strike="noStrike">
              <a:solidFill>
                <a:srgbClr val="000000"/>
              </a:solidFill>
              <a:latin typeface="Arial"/>
            </a:endParaRPr>
          </a:p>
        </p:txBody>
      </p:sp>
      <p:sp>
        <p:nvSpPr>
          <p:cNvPr id="83" name="PlaceHolder 1"/>
          <p:cNvSpPr>
            <a:spLocks noGrp="1"/>
          </p:cNvSpPr>
          <p:nvPr>
            <p:ph type="subTitle"/>
          </p:nvPr>
        </p:nvSpPr>
        <p:spPr>
          <a:xfrm>
            <a:off x="152280" y="5866920"/>
            <a:ext cx="6400800" cy="38124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Arial"/>
              <a:ea typeface="宋体"/>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新細明體"/>
              </a:rPr>
              <a:t>Slide Master</a:t>
            </a:r>
            <a:endParaRPr b="1" lang="en-US" sz="3600" spc="-1" strike="noStrike">
              <a:solidFill>
                <a:srgbClr val="000000"/>
              </a:solidFill>
              <a:latin typeface="Tahoma"/>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232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新細明體"/>
              </a:rPr>
              <a:t>Print Master</a:t>
            </a:r>
            <a:endParaRPr b="1" lang="en-US" sz="3600" spc="-1" strike="noStrike">
              <a:solidFill>
                <a:srgbClr val="000000"/>
              </a:solidFill>
              <a:latin typeface="Tahoma"/>
            </a:endParaRPr>
          </a:p>
        </p:txBody>
      </p:sp>
      <p:sp>
        <p:nvSpPr>
          <p:cNvPr id="88" name=""/>
          <p:cNvSpPr txBox="1"/>
          <p:nvPr/>
        </p:nvSpPr>
        <p:spPr>
          <a:xfrm>
            <a:off x="2362320" y="1722600"/>
            <a:ext cx="6324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 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矩形 4"/>
          <p:cNvSpPr/>
          <p:nvPr/>
        </p:nvSpPr>
        <p:spPr>
          <a:xfrm>
            <a:off x="2297160" y="6627960"/>
            <a:ext cx="6904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14:16:51Z</dcterms:created>
  <dc:creator>pc</dc:creator>
  <dc:description/>
  <dc:language>en-US</dc:language>
  <cp:lastModifiedBy>王玉清</cp:lastModifiedBy>
  <dcterms:modified xsi:type="dcterms:W3CDTF">2016-02-21T03:35:57Z</dcterms:modified>
  <cp:revision>11</cp:revision>
  <dc:subject/>
  <dc:title>Presentation Title </dc:title>
</cp:coreProperties>
</file>