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6D2-CF1D-4CB2-9F4C-0C3B2F91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767-5C62-4859-831F-2D52E96C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39A-D2F6-48F7-8AB2-BBB5A3E0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C13-124A-4F0A-9528-4C9D12B2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A0D-A9B0-47CC-9B61-C266A7A4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9EF-4EB6-4B6D-800C-47A95D5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33F-FDA2-4444-9A76-1776A6D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DD6-7767-4345-9867-DAA953F8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0F1-B505-4251-B1B5-EDF4A735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A19-97CB-4C81-B246-D8E0099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3C7-BF9C-4B55-AAC3-90AB4C6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6B7-3459-4A86-83E8-932DC88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B36D61-E29A-4CE0-A72E-20221A4166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3365280" y="48960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可爱的流氓兔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4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135320" y="3137400"/>
            <a:ext cx="308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77280" y="63266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rdri Tools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  <Words>34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00:42:22Z</dcterms:created>
  <dc:creator>杜鹏亮</dc:creator>
  <dc:description/>
  <dc:language>en-US</dc:language>
  <cp:lastModifiedBy>王玉清</cp:lastModifiedBy>
  <dcterms:modified xsi:type="dcterms:W3CDTF">2016-02-23T03:38:19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0</vt:r8>
  </property>
</Properties>
</file>