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1"/>
          <a:stretch/>
        </p:blipFill>
        <p:spPr>
          <a:xfrm>
            <a:off x="11160" y="-111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标题 1"/>
          <p:cNvSpPr/>
          <p:nvPr/>
        </p:nvSpPr>
        <p:spPr>
          <a:xfrm>
            <a:off x="108000" y="504720"/>
            <a:ext cx="450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标题 1"/>
          <p:cNvSpPr/>
          <p:nvPr/>
        </p:nvSpPr>
        <p:spPr>
          <a:xfrm>
            <a:off x="822240" y="100800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8172360" y="5378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240" y="5292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6120" y="921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科技感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" descr=""/>
          <p:cNvPicPr/>
          <p:nvPr/>
        </p:nvPicPr>
        <p:blipFill>
          <a:blip r:embed="rId1"/>
          <a:stretch/>
        </p:blipFill>
        <p:spPr>
          <a:xfrm>
            <a:off x="0" y="9360"/>
            <a:ext cx="9158400" cy="5705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2197080" y="1308240"/>
            <a:ext cx="4319640" cy="3241440"/>
            <a:chOff x="2197080" y="1308240"/>
            <a:chExt cx="4319640" cy="3241440"/>
          </a:xfrm>
        </p:grpSpPr>
        <p:grpSp>
          <p:nvGrpSpPr>
            <p:cNvPr id="47" name=""/>
            <p:cNvGrpSpPr/>
            <p:nvPr/>
          </p:nvGrpSpPr>
          <p:grpSpPr>
            <a:xfrm>
              <a:off x="2197080" y="1308240"/>
              <a:ext cx="4319640" cy="774000"/>
              <a:chOff x="2197080" y="1308240"/>
              <a:chExt cx="4319640" cy="774000"/>
            </a:xfrm>
          </p:grpSpPr>
          <p:pic>
            <p:nvPicPr>
              <p:cNvPr id="48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7080" y="1308240"/>
                <a:ext cx="431964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4"/>
              <p:cNvSpPr/>
              <p:nvPr/>
            </p:nvSpPr>
            <p:spPr>
              <a:xfrm>
                <a:off x="2331360" y="1437120"/>
                <a:ext cx="3931920" cy="3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837520" y="1416600"/>
              <a:ext cx="3358080" cy="386280"/>
              <a:chOff x="2837520" y="1416600"/>
              <a:chExt cx="3358080" cy="386280"/>
            </a:xfrm>
          </p:grpSpPr>
          <p:sp>
            <p:nvSpPr>
              <p:cNvPr id="51" name="AutoShape 50"/>
              <p:cNvSpPr/>
              <p:nvPr/>
            </p:nvSpPr>
            <p:spPr>
              <a:xfrm>
                <a:off x="2837520" y="1416600"/>
                <a:ext cx="3358080" cy="38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51"/>
              <p:cNvSpPr/>
              <p:nvPr/>
            </p:nvSpPr>
            <p:spPr>
              <a:xfrm>
                <a:off x="2916720" y="1463040"/>
                <a:ext cx="3143520" cy="181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82080" bIns="-61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47"/>
            <p:cNvSpPr/>
            <p:nvPr/>
          </p:nvSpPr>
          <p:spPr>
            <a:xfrm>
              <a:off x="2391480" y="1373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97080" y="1926360"/>
              <a:ext cx="4319640" cy="769320"/>
              <a:chOff x="2197080" y="1926360"/>
              <a:chExt cx="4319640" cy="7693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2197080" y="1926360"/>
                <a:ext cx="4319640" cy="769320"/>
                <a:chOff x="2197080" y="1926360"/>
                <a:chExt cx="4319640" cy="769320"/>
              </a:xfrm>
            </p:grpSpPr>
            <p:pic>
              <p:nvPicPr>
                <p:cNvPr id="56" name="AutoShape 86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97080" y="1926360"/>
                  <a:ext cx="4319640" cy="76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Text Box 12"/>
                <p:cNvSpPr/>
                <p:nvPr/>
              </p:nvSpPr>
              <p:spPr>
                <a:xfrm>
                  <a:off x="2330640" y="2054880"/>
                  <a:ext cx="393264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856960" y="2048400"/>
                <a:ext cx="3357720" cy="385560"/>
                <a:chOff x="2856960" y="2048400"/>
                <a:chExt cx="3357720" cy="385560"/>
              </a:xfrm>
            </p:grpSpPr>
            <p:sp>
              <p:nvSpPr>
                <p:cNvPr id="59" name="AutoShape 50"/>
                <p:cNvSpPr/>
                <p:nvPr/>
              </p:nvSpPr>
              <p:spPr>
                <a:xfrm>
                  <a:off x="2856960" y="2048400"/>
                  <a:ext cx="3357720" cy="38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AutoShape 51"/>
                <p:cNvSpPr/>
                <p:nvPr/>
              </p:nvSpPr>
              <p:spPr>
                <a:xfrm>
                  <a:off x="2966400" y="2069280"/>
                  <a:ext cx="3143160" cy="181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81720" bIns="-62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TextBox 53"/>
              <p:cNvSpPr/>
              <p:nvPr/>
            </p:nvSpPr>
            <p:spPr>
              <a:xfrm>
                <a:off x="2391480" y="1991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197080" y="2544480"/>
              <a:ext cx="4319640" cy="769320"/>
              <a:chOff x="2197080" y="2544480"/>
              <a:chExt cx="4319640" cy="7693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197080" y="2544480"/>
                <a:ext cx="4319640" cy="769320"/>
                <a:chOff x="2197080" y="2544480"/>
                <a:chExt cx="4319640" cy="769320"/>
              </a:xfrm>
            </p:grpSpPr>
            <p:pic>
              <p:nvPicPr>
                <p:cNvPr id="64" name="AutoShape 86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97080" y="2544480"/>
                  <a:ext cx="4319640" cy="76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Text Box 20"/>
                <p:cNvSpPr/>
                <p:nvPr/>
              </p:nvSpPr>
              <p:spPr>
                <a:xfrm>
                  <a:off x="2330640" y="2672640"/>
                  <a:ext cx="393264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2856960" y="2665800"/>
                <a:ext cx="3357720" cy="385560"/>
                <a:chOff x="2856960" y="2665800"/>
                <a:chExt cx="3357720" cy="385560"/>
              </a:xfrm>
            </p:grpSpPr>
            <p:sp>
              <p:nvSpPr>
                <p:cNvPr id="67" name="AutoShape 50"/>
                <p:cNvSpPr/>
                <p:nvPr/>
              </p:nvSpPr>
              <p:spPr>
                <a:xfrm>
                  <a:off x="2856960" y="2665800"/>
                  <a:ext cx="3357720" cy="38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AutoShape 51"/>
                <p:cNvSpPr/>
                <p:nvPr/>
              </p:nvSpPr>
              <p:spPr>
                <a:xfrm>
                  <a:off x="2966400" y="2686680"/>
                  <a:ext cx="3143160" cy="181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81720" bIns="-62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TextBox 59"/>
              <p:cNvSpPr/>
              <p:nvPr/>
            </p:nvSpPr>
            <p:spPr>
              <a:xfrm>
                <a:off x="2391480" y="2609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197080" y="3162600"/>
              <a:ext cx="4319640" cy="769320"/>
              <a:chOff x="2197080" y="3162600"/>
              <a:chExt cx="4319640" cy="7693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197080" y="3162600"/>
                <a:ext cx="4319640" cy="769320"/>
                <a:chOff x="2197080" y="3162600"/>
                <a:chExt cx="4319640" cy="769320"/>
              </a:xfrm>
            </p:grpSpPr>
            <p:pic>
              <p:nvPicPr>
                <p:cNvPr id="72" name="AutoShape 86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97080" y="3162600"/>
                  <a:ext cx="4319640" cy="76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Text Box 28"/>
                <p:cNvSpPr/>
                <p:nvPr/>
              </p:nvSpPr>
              <p:spPr>
                <a:xfrm>
                  <a:off x="2330280" y="3290040"/>
                  <a:ext cx="39330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856960" y="3283200"/>
                <a:ext cx="3357720" cy="384840"/>
                <a:chOff x="2856960" y="3283200"/>
                <a:chExt cx="3357720" cy="384840"/>
              </a:xfrm>
            </p:grpSpPr>
            <p:sp>
              <p:nvSpPr>
                <p:cNvPr id="75" name="AutoShape 50"/>
                <p:cNvSpPr/>
                <p:nvPr/>
              </p:nvSpPr>
              <p:spPr>
                <a:xfrm>
                  <a:off x="2856960" y="3283200"/>
                  <a:ext cx="3357720" cy="38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AutoShape 51"/>
                <p:cNvSpPr/>
                <p:nvPr/>
              </p:nvSpPr>
              <p:spPr>
                <a:xfrm>
                  <a:off x="2966400" y="3304080"/>
                  <a:ext cx="3143160" cy="180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81360" bIns="-62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Box 65"/>
              <p:cNvSpPr/>
              <p:nvPr/>
            </p:nvSpPr>
            <p:spPr>
              <a:xfrm>
                <a:off x="2391480" y="3227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197080" y="3776400"/>
              <a:ext cx="4319640" cy="773280"/>
              <a:chOff x="2197080" y="3776400"/>
              <a:chExt cx="4319640" cy="77328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2197080" y="3776400"/>
                <a:ext cx="4319640" cy="773280"/>
                <a:chOff x="2197080" y="3776400"/>
                <a:chExt cx="4319640" cy="773280"/>
              </a:xfrm>
            </p:grpSpPr>
            <p:pic>
              <p:nvPicPr>
                <p:cNvPr id="80" name="AutoShape 86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197080" y="3776400"/>
                  <a:ext cx="4319640" cy="7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Text Box 36"/>
                <p:cNvSpPr/>
                <p:nvPr/>
              </p:nvSpPr>
              <p:spPr>
                <a:xfrm>
                  <a:off x="2330640" y="3907440"/>
                  <a:ext cx="393264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56960" y="3900960"/>
                <a:ext cx="3357720" cy="385560"/>
                <a:chOff x="2856960" y="3900960"/>
                <a:chExt cx="3357720" cy="385560"/>
              </a:xfrm>
            </p:grpSpPr>
            <p:sp>
              <p:nvSpPr>
                <p:cNvPr id="83" name="AutoShape 50"/>
                <p:cNvSpPr/>
                <p:nvPr/>
              </p:nvSpPr>
              <p:spPr>
                <a:xfrm>
                  <a:off x="2856960" y="3900960"/>
                  <a:ext cx="3357720" cy="38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51"/>
                <p:cNvSpPr/>
                <p:nvPr/>
              </p:nvSpPr>
              <p:spPr>
                <a:xfrm>
                  <a:off x="2966400" y="3921840"/>
                  <a:ext cx="3143160" cy="181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81720" bIns="-62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Box 71"/>
              <p:cNvSpPr/>
              <p:nvPr/>
            </p:nvSpPr>
            <p:spPr>
              <a:xfrm>
                <a:off x="2391480" y="3844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058760" y="4491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762200" y="768240"/>
            <a:ext cx="5762520" cy="3328920"/>
            <a:chOff x="1762200" y="768240"/>
            <a:chExt cx="5762520" cy="3328920"/>
          </a:xfrm>
        </p:grpSpPr>
        <p:grpSp>
          <p:nvGrpSpPr>
            <p:cNvPr id="89" name=""/>
            <p:cNvGrpSpPr/>
            <p:nvPr/>
          </p:nvGrpSpPr>
          <p:grpSpPr>
            <a:xfrm>
              <a:off x="1762200" y="1066320"/>
              <a:ext cx="5762520" cy="3030840"/>
              <a:chOff x="1762200" y="1066320"/>
              <a:chExt cx="5762520" cy="3030840"/>
            </a:xfrm>
          </p:grpSpPr>
          <p:sp>
            <p:nvSpPr>
              <p:cNvPr id="90" name="AutoShape 810"/>
              <p:cNvSpPr/>
              <p:nvPr/>
            </p:nvSpPr>
            <p:spPr>
              <a:xfrm>
                <a:off x="4678920" y="1066320"/>
                <a:ext cx="2845800" cy="3030840"/>
              </a:xfrm>
              <a:custGeom>
                <a:avLst/>
                <a:gdLst>
                  <a:gd name="textAreaLeft" fmla="*/ 37080 w 2845800"/>
                  <a:gd name="textAreaRight" fmla="*/ 2808720 w 2845800"/>
                  <a:gd name="textAreaTop" fmla="*/ 37080 h 3030840"/>
                  <a:gd name="textAreaBottom" fmla="*/ 2993760 h 3030840"/>
                </a:gdLst>
                <a:ahLst/>
                <a:rect l="textAreaLeft" t="textAreaTop" r="textAreaRight" b="textAreaBottom"/>
                <a:pathLst>
                  <a:path w="21600" h="23004">
                    <a:moveTo>
                      <a:pt x="967" y="0"/>
                    </a:moveTo>
                    <a:arcTo wR="967" hR="967" stAng="16200000" swAng="-5400000"/>
                    <a:lnTo>
                      <a:pt x="0" y="22037"/>
                    </a:lnTo>
                    <a:arcTo wR="967" hR="967" stAng="10800000" swAng="-5400000"/>
                    <a:lnTo>
                      <a:pt x="20633" y="23004"/>
                    </a:lnTo>
                    <a:arcTo wR="967" hR="967" stAng="5400000" swAng="-5400000"/>
                    <a:lnTo>
                      <a:pt x="21600" y="967"/>
                    </a:lnTo>
                    <a:arcTo wR="967" hR="96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11"/>
              <p:cNvSpPr/>
              <p:nvPr/>
            </p:nvSpPr>
            <p:spPr>
              <a:xfrm>
                <a:off x="4722840" y="1115640"/>
                <a:ext cx="2756880" cy="292680"/>
              </a:xfrm>
              <a:prstGeom prst="roundRect">
                <a:avLst>
                  <a:gd name="adj" fmla="val 2646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t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812"/>
              <p:cNvSpPr/>
              <p:nvPr/>
            </p:nvSpPr>
            <p:spPr>
              <a:xfrm>
                <a:off x="1762200" y="1066320"/>
                <a:ext cx="2833560" cy="3030840"/>
              </a:xfrm>
              <a:custGeom>
                <a:avLst/>
                <a:gdLst>
                  <a:gd name="textAreaLeft" fmla="*/ 37080 w 2833560"/>
                  <a:gd name="textAreaRight" fmla="*/ 2796480 w 2833560"/>
                  <a:gd name="textAreaTop" fmla="*/ 37080 h 3030840"/>
                  <a:gd name="textAreaBottom" fmla="*/ 2993760 h 3030840"/>
                </a:gdLst>
                <a:ahLst/>
                <a:rect l="textAreaLeft" t="textAreaTop" r="textAreaRight" b="textAreaBottom"/>
                <a:pathLst>
                  <a:path w="21600" h="23104">
                    <a:moveTo>
                      <a:pt x="967" y="0"/>
                    </a:moveTo>
                    <a:arcTo wR="967" hR="967" stAng="16200000" swAng="-5400000"/>
                    <a:lnTo>
                      <a:pt x="0" y="22137"/>
                    </a:lnTo>
                    <a:arcTo wR="967" hR="967" stAng="10800000" swAng="-5400000"/>
                    <a:lnTo>
                      <a:pt x="20633" y="23104"/>
                    </a:lnTo>
                    <a:arcTo wR="967" hR="967" stAng="5400000" swAng="-5400000"/>
                    <a:lnTo>
                      <a:pt x="21600" y="967"/>
                    </a:lnTo>
                    <a:arcTo wR="967" hR="96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813"/>
              <p:cNvSpPr/>
              <p:nvPr/>
            </p:nvSpPr>
            <p:spPr>
              <a:xfrm>
                <a:off x="1807200" y="1115640"/>
                <a:ext cx="2744640" cy="292680"/>
              </a:xfrm>
              <a:prstGeom prst="roundRect">
                <a:avLst>
                  <a:gd name="adj" fmla="val 2646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t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" name="Picture 869" descr=""/>
            <p:cNvPicPr/>
            <p:nvPr/>
          </p:nvPicPr>
          <p:blipFill>
            <a:blip r:embed="rId2"/>
            <a:stretch/>
          </p:blipFill>
          <p:spPr>
            <a:xfrm>
              <a:off x="3963240" y="2084400"/>
              <a:ext cx="13024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871"/>
            <p:cNvSpPr/>
            <p:nvPr/>
          </p:nvSpPr>
          <p:spPr>
            <a:xfrm>
              <a:off x="3391560" y="1478160"/>
              <a:ext cx="2445120" cy="2444760"/>
            </a:xfrm>
            <a:prstGeom prst="pi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39720" y="1819440"/>
              <a:ext cx="4356000" cy="1802520"/>
              <a:chOff x="2439720" y="1819440"/>
              <a:chExt cx="4356000" cy="18025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4960080" y="1823040"/>
                <a:ext cx="1501200" cy="515160"/>
                <a:chOff x="4960080" y="1823040"/>
                <a:chExt cx="1501200" cy="515160"/>
              </a:xfrm>
            </p:grpSpPr>
            <p:pic>
              <p:nvPicPr>
                <p:cNvPr id="98" name="AutoShape 86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60080" y="1823040"/>
                  <a:ext cx="1501200" cy="51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Text Box 12"/>
                <p:cNvSpPr/>
                <p:nvPr/>
              </p:nvSpPr>
              <p:spPr>
                <a:xfrm>
                  <a:off x="5057280" y="1904760"/>
                  <a:ext cx="1196280" cy="19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74160" y="1819440"/>
                <a:ext cx="1513800" cy="518760"/>
                <a:chOff x="2774160" y="1819440"/>
                <a:chExt cx="1513800" cy="518760"/>
              </a:xfrm>
            </p:grpSpPr>
            <p:pic>
              <p:nvPicPr>
                <p:cNvPr id="101" name="AutoShape 86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74160" y="1819440"/>
                  <a:ext cx="1513800" cy="51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Text Box 15"/>
                <p:cNvSpPr/>
                <p:nvPr/>
              </p:nvSpPr>
              <p:spPr>
                <a:xfrm>
                  <a:off x="2870280" y="1904040"/>
                  <a:ext cx="1207080" cy="19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94520" y="2455560"/>
                <a:ext cx="1501200" cy="519120"/>
                <a:chOff x="5294520" y="2455560"/>
                <a:chExt cx="1501200" cy="519120"/>
              </a:xfrm>
            </p:grpSpPr>
            <p:pic>
              <p:nvPicPr>
                <p:cNvPr id="104" name="AutoShape 87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94520" y="2455560"/>
                  <a:ext cx="1501200" cy="51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18"/>
                <p:cNvSpPr/>
                <p:nvPr/>
              </p:nvSpPr>
              <p:spPr>
                <a:xfrm>
                  <a:off x="5389920" y="2539080"/>
                  <a:ext cx="1196280" cy="1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39720" y="2455560"/>
                <a:ext cx="1513800" cy="519120"/>
                <a:chOff x="2439720" y="2455560"/>
                <a:chExt cx="1513800" cy="519120"/>
              </a:xfrm>
            </p:grpSpPr>
            <p:pic>
              <p:nvPicPr>
                <p:cNvPr id="107" name="AutoShape 87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39720" y="2455560"/>
                  <a:ext cx="1513800" cy="51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1"/>
                <p:cNvSpPr/>
                <p:nvPr/>
              </p:nvSpPr>
              <p:spPr>
                <a:xfrm>
                  <a:off x="2536560" y="2538000"/>
                  <a:ext cx="1207080" cy="1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960080" y="3103200"/>
                <a:ext cx="1501200" cy="518760"/>
                <a:chOff x="4960080" y="3103200"/>
                <a:chExt cx="1501200" cy="518760"/>
              </a:xfrm>
            </p:grpSpPr>
            <p:pic>
              <p:nvPicPr>
                <p:cNvPr id="110" name="AutoShape 87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60080" y="3103200"/>
                  <a:ext cx="1501200" cy="51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Text Box 24"/>
                <p:cNvSpPr/>
                <p:nvPr/>
              </p:nvSpPr>
              <p:spPr>
                <a:xfrm>
                  <a:off x="5057280" y="3187080"/>
                  <a:ext cx="1196280" cy="19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774160" y="3103200"/>
                <a:ext cx="1513800" cy="518760"/>
                <a:chOff x="2774160" y="3103200"/>
                <a:chExt cx="1513800" cy="518760"/>
              </a:xfrm>
            </p:grpSpPr>
            <p:pic>
              <p:nvPicPr>
                <p:cNvPr id="113" name="AutoShape 88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774160" y="3103200"/>
                  <a:ext cx="1513800" cy="51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Text Box 27"/>
                <p:cNvSpPr/>
                <p:nvPr/>
              </p:nvSpPr>
              <p:spPr>
                <a:xfrm>
                  <a:off x="2870280" y="3186000"/>
                  <a:ext cx="1207080" cy="19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CONTE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4804560" y="1987560"/>
              <a:ext cx="596880" cy="1504440"/>
              <a:chOff x="4804560" y="1987560"/>
              <a:chExt cx="596880" cy="1504440"/>
            </a:xfrm>
          </p:grpSpPr>
          <p:sp>
            <p:nvSpPr>
              <p:cNvPr id="116" name="오른쪽 화살표 73"/>
              <p:cNvSpPr/>
              <p:nvPr/>
            </p:nvSpPr>
            <p:spPr>
              <a:xfrm rot="10800000">
                <a:off x="5153040" y="2607120"/>
                <a:ext cx="248400" cy="196920"/>
              </a:xfrm>
              <a:prstGeom prst="rightArrow">
                <a:avLst>
                  <a:gd name="adj1" fmla="val 33250"/>
                  <a:gd name="adj2" fmla="val 75130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오른쪽 화살표 75"/>
              <p:cNvSpPr/>
              <p:nvPr/>
            </p:nvSpPr>
            <p:spPr>
              <a:xfrm rot="8233200">
                <a:off x="4838040" y="2045160"/>
                <a:ext cx="248040" cy="196920"/>
              </a:xfrm>
              <a:prstGeom prst="rightArrow">
                <a:avLst>
                  <a:gd name="adj1" fmla="val 33250"/>
                  <a:gd name="adj2" fmla="val 75016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오른쪽 화살표 76"/>
              <p:cNvSpPr/>
              <p:nvPr/>
            </p:nvSpPr>
            <p:spPr>
              <a:xfrm rot="13500000">
                <a:off x="4863960" y="3210480"/>
                <a:ext cx="197280" cy="248040"/>
              </a:xfrm>
              <a:prstGeom prst="rightArrow">
                <a:avLst>
                  <a:gd name="adj1" fmla="val 33250"/>
                  <a:gd name="adj2" fmla="val 59694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 rot="-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832560" y="1986840"/>
              <a:ext cx="596160" cy="1505160"/>
              <a:chOff x="3832560" y="1986840"/>
              <a:chExt cx="596160" cy="1505160"/>
            </a:xfrm>
          </p:grpSpPr>
          <p:sp>
            <p:nvSpPr>
              <p:cNvPr id="120" name="오른쪽 화살표 79"/>
              <p:cNvSpPr/>
              <p:nvPr/>
            </p:nvSpPr>
            <p:spPr>
              <a:xfrm flipH="1" rot="10800000">
                <a:off x="3832200" y="2607120"/>
                <a:ext cx="248040" cy="196920"/>
              </a:xfrm>
              <a:prstGeom prst="rightArrow">
                <a:avLst>
                  <a:gd name="adj1" fmla="val 33250"/>
                  <a:gd name="adj2" fmla="val 75021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오른쪽 화살표 80"/>
              <p:cNvSpPr/>
              <p:nvPr/>
            </p:nvSpPr>
            <p:spPr>
              <a:xfrm flipH="1" rot="13366800">
                <a:off x="4145760" y="2044800"/>
                <a:ext cx="248400" cy="197280"/>
              </a:xfrm>
              <a:prstGeom prst="rightArrow">
                <a:avLst>
                  <a:gd name="adj1" fmla="val 33250"/>
                  <a:gd name="adj2" fmla="val 74988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오른쪽 화살표 81"/>
              <p:cNvSpPr/>
              <p:nvPr/>
            </p:nvSpPr>
            <p:spPr>
              <a:xfrm flipH="1" rot="8100000">
                <a:off x="4171680" y="3210480"/>
                <a:ext cx="196920" cy="248040"/>
              </a:xfrm>
              <a:prstGeom prst="rightArrow">
                <a:avLst>
                  <a:gd name="adj1" fmla="val 33250"/>
                  <a:gd name="adj2" fmla="val 59694"/>
                </a:avLst>
              </a:prstGeom>
              <a:solidFill>
                <a:srgbClr val="374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 rot="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77960" y="768240"/>
              <a:ext cx="4123080" cy="646920"/>
              <a:chOff x="2577960" y="768240"/>
              <a:chExt cx="4123080" cy="64692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577960" y="768240"/>
                <a:ext cx="4123080" cy="646920"/>
                <a:chOff x="2577960" y="768240"/>
                <a:chExt cx="4123080" cy="646920"/>
              </a:xfrm>
            </p:grpSpPr>
            <p:pic>
              <p:nvPicPr>
                <p:cNvPr id="125" name="AutoShape 86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577960" y="768240"/>
                  <a:ext cx="4123080" cy="64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Text Box 39"/>
                <p:cNvSpPr/>
                <p:nvPr/>
              </p:nvSpPr>
              <p:spPr>
                <a:xfrm>
                  <a:off x="2704680" y="876240"/>
                  <a:ext cx="375732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782080" y="790560"/>
                <a:ext cx="3602880" cy="536760"/>
                <a:chOff x="2782080" y="790560"/>
                <a:chExt cx="3602880" cy="536760"/>
              </a:xfrm>
            </p:grpSpPr>
            <p:pic>
              <p:nvPicPr>
                <p:cNvPr id="128" name="Picture 4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82080" y="790560"/>
                  <a:ext cx="360288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AutoShape 50"/>
                <p:cNvSpPr/>
                <p:nvPr/>
              </p:nvSpPr>
              <p:spPr>
                <a:xfrm>
                  <a:off x="2876040" y="870480"/>
                  <a:ext cx="3408120" cy="322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51"/>
                <p:cNvSpPr/>
                <p:nvPr/>
              </p:nvSpPr>
              <p:spPr>
                <a:xfrm>
                  <a:off x="2987280" y="888120"/>
                  <a:ext cx="3191040" cy="151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60480" bIns="-83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标题 1"/>
          <p:cNvSpPr/>
          <p:nvPr/>
        </p:nvSpPr>
        <p:spPr>
          <a:xfrm>
            <a:off x="611280" y="2209680"/>
            <a:ext cx="3786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923c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7:21:00Z</dcterms:created>
  <dc:creator>高迎春</dc:creator>
  <dc:description/>
  <dc:language>en-US</dc:language>
  <cp:lastModifiedBy>微软用户</cp:lastModifiedBy>
  <dcterms:modified xsi:type="dcterms:W3CDTF">2015-07-20T11:10:50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