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B41-5697-487D-B601-C0B357A7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EDB0-2E68-49F1-8796-057DB29E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0FB5-DC33-4D65-98B3-25F579A86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0E9B-C686-4D03-8C39-78F9566B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E30D-1BC6-4911-8186-631C5E32D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55BA9-ACB8-4F00-B673-99DBBEDC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46D5-F86D-46F4-986C-D9D13D1FC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02A20-24E3-4C5E-A3BE-C2DE0D79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2844-BBBB-43B0-BB42-89AA9B77C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CBA9-2838-46CA-843C-A22EE2E2C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5CCDB-3DA7-456E-A748-93878F34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DB54-8A85-4AAA-BC59-3ED533FF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1429B-3598-4F1D-9C97-BF86AA559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F349-6047-441E-8B6A-D1D5802E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8791-77E1-4B1E-B975-BFEF0DD9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D4BDE-9DE2-4C2A-AB49-2D1A56A3F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09C-2EC3-4D44-96FD-F549F3571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959AB-4385-43F8-9A4A-A2D0A287F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CEDE0-DC47-465A-8611-6BDE8F81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9E8EC-E231-4129-A3A6-616B85107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7A10C-8736-471E-B955-D9820171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8AAE3-8AC2-4E70-9F4B-934D01B5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14C-A733-446B-B15D-C154B8EE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466E1-1E78-4EA4-A1EE-E423545DB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EEBEA-4DFD-4491-95AA-8554C9E0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D89EC-0D0E-4580-AD03-F170A78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51885-BF87-4CE6-9B7E-9DE9C4FA7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CC898-DF22-4563-9E3C-15EF6865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79A01-3AA9-4369-A808-06FB3686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E33A5-491C-42E5-9DEF-B5FB68A05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22C13-E919-408F-BF9A-AC8E195EE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A0070-94CB-4455-A03B-AB3DABF1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94407-AF94-48BE-803D-894C11D00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43A0-35BC-4D53-873C-0059D9FE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6EF67-F0D2-4E96-8713-2AA5CC2B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005BF-95CC-4C11-AB64-10EA240A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3F840-0ABC-4F3C-9BF2-E3C14544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A7D8C3-1611-4681-BAB0-B9D2A609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013D74-5E77-4D21-A2F9-BBCE8AD2B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78644-0A49-4487-AD41-DFDA347E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38454-969D-49CD-957B-0BD788559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9E858-F4D8-409F-A599-0AB944244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C111-3F98-4E63-9B78-5D09D145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930E83-9B23-46EC-8FAA-3E41AC58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6729-E7D8-465B-A415-BF8AD38A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A03A25-5F3F-4BA5-A381-B93E0361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0A11D-86E0-44A6-9194-767A5292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040A87-6793-4824-AF52-58FC52903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7A83-5A98-4708-A7A6-CBA42D4E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05EC8-0D08-44C6-B73F-23CF13823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65DEE6-2730-4445-BA78-D10DF0A6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E134C-073B-42CD-ACC4-7CB22464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A7CCE-4E9B-471E-B369-31B01331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AF227-8F7E-474E-AF77-04999B38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EA6A6-0A32-4A5F-BB1E-D579C5FD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243-5439-4669-9C96-990B3705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2BCC05-EBFC-4DC6-9DFB-613B3F924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441E0-44B3-47D3-9FD1-6D658AAF7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87865-75A6-4F57-BDDB-418ED62A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4E132-A86E-44B6-B726-2B27DC9D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635E0-781A-45A5-A6FD-8042A61E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204EC-0CE7-4401-A310-77FA3A7EE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4A398-BFB9-4AE3-9E7E-73705F10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E5709-FC39-4EED-88B7-03540D4E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CA7B4-9804-4223-A0B8-3F8D4984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718DE-A8AF-4A4E-B0C6-B0B8DBAE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4A93-AE51-43D1-9353-9EF337E4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AC83D-4009-422B-968E-8070A24C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6741E-9609-4F4C-AD19-23F3B1536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40E81-179E-4327-8796-E52066F74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0F343-E4A3-4233-8E7B-7DDCB9118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D19241-DF8C-40FB-98D9-C832D4430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E1B06-D8D8-4DFC-ACFD-244D4E78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89885-4021-41A4-99F5-E279D561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0A4FC-FE66-4414-9C42-0A32F7DF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C0C0B-B64D-44F7-B720-9ADCE485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0AFBA-D354-40D8-84BA-774EA3BD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6E59-FFCB-45CE-AEC7-58EB5A65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EB398A-C47F-46E7-915A-3C0E6D8E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34258-1FFC-45F3-8486-B804FE0F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42AA28-5665-4C68-925A-076F29E6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AB0A28-1FE3-4D74-B68A-568B5C70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3D0F5-10AD-40A4-8923-ED85730A2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BC5AE-8DAC-46F8-A653-189637F2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F113D-A24E-4758-BFA4-F930F208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A9A6B-5218-4B32-A3C5-9E7419BEA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4C4CF-BC6D-4AA7-881E-70C3A9718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FA2337-BF06-4B1A-BFF1-A1BD121C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1AAC-F99E-4BF7-9850-AE72A2EB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A3ABA-6C87-409A-B100-E2DC1FD8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B58E0-AF60-4202-BD28-B4557441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EC1D5-76FD-46DC-B15B-CB3A843C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0E00E0-D555-40AB-863A-67B7E997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88407-ABDD-43DD-A803-234AA0CB2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3DB9-48DF-4FF2-AC1B-C9B297FA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C8A23-BEEE-4E01-A94D-70BC8F76F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BCC73-D4F8-4ADE-962E-6329ECFA44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公用模板\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ECD4-3127-4B07-AB99-73BF243A92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E:\公用模板\2.jpg"/>
          <p:cNvPicPr/>
          <p:nvPr/>
        </p:nvPicPr>
        <p:blipFill>
          <a:blip r:embed="rId2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0E4D-529D-455B-A2B7-2B1D9D50BF2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E:\公用模板\3.jpg"/>
          <p:cNvPicPr/>
          <p:nvPr/>
        </p:nvPicPr>
        <p:blipFill>
          <a:blip r:embed="rId2"/>
          <a:stretch/>
        </p:blipFill>
        <p:spPr>
          <a:xfrm>
            <a:off x="-14400" y="0"/>
            <a:ext cx="91584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1426B-8ACD-4B90-B923-2624C63FBB7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E:\公用模板\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3209-F41E-4FA7-9D3D-1BC9A5986D4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E:\公用模板\5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0BA0-D4CA-4E8F-9E92-49EFECE5E64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E:\公用模板\6.jpg"/>
          <p:cNvPicPr/>
          <p:nvPr/>
        </p:nvPicPr>
        <p:blipFill>
          <a:blip r:embed="rId2"/>
          <a:stretch/>
        </p:blipFill>
        <p:spPr>
          <a:xfrm>
            <a:off x="1440" y="-1440"/>
            <a:ext cx="9142560" cy="685944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7BD5E-E8C6-4B67-ABDF-81E6490C696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E:\公用模板\7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E9A2-DCBD-4D48-93DB-B901CF105D7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50560" y="3046320"/>
            <a:ext cx="7453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卡通恋爱生活通用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09120" y="4076280"/>
            <a:ext cx="324180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恋爱生活及相关机构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8"/>
          <p:cNvSpPr/>
          <p:nvPr/>
        </p:nvSpPr>
        <p:spPr>
          <a:xfrm>
            <a:off x="2195640" y="19177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　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3"/>
          <p:cNvSpPr/>
          <p:nvPr/>
        </p:nvSpPr>
        <p:spPr>
          <a:xfrm>
            <a:off x="395280" y="61657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7"/>
          <p:cNvSpPr/>
          <p:nvPr/>
        </p:nvSpPr>
        <p:spPr>
          <a:xfrm>
            <a:off x="2333520" y="3252960"/>
            <a:ext cx="147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9T08:57:25Z</dcterms:created>
  <dc:creator>锐普</dc:creator>
  <dc:description/>
  <dc:language>en-US</dc:language>
  <cp:lastModifiedBy>王玉清</cp:lastModifiedBy>
  <dcterms:modified xsi:type="dcterms:W3CDTF">2016-02-20T04:18:51Z</dcterms:modified>
  <cp:revision>24</cp:revision>
  <dc:subject/>
  <dc:title>恋爱生活</dc:title>
</cp:coreProperties>
</file>