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51800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2093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5180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2093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20932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51800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51800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518000"/>
            <a:ext cx="2355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2093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2093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34100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2093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356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2093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51800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2093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209320"/>
            <a:ext cx="35697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73152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34100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2093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SzPct val="25000"/>
              <a:buFont typeface="Microsoft Sans Serif"/>
              <a:buChar char="•"/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SzPct val="25000"/>
              <a:buFont typeface="Microsoft Sans Serif"/>
              <a:buChar char="–"/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SzPct val="25000"/>
              <a:buFont typeface="Microsoft Sans Serif"/>
              <a:buChar char="•"/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SzPct val="25000"/>
              <a:buFont typeface="Microsoft Sans Serif"/>
              <a:buChar char="–"/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SzPct val="25000"/>
              <a:buFont typeface="Microsoft Sans Serif"/>
              <a:buChar char="»"/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SzPct val="25000"/>
              <a:buFont typeface="Microsoft Sans Serif"/>
              <a:buChar char="»"/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SzPct val="25000"/>
              <a:buFont typeface="Microsoft Sans Serif"/>
              <a:buChar char="»"/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24922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6b0700"/>
                </a:solidFill>
                <a:latin typeface="Microsoft Sans Serif"/>
                <a:ea typeface="华文隶书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"/>
          <p:cNvSpPr/>
          <p:nvPr/>
        </p:nvSpPr>
        <p:spPr>
          <a:xfrm>
            <a:off x="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770120" y="476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恋爱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032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31688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1763640" y="6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hangye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sucai/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tubiao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powerpoint/    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excel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kejian/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shiti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www.1ppt.com/jiaoan/ 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  <a:ea typeface="Microsoft Sans Serif"/>
              </a:rPr>
              <a:t> </a:t>
            </a:r>
            <a:endParaRPr b="0" lang="en-US" sz="1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d4d4d"/>
                </a:solidFill>
                <a:latin typeface="Microsoft Sans Serif"/>
              </a:rPr>
              <a:t>使用规范说明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站点介绍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Microsoft Sans Serif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特别说明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Microsoft Sans Serif"/>
              </a:rPr>
              <a:t>栏目推荐：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c03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29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30:2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