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B0C-62DD-438D-99C8-6A3486D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BD2-19E2-4F8B-B4E6-BCAE5AA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12E-659F-418C-810F-A35A8EA3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3B1-596F-456D-83A2-B71E09F3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68A-5FC8-43C3-B0B1-E2533D0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C5B-028E-457E-886F-C1ECE4B8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03F-39DD-43BD-A195-BA393973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27A-08C9-444F-9C0E-9844776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24D-3C05-446D-9A4F-FC39400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918-CB6C-4FC4-AE4A-38DD7E0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2FD-52BE-467D-AD8A-444B9EA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74E-A10C-4AEE-9678-C114B3B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AF7-2A14-4795-8715-2B603CE07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108000" y="1844640"/>
            <a:ext cx="96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Po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风格背景简约扁平化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692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表彰大会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69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26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99796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2997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4884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997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783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5002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6407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94884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王玉清</cp:lastModifiedBy>
  <dcterms:modified xsi:type="dcterms:W3CDTF">2016-03-01T07:34:51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