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  <p:custShowLst>
    <p:custShow name="自定义放映 1" id="0">
      <p:sldLst>
        <p:sld r:id="rId3"/>
        <p:sld r:id="rId4"/>
        <p:sld r:id="rId5"/>
        <p:sld r:id="rId6"/>
        <p:sld r:id="rId7"/>
        <p:sld r:id="rId8"/>
        <p:sld r:id="rId9"/>
        <p:sld r:id="rId10"/>
        <p:sld r:id="rId11"/>
        <p:sld r:id="rId1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8BFD-B3F8-4440-8299-4B6F76EF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2160" y="101160"/>
            <a:ext cx="11161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2160" y="1019160"/>
            <a:ext cx="11148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60" y="3731760"/>
            <a:ext cx="11148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48BD-70BB-4AB2-9A43-F80E9607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2160" y="101160"/>
            <a:ext cx="11161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2160" y="1019160"/>
            <a:ext cx="5440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165000" y="1019160"/>
            <a:ext cx="5440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2160" y="3731760"/>
            <a:ext cx="5440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65000" y="3731760"/>
            <a:ext cx="5440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D42E-0C4C-4691-B6B7-31128F07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2160" y="101160"/>
            <a:ext cx="11161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2160" y="1019160"/>
            <a:ext cx="35895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720" y="1019160"/>
            <a:ext cx="35895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90920" y="1019160"/>
            <a:ext cx="35895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2160" y="3731760"/>
            <a:ext cx="35895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720" y="3731760"/>
            <a:ext cx="35895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90920" y="3731760"/>
            <a:ext cx="35895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C958-D8B2-432B-AC12-8C4DCF6D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2160" y="101160"/>
            <a:ext cx="11161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2160" y="1019160"/>
            <a:ext cx="1114884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B168-F432-414E-AC2E-215E1EBC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2160" y="101160"/>
            <a:ext cx="11161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2160" y="1019160"/>
            <a:ext cx="111488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99E4-8343-49FD-BC96-5651416B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2160" y="101160"/>
            <a:ext cx="11161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2160" y="1019160"/>
            <a:ext cx="5440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165000" y="1019160"/>
            <a:ext cx="5440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B335-0431-4DF0-BE87-07E76C1A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2160" y="101160"/>
            <a:ext cx="11161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D78A-0445-4858-9E74-ED5E8D4D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2160" y="101160"/>
            <a:ext cx="1116180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6F70-886E-45B7-8060-004A9375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2160" y="101160"/>
            <a:ext cx="11161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2160" y="1019160"/>
            <a:ext cx="5440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65000" y="1019160"/>
            <a:ext cx="5440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2160" y="3731760"/>
            <a:ext cx="5440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E1E8-8670-4CE6-AD70-4E608273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2160" y="101160"/>
            <a:ext cx="11161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2160" y="1019160"/>
            <a:ext cx="5440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65000" y="1019160"/>
            <a:ext cx="5440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65000" y="3731760"/>
            <a:ext cx="5440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4FB9-E997-4E69-9471-CCA7355D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2160" y="101160"/>
            <a:ext cx="11161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2160" y="1019160"/>
            <a:ext cx="5440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65000" y="1019160"/>
            <a:ext cx="5440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2160" y="3731760"/>
            <a:ext cx="11148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29C6-39AF-4D53-BB6D-2C3EC5DF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6"/>
          <p:cNvGrpSpPr/>
          <p:nvPr/>
        </p:nvGrpSpPr>
        <p:grpSpPr>
          <a:xfrm>
            <a:off x="-3240" y="0"/>
            <a:ext cx="12195360" cy="6892920"/>
            <a:chOff x="-3240" y="0"/>
            <a:chExt cx="12195360" cy="6892920"/>
          </a:xfrm>
        </p:grpSpPr>
        <p:pic>
          <p:nvPicPr>
            <p:cNvPr id="1" name="图片 7" descr=""/>
            <p:cNvPicPr/>
            <p:nvPr/>
          </p:nvPicPr>
          <p:blipFill>
            <a:blip r:embed="rId3"/>
            <a:srcRect l="0" t="0" r="0" b="53328"/>
            <a:stretch/>
          </p:blipFill>
          <p:spPr>
            <a:xfrm>
              <a:off x="-3240" y="3882240"/>
              <a:ext cx="12189960" cy="301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矩形 8"/>
            <p:cNvSpPr/>
            <p:nvPr/>
          </p:nvSpPr>
          <p:spPr>
            <a:xfrm>
              <a:off x="2880" y="0"/>
              <a:ext cx="12189240" cy="6094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7494b"/>
                </a:solidFill>
                <a:latin typeface="Arial"/>
              </a:endParaRPr>
            </a:p>
          </p:txBody>
        </p:sp>
      </p:grpSp>
      <p:sp>
        <p:nvSpPr>
          <p:cNvPr id="3" name="矩形 9"/>
          <p:cNvSpPr/>
          <p:nvPr/>
        </p:nvSpPr>
        <p:spPr>
          <a:xfrm>
            <a:off x="0" y="905040"/>
            <a:ext cx="12192120" cy="5992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2160" y="101160"/>
            <a:ext cx="11161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66718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2160" y="1019160"/>
            <a:ext cx="111488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c6c02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6718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add6d9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6718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add6d9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6718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add6d9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6718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add6d9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6718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6718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6718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49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33E6-33EA-4BFA-B7BB-DB10EC4EDBDB}" type="datetime">
              <a:rPr b="0" lang="zh-CN" sz="1200" spc="-1" strike="noStrike">
                <a:solidFill>
                  <a:srgbClr val="939494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49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8C54-C241-4BC0-B144-5CE2001A3995}" type="slidenum">
              <a:rPr b="0" lang="zh-CN" sz="1200" spc="-1" strike="noStrike">
                <a:solidFill>
                  <a:srgbClr val="9394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8" descr=""/>
          <p:cNvPicPr/>
          <p:nvPr/>
        </p:nvPicPr>
        <p:blipFill>
          <a:blip r:embed="rId1"/>
          <a:stretch/>
        </p:blipFill>
        <p:spPr>
          <a:xfrm>
            <a:off x="25560" y="0"/>
            <a:ext cx="12191760" cy="6450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65120" y="2328840"/>
            <a:ext cx="889488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2913d"/>
                </a:solidFill>
                <a:latin typeface="华文行楷"/>
                <a:ea typeface="华文行楷"/>
              </a:rPr>
              <a:t>主讲人：贺萧蔷</a:t>
            </a:r>
            <a:endParaRPr b="0" lang="en-US" sz="18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082520" y="806400"/>
            <a:ext cx="889344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66718"/>
                </a:solidFill>
                <a:latin typeface="苏新诗鼠标行书简"/>
                <a:ea typeface="苏新诗鼠标行书简"/>
              </a:rPr>
              <a:t>绿色公司介绍通用</a:t>
            </a:r>
            <a:r>
              <a:rPr b="1" lang="en-US" sz="4000" spc="-1" strike="noStrike">
                <a:solidFill>
                  <a:srgbClr val="566718"/>
                </a:solidFill>
                <a:latin typeface="苏新诗鼠标行书简"/>
                <a:ea typeface="苏新诗鼠标行书简"/>
              </a:rPr>
              <a:t>PPT</a:t>
            </a:r>
            <a:r>
              <a:rPr b="1" lang="zh-CN" sz="4000" spc="-1" strike="noStrike">
                <a:solidFill>
                  <a:srgbClr val="566718"/>
                </a:solidFill>
                <a:latin typeface="苏新诗鼠标行书简"/>
                <a:ea typeface="苏新诗鼠标行书简"/>
              </a:rPr>
              <a:t>模板完整版下载</a:t>
            </a:r>
            <a:endParaRPr b="1" lang="en-US" sz="4000" spc="-1" strike="noStrike">
              <a:solidFill>
                <a:srgbClr val="566718"/>
              </a:solidFill>
              <a:latin typeface="黑体"/>
            </a:endParaRPr>
          </a:p>
        </p:txBody>
      </p:sp>
      <p:pic>
        <p:nvPicPr>
          <p:cNvPr id="48" name="图片 4" descr=""/>
          <p:cNvPicPr/>
          <p:nvPr/>
        </p:nvPicPr>
        <p:blipFill>
          <a:blip r:embed="rId2"/>
          <a:stretch/>
        </p:blipFill>
        <p:spPr>
          <a:xfrm>
            <a:off x="7337520" y="2798640"/>
            <a:ext cx="3924360" cy="39261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6" descr=""/>
          <p:cNvPicPr/>
          <p:nvPr/>
        </p:nvPicPr>
        <p:blipFill>
          <a:blip r:embed="rId3"/>
          <a:stretch/>
        </p:blipFill>
        <p:spPr>
          <a:xfrm>
            <a:off x="1273320" y="1432080"/>
            <a:ext cx="3608280" cy="4066920"/>
          </a:xfrm>
          <a:prstGeom prst="rect">
            <a:avLst/>
          </a:prstGeom>
          <a:ln w="0">
            <a:noFill/>
          </a:ln>
        </p:spPr>
      </p:pic>
      <p:pic>
        <p:nvPicPr>
          <p:cNvPr id="50" name="Indie Rocker_alt1.mp3" descr="Indie Rocker_alt1"/>
          <p:cNvPicPr/>
          <p:nvPr/>
        </p:nvPicPr>
        <p:blipFill>
          <a:blip r:embed="rId4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7494b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7494b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7494b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4C85-6236-47A6-BA0D-A84CC837A574}" type="slidenum">
              <a:rPr b="0" lang="zh-CN" sz="1200" spc="-1" strike="noStrike">
                <a:solidFill>
                  <a:srgbClr val="93949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86" name="任意多边形 11"/>
          <p:cNvSpPr/>
          <p:nvPr/>
        </p:nvSpPr>
        <p:spPr>
          <a:xfrm>
            <a:off x="5375160" y="2881440"/>
            <a:ext cx="1238400" cy="176832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1768320"/>
              <a:gd name="textAreaBottom" fmla="*/ 1768680 h 1768320"/>
            </a:gdLst>
            <a:ahLst/>
            <a:rect l="textAreaLeft" t="textAreaTop" r="textAreaRight" b="textAreaBottom"/>
            <a:pathLst>
              <a:path w="585788" h="835990">
                <a:moveTo>
                  <a:pt x="292894" y="0"/>
                </a:moveTo>
                <a:cubicBezTo>
                  <a:pt x="454655" y="0"/>
                  <a:pt x="585788" y="130355"/>
                  <a:pt x="585788" y="291155"/>
                </a:cubicBezTo>
                <a:cubicBezTo>
                  <a:pt x="585788" y="351455"/>
                  <a:pt x="567348" y="407474"/>
                  <a:pt x="535766" y="453942"/>
                </a:cubicBezTo>
                <a:lnTo>
                  <a:pt x="500905" y="495944"/>
                </a:lnTo>
                <a:lnTo>
                  <a:pt x="482733" y="523214"/>
                </a:lnTo>
                <a:lnTo>
                  <a:pt x="458325" y="566455"/>
                </a:lnTo>
                <a:lnTo>
                  <a:pt x="440697" y="615462"/>
                </a:lnTo>
                <a:lnTo>
                  <a:pt x="429849" y="675999"/>
                </a:lnTo>
                <a:lnTo>
                  <a:pt x="429849" y="775453"/>
                </a:lnTo>
                <a:lnTo>
                  <a:pt x="423069" y="824459"/>
                </a:lnTo>
                <a:lnTo>
                  <a:pt x="408153" y="835990"/>
                </a:lnTo>
                <a:lnTo>
                  <a:pt x="184415" y="835990"/>
                </a:lnTo>
                <a:lnTo>
                  <a:pt x="162719" y="815811"/>
                </a:lnTo>
                <a:lnTo>
                  <a:pt x="160007" y="771129"/>
                </a:lnTo>
                <a:lnTo>
                  <a:pt x="155939" y="675999"/>
                </a:lnTo>
                <a:lnTo>
                  <a:pt x="145091" y="615462"/>
                </a:lnTo>
                <a:lnTo>
                  <a:pt x="124752" y="554924"/>
                </a:lnTo>
                <a:lnTo>
                  <a:pt x="88140" y="503035"/>
                </a:lnTo>
                <a:lnTo>
                  <a:pt x="71036" y="479261"/>
                </a:lnTo>
                <a:lnTo>
                  <a:pt x="50022" y="453942"/>
                </a:lnTo>
                <a:cubicBezTo>
                  <a:pt x="18440" y="407474"/>
                  <a:pt x="0" y="351455"/>
                  <a:pt x="0" y="291155"/>
                </a:cubicBezTo>
                <a:cubicBezTo>
                  <a:pt x="0" y="130355"/>
                  <a:pt x="131133" y="0"/>
                  <a:pt x="292894" y="0"/>
                </a:cubicBezTo>
                <a:close/>
              </a:path>
            </a:pathLst>
          </a:custGeom>
          <a:solidFill>
            <a:srgbClr val="adc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87" name="任意多边形 33"/>
          <p:cNvSpPr/>
          <p:nvPr/>
        </p:nvSpPr>
        <p:spPr>
          <a:xfrm>
            <a:off x="5411880" y="2916360"/>
            <a:ext cx="1164960" cy="1709640"/>
          </a:xfrm>
          <a:custGeom>
            <a:avLst/>
            <a:gdLst>
              <a:gd name="textAreaLeft" fmla="*/ 0 w 1164960"/>
              <a:gd name="textAreaRight" fmla="*/ 1165320 w 1164960"/>
              <a:gd name="textAreaTop" fmla="*/ 0 h 1709640"/>
              <a:gd name="textAreaBottom" fmla="*/ 1710000 h 1709640"/>
            </a:gdLst>
            <a:ahLst/>
            <a:rect l="textAreaLeft" t="textAreaTop" r="textAreaRight" b="textAreaBottom"/>
            <a:pathLst>
              <a:path w="550532" h="808604">
                <a:moveTo>
                  <a:pt x="275266" y="0"/>
                </a:moveTo>
                <a:cubicBezTo>
                  <a:pt x="427291" y="0"/>
                  <a:pt x="550532" y="122288"/>
                  <a:pt x="550532" y="273138"/>
                </a:cubicBezTo>
                <a:cubicBezTo>
                  <a:pt x="550532" y="329707"/>
                  <a:pt x="533201" y="382259"/>
                  <a:pt x="503521" y="425852"/>
                </a:cubicBezTo>
                <a:lnTo>
                  <a:pt x="488921" y="443411"/>
                </a:lnTo>
                <a:lnTo>
                  <a:pt x="429848" y="534745"/>
                </a:lnTo>
                <a:lnTo>
                  <a:pt x="414932" y="575103"/>
                </a:lnTo>
                <a:lnTo>
                  <a:pt x="401372" y="615461"/>
                </a:lnTo>
                <a:lnTo>
                  <a:pt x="397304" y="660144"/>
                </a:lnTo>
                <a:lnTo>
                  <a:pt x="394592" y="703384"/>
                </a:lnTo>
                <a:lnTo>
                  <a:pt x="394592" y="772570"/>
                </a:lnTo>
                <a:lnTo>
                  <a:pt x="386456" y="799956"/>
                </a:lnTo>
                <a:lnTo>
                  <a:pt x="379676" y="808604"/>
                </a:lnTo>
                <a:lnTo>
                  <a:pt x="173566" y="808604"/>
                </a:lnTo>
                <a:lnTo>
                  <a:pt x="164074" y="799956"/>
                </a:lnTo>
                <a:lnTo>
                  <a:pt x="160006" y="795632"/>
                </a:lnTo>
                <a:lnTo>
                  <a:pt x="160006" y="687529"/>
                </a:lnTo>
                <a:lnTo>
                  <a:pt x="149158" y="622668"/>
                </a:lnTo>
                <a:lnTo>
                  <a:pt x="138310" y="579427"/>
                </a:lnTo>
                <a:lnTo>
                  <a:pt x="113903" y="523214"/>
                </a:lnTo>
                <a:lnTo>
                  <a:pt x="61638" y="443443"/>
                </a:lnTo>
                <a:lnTo>
                  <a:pt x="47011" y="425852"/>
                </a:lnTo>
                <a:cubicBezTo>
                  <a:pt x="17331" y="382259"/>
                  <a:pt x="0" y="329707"/>
                  <a:pt x="0" y="273138"/>
                </a:cubicBezTo>
                <a:cubicBezTo>
                  <a:pt x="0" y="122288"/>
                  <a:pt x="123241" y="0"/>
                  <a:pt x="275266" y="0"/>
                </a:cubicBezTo>
                <a:close/>
              </a:path>
            </a:pathLst>
          </a:custGeom>
          <a:solidFill>
            <a:srgbClr val="eef5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88" name="任意多边形 52"/>
          <p:cNvSpPr/>
          <p:nvPr/>
        </p:nvSpPr>
        <p:spPr>
          <a:xfrm>
            <a:off x="5495760" y="2976480"/>
            <a:ext cx="997200" cy="1596960"/>
          </a:xfrm>
          <a:custGeom>
            <a:avLst/>
            <a:gdLst>
              <a:gd name="textAreaLeft" fmla="*/ 0 w 997200"/>
              <a:gd name="textAreaRight" fmla="*/ 997560 w 997200"/>
              <a:gd name="textAreaTop" fmla="*/ 0 h 1596960"/>
              <a:gd name="textAreaBottom" fmla="*/ 1597320 h 1596960"/>
            </a:gdLst>
            <a:ahLst/>
            <a:rect l="textAreaLeft" t="textAreaTop" r="textAreaRight" b="textAreaBottom"/>
            <a:pathLst>
              <a:path w="997836" h="1597088">
                <a:moveTo>
                  <a:pt x="186378" y="100580"/>
                </a:moveTo>
                <a:lnTo>
                  <a:pt x="120429" y="219447"/>
                </a:lnTo>
                <a:lnTo>
                  <a:pt x="74551" y="365746"/>
                </a:lnTo>
                <a:lnTo>
                  <a:pt x="74551" y="432799"/>
                </a:lnTo>
                <a:lnTo>
                  <a:pt x="74551" y="499852"/>
                </a:lnTo>
                <a:lnTo>
                  <a:pt x="74551" y="569954"/>
                </a:lnTo>
                <a:lnTo>
                  <a:pt x="88888" y="646151"/>
                </a:lnTo>
                <a:lnTo>
                  <a:pt x="134766" y="746731"/>
                </a:lnTo>
                <a:lnTo>
                  <a:pt x="186378" y="841215"/>
                </a:lnTo>
                <a:lnTo>
                  <a:pt x="232256" y="941795"/>
                </a:lnTo>
                <a:lnTo>
                  <a:pt x="283868" y="1045423"/>
                </a:lnTo>
                <a:lnTo>
                  <a:pt x="306807" y="1213056"/>
                </a:lnTo>
                <a:lnTo>
                  <a:pt x="315409" y="1383737"/>
                </a:lnTo>
                <a:lnTo>
                  <a:pt x="292470" y="1264870"/>
                </a:lnTo>
                <a:lnTo>
                  <a:pt x="269531" y="1146003"/>
                </a:lnTo>
                <a:lnTo>
                  <a:pt x="209317" y="1017992"/>
                </a:lnTo>
                <a:lnTo>
                  <a:pt x="134766" y="908268"/>
                </a:lnTo>
                <a:lnTo>
                  <a:pt x="74551" y="789401"/>
                </a:lnTo>
                <a:lnTo>
                  <a:pt x="14337" y="670534"/>
                </a:lnTo>
                <a:lnTo>
                  <a:pt x="0" y="576049"/>
                </a:lnTo>
                <a:lnTo>
                  <a:pt x="0" y="499852"/>
                </a:lnTo>
                <a:lnTo>
                  <a:pt x="14337" y="408416"/>
                </a:lnTo>
                <a:lnTo>
                  <a:pt x="37276" y="329171"/>
                </a:lnTo>
                <a:lnTo>
                  <a:pt x="106092" y="210304"/>
                </a:lnTo>
                <a:lnTo>
                  <a:pt x="186378" y="100580"/>
                </a:lnTo>
                <a:close/>
                <a:moveTo>
                  <a:pt x="547662" y="0"/>
                </a:moveTo>
                <a:lnTo>
                  <a:pt x="616479" y="24383"/>
                </a:lnTo>
                <a:lnTo>
                  <a:pt x="682428" y="48766"/>
                </a:lnTo>
                <a:lnTo>
                  <a:pt x="751244" y="85340"/>
                </a:lnTo>
                <a:lnTo>
                  <a:pt x="811458" y="128011"/>
                </a:lnTo>
                <a:lnTo>
                  <a:pt x="863071" y="176777"/>
                </a:lnTo>
                <a:lnTo>
                  <a:pt x="914683" y="228591"/>
                </a:lnTo>
                <a:lnTo>
                  <a:pt x="951958" y="295644"/>
                </a:lnTo>
                <a:lnTo>
                  <a:pt x="983499" y="371841"/>
                </a:lnTo>
                <a:lnTo>
                  <a:pt x="997836" y="466325"/>
                </a:lnTo>
                <a:lnTo>
                  <a:pt x="997836" y="569953"/>
                </a:lnTo>
                <a:lnTo>
                  <a:pt x="983499" y="652246"/>
                </a:lnTo>
                <a:lnTo>
                  <a:pt x="960560" y="746730"/>
                </a:lnTo>
                <a:lnTo>
                  <a:pt x="854469" y="917411"/>
                </a:lnTo>
                <a:lnTo>
                  <a:pt x="742642" y="1094188"/>
                </a:lnTo>
                <a:lnTo>
                  <a:pt x="705366" y="1213056"/>
                </a:lnTo>
                <a:lnTo>
                  <a:pt x="691030" y="1350210"/>
                </a:lnTo>
                <a:lnTo>
                  <a:pt x="682428" y="1469077"/>
                </a:lnTo>
                <a:lnTo>
                  <a:pt x="676693" y="1597088"/>
                </a:lnTo>
                <a:lnTo>
                  <a:pt x="315407" y="1597088"/>
                </a:lnTo>
                <a:lnTo>
                  <a:pt x="450173" y="1520891"/>
                </a:lnTo>
                <a:lnTo>
                  <a:pt x="487448" y="1130763"/>
                </a:lnTo>
                <a:lnTo>
                  <a:pt x="524724" y="1011896"/>
                </a:lnTo>
                <a:lnTo>
                  <a:pt x="593540" y="874741"/>
                </a:lnTo>
                <a:lnTo>
                  <a:pt x="682428" y="746730"/>
                </a:lnTo>
                <a:lnTo>
                  <a:pt x="765581" y="618719"/>
                </a:lnTo>
                <a:lnTo>
                  <a:pt x="817193" y="466325"/>
                </a:lnTo>
                <a:lnTo>
                  <a:pt x="811458" y="323075"/>
                </a:lnTo>
                <a:lnTo>
                  <a:pt x="751244" y="195064"/>
                </a:lnTo>
                <a:lnTo>
                  <a:pt x="705366" y="134107"/>
                </a:lnTo>
                <a:lnTo>
                  <a:pt x="653754" y="85340"/>
                </a:lnTo>
                <a:lnTo>
                  <a:pt x="599275" y="42670"/>
                </a:lnTo>
                <a:lnTo>
                  <a:pt x="54766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89" name="Freeform 333"/>
          <p:cNvSpPr/>
          <p:nvPr/>
        </p:nvSpPr>
        <p:spPr>
          <a:xfrm>
            <a:off x="5783400" y="4665600"/>
            <a:ext cx="422280" cy="436680"/>
          </a:xfrm>
          <a:custGeom>
            <a:avLst/>
            <a:gdLst>
              <a:gd name="textAreaLeft" fmla="*/ 0 w 422280"/>
              <a:gd name="textAreaRight" fmla="*/ 422640 w 42228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168" h="221">
                <a:moveTo>
                  <a:pt x="167" y="8"/>
                </a:moveTo>
                <a:lnTo>
                  <a:pt x="159" y="0"/>
                </a:lnTo>
                <a:lnTo>
                  <a:pt x="5" y="0"/>
                </a:lnTo>
                <a:lnTo>
                  <a:pt x="2" y="11"/>
                </a:lnTo>
                <a:lnTo>
                  <a:pt x="2" y="22"/>
                </a:lnTo>
                <a:lnTo>
                  <a:pt x="10" y="16"/>
                </a:lnTo>
                <a:lnTo>
                  <a:pt x="10" y="11"/>
                </a:lnTo>
                <a:lnTo>
                  <a:pt x="96" y="11"/>
                </a:lnTo>
                <a:lnTo>
                  <a:pt x="96" y="16"/>
                </a:lnTo>
                <a:lnTo>
                  <a:pt x="10" y="16"/>
                </a:lnTo>
                <a:lnTo>
                  <a:pt x="2" y="22"/>
                </a:lnTo>
                <a:lnTo>
                  <a:pt x="23" y="33"/>
                </a:lnTo>
                <a:lnTo>
                  <a:pt x="0" y="44"/>
                </a:lnTo>
                <a:lnTo>
                  <a:pt x="0" y="55"/>
                </a:lnTo>
                <a:lnTo>
                  <a:pt x="10" y="53"/>
                </a:lnTo>
                <a:lnTo>
                  <a:pt x="10" y="44"/>
                </a:lnTo>
                <a:lnTo>
                  <a:pt x="96" y="44"/>
                </a:lnTo>
                <a:lnTo>
                  <a:pt x="96" y="53"/>
                </a:lnTo>
                <a:lnTo>
                  <a:pt x="10" y="53"/>
                </a:lnTo>
                <a:lnTo>
                  <a:pt x="0" y="55"/>
                </a:lnTo>
                <a:lnTo>
                  <a:pt x="20" y="67"/>
                </a:lnTo>
                <a:lnTo>
                  <a:pt x="2" y="78"/>
                </a:lnTo>
                <a:lnTo>
                  <a:pt x="2" y="95"/>
                </a:lnTo>
                <a:lnTo>
                  <a:pt x="10" y="89"/>
                </a:lnTo>
                <a:lnTo>
                  <a:pt x="10" y="78"/>
                </a:lnTo>
                <a:lnTo>
                  <a:pt x="96" y="78"/>
                </a:lnTo>
                <a:lnTo>
                  <a:pt x="96" y="89"/>
                </a:lnTo>
                <a:lnTo>
                  <a:pt x="10" y="89"/>
                </a:lnTo>
                <a:lnTo>
                  <a:pt x="2" y="95"/>
                </a:lnTo>
                <a:lnTo>
                  <a:pt x="20" y="106"/>
                </a:lnTo>
                <a:lnTo>
                  <a:pt x="2" y="117"/>
                </a:lnTo>
                <a:lnTo>
                  <a:pt x="2" y="128"/>
                </a:lnTo>
                <a:lnTo>
                  <a:pt x="10" y="122"/>
                </a:lnTo>
                <a:lnTo>
                  <a:pt x="10" y="117"/>
                </a:lnTo>
                <a:lnTo>
                  <a:pt x="96" y="117"/>
                </a:lnTo>
                <a:lnTo>
                  <a:pt x="96" y="122"/>
                </a:lnTo>
                <a:lnTo>
                  <a:pt x="10" y="122"/>
                </a:lnTo>
                <a:lnTo>
                  <a:pt x="2" y="128"/>
                </a:lnTo>
                <a:lnTo>
                  <a:pt x="20" y="136"/>
                </a:lnTo>
                <a:lnTo>
                  <a:pt x="2" y="145"/>
                </a:lnTo>
                <a:lnTo>
                  <a:pt x="2" y="164"/>
                </a:lnTo>
                <a:lnTo>
                  <a:pt x="10" y="156"/>
                </a:lnTo>
                <a:lnTo>
                  <a:pt x="10" y="147"/>
                </a:lnTo>
                <a:lnTo>
                  <a:pt x="96" y="147"/>
                </a:lnTo>
                <a:lnTo>
                  <a:pt x="96" y="156"/>
                </a:lnTo>
                <a:lnTo>
                  <a:pt x="10" y="156"/>
                </a:lnTo>
                <a:lnTo>
                  <a:pt x="2" y="164"/>
                </a:lnTo>
                <a:lnTo>
                  <a:pt x="18" y="175"/>
                </a:lnTo>
                <a:lnTo>
                  <a:pt x="18" y="200"/>
                </a:lnTo>
                <a:lnTo>
                  <a:pt x="36" y="189"/>
                </a:lnTo>
                <a:lnTo>
                  <a:pt x="36" y="181"/>
                </a:lnTo>
                <a:lnTo>
                  <a:pt x="96" y="181"/>
                </a:lnTo>
                <a:lnTo>
                  <a:pt x="96" y="189"/>
                </a:lnTo>
                <a:lnTo>
                  <a:pt x="36" y="189"/>
                </a:lnTo>
                <a:lnTo>
                  <a:pt x="18" y="200"/>
                </a:lnTo>
                <a:lnTo>
                  <a:pt x="55" y="200"/>
                </a:lnTo>
                <a:lnTo>
                  <a:pt x="55" y="220"/>
                </a:lnTo>
                <a:lnTo>
                  <a:pt x="65" y="206"/>
                </a:lnTo>
                <a:lnTo>
                  <a:pt x="65" y="200"/>
                </a:lnTo>
                <a:lnTo>
                  <a:pt x="96" y="200"/>
                </a:lnTo>
                <a:lnTo>
                  <a:pt x="96" y="206"/>
                </a:lnTo>
                <a:lnTo>
                  <a:pt x="65" y="206"/>
                </a:lnTo>
                <a:lnTo>
                  <a:pt x="55" y="220"/>
                </a:lnTo>
                <a:lnTo>
                  <a:pt x="107" y="220"/>
                </a:lnTo>
                <a:lnTo>
                  <a:pt x="107" y="200"/>
                </a:lnTo>
                <a:lnTo>
                  <a:pt x="141" y="200"/>
                </a:lnTo>
                <a:lnTo>
                  <a:pt x="141" y="175"/>
                </a:lnTo>
                <a:lnTo>
                  <a:pt x="167" y="164"/>
                </a:lnTo>
                <a:lnTo>
                  <a:pt x="167" y="147"/>
                </a:lnTo>
                <a:lnTo>
                  <a:pt x="144" y="139"/>
                </a:lnTo>
                <a:lnTo>
                  <a:pt x="167" y="131"/>
                </a:lnTo>
                <a:lnTo>
                  <a:pt x="167" y="117"/>
                </a:lnTo>
                <a:lnTo>
                  <a:pt x="144" y="108"/>
                </a:lnTo>
                <a:lnTo>
                  <a:pt x="167" y="97"/>
                </a:lnTo>
                <a:lnTo>
                  <a:pt x="167" y="81"/>
                </a:lnTo>
                <a:lnTo>
                  <a:pt x="146" y="72"/>
                </a:lnTo>
                <a:lnTo>
                  <a:pt x="167" y="61"/>
                </a:lnTo>
                <a:lnTo>
                  <a:pt x="167" y="47"/>
                </a:lnTo>
                <a:lnTo>
                  <a:pt x="144" y="36"/>
                </a:lnTo>
                <a:lnTo>
                  <a:pt x="167" y="25"/>
                </a:lnTo>
                <a:lnTo>
                  <a:pt x="167" y="8"/>
                </a:lnTo>
                <a:close/>
              </a:path>
            </a:pathLst>
          </a:custGeom>
          <a:solidFill>
            <a:srgbClr val="adc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90" name="矩形 35"/>
          <p:cNvSpPr/>
          <p:nvPr/>
        </p:nvSpPr>
        <p:spPr>
          <a:xfrm>
            <a:off x="2708280" y="3595680"/>
            <a:ext cx="22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0a3a6"/>
                </a:solidFill>
                <a:latin typeface="微软雅黑"/>
                <a:ea typeface="微软雅黑"/>
              </a:rPr>
              <a:t>我们需要更努力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91" name="矩形 36"/>
          <p:cNvSpPr/>
          <p:nvPr/>
        </p:nvSpPr>
        <p:spPr>
          <a:xfrm>
            <a:off x="2870280" y="2916360"/>
            <a:ext cx="21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0a3a6"/>
                </a:solidFill>
                <a:latin typeface="微软雅黑"/>
                <a:ea typeface="微软雅黑"/>
              </a:rPr>
              <a:t>我们需要更勤奋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92" name="矩形 42"/>
          <p:cNvSpPr/>
          <p:nvPr/>
        </p:nvSpPr>
        <p:spPr>
          <a:xfrm>
            <a:off x="3112920" y="223200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0a3a6"/>
                </a:solidFill>
                <a:latin typeface="微软雅黑"/>
                <a:ea typeface="微软雅黑"/>
              </a:rPr>
              <a:t>耳听八方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93" name="矩形 43"/>
          <p:cNvSpPr/>
          <p:nvPr/>
        </p:nvSpPr>
        <p:spPr>
          <a:xfrm>
            <a:off x="5286240" y="5389560"/>
            <a:ext cx="141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5888a"/>
                </a:solidFill>
                <a:latin typeface="微软雅黑"/>
                <a:ea typeface="微软雅黑"/>
              </a:rPr>
              <a:t>团队的成长需要</a:t>
            </a:r>
            <a:endParaRPr b="0" lang="en-US" sz="20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94" name="直接连接符 29"/>
          <p:cNvSpPr/>
          <p:nvPr/>
        </p:nvSpPr>
        <p:spPr>
          <a:xfrm flipH="1">
            <a:off x="6699240" y="3099960"/>
            <a:ext cx="150120" cy="8676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95" name="直接连接符 30"/>
          <p:cNvSpPr/>
          <p:nvPr/>
        </p:nvSpPr>
        <p:spPr>
          <a:xfrm flipH="1">
            <a:off x="6273000" y="2665800"/>
            <a:ext cx="59040" cy="16272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96" name="直接连接符 31"/>
          <p:cNvSpPr/>
          <p:nvPr/>
        </p:nvSpPr>
        <p:spPr>
          <a:xfrm>
            <a:off x="5657040" y="2665800"/>
            <a:ext cx="59040" cy="16272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97" name="直接连接符 46"/>
          <p:cNvSpPr/>
          <p:nvPr/>
        </p:nvSpPr>
        <p:spPr>
          <a:xfrm>
            <a:off x="5139000" y="3099960"/>
            <a:ext cx="150120" cy="8676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98" name="直接连接符 49"/>
          <p:cNvSpPr/>
          <p:nvPr/>
        </p:nvSpPr>
        <p:spPr>
          <a:xfrm flipV="1">
            <a:off x="5021280" y="3734640"/>
            <a:ext cx="169920" cy="3168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99" name="矩形 56"/>
          <p:cNvSpPr/>
          <p:nvPr/>
        </p:nvSpPr>
        <p:spPr>
          <a:xfrm>
            <a:off x="6380280" y="2232000"/>
            <a:ext cx="25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0a3a6"/>
                </a:solidFill>
                <a:latin typeface="微软雅黑"/>
                <a:ea typeface="微软雅黑"/>
              </a:rPr>
              <a:t>眼观六路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00" name="矩形 57"/>
          <p:cNvSpPr/>
          <p:nvPr/>
        </p:nvSpPr>
        <p:spPr>
          <a:xfrm>
            <a:off x="7034040" y="3595680"/>
            <a:ext cx="224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0a3a6"/>
                </a:solidFill>
                <a:latin typeface="微软雅黑"/>
                <a:ea typeface="微软雅黑"/>
              </a:rPr>
              <a:t>更多好办创意的诞生</a:t>
            </a:r>
            <a:r>
              <a:rPr b="0" lang="en-US" sz="1600" spc="-1" strike="noStrike">
                <a:solidFill>
                  <a:srgbClr val="a0a3a6"/>
                </a:solidFill>
                <a:latin typeface="微软雅黑"/>
                <a:ea typeface="微软雅黑"/>
              </a:rPr>
              <a:t>…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01" name="矩形 58"/>
          <p:cNvSpPr/>
          <p:nvPr/>
        </p:nvSpPr>
        <p:spPr>
          <a:xfrm>
            <a:off x="6948360" y="2928960"/>
            <a:ext cx="248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0a3a6"/>
                </a:solidFill>
                <a:latin typeface="微软雅黑"/>
                <a:ea typeface="微软雅黑"/>
              </a:rPr>
              <a:t>我们需要更多人的加入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02" name="直接连接符 60"/>
          <p:cNvSpPr/>
          <p:nvPr/>
        </p:nvSpPr>
        <p:spPr>
          <a:xfrm flipH="1" flipV="1">
            <a:off x="6754320" y="3734640"/>
            <a:ext cx="170280" cy="3168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2160" y="101160"/>
            <a:ext cx="111618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总结</a:t>
            </a:r>
            <a:endParaRPr b="1" lang="en-US" sz="3200" spc="-1" strike="noStrike">
              <a:solidFill>
                <a:srgbClr val="566718"/>
              </a:solidFill>
              <a:latin typeface="黑体"/>
            </a:endParaRPr>
          </a:p>
        </p:txBody>
      </p:sp>
    </p:spTree>
  </p:cSld>
  <p:transition spd="slow">
    <p:fad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fda5e"/>
                                      </p:to>
                                    </p:animClr>
                                    <p:set>
                                      <p:cBhvr>
                                        <p:cTn id="34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fda5e"/>
                                      </p:to>
                                    </p:animClr>
                                    <p:set>
                                      <p:cBhvr>
                                        <p:cTn id="34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fda5e"/>
                                      </p:to>
                                    </p:animClr>
                                    <p:set>
                                      <p:cBhvr>
                                        <p:cTn id="35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fda5e"/>
                                      </p:to>
                                    </p:animClr>
                                    <p:set>
                                      <p:cBhvr>
                                        <p:cTn id="35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fda5e"/>
                                      </p:to>
                                    </p:animClr>
                                    <p:set>
                                      <p:cBhvr>
                                        <p:cTn id="35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fda5e"/>
                                      </p:to>
                                    </p:animClr>
                                    <p:set>
                                      <p:cBhvr>
                                        <p:cTn id="35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fda5e"/>
                                      </p:to>
                                    </p:animClr>
                                    <p:set>
                                      <p:cBhvr>
                                        <p:cTn id="36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任意多边形 46"/>
          <p:cNvSpPr/>
          <p:nvPr/>
        </p:nvSpPr>
        <p:spPr>
          <a:xfrm>
            <a:off x="2639880" y="3035160"/>
            <a:ext cx="1729080" cy="2006640"/>
          </a:xfrm>
          <a:custGeom>
            <a:avLst/>
            <a:gdLst>
              <a:gd name="textAreaLeft" fmla="*/ 0 w 1729080"/>
              <a:gd name="textAreaRight" fmla="*/ 1729440 w 1729080"/>
              <a:gd name="textAreaTop" fmla="*/ 0 h 2006640"/>
              <a:gd name="textAreaBottom" fmla="*/ 2007000 h 2006640"/>
            </a:gdLst>
            <a:ahLst/>
            <a:rect l="textAreaLeft" t="textAreaTop" r="textAreaRight" b="textAreaBottom"/>
            <a:pathLst>
              <a:path w="1728787" h="2006600">
                <a:moveTo>
                  <a:pt x="1397970" y="1756537"/>
                </a:moveTo>
                <a:lnTo>
                  <a:pt x="1397970" y="1902915"/>
                </a:lnTo>
                <a:lnTo>
                  <a:pt x="1638842" y="1902915"/>
                </a:lnTo>
                <a:lnTo>
                  <a:pt x="1638842" y="1756537"/>
                </a:lnTo>
                <a:lnTo>
                  <a:pt x="1397970" y="1756537"/>
                </a:lnTo>
                <a:close/>
                <a:moveTo>
                  <a:pt x="957388" y="1756537"/>
                </a:moveTo>
                <a:lnTo>
                  <a:pt x="957388" y="1902915"/>
                </a:lnTo>
                <a:lnTo>
                  <a:pt x="1198260" y="1902915"/>
                </a:lnTo>
                <a:lnTo>
                  <a:pt x="1198260" y="1756537"/>
                </a:lnTo>
                <a:lnTo>
                  <a:pt x="957388" y="1756537"/>
                </a:lnTo>
                <a:close/>
                <a:moveTo>
                  <a:pt x="515282" y="1756537"/>
                </a:moveTo>
                <a:lnTo>
                  <a:pt x="515282" y="1902915"/>
                </a:lnTo>
                <a:lnTo>
                  <a:pt x="756154" y="1902915"/>
                </a:lnTo>
                <a:lnTo>
                  <a:pt x="756154" y="1756537"/>
                </a:lnTo>
                <a:lnTo>
                  <a:pt x="515282" y="1756537"/>
                </a:lnTo>
                <a:close/>
                <a:moveTo>
                  <a:pt x="74701" y="1756537"/>
                </a:moveTo>
                <a:lnTo>
                  <a:pt x="74701" y="1902915"/>
                </a:lnTo>
                <a:lnTo>
                  <a:pt x="315573" y="1902915"/>
                </a:lnTo>
                <a:lnTo>
                  <a:pt x="315573" y="1756537"/>
                </a:lnTo>
                <a:lnTo>
                  <a:pt x="74701" y="1756537"/>
                </a:lnTo>
                <a:close/>
                <a:moveTo>
                  <a:pt x="1397970" y="108259"/>
                </a:moveTo>
                <a:lnTo>
                  <a:pt x="1397970" y="254637"/>
                </a:lnTo>
                <a:lnTo>
                  <a:pt x="1638842" y="254637"/>
                </a:lnTo>
                <a:lnTo>
                  <a:pt x="1638842" y="108259"/>
                </a:lnTo>
                <a:lnTo>
                  <a:pt x="1397970" y="108259"/>
                </a:lnTo>
                <a:close/>
                <a:moveTo>
                  <a:pt x="957388" y="108259"/>
                </a:moveTo>
                <a:lnTo>
                  <a:pt x="957388" y="254637"/>
                </a:lnTo>
                <a:lnTo>
                  <a:pt x="1198260" y="254637"/>
                </a:lnTo>
                <a:lnTo>
                  <a:pt x="1198260" y="108259"/>
                </a:lnTo>
                <a:lnTo>
                  <a:pt x="957388" y="108259"/>
                </a:lnTo>
                <a:close/>
                <a:moveTo>
                  <a:pt x="515282" y="108259"/>
                </a:moveTo>
                <a:lnTo>
                  <a:pt x="515282" y="254637"/>
                </a:lnTo>
                <a:lnTo>
                  <a:pt x="756154" y="254637"/>
                </a:lnTo>
                <a:lnTo>
                  <a:pt x="756154" y="108259"/>
                </a:lnTo>
                <a:lnTo>
                  <a:pt x="515282" y="108259"/>
                </a:lnTo>
                <a:close/>
                <a:moveTo>
                  <a:pt x="74701" y="108259"/>
                </a:moveTo>
                <a:lnTo>
                  <a:pt x="74701" y="254637"/>
                </a:lnTo>
                <a:lnTo>
                  <a:pt x="315573" y="254637"/>
                </a:lnTo>
                <a:lnTo>
                  <a:pt x="315573" y="108259"/>
                </a:lnTo>
                <a:lnTo>
                  <a:pt x="74701" y="108259"/>
                </a:lnTo>
                <a:close/>
                <a:moveTo>
                  <a:pt x="0" y="0"/>
                </a:moveTo>
                <a:lnTo>
                  <a:pt x="1728787" y="0"/>
                </a:lnTo>
                <a:lnTo>
                  <a:pt x="1728787" y="2006600"/>
                </a:lnTo>
                <a:lnTo>
                  <a:pt x="0" y="2006600"/>
                </a:lnTo>
                <a:lnTo>
                  <a:pt x="0" y="0"/>
                </a:lnTo>
                <a:close/>
              </a:path>
            </a:pathLst>
          </a:custGeom>
          <a:solidFill>
            <a:srgbClr val="adc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784600" y="3486240"/>
            <a:ext cx="1450800" cy="11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0a3a6"/>
                </a:solidFill>
                <a:latin typeface="微软雅黑"/>
                <a:ea typeface="微软雅黑"/>
              </a:rPr>
              <a:t>细化成本核算，提供真实准确的成本报表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54" name="任意多边形 47"/>
          <p:cNvSpPr/>
          <p:nvPr/>
        </p:nvSpPr>
        <p:spPr>
          <a:xfrm>
            <a:off x="4397400" y="2895480"/>
            <a:ext cx="1727280" cy="200844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2008440"/>
              <a:gd name="textAreaBottom" fmla="*/ 2008800 h 2008440"/>
            </a:gdLst>
            <a:ahLst/>
            <a:rect l="textAreaLeft" t="textAreaTop" r="textAreaRight" b="textAreaBottom"/>
            <a:pathLst>
              <a:path w="1727200" h="2008187">
                <a:moveTo>
                  <a:pt x="1396686" y="1757927"/>
                </a:moveTo>
                <a:lnTo>
                  <a:pt x="1396686" y="1904421"/>
                </a:lnTo>
                <a:lnTo>
                  <a:pt x="1637336" y="1904421"/>
                </a:lnTo>
                <a:lnTo>
                  <a:pt x="1637336" y="1757927"/>
                </a:lnTo>
                <a:lnTo>
                  <a:pt x="1396686" y="1757927"/>
                </a:lnTo>
                <a:close/>
                <a:moveTo>
                  <a:pt x="956509" y="1757927"/>
                </a:moveTo>
                <a:lnTo>
                  <a:pt x="956509" y="1904421"/>
                </a:lnTo>
                <a:lnTo>
                  <a:pt x="1197159" y="1904421"/>
                </a:lnTo>
                <a:lnTo>
                  <a:pt x="1197159" y="1757927"/>
                </a:lnTo>
                <a:lnTo>
                  <a:pt x="956509" y="1757927"/>
                </a:lnTo>
                <a:close/>
                <a:moveTo>
                  <a:pt x="514809" y="1757927"/>
                </a:moveTo>
                <a:lnTo>
                  <a:pt x="514809" y="1904421"/>
                </a:lnTo>
                <a:lnTo>
                  <a:pt x="755459" y="1904421"/>
                </a:lnTo>
                <a:lnTo>
                  <a:pt x="755459" y="1757927"/>
                </a:lnTo>
                <a:lnTo>
                  <a:pt x="514809" y="1757927"/>
                </a:lnTo>
                <a:close/>
                <a:moveTo>
                  <a:pt x="74632" y="1757927"/>
                </a:moveTo>
                <a:lnTo>
                  <a:pt x="74632" y="1904421"/>
                </a:lnTo>
                <a:lnTo>
                  <a:pt x="315282" y="1904421"/>
                </a:lnTo>
                <a:lnTo>
                  <a:pt x="315282" y="1757927"/>
                </a:lnTo>
                <a:lnTo>
                  <a:pt x="74632" y="1757927"/>
                </a:lnTo>
                <a:close/>
                <a:moveTo>
                  <a:pt x="1396686" y="108344"/>
                </a:moveTo>
                <a:lnTo>
                  <a:pt x="1396686" y="254838"/>
                </a:lnTo>
                <a:lnTo>
                  <a:pt x="1637336" y="254838"/>
                </a:lnTo>
                <a:lnTo>
                  <a:pt x="1637336" y="108344"/>
                </a:lnTo>
                <a:lnTo>
                  <a:pt x="1396686" y="108344"/>
                </a:lnTo>
                <a:close/>
                <a:moveTo>
                  <a:pt x="956509" y="108344"/>
                </a:moveTo>
                <a:lnTo>
                  <a:pt x="956509" y="254838"/>
                </a:lnTo>
                <a:lnTo>
                  <a:pt x="1197159" y="254838"/>
                </a:lnTo>
                <a:lnTo>
                  <a:pt x="1197159" y="108344"/>
                </a:lnTo>
                <a:lnTo>
                  <a:pt x="956509" y="108344"/>
                </a:lnTo>
                <a:close/>
                <a:moveTo>
                  <a:pt x="514809" y="108344"/>
                </a:moveTo>
                <a:lnTo>
                  <a:pt x="514809" y="254838"/>
                </a:lnTo>
                <a:lnTo>
                  <a:pt x="755459" y="254838"/>
                </a:lnTo>
                <a:lnTo>
                  <a:pt x="755459" y="108344"/>
                </a:lnTo>
                <a:lnTo>
                  <a:pt x="514809" y="108344"/>
                </a:lnTo>
                <a:close/>
                <a:moveTo>
                  <a:pt x="74632" y="108344"/>
                </a:moveTo>
                <a:lnTo>
                  <a:pt x="74632" y="254838"/>
                </a:lnTo>
                <a:lnTo>
                  <a:pt x="315282" y="254838"/>
                </a:lnTo>
                <a:lnTo>
                  <a:pt x="315282" y="108344"/>
                </a:lnTo>
                <a:lnTo>
                  <a:pt x="74632" y="108344"/>
                </a:lnTo>
                <a:close/>
                <a:moveTo>
                  <a:pt x="0" y="0"/>
                </a:moveTo>
                <a:lnTo>
                  <a:pt x="1727200" y="0"/>
                </a:lnTo>
                <a:lnTo>
                  <a:pt x="1727200" y="2008187"/>
                </a:lnTo>
                <a:lnTo>
                  <a:pt x="0" y="2008187"/>
                </a:lnTo>
                <a:lnTo>
                  <a:pt x="0" y="0"/>
                </a:lnTo>
                <a:close/>
              </a:path>
            </a:pathLst>
          </a:custGeom>
          <a:solidFill>
            <a:srgbClr val="adc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4541760" y="3346560"/>
            <a:ext cx="1451160" cy="11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0a3a6"/>
                </a:solidFill>
                <a:latin typeface="微软雅黑"/>
                <a:ea typeface="微软雅黑"/>
              </a:rPr>
              <a:t>对成本进行事前预测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56" name="任意多边形 48"/>
          <p:cNvSpPr/>
          <p:nvPr/>
        </p:nvSpPr>
        <p:spPr>
          <a:xfrm>
            <a:off x="6154560" y="2759040"/>
            <a:ext cx="1729080" cy="2006640"/>
          </a:xfrm>
          <a:custGeom>
            <a:avLst/>
            <a:gdLst>
              <a:gd name="textAreaLeft" fmla="*/ 0 w 1729080"/>
              <a:gd name="textAreaRight" fmla="*/ 1729440 w 1729080"/>
              <a:gd name="textAreaTop" fmla="*/ 0 h 2006640"/>
              <a:gd name="textAreaBottom" fmla="*/ 2007000 h 2006640"/>
            </a:gdLst>
            <a:ahLst/>
            <a:rect l="textAreaLeft" t="textAreaTop" r="textAreaRight" b="textAreaBottom"/>
            <a:pathLst>
              <a:path w="1728788" h="2006600">
                <a:moveTo>
                  <a:pt x="1397971" y="1756537"/>
                </a:moveTo>
                <a:lnTo>
                  <a:pt x="1397971" y="1902915"/>
                </a:lnTo>
                <a:lnTo>
                  <a:pt x="1638843" y="1902915"/>
                </a:lnTo>
                <a:lnTo>
                  <a:pt x="1638843" y="1756537"/>
                </a:lnTo>
                <a:lnTo>
                  <a:pt x="1397971" y="1756537"/>
                </a:lnTo>
                <a:close/>
                <a:moveTo>
                  <a:pt x="957389" y="1756537"/>
                </a:moveTo>
                <a:lnTo>
                  <a:pt x="957389" y="1902915"/>
                </a:lnTo>
                <a:lnTo>
                  <a:pt x="1198261" y="1902915"/>
                </a:lnTo>
                <a:lnTo>
                  <a:pt x="1198261" y="1756537"/>
                </a:lnTo>
                <a:lnTo>
                  <a:pt x="957389" y="1756537"/>
                </a:lnTo>
                <a:close/>
                <a:moveTo>
                  <a:pt x="515282" y="1756537"/>
                </a:moveTo>
                <a:lnTo>
                  <a:pt x="515282" y="1902915"/>
                </a:lnTo>
                <a:lnTo>
                  <a:pt x="756154" y="1902915"/>
                </a:lnTo>
                <a:lnTo>
                  <a:pt x="756154" y="1756537"/>
                </a:lnTo>
                <a:lnTo>
                  <a:pt x="515282" y="1756537"/>
                </a:lnTo>
                <a:close/>
                <a:moveTo>
                  <a:pt x="74701" y="1756537"/>
                </a:moveTo>
                <a:lnTo>
                  <a:pt x="74701" y="1902915"/>
                </a:lnTo>
                <a:lnTo>
                  <a:pt x="315573" y="1902915"/>
                </a:lnTo>
                <a:lnTo>
                  <a:pt x="315573" y="1756537"/>
                </a:lnTo>
                <a:lnTo>
                  <a:pt x="74701" y="1756537"/>
                </a:lnTo>
                <a:close/>
                <a:moveTo>
                  <a:pt x="1397971" y="108259"/>
                </a:moveTo>
                <a:lnTo>
                  <a:pt x="1397971" y="254637"/>
                </a:lnTo>
                <a:lnTo>
                  <a:pt x="1638843" y="254637"/>
                </a:lnTo>
                <a:lnTo>
                  <a:pt x="1638843" y="108259"/>
                </a:lnTo>
                <a:lnTo>
                  <a:pt x="1397971" y="108259"/>
                </a:lnTo>
                <a:close/>
                <a:moveTo>
                  <a:pt x="957389" y="108259"/>
                </a:moveTo>
                <a:lnTo>
                  <a:pt x="957389" y="254637"/>
                </a:lnTo>
                <a:lnTo>
                  <a:pt x="1198261" y="254637"/>
                </a:lnTo>
                <a:lnTo>
                  <a:pt x="1198261" y="108259"/>
                </a:lnTo>
                <a:lnTo>
                  <a:pt x="957389" y="108259"/>
                </a:lnTo>
                <a:close/>
                <a:moveTo>
                  <a:pt x="515282" y="108259"/>
                </a:moveTo>
                <a:lnTo>
                  <a:pt x="515282" y="254637"/>
                </a:lnTo>
                <a:lnTo>
                  <a:pt x="756154" y="254637"/>
                </a:lnTo>
                <a:lnTo>
                  <a:pt x="756154" y="108259"/>
                </a:lnTo>
                <a:lnTo>
                  <a:pt x="515282" y="108259"/>
                </a:lnTo>
                <a:close/>
                <a:moveTo>
                  <a:pt x="74701" y="108259"/>
                </a:moveTo>
                <a:lnTo>
                  <a:pt x="74701" y="254637"/>
                </a:lnTo>
                <a:lnTo>
                  <a:pt x="315573" y="254637"/>
                </a:lnTo>
                <a:lnTo>
                  <a:pt x="315573" y="108259"/>
                </a:lnTo>
                <a:lnTo>
                  <a:pt x="74701" y="108259"/>
                </a:lnTo>
                <a:close/>
                <a:moveTo>
                  <a:pt x="0" y="0"/>
                </a:moveTo>
                <a:lnTo>
                  <a:pt x="1728788" y="0"/>
                </a:lnTo>
                <a:lnTo>
                  <a:pt x="1728788" y="2006600"/>
                </a:lnTo>
                <a:lnTo>
                  <a:pt x="0" y="2006600"/>
                </a:lnTo>
                <a:lnTo>
                  <a:pt x="0" y="0"/>
                </a:lnTo>
                <a:close/>
              </a:path>
            </a:pathLst>
          </a:custGeom>
          <a:solidFill>
            <a:srgbClr val="adc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6299280" y="3209760"/>
            <a:ext cx="1450800" cy="11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0a3a6"/>
                </a:solidFill>
                <a:latin typeface="微软雅黑"/>
                <a:ea typeface="微软雅黑"/>
              </a:rPr>
              <a:t>对现场成本进行事中控制 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58" name="任意多边形 49"/>
          <p:cNvSpPr/>
          <p:nvPr/>
        </p:nvSpPr>
        <p:spPr>
          <a:xfrm>
            <a:off x="7912080" y="3035160"/>
            <a:ext cx="1727280" cy="200664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2006640"/>
              <a:gd name="textAreaBottom" fmla="*/ 2007000 h 2006640"/>
            </a:gdLst>
            <a:ahLst/>
            <a:rect l="textAreaLeft" t="textAreaTop" r="textAreaRight" b="textAreaBottom"/>
            <a:pathLst>
              <a:path w="1727200" h="2006600">
                <a:moveTo>
                  <a:pt x="1396686" y="1756537"/>
                </a:moveTo>
                <a:lnTo>
                  <a:pt x="1396686" y="1902915"/>
                </a:lnTo>
                <a:lnTo>
                  <a:pt x="1637336" y="1902915"/>
                </a:lnTo>
                <a:lnTo>
                  <a:pt x="1637336" y="1756537"/>
                </a:lnTo>
                <a:lnTo>
                  <a:pt x="1396686" y="1756537"/>
                </a:lnTo>
                <a:close/>
                <a:moveTo>
                  <a:pt x="956509" y="1756537"/>
                </a:moveTo>
                <a:lnTo>
                  <a:pt x="956509" y="1902915"/>
                </a:lnTo>
                <a:lnTo>
                  <a:pt x="1197159" y="1902915"/>
                </a:lnTo>
                <a:lnTo>
                  <a:pt x="1197159" y="1756537"/>
                </a:lnTo>
                <a:lnTo>
                  <a:pt x="956509" y="1756537"/>
                </a:lnTo>
                <a:close/>
                <a:moveTo>
                  <a:pt x="514809" y="1756537"/>
                </a:moveTo>
                <a:lnTo>
                  <a:pt x="514809" y="1902915"/>
                </a:lnTo>
                <a:lnTo>
                  <a:pt x="755459" y="1902915"/>
                </a:lnTo>
                <a:lnTo>
                  <a:pt x="755459" y="1756537"/>
                </a:lnTo>
                <a:lnTo>
                  <a:pt x="514809" y="1756537"/>
                </a:lnTo>
                <a:close/>
                <a:moveTo>
                  <a:pt x="74632" y="1756537"/>
                </a:moveTo>
                <a:lnTo>
                  <a:pt x="74632" y="1902915"/>
                </a:lnTo>
                <a:lnTo>
                  <a:pt x="315282" y="1902915"/>
                </a:lnTo>
                <a:lnTo>
                  <a:pt x="315282" y="1756537"/>
                </a:lnTo>
                <a:lnTo>
                  <a:pt x="74632" y="1756537"/>
                </a:lnTo>
                <a:close/>
                <a:moveTo>
                  <a:pt x="1396686" y="108259"/>
                </a:moveTo>
                <a:lnTo>
                  <a:pt x="1396686" y="254637"/>
                </a:lnTo>
                <a:lnTo>
                  <a:pt x="1637336" y="254637"/>
                </a:lnTo>
                <a:lnTo>
                  <a:pt x="1637336" y="108259"/>
                </a:lnTo>
                <a:lnTo>
                  <a:pt x="1396686" y="108259"/>
                </a:lnTo>
                <a:close/>
                <a:moveTo>
                  <a:pt x="956509" y="108259"/>
                </a:moveTo>
                <a:lnTo>
                  <a:pt x="956509" y="254637"/>
                </a:lnTo>
                <a:lnTo>
                  <a:pt x="1197159" y="254637"/>
                </a:lnTo>
                <a:lnTo>
                  <a:pt x="1197159" y="108259"/>
                </a:lnTo>
                <a:lnTo>
                  <a:pt x="956509" y="108259"/>
                </a:lnTo>
                <a:close/>
                <a:moveTo>
                  <a:pt x="514809" y="108259"/>
                </a:moveTo>
                <a:lnTo>
                  <a:pt x="514809" y="254637"/>
                </a:lnTo>
                <a:lnTo>
                  <a:pt x="755459" y="254637"/>
                </a:lnTo>
                <a:lnTo>
                  <a:pt x="755459" y="108259"/>
                </a:lnTo>
                <a:lnTo>
                  <a:pt x="514809" y="108259"/>
                </a:lnTo>
                <a:close/>
                <a:moveTo>
                  <a:pt x="74632" y="108259"/>
                </a:moveTo>
                <a:lnTo>
                  <a:pt x="74632" y="254637"/>
                </a:lnTo>
                <a:lnTo>
                  <a:pt x="315282" y="254637"/>
                </a:lnTo>
                <a:lnTo>
                  <a:pt x="315282" y="108259"/>
                </a:lnTo>
                <a:lnTo>
                  <a:pt x="74632" y="108259"/>
                </a:lnTo>
                <a:close/>
                <a:moveTo>
                  <a:pt x="0" y="0"/>
                </a:moveTo>
                <a:lnTo>
                  <a:pt x="1727200" y="0"/>
                </a:lnTo>
                <a:lnTo>
                  <a:pt x="1727200" y="2006600"/>
                </a:lnTo>
                <a:lnTo>
                  <a:pt x="0" y="2006600"/>
                </a:lnTo>
                <a:lnTo>
                  <a:pt x="0" y="0"/>
                </a:lnTo>
                <a:close/>
              </a:path>
            </a:pathLst>
          </a:custGeom>
          <a:solidFill>
            <a:srgbClr val="adc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59" name="Rectangle 38"/>
          <p:cNvSpPr/>
          <p:nvPr/>
        </p:nvSpPr>
        <p:spPr>
          <a:xfrm>
            <a:off x="8056440" y="3486240"/>
            <a:ext cx="1449360" cy="11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0a3a6"/>
                </a:solidFill>
                <a:latin typeface="微软雅黑"/>
                <a:ea typeface="微软雅黑"/>
              </a:rPr>
              <a:t>我们的未来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60" name="文本框 14"/>
          <p:cNvSpPr/>
          <p:nvPr/>
        </p:nvSpPr>
        <p:spPr>
          <a:xfrm>
            <a:off x="2908440" y="2602080"/>
            <a:ext cx="11840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rmAutofit fontScale="6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a5a5"/>
                </a:solidFill>
                <a:latin typeface="Impact"/>
                <a:ea typeface="Adobe Gothic Std B"/>
              </a:rPr>
              <a:t>01</a:t>
            </a:r>
            <a:endParaRPr b="0" lang="en-US" sz="40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61" name="文本框 16"/>
          <p:cNvSpPr/>
          <p:nvPr/>
        </p:nvSpPr>
        <p:spPr>
          <a:xfrm>
            <a:off x="4656240" y="2462040"/>
            <a:ext cx="11840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rmAutofit fontScale="6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a5a5"/>
                </a:solidFill>
                <a:latin typeface="Impact"/>
                <a:ea typeface="Adobe Gothic Std B"/>
              </a:rPr>
              <a:t>02</a:t>
            </a:r>
            <a:endParaRPr b="0" lang="en-US" sz="40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62" name="文本框 17"/>
          <p:cNvSpPr/>
          <p:nvPr/>
        </p:nvSpPr>
        <p:spPr>
          <a:xfrm>
            <a:off x="6410160" y="2322360"/>
            <a:ext cx="11844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rmAutofit fontScale="6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a5a5"/>
                </a:solidFill>
                <a:latin typeface="Impact"/>
                <a:ea typeface="Adobe Gothic Std B"/>
              </a:rPr>
              <a:t>03</a:t>
            </a:r>
            <a:endParaRPr b="0" lang="en-US" sz="40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63" name="文本框 18"/>
          <p:cNvSpPr/>
          <p:nvPr/>
        </p:nvSpPr>
        <p:spPr>
          <a:xfrm>
            <a:off x="8143920" y="2592360"/>
            <a:ext cx="11826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rmAutofit fontScale="6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a5a5"/>
                </a:solidFill>
                <a:latin typeface="Impact"/>
                <a:ea typeface="Adobe Gothic Std B"/>
              </a:rPr>
              <a:t>04</a:t>
            </a:r>
            <a:endParaRPr b="0" lang="en-US" sz="40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2784600" y="3486240"/>
            <a:ext cx="1450800" cy="11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0a3a6"/>
                </a:solidFill>
                <a:latin typeface="微软雅黑"/>
                <a:ea typeface="微软雅黑"/>
              </a:rPr>
              <a:t>细化成本核算，提供真实准确的成本报表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4541760" y="3346560"/>
            <a:ext cx="1451160" cy="11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0a3a6"/>
                </a:solidFill>
                <a:latin typeface="微软雅黑"/>
                <a:ea typeface="微软雅黑"/>
              </a:rPr>
              <a:t>对成本进行事前预测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6299280" y="3209760"/>
            <a:ext cx="1450800" cy="11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0a3a6"/>
                </a:solidFill>
                <a:latin typeface="微软雅黑"/>
                <a:ea typeface="微软雅黑"/>
              </a:rPr>
              <a:t>我们的责任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784600" y="3486240"/>
            <a:ext cx="1450800" cy="11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我们的团队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68" name="Rectangle 16"/>
          <p:cNvSpPr/>
          <p:nvPr/>
        </p:nvSpPr>
        <p:spPr>
          <a:xfrm>
            <a:off x="4541760" y="3346560"/>
            <a:ext cx="1451160" cy="11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0a3a6"/>
                </a:solidFill>
                <a:latin typeface="微软雅黑"/>
                <a:ea typeface="微软雅黑"/>
              </a:rPr>
              <a:t>我们的目标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2160" y="101160"/>
            <a:ext cx="111618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目录</a:t>
            </a:r>
            <a:endParaRPr b="1" lang="en-US" sz="3200" spc="-1" strike="noStrike">
              <a:solidFill>
                <a:srgbClr val="566718"/>
              </a:solidFill>
              <a:latin typeface="黑体"/>
            </a:endParaRPr>
          </a:p>
        </p:txBody>
      </p:sp>
    </p:spTree>
  </p:cSld>
  <p:transition spd="slow">
    <p:wipe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89DD-81E5-4B26-BDDC-F5A47111220F}" type="slidenum">
              <a:rPr b="0" lang="zh-CN" sz="1200" spc="-1" strike="noStrike">
                <a:solidFill>
                  <a:srgbClr val="93949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71" name="Freeform 17"/>
          <p:cNvSpPr/>
          <p:nvPr/>
        </p:nvSpPr>
        <p:spPr>
          <a:xfrm>
            <a:off x="5916600" y="3005280"/>
            <a:ext cx="1427040" cy="1404720"/>
          </a:xfrm>
          <a:prstGeom prst="pie">
            <a:avLst/>
          </a:prstGeom>
          <a:solidFill>
            <a:srgbClr val="adc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幼圆"/>
              </a:rPr>
              <a:t>03</a:t>
            </a: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72" name="Freeform 18"/>
          <p:cNvSpPr/>
          <p:nvPr/>
        </p:nvSpPr>
        <p:spPr>
          <a:xfrm>
            <a:off x="4614840" y="3097080"/>
            <a:ext cx="1247760" cy="1219320"/>
          </a:xfrm>
          <a:prstGeom prst="pie">
            <a:avLst/>
          </a:prstGeom>
          <a:solidFill>
            <a:srgbClr val="adc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幼圆"/>
              </a:rPr>
              <a:t>02</a:t>
            </a: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73" name="Freeform 19"/>
          <p:cNvSpPr/>
          <p:nvPr/>
        </p:nvSpPr>
        <p:spPr>
          <a:xfrm>
            <a:off x="3581280" y="3205080"/>
            <a:ext cx="990720" cy="1003320"/>
          </a:xfrm>
          <a:prstGeom prst="pie">
            <a:avLst/>
          </a:prstGeom>
          <a:solidFill>
            <a:srgbClr val="adc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幼圆"/>
              </a:rPr>
              <a:t>01</a:t>
            </a: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2741760" y="2035080"/>
            <a:ext cx="228744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企业产品的设计、制造与销售等全过程需要按照相应的标准</a:t>
            </a:r>
            <a:endParaRPr b="0" lang="en-US" sz="1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75" name="Freeform 17"/>
          <p:cNvSpPr/>
          <p:nvPr/>
        </p:nvSpPr>
        <p:spPr>
          <a:xfrm>
            <a:off x="7145280" y="2822400"/>
            <a:ext cx="1797120" cy="1768680"/>
          </a:xfrm>
          <a:prstGeom prst="pie">
            <a:avLst/>
          </a:prstGeom>
          <a:solidFill>
            <a:srgbClr val="adc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幼圆"/>
              </a:rPr>
              <a:t>04</a:t>
            </a: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3594240" y="4713120"/>
            <a:ext cx="228744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参与或者主持制订国际、国家和行业标准</a:t>
            </a:r>
            <a:endParaRPr b="0" lang="en-US" sz="1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5167440" y="1770120"/>
            <a:ext cx="22874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参照采用国际国家行业标准制订企业标准</a:t>
            </a:r>
            <a:endParaRPr b="0" lang="en-US" sz="1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6121440" y="4924440"/>
            <a:ext cx="22874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企业的有效运行和管理，企业的安全、企业的文化等需要标准。</a:t>
            </a:r>
            <a:endParaRPr b="0" lang="en-US" sz="1400" spc="-1" strike="noStrike">
              <a:solidFill>
                <a:srgbClr val="47494b"/>
              </a:solidFill>
              <a:latin typeface="Arial"/>
            </a:endParaRPr>
          </a:p>
        </p:txBody>
      </p:sp>
      <p:cxnSp>
        <p:nvCxnSpPr>
          <p:cNvPr id="79" name="直接箭头连接符 19"/>
          <p:cNvCxnSpPr/>
          <p:nvPr/>
        </p:nvCxnSpPr>
        <p:spPr>
          <a:xfrm flipV="1">
            <a:off x="3873240" y="2730240"/>
            <a:ext cx="1080" cy="558000"/>
          </a:xfrm>
          <a:prstGeom prst="straightConnector1">
            <a:avLst/>
          </a:prstGeom>
          <a:ln w="12600">
            <a:solidFill>
              <a:srgbClr val="78bdc1"/>
            </a:solidFill>
            <a:prstDash val="sysDash"/>
            <a:bevel/>
            <a:tailEnd len="med" type="triangle" w="med"/>
          </a:ln>
        </p:spPr>
      </p:cxnSp>
      <p:cxnSp>
        <p:nvCxnSpPr>
          <p:cNvPr id="80" name="直接箭头连接符 55"/>
          <p:cNvCxnSpPr/>
          <p:nvPr/>
        </p:nvCxnSpPr>
        <p:spPr>
          <a:xfrm flipV="1">
            <a:off x="6311520" y="2566440"/>
            <a:ext cx="1080" cy="557640"/>
          </a:xfrm>
          <a:prstGeom prst="straightConnector1">
            <a:avLst/>
          </a:prstGeom>
          <a:ln w="12600">
            <a:solidFill>
              <a:srgbClr val="78bdc1"/>
            </a:solidFill>
            <a:prstDash val="sysDash"/>
            <a:bevel/>
            <a:tailEnd len="med" type="triangle" w="med"/>
          </a:ln>
        </p:spPr>
      </p:cxnSp>
      <p:cxnSp>
        <p:nvCxnSpPr>
          <p:cNvPr id="81" name="直接箭头连接符 56"/>
          <p:cNvCxnSpPr/>
          <p:nvPr/>
        </p:nvCxnSpPr>
        <p:spPr>
          <a:xfrm>
            <a:off x="4736880" y="4203360"/>
            <a:ext cx="1080" cy="556200"/>
          </a:xfrm>
          <a:prstGeom prst="straightConnector1">
            <a:avLst/>
          </a:prstGeom>
          <a:ln w="12600">
            <a:solidFill>
              <a:srgbClr val="78bdc1"/>
            </a:solidFill>
            <a:prstDash val="sysDash"/>
            <a:bevel/>
            <a:tailEnd len="med" type="triangle" w="med"/>
          </a:ln>
        </p:spPr>
      </p:cxnSp>
      <p:cxnSp>
        <p:nvCxnSpPr>
          <p:cNvPr id="82" name="直接箭头连接符 57"/>
          <p:cNvCxnSpPr/>
          <p:nvPr/>
        </p:nvCxnSpPr>
        <p:spPr>
          <a:xfrm>
            <a:off x="7270560" y="4447800"/>
            <a:ext cx="1080" cy="556200"/>
          </a:xfrm>
          <a:prstGeom prst="straightConnector1">
            <a:avLst/>
          </a:prstGeom>
          <a:ln w="12600">
            <a:solidFill>
              <a:srgbClr val="78bdc1"/>
            </a:solidFill>
            <a:prstDash val="sysDash"/>
            <a:bevel/>
            <a:tailEnd len="med" type="triangle" w="med"/>
          </a:ln>
        </p:spPr>
      </p:cxnSp>
      <p:sp>
        <p:nvSpPr>
          <p:cNvPr id="83" name="椭圆 16"/>
          <p:cNvSpPr/>
          <p:nvPr/>
        </p:nvSpPr>
        <p:spPr>
          <a:xfrm>
            <a:off x="3825720" y="3287880"/>
            <a:ext cx="108000" cy="10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84" name="椭圆 46"/>
          <p:cNvSpPr/>
          <p:nvPr/>
        </p:nvSpPr>
        <p:spPr>
          <a:xfrm>
            <a:off x="4684680" y="412272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85" name="椭圆 47"/>
          <p:cNvSpPr/>
          <p:nvPr/>
        </p:nvSpPr>
        <p:spPr>
          <a:xfrm>
            <a:off x="6257880" y="310032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86" name="椭圆 48"/>
          <p:cNvSpPr/>
          <p:nvPr/>
        </p:nvSpPr>
        <p:spPr>
          <a:xfrm>
            <a:off x="7218360" y="4411800"/>
            <a:ext cx="108000" cy="10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2160" y="101160"/>
            <a:ext cx="111618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66718"/>
                </a:solidFill>
                <a:latin typeface="黑体"/>
              </a:rPr>
              <a:t>一、我们的团队</a:t>
            </a:r>
            <a:endParaRPr b="1" lang="en-US" sz="3200" spc="-1" strike="noStrike">
              <a:solidFill>
                <a:srgbClr val="566718"/>
              </a:solidFill>
              <a:latin typeface="黑体"/>
            </a:endParaRPr>
          </a:p>
        </p:txBody>
      </p:sp>
    </p:spTree>
  </p:cSld>
  <p:transition spd="slow">
    <p:split dir="out" orient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3887-1A73-42E3-9F0B-8EB628ECC85F}" type="slidenum">
              <a:rPr b="0" lang="zh-CN" sz="1200" spc="-1" strike="noStrike">
                <a:solidFill>
                  <a:srgbClr val="93949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  <p:grpSp>
        <p:nvGrpSpPr>
          <p:cNvPr id="89" name="组合 2"/>
          <p:cNvGrpSpPr/>
          <p:nvPr/>
        </p:nvGrpSpPr>
        <p:grpSpPr>
          <a:xfrm>
            <a:off x="865080" y="2305080"/>
            <a:ext cx="4076640" cy="3538440"/>
            <a:chOff x="865080" y="2305080"/>
            <a:chExt cx="4076640" cy="3538440"/>
          </a:xfrm>
        </p:grpSpPr>
        <p:sp>
          <p:nvSpPr>
            <p:cNvPr id="90" name="等腰三角形 7"/>
            <p:cNvSpPr/>
            <p:nvPr/>
          </p:nvSpPr>
          <p:spPr>
            <a:xfrm rot="10800000">
              <a:off x="3734280" y="5273280"/>
              <a:ext cx="257400" cy="13536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250041" h="215553">
                  <a:moveTo>
                    <a:pt x="0" y="215553"/>
                  </a:moveTo>
                  <a:cubicBezTo>
                    <a:pt x="41674" y="143702"/>
                    <a:pt x="9529" y="66742"/>
                    <a:pt x="125021" y="0"/>
                  </a:cubicBezTo>
                  <a:cubicBezTo>
                    <a:pt x="254801" y="60598"/>
                    <a:pt x="208368" y="143702"/>
                    <a:pt x="250041" y="215553"/>
                  </a:cubicBezTo>
                  <a:cubicBezTo>
                    <a:pt x="72117" y="118047"/>
                    <a:pt x="260905" y="218910"/>
                    <a:pt x="130606" y="153242"/>
                  </a:cubicBezTo>
                  <a:cubicBezTo>
                    <a:pt x="-5798" y="227437"/>
                    <a:pt x="172122" y="135101"/>
                    <a:pt x="0" y="215553"/>
                  </a:cubicBezTo>
                  <a:close/>
                </a:path>
              </a:pathLst>
            </a:custGeom>
            <a:solidFill>
              <a:srgbClr val="566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91" name="椭圆 32"/>
            <p:cNvSpPr/>
            <p:nvPr/>
          </p:nvSpPr>
          <p:spPr>
            <a:xfrm flipH="1">
              <a:off x="4700520" y="2305080"/>
              <a:ext cx="241200" cy="298080"/>
            </a:xfrm>
            <a:custGeom>
              <a:avLst/>
              <a:gdLst>
                <a:gd name="textAreaLeft" fmla="*/ 360 w 241200"/>
                <a:gd name="textAreaRight" fmla="*/ 241920 w 2412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34105" h="265305">
                  <a:moveTo>
                    <a:pt x="135654" y="7872"/>
                  </a:moveTo>
                  <a:lnTo>
                    <a:pt x="136115" y="7959"/>
                  </a:lnTo>
                  <a:cubicBezTo>
                    <a:pt x="191516" y="68746"/>
                    <a:pt x="226826" y="144366"/>
                    <a:pt x="234105" y="224421"/>
                  </a:cubicBezTo>
                  <a:cubicBezTo>
                    <a:pt x="234082" y="224416"/>
                    <a:pt x="234059" y="224412"/>
                    <a:pt x="234036" y="224407"/>
                  </a:cubicBezTo>
                  <a:lnTo>
                    <a:pt x="233847" y="265305"/>
                  </a:lnTo>
                  <a:lnTo>
                    <a:pt x="488" y="265305"/>
                  </a:lnTo>
                  <a:cubicBezTo>
                    <a:pt x="7" y="263811"/>
                    <a:pt x="0" y="262308"/>
                    <a:pt x="0" y="260803"/>
                  </a:cubicBezTo>
                  <a:cubicBezTo>
                    <a:pt x="0" y="121113"/>
                    <a:pt x="51210" y="-37372"/>
                    <a:pt x="135654" y="7872"/>
                  </a:cubicBezTo>
                  <a:close/>
                </a:path>
              </a:pathLst>
            </a:custGeom>
            <a:solidFill>
              <a:srgbClr val="566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92" name="等腰三角形 7"/>
            <p:cNvSpPr/>
            <p:nvPr/>
          </p:nvSpPr>
          <p:spPr>
            <a:xfrm rot="10800000">
              <a:off x="1818720" y="5708160"/>
              <a:ext cx="257400" cy="13536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250041" h="215553">
                  <a:moveTo>
                    <a:pt x="0" y="215553"/>
                  </a:moveTo>
                  <a:cubicBezTo>
                    <a:pt x="41674" y="143702"/>
                    <a:pt x="9529" y="66742"/>
                    <a:pt x="125021" y="0"/>
                  </a:cubicBezTo>
                  <a:cubicBezTo>
                    <a:pt x="254801" y="60598"/>
                    <a:pt x="208368" y="143702"/>
                    <a:pt x="250041" y="215553"/>
                  </a:cubicBezTo>
                  <a:cubicBezTo>
                    <a:pt x="72117" y="118047"/>
                    <a:pt x="260905" y="218910"/>
                    <a:pt x="130606" y="153242"/>
                  </a:cubicBezTo>
                  <a:cubicBezTo>
                    <a:pt x="-5798" y="227437"/>
                    <a:pt x="172122" y="135101"/>
                    <a:pt x="0" y="215553"/>
                  </a:cubicBezTo>
                  <a:close/>
                </a:path>
              </a:pathLst>
            </a:custGeom>
            <a:solidFill>
              <a:srgbClr val="566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93" name="等腰三角形 7"/>
            <p:cNvSpPr/>
            <p:nvPr/>
          </p:nvSpPr>
          <p:spPr>
            <a:xfrm flipV="1" rot="10800000">
              <a:off x="2778840" y="3173040"/>
              <a:ext cx="257400" cy="13536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360 h 135360"/>
                <a:gd name="textAreaBottom" fmla="*/ 136080 h 135360"/>
              </a:gdLst>
              <a:ahLst/>
              <a:rect l="textAreaLeft" t="textAreaTop" r="textAreaRight" b="textAreaBottom"/>
              <a:pathLst>
                <a:path w="250041" h="215553">
                  <a:moveTo>
                    <a:pt x="0" y="215553"/>
                  </a:moveTo>
                  <a:cubicBezTo>
                    <a:pt x="41674" y="143702"/>
                    <a:pt x="9529" y="66742"/>
                    <a:pt x="125021" y="0"/>
                  </a:cubicBezTo>
                  <a:cubicBezTo>
                    <a:pt x="254801" y="60598"/>
                    <a:pt x="220275" y="109596"/>
                    <a:pt x="250041" y="215553"/>
                  </a:cubicBezTo>
                  <a:cubicBezTo>
                    <a:pt x="74497" y="118047"/>
                    <a:pt x="260905" y="218910"/>
                    <a:pt x="130606" y="153242"/>
                  </a:cubicBezTo>
                  <a:cubicBezTo>
                    <a:pt x="-5798" y="227437"/>
                    <a:pt x="172122" y="135101"/>
                    <a:pt x="0" y="215553"/>
                  </a:cubicBezTo>
                  <a:close/>
                </a:path>
              </a:pathLst>
            </a:custGeom>
            <a:solidFill>
              <a:srgbClr val="566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94" name="椭圆 32"/>
            <p:cNvSpPr/>
            <p:nvPr/>
          </p:nvSpPr>
          <p:spPr>
            <a:xfrm>
              <a:off x="865080" y="4329360"/>
              <a:ext cx="241200" cy="2980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34105" h="265305">
                  <a:moveTo>
                    <a:pt x="135654" y="7872"/>
                  </a:moveTo>
                  <a:lnTo>
                    <a:pt x="136115" y="7959"/>
                  </a:lnTo>
                  <a:cubicBezTo>
                    <a:pt x="191516" y="68746"/>
                    <a:pt x="226826" y="144366"/>
                    <a:pt x="234105" y="224421"/>
                  </a:cubicBezTo>
                  <a:cubicBezTo>
                    <a:pt x="234082" y="224416"/>
                    <a:pt x="234059" y="224412"/>
                    <a:pt x="234036" y="224407"/>
                  </a:cubicBezTo>
                  <a:lnTo>
                    <a:pt x="233847" y="265305"/>
                  </a:lnTo>
                  <a:lnTo>
                    <a:pt x="488" y="265305"/>
                  </a:lnTo>
                  <a:cubicBezTo>
                    <a:pt x="7" y="263811"/>
                    <a:pt x="0" y="262308"/>
                    <a:pt x="0" y="260803"/>
                  </a:cubicBezTo>
                  <a:cubicBezTo>
                    <a:pt x="0" y="121113"/>
                    <a:pt x="51210" y="-37372"/>
                    <a:pt x="135654" y="7872"/>
                  </a:cubicBezTo>
                  <a:close/>
                </a:path>
              </a:pathLst>
            </a:custGeom>
            <a:solidFill>
              <a:srgbClr val="566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95" name="矩形 9"/>
            <p:cNvSpPr/>
            <p:nvPr/>
          </p:nvSpPr>
          <p:spPr>
            <a:xfrm>
              <a:off x="1952280" y="3173040"/>
              <a:ext cx="947880" cy="2670480"/>
            </a:xfrm>
            <a:custGeom>
              <a:avLst/>
              <a:gdLst>
                <a:gd name="textAreaLeft" fmla="*/ 0 w 947880"/>
                <a:gd name="textAreaRight" fmla="*/ 948240 w 947880"/>
                <a:gd name="textAreaTop" fmla="*/ 0 h 2670480"/>
                <a:gd name="textAreaBottom" fmla="*/ 2670840 h 2670480"/>
              </a:gdLst>
              <a:ahLst/>
              <a:rect l="textAreaLeft" t="textAreaTop" r="textAreaRight" b="textAreaBottom"/>
              <a:pathLst>
                <a:path w="1679363" h="4031979">
                  <a:moveTo>
                    <a:pt x="1679363" y="0"/>
                  </a:moveTo>
                  <a:cubicBezTo>
                    <a:pt x="1577760" y="103402"/>
                    <a:pt x="1512941" y="232120"/>
                    <a:pt x="1499611" y="368414"/>
                  </a:cubicBezTo>
                  <a:lnTo>
                    <a:pt x="1499737" y="368391"/>
                  </a:lnTo>
                  <a:lnTo>
                    <a:pt x="1504573" y="3435216"/>
                  </a:lnTo>
                  <a:lnTo>
                    <a:pt x="1500753" y="3435916"/>
                  </a:lnTo>
                  <a:cubicBezTo>
                    <a:pt x="1484513" y="3568386"/>
                    <a:pt x="1495902" y="3761538"/>
                    <a:pt x="1315212" y="3792435"/>
                  </a:cubicBezTo>
                  <a:lnTo>
                    <a:pt x="0" y="4031979"/>
                  </a:lnTo>
                  <a:cubicBezTo>
                    <a:pt x="100022" y="3930187"/>
                    <a:pt x="164395" y="3803859"/>
                    <a:pt x="178548" y="3669861"/>
                  </a:cubicBezTo>
                  <a:cubicBezTo>
                    <a:pt x="177758" y="2650295"/>
                    <a:pt x="176967" y="1630729"/>
                    <a:pt x="176177" y="611163"/>
                  </a:cubicBezTo>
                  <a:lnTo>
                    <a:pt x="175546" y="611278"/>
                  </a:lnTo>
                  <a:lnTo>
                    <a:pt x="176175" y="608158"/>
                  </a:lnTo>
                  <a:cubicBezTo>
                    <a:pt x="176174" y="607611"/>
                    <a:pt x="176174" y="607064"/>
                    <a:pt x="176173" y="606516"/>
                  </a:cubicBezTo>
                  <a:lnTo>
                    <a:pt x="176518" y="606454"/>
                  </a:lnTo>
                  <a:cubicBezTo>
                    <a:pt x="191341" y="470188"/>
                    <a:pt x="176408" y="281156"/>
                    <a:pt x="364151" y="239544"/>
                  </a:cubicBezTo>
                  <a:lnTo>
                    <a:pt x="1679363" y="0"/>
                  </a:lnTo>
                  <a:close/>
                </a:path>
              </a:pathLst>
            </a:custGeom>
            <a:gradFill rotWithShape="0">
              <a:gsLst>
                <a:gs pos="0">
                  <a:srgbClr val="adce33"/>
                </a:gs>
                <a:gs pos="50000">
                  <a:srgbClr val="cee283"/>
                </a:gs>
                <a:gs pos="100000">
                  <a:srgbClr val="adce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96" name="矩形 9"/>
            <p:cNvSpPr/>
            <p:nvPr/>
          </p:nvSpPr>
          <p:spPr>
            <a:xfrm flipH="1" rot="10800000">
              <a:off x="991800" y="4332240"/>
              <a:ext cx="947520" cy="1511280"/>
            </a:xfrm>
            <a:custGeom>
              <a:avLst/>
              <a:gdLst>
                <a:gd name="textAreaLeft" fmla="*/ 360 w 947520"/>
                <a:gd name="textAreaRight" fmla="*/ 948240 w 94752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919353" h="1344426">
                  <a:moveTo>
                    <a:pt x="0" y="1344426"/>
                  </a:moveTo>
                  <a:lnTo>
                    <a:pt x="720338" y="1203300"/>
                  </a:lnTo>
                  <a:cubicBezTo>
                    <a:pt x="823165" y="1178784"/>
                    <a:pt x="814986" y="1067417"/>
                    <a:pt x="823104" y="987136"/>
                  </a:cubicBezTo>
                  <a:lnTo>
                    <a:pt x="823293" y="987099"/>
                  </a:lnTo>
                  <a:cubicBezTo>
                    <a:pt x="823293" y="986777"/>
                    <a:pt x="823293" y="986454"/>
                    <a:pt x="823292" y="986132"/>
                  </a:cubicBezTo>
                  <a:lnTo>
                    <a:pt x="823637" y="984294"/>
                  </a:lnTo>
                  <a:lnTo>
                    <a:pt x="823291" y="984362"/>
                  </a:lnTo>
                  <a:cubicBezTo>
                    <a:pt x="823215" y="879121"/>
                    <a:pt x="823140" y="773881"/>
                    <a:pt x="823064" y="668641"/>
                  </a:cubicBezTo>
                  <a:cubicBezTo>
                    <a:pt x="822367" y="518106"/>
                    <a:pt x="821669" y="367571"/>
                    <a:pt x="820972" y="217036"/>
                  </a:cubicBezTo>
                  <a:cubicBezTo>
                    <a:pt x="820949" y="217041"/>
                    <a:pt x="820926" y="217045"/>
                    <a:pt x="820903" y="217050"/>
                  </a:cubicBezTo>
                  <a:cubicBezTo>
                    <a:pt x="828204" y="136753"/>
                    <a:pt x="863705" y="60919"/>
                    <a:pt x="919353" y="0"/>
                  </a:cubicBezTo>
                  <a:lnTo>
                    <a:pt x="199015" y="141126"/>
                  </a:lnTo>
                  <a:cubicBezTo>
                    <a:pt x="96188" y="165642"/>
                    <a:pt x="104367" y="277009"/>
                    <a:pt x="96249" y="357290"/>
                  </a:cubicBezTo>
                  <a:lnTo>
                    <a:pt x="96060" y="357327"/>
                  </a:lnTo>
                  <a:cubicBezTo>
                    <a:pt x="96060" y="357649"/>
                    <a:pt x="96060" y="357972"/>
                    <a:pt x="96061" y="358294"/>
                  </a:cubicBezTo>
                  <a:lnTo>
                    <a:pt x="95716" y="360132"/>
                  </a:lnTo>
                  <a:lnTo>
                    <a:pt x="96062" y="360064"/>
                  </a:lnTo>
                  <a:cubicBezTo>
                    <a:pt x="96138" y="465305"/>
                    <a:pt x="96213" y="570545"/>
                    <a:pt x="96289" y="675785"/>
                  </a:cubicBezTo>
                  <a:cubicBezTo>
                    <a:pt x="96986" y="826320"/>
                    <a:pt x="97684" y="976855"/>
                    <a:pt x="98381" y="1127390"/>
                  </a:cubicBezTo>
                  <a:cubicBezTo>
                    <a:pt x="98404" y="1127385"/>
                    <a:pt x="98427" y="1127381"/>
                    <a:pt x="98450" y="1127376"/>
                  </a:cubicBezTo>
                  <a:cubicBezTo>
                    <a:pt x="91149" y="1207673"/>
                    <a:pt x="55648" y="1283507"/>
                    <a:pt x="0" y="1344426"/>
                  </a:cubicBezTo>
                  <a:close/>
                </a:path>
              </a:pathLst>
            </a:custGeom>
            <a:gradFill rotWithShape="0">
              <a:gsLst>
                <a:gs pos="0">
                  <a:srgbClr val="adce33"/>
                </a:gs>
                <a:gs pos="50000">
                  <a:srgbClr val="cee283"/>
                </a:gs>
                <a:gs pos="100000">
                  <a:srgbClr val="adce3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97" name="矩形 9"/>
            <p:cNvSpPr/>
            <p:nvPr/>
          </p:nvSpPr>
          <p:spPr>
            <a:xfrm flipH="1" rot="10800000">
              <a:off x="2911680" y="3173400"/>
              <a:ext cx="947880" cy="2233080"/>
            </a:xfrm>
            <a:custGeom>
              <a:avLst/>
              <a:gdLst>
                <a:gd name="textAreaLeft" fmla="*/ -360 w 947880"/>
                <a:gd name="textAreaRight" fmla="*/ 947880 w 947880"/>
                <a:gd name="textAreaTop" fmla="*/ 0 h 2233080"/>
                <a:gd name="textAreaBottom" fmla="*/ 2233440 h 2233080"/>
              </a:gdLst>
              <a:ahLst/>
              <a:rect l="textAreaLeft" t="textAreaTop" r="textAreaRight" b="textAreaBottom"/>
              <a:pathLst>
                <a:path w="919927" h="2880099">
                  <a:moveTo>
                    <a:pt x="0" y="2880099"/>
                  </a:moveTo>
                  <a:lnTo>
                    <a:pt x="720338" y="2738973"/>
                  </a:lnTo>
                  <a:cubicBezTo>
                    <a:pt x="823165" y="2714457"/>
                    <a:pt x="814986" y="2603090"/>
                    <a:pt x="823104" y="2522809"/>
                  </a:cubicBezTo>
                  <a:lnTo>
                    <a:pt x="823293" y="2522772"/>
                  </a:lnTo>
                  <a:cubicBezTo>
                    <a:pt x="823293" y="2522450"/>
                    <a:pt x="823293" y="2522127"/>
                    <a:pt x="823292" y="2521805"/>
                  </a:cubicBezTo>
                  <a:lnTo>
                    <a:pt x="823637" y="2519967"/>
                  </a:lnTo>
                  <a:lnTo>
                    <a:pt x="823291" y="2520035"/>
                  </a:lnTo>
                  <a:cubicBezTo>
                    <a:pt x="823217" y="2417614"/>
                    <a:pt x="823144" y="2315194"/>
                    <a:pt x="823070" y="2212773"/>
                  </a:cubicBezTo>
                  <a:lnTo>
                    <a:pt x="824594" y="666358"/>
                  </a:lnTo>
                  <a:lnTo>
                    <a:pt x="823628" y="666358"/>
                  </a:lnTo>
                  <a:lnTo>
                    <a:pt x="821546" y="217036"/>
                  </a:lnTo>
                  <a:cubicBezTo>
                    <a:pt x="821523" y="217041"/>
                    <a:pt x="821500" y="217045"/>
                    <a:pt x="821477" y="217050"/>
                  </a:cubicBezTo>
                  <a:cubicBezTo>
                    <a:pt x="828778" y="136753"/>
                    <a:pt x="864279" y="60919"/>
                    <a:pt x="919927" y="0"/>
                  </a:cubicBezTo>
                  <a:lnTo>
                    <a:pt x="199589" y="141126"/>
                  </a:lnTo>
                  <a:cubicBezTo>
                    <a:pt x="96762" y="165642"/>
                    <a:pt x="104941" y="277009"/>
                    <a:pt x="96823" y="357290"/>
                  </a:cubicBezTo>
                  <a:lnTo>
                    <a:pt x="96634" y="357327"/>
                  </a:lnTo>
                  <a:cubicBezTo>
                    <a:pt x="96634" y="357649"/>
                    <a:pt x="96634" y="357972"/>
                    <a:pt x="96635" y="358294"/>
                  </a:cubicBezTo>
                  <a:lnTo>
                    <a:pt x="96290" y="360132"/>
                  </a:lnTo>
                  <a:lnTo>
                    <a:pt x="96636" y="360064"/>
                  </a:lnTo>
                  <a:cubicBezTo>
                    <a:pt x="96709" y="462162"/>
                    <a:pt x="96783" y="564260"/>
                    <a:pt x="96856" y="666358"/>
                  </a:cubicBezTo>
                  <a:lnTo>
                    <a:pt x="96290" y="666358"/>
                  </a:lnTo>
                  <a:lnTo>
                    <a:pt x="96290" y="2200074"/>
                  </a:lnTo>
                  <a:lnTo>
                    <a:pt x="98381" y="2663063"/>
                  </a:lnTo>
                  <a:cubicBezTo>
                    <a:pt x="98404" y="2663058"/>
                    <a:pt x="98427" y="2663054"/>
                    <a:pt x="98450" y="2663049"/>
                  </a:cubicBezTo>
                  <a:cubicBezTo>
                    <a:pt x="91149" y="2743346"/>
                    <a:pt x="55648" y="2819180"/>
                    <a:pt x="0" y="2880099"/>
                  </a:cubicBezTo>
                  <a:close/>
                </a:path>
              </a:pathLst>
            </a:custGeom>
            <a:gradFill rotWithShape="0">
              <a:gsLst>
                <a:gs pos="0">
                  <a:srgbClr val="adce33"/>
                </a:gs>
                <a:gs pos="50000">
                  <a:srgbClr val="cee283"/>
                </a:gs>
                <a:gs pos="100000">
                  <a:srgbClr val="adce3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98" name="矩形 9"/>
            <p:cNvSpPr/>
            <p:nvPr/>
          </p:nvSpPr>
          <p:spPr>
            <a:xfrm>
              <a:off x="3873600" y="2305080"/>
              <a:ext cx="960480" cy="3102120"/>
            </a:xfrm>
            <a:custGeom>
              <a:avLst/>
              <a:gdLst>
                <a:gd name="textAreaLeft" fmla="*/ 0 w 960480"/>
                <a:gd name="textAreaRight" fmla="*/ 960840 w 960480"/>
                <a:gd name="textAreaTop" fmla="*/ 0 h 3102120"/>
                <a:gd name="textAreaBottom" fmla="*/ 3102480 h 3102120"/>
              </a:gdLst>
              <a:ahLst/>
              <a:rect l="textAreaLeft" t="textAreaTop" r="textAreaRight" b="textAreaBottom"/>
              <a:pathLst>
                <a:path w="919391" h="3652965">
                  <a:moveTo>
                    <a:pt x="919391" y="0"/>
                  </a:moveTo>
                  <a:cubicBezTo>
                    <a:pt x="864609" y="59970"/>
                    <a:pt x="829352" y="134396"/>
                    <a:pt x="821600" y="213340"/>
                  </a:cubicBezTo>
                  <a:lnTo>
                    <a:pt x="822220" y="1071993"/>
                  </a:lnTo>
                  <a:lnTo>
                    <a:pt x="823644" y="1071993"/>
                  </a:lnTo>
                  <a:lnTo>
                    <a:pt x="823644" y="2666512"/>
                  </a:lnTo>
                  <a:lnTo>
                    <a:pt x="823121" y="2666512"/>
                  </a:lnTo>
                  <a:lnTo>
                    <a:pt x="824051" y="3301385"/>
                  </a:lnTo>
                  <a:lnTo>
                    <a:pt x="821959" y="3301797"/>
                  </a:lnTo>
                  <a:cubicBezTo>
                    <a:pt x="813064" y="3379841"/>
                    <a:pt x="819302" y="3493636"/>
                    <a:pt x="720339" y="3511839"/>
                  </a:cubicBezTo>
                  <a:lnTo>
                    <a:pt x="0" y="3652965"/>
                  </a:lnTo>
                  <a:cubicBezTo>
                    <a:pt x="54782" y="3592995"/>
                    <a:pt x="90039" y="3518569"/>
                    <a:pt x="97791" y="3439625"/>
                  </a:cubicBezTo>
                  <a:lnTo>
                    <a:pt x="97233" y="2666512"/>
                  </a:lnTo>
                  <a:lnTo>
                    <a:pt x="95341" y="2666512"/>
                  </a:lnTo>
                  <a:lnTo>
                    <a:pt x="95341" y="1071993"/>
                  </a:lnTo>
                  <a:lnTo>
                    <a:pt x="96396" y="1071993"/>
                  </a:lnTo>
                  <a:lnTo>
                    <a:pt x="95340" y="351580"/>
                  </a:lnTo>
                  <a:lnTo>
                    <a:pt x="97432" y="351168"/>
                  </a:lnTo>
                  <a:cubicBezTo>
                    <a:pt x="106327" y="273124"/>
                    <a:pt x="100089" y="159329"/>
                    <a:pt x="199052" y="141126"/>
                  </a:cubicBezTo>
                  <a:lnTo>
                    <a:pt x="919391" y="0"/>
                  </a:lnTo>
                  <a:close/>
                </a:path>
              </a:pathLst>
            </a:custGeom>
            <a:gradFill rotWithShape="0">
              <a:gsLst>
                <a:gs pos="0">
                  <a:srgbClr val="adce33"/>
                </a:gs>
                <a:gs pos="50000">
                  <a:srgbClr val="cee283"/>
                </a:gs>
                <a:gs pos="100000">
                  <a:srgbClr val="adce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99" name="TextBox 61"/>
            <p:cNvSpPr/>
            <p:nvPr/>
          </p:nvSpPr>
          <p:spPr>
            <a:xfrm>
              <a:off x="1049400" y="4497840"/>
              <a:ext cx="85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36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100" name="TextBox 62"/>
            <p:cNvSpPr/>
            <p:nvPr/>
          </p:nvSpPr>
          <p:spPr>
            <a:xfrm>
              <a:off x="2006280" y="4016520"/>
              <a:ext cx="85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36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101" name="TextBox 64"/>
            <p:cNvSpPr/>
            <p:nvPr/>
          </p:nvSpPr>
          <p:spPr>
            <a:xfrm>
              <a:off x="2963160" y="3535560"/>
              <a:ext cx="85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36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102" name="TextBox 65"/>
            <p:cNvSpPr/>
            <p:nvPr/>
          </p:nvSpPr>
          <p:spPr>
            <a:xfrm>
              <a:off x="3920040" y="3054600"/>
              <a:ext cx="85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36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103" name="矩形 139"/>
            <p:cNvSpPr/>
            <p:nvPr/>
          </p:nvSpPr>
          <p:spPr>
            <a:xfrm>
              <a:off x="1310040" y="5068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</a:t>
              </a:r>
              <a:endParaRPr b="0" lang="en-US" sz="20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104" name="矩形 140"/>
            <p:cNvSpPr/>
            <p:nvPr/>
          </p:nvSpPr>
          <p:spPr>
            <a:xfrm>
              <a:off x="2266920" y="4632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</a:t>
              </a:r>
              <a:endParaRPr b="0" lang="en-US" sz="20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105" name="矩形 141"/>
            <p:cNvSpPr/>
            <p:nvPr/>
          </p:nvSpPr>
          <p:spPr>
            <a:xfrm>
              <a:off x="3223800" y="4196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他</a:t>
              </a:r>
              <a:endParaRPr b="0" lang="en-US" sz="20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106" name="矩形 142"/>
            <p:cNvSpPr/>
            <p:nvPr/>
          </p:nvSpPr>
          <p:spPr>
            <a:xfrm>
              <a:off x="4104360" y="37598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果</a:t>
              </a:r>
              <a:endParaRPr b="0" lang="en-US" sz="2000" spc="-1" strike="noStrike">
                <a:solidFill>
                  <a:srgbClr val="47494b"/>
                </a:solidFill>
                <a:latin typeface="Arial"/>
              </a:endParaRPr>
            </a:p>
          </p:txBody>
        </p:sp>
      </p:grpSp>
      <p:grpSp>
        <p:nvGrpSpPr>
          <p:cNvPr id="107" name="组合 3"/>
          <p:cNvGrpSpPr/>
          <p:nvPr/>
        </p:nvGrpSpPr>
        <p:grpSpPr>
          <a:xfrm>
            <a:off x="8207280" y="739800"/>
            <a:ext cx="2509920" cy="2984400"/>
            <a:chOff x="8207280" y="739800"/>
            <a:chExt cx="2509920" cy="2984400"/>
          </a:xfrm>
        </p:grpSpPr>
        <p:sp>
          <p:nvSpPr>
            <p:cNvPr id="108" name="文本框 146"/>
            <p:cNvSpPr/>
            <p:nvPr/>
          </p:nvSpPr>
          <p:spPr>
            <a:xfrm>
              <a:off x="8256960" y="739800"/>
              <a:ext cx="2460240" cy="29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90000" anchor="ctr">
              <a:normAutofit/>
            </a:bodyPr>
            <a:p>
              <a:pPr algn="just">
                <a:lnSpc>
                  <a:spcPct val="13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团结队友，我们能更好的完成更为艰难的目标！</a:t>
              </a:r>
              <a:endParaRPr b="0" lang="en-US" sz="28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109" name="直接连接符 24"/>
            <p:cNvSpPr/>
            <p:nvPr/>
          </p:nvSpPr>
          <p:spPr>
            <a:xfrm>
              <a:off x="8207280" y="763200"/>
              <a:ext cx="1721520" cy="0"/>
            </a:xfrm>
            <a:prstGeom prst="line">
              <a:avLst/>
            </a:prstGeom>
            <a:ln w="25560">
              <a:solidFill>
                <a:srgbClr val="adce3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110" name="直接连接符 25"/>
            <p:cNvSpPr/>
            <p:nvPr/>
          </p:nvSpPr>
          <p:spPr>
            <a:xfrm>
              <a:off x="8372160" y="826920"/>
              <a:ext cx="1721520" cy="0"/>
            </a:xfrm>
            <a:prstGeom prst="line">
              <a:avLst/>
            </a:prstGeom>
            <a:ln w="12600">
              <a:solidFill>
                <a:srgbClr val="adce3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111" name="直接连接符 26"/>
            <p:cNvSpPr/>
            <p:nvPr/>
          </p:nvSpPr>
          <p:spPr>
            <a:xfrm flipH="1">
              <a:off x="8791200" y="3724200"/>
              <a:ext cx="1721520" cy="0"/>
            </a:xfrm>
            <a:prstGeom prst="line">
              <a:avLst/>
            </a:prstGeom>
            <a:ln w="25560">
              <a:solidFill>
                <a:srgbClr val="adce3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112" name="直接连接符 27"/>
            <p:cNvSpPr/>
            <p:nvPr/>
          </p:nvSpPr>
          <p:spPr>
            <a:xfrm flipH="1">
              <a:off x="8626320" y="3660840"/>
              <a:ext cx="1721520" cy="0"/>
            </a:xfrm>
            <a:prstGeom prst="line">
              <a:avLst/>
            </a:prstGeom>
            <a:ln w="12600">
              <a:solidFill>
                <a:srgbClr val="adce3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7494b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2160" y="101160"/>
            <a:ext cx="111618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66718"/>
                </a:solidFill>
                <a:latin typeface="黑体"/>
              </a:rPr>
              <a:t>团队的重要性</a:t>
            </a:r>
            <a:endParaRPr b="1" lang="en-US" sz="3200" spc="-1" strike="noStrike">
              <a:solidFill>
                <a:srgbClr val="566718"/>
              </a:solidFill>
              <a:latin typeface="黑体"/>
            </a:endParaRPr>
          </a:p>
        </p:txBody>
      </p:sp>
      <p:pic>
        <p:nvPicPr>
          <p:cNvPr id="114" name="图片 1" descr=""/>
          <p:cNvPicPr/>
          <p:nvPr/>
        </p:nvPicPr>
        <p:blipFill>
          <a:blip r:embed="rId2"/>
          <a:stretch/>
        </p:blipFill>
        <p:spPr>
          <a:xfrm>
            <a:off x="5145120" y="2795760"/>
            <a:ext cx="3062160" cy="2800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09A6-2B86-4FBD-8824-FEAA1AA726A4}" type="slidenum">
              <a:rPr b="0" lang="zh-CN" sz="1200" spc="-1" strike="noStrike">
                <a:solidFill>
                  <a:srgbClr val="93949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16" name="任意多边形 19"/>
          <p:cNvSpPr/>
          <p:nvPr/>
        </p:nvSpPr>
        <p:spPr>
          <a:xfrm>
            <a:off x="5413320" y="2300400"/>
            <a:ext cx="1366920" cy="1366560"/>
          </a:xfrm>
          <a:prstGeom prst="pie">
            <a:avLst/>
          </a:prstGeom>
          <a:solidFill>
            <a:srgbClr val="64b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心</a:t>
            </a:r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17" name="任意多边形 20"/>
          <p:cNvSpPr/>
          <p:nvPr/>
        </p:nvSpPr>
        <p:spPr>
          <a:xfrm rot="3600000">
            <a:off x="6140880" y="2721240"/>
            <a:ext cx="1366920" cy="1365480"/>
          </a:xfrm>
          <a:prstGeom prst="pie">
            <a:avLst/>
          </a:prstGeom>
          <a:solidFill>
            <a:srgbClr val="a7c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为</a:t>
            </a:r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18" name="任意多边形 24"/>
          <p:cNvSpPr/>
          <p:nvPr/>
        </p:nvSpPr>
        <p:spPr>
          <a:xfrm rot="18000000">
            <a:off x="4684320" y="2720520"/>
            <a:ext cx="1366920" cy="1366920"/>
          </a:xfrm>
          <a:prstGeom prst="pie">
            <a:avLst/>
          </a:prstGeom>
          <a:solidFill>
            <a:srgbClr val="a7c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注</a:t>
            </a:r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19" name="任意多边形 31"/>
          <p:cNvSpPr/>
          <p:nvPr/>
        </p:nvSpPr>
        <p:spPr>
          <a:xfrm rot="18255000">
            <a:off x="6165000" y="3531240"/>
            <a:ext cx="1363680" cy="1368360"/>
          </a:xfrm>
          <a:prstGeom prst="pie">
            <a:avLst/>
          </a:prstGeom>
          <a:solidFill>
            <a:srgbClr val="64b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顾客</a:t>
            </a:r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20" name="任意多边形 35"/>
          <p:cNvSpPr/>
          <p:nvPr/>
        </p:nvSpPr>
        <p:spPr>
          <a:xfrm>
            <a:off x="5413320" y="3983040"/>
            <a:ext cx="1366920" cy="1366920"/>
          </a:xfrm>
          <a:prstGeom prst="pie">
            <a:avLst/>
          </a:prstGeom>
          <a:solidFill>
            <a:srgbClr val="a7c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21" name="任意多边形 39"/>
          <p:cNvSpPr/>
          <p:nvPr/>
        </p:nvSpPr>
        <p:spPr>
          <a:xfrm rot="3331800">
            <a:off x="4662720" y="3526920"/>
            <a:ext cx="1362240" cy="1369800"/>
          </a:xfrm>
          <a:prstGeom prst="pie">
            <a:avLst/>
          </a:prstGeom>
          <a:solidFill>
            <a:srgbClr val="64b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激励</a:t>
            </a:r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22" name="矩形 41"/>
          <p:cNvSpPr/>
          <p:nvPr/>
        </p:nvSpPr>
        <p:spPr>
          <a:xfrm>
            <a:off x="5100480" y="1630440"/>
            <a:ext cx="19987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让员工相信战略的内在价值，建立感情联系</a:t>
            </a:r>
            <a:endParaRPr b="0" lang="en-US" sz="1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23" name="矩形 42"/>
          <p:cNvSpPr/>
          <p:nvPr/>
        </p:nvSpPr>
        <p:spPr>
          <a:xfrm>
            <a:off x="5100480" y="5249880"/>
            <a:ext cx="19987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战略体现在组织能力和管理流程中，人财物</a:t>
            </a:r>
            <a:endParaRPr b="0" lang="en-US" sz="1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24" name="矩形 43"/>
          <p:cNvSpPr/>
          <p:nvPr/>
        </p:nvSpPr>
        <p:spPr>
          <a:xfrm>
            <a:off x="7450200" y="2665440"/>
            <a:ext cx="19987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为使目标可信，必须将目标转化成具体行为</a:t>
            </a:r>
            <a:endParaRPr b="0" lang="en-US" sz="1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25" name="矩形 44"/>
          <p:cNvSpPr/>
          <p:nvPr/>
        </p:nvSpPr>
        <p:spPr>
          <a:xfrm>
            <a:off x="7450200" y="4478400"/>
            <a:ext cx="19987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能将外部的顾客期望转化为公司的企业文化</a:t>
            </a:r>
            <a:endParaRPr b="0" lang="en-US" sz="1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26" name="矩形 45"/>
          <p:cNvSpPr/>
          <p:nvPr/>
        </p:nvSpPr>
        <p:spPr>
          <a:xfrm>
            <a:off x="2760840" y="2665440"/>
            <a:ext cx="1998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做减法，而不是做加法，集中资源于关键点</a:t>
            </a:r>
            <a:endParaRPr b="0" lang="en-US" sz="1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27" name="矩形 46"/>
          <p:cNvSpPr/>
          <p:nvPr/>
        </p:nvSpPr>
        <p:spPr>
          <a:xfrm>
            <a:off x="2760840" y="4478400"/>
            <a:ext cx="1998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让员工的希望和他们的未来之间建立起联系</a:t>
            </a:r>
            <a:endParaRPr b="0" lang="en-US" sz="1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2160" y="101160"/>
            <a:ext cx="111618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66718"/>
                </a:solidFill>
                <a:latin typeface="黑体"/>
              </a:rPr>
              <a:t>二、我们的目标</a:t>
            </a:r>
            <a:endParaRPr b="1" lang="en-US" sz="3200" spc="-1" strike="noStrike">
              <a:solidFill>
                <a:srgbClr val="566718"/>
              </a:solidFill>
              <a:latin typeface="黑体"/>
            </a:endParaRPr>
          </a:p>
        </p:txBody>
      </p:sp>
    </p:spTree>
  </p:cSld>
  <p:transition spd="slow">
    <p:blinds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20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21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3254-E101-4376-B8BA-354BA1FCA253}" type="slidenum">
              <a:rPr b="0" lang="zh-CN" sz="1200" spc="-1" strike="noStrike">
                <a:solidFill>
                  <a:srgbClr val="93949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30" name="任意多边形 28"/>
          <p:cNvSpPr/>
          <p:nvPr/>
        </p:nvSpPr>
        <p:spPr>
          <a:xfrm rot="9256800">
            <a:off x="5950800" y="4587840"/>
            <a:ext cx="1290600" cy="36504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085975" h="590550">
                <a:moveTo>
                  <a:pt x="0" y="0"/>
                </a:moveTo>
                <a:lnTo>
                  <a:pt x="2085975" y="0"/>
                </a:lnTo>
                <a:lnTo>
                  <a:pt x="1042988" y="590550"/>
                </a:lnTo>
                <a:lnTo>
                  <a:pt x="0" y="0"/>
                </a:lnTo>
                <a:close/>
              </a:path>
            </a:pathLst>
          </a:custGeom>
          <a:solidFill>
            <a:srgbClr val="b0d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31" name="任意多边形 29"/>
          <p:cNvSpPr/>
          <p:nvPr/>
        </p:nvSpPr>
        <p:spPr>
          <a:xfrm rot="12342600">
            <a:off x="4949640" y="4587480"/>
            <a:ext cx="1290600" cy="36504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085975" h="590550">
                <a:moveTo>
                  <a:pt x="0" y="0"/>
                </a:moveTo>
                <a:lnTo>
                  <a:pt x="2085975" y="0"/>
                </a:lnTo>
                <a:lnTo>
                  <a:pt x="1042988" y="590550"/>
                </a:lnTo>
                <a:lnTo>
                  <a:pt x="0" y="0"/>
                </a:lnTo>
                <a:close/>
              </a:path>
            </a:pathLst>
          </a:custGeom>
          <a:solidFill>
            <a:srgbClr val="b0d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32" name="任意多边形 30"/>
          <p:cNvSpPr/>
          <p:nvPr/>
        </p:nvSpPr>
        <p:spPr>
          <a:xfrm rot="15428400">
            <a:off x="4325040" y="3804480"/>
            <a:ext cx="1290960" cy="365040"/>
          </a:xfrm>
          <a:custGeom>
            <a:avLst/>
            <a:gdLst>
              <a:gd name="textAreaLeft" fmla="*/ 0 w 1290960"/>
              <a:gd name="textAreaRight" fmla="*/ 1291320 w 12909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085975" h="590550">
                <a:moveTo>
                  <a:pt x="0" y="0"/>
                </a:moveTo>
                <a:lnTo>
                  <a:pt x="2085975" y="0"/>
                </a:lnTo>
                <a:lnTo>
                  <a:pt x="1042988" y="590550"/>
                </a:lnTo>
                <a:lnTo>
                  <a:pt x="0" y="0"/>
                </a:lnTo>
                <a:close/>
              </a:path>
            </a:pathLst>
          </a:custGeom>
          <a:solidFill>
            <a:srgbClr val="b0d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33" name="任意多边形 31"/>
          <p:cNvSpPr/>
          <p:nvPr/>
        </p:nvSpPr>
        <p:spPr>
          <a:xfrm rot="18514200">
            <a:off x="4548240" y="2826720"/>
            <a:ext cx="1289160" cy="365040"/>
          </a:xfrm>
          <a:custGeom>
            <a:avLst/>
            <a:gdLst>
              <a:gd name="textAreaLeft" fmla="*/ 0 w 1289160"/>
              <a:gd name="textAreaRight" fmla="*/ 1289520 w 1289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085975" h="590550">
                <a:moveTo>
                  <a:pt x="0" y="0"/>
                </a:moveTo>
                <a:lnTo>
                  <a:pt x="2085975" y="0"/>
                </a:lnTo>
                <a:lnTo>
                  <a:pt x="1042988" y="590550"/>
                </a:lnTo>
                <a:lnTo>
                  <a:pt x="0" y="0"/>
                </a:lnTo>
                <a:close/>
              </a:path>
            </a:pathLst>
          </a:custGeom>
          <a:solidFill>
            <a:srgbClr val="b0d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34" name="任意多边形 32"/>
          <p:cNvSpPr/>
          <p:nvPr/>
        </p:nvSpPr>
        <p:spPr>
          <a:xfrm>
            <a:off x="5451480" y="2392200"/>
            <a:ext cx="1289160" cy="365400"/>
          </a:xfrm>
          <a:custGeom>
            <a:avLst/>
            <a:gdLst>
              <a:gd name="textAreaLeft" fmla="*/ 0 w 1289160"/>
              <a:gd name="textAreaRight" fmla="*/ 1289520 w 128916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2085975" h="590550">
                <a:moveTo>
                  <a:pt x="0" y="0"/>
                </a:moveTo>
                <a:lnTo>
                  <a:pt x="2085975" y="0"/>
                </a:lnTo>
                <a:lnTo>
                  <a:pt x="1042988" y="590550"/>
                </a:lnTo>
                <a:lnTo>
                  <a:pt x="0" y="0"/>
                </a:lnTo>
                <a:close/>
              </a:path>
            </a:pathLst>
          </a:custGeom>
          <a:solidFill>
            <a:srgbClr val="b0d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35" name="任意多边形 33"/>
          <p:cNvSpPr/>
          <p:nvPr/>
        </p:nvSpPr>
        <p:spPr>
          <a:xfrm rot="3085200">
            <a:off x="6354360" y="2827080"/>
            <a:ext cx="1289160" cy="365400"/>
          </a:xfrm>
          <a:custGeom>
            <a:avLst/>
            <a:gdLst>
              <a:gd name="textAreaLeft" fmla="*/ 0 w 1289160"/>
              <a:gd name="textAreaRight" fmla="*/ 1289520 w 128916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2085975" h="590550">
                <a:moveTo>
                  <a:pt x="0" y="0"/>
                </a:moveTo>
                <a:lnTo>
                  <a:pt x="2085975" y="0"/>
                </a:lnTo>
                <a:lnTo>
                  <a:pt x="1042988" y="590550"/>
                </a:lnTo>
                <a:lnTo>
                  <a:pt x="0" y="0"/>
                </a:lnTo>
                <a:close/>
              </a:path>
            </a:pathLst>
          </a:custGeom>
          <a:solidFill>
            <a:srgbClr val="b0d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36" name="任意多边形 34"/>
          <p:cNvSpPr/>
          <p:nvPr/>
        </p:nvSpPr>
        <p:spPr>
          <a:xfrm rot="6171600">
            <a:off x="6575760" y="3804480"/>
            <a:ext cx="1290960" cy="365040"/>
          </a:xfrm>
          <a:custGeom>
            <a:avLst/>
            <a:gdLst>
              <a:gd name="textAreaLeft" fmla="*/ 0 w 1290960"/>
              <a:gd name="textAreaRight" fmla="*/ 1291320 w 12909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085975" h="590550">
                <a:moveTo>
                  <a:pt x="0" y="0"/>
                </a:moveTo>
                <a:lnTo>
                  <a:pt x="2085975" y="0"/>
                </a:lnTo>
                <a:lnTo>
                  <a:pt x="1042988" y="590550"/>
                </a:lnTo>
                <a:lnTo>
                  <a:pt x="0" y="0"/>
                </a:lnTo>
                <a:close/>
              </a:path>
            </a:pathLst>
          </a:custGeom>
          <a:solidFill>
            <a:srgbClr val="b0d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37" name="矩形 3"/>
          <p:cNvSpPr/>
          <p:nvPr/>
        </p:nvSpPr>
        <p:spPr>
          <a:xfrm>
            <a:off x="5378400" y="3160800"/>
            <a:ext cx="144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0da14"/>
                </a:solidFill>
                <a:latin typeface="微软雅黑"/>
                <a:ea typeface="微软雅黑"/>
              </a:rPr>
              <a:t>支撑</a:t>
            </a:r>
            <a:endParaRPr b="0" lang="en-US" sz="3600" spc="-1" strike="noStrike">
              <a:solidFill>
                <a:srgbClr val="47494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0da14"/>
                </a:solidFill>
                <a:latin typeface="微软雅黑"/>
                <a:ea typeface="微软雅黑"/>
              </a:rPr>
              <a:t>技术</a:t>
            </a:r>
            <a:endParaRPr b="0" lang="en-US" sz="3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38" name="矩形 4"/>
          <p:cNvSpPr/>
          <p:nvPr/>
        </p:nvSpPr>
        <p:spPr>
          <a:xfrm>
            <a:off x="5639760" y="19191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0a3a6"/>
                </a:solidFill>
                <a:latin typeface="微软雅黑"/>
                <a:ea typeface="微软雅黑"/>
              </a:rPr>
              <a:t>产品市场运营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39" name="矩形 14"/>
          <p:cNvSpPr/>
          <p:nvPr/>
        </p:nvSpPr>
        <p:spPr>
          <a:xfrm>
            <a:off x="7643160" y="25909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0a3a6"/>
                </a:solidFill>
                <a:latin typeface="微软雅黑"/>
                <a:ea typeface="微软雅黑"/>
              </a:rPr>
              <a:t>产品生产质量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40" name="矩形 15"/>
          <p:cNvSpPr/>
          <p:nvPr/>
        </p:nvSpPr>
        <p:spPr>
          <a:xfrm>
            <a:off x="7843320" y="39322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0a3a6"/>
                </a:solidFill>
                <a:latin typeface="微软雅黑"/>
                <a:ea typeface="微软雅黑"/>
              </a:rPr>
              <a:t>产品的运输情况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41" name="矩形 16"/>
          <p:cNvSpPr/>
          <p:nvPr/>
        </p:nvSpPr>
        <p:spPr>
          <a:xfrm>
            <a:off x="7077960" y="49482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0a3a6"/>
                </a:solidFill>
                <a:latin typeface="微软雅黑"/>
                <a:ea typeface="微软雅黑"/>
              </a:rPr>
              <a:t>产品的销售技巧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42" name="矩形 17"/>
          <p:cNvSpPr/>
          <p:nvPr/>
        </p:nvSpPr>
        <p:spPr>
          <a:xfrm>
            <a:off x="4018320" y="49482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0a3a6"/>
                </a:solidFill>
                <a:latin typeface="微软雅黑"/>
                <a:ea typeface="微软雅黑"/>
              </a:rPr>
              <a:t>产品的配套服务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43" name="矩形 18"/>
          <p:cNvSpPr/>
          <p:nvPr/>
        </p:nvSpPr>
        <p:spPr>
          <a:xfrm>
            <a:off x="3309480" y="39322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0a3a6"/>
                </a:solidFill>
                <a:latin typeface="微软雅黑"/>
                <a:ea typeface="微软雅黑"/>
              </a:rPr>
              <a:t>产品的售后服务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44" name="矩形 19"/>
          <p:cNvSpPr/>
          <p:nvPr/>
        </p:nvSpPr>
        <p:spPr>
          <a:xfrm>
            <a:off x="3558600" y="25909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0a3a6"/>
                </a:solidFill>
                <a:latin typeface="微软雅黑"/>
                <a:ea typeface="微软雅黑"/>
              </a:rPr>
              <a:t>产品的收益情况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2160" y="101160"/>
            <a:ext cx="111618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66718"/>
                </a:solidFill>
                <a:latin typeface="黑体"/>
              </a:rPr>
              <a:t>三、我们的责任</a:t>
            </a:r>
            <a:endParaRPr b="1" lang="en-US" sz="3200" spc="-1" strike="noStrike">
              <a:solidFill>
                <a:srgbClr val="566718"/>
              </a:solidFill>
              <a:latin typeface="黑体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52520" y="6200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47494b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FE6F-89A1-40C7-8263-5AED7C255E1F}" type="slidenum">
              <a:rPr b="0" lang="zh-CN" sz="1200" spc="-1" strike="noStrike">
                <a:solidFill>
                  <a:srgbClr val="93949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48" name="椭圆 13"/>
          <p:cNvSpPr/>
          <p:nvPr/>
        </p:nvSpPr>
        <p:spPr>
          <a:xfrm rot="2052600">
            <a:off x="2806200" y="1517760"/>
            <a:ext cx="3557880" cy="3498840"/>
          </a:xfrm>
          <a:prstGeom prst="ellipse">
            <a:avLst/>
          </a:prstGeom>
          <a:noFill/>
          <a:ln w="12600">
            <a:solidFill>
              <a:srgbClr val="e8e8e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49" name="椭圆 12"/>
          <p:cNvSpPr/>
          <p:nvPr/>
        </p:nvSpPr>
        <p:spPr>
          <a:xfrm rot="2052600">
            <a:off x="2172960" y="2509560"/>
            <a:ext cx="2155680" cy="2154240"/>
          </a:xfrm>
          <a:prstGeom prst="ellipse">
            <a:avLst/>
          </a:prstGeom>
          <a:noFill/>
          <a:ln w="12600">
            <a:solidFill>
              <a:srgbClr val="e8e8e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50" name="椭圆 2"/>
          <p:cNvSpPr/>
          <p:nvPr/>
        </p:nvSpPr>
        <p:spPr>
          <a:xfrm rot="2052600">
            <a:off x="2796840" y="1864800"/>
            <a:ext cx="2811600" cy="2811600"/>
          </a:xfrm>
          <a:prstGeom prst="ellipse">
            <a:avLst/>
          </a:prstGeom>
          <a:noFill/>
          <a:ln w="1260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51" name="椭圆 11"/>
          <p:cNvSpPr/>
          <p:nvPr/>
        </p:nvSpPr>
        <p:spPr>
          <a:xfrm rot="2052600">
            <a:off x="6249960" y="2962440"/>
            <a:ext cx="166680" cy="164880"/>
          </a:xfrm>
          <a:prstGeom prst="ellipse">
            <a:avLst/>
          </a:prstGeom>
          <a:solidFill>
            <a:srgbClr val="78b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52" name="椭圆 16"/>
          <p:cNvSpPr/>
          <p:nvPr/>
        </p:nvSpPr>
        <p:spPr>
          <a:xfrm rot="2052600">
            <a:off x="5968800" y="4189320"/>
            <a:ext cx="166680" cy="165240"/>
          </a:xfrm>
          <a:prstGeom prst="ellipse">
            <a:avLst/>
          </a:prstGeom>
          <a:solidFill>
            <a:srgbClr val="78b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53" name="TextBox 20"/>
          <p:cNvSpPr/>
          <p:nvPr/>
        </p:nvSpPr>
        <p:spPr>
          <a:xfrm>
            <a:off x="6692760" y="3211560"/>
            <a:ext cx="334656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172800"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通常认为，鼓励不同思维、不同声音的团队工作环境易于发现最佳工作方案，以及实现创新。</a:t>
            </a:r>
            <a:endParaRPr b="0" lang="en-US" sz="1400" spc="-1" strike="noStrike">
              <a:solidFill>
                <a:srgbClr val="47494b"/>
              </a:solidFill>
              <a:latin typeface="Arial"/>
            </a:endParaRPr>
          </a:p>
          <a:p>
            <a:pPr marL="363600" indent="17280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四个方面衡量团队的工作偏好： </a:t>
            </a:r>
            <a:endParaRPr b="0" lang="en-US" sz="1400" spc="-1" strike="noStrike">
              <a:solidFill>
                <a:srgbClr val="47494b"/>
              </a:solidFill>
              <a:latin typeface="Arial"/>
            </a:endParaRPr>
          </a:p>
          <a:p>
            <a:pPr marL="363600" indent="172800" algn="just">
              <a:lnSpc>
                <a:spcPct val="140000"/>
              </a:lnSpc>
              <a:buClr>
                <a:srgbClr val="adce33"/>
              </a:buClr>
              <a:buSzPct val="6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dce33"/>
                </a:solidFill>
                <a:latin typeface="微软雅黑"/>
                <a:ea typeface="微软雅黑"/>
              </a:rPr>
              <a:t>外向型工作与内向型工作的偏好 </a:t>
            </a:r>
            <a:endParaRPr b="0" lang="en-US" sz="1400" spc="-1" strike="noStrike">
              <a:solidFill>
                <a:srgbClr val="47494b"/>
              </a:solidFill>
              <a:latin typeface="Arial"/>
            </a:endParaRPr>
          </a:p>
          <a:p>
            <a:pPr marL="363600" indent="172800" algn="just">
              <a:lnSpc>
                <a:spcPct val="140000"/>
              </a:lnSpc>
              <a:buClr>
                <a:srgbClr val="adce33"/>
              </a:buClr>
              <a:buSzPct val="6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dce33"/>
                </a:solidFill>
                <a:latin typeface="微软雅黑"/>
                <a:ea typeface="微软雅黑"/>
              </a:rPr>
              <a:t>实践性工作与创新性工作的平衡</a:t>
            </a:r>
            <a:endParaRPr b="0" lang="en-US" sz="1400" spc="-1" strike="noStrike">
              <a:solidFill>
                <a:srgbClr val="47494b"/>
              </a:solidFill>
              <a:latin typeface="Arial"/>
            </a:endParaRPr>
          </a:p>
          <a:p>
            <a:pPr marL="363600" indent="172800" algn="just">
              <a:lnSpc>
                <a:spcPct val="140000"/>
              </a:lnSpc>
              <a:buClr>
                <a:srgbClr val="adce33"/>
              </a:buClr>
              <a:buSzPct val="6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dce33"/>
                </a:solidFill>
                <a:latin typeface="微软雅黑"/>
                <a:ea typeface="微软雅黑"/>
              </a:rPr>
              <a:t>决策分析和信心对团队工作影响 </a:t>
            </a:r>
            <a:endParaRPr b="0" lang="en-US" sz="1400" spc="-1" strike="noStrike">
              <a:solidFill>
                <a:srgbClr val="47494b"/>
              </a:solidFill>
              <a:latin typeface="Arial"/>
            </a:endParaRPr>
          </a:p>
          <a:p>
            <a:pPr marL="363600" indent="172800" algn="just">
              <a:lnSpc>
                <a:spcPct val="140000"/>
              </a:lnSpc>
              <a:buClr>
                <a:srgbClr val="adce33"/>
              </a:buClr>
              <a:buSzPct val="6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dce33"/>
                </a:solidFill>
                <a:latin typeface="微软雅黑"/>
                <a:ea typeface="微软雅黑"/>
              </a:rPr>
              <a:t>结构化工作与灵活性工作的比例</a:t>
            </a:r>
            <a:endParaRPr b="0" lang="en-US" sz="1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54" name="任意多边形 28"/>
          <p:cNvSpPr/>
          <p:nvPr/>
        </p:nvSpPr>
        <p:spPr>
          <a:xfrm rot="19777800">
            <a:off x="5001840" y="1639440"/>
            <a:ext cx="915840" cy="809640"/>
          </a:xfrm>
          <a:prstGeom prst="pie">
            <a:avLst/>
          </a:prstGeom>
          <a:solidFill>
            <a:srgbClr val="adc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</a:t>
            </a: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55" name="任意多边形 66"/>
          <p:cNvSpPr/>
          <p:nvPr/>
        </p:nvSpPr>
        <p:spPr>
          <a:xfrm rot="19777800">
            <a:off x="2762280" y="3595320"/>
            <a:ext cx="917640" cy="808200"/>
          </a:xfrm>
          <a:prstGeom prst="pie">
            <a:avLst/>
          </a:prstGeom>
          <a:solidFill>
            <a:srgbClr val="adc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新</a:t>
            </a: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56" name="任意多边形 37"/>
          <p:cNvSpPr/>
          <p:nvPr/>
        </p:nvSpPr>
        <p:spPr>
          <a:xfrm rot="19777800">
            <a:off x="4540320" y="2319120"/>
            <a:ext cx="917640" cy="807840"/>
          </a:xfrm>
          <a:prstGeom prst="pie">
            <a:avLst/>
          </a:prstGeom>
          <a:solidFill>
            <a:srgbClr val="adc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检查</a:t>
            </a: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57" name="任意多边形 44"/>
          <p:cNvSpPr/>
          <p:nvPr/>
        </p:nvSpPr>
        <p:spPr>
          <a:xfrm rot="19777800">
            <a:off x="3692160" y="2241360"/>
            <a:ext cx="915840" cy="809280"/>
          </a:xfrm>
          <a:prstGeom prst="pie">
            <a:avLst/>
          </a:prstGeom>
          <a:solidFill>
            <a:srgbClr val="adc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织</a:t>
            </a: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58" name="任意多边形 48"/>
          <p:cNvSpPr/>
          <p:nvPr/>
        </p:nvSpPr>
        <p:spPr>
          <a:xfrm rot="19777800">
            <a:off x="4078440" y="2991960"/>
            <a:ext cx="917280" cy="809640"/>
          </a:xfrm>
          <a:prstGeom prst="pie">
            <a:avLst/>
          </a:prstGeom>
          <a:solidFill>
            <a:srgbClr val="adc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产</a:t>
            </a: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59" name="任意多边形 52"/>
          <p:cNvSpPr/>
          <p:nvPr/>
        </p:nvSpPr>
        <p:spPr>
          <a:xfrm rot="19777800">
            <a:off x="4925880" y="3085920"/>
            <a:ext cx="917640" cy="809280"/>
          </a:xfrm>
          <a:prstGeom prst="pie">
            <a:avLst/>
          </a:prstGeom>
          <a:solidFill>
            <a:srgbClr val="adc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维护</a:t>
            </a: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60" name="任意多边形 56"/>
          <p:cNvSpPr/>
          <p:nvPr/>
        </p:nvSpPr>
        <p:spPr>
          <a:xfrm rot="19777800">
            <a:off x="3220560" y="2916000"/>
            <a:ext cx="916200" cy="809640"/>
          </a:xfrm>
          <a:prstGeom prst="pie">
            <a:avLst/>
          </a:prstGeom>
          <a:solidFill>
            <a:srgbClr val="adc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促进</a:t>
            </a: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61" name="任意多边形 60"/>
          <p:cNvSpPr/>
          <p:nvPr/>
        </p:nvSpPr>
        <p:spPr>
          <a:xfrm rot="19777800">
            <a:off x="3619440" y="3673080"/>
            <a:ext cx="917640" cy="809640"/>
          </a:xfrm>
          <a:prstGeom prst="pie">
            <a:avLst/>
          </a:prstGeom>
          <a:solidFill>
            <a:srgbClr val="adc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</a:t>
            </a: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62" name="任意多边形 64"/>
          <p:cNvSpPr/>
          <p:nvPr/>
        </p:nvSpPr>
        <p:spPr>
          <a:xfrm rot="19777800">
            <a:off x="2370240" y="2849040"/>
            <a:ext cx="917640" cy="809640"/>
          </a:xfrm>
          <a:prstGeom prst="pie">
            <a:avLst/>
          </a:prstGeom>
          <a:solidFill>
            <a:srgbClr val="adc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2160" y="101160"/>
            <a:ext cx="111618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66718"/>
                </a:solidFill>
                <a:latin typeface="黑体"/>
              </a:rPr>
              <a:t>如何承担我们的责任</a:t>
            </a:r>
            <a:endParaRPr b="1" lang="en-US" sz="3200" spc="-1" strike="noStrike">
              <a:solidFill>
                <a:srgbClr val="566718"/>
              </a:solidFill>
              <a:latin typeface="黑体"/>
            </a:endParaRPr>
          </a:p>
        </p:txBody>
      </p:sp>
    </p:spTree>
  </p:cSld>
  <p:transition spd="slow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8bdc1"/>
                                      </p:to>
                                    </p:animClr>
                                    <p:set>
                                      <p:cBhvr>
                                        <p:cTn id="26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8bdc1"/>
                                      </p:to>
                                    </p:animClr>
                                    <p:set>
                                      <p:cBhvr>
                                        <p:cTn id="27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8bdc1"/>
                                      </p:to>
                                    </p:animClr>
                                    <p:set>
                                      <p:cBhvr>
                                        <p:cTn id="27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8bdc1"/>
                                      </p:to>
                                    </p:animClr>
                                    <p:set>
                                      <p:cBhvr>
                                        <p:cTn id="27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8bdc1"/>
                                      </p:to>
                                    </p:animClr>
                                    <p:set>
                                      <p:cBhvr>
                                        <p:cTn id="27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8bdc1"/>
                                      </p:to>
                                    </p:animClr>
                                    <p:set>
                                      <p:cBhvr>
                                        <p:cTn id="28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8bdc1"/>
                                      </p:to>
                                    </p:animClr>
                                    <p:set>
                                      <p:cBhvr>
                                        <p:cTn id="28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8bdc1"/>
                                      </p:to>
                                    </p:animClr>
                                    <p:set>
                                      <p:cBhvr>
                                        <p:cTn id="28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8bdc1"/>
                                      </p:to>
                                    </p:animClr>
                                    <p:set>
                                      <p:cBhvr>
                                        <p:cTn id="29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8bdc1"/>
                                      </p:to>
                                    </p:animClr>
                                    <p:set>
                                      <p:cBhvr>
                                        <p:cTn id="29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8bdc1"/>
                                      </p:to>
                                    </p:animClr>
                                    <p:set>
                                      <p:cBhvr>
                                        <p:cTn id="29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8bdc1"/>
                                      </p:to>
                                    </p:animClr>
                                    <p:set>
                                      <p:cBhvr>
                                        <p:cTn id="30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82C1-3161-4E91-9C07-140988852B57}" type="slidenum">
              <a:rPr b="0" lang="zh-CN" sz="1200" spc="-1" strike="noStrike">
                <a:solidFill>
                  <a:srgbClr val="93949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65" name="文本框 75"/>
          <p:cNvSpPr/>
          <p:nvPr/>
        </p:nvSpPr>
        <p:spPr>
          <a:xfrm>
            <a:off x="6692760" y="4457880"/>
            <a:ext cx="334656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5a5a5"/>
                </a:solidFill>
                <a:latin typeface="幼圆"/>
                <a:ea typeface="幼圆"/>
              </a:rPr>
              <a:t>我们会用业绩来说明，我们是公司需要的！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grpSp>
        <p:nvGrpSpPr>
          <p:cNvPr id="166" name="组合 1"/>
          <p:cNvGrpSpPr/>
          <p:nvPr/>
        </p:nvGrpSpPr>
        <p:grpSpPr>
          <a:xfrm>
            <a:off x="2851200" y="2119320"/>
            <a:ext cx="6713640" cy="3862440"/>
            <a:chOff x="2851200" y="2119320"/>
            <a:chExt cx="6713640" cy="3862440"/>
          </a:xfrm>
        </p:grpSpPr>
        <p:sp>
          <p:nvSpPr>
            <p:cNvPr id="167" name="Freeform 7"/>
            <p:cNvSpPr/>
            <p:nvPr/>
          </p:nvSpPr>
          <p:spPr>
            <a:xfrm>
              <a:off x="2851200" y="2547720"/>
              <a:ext cx="4927680" cy="3434040"/>
            </a:xfrm>
            <a:custGeom>
              <a:avLst/>
              <a:gdLst>
                <a:gd name="textAreaLeft" fmla="*/ 0 w 4927680"/>
                <a:gd name="textAreaRight" fmla="*/ 4928040 w 4927680"/>
                <a:gd name="textAreaTop" fmla="*/ 0 h 3434040"/>
                <a:gd name="textAreaBottom" fmla="*/ 3434400 h 3434040"/>
              </a:gdLst>
              <a:ahLst/>
              <a:rect l="textAreaLeft" t="textAreaTop" r="textAreaRight" b="textAreaBottom"/>
              <a:pathLst>
                <a:path w="625" h="495">
                  <a:moveTo>
                    <a:pt x="0" y="455"/>
                  </a:moveTo>
                  <a:lnTo>
                    <a:pt x="117" y="455"/>
                  </a:lnTo>
                  <a:lnTo>
                    <a:pt x="117" y="378"/>
                  </a:lnTo>
                  <a:lnTo>
                    <a:pt x="117" y="337"/>
                  </a:lnTo>
                  <a:lnTo>
                    <a:pt x="158" y="337"/>
                  </a:lnTo>
                  <a:lnTo>
                    <a:pt x="235" y="337"/>
                  </a:lnTo>
                  <a:lnTo>
                    <a:pt x="235" y="260"/>
                  </a:lnTo>
                  <a:lnTo>
                    <a:pt x="235" y="219"/>
                  </a:lnTo>
                  <a:lnTo>
                    <a:pt x="276" y="219"/>
                  </a:lnTo>
                  <a:lnTo>
                    <a:pt x="353" y="219"/>
                  </a:lnTo>
                  <a:lnTo>
                    <a:pt x="353" y="142"/>
                  </a:lnTo>
                  <a:lnTo>
                    <a:pt x="353" y="101"/>
                  </a:lnTo>
                  <a:lnTo>
                    <a:pt x="394" y="101"/>
                  </a:lnTo>
                  <a:lnTo>
                    <a:pt x="495" y="101"/>
                  </a:lnTo>
                  <a:lnTo>
                    <a:pt x="568" y="29"/>
                  </a:lnTo>
                  <a:lnTo>
                    <a:pt x="560" y="21"/>
                  </a:lnTo>
                  <a:lnTo>
                    <a:pt x="593" y="10"/>
                  </a:lnTo>
                  <a:lnTo>
                    <a:pt x="625" y="0"/>
                  </a:lnTo>
                  <a:lnTo>
                    <a:pt x="615" y="32"/>
                  </a:lnTo>
                  <a:lnTo>
                    <a:pt x="604" y="65"/>
                  </a:lnTo>
                  <a:lnTo>
                    <a:pt x="596" y="57"/>
                  </a:lnTo>
                  <a:lnTo>
                    <a:pt x="512" y="142"/>
                  </a:lnTo>
                  <a:lnTo>
                    <a:pt x="394" y="142"/>
                  </a:lnTo>
                  <a:lnTo>
                    <a:pt x="394" y="219"/>
                  </a:lnTo>
                  <a:lnTo>
                    <a:pt x="394" y="260"/>
                  </a:lnTo>
                  <a:lnTo>
                    <a:pt x="353" y="260"/>
                  </a:lnTo>
                  <a:lnTo>
                    <a:pt x="276" y="260"/>
                  </a:lnTo>
                  <a:lnTo>
                    <a:pt x="276" y="337"/>
                  </a:lnTo>
                  <a:lnTo>
                    <a:pt x="276" y="378"/>
                  </a:lnTo>
                  <a:lnTo>
                    <a:pt x="235" y="378"/>
                  </a:lnTo>
                  <a:lnTo>
                    <a:pt x="158" y="378"/>
                  </a:lnTo>
                  <a:lnTo>
                    <a:pt x="158" y="455"/>
                  </a:lnTo>
                  <a:lnTo>
                    <a:pt x="158" y="495"/>
                  </a:lnTo>
                  <a:lnTo>
                    <a:pt x="117" y="495"/>
                  </a:lnTo>
                  <a:lnTo>
                    <a:pt x="0" y="495"/>
                  </a:lnTo>
                  <a:lnTo>
                    <a:pt x="0" y="455"/>
                  </a:lnTo>
                </a:path>
              </a:pathLst>
            </a:custGeom>
            <a:solidFill>
              <a:srgbClr val="adc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168" name="文本框 67"/>
            <p:cNvSpPr/>
            <p:nvPr/>
          </p:nvSpPr>
          <p:spPr>
            <a:xfrm>
              <a:off x="2851200" y="5194440"/>
              <a:ext cx="92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5888a"/>
                  </a:solidFill>
                  <a:latin typeface="Arial Black"/>
                  <a:ea typeface="微软雅黑"/>
                </a:rPr>
                <a:t>10</a:t>
              </a:r>
              <a:r>
                <a:rPr b="0" lang="zh-CN" sz="1600" spc="-1" strike="noStrike">
                  <a:solidFill>
                    <a:srgbClr val="85888a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169" name="文本框 71"/>
            <p:cNvSpPr/>
            <p:nvPr/>
          </p:nvSpPr>
          <p:spPr>
            <a:xfrm>
              <a:off x="3771720" y="4381560"/>
              <a:ext cx="92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5888a"/>
                  </a:solidFill>
                  <a:latin typeface="Arial Black"/>
                  <a:ea typeface="微软雅黑"/>
                </a:rPr>
                <a:t>30</a:t>
              </a:r>
              <a:r>
                <a:rPr b="0" lang="zh-CN" sz="1600" spc="-1" strike="noStrike">
                  <a:solidFill>
                    <a:srgbClr val="85888a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170" name="文本框 72"/>
            <p:cNvSpPr/>
            <p:nvPr/>
          </p:nvSpPr>
          <p:spPr>
            <a:xfrm>
              <a:off x="4705200" y="3556080"/>
              <a:ext cx="92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5888a"/>
                  </a:solidFill>
                  <a:latin typeface="Arial Black"/>
                  <a:ea typeface="微软雅黑"/>
                </a:rPr>
                <a:t>50</a:t>
              </a:r>
              <a:r>
                <a:rPr b="0" lang="zh-CN" sz="1600" spc="-1" strike="noStrike">
                  <a:solidFill>
                    <a:srgbClr val="85888a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171" name="文本框 73"/>
            <p:cNvSpPr/>
            <p:nvPr/>
          </p:nvSpPr>
          <p:spPr>
            <a:xfrm>
              <a:off x="5626080" y="2744640"/>
              <a:ext cx="92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5888a"/>
                  </a:solidFill>
                  <a:latin typeface="Arial Black"/>
                  <a:ea typeface="微软雅黑"/>
                </a:rPr>
                <a:t>80</a:t>
              </a:r>
              <a:r>
                <a:rPr b="0" lang="zh-CN" sz="1600" spc="-1" strike="noStrike">
                  <a:solidFill>
                    <a:srgbClr val="85888a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172" name="文本框 74"/>
            <p:cNvSpPr/>
            <p:nvPr/>
          </p:nvSpPr>
          <p:spPr>
            <a:xfrm>
              <a:off x="7778880" y="2119320"/>
              <a:ext cx="178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85888a"/>
                  </a:solidFill>
                  <a:latin typeface="微软雅黑"/>
                  <a:ea typeface="微软雅黑"/>
                </a:rPr>
                <a:t>突破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 Black"/>
                  <a:ea typeface="微软雅黑"/>
                </a:rPr>
                <a:t>100</a:t>
              </a:r>
              <a:r>
                <a:rPr b="0" lang="zh-CN" sz="1600" spc="-1" strike="noStrike">
                  <a:solidFill>
                    <a:srgbClr val="85888a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47494b"/>
                </a:solidFill>
                <a:latin typeface="Arial"/>
              </a:endParaRPr>
            </a:p>
          </p:txBody>
        </p:sp>
      </p:grpSp>
      <p:sp>
        <p:nvSpPr>
          <p:cNvPr id="173" name="矩形 2"/>
          <p:cNvSpPr/>
          <p:nvPr/>
        </p:nvSpPr>
        <p:spPr>
          <a:xfrm flipV="1">
            <a:off x="6692760" y="5934960"/>
            <a:ext cx="3975120" cy="73080"/>
          </a:xfrm>
          <a:prstGeom prst="rect">
            <a:avLst/>
          </a:prstGeom>
          <a:solidFill>
            <a:srgbClr val="adc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2160" y="101160"/>
            <a:ext cx="111618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66718"/>
                </a:solidFill>
                <a:latin typeface="黑体"/>
              </a:rPr>
              <a:t>四、我们的未来</a:t>
            </a:r>
            <a:endParaRPr b="1" lang="en-US" sz="3200" spc="-1" strike="noStrike">
              <a:solidFill>
                <a:srgbClr val="566718"/>
              </a:solidFill>
              <a:latin typeface="黑体"/>
            </a:endParaRPr>
          </a:p>
        </p:txBody>
      </p:sp>
    </p:spTree>
  </p:cSld>
  <p:transition spd="slow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2CF8-B393-43D9-9932-D73BCC549F2A}" type="slidenum">
              <a:rPr b="0" lang="zh-CN" sz="1200" spc="-1" strike="noStrike">
                <a:solidFill>
                  <a:srgbClr val="93949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5916600" y="3375000"/>
            <a:ext cx="3081240" cy="1044720"/>
          </a:xfrm>
          <a:prstGeom prst="rect">
            <a:avLst/>
          </a:prstGeom>
          <a:solidFill>
            <a:srgbClr val="e2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0a3a6"/>
                </a:solidFill>
                <a:latin typeface="幼圆"/>
                <a:ea typeface="幼圆"/>
              </a:rPr>
              <a:t>广告人力资源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6510240" y="4583160"/>
            <a:ext cx="2487600" cy="1042920"/>
          </a:xfrm>
          <a:prstGeom prst="rect">
            <a:avLst/>
          </a:prstGeom>
          <a:solidFill>
            <a:srgbClr val="eef5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0a3a6"/>
                </a:solidFill>
                <a:latin typeface="幼圆"/>
                <a:ea typeface="幼圆"/>
              </a:rPr>
              <a:t>生产人力资源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5234040" y="2165400"/>
            <a:ext cx="3763800" cy="1042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0a3a6"/>
                </a:solidFill>
                <a:latin typeface="幼圆"/>
                <a:ea typeface="幼圆"/>
              </a:rPr>
              <a:t>创意人力资源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79" name="Freeform 6"/>
          <p:cNvSpPr/>
          <p:nvPr/>
        </p:nvSpPr>
        <p:spPr>
          <a:xfrm>
            <a:off x="4645080" y="2165400"/>
            <a:ext cx="1203120" cy="103968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  <a:ea typeface="宋体"/>
              </a:rPr>
              <a:t>1</a:t>
            </a:r>
            <a:endParaRPr b="0" lang="en-US" sz="3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80" name="Freeform 7"/>
          <p:cNvSpPr/>
          <p:nvPr/>
        </p:nvSpPr>
        <p:spPr>
          <a:xfrm>
            <a:off x="5315040" y="3382920"/>
            <a:ext cx="1193760" cy="1035000"/>
          </a:xfrm>
          <a:custGeom>
            <a:avLst/>
            <a:gdLst>
              <a:gd name="textAreaLeft" fmla="*/ 0 w 1193760"/>
              <a:gd name="textAreaRight" fmla="*/ 1193760 w 119376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709" h="614">
                <a:moveTo>
                  <a:pt x="0" y="614"/>
                </a:moveTo>
                <a:lnTo>
                  <a:pt x="355" y="0"/>
                </a:lnTo>
                <a:lnTo>
                  <a:pt x="709" y="614"/>
                </a:lnTo>
                <a:lnTo>
                  <a:pt x="0" y="614"/>
                </a:lnTo>
                <a:close/>
              </a:path>
            </a:pathLst>
          </a:custGeom>
          <a:solidFill>
            <a:srgbClr val="78b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81" name="Freeform 8"/>
          <p:cNvSpPr/>
          <p:nvPr/>
        </p:nvSpPr>
        <p:spPr>
          <a:xfrm>
            <a:off x="3274920" y="4584600"/>
            <a:ext cx="1790640" cy="1035000"/>
          </a:xfrm>
          <a:prstGeom prst="pie">
            <a:avLst/>
          </a:prstGeom>
          <a:solidFill>
            <a:srgbClr val="adc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  <a:ea typeface="微软雅黑"/>
              </a:rPr>
              <a:t>3</a:t>
            </a:r>
            <a:endParaRPr b="0" lang="en-US" sz="3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82" name="Freeform 9"/>
          <p:cNvSpPr/>
          <p:nvPr/>
        </p:nvSpPr>
        <p:spPr>
          <a:xfrm>
            <a:off x="3957480" y="3382920"/>
            <a:ext cx="1785960" cy="1035000"/>
          </a:xfrm>
          <a:prstGeom prst="pie">
            <a:avLst/>
          </a:prstGeom>
          <a:solidFill>
            <a:srgbClr val="78b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  <a:ea typeface="微软雅黑"/>
              </a:rPr>
              <a:t>2</a:t>
            </a:r>
            <a:endParaRPr b="0" lang="en-US" sz="3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83" name="Freeform 10"/>
          <p:cNvSpPr/>
          <p:nvPr/>
        </p:nvSpPr>
        <p:spPr>
          <a:xfrm>
            <a:off x="4645080" y="4584600"/>
            <a:ext cx="2509920" cy="104004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1489" h="617">
                <a:moveTo>
                  <a:pt x="1137" y="0"/>
                </a:moveTo>
                <a:lnTo>
                  <a:pt x="360" y="0"/>
                </a:lnTo>
                <a:lnTo>
                  <a:pt x="355" y="0"/>
                </a:lnTo>
                <a:lnTo>
                  <a:pt x="0" y="617"/>
                </a:lnTo>
                <a:lnTo>
                  <a:pt x="709" y="617"/>
                </a:lnTo>
                <a:lnTo>
                  <a:pt x="714" y="617"/>
                </a:lnTo>
                <a:lnTo>
                  <a:pt x="1489" y="617"/>
                </a:lnTo>
                <a:lnTo>
                  <a:pt x="1137" y="0"/>
                </a:lnTo>
                <a:close/>
              </a:path>
            </a:pathLst>
          </a:custGeom>
          <a:solidFill>
            <a:srgbClr val="adc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2160" y="101160"/>
            <a:ext cx="111618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66718"/>
                </a:solidFill>
                <a:latin typeface="黑体"/>
              </a:rPr>
              <a:t>未来市场分层</a:t>
            </a:r>
            <a:endParaRPr b="1" lang="en-US" sz="3200" spc="-1" strike="noStrike">
              <a:solidFill>
                <a:srgbClr val="566718"/>
              </a:solidFill>
              <a:latin typeface="黑体"/>
            </a:endParaRPr>
          </a:p>
        </p:txBody>
      </p:sp>
    </p:spTree>
  </p:cSld>
  <p:transition spd="slow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09:53:00Z</dcterms:created>
  <dc:creator>www.pptbz.com</dc:creator>
  <dc:description/>
  <cp:keywords/>
  <dc:language>en-US</dc:language>
  <cp:lastModifiedBy>王玉清</cp:lastModifiedBy>
  <dcterms:modified xsi:type="dcterms:W3CDTF">2016-03-06T03:31:29Z</dcterms:modified>
  <cp:revision>17</cp:revision>
  <dc:subject/>
  <dc:title>山东雅达节能建材科技有限公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5</vt:lpwstr>
  </property>
</Properties>
</file>