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414-AD13-41BE-A957-C73DDD8E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BA2-7598-40D0-8C46-2E3F4BEC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49A0-E964-4FB1-BFE1-2756B75E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170-5777-49BA-A283-E9A8559B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D207-7C44-47B6-B32B-D900C18B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06E0-F034-4316-94C3-1C832F3E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02BE-170B-4F5F-A396-3D2897E7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5AAB-4E14-489D-8903-3BAAF085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4F20-CB44-4585-979B-8E496EB6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937E-95EC-4A68-9781-F42698AF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5B95-CE15-4604-A563-1DDDA4AA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16F-A057-4A6A-9B83-7F011A57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E5DE-5CEE-48AD-B85F-E982029C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8CEF-0FE7-44F0-9F1E-CB62E870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4E3A-2733-4A8E-88B1-C9E6DA24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5203-C10B-4071-A03E-C0FA8AE2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675B-E84D-4477-9748-AB289D39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1EA-9809-4156-BCFD-043F8229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44C-F873-428D-B5E7-5118E159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9C6-DF81-48C5-873A-740AD453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6E3-9637-4267-AEC7-DC7005A7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5D6E-3443-4950-A0BF-2E5FDFDF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B44-E542-4E61-AF9C-91379414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B4A8-3264-4720-A2C9-CF694580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4E0E-C75F-49DD-AF5A-413D046A72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F48C-ABFB-4495-856C-F6B32333C9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0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856"/>
          <p:cNvSpPr/>
          <p:nvPr/>
        </p:nvSpPr>
        <p:spPr>
          <a:xfrm>
            <a:off x="-73080" y="1206360"/>
            <a:ext cx="4156200" cy="1739880"/>
          </a:xfrm>
          <a:custGeom>
            <a:avLst/>
            <a:gdLst>
              <a:gd name="textAreaLeft" fmla="*/ 0 w 4156200"/>
              <a:gd name="textAreaRight" fmla="*/ 4156560 w 4156200"/>
              <a:gd name="textAreaTop" fmla="*/ 0 h 1739880"/>
              <a:gd name="textAreaBottom" fmla="*/ 1740240 h 1739880"/>
            </a:gdLst>
            <a:ahLst/>
            <a:rect l="textAreaLeft" t="textAreaTop" r="textAreaRight" b="textAreaBottom"/>
            <a:pathLst>
              <a:path w="2618" h="1096">
                <a:moveTo>
                  <a:pt x="208" y="1096"/>
                </a:moveTo>
                <a:cubicBezTo>
                  <a:pt x="175" y="1063"/>
                  <a:pt x="24" y="1062"/>
                  <a:pt x="12" y="900"/>
                </a:cubicBezTo>
                <a:cubicBezTo>
                  <a:pt x="0" y="738"/>
                  <a:pt x="110" y="668"/>
                  <a:pt x="169" y="670"/>
                </a:cubicBezTo>
                <a:cubicBezTo>
                  <a:pt x="136" y="606"/>
                  <a:pt x="197" y="546"/>
                  <a:pt x="247" y="521"/>
                </a:cubicBezTo>
                <a:cubicBezTo>
                  <a:pt x="296" y="496"/>
                  <a:pt x="373" y="488"/>
                  <a:pt x="465" y="520"/>
                </a:cubicBezTo>
                <a:cubicBezTo>
                  <a:pt x="421" y="428"/>
                  <a:pt x="485" y="351"/>
                  <a:pt x="557" y="310"/>
                </a:cubicBezTo>
                <a:cubicBezTo>
                  <a:pt x="630" y="270"/>
                  <a:pt x="791" y="265"/>
                  <a:pt x="854" y="311"/>
                </a:cubicBezTo>
                <a:cubicBezTo>
                  <a:pt x="854" y="265"/>
                  <a:pt x="898" y="218"/>
                  <a:pt x="939" y="207"/>
                </a:cubicBezTo>
                <a:cubicBezTo>
                  <a:pt x="980" y="196"/>
                  <a:pt x="1029" y="193"/>
                  <a:pt x="1100" y="232"/>
                </a:cubicBezTo>
                <a:cubicBezTo>
                  <a:pt x="1100" y="177"/>
                  <a:pt x="1156" y="50"/>
                  <a:pt x="1292" y="25"/>
                </a:cubicBezTo>
                <a:cubicBezTo>
                  <a:pt x="1428" y="0"/>
                  <a:pt x="1522" y="81"/>
                  <a:pt x="1562" y="159"/>
                </a:cubicBezTo>
                <a:cubicBezTo>
                  <a:pt x="1639" y="134"/>
                  <a:pt x="1720" y="178"/>
                  <a:pt x="1752" y="208"/>
                </a:cubicBezTo>
                <a:cubicBezTo>
                  <a:pt x="1783" y="238"/>
                  <a:pt x="1807" y="309"/>
                  <a:pt x="1764" y="358"/>
                </a:cubicBezTo>
                <a:cubicBezTo>
                  <a:pt x="1802" y="337"/>
                  <a:pt x="1854" y="350"/>
                  <a:pt x="1878" y="369"/>
                </a:cubicBezTo>
                <a:cubicBezTo>
                  <a:pt x="1902" y="387"/>
                  <a:pt x="1920" y="428"/>
                  <a:pt x="1901" y="461"/>
                </a:cubicBezTo>
                <a:cubicBezTo>
                  <a:pt x="1999" y="418"/>
                  <a:pt x="2154" y="456"/>
                  <a:pt x="2226" y="510"/>
                </a:cubicBezTo>
                <a:cubicBezTo>
                  <a:pt x="2298" y="564"/>
                  <a:pt x="2329" y="686"/>
                  <a:pt x="2322" y="766"/>
                </a:cubicBezTo>
                <a:cubicBezTo>
                  <a:pt x="2365" y="751"/>
                  <a:pt x="2400" y="748"/>
                  <a:pt x="2441" y="765"/>
                </a:cubicBezTo>
                <a:cubicBezTo>
                  <a:pt x="2483" y="782"/>
                  <a:pt x="2501" y="814"/>
                  <a:pt x="2507" y="849"/>
                </a:cubicBezTo>
                <a:cubicBezTo>
                  <a:pt x="2615" y="852"/>
                  <a:pt x="2600" y="1039"/>
                  <a:pt x="2618" y="1077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823"/>
          <p:cNvSpPr/>
          <p:nvPr/>
        </p:nvSpPr>
        <p:spPr>
          <a:xfrm>
            <a:off x="-797040" y="2070000"/>
            <a:ext cx="3727440" cy="1486080"/>
          </a:xfrm>
          <a:custGeom>
            <a:avLst/>
            <a:gdLst>
              <a:gd name="textAreaLeft" fmla="*/ 0 w 3727440"/>
              <a:gd name="textAreaRight" fmla="*/ 3727800 w 372744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2348" h="936">
                <a:moveTo>
                  <a:pt x="329" y="342"/>
                </a:moveTo>
                <a:cubicBezTo>
                  <a:pt x="351" y="251"/>
                  <a:pt x="459" y="197"/>
                  <a:pt x="519" y="200"/>
                </a:cubicBezTo>
                <a:cubicBezTo>
                  <a:pt x="579" y="203"/>
                  <a:pt x="630" y="218"/>
                  <a:pt x="673" y="254"/>
                </a:cubicBezTo>
                <a:cubicBezTo>
                  <a:pt x="714" y="182"/>
                  <a:pt x="762" y="83"/>
                  <a:pt x="894" y="62"/>
                </a:cubicBezTo>
                <a:cubicBezTo>
                  <a:pt x="1026" y="41"/>
                  <a:pt x="1098" y="152"/>
                  <a:pt x="1145" y="206"/>
                </a:cubicBezTo>
                <a:cubicBezTo>
                  <a:pt x="1179" y="164"/>
                  <a:pt x="1183" y="142"/>
                  <a:pt x="1237" y="130"/>
                </a:cubicBezTo>
                <a:cubicBezTo>
                  <a:pt x="1291" y="118"/>
                  <a:pt x="1314" y="149"/>
                  <a:pt x="1353" y="182"/>
                </a:cubicBezTo>
                <a:cubicBezTo>
                  <a:pt x="1377" y="107"/>
                  <a:pt x="1462" y="12"/>
                  <a:pt x="1633" y="6"/>
                </a:cubicBezTo>
                <a:cubicBezTo>
                  <a:pt x="1804" y="0"/>
                  <a:pt x="1881" y="166"/>
                  <a:pt x="1921" y="246"/>
                </a:cubicBezTo>
                <a:cubicBezTo>
                  <a:pt x="1990" y="253"/>
                  <a:pt x="2023" y="249"/>
                  <a:pt x="2068" y="291"/>
                </a:cubicBezTo>
                <a:cubicBezTo>
                  <a:pt x="2113" y="333"/>
                  <a:pt x="2124" y="379"/>
                  <a:pt x="2120" y="443"/>
                </a:cubicBezTo>
                <a:cubicBezTo>
                  <a:pt x="2174" y="439"/>
                  <a:pt x="2256" y="478"/>
                  <a:pt x="2295" y="521"/>
                </a:cubicBezTo>
                <a:cubicBezTo>
                  <a:pt x="2334" y="564"/>
                  <a:pt x="2348" y="742"/>
                  <a:pt x="2343" y="801"/>
                </a:cubicBezTo>
                <a:cubicBezTo>
                  <a:pt x="2008" y="930"/>
                  <a:pt x="617" y="936"/>
                  <a:pt x="336" y="878"/>
                </a:cubicBezTo>
                <a:cubicBezTo>
                  <a:pt x="0" y="802"/>
                  <a:pt x="331" y="443"/>
                  <a:pt x="329" y="34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853"/>
          <p:cNvSpPr/>
          <p:nvPr/>
        </p:nvSpPr>
        <p:spPr>
          <a:xfrm>
            <a:off x="2878200" y="2502000"/>
            <a:ext cx="2719440" cy="1197000"/>
          </a:xfrm>
          <a:custGeom>
            <a:avLst/>
            <a:gdLst>
              <a:gd name="textAreaLeft" fmla="*/ 0 w 2719440"/>
              <a:gd name="textAreaRight" fmla="*/ 2719800 w 2719440"/>
              <a:gd name="textAreaTop" fmla="*/ 0 h 1197000"/>
              <a:gd name="textAreaBottom" fmla="*/ 1197360 h 1197000"/>
            </a:gdLst>
            <a:ahLst/>
            <a:rect l="textAreaLeft" t="textAreaTop" r="textAreaRight" b="textAreaBottom"/>
            <a:pathLst>
              <a:path w="1713" h="754">
                <a:moveTo>
                  <a:pt x="7" y="748"/>
                </a:moveTo>
                <a:cubicBezTo>
                  <a:pt x="0" y="658"/>
                  <a:pt x="43" y="588"/>
                  <a:pt x="94" y="549"/>
                </a:cubicBezTo>
                <a:cubicBezTo>
                  <a:pt x="145" y="510"/>
                  <a:pt x="253" y="500"/>
                  <a:pt x="300" y="513"/>
                </a:cubicBezTo>
                <a:cubicBezTo>
                  <a:pt x="282" y="447"/>
                  <a:pt x="282" y="369"/>
                  <a:pt x="345" y="303"/>
                </a:cubicBezTo>
                <a:cubicBezTo>
                  <a:pt x="408" y="237"/>
                  <a:pt x="513" y="246"/>
                  <a:pt x="576" y="267"/>
                </a:cubicBezTo>
                <a:cubicBezTo>
                  <a:pt x="582" y="213"/>
                  <a:pt x="602" y="197"/>
                  <a:pt x="623" y="186"/>
                </a:cubicBezTo>
                <a:cubicBezTo>
                  <a:pt x="644" y="175"/>
                  <a:pt x="691" y="164"/>
                  <a:pt x="726" y="201"/>
                </a:cubicBezTo>
                <a:cubicBezTo>
                  <a:pt x="720" y="117"/>
                  <a:pt x="749" y="56"/>
                  <a:pt x="809" y="28"/>
                </a:cubicBezTo>
                <a:cubicBezTo>
                  <a:pt x="869" y="0"/>
                  <a:pt x="965" y="32"/>
                  <a:pt x="993" y="114"/>
                </a:cubicBezTo>
                <a:cubicBezTo>
                  <a:pt x="1032" y="102"/>
                  <a:pt x="1089" y="109"/>
                  <a:pt x="1119" y="145"/>
                </a:cubicBezTo>
                <a:cubicBezTo>
                  <a:pt x="1149" y="181"/>
                  <a:pt x="1164" y="238"/>
                  <a:pt x="1131" y="301"/>
                </a:cubicBezTo>
                <a:cubicBezTo>
                  <a:pt x="1164" y="291"/>
                  <a:pt x="1192" y="303"/>
                  <a:pt x="1211" y="318"/>
                </a:cubicBezTo>
                <a:cubicBezTo>
                  <a:pt x="1230" y="333"/>
                  <a:pt x="1238" y="361"/>
                  <a:pt x="1236" y="395"/>
                </a:cubicBezTo>
                <a:cubicBezTo>
                  <a:pt x="1290" y="379"/>
                  <a:pt x="1383" y="406"/>
                  <a:pt x="1434" y="451"/>
                </a:cubicBezTo>
                <a:cubicBezTo>
                  <a:pt x="1485" y="496"/>
                  <a:pt x="1514" y="554"/>
                  <a:pt x="1515" y="628"/>
                </a:cubicBezTo>
                <a:cubicBezTo>
                  <a:pt x="1572" y="610"/>
                  <a:pt x="1676" y="643"/>
                  <a:pt x="1713" y="730"/>
                </a:cubicBezTo>
                <a:cubicBezTo>
                  <a:pt x="1608" y="733"/>
                  <a:pt x="99" y="754"/>
                  <a:pt x="7" y="74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854"/>
          <p:cNvSpPr/>
          <p:nvPr/>
        </p:nvSpPr>
        <p:spPr>
          <a:xfrm>
            <a:off x="4930920" y="1854360"/>
            <a:ext cx="4381200" cy="1346040"/>
          </a:xfrm>
          <a:custGeom>
            <a:avLst/>
            <a:gdLst>
              <a:gd name="textAreaLeft" fmla="*/ 0 w 4381200"/>
              <a:gd name="textAreaRight" fmla="*/ 4381560 w 4381200"/>
              <a:gd name="textAreaTop" fmla="*/ 0 h 1346040"/>
              <a:gd name="textAreaBottom" fmla="*/ 1346040 h 1346040"/>
            </a:gdLst>
            <a:ahLst/>
            <a:rect l="textAreaLeft" t="textAreaTop" r="textAreaRight" b="textAreaBottom"/>
            <a:pathLst>
              <a:path w="2760" h="848">
                <a:moveTo>
                  <a:pt x="0" y="834"/>
                </a:moveTo>
                <a:cubicBezTo>
                  <a:pt x="33" y="699"/>
                  <a:pt x="177" y="641"/>
                  <a:pt x="249" y="622"/>
                </a:cubicBezTo>
                <a:cubicBezTo>
                  <a:pt x="321" y="603"/>
                  <a:pt x="455" y="633"/>
                  <a:pt x="535" y="690"/>
                </a:cubicBezTo>
                <a:cubicBezTo>
                  <a:pt x="577" y="635"/>
                  <a:pt x="634" y="608"/>
                  <a:pt x="679" y="608"/>
                </a:cubicBezTo>
                <a:cubicBezTo>
                  <a:pt x="724" y="608"/>
                  <a:pt x="769" y="647"/>
                  <a:pt x="807" y="690"/>
                </a:cubicBezTo>
                <a:cubicBezTo>
                  <a:pt x="820" y="656"/>
                  <a:pt x="828" y="640"/>
                  <a:pt x="858" y="626"/>
                </a:cubicBezTo>
                <a:cubicBezTo>
                  <a:pt x="888" y="612"/>
                  <a:pt x="913" y="628"/>
                  <a:pt x="943" y="645"/>
                </a:cubicBezTo>
                <a:cubicBezTo>
                  <a:pt x="955" y="616"/>
                  <a:pt x="961" y="601"/>
                  <a:pt x="991" y="583"/>
                </a:cubicBezTo>
                <a:cubicBezTo>
                  <a:pt x="1021" y="565"/>
                  <a:pt x="1060" y="592"/>
                  <a:pt x="1079" y="600"/>
                </a:cubicBezTo>
                <a:cubicBezTo>
                  <a:pt x="1042" y="551"/>
                  <a:pt x="1003" y="462"/>
                  <a:pt x="1050" y="392"/>
                </a:cubicBezTo>
                <a:cubicBezTo>
                  <a:pt x="1097" y="322"/>
                  <a:pt x="1194" y="313"/>
                  <a:pt x="1243" y="338"/>
                </a:cubicBezTo>
                <a:cubicBezTo>
                  <a:pt x="1246" y="299"/>
                  <a:pt x="1275" y="280"/>
                  <a:pt x="1311" y="274"/>
                </a:cubicBezTo>
                <a:cubicBezTo>
                  <a:pt x="1347" y="268"/>
                  <a:pt x="1394" y="292"/>
                  <a:pt x="1405" y="332"/>
                </a:cubicBezTo>
                <a:cubicBezTo>
                  <a:pt x="1414" y="310"/>
                  <a:pt x="1428" y="299"/>
                  <a:pt x="1446" y="299"/>
                </a:cubicBezTo>
                <a:cubicBezTo>
                  <a:pt x="1464" y="299"/>
                  <a:pt x="1483" y="313"/>
                  <a:pt x="1495" y="332"/>
                </a:cubicBezTo>
                <a:cubicBezTo>
                  <a:pt x="1460" y="279"/>
                  <a:pt x="1422" y="138"/>
                  <a:pt x="1519" y="69"/>
                </a:cubicBezTo>
                <a:cubicBezTo>
                  <a:pt x="1616" y="0"/>
                  <a:pt x="1750" y="80"/>
                  <a:pt x="1760" y="146"/>
                </a:cubicBezTo>
                <a:cubicBezTo>
                  <a:pt x="1779" y="101"/>
                  <a:pt x="1843" y="98"/>
                  <a:pt x="1867" y="110"/>
                </a:cubicBezTo>
                <a:cubicBezTo>
                  <a:pt x="1891" y="122"/>
                  <a:pt x="1912" y="133"/>
                  <a:pt x="1927" y="198"/>
                </a:cubicBezTo>
                <a:cubicBezTo>
                  <a:pt x="1960" y="149"/>
                  <a:pt x="2074" y="146"/>
                  <a:pt x="2121" y="192"/>
                </a:cubicBezTo>
                <a:cubicBezTo>
                  <a:pt x="2168" y="238"/>
                  <a:pt x="2174" y="312"/>
                  <a:pt x="2157" y="377"/>
                </a:cubicBezTo>
                <a:cubicBezTo>
                  <a:pt x="2197" y="346"/>
                  <a:pt x="2254" y="343"/>
                  <a:pt x="2284" y="362"/>
                </a:cubicBezTo>
                <a:cubicBezTo>
                  <a:pt x="2314" y="381"/>
                  <a:pt x="2329" y="418"/>
                  <a:pt x="2316" y="472"/>
                </a:cubicBezTo>
                <a:cubicBezTo>
                  <a:pt x="2344" y="463"/>
                  <a:pt x="2367" y="466"/>
                  <a:pt x="2382" y="481"/>
                </a:cubicBezTo>
                <a:cubicBezTo>
                  <a:pt x="2397" y="496"/>
                  <a:pt x="2419" y="526"/>
                  <a:pt x="2408" y="557"/>
                </a:cubicBezTo>
                <a:cubicBezTo>
                  <a:pt x="2492" y="519"/>
                  <a:pt x="2760" y="574"/>
                  <a:pt x="2697" y="848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855"/>
          <p:cNvSpPr/>
          <p:nvPr/>
        </p:nvSpPr>
        <p:spPr>
          <a:xfrm>
            <a:off x="-42840" y="1859040"/>
            <a:ext cx="7391520" cy="415908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4159080"/>
              <a:gd name="textAreaBottom" fmla="*/ 4159440 h 4159080"/>
            </a:gdLst>
            <a:ahLst/>
            <a:rect l="textAreaLeft" t="textAreaTop" r="textAreaRight" b="textAreaBottom"/>
            <a:pathLst>
              <a:path w="4656" h="2620">
                <a:moveTo>
                  <a:pt x="18" y="2611"/>
                </a:moveTo>
                <a:lnTo>
                  <a:pt x="0" y="806"/>
                </a:lnTo>
                <a:lnTo>
                  <a:pt x="440" y="805"/>
                </a:lnTo>
                <a:lnTo>
                  <a:pt x="444" y="1537"/>
                </a:lnTo>
                <a:lnTo>
                  <a:pt x="612" y="1537"/>
                </a:lnTo>
                <a:lnTo>
                  <a:pt x="615" y="1579"/>
                </a:lnTo>
                <a:lnTo>
                  <a:pt x="762" y="1684"/>
                </a:lnTo>
                <a:lnTo>
                  <a:pt x="771" y="1657"/>
                </a:lnTo>
                <a:lnTo>
                  <a:pt x="771" y="1081"/>
                </a:lnTo>
                <a:lnTo>
                  <a:pt x="807" y="1081"/>
                </a:lnTo>
                <a:lnTo>
                  <a:pt x="810" y="1027"/>
                </a:lnTo>
                <a:lnTo>
                  <a:pt x="858" y="1021"/>
                </a:lnTo>
                <a:lnTo>
                  <a:pt x="858" y="985"/>
                </a:lnTo>
                <a:lnTo>
                  <a:pt x="897" y="982"/>
                </a:lnTo>
                <a:lnTo>
                  <a:pt x="930" y="988"/>
                </a:lnTo>
                <a:lnTo>
                  <a:pt x="942" y="1024"/>
                </a:lnTo>
                <a:lnTo>
                  <a:pt x="1071" y="1027"/>
                </a:lnTo>
                <a:lnTo>
                  <a:pt x="1077" y="1072"/>
                </a:lnTo>
                <a:lnTo>
                  <a:pt x="1215" y="1078"/>
                </a:lnTo>
                <a:lnTo>
                  <a:pt x="1218" y="2026"/>
                </a:lnTo>
                <a:lnTo>
                  <a:pt x="1374" y="2026"/>
                </a:lnTo>
                <a:lnTo>
                  <a:pt x="1482" y="1654"/>
                </a:lnTo>
                <a:lnTo>
                  <a:pt x="1482" y="991"/>
                </a:lnTo>
                <a:lnTo>
                  <a:pt x="1512" y="985"/>
                </a:lnTo>
                <a:lnTo>
                  <a:pt x="1512" y="949"/>
                </a:lnTo>
                <a:lnTo>
                  <a:pt x="1560" y="949"/>
                </a:lnTo>
                <a:lnTo>
                  <a:pt x="1563" y="922"/>
                </a:lnTo>
                <a:lnTo>
                  <a:pt x="1602" y="922"/>
                </a:lnTo>
                <a:lnTo>
                  <a:pt x="1602" y="940"/>
                </a:lnTo>
                <a:lnTo>
                  <a:pt x="1680" y="940"/>
                </a:lnTo>
                <a:lnTo>
                  <a:pt x="1692" y="955"/>
                </a:lnTo>
                <a:lnTo>
                  <a:pt x="1788" y="952"/>
                </a:lnTo>
                <a:lnTo>
                  <a:pt x="1899" y="580"/>
                </a:lnTo>
                <a:lnTo>
                  <a:pt x="1899" y="157"/>
                </a:lnTo>
                <a:lnTo>
                  <a:pt x="1884" y="138"/>
                </a:lnTo>
                <a:lnTo>
                  <a:pt x="1887" y="112"/>
                </a:lnTo>
                <a:lnTo>
                  <a:pt x="1902" y="99"/>
                </a:lnTo>
                <a:lnTo>
                  <a:pt x="1901" y="84"/>
                </a:lnTo>
                <a:lnTo>
                  <a:pt x="1940" y="78"/>
                </a:lnTo>
                <a:lnTo>
                  <a:pt x="1943" y="37"/>
                </a:lnTo>
                <a:lnTo>
                  <a:pt x="2043" y="37"/>
                </a:lnTo>
                <a:lnTo>
                  <a:pt x="2042" y="0"/>
                </a:lnTo>
                <a:lnTo>
                  <a:pt x="2094" y="0"/>
                </a:lnTo>
                <a:lnTo>
                  <a:pt x="2099" y="40"/>
                </a:lnTo>
                <a:lnTo>
                  <a:pt x="2183" y="39"/>
                </a:lnTo>
                <a:lnTo>
                  <a:pt x="2189" y="88"/>
                </a:lnTo>
                <a:lnTo>
                  <a:pt x="2226" y="90"/>
                </a:lnTo>
                <a:lnTo>
                  <a:pt x="2226" y="108"/>
                </a:lnTo>
                <a:lnTo>
                  <a:pt x="2244" y="120"/>
                </a:lnTo>
                <a:lnTo>
                  <a:pt x="2243" y="138"/>
                </a:lnTo>
                <a:lnTo>
                  <a:pt x="2226" y="148"/>
                </a:lnTo>
                <a:lnTo>
                  <a:pt x="2228" y="618"/>
                </a:lnTo>
                <a:lnTo>
                  <a:pt x="2228" y="1195"/>
                </a:lnTo>
                <a:lnTo>
                  <a:pt x="2223" y="1530"/>
                </a:lnTo>
                <a:lnTo>
                  <a:pt x="2235" y="1531"/>
                </a:lnTo>
                <a:lnTo>
                  <a:pt x="2324" y="1485"/>
                </a:lnTo>
                <a:lnTo>
                  <a:pt x="2442" y="1488"/>
                </a:lnTo>
                <a:lnTo>
                  <a:pt x="2450" y="1530"/>
                </a:lnTo>
                <a:lnTo>
                  <a:pt x="2559" y="1531"/>
                </a:lnTo>
                <a:lnTo>
                  <a:pt x="2564" y="1882"/>
                </a:lnTo>
                <a:lnTo>
                  <a:pt x="2792" y="1876"/>
                </a:lnTo>
                <a:lnTo>
                  <a:pt x="2792" y="1069"/>
                </a:lnTo>
                <a:lnTo>
                  <a:pt x="2861" y="1054"/>
                </a:lnTo>
                <a:lnTo>
                  <a:pt x="2867" y="1003"/>
                </a:lnTo>
                <a:lnTo>
                  <a:pt x="3125" y="951"/>
                </a:lnTo>
                <a:lnTo>
                  <a:pt x="3126" y="1003"/>
                </a:lnTo>
                <a:lnTo>
                  <a:pt x="3153" y="1003"/>
                </a:lnTo>
                <a:lnTo>
                  <a:pt x="3155" y="979"/>
                </a:lnTo>
                <a:lnTo>
                  <a:pt x="3185" y="978"/>
                </a:lnTo>
                <a:lnTo>
                  <a:pt x="3185" y="1005"/>
                </a:lnTo>
                <a:lnTo>
                  <a:pt x="3287" y="1009"/>
                </a:lnTo>
                <a:lnTo>
                  <a:pt x="3285" y="1059"/>
                </a:lnTo>
                <a:lnTo>
                  <a:pt x="3519" y="1057"/>
                </a:lnTo>
                <a:lnTo>
                  <a:pt x="3521" y="1326"/>
                </a:lnTo>
                <a:lnTo>
                  <a:pt x="3753" y="1327"/>
                </a:lnTo>
                <a:lnTo>
                  <a:pt x="3758" y="1633"/>
                </a:lnTo>
                <a:lnTo>
                  <a:pt x="3909" y="1632"/>
                </a:lnTo>
                <a:lnTo>
                  <a:pt x="3911" y="1602"/>
                </a:lnTo>
                <a:lnTo>
                  <a:pt x="4056" y="1602"/>
                </a:lnTo>
                <a:lnTo>
                  <a:pt x="4055" y="1278"/>
                </a:lnTo>
                <a:lnTo>
                  <a:pt x="4247" y="1125"/>
                </a:lnTo>
                <a:lnTo>
                  <a:pt x="4244" y="754"/>
                </a:lnTo>
                <a:lnTo>
                  <a:pt x="4380" y="754"/>
                </a:lnTo>
                <a:lnTo>
                  <a:pt x="4382" y="672"/>
                </a:lnTo>
                <a:lnTo>
                  <a:pt x="4514" y="670"/>
                </a:lnTo>
                <a:lnTo>
                  <a:pt x="4517" y="619"/>
                </a:lnTo>
                <a:lnTo>
                  <a:pt x="4578" y="622"/>
                </a:lnTo>
                <a:lnTo>
                  <a:pt x="4580" y="670"/>
                </a:lnTo>
                <a:lnTo>
                  <a:pt x="4620" y="670"/>
                </a:lnTo>
                <a:lnTo>
                  <a:pt x="4620" y="753"/>
                </a:lnTo>
                <a:lnTo>
                  <a:pt x="4650" y="751"/>
                </a:lnTo>
                <a:lnTo>
                  <a:pt x="4653" y="1264"/>
                </a:lnTo>
                <a:lnTo>
                  <a:pt x="4656" y="1741"/>
                </a:lnTo>
                <a:lnTo>
                  <a:pt x="4656" y="2451"/>
                </a:lnTo>
                <a:lnTo>
                  <a:pt x="14" y="2620"/>
                </a:lnTo>
                <a:lnTo>
                  <a:pt x="18" y="261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6"/>
          <p:cNvSpPr/>
          <p:nvPr/>
        </p:nvSpPr>
        <p:spPr>
          <a:xfrm flipH="1">
            <a:off x="659880" y="3141720"/>
            <a:ext cx="1800" cy="11714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8"/>
          <p:cNvSpPr/>
          <p:nvPr/>
        </p:nvSpPr>
        <p:spPr>
          <a:xfrm>
            <a:off x="646200" y="4302000"/>
            <a:ext cx="534960" cy="241560"/>
          </a:xfrm>
          <a:custGeom>
            <a:avLst/>
            <a:gdLst>
              <a:gd name="textAreaLeft" fmla="*/ 0 w 534960"/>
              <a:gd name="textAreaRight" fmla="*/ 535320 w 5349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337" h="152">
                <a:moveTo>
                  <a:pt x="0" y="0"/>
                </a:moveTo>
                <a:lnTo>
                  <a:pt x="182" y="0"/>
                </a:lnTo>
                <a:lnTo>
                  <a:pt x="182" y="46"/>
                </a:lnTo>
                <a:lnTo>
                  <a:pt x="337" y="152"/>
                </a:lnTo>
                <a:lnTo>
                  <a:pt x="337" y="13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69"/>
          <p:cNvSpPr/>
          <p:nvPr/>
        </p:nvSpPr>
        <p:spPr>
          <a:xfrm>
            <a:off x="1184400" y="3416400"/>
            <a:ext cx="199800" cy="1111320"/>
          </a:xfrm>
          <a:custGeom>
            <a:avLst/>
            <a:gdLst>
              <a:gd name="textAreaLeft" fmla="*/ 0 w 199800"/>
              <a:gd name="textAreaRight" fmla="*/ 200160 w 199800"/>
              <a:gd name="textAreaTop" fmla="*/ 0 h 1111320"/>
              <a:gd name="textAreaBottom" fmla="*/ 1111320 h 1111320"/>
            </a:gdLst>
            <a:ahLst/>
            <a:rect l="textAreaLeft" t="textAreaTop" r="textAreaRight" b="textAreaBottom"/>
            <a:pathLst>
              <a:path w="126" h="700">
                <a:moveTo>
                  <a:pt x="0" y="700"/>
                </a:moveTo>
                <a:lnTo>
                  <a:pt x="0" y="102"/>
                </a:lnTo>
                <a:lnTo>
                  <a:pt x="40" y="103"/>
                </a:lnTo>
                <a:lnTo>
                  <a:pt x="40" y="46"/>
                </a:lnTo>
                <a:lnTo>
                  <a:pt x="88" y="46"/>
                </a:lnTo>
                <a:lnTo>
                  <a:pt x="88" y="0"/>
                </a:lnTo>
                <a:lnTo>
                  <a:pt x="126" y="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70"/>
          <p:cNvSpPr/>
          <p:nvPr/>
        </p:nvSpPr>
        <p:spPr>
          <a:xfrm>
            <a:off x="1371600" y="3009960"/>
            <a:ext cx="30240" cy="417600"/>
          </a:xfrm>
          <a:custGeom>
            <a:avLst/>
            <a:gdLst>
              <a:gd name="textAreaLeft" fmla="*/ 0 w 30240"/>
              <a:gd name="textAreaRight" fmla="*/ 30600 w 3024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19" h="263">
                <a:moveTo>
                  <a:pt x="0" y="263"/>
                </a:moveTo>
                <a:lnTo>
                  <a:pt x="10" y="0"/>
                </a:lnTo>
                <a:lnTo>
                  <a:pt x="19" y="263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71"/>
          <p:cNvSpPr/>
          <p:nvPr/>
        </p:nvSpPr>
        <p:spPr>
          <a:xfrm>
            <a:off x="1376280" y="3416400"/>
            <a:ext cx="528840" cy="158760"/>
          </a:xfrm>
          <a:custGeom>
            <a:avLst/>
            <a:gdLst>
              <a:gd name="textAreaLeft" fmla="*/ 0 w 528840"/>
              <a:gd name="textAreaRight" fmla="*/ 529200 w 5288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333" h="100">
                <a:moveTo>
                  <a:pt x="0" y="0"/>
                </a:moveTo>
                <a:lnTo>
                  <a:pt x="45" y="0"/>
                </a:lnTo>
                <a:lnTo>
                  <a:pt x="45" y="45"/>
                </a:lnTo>
                <a:lnTo>
                  <a:pt x="181" y="45"/>
                </a:lnTo>
                <a:lnTo>
                  <a:pt x="180" y="100"/>
                </a:lnTo>
                <a:lnTo>
                  <a:pt x="333" y="97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2"/>
          <p:cNvSpPr/>
          <p:nvPr/>
        </p:nvSpPr>
        <p:spPr>
          <a:xfrm>
            <a:off x="1889280" y="3564000"/>
            <a:ext cx="215640" cy="1511280"/>
          </a:xfrm>
          <a:custGeom>
            <a:avLst/>
            <a:gdLst>
              <a:gd name="textAreaLeft" fmla="*/ 0 w 215640"/>
              <a:gd name="textAreaRight" fmla="*/ 216000 w 21564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136" h="952">
                <a:moveTo>
                  <a:pt x="0" y="0"/>
                </a:moveTo>
                <a:lnTo>
                  <a:pt x="0" y="952"/>
                </a:lnTo>
                <a:lnTo>
                  <a:pt x="136" y="952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4"/>
          <p:cNvSpPr/>
          <p:nvPr/>
        </p:nvSpPr>
        <p:spPr>
          <a:xfrm>
            <a:off x="2060640" y="3416400"/>
            <a:ext cx="247680" cy="1658880"/>
          </a:xfrm>
          <a:custGeom>
            <a:avLst/>
            <a:gdLst>
              <a:gd name="textAreaLeft" fmla="*/ 0 w 247680"/>
              <a:gd name="textAreaRight" fmla="*/ 248040 w 24768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156" h="1045">
                <a:moveTo>
                  <a:pt x="0" y="1045"/>
                </a:moveTo>
                <a:lnTo>
                  <a:pt x="46" y="1045"/>
                </a:lnTo>
                <a:lnTo>
                  <a:pt x="156" y="676"/>
                </a:lnTo>
                <a:lnTo>
                  <a:pt x="154" y="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75"/>
          <p:cNvSpPr/>
          <p:nvPr/>
        </p:nvSpPr>
        <p:spPr>
          <a:xfrm>
            <a:off x="2301840" y="3324240"/>
            <a:ext cx="511200" cy="108000"/>
          </a:xfrm>
          <a:custGeom>
            <a:avLst/>
            <a:gdLst>
              <a:gd name="textAreaLeft" fmla="*/ 0 w 511200"/>
              <a:gd name="textAreaRight" fmla="*/ 511200 w 5112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22" h="68">
                <a:moveTo>
                  <a:pt x="0" y="68"/>
                </a:moveTo>
                <a:lnTo>
                  <a:pt x="34" y="68"/>
                </a:lnTo>
                <a:lnTo>
                  <a:pt x="34" y="28"/>
                </a:lnTo>
                <a:lnTo>
                  <a:pt x="86" y="28"/>
                </a:lnTo>
                <a:lnTo>
                  <a:pt x="86" y="0"/>
                </a:lnTo>
                <a:lnTo>
                  <a:pt x="128" y="0"/>
                </a:lnTo>
                <a:lnTo>
                  <a:pt x="130" y="18"/>
                </a:lnTo>
                <a:lnTo>
                  <a:pt x="208" y="18"/>
                </a:lnTo>
                <a:lnTo>
                  <a:pt x="208" y="32"/>
                </a:lnTo>
                <a:lnTo>
                  <a:pt x="322" y="32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76"/>
          <p:cNvSpPr/>
          <p:nvPr/>
        </p:nvSpPr>
        <p:spPr>
          <a:xfrm>
            <a:off x="2797200" y="1911240"/>
            <a:ext cx="247680" cy="1470240"/>
          </a:xfrm>
          <a:custGeom>
            <a:avLst/>
            <a:gdLst>
              <a:gd name="textAreaLeft" fmla="*/ 0 w 247680"/>
              <a:gd name="textAreaRight" fmla="*/ 248040 w 247680"/>
              <a:gd name="textAreaTop" fmla="*/ 0 h 1470240"/>
              <a:gd name="textAreaBottom" fmla="*/ 1470600 h 1470240"/>
            </a:gdLst>
            <a:ahLst/>
            <a:rect l="textAreaLeft" t="textAreaTop" r="textAreaRight" b="textAreaBottom"/>
            <a:pathLst>
              <a:path w="156" h="926">
                <a:moveTo>
                  <a:pt x="0" y="926"/>
                </a:moveTo>
                <a:lnTo>
                  <a:pt x="112" y="552"/>
                </a:lnTo>
                <a:lnTo>
                  <a:pt x="112" y="118"/>
                </a:lnTo>
                <a:lnTo>
                  <a:pt x="100" y="110"/>
                </a:lnTo>
                <a:lnTo>
                  <a:pt x="100" y="82"/>
                </a:lnTo>
                <a:lnTo>
                  <a:pt x="112" y="74"/>
                </a:lnTo>
                <a:lnTo>
                  <a:pt x="112" y="50"/>
                </a:lnTo>
                <a:lnTo>
                  <a:pt x="156" y="50"/>
                </a:lnTo>
                <a:lnTo>
                  <a:pt x="156" y="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7"/>
          <p:cNvSpPr/>
          <p:nvPr/>
        </p:nvSpPr>
        <p:spPr>
          <a:xfrm>
            <a:off x="3040200" y="1862280"/>
            <a:ext cx="198360" cy="60120"/>
          </a:xfrm>
          <a:custGeom>
            <a:avLst/>
            <a:gdLst>
              <a:gd name="textAreaLeft" fmla="*/ 0 w 198360"/>
              <a:gd name="textAreaRight" fmla="*/ 198720 w 1983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25" h="38">
                <a:moveTo>
                  <a:pt x="0" y="38"/>
                </a:moveTo>
                <a:lnTo>
                  <a:pt x="99" y="38"/>
                </a:lnTo>
                <a:lnTo>
                  <a:pt x="99" y="2"/>
                </a:lnTo>
                <a:lnTo>
                  <a:pt x="125" y="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78"/>
          <p:cNvSpPr/>
          <p:nvPr/>
        </p:nvSpPr>
        <p:spPr>
          <a:xfrm>
            <a:off x="3195720" y="1027080"/>
            <a:ext cx="77760" cy="822240"/>
          </a:xfrm>
          <a:custGeom>
            <a:avLst/>
            <a:gdLst>
              <a:gd name="textAreaLeft" fmla="*/ 0 w 77760"/>
              <a:gd name="textAreaRight" fmla="*/ 78120 w 7776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49" h="518">
                <a:moveTo>
                  <a:pt x="16" y="518"/>
                </a:moveTo>
                <a:lnTo>
                  <a:pt x="0" y="513"/>
                </a:lnTo>
                <a:lnTo>
                  <a:pt x="0" y="500"/>
                </a:lnTo>
                <a:lnTo>
                  <a:pt x="9" y="495"/>
                </a:lnTo>
                <a:lnTo>
                  <a:pt x="25" y="0"/>
                </a:lnTo>
                <a:lnTo>
                  <a:pt x="37" y="498"/>
                </a:lnTo>
                <a:lnTo>
                  <a:pt x="49" y="500"/>
                </a:lnTo>
                <a:lnTo>
                  <a:pt x="49" y="512"/>
                </a:lnTo>
                <a:lnTo>
                  <a:pt x="39" y="518"/>
                </a:lnTo>
                <a:lnTo>
                  <a:pt x="16" y="5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79"/>
          <p:cNvSpPr/>
          <p:nvPr/>
        </p:nvSpPr>
        <p:spPr>
          <a:xfrm>
            <a:off x="3238560" y="1860480"/>
            <a:ext cx="191880" cy="63720"/>
          </a:xfrm>
          <a:custGeom>
            <a:avLst/>
            <a:gdLst>
              <a:gd name="textAreaLeft" fmla="*/ 0 w 191880"/>
              <a:gd name="textAreaRight" fmla="*/ 192240 w 1918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121" h="40">
                <a:moveTo>
                  <a:pt x="0" y="0"/>
                </a:moveTo>
                <a:lnTo>
                  <a:pt x="30" y="1"/>
                </a:lnTo>
                <a:lnTo>
                  <a:pt x="30" y="40"/>
                </a:lnTo>
                <a:lnTo>
                  <a:pt x="121" y="4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80"/>
          <p:cNvSpPr/>
          <p:nvPr/>
        </p:nvSpPr>
        <p:spPr>
          <a:xfrm>
            <a:off x="3430440" y="1924200"/>
            <a:ext cx="86040" cy="2376360"/>
          </a:xfrm>
          <a:custGeom>
            <a:avLst/>
            <a:gdLst>
              <a:gd name="textAreaLeft" fmla="*/ 0 w 86040"/>
              <a:gd name="textAreaRight" fmla="*/ 86400 w 86040"/>
              <a:gd name="textAreaTop" fmla="*/ 0 h 2376360"/>
              <a:gd name="textAreaBottom" fmla="*/ 2376720 h 2376360"/>
            </a:gdLst>
            <a:ahLst/>
            <a:rect l="textAreaLeft" t="textAreaTop" r="textAreaRight" b="textAreaBottom"/>
            <a:pathLst>
              <a:path w="54" h="1497">
                <a:moveTo>
                  <a:pt x="0" y="0"/>
                </a:moveTo>
                <a:lnTo>
                  <a:pt x="0" y="48"/>
                </a:lnTo>
                <a:lnTo>
                  <a:pt x="39" y="48"/>
                </a:lnTo>
                <a:lnTo>
                  <a:pt x="39" y="66"/>
                </a:lnTo>
                <a:lnTo>
                  <a:pt x="54" y="78"/>
                </a:lnTo>
                <a:lnTo>
                  <a:pt x="54" y="96"/>
                </a:lnTo>
                <a:lnTo>
                  <a:pt x="39" y="108"/>
                </a:lnTo>
                <a:lnTo>
                  <a:pt x="39" y="1497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81"/>
          <p:cNvSpPr/>
          <p:nvPr/>
        </p:nvSpPr>
        <p:spPr>
          <a:xfrm>
            <a:off x="3483000" y="4219560"/>
            <a:ext cx="542880" cy="123840"/>
          </a:xfrm>
          <a:custGeom>
            <a:avLst/>
            <a:gdLst>
              <a:gd name="textAreaLeft" fmla="*/ 0 w 542880"/>
              <a:gd name="textAreaRight" fmla="*/ 543240 w 5428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342" h="78">
                <a:moveTo>
                  <a:pt x="0" y="51"/>
                </a:moveTo>
                <a:lnTo>
                  <a:pt x="102" y="0"/>
                </a:lnTo>
                <a:lnTo>
                  <a:pt x="228" y="0"/>
                </a:lnTo>
                <a:lnTo>
                  <a:pt x="228" y="42"/>
                </a:lnTo>
                <a:lnTo>
                  <a:pt x="342" y="42"/>
                </a:lnTo>
                <a:lnTo>
                  <a:pt x="342" y="78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82"/>
          <p:cNvSpPr/>
          <p:nvPr/>
        </p:nvSpPr>
        <p:spPr>
          <a:xfrm>
            <a:off x="4025880" y="4302000"/>
            <a:ext cx="1440" cy="541440"/>
          </a:xfrm>
          <a:custGeom>
            <a:avLst/>
            <a:gdLst>
              <a:gd name="textAreaLeft" fmla="*/ 0 w 1440"/>
              <a:gd name="textAreaRight" fmla="*/ 1800 w 1440"/>
              <a:gd name="textAreaTop" fmla="*/ 0 h 541440"/>
              <a:gd name="textAreaBottom" fmla="*/ 541440 h 541440"/>
            </a:gdLst>
            <a:ahLst/>
            <a:rect l="textAreaLeft" t="textAreaTop" r="textAreaRight" b="textAreaBottom"/>
            <a:pathLst>
              <a:path w="1" h="341">
                <a:moveTo>
                  <a:pt x="0" y="0"/>
                </a:moveTo>
                <a:lnTo>
                  <a:pt x="0" y="341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3"/>
          <p:cNvSpPr/>
          <p:nvPr/>
        </p:nvSpPr>
        <p:spPr>
          <a:xfrm>
            <a:off x="4016520" y="4838760"/>
            <a:ext cx="376200" cy="14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84"/>
          <p:cNvSpPr/>
          <p:nvPr/>
        </p:nvSpPr>
        <p:spPr>
          <a:xfrm>
            <a:off x="4392720" y="3548160"/>
            <a:ext cx="1440" cy="1305000"/>
          </a:xfrm>
          <a:custGeom>
            <a:avLst/>
            <a:gdLst>
              <a:gd name="textAreaLeft" fmla="*/ 0 w 1440"/>
              <a:gd name="textAreaRight" fmla="*/ 1800 w 1440"/>
              <a:gd name="textAreaTop" fmla="*/ 0 h 1305000"/>
              <a:gd name="textAreaBottom" fmla="*/ 1305000 h 1305000"/>
            </a:gdLst>
            <a:ahLst/>
            <a:rect l="textAreaLeft" t="textAreaTop" r="textAreaRight" b="textAreaBottom"/>
            <a:pathLst>
              <a:path w="1" h="822">
                <a:moveTo>
                  <a:pt x="0" y="82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85"/>
          <p:cNvSpPr/>
          <p:nvPr/>
        </p:nvSpPr>
        <p:spPr>
          <a:xfrm>
            <a:off x="4387680" y="3367080"/>
            <a:ext cx="1148040" cy="190440"/>
          </a:xfrm>
          <a:custGeom>
            <a:avLst/>
            <a:gdLst>
              <a:gd name="textAreaLeft" fmla="*/ 0 w 1148040"/>
              <a:gd name="textAreaRight" fmla="*/ 1148400 w 11480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723" h="120">
                <a:moveTo>
                  <a:pt x="0" y="120"/>
                </a:moveTo>
                <a:lnTo>
                  <a:pt x="75" y="105"/>
                </a:lnTo>
                <a:lnTo>
                  <a:pt x="75" y="57"/>
                </a:lnTo>
                <a:lnTo>
                  <a:pt x="336" y="0"/>
                </a:lnTo>
                <a:lnTo>
                  <a:pt x="336" y="54"/>
                </a:lnTo>
                <a:lnTo>
                  <a:pt x="363" y="54"/>
                </a:lnTo>
                <a:lnTo>
                  <a:pt x="363" y="27"/>
                </a:lnTo>
                <a:lnTo>
                  <a:pt x="393" y="27"/>
                </a:lnTo>
                <a:lnTo>
                  <a:pt x="393" y="57"/>
                </a:lnTo>
                <a:lnTo>
                  <a:pt x="495" y="57"/>
                </a:lnTo>
                <a:lnTo>
                  <a:pt x="495" y="108"/>
                </a:lnTo>
                <a:lnTo>
                  <a:pt x="723" y="108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86"/>
          <p:cNvSpPr/>
          <p:nvPr/>
        </p:nvSpPr>
        <p:spPr>
          <a:xfrm>
            <a:off x="5543640" y="3524400"/>
            <a:ext cx="7920" cy="441000"/>
          </a:xfrm>
          <a:custGeom>
            <a:avLst/>
            <a:gdLst>
              <a:gd name="textAreaLeft" fmla="*/ 0 w 7920"/>
              <a:gd name="textAreaRight" fmla="*/ 8280 w 792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5" h="278">
                <a:moveTo>
                  <a:pt x="0" y="0"/>
                </a:moveTo>
                <a:lnTo>
                  <a:pt x="5" y="278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7"/>
          <p:cNvSpPr/>
          <p:nvPr/>
        </p:nvSpPr>
        <p:spPr>
          <a:xfrm>
            <a:off x="5533920" y="3967200"/>
            <a:ext cx="401760" cy="14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8"/>
          <p:cNvSpPr/>
          <p:nvPr/>
        </p:nvSpPr>
        <p:spPr>
          <a:xfrm>
            <a:off x="5921280" y="3956040"/>
            <a:ext cx="1800" cy="50976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89"/>
          <p:cNvSpPr/>
          <p:nvPr/>
        </p:nvSpPr>
        <p:spPr>
          <a:xfrm>
            <a:off x="5908680" y="4403880"/>
            <a:ext cx="503280" cy="45720"/>
          </a:xfrm>
          <a:custGeom>
            <a:avLst/>
            <a:gdLst>
              <a:gd name="textAreaLeft" fmla="*/ 0 w 503280"/>
              <a:gd name="textAreaRight" fmla="*/ 503640 w 50328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317" h="29">
                <a:moveTo>
                  <a:pt x="0" y="29"/>
                </a:moveTo>
                <a:lnTo>
                  <a:pt x="162" y="29"/>
                </a:lnTo>
                <a:lnTo>
                  <a:pt x="162" y="0"/>
                </a:lnTo>
                <a:lnTo>
                  <a:pt x="317" y="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90"/>
          <p:cNvSpPr/>
          <p:nvPr/>
        </p:nvSpPr>
        <p:spPr>
          <a:xfrm>
            <a:off x="6397560" y="3048120"/>
            <a:ext cx="300240" cy="1369800"/>
          </a:xfrm>
          <a:custGeom>
            <a:avLst/>
            <a:gdLst>
              <a:gd name="textAreaLeft" fmla="*/ 0 w 300240"/>
              <a:gd name="textAreaRight" fmla="*/ 300600 w 300240"/>
              <a:gd name="textAreaTop" fmla="*/ 0 h 1369800"/>
              <a:gd name="textAreaBottom" fmla="*/ 1370160 h 1369800"/>
            </a:gdLst>
            <a:ahLst/>
            <a:rect l="textAreaLeft" t="textAreaTop" r="textAreaRight" b="textAreaBottom"/>
            <a:pathLst>
              <a:path w="189" h="863">
                <a:moveTo>
                  <a:pt x="0" y="863"/>
                </a:moveTo>
                <a:lnTo>
                  <a:pt x="0" y="531"/>
                </a:lnTo>
                <a:lnTo>
                  <a:pt x="189" y="381"/>
                </a:lnTo>
                <a:lnTo>
                  <a:pt x="189" y="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91"/>
          <p:cNvSpPr/>
          <p:nvPr/>
        </p:nvSpPr>
        <p:spPr>
          <a:xfrm>
            <a:off x="6691320" y="2846520"/>
            <a:ext cx="468360" cy="215640"/>
          </a:xfrm>
          <a:custGeom>
            <a:avLst/>
            <a:gdLst>
              <a:gd name="textAreaLeft" fmla="*/ 0 w 468360"/>
              <a:gd name="textAreaRight" fmla="*/ 468720 w 468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95" h="136">
                <a:moveTo>
                  <a:pt x="0" y="136"/>
                </a:moveTo>
                <a:lnTo>
                  <a:pt x="137" y="136"/>
                </a:lnTo>
                <a:lnTo>
                  <a:pt x="138" y="52"/>
                </a:lnTo>
                <a:lnTo>
                  <a:pt x="273" y="52"/>
                </a:lnTo>
                <a:lnTo>
                  <a:pt x="273" y="0"/>
                </a:lnTo>
                <a:lnTo>
                  <a:pt x="295" y="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92"/>
          <p:cNvSpPr/>
          <p:nvPr/>
        </p:nvSpPr>
        <p:spPr>
          <a:xfrm>
            <a:off x="7148520" y="2521080"/>
            <a:ext cx="36360" cy="341280"/>
          </a:xfrm>
          <a:custGeom>
            <a:avLst/>
            <a:gdLst>
              <a:gd name="textAreaLeft" fmla="*/ 0 w 36360"/>
              <a:gd name="textAreaRight" fmla="*/ 36720 w 363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23" h="215">
                <a:moveTo>
                  <a:pt x="0" y="215"/>
                </a:moveTo>
                <a:lnTo>
                  <a:pt x="14" y="0"/>
                </a:lnTo>
                <a:lnTo>
                  <a:pt x="23" y="215"/>
                </a:lnTo>
                <a:lnTo>
                  <a:pt x="0" y="2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93"/>
          <p:cNvSpPr/>
          <p:nvPr/>
        </p:nvSpPr>
        <p:spPr>
          <a:xfrm>
            <a:off x="7172280" y="2846520"/>
            <a:ext cx="204840" cy="2320920"/>
          </a:xfrm>
          <a:custGeom>
            <a:avLst/>
            <a:gdLst>
              <a:gd name="textAreaLeft" fmla="*/ 0 w 204840"/>
              <a:gd name="textAreaRight" fmla="*/ 205200 w 204840"/>
              <a:gd name="textAreaTop" fmla="*/ 0 h 2320920"/>
              <a:gd name="textAreaBottom" fmla="*/ 2321280 h 2320920"/>
            </a:gdLst>
            <a:ahLst/>
            <a:rect l="textAreaLeft" t="textAreaTop" r="textAreaRight" b="textAreaBottom"/>
            <a:pathLst>
              <a:path w="112" h="1270">
                <a:moveTo>
                  <a:pt x="0" y="0"/>
                </a:moveTo>
                <a:lnTo>
                  <a:pt x="36" y="0"/>
                </a:lnTo>
                <a:lnTo>
                  <a:pt x="36" y="50"/>
                </a:lnTo>
                <a:lnTo>
                  <a:pt x="76" y="50"/>
                </a:lnTo>
                <a:lnTo>
                  <a:pt x="76" y="131"/>
                </a:lnTo>
                <a:lnTo>
                  <a:pt x="109" y="131"/>
                </a:lnTo>
                <a:lnTo>
                  <a:pt x="112" y="127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58"/>
          <p:cNvSpPr/>
          <p:nvPr/>
        </p:nvSpPr>
        <p:spPr>
          <a:xfrm flipV="1">
            <a:off x="7362720" y="5149800"/>
            <a:ext cx="1781280" cy="648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77"/>
          <p:cNvSpPr/>
          <p:nvPr/>
        </p:nvSpPr>
        <p:spPr>
          <a:xfrm>
            <a:off x="3994200" y="-233280"/>
            <a:ext cx="1224000" cy="1224000"/>
          </a:xfrm>
          <a:prstGeom prst="ellipse">
            <a:avLst/>
          </a:pr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95" descr="1啊"/>
          <p:cNvPicPr/>
          <p:nvPr/>
        </p:nvPicPr>
        <p:blipFill>
          <a:blip r:embed="rId1"/>
          <a:stretch/>
        </p:blipFill>
        <p:spPr>
          <a:xfrm>
            <a:off x="3354480" y="-719280"/>
            <a:ext cx="2427120" cy="2279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97" descr="3啊"/>
          <p:cNvPicPr/>
          <p:nvPr/>
        </p:nvPicPr>
        <p:blipFill>
          <a:blip r:embed="rId2"/>
          <a:stretch/>
        </p:blipFill>
        <p:spPr>
          <a:xfrm>
            <a:off x="5051520" y="1139760"/>
            <a:ext cx="703080" cy="603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96" descr="2啊"/>
          <p:cNvPicPr/>
          <p:nvPr/>
        </p:nvPicPr>
        <p:blipFill>
          <a:blip r:embed="rId3"/>
          <a:stretch/>
        </p:blipFill>
        <p:spPr>
          <a:xfrm>
            <a:off x="4976640" y="1033560"/>
            <a:ext cx="571680" cy="471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98" descr="7啊"/>
          <p:cNvPicPr/>
          <p:nvPr/>
        </p:nvPicPr>
        <p:blipFill>
          <a:blip r:embed="rId4"/>
          <a:stretch/>
        </p:blipFill>
        <p:spPr>
          <a:xfrm>
            <a:off x="6912000" y="3438360"/>
            <a:ext cx="1298520" cy="1298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99" descr="4啊"/>
          <p:cNvPicPr/>
          <p:nvPr/>
        </p:nvPicPr>
        <p:blipFill>
          <a:blip r:embed="rId5"/>
          <a:stretch/>
        </p:blipFill>
        <p:spPr>
          <a:xfrm>
            <a:off x="5708520" y="1919160"/>
            <a:ext cx="936720" cy="95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00" descr="5啊"/>
          <p:cNvPicPr/>
          <p:nvPr/>
        </p:nvPicPr>
        <p:blipFill>
          <a:blip r:embed="rId6"/>
          <a:stretch/>
        </p:blipFill>
        <p:spPr>
          <a:xfrm>
            <a:off x="6191280" y="2430360"/>
            <a:ext cx="203040" cy="203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01" descr="6啊"/>
          <p:cNvPicPr/>
          <p:nvPr/>
        </p:nvPicPr>
        <p:blipFill>
          <a:blip r:embed="rId7"/>
          <a:stretch/>
        </p:blipFill>
        <p:spPr>
          <a:xfrm>
            <a:off x="6316560" y="2479680"/>
            <a:ext cx="225360" cy="22536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109"/>
          <p:cNvSpPr/>
          <p:nvPr/>
        </p:nvSpPr>
        <p:spPr>
          <a:xfrm>
            <a:off x="-1504800" y="-6161040"/>
            <a:ext cx="12147480" cy="13161960"/>
          </a:xfrm>
          <a:custGeom>
            <a:avLst/>
            <a:gdLst>
              <a:gd name="textAreaLeft" fmla="*/ 5989320 w 12147480"/>
              <a:gd name="textAreaRight" fmla="*/ 6158160 w 12147480"/>
              <a:gd name="textAreaTop" fmla="*/ 6489720 h 13161960"/>
              <a:gd name="textAreaBottom" fmla="*/ 6672240 h 131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589" y="10818"/>
                </a:lnTo>
                <a:lnTo>
                  <a:pt x="198" y="12861"/>
                </a:lnTo>
                <a:lnTo>
                  <a:pt x="10596" y="10858"/>
                </a:lnTo>
                <a:lnTo>
                  <a:pt x="786" y="14846"/>
                </a:lnTo>
                <a:lnTo>
                  <a:pt x="10613" y="10900"/>
                </a:lnTo>
                <a:lnTo>
                  <a:pt x="1742" y="16682"/>
                </a:lnTo>
                <a:lnTo>
                  <a:pt x="10635" y="10933"/>
                </a:lnTo>
                <a:lnTo>
                  <a:pt x="3163" y="18437"/>
                </a:lnTo>
                <a:lnTo>
                  <a:pt x="10664" y="10962"/>
                </a:lnTo>
                <a:lnTo>
                  <a:pt x="4761" y="19754"/>
                </a:lnTo>
                <a:lnTo>
                  <a:pt x="10697" y="10985"/>
                </a:lnTo>
                <a:lnTo>
                  <a:pt x="6580" y="20741"/>
                </a:lnTo>
                <a:lnTo>
                  <a:pt x="10738" y="11003"/>
                </a:lnTo>
                <a:lnTo>
                  <a:pt x="8555" y="21364"/>
                </a:lnTo>
                <a:lnTo>
                  <a:pt x="10778" y="11011"/>
                </a:lnTo>
                <a:lnTo>
                  <a:pt x="10800" y="21600"/>
                </a:lnTo>
                <a:lnTo>
                  <a:pt x="10818" y="11011"/>
                </a:lnTo>
                <a:lnTo>
                  <a:pt x="12861" y="21402"/>
                </a:lnTo>
                <a:lnTo>
                  <a:pt x="10858" y="11004"/>
                </a:lnTo>
                <a:lnTo>
                  <a:pt x="14846" y="20814"/>
                </a:lnTo>
                <a:lnTo>
                  <a:pt x="10900" y="10987"/>
                </a:lnTo>
                <a:lnTo>
                  <a:pt x="16682" y="19858"/>
                </a:lnTo>
                <a:lnTo>
                  <a:pt x="10933" y="10965"/>
                </a:lnTo>
                <a:lnTo>
                  <a:pt x="18437" y="18437"/>
                </a:lnTo>
                <a:lnTo>
                  <a:pt x="10962" y="10936"/>
                </a:lnTo>
                <a:lnTo>
                  <a:pt x="19754" y="16839"/>
                </a:lnTo>
                <a:lnTo>
                  <a:pt x="10985" y="10903"/>
                </a:lnTo>
                <a:lnTo>
                  <a:pt x="20741" y="15020"/>
                </a:lnTo>
                <a:lnTo>
                  <a:pt x="11003" y="10862"/>
                </a:lnTo>
                <a:lnTo>
                  <a:pt x="21364" y="13045"/>
                </a:lnTo>
                <a:lnTo>
                  <a:pt x="11011" y="10822"/>
                </a:lnTo>
                <a:lnTo>
                  <a:pt x="21600" y="10800"/>
                </a:lnTo>
                <a:lnTo>
                  <a:pt x="11011" y="10782"/>
                </a:lnTo>
                <a:lnTo>
                  <a:pt x="21402" y="8739"/>
                </a:lnTo>
                <a:lnTo>
                  <a:pt x="11004" y="10742"/>
                </a:lnTo>
                <a:lnTo>
                  <a:pt x="20814" y="6754"/>
                </a:lnTo>
                <a:lnTo>
                  <a:pt x="10987" y="10700"/>
                </a:lnTo>
                <a:lnTo>
                  <a:pt x="19858" y="4918"/>
                </a:lnTo>
                <a:lnTo>
                  <a:pt x="10965" y="10667"/>
                </a:lnTo>
                <a:lnTo>
                  <a:pt x="18437" y="3163"/>
                </a:lnTo>
                <a:lnTo>
                  <a:pt x="10936" y="10638"/>
                </a:lnTo>
                <a:lnTo>
                  <a:pt x="16839" y="1846"/>
                </a:lnTo>
                <a:lnTo>
                  <a:pt x="10903" y="10615"/>
                </a:lnTo>
                <a:lnTo>
                  <a:pt x="15020" y="859"/>
                </a:lnTo>
                <a:lnTo>
                  <a:pt x="10862" y="10597"/>
                </a:lnTo>
                <a:lnTo>
                  <a:pt x="13045" y="236"/>
                </a:lnTo>
                <a:lnTo>
                  <a:pt x="10822" y="10589"/>
                </a:lnTo>
                <a:lnTo>
                  <a:pt x="10800" y="0"/>
                </a:lnTo>
                <a:lnTo>
                  <a:pt x="10782" y="10589"/>
                </a:lnTo>
                <a:lnTo>
                  <a:pt x="8739" y="198"/>
                </a:lnTo>
                <a:lnTo>
                  <a:pt x="10742" y="10596"/>
                </a:lnTo>
                <a:lnTo>
                  <a:pt x="6754" y="786"/>
                </a:lnTo>
                <a:lnTo>
                  <a:pt x="10700" y="10613"/>
                </a:lnTo>
                <a:lnTo>
                  <a:pt x="4918" y="1742"/>
                </a:lnTo>
                <a:lnTo>
                  <a:pt x="10667" y="10635"/>
                </a:lnTo>
                <a:lnTo>
                  <a:pt x="3163" y="3163"/>
                </a:lnTo>
                <a:lnTo>
                  <a:pt x="10638" y="10664"/>
                </a:lnTo>
                <a:lnTo>
                  <a:pt x="1846" y="4761"/>
                </a:lnTo>
                <a:lnTo>
                  <a:pt x="10615" y="10697"/>
                </a:lnTo>
                <a:lnTo>
                  <a:pt x="859" y="6580"/>
                </a:lnTo>
                <a:lnTo>
                  <a:pt x="10597" y="10738"/>
                </a:lnTo>
                <a:lnTo>
                  <a:pt x="236" y="8555"/>
                </a:lnTo>
                <a:lnTo>
                  <a:pt x="10589" y="1077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01"/>
          <p:cNvSpPr/>
          <p:nvPr/>
        </p:nvSpPr>
        <p:spPr>
          <a:xfrm flipV="1">
            <a:off x="-7920" y="3141720"/>
            <a:ext cx="685800" cy="14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04"/>
          <p:cNvSpPr/>
          <p:nvPr/>
        </p:nvSpPr>
        <p:spPr>
          <a:xfrm>
            <a:off x="-1332000" y="-5859360"/>
            <a:ext cx="12147480" cy="13161960"/>
          </a:xfrm>
          <a:custGeom>
            <a:avLst/>
            <a:gdLst>
              <a:gd name="textAreaLeft" fmla="*/ 2109960 w 12147480"/>
              <a:gd name="textAreaRight" fmla="*/ 10037520 w 12147480"/>
              <a:gd name="textAreaTop" fmla="*/ 2286360 h 13161960"/>
              <a:gd name="textAreaBottom" fmla="*/ 10875600 h 131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1" y="11669"/>
                </a:lnTo>
                <a:lnTo>
                  <a:pt x="198" y="12861"/>
                </a:lnTo>
                <a:lnTo>
                  <a:pt x="1219" y="13547"/>
                </a:lnTo>
                <a:lnTo>
                  <a:pt x="786" y="14846"/>
                </a:lnTo>
                <a:lnTo>
                  <a:pt x="2000" y="15479"/>
                </a:lnTo>
                <a:lnTo>
                  <a:pt x="1742" y="16682"/>
                </a:lnTo>
                <a:lnTo>
                  <a:pt x="3054" y="17072"/>
                </a:lnTo>
                <a:lnTo>
                  <a:pt x="3163" y="18437"/>
                </a:lnTo>
                <a:lnTo>
                  <a:pt x="4393" y="18435"/>
                </a:lnTo>
                <a:lnTo>
                  <a:pt x="4761" y="19754"/>
                </a:lnTo>
                <a:lnTo>
                  <a:pt x="5968" y="19517"/>
                </a:lnTo>
                <a:lnTo>
                  <a:pt x="6580" y="20741"/>
                </a:lnTo>
                <a:lnTo>
                  <a:pt x="7886" y="20331"/>
                </a:lnTo>
                <a:lnTo>
                  <a:pt x="8555" y="21364"/>
                </a:lnTo>
                <a:lnTo>
                  <a:pt x="9758" y="20712"/>
                </a:lnTo>
                <a:lnTo>
                  <a:pt x="10800" y="21600"/>
                </a:lnTo>
                <a:lnTo>
                  <a:pt x="11669" y="20729"/>
                </a:lnTo>
                <a:lnTo>
                  <a:pt x="12861" y="21402"/>
                </a:lnTo>
                <a:lnTo>
                  <a:pt x="13547" y="20381"/>
                </a:lnTo>
                <a:lnTo>
                  <a:pt x="14846" y="20814"/>
                </a:lnTo>
                <a:lnTo>
                  <a:pt x="15479" y="19600"/>
                </a:lnTo>
                <a:lnTo>
                  <a:pt x="16682" y="19858"/>
                </a:lnTo>
                <a:lnTo>
                  <a:pt x="17072" y="18546"/>
                </a:lnTo>
                <a:lnTo>
                  <a:pt x="18437" y="18437"/>
                </a:lnTo>
                <a:lnTo>
                  <a:pt x="18435" y="17207"/>
                </a:lnTo>
                <a:lnTo>
                  <a:pt x="19754" y="16839"/>
                </a:lnTo>
                <a:lnTo>
                  <a:pt x="19517" y="15632"/>
                </a:lnTo>
                <a:lnTo>
                  <a:pt x="20741" y="15020"/>
                </a:lnTo>
                <a:lnTo>
                  <a:pt x="20331" y="13714"/>
                </a:lnTo>
                <a:lnTo>
                  <a:pt x="21364" y="13045"/>
                </a:lnTo>
                <a:lnTo>
                  <a:pt x="20712" y="11842"/>
                </a:lnTo>
                <a:lnTo>
                  <a:pt x="21600" y="10800"/>
                </a:lnTo>
                <a:lnTo>
                  <a:pt x="20729" y="9931"/>
                </a:lnTo>
                <a:lnTo>
                  <a:pt x="21402" y="8739"/>
                </a:lnTo>
                <a:lnTo>
                  <a:pt x="20381" y="8053"/>
                </a:lnTo>
                <a:lnTo>
                  <a:pt x="20814" y="6754"/>
                </a:lnTo>
                <a:lnTo>
                  <a:pt x="19600" y="6121"/>
                </a:lnTo>
                <a:lnTo>
                  <a:pt x="19858" y="4918"/>
                </a:lnTo>
                <a:lnTo>
                  <a:pt x="18546" y="4528"/>
                </a:lnTo>
                <a:lnTo>
                  <a:pt x="18437" y="3163"/>
                </a:lnTo>
                <a:lnTo>
                  <a:pt x="17207" y="3165"/>
                </a:lnTo>
                <a:lnTo>
                  <a:pt x="16839" y="1846"/>
                </a:lnTo>
                <a:lnTo>
                  <a:pt x="15632" y="2083"/>
                </a:lnTo>
                <a:lnTo>
                  <a:pt x="15020" y="859"/>
                </a:lnTo>
                <a:lnTo>
                  <a:pt x="13714" y="1269"/>
                </a:lnTo>
                <a:lnTo>
                  <a:pt x="13045" y="236"/>
                </a:lnTo>
                <a:lnTo>
                  <a:pt x="11842" y="888"/>
                </a:lnTo>
                <a:lnTo>
                  <a:pt x="10800" y="0"/>
                </a:lnTo>
                <a:lnTo>
                  <a:pt x="9931" y="871"/>
                </a:lnTo>
                <a:lnTo>
                  <a:pt x="8739" y="198"/>
                </a:lnTo>
                <a:lnTo>
                  <a:pt x="8053" y="1219"/>
                </a:lnTo>
                <a:lnTo>
                  <a:pt x="6754" y="786"/>
                </a:lnTo>
                <a:lnTo>
                  <a:pt x="6121" y="2000"/>
                </a:lnTo>
                <a:lnTo>
                  <a:pt x="4918" y="1742"/>
                </a:lnTo>
                <a:lnTo>
                  <a:pt x="4528" y="3054"/>
                </a:lnTo>
                <a:lnTo>
                  <a:pt x="3163" y="3163"/>
                </a:lnTo>
                <a:lnTo>
                  <a:pt x="3165" y="4393"/>
                </a:lnTo>
                <a:lnTo>
                  <a:pt x="1846" y="4761"/>
                </a:lnTo>
                <a:lnTo>
                  <a:pt x="2083" y="5968"/>
                </a:lnTo>
                <a:lnTo>
                  <a:pt x="859" y="6580"/>
                </a:lnTo>
                <a:lnTo>
                  <a:pt x="1269" y="7886"/>
                </a:lnTo>
                <a:lnTo>
                  <a:pt x="236" y="8555"/>
                </a:lnTo>
                <a:lnTo>
                  <a:pt x="888" y="975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7"/>
          <p:cNvSpPr/>
          <p:nvPr/>
        </p:nvSpPr>
        <p:spPr>
          <a:xfrm>
            <a:off x="1225440" y="5726160"/>
            <a:ext cx="46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来自上海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出生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成长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2328480" y="10605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仿宋"/>
              </a:rPr>
              <a:t>蓝色简介动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仿宋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仿宋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146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47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148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149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63">
                                  <p:stCondLst>
                                    <p:cond delay="15100"/>
                                  </p:stCondLst>
                                  <p:childTnLst>
                                    <p:animMotion origin="layout" path="M 8.33333E-007 -2.59259E-006 L 0.26823 -2.59259E-006 E">
                                      <p:cBhvr>
                                        <p:cTn id="131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3">
                                  <p:stCondLst>
                                    <p:cond delay="15100"/>
                                  </p:stCondLst>
                                  <p:childTnLst>
                                    <p:animMotion origin="layout" path="M 4.44444E-006 -1.11111E-006 L 0.2684 -1.11111E-006 E">
                                      <p:cBhvr>
                                        <p:cTn id="133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8">
                                  <p:stCondLst>
                                    <p:cond delay="14000"/>
                                  </p:stCondLst>
                                  <p:childTnLst>
                                    <p:animRot by="-5400000">
                                      <p:cBhvr>
                                        <p:cTn id="13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63">
                                  <p:stCondLst>
                                    <p:cond delay="15100"/>
                                  </p:stCondLst>
                                  <p:childTnLst>
                                    <p:animMotion origin="layout" path="M -1.38889E-006 -4.81481E-006 L 0.11875 0.00116 E">
                                      <p:cBhvr>
                                        <p:cTn id="13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63">
                                  <p:stCondLst>
                                    <p:cond delay="15100"/>
                                  </p:stCondLst>
                                  <p:childTnLst>
                                    <p:animMotion origin="layout" path="M 8.33333E-007 3.7037E-006 L 0.09062 3.7037E-006 E">
                                      <p:cBhvr>
                                        <p:cTn id="139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35">
                                  <p:stCondLst>
                                    <p:cond delay="15100"/>
                                  </p:stCondLst>
                                  <p:childTnLst>
                                    <p:animMotion origin="layout" path="M -1.38889E-006 3.33333E-006 L -0.0717 -0.00047 E">
                                      <p:cBhvr>
                                        <p:cTn id="141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35">
                                  <p:stCondLst>
                                    <p:cond delay="15100"/>
                                  </p:stCondLst>
                                  <p:childTnLst>
                                    <p:animMotion origin="layout" path="M 5E-006 -4.07407E-006 L -0.10556 -0.00092 E">
                                      <p:cBhvr>
                                        <p:cTn id="143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35">
                                  <p:stCondLst>
                                    <p:cond delay="15100"/>
                                  </p:stCondLst>
                                  <p:childTnLst>
                                    <p:animMotion origin="layout" path="M 4.44444E-006 -3.7037E-007 L -0.13629 -3.7037E-007 E">
                                      <p:cBhvr>
                                        <p:cTn id="145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35">
                                  <p:stCondLst>
                                    <p:cond delay="15100"/>
                                  </p:stCondLst>
                                  <p:childTnLst>
                                    <p:animMotion origin="layout" path="M 3.61111E-006 3.7037E-006 L -0.35955 3.7037E-006 E">
                                      <p:cBhvr>
                                        <p:cTn id="147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49">
                                  <p:stCondLst>
                                    <p:cond delay="1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34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4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4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" dur="34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33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214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63">
                                  <p:stCondLst>
                                    <p:cond delay="15100"/>
                                  </p:stCondLst>
                                  <p:childTnLst>
                                    <p:animMotion origin="layout" path="M 4.44444E-006 -1.11111E-006 L 0.2684 -1.11111E-006 E">
                                      <p:cBhvr>
                                        <p:cTn id="16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18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" dur="34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33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B5A5-5427-4E30-9B04-CCAFB8189E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5"/>
          <p:cNvSpPr/>
          <p:nvPr/>
        </p:nvSpPr>
        <p:spPr>
          <a:xfrm flipV="1">
            <a:off x="3348000" y="5135040"/>
            <a:ext cx="2376360" cy="1116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6"/>
          <p:cNvSpPr/>
          <p:nvPr/>
        </p:nvSpPr>
        <p:spPr>
          <a:xfrm>
            <a:off x="3348000" y="5084640"/>
            <a:ext cx="3384720" cy="1152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-684360" y="4797360"/>
            <a:ext cx="2519640" cy="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1523880" y="2933640"/>
            <a:ext cx="704880" cy="1862280"/>
          </a:xfrm>
          <a:custGeom>
            <a:avLst/>
            <a:gdLst>
              <a:gd name="textAreaLeft" fmla="*/ 0 w 704880"/>
              <a:gd name="textAreaRight" fmla="*/ 705240 w 704880"/>
              <a:gd name="textAreaTop" fmla="*/ 0 h 1862280"/>
              <a:gd name="textAreaBottom" fmla="*/ 1862640 h 1862280"/>
            </a:gdLst>
            <a:ahLst/>
            <a:rect l="textAreaLeft" t="textAreaTop" r="textAreaRight" b="textAreaBottom"/>
            <a:pathLst>
              <a:path w="444" h="1173">
                <a:moveTo>
                  <a:pt x="185" y="1173"/>
                </a:moveTo>
                <a:cubicBezTo>
                  <a:pt x="160" y="1129"/>
                  <a:pt x="63" y="966"/>
                  <a:pt x="33" y="909"/>
                </a:cubicBezTo>
                <a:cubicBezTo>
                  <a:pt x="3" y="852"/>
                  <a:pt x="6" y="850"/>
                  <a:pt x="3" y="833"/>
                </a:cubicBezTo>
                <a:cubicBezTo>
                  <a:pt x="0" y="816"/>
                  <a:pt x="337" y="64"/>
                  <a:pt x="372" y="32"/>
                </a:cubicBezTo>
                <a:cubicBezTo>
                  <a:pt x="407" y="0"/>
                  <a:pt x="429" y="30"/>
                  <a:pt x="444" y="29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9"/>
          <p:cNvSpPr/>
          <p:nvPr/>
        </p:nvSpPr>
        <p:spPr>
          <a:xfrm>
            <a:off x="2208240" y="2970360"/>
            <a:ext cx="934920" cy="806400"/>
          </a:xfrm>
          <a:custGeom>
            <a:avLst/>
            <a:gdLst>
              <a:gd name="textAreaLeft" fmla="*/ 0 w 934920"/>
              <a:gd name="textAreaRight" fmla="*/ 935280 w 93492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589" h="508">
                <a:moveTo>
                  <a:pt x="0" y="0"/>
                </a:moveTo>
                <a:cubicBezTo>
                  <a:pt x="62" y="29"/>
                  <a:pt x="293" y="99"/>
                  <a:pt x="370" y="178"/>
                </a:cubicBezTo>
                <a:cubicBezTo>
                  <a:pt x="445" y="247"/>
                  <a:pt x="428" y="424"/>
                  <a:pt x="460" y="475"/>
                </a:cubicBezTo>
                <a:lnTo>
                  <a:pt x="589" y="508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>
            <a:off x="2941560" y="3770280"/>
            <a:ext cx="262080" cy="755640"/>
          </a:xfrm>
          <a:custGeom>
            <a:avLst/>
            <a:gdLst>
              <a:gd name="textAreaLeft" fmla="*/ 0 w 262080"/>
              <a:gd name="textAreaRight" fmla="*/ 262440 w 26208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165" h="476">
                <a:moveTo>
                  <a:pt x="114" y="0"/>
                </a:moveTo>
                <a:cubicBezTo>
                  <a:pt x="121" y="4"/>
                  <a:pt x="153" y="9"/>
                  <a:pt x="159" y="22"/>
                </a:cubicBezTo>
                <a:cubicBezTo>
                  <a:pt x="165" y="35"/>
                  <a:pt x="136" y="197"/>
                  <a:pt x="115" y="271"/>
                </a:cubicBezTo>
                <a:cubicBezTo>
                  <a:pt x="94" y="345"/>
                  <a:pt x="55" y="448"/>
                  <a:pt x="37" y="462"/>
                </a:cubicBezTo>
                <a:cubicBezTo>
                  <a:pt x="19" y="476"/>
                  <a:pt x="8" y="465"/>
                  <a:pt x="0" y="465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1"/>
          <p:cNvSpPr/>
          <p:nvPr/>
        </p:nvSpPr>
        <p:spPr>
          <a:xfrm>
            <a:off x="1817640" y="4467240"/>
            <a:ext cx="1138320" cy="33192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717" h="209">
                <a:moveTo>
                  <a:pt x="717" y="27"/>
                </a:moveTo>
                <a:lnTo>
                  <a:pt x="571" y="0"/>
                </a:lnTo>
                <a:cubicBezTo>
                  <a:pt x="530" y="19"/>
                  <a:pt x="544" y="110"/>
                  <a:pt x="472" y="143"/>
                </a:cubicBezTo>
                <a:cubicBezTo>
                  <a:pt x="400" y="176"/>
                  <a:pt x="100" y="195"/>
                  <a:pt x="0" y="209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2"/>
          <p:cNvSpPr/>
          <p:nvPr/>
        </p:nvSpPr>
        <p:spPr>
          <a:xfrm>
            <a:off x="1617840" y="3597120"/>
            <a:ext cx="1035000" cy="1082880"/>
          </a:xfrm>
          <a:custGeom>
            <a:avLst/>
            <a:gdLst>
              <a:gd name="textAreaLeft" fmla="*/ 0 w 1035000"/>
              <a:gd name="textAreaRight" fmla="*/ 1035360 w 1035000"/>
              <a:gd name="textAreaTop" fmla="*/ 0 h 1082880"/>
              <a:gd name="textAreaBottom" fmla="*/ 1083240 h 1082880"/>
            </a:gdLst>
            <a:ahLst/>
            <a:rect l="textAreaLeft" t="textAreaTop" r="textAreaRight" b="textAreaBottom"/>
            <a:pathLst>
              <a:path w="652" h="682">
                <a:moveTo>
                  <a:pt x="1" y="407"/>
                </a:moveTo>
                <a:cubicBezTo>
                  <a:pt x="0" y="391"/>
                  <a:pt x="330" y="439"/>
                  <a:pt x="436" y="373"/>
                </a:cubicBezTo>
                <a:cubicBezTo>
                  <a:pt x="542" y="309"/>
                  <a:pt x="627" y="0"/>
                  <a:pt x="639" y="11"/>
                </a:cubicBezTo>
                <a:cubicBezTo>
                  <a:pt x="652" y="22"/>
                  <a:pt x="523" y="331"/>
                  <a:pt x="513" y="442"/>
                </a:cubicBezTo>
                <a:cubicBezTo>
                  <a:pt x="521" y="555"/>
                  <a:pt x="591" y="674"/>
                  <a:pt x="577" y="678"/>
                </a:cubicBezTo>
                <a:cubicBezTo>
                  <a:pt x="563" y="682"/>
                  <a:pt x="513" y="509"/>
                  <a:pt x="430" y="466"/>
                </a:cubicBezTo>
                <a:cubicBezTo>
                  <a:pt x="347" y="423"/>
                  <a:pt x="90" y="419"/>
                  <a:pt x="1" y="4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3"/>
          <p:cNvSpPr/>
          <p:nvPr/>
        </p:nvSpPr>
        <p:spPr>
          <a:xfrm>
            <a:off x="2687760" y="3708360"/>
            <a:ext cx="260280" cy="757440"/>
          </a:xfrm>
          <a:custGeom>
            <a:avLst/>
            <a:gdLst>
              <a:gd name="textAreaLeft" fmla="*/ 0 w 260280"/>
              <a:gd name="textAreaRight" fmla="*/ 260640 w 26028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164" h="477">
                <a:moveTo>
                  <a:pt x="19" y="477"/>
                </a:moveTo>
                <a:cubicBezTo>
                  <a:pt x="18" y="448"/>
                  <a:pt x="0" y="366"/>
                  <a:pt x="11" y="303"/>
                </a:cubicBezTo>
                <a:cubicBezTo>
                  <a:pt x="22" y="210"/>
                  <a:pt x="57" y="143"/>
                  <a:pt x="83" y="100"/>
                </a:cubicBezTo>
                <a:cubicBezTo>
                  <a:pt x="109" y="57"/>
                  <a:pt x="147" y="21"/>
                  <a:pt x="164" y="0"/>
                </a:cubicBezTo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2806560" y="3751200"/>
            <a:ext cx="230400" cy="725400"/>
          </a:xfrm>
          <a:custGeom>
            <a:avLst/>
            <a:gdLst>
              <a:gd name="textAreaLeft" fmla="*/ 0 w 230400"/>
              <a:gd name="textAreaRight" fmla="*/ 230760 w 23040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145" h="457">
                <a:moveTo>
                  <a:pt x="19" y="457"/>
                </a:moveTo>
                <a:cubicBezTo>
                  <a:pt x="17" y="431"/>
                  <a:pt x="0" y="361"/>
                  <a:pt x="7" y="303"/>
                </a:cubicBezTo>
                <a:cubicBezTo>
                  <a:pt x="9" y="246"/>
                  <a:pt x="37" y="159"/>
                  <a:pt x="64" y="111"/>
                </a:cubicBezTo>
                <a:cubicBezTo>
                  <a:pt x="91" y="63"/>
                  <a:pt x="128" y="23"/>
                  <a:pt x="145" y="0"/>
                </a:cubicBezTo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5"/>
          <p:cNvSpPr/>
          <p:nvPr/>
        </p:nvSpPr>
        <p:spPr>
          <a:xfrm>
            <a:off x="2938320" y="3789360"/>
            <a:ext cx="236520" cy="723960"/>
          </a:xfrm>
          <a:custGeom>
            <a:avLst/>
            <a:gdLst>
              <a:gd name="textAreaLeft" fmla="*/ 0 w 236520"/>
              <a:gd name="textAreaRight" fmla="*/ 236880 w 23652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149" h="456">
                <a:moveTo>
                  <a:pt x="20" y="456"/>
                </a:moveTo>
                <a:cubicBezTo>
                  <a:pt x="17" y="443"/>
                  <a:pt x="6" y="420"/>
                  <a:pt x="3" y="379"/>
                </a:cubicBezTo>
                <a:cubicBezTo>
                  <a:pt x="0" y="338"/>
                  <a:pt x="5" y="270"/>
                  <a:pt x="21" y="204"/>
                </a:cubicBezTo>
                <a:cubicBezTo>
                  <a:pt x="37" y="138"/>
                  <a:pt x="74" y="72"/>
                  <a:pt x="102" y="36"/>
                </a:cubicBezTo>
                <a:cubicBezTo>
                  <a:pt x="130" y="0"/>
                  <a:pt x="139" y="8"/>
                  <a:pt x="149" y="1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8"/>
          <p:cNvSpPr/>
          <p:nvPr/>
        </p:nvSpPr>
        <p:spPr>
          <a:xfrm>
            <a:off x="2976480" y="4518000"/>
            <a:ext cx="17640" cy="655560"/>
          </a:xfrm>
          <a:custGeom>
            <a:avLst/>
            <a:gdLst>
              <a:gd name="textAreaLeft" fmla="*/ 0 w 17640"/>
              <a:gd name="textAreaRight" fmla="*/ 18000 w 1764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11" h="413">
                <a:moveTo>
                  <a:pt x="7" y="0"/>
                </a:moveTo>
                <a:lnTo>
                  <a:pt x="0" y="354"/>
                </a:lnTo>
                <a:cubicBezTo>
                  <a:pt x="1" y="413"/>
                  <a:pt x="10" y="363"/>
                  <a:pt x="11" y="352"/>
                </a:cubicBezTo>
                <a:cubicBezTo>
                  <a:pt x="11" y="330"/>
                  <a:pt x="7" y="329"/>
                  <a:pt x="6" y="285"/>
                </a:cubicBezTo>
                <a:lnTo>
                  <a:pt x="6" y="88"/>
                </a:lnTo>
              </a:path>
            </a:pathLst>
          </a:cu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2584440" y="5032440"/>
            <a:ext cx="792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1"/>
          <p:cNvGrpSpPr/>
          <p:nvPr/>
        </p:nvGrpSpPr>
        <p:grpSpPr>
          <a:xfrm>
            <a:off x="2007360" y="3936240"/>
            <a:ext cx="672840" cy="674280"/>
            <a:chOff x="2007360" y="3936240"/>
            <a:chExt cx="672840" cy="674280"/>
          </a:xfrm>
        </p:grpSpPr>
        <p:grpSp>
          <p:nvGrpSpPr>
            <p:cNvPr id="143" name="Group 22"/>
            <p:cNvGrpSpPr/>
            <p:nvPr/>
          </p:nvGrpSpPr>
          <p:grpSpPr>
            <a:xfrm>
              <a:off x="2007360" y="4171680"/>
              <a:ext cx="672840" cy="204480"/>
              <a:chOff x="2007360" y="4171680"/>
              <a:chExt cx="672840" cy="204480"/>
            </a:xfrm>
          </p:grpSpPr>
          <p:sp>
            <p:nvSpPr>
              <p:cNvPr id="144" name="AutoShape 23"/>
              <p:cNvSpPr/>
              <p:nvPr/>
            </p:nvSpPr>
            <p:spPr>
              <a:xfrm rot="15300000">
                <a:off x="2163960" y="4145400"/>
                <a:ext cx="27000" cy="345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AutoShape 24"/>
              <p:cNvSpPr/>
              <p:nvPr/>
            </p:nvSpPr>
            <p:spPr>
              <a:xfrm flipV="1" rot="15300000">
                <a:off x="2496240" y="4056480"/>
                <a:ext cx="27000" cy="345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25"/>
            <p:cNvGrpSpPr/>
            <p:nvPr/>
          </p:nvGrpSpPr>
          <p:grpSpPr>
            <a:xfrm>
              <a:off x="2241360" y="3936240"/>
              <a:ext cx="204840" cy="674280"/>
              <a:chOff x="2241360" y="3936240"/>
              <a:chExt cx="204840" cy="674280"/>
            </a:xfrm>
          </p:grpSpPr>
          <p:sp>
            <p:nvSpPr>
              <p:cNvPr id="147" name="AutoShape 26"/>
              <p:cNvSpPr/>
              <p:nvPr/>
            </p:nvSpPr>
            <p:spPr>
              <a:xfrm rot="20700000">
                <a:off x="2285640" y="3933360"/>
                <a:ext cx="27000" cy="346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AutoShape 27"/>
              <p:cNvSpPr/>
              <p:nvPr/>
            </p:nvSpPr>
            <p:spPr>
              <a:xfrm flipV="1" rot="20700000">
                <a:off x="2374920" y="4266720"/>
                <a:ext cx="27000" cy="345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Group 28"/>
          <p:cNvGrpSpPr/>
          <p:nvPr/>
        </p:nvGrpSpPr>
        <p:grpSpPr>
          <a:xfrm>
            <a:off x="2090520" y="3827160"/>
            <a:ext cx="518760" cy="881280"/>
            <a:chOff x="2090520" y="3827160"/>
            <a:chExt cx="518760" cy="881280"/>
          </a:xfrm>
        </p:grpSpPr>
        <p:grpSp>
          <p:nvGrpSpPr>
            <p:cNvPr id="150" name="Group 29"/>
            <p:cNvGrpSpPr/>
            <p:nvPr/>
          </p:nvGrpSpPr>
          <p:grpSpPr>
            <a:xfrm>
              <a:off x="2149920" y="4141440"/>
              <a:ext cx="399960" cy="253440"/>
              <a:chOff x="2149920" y="4141440"/>
              <a:chExt cx="399960" cy="253440"/>
            </a:xfrm>
          </p:grpSpPr>
          <p:sp>
            <p:nvSpPr>
              <p:cNvPr id="151" name="AutoShape 30"/>
              <p:cNvSpPr/>
              <p:nvPr/>
            </p:nvSpPr>
            <p:spPr>
              <a:xfrm rot="18000000">
                <a:off x="2235240" y="4103280"/>
                <a:ext cx="39240" cy="219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AutoShape 31"/>
              <p:cNvSpPr/>
              <p:nvPr/>
            </p:nvSpPr>
            <p:spPr>
              <a:xfrm flipV="1" rot="18000000">
                <a:off x="2425320" y="4212720"/>
                <a:ext cx="39240" cy="219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32"/>
            <p:cNvGrpSpPr/>
            <p:nvPr/>
          </p:nvGrpSpPr>
          <p:grpSpPr>
            <a:xfrm>
              <a:off x="2090520" y="3827160"/>
              <a:ext cx="518760" cy="881280"/>
              <a:chOff x="2090520" y="3827160"/>
              <a:chExt cx="518760" cy="881280"/>
            </a:xfrm>
          </p:grpSpPr>
          <p:sp>
            <p:nvSpPr>
              <p:cNvPr id="154" name="AutoShape 33"/>
              <p:cNvSpPr/>
              <p:nvPr/>
            </p:nvSpPr>
            <p:spPr>
              <a:xfrm rot="1800000">
                <a:off x="2467080" y="3797280"/>
                <a:ext cx="16920" cy="50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utoShape 34"/>
              <p:cNvSpPr/>
              <p:nvPr/>
            </p:nvSpPr>
            <p:spPr>
              <a:xfrm flipV="1" rot="1800000">
                <a:off x="2215440" y="4232880"/>
                <a:ext cx="16920" cy="50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Text Box 35"/>
          <p:cNvSpPr/>
          <p:nvPr/>
        </p:nvSpPr>
        <p:spPr>
          <a:xfrm>
            <a:off x="468360" y="476280"/>
            <a:ext cx="256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黑体"/>
                <a:ea typeface="黑体"/>
              </a:rPr>
              <a:t>2006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6"/>
          <p:cNvSpPr/>
          <p:nvPr/>
        </p:nvSpPr>
        <p:spPr>
          <a:xfrm>
            <a:off x="1836720" y="1413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背着行囊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43"/>
          <p:cNvSpPr/>
          <p:nvPr/>
        </p:nvSpPr>
        <p:spPr>
          <a:xfrm>
            <a:off x="3348000" y="1467000"/>
            <a:ext cx="2604960" cy="3676680"/>
          </a:xfrm>
          <a:custGeom>
            <a:avLst/>
            <a:gdLst>
              <a:gd name="textAreaLeft" fmla="*/ 0 w 2604960"/>
              <a:gd name="textAreaRight" fmla="*/ 2605320 w 2604960"/>
              <a:gd name="textAreaTop" fmla="*/ 0 h 3676680"/>
              <a:gd name="textAreaBottom" fmla="*/ 3677040 h 3676680"/>
            </a:gdLst>
            <a:ahLst/>
            <a:rect l="textAreaLeft" t="textAreaTop" r="textAreaRight" b="textAreaBottom"/>
            <a:pathLst>
              <a:path w="1641" h="2316">
                <a:moveTo>
                  <a:pt x="0" y="2316"/>
                </a:moveTo>
                <a:cubicBezTo>
                  <a:pt x="33" y="2268"/>
                  <a:pt x="169" y="2084"/>
                  <a:pt x="202" y="2027"/>
                </a:cubicBezTo>
                <a:cubicBezTo>
                  <a:pt x="198" y="2009"/>
                  <a:pt x="191" y="1996"/>
                  <a:pt x="196" y="1977"/>
                </a:cubicBezTo>
                <a:cubicBezTo>
                  <a:pt x="201" y="1958"/>
                  <a:pt x="228" y="1933"/>
                  <a:pt x="229" y="1917"/>
                </a:cubicBezTo>
                <a:lnTo>
                  <a:pt x="201" y="1898"/>
                </a:lnTo>
                <a:cubicBezTo>
                  <a:pt x="422" y="1587"/>
                  <a:pt x="1506" y="100"/>
                  <a:pt x="1557" y="50"/>
                </a:cubicBezTo>
                <a:cubicBezTo>
                  <a:pt x="1608" y="0"/>
                  <a:pt x="1624" y="29"/>
                  <a:pt x="1641" y="23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4"/>
          <p:cNvSpPr/>
          <p:nvPr/>
        </p:nvSpPr>
        <p:spPr>
          <a:xfrm>
            <a:off x="3351240" y="1500120"/>
            <a:ext cx="2913120" cy="3640320"/>
          </a:xfrm>
          <a:custGeom>
            <a:avLst/>
            <a:gdLst>
              <a:gd name="textAreaLeft" fmla="*/ 0 w 2913120"/>
              <a:gd name="textAreaRight" fmla="*/ 2913480 w 2913120"/>
              <a:gd name="textAreaTop" fmla="*/ 0 h 3640320"/>
              <a:gd name="textAreaBottom" fmla="*/ 3640680 h 3640320"/>
            </a:gdLst>
            <a:ahLst/>
            <a:rect l="textAreaLeft" t="textAreaTop" r="textAreaRight" b="textAreaBottom"/>
            <a:pathLst>
              <a:path w="1835" h="2293">
                <a:moveTo>
                  <a:pt x="1619" y="0"/>
                </a:moveTo>
                <a:cubicBezTo>
                  <a:pt x="1653" y="3"/>
                  <a:pt x="1733" y="21"/>
                  <a:pt x="1784" y="144"/>
                </a:cubicBezTo>
                <a:cubicBezTo>
                  <a:pt x="1835" y="267"/>
                  <a:pt x="1748" y="438"/>
                  <a:pt x="1595" y="657"/>
                </a:cubicBezTo>
                <a:cubicBezTo>
                  <a:pt x="1442" y="876"/>
                  <a:pt x="1135" y="1150"/>
                  <a:pt x="936" y="1319"/>
                </a:cubicBezTo>
                <a:cubicBezTo>
                  <a:pt x="737" y="1488"/>
                  <a:pt x="577" y="1840"/>
                  <a:pt x="496" y="1943"/>
                </a:cubicBezTo>
                <a:cubicBezTo>
                  <a:pt x="496" y="1943"/>
                  <a:pt x="472" y="1940"/>
                  <a:pt x="448" y="1938"/>
                </a:cubicBezTo>
                <a:cubicBezTo>
                  <a:pt x="437" y="1979"/>
                  <a:pt x="401" y="2026"/>
                  <a:pt x="376" y="2049"/>
                </a:cubicBezTo>
                <a:cubicBezTo>
                  <a:pt x="345" y="2069"/>
                  <a:pt x="329" y="2052"/>
                  <a:pt x="295" y="2085"/>
                </a:cubicBezTo>
                <a:cubicBezTo>
                  <a:pt x="268" y="2121"/>
                  <a:pt x="219" y="2178"/>
                  <a:pt x="160" y="2214"/>
                </a:cubicBezTo>
                <a:cubicBezTo>
                  <a:pt x="101" y="2250"/>
                  <a:pt x="30" y="2277"/>
                  <a:pt x="0" y="2293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7"/>
          <p:cNvSpPr/>
          <p:nvPr/>
        </p:nvSpPr>
        <p:spPr>
          <a:xfrm>
            <a:off x="893880" y="2104920"/>
            <a:ext cx="418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我来到了公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8"/>
          <p:cNvSpPr/>
          <p:nvPr/>
        </p:nvSpPr>
        <p:spPr>
          <a:xfrm>
            <a:off x="5411880" y="536904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年转眼就过去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9"/>
          <p:cNvSpPr/>
          <p:nvPr/>
        </p:nvSpPr>
        <p:spPr>
          <a:xfrm>
            <a:off x="5580000" y="5137200"/>
            <a:ext cx="3546360" cy="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2"/>
          <p:cNvSpPr/>
          <p:nvPr/>
        </p:nvSpPr>
        <p:spPr>
          <a:xfrm>
            <a:off x="1836720" y="1413000"/>
            <a:ext cx="24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背着行囊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6" presetSubtype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6" presetSubtype="3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49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49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63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8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63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0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63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2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63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4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6">
                                  <p:stCondLst>
                                    <p:cond delay="5500"/>
                                  </p:stCondLst>
                                  <p:childTnLst>
                                    <p:animScale>
                                      <p:cBhvr>
                                        <p:cTn id="266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105"/>
          <p:cNvSpPr/>
          <p:nvPr/>
        </p:nvSpPr>
        <p:spPr>
          <a:xfrm>
            <a:off x="3673440" y="-747720"/>
            <a:ext cx="0" cy="229536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6"/>
          <p:cNvSpPr/>
          <p:nvPr/>
        </p:nvSpPr>
        <p:spPr>
          <a:xfrm>
            <a:off x="1692360" y="-243000"/>
            <a:ext cx="0" cy="229572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7"/>
          <p:cNvSpPr/>
          <p:nvPr/>
        </p:nvSpPr>
        <p:spPr>
          <a:xfrm>
            <a:off x="1332000" y="115920"/>
            <a:ext cx="1440" cy="215892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90"/>
          <p:cNvSpPr/>
          <p:nvPr/>
        </p:nvSpPr>
        <p:spPr>
          <a:xfrm>
            <a:off x="5219640" y="-387360"/>
            <a:ext cx="0" cy="158436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7"/>
          <p:cNvSpPr/>
          <p:nvPr/>
        </p:nvSpPr>
        <p:spPr>
          <a:xfrm>
            <a:off x="4932360" y="-243000"/>
            <a:ext cx="1440" cy="201636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8"/>
          <p:cNvSpPr/>
          <p:nvPr/>
        </p:nvSpPr>
        <p:spPr>
          <a:xfrm>
            <a:off x="4716360" y="-387360"/>
            <a:ext cx="1800" cy="172728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89"/>
          <p:cNvSpPr/>
          <p:nvPr/>
        </p:nvSpPr>
        <p:spPr>
          <a:xfrm>
            <a:off x="4643280" y="-531720"/>
            <a:ext cx="1800" cy="424800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6"/>
          <p:cNvSpPr/>
          <p:nvPr/>
        </p:nvSpPr>
        <p:spPr>
          <a:xfrm>
            <a:off x="4427640" y="-316080"/>
            <a:ext cx="1440" cy="338472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4"/>
          <p:cNvSpPr/>
          <p:nvPr/>
        </p:nvSpPr>
        <p:spPr>
          <a:xfrm>
            <a:off x="3924360" y="-316080"/>
            <a:ext cx="0" cy="316872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2"/>
          <p:cNvSpPr/>
          <p:nvPr/>
        </p:nvSpPr>
        <p:spPr>
          <a:xfrm>
            <a:off x="4211640" y="836640"/>
            <a:ext cx="1440" cy="424800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5"/>
          <p:cNvSpPr/>
          <p:nvPr/>
        </p:nvSpPr>
        <p:spPr>
          <a:xfrm>
            <a:off x="3780000" y="-243000"/>
            <a:ext cx="1440" cy="215928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0"/>
          <p:cNvSpPr/>
          <p:nvPr/>
        </p:nvSpPr>
        <p:spPr>
          <a:xfrm>
            <a:off x="3708360" y="1484280"/>
            <a:ext cx="0" cy="345600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7"/>
          <p:cNvSpPr/>
          <p:nvPr/>
        </p:nvSpPr>
        <p:spPr>
          <a:xfrm>
            <a:off x="2195640" y="-458640"/>
            <a:ext cx="1440" cy="248256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0"/>
          <p:cNvSpPr/>
          <p:nvPr/>
        </p:nvSpPr>
        <p:spPr>
          <a:xfrm>
            <a:off x="2340000" y="-171360"/>
            <a:ext cx="0" cy="217476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3"/>
          <p:cNvSpPr/>
          <p:nvPr/>
        </p:nvSpPr>
        <p:spPr>
          <a:xfrm>
            <a:off x="3203640" y="-171360"/>
            <a:ext cx="0" cy="309564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9"/>
          <p:cNvSpPr/>
          <p:nvPr/>
        </p:nvSpPr>
        <p:spPr>
          <a:xfrm>
            <a:off x="2411280" y="-1987560"/>
            <a:ext cx="1800" cy="345744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01"/>
          <p:cNvSpPr/>
          <p:nvPr/>
        </p:nvSpPr>
        <p:spPr>
          <a:xfrm>
            <a:off x="2700360" y="-458640"/>
            <a:ext cx="1440" cy="158400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02"/>
          <p:cNvSpPr/>
          <p:nvPr/>
        </p:nvSpPr>
        <p:spPr>
          <a:xfrm>
            <a:off x="3348000" y="-1035000"/>
            <a:ext cx="1800" cy="352728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03"/>
          <p:cNvSpPr/>
          <p:nvPr/>
        </p:nvSpPr>
        <p:spPr>
          <a:xfrm>
            <a:off x="2987640" y="189000"/>
            <a:ext cx="0" cy="172728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9"/>
          <p:cNvSpPr/>
          <p:nvPr/>
        </p:nvSpPr>
        <p:spPr>
          <a:xfrm>
            <a:off x="1835280" y="-171360"/>
            <a:ext cx="0" cy="223200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1"/>
          <p:cNvSpPr/>
          <p:nvPr/>
        </p:nvSpPr>
        <p:spPr>
          <a:xfrm>
            <a:off x="1476360" y="-316080"/>
            <a:ext cx="0" cy="279900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6"/>
          <p:cNvSpPr/>
          <p:nvPr/>
        </p:nvSpPr>
        <p:spPr>
          <a:xfrm>
            <a:off x="971640" y="-243000"/>
            <a:ext cx="0" cy="424836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8"/>
          <p:cNvSpPr/>
          <p:nvPr/>
        </p:nvSpPr>
        <p:spPr>
          <a:xfrm>
            <a:off x="826920" y="-171360"/>
            <a:ext cx="1800" cy="273672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2"/>
          <p:cNvSpPr/>
          <p:nvPr/>
        </p:nvSpPr>
        <p:spPr>
          <a:xfrm>
            <a:off x="539640" y="-171360"/>
            <a:ext cx="0" cy="345744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91"/>
          <p:cNvSpPr/>
          <p:nvPr/>
        </p:nvSpPr>
        <p:spPr>
          <a:xfrm>
            <a:off x="324000" y="-316080"/>
            <a:ext cx="0" cy="229572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3"/>
          <p:cNvSpPr/>
          <p:nvPr/>
        </p:nvSpPr>
        <p:spPr>
          <a:xfrm>
            <a:off x="179280" y="1484280"/>
            <a:ext cx="1800" cy="215892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4"/>
          <p:cNvSpPr/>
          <p:nvPr/>
        </p:nvSpPr>
        <p:spPr>
          <a:xfrm>
            <a:off x="1306440" y="2637000"/>
            <a:ext cx="1800" cy="215892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5"/>
          <p:cNvSpPr/>
          <p:nvPr/>
        </p:nvSpPr>
        <p:spPr>
          <a:xfrm>
            <a:off x="684360" y="2565360"/>
            <a:ext cx="1440" cy="244800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6"/>
          <p:cNvSpPr/>
          <p:nvPr/>
        </p:nvSpPr>
        <p:spPr>
          <a:xfrm>
            <a:off x="1116000" y="-747720"/>
            <a:ext cx="1440" cy="229536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7"/>
          <p:cNvSpPr/>
          <p:nvPr/>
        </p:nvSpPr>
        <p:spPr>
          <a:xfrm>
            <a:off x="684360" y="-1147680"/>
            <a:ext cx="1440" cy="2295360"/>
          </a:xfrm>
          <a:prstGeom prst="line">
            <a:avLst/>
          </a:prstGeom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4"/>
          <p:cNvSpPr/>
          <p:nvPr/>
        </p:nvSpPr>
        <p:spPr>
          <a:xfrm>
            <a:off x="-468360" y="0"/>
            <a:ext cx="6769080" cy="5689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 flipV="1">
            <a:off x="-36360" y="5145120"/>
            <a:ext cx="2592360" cy="14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3520" y="3505320"/>
            <a:ext cx="285840" cy="1641240"/>
          </a:xfrm>
          <a:custGeom>
            <a:avLst/>
            <a:gdLst>
              <a:gd name="textAreaLeft" fmla="*/ 0 w 285840"/>
              <a:gd name="textAreaRight" fmla="*/ 286200 w 285840"/>
              <a:gd name="textAreaTop" fmla="*/ 0 h 1641240"/>
              <a:gd name="textAreaBottom" fmla="*/ 1641600 h 1641240"/>
            </a:gdLst>
            <a:ahLst/>
            <a:rect l="textAreaLeft" t="textAreaTop" r="textAreaRight" b="textAreaBottom"/>
            <a:pathLst>
              <a:path w="180" h="1034">
                <a:moveTo>
                  <a:pt x="138" y="1034"/>
                </a:moveTo>
                <a:lnTo>
                  <a:pt x="180" y="1032"/>
                </a:lnTo>
                <a:cubicBezTo>
                  <a:pt x="180" y="1027"/>
                  <a:pt x="146" y="1024"/>
                  <a:pt x="141" y="1005"/>
                </a:cubicBezTo>
                <a:cubicBezTo>
                  <a:pt x="137" y="988"/>
                  <a:pt x="156" y="975"/>
                  <a:pt x="152" y="915"/>
                </a:cubicBezTo>
                <a:cubicBezTo>
                  <a:pt x="148" y="855"/>
                  <a:pt x="109" y="758"/>
                  <a:pt x="116" y="701"/>
                </a:cubicBezTo>
                <a:cubicBezTo>
                  <a:pt x="123" y="644"/>
                  <a:pt x="123" y="542"/>
                  <a:pt x="108" y="510"/>
                </a:cubicBezTo>
                <a:cubicBezTo>
                  <a:pt x="93" y="478"/>
                  <a:pt x="24" y="485"/>
                  <a:pt x="12" y="468"/>
                </a:cubicBezTo>
                <a:cubicBezTo>
                  <a:pt x="0" y="450"/>
                  <a:pt x="34" y="446"/>
                  <a:pt x="38" y="404"/>
                </a:cubicBezTo>
                <a:cubicBezTo>
                  <a:pt x="30" y="368"/>
                  <a:pt x="27" y="290"/>
                  <a:pt x="39" y="218"/>
                </a:cubicBezTo>
                <a:cubicBezTo>
                  <a:pt x="51" y="146"/>
                  <a:pt x="56" y="41"/>
                  <a:pt x="57" y="2"/>
                </a:cubicBezTo>
                <a:lnTo>
                  <a:pt x="39" y="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8"/>
          <p:cNvSpPr/>
          <p:nvPr/>
        </p:nvSpPr>
        <p:spPr>
          <a:xfrm>
            <a:off x="2209680" y="3389400"/>
            <a:ext cx="212760" cy="115920"/>
          </a:xfrm>
          <a:custGeom>
            <a:avLst/>
            <a:gdLst>
              <a:gd name="textAreaLeft" fmla="*/ 0 w 212760"/>
              <a:gd name="textAreaRight" fmla="*/ 213120 w 2127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34" h="73">
                <a:moveTo>
                  <a:pt x="134" y="73"/>
                </a:moveTo>
                <a:cubicBezTo>
                  <a:pt x="119" y="71"/>
                  <a:pt x="66" y="69"/>
                  <a:pt x="45" y="61"/>
                </a:cubicBezTo>
                <a:cubicBezTo>
                  <a:pt x="25" y="53"/>
                  <a:pt x="16" y="37"/>
                  <a:pt x="9" y="27"/>
                </a:cubicBezTo>
                <a:cubicBezTo>
                  <a:pt x="2" y="17"/>
                  <a:pt x="2" y="6"/>
                  <a:pt x="0" y="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2205000" y="2990880"/>
            <a:ext cx="138240" cy="404640"/>
          </a:xfrm>
          <a:custGeom>
            <a:avLst/>
            <a:gdLst>
              <a:gd name="textAreaLeft" fmla="*/ 0 w 138240"/>
              <a:gd name="textAreaRight" fmla="*/ 138240 w 13824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87" h="255">
                <a:moveTo>
                  <a:pt x="3" y="255"/>
                </a:moveTo>
                <a:cubicBezTo>
                  <a:pt x="3" y="249"/>
                  <a:pt x="0" y="228"/>
                  <a:pt x="6" y="216"/>
                </a:cubicBezTo>
                <a:cubicBezTo>
                  <a:pt x="11" y="206"/>
                  <a:pt x="29" y="201"/>
                  <a:pt x="42" y="183"/>
                </a:cubicBezTo>
                <a:cubicBezTo>
                  <a:pt x="42" y="183"/>
                  <a:pt x="57" y="123"/>
                  <a:pt x="84" y="107"/>
                </a:cubicBezTo>
                <a:cubicBezTo>
                  <a:pt x="87" y="87"/>
                  <a:pt x="62" y="74"/>
                  <a:pt x="59" y="57"/>
                </a:cubicBezTo>
                <a:cubicBezTo>
                  <a:pt x="56" y="40"/>
                  <a:pt x="61" y="17"/>
                  <a:pt x="63" y="6"/>
                </a:cubicBezTo>
                <a:lnTo>
                  <a:pt x="77" y="0"/>
                </a:lnTo>
              </a:path>
            </a:pathLst>
          </a:custGeom>
          <a:noFill/>
          <a:ln w="32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2062080" y="2533680"/>
            <a:ext cx="274680" cy="465120"/>
          </a:xfrm>
          <a:custGeom>
            <a:avLst/>
            <a:gdLst>
              <a:gd name="textAreaLeft" fmla="*/ 0 w 274680"/>
              <a:gd name="textAreaRight" fmla="*/ 275040 w 27468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173" h="293">
                <a:moveTo>
                  <a:pt x="173" y="293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370160" y="2546280"/>
            <a:ext cx="701640" cy="378000"/>
          </a:xfrm>
          <a:custGeom>
            <a:avLst/>
            <a:gdLst>
              <a:gd name="textAreaLeft" fmla="*/ 0 w 701640"/>
              <a:gd name="textAreaRight" fmla="*/ 702000 w 70164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442" h="238">
                <a:moveTo>
                  <a:pt x="442" y="0"/>
                </a:moveTo>
                <a:lnTo>
                  <a:pt x="256" y="109"/>
                </a:lnTo>
                <a:lnTo>
                  <a:pt x="250" y="136"/>
                </a:lnTo>
                <a:lnTo>
                  <a:pt x="228" y="124"/>
                </a:lnTo>
                <a:lnTo>
                  <a:pt x="0" y="238"/>
                </a:lnTo>
                <a:lnTo>
                  <a:pt x="3" y="213"/>
                </a:lnTo>
              </a:path>
            </a:pathLst>
          </a:custGeom>
          <a:noFill/>
          <a:ln w="32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2"/>
          <p:cNvSpPr/>
          <p:nvPr/>
        </p:nvSpPr>
        <p:spPr>
          <a:xfrm>
            <a:off x="1371600" y="2013120"/>
            <a:ext cx="1432080" cy="882360"/>
          </a:xfrm>
          <a:custGeom>
            <a:avLst/>
            <a:gdLst>
              <a:gd name="textAreaLeft" fmla="*/ 0 w 1432080"/>
              <a:gd name="textAreaRight" fmla="*/ 1432440 w 1432080"/>
              <a:gd name="textAreaTop" fmla="*/ 0 h 882360"/>
              <a:gd name="textAreaBottom" fmla="*/ 882720 h 882360"/>
            </a:gdLst>
            <a:ahLst/>
            <a:rect l="textAreaLeft" t="textAreaTop" r="textAreaRight" b="textAreaBottom"/>
            <a:pathLst>
              <a:path w="902" h="556">
                <a:moveTo>
                  <a:pt x="0" y="556"/>
                </a:moveTo>
                <a:cubicBezTo>
                  <a:pt x="9" y="510"/>
                  <a:pt x="20" y="403"/>
                  <a:pt x="90" y="301"/>
                </a:cubicBezTo>
                <a:cubicBezTo>
                  <a:pt x="160" y="199"/>
                  <a:pt x="254" y="129"/>
                  <a:pt x="291" y="102"/>
                </a:cubicBezTo>
                <a:cubicBezTo>
                  <a:pt x="284" y="75"/>
                  <a:pt x="278" y="48"/>
                  <a:pt x="278" y="48"/>
                </a:cubicBezTo>
                <a:cubicBezTo>
                  <a:pt x="278" y="48"/>
                  <a:pt x="301" y="66"/>
                  <a:pt x="324" y="84"/>
                </a:cubicBezTo>
                <a:cubicBezTo>
                  <a:pt x="378" y="60"/>
                  <a:pt x="469" y="24"/>
                  <a:pt x="594" y="12"/>
                </a:cubicBezTo>
                <a:cubicBezTo>
                  <a:pt x="719" y="0"/>
                  <a:pt x="840" y="36"/>
                  <a:pt x="902" y="54"/>
                </a:cubicBezTo>
              </a:path>
            </a:pathLst>
          </a:custGeom>
          <a:noFill/>
          <a:ln w="32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3"/>
          <p:cNvSpPr/>
          <p:nvPr/>
        </p:nvSpPr>
        <p:spPr>
          <a:xfrm>
            <a:off x="2066760" y="2092320"/>
            <a:ext cx="749520" cy="457200"/>
          </a:xfrm>
          <a:custGeom>
            <a:avLst/>
            <a:gdLst>
              <a:gd name="textAreaLeft" fmla="*/ 0 w 749520"/>
              <a:gd name="textAreaRight" fmla="*/ 749880 w 749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72" h="288">
                <a:moveTo>
                  <a:pt x="451" y="0"/>
                </a:moveTo>
                <a:lnTo>
                  <a:pt x="472" y="9"/>
                </a:lnTo>
                <a:cubicBezTo>
                  <a:pt x="461" y="19"/>
                  <a:pt x="443" y="29"/>
                  <a:pt x="387" y="62"/>
                </a:cubicBezTo>
                <a:lnTo>
                  <a:pt x="136" y="209"/>
                </a:lnTo>
                <a:lnTo>
                  <a:pt x="138" y="233"/>
                </a:lnTo>
                <a:lnTo>
                  <a:pt x="114" y="225"/>
                </a:lnTo>
                <a:lnTo>
                  <a:pt x="0" y="288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4"/>
          <p:cNvSpPr/>
          <p:nvPr/>
        </p:nvSpPr>
        <p:spPr>
          <a:xfrm>
            <a:off x="2332080" y="2979720"/>
            <a:ext cx="230040" cy="133200"/>
          </a:xfrm>
          <a:custGeom>
            <a:avLst/>
            <a:gdLst>
              <a:gd name="textAreaLeft" fmla="*/ 0 w 230040"/>
              <a:gd name="textAreaRight" fmla="*/ 230400 w 23004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45" h="84">
                <a:moveTo>
                  <a:pt x="0" y="6"/>
                </a:moveTo>
                <a:cubicBezTo>
                  <a:pt x="9" y="9"/>
                  <a:pt x="35" y="0"/>
                  <a:pt x="52" y="27"/>
                </a:cubicBezTo>
                <a:cubicBezTo>
                  <a:pt x="69" y="54"/>
                  <a:pt x="61" y="78"/>
                  <a:pt x="72" y="84"/>
                </a:cubicBezTo>
                <a:lnTo>
                  <a:pt x="132" y="69"/>
                </a:lnTo>
                <a:lnTo>
                  <a:pt x="145" y="46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5"/>
          <p:cNvSpPr/>
          <p:nvPr/>
        </p:nvSpPr>
        <p:spPr>
          <a:xfrm>
            <a:off x="2557440" y="2676600"/>
            <a:ext cx="169920" cy="385560"/>
          </a:xfrm>
          <a:custGeom>
            <a:avLst/>
            <a:gdLst>
              <a:gd name="textAreaLeft" fmla="*/ 0 w 169920"/>
              <a:gd name="textAreaRight" fmla="*/ 170280 w 16992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107" h="243">
                <a:moveTo>
                  <a:pt x="0" y="243"/>
                </a:moveTo>
                <a:cubicBezTo>
                  <a:pt x="5" y="213"/>
                  <a:pt x="14" y="103"/>
                  <a:pt x="32" y="63"/>
                </a:cubicBezTo>
                <a:cubicBezTo>
                  <a:pt x="52" y="23"/>
                  <a:pt x="92" y="13"/>
                  <a:pt x="107" y="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6"/>
          <p:cNvSpPr/>
          <p:nvPr/>
        </p:nvSpPr>
        <p:spPr>
          <a:xfrm>
            <a:off x="2695680" y="2665440"/>
            <a:ext cx="252360" cy="44280"/>
          </a:xfrm>
          <a:custGeom>
            <a:avLst/>
            <a:gdLst>
              <a:gd name="textAreaLeft" fmla="*/ 0 w 252360"/>
              <a:gd name="textAreaRight" fmla="*/ 252720 w 252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59" h="28">
                <a:moveTo>
                  <a:pt x="29" y="9"/>
                </a:moveTo>
                <a:cubicBezTo>
                  <a:pt x="0" y="6"/>
                  <a:pt x="43" y="11"/>
                  <a:pt x="57" y="10"/>
                </a:cubicBezTo>
                <a:cubicBezTo>
                  <a:pt x="71" y="9"/>
                  <a:pt x="97" y="0"/>
                  <a:pt x="114" y="3"/>
                </a:cubicBezTo>
                <a:cubicBezTo>
                  <a:pt x="132" y="5"/>
                  <a:pt x="151" y="23"/>
                  <a:pt x="159" y="28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7"/>
          <p:cNvSpPr/>
          <p:nvPr/>
        </p:nvSpPr>
        <p:spPr>
          <a:xfrm>
            <a:off x="2943360" y="2703600"/>
            <a:ext cx="226800" cy="619200"/>
          </a:xfrm>
          <a:custGeom>
            <a:avLst/>
            <a:gdLst>
              <a:gd name="textAreaLeft" fmla="*/ 0 w 226800"/>
              <a:gd name="textAreaRight" fmla="*/ 227160 w 22680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143" h="390">
                <a:moveTo>
                  <a:pt x="0" y="0"/>
                </a:moveTo>
                <a:cubicBezTo>
                  <a:pt x="6" y="11"/>
                  <a:pt x="28" y="50"/>
                  <a:pt x="39" y="67"/>
                </a:cubicBezTo>
                <a:cubicBezTo>
                  <a:pt x="50" y="84"/>
                  <a:pt x="62" y="81"/>
                  <a:pt x="65" y="102"/>
                </a:cubicBezTo>
                <a:cubicBezTo>
                  <a:pt x="68" y="123"/>
                  <a:pt x="64" y="171"/>
                  <a:pt x="57" y="196"/>
                </a:cubicBezTo>
                <a:cubicBezTo>
                  <a:pt x="50" y="221"/>
                  <a:pt x="35" y="235"/>
                  <a:pt x="20" y="253"/>
                </a:cubicBezTo>
                <a:cubicBezTo>
                  <a:pt x="24" y="274"/>
                  <a:pt x="61" y="299"/>
                  <a:pt x="81" y="322"/>
                </a:cubicBezTo>
                <a:cubicBezTo>
                  <a:pt x="101" y="345"/>
                  <a:pt x="130" y="376"/>
                  <a:pt x="143" y="39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8"/>
          <p:cNvSpPr/>
          <p:nvPr/>
        </p:nvSpPr>
        <p:spPr>
          <a:xfrm>
            <a:off x="3157560" y="3171960"/>
            <a:ext cx="527040" cy="145800"/>
          </a:xfrm>
          <a:custGeom>
            <a:avLst/>
            <a:gdLst>
              <a:gd name="textAreaLeft" fmla="*/ 0 w 527040"/>
              <a:gd name="textAreaRight" fmla="*/ 527400 w 5270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332" h="92">
                <a:moveTo>
                  <a:pt x="0" y="90"/>
                </a:moveTo>
                <a:cubicBezTo>
                  <a:pt x="6" y="90"/>
                  <a:pt x="21" y="88"/>
                  <a:pt x="35" y="87"/>
                </a:cubicBezTo>
                <a:cubicBezTo>
                  <a:pt x="49" y="86"/>
                  <a:pt x="63" y="92"/>
                  <a:pt x="84" y="83"/>
                </a:cubicBezTo>
                <a:cubicBezTo>
                  <a:pt x="105" y="74"/>
                  <a:pt x="137" y="49"/>
                  <a:pt x="164" y="35"/>
                </a:cubicBezTo>
                <a:cubicBezTo>
                  <a:pt x="190" y="23"/>
                  <a:pt x="209" y="14"/>
                  <a:pt x="245" y="0"/>
                </a:cubicBezTo>
                <a:cubicBezTo>
                  <a:pt x="237" y="21"/>
                  <a:pt x="237" y="30"/>
                  <a:pt x="237" y="30"/>
                </a:cubicBezTo>
                <a:cubicBezTo>
                  <a:pt x="255" y="33"/>
                  <a:pt x="269" y="31"/>
                  <a:pt x="285" y="30"/>
                </a:cubicBezTo>
                <a:cubicBezTo>
                  <a:pt x="301" y="29"/>
                  <a:pt x="322" y="23"/>
                  <a:pt x="332" y="21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9"/>
          <p:cNvSpPr/>
          <p:nvPr/>
        </p:nvSpPr>
        <p:spPr>
          <a:xfrm>
            <a:off x="3441600" y="3186000"/>
            <a:ext cx="297000" cy="147600"/>
          </a:xfrm>
          <a:custGeom>
            <a:avLst/>
            <a:gdLst>
              <a:gd name="textAreaLeft" fmla="*/ 0 w 297000"/>
              <a:gd name="textAreaRight" fmla="*/ 297360 w 29700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187" h="93">
                <a:moveTo>
                  <a:pt x="142" y="15"/>
                </a:moveTo>
                <a:cubicBezTo>
                  <a:pt x="187" y="0"/>
                  <a:pt x="117" y="53"/>
                  <a:pt x="73" y="60"/>
                </a:cubicBezTo>
                <a:cubicBezTo>
                  <a:pt x="29" y="67"/>
                  <a:pt x="19" y="67"/>
                  <a:pt x="0" y="74"/>
                </a:cubicBezTo>
                <a:lnTo>
                  <a:pt x="4" y="93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0"/>
          <p:cNvSpPr/>
          <p:nvPr/>
        </p:nvSpPr>
        <p:spPr>
          <a:xfrm>
            <a:off x="3448080" y="3327480"/>
            <a:ext cx="38160" cy="109440"/>
          </a:xfrm>
          <a:custGeom>
            <a:avLst/>
            <a:gdLst>
              <a:gd name="textAreaLeft" fmla="*/ 0 w 38160"/>
              <a:gd name="textAreaRight" fmla="*/ 38520 w 3816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4" h="69">
                <a:moveTo>
                  <a:pt x="0" y="0"/>
                </a:moveTo>
                <a:lnTo>
                  <a:pt x="24" y="61"/>
                </a:lnTo>
                <a:lnTo>
                  <a:pt x="9" y="69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1"/>
          <p:cNvSpPr/>
          <p:nvPr/>
        </p:nvSpPr>
        <p:spPr>
          <a:xfrm>
            <a:off x="3056040" y="3429000"/>
            <a:ext cx="419040" cy="9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264" h="62">
                <a:moveTo>
                  <a:pt x="264" y="0"/>
                </a:moveTo>
                <a:cubicBezTo>
                  <a:pt x="253" y="6"/>
                  <a:pt x="219" y="24"/>
                  <a:pt x="193" y="33"/>
                </a:cubicBezTo>
                <a:cubicBezTo>
                  <a:pt x="170" y="42"/>
                  <a:pt x="136" y="51"/>
                  <a:pt x="105" y="56"/>
                </a:cubicBezTo>
                <a:cubicBezTo>
                  <a:pt x="74" y="61"/>
                  <a:pt x="22" y="61"/>
                  <a:pt x="0" y="62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22"/>
          <p:cNvSpPr/>
          <p:nvPr/>
        </p:nvSpPr>
        <p:spPr>
          <a:xfrm>
            <a:off x="2863800" y="3508200"/>
            <a:ext cx="189000" cy="1643400"/>
          </a:xfrm>
          <a:custGeom>
            <a:avLst/>
            <a:gdLst>
              <a:gd name="textAreaLeft" fmla="*/ 0 w 189000"/>
              <a:gd name="textAreaRight" fmla="*/ 189360 w 189000"/>
              <a:gd name="textAreaTop" fmla="*/ 0 h 1643400"/>
              <a:gd name="textAreaBottom" fmla="*/ 1643760 h 1643400"/>
            </a:gdLst>
            <a:ahLst/>
            <a:rect l="textAreaLeft" t="textAreaTop" r="textAreaRight" b="textAreaBottom"/>
            <a:pathLst>
              <a:path w="119" h="1035">
                <a:moveTo>
                  <a:pt x="119" y="0"/>
                </a:moveTo>
                <a:cubicBezTo>
                  <a:pt x="116" y="48"/>
                  <a:pt x="107" y="226"/>
                  <a:pt x="106" y="286"/>
                </a:cubicBezTo>
                <a:cubicBezTo>
                  <a:pt x="103" y="345"/>
                  <a:pt x="114" y="350"/>
                  <a:pt x="113" y="361"/>
                </a:cubicBezTo>
                <a:lnTo>
                  <a:pt x="97" y="397"/>
                </a:lnTo>
                <a:cubicBezTo>
                  <a:pt x="95" y="417"/>
                  <a:pt x="111" y="464"/>
                  <a:pt x="100" y="480"/>
                </a:cubicBezTo>
                <a:cubicBezTo>
                  <a:pt x="90" y="496"/>
                  <a:pt x="46" y="487"/>
                  <a:pt x="29" y="492"/>
                </a:cubicBezTo>
                <a:cubicBezTo>
                  <a:pt x="26" y="532"/>
                  <a:pt x="22" y="585"/>
                  <a:pt x="23" y="645"/>
                </a:cubicBezTo>
                <a:cubicBezTo>
                  <a:pt x="24" y="692"/>
                  <a:pt x="30" y="748"/>
                  <a:pt x="26" y="796"/>
                </a:cubicBezTo>
                <a:cubicBezTo>
                  <a:pt x="23" y="843"/>
                  <a:pt x="0" y="899"/>
                  <a:pt x="4" y="930"/>
                </a:cubicBezTo>
                <a:cubicBezTo>
                  <a:pt x="7" y="962"/>
                  <a:pt x="45" y="964"/>
                  <a:pt x="53" y="981"/>
                </a:cubicBezTo>
                <a:cubicBezTo>
                  <a:pt x="61" y="998"/>
                  <a:pt x="46" y="1023"/>
                  <a:pt x="55" y="1032"/>
                </a:cubicBezTo>
                <a:cubicBezTo>
                  <a:pt x="76" y="1035"/>
                  <a:pt x="98" y="1033"/>
                  <a:pt x="109" y="1033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23"/>
          <p:cNvSpPr/>
          <p:nvPr/>
        </p:nvSpPr>
        <p:spPr>
          <a:xfrm>
            <a:off x="2668680" y="4316400"/>
            <a:ext cx="93600" cy="806400"/>
          </a:xfrm>
          <a:custGeom>
            <a:avLst/>
            <a:gdLst>
              <a:gd name="textAreaLeft" fmla="*/ 0 w 93600"/>
              <a:gd name="textAreaRight" fmla="*/ 93960 w 9360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59" h="508">
                <a:moveTo>
                  <a:pt x="53" y="508"/>
                </a:moveTo>
                <a:cubicBezTo>
                  <a:pt x="53" y="508"/>
                  <a:pt x="57" y="398"/>
                  <a:pt x="56" y="355"/>
                </a:cubicBezTo>
                <a:cubicBezTo>
                  <a:pt x="56" y="355"/>
                  <a:pt x="49" y="285"/>
                  <a:pt x="49" y="248"/>
                </a:cubicBezTo>
                <a:cubicBezTo>
                  <a:pt x="49" y="211"/>
                  <a:pt x="59" y="171"/>
                  <a:pt x="56" y="134"/>
                </a:cubicBezTo>
                <a:cubicBezTo>
                  <a:pt x="53" y="97"/>
                  <a:pt x="35" y="0"/>
                  <a:pt x="25" y="4"/>
                </a:cubicBezTo>
                <a:cubicBezTo>
                  <a:pt x="17" y="8"/>
                  <a:pt x="14" y="116"/>
                  <a:pt x="7" y="158"/>
                </a:cubicBezTo>
                <a:cubicBezTo>
                  <a:pt x="0" y="200"/>
                  <a:pt x="11" y="233"/>
                  <a:pt x="14" y="269"/>
                </a:cubicBezTo>
                <a:cubicBezTo>
                  <a:pt x="17" y="305"/>
                  <a:pt x="11" y="338"/>
                  <a:pt x="16" y="376"/>
                </a:cubicBezTo>
                <a:cubicBezTo>
                  <a:pt x="21" y="414"/>
                  <a:pt x="45" y="481"/>
                  <a:pt x="53" y="508"/>
                </a:cubicBezTo>
                <a:close/>
              </a:path>
            </a:pathLst>
          </a:custGeom>
          <a:noFill/>
          <a:ln w="32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82"/>
          <p:cNvGrpSpPr/>
          <p:nvPr/>
        </p:nvGrpSpPr>
        <p:grpSpPr>
          <a:xfrm>
            <a:off x="4405320" y="417600"/>
            <a:ext cx="933480" cy="4733640"/>
            <a:chOff x="4405320" y="417600"/>
            <a:chExt cx="933480" cy="4733640"/>
          </a:xfrm>
        </p:grpSpPr>
        <p:grpSp>
          <p:nvGrpSpPr>
            <p:cNvPr id="214" name="Group 28"/>
            <p:cNvGrpSpPr/>
            <p:nvPr/>
          </p:nvGrpSpPr>
          <p:grpSpPr>
            <a:xfrm>
              <a:off x="4673520" y="4630680"/>
              <a:ext cx="442800" cy="520560"/>
              <a:chOff x="4673520" y="4630680"/>
              <a:chExt cx="442800" cy="520560"/>
            </a:xfrm>
          </p:grpSpPr>
          <p:sp>
            <p:nvSpPr>
              <p:cNvPr id="215" name="Freeform 25"/>
              <p:cNvSpPr/>
              <p:nvPr/>
            </p:nvSpPr>
            <p:spPr>
              <a:xfrm>
                <a:off x="4673520" y="4630680"/>
                <a:ext cx="442800" cy="52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520560"/>
                  <a:gd name="textAreaBottom" fmla="*/ 520560 h 520560"/>
                </a:gdLst>
                <a:ahLst/>
                <a:rect l="textAreaLeft" t="textAreaTop" r="textAreaRight" b="textAreaBottom"/>
                <a:pathLst>
                  <a:path w="279" h="328">
                    <a:moveTo>
                      <a:pt x="36" y="326"/>
                    </a:moveTo>
                    <a:cubicBezTo>
                      <a:pt x="18" y="297"/>
                      <a:pt x="21" y="298"/>
                      <a:pt x="0" y="264"/>
                    </a:cubicBezTo>
                    <a:cubicBezTo>
                      <a:pt x="17" y="249"/>
                      <a:pt x="34" y="227"/>
                      <a:pt x="49" y="197"/>
                    </a:cubicBezTo>
                    <a:cubicBezTo>
                      <a:pt x="63" y="166"/>
                      <a:pt x="82" y="108"/>
                      <a:pt x="87" y="87"/>
                    </a:cubicBezTo>
                    <a:lnTo>
                      <a:pt x="76" y="74"/>
                    </a:lnTo>
                    <a:lnTo>
                      <a:pt x="90" y="68"/>
                    </a:lnTo>
                    <a:cubicBezTo>
                      <a:pt x="89" y="61"/>
                      <a:pt x="71" y="48"/>
                      <a:pt x="72" y="33"/>
                    </a:cubicBezTo>
                    <a:cubicBezTo>
                      <a:pt x="73" y="18"/>
                      <a:pt x="82" y="4"/>
                      <a:pt x="100" y="0"/>
                    </a:cubicBezTo>
                    <a:lnTo>
                      <a:pt x="181" y="0"/>
                    </a:lnTo>
                    <a:cubicBezTo>
                      <a:pt x="198" y="6"/>
                      <a:pt x="204" y="25"/>
                      <a:pt x="204" y="35"/>
                    </a:cubicBezTo>
                    <a:cubicBezTo>
                      <a:pt x="204" y="51"/>
                      <a:pt x="186" y="56"/>
                      <a:pt x="184" y="63"/>
                    </a:cubicBezTo>
                    <a:lnTo>
                      <a:pt x="196" y="74"/>
                    </a:lnTo>
                    <a:lnTo>
                      <a:pt x="187" y="84"/>
                    </a:lnTo>
                    <a:cubicBezTo>
                      <a:pt x="193" y="104"/>
                      <a:pt x="216" y="169"/>
                      <a:pt x="231" y="198"/>
                    </a:cubicBezTo>
                    <a:cubicBezTo>
                      <a:pt x="247" y="226"/>
                      <a:pt x="258" y="240"/>
                      <a:pt x="279" y="257"/>
                    </a:cubicBezTo>
                    <a:cubicBezTo>
                      <a:pt x="261" y="296"/>
                      <a:pt x="264" y="296"/>
                      <a:pt x="247" y="326"/>
                    </a:cubicBezTo>
                    <a:cubicBezTo>
                      <a:pt x="206" y="328"/>
                      <a:pt x="80" y="326"/>
                      <a:pt x="36" y="326"/>
                    </a:cubicBezTo>
                    <a:close/>
                  </a:path>
                </a:pathLst>
              </a:custGeom>
              <a:noFill/>
              <a:ln w="316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7"/>
              <p:cNvSpPr/>
              <p:nvPr/>
            </p:nvSpPr>
            <p:spPr>
              <a:xfrm>
                <a:off x="4771800" y="4763880"/>
                <a:ext cx="250920" cy="297000"/>
              </a:xfrm>
              <a:custGeom>
                <a:avLst/>
                <a:gdLst>
                  <a:gd name="textAreaLeft" fmla="*/ 0 w 250920"/>
                  <a:gd name="textAreaRight" fmla="*/ 250920 w 2509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158" h="187">
                    <a:moveTo>
                      <a:pt x="51" y="3"/>
                    </a:moveTo>
                    <a:cubicBezTo>
                      <a:pt x="51" y="28"/>
                      <a:pt x="44" y="83"/>
                      <a:pt x="36" y="114"/>
                    </a:cubicBezTo>
                    <a:cubicBezTo>
                      <a:pt x="28" y="145"/>
                      <a:pt x="21" y="154"/>
                      <a:pt x="0" y="187"/>
                    </a:cubicBezTo>
                    <a:cubicBezTo>
                      <a:pt x="0" y="187"/>
                      <a:pt x="79" y="187"/>
                      <a:pt x="158" y="187"/>
                    </a:cubicBezTo>
                    <a:cubicBezTo>
                      <a:pt x="149" y="168"/>
                      <a:pt x="131" y="146"/>
                      <a:pt x="122" y="115"/>
                    </a:cubicBezTo>
                    <a:cubicBezTo>
                      <a:pt x="113" y="84"/>
                      <a:pt x="105" y="34"/>
                      <a:pt x="104" y="0"/>
                    </a:cubicBezTo>
                    <a:cubicBezTo>
                      <a:pt x="91" y="3"/>
                      <a:pt x="78" y="6"/>
                      <a:pt x="78" y="6"/>
                    </a:cubicBezTo>
                    <a:cubicBezTo>
                      <a:pt x="78" y="6"/>
                      <a:pt x="51" y="3"/>
                      <a:pt x="51" y="3"/>
                    </a:cubicBezTo>
                    <a:close/>
                  </a:path>
                </a:pathLst>
              </a:custGeom>
              <a:solidFill>
                <a:srgbClr val="00b0f0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26"/>
              <p:cNvSpPr/>
              <p:nvPr/>
            </p:nvSpPr>
            <p:spPr>
              <a:xfrm>
                <a:off x="4814640" y="4745160"/>
                <a:ext cx="162000" cy="1872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2" h="12">
                    <a:moveTo>
                      <a:pt x="0" y="5"/>
                    </a:moveTo>
                    <a:cubicBezTo>
                      <a:pt x="8" y="6"/>
                      <a:pt x="31" y="12"/>
                      <a:pt x="48" y="11"/>
                    </a:cubicBezTo>
                    <a:cubicBezTo>
                      <a:pt x="65" y="10"/>
                      <a:pt x="91" y="2"/>
                      <a:pt x="102" y="0"/>
                    </a:cubicBezTo>
                  </a:path>
                </a:pathLst>
              </a:custGeom>
              <a:noFill/>
              <a:ln w="316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34"/>
            <p:cNvGrpSpPr/>
            <p:nvPr/>
          </p:nvGrpSpPr>
          <p:grpSpPr>
            <a:xfrm>
              <a:off x="4811760" y="1332000"/>
              <a:ext cx="168120" cy="3355920"/>
              <a:chOff x="4811760" y="1332000"/>
              <a:chExt cx="168120" cy="3355920"/>
            </a:xfrm>
          </p:grpSpPr>
          <p:sp>
            <p:nvSpPr>
              <p:cNvPr id="219" name="Freeform 30"/>
              <p:cNvSpPr/>
              <p:nvPr/>
            </p:nvSpPr>
            <p:spPr>
              <a:xfrm>
                <a:off x="4811760" y="1332000"/>
                <a:ext cx="168120" cy="33148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3314880"/>
                  <a:gd name="textAreaBottom" fmla="*/ 3315240 h 3314880"/>
                </a:gdLst>
                <a:ahLst/>
                <a:rect l="textAreaLeft" t="textAreaTop" r="textAreaRight" b="textAreaBottom"/>
                <a:pathLst>
                  <a:path w="106" h="2088">
                    <a:moveTo>
                      <a:pt x="11" y="2076"/>
                    </a:moveTo>
                    <a:cubicBezTo>
                      <a:pt x="7" y="1736"/>
                      <a:pt x="30" y="388"/>
                      <a:pt x="28" y="46"/>
                    </a:cubicBezTo>
                    <a:cubicBezTo>
                      <a:pt x="23" y="40"/>
                      <a:pt x="0" y="43"/>
                      <a:pt x="1" y="25"/>
                    </a:cubicBezTo>
                    <a:cubicBezTo>
                      <a:pt x="2" y="7"/>
                      <a:pt x="29" y="0"/>
                      <a:pt x="55" y="1"/>
                    </a:cubicBezTo>
                    <a:cubicBezTo>
                      <a:pt x="81" y="2"/>
                      <a:pt x="100" y="7"/>
                      <a:pt x="103" y="22"/>
                    </a:cubicBezTo>
                    <a:cubicBezTo>
                      <a:pt x="106" y="37"/>
                      <a:pt x="85" y="40"/>
                      <a:pt x="79" y="43"/>
                    </a:cubicBezTo>
                    <a:cubicBezTo>
                      <a:pt x="83" y="211"/>
                      <a:pt x="94" y="1733"/>
                      <a:pt x="89" y="2074"/>
                    </a:cubicBezTo>
                    <a:cubicBezTo>
                      <a:pt x="73" y="2085"/>
                      <a:pt x="62" y="2088"/>
                      <a:pt x="49" y="2088"/>
                    </a:cubicBezTo>
                    <a:cubicBezTo>
                      <a:pt x="36" y="2088"/>
                      <a:pt x="19" y="2079"/>
                      <a:pt x="11" y="20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31"/>
              <p:cNvSpPr/>
              <p:nvPr/>
            </p:nvSpPr>
            <p:spPr>
              <a:xfrm>
                <a:off x="4849920" y="1408320"/>
                <a:ext cx="25200" cy="32367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236760"/>
                  <a:gd name="textAreaBottom" fmla="*/ 3237120 h 3236760"/>
                </a:gdLst>
                <a:ahLst/>
                <a:rect l="textAreaLeft" t="textAreaTop" r="textAreaRight" b="textAreaBottom"/>
                <a:pathLst>
                  <a:path w="16" h="2039">
                    <a:moveTo>
                      <a:pt x="16" y="0"/>
                    </a:moveTo>
                    <a:lnTo>
                      <a:pt x="0" y="2039"/>
                    </a:lnTo>
                  </a:path>
                </a:pathLst>
              </a:custGeom>
              <a:noFill/>
              <a:ln w="6480">
                <a:solidFill>
                  <a:srgbClr val="00b0f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32"/>
              <p:cNvSpPr/>
              <p:nvPr/>
            </p:nvSpPr>
            <p:spPr>
              <a:xfrm>
                <a:off x="4923000" y="1409760"/>
                <a:ext cx="11160" cy="32781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278160"/>
                  <a:gd name="textAreaBottom" fmla="*/ 3278520 h 3278160"/>
                </a:gdLst>
                <a:ahLst/>
                <a:rect l="textAreaLeft" t="textAreaTop" r="textAreaRight" b="textAreaBottom"/>
                <a:pathLst>
                  <a:path w="7" h="2065">
                    <a:moveTo>
                      <a:pt x="0" y="0"/>
                    </a:moveTo>
                    <a:lnTo>
                      <a:pt x="7" y="2065"/>
                    </a:lnTo>
                  </a:path>
                </a:pathLst>
              </a:custGeom>
              <a:noFill/>
              <a:ln w="6480">
                <a:solidFill>
                  <a:srgbClr val="00b0f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33"/>
              <p:cNvSpPr/>
              <p:nvPr/>
            </p:nvSpPr>
            <p:spPr>
              <a:xfrm>
                <a:off x="4824360" y="1395360"/>
                <a:ext cx="147600" cy="12960"/>
              </a:xfrm>
              <a:custGeom>
                <a:avLst/>
                <a:gdLst>
                  <a:gd name="textAreaLeft" fmla="*/ 0 w 147600"/>
                  <a:gd name="textAreaRight" fmla="*/ 147600 w 147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93" h="8">
                    <a:moveTo>
                      <a:pt x="0" y="2"/>
                    </a:moveTo>
                    <a:cubicBezTo>
                      <a:pt x="8" y="3"/>
                      <a:pt x="29" y="8"/>
                      <a:pt x="47" y="8"/>
                    </a:cubicBezTo>
                    <a:cubicBezTo>
                      <a:pt x="65" y="8"/>
                      <a:pt x="84" y="2"/>
                      <a:pt x="93" y="0"/>
                    </a:cubicBezTo>
                  </a:path>
                </a:pathLst>
              </a:custGeom>
              <a:noFill/>
              <a:ln w="6480">
                <a:solidFill>
                  <a:srgbClr val="00b0f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67"/>
            <p:cNvGrpSpPr/>
            <p:nvPr/>
          </p:nvGrpSpPr>
          <p:grpSpPr>
            <a:xfrm>
              <a:off x="4405320" y="417600"/>
              <a:ext cx="933480" cy="932040"/>
              <a:chOff x="4405320" y="417600"/>
              <a:chExt cx="933480" cy="932040"/>
            </a:xfrm>
          </p:grpSpPr>
          <p:grpSp>
            <p:nvGrpSpPr>
              <p:cNvPr id="224" name="Group 45"/>
              <p:cNvGrpSpPr/>
              <p:nvPr/>
            </p:nvGrpSpPr>
            <p:grpSpPr>
              <a:xfrm>
                <a:off x="4427640" y="1001880"/>
                <a:ext cx="199800" cy="128520"/>
                <a:chOff x="4427640" y="1001880"/>
                <a:chExt cx="199800" cy="128520"/>
              </a:xfrm>
            </p:grpSpPr>
            <p:sp>
              <p:nvSpPr>
                <p:cNvPr id="225" name="Freeform 39"/>
                <p:cNvSpPr/>
                <p:nvPr/>
              </p:nvSpPr>
              <p:spPr>
                <a:xfrm>
                  <a:off x="4427640" y="1001880"/>
                  <a:ext cx="199800" cy="12852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126" h="81">
                      <a:moveTo>
                        <a:pt x="63" y="81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26" y="0"/>
                      </a:lnTo>
                      <a:lnTo>
                        <a:pt x="126" y="17"/>
                      </a:lnTo>
                      <a:lnTo>
                        <a:pt x="63" y="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43"/>
                <p:cNvSpPr/>
                <p:nvPr/>
              </p:nvSpPr>
              <p:spPr>
                <a:xfrm>
                  <a:off x="4446360" y="1011240"/>
                  <a:ext cx="164880" cy="10512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05120"/>
                    <a:gd name="textAreaBottom" fmla="*/ 105480 h 105120"/>
                  </a:gdLst>
                  <a:ahLst/>
                  <a:rect l="textAreaLeft" t="textAreaTop" r="textAreaRight" b="textAreaBottom"/>
                  <a:pathLst>
                    <a:path w="126" h="81">
                      <a:moveTo>
                        <a:pt x="63" y="81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26" y="0"/>
                      </a:lnTo>
                      <a:lnTo>
                        <a:pt x="126" y="17"/>
                      </a:lnTo>
                      <a:lnTo>
                        <a:pt x="63" y="81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46"/>
              <p:cNvGrpSpPr/>
              <p:nvPr/>
            </p:nvGrpSpPr>
            <p:grpSpPr>
              <a:xfrm>
                <a:off x="5114880" y="1008000"/>
                <a:ext cx="200160" cy="128520"/>
                <a:chOff x="5114880" y="1008000"/>
                <a:chExt cx="200160" cy="128520"/>
              </a:xfrm>
            </p:grpSpPr>
            <p:sp>
              <p:nvSpPr>
                <p:cNvPr id="228" name="Freeform 47"/>
                <p:cNvSpPr/>
                <p:nvPr/>
              </p:nvSpPr>
              <p:spPr>
                <a:xfrm>
                  <a:off x="5114880" y="1008000"/>
                  <a:ext cx="200160" cy="128520"/>
                </a:xfrm>
                <a:custGeom>
                  <a:avLst/>
                  <a:gdLst>
                    <a:gd name="textAreaLeft" fmla="*/ 0 w 200160"/>
                    <a:gd name="textAreaRight" fmla="*/ 200520 w 20016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126" h="81">
                      <a:moveTo>
                        <a:pt x="63" y="81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26" y="0"/>
                      </a:lnTo>
                      <a:lnTo>
                        <a:pt x="126" y="17"/>
                      </a:lnTo>
                      <a:lnTo>
                        <a:pt x="63" y="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8"/>
                <p:cNvSpPr/>
                <p:nvPr/>
              </p:nvSpPr>
              <p:spPr>
                <a:xfrm>
                  <a:off x="5133960" y="1017360"/>
                  <a:ext cx="165240" cy="10512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0 h 105120"/>
                    <a:gd name="textAreaBottom" fmla="*/ 105480 h 105120"/>
                  </a:gdLst>
                  <a:ahLst/>
                  <a:rect l="textAreaLeft" t="textAreaTop" r="textAreaRight" b="textAreaBottom"/>
                  <a:pathLst>
                    <a:path w="126" h="81">
                      <a:moveTo>
                        <a:pt x="63" y="81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26" y="0"/>
                      </a:lnTo>
                      <a:lnTo>
                        <a:pt x="126" y="17"/>
                      </a:lnTo>
                      <a:lnTo>
                        <a:pt x="63" y="81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49"/>
              <p:cNvGrpSpPr/>
              <p:nvPr/>
            </p:nvGrpSpPr>
            <p:grpSpPr>
              <a:xfrm>
                <a:off x="4457880" y="1100160"/>
                <a:ext cx="838080" cy="36360"/>
                <a:chOff x="4457880" y="1100160"/>
                <a:chExt cx="838080" cy="36360"/>
              </a:xfrm>
            </p:grpSpPr>
            <p:sp>
              <p:nvSpPr>
                <p:cNvPr id="231" name="Rectangle 38"/>
                <p:cNvSpPr/>
                <p:nvPr/>
              </p:nvSpPr>
              <p:spPr>
                <a:xfrm>
                  <a:off x="4457880" y="1100160"/>
                  <a:ext cx="838080" cy="36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41"/>
                <p:cNvSpPr/>
                <p:nvPr/>
              </p:nvSpPr>
              <p:spPr>
                <a:xfrm>
                  <a:off x="4472280" y="1111320"/>
                  <a:ext cx="809640" cy="14400"/>
                </a:xfrm>
                <a:prstGeom prst="rect">
                  <a:avLst/>
                </a:prstGeom>
                <a:noFill/>
                <a:ln w="648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37"/>
              <p:cNvGrpSpPr/>
              <p:nvPr/>
            </p:nvGrpSpPr>
            <p:grpSpPr>
              <a:xfrm>
                <a:off x="4783320" y="835200"/>
                <a:ext cx="201600" cy="514440"/>
                <a:chOff x="4783320" y="835200"/>
                <a:chExt cx="201600" cy="514440"/>
              </a:xfrm>
            </p:grpSpPr>
            <p:sp>
              <p:nvSpPr>
                <p:cNvPr id="234" name="Freeform 35"/>
                <p:cNvSpPr/>
                <p:nvPr/>
              </p:nvSpPr>
              <p:spPr>
                <a:xfrm>
                  <a:off x="4783320" y="835200"/>
                  <a:ext cx="201600" cy="514440"/>
                </a:xfrm>
                <a:custGeom>
                  <a:avLst/>
                  <a:gdLst>
                    <a:gd name="textAreaLeft" fmla="*/ 0 w 201600"/>
                    <a:gd name="textAreaRight" fmla="*/ 201960 w 201600"/>
                    <a:gd name="textAreaTop" fmla="*/ 0 h 514440"/>
                    <a:gd name="textAreaBottom" fmla="*/ 514440 h 514440"/>
                  </a:gdLst>
                  <a:ahLst/>
                  <a:rect l="textAreaLeft" t="textAreaTop" r="textAreaRight" b="textAreaBottom"/>
                  <a:pathLst>
                    <a:path w="127" h="324">
                      <a:moveTo>
                        <a:pt x="49" y="324"/>
                      </a:moveTo>
                      <a:lnTo>
                        <a:pt x="52" y="298"/>
                      </a:lnTo>
                      <a:lnTo>
                        <a:pt x="21" y="298"/>
                      </a:lnTo>
                      <a:lnTo>
                        <a:pt x="22" y="150"/>
                      </a:lnTo>
                      <a:lnTo>
                        <a:pt x="0" y="150"/>
                      </a:lnTo>
                      <a:cubicBezTo>
                        <a:pt x="0" y="144"/>
                        <a:pt x="13" y="122"/>
                        <a:pt x="22" y="112"/>
                      </a:cubicBezTo>
                      <a:cubicBezTo>
                        <a:pt x="31" y="102"/>
                        <a:pt x="46" y="96"/>
                        <a:pt x="57" y="90"/>
                      </a:cubicBezTo>
                      <a:cubicBezTo>
                        <a:pt x="60" y="45"/>
                        <a:pt x="64" y="0"/>
                        <a:pt x="64" y="0"/>
                      </a:cubicBezTo>
                      <a:cubicBezTo>
                        <a:pt x="61" y="0"/>
                        <a:pt x="70" y="72"/>
                        <a:pt x="73" y="88"/>
                      </a:cubicBezTo>
                      <a:cubicBezTo>
                        <a:pt x="91" y="97"/>
                        <a:pt x="97" y="102"/>
                        <a:pt x="106" y="111"/>
                      </a:cubicBezTo>
                      <a:cubicBezTo>
                        <a:pt x="115" y="120"/>
                        <a:pt x="127" y="142"/>
                        <a:pt x="127" y="148"/>
                      </a:cubicBezTo>
                      <a:lnTo>
                        <a:pt x="106" y="148"/>
                      </a:lnTo>
                      <a:lnTo>
                        <a:pt x="112" y="297"/>
                      </a:lnTo>
                      <a:lnTo>
                        <a:pt x="90" y="298"/>
                      </a:lnTo>
                      <a:lnTo>
                        <a:pt x="94" y="324"/>
                      </a:lnTo>
                      <a:lnTo>
                        <a:pt x="49" y="324"/>
                      </a:lnTo>
                      <a:close/>
                    </a:path>
                  </a:pathLst>
                </a:custGeom>
                <a:solidFill>
                  <a:srgbClr val="00b0f0"/>
                </a:solidFill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36"/>
                <p:cNvSpPr/>
                <p:nvPr/>
              </p:nvSpPr>
              <p:spPr>
                <a:xfrm>
                  <a:off x="4813560" y="939960"/>
                  <a:ext cx="139680" cy="35244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352440"/>
                    <a:gd name="textAreaBottom" fmla="*/ 352800 h 352440"/>
                  </a:gdLst>
                  <a:ahLst/>
                  <a:rect l="textAreaLeft" t="textAreaTop" r="textAreaRight" b="textAreaBottom"/>
                  <a:pathLst>
                    <a:path w="88" h="222">
                      <a:moveTo>
                        <a:pt x="46" y="0"/>
                      </a:moveTo>
                      <a:lnTo>
                        <a:pt x="39" y="37"/>
                      </a:lnTo>
                      <a:lnTo>
                        <a:pt x="0" y="70"/>
                      </a:lnTo>
                      <a:lnTo>
                        <a:pt x="13" y="84"/>
                      </a:lnTo>
                      <a:lnTo>
                        <a:pt x="13" y="222"/>
                      </a:lnTo>
                      <a:lnTo>
                        <a:pt x="84" y="220"/>
                      </a:lnTo>
                      <a:lnTo>
                        <a:pt x="78" y="85"/>
                      </a:lnTo>
                      <a:lnTo>
                        <a:pt x="88" y="70"/>
                      </a:lnTo>
                      <a:lnTo>
                        <a:pt x="55" y="37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53"/>
              <p:cNvGrpSpPr/>
              <p:nvPr/>
            </p:nvGrpSpPr>
            <p:grpSpPr>
              <a:xfrm>
                <a:off x="4437000" y="730440"/>
                <a:ext cx="182520" cy="274680"/>
                <a:chOff x="4437000" y="730440"/>
                <a:chExt cx="182520" cy="274680"/>
              </a:xfrm>
            </p:grpSpPr>
            <p:sp>
              <p:nvSpPr>
                <p:cNvPr id="237" name="Rectangle 50"/>
                <p:cNvSpPr/>
                <p:nvPr/>
              </p:nvSpPr>
              <p:spPr>
                <a:xfrm>
                  <a:off x="4437000" y="730440"/>
                  <a:ext cx="182520" cy="27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51"/>
                <p:cNvSpPr/>
                <p:nvPr/>
              </p:nvSpPr>
              <p:spPr>
                <a:xfrm>
                  <a:off x="4473360" y="730440"/>
                  <a:ext cx="1800" cy="271440"/>
                </a:xfrm>
                <a:prstGeom prst="line">
                  <a:avLst/>
                </a:prstGeom>
                <a:ln w="936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52"/>
                <p:cNvSpPr/>
                <p:nvPr/>
              </p:nvSpPr>
              <p:spPr>
                <a:xfrm>
                  <a:off x="4584600" y="730440"/>
                  <a:ext cx="1800" cy="271440"/>
                </a:xfrm>
                <a:prstGeom prst="line">
                  <a:avLst/>
                </a:prstGeom>
                <a:ln w="936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Group 54"/>
              <p:cNvGrpSpPr/>
              <p:nvPr/>
            </p:nvGrpSpPr>
            <p:grpSpPr>
              <a:xfrm>
                <a:off x="5124600" y="736560"/>
                <a:ext cx="182520" cy="274680"/>
                <a:chOff x="5124600" y="736560"/>
                <a:chExt cx="182520" cy="274680"/>
              </a:xfrm>
            </p:grpSpPr>
            <p:sp>
              <p:nvSpPr>
                <p:cNvPr id="241" name="Rectangle 55"/>
                <p:cNvSpPr/>
                <p:nvPr/>
              </p:nvSpPr>
              <p:spPr>
                <a:xfrm>
                  <a:off x="5124600" y="736560"/>
                  <a:ext cx="182520" cy="27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56"/>
                <p:cNvSpPr/>
                <p:nvPr/>
              </p:nvSpPr>
              <p:spPr>
                <a:xfrm>
                  <a:off x="5160960" y="736560"/>
                  <a:ext cx="1800" cy="271440"/>
                </a:xfrm>
                <a:prstGeom prst="line">
                  <a:avLst/>
                </a:prstGeom>
                <a:ln w="936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57"/>
                <p:cNvSpPr/>
                <p:nvPr/>
              </p:nvSpPr>
              <p:spPr>
                <a:xfrm>
                  <a:off x="5272200" y="736560"/>
                  <a:ext cx="1800" cy="271440"/>
                </a:xfrm>
                <a:prstGeom prst="line">
                  <a:avLst/>
                </a:prstGeom>
                <a:ln w="936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60"/>
              <p:cNvGrpSpPr/>
              <p:nvPr/>
            </p:nvGrpSpPr>
            <p:grpSpPr>
              <a:xfrm>
                <a:off x="4405320" y="417600"/>
                <a:ext cx="246240" cy="306360"/>
                <a:chOff x="4405320" y="417600"/>
                <a:chExt cx="246240" cy="306360"/>
              </a:xfrm>
            </p:grpSpPr>
            <p:sp>
              <p:nvSpPr>
                <p:cNvPr id="245" name="Freeform 58"/>
                <p:cNvSpPr/>
                <p:nvPr/>
              </p:nvSpPr>
              <p:spPr>
                <a:xfrm>
                  <a:off x="4405320" y="417600"/>
                  <a:ext cx="246240" cy="306360"/>
                </a:xfrm>
                <a:custGeom>
                  <a:avLst/>
                  <a:gdLst/>
                  <a:ahLst/>
                  <a:rect l="l" t="t" r="r" b="b"/>
                  <a:pathLst>
                    <a:path w="155" h="193">
                      <a:moveTo>
                        <a:pt x="20" y="193"/>
                      </a:moveTo>
                      <a:lnTo>
                        <a:pt x="0" y="178"/>
                      </a:lnTo>
                      <a:lnTo>
                        <a:pt x="66" y="81"/>
                      </a:lnTo>
                      <a:lnTo>
                        <a:pt x="77" y="0"/>
                      </a:lnTo>
                      <a:lnTo>
                        <a:pt x="87" y="81"/>
                      </a:lnTo>
                      <a:lnTo>
                        <a:pt x="155" y="178"/>
                      </a:lnTo>
                      <a:lnTo>
                        <a:pt x="135" y="192"/>
                      </a:lnTo>
                      <a:lnTo>
                        <a:pt x="20" y="1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59"/>
                <p:cNvSpPr/>
                <p:nvPr/>
              </p:nvSpPr>
              <p:spPr>
                <a:xfrm>
                  <a:off x="4433760" y="511200"/>
                  <a:ext cx="179640" cy="196920"/>
                </a:xfrm>
                <a:custGeom>
                  <a:avLst/>
                  <a:gdLst>
                    <a:gd name="textAreaLeft" fmla="*/ 0 w 179640"/>
                    <a:gd name="textAreaRight" fmla="*/ 180000 w 179640"/>
                    <a:gd name="textAreaTop" fmla="*/ 0 h 196920"/>
                    <a:gd name="textAreaBottom" fmla="*/ 197280 h 196920"/>
                  </a:gdLst>
                  <a:ahLst/>
                  <a:rect l="textAreaLeft" t="textAreaTop" r="textAreaRight" b="textAreaBottom"/>
                  <a:pathLst>
                    <a:path w="113" h="124">
                      <a:moveTo>
                        <a:pt x="60" y="0"/>
                      </a:moveTo>
                      <a:lnTo>
                        <a:pt x="0" y="124"/>
                      </a:lnTo>
                      <a:lnTo>
                        <a:pt x="113" y="124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61"/>
              <p:cNvGrpSpPr/>
              <p:nvPr/>
            </p:nvGrpSpPr>
            <p:grpSpPr>
              <a:xfrm>
                <a:off x="5092560" y="422280"/>
                <a:ext cx="246240" cy="306360"/>
                <a:chOff x="5092560" y="422280"/>
                <a:chExt cx="246240" cy="306360"/>
              </a:xfrm>
            </p:grpSpPr>
            <p:sp>
              <p:nvSpPr>
                <p:cNvPr id="248" name="Freeform 62"/>
                <p:cNvSpPr/>
                <p:nvPr/>
              </p:nvSpPr>
              <p:spPr>
                <a:xfrm>
                  <a:off x="5092560" y="422280"/>
                  <a:ext cx="246240" cy="306360"/>
                </a:xfrm>
                <a:custGeom>
                  <a:avLst/>
                  <a:gdLst/>
                  <a:ahLst/>
                  <a:rect l="l" t="t" r="r" b="b"/>
                  <a:pathLst>
                    <a:path w="155" h="193">
                      <a:moveTo>
                        <a:pt x="20" y="193"/>
                      </a:moveTo>
                      <a:lnTo>
                        <a:pt x="0" y="178"/>
                      </a:lnTo>
                      <a:lnTo>
                        <a:pt x="66" y="81"/>
                      </a:lnTo>
                      <a:lnTo>
                        <a:pt x="77" y="0"/>
                      </a:lnTo>
                      <a:lnTo>
                        <a:pt x="87" y="81"/>
                      </a:lnTo>
                      <a:lnTo>
                        <a:pt x="155" y="178"/>
                      </a:lnTo>
                      <a:lnTo>
                        <a:pt x="135" y="192"/>
                      </a:lnTo>
                      <a:lnTo>
                        <a:pt x="20" y="1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63"/>
                <p:cNvSpPr/>
                <p:nvPr/>
              </p:nvSpPr>
              <p:spPr>
                <a:xfrm>
                  <a:off x="5121000" y="515880"/>
                  <a:ext cx="179640" cy="196920"/>
                </a:xfrm>
                <a:custGeom>
                  <a:avLst/>
                  <a:gdLst>
                    <a:gd name="textAreaLeft" fmla="*/ 0 w 179640"/>
                    <a:gd name="textAreaRight" fmla="*/ 180000 w 179640"/>
                    <a:gd name="textAreaTop" fmla="*/ 0 h 196920"/>
                    <a:gd name="textAreaBottom" fmla="*/ 197280 h 196920"/>
                  </a:gdLst>
                  <a:ahLst/>
                  <a:rect l="textAreaLeft" t="textAreaTop" r="textAreaRight" b="textAreaBottom"/>
                  <a:pathLst>
                    <a:path w="113" h="124">
                      <a:moveTo>
                        <a:pt x="60" y="0"/>
                      </a:moveTo>
                      <a:lnTo>
                        <a:pt x="0" y="124"/>
                      </a:lnTo>
                      <a:lnTo>
                        <a:pt x="113" y="124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Freeform 64"/>
              <p:cNvSpPr/>
              <p:nvPr/>
            </p:nvSpPr>
            <p:spPr>
              <a:xfrm>
                <a:off x="4465800" y="1130400"/>
                <a:ext cx="357120" cy="14436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225" h="91">
                    <a:moveTo>
                      <a:pt x="182" y="20"/>
                    </a:moveTo>
                    <a:cubicBezTo>
                      <a:pt x="190" y="28"/>
                      <a:pt x="202" y="49"/>
                      <a:pt x="180" y="60"/>
                    </a:cubicBezTo>
                    <a:cubicBezTo>
                      <a:pt x="158" y="71"/>
                      <a:pt x="135" y="31"/>
                      <a:pt x="157" y="15"/>
                    </a:cubicBezTo>
                    <a:cubicBezTo>
                      <a:pt x="163" y="8"/>
                      <a:pt x="195" y="1"/>
                      <a:pt x="210" y="19"/>
                    </a:cubicBezTo>
                    <a:cubicBezTo>
                      <a:pt x="225" y="37"/>
                      <a:pt x="224" y="89"/>
                      <a:pt x="171" y="90"/>
                    </a:cubicBezTo>
                    <a:cubicBezTo>
                      <a:pt x="118" y="91"/>
                      <a:pt x="74" y="6"/>
                      <a:pt x="46" y="3"/>
                    </a:cubicBezTo>
                    <a:cubicBezTo>
                      <a:pt x="18" y="0"/>
                      <a:pt x="0" y="17"/>
                      <a:pt x="7" y="37"/>
                    </a:cubicBezTo>
                    <a:cubicBezTo>
                      <a:pt x="14" y="57"/>
                      <a:pt x="31" y="42"/>
                      <a:pt x="37" y="4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66"/>
              <p:cNvSpPr/>
              <p:nvPr/>
            </p:nvSpPr>
            <p:spPr>
              <a:xfrm flipH="1">
                <a:off x="4949280" y="1130400"/>
                <a:ext cx="355320" cy="14436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225" h="91">
                    <a:moveTo>
                      <a:pt x="182" y="20"/>
                    </a:moveTo>
                    <a:cubicBezTo>
                      <a:pt x="190" y="28"/>
                      <a:pt x="202" y="49"/>
                      <a:pt x="180" y="60"/>
                    </a:cubicBezTo>
                    <a:cubicBezTo>
                      <a:pt x="158" y="71"/>
                      <a:pt x="135" y="31"/>
                      <a:pt x="157" y="15"/>
                    </a:cubicBezTo>
                    <a:cubicBezTo>
                      <a:pt x="163" y="8"/>
                      <a:pt x="195" y="1"/>
                      <a:pt x="210" y="19"/>
                    </a:cubicBezTo>
                    <a:cubicBezTo>
                      <a:pt x="225" y="37"/>
                      <a:pt x="224" y="89"/>
                      <a:pt x="171" y="90"/>
                    </a:cubicBezTo>
                    <a:cubicBezTo>
                      <a:pt x="118" y="91"/>
                      <a:pt x="74" y="6"/>
                      <a:pt x="46" y="3"/>
                    </a:cubicBezTo>
                    <a:cubicBezTo>
                      <a:pt x="18" y="0"/>
                      <a:pt x="0" y="17"/>
                      <a:pt x="7" y="37"/>
                    </a:cubicBezTo>
                    <a:cubicBezTo>
                      <a:pt x="14" y="57"/>
                      <a:pt x="31" y="42"/>
                      <a:pt x="37" y="4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Line 68"/>
          <p:cNvSpPr/>
          <p:nvPr/>
        </p:nvSpPr>
        <p:spPr>
          <a:xfrm flipV="1">
            <a:off x="3030480" y="5148360"/>
            <a:ext cx="2621160" cy="14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69"/>
          <p:cNvSpPr/>
          <p:nvPr/>
        </p:nvSpPr>
        <p:spPr>
          <a:xfrm>
            <a:off x="1409760" y="2200320"/>
            <a:ext cx="447480" cy="665280"/>
          </a:xfrm>
          <a:custGeom>
            <a:avLst/>
            <a:gdLst>
              <a:gd name="textAreaLeft" fmla="*/ 0 w 447480"/>
              <a:gd name="textAreaRight" fmla="*/ 447840 w 447480"/>
              <a:gd name="textAreaTop" fmla="*/ 0 h 665280"/>
              <a:gd name="textAreaBottom" fmla="*/ 665640 h 665280"/>
            </a:gdLst>
            <a:ahLst/>
            <a:rect l="textAreaLeft" t="textAreaTop" r="textAreaRight" b="textAreaBottom"/>
            <a:pathLst>
              <a:path w="282" h="419">
                <a:moveTo>
                  <a:pt x="282" y="0"/>
                </a:moveTo>
                <a:cubicBezTo>
                  <a:pt x="227" y="27"/>
                  <a:pt x="126" y="127"/>
                  <a:pt x="81" y="197"/>
                </a:cubicBezTo>
                <a:cubicBezTo>
                  <a:pt x="36" y="267"/>
                  <a:pt x="9" y="365"/>
                  <a:pt x="0" y="419"/>
                </a:cubicBezTo>
                <a:cubicBezTo>
                  <a:pt x="103" y="365"/>
                  <a:pt x="207" y="315"/>
                  <a:pt x="207" y="315"/>
                </a:cubicBezTo>
                <a:cubicBezTo>
                  <a:pt x="212" y="267"/>
                  <a:pt x="221" y="207"/>
                  <a:pt x="233" y="155"/>
                </a:cubicBezTo>
                <a:cubicBezTo>
                  <a:pt x="245" y="103"/>
                  <a:pt x="267" y="33"/>
                  <a:pt x="28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70"/>
          <p:cNvSpPr/>
          <p:nvPr/>
        </p:nvSpPr>
        <p:spPr>
          <a:xfrm>
            <a:off x="1757520" y="2193840"/>
            <a:ext cx="471240" cy="495360"/>
          </a:xfrm>
          <a:custGeom>
            <a:avLst/>
            <a:gdLst>
              <a:gd name="textAreaLeft" fmla="*/ 0 w 471240"/>
              <a:gd name="textAreaRight" fmla="*/ 471600 w 4712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297" h="312">
                <a:moveTo>
                  <a:pt x="72" y="0"/>
                </a:moveTo>
                <a:cubicBezTo>
                  <a:pt x="53" y="48"/>
                  <a:pt x="38" y="93"/>
                  <a:pt x="26" y="145"/>
                </a:cubicBezTo>
                <a:cubicBezTo>
                  <a:pt x="14" y="197"/>
                  <a:pt x="5" y="265"/>
                  <a:pt x="0" y="312"/>
                </a:cubicBezTo>
                <a:cubicBezTo>
                  <a:pt x="45" y="282"/>
                  <a:pt x="150" y="221"/>
                  <a:pt x="297" y="136"/>
                </a:cubicBezTo>
                <a:cubicBezTo>
                  <a:pt x="264" y="106"/>
                  <a:pt x="232" y="85"/>
                  <a:pt x="194" y="61"/>
                </a:cubicBezTo>
                <a:cubicBezTo>
                  <a:pt x="156" y="37"/>
                  <a:pt x="101" y="12"/>
                  <a:pt x="7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71"/>
          <p:cNvSpPr/>
          <p:nvPr/>
        </p:nvSpPr>
        <p:spPr>
          <a:xfrm>
            <a:off x="1884240" y="2052720"/>
            <a:ext cx="863640" cy="355680"/>
          </a:xfrm>
          <a:custGeom>
            <a:avLst/>
            <a:gdLst>
              <a:gd name="textAreaLeft" fmla="*/ 0 w 863640"/>
              <a:gd name="textAreaRight" fmla="*/ 864000 w 86364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544" h="224">
                <a:moveTo>
                  <a:pt x="0" y="83"/>
                </a:moveTo>
                <a:cubicBezTo>
                  <a:pt x="54" y="55"/>
                  <a:pt x="197" y="12"/>
                  <a:pt x="282" y="6"/>
                </a:cubicBezTo>
                <a:cubicBezTo>
                  <a:pt x="367" y="0"/>
                  <a:pt x="481" y="21"/>
                  <a:pt x="540" y="38"/>
                </a:cubicBezTo>
                <a:cubicBezTo>
                  <a:pt x="544" y="35"/>
                  <a:pt x="383" y="128"/>
                  <a:pt x="225" y="224"/>
                </a:cubicBezTo>
                <a:cubicBezTo>
                  <a:pt x="186" y="186"/>
                  <a:pt x="158" y="167"/>
                  <a:pt x="120" y="144"/>
                </a:cubicBezTo>
                <a:cubicBezTo>
                  <a:pt x="82" y="121"/>
                  <a:pt x="36" y="96"/>
                  <a:pt x="0" y="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72"/>
          <p:cNvSpPr/>
          <p:nvPr/>
        </p:nvSpPr>
        <p:spPr>
          <a:xfrm>
            <a:off x="4248000" y="549360"/>
            <a:ext cx="540000" cy="53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75"/>
          <p:cNvSpPr/>
          <p:nvPr/>
        </p:nvSpPr>
        <p:spPr>
          <a:xfrm>
            <a:off x="4933800" y="549360"/>
            <a:ext cx="540000" cy="53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79"/>
          <p:cNvSpPr/>
          <p:nvPr/>
        </p:nvSpPr>
        <p:spPr>
          <a:xfrm flipV="1">
            <a:off x="5646600" y="5146200"/>
            <a:ext cx="3533760" cy="180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48"/>
          <p:cNvSpPr/>
          <p:nvPr/>
        </p:nvSpPr>
        <p:spPr>
          <a:xfrm>
            <a:off x="395280" y="5589720"/>
            <a:ext cx="85456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工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在工作中成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工作中找到自己的价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我热爱这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2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8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26" repeatCount="indefinite">
                                  <p:stCondLst>
                                    <p:cond delay="9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1000" autoRev="1" fill="hold"/>
                                        <p:tgtEl>
                                          <p:spTgt spid="2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26" repeatCount="indefinite">
                                  <p:stCondLst>
                                    <p:cond delay="9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1000" autoRev="1" fill="hold"/>
                                        <p:tgtEl>
                                          <p:spTgt spid="2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250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1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250" autoRev="1" fill="hold"/>
                                        <p:tgtEl>
                                          <p:spTgt spid="1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7" dur="25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25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3" dur="250" autoRev="1" fill="hold"/>
                                        <p:tgtEl>
                                          <p:spTgt spid="1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6" dur="2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9" dur="250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25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25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1" dur="25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3" dur="250" autoRev="1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25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250" autoRev="1" fill="hold"/>
                                        <p:tgtEl>
                                          <p:spTgt spid="1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3" dur="250" autoRev="1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250" autoRev="1" fill="hold"/>
                                        <p:tgtEl>
                                          <p:spTgt spid="1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5" dur="25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25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7" dur="250" autoRev="1" fill="hold"/>
                                        <p:tgtEl>
                                          <p:spTgt spid="1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9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157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2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Line 4"/>
          <p:cNvSpPr/>
          <p:nvPr/>
        </p:nvSpPr>
        <p:spPr>
          <a:xfrm flipV="1">
            <a:off x="-17640" y="5033880"/>
            <a:ext cx="3149640" cy="2088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23"/>
          <p:cNvSpPr/>
          <p:nvPr/>
        </p:nvSpPr>
        <p:spPr>
          <a:xfrm>
            <a:off x="2414520" y="3454560"/>
            <a:ext cx="719280" cy="1579320"/>
          </a:xfrm>
          <a:custGeom>
            <a:avLst/>
            <a:gdLst>
              <a:gd name="textAreaLeft" fmla="*/ 0 w 719280"/>
              <a:gd name="textAreaRight" fmla="*/ 719640 w 719280"/>
              <a:gd name="textAreaTop" fmla="*/ 0 h 1579320"/>
              <a:gd name="textAreaBottom" fmla="*/ 1579680 h 1579320"/>
            </a:gdLst>
            <a:ahLst/>
            <a:rect l="textAreaLeft" t="textAreaTop" r="textAreaRight" b="textAreaBottom"/>
            <a:pathLst>
              <a:path w="453" h="995">
                <a:moveTo>
                  <a:pt x="453" y="995"/>
                </a:moveTo>
                <a:cubicBezTo>
                  <a:pt x="423" y="993"/>
                  <a:pt x="391" y="950"/>
                  <a:pt x="364" y="932"/>
                </a:cubicBezTo>
                <a:cubicBezTo>
                  <a:pt x="336" y="915"/>
                  <a:pt x="299" y="915"/>
                  <a:pt x="286" y="899"/>
                </a:cubicBezTo>
                <a:cubicBezTo>
                  <a:pt x="273" y="883"/>
                  <a:pt x="285" y="855"/>
                  <a:pt x="283" y="837"/>
                </a:cubicBezTo>
                <a:lnTo>
                  <a:pt x="274" y="788"/>
                </a:lnTo>
                <a:lnTo>
                  <a:pt x="288" y="768"/>
                </a:lnTo>
                <a:cubicBezTo>
                  <a:pt x="289" y="754"/>
                  <a:pt x="284" y="720"/>
                  <a:pt x="277" y="702"/>
                </a:cubicBezTo>
                <a:cubicBezTo>
                  <a:pt x="271" y="688"/>
                  <a:pt x="267" y="722"/>
                  <a:pt x="244" y="659"/>
                </a:cubicBezTo>
                <a:lnTo>
                  <a:pt x="142" y="332"/>
                </a:lnTo>
                <a:cubicBezTo>
                  <a:pt x="122" y="271"/>
                  <a:pt x="124" y="304"/>
                  <a:pt x="123" y="293"/>
                </a:cubicBezTo>
                <a:cubicBezTo>
                  <a:pt x="120" y="282"/>
                  <a:pt x="131" y="278"/>
                  <a:pt x="133" y="263"/>
                </a:cubicBezTo>
                <a:lnTo>
                  <a:pt x="117" y="174"/>
                </a:lnTo>
                <a:cubicBezTo>
                  <a:pt x="108" y="148"/>
                  <a:pt x="100" y="134"/>
                  <a:pt x="79" y="104"/>
                </a:cubicBezTo>
                <a:cubicBezTo>
                  <a:pt x="58" y="74"/>
                  <a:pt x="48" y="62"/>
                  <a:pt x="39" y="47"/>
                </a:cubicBezTo>
                <a:cubicBezTo>
                  <a:pt x="30" y="32"/>
                  <a:pt x="6" y="0"/>
                  <a:pt x="0" y="18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4"/>
          <p:cNvSpPr/>
          <p:nvPr/>
        </p:nvSpPr>
        <p:spPr>
          <a:xfrm>
            <a:off x="1596960" y="3471840"/>
            <a:ext cx="827280" cy="291960"/>
          </a:xfrm>
          <a:custGeom>
            <a:avLst/>
            <a:gdLst>
              <a:gd name="textAreaLeft" fmla="*/ 0 w 827280"/>
              <a:gd name="textAreaRight" fmla="*/ 827640 w 827280"/>
              <a:gd name="textAreaTop" fmla="*/ 0 h 291960"/>
              <a:gd name="textAreaBottom" fmla="*/ 291960 h 291960"/>
            </a:gdLst>
            <a:ahLst/>
            <a:rect l="textAreaLeft" t="textAreaTop" r="textAreaRight" b="textAreaBottom"/>
            <a:pathLst>
              <a:path w="521" h="184">
                <a:moveTo>
                  <a:pt x="521" y="0"/>
                </a:moveTo>
                <a:cubicBezTo>
                  <a:pt x="507" y="19"/>
                  <a:pt x="456" y="87"/>
                  <a:pt x="435" y="111"/>
                </a:cubicBezTo>
                <a:cubicBezTo>
                  <a:pt x="415" y="134"/>
                  <a:pt x="408" y="131"/>
                  <a:pt x="396" y="142"/>
                </a:cubicBezTo>
                <a:cubicBezTo>
                  <a:pt x="381" y="153"/>
                  <a:pt x="383" y="172"/>
                  <a:pt x="347" y="178"/>
                </a:cubicBezTo>
                <a:cubicBezTo>
                  <a:pt x="311" y="184"/>
                  <a:pt x="237" y="166"/>
                  <a:pt x="194" y="154"/>
                </a:cubicBezTo>
                <a:cubicBezTo>
                  <a:pt x="151" y="142"/>
                  <a:pt x="90" y="124"/>
                  <a:pt x="56" y="117"/>
                </a:cubicBezTo>
                <a:cubicBezTo>
                  <a:pt x="24" y="122"/>
                  <a:pt x="51" y="175"/>
                  <a:pt x="0" y="18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5"/>
          <p:cNvSpPr/>
          <p:nvPr/>
        </p:nvSpPr>
        <p:spPr>
          <a:xfrm>
            <a:off x="1438200" y="3295800"/>
            <a:ext cx="166680" cy="46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05" h="296">
                <a:moveTo>
                  <a:pt x="105" y="291"/>
                </a:moveTo>
                <a:cubicBezTo>
                  <a:pt x="59" y="296"/>
                  <a:pt x="46" y="229"/>
                  <a:pt x="46" y="208"/>
                </a:cubicBezTo>
                <a:cubicBezTo>
                  <a:pt x="46" y="187"/>
                  <a:pt x="61" y="168"/>
                  <a:pt x="52" y="144"/>
                </a:cubicBezTo>
                <a:cubicBezTo>
                  <a:pt x="43" y="120"/>
                  <a:pt x="12" y="84"/>
                  <a:pt x="6" y="51"/>
                </a:cubicBezTo>
                <a:cubicBezTo>
                  <a:pt x="0" y="18"/>
                  <a:pt x="25" y="7"/>
                  <a:pt x="40" y="0"/>
                </a:cubicBezTo>
                <a:cubicBezTo>
                  <a:pt x="47" y="3"/>
                  <a:pt x="54" y="6"/>
                  <a:pt x="54" y="6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26"/>
          <p:cNvSpPr/>
          <p:nvPr/>
        </p:nvSpPr>
        <p:spPr>
          <a:xfrm>
            <a:off x="1511280" y="3176640"/>
            <a:ext cx="674640" cy="234720"/>
          </a:xfrm>
          <a:custGeom>
            <a:avLst/>
            <a:gdLst>
              <a:gd name="textAreaLeft" fmla="*/ 0 w 674640"/>
              <a:gd name="textAreaRight" fmla="*/ 675000 w 6746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425" h="148">
                <a:moveTo>
                  <a:pt x="0" y="79"/>
                </a:moveTo>
                <a:cubicBezTo>
                  <a:pt x="16" y="74"/>
                  <a:pt x="34" y="80"/>
                  <a:pt x="47" y="84"/>
                </a:cubicBezTo>
                <a:cubicBezTo>
                  <a:pt x="62" y="89"/>
                  <a:pt x="73" y="101"/>
                  <a:pt x="84" y="106"/>
                </a:cubicBezTo>
                <a:lnTo>
                  <a:pt x="116" y="115"/>
                </a:lnTo>
                <a:lnTo>
                  <a:pt x="125" y="121"/>
                </a:lnTo>
                <a:lnTo>
                  <a:pt x="216" y="129"/>
                </a:lnTo>
                <a:cubicBezTo>
                  <a:pt x="252" y="131"/>
                  <a:pt x="313" y="135"/>
                  <a:pt x="339" y="135"/>
                </a:cubicBezTo>
                <a:cubicBezTo>
                  <a:pt x="365" y="135"/>
                  <a:pt x="360" y="148"/>
                  <a:pt x="374" y="127"/>
                </a:cubicBezTo>
                <a:cubicBezTo>
                  <a:pt x="388" y="105"/>
                  <a:pt x="422" y="40"/>
                  <a:pt x="425" y="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27"/>
          <p:cNvSpPr/>
          <p:nvPr/>
        </p:nvSpPr>
        <p:spPr>
          <a:xfrm>
            <a:off x="2009880" y="1809720"/>
            <a:ext cx="252360" cy="1378080"/>
          </a:xfrm>
          <a:custGeom>
            <a:avLst/>
            <a:gdLst>
              <a:gd name="textAreaLeft" fmla="*/ 0 w 252360"/>
              <a:gd name="textAreaRight" fmla="*/ 252720 w 25236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159" h="868">
                <a:moveTo>
                  <a:pt x="111" y="868"/>
                </a:moveTo>
                <a:cubicBezTo>
                  <a:pt x="110" y="851"/>
                  <a:pt x="57" y="799"/>
                  <a:pt x="55" y="720"/>
                </a:cubicBezTo>
                <a:cubicBezTo>
                  <a:pt x="53" y="673"/>
                  <a:pt x="65" y="622"/>
                  <a:pt x="103" y="562"/>
                </a:cubicBezTo>
                <a:cubicBezTo>
                  <a:pt x="141" y="502"/>
                  <a:pt x="139" y="479"/>
                  <a:pt x="144" y="457"/>
                </a:cubicBezTo>
                <a:lnTo>
                  <a:pt x="138" y="435"/>
                </a:lnTo>
                <a:lnTo>
                  <a:pt x="154" y="421"/>
                </a:lnTo>
                <a:lnTo>
                  <a:pt x="148" y="396"/>
                </a:lnTo>
                <a:lnTo>
                  <a:pt x="159" y="372"/>
                </a:lnTo>
                <a:cubicBezTo>
                  <a:pt x="157" y="344"/>
                  <a:pt x="133" y="279"/>
                  <a:pt x="135" y="226"/>
                </a:cubicBezTo>
                <a:cubicBezTo>
                  <a:pt x="137" y="173"/>
                  <a:pt x="151" y="127"/>
                  <a:pt x="145" y="93"/>
                </a:cubicBezTo>
                <a:cubicBezTo>
                  <a:pt x="138" y="64"/>
                  <a:pt x="124" y="46"/>
                  <a:pt x="100" y="36"/>
                </a:cubicBezTo>
                <a:cubicBezTo>
                  <a:pt x="76" y="26"/>
                  <a:pt x="24" y="9"/>
                  <a:pt x="0" y="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8"/>
          <p:cNvSpPr/>
          <p:nvPr/>
        </p:nvSpPr>
        <p:spPr>
          <a:xfrm>
            <a:off x="1878120" y="1795320"/>
            <a:ext cx="136440" cy="640080"/>
          </a:xfrm>
          <a:custGeom>
            <a:avLst/>
            <a:gdLst>
              <a:gd name="textAreaLeft" fmla="*/ 0 w 136440"/>
              <a:gd name="textAreaRight" fmla="*/ 136800 w 136440"/>
              <a:gd name="textAreaTop" fmla="*/ 0 h 640080"/>
              <a:gd name="textAreaBottom" fmla="*/ 640440 h 640080"/>
            </a:gdLst>
            <a:ahLst/>
            <a:rect l="textAreaLeft" t="textAreaTop" r="textAreaRight" b="textAreaBottom"/>
            <a:pathLst>
              <a:path w="86" h="403">
                <a:moveTo>
                  <a:pt x="86" y="10"/>
                </a:moveTo>
                <a:cubicBezTo>
                  <a:pt x="73" y="4"/>
                  <a:pt x="83" y="11"/>
                  <a:pt x="62" y="0"/>
                </a:cubicBezTo>
                <a:cubicBezTo>
                  <a:pt x="59" y="35"/>
                  <a:pt x="55" y="74"/>
                  <a:pt x="48" y="124"/>
                </a:cubicBezTo>
                <a:cubicBezTo>
                  <a:pt x="41" y="174"/>
                  <a:pt x="29" y="234"/>
                  <a:pt x="20" y="264"/>
                </a:cubicBezTo>
                <a:cubicBezTo>
                  <a:pt x="26" y="283"/>
                  <a:pt x="30" y="285"/>
                  <a:pt x="27" y="321"/>
                </a:cubicBezTo>
                <a:cubicBezTo>
                  <a:pt x="24" y="357"/>
                  <a:pt x="9" y="389"/>
                  <a:pt x="3" y="403"/>
                </a:cubicBezTo>
                <a:lnTo>
                  <a:pt x="0" y="384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29"/>
          <p:cNvSpPr/>
          <p:nvPr/>
        </p:nvSpPr>
        <p:spPr>
          <a:xfrm>
            <a:off x="1706400" y="2352600"/>
            <a:ext cx="176400" cy="190440"/>
          </a:xfrm>
          <a:custGeom>
            <a:avLst/>
            <a:gdLst>
              <a:gd name="textAreaLeft" fmla="*/ 0 w 176400"/>
              <a:gd name="textAreaRight" fmla="*/ 176400 w 176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11" h="120">
                <a:moveTo>
                  <a:pt x="111" y="48"/>
                </a:moveTo>
                <a:lnTo>
                  <a:pt x="102" y="0"/>
                </a:lnTo>
                <a:cubicBezTo>
                  <a:pt x="95" y="1"/>
                  <a:pt x="84" y="33"/>
                  <a:pt x="69" y="54"/>
                </a:cubicBezTo>
                <a:cubicBezTo>
                  <a:pt x="54" y="75"/>
                  <a:pt x="44" y="91"/>
                  <a:pt x="33" y="102"/>
                </a:cubicBezTo>
                <a:cubicBezTo>
                  <a:pt x="22" y="113"/>
                  <a:pt x="4" y="120"/>
                  <a:pt x="0" y="118"/>
                </a:cubicBezTo>
                <a:lnTo>
                  <a:pt x="2" y="97"/>
                </a:lnTo>
              </a:path>
            </a:pathLst>
          </a:custGeom>
          <a:noFill/>
          <a:ln w="32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0"/>
          <p:cNvSpPr/>
          <p:nvPr/>
        </p:nvSpPr>
        <p:spPr>
          <a:xfrm>
            <a:off x="1704960" y="1695600"/>
            <a:ext cx="176400" cy="825480"/>
          </a:xfrm>
          <a:custGeom>
            <a:avLst/>
            <a:gdLst>
              <a:gd name="textAreaLeft" fmla="*/ 0 w 176400"/>
              <a:gd name="textAreaRight" fmla="*/ 176400 w 17640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111" h="520">
                <a:moveTo>
                  <a:pt x="3" y="520"/>
                </a:moveTo>
                <a:cubicBezTo>
                  <a:pt x="5" y="495"/>
                  <a:pt x="0" y="508"/>
                  <a:pt x="12" y="454"/>
                </a:cubicBezTo>
                <a:cubicBezTo>
                  <a:pt x="24" y="400"/>
                  <a:pt x="43" y="391"/>
                  <a:pt x="61" y="343"/>
                </a:cubicBezTo>
                <a:cubicBezTo>
                  <a:pt x="79" y="295"/>
                  <a:pt x="67" y="194"/>
                  <a:pt x="76" y="136"/>
                </a:cubicBezTo>
                <a:cubicBezTo>
                  <a:pt x="85" y="78"/>
                  <a:pt x="90" y="43"/>
                  <a:pt x="111" y="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1"/>
          <p:cNvSpPr/>
          <p:nvPr/>
        </p:nvSpPr>
        <p:spPr>
          <a:xfrm>
            <a:off x="1876320" y="1620720"/>
            <a:ext cx="630360" cy="84240"/>
          </a:xfrm>
          <a:custGeom>
            <a:avLst/>
            <a:gdLst/>
            <a:ahLst/>
            <a:rect l="l" t="t" r="r" b="b"/>
            <a:pathLst>
              <a:path w="397" h="53">
                <a:moveTo>
                  <a:pt x="0" y="53"/>
                </a:moveTo>
                <a:cubicBezTo>
                  <a:pt x="6" y="47"/>
                  <a:pt x="13" y="24"/>
                  <a:pt x="43" y="12"/>
                </a:cubicBezTo>
                <a:cubicBezTo>
                  <a:pt x="73" y="0"/>
                  <a:pt x="99" y="0"/>
                  <a:pt x="142" y="9"/>
                </a:cubicBezTo>
                <a:cubicBezTo>
                  <a:pt x="185" y="18"/>
                  <a:pt x="221" y="29"/>
                  <a:pt x="246" y="32"/>
                </a:cubicBezTo>
                <a:cubicBezTo>
                  <a:pt x="271" y="35"/>
                  <a:pt x="278" y="28"/>
                  <a:pt x="291" y="27"/>
                </a:cubicBezTo>
                <a:cubicBezTo>
                  <a:pt x="303" y="26"/>
                  <a:pt x="309" y="26"/>
                  <a:pt x="322" y="26"/>
                </a:cubicBezTo>
                <a:cubicBezTo>
                  <a:pt x="334" y="26"/>
                  <a:pt x="351" y="28"/>
                  <a:pt x="363" y="27"/>
                </a:cubicBezTo>
                <a:cubicBezTo>
                  <a:pt x="375" y="25"/>
                  <a:pt x="388" y="23"/>
                  <a:pt x="397" y="18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2"/>
          <p:cNvSpPr/>
          <p:nvPr/>
        </p:nvSpPr>
        <p:spPr>
          <a:xfrm>
            <a:off x="2492280" y="1130400"/>
            <a:ext cx="347760" cy="528480"/>
          </a:xfrm>
          <a:custGeom>
            <a:avLst/>
            <a:gdLst>
              <a:gd name="textAreaLeft" fmla="*/ 0 w 347760"/>
              <a:gd name="textAreaRight" fmla="*/ 348120 w 34776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9" h="333">
                <a:moveTo>
                  <a:pt x="3" y="333"/>
                </a:moveTo>
                <a:cubicBezTo>
                  <a:pt x="4" y="318"/>
                  <a:pt x="0" y="272"/>
                  <a:pt x="8" y="242"/>
                </a:cubicBezTo>
                <a:cubicBezTo>
                  <a:pt x="15" y="204"/>
                  <a:pt x="29" y="183"/>
                  <a:pt x="50" y="153"/>
                </a:cubicBezTo>
                <a:cubicBezTo>
                  <a:pt x="59" y="105"/>
                  <a:pt x="69" y="58"/>
                  <a:pt x="108" y="29"/>
                </a:cubicBezTo>
                <a:cubicBezTo>
                  <a:pt x="147" y="0"/>
                  <a:pt x="193" y="15"/>
                  <a:pt x="219" y="21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3"/>
          <p:cNvSpPr/>
          <p:nvPr/>
        </p:nvSpPr>
        <p:spPr>
          <a:xfrm>
            <a:off x="2735280" y="1162080"/>
            <a:ext cx="245880" cy="566640"/>
          </a:xfrm>
          <a:custGeom>
            <a:avLst/>
            <a:gdLst>
              <a:gd name="textAreaLeft" fmla="*/ 0 w 245880"/>
              <a:gd name="textAreaRight" fmla="*/ 246240 w 24588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155" h="357">
                <a:moveTo>
                  <a:pt x="62" y="0"/>
                </a:moveTo>
                <a:cubicBezTo>
                  <a:pt x="99" y="10"/>
                  <a:pt x="119" y="28"/>
                  <a:pt x="134" y="52"/>
                </a:cubicBezTo>
                <a:cubicBezTo>
                  <a:pt x="148" y="72"/>
                  <a:pt x="141" y="99"/>
                  <a:pt x="143" y="120"/>
                </a:cubicBezTo>
                <a:cubicBezTo>
                  <a:pt x="145" y="141"/>
                  <a:pt x="155" y="158"/>
                  <a:pt x="153" y="174"/>
                </a:cubicBezTo>
                <a:lnTo>
                  <a:pt x="131" y="213"/>
                </a:lnTo>
                <a:lnTo>
                  <a:pt x="132" y="261"/>
                </a:lnTo>
                <a:lnTo>
                  <a:pt x="105" y="286"/>
                </a:lnTo>
                <a:lnTo>
                  <a:pt x="92" y="312"/>
                </a:lnTo>
                <a:cubicBezTo>
                  <a:pt x="87" y="323"/>
                  <a:pt x="89" y="346"/>
                  <a:pt x="72" y="351"/>
                </a:cubicBezTo>
                <a:cubicBezTo>
                  <a:pt x="55" y="356"/>
                  <a:pt x="29" y="332"/>
                  <a:pt x="17" y="333"/>
                </a:cubicBezTo>
                <a:cubicBezTo>
                  <a:pt x="5" y="334"/>
                  <a:pt x="3" y="353"/>
                  <a:pt x="0" y="357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4"/>
          <p:cNvSpPr/>
          <p:nvPr/>
        </p:nvSpPr>
        <p:spPr>
          <a:xfrm>
            <a:off x="2728800" y="1716120"/>
            <a:ext cx="300240" cy="260280"/>
          </a:xfrm>
          <a:custGeom>
            <a:avLst/>
            <a:gdLst>
              <a:gd name="textAreaLeft" fmla="*/ 0 w 300240"/>
              <a:gd name="textAreaRight" fmla="*/ 300600 w 30024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89" h="164">
                <a:moveTo>
                  <a:pt x="7" y="0"/>
                </a:moveTo>
                <a:cubicBezTo>
                  <a:pt x="0" y="20"/>
                  <a:pt x="77" y="46"/>
                  <a:pt x="124" y="62"/>
                </a:cubicBezTo>
                <a:cubicBezTo>
                  <a:pt x="171" y="78"/>
                  <a:pt x="166" y="164"/>
                  <a:pt x="189" y="122"/>
                </a:cubicBezTo>
              </a:path>
            </a:pathLst>
          </a:custGeom>
          <a:noFill/>
          <a:ln w="32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5"/>
          <p:cNvSpPr/>
          <p:nvPr/>
        </p:nvSpPr>
        <p:spPr>
          <a:xfrm>
            <a:off x="2944800" y="1771560"/>
            <a:ext cx="90360" cy="147600"/>
          </a:xfrm>
          <a:custGeom>
            <a:avLst/>
            <a:gdLst>
              <a:gd name="textAreaLeft" fmla="*/ 0 w 90360"/>
              <a:gd name="textAreaRight" fmla="*/ 90720 w 9036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57" h="93">
                <a:moveTo>
                  <a:pt x="51" y="93"/>
                </a:moveTo>
                <a:cubicBezTo>
                  <a:pt x="57" y="87"/>
                  <a:pt x="53" y="59"/>
                  <a:pt x="48" y="43"/>
                </a:cubicBezTo>
                <a:cubicBezTo>
                  <a:pt x="43" y="27"/>
                  <a:pt x="0" y="0"/>
                  <a:pt x="33" y="6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6"/>
          <p:cNvSpPr/>
          <p:nvPr/>
        </p:nvSpPr>
        <p:spPr>
          <a:xfrm>
            <a:off x="2981160" y="1778040"/>
            <a:ext cx="182880" cy="839880"/>
          </a:xfrm>
          <a:custGeom>
            <a:avLst/>
            <a:gdLst>
              <a:gd name="textAreaLeft" fmla="*/ 0 w 182880"/>
              <a:gd name="textAreaRight" fmla="*/ 183240 w 18288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115" h="529">
                <a:moveTo>
                  <a:pt x="0" y="2"/>
                </a:moveTo>
                <a:cubicBezTo>
                  <a:pt x="15" y="0"/>
                  <a:pt x="28" y="2"/>
                  <a:pt x="28" y="2"/>
                </a:cubicBezTo>
                <a:lnTo>
                  <a:pt x="48" y="5"/>
                </a:lnTo>
                <a:lnTo>
                  <a:pt x="57" y="15"/>
                </a:lnTo>
                <a:lnTo>
                  <a:pt x="76" y="18"/>
                </a:lnTo>
                <a:lnTo>
                  <a:pt x="85" y="35"/>
                </a:lnTo>
                <a:lnTo>
                  <a:pt x="100" y="45"/>
                </a:lnTo>
                <a:cubicBezTo>
                  <a:pt x="105" y="55"/>
                  <a:pt x="115" y="69"/>
                  <a:pt x="115" y="93"/>
                </a:cubicBezTo>
                <a:cubicBezTo>
                  <a:pt x="115" y="112"/>
                  <a:pt x="106" y="172"/>
                  <a:pt x="100" y="192"/>
                </a:cubicBezTo>
                <a:cubicBezTo>
                  <a:pt x="99" y="209"/>
                  <a:pt x="102" y="223"/>
                  <a:pt x="103" y="231"/>
                </a:cubicBezTo>
                <a:cubicBezTo>
                  <a:pt x="104" y="251"/>
                  <a:pt x="106" y="302"/>
                  <a:pt x="108" y="330"/>
                </a:cubicBezTo>
                <a:cubicBezTo>
                  <a:pt x="110" y="358"/>
                  <a:pt x="112" y="421"/>
                  <a:pt x="106" y="458"/>
                </a:cubicBezTo>
                <a:cubicBezTo>
                  <a:pt x="100" y="495"/>
                  <a:pt x="90" y="527"/>
                  <a:pt x="72" y="528"/>
                </a:cubicBezTo>
                <a:cubicBezTo>
                  <a:pt x="54" y="529"/>
                  <a:pt x="43" y="517"/>
                  <a:pt x="40" y="516"/>
                </a:cubicBezTo>
              </a:path>
            </a:pathLst>
          </a:custGeom>
          <a:noFill/>
          <a:ln w="32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7"/>
          <p:cNvSpPr/>
          <p:nvPr/>
        </p:nvSpPr>
        <p:spPr>
          <a:xfrm>
            <a:off x="2854440" y="2066760"/>
            <a:ext cx="207720" cy="543240"/>
          </a:xfrm>
          <a:custGeom>
            <a:avLst/>
            <a:gdLst>
              <a:gd name="textAreaLeft" fmla="*/ 0 w 207720"/>
              <a:gd name="textAreaRight" fmla="*/ 208080 w 207720"/>
              <a:gd name="textAreaTop" fmla="*/ 0 h 543240"/>
              <a:gd name="textAreaBottom" fmla="*/ 543600 h 543240"/>
            </a:gdLst>
            <a:ahLst/>
            <a:rect l="textAreaLeft" t="textAreaTop" r="textAreaRight" b="textAreaBottom"/>
            <a:pathLst>
              <a:path w="131" h="342">
                <a:moveTo>
                  <a:pt x="131" y="342"/>
                </a:moveTo>
                <a:cubicBezTo>
                  <a:pt x="113" y="330"/>
                  <a:pt x="97" y="319"/>
                  <a:pt x="80" y="285"/>
                </a:cubicBezTo>
                <a:cubicBezTo>
                  <a:pt x="63" y="251"/>
                  <a:pt x="39" y="189"/>
                  <a:pt x="32" y="133"/>
                </a:cubicBezTo>
                <a:cubicBezTo>
                  <a:pt x="25" y="77"/>
                  <a:pt x="11" y="0"/>
                  <a:pt x="0" y="37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8"/>
          <p:cNvSpPr/>
          <p:nvPr/>
        </p:nvSpPr>
        <p:spPr>
          <a:xfrm>
            <a:off x="2610000" y="2114640"/>
            <a:ext cx="249120" cy="1000080"/>
          </a:xfrm>
          <a:custGeom>
            <a:avLst/>
            <a:gdLst>
              <a:gd name="textAreaLeft" fmla="*/ 0 w 249120"/>
              <a:gd name="textAreaRight" fmla="*/ 249480 w 24912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57" h="630">
                <a:moveTo>
                  <a:pt x="157" y="0"/>
                </a:moveTo>
                <a:cubicBezTo>
                  <a:pt x="154" y="15"/>
                  <a:pt x="148" y="63"/>
                  <a:pt x="139" y="94"/>
                </a:cubicBezTo>
                <a:cubicBezTo>
                  <a:pt x="130" y="125"/>
                  <a:pt x="111" y="168"/>
                  <a:pt x="100" y="185"/>
                </a:cubicBezTo>
                <a:cubicBezTo>
                  <a:pt x="96" y="217"/>
                  <a:pt x="95" y="229"/>
                  <a:pt x="91" y="250"/>
                </a:cubicBezTo>
                <a:cubicBezTo>
                  <a:pt x="87" y="271"/>
                  <a:pt x="82" y="288"/>
                  <a:pt x="78" y="309"/>
                </a:cubicBezTo>
                <a:cubicBezTo>
                  <a:pt x="81" y="340"/>
                  <a:pt x="77" y="417"/>
                  <a:pt x="64" y="471"/>
                </a:cubicBezTo>
                <a:cubicBezTo>
                  <a:pt x="51" y="525"/>
                  <a:pt x="18" y="601"/>
                  <a:pt x="0" y="63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39"/>
          <p:cNvSpPr/>
          <p:nvPr/>
        </p:nvSpPr>
        <p:spPr>
          <a:xfrm>
            <a:off x="2573280" y="3095640"/>
            <a:ext cx="681120" cy="1498680"/>
          </a:xfrm>
          <a:custGeom>
            <a:avLst/>
            <a:gdLst>
              <a:gd name="textAreaLeft" fmla="*/ 0 w 681120"/>
              <a:gd name="textAreaRight" fmla="*/ 681480 w 68112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29" h="944">
                <a:moveTo>
                  <a:pt x="29" y="0"/>
                </a:moveTo>
                <a:cubicBezTo>
                  <a:pt x="0" y="34"/>
                  <a:pt x="88" y="128"/>
                  <a:pt x="125" y="187"/>
                </a:cubicBezTo>
                <a:cubicBezTo>
                  <a:pt x="162" y="246"/>
                  <a:pt x="187" y="294"/>
                  <a:pt x="204" y="322"/>
                </a:cubicBezTo>
                <a:cubicBezTo>
                  <a:pt x="220" y="350"/>
                  <a:pt x="218" y="341"/>
                  <a:pt x="222" y="352"/>
                </a:cubicBezTo>
                <a:cubicBezTo>
                  <a:pt x="223" y="353"/>
                  <a:pt x="223" y="369"/>
                  <a:pt x="231" y="388"/>
                </a:cubicBezTo>
                <a:cubicBezTo>
                  <a:pt x="239" y="406"/>
                  <a:pt x="257" y="430"/>
                  <a:pt x="267" y="457"/>
                </a:cubicBezTo>
                <a:cubicBezTo>
                  <a:pt x="277" y="484"/>
                  <a:pt x="270" y="493"/>
                  <a:pt x="289" y="550"/>
                </a:cubicBezTo>
                <a:cubicBezTo>
                  <a:pt x="308" y="607"/>
                  <a:pt x="362" y="733"/>
                  <a:pt x="381" y="798"/>
                </a:cubicBezTo>
                <a:cubicBezTo>
                  <a:pt x="403" y="865"/>
                  <a:pt x="429" y="944"/>
                  <a:pt x="402" y="943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40"/>
          <p:cNvSpPr/>
          <p:nvPr/>
        </p:nvSpPr>
        <p:spPr>
          <a:xfrm>
            <a:off x="3062160" y="4591080"/>
            <a:ext cx="154080" cy="87120"/>
          </a:xfrm>
          <a:custGeom>
            <a:avLst/>
            <a:gdLst>
              <a:gd name="textAreaLeft" fmla="*/ 0 w 154080"/>
              <a:gd name="textAreaRight" fmla="*/ 154440 w 15408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97" h="55">
                <a:moveTo>
                  <a:pt x="97" y="0"/>
                </a:moveTo>
                <a:lnTo>
                  <a:pt x="0" y="40"/>
                </a:lnTo>
                <a:lnTo>
                  <a:pt x="3" y="55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41"/>
          <p:cNvSpPr/>
          <p:nvPr/>
        </p:nvSpPr>
        <p:spPr>
          <a:xfrm>
            <a:off x="3062160" y="4667400"/>
            <a:ext cx="306360" cy="366480"/>
          </a:xfrm>
          <a:custGeom>
            <a:avLst/>
            <a:gdLst>
              <a:gd name="textAreaLeft" fmla="*/ 0 w 306360"/>
              <a:gd name="textAreaRight" fmla="*/ 306360 w 30636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193" h="231">
                <a:moveTo>
                  <a:pt x="0" y="0"/>
                </a:moveTo>
                <a:cubicBezTo>
                  <a:pt x="19" y="15"/>
                  <a:pt x="39" y="31"/>
                  <a:pt x="39" y="31"/>
                </a:cubicBezTo>
                <a:lnTo>
                  <a:pt x="78" y="75"/>
                </a:lnTo>
                <a:lnTo>
                  <a:pt x="90" y="94"/>
                </a:lnTo>
                <a:lnTo>
                  <a:pt x="151" y="132"/>
                </a:lnTo>
                <a:cubicBezTo>
                  <a:pt x="165" y="142"/>
                  <a:pt x="168" y="140"/>
                  <a:pt x="174" y="151"/>
                </a:cubicBezTo>
                <a:cubicBezTo>
                  <a:pt x="179" y="159"/>
                  <a:pt x="193" y="185"/>
                  <a:pt x="186" y="198"/>
                </a:cubicBezTo>
                <a:cubicBezTo>
                  <a:pt x="179" y="211"/>
                  <a:pt x="159" y="231"/>
                  <a:pt x="135" y="228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2"/>
          <p:cNvSpPr/>
          <p:nvPr/>
        </p:nvSpPr>
        <p:spPr>
          <a:xfrm>
            <a:off x="3282840" y="5029200"/>
            <a:ext cx="3881520" cy="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1"/>
          <p:cNvSpPr/>
          <p:nvPr/>
        </p:nvSpPr>
        <p:spPr>
          <a:xfrm>
            <a:off x="2160720" y="874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我的爱好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2"/>
          <p:cNvSpPr/>
          <p:nvPr/>
        </p:nvSpPr>
        <p:spPr>
          <a:xfrm>
            <a:off x="5514120" y="1403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动如脱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3"/>
          <p:cNvSpPr/>
          <p:nvPr/>
        </p:nvSpPr>
        <p:spPr>
          <a:xfrm>
            <a:off x="2162520" y="874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我的爱好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4"/>
          <p:cNvSpPr/>
          <p:nvPr/>
        </p:nvSpPr>
        <p:spPr>
          <a:xfrm>
            <a:off x="4154400" y="24210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旅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5"/>
          <p:cNvSpPr/>
          <p:nvPr/>
        </p:nvSpPr>
        <p:spPr>
          <a:xfrm>
            <a:off x="6823800" y="316224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羽毛球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6"/>
          <p:cNvSpPr/>
          <p:nvPr/>
        </p:nvSpPr>
        <p:spPr>
          <a:xfrm>
            <a:off x="5236200" y="4437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跑步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7"/>
          <p:cNvSpPr/>
          <p:nvPr/>
        </p:nvSpPr>
        <p:spPr>
          <a:xfrm>
            <a:off x="4067280" y="5059440"/>
            <a:ext cx="3168720" cy="936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5"/>
          <p:cNvSpPr/>
          <p:nvPr/>
        </p:nvSpPr>
        <p:spPr>
          <a:xfrm>
            <a:off x="7093080" y="5029200"/>
            <a:ext cx="2050920" cy="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64"/>
          <p:cNvSpPr/>
          <p:nvPr/>
        </p:nvSpPr>
        <p:spPr>
          <a:xfrm>
            <a:off x="1403280" y="1125360"/>
            <a:ext cx="1933560" cy="3911760"/>
          </a:xfrm>
          <a:custGeom>
            <a:avLst/>
            <a:gdLst>
              <a:gd name="textAreaLeft" fmla="*/ 0 w 1933560"/>
              <a:gd name="textAreaRight" fmla="*/ 1933920 w 1933560"/>
              <a:gd name="textAreaTop" fmla="*/ 0 h 3911760"/>
              <a:gd name="textAreaBottom" fmla="*/ 3912120 h 3911760"/>
            </a:gdLst>
            <a:ahLst/>
            <a:rect l="textAreaLeft" t="textAreaTop" r="textAreaRight" b="textAreaBottom"/>
            <a:pathLst>
              <a:path w="1218" h="2464">
                <a:moveTo>
                  <a:pt x="1059" y="2454"/>
                </a:moveTo>
                <a:cubicBezTo>
                  <a:pt x="1027" y="2444"/>
                  <a:pt x="1010" y="2408"/>
                  <a:pt x="983" y="2392"/>
                </a:cubicBezTo>
                <a:cubicBezTo>
                  <a:pt x="956" y="2376"/>
                  <a:pt x="920" y="2375"/>
                  <a:pt x="906" y="2362"/>
                </a:cubicBezTo>
                <a:cubicBezTo>
                  <a:pt x="893" y="2346"/>
                  <a:pt x="905" y="2317"/>
                  <a:pt x="902" y="2298"/>
                </a:cubicBezTo>
                <a:cubicBezTo>
                  <a:pt x="899" y="2279"/>
                  <a:pt x="890" y="2256"/>
                  <a:pt x="896" y="2244"/>
                </a:cubicBezTo>
                <a:cubicBezTo>
                  <a:pt x="902" y="2232"/>
                  <a:pt x="909" y="2237"/>
                  <a:pt x="909" y="2223"/>
                </a:cubicBezTo>
                <a:lnTo>
                  <a:pt x="894" y="2160"/>
                </a:lnTo>
                <a:cubicBezTo>
                  <a:pt x="885" y="2141"/>
                  <a:pt x="880" y="2172"/>
                  <a:pt x="857" y="2109"/>
                </a:cubicBezTo>
                <a:cubicBezTo>
                  <a:pt x="833" y="2040"/>
                  <a:pt x="775" y="1840"/>
                  <a:pt x="756" y="1780"/>
                </a:cubicBezTo>
                <a:cubicBezTo>
                  <a:pt x="737" y="1720"/>
                  <a:pt x="741" y="1756"/>
                  <a:pt x="740" y="1747"/>
                </a:cubicBezTo>
                <a:cubicBezTo>
                  <a:pt x="740" y="1736"/>
                  <a:pt x="751" y="1743"/>
                  <a:pt x="750" y="1723"/>
                </a:cubicBezTo>
                <a:cubicBezTo>
                  <a:pt x="749" y="1703"/>
                  <a:pt x="743" y="1651"/>
                  <a:pt x="734" y="1626"/>
                </a:cubicBezTo>
                <a:cubicBezTo>
                  <a:pt x="725" y="1601"/>
                  <a:pt x="703" y="1566"/>
                  <a:pt x="687" y="1548"/>
                </a:cubicBezTo>
                <a:cubicBezTo>
                  <a:pt x="671" y="1530"/>
                  <a:pt x="644" y="1485"/>
                  <a:pt x="627" y="1473"/>
                </a:cubicBezTo>
                <a:cubicBezTo>
                  <a:pt x="603" y="1498"/>
                  <a:pt x="564" y="1555"/>
                  <a:pt x="543" y="1578"/>
                </a:cubicBezTo>
                <a:cubicBezTo>
                  <a:pt x="519" y="1605"/>
                  <a:pt x="497" y="1607"/>
                  <a:pt x="485" y="1635"/>
                </a:cubicBezTo>
                <a:cubicBezTo>
                  <a:pt x="473" y="1663"/>
                  <a:pt x="387" y="1653"/>
                  <a:pt x="321" y="1635"/>
                </a:cubicBezTo>
                <a:cubicBezTo>
                  <a:pt x="255" y="1617"/>
                  <a:pt x="197" y="1599"/>
                  <a:pt x="147" y="1593"/>
                </a:cubicBezTo>
                <a:cubicBezTo>
                  <a:pt x="143" y="1641"/>
                  <a:pt x="92" y="1671"/>
                  <a:pt x="62" y="1626"/>
                </a:cubicBezTo>
                <a:cubicBezTo>
                  <a:pt x="32" y="1581"/>
                  <a:pt x="63" y="1546"/>
                  <a:pt x="56" y="1509"/>
                </a:cubicBezTo>
                <a:cubicBezTo>
                  <a:pt x="49" y="1472"/>
                  <a:pt x="0" y="1441"/>
                  <a:pt x="6" y="1399"/>
                </a:cubicBezTo>
                <a:cubicBezTo>
                  <a:pt x="12" y="1357"/>
                  <a:pt x="62" y="1350"/>
                  <a:pt x="98" y="1366"/>
                </a:cubicBezTo>
                <a:cubicBezTo>
                  <a:pt x="134" y="1382"/>
                  <a:pt x="118" y="1393"/>
                  <a:pt x="170" y="1402"/>
                </a:cubicBezTo>
                <a:cubicBezTo>
                  <a:pt x="222" y="1411"/>
                  <a:pt x="363" y="1422"/>
                  <a:pt x="411" y="1423"/>
                </a:cubicBezTo>
                <a:cubicBezTo>
                  <a:pt x="431" y="1416"/>
                  <a:pt x="456" y="1341"/>
                  <a:pt x="474" y="1284"/>
                </a:cubicBezTo>
                <a:cubicBezTo>
                  <a:pt x="434" y="1230"/>
                  <a:pt x="415" y="1168"/>
                  <a:pt x="419" y="1107"/>
                </a:cubicBezTo>
                <a:cubicBezTo>
                  <a:pt x="423" y="1046"/>
                  <a:pt x="487" y="958"/>
                  <a:pt x="500" y="916"/>
                </a:cubicBezTo>
                <a:cubicBezTo>
                  <a:pt x="513" y="874"/>
                  <a:pt x="497" y="868"/>
                  <a:pt x="500" y="856"/>
                </a:cubicBezTo>
                <a:cubicBezTo>
                  <a:pt x="502" y="845"/>
                  <a:pt x="512" y="855"/>
                  <a:pt x="516" y="841"/>
                </a:cubicBezTo>
                <a:cubicBezTo>
                  <a:pt x="517" y="834"/>
                  <a:pt x="509" y="827"/>
                  <a:pt x="509" y="816"/>
                </a:cubicBezTo>
                <a:cubicBezTo>
                  <a:pt x="509" y="805"/>
                  <a:pt x="521" y="801"/>
                  <a:pt x="519" y="774"/>
                </a:cubicBezTo>
                <a:cubicBezTo>
                  <a:pt x="506" y="733"/>
                  <a:pt x="500" y="701"/>
                  <a:pt x="497" y="654"/>
                </a:cubicBezTo>
                <a:cubicBezTo>
                  <a:pt x="496" y="610"/>
                  <a:pt x="523" y="530"/>
                  <a:pt x="501" y="492"/>
                </a:cubicBezTo>
                <a:cubicBezTo>
                  <a:pt x="476" y="453"/>
                  <a:pt x="372" y="432"/>
                  <a:pt x="344" y="418"/>
                </a:cubicBezTo>
                <a:cubicBezTo>
                  <a:pt x="343" y="442"/>
                  <a:pt x="345" y="430"/>
                  <a:pt x="336" y="496"/>
                </a:cubicBezTo>
                <a:cubicBezTo>
                  <a:pt x="332" y="538"/>
                  <a:pt x="318" y="628"/>
                  <a:pt x="302" y="673"/>
                </a:cubicBezTo>
                <a:cubicBezTo>
                  <a:pt x="320" y="736"/>
                  <a:pt x="302" y="808"/>
                  <a:pt x="285" y="816"/>
                </a:cubicBezTo>
                <a:cubicBezTo>
                  <a:pt x="272" y="823"/>
                  <a:pt x="287" y="767"/>
                  <a:pt x="267" y="775"/>
                </a:cubicBezTo>
                <a:cubicBezTo>
                  <a:pt x="257" y="810"/>
                  <a:pt x="173" y="927"/>
                  <a:pt x="173" y="867"/>
                </a:cubicBezTo>
                <a:cubicBezTo>
                  <a:pt x="176" y="759"/>
                  <a:pt x="228" y="737"/>
                  <a:pt x="240" y="673"/>
                </a:cubicBezTo>
                <a:cubicBezTo>
                  <a:pt x="252" y="606"/>
                  <a:pt x="239" y="516"/>
                  <a:pt x="248" y="462"/>
                </a:cubicBezTo>
                <a:cubicBezTo>
                  <a:pt x="257" y="408"/>
                  <a:pt x="272" y="330"/>
                  <a:pt x="329" y="312"/>
                </a:cubicBezTo>
                <a:cubicBezTo>
                  <a:pt x="386" y="294"/>
                  <a:pt x="470" y="335"/>
                  <a:pt x="527" y="337"/>
                </a:cubicBezTo>
                <a:cubicBezTo>
                  <a:pt x="603" y="340"/>
                  <a:pt x="636" y="324"/>
                  <a:pt x="669" y="327"/>
                </a:cubicBezTo>
                <a:cubicBezTo>
                  <a:pt x="674" y="251"/>
                  <a:pt x="676" y="184"/>
                  <a:pt x="720" y="144"/>
                </a:cubicBezTo>
                <a:cubicBezTo>
                  <a:pt x="728" y="93"/>
                  <a:pt x="746" y="18"/>
                  <a:pt x="809" y="9"/>
                </a:cubicBezTo>
                <a:cubicBezTo>
                  <a:pt x="872" y="0"/>
                  <a:pt x="907" y="22"/>
                  <a:pt x="933" y="40"/>
                </a:cubicBezTo>
                <a:cubicBezTo>
                  <a:pt x="959" y="58"/>
                  <a:pt x="968" y="94"/>
                  <a:pt x="965" y="118"/>
                </a:cubicBezTo>
                <a:cubicBezTo>
                  <a:pt x="962" y="142"/>
                  <a:pt x="965" y="158"/>
                  <a:pt x="975" y="183"/>
                </a:cubicBezTo>
                <a:cubicBezTo>
                  <a:pt x="974" y="202"/>
                  <a:pt x="968" y="198"/>
                  <a:pt x="953" y="225"/>
                </a:cubicBezTo>
                <a:cubicBezTo>
                  <a:pt x="951" y="241"/>
                  <a:pt x="958" y="261"/>
                  <a:pt x="954" y="274"/>
                </a:cubicBezTo>
                <a:cubicBezTo>
                  <a:pt x="950" y="287"/>
                  <a:pt x="936" y="288"/>
                  <a:pt x="926" y="303"/>
                </a:cubicBezTo>
                <a:cubicBezTo>
                  <a:pt x="905" y="324"/>
                  <a:pt x="921" y="352"/>
                  <a:pt x="896" y="364"/>
                </a:cubicBezTo>
                <a:cubicBezTo>
                  <a:pt x="871" y="376"/>
                  <a:pt x="844" y="346"/>
                  <a:pt x="834" y="349"/>
                </a:cubicBezTo>
                <a:cubicBezTo>
                  <a:pt x="824" y="352"/>
                  <a:pt x="813" y="370"/>
                  <a:pt x="833" y="384"/>
                </a:cubicBezTo>
                <a:cubicBezTo>
                  <a:pt x="853" y="398"/>
                  <a:pt x="926" y="414"/>
                  <a:pt x="953" y="433"/>
                </a:cubicBezTo>
                <a:cubicBezTo>
                  <a:pt x="980" y="452"/>
                  <a:pt x="984" y="496"/>
                  <a:pt x="993" y="499"/>
                </a:cubicBezTo>
                <a:cubicBezTo>
                  <a:pt x="1007" y="481"/>
                  <a:pt x="1006" y="466"/>
                  <a:pt x="1005" y="450"/>
                </a:cubicBezTo>
                <a:cubicBezTo>
                  <a:pt x="1002" y="434"/>
                  <a:pt x="971" y="412"/>
                  <a:pt x="974" y="405"/>
                </a:cubicBezTo>
                <a:cubicBezTo>
                  <a:pt x="977" y="398"/>
                  <a:pt x="1013" y="403"/>
                  <a:pt x="1025" y="406"/>
                </a:cubicBezTo>
                <a:cubicBezTo>
                  <a:pt x="1037" y="409"/>
                  <a:pt x="1038" y="417"/>
                  <a:pt x="1044" y="421"/>
                </a:cubicBezTo>
                <a:cubicBezTo>
                  <a:pt x="1050" y="425"/>
                  <a:pt x="1058" y="425"/>
                  <a:pt x="1062" y="429"/>
                </a:cubicBezTo>
                <a:cubicBezTo>
                  <a:pt x="1066" y="433"/>
                  <a:pt x="1066" y="440"/>
                  <a:pt x="1070" y="448"/>
                </a:cubicBezTo>
                <a:cubicBezTo>
                  <a:pt x="1074" y="456"/>
                  <a:pt x="1086" y="461"/>
                  <a:pt x="1089" y="475"/>
                </a:cubicBezTo>
                <a:cubicBezTo>
                  <a:pt x="1092" y="489"/>
                  <a:pt x="1091" y="511"/>
                  <a:pt x="1089" y="532"/>
                </a:cubicBezTo>
                <a:cubicBezTo>
                  <a:pt x="1087" y="552"/>
                  <a:pt x="1082" y="579"/>
                  <a:pt x="1074" y="600"/>
                </a:cubicBezTo>
                <a:cubicBezTo>
                  <a:pt x="1083" y="648"/>
                  <a:pt x="1080" y="723"/>
                  <a:pt x="1085" y="810"/>
                </a:cubicBezTo>
                <a:cubicBezTo>
                  <a:pt x="1090" y="897"/>
                  <a:pt x="1066" y="943"/>
                  <a:pt x="1034" y="931"/>
                </a:cubicBezTo>
                <a:cubicBezTo>
                  <a:pt x="1002" y="919"/>
                  <a:pt x="979" y="878"/>
                  <a:pt x="959" y="834"/>
                </a:cubicBezTo>
                <a:cubicBezTo>
                  <a:pt x="939" y="790"/>
                  <a:pt x="928" y="710"/>
                  <a:pt x="923" y="685"/>
                </a:cubicBezTo>
                <a:cubicBezTo>
                  <a:pt x="918" y="660"/>
                  <a:pt x="910" y="595"/>
                  <a:pt x="900" y="615"/>
                </a:cubicBezTo>
                <a:cubicBezTo>
                  <a:pt x="894" y="661"/>
                  <a:pt x="878" y="753"/>
                  <a:pt x="842" y="799"/>
                </a:cubicBezTo>
                <a:cubicBezTo>
                  <a:pt x="837" y="855"/>
                  <a:pt x="834" y="879"/>
                  <a:pt x="818" y="916"/>
                </a:cubicBezTo>
                <a:cubicBezTo>
                  <a:pt x="825" y="967"/>
                  <a:pt x="820" y="1022"/>
                  <a:pt x="806" y="1090"/>
                </a:cubicBezTo>
                <a:cubicBezTo>
                  <a:pt x="792" y="1158"/>
                  <a:pt x="762" y="1218"/>
                  <a:pt x="743" y="1242"/>
                </a:cubicBezTo>
                <a:cubicBezTo>
                  <a:pt x="735" y="1303"/>
                  <a:pt x="827" y="1363"/>
                  <a:pt x="891" y="1503"/>
                </a:cubicBezTo>
                <a:cubicBezTo>
                  <a:pt x="925" y="1561"/>
                  <a:pt x="928" y="1557"/>
                  <a:pt x="944" y="1590"/>
                </a:cubicBezTo>
                <a:cubicBezTo>
                  <a:pt x="938" y="1626"/>
                  <a:pt x="959" y="1615"/>
                  <a:pt x="990" y="1699"/>
                </a:cubicBezTo>
                <a:cubicBezTo>
                  <a:pt x="997" y="1738"/>
                  <a:pt x="990" y="1740"/>
                  <a:pt x="1017" y="1818"/>
                </a:cubicBezTo>
                <a:cubicBezTo>
                  <a:pt x="1044" y="1896"/>
                  <a:pt x="1140" y="2098"/>
                  <a:pt x="1131" y="2173"/>
                </a:cubicBezTo>
                <a:cubicBezTo>
                  <a:pt x="1110" y="2188"/>
                  <a:pt x="1060" y="2199"/>
                  <a:pt x="1022" y="2223"/>
                </a:cubicBezTo>
                <a:cubicBezTo>
                  <a:pt x="1068" y="2247"/>
                  <a:pt x="1086" y="2278"/>
                  <a:pt x="1113" y="2316"/>
                </a:cubicBezTo>
                <a:cubicBezTo>
                  <a:pt x="1146" y="2334"/>
                  <a:pt x="1176" y="2350"/>
                  <a:pt x="1194" y="2368"/>
                </a:cubicBezTo>
                <a:cubicBezTo>
                  <a:pt x="1211" y="2385"/>
                  <a:pt x="1218" y="2404"/>
                  <a:pt x="1215" y="2418"/>
                </a:cubicBezTo>
                <a:cubicBezTo>
                  <a:pt x="1212" y="2432"/>
                  <a:pt x="1213" y="2439"/>
                  <a:pt x="1188" y="2449"/>
                </a:cubicBezTo>
                <a:cubicBezTo>
                  <a:pt x="1163" y="2459"/>
                  <a:pt x="1091" y="2464"/>
                  <a:pt x="1059" y="2454"/>
                </a:cubicBezTo>
                <a:close/>
              </a:path>
            </a:pathLst>
          </a:custGeom>
          <a:gradFill rotWithShape="0">
            <a:gsLst>
              <a:gs pos="0">
                <a:srgbClr val="747474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4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1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2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6" repeatCount="indefinite">
                                  <p:stCondLst>
                                    <p:cond delay="12300"/>
                                  </p:stCondLst>
                                  <p:childTnLst>
                                    <p:animScale>
                                      <p:cBhvr>
                                        <p:cTn id="571" dur="1000" fill="hold"/>
                                        <p:tgtEl>
                                          <p:spTgt spid="28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 repeatCount="indefinite">
                                  <p:stCondLst>
                                    <p:cond delay="1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63">
                                  <p:stCondLst>
                                    <p:cond delay="12000"/>
                                  </p:stCondLst>
                                  <p:childTnLst>
                                    <p:animMotion origin="layout" path="M -1.38889E-006 4.44444E-006 L 0.82361 -0.00209 E">
                                      <p:cBhvr>
                                        <p:cTn id="576" dur="5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1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1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6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92" dur="1000" fill="hold"/>
                                        <p:tgtEl>
                                          <p:spTgt spid="28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7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 repeatCount="indefinite">
                                  <p:stCondLst>
                                    <p:cond delay="7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1000" autoRev="1" fill="hold"/>
                                        <p:tgtEl>
                                          <p:spTgt spid="2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63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4.72222E-006 -2.96296E-006 L 0.0993 -2.96296E-006 E">
                                      <p:cBhvr>
                                        <p:cTn id="608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path" presetID="63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 -7.40741E-007 L -0.08194 -7.40741E-007 E">
                                      <p:cBhvr>
                                        <p:cTn id="613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2" presetSubtype="4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8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52"/>
          <p:cNvSpPr/>
          <p:nvPr/>
        </p:nvSpPr>
        <p:spPr>
          <a:xfrm>
            <a:off x="1438200" y="4581360"/>
            <a:ext cx="1333440" cy="56700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567000"/>
              <a:gd name="textAreaBottom" fmla="*/ 567360 h 567000"/>
            </a:gdLst>
            <a:ahLst/>
            <a:rect l="textAreaLeft" t="textAreaTop" r="textAreaRight" b="textAreaBottom"/>
            <a:pathLst>
              <a:path w="840" h="357">
                <a:moveTo>
                  <a:pt x="0" y="356"/>
                </a:moveTo>
                <a:cubicBezTo>
                  <a:pt x="46" y="323"/>
                  <a:pt x="184" y="211"/>
                  <a:pt x="278" y="158"/>
                </a:cubicBezTo>
                <a:cubicBezTo>
                  <a:pt x="380" y="102"/>
                  <a:pt x="494" y="52"/>
                  <a:pt x="564" y="36"/>
                </a:cubicBezTo>
                <a:cubicBezTo>
                  <a:pt x="634" y="20"/>
                  <a:pt x="738" y="5"/>
                  <a:pt x="840" y="0"/>
                </a:cubicBezTo>
                <a:cubicBezTo>
                  <a:pt x="786" y="9"/>
                  <a:pt x="646" y="36"/>
                  <a:pt x="563" y="81"/>
                </a:cubicBezTo>
                <a:cubicBezTo>
                  <a:pt x="480" y="126"/>
                  <a:pt x="368" y="240"/>
                  <a:pt x="342" y="278"/>
                </a:cubicBezTo>
                <a:cubicBezTo>
                  <a:pt x="364" y="232"/>
                  <a:pt x="358" y="221"/>
                  <a:pt x="378" y="195"/>
                </a:cubicBezTo>
                <a:lnTo>
                  <a:pt x="460" y="122"/>
                </a:lnTo>
                <a:cubicBezTo>
                  <a:pt x="456" y="119"/>
                  <a:pt x="402" y="153"/>
                  <a:pt x="356" y="179"/>
                </a:cubicBezTo>
                <a:cubicBezTo>
                  <a:pt x="310" y="205"/>
                  <a:pt x="252" y="263"/>
                  <a:pt x="212" y="297"/>
                </a:cubicBezTo>
                <a:cubicBezTo>
                  <a:pt x="169" y="340"/>
                  <a:pt x="165" y="344"/>
                  <a:pt x="153" y="357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56"/>
          <p:cNvSpPr/>
          <p:nvPr/>
        </p:nvSpPr>
        <p:spPr>
          <a:xfrm>
            <a:off x="1824120" y="4451400"/>
            <a:ext cx="380880" cy="606240"/>
          </a:xfrm>
          <a:custGeom>
            <a:avLst/>
            <a:gdLst>
              <a:gd name="textAreaLeft" fmla="*/ 0 w 380880"/>
              <a:gd name="textAreaRight" fmla="*/ 381240 w 38088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240" h="382">
                <a:moveTo>
                  <a:pt x="146" y="0"/>
                </a:moveTo>
                <a:lnTo>
                  <a:pt x="0" y="375"/>
                </a:lnTo>
                <a:lnTo>
                  <a:pt x="92" y="382"/>
                </a:lnTo>
                <a:lnTo>
                  <a:pt x="240" y="19"/>
                </a:lnTo>
                <a:lnTo>
                  <a:pt x="14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"/>
          <p:cNvSpPr/>
          <p:nvPr/>
        </p:nvSpPr>
        <p:spPr>
          <a:xfrm flipV="1">
            <a:off x="-36360" y="5146200"/>
            <a:ext cx="1830240" cy="180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47"/>
          <p:cNvSpPr/>
          <p:nvPr/>
        </p:nvSpPr>
        <p:spPr>
          <a:xfrm>
            <a:off x="1782720" y="2260440"/>
            <a:ext cx="1036800" cy="2891160"/>
          </a:xfrm>
          <a:custGeom>
            <a:avLst/>
            <a:gdLst>
              <a:gd name="textAreaLeft" fmla="*/ 0 w 1036800"/>
              <a:gd name="textAreaRight" fmla="*/ 1037160 w 1036800"/>
              <a:gd name="textAreaTop" fmla="*/ 0 h 2891160"/>
              <a:gd name="textAreaBottom" fmla="*/ 2891520 h 2891160"/>
            </a:gdLst>
            <a:ahLst/>
            <a:rect l="textAreaLeft" t="textAreaTop" r="textAreaRight" b="textAreaBottom"/>
            <a:pathLst>
              <a:path w="653" h="1821">
                <a:moveTo>
                  <a:pt x="0" y="1821"/>
                </a:moveTo>
                <a:cubicBezTo>
                  <a:pt x="36" y="1728"/>
                  <a:pt x="143" y="1453"/>
                  <a:pt x="217" y="1264"/>
                </a:cubicBezTo>
                <a:cubicBezTo>
                  <a:pt x="289" y="1084"/>
                  <a:pt x="372" y="892"/>
                  <a:pt x="445" y="684"/>
                </a:cubicBezTo>
                <a:cubicBezTo>
                  <a:pt x="518" y="477"/>
                  <a:pt x="610" y="142"/>
                  <a:pt x="653" y="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48"/>
          <p:cNvSpPr/>
          <p:nvPr/>
        </p:nvSpPr>
        <p:spPr>
          <a:xfrm>
            <a:off x="2646360" y="1785960"/>
            <a:ext cx="503280" cy="503280"/>
          </a:xfrm>
          <a:prstGeom prst="ellipse">
            <a:avLst/>
          </a:prstGeom>
          <a:noFill/>
          <a:ln w="32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49"/>
          <p:cNvSpPr/>
          <p:nvPr/>
        </p:nvSpPr>
        <p:spPr>
          <a:xfrm>
            <a:off x="1930320" y="2286000"/>
            <a:ext cx="978120" cy="2851200"/>
          </a:xfrm>
          <a:custGeom>
            <a:avLst/>
            <a:gdLst>
              <a:gd name="textAreaLeft" fmla="*/ 0 w 978120"/>
              <a:gd name="textAreaRight" fmla="*/ 978480 w 978120"/>
              <a:gd name="textAreaTop" fmla="*/ 0 h 2851200"/>
              <a:gd name="textAreaBottom" fmla="*/ 2851560 h 2851200"/>
            </a:gdLst>
            <a:ahLst/>
            <a:rect l="textAreaLeft" t="textAreaTop" r="textAreaRight" b="textAreaBottom"/>
            <a:pathLst>
              <a:path w="616" h="1796">
                <a:moveTo>
                  <a:pt x="616" y="0"/>
                </a:moveTo>
                <a:cubicBezTo>
                  <a:pt x="563" y="180"/>
                  <a:pt x="416" y="780"/>
                  <a:pt x="296" y="1080"/>
                </a:cubicBezTo>
                <a:cubicBezTo>
                  <a:pt x="176" y="1380"/>
                  <a:pt x="62" y="1647"/>
                  <a:pt x="0" y="1796"/>
                </a:cubicBezTo>
              </a:path>
            </a:pathLst>
          </a:custGeom>
          <a:noFill/>
          <a:ln w="32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50"/>
          <p:cNvSpPr/>
          <p:nvPr/>
        </p:nvSpPr>
        <p:spPr>
          <a:xfrm>
            <a:off x="2216160" y="4152960"/>
            <a:ext cx="749160" cy="1003320"/>
          </a:xfrm>
          <a:custGeom>
            <a:avLst/>
            <a:gdLst>
              <a:gd name="textAreaLeft" fmla="*/ 0 w 749160"/>
              <a:gd name="textAreaRight" fmla="*/ 749520 w 74916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72" h="632">
                <a:moveTo>
                  <a:pt x="0" y="192"/>
                </a:moveTo>
                <a:lnTo>
                  <a:pt x="68" y="28"/>
                </a:lnTo>
                <a:cubicBezTo>
                  <a:pt x="109" y="6"/>
                  <a:pt x="190" y="0"/>
                  <a:pt x="244" y="58"/>
                </a:cubicBezTo>
                <a:cubicBezTo>
                  <a:pt x="297" y="109"/>
                  <a:pt x="350" y="238"/>
                  <a:pt x="384" y="332"/>
                </a:cubicBezTo>
                <a:cubicBezTo>
                  <a:pt x="418" y="426"/>
                  <a:pt x="460" y="566"/>
                  <a:pt x="472" y="632"/>
                </a:cubicBezTo>
                <a:cubicBezTo>
                  <a:pt x="472" y="632"/>
                  <a:pt x="412" y="632"/>
                  <a:pt x="352" y="632"/>
                </a:cubicBezTo>
                <a:cubicBezTo>
                  <a:pt x="336" y="508"/>
                  <a:pt x="206" y="136"/>
                  <a:pt x="132" y="44"/>
                </a:cubicBezTo>
                <a:cubicBezTo>
                  <a:pt x="100" y="34"/>
                  <a:pt x="27" y="165"/>
                  <a:pt x="0" y="196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51"/>
          <p:cNvSpPr/>
          <p:nvPr/>
        </p:nvSpPr>
        <p:spPr>
          <a:xfrm>
            <a:off x="2124000" y="4521240"/>
            <a:ext cx="1440000" cy="49212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907" h="310">
                <a:moveTo>
                  <a:pt x="0" y="83"/>
                </a:moveTo>
                <a:cubicBezTo>
                  <a:pt x="46" y="66"/>
                  <a:pt x="210" y="36"/>
                  <a:pt x="356" y="50"/>
                </a:cubicBezTo>
                <a:cubicBezTo>
                  <a:pt x="502" y="64"/>
                  <a:pt x="864" y="284"/>
                  <a:pt x="907" y="310"/>
                </a:cubicBezTo>
                <a:cubicBezTo>
                  <a:pt x="864" y="264"/>
                  <a:pt x="689" y="138"/>
                  <a:pt x="594" y="88"/>
                </a:cubicBezTo>
                <a:cubicBezTo>
                  <a:pt x="499" y="38"/>
                  <a:pt x="434" y="16"/>
                  <a:pt x="336" y="8"/>
                </a:cubicBezTo>
                <a:cubicBezTo>
                  <a:pt x="238" y="0"/>
                  <a:pt x="86" y="28"/>
                  <a:pt x="20" y="54"/>
                </a:cubicBezTo>
                <a:cubicBezTo>
                  <a:pt x="10" y="78"/>
                  <a:pt x="16" y="62"/>
                  <a:pt x="0" y="83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53"/>
          <p:cNvSpPr/>
          <p:nvPr/>
        </p:nvSpPr>
        <p:spPr>
          <a:xfrm>
            <a:off x="1920960" y="4564080"/>
            <a:ext cx="2004840" cy="593640"/>
          </a:xfrm>
          <a:custGeom>
            <a:avLst/>
            <a:gdLst>
              <a:gd name="textAreaLeft" fmla="*/ 0 w 2004840"/>
              <a:gd name="textAreaRight" fmla="*/ 2005200 w 200484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263" h="374">
                <a:moveTo>
                  <a:pt x="0" y="374"/>
                </a:moveTo>
                <a:cubicBezTo>
                  <a:pt x="44" y="341"/>
                  <a:pt x="157" y="234"/>
                  <a:pt x="262" y="176"/>
                </a:cubicBezTo>
                <a:cubicBezTo>
                  <a:pt x="304" y="149"/>
                  <a:pt x="494" y="52"/>
                  <a:pt x="628" y="26"/>
                </a:cubicBezTo>
                <a:cubicBezTo>
                  <a:pt x="762" y="0"/>
                  <a:pt x="949" y="14"/>
                  <a:pt x="1045" y="29"/>
                </a:cubicBezTo>
                <a:cubicBezTo>
                  <a:pt x="1141" y="44"/>
                  <a:pt x="1206" y="70"/>
                  <a:pt x="1263" y="86"/>
                </a:cubicBezTo>
                <a:cubicBezTo>
                  <a:pt x="1242" y="80"/>
                  <a:pt x="1117" y="19"/>
                  <a:pt x="1015" y="13"/>
                </a:cubicBezTo>
                <a:cubicBezTo>
                  <a:pt x="913" y="7"/>
                  <a:pt x="792" y="10"/>
                  <a:pt x="667" y="49"/>
                </a:cubicBezTo>
                <a:cubicBezTo>
                  <a:pt x="530" y="97"/>
                  <a:pt x="332" y="195"/>
                  <a:pt x="261" y="247"/>
                </a:cubicBezTo>
                <a:cubicBezTo>
                  <a:pt x="190" y="299"/>
                  <a:pt x="159" y="336"/>
                  <a:pt x="132" y="359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4"/>
          <p:cNvSpPr/>
          <p:nvPr/>
        </p:nvSpPr>
        <p:spPr>
          <a:xfrm flipV="1">
            <a:off x="1914480" y="5143680"/>
            <a:ext cx="4170240" cy="288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55"/>
          <p:cNvSpPr/>
          <p:nvPr/>
        </p:nvSpPr>
        <p:spPr>
          <a:xfrm>
            <a:off x="2108160" y="4759200"/>
            <a:ext cx="2079720" cy="392400"/>
          </a:xfrm>
          <a:custGeom>
            <a:avLst/>
            <a:gdLst>
              <a:gd name="textAreaLeft" fmla="*/ 0 w 2079720"/>
              <a:gd name="textAreaRight" fmla="*/ 2080080 w 207972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1310" h="247">
                <a:moveTo>
                  <a:pt x="0" y="224"/>
                </a:moveTo>
                <a:cubicBezTo>
                  <a:pt x="58" y="193"/>
                  <a:pt x="270" y="96"/>
                  <a:pt x="396" y="60"/>
                </a:cubicBezTo>
                <a:cubicBezTo>
                  <a:pt x="530" y="22"/>
                  <a:pt x="616" y="0"/>
                  <a:pt x="758" y="10"/>
                </a:cubicBezTo>
                <a:cubicBezTo>
                  <a:pt x="900" y="20"/>
                  <a:pt x="1208" y="98"/>
                  <a:pt x="1310" y="146"/>
                </a:cubicBezTo>
                <a:cubicBezTo>
                  <a:pt x="1218" y="130"/>
                  <a:pt x="862" y="41"/>
                  <a:pt x="662" y="58"/>
                </a:cubicBezTo>
                <a:cubicBezTo>
                  <a:pt x="462" y="74"/>
                  <a:pt x="248" y="190"/>
                  <a:pt x="150" y="244"/>
                </a:cubicBezTo>
                <a:cubicBezTo>
                  <a:pt x="60" y="244"/>
                  <a:pt x="51" y="247"/>
                  <a:pt x="26" y="244"/>
                </a:cubicBezTo>
                <a:cubicBezTo>
                  <a:pt x="1" y="241"/>
                  <a:pt x="5" y="228"/>
                  <a:pt x="0" y="2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57"/>
          <p:cNvSpPr/>
          <p:nvPr/>
        </p:nvSpPr>
        <p:spPr>
          <a:xfrm>
            <a:off x="2581200" y="4302000"/>
            <a:ext cx="2263680" cy="844560"/>
          </a:xfrm>
          <a:custGeom>
            <a:avLst/>
            <a:gdLst>
              <a:gd name="textAreaLeft" fmla="*/ 0 w 2263680"/>
              <a:gd name="textAreaRight" fmla="*/ 2264040 w 226368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426" h="532">
                <a:moveTo>
                  <a:pt x="0" y="528"/>
                </a:moveTo>
                <a:cubicBezTo>
                  <a:pt x="87" y="453"/>
                  <a:pt x="320" y="164"/>
                  <a:pt x="624" y="82"/>
                </a:cubicBezTo>
                <a:cubicBezTo>
                  <a:pt x="928" y="0"/>
                  <a:pt x="1344" y="78"/>
                  <a:pt x="1426" y="100"/>
                </a:cubicBezTo>
                <a:cubicBezTo>
                  <a:pt x="1322" y="60"/>
                  <a:pt x="1172" y="28"/>
                  <a:pt x="1040" y="32"/>
                </a:cubicBezTo>
                <a:cubicBezTo>
                  <a:pt x="908" y="36"/>
                  <a:pt x="794" y="56"/>
                  <a:pt x="632" y="122"/>
                </a:cubicBezTo>
                <a:cubicBezTo>
                  <a:pt x="470" y="188"/>
                  <a:pt x="230" y="396"/>
                  <a:pt x="100" y="532"/>
                </a:cubicBezTo>
                <a:cubicBezTo>
                  <a:pt x="58" y="530"/>
                  <a:pt x="21" y="529"/>
                  <a:pt x="0" y="5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59"/>
          <p:cNvSpPr/>
          <p:nvPr/>
        </p:nvSpPr>
        <p:spPr>
          <a:xfrm>
            <a:off x="3249720" y="3152880"/>
            <a:ext cx="966600" cy="1487520"/>
          </a:xfrm>
          <a:custGeom>
            <a:avLst/>
            <a:gdLst>
              <a:gd name="textAreaLeft" fmla="*/ 0 w 966600"/>
              <a:gd name="textAreaRight" fmla="*/ 966960 w 966600"/>
              <a:gd name="textAreaTop" fmla="*/ 0 h 1487520"/>
              <a:gd name="textAreaBottom" fmla="*/ 1487880 h 1487520"/>
            </a:gdLst>
            <a:ahLst/>
            <a:rect l="textAreaLeft" t="textAreaTop" r="textAreaRight" b="textAreaBottom"/>
            <a:pathLst>
              <a:path w="609" h="937">
                <a:moveTo>
                  <a:pt x="5" y="893"/>
                </a:moveTo>
                <a:cubicBezTo>
                  <a:pt x="0" y="886"/>
                  <a:pt x="38" y="873"/>
                  <a:pt x="79" y="825"/>
                </a:cubicBezTo>
                <a:cubicBezTo>
                  <a:pt x="120" y="777"/>
                  <a:pt x="160" y="728"/>
                  <a:pt x="248" y="591"/>
                </a:cubicBezTo>
                <a:cubicBezTo>
                  <a:pt x="346" y="441"/>
                  <a:pt x="601" y="0"/>
                  <a:pt x="605" y="3"/>
                </a:cubicBezTo>
                <a:cubicBezTo>
                  <a:pt x="609" y="4"/>
                  <a:pt x="362" y="449"/>
                  <a:pt x="274" y="596"/>
                </a:cubicBezTo>
                <a:cubicBezTo>
                  <a:pt x="189" y="741"/>
                  <a:pt x="119" y="839"/>
                  <a:pt x="74" y="888"/>
                </a:cubicBezTo>
                <a:cubicBezTo>
                  <a:pt x="29" y="937"/>
                  <a:pt x="19" y="892"/>
                  <a:pt x="5" y="8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60"/>
          <p:cNvSpPr/>
          <p:nvPr/>
        </p:nvSpPr>
        <p:spPr>
          <a:xfrm>
            <a:off x="4133880" y="2975040"/>
            <a:ext cx="233280" cy="23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3"/>
          <p:cNvGrpSpPr/>
          <p:nvPr/>
        </p:nvGrpSpPr>
        <p:grpSpPr>
          <a:xfrm>
            <a:off x="2535840" y="1001160"/>
            <a:ext cx="578880" cy="805320"/>
            <a:chOff x="2535840" y="1001160"/>
            <a:chExt cx="578880" cy="805320"/>
          </a:xfrm>
        </p:grpSpPr>
        <p:sp>
          <p:nvSpPr>
            <p:cNvPr id="306" name="Freeform 61"/>
            <p:cNvSpPr/>
            <p:nvPr/>
          </p:nvSpPr>
          <p:spPr>
            <a:xfrm rot="19843200">
              <a:off x="2700000" y="1254600"/>
              <a:ext cx="309960" cy="5086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8680"/>
                <a:gd name="textAreaBottom" fmla="*/ 508680 h 50868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2"/>
            <p:cNvSpPr/>
            <p:nvPr/>
          </p:nvSpPr>
          <p:spPr>
            <a:xfrm rot="19843200">
              <a:off x="2745360" y="115812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4"/>
            <p:cNvSpPr/>
            <p:nvPr/>
          </p:nvSpPr>
          <p:spPr>
            <a:xfrm rot="19843200">
              <a:off x="2686680" y="1026360"/>
              <a:ext cx="156240" cy="2566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5"/>
            <p:cNvSpPr/>
            <p:nvPr/>
          </p:nvSpPr>
          <p:spPr>
            <a:xfrm rot="19843200">
              <a:off x="2674440" y="1171080"/>
              <a:ext cx="266760" cy="975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6"/>
            <p:cNvSpPr/>
            <p:nvPr/>
          </p:nvSpPr>
          <p:spPr>
            <a:xfrm rot="19843200">
              <a:off x="2740680" y="1173600"/>
              <a:ext cx="317160" cy="496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7"/>
            <p:cNvSpPr/>
            <p:nvPr/>
          </p:nvSpPr>
          <p:spPr>
            <a:xfrm rot="19843200">
              <a:off x="2624760" y="1152000"/>
              <a:ext cx="290880" cy="1357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8"/>
            <p:cNvSpPr/>
            <p:nvPr/>
          </p:nvSpPr>
          <p:spPr>
            <a:xfrm rot="19843200">
              <a:off x="2709000" y="120456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69"/>
            <p:cNvSpPr/>
            <p:nvPr/>
          </p:nvSpPr>
          <p:spPr>
            <a:xfrm rot="19843200">
              <a:off x="2587680" y="1138320"/>
              <a:ext cx="286200" cy="1515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0"/>
            <p:cNvSpPr/>
            <p:nvPr/>
          </p:nvSpPr>
          <p:spPr>
            <a:xfrm rot="19843200">
              <a:off x="2649240" y="1036440"/>
              <a:ext cx="189000" cy="2451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"/>
            <p:cNvSpPr/>
            <p:nvPr/>
          </p:nvSpPr>
          <p:spPr>
            <a:xfrm rot="19843200">
              <a:off x="2620800" y="1047600"/>
              <a:ext cx="218880" cy="2386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3"/>
            <p:cNvSpPr/>
            <p:nvPr/>
          </p:nvSpPr>
          <p:spPr>
            <a:xfrm rot="19843200">
              <a:off x="2595600" y="1053720"/>
              <a:ext cx="272160" cy="24984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4"/>
            <p:cNvSpPr/>
            <p:nvPr/>
          </p:nvSpPr>
          <p:spPr>
            <a:xfrm rot="19843200">
              <a:off x="2576880" y="1071360"/>
              <a:ext cx="277920" cy="2264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 rot="19843200">
              <a:off x="2569320" y="1083240"/>
              <a:ext cx="301320" cy="2163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6"/>
            <p:cNvSpPr/>
            <p:nvPr/>
          </p:nvSpPr>
          <p:spPr>
            <a:xfrm rot="19843200">
              <a:off x="2570760" y="1102680"/>
              <a:ext cx="291960" cy="194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7"/>
            <p:cNvSpPr/>
            <p:nvPr/>
          </p:nvSpPr>
          <p:spPr>
            <a:xfrm rot="19843200">
              <a:off x="2579760" y="1113840"/>
              <a:ext cx="307800" cy="1954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8"/>
            <p:cNvSpPr/>
            <p:nvPr/>
          </p:nvSpPr>
          <p:spPr>
            <a:xfrm rot="19843200">
              <a:off x="2726280" y="1022400"/>
              <a:ext cx="101880" cy="2498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80"/>
            <p:cNvSpPr/>
            <p:nvPr/>
          </p:nvSpPr>
          <p:spPr>
            <a:xfrm rot="19843200">
              <a:off x="2782800" y="101412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1"/>
            <p:cNvSpPr/>
            <p:nvPr/>
          </p:nvSpPr>
          <p:spPr>
            <a:xfrm rot="19843200">
              <a:off x="2809080" y="1015560"/>
              <a:ext cx="41040" cy="222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2"/>
            <p:cNvSpPr/>
            <p:nvPr/>
          </p:nvSpPr>
          <p:spPr>
            <a:xfrm rot="19843200">
              <a:off x="2795760" y="101808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83"/>
            <p:cNvSpPr/>
            <p:nvPr/>
          </p:nvSpPr>
          <p:spPr>
            <a:xfrm rot="19843200">
              <a:off x="2781360" y="1042200"/>
              <a:ext cx="191880" cy="162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84"/>
            <p:cNvSpPr/>
            <p:nvPr/>
          </p:nvSpPr>
          <p:spPr>
            <a:xfrm rot="19843200">
              <a:off x="2811240" y="1050840"/>
              <a:ext cx="201240" cy="13176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85"/>
            <p:cNvSpPr/>
            <p:nvPr/>
          </p:nvSpPr>
          <p:spPr>
            <a:xfrm rot="19843200">
              <a:off x="2818440" y="107028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86"/>
            <p:cNvSpPr/>
            <p:nvPr/>
          </p:nvSpPr>
          <p:spPr>
            <a:xfrm rot="19843200">
              <a:off x="2827080" y="107820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7"/>
            <p:cNvSpPr/>
            <p:nvPr/>
          </p:nvSpPr>
          <p:spPr>
            <a:xfrm rot="19843200">
              <a:off x="2837880" y="109332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8"/>
            <p:cNvSpPr/>
            <p:nvPr/>
          </p:nvSpPr>
          <p:spPr>
            <a:xfrm rot="19843200">
              <a:off x="2835000" y="1109880"/>
              <a:ext cx="266760" cy="46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9"/>
            <p:cNvSpPr/>
            <p:nvPr/>
          </p:nvSpPr>
          <p:spPr>
            <a:xfrm rot="19843200">
              <a:off x="2858400" y="1115640"/>
              <a:ext cx="252720" cy="2988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90"/>
            <p:cNvSpPr/>
            <p:nvPr/>
          </p:nvSpPr>
          <p:spPr>
            <a:xfrm rot="19843200">
              <a:off x="2830320" y="114984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91"/>
            <p:cNvSpPr/>
            <p:nvPr/>
          </p:nvSpPr>
          <p:spPr>
            <a:xfrm rot="19843200">
              <a:off x="2846160" y="115740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92"/>
            <p:cNvSpPr/>
            <p:nvPr/>
          </p:nvSpPr>
          <p:spPr>
            <a:xfrm rot="19843200">
              <a:off x="2859480" y="116136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124"/>
          <p:cNvGrpSpPr/>
          <p:nvPr/>
        </p:nvGrpSpPr>
        <p:grpSpPr>
          <a:xfrm>
            <a:off x="2203920" y="1042920"/>
            <a:ext cx="746280" cy="776880"/>
            <a:chOff x="2203920" y="1042920"/>
            <a:chExt cx="746280" cy="776880"/>
          </a:xfrm>
        </p:grpSpPr>
        <p:sp>
          <p:nvSpPr>
            <p:cNvPr id="336" name="Freeform 125"/>
            <p:cNvSpPr/>
            <p:nvPr/>
          </p:nvSpPr>
          <p:spPr>
            <a:xfrm rot="18100200">
              <a:off x="2496960" y="1299960"/>
              <a:ext cx="309960" cy="5086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8680"/>
                <a:gd name="textAreaBottom" fmla="*/ 508680 h 50868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26"/>
            <p:cNvSpPr/>
            <p:nvPr/>
          </p:nvSpPr>
          <p:spPr>
            <a:xfrm rot="18100200">
              <a:off x="2366280" y="120780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27"/>
            <p:cNvSpPr/>
            <p:nvPr/>
          </p:nvSpPr>
          <p:spPr>
            <a:xfrm rot="18100200">
              <a:off x="2323440" y="1159920"/>
              <a:ext cx="156240" cy="2566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28"/>
            <p:cNvSpPr/>
            <p:nvPr/>
          </p:nvSpPr>
          <p:spPr>
            <a:xfrm rot="18100200">
              <a:off x="2337480" y="1275840"/>
              <a:ext cx="266760" cy="975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29"/>
            <p:cNvSpPr/>
            <p:nvPr/>
          </p:nvSpPr>
          <p:spPr>
            <a:xfrm rot="18100200">
              <a:off x="2381400" y="1236960"/>
              <a:ext cx="317160" cy="496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30"/>
            <p:cNvSpPr/>
            <p:nvPr/>
          </p:nvSpPr>
          <p:spPr>
            <a:xfrm rot="18100200">
              <a:off x="2292480" y="1275120"/>
              <a:ext cx="290880" cy="1357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31"/>
            <p:cNvSpPr/>
            <p:nvPr/>
          </p:nvSpPr>
          <p:spPr>
            <a:xfrm rot="18100200">
              <a:off x="2378520" y="131436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32"/>
            <p:cNvSpPr/>
            <p:nvPr/>
          </p:nvSpPr>
          <p:spPr>
            <a:xfrm rot="18100200">
              <a:off x="2257200" y="1281240"/>
              <a:ext cx="286200" cy="1515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33"/>
            <p:cNvSpPr/>
            <p:nvPr/>
          </p:nvSpPr>
          <p:spPr>
            <a:xfrm rot="18100200">
              <a:off x="2291040" y="1179720"/>
              <a:ext cx="189000" cy="2451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34"/>
            <p:cNvSpPr/>
            <p:nvPr/>
          </p:nvSpPr>
          <p:spPr>
            <a:xfrm rot="18100200">
              <a:off x="2267640" y="1197000"/>
              <a:ext cx="218880" cy="2386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5"/>
            <p:cNvSpPr/>
            <p:nvPr/>
          </p:nvSpPr>
          <p:spPr>
            <a:xfrm rot="18100200">
              <a:off x="2248200" y="1200960"/>
              <a:ext cx="272160" cy="24984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6"/>
            <p:cNvSpPr/>
            <p:nvPr/>
          </p:nvSpPr>
          <p:spPr>
            <a:xfrm rot="18100200">
              <a:off x="2234160" y="1225080"/>
              <a:ext cx="277920" cy="2264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37"/>
            <p:cNvSpPr/>
            <p:nvPr/>
          </p:nvSpPr>
          <p:spPr>
            <a:xfrm rot="18100200">
              <a:off x="2229480" y="1234440"/>
              <a:ext cx="301320" cy="2163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38"/>
            <p:cNvSpPr/>
            <p:nvPr/>
          </p:nvSpPr>
          <p:spPr>
            <a:xfrm rot="18100200">
              <a:off x="2235240" y="1254240"/>
              <a:ext cx="291960" cy="194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39"/>
            <p:cNvSpPr/>
            <p:nvPr/>
          </p:nvSpPr>
          <p:spPr>
            <a:xfrm rot="18100200">
              <a:off x="2247840" y="1256040"/>
              <a:ext cx="307800" cy="1954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40"/>
            <p:cNvSpPr/>
            <p:nvPr/>
          </p:nvSpPr>
          <p:spPr>
            <a:xfrm rot="18100200">
              <a:off x="2358000" y="1150920"/>
              <a:ext cx="101880" cy="2498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41"/>
            <p:cNvSpPr/>
            <p:nvPr/>
          </p:nvSpPr>
          <p:spPr>
            <a:xfrm rot="18100200">
              <a:off x="2405520" y="113292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42"/>
            <p:cNvSpPr/>
            <p:nvPr/>
          </p:nvSpPr>
          <p:spPr>
            <a:xfrm rot="18100200">
              <a:off x="2424240" y="1121760"/>
              <a:ext cx="41040" cy="222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43"/>
            <p:cNvSpPr/>
            <p:nvPr/>
          </p:nvSpPr>
          <p:spPr>
            <a:xfrm rot="18100200">
              <a:off x="2404440" y="111096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44"/>
            <p:cNvSpPr/>
            <p:nvPr/>
          </p:nvSpPr>
          <p:spPr>
            <a:xfrm rot="18100200">
              <a:off x="2388600" y="1125360"/>
              <a:ext cx="191880" cy="162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45"/>
            <p:cNvSpPr/>
            <p:nvPr/>
          </p:nvSpPr>
          <p:spPr>
            <a:xfrm rot="18100200">
              <a:off x="2410560" y="1118160"/>
              <a:ext cx="201240" cy="13176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46"/>
            <p:cNvSpPr/>
            <p:nvPr/>
          </p:nvSpPr>
          <p:spPr>
            <a:xfrm rot="18100200">
              <a:off x="2418120" y="112716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47"/>
            <p:cNvSpPr/>
            <p:nvPr/>
          </p:nvSpPr>
          <p:spPr>
            <a:xfrm rot="18100200">
              <a:off x="2423880" y="112680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48"/>
            <p:cNvSpPr/>
            <p:nvPr/>
          </p:nvSpPr>
          <p:spPr>
            <a:xfrm rot="18100200">
              <a:off x="2435040" y="113472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49"/>
            <p:cNvSpPr/>
            <p:nvPr/>
          </p:nvSpPr>
          <p:spPr>
            <a:xfrm rot="18100200">
              <a:off x="2435400" y="1147680"/>
              <a:ext cx="266760" cy="46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50"/>
            <p:cNvSpPr/>
            <p:nvPr/>
          </p:nvSpPr>
          <p:spPr>
            <a:xfrm rot="18100200">
              <a:off x="2455560" y="1145520"/>
              <a:ext cx="252720" cy="2988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51"/>
            <p:cNvSpPr/>
            <p:nvPr/>
          </p:nvSpPr>
          <p:spPr>
            <a:xfrm rot="18100200">
              <a:off x="2439720" y="118332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52"/>
            <p:cNvSpPr/>
            <p:nvPr/>
          </p:nvSpPr>
          <p:spPr>
            <a:xfrm rot="18100200">
              <a:off x="2459160" y="118908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53"/>
            <p:cNvSpPr/>
            <p:nvPr/>
          </p:nvSpPr>
          <p:spPr>
            <a:xfrm rot="18100200">
              <a:off x="2477160" y="119484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54"/>
          <p:cNvGrpSpPr/>
          <p:nvPr/>
        </p:nvGrpSpPr>
        <p:grpSpPr>
          <a:xfrm>
            <a:off x="1962360" y="1332360"/>
            <a:ext cx="753480" cy="581760"/>
            <a:chOff x="1962360" y="1332360"/>
            <a:chExt cx="753480" cy="581760"/>
          </a:xfrm>
        </p:grpSpPr>
        <p:sp>
          <p:nvSpPr>
            <p:cNvPr id="366" name="Freeform 155"/>
            <p:cNvSpPr/>
            <p:nvPr/>
          </p:nvSpPr>
          <p:spPr>
            <a:xfrm rot="16005000">
              <a:off x="2297880" y="1490400"/>
              <a:ext cx="309960" cy="5086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8680"/>
                <a:gd name="textAreaBottom" fmla="*/ 508680 h 50868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56"/>
            <p:cNvSpPr/>
            <p:nvPr/>
          </p:nvSpPr>
          <p:spPr>
            <a:xfrm rot="16005000">
              <a:off x="1991160" y="151416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57"/>
            <p:cNvSpPr/>
            <p:nvPr/>
          </p:nvSpPr>
          <p:spPr>
            <a:xfrm rot="16005000">
              <a:off x="2017440" y="1541880"/>
              <a:ext cx="156240" cy="2566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58"/>
            <p:cNvSpPr/>
            <p:nvPr/>
          </p:nvSpPr>
          <p:spPr>
            <a:xfrm rot="16005000">
              <a:off x="2039400" y="1611360"/>
              <a:ext cx="266760" cy="975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59"/>
            <p:cNvSpPr/>
            <p:nvPr/>
          </p:nvSpPr>
          <p:spPr>
            <a:xfrm rot="16005000">
              <a:off x="2035080" y="1544400"/>
              <a:ext cx="317160" cy="496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60"/>
            <p:cNvSpPr/>
            <p:nvPr/>
          </p:nvSpPr>
          <p:spPr>
            <a:xfrm rot="16005000">
              <a:off x="2010960" y="1626480"/>
              <a:ext cx="290880" cy="1357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61"/>
            <p:cNvSpPr/>
            <p:nvPr/>
          </p:nvSpPr>
          <p:spPr>
            <a:xfrm rot="16005000">
              <a:off x="2090880" y="165060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62"/>
            <p:cNvSpPr/>
            <p:nvPr/>
          </p:nvSpPr>
          <p:spPr>
            <a:xfrm rot="16005000">
              <a:off x="1990800" y="1651320"/>
              <a:ext cx="286200" cy="1515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63"/>
            <p:cNvSpPr/>
            <p:nvPr/>
          </p:nvSpPr>
          <p:spPr>
            <a:xfrm rot="16005000">
              <a:off x="1995480" y="1568520"/>
              <a:ext cx="189000" cy="2451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4"/>
            <p:cNvSpPr/>
            <p:nvPr/>
          </p:nvSpPr>
          <p:spPr>
            <a:xfrm rot="16005000">
              <a:off x="1981800" y="1587960"/>
              <a:ext cx="218880" cy="2386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65"/>
            <p:cNvSpPr/>
            <p:nvPr/>
          </p:nvSpPr>
          <p:spPr>
            <a:xfrm rot="16005000">
              <a:off x="1966680" y="1585800"/>
              <a:ext cx="272160" cy="24984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66"/>
            <p:cNvSpPr/>
            <p:nvPr/>
          </p:nvSpPr>
          <p:spPr>
            <a:xfrm rot="16005000">
              <a:off x="1961640" y="1614240"/>
              <a:ext cx="277920" cy="2264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67"/>
            <p:cNvSpPr/>
            <p:nvPr/>
          </p:nvSpPr>
          <p:spPr>
            <a:xfrm rot="16005000">
              <a:off x="1958040" y="1618560"/>
              <a:ext cx="301320" cy="2163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68"/>
            <p:cNvSpPr/>
            <p:nvPr/>
          </p:nvSpPr>
          <p:spPr>
            <a:xfrm rot="16005000">
              <a:off x="1968840" y="1636200"/>
              <a:ext cx="291960" cy="194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69"/>
            <p:cNvSpPr/>
            <p:nvPr/>
          </p:nvSpPr>
          <p:spPr>
            <a:xfrm rot="16005000">
              <a:off x="1978920" y="1626120"/>
              <a:ext cx="307800" cy="1954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70"/>
            <p:cNvSpPr/>
            <p:nvPr/>
          </p:nvSpPr>
          <p:spPr>
            <a:xfrm rot="16005000">
              <a:off x="2043000" y="1531080"/>
              <a:ext cx="101880" cy="2498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71"/>
            <p:cNvSpPr/>
            <p:nvPr/>
          </p:nvSpPr>
          <p:spPr>
            <a:xfrm rot="16005000">
              <a:off x="2076120" y="150876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72"/>
            <p:cNvSpPr/>
            <p:nvPr/>
          </p:nvSpPr>
          <p:spPr>
            <a:xfrm rot="16005000">
              <a:off x="2078280" y="1488960"/>
              <a:ext cx="41040" cy="222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73"/>
            <p:cNvSpPr/>
            <p:nvPr/>
          </p:nvSpPr>
          <p:spPr>
            <a:xfrm rot="16005000">
              <a:off x="2043720" y="146952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4"/>
            <p:cNvSpPr/>
            <p:nvPr/>
          </p:nvSpPr>
          <p:spPr>
            <a:xfrm rot="16005000">
              <a:off x="2021040" y="1474560"/>
              <a:ext cx="191880" cy="162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75"/>
            <p:cNvSpPr/>
            <p:nvPr/>
          </p:nvSpPr>
          <p:spPr>
            <a:xfrm rot="16005000">
              <a:off x="2025360" y="1455840"/>
              <a:ext cx="201240" cy="13176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76"/>
            <p:cNvSpPr/>
            <p:nvPr/>
          </p:nvSpPr>
          <p:spPr>
            <a:xfrm rot="16005000">
              <a:off x="2026080" y="145476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77"/>
            <p:cNvSpPr/>
            <p:nvPr/>
          </p:nvSpPr>
          <p:spPr>
            <a:xfrm rot="16005000">
              <a:off x="2023920" y="144720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78"/>
            <p:cNvSpPr/>
            <p:nvPr/>
          </p:nvSpPr>
          <p:spPr>
            <a:xfrm rot="16005000">
              <a:off x="2030040" y="144792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79"/>
            <p:cNvSpPr/>
            <p:nvPr/>
          </p:nvSpPr>
          <p:spPr>
            <a:xfrm rot="16005000">
              <a:off x="2031840" y="1454760"/>
              <a:ext cx="266760" cy="46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80"/>
            <p:cNvSpPr/>
            <p:nvPr/>
          </p:nvSpPr>
          <p:spPr>
            <a:xfrm rot="16005000">
              <a:off x="2043720" y="1447200"/>
              <a:ext cx="252720" cy="2988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81"/>
            <p:cNvSpPr/>
            <p:nvPr/>
          </p:nvSpPr>
          <p:spPr>
            <a:xfrm rot="16005000">
              <a:off x="2042640" y="148032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82"/>
            <p:cNvSpPr/>
            <p:nvPr/>
          </p:nvSpPr>
          <p:spPr>
            <a:xfrm rot="16005000">
              <a:off x="2064240" y="148212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83"/>
            <p:cNvSpPr/>
            <p:nvPr/>
          </p:nvSpPr>
          <p:spPr>
            <a:xfrm rot="16005000">
              <a:off x="2088000" y="148644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84"/>
          <p:cNvGrpSpPr/>
          <p:nvPr/>
        </p:nvGrpSpPr>
        <p:grpSpPr>
          <a:xfrm>
            <a:off x="3080520" y="1258920"/>
            <a:ext cx="767880" cy="752760"/>
            <a:chOff x="3080520" y="1258920"/>
            <a:chExt cx="767880" cy="752760"/>
          </a:xfrm>
        </p:grpSpPr>
        <p:sp>
          <p:nvSpPr>
            <p:cNvPr id="396" name="Freeform 185"/>
            <p:cNvSpPr/>
            <p:nvPr/>
          </p:nvSpPr>
          <p:spPr>
            <a:xfrm rot="1746600">
              <a:off x="3184200" y="1459800"/>
              <a:ext cx="309960" cy="5086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8680"/>
                <a:gd name="textAreaBottom" fmla="*/ 508680 h 50868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86"/>
            <p:cNvSpPr/>
            <p:nvPr/>
          </p:nvSpPr>
          <p:spPr>
            <a:xfrm rot="1746600">
              <a:off x="3483000" y="159480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87"/>
            <p:cNvSpPr/>
            <p:nvPr/>
          </p:nvSpPr>
          <p:spPr>
            <a:xfrm rot="1746600">
              <a:off x="3515760" y="1323360"/>
              <a:ext cx="156240" cy="2566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8"/>
            <p:cNvSpPr/>
            <p:nvPr/>
          </p:nvSpPr>
          <p:spPr>
            <a:xfrm rot="1746600">
              <a:off x="3427560" y="1473840"/>
              <a:ext cx="266760" cy="975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89"/>
            <p:cNvSpPr/>
            <p:nvPr/>
          </p:nvSpPr>
          <p:spPr>
            <a:xfrm rot="1746600">
              <a:off x="3467880" y="1564200"/>
              <a:ext cx="317160" cy="496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90"/>
            <p:cNvSpPr/>
            <p:nvPr/>
          </p:nvSpPr>
          <p:spPr>
            <a:xfrm rot="1746600">
              <a:off x="3395520" y="1422360"/>
              <a:ext cx="290880" cy="1357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91"/>
            <p:cNvSpPr/>
            <p:nvPr/>
          </p:nvSpPr>
          <p:spPr>
            <a:xfrm rot="1746600">
              <a:off x="3458880" y="149076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92"/>
            <p:cNvSpPr/>
            <p:nvPr/>
          </p:nvSpPr>
          <p:spPr>
            <a:xfrm rot="1746600">
              <a:off x="3382200" y="1377720"/>
              <a:ext cx="286200" cy="1515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93"/>
            <p:cNvSpPr/>
            <p:nvPr/>
          </p:nvSpPr>
          <p:spPr>
            <a:xfrm rot="1746600">
              <a:off x="3484800" y="1313640"/>
              <a:ext cx="189000" cy="2451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94"/>
            <p:cNvSpPr/>
            <p:nvPr/>
          </p:nvSpPr>
          <p:spPr>
            <a:xfrm rot="1746600">
              <a:off x="3455640" y="1309320"/>
              <a:ext cx="218880" cy="2386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95"/>
            <p:cNvSpPr/>
            <p:nvPr/>
          </p:nvSpPr>
          <p:spPr>
            <a:xfrm rot="1746600">
              <a:off x="3419640" y="1311480"/>
              <a:ext cx="272160" cy="24984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6"/>
            <p:cNvSpPr/>
            <p:nvPr/>
          </p:nvSpPr>
          <p:spPr>
            <a:xfrm rot="1746600">
              <a:off x="3403800" y="1312200"/>
              <a:ext cx="277920" cy="2264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97"/>
            <p:cNvSpPr/>
            <p:nvPr/>
          </p:nvSpPr>
          <p:spPr>
            <a:xfrm rot="1746600">
              <a:off x="3387960" y="1324440"/>
              <a:ext cx="301320" cy="2163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98"/>
            <p:cNvSpPr/>
            <p:nvPr/>
          </p:nvSpPr>
          <p:spPr>
            <a:xfrm rot="1746600">
              <a:off x="3384000" y="1337040"/>
              <a:ext cx="291960" cy="194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9"/>
            <p:cNvSpPr/>
            <p:nvPr/>
          </p:nvSpPr>
          <p:spPr>
            <a:xfrm rot="1746600">
              <a:off x="3374640" y="1356840"/>
              <a:ext cx="307800" cy="1954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00"/>
            <p:cNvSpPr/>
            <p:nvPr/>
          </p:nvSpPr>
          <p:spPr>
            <a:xfrm rot="1746600">
              <a:off x="3555720" y="1333440"/>
              <a:ext cx="101880" cy="2498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01"/>
            <p:cNvSpPr/>
            <p:nvPr/>
          </p:nvSpPr>
          <p:spPr>
            <a:xfrm rot="1746600">
              <a:off x="3610800" y="135072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02"/>
            <p:cNvSpPr/>
            <p:nvPr/>
          </p:nvSpPr>
          <p:spPr>
            <a:xfrm rot="1746600">
              <a:off x="3630600" y="1380960"/>
              <a:ext cx="41040" cy="222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03"/>
            <p:cNvSpPr/>
            <p:nvPr/>
          </p:nvSpPr>
          <p:spPr>
            <a:xfrm rot="1746600">
              <a:off x="3609000" y="140976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04"/>
            <p:cNvSpPr/>
            <p:nvPr/>
          </p:nvSpPr>
          <p:spPr>
            <a:xfrm rot="1746600">
              <a:off x="3583080" y="1450080"/>
              <a:ext cx="191880" cy="162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05"/>
            <p:cNvSpPr/>
            <p:nvPr/>
          </p:nvSpPr>
          <p:spPr>
            <a:xfrm rot="1746600">
              <a:off x="3602160" y="1490760"/>
              <a:ext cx="201240" cy="13176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06"/>
            <p:cNvSpPr/>
            <p:nvPr/>
          </p:nvSpPr>
          <p:spPr>
            <a:xfrm rot="1746600">
              <a:off x="3596040" y="152424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07"/>
            <p:cNvSpPr/>
            <p:nvPr/>
          </p:nvSpPr>
          <p:spPr>
            <a:xfrm rot="1746600">
              <a:off x="3596400" y="154800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08"/>
            <p:cNvSpPr/>
            <p:nvPr/>
          </p:nvSpPr>
          <p:spPr>
            <a:xfrm rot="1746600">
              <a:off x="3597840" y="157356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09"/>
            <p:cNvSpPr/>
            <p:nvPr/>
          </p:nvSpPr>
          <p:spPr>
            <a:xfrm rot="1746600">
              <a:off x="3585240" y="1590480"/>
              <a:ext cx="266760" cy="46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10"/>
            <p:cNvSpPr/>
            <p:nvPr/>
          </p:nvSpPr>
          <p:spPr>
            <a:xfrm rot="1746600">
              <a:off x="3603240" y="1611360"/>
              <a:ext cx="252720" cy="2988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11"/>
            <p:cNvSpPr/>
            <p:nvPr/>
          </p:nvSpPr>
          <p:spPr>
            <a:xfrm rot="1746600">
              <a:off x="3562200" y="162432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2"/>
            <p:cNvSpPr/>
            <p:nvPr/>
          </p:nvSpPr>
          <p:spPr>
            <a:xfrm rot="1746600">
              <a:off x="3570840" y="162972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3"/>
            <p:cNvSpPr/>
            <p:nvPr/>
          </p:nvSpPr>
          <p:spPr>
            <a:xfrm rot="1746600">
              <a:off x="3580200" y="162504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214"/>
          <p:cNvGrpSpPr/>
          <p:nvPr/>
        </p:nvGrpSpPr>
        <p:grpSpPr>
          <a:xfrm>
            <a:off x="3005280" y="2164680"/>
            <a:ext cx="764280" cy="732240"/>
            <a:chOff x="3005280" y="2164680"/>
            <a:chExt cx="764280" cy="732240"/>
          </a:xfrm>
        </p:grpSpPr>
        <p:sp>
          <p:nvSpPr>
            <p:cNvPr id="426" name="Freeform 215"/>
            <p:cNvSpPr/>
            <p:nvPr/>
          </p:nvSpPr>
          <p:spPr>
            <a:xfrm rot="6650400">
              <a:off x="3143160" y="2145600"/>
              <a:ext cx="309960" cy="5086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8680"/>
                <a:gd name="textAreaBottom" fmla="*/ 508680 h 50868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16"/>
            <p:cNvSpPr/>
            <p:nvPr/>
          </p:nvSpPr>
          <p:spPr>
            <a:xfrm rot="6650400">
              <a:off x="3265560" y="270576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17"/>
            <p:cNvSpPr/>
            <p:nvPr/>
          </p:nvSpPr>
          <p:spPr>
            <a:xfrm rot="6650400">
              <a:off x="3516120" y="2485440"/>
              <a:ext cx="156240" cy="2566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18"/>
            <p:cNvSpPr/>
            <p:nvPr/>
          </p:nvSpPr>
          <p:spPr>
            <a:xfrm rot="6650400">
              <a:off x="3386160" y="2542680"/>
              <a:ext cx="266760" cy="975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19"/>
            <p:cNvSpPr/>
            <p:nvPr/>
          </p:nvSpPr>
          <p:spPr>
            <a:xfrm rot="6650400">
              <a:off x="3304440" y="2641320"/>
              <a:ext cx="317160" cy="496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20"/>
            <p:cNvSpPr/>
            <p:nvPr/>
          </p:nvSpPr>
          <p:spPr>
            <a:xfrm rot="6650400">
              <a:off x="3403080" y="2499480"/>
              <a:ext cx="290880" cy="1357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21"/>
            <p:cNvSpPr/>
            <p:nvPr/>
          </p:nvSpPr>
          <p:spPr>
            <a:xfrm rot="6650400">
              <a:off x="3436920" y="254880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22"/>
            <p:cNvSpPr/>
            <p:nvPr/>
          </p:nvSpPr>
          <p:spPr>
            <a:xfrm rot="6650400">
              <a:off x="3439440" y="2470680"/>
              <a:ext cx="286200" cy="1515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23"/>
            <p:cNvSpPr/>
            <p:nvPr/>
          </p:nvSpPr>
          <p:spPr>
            <a:xfrm rot="6650400">
              <a:off x="3512880" y="2474280"/>
              <a:ext cx="189000" cy="2451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24"/>
            <p:cNvSpPr/>
            <p:nvPr/>
          </p:nvSpPr>
          <p:spPr>
            <a:xfrm rot="6650400">
              <a:off x="3503520" y="2462400"/>
              <a:ext cx="218880" cy="2386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25"/>
            <p:cNvSpPr/>
            <p:nvPr/>
          </p:nvSpPr>
          <p:spPr>
            <a:xfrm rot="6650400">
              <a:off x="3468240" y="2449080"/>
              <a:ext cx="272160" cy="24984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26"/>
            <p:cNvSpPr/>
            <p:nvPr/>
          </p:nvSpPr>
          <p:spPr>
            <a:xfrm rot="6650400">
              <a:off x="3473640" y="2446560"/>
              <a:ext cx="277920" cy="2264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27"/>
            <p:cNvSpPr/>
            <p:nvPr/>
          </p:nvSpPr>
          <p:spPr>
            <a:xfrm rot="6650400">
              <a:off x="3454200" y="2448720"/>
              <a:ext cx="301320" cy="2163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28"/>
            <p:cNvSpPr/>
            <p:nvPr/>
          </p:nvSpPr>
          <p:spPr>
            <a:xfrm rot="6650400">
              <a:off x="3456360" y="2450880"/>
              <a:ext cx="291960" cy="194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29"/>
            <p:cNvSpPr/>
            <p:nvPr/>
          </p:nvSpPr>
          <p:spPr>
            <a:xfrm rot="6650400">
              <a:off x="3427920" y="2452320"/>
              <a:ext cx="307800" cy="1954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30"/>
            <p:cNvSpPr/>
            <p:nvPr/>
          </p:nvSpPr>
          <p:spPr>
            <a:xfrm rot="6650400">
              <a:off x="3538440" y="2502720"/>
              <a:ext cx="101880" cy="2498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31"/>
            <p:cNvSpPr/>
            <p:nvPr/>
          </p:nvSpPr>
          <p:spPr>
            <a:xfrm rot="6650400">
              <a:off x="3561120" y="253008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32"/>
            <p:cNvSpPr/>
            <p:nvPr/>
          </p:nvSpPr>
          <p:spPr>
            <a:xfrm rot="6650400">
              <a:off x="3541680" y="2565000"/>
              <a:ext cx="41040" cy="222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33"/>
            <p:cNvSpPr/>
            <p:nvPr/>
          </p:nvSpPr>
          <p:spPr>
            <a:xfrm rot="6650400">
              <a:off x="3483000" y="259560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34"/>
            <p:cNvSpPr/>
            <p:nvPr/>
          </p:nvSpPr>
          <p:spPr>
            <a:xfrm rot="6650400">
              <a:off x="3431880" y="2628360"/>
              <a:ext cx="191880" cy="162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35"/>
            <p:cNvSpPr/>
            <p:nvPr/>
          </p:nvSpPr>
          <p:spPr>
            <a:xfrm rot="6650400">
              <a:off x="3405240" y="2671200"/>
              <a:ext cx="201240" cy="13176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36"/>
            <p:cNvSpPr/>
            <p:nvPr/>
          </p:nvSpPr>
          <p:spPr>
            <a:xfrm rot="6650400">
              <a:off x="3374640" y="269352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37"/>
            <p:cNvSpPr/>
            <p:nvPr/>
          </p:nvSpPr>
          <p:spPr>
            <a:xfrm rot="6650400">
              <a:off x="3352320" y="271440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38"/>
            <p:cNvSpPr/>
            <p:nvPr/>
          </p:nvSpPr>
          <p:spPr>
            <a:xfrm rot="6650400">
              <a:off x="3335760" y="273276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39"/>
            <p:cNvSpPr/>
            <p:nvPr/>
          </p:nvSpPr>
          <p:spPr>
            <a:xfrm rot="6650400">
              <a:off x="3318480" y="2737440"/>
              <a:ext cx="266760" cy="46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40"/>
            <p:cNvSpPr/>
            <p:nvPr/>
          </p:nvSpPr>
          <p:spPr>
            <a:xfrm rot="6650400">
              <a:off x="3314520" y="2758320"/>
              <a:ext cx="252720" cy="2988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41"/>
            <p:cNvSpPr/>
            <p:nvPr/>
          </p:nvSpPr>
          <p:spPr>
            <a:xfrm rot="6650400">
              <a:off x="3294720" y="274572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42"/>
            <p:cNvSpPr/>
            <p:nvPr/>
          </p:nvSpPr>
          <p:spPr>
            <a:xfrm rot="6650400">
              <a:off x="3302640" y="274104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43"/>
            <p:cNvSpPr/>
            <p:nvPr/>
          </p:nvSpPr>
          <p:spPr>
            <a:xfrm rot="6650400">
              <a:off x="3321000" y="272736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274"/>
          <p:cNvGrpSpPr/>
          <p:nvPr/>
        </p:nvGrpSpPr>
        <p:grpSpPr>
          <a:xfrm>
            <a:off x="3138480" y="1991880"/>
            <a:ext cx="766440" cy="579600"/>
            <a:chOff x="3138480" y="1991880"/>
            <a:chExt cx="766440" cy="579600"/>
          </a:xfrm>
        </p:grpSpPr>
        <p:sp>
          <p:nvSpPr>
            <p:cNvPr id="456" name="Freeform 275"/>
            <p:cNvSpPr/>
            <p:nvPr/>
          </p:nvSpPr>
          <p:spPr>
            <a:xfrm rot="5043000">
              <a:off x="3252600" y="1917720"/>
              <a:ext cx="309960" cy="50904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9040"/>
                <a:gd name="textAreaBottom" fmla="*/ 509400 h 509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76"/>
            <p:cNvSpPr/>
            <p:nvPr/>
          </p:nvSpPr>
          <p:spPr>
            <a:xfrm rot="5043000">
              <a:off x="3499920" y="237312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77"/>
            <p:cNvSpPr/>
            <p:nvPr/>
          </p:nvSpPr>
          <p:spPr>
            <a:xfrm rot="5043000">
              <a:off x="3690360" y="2100960"/>
              <a:ext cx="156240" cy="25704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78"/>
            <p:cNvSpPr/>
            <p:nvPr/>
          </p:nvSpPr>
          <p:spPr>
            <a:xfrm rot="5043000">
              <a:off x="3557880" y="2194560"/>
              <a:ext cx="267120" cy="9756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79"/>
            <p:cNvSpPr/>
            <p:nvPr/>
          </p:nvSpPr>
          <p:spPr>
            <a:xfrm rot="5043000">
              <a:off x="3516480" y="2310480"/>
              <a:ext cx="317520" cy="4968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80"/>
            <p:cNvSpPr/>
            <p:nvPr/>
          </p:nvSpPr>
          <p:spPr>
            <a:xfrm rot="5043000">
              <a:off x="3560760" y="2140920"/>
              <a:ext cx="291240" cy="13572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81"/>
            <p:cNvSpPr/>
            <p:nvPr/>
          </p:nvSpPr>
          <p:spPr>
            <a:xfrm rot="5043000">
              <a:off x="3601440" y="220068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82"/>
            <p:cNvSpPr/>
            <p:nvPr/>
          </p:nvSpPr>
          <p:spPr>
            <a:xfrm rot="5043000">
              <a:off x="3584160" y="2099160"/>
              <a:ext cx="286560" cy="151560"/>
            </a:xfrm>
            <a:custGeom>
              <a:avLst/>
              <a:gdLst>
                <a:gd name="textAreaLeft" fmla="*/ 0 w 286560"/>
                <a:gd name="textAreaRight" fmla="*/ 286920 w 28656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83"/>
            <p:cNvSpPr/>
            <p:nvPr/>
          </p:nvSpPr>
          <p:spPr>
            <a:xfrm rot="5043000">
              <a:off x="3678120" y="2085840"/>
              <a:ext cx="189360" cy="24552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84"/>
            <p:cNvSpPr/>
            <p:nvPr/>
          </p:nvSpPr>
          <p:spPr>
            <a:xfrm rot="5043000">
              <a:off x="3661200" y="2073600"/>
              <a:ext cx="219240" cy="23868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85"/>
            <p:cNvSpPr/>
            <p:nvPr/>
          </p:nvSpPr>
          <p:spPr>
            <a:xfrm rot="5043000">
              <a:off x="3623400" y="2065320"/>
              <a:ext cx="272520" cy="25020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86"/>
            <p:cNvSpPr/>
            <p:nvPr/>
          </p:nvSpPr>
          <p:spPr>
            <a:xfrm rot="5043000">
              <a:off x="3621600" y="2059560"/>
              <a:ext cx="278280" cy="22680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87"/>
            <p:cNvSpPr/>
            <p:nvPr/>
          </p:nvSpPr>
          <p:spPr>
            <a:xfrm rot="5043000">
              <a:off x="3601800" y="2065680"/>
              <a:ext cx="301680" cy="2163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88"/>
            <p:cNvSpPr/>
            <p:nvPr/>
          </p:nvSpPr>
          <p:spPr>
            <a:xfrm rot="5043000">
              <a:off x="3600000" y="2070000"/>
              <a:ext cx="292320" cy="1947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89"/>
            <p:cNvSpPr/>
            <p:nvPr/>
          </p:nvSpPr>
          <p:spPr>
            <a:xfrm rot="5043000">
              <a:off x="3574440" y="2080080"/>
              <a:ext cx="308160" cy="195840"/>
            </a:xfrm>
            <a:custGeom>
              <a:avLst/>
              <a:gdLst>
                <a:gd name="textAreaLeft" fmla="*/ 0 w 308160"/>
                <a:gd name="textAreaRight" fmla="*/ 308160 w 30816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90"/>
            <p:cNvSpPr/>
            <p:nvPr/>
          </p:nvSpPr>
          <p:spPr>
            <a:xfrm rot="5043000">
              <a:off x="3719520" y="2119320"/>
              <a:ext cx="101880" cy="2502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91"/>
            <p:cNvSpPr/>
            <p:nvPr/>
          </p:nvSpPr>
          <p:spPr>
            <a:xfrm rot="5043000">
              <a:off x="3754440" y="214884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92"/>
            <p:cNvSpPr/>
            <p:nvPr/>
          </p:nvSpPr>
          <p:spPr>
            <a:xfrm rot="5043000">
              <a:off x="3747600" y="2188080"/>
              <a:ext cx="41040" cy="2232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93"/>
            <p:cNvSpPr/>
            <p:nvPr/>
          </p:nvSpPr>
          <p:spPr>
            <a:xfrm rot="5043000">
              <a:off x="3701160" y="222444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94"/>
            <p:cNvSpPr/>
            <p:nvPr/>
          </p:nvSpPr>
          <p:spPr>
            <a:xfrm rot="5043000">
              <a:off x="3656520" y="2264040"/>
              <a:ext cx="191880" cy="1630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3080"/>
                <a:gd name="textAreaBottom" fmla="*/ 163080 h 16308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95"/>
            <p:cNvSpPr/>
            <p:nvPr/>
          </p:nvSpPr>
          <p:spPr>
            <a:xfrm rot="5043000">
              <a:off x="3644280" y="2314080"/>
              <a:ext cx="201600" cy="1317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96"/>
            <p:cNvSpPr/>
            <p:nvPr/>
          </p:nvSpPr>
          <p:spPr>
            <a:xfrm rot="5043000">
              <a:off x="3619440" y="234324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97"/>
            <p:cNvSpPr/>
            <p:nvPr/>
          </p:nvSpPr>
          <p:spPr>
            <a:xfrm rot="5043000">
              <a:off x="3604320" y="236916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98"/>
            <p:cNvSpPr/>
            <p:nvPr/>
          </p:nvSpPr>
          <p:spPr>
            <a:xfrm rot="5043000">
              <a:off x="3592080" y="239220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99"/>
            <p:cNvSpPr/>
            <p:nvPr/>
          </p:nvSpPr>
          <p:spPr>
            <a:xfrm rot="5043000">
              <a:off x="3574440" y="2402280"/>
              <a:ext cx="267120" cy="4644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00"/>
            <p:cNvSpPr/>
            <p:nvPr/>
          </p:nvSpPr>
          <p:spPr>
            <a:xfrm rot="5043000">
              <a:off x="3577320" y="2426400"/>
              <a:ext cx="253080" cy="2988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1"/>
            <p:cNvSpPr/>
            <p:nvPr/>
          </p:nvSpPr>
          <p:spPr>
            <a:xfrm rot="5043000">
              <a:off x="3546720" y="241812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02"/>
            <p:cNvSpPr/>
            <p:nvPr/>
          </p:nvSpPr>
          <p:spPr>
            <a:xfrm rot="5043000">
              <a:off x="3553200" y="241704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03"/>
            <p:cNvSpPr/>
            <p:nvPr/>
          </p:nvSpPr>
          <p:spPr>
            <a:xfrm rot="5043000">
              <a:off x="3567240" y="240408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304"/>
          <p:cNvGrpSpPr/>
          <p:nvPr/>
        </p:nvGrpSpPr>
        <p:grpSpPr>
          <a:xfrm>
            <a:off x="2959920" y="1048320"/>
            <a:ext cx="581400" cy="756000"/>
            <a:chOff x="2959920" y="1048320"/>
            <a:chExt cx="581400" cy="756000"/>
          </a:xfrm>
        </p:grpSpPr>
        <p:sp>
          <p:nvSpPr>
            <p:cNvPr id="486" name="Freeform 305"/>
            <p:cNvSpPr/>
            <p:nvPr/>
          </p:nvSpPr>
          <p:spPr>
            <a:xfrm rot="21369000">
              <a:off x="2976480" y="1285560"/>
              <a:ext cx="309960" cy="5086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8680"/>
                <a:gd name="textAreaBottom" fmla="*/ 508680 h 50868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06"/>
            <p:cNvSpPr/>
            <p:nvPr/>
          </p:nvSpPr>
          <p:spPr>
            <a:xfrm rot="21369000">
              <a:off x="3160800" y="125748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07"/>
            <p:cNvSpPr/>
            <p:nvPr/>
          </p:nvSpPr>
          <p:spPr>
            <a:xfrm rot="21369000">
              <a:off x="3123720" y="1053360"/>
              <a:ext cx="156240" cy="2566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08"/>
            <p:cNvSpPr/>
            <p:nvPr/>
          </p:nvSpPr>
          <p:spPr>
            <a:xfrm rot="21369000">
              <a:off x="3079440" y="1209960"/>
              <a:ext cx="267120" cy="9756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09"/>
            <p:cNvSpPr/>
            <p:nvPr/>
          </p:nvSpPr>
          <p:spPr>
            <a:xfrm rot="21369000">
              <a:off x="3145680" y="1254240"/>
              <a:ext cx="317520" cy="4968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10"/>
            <p:cNvSpPr/>
            <p:nvPr/>
          </p:nvSpPr>
          <p:spPr>
            <a:xfrm rot="21369000">
              <a:off x="3033000" y="1175040"/>
              <a:ext cx="291240" cy="13572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11"/>
            <p:cNvSpPr/>
            <p:nvPr/>
          </p:nvSpPr>
          <p:spPr>
            <a:xfrm rot="21369000">
              <a:off x="3110400" y="123660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12"/>
            <p:cNvSpPr/>
            <p:nvPr/>
          </p:nvSpPr>
          <p:spPr>
            <a:xfrm rot="21369000">
              <a:off x="3002400" y="1144440"/>
              <a:ext cx="286560" cy="151560"/>
            </a:xfrm>
            <a:custGeom>
              <a:avLst/>
              <a:gdLst>
                <a:gd name="textAreaLeft" fmla="*/ 0 w 286560"/>
                <a:gd name="textAreaRight" fmla="*/ 286920 w 28656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13"/>
            <p:cNvSpPr/>
            <p:nvPr/>
          </p:nvSpPr>
          <p:spPr>
            <a:xfrm rot="21369000">
              <a:off x="3086640" y="1054080"/>
              <a:ext cx="189360" cy="2451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14"/>
            <p:cNvSpPr/>
            <p:nvPr/>
          </p:nvSpPr>
          <p:spPr>
            <a:xfrm rot="21369000">
              <a:off x="3055680" y="1058400"/>
              <a:ext cx="219240" cy="23868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15"/>
            <p:cNvSpPr/>
            <p:nvPr/>
          </p:nvSpPr>
          <p:spPr>
            <a:xfrm rot="21369000">
              <a:off x="3025800" y="1064160"/>
              <a:ext cx="272520" cy="24984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16"/>
            <p:cNvSpPr/>
            <p:nvPr/>
          </p:nvSpPr>
          <p:spPr>
            <a:xfrm rot="21369000">
              <a:off x="3006000" y="1074240"/>
              <a:ext cx="278280" cy="22644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17"/>
            <p:cNvSpPr/>
            <p:nvPr/>
          </p:nvSpPr>
          <p:spPr>
            <a:xfrm rot="21369000">
              <a:off x="2995200" y="1087560"/>
              <a:ext cx="301680" cy="2163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8"/>
            <p:cNvSpPr/>
            <p:nvPr/>
          </p:nvSpPr>
          <p:spPr>
            <a:xfrm rot="21369000">
              <a:off x="2993040" y="1104480"/>
              <a:ext cx="292320" cy="1947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9"/>
            <p:cNvSpPr/>
            <p:nvPr/>
          </p:nvSpPr>
          <p:spPr>
            <a:xfrm rot="21369000">
              <a:off x="2995200" y="1121760"/>
              <a:ext cx="308160" cy="195480"/>
            </a:xfrm>
            <a:custGeom>
              <a:avLst/>
              <a:gdLst>
                <a:gd name="textAreaLeft" fmla="*/ 0 w 308160"/>
                <a:gd name="textAreaRight" fmla="*/ 308160 w 30816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0"/>
            <p:cNvSpPr/>
            <p:nvPr/>
          </p:nvSpPr>
          <p:spPr>
            <a:xfrm rot="21369000">
              <a:off x="3165480" y="1055160"/>
              <a:ext cx="101880" cy="2498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21"/>
            <p:cNvSpPr/>
            <p:nvPr/>
          </p:nvSpPr>
          <p:spPr>
            <a:xfrm rot="21369000">
              <a:off x="3224880" y="105804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22"/>
            <p:cNvSpPr/>
            <p:nvPr/>
          </p:nvSpPr>
          <p:spPr>
            <a:xfrm rot="21369000">
              <a:off x="3251520" y="1073160"/>
              <a:ext cx="41040" cy="222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23"/>
            <p:cNvSpPr/>
            <p:nvPr/>
          </p:nvSpPr>
          <p:spPr>
            <a:xfrm rot="21369000">
              <a:off x="3237840" y="108756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24"/>
            <p:cNvSpPr/>
            <p:nvPr/>
          </p:nvSpPr>
          <p:spPr>
            <a:xfrm rot="21369000">
              <a:off x="3221280" y="1120320"/>
              <a:ext cx="191880" cy="162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25"/>
            <p:cNvSpPr/>
            <p:nvPr/>
          </p:nvSpPr>
          <p:spPr>
            <a:xfrm rot="21369000">
              <a:off x="3250440" y="1144440"/>
              <a:ext cx="201600" cy="1317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26"/>
            <p:cNvSpPr/>
            <p:nvPr/>
          </p:nvSpPr>
          <p:spPr>
            <a:xfrm rot="21369000">
              <a:off x="3253320" y="117144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27"/>
            <p:cNvSpPr/>
            <p:nvPr/>
          </p:nvSpPr>
          <p:spPr>
            <a:xfrm rot="21369000">
              <a:off x="3260880" y="118728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28"/>
            <p:cNvSpPr/>
            <p:nvPr/>
          </p:nvSpPr>
          <p:spPr>
            <a:xfrm rot="21369000">
              <a:off x="3268800" y="120816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29"/>
            <p:cNvSpPr/>
            <p:nvPr/>
          </p:nvSpPr>
          <p:spPr>
            <a:xfrm rot="21369000">
              <a:off x="3261960" y="1226160"/>
              <a:ext cx="267120" cy="4644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30"/>
            <p:cNvSpPr/>
            <p:nvPr/>
          </p:nvSpPr>
          <p:spPr>
            <a:xfrm rot="21369000">
              <a:off x="3284280" y="1239120"/>
              <a:ext cx="253080" cy="2988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31"/>
            <p:cNvSpPr/>
            <p:nvPr/>
          </p:nvSpPr>
          <p:spPr>
            <a:xfrm rot="21369000">
              <a:off x="3247920" y="126576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32"/>
            <p:cNvSpPr/>
            <p:nvPr/>
          </p:nvSpPr>
          <p:spPr>
            <a:xfrm rot="21369000">
              <a:off x="3260880" y="127368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33"/>
            <p:cNvSpPr/>
            <p:nvPr/>
          </p:nvSpPr>
          <p:spPr>
            <a:xfrm rot="21369000">
              <a:off x="3271320" y="127404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334"/>
          <p:cNvGrpSpPr/>
          <p:nvPr/>
        </p:nvGrpSpPr>
        <p:grpSpPr>
          <a:xfrm>
            <a:off x="3127320" y="1599120"/>
            <a:ext cx="804960" cy="607320"/>
            <a:chOff x="3127320" y="1599120"/>
            <a:chExt cx="804960" cy="607320"/>
          </a:xfrm>
        </p:grpSpPr>
        <p:sp>
          <p:nvSpPr>
            <p:cNvPr id="516" name="Freeform 335"/>
            <p:cNvSpPr/>
            <p:nvPr/>
          </p:nvSpPr>
          <p:spPr>
            <a:xfrm rot="3433800">
              <a:off x="3269880" y="1683720"/>
              <a:ext cx="309960" cy="5086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8680"/>
                <a:gd name="textAreaBottom" fmla="*/ 508680 h 50868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36"/>
            <p:cNvSpPr/>
            <p:nvPr/>
          </p:nvSpPr>
          <p:spPr>
            <a:xfrm rot="3433800">
              <a:off x="3580920" y="198936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37"/>
            <p:cNvSpPr/>
            <p:nvPr/>
          </p:nvSpPr>
          <p:spPr>
            <a:xfrm rot="3433800">
              <a:off x="3694320" y="1698120"/>
              <a:ext cx="156240" cy="2566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38"/>
            <p:cNvSpPr/>
            <p:nvPr/>
          </p:nvSpPr>
          <p:spPr>
            <a:xfrm rot="3433800">
              <a:off x="3576960" y="1824840"/>
              <a:ext cx="266760" cy="975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39"/>
            <p:cNvSpPr/>
            <p:nvPr/>
          </p:nvSpPr>
          <p:spPr>
            <a:xfrm rot="3433800">
              <a:off x="3578400" y="1938240"/>
              <a:ext cx="317160" cy="496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40"/>
            <p:cNvSpPr/>
            <p:nvPr/>
          </p:nvSpPr>
          <p:spPr>
            <a:xfrm rot="3433800">
              <a:off x="3562560" y="1767960"/>
              <a:ext cx="290880" cy="1357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41"/>
            <p:cNvSpPr/>
            <p:nvPr/>
          </p:nvSpPr>
          <p:spPr>
            <a:xfrm rot="3433800">
              <a:off x="3612960" y="183492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42"/>
            <p:cNvSpPr/>
            <p:nvPr/>
          </p:nvSpPr>
          <p:spPr>
            <a:xfrm rot="3433800">
              <a:off x="3568320" y="1720440"/>
              <a:ext cx="286200" cy="1515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3"/>
            <p:cNvSpPr/>
            <p:nvPr/>
          </p:nvSpPr>
          <p:spPr>
            <a:xfrm rot="3433800">
              <a:off x="3672720" y="1683360"/>
              <a:ext cx="189000" cy="2451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4"/>
            <p:cNvSpPr/>
            <p:nvPr/>
          </p:nvSpPr>
          <p:spPr>
            <a:xfrm rot="3433800">
              <a:off x="3648600" y="1673640"/>
              <a:ext cx="218880" cy="2386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45"/>
            <p:cNvSpPr/>
            <p:nvPr/>
          </p:nvSpPr>
          <p:spPr>
            <a:xfrm rot="3433800">
              <a:off x="3610080" y="1670040"/>
              <a:ext cx="272160" cy="24984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46"/>
            <p:cNvSpPr/>
            <p:nvPr/>
          </p:nvSpPr>
          <p:spPr>
            <a:xfrm rot="3433800">
              <a:off x="3601080" y="1666440"/>
              <a:ext cx="277920" cy="2264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47"/>
            <p:cNvSpPr/>
            <p:nvPr/>
          </p:nvSpPr>
          <p:spPr>
            <a:xfrm rot="3433800">
              <a:off x="3582720" y="1676160"/>
              <a:ext cx="301320" cy="2163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48"/>
            <p:cNvSpPr/>
            <p:nvPr/>
          </p:nvSpPr>
          <p:spPr>
            <a:xfrm rot="3433800">
              <a:off x="3578400" y="1683720"/>
              <a:ext cx="291960" cy="194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49"/>
            <p:cNvSpPr/>
            <p:nvPr/>
          </p:nvSpPr>
          <p:spPr>
            <a:xfrm rot="3433800">
              <a:off x="3560040" y="1701000"/>
              <a:ext cx="307800" cy="1954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50"/>
            <p:cNvSpPr/>
            <p:nvPr/>
          </p:nvSpPr>
          <p:spPr>
            <a:xfrm rot="3433800">
              <a:off x="3729960" y="1713600"/>
              <a:ext cx="101880" cy="2498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51"/>
            <p:cNvSpPr/>
            <p:nvPr/>
          </p:nvSpPr>
          <p:spPr>
            <a:xfrm rot="3433800">
              <a:off x="3776040" y="173988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52"/>
            <p:cNvSpPr/>
            <p:nvPr/>
          </p:nvSpPr>
          <p:spPr>
            <a:xfrm rot="3433800">
              <a:off x="3783600" y="1778040"/>
              <a:ext cx="41040" cy="222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53"/>
            <p:cNvSpPr/>
            <p:nvPr/>
          </p:nvSpPr>
          <p:spPr>
            <a:xfrm rot="3433800">
              <a:off x="3750120" y="181368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54"/>
            <p:cNvSpPr/>
            <p:nvPr/>
          </p:nvSpPr>
          <p:spPr>
            <a:xfrm rot="3433800">
              <a:off x="3714480" y="1855800"/>
              <a:ext cx="191880" cy="162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55"/>
            <p:cNvSpPr/>
            <p:nvPr/>
          </p:nvSpPr>
          <p:spPr>
            <a:xfrm rot="3433800">
              <a:off x="3718800" y="1905120"/>
              <a:ext cx="201240" cy="13176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56"/>
            <p:cNvSpPr/>
            <p:nvPr/>
          </p:nvSpPr>
          <p:spPr>
            <a:xfrm rot="3433800">
              <a:off x="3702600" y="193896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57"/>
            <p:cNvSpPr/>
            <p:nvPr/>
          </p:nvSpPr>
          <p:spPr>
            <a:xfrm rot="3433800">
              <a:off x="3695040" y="196524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8"/>
            <p:cNvSpPr/>
            <p:nvPr/>
          </p:nvSpPr>
          <p:spPr>
            <a:xfrm rot="3433800">
              <a:off x="3689280" y="199152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59"/>
            <p:cNvSpPr/>
            <p:nvPr/>
          </p:nvSpPr>
          <p:spPr>
            <a:xfrm rot="3433800">
              <a:off x="3673080" y="2005200"/>
              <a:ext cx="266760" cy="46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60"/>
            <p:cNvSpPr/>
            <p:nvPr/>
          </p:nvSpPr>
          <p:spPr>
            <a:xfrm rot="3433800">
              <a:off x="3683880" y="2030040"/>
              <a:ext cx="252720" cy="2988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61"/>
            <p:cNvSpPr/>
            <p:nvPr/>
          </p:nvSpPr>
          <p:spPr>
            <a:xfrm rot="3433800">
              <a:off x="3645720" y="203040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62"/>
            <p:cNvSpPr/>
            <p:nvPr/>
          </p:nvSpPr>
          <p:spPr>
            <a:xfrm rot="3433800">
              <a:off x="3651840" y="203328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63"/>
            <p:cNvSpPr/>
            <p:nvPr/>
          </p:nvSpPr>
          <p:spPr>
            <a:xfrm rot="3433800">
              <a:off x="3663000" y="202356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364"/>
          <p:cNvGrpSpPr/>
          <p:nvPr/>
        </p:nvGrpSpPr>
        <p:grpSpPr>
          <a:xfrm>
            <a:off x="1857960" y="1722600"/>
            <a:ext cx="805680" cy="578160"/>
            <a:chOff x="1857960" y="1722600"/>
            <a:chExt cx="805680" cy="578160"/>
          </a:xfrm>
        </p:grpSpPr>
        <p:sp>
          <p:nvSpPr>
            <p:cNvPr id="546" name="Freeform 365"/>
            <p:cNvSpPr/>
            <p:nvPr/>
          </p:nvSpPr>
          <p:spPr>
            <a:xfrm rot="14445600">
              <a:off x="2210760" y="1727280"/>
              <a:ext cx="309960" cy="5086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8680"/>
                <a:gd name="textAreaBottom" fmla="*/ 508680 h 50868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66"/>
            <p:cNvSpPr/>
            <p:nvPr/>
          </p:nvSpPr>
          <p:spPr>
            <a:xfrm rot="14445600">
              <a:off x="1833840" y="189288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67"/>
            <p:cNvSpPr/>
            <p:nvPr/>
          </p:nvSpPr>
          <p:spPr>
            <a:xfrm rot="14445600">
              <a:off x="1933920" y="1943280"/>
              <a:ext cx="156240" cy="2566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68"/>
            <p:cNvSpPr/>
            <p:nvPr/>
          </p:nvSpPr>
          <p:spPr>
            <a:xfrm rot="14445600">
              <a:off x="1943280" y="1980000"/>
              <a:ext cx="266760" cy="975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69"/>
            <p:cNvSpPr/>
            <p:nvPr/>
          </p:nvSpPr>
          <p:spPr>
            <a:xfrm rot="14445600">
              <a:off x="1897200" y="1912320"/>
              <a:ext cx="317160" cy="496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70"/>
            <p:cNvSpPr/>
            <p:nvPr/>
          </p:nvSpPr>
          <p:spPr>
            <a:xfrm rot="14445600">
              <a:off x="1931760" y="1998360"/>
              <a:ext cx="290880" cy="1357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71"/>
            <p:cNvSpPr/>
            <p:nvPr/>
          </p:nvSpPr>
          <p:spPr>
            <a:xfrm rot="14445600">
              <a:off x="2001960" y="201600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72"/>
            <p:cNvSpPr/>
            <p:nvPr/>
          </p:nvSpPr>
          <p:spPr>
            <a:xfrm rot="14445600">
              <a:off x="1928160" y="2030040"/>
              <a:ext cx="286200" cy="1515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73"/>
            <p:cNvSpPr/>
            <p:nvPr/>
          </p:nvSpPr>
          <p:spPr>
            <a:xfrm rot="14445600">
              <a:off x="1921680" y="1969920"/>
              <a:ext cx="189000" cy="2451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74"/>
            <p:cNvSpPr/>
            <p:nvPr/>
          </p:nvSpPr>
          <p:spPr>
            <a:xfrm rot="14445600">
              <a:off x="1914840" y="1986840"/>
              <a:ext cx="218880" cy="2386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75"/>
            <p:cNvSpPr/>
            <p:nvPr/>
          </p:nvSpPr>
          <p:spPr>
            <a:xfrm rot="14445600">
              <a:off x="1900080" y="1979640"/>
              <a:ext cx="272160" cy="24984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76"/>
            <p:cNvSpPr/>
            <p:nvPr/>
          </p:nvSpPr>
          <p:spPr>
            <a:xfrm rot="14445600">
              <a:off x="1902240" y="2007720"/>
              <a:ext cx="277920" cy="2264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77"/>
            <p:cNvSpPr/>
            <p:nvPr/>
          </p:nvSpPr>
          <p:spPr>
            <a:xfrm rot="14445600">
              <a:off x="1897920" y="2008080"/>
              <a:ext cx="301320" cy="2163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78"/>
            <p:cNvSpPr/>
            <p:nvPr/>
          </p:nvSpPr>
          <p:spPr>
            <a:xfrm rot="14445600">
              <a:off x="1910880" y="2022480"/>
              <a:ext cx="291960" cy="194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79"/>
            <p:cNvSpPr/>
            <p:nvPr/>
          </p:nvSpPr>
          <p:spPr>
            <a:xfrm rot="14445600">
              <a:off x="1914840" y="2005200"/>
              <a:ext cx="307800" cy="1954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80"/>
            <p:cNvSpPr/>
            <p:nvPr/>
          </p:nvSpPr>
          <p:spPr>
            <a:xfrm rot="14445600">
              <a:off x="1953360" y="1934280"/>
              <a:ext cx="101880" cy="2498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81"/>
            <p:cNvSpPr/>
            <p:nvPr/>
          </p:nvSpPr>
          <p:spPr>
            <a:xfrm rot="14445600">
              <a:off x="1974600" y="191484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82"/>
            <p:cNvSpPr/>
            <p:nvPr/>
          </p:nvSpPr>
          <p:spPr>
            <a:xfrm rot="14445600">
              <a:off x="1963800" y="1895400"/>
              <a:ext cx="41040" cy="222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83"/>
            <p:cNvSpPr/>
            <p:nvPr/>
          </p:nvSpPr>
          <p:spPr>
            <a:xfrm rot="14445600">
              <a:off x="1916280" y="187596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84"/>
            <p:cNvSpPr/>
            <p:nvPr/>
          </p:nvSpPr>
          <p:spPr>
            <a:xfrm rot="14445600">
              <a:off x="1884960" y="1877760"/>
              <a:ext cx="191880" cy="162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85"/>
            <p:cNvSpPr/>
            <p:nvPr/>
          </p:nvSpPr>
          <p:spPr>
            <a:xfrm rot="14445600">
              <a:off x="1873080" y="1858680"/>
              <a:ext cx="201240" cy="13176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86"/>
            <p:cNvSpPr/>
            <p:nvPr/>
          </p:nvSpPr>
          <p:spPr>
            <a:xfrm rot="14445600">
              <a:off x="1866600" y="185364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87"/>
            <p:cNvSpPr/>
            <p:nvPr/>
          </p:nvSpPr>
          <p:spPr>
            <a:xfrm rot="14445600">
              <a:off x="1856160" y="184428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88"/>
            <p:cNvSpPr/>
            <p:nvPr/>
          </p:nvSpPr>
          <p:spPr>
            <a:xfrm rot="14445600">
              <a:off x="1856520" y="184176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89"/>
            <p:cNvSpPr/>
            <p:nvPr/>
          </p:nvSpPr>
          <p:spPr>
            <a:xfrm rot="14445600">
              <a:off x="1856880" y="1844640"/>
              <a:ext cx="266760" cy="46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90"/>
            <p:cNvSpPr/>
            <p:nvPr/>
          </p:nvSpPr>
          <p:spPr>
            <a:xfrm rot="14445600">
              <a:off x="1861200" y="1836360"/>
              <a:ext cx="252720" cy="2988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91"/>
            <p:cNvSpPr/>
            <p:nvPr/>
          </p:nvSpPr>
          <p:spPr>
            <a:xfrm rot="14445600">
              <a:off x="1868040" y="186192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92"/>
            <p:cNvSpPr/>
            <p:nvPr/>
          </p:nvSpPr>
          <p:spPr>
            <a:xfrm rot="14445600">
              <a:off x="1889640" y="186012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93"/>
            <p:cNvSpPr/>
            <p:nvPr/>
          </p:nvSpPr>
          <p:spPr>
            <a:xfrm rot="14445600">
              <a:off x="1916640" y="186120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394"/>
          <p:cNvGrpSpPr/>
          <p:nvPr/>
        </p:nvGrpSpPr>
        <p:grpSpPr>
          <a:xfrm>
            <a:off x="1874520" y="1926720"/>
            <a:ext cx="792720" cy="730080"/>
            <a:chOff x="1874520" y="1926720"/>
            <a:chExt cx="792720" cy="730080"/>
          </a:xfrm>
        </p:grpSpPr>
        <p:sp>
          <p:nvSpPr>
            <p:cNvPr id="576" name="Freeform 395"/>
            <p:cNvSpPr/>
            <p:nvPr/>
          </p:nvSpPr>
          <p:spPr>
            <a:xfrm rot="12999600">
              <a:off x="2235960" y="1968480"/>
              <a:ext cx="309960" cy="50904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9040"/>
                <a:gd name="textAreaBottom" fmla="*/ 509400 h 509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96"/>
            <p:cNvSpPr/>
            <p:nvPr/>
          </p:nvSpPr>
          <p:spPr>
            <a:xfrm rot="12999600">
              <a:off x="1855440" y="228132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97"/>
            <p:cNvSpPr/>
            <p:nvPr/>
          </p:nvSpPr>
          <p:spPr>
            <a:xfrm rot="12999600">
              <a:off x="2026440" y="2321640"/>
              <a:ext cx="156240" cy="25704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98"/>
            <p:cNvSpPr/>
            <p:nvPr/>
          </p:nvSpPr>
          <p:spPr>
            <a:xfrm rot="12999600">
              <a:off x="2012760" y="2335320"/>
              <a:ext cx="267120" cy="9756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99"/>
            <p:cNvSpPr/>
            <p:nvPr/>
          </p:nvSpPr>
          <p:spPr>
            <a:xfrm rot="12999600">
              <a:off x="1930680" y="2284920"/>
              <a:ext cx="317520" cy="4968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00"/>
            <p:cNvSpPr/>
            <p:nvPr/>
          </p:nvSpPr>
          <p:spPr>
            <a:xfrm rot="12999600">
              <a:off x="2016000" y="2350440"/>
              <a:ext cx="291240" cy="13572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01"/>
            <p:cNvSpPr/>
            <p:nvPr/>
          </p:nvSpPr>
          <p:spPr>
            <a:xfrm rot="12999600">
              <a:off x="2075760" y="236592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402"/>
            <p:cNvSpPr/>
            <p:nvPr/>
          </p:nvSpPr>
          <p:spPr>
            <a:xfrm rot="12999600">
              <a:off x="2028960" y="2381400"/>
              <a:ext cx="286560" cy="151560"/>
            </a:xfrm>
            <a:custGeom>
              <a:avLst/>
              <a:gdLst>
                <a:gd name="textAreaLeft" fmla="*/ 0 w 286560"/>
                <a:gd name="textAreaRight" fmla="*/ 286920 w 28656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03"/>
            <p:cNvSpPr/>
            <p:nvPr/>
          </p:nvSpPr>
          <p:spPr>
            <a:xfrm rot="12999600">
              <a:off x="2021760" y="2344320"/>
              <a:ext cx="189360" cy="24552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04"/>
            <p:cNvSpPr/>
            <p:nvPr/>
          </p:nvSpPr>
          <p:spPr>
            <a:xfrm rot="12999600">
              <a:off x="2019960" y="2357280"/>
              <a:ext cx="219240" cy="23868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05"/>
            <p:cNvSpPr/>
            <p:nvPr/>
          </p:nvSpPr>
          <p:spPr>
            <a:xfrm rot="12999600">
              <a:off x="2003040" y="2344680"/>
              <a:ext cx="272520" cy="25020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06"/>
            <p:cNvSpPr/>
            <p:nvPr/>
          </p:nvSpPr>
          <p:spPr>
            <a:xfrm rot="12999600">
              <a:off x="2012040" y="2369160"/>
              <a:ext cx="278280" cy="22680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07"/>
            <p:cNvSpPr/>
            <p:nvPr/>
          </p:nvSpPr>
          <p:spPr>
            <a:xfrm rot="12999600">
              <a:off x="2004840" y="2367720"/>
              <a:ext cx="301680" cy="2163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08"/>
            <p:cNvSpPr/>
            <p:nvPr/>
          </p:nvSpPr>
          <p:spPr>
            <a:xfrm rot="12999600">
              <a:off x="2018880" y="2378520"/>
              <a:ext cx="292320" cy="1947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09"/>
            <p:cNvSpPr/>
            <p:nvPr/>
          </p:nvSpPr>
          <p:spPr>
            <a:xfrm rot="12999600">
              <a:off x="2014920" y="2357640"/>
              <a:ext cx="308160" cy="195840"/>
            </a:xfrm>
            <a:custGeom>
              <a:avLst/>
              <a:gdLst>
                <a:gd name="textAreaLeft" fmla="*/ 0 w 308160"/>
                <a:gd name="textAreaRight" fmla="*/ 308160 w 30816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10"/>
            <p:cNvSpPr/>
            <p:nvPr/>
          </p:nvSpPr>
          <p:spPr>
            <a:xfrm rot="12999600">
              <a:off x="2040840" y="2316600"/>
              <a:ext cx="101880" cy="2502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11"/>
            <p:cNvSpPr/>
            <p:nvPr/>
          </p:nvSpPr>
          <p:spPr>
            <a:xfrm rot="12999600">
              <a:off x="2054160" y="230400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12"/>
            <p:cNvSpPr/>
            <p:nvPr/>
          </p:nvSpPr>
          <p:spPr>
            <a:xfrm rot="12999600">
              <a:off x="2032200" y="2290680"/>
              <a:ext cx="41040" cy="2232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13"/>
            <p:cNvSpPr/>
            <p:nvPr/>
          </p:nvSpPr>
          <p:spPr>
            <a:xfrm rot="12999600">
              <a:off x="1973880" y="227628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14"/>
            <p:cNvSpPr/>
            <p:nvPr/>
          </p:nvSpPr>
          <p:spPr>
            <a:xfrm rot="12999600">
              <a:off x="1933560" y="2278080"/>
              <a:ext cx="191880" cy="1630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3080"/>
                <a:gd name="textAreaBottom" fmla="*/ 163080 h 16308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15"/>
            <p:cNvSpPr/>
            <p:nvPr/>
          </p:nvSpPr>
          <p:spPr>
            <a:xfrm rot="12999600">
              <a:off x="1908360" y="2265120"/>
              <a:ext cx="201600" cy="1317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16"/>
            <p:cNvSpPr/>
            <p:nvPr/>
          </p:nvSpPr>
          <p:spPr>
            <a:xfrm rot="12999600">
              <a:off x="1893600" y="225972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17"/>
            <p:cNvSpPr/>
            <p:nvPr/>
          </p:nvSpPr>
          <p:spPr>
            <a:xfrm rot="12999600">
              <a:off x="1875960" y="225216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18"/>
            <p:cNvSpPr/>
            <p:nvPr/>
          </p:nvSpPr>
          <p:spPr>
            <a:xfrm rot="12999600">
              <a:off x="1870560" y="224964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19"/>
            <p:cNvSpPr/>
            <p:nvPr/>
          </p:nvSpPr>
          <p:spPr>
            <a:xfrm rot="12999600">
              <a:off x="1867320" y="2249640"/>
              <a:ext cx="267120" cy="4644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20"/>
            <p:cNvSpPr/>
            <p:nvPr/>
          </p:nvSpPr>
          <p:spPr>
            <a:xfrm rot="12999600">
              <a:off x="1865520" y="2244240"/>
              <a:ext cx="253080" cy="2988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21"/>
            <p:cNvSpPr/>
            <p:nvPr/>
          </p:nvSpPr>
          <p:spPr>
            <a:xfrm rot="12999600">
              <a:off x="1875960" y="225936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22"/>
            <p:cNvSpPr/>
            <p:nvPr/>
          </p:nvSpPr>
          <p:spPr>
            <a:xfrm rot="12999600">
              <a:off x="1895760" y="225432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23"/>
            <p:cNvSpPr/>
            <p:nvPr/>
          </p:nvSpPr>
          <p:spPr>
            <a:xfrm rot="12999600">
              <a:off x="1924560" y="225216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424"/>
          <p:cNvGrpSpPr/>
          <p:nvPr/>
        </p:nvGrpSpPr>
        <p:grpSpPr>
          <a:xfrm>
            <a:off x="2066040" y="2180520"/>
            <a:ext cx="643320" cy="752760"/>
            <a:chOff x="2066040" y="2180520"/>
            <a:chExt cx="643320" cy="752760"/>
          </a:xfrm>
        </p:grpSpPr>
        <p:sp>
          <p:nvSpPr>
            <p:cNvPr id="606" name="Freeform 425"/>
            <p:cNvSpPr/>
            <p:nvPr/>
          </p:nvSpPr>
          <p:spPr>
            <a:xfrm rot="11230800">
              <a:off x="2368440" y="2197800"/>
              <a:ext cx="309960" cy="5086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8680"/>
                <a:gd name="textAreaBottom" fmla="*/ 508680 h 50868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26"/>
            <p:cNvSpPr/>
            <p:nvPr/>
          </p:nvSpPr>
          <p:spPr>
            <a:xfrm rot="11230800">
              <a:off x="2065680" y="267156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27"/>
            <p:cNvSpPr/>
            <p:nvPr/>
          </p:nvSpPr>
          <p:spPr>
            <a:xfrm rot="11230800">
              <a:off x="2307600" y="2662200"/>
              <a:ext cx="156240" cy="2566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28"/>
            <p:cNvSpPr/>
            <p:nvPr/>
          </p:nvSpPr>
          <p:spPr>
            <a:xfrm rot="11230800">
              <a:off x="2256120" y="2663640"/>
              <a:ext cx="266760" cy="975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29"/>
            <p:cNvSpPr/>
            <p:nvPr/>
          </p:nvSpPr>
          <p:spPr>
            <a:xfrm rot="11230800">
              <a:off x="2145240" y="2650680"/>
              <a:ext cx="317160" cy="496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30"/>
            <p:cNvSpPr/>
            <p:nvPr/>
          </p:nvSpPr>
          <p:spPr>
            <a:xfrm rot="11230800">
              <a:off x="2274480" y="2666880"/>
              <a:ext cx="290880" cy="1357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31"/>
            <p:cNvSpPr/>
            <p:nvPr/>
          </p:nvSpPr>
          <p:spPr>
            <a:xfrm rot="11230800">
              <a:off x="2320920" y="268560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32"/>
            <p:cNvSpPr/>
            <p:nvPr/>
          </p:nvSpPr>
          <p:spPr>
            <a:xfrm rot="11230800">
              <a:off x="2305080" y="2687400"/>
              <a:ext cx="286200" cy="1515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33"/>
            <p:cNvSpPr/>
            <p:nvPr/>
          </p:nvSpPr>
          <p:spPr>
            <a:xfrm rot="11230800">
              <a:off x="2310480" y="2676600"/>
              <a:ext cx="189000" cy="2451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34"/>
            <p:cNvSpPr/>
            <p:nvPr/>
          </p:nvSpPr>
          <p:spPr>
            <a:xfrm rot="11230800">
              <a:off x="2311200" y="2681640"/>
              <a:ext cx="218880" cy="2386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35"/>
            <p:cNvSpPr/>
            <p:nvPr/>
          </p:nvSpPr>
          <p:spPr>
            <a:xfrm rot="11230800">
              <a:off x="2290680" y="2665800"/>
              <a:ext cx="272160" cy="24984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36"/>
            <p:cNvSpPr/>
            <p:nvPr/>
          </p:nvSpPr>
          <p:spPr>
            <a:xfrm rot="11230800">
              <a:off x="2303640" y="2682720"/>
              <a:ext cx="277920" cy="2264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37"/>
            <p:cNvSpPr/>
            <p:nvPr/>
          </p:nvSpPr>
          <p:spPr>
            <a:xfrm rot="11230800">
              <a:off x="2292480" y="2679480"/>
              <a:ext cx="301320" cy="2163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438"/>
            <p:cNvSpPr/>
            <p:nvPr/>
          </p:nvSpPr>
          <p:spPr>
            <a:xfrm rot="11230800">
              <a:off x="2305080" y="2685600"/>
              <a:ext cx="291960" cy="194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439"/>
            <p:cNvSpPr/>
            <p:nvPr/>
          </p:nvSpPr>
          <p:spPr>
            <a:xfrm rot="11230800">
              <a:off x="2290680" y="2665800"/>
              <a:ext cx="307800" cy="1954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440"/>
            <p:cNvSpPr/>
            <p:nvPr/>
          </p:nvSpPr>
          <p:spPr>
            <a:xfrm rot="11230800">
              <a:off x="2320200" y="2664360"/>
              <a:ext cx="101880" cy="2498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441"/>
            <p:cNvSpPr/>
            <p:nvPr/>
          </p:nvSpPr>
          <p:spPr>
            <a:xfrm rot="11230800">
              <a:off x="2327760" y="266364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442"/>
            <p:cNvSpPr/>
            <p:nvPr/>
          </p:nvSpPr>
          <p:spPr>
            <a:xfrm rot="11230800">
              <a:off x="2296800" y="2662920"/>
              <a:ext cx="41040" cy="222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443"/>
            <p:cNvSpPr/>
            <p:nvPr/>
          </p:nvSpPr>
          <p:spPr>
            <a:xfrm rot="11230800">
              <a:off x="2229480" y="265932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444"/>
            <p:cNvSpPr/>
            <p:nvPr/>
          </p:nvSpPr>
          <p:spPr>
            <a:xfrm rot="11230800">
              <a:off x="2180880" y="2667240"/>
              <a:ext cx="191880" cy="162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445"/>
            <p:cNvSpPr/>
            <p:nvPr/>
          </p:nvSpPr>
          <p:spPr>
            <a:xfrm rot="11230800">
              <a:off x="2144520" y="2667960"/>
              <a:ext cx="201240" cy="13176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46"/>
            <p:cNvSpPr/>
            <p:nvPr/>
          </p:nvSpPr>
          <p:spPr>
            <a:xfrm rot="11230800">
              <a:off x="2119320" y="266616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47"/>
            <p:cNvSpPr/>
            <p:nvPr/>
          </p:nvSpPr>
          <p:spPr>
            <a:xfrm rot="11230800">
              <a:off x="2095200" y="266508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48"/>
            <p:cNvSpPr/>
            <p:nvPr/>
          </p:nvSpPr>
          <p:spPr>
            <a:xfrm rot="11230800">
              <a:off x="2082600" y="266580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449"/>
            <p:cNvSpPr/>
            <p:nvPr/>
          </p:nvSpPr>
          <p:spPr>
            <a:xfrm rot="11230800">
              <a:off x="2075400" y="2664000"/>
              <a:ext cx="266760" cy="46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50"/>
            <p:cNvSpPr/>
            <p:nvPr/>
          </p:nvSpPr>
          <p:spPr>
            <a:xfrm rot="11230800">
              <a:off x="2067840" y="2664360"/>
              <a:ext cx="252720" cy="2988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51"/>
            <p:cNvSpPr/>
            <p:nvPr/>
          </p:nvSpPr>
          <p:spPr>
            <a:xfrm rot="11230800">
              <a:off x="2075760" y="266652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52"/>
            <p:cNvSpPr/>
            <p:nvPr/>
          </p:nvSpPr>
          <p:spPr>
            <a:xfrm rot="11230800">
              <a:off x="2092680" y="265932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53"/>
            <p:cNvSpPr/>
            <p:nvPr/>
          </p:nvSpPr>
          <p:spPr>
            <a:xfrm rot="11230800">
              <a:off x="2121480" y="265212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454"/>
          <p:cNvGrpSpPr/>
          <p:nvPr/>
        </p:nvGrpSpPr>
        <p:grpSpPr>
          <a:xfrm>
            <a:off x="2423160" y="2260800"/>
            <a:ext cx="576360" cy="801360"/>
            <a:chOff x="2423160" y="2260800"/>
            <a:chExt cx="576360" cy="801360"/>
          </a:xfrm>
        </p:grpSpPr>
        <p:sp>
          <p:nvSpPr>
            <p:cNvPr id="636" name="Freeform 455"/>
            <p:cNvSpPr/>
            <p:nvPr/>
          </p:nvSpPr>
          <p:spPr>
            <a:xfrm rot="9697800">
              <a:off x="2594880" y="2296440"/>
              <a:ext cx="309960" cy="5086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8680"/>
                <a:gd name="textAreaBottom" fmla="*/ 508680 h 50868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56"/>
            <p:cNvSpPr/>
            <p:nvPr/>
          </p:nvSpPr>
          <p:spPr>
            <a:xfrm rot="9697800">
              <a:off x="2415960" y="286308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57"/>
            <p:cNvSpPr/>
            <p:nvPr/>
          </p:nvSpPr>
          <p:spPr>
            <a:xfrm rot="9697800">
              <a:off x="2693160" y="2787120"/>
              <a:ext cx="156240" cy="2566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58"/>
            <p:cNvSpPr/>
            <p:nvPr/>
          </p:nvSpPr>
          <p:spPr>
            <a:xfrm rot="9697800">
              <a:off x="2607840" y="2794680"/>
              <a:ext cx="267120" cy="9756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59"/>
            <p:cNvSpPr/>
            <p:nvPr/>
          </p:nvSpPr>
          <p:spPr>
            <a:xfrm rot="9697800">
              <a:off x="2488680" y="2822400"/>
              <a:ext cx="317520" cy="4968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60"/>
            <p:cNvSpPr/>
            <p:nvPr/>
          </p:nvSpPr>
          <p:spPr>
            <a:xfrm rot="9697800">
              <a:off x="2632680" y="2782800"/>
              <a:ext cx="291240" cy="13572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61"/>
            <p:cNvSpPr/>
            <p:nvPr/>
          </p:nvSpPr>
          <p:spPr>
            <a:xfrm rot="9697800">
              <a:off x="2670840" y="280944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62"/>
            <p:cNvSpPr/>
            <p:nvPr/>
          </p:nvSpPr>
          <p:spPr>
            <a:xfrm rot="9697800">
              <a:off x="2672640" y="2788200"/>
              <a:ext cx="286560" cy="151560"/>
            </a:xfrm>
            <a:custGeom>
              <a:avLst/>
              <a:gdLst>
                <a:gd name="textAreaLeft" fmla="*/ 0 w 286560"/>
                <a:gd name="textAreaRight" fmla="*/ 286920 w 28656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63"/>
            <p:cNvSpPr/>
            <p:nvPr/>
          </p:nvSpPr>
          <p:spPr>
            <a:xfrm rot="9697800">
              <a:off x="2697840" y="2792880"/>
              <a:ext cx="189360" cy="2451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64"/>
            <p:cNvSpPr/>
            <p:nvPr/>
          </p:nvSpPr>
          <p:spPr>
            <a:xfrm rot="9697800">
              <a:off x="2698200" y="2790360"/>
              <a:ext cx="219240" cy="23868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65"/>
            <p:cNvSpPr/>
            <p:nvPr/>
          </p:nvSpPr>
          <p:spPr>
            <a:xfrm rot="9697800">
              <a:off x="2671560" y="2773080"/>
              <a:ext cx="272520" cy="24984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66"/>
            <p:cNvSpPr/>
            <p:nvPr/>
          </p:nvSpPr>
          <p:spPr>
            <a:xfrm rot="9697800">
              <a:off x="2685600" y="2782440"/>
              <a:ext cx="278280" cy="22644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67"/>
            <p:cNvSpPr/>
            <p:nvPr/>
          </p:nvSpPr>
          <p:spPr>
            <a:xfrm rot="9697800">
              <a:off x="2671200" y="2779920"/>
              <a:ext cx="301680" cy="2163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68"/>
            <p:cNvSpPr/>
            <p:nvPr/>
          </p:nvSpPr>
          <p:spPr>
            <a:xfrm rot="9697800">
              <a:off x="2680920" y="2782800"/>
              <a:ext cx="292320" cy="1947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69"/>
            <p:cNvSpPr/>
            <p:nvPr/>
          </p:nvSpPr>
          <p:spPr>
            <a:xfrm rot="9697800">
              <a:off x="2658960" y="2767680"/>
              <a:ext cx="308160" cy="195480"/>
            </a:xfrm>
            <a:custGeom>
              <a:avLst/>
              <a:gdLst>
                <a:gd name="textAreaLeft" fmla="*/ 0 w 308160"/>
                <a:gd name="textAreaRight" fmla="*/ 308160 w 30816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70"/>
            <p:cNvSpPr/>
            <p:nvPr/>
          </p:nvSpPr>
          <p:spPr>
            <a:xfrm rot="9697800">
              <a:off x="2706120" y="2795760"/>
              <a:ext cx="101880" cy="2498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71"/>
            <p:cNvSpPr/>
            <p:nvPr/>
          </p:nvSpPr>
          <p:spPr>
            <a:xfrm rot="9697800">
              <a:off x="2714760" y="280656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472"/>
            <p:cNvSpPr/>
            <p:nvPr/>
          </p:nvSpPr>
          <p:spPr>
            <a:xfrm rot="9697800">
              <a:off x="2682000" y="2818800"/>
              <a:ext cx="41040" cy="222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473"/>
            <p:cNvSpPr/>
            <p:nvPr/>
          </p:nvSpPr>
          <p:spPr>
            <a:xfrm rot="9697800">
              <a:off x="2612520" y="282780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474"/>
            <p:cNvSpPr/>
            <p:nvPr/>
          </p:nvSpPr>
          <p:spPr>
            <a:xfrm rot="9697800">
              <a:off x="2558880" y="2843280"/>
              <a:ext cx="191880" cy="162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75"/>
            <p:cNvSpPr/>
            <p:nvPr/>
          </p:nvSpPr>
          <p:spPr>
            <a:xfrm rot="9697800">
              <a:off x="2518560" y="2859120"/>
              <a:ext cx="201600" cy="1317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76"/>
            <p:cNvSpPr/>
            <p:nvPr/>
          </p:nvSpPr>
          <p:spPr>
            <a:xfrm rot="9697800">
              <a:off x="2489040" y="286452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77"/>
            <p:cNvSpPr/>
            <p:nvPr/>
          </p:nvSpPr>
          <p:spPr>
            <a:xfrm rot="9697800">
              <a:off x="2461680" y="287064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78"/>
            <p:cNvSpPr/>
            <p:nvPr/>
          </p:nvSpPr>
          <p:spPr>
            <a:xfrm rot="9697800">
              <a:off x="2445480" y="287640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479"/>
            <p:cNvSpPr/>
            <p:nvPr/>
          </p:nvSpPr>
          <p:spPr>
            <a:xfrm rot="9697800">
              <a:off x="2433240" y="2875320"/>
              <a:ext cx="267120" cy="4644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480"/>
            <p:cNvSpPr/>
            <p:nvPr/>
          </p:nvSpPr>
          <p:spPr>
            <a:xfrm rot="9697800">
              <a:off x="2423880" y="2882520"/>
              <a:ext cx="253080" cy="2988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481"/>
            <p:cNvSpPr/>
            <p:nvPr/>
          </p:nvSpPr>
          <p:spPr>
            <a:xfrm rot="9697800">
              <a:off x="2425680" y="287568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482"/>
            <p:cNvSpPr/>
            <p:nvPr/>
          </p:nvSpPr>
          <p:spPr>
            <a:xfrm rot="9697800">
              <a:off x="2439000" y="286812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483"/>
            <p:cNvSpPr/>
            <p:nvPr/>
          </p:nvSpPr>
          <p:spPr>
            <a:xfrm rot="9697800">
              <a:off x="2465640" y="285696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484"/>
          <p:cNvGrpSpPr/>
          <p:nvPr/>
        </p:nvGrpSpPr>
        <p:grpSpPr>
          <a:xfrm>
            <a:off x="2741400" y="2262960"/>
            <a:ext cx="653400" cy="805320"/>
            <a:chOff x="2741400" y="2262960"/>
            <a:chExt cx="653400" cy="805320"/>
          </a:xfrm>
        </p:grpSpPr>
        <p:sp>
          <p:nvSpPr>
            <p:cNvPr id="666" name="Freeform 485"/>
            <p:cNvSpPr/>
            <p:nvPr/>
          </p:nvSpPr>
          <p:spPr>
            <a:xfrm rot="8448600">
              <a:off x="2867040" y="2303280"/>
              <a:ext cx="309960" cy="5086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508680"/>
                <a:gd name="textAreaBottom" fmla="*/ 508680 h 50868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486"/>
            <p:cNvSpPr/>
            <p:nvPr/>
          </p:nvSpPr>
          <p:spPr>
            <a:xfrm rot="8448600">
              <a:off x="2811600" y="2900160"/>
              <a:ext cx="380160" cy="165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487"/>
            <p:cNvSpPr/>
            <p:nvPr/>
          </p:nvSpPr>
          <p:spPr>
            <a:xfrm rot="8448600">
              <a:off x="3093480" y="2762640"/>
              <a:ext cx="156240" cy="2566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488"/>
            <p:cNvSpPr/>
            <p:nvPr/>
          </p:nvSpPr>
          <p:spPr>
            <a:xfrm rot="8448600">
              <a:off x="2984760" y="2785320"/>
              <a:ext cx="266760" cy="975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489"/>
            <p:cNvSpPr/>
            <p:nvPr/>
          </p:nvSpPr>
          <p:spPr>
            <a:xfrm rot="8448600">
              <a:off x="2873520" y="2845800"/>
              <a:ext cx="317160" cy="496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490"/>
            <p:cNvSpPr/>
            <p:nvPr/>
          </p:nvSpPr>
          <p:spPr>
            <a:xfrm rot="8448600">
              <a:off x="3009960" y="2759760"/>
              <a:ext cx="290880" cy="1357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491"/>
            <p:cNvSpPr/>
            <p:nvPr/>
          </p:nvSpPr>
          <p:spPr>
            <a:xfrm rot="8448600">
              <a:off x="3043800" y="2795040"/>
              <a:ext cx="171360" cy="52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492"/>
            <p:cNvSpPr/>
            <p:nvPr/>
          </p:nvSpPr>
          <p:spPr>
            <a:xfrm rot="8448600">
              <a:off x="3052080" y="2750760"/>
              <a:ext cx="286200" cy="1515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93"/>
            <p:cNvSpPr/>
            <p:nvPr/>
          </p:nvSpPr>
          <p:spPr>
            <a:xfrm rot="8448600">
              <a:off x="3097080" y="2760480"/>
              <a:ext cx="189000" cy="2451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494"/>
            <p:cNvSpPr/>
            <p:nvPr/>
          </p:nvSpPr>
          <p:spPr>
            <a:xfrm rot="8448600">
              <a:off x="3094200" y="2753280"/>
              <a:ext cx="218880" cy="2386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495"/>
            <p:cNvSpPr/>
            <p:nvPr/>
          </p:nvSpPr>
          <p:spPr>
            <a:xfrm rot="8448600">
              <a:off x="3063960" y="2736360"/>
              <a:ext cx="272160" cy="24984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496"/>
            <p:cNvSpPr/>
            <p:nvPr/>
          </p:nvSpPr>
          <p:spPr>
            <a:xfrm rot="8448600">
              <a:off x="3076200" y="2739960"/>
              <a:ext cx="277920" cy="2264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497"/>
            <p:cNvSpPr/>
            <p:nvPr/>
          </p:nvSpPr>
          <p:spPr>
            <a:xfrm rot="8448600">
              <a:off x="3058920" y="2738880"/>
              <a:ext cx="301320" cy="2163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498"/>
            <p:cNvSpPr/>
            <p:nvPr/>
          </p:nvSpPr>
          <p:spPr>
            <a:xfrm rot="8448600">
              <a:off x="3065760" y="2740680"/>
              <a:ext cx="291960" cy="194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499"/>
            <p:cNvSpPr/>
            <p:nvPr/>
          </p:nvSpPr>
          <p:spPr>
            <a:xfrm rot="8448600">
              <a:off x="3039120" y="2731680"/>
              <a:ext cx="307800" cy="1954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500"/>
            <p:cNvSpPr/>
            <p:nvPr/>
          </p:nvSpPr>
          <p:spPr>
            <a:xfrm rot="8448600">
              <a:off x="3109680" y="2775600"/>
              <a:ext cx="101880" cy="2498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501"/>
            <p:cNvSpPr/>
            <p:nvPr/>
          </p:nvSpPr>
          <p:spPr>
            <a:xfrm rot="8448600">
              <a:off x="3122280" y="2795040"/>
              <a:ext cx="35640" cy="242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502"/>
            <p:cNvSpPr/>
            <p:nvPr/>
          </p:nvSpPr>
          <p:spPr>
            <a:xfrm rot="8448600">
              <a:off x="3092400" y="2817720"/>
              <a:ext cx="41040" cy="222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503"/>
            <p:cNvSpPr/>
            <p:nvPr/>
          </p:nvSpPr>
          <p:spPr>
            <a:xfrm rot="8448600">
              <a:off x="3024720" y="2836800"/>
              <a:ext cx="123480" cy="206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504"/>
            <p:cNvSpPr/>
            <p:nvPr/>
          </p:nvSpPr>
          <p:spPr>
            <a:xfrm rot="8448600">
              <a:off x="2970360" y="2859480"/>
              <a:ext cx="191880" cy="162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05"/>
            <p:cNvSpPr/>
            <p:nvPr/>
          </p:nvSpPr>
          <p:spPr>
            <a:xfrm rot="8448600">
              <a:off x="2932920" y="2887560"/>
              <a:ext cx="201240" cy="13176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06"/>
            <p:cNvSpPr/>
            <p:nvPr/>
          </p:nvSpPr>
          <p:spPr>
            <a:xfrm rot="8448600">
              <a:off x="2900520" y="2899800"/>
              <a:ext cx="225720" cy="1036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07"/>
            <p:cNvSpPr/>
            <p:nvPr/>
          </p:nvSpPr>
          <p:spPr>
            <a:xfrm rot="8448600">
              <a:off x="2873880" y="2912400"/>
              <a:ext cx="244440" cy="8604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508"/>
            <p:cNvSpPr/>
            <p:nvPr/>
          </p:nvSpPr>
          <p:spPr>
            <a:xfrm rot="8448600">
              <a:off x="2856240" y="2923200"/>
              <a:ext cx="250920" cy="626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509"/>
            <p:cNvSpPr/>
            <p:nvPr/>
          </p:nvSpPr>
          <p:spPr>
            <a:xfrm rot="8448600">
              <a:off x="2841480" y="2923920"/>
              <a:ext cx="266760" cy="46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510"/>
            <p:cNvSpPr/>
            <p:nvPr/>
          </p:nvSpPr>
          <p:spPr>
            <a:xfrm rot="8448600">
              <a:off x="2832840" y="2937960"/>
              <a:ext cx="252720" cy="2988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511"/>
            <p:cNvSpPr/>
            <p:nvPr/>
          </p:nvSpPr>
          <p:spPr>
            <a:xfrm rot="8448600">
              <a:off x="2826000" y="2926080"/>
              <a:ext cx="283680" cy="540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512"/>
            <p:cNvSpPr/>
            <p:nvPr/>
          </p:nvSpPr>
          <p:spPr>
            <a:xfrm rot="8448600">
              <a:off x="2837160" y="2918880"/>
              <a:ext cx="255600" cy="5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13"/>
            <p:cNvSpPr/>
            <p:nvPr/>
          </p:nvSpPr>
          <p:spPr>
            <a:xfrm rot="8448600">
              <a:off x="2860560" y="2905920"/>
              <a:ext cx="217080" cy="13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514"/>
          <p:cNvGrpSpPr/>
          <p:nvPr/>
        </p:nvGrpSpPr>
        <p:grpSpPr>
          <a:xfrm>
            <a:off x="3125520" y="2103840"/>
            <a:ext cx="419760" cy="406080"/>
            <a:chOff x="3125520" y="2103840"/>
            <a:chExt cx="419760" cy="406080"/>
          </a:xfrm>
        </p:grpSpPr>
        <p:sp>
          <p:nvSpPr>
            <p:cNvPr id="696" name="Freeform 515"/>
            <p:cNvSpPr/>
            <p:nvPr/>
          </p:nvSpPr>
          <p:spPr>
            <a:xfrm rot="5697600">
              <a:off x="3173760" y="2075400"/>
              <a:ext cx="203760" cy="2840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516"/>
            <p:cNvSpPr/>
            <p:nvPr/>
          </p:nvSpPr>
          <p:spPr>
            <a:xfrm rot="5697600">
              <a:off x="3281760" y="2380320"/>
              <a:ext cx="249840" cy="936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517"/>
            <p:cNvSpPr/>
            <p:nvPr/>
          </p:nvSpPr>
          <p:spPr>
            <a:xfrm rot="5697600">
              <a:off x="3415320" y="222408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518"/>
            <p:cNvSpPr/>
            <p:nvPr/>
          </p:nvSpPr>
          <p:spPr>
            <a:xfrm rot="5697600">
              <a:off x="3335400" y="2268720"/>
              <a:ext cx="175320" cy="543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19"/>
            <p:cNvSpPr/>
            <p:nvPr/>
          </p:nvSpPr>
          <p:spPr>
            <a:xfrm rot="5697600">
              <a:off x="3299760" y="2339640"/>
              <a:ext cx="208440" cy="277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520"/>
            <p:cNvSpPr/>
            <p:nvPr/>
          </p:nvSpPr>
          <p:spPr>
            <a:xfrm rot="5697600">
              <a:off x="3339360" y="223776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521"/>
            <p:cNvSpPr/>
            <p:nvPr/>
          </p:nvSpPr>
          <p:spPr>
            <a:xfrm rot="5697600">
              <a:off x="3366720" y="227016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522"/>
            <p:cNvSpPr/>
            <p:nvPr/>
          </p:nvSpPr>
          <p:spPr>
            <a:xfrm rot="5697600">
              <a:off x="3356640" y="2213640"/>
              <a:ext cx="188280" cy="84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523"/>
            <p:cNvSpPr/>
            <p:nvPr/>
          </p:nvSpPr>
          <p:spPr>
            <a:xfrm rot="5697600">
              <a:off x="3409560" y="2214720"/>
              <a:ext cx="124200" cy="13680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524"/>
            <p:cNvSpPr/>
            <p:nvPr/>
          </p:nvSpPr>
          <p:spPr>
            <a:xfrm rot="5697600">
              <a:off x="3400200" y="2206080"/>
              <a:ext cx="144000" cy="1332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525"/>
            <p:cNvSpPr/>
            <p:nvPr/>
          </p:nvSpPr>
          <p:spPr>
            <a:xfrm rot="5697600">
              <a:off x="3376440" y="219960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526"/>
            <p:cNvSpPr/>
            <p:nvPr/>
          </p:nvSpPr>
          <p:spPr>
            <a:xfrm rot="5697600">
              <a:off x="3377520" y="2195280"/>
              <a:ext cx="182520" cy="126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527"/>
            <p:cNvSpPr/>
            <p:nvPr/>
          </p:nvSpPr>
          <p:spPr>
            <a:xfrm rot="5697600">
              <a:off x="3365280" y="219780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28"/>
            <p:cNvSpPr/>
            <p:nvPr/>
          </p:nvSpPr>
          <p:spPr>
            <a:xfrm rot="5697600">
              <a:off x="3365640" y="219888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29"/>
            <p:cNvSpPr/>
            <p:nvPr/>
          </p:nvSpPr>
          <p:spPr>
            <a:xfrm rot="5697600">
              <a:off x="3349800" y="2203560"/>
              <a:ext cx="202320" cy="10908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30"/>
            <p:cNvSpPr/>
            <p:nvPr/>
          </p:nvSpPr>
          <p:spPr>
            <a:xfrm rot="5697600">
              <a:off x="3432600" y="223560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31"/>
            <p:cNvSpPr/>
            <p:nvPr/>
          </p:nvSpPr>
          <p:spPr>
            <a:xfrm rot="5697600">
              <a:off x="3452400" y="225504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32"/>
            <p:cNvSpPr/>
            <p:nvPr/>
          </p:nvSpPr>
          <p:spPr>
            <a:xfrm rot="5697600">
              <a:off x="3444840" y="227916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33"/>
            <p:cNvSpPr/>
            <p:nvPr/>
          </p:nvSpPr>
          <p:spPr>
            <a:xfrm rot="5697600">
              <a:off x="3411720" y="230112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34"/>
            <p:cNvSpPr/>
            <p:nvPr/>
          </p:nvSpPr>
          <p:spPr>
            <a:xfrm rot="5697600">
              <a:off x="3381840" y="2323440"/>
              <a:ext cx="126000" cy="90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535"/>
            <p:cNvSpPr/>
            <p:nvPr/>
          </p:nvSpPr>
          <p:spPr>
            <a:xfrm rot="5697600">
              <a:off x="3371040" y="235368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536"/>
            <p:cNvSpPr/>
            <p:nvPr/>
          </p:nvSpPr>
          <p:spPr>
            <a:xfrm rot="5697600">
              <a:off x="3353760" y="2369880"/>
              <a:ext cx="148320" cy="5796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37"/>
            <p:cNvSpPr/>
            <p:nvPr/>
          </p:nvSpPr>
          <p:spPr>
            <a:xfrm rot="5697600">
              <a:off x="3342600" y="2385000"/>
              <a:ext cx="160560" cy="478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38"/>
            <p:cNvSpPr/>
            <p:nvPr/>
          </p:nvSpPr>
          <p:spPr>
            <a:xfrm rot="5697600">
              <a:off x="3334320" y="2398320"/>
              <a:ext cx="164880" cy="349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39"/>
            <p:cNvSpPr/>
            <p:nvPr/>
          </p:nvSpPr>
          <p:spPr>
            <a:xfrm rot="5697600">
              <a:off x="3323520" y="2402280"/>
              <a:ext cx="175320" cy="259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40"/>
            <p:cNvSpPr/>
            <p:nvPr/>
          </p:nvSpPr>
          <p:spPr>
            <a:xfrm rot="5697600">
              <a:off x="3323880" y="241668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41"/>
            <p:cNvSpPr/>
            <p:nvPr/>
          </p:nvSpPr>
          <p:spPr>
            <a:xfrm rot="5697600">
              <a:off x="3307680" y="2408760"/>
              <a:ext cx="186480" cy="288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42"/>
            <p:cNvSpPr/>
            <p:nvPr/>
          </p:nvSpPr>
          <p:spPr>
            <a:xfrm rot="5697600">
              <a:off x="3313440" y="240696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543"/>
            <p:cNvSpPr/>
            <p:nvPr/>
          </p:nvSpPr>
          <p:spPr>
            <a:xfrm rot="5697600">
              <a:off x="3324240" y="239868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544"/>
          <p:cNvGrpSpPr/>
          <p:nvPr/>
        </p:nvGrpSpPr>
        <p:grpSpPr>
          <a:xfrm>
            <a:off x="3133440" y="1809360"/>
            <a:ext cx="473760" cy="359640"/>
            <a:chOff x="3133440" y="1809360"/>
            <a:chExt cx="473760" cy="359640"/>
          </a:xfrm>
        </p:grpSpPr>
        <p:sp>
          <p:nvSpPr>
            <p:cNvPr id="726" name="Freeform 545"/>
            <p:cNvSpPr/>
            <p:nvPr/>
          </p:nvSpPr>
          <p:spPr>
            <a:xfrm rot="3458400">
              <a:off x="3205800" y="1864800"/>
              <a:ext cx="203760" cy="2840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546"/>
            <p:cNvSpPr/>
            <p:nvPr/>
          </p:nvSpPr>
          <p:spPr>
            <a:xfrm rot="3458400">
              <a:off x="3388320" y="2056320"/>
              <a:ext cx="249840" cy="936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547"/>
            <p:cNvSpPr/>
            <p:nvPr/>
          </p:nvSpPr>
          <p:spPr>
            <a:xfrm rot="3458400">
              <a:off x="3455640" y="188172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548"/>
            <p:cNvSpPr/>
            <p:nvPr/>
          </p:nvSpPr>
          <p:spPr>
            <a:xfrm rot="3458400">
              <a:off x="3385080" y="1952640"/>
              <a:ext cx="175320" cy="543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549"/>
            <p:cNvSpPr/>
            <p:nvPr/>
          </p:nvSpPr>
          <p:spPr>
            <a:xfrm rot="3458400">
              <a:off x="3387600" y="2023560"/>
              <a:ext cx="208440" cy="277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50"/>
            <p:cNvSpPr/>
            <p:nvPr/>
          </p:nvSpPr>
          <p:spPr>
            <a:xfrm rot="3458400">
              <a:off x="3373920" y="191844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551"/>
            <p:cNvSpPr/>
            <p:nvPr/>
          </p:nvSpPr>
          <p:spPr>
            <a:xfrm rot="3458400">
              <a:off x="3409200" y="195660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52"/>
            <p:cNvSpPr/>
            <p:nvPr/>
          </p:nvSpPr>
          <p:spPr>
            <a:xfrm rot="3458400">
              <a:off x="3376440" y="1889280"/>
              <a:ext cx="188280" cy="84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553"/>
            <p:cNvSpPr/>
            <p:nvPr/>
          </p:nvSpPr>
          <p:spPr>
            <a:xfrm rot="3458400">
              <a:off x="3441240" y="1872360"/>
              <a:ext cx="124200" cy="13680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554"/>
            <p:cNvSpPr/>
            <p:nvPr/>
          </p:nvSpPr>
          <p:spPr>
            <a:xfrm rot="3458400">
              <a:off x="3425400" y="1864800"/>
              <a:ext cx="144000" cy="1332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555"/>
            <p:cNvSpPr/>
            <p:nvPr/>
          </p:nvSpPr>
          <p:spPr>
            <a:xfrm rot="3458400">
              <a:off x="3400920" y="186300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556"/>
            <p:cNvSpPr/>
            <p:nvPr/>
          </p:nvSpPr>
          <p:spPr>
            <a:xfrm rot="3458400">
              <a:off x="3394800" y="1859040"/>
              <a:ext cx="182520" cy="126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57"/>
            <p:cNvSpPr/>
            <p:nvPr/>
          </p:nvSpPr>
          <p:spPr>
            <a:xfrm rot="3458400">
              <a:off x="3383280" y="186480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558"/>
            <p:cNvSpPr/>
            <p:nvPr/>
          </p:nvSpPr>
          <p:spPr>
            <a:xfrm rot="3458400">
              <a:off x="3381120" y="186804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59"/>
            <p:cNvSpPr/>
            <p:nvPr/>
          </p:nvSpPr>
          <p:spPr>
            <a:xfrm rot="3458400">
              <a:off x="3370680" y="1878480"/>
              <a:ext cx="202320" cy="10908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60"/>
            <p:cNvSpPr/>
            <p:nvPr/>
          </p:nvSpPr>
          <p:spPr>
            <a:xfrm rot="3458400">
              <a:off x="3479040" y="189180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61"/>
            <p:cNvSpPr/>
            <p:nvPr/>
          </p:nvSpPr>
          <p:spPr>
            <a:xfrm rot="3458400">
              <a:off x="3509640" y="190908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62"/>
            <p:cNvSpPr/>
            <p:nvPr/>
          </p:nvSpPr>
          <p:spPr>
            <a:xfrm rot="3458400">
              <a:off x="3514680" y="193248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63"/>
            <p:cNvSpPr/>
            <p:nvPr/>
          </p:nvSpPr>
          <p:spPr>
            <a:xfrm rot="3458400">
              <a:off x="3493080" y="195444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564"/>
            <p:cNvSpPr/>
            <p:nvPr/>
          </p:nvSpPr>
          <p:spPr>
            <a:xfrm rot="3458400">
              <a:off x="3471120" y="1979640"/>
              <a:ext cx="126000" cy="90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565"/>
            <p:cNvSpPr/>
            <p:nvPr/>
          </p:nvSpPr>
          <p:spPr>
            <a:xfrm rot="3458400">
              <a:off x="3474720" y="201024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66"/>
            <p:cNvSpPr/>
            <p:nvPr/>
          </p:nvSpPr>
          <p:spPr>
            <a:xfrm rot="3458400">
              <a:off x="3464640" y="2030040"/>
              <a:ext cx="148320" cy="5796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567"/>
            <p:cNvSpPr/>
            <p:nvPr/>
          </p:nvSpPr>
          <p:spPr>
            <a:xfrm rot="3458400">
              <a:off x="3460680" y="2046240"/>
              <a:ext cx="160560" cy="478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68"/>
            <p:cNvSpPr/>
            <p:nvPr/>
          </p:nvSpPr>
          <p:spPr>
            <a:xfrm rot="3458400">
              <a:off x="3457440" y="2061360"/>
              <a:ext cx="164880" cy="349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69"/>
            <p:cNvSpPr/>
            <p:nvPr/>
          </p:nvSpPr>
          <p:spPr>
            <a:xfrm rot="3458400">
              <a:off x="3447720" y="2068920"/>
              <a:ext cx="175320" cy="259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570"/>
            <p:cNvSpPr/>
            <p:nvPr/>
          </p:nvSpPr>
          <p:spPr>
            <a:xfrm rot="3458400">
              <a:off x="3454920" y="208440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571"/>
            <p:cNvSpPr/>
            <p:nvPr/>
          </p:nvSpPr>
          <p:spPr>
            <a:xfrm rot="3458400">
              <a:off x="3431160" y="2082600"/>
              <a:ext cx="186480" cy="288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572"/>
            <p:cNvSpPr/>
            <p:nvPr/>
          </p:nvSpPr>
          <p:spPr>
            <a:xfrm rot="3458400">
              <a:off x="3436560" y="208368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573"/>
            <p:cNvSpPr/>
            <p:nvPr/>
          </p:nvSpPr>
          <p:spPr>
            <a:xfrm rot="3458400">
              <a:off x="3444120" y="207792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Group 574"/>
          <p:cNvGrpSpPr/>
          <p:nvPr/>
        </p:nvGrpSpPr>
        <p:grpSpPr>
          <a:xfrm>
            <a:off x="3110400" y="1559880"/>
            <a:ext cx="473400" cy="434520"/>
            <a:chOff x="3110400" y="1559880"/>
            <a:chExt cx="473400" cy="434520"/>
          </a:xfrm>
        </p:grpSpPr>
        <p:sp>
          <p:nvSpPr>
            <p:cNvPr id="756" name="Freeform 575"/>
            <p:cNvSpPr/>
            <p:nvPr/>
          </p:nvSpPr>
          <p:spPr>
            <a:xfrm rot="1564200">
              <a:off x="3162240" y="1680120"/>
              <a:ext cx="203760" cy="2840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576"/>
            <p:cNvSpPr/>
            <p:nvPr/>
          </p:nvSpPr>
          <p:spPr>
            <a:xfrm rot="1564200">
              <a:off x="3342960" y="1755720"/>
              <a:ext cx="249840" cy="936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577"/>
            <p:cNvSpPr/>
            <p:nvPr/>
          </p:nvSpPr>
          <p:spPr>
            <a:xfrm rot="1564200">
              <a:off x="3355200" y="160056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578"/>
            <p:cNvSpPr/>
            <p:nvPr/>
          </p:nvSpPr>
          <p:spPr>
            <a:xfrm rot="1564200">
              <a:off x="3303360" y="1685520"/>
              <a:ext cx="175320" cy="543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579"/>
            <p:cNvSpPr/>
            <p:nvPr/>
          </p:nvSpPr>
          <p:spPr>
            <a:xfrm rot="1564200">
              <a:off x="3333240" y="1737720"/>
              <a:ext cx="208440" cy="277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580"/>
            <p:cNvSpPr/>
            <p:nvPr/>
          </p:nvSpPr>
          <p:spPr>
            <a:xfrm rot="1564200">
              <a:off x="3280320" y="165600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581"/>
            <p:cNvSpPr/>
            <p:nvPr/>
          </p:nvSpPr>
          <p:spPr>
            <a:xfrm rot="1564200">
              <a:off x="3323880" y="169452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582"/>
            <p:cNvSpPr/>
            <p:nvPr/>
          </p:nvSpPr>
          <p:spPr>
            <a:xfrm rot="1564200">
              <a:off x="3269160" y="1630080"/>
              <a:ext cx="188280" cy="84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583"/>
            <p:cNvSpPr/>
            <p:nvPr/>
          </p:nvSpPr>
          <p:spPr>
            <a:xfrm rot="1564200">
              <a:off x="3333960" y="1594800"/>
              <a:ext cx="124200" cy="13680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584"/>
            <p:cNvSpPr/>
            <p:nvPr/>
          </p:nvSpPr>
          <p:spPr>
            <a:xfrm rot="1564200">
              <a:off x="3314880" y="1591920"/>
              <a:ext cx="144000" cy="1332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585"/>
            <p:cNvSpPr/>
            <p:nvPr/>
          </p:nvSpPr>
          <p:spPr>
            <a:xfrm rot="1564200">
              <a:off x="3291840" y="159336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586"/>
            <p:cNvSpPr/>
            <p:nvPr/>
          </p:nvSpPr>
          <p:spPr>
            <a:xfrm rot="1564200">
              <a:off x="3281040" y="1593360"/>
              <a:ext cx="182520" cy="126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587"/>
            <p:cNvSpPr/>
            <p:nvPr/>
          </p:nvSpPr>
          <p:spPr>
            <a:xfrm rot="1564200">
              <a:off x="3271320" y="160020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588"/>
            <p:cNvSpPr/>
            <p:nvPr/>
          </p:nvSpPr>
          <p:spPr>
            <a:xfrm rot="1564200">
              <a:off x="3268440" y="160704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589"/>
            <p:cNvSpPr/>
            <p:nvPr/>
          </p:nvSpPr>
          <p:spPr>
            <a:xfrm rot="1564200">
              <a:off x="3264120" y="1618920"/>
              <a:ext cx="202320" cy="10908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590"/>
            <p:cNvSpPr/>
            <p:nvPr/>
          </p:nvSpPr>
          <p:spPr>
            <a:xfrm rot="1564200">
              <a:off x="3381840" y="160632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591"/>
            <p:cNvSpPr/>
            <p:nvPr/>
          </p:nvSpPr>
          <p:spPr>
            <a:xfrm rot="1564200">
              <a:off x="3418920" y="161676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592"/>
            <p:cNvSpPr/>
            <p:nvPr/>
          </p:nvSpPr>
          <p:spPr>
            <a:xfrm rot="1564200">
              <a:off x="3432240" y="163368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593"/>
            <p:cNvSpPr/>
            <p:nvPr/>
          </p:nvSpPr>
          <p:spPr>
            <a:xfrm rot="1564200">
              <a:off x="3419280" y="165060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594"/>
            <p:cNvSpPr/>
            <p:nvPr/>
          </p:nvSpPr>
          <p:spPr>
            <a:xfrm rot="1564200">
              <a:off x="3403440" y="1673640"/>
              <a:ext cx="126000" cy="90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95"/>
            <p:cNvSpPr/>
            <p:nvPr/>
          </p:nvSpPr>
          <p:spPr>
            <a:xfrm rot="1564200">
              <a:off x="3417840" y="169740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596"/>
            <p:cNvSpPr/>
            <p:nvPr/>
          </p:nvSpPr>
          <p:spPr>
            <a:xfrm rot="1564200">
              <a:off x="3414240" y="1716480"/>
              <a:ext cx="148320" cy="5796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597"/>
            <p:cNvSpPr/>
            <p:nvPr/>
          </p:nvSpPr>
          <p:spPr>
            <a:xfrm rot="1564200">
              <a:off x="3415680" y="1729800"/>
              <a:ext cx="160560" cy="478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598"/>
            <p:cNvSpPr/>
            <p:nvPr/>
          </p:nvSpPr>
          <p:spPr>
            <a:xfrm rot="1564200">
              <a:off x="3417480" y="1744200"/>
              <a:ext cx="164880" cy="349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599"/>
            <p:cNvSpPr/>
            <p:nvPr/>
          </p:nvSpPr>
          <p:spPr>
            <a:xfrm rot="1564200">
              <a:off x="3409920" y="1753920"/>
              <a:ext cx="175320" cy="259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600"/>
            <p:cNvSpPr/>
            <p:nvPr/>
          </p:nvSpPr>
          <p:spPr>
            <a:xfrm rot="1564200">
              <a:off x="3422520" y="176580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01"/>
            <p:cNvSpPr/>
            <p:nvPr/>
          </p:nvSpPr>
          <p:spPr>
            <a:xfrm rot="1564200">
              <a:off x="3395880" y="1773000"/>
              <a:ext cx="186480" cy="288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02"/>
            <p:cNvSpPr/>
            <p:nvPr/>
          </p:nvSpPr>
          <p:spPr>
            <a:xfrm rot="1564200">
              <a:off x="3402360" y="177588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603"/>
            <p:cNvSpPr/>
            <p:nvPr/>
          </p:nvSpPr>
          <p:spPr>
            <a:xfrm rot="1564200">
              <a:off x="3408840" y="177300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Group 604"/>
          <p:cNvGrpSpPr/>
          <p:nvPr/>
        </p:nvGrpSpPr>
        <p:grpSpPr>
          <a:xfrm>
            <a:off x="3018960" y="1406880"/>
            <a:ext cx="381600" cy="425880"/>
            <a:chOff x="3018960" y="1406880"/>
            <a:chExt cx="381600" cy="425880"/>
          </a:xfrm>
        </p:grpSpPr>
        <p:sp>
          <p:nvSpPr>
            <p:cNvPr id="786" name="Freeform 605"/>
            <p:cNvSpPr/>
            <p:nvPr/>
          </p:nvSpPr>
          <p:spPr>
            <a:xfrm rot="21344400">
              <a:off x="3029040" y="1541160"/>
              <a:ext cx="203400" cy="284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06"/>
            <p:cNvSpPr/>
            <p:nvPr/>
          </p:nvSpPr>
          <p:spPr>
            <a:xfrm rot="21344400">
              <a:off x="3151080" y="1523160"/>
              <a:ext cx="249480" cy="93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607"/>
            <p:cNvSpPr/>
            <p:nvPr/>
          </p:nvSpPr>
          <p:spPr>
            <a:xfrm rot="21344400">
              <a:off x="3126600" y="141048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08"/>
            <p:cNvSpPr/>
            <p:nvPr/>
          </p:nvSpPr>
          <p:spPr>
            <a:xfrm rot="21344400">
              <a:off x="3097080" y="1497960"/>
              <a:ext cx="174960" cy="54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09"/>
            <p:cNvSpPr/>
            <p:nvPr/>
          </p:nvSpPr>
          <p:spPr>
            <a:xfrm rot="21344400">
              <a:off x="3141000" y="1521720"/>
              <a:ext cx="208080" cy="277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610"/>
            <p:cNvSpPr/>
            <p:nvPr/>
          </p:nvSpPr>
          <p:spPr>
            <a:xfrm rot="21344400">
              <a:off x="3067200" y="147852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11"/>
            <p:cNvSpPr/>
            <p:nvPr/>
          </p:nvSpPr>
          <p:spPr>
            <a:xfrm rot="21344400">
              <a:off x="3117600" y="151344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12"/>
            <p:cNvSpPr/>
            <p:nvPr/>
          </p:nvSpPr>
          <p:spPr>
            <a:xfrm rot="21344400">
              <a:off x="3047400" y="1461960"/>
              <a:ext cx="187920" cy="8460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613"/>
            <p:cNvSpPr/>
            <p:nvPr/>
          </p:nvSpPr>
          <p:spPr>
            <a:xfrm rot="21344400">
              <a:off x="3102120" y="1411200"/>
              <a:ext cx="124200" cy="13716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614"/>
            <p:cNvSpPr/>
            <p:nvPr/>
          </p:nvSpPr>
          <p:spPr>
            <a:xfrm rot="21344400">
              <a:off x="3082320" y="1413720"/>
              <a:ext cx="143640" cy="1332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15"/>
            <p:cNvSpPr/>
            <p:nvPr/>
          </p:nvSpPr>
          <p:spPr>
            <a:xfrm rot="21344400">
              <a:off x="3062520" y="141696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616"/>
            <p:cNvSpPr/>
            <p:nvPr/>
          </p:nvSpPr>
          <p:spPr>
            <a:xfrm rot="21344400">
              <a:off x="3049560" y="1422720"/>
              <a:ext cx="182520" cy="1267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617"/>
            <p:cNvSpPr/>
            <p:nvPr/>
          </p:nvSpPr>
          <p:spPr>
            <a:xfrm rot="21344400">
              <a:off x="3042000" y="143028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18"/>
            <p:cNvSpPr/>
            <p:nvPr/>
          </p:nvSpPr>
          <p:spPr>
            <a:xfrm rot="21344400">
              <a:off x="3040560" y="144000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619"/>
            <p:cNvSpPr/>
            <p:nvPr/>
          </p:nvSpPr>
          <p:spPr>
            <a:xfrm rot="21344400">
              <a:off x="3042000" y="1449000"/>
              <a:ext cx="201960" cy="10908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20"/>
            <p:cNvSpPr/>
            <p:nvPr/>
          </p:nvSpPr>
          <p:spPr>
            <a:xfrm rot="21344400">
              <a:off x="3154320" y="141120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621"/>
            <p:cNvSpPr/>
            <p:nvPr/>
          </p:nvSpPr>
          <p:spPr>
            <a:xfrm rot="21344400">
              <a:off x="3193200" y="141300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22"/>
            <p:cNvSpPr/>
            <p:nvPr/>
          </p:nvSpPr>
          <p:spPr>
            <a:xfrm rot="21344400">
              <a:off x="3210480" y="142056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623"/>
            <p:cNvSpPr/>
            <p:nvPr/>
          </p:nvSpPr>
          <p:spPr>
            <a:xfrm rot="21344400">
              <a:off x="3201480" y="142884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624"/>
            <p:cNvSpPr/>
            <p:nvPr/>
          </p:nvSpPr>
          <p:spPr>
            <a:xfrm rot="21344400">
              <a:off x="3189960" y="1446840"/>
              <a:ext cx="126000" cy="9108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25"/>
            <p:cNvSpPr/>
            <p:nvPr/>
          </p:nvSpPr>
          <p:spPr>
            <a:xfrm rot="21344400">
              <a:off x="3209760" y="146016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626"/>
            <p:cNvSpPr/>
            <p:nvPr/>
          </p:nvSpPr>
          <p:spPr>
            <a:xfrm rot="21344400">
              <a:off x="3211560" y="1474920"/>
              <a:ext cx="147960" cy="5796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27"/>
            <p:cNvSpPr/>
            <p:nvPr/>
          </p:nvSpPr>
          <p:spPr>
            <a:xfrm rot="21344400">
              <a:off x="3216240" y="1483560"/>
              <a:ext cx="160200" cy="478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28"/>
            <p:cNvSpPr/>
            <p:nvPr/>
          </p:nvSpPr>
          <p:spPr>
            <a:xfrm rot="21344400">
              <a:off x="3221280" y="1494720"/>
              <a:ext cx="164520" cy="3492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629"/>
            <p:cNvSpPr/>
            <p:nvPr/>
          </p:nvSpPr>
          <p:spPr>
            <a:xfrm rot="21344400">
              <a:off x="3217320" y="1504800"/>
              <a:ext cx="174960" cy="259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30"/>
            <p:cNvSpPr/>
            <p:nvPr/>
          </p:nvSpPr>
          <p:spPr>
            <a:xfrm rot="21344400">
              <a:off x="3232080" y="151200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31"/>
            <p:cNvSpPr/>
            <p:nvPr/>
          </p:nvSpPr>
          <p:spPr>
            <a:xfrm rot="21344400">
              <a:off x="3208320" y="1527120"/>
              <a:ext cx="186120" cy="288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632"/>
            <p:cNvSpPr/>
            <p:nvPr/>
          </p:nvSpPr>
          <p:spPr>
            <a:xfrm rot="21344400">
              <a:off x="3216240" y="153144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33"/>
            <p:cNvSpPr/>
            <p:nvPr/>
          </p:nvSpPr>
          <p:spPr>
            <a:xfrm rot="21344400">
              <a:off x="3223080" y="153216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Group 634"/>
          <p:cNvGrpSpPr/>
          <p:nvPr/>
        </p:nvGrpSpPr>
        <p:grpSpPr>
          <a:xfrm>
            <a:off x="2754000" y="1324800"/>
            <a:ext cx="361440" cy="471600"/>
            <a:chOff x="2754000" y="1324800"/>
            <a:chExt cx="361440" cy="471600"/>
          </a:xfrm>
        </p:grpSpPr>
        <p:sp>
          <p:nvSpPr>
            <p:cNvPr id="816" name="Freeform 635"/>
            <p:cNvSpPr/>
            <p:nvPr/>
          </p:nvSpPr>
          <p:spPr>
            <a:xfrm rot="19729200">
              <a:off x="2846160" y="1479960"/>
              <a:ext cx="203400" cy="284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636"/>
            <p:cNvSpPr/>
            <p:nvPr/>
          </p:nvSpPr>
          <p:spPr>
            <a:xfrm rot="19729200">
              <a:off x="2881440" y="1412640"/>
              <a:ext cx="249480" cy="93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37"/>
            <p:cNvSpPr/>
            <p:nvPr/>
          </p:nvSpPr>
          <p:spPr>
            <a:xfrm rot="19729200">
              <a:off x="2847600" y="135000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638"/>
            <p:cNvSpPr/>
            <p:nvPr/>
          </p:nvSpPr>
          <p:spPr>
            <a:xfrm rot="19729200">
              <a:off x="2836440" y="1429920"/>
              <a:ext cx="174960" cy="54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639"/>
            <p:cNvSpPr/>
            <p:nvPr/>
          </p:nvSpPr>
          <p:spPr>
            <a:xfrm rot="19729200">
              <a:off x="2878560" y="1424520"/>
              <a:ext cx="208080" cy="277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640"/>
            <p:cNvSpPr/>
            <p:nvPr/>
          </p:nvSpPr>
          <p:spPr>
            <a:xfrm rot="19729200">
              <a:off x="2805480" y="142128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641"/>
            <p:cNvSpPr/>
            <p:nvPr/>
          </p:nvSpPr>
          <p:spPr>
            <a:xfrm rot="19729200">
              <a:off x="2859480" y="144900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642"/>
            <p:cNvSpPr/>
            <p:nvPr/>
          </p:nvSpPr>
          <p:spPr>
            <a:xfrm rot="19729200">
              <a:off x="2782080" y="1415520"/>
              <a:ext cx="187920" cy="8460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643"/>
            <p:cNvSpPr/>
            <p:nvPr/>
          </p:nvSpPr>
          <p:spPr>
            <a:xfrm rot="19729200">
              <a:off x="2823480" y="1357200"/>
              <a:ext cx="124200" cy="13680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644"/>
            <p:cNvSpPr/>
            <p:nvPr/>
          </p:nvSpPr>
          <p:spPr>
            <a:xfrm rot="19729200">
              <a:off x="2804400" y="1364040"/>
              <a:ext cx="143640" cy="1332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645"/>
            <p:cNvSpPr/>
            <p:nvPr/>
          </p:nvSpPr>
          <p:spPr>
            <a:xfrm rot="19729200">
              <a:off x="2788200" y="136800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646"/>
            <p:cNvSpPr/>
            <p:nvPr/>
          </p:nvSpPr>
          <p:spPr>
            <a:xfrm rot="19729200">
              <a:off x="2775960" y="1378440"/>
              <a:ext cx="182520" cy="126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647"/>
            <p:cNvSpPr/>
            <p:nvPr/>
          </p:nvSpPr>
          <p:spPr>
            <a:xfrm rot="19729200">
              <a:off x="2770560" y="138528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648"/>
            <p:cNvSpPr/>
            <p:nvPr/>
          </p:nvSpPr>
          <p:spPr>
            <a:xfrm rot="19729200">
              <a:off x="2771280" y="139680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49"/>
            <p:cNvSpPr/>
            <p:nvPr/>
          </p:nvSpPr>
          <p:spPr>
            <a:xfrm rot="19729200">
              <a:off x="2776320" y="1401840"/>
              <a:ext cx="201960" cy="10908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650"/>
            <p:cNvSpPr/>
            <p:nvPr/>
          </p:nvSpPr>
          <p:spPr>
            <a:xfrm rot="19729200">
              <a:off x="2873520" y="134604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651"/>
            <p:cNvSpPr/>
            <p:nvPr/>
          </p:nvSpPr>
          <p:spPr>
            <a:xfrm rot="19729200">
              <a:off x="2910240" y="134028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52"/>
            <p:cNvSpPr/>
            <p:nvPr/>
          </p:nvSpPr>
          <p:spPr>
            <a:xfrm rot="19729200">
              <a:off x="2927160" y="133920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653"/>
            <p:cNvSpPr/>
            <p:nvPr/>
          </p:nvSpPr>
          <p:spPr>
            <a:xfrm rot="19729200">
              <a:off x="2917440" y="133848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654"/>
            <p:cNvSpPr/>
            <p:nvPr/>
          </p:nvSpPr>
          <p:spPr>
            <a:xfrm rot="19729200">
              <a:off x="2907000" y="1351080"/>
              <a:ext cx="126000" cy="90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55"/>
            <p:cNvSpPr/>
            <p:nvPr/>
          </p:nvSpPr>
          <p:spPr>
            <a:xfrm rot="19729200">
              <a:off x="2926440" y="135360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656"/>
            <p:cNvSpPr/>
            <p:nvPr/>
          </p:nvSpPr>
          <p:spPr>
            <a:xfrm rot="19729200">
              <a:off x="2930400" y="1362960"/>
              <a:ext cx="147960" cy="5796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657"/>
            <p:cNvSpPr/>
            <p:nvPr/>
          </p:nvSpPr>
          <p:spPr>
            <a:xfrm rot="19729200">
              <a:off x="2935800" y="1366560"/>
              <a:ext cx="160200" cy="478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658"/>
            <p:cNvSpPr/>
            <p:nvPr/>
          </p:nvSpPr>
          <p:spPr>
            <a:xfrm rot="19729200">
              <a:off x="2942280" y="1374120"/>
              <a:ext cx="164520" cy="3492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659"/>
            <p:cNvSpPr/>
            <p:nvPr/>
          </p:nvSpPr>
          <p:spPr>
            <a:xfrm rot="19729200">
              <a:off x="2940480" y="1382760"/>
              <a:ext cx="174960" cy="259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660"/>
            <p:cNvSpPr/>
            <p:nvPr/>
          </p:nvSpPr>
          <p:spPr>
            <a:xfrm rot="19729200">
              <a:off x="2955240" y="138528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661"/>
            <p:cNvSpPr/>
            <p:nvPr/>
          </p:nvSpPr>
          <p:spPr>
            <a:xfrm rot="19729200">
              <a:off x="2936520" y="1405440"/>
              <a:ext cx="186120" cy="288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662"/>
            <p:cNvSpPr/>
            <p:nvPr/>
          </p:nvSpPr>
          <p:spPr>
            <a:xfrm rot="19729200">
              <a:off x="2946960" y="140940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663"/>
            <p:cNvSpPr/>
            <p:nvPr/>
          </p:nvSpPr>
          <p:spPr>
            <a:xfrm rot="19729200">
              <a:off x="2955240" y="141228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664"/>
          <p:cNvGrpSpPr/>
          <p:nvPr/>
        </p:nvGrpSpPr>
        <p:grpSpPr>
          <a:xfrm>
            <a:off x="2523600" y="1317240"/>
            <a:ext cx="420120" cy="486360"/>
            <a:chOff x="2523600" y="1317240"/>
            <a:chExt cx="420120" cy="486360"/>
          </a:xfrm>
        </p:grpSpPr>
        <p:sp>
          <p:nvSpPr>
            <p:cNvPr id="846" name="Freeform 665"/>
            <p:cNvSpPr/>
            <p:nvPr/>
          </p:nvSpPr>
          <p:spPr>
            <a:xfrm rot="18477600">
              <a:off x="2667240" y="1494000"/>
              <a:ext cx="203400" cy="284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666"/>
            <p:cNvSpPr/>
            <p:nvPr/>
          </p:nvSpPr>
          <p:spPr>
            <a:xfrm rot="18477600">
              <a:off x="2625840" y="1419120"/>
              <a:ext cx="249480" cy="93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667"/>
            <p:cNvSpPr/>
            <p:nvPr/>
          </p:nvSpPr>
          <p:spPr>
            <a:xfrm rot="18477600">
              <a:off x="2600640" y="139428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668"/>
            <p:cNvSpPr/>
            <p:nvPr/>
          </p:nvSpPr>
          <p:spPr>
            <a:xfrm rot="18477600">
              <a:off x="2600280" y="1462680"/>
              <a:ext cx="174960" cy="54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669"/>
            <p:cNvSpPr/>
            <p:nvPr/>
          </p:nvSpPr>
          <p:spPr>
            <a:xfrm rot="18477600">
              <a:off x="2631960" y="1437840"/>
              <a:ext cx="208080" cy="277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670"/>
            <p:cNvSpPr/>
            <p:nvPr/>
          </p:nvSpPr>
          <p:spPr>
            <a:xfrm rot="18477600">
              <a:off x="2571480" y="146232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671"/>
            <p:cNvSpPr/>
            <p:nvPr/>
          </p:nvSpPr>
          <p:spPr>
            <a:xfrm rot="18477600">
              <a:off x="2626200" y="148464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672"/>
            <p:cNvSpPr/>
            <p:nvPr/>
          </p:nvSpPr>
          <p:spPr>
            <a:xfrm rot="18477600">
              <a:off x="2549520" y="1465200"/>
              <a:ext cx="187920" cy="8460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673"/>
            <p:cNvSpPr/>
            <p:nvPr/>
          </p:nvSpPr>
          <p:spPr>
            <a:xfrm rot="18477600">
              <a:off x="2578680" y="1405440"/>
              <a:ext cx="124200" cy="13680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674"/>
            <p:cNvSpPr/>
            <p:nvPr/>
          </p:nvSpPr>
          <p:spPr>
            <a:xfrm rot="18477600">
              <a:off x="2562480" y="1415520"/>
              <a:ext cx="143640" cy="1332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675"/>
            <p:cNvSpPr/>
            <p:nvPr/>
          </p:nvSpPr>
          <p:spPr>
            <a:xfrm rot="18477600">
              <a:off x="2548440" y="141840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676"/>
            <p:cNvSpPr/>
            <p:nvPr/>
          </p:nvSpPr>
          <p:spPr>
            <a:xfrm rot="18477600">
              <a:off x="2538000" y="1432800"/>
              <a:ext cx="182520" cy="126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677"/>
            <p:cNvSpPr/>
            <p:nvPr/>
          </p:nvSpPr>
          <p:spPr>
            <a:xfrm rot="18477600">
              <a:off x="2534400" y="143820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78"/>
            <p:cNvSpPr/>
            <p:nvPr/>
          </p:nvSpPr>
          <p:spPr>
            <a:xfrm rot="18477600">
              <a:off x="2536920" y="145008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679"/>
            <p:cNvSpPr/>
            <p:nvPr/>
          </p:nvSpPr>
          <p:spPr>
            <a:xfrm rot="18477600">
              <a:off x="2543400" y="1451520"/>
              <a:ext cx="201960" cy="10908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680"/>
            <p:cNvSpPr/>
            <p:nvPr/>
          </p:nvSpPr>
          <p:spPr>
            <a:xfrm rot="18477600">
              <a:off x="2624040" y="138816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81"/>
            <p:cNvSpPr/>
            <p:nvPr/>
          </p:nvSpPr>
          <p:spPr>
            <a:xfrm rot="18477600">
              <a:off x="2656800" y="137736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82"/>
            <p:cNvSpPr/>
            <p:nvPr/>
          </p:nvSpPr>
          <p:spPr>
            <a:xfrm rot="18477600">
              <a:off x="2669760" y="136980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83"/>
            <p:cNvSpPr/>
            <p:nvPr/>
          </p:nvSpPr>
          <p:spPr>
            <a:xfrm rot="18477600">
              <a:off x="2657520" y="136332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84"/>
            <p:cNvSpPr/>
            <p:nvPr/>
          </p:nvSpPr>
          <p:spPr>
            <a:xfrm rot="18477600">
              <a:off x="2646360" y="1371240"/>
              <a:ext cx="126000" cy="90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685"/>
            <p:cNvSpPr/>
            <p:nvPr/>
          </p:nvSpPr>
          <p:spPr>
            <a:xfrm rot="18477600">
              <a:off x="2661840" y="136656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686"/>
            <p:cNvSpPr/>
            <p:nvPr/>
          </p:nvSpPr>
          <p:spPr>
            <a:xfrm rot="18477600">
              <a:off x="2666160" y="1371600"/>
              <a:ext cx="147960" cy="5796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87"/>
            <p:cNvSpPr/>
            <p:nvPr/>
          </p:nvSpPr>
          <p:spPr>
            <a:xfrm rot="18477600">
              <a:off x="2669760" y="1370880"/>
              <a:ext cx="160200" cy="478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88"/>
            <p:cNvSpPr/>
            <p:nvPr/>
          </p:nvSpPr>
          <p:spPr>
            <a:xfrm rot="18477600">
              <a:off x="2676240" y="1375560"/>
              <a:ext cx="164520" cy="3492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89"/>
            <p:cNvSpPr/>
            <p:nvPr/>
          </p:nvSpPr>
          <p:spPr>
            <a:xfrm rot="18477600">
              <a:off x="2675520" y="1383120"/>
              <a:ext cx="174960" cy="259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90"/>
            <p:cNvSpPr/>
            <p:nvPr/>
          </p:nvSpPr>
          <p:spPr>
            <a:xfrm rot="18477600">
              <a:off x="2689200" y="138168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691"/>
            <p:cNvSpPr/>
            <p:nvPr/>
          </p:nvSpPr>
          <p:spPr>
            <a:xfrm rot="18477600">
              <a:off x="2675880" y="1404000"/>
              <a:ext cx="186120" cy="288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92"/>
            <p:cNvSpPr/>
            <p:nvPr/>
          </p:nvSpPr>
          <p:spPr>
            <a:xfrm rot="18477600">
              <a:off x="2687400" y="140760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93"/>
            <p:cNvSpPr/>
            <p:nvPr/>
          </p:nvSpPr>
          <p:spPr>
            <a:xfrm rot="18477600">
              <a:off x="2698200" y="141156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Group 694"/>
          <p:cNvGrpSpPr/>
          <p:nvPr/>
        </p:nvGrpSpPr>
        <p:grpSpPr>
          <a:xfrm>
            <a:off x="2305440" y="1483560"/>
            <a:ext cx="429840" cy="380520"/>
            <a:chOff x="2305440" y="1483560"/>
            <a:chExt cx="429840" cy="380520"/>
          </a:xfrm>
        </p:grpSpPr>
        <p:sp>
          <p:nvSpPr>
            <p:cNvPr id="876" name="Freeform 695"/>
            <p:cNvSpPr/>
            <p:nvPr/>
          </p:nvSpPr>
          <p:spPr>
            <a:xfrm rot="15863400">
              <a:off x="2482200" y="1606680"/>
              <a:ext cx="203400" cy="284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96"/>
            <p:cNvSpPr/>
            <p:nvPr/>
          </p:nvSpPr>
          <p:spPr>
            <a:xfrm rot="15863400">
              <a:off x="2299680" y="1603080"/>
              <a:ext cx="249480" cy="93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697"/>
            <p:cNvSpPr/>
            <p:nvPr/>
          </p:nvSpPr>
          <p:spPr>
            <a:xfrm rot="15863400">
              <a:off x="2330280" y="163476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698"/>
            <p:cNvSpPr/>
            <p:nvPr/>
          </p:nvSpPr>
          <p:spPr>
            <a:xfrm rot="15863400">
              <a:off x="2337120" y="1671480"/>
              <a:ext cx="174960" cy="54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99"/>
            <p:cNvSpPr/>
            <p:nvPr/>
          </p:nvSpPr>
          <p:spPr>
            <a:xfrm rot="15863400">
              <a:off x="2329200" y="1624320"/>
              <a:ext cx="208080" cy="277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700"/>
            <p:cNvSpPr/>
            <p:nvPr/>
          </p:nvSpPr>
          <p:spPr>
            <a:xfrm rot="15863400">
              <a:off x="2320920" y="168300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01"/>
            <p:cNvSpPr/>
            <p:nvPr/>
          </p:nvSpPr>
          <p:spPr>
            <a:xfrm rot="15863400">
              <a:off x="2370960" y="169488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702"/>
            <p:cNvSpPr/>
            <p:nvPr/>
          </p:nvSpPr>
          <p:spPr>
            <a:xfrm rot="15863400">
              <a:off x="2310480" y="1700280"/>
              <a:ext cx="187920" cy="8460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703"/>
            <p:cNvSpPr/>
            <p:nvPr/>
          </p:nvSpPr>
          <p:spPr>
            <a:xfrm rot="15863400">
              <a:off x="2317320" y="1651320"/>
              <a:ext cx="124200" cy="13680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04"/>
            <p:cNvSpPr/>
            <p:nvPr/>
          </p:nvSpPr>
          <p:spPr>
            <a:xfrm rot="15863400">
              <a:off x="2308680" y="1663920"/>
              <a:ext cx="143640" cy="1332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705"/>
            <p:cNvSpPr/>
            <p:nvPr/>
          </p:nvSpPr>
          <p:spPr>
            <a:xfrm rot="15863400">
              <a:off x="2297880" y="166248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706"/>
            <p:cNvSpPr/>
            <p:nvPr/>
          </p:nvSpPr>
          <p:spPr>
            <a:xfrm rot="15863400">
              <a:off x="2295000" y="1680480"/>
              <a:ext cx="182520" cy="126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07"/>
            <p:cNvSpPr/>
            <p:nvPr/>
          </p:nvSpPr>
          <p:spPr>
            <a:xfrm rot="15863400">
              <a:off x="2291760" y="168264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708"/>
            <p:cNvSpPr/>
            <p:nvPr/>
          </p:nvSpPr>
          <p:spPr>
            <a:xfrm rot="15863400">
              <a:off x="2298600" y="169308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09"/>
            <p:cNvSpPr/>
            <p:nvPr/>
          </p:nvSpPr>
          <p:spPr>
            <a:xfrm rot="15863400">
              <a:off x="2302920" y="1686240"/>
              <a:ext cx="201960" cy="10908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10"/>
            <p:cNvSpPr/>
            <p:nvPr/>
          </p:nvSpPr>
          <p:spPr>
            <a:xfrm rot="15863400">
              <a:off x="2346840" y="162684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11"/>
            <p:cNvSpPr/>
            <p:nvPr/>
          </p:nvSpPr>
          <p:spPr>
            <a:xfrm rot="15863400">
              <a:off x="2367720" y="161172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12"/>
            <p:cNvSpPr/>
            <p:nvPr/>
          </p:nvSpPr>
          <p:spPr>
            <a:xfrm rot="15863400">
              <a:off x="2368080" y="159768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13"/>
            <p:cNvSpPr/>
            <p:nvPr/>
          </p:nvSpPr>
          <p:spPr>
            <a:xfrm rot="15863400">
              <a:off x="2343960" y="158436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14"/>
            <p:cNvSpPr/>
            <p:nvPr/>
          </p:nvSpPr>
          <p:spPr>
            <a:xfrm rot="15863400">
              <a:off x="2327040" y="1585440"/>
              <a:ext cx="126000" cy="90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15"/>
            <p:cNvSpPr/>
            <p:nvPr/>
          </p:nvSpPr>
          <p:spPr>
            <a:xfrm rot="15863400">
              <a:off x="2327760" y="157140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16"/>
            <p:cNvSpPr/>
            <p:nvPr/>
          </p:nvSpPr>
          <p:spPr>
            <a:xfrm rot="15863400">
              <a:off x="2327040" y="1569240"/>
              <a:ext cx="147960" cy="5796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17"/>
            <p:cNvSpPr/>
            <p:nvPr/>
          </p:nvSpPr>
          <p:spPr>
            <a:xfrm rot="15863400">
              <a:off x="2323800" y="1563480"/>
              <a:ext cx="160200" cy="478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18"/>
            <p:cNvSpPr/>
            <p:nvPr/>
          </p:nvSpPr>
          <p:spPr>
            <a:xfrm rot="15863400">
              <a:off x="2326680" y="1562400"/>
              <a:ext cx="164520" cy="3492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719"/>
            <p:cNvSpPr/>
            <p:nvPr/>
          </p:nvSpPr>
          <p:spPr>
            <a:xfrm rot="15863400">
              <a:off x="2327040" y="1566000"/>
              <a:ext cx="174960" cy="259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720"/>
            <p:cNvSpPr/>
            <p:nvPr/>
          </p:nvSpPr>
          <p:spPr>
            <a:xfrm rot="15863400">
              <a:off x="2333520" y="156024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721"/>
            <p:cNvSpPr/>
            <p:nvPr/>
          </p:nvSpPr>
          <p:spPr>
            <a:xfrm rot="15863400">
              <a:off x="2332080" y="1580760"/>
              <a:ext cx="186120" cy="288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722"/>
            <p:cNvSpPr/>
            <p:nvPr/>
          </p:nvSpPr>
          <p:spPr>
            <a:xfrm rot="15863400">
              <a:off x="2345400" y="158148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723"/>
            <p:cNvSpPr/>
            <p:nvPr/>
          </p:nvSpPr>
          <p:spPr>
            <a:xfrm rot="15863400">
              <a:off x="2360880" y="158508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724"/>
          <p:cNvGrpSpPr/>
          <p:nvPr/>
        </p:nvGrpSpPr>
        <p:grpSpPr>
          <a:xfrm>
            <a:off x="2190600" y="1724040"/>
            <a:ext cx="464400" cy="369720"/>
            <a:chOff x="2190600" y="1724040"/>
            <a:chExt cx="464400" cy="369720"/>
          </a:xfrm>
        </p:grpSpPr>
        <p:sp>
          <p:nvSpPr>
            <p:cNvPr id="906" name="Freeform 725"/>
            <p:cNvSpPr/>
            <p:nvPr/>
          </p:nvSpPr>
          <p:spPr>
            <a:xfrm rot="14708400">
              <a:off x="2381040" y="1777680"/>
              <a:ext cx="203760" cy="2840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726"/>
            <p:cNvSpPr/>
            <p:nvPr/>
          </p:nvSpPr>
          <p:spPr>
            <a:xfrm rot="14708400">
              <a:off x="2161080" y="1834560"/>
              <a:ext cx="249840" cy="936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27"/>
            <p:cNvSpPr/>
            <p:nvPr/>
          </p:nvSpPr>
          <p:spPr>
            <a:xfrm rot="14708400">
              <a:off x="2227320" y="187524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28"/>
            <p:cNvSpPr/>
            <p:nvPr/>
          </p:nvSpPr>
          <p:spPr>
            <a:xfrm rot="14708400">
              <a:off x="2228400" y="1897560"/>
              <a:ext cx="175320" cy="543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29"/>
            <p:cNvSpPr/>
            <p:nvPr/>
          </p:nvSpPr>
          <p:spPr>
            <a:xfrm rot="14708400">
              <a:off x="2199960" y="1851480"/>
              <a:ext cx="208440" cy="277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30"/>
            <p:cNvSpPr/>
            <p:nvPr/>
          </p:nvSpPr>
          <p:spPr>
            <a:xfrm rot="14708400">
              <a:off x="2220480" y="191088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31"/>
            <p:cNvSpPr/>
            <p:nvPr/>
          </p:nvSpPr>
          <p:spPr>
            <a:xfrm rot="14708400">
              <a:off x="2266200" y="191988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32"/>
            <p:cNvSpPr/>
            <p:nvPr/>
          </p:nvSpPr>
          <p:spPr>
            <a:xfrm rot="14708400">
              <a:off x="2217960" y="1931040"/>
              <a:ext cx="188280" cy="84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33"/>
            <p:cNvSpPr/>
            <p:nvPr/>
          </p:nvSpPr>
          <p:spPr>
            <a:xfrm rot="14708400">
              <a:off x="2218680" y="1891800"/>
              <a:ext cx="124200" cy="13680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34"/>
            <p:cNvSpPr/>
            <p:nvPr/>
          </p:nvSpPr>
          <p:spPr>
            <a:xfrm rot="14708400">
              <a:off x="2212920" y="1902960"/>
              <a:ext cx="144000" cy="1332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35"/>
            <p:cNvSpPr/>
            <p:nvPr/>
          </p:nvSpPr>
          <p:spPr>
            <a:xfrm rot="14708400">
              <a:off x="2202840" y="189936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36"/>
            <p:cNvSpPr/>
            <p:nvPr/>
          </p:nvSpPr>
          <p:spPr>
            <a:xfrm rot="14708400">
              <a:off x="2203920" y="1917000"/>
              <a:ext cx="182520" cy="126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37"/>
            <p:cNvSpPr/>
            <p:nvPr/>
          </p:nvSpPr>
          <p:spPr>
            <a:xfrm rot="14708400">
              <a:off x="2200320" y="191808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738"/>
            <p:cNvSpPr/>
            <p:nvPr/>
          </p:nvSpPr>
          <p:spPr>
            <a:xfrm rot="14708400">
              <a:off x="2208240" y="192672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739"/>
            <p:cNvSpPr/>
            <p:nvPr/>
          </p:nvSpPr>
          <p:spPr>
            <a:xfrm rot="14708400">
              <a:off x="2209680" y="1917000"/>
              <a:ext cx="202320" cy="10908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740"/>
            <p:cNvSpPr/>
            <p:nvPr/>
          </p:nvSpPr>
          <p:spPr>
            <a:xfrm rot="14708400">
              <a:off x="2240280" y="186840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41"/>
            <p:cNvSpPr/>
            <p:nvPr/>
          </p:nvSpPr>
          <p:spPr>
            <a:xfrm rot="14708400">
              <a:off x="2255760" y="185436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742"/>
            <p:cNvSpPr/>
            <p:nvPr/>
          </p:nvSpPr>
          <p:spPr>
            <a:xfrm rot="14708400">
              <a:off x="2249280" y="184104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743"/>
            <p:cNvSpPr/>
            <p:nvPr/>
          </p:nvSpPr>
          <p:spPr>
            <a:xfrm rot="14708400">
              <a:off x="2219400" y="182772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744"/>
            <p:cNvSpPr/>
            <p:nvPr/>
          </p:nvSpPr>
          <p:spPr>
            <a:xfrm rot="14708400">
              <a:off x="2198160" y="1827360"/>
              <a:ext cx="126000" cy="90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745"/>
            <p:cNvSpPr/>
            <p:nvPr/>
          </p:nvSpPr>
          <p:spPr>
            <a:xfrm rot="14708400">
              <a:off x="2190960" y="181296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746"/>
            <p:cNvSpPr/>
            <p:nvPr/>
          </p:nvSpPr>
          <p:spPr>
            <a:xfrm rot="14708400">
              <a:off x="2186640" y="1809000"/>
              <a:ext cx="148320" cy="5796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747"/>
            <p:cNvSpPr/>
            <p:nvPr/>
          </p:nvSpPr>
          <p:spPr>
            <a:xfrm rot="14708400">
              <a:off x="2180160" y="1802880"/>
              <a:ext cx="160560" cy="478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748"/>
            <p:cNvSpPr/>
            <p:nvPr/>
          </p:nvSpPr>
          <p:spPr>
            <a:xfrm rot="14708400">
              <a:off x="2179800" y="1800720"/>
              <a:ext cx="164880" cy="349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749"/>
            <p:cNvSpPr/>
            <p:nvPr/>
          </p:nvSpPr>
          <p:spPr>
            <a:xfrm rot="14708400">
              <a:off x="2179440" y="1802520"/>
              <a:ext cx="175320" cy="259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750"/>
            <p:cNvSpPr/>
            <p:nvPr/>
          </p:nvSpPr>
          <p:spPr>
            <a:xfrm rot="14708400">
              <a:off x="2183040" y="179676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751"/>
            <p:cNvSpPr/>
            <p:nvPr/>
          </p:nvSpPr>
          <p:spPr>
            <a:xfrm rot="14708400">
              <a:off x="2185200" y="1813680"/>
              <a:ext cx="186480" cy="288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752"/>
            <p:cNvSpPr/>
            <p:nvPr/>
          </p:nvSpPr>
          <p:spPr>
            <a:xfrm rot="14708400">
              <a:off x="2198520" y="181296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753"/>
            <p:cNvSpPr/>
            <p:nvPr/>
          </p:nvSpPr>
          <p:spPr>
            <a:xfrm rot="14708400">
              <a:off x="2215800" y="181512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754"/>
          <p:cNvGrpSpPr/>
          <p:nvPr/>
        </p:nvGrpSpPr>
        <p:grpSpPr>
          <a:xfrm>
            <a:off x="2166840" y="1931400"/>
            <a:ext cx="485280" cy="424440"/>
            <a:chOff x="2166840" y="1931400"/>
            <a:chExt cx="485280" cy="424440"/>
          </a:xfrm>
        </p:grpSpPr>
        <p:sp>
          <p:nvSpPr>
            <p:cNvPr id="936" name="Freeform 755"/>
            <p:cNvSpPr/>
            <p:nvPr/>
          </p:nvSpPr>
          <p:spPr>
            <a:xfrm rot="12946800">
              <a:off x="2384640" y="1963800"/>
              <a:ext cx="203760" cy="2840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56"/>
            <p:cNvSpPr/>
            <p:nvPr/>
          </p:nvSpPr>
          <p:spPr>
            <a:xfrm rot="12946800">
              <a:off x="2150640" y="2127600"/>
              <a:ext cx="249840" cy="936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57"/>
            <p:cNvSpPr/>
            <p:nvPr/>
          </p:nvSpPr>
          <p:spPr>
            <a:xfrm rot="12946800">
              <a:off x="2269800" y="215820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58"/>
            <p:cNvSpPr/>
            <p:nvPr/>
          </p:nvSpPr>
          <p:spPr>
            <a:xfrm rot="12946800">
              <a:off x="2255760" y="2165040"/>
              <a:ext cx="175320" cy="543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59"/>
            <p:cNvSpPr/>
            <p:nvPr/>
          </p:nvSpPr>
          <p:spPr>
            <a:xfrm rot="12946800">
              <a:off x="2199960" y="2132280"/>
              <a:ext cx="208440" cy="277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60"/>
            <p:cNvSpPr/>
            <p:nvPr/>
          </p:nvSpPr>
          <p:spPr>
            <a:xfrm rot="12946800">
              <a:off x="2259360" y="217548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61"/>
            <p:cNvSpPr/>
            <p:nvPr/>
          </p:nvSpPr>
          <p:spPr>
            <a:xfrm rot="12946800">
              <a:off x="2297520" y="218304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2"/>
            <p:cNvSpPr/>
            <p:nvPr/>
          </p:nvSpPr>
          <p:spPr>
            <a:xfrm rot="12946800">
              <a:off x="2269440" y="2194200"/>
              <a:ext cx="188280" cy="84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63"/>
            <p:cNvSpPr/>
            <p:nvPr/>
          </p:nvSpPr>
          <p:spPr>
            <a:xfrm rot="12946800">
              <a:off x="2267280" y="2171880"/>
              <a:ext cx="124200" cy="13716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64"/>
            <p:cNvSpPr/>
            <p:nvPr/>
          </p:nvSpPr>
          <p:spPr>
            <a:xfrm rot="12946800">
              <a:off x="2266200" y="2179800"/>
              <a:ext cx="144000" cy="1332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65"/>
            <p:cNvSpPr/>
            <p:nvPr/>
          </p:nvSpPr>
          <p:spPr>
            <a:xfrm rot="12946800">
              <a:off x="2254680" y="217332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766"/>
            <p:cNvSpPr/>
            <p:nvPr/>
          </p:nvSpPr>
          <p:spPr>
            <a:xfrm rot="12946800">
              <a:off x="2260800" y="2187720"/>
              <a:ext cx="182520" cy="1267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767"/>
            <p:cNvSpPr/>
            <p:nvPr/>
          </p:nvSpPr>
          <p:spPr>
            <a:xfrm rot="12946800">
              <a:off x="2255400" y="218664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768"/>
            <p:cNvSpPr/>
            <p:nvPr/>
          </p:nvSpPr>
          <p:spPr>
            <a:xfrm rot="12946800">
              <a:off x="2264760" y="219276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769"/>
            <p:cNvSpPr/>
            <p:nvPr/>
          </p:nvSpPr>
          <p:spPr>
            <a:xfrm rot="12946800">
              <a:off x="2260440" y="2181240"/>
              <a:ext cx="202320" cy="10908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770"/>
            <p:cNvSpPr/>
            <p:nvPr/>
          </p:nvSpPr>
          <p:spPr>
            <a:xfrm rot="12946800">
              <a:off x="2279160" y="215460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771"/>
            <p:cNvSpPr/>
            <p:nvPr/>
          </p:nvSpPr>
          <p:spPr>
            <a:xfrm rot="12946800">
              <a:off x="2287800" y="214632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772"/>
            <p:cNvSpPr/>
            <p:nvPr/>
          </p:nvSpPr>
          <p:spPr>
            <a:xfrm rot="12946800">
              <a:off x="2273040" y="213696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773"/>
            <p:cNvSpPr/>
            <p:nvPr/>
          </p:nvSpPr>
          <p:spPr>
            <a:xfrm rot="12946800">
              <a:off x="2234160" y="212796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774"/>
            <p:cNvSpPr/>
            <p:nvPr/>
          </p:nvSpPr>
          <p:spPr>
            <a:xfrm rot="12946800">
              <a:off x="2206440" y="2127960"/>
              <a:ext cx="126000" cy="9108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775"/>
            <p:cNvSpPr/>
            <p:nvPr/>
          </p:nvSpPr>
          <p:spPr>
            <a:xfrm rot="12946800">
              <a:off x="2189160" y="211896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776"/>
            <p:cNvSpPr/>
            <p:nvPr/>
          </p:nvSpPr>
          <p:spPr>
            <a:xfrm rot="12946800">
              <a:off x="2178360" y="2114640"/>
              <a:ext cx="148320" cy="5796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777"/>
            <p:cNvSpPr/>
            <p:nvPr/>
          </p:nvSpPr>
          <p:spPr>
            <a:xfrm rot="12946800">
              <a:off x="2166120" y="2110320"/>
              <a:ext cx="160560" cy="478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778"/>
            <p:cNvSpPr/>
            <p:nvPr/>
          </p:nvSpPr>
          <p:spPr>
            <a:xfrm rot="12946800">
              <a:off x="2161440" y="2108160"/>
              <a:ext cx="164880" cy="349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779"/>
            <p:cNvSpPr/>
            <p:nvPr/>
          </p:nvSpPr>
          <p:spPr>
            <a:xfrm rot="12946800">
              <a:off x="2159640" y="2108160"/>
              <a:ext cx="175320" cy="259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780"/>
            <p:cNvSpPr/>
            <p:nvPr/>
          </p:nvSpPr>
          <p:spPr>
            <a:xfrm rot="12946800">
              <a:off x="2157480" y="210420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781"/>
            <p:cNvSpPr/>
            <p:nvPr/>
          </p:nvSpPr>
          <p:spPr>
            <a:xfrm rot="12946800">
              <a:off x="2163240" y="2113560"/>
              <a:ext cx="186480" cy="288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782"/>
            <p:cNvSpPr/>
            <p:nvPr/>
          </p:nvSpPr>
          <p:spPr>
            <a:xfrm rot="12946800">
              <a:off x="2176200" y="211068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783"/>
            <p:cNvSpPr/>
            <p:nvPr/>
          </p:nvSpPr>
          <p:spPr>
            <a:xfrm rot="12946800">
              <a:off x="2194920" y="210996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Group 784"/>
          <p:cNvGrpSpPr/>
          <p:nvPr/>
        </p:nvGrpSpPr>
        <p:grpSpPr>
          <a:xfrm>
            <a:off x="2255400" y="2134800"/>
            <a:ext cx="429840" cy="428040"/>
            <a:chOff x="2255400" y="2134800"/>
            <a:chExt cx="429840" cy="428040"/>
          </a:xfrm>
        </p:grpSpPr>
        <p:sp>
          <p:nvSpPr>
            <p:cNvPr id="966" name="Freeform 785"/>
            <p:cNvSpPr/>
            <p:nvPr/>
          </p:nvSpPr>
          <p:spPr>
            <a:xfrm rot="11436600">
              <a:off x="2457000" y="2151000"/>
              <a:ext cx="203760" cy="2840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786"/>
            <p:cNvSpPr/>
            <p:nvPr/>
          </p:nvSpPr>
          <p:spPr>
            <a:xfrm rot="11436600">
              <a:off x="2253960" y="2402280"/>
              <a:ext cx="249840" cy="936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787"/>
            <p:cNvSpPr/>
            <p:nvPr/>
          </p:nvSpPr>
          <p:spPr>
            <a:xfrm rot="11436600">
              <a:off x="2410560" y="240408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788"/>
            <p:cNvSpPr/>
            <p:nvPr/>
          </p:nvSpPr>
          <p:spPr>
            <a:xfrm rot="11436600">
              <a:off x="2378520" y="2404800"/>
              <a:ext cx="175320" cy="543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789"/>
            <p:cNvSpPr/>
            <p:nvPr/>
          </p:nvSpPr>
          <p:spPr>
            <a:xfrm rot="11436600">
              <a:off x="2306520" y="2393280"/>
              <a:ext cx="208440" cy="277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790"/>
            <p:cNvSpPr/>
            <p:nvPr/>
          </p:nvSpPr>
          <p:spPr>
            <a:xfrm rot="11436600">
              <a:off x="2389680" y="240804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791"/>
            <p:cNvSpPr/>
            <p:nvPr/>
          </p:nvSpPr>
          <p:spPr>
            <a:xfrm rot="11436600">
              <a:off x="2421360" y="241812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792"/>
            <p:cNvSpPr/>
            <p:nvPr/>
          </p:nvSpPr>
          <p:spPr>
            <a:xfrm rot="11436600">
              <a:off x="2408760" y="2421000"/>
              <a:ext cx="188280" cy="84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793"/>
            <p:cNvSpPr/>
            <p:nvPr/>
          </p:nvSpPr>
          <p:spPr>
            <a:xfrm rot="11436600">
              <a:off x="2411640" y="2413080"/>
              <a:ext cx="124200" cy="13680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794"/>
            <p:cNvSpPr/>
            <p:nvPr/>
          </p:nvSpPr>
          <p:spPr>
            <a:xfrm rot="11436600">
              <a:off x="2412360" y="2416680"/>
              <a:ext cx="144000" cy="1332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795"/>
            <p:cNvSpPr/>
            <p:nvPr/>
          </p:nvSpPr>
          <p:spPr>
            <a:xfrm rot="11436600">
              <a:off x="2398680" y="240768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796"/>
            <p:cNvSpPr/>
            <p:nvPr/>
          </p:nvSpPr>
          <p:spPr>
            <a:xfrm rot="11436600">
              <a:off x="2407320" y="2418480"/>
              <a:ext cx="182520" cy="126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797"/>
            <p:cNvSpPr/>
            <p:nvPr/>
          </p:nvSpPr>
          <p:spPr>
            <a:xfrm rot="11436600">
              <a:off x="2400480" y="241668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798"/>
            <p:cNvSpPr/>
            <p:nvPr/>
          </p:nvSpPr>
          <p:spPr>
            <a:xfrm rot="11436600">
              <a:off x="2409120" y="241992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799"/>
            <p:cNvSpPr/>
            <p:nvPr/>
          </p:nvSpPr>
          <p:spPr>
            <a:xfrm rot="11436600">
              <a:off x="2399760" y="2408760"/>
              <a:ext cx="202320" cy="10908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800"/>
            <p:cNvSpPr/>
            <p:nvPr/>
          </p:nvSpPr>
          <p:spPr>
            <a:xfrm rot="11436600">
              <a:off x="2418480" y="240408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801"/>
            <p:cNvSpPr/>
            <p:nvPr/>
          </p:nvSpPr>
          <p:spPr>
            <a:xfrm rot="11436600">
              <a:off x="2423880" y="240264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802"/>
            <p:cNvSpPr/>
            <p:nvPr/>
          </p:nvSpPr>
          <p:spPr>
            <a:xfrm rot="11436600">
              <a:off x="2403720" y="240048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803"/>
            <p:cNvSpPr/>
            <p:nvPr/>
          </p:nvSpPr>
          <p:spPr>
            <a:xfrm rot="11436600">
              <a:off x="2360520" y="239760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804"/>
            <p:cNvSpPr/>
            <p:nvPr/>
          </p:nvSpPr>
          <p:spPr>
            <a:xfrm rot="11436600">
              <a:off x="2328480" y="2400840"/>
              <a:ext cx="126000" cy="90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805"/>
            <p:cNvSpPr/>
            <p:nvPr/>
          </p:nvSpPr>
          <p:spPr>
            <a:xfrm rot="11436600">
              <a:off x="2304360" y="239940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806"/>
            <p:cNvSpPr/>
            <p:nvPr/>
          </p:nvSpPr>
          <p:spPr>
            <a:xfrm rot="11436600">
              <a:off x="2288880" y="2397600"/>
              <a:ext cx="148320" cy="5796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807"/>
            <p:cNvSpPr/>
            <p:nvPr/>
          </p:nvSpPr>
          <p:spPr>
            <a:xfrm rot="11436600">
              <a:off x="2273400" y="2396880"/>
              <a:ext cx="160560" cy="478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808"/>
            <p:cNvSpPr/>
            <p:nvPr/>
          </p:nvSpPr>
          <p:spPr>
            <a:xfrm rot="11436600">
              <a:off x="2265120" y="2396520"/>
              <a:ext cx="164880" cy="349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809"/>
            <p:cNvSpPr/>
            <p:nvPr/>
          </p:nvSpPr>
          <p:spPr>
            <a:xfrm rot="11436600">
              <a:off x="2260440" y="2395440"/>
              <a:ext cx="175320" cy="259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810"/>
            <p:cNvSpPr/>
            <p:nvPr/>
          </p:nvSpPr>
          <p:spPr>
            <a:xfrm rot="11436600">
              <a:off x="2256120" y="239508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811"/>
            <p:cNvSpPr/>
            <p:nvPr/>
          </p:nvSpPr>
          <p:spPr>
            <a:xfrm rot="11436600">
              <a:off x="2261160" y="2397600"/>
              <a:ext cx="186480" cy="288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812"/>
            <p:cNvSpPr/>
            <p:nvPr/>
          </p:nvSpPr>
          <p:spPr>
            <a:xfrm rot="11436600">
              <a:off x="2272680" y="239400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813"/>
            <p:cNvSpPr/>
            <p:nvPr/>
          </p:nvSpPr>
          <p:spPr>
            <a:xfrm rot="11436600">
              <a:off x="2291400" y="239004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814"/>
          <p:cNvGrpSpPr/>
          <p:nvPr/>
        </p:nvGrpSpPr>
        <p:grpSpPr>
          <a:xfrm>
            <a:off x="2410920" y="2276640"/>
            <a:ext cx="382680" cy="411120"/>
            <a:chOff x="2410920" y="2276640"/>
            <a:chExt cx="382680" cy="411120"/>
          </a:xfrm>
        </p:grpSpPr>
        <p:sp>
          <p:nvSpPr>
            <p:cNvPr id="996" name="Freeform 815"/>
            <p:cNvSpPr/>
            <p:nvPr/>
          </p:nvSpPr>
          <p:spPr>
            <a:xfrm rot="10800000">
              <a:off x="2589840" y="2276640"/>
              <a:ext cx="203760" cy="2840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816"/>
            <p:cNvSpPr/>
            <p:nvPr/>
          </p:nvSpPr>
          <p:spPr>
            <a:xfrm rot="10800000">
              <a:off x="2410920" y="2558880"/>
              <a:ext cx="249840" cy="936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817"/>
            <p:cNvSpPr/>
            <p:nvPr/>
          </p:nvSpPr>
          <p:spPr>
            <a:xfrm rot="10800000">
              <a:off x="2578680" y="254412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818"/>
            <p:cNvSpPr/>
            <p:nvPr/>
          </p:nvSpPr>
          <p:spPr>
            <a:xfrm rot="10800000">
              <a:off x="2538360" y="2545200"/>
              <a:ext cx="175320" cy="543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819"/>
            <p:cNvSpPr/>
            <p:nvPr/>
          </p:nvSpPr>
          <p:spPr>
            <a:xfrm rot="10800000">
              <a:off x="2462760" y="2544120"/>
              <a:ext cx="208440" cy="277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820"/>
            <p:cNvSpPr/>
            <p:nvPr/>
          </p:nvSpPr>
          <p:spPr>
            <a:xfrm rot="10800000">
              <a:off x="2552040" y="254484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821"/>
            <p:cNvSpPr/>
            <p:nvPr/>
          </p:nvSpPr>
          <p:spPr>
            <a:xfrm rot="10800000">
              <a:off x="2581200" y="255636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822"/>
            <p:cNvSpPr/>
            <p:nvPr/>
          </p:nvSpPr>
          <p:spPr>
            <a:xfrm rot="10800000">
              <a:off x="2574000" y="2554200"/>
              <a:ext cx="188280" cy="84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823"/>
            <p:cNvSpPr/>
            <p:nvPr/>
          </p:nvSpPr>
          <p:spPr>
            <a:xfrm rot="10800000">
              <a:off x="2580840" y="2550960"/>
              <a:ext cx="124200" cy="13680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24"/>
            <p:cNvSpPr/>
            <p:nvPr/>
          </p:nvSpPr>
          <p:spPr>
            <a:xfrm rot="10800000">
              <a:off x="2581560" y="2552760"/>
              <a:ext cx="144000" cy="1332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825"/>
            <p:cNvSpPr/>
            <p:nvPr/>
          </p:nvSpPr>
          <p:spPr>
            <a:xfrm rot="10800000">
              <a:off x="2566800" y="254304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26"/>
            <p:cNvSpPr/>
            <p:nvPr/>
          </p:nvSpPr>
          <p:spPr>
            <a:xfrm rot="10800000">
              <a:off x="2576160" y="2551680"/>
              <a:ext cx="182520" cy="126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27"/>
            <p:cNvSpPr/>
            <p:nvPr/>
          </p:nvSpPr>
          <p:spPr>
            <a:xfrm rot="10800000">
              <a:off x="2568240" y="254988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828"/>
            <p:cNvSpPr/>
            <p:nvPr/>
          </p:nvSpPr>
          <p:spPr>
            <a:xfrm rot="10800000">
              <a:off x="2576160" y="255240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29"/>
            <p:cNvSpPr/>
            <p:nvPr/>
          </p:nvSpPr>
          <p:spPr>
            <a:xfrm rot="10800000">
              <a:off x="2565000" y="2542320"/>
              <a:ext cx="202320" cy="10908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30"/>
            <p:cNvSpPr/>
            <p:nvPr/>
          </p:nvSpPr>
          <p:spPr>
            <a:xfrm rot="10800000">
              <a:off x="2586600" y="254628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831"/>
            <p:cNvSpPr/>
            <p:nvPr/>
          </p:nvSpPr>
          <p:spPr>
            <a:xfrm rot="10800000">
              <a:off x="2591280" y="254772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32"/>
            <p:cNvSpPr/>
            <p:nvPr/>
          </p:nvSpPr>
          <p:spPr>
            <a:xfrm rot="10800000">
              <a:off x="2570400" y="254916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33"/>
            <p:cNvSpPr/>
            <p:nvPr/>
          </p:nvSpPr>
          <p:spPr>
            <a:xfrm rot="10800000">
              <a:off x="2525760" y="254916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834"/>
            <p:cNvSpPr/>
            <p:nvPr/>
          </p:nvSpPr>
          <p:spPr>
            <a:xfrm rot="10800000">
              <a:off x="2492280" y="2554920"/>
              <a:ext cx="126000" cy="90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835"/>
            <p:cNvSpPr/>
            <p:nvPr/>
          </p:nvSpPr>
          <p:spPr>
            <a:xfrm rot="10800000">
              <a:off x="2467080" y="255744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836"/>
            <p:cNvSpPr/>
            <p:nvPr/>
          </p:nvSpPr>
          <p:spPr>
            <a:xfrm rot="10800000">
              <a:off x="2449800" y="2557080"/>
              <a:ext cx="148320" cy="5796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837"/>
            <p:cNvSpPr/>
            <p:nvPr/>
          </p:nvSpPr>
          <p:spPr>
            <a:xfrm rot="10800000">
              <a:off x="2433240" y="2557800"/>
              <a:ext cx="160560" cy="478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838"/>
            <p:cNvSpPr/>
            <p:nvPr/>
          </p:nvSpPr>
          <p:spPr>
            <a:xfrm rot="10800000">
              <a:off x="2423880" y="2558880"/>
              <a:ext cx="164880" cy="349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839"/>
            <p:cNvSpPr/>
            <p:nvPr/>
          </p:nvSpPr>
          <p:spPr>
            <a:xfrm rot="10800000">
              <a:off x="2418480" y="2557800"/>
              <a:ext cx="175320" cy="259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40"/>
            <p:cNvSpPr/>
            <p:nvPr/>
          </p:nvSpPr>
          <p:spPr>
            <a:xfrm rot="10800000">
              <a:off x="2413080" y="255924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841"/>
            <p:cNvSpPr/>
            <p:nvPr/>
          </p:nvSpPr>
          <p:spPr>
            <a:xfrm rot="10800000">
              <a:off x="2417040" y="2558880"/>
              <a:ext cx="186480" cy="288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842"/>
            <p:cNvSpPr/>
            <p:nvPr/>
          </p:nvSpPr>
          <p:spPr>
            <a:xfrm rot="10800000">
              <a:off x="2427840" y="255492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843"/>
            <p:cNvSpPr/>
            <p:nvPr/>
          </p:nvSpPr>
          <p:spPr>
            <a:xfrm rot="10800000">
              <a:off x="2446200" y="255024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Group 844"/>
          <p:cNvGrpSpPr/>
          <p:nvPr/>
        </p:nvGrpSpPr>
        <p:grpSpPr>
          <a:xfrm>
            <a:off x="2736720" y="2277000"/>
            <a:ext cx="361080" cy="472320"/>
            <a:chOff x="2736720" y="2277000"/>
            <a:chExt cx="361080" cy="472320"/>
          </a:xfrm>
        </p:grpSpPr>
        <p:sp>
          <p:nvSpPr>
            <p:cNvPr id="1026" name="Freeform 845"/>
            <p:cNvSpPr/>
            <p:nvPr/>
          </p:nvSpPr>
          <p:spPr>
            <a:xfrm rot="8915400">
              <a:off x="2801160" y="2309040"/>
              <a:ext cx="203400" cy="284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846"/>
            <p:cNvSpPr/>
            <p:nvPr/>
          </p:nvSpPr>
          <p:spPr>
            <a:xfrm rot="8915400">
              <a:off x="2720880" y="2651400"/>
              <a:ext cx="249480" cy="93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847"/>
            <p:cNvSpPr/>
            <p:nvPr/>
          </p:nvSpPr>
          <p:spPr>
            <a:xfrm rot="8915400">
              <a:off x="2901600" y="257976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848"/>
            <p:cNvSpPr/>
            <p:nvPr/>
          </p:nvSpPr>
          <p:spPr>
            <a:xfrm rot="8915400">
              <a:off x="2839680" y="2589120"/>
              <a:ext cx="174960" cy="54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849"/>
            <p:cNvSpPr/>
            <p:nvPr/>
          </p:nvSpPr>
          <p:spPr>
            <a:xfrm rot="8915400">
              <a:off x="2765160" y="2621160"/>
              <a:ext cx="208080" cy="277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850"/>
            <p:cNvSpPr/>
            <p:nvPr/>
          </p:nvSpPr>
          <p:spPr>
            <a:xfrm rot="8915400">
              <a:off x="2855160" y="257616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851"/>
            <p:cNvSpPr/>
            <p:nvPr/>
          </p:nvSpPr>
          <p:spPr>
            <a:xfrm rot="8915400">
              <a:off x="2879280" y="259488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852"/>
            <p:cNvSpPr/>
            <p:nvPr/>
          </p:nvSpPr>
          <p:spPr>
            <a:xfrm rot="8915400">
              <a:off x="2881800" y="2572920"/>
              <a:ext cx="187920" cy="8460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853"/>
            <p:cNvSpPr/>
            <p:nvPr/>
          </p:nvSpPr>
          <p:spPr>
            <a:xfrm rot="8915400">
              <a:off x="2904120" y="2579040"/>
              <a:ext cx="124200" cy="13680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854"/>
            <p:cNvSpPr/>
            <p:nvPr/>
          </p:nvSpPr>
          <p:spPr>
            <a:xfrm rot="8915400">
              <a:off x="2903040" y="2575800"/>
              <a:ext cx="143640" cy="1332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855"/>
            <p:cNvSpPr/>
            <p:nvPr/>
          </p:nvSpPr>
          <p:spPr>
            <a:xfrm rot="8915400">
              <a:off x="2884320" y="256536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856"/>
            <p:cNvSpPr/>
            <p:nvPr/>
          </p:nvSpPr>
          <p:spPr>
            <a:xfrm rot="8915400">
              <a:off x="2892960" y="2567880"/>
              <a:ext cx="182520" cy="126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857"/>
            <p:cNvSpPr/>
            <p:nvPr/>
          </p:nvSpPr>
          <p:spPr>
            <a:xfrm rot="8915400">
              <a:off x="2882880" y="256680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858"/>
            <p:cNvSpPr/>
            <p:nvPr/>
          </p:nvSpPr>
          <p:spPr>
            <a:xfrm rot="8915400">
              <a:off x="2888280" y="256752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859"/>
            <p:cNvSpPr/>
            <p:nvPr/>
          </p:nvSpPr>
          <p:spPr>
            <a:xfrm rot="8915400">
              <a:off x="2873160" y="2561760"/>
              <a:ext cx="201960" cy="10908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860"/>
            <p:cNvSpPr/>
            <p:nvPr/>
          </p:nvSpPr>
          <p:spPr>
            <a:xfrm rot="8915400">
              <a:off x="2910960" y="258696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861"/>
            <p:cNvSpPr/>
            <p:nvPr/>
          </p:nvSpPr>
          <p:spPr>
            <a:xfrm rot="8915400">
              <a:off x="2917800" y="259776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862"/>
            <p:cNvSpPr/>
            <p:nvPr/>
          </p:nvSpPr>
          <p:spPr>
            <a:xfrm rot="8915400">
              <a:off x="2897640" y="260928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863"/>
            <p:cNvSpPr/>
            <p:nvPr/>
          </p:nvSpPr>
          <p:spPr>
            <a:xfrm rot="8915400">
              <a:off x="2853360" y="261972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864"/>
            <p:cNvSpPr/>
            <p:nvPr/>
          </p:nvSpPr>
          <p:spPr>
            <a:xfrm rot="8915400">
              <a:off x="2818080" y="2631600"/>
              <a:ext cx="126000" cy="90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865"/>
            <p:cNvSpPr/>
            <p:nvPr/>
          </p:nvSpPr>
          <p:spPr>
            <a:xfrm rot="8915400">
              <a:off x="2792880" y="264672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866"/>
            <p:cNvSpPr/>
            <p:nvPr/>
          </p:nvSpPr>
          <p:spPr>
            <a:xfrm rot="8915400">
              <a:off x="2773080" y="2652120"/>
              <a:ext cx="147960" cy="5796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867"/>
            <p:cNvSpPr/>
            <p:nvPr/>
          </p:nvSpPr>
          <p:spPr>
            <a:xfrm rot="8915400">
              <a:off x="2755440" y="2658960"/>
              <a:ext cx="160200" cy="478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868"/>
            <p:cNvSpPr/>
            <p:nvPr/>
          </p:nvSpPr>
          <p:spPr>
            <a:xfrm rot="8915400">
              <a:off x="2745000" y="2664720"/>
              <a:ext cx="164520" cy="3492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869"/>
            <p:cNvSpPr/>
            <p:nvPr/>
          </p:nvSpPr>
          <p:spPr>
            <a:xfrm rot="8915400">
              <a:off x="2736000" y="2664360"/>
              <a:ext cx="174960" cy="259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870"/>
            <p:cNvSpPr/>
            <p:nvPr/>
          </p:nvSpPr>
          <p:spPr>
            <a:xfrm rot="8915400">
              <a:off x="2730240" y="267192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871"/>
            <p:cNvSpPr/>
            <p:nvPr/>
          </p:nvSpPr>
          <p:spPr>
            <a:xfrm rot="8915400">
              <a:off x="2728800" y="2665080"/>
              <a:ext cx="186120" cy="288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872"/>
            <p:cNvSpPr/>
            <p:nvPr/>
          </p:nvSpPr>
          <p:spPr>
            <a:xfrm rot="8915400">
              <a:off x="2737080" y="266112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873"/>
            <p:cNvSpPr/>
            <p:nvPr/>
          </p:nvSpPr>
          <p:spPr>
            <a:xfrm rot="8915400">
              <a:off x="2753640" y="265356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Group 874"/>
          <p:cNvGrpSpPr/>
          <p:nvPr/>
        </p:nvGrpSpPr>
        <p:grpSpPr>
          <a:xfrm>
            <a:off x="2946240" y="2235960"/>
            <a:ext cx="428040" cy="483480"/>
            <a:chOff x="2946240" y="2235960"/>
            <a:chExt cx="428040" cy="483480"/>
          </a:xfrm>
        </p:grpSpPr>
        <p:sp>
          <p:nvSpPr>
            <p:cNvPr id="1056" name="Freeform 875"/>
            <p:cNvSpPr/>
            <p:nvPr/>
          </p:nvSpPr>
          <p:spPr>
            <a:xfrm rot="7401600">
              <a:off x="3018600" y="2256840"/>
              <a:ext cx="203760" cy="2840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876"/>
            <p:cNvSpPr/>
            <p:nvPr/>
          </p:nvSpPr>
          <p:spPr>
            <a:xfrm rot="7401600">
              <a:off x="3030840" y="2604240"/>
              <a:ext cx="249840" cy="936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877"/>
            <p:cNvSpPr/>
            <p:nvPr/>
          </p:nvSpPr>
          <p:spPr>
            <a:xfrm rot="7401600">
              <a:off x="3200040" y="2487600"/>
              <a:ext cx="102600" cy="1432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878"/>
            <p:cNvSpPr/>
            <p:nvPr/>
          </p:nvSpPr>
          <p:spPr>
            <a:xfrm rot="7401600">
              <a:off x="3125160" y="2511360"/>
              <a:ext cx="175320" cy="543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879"/>
            <p:cNvSpPr/>
            <p:nvPr/>
          </p:nvSpPr>
          <p:spPr>
            <a:xfrm rot="7401600">
              <a:off x="3063960" y="2566080"/>
              <a:ext cx="208440" cy="277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880"/>
            <p:cNvSpPr/>
            <p:nvPr/>
          </p:nvSpPr>
          <p:spPr>
            <a:xfrm rot="7401600">
              <a:off x="3137760" y="2488680"/>
              <a:ext cx="191160" cy="75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881"/>
            <p:cNvSpPr/>
            <p:nvPr/>
          </p:nvSpPr>
          <p:spPr>
            <a:xfrm rot="7401600">
              <a:off x="3161520" y="2513520"/>
              <a:ext cx="112320" cy="29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882"/>
            <p:cNvSpPr/>
            <p:nvPr/>
          </p:nvSpPr>
          <p:spPr>
            <a:xfrm rot="7401600">
              <a:off x="3161880" y="2474280"/>
              <a:ext cx="188280" cy="84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883"/>
            <p:cNvSpPr/>
            <p:nvPr/>
          </p:nvSpPr>
          <p:spPr>
            <a:xfrm rot="7401600">
              <a:off x="3199320" y="2481480"/>
              <a:ext cx="124200" cy="13716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884"/>
            <p:cNvSpPr/>
            <p:nvPr/>
          </p:nvSpPr>
          <p:spPr>
            <a:xfrm rot="7401600">
              <a:off x="3195360" y="2475000"/>
              <a:ext cx="144000" cy="1332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885"/>
            <p:cNvSpPr/>
            <p:nvPr/>
          </p:nvSpPr>
          <p:spPr>
            <a:xfrm rot="7401600">
              <a:off x="3173760" y="2465640"/>
              <a:ext cx="178920" cy="13968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886"/>
            <p:cNvSpPr/>
            <p:nvPr/>
          </p:nvSpPr>
          <p:spPr>
            <a:xfrm rot="7401600">
              <a:off x="3179880" y="2463840"/>
              <a:ext cx="182520" cy="1267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887"/>
            <p:cNvSpPr/>
            <p:nvPr/>
          </p:nvSpPr>
          <p:spPr>
            <a:xfrm rot="7401600">
              <a:off x="3168000" y="2464920"/>
              <a:ext cx="198000" cy="1206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888"/>
            <p:cNvSpPr/>
            <p:nvPr/>
          </p:nvSpPr>
          <p:spPr>
            <a:xfrm rot="7401600">
              <a:off x="3170880" y="2464560"/>
              <a:ext cx="191880" cy="108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889"/>
            <p:cNvSpPr/>
            <p:nvPr/>
          </p:nvSpPr>
          <p:spPr>
            <a:xfrm rot="7401600">
              <a:off x="3153960" y="2463840"/>
              <a:ext cx="202320" cy="10908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890"/>
            <p:cNvSpPr/>
            <p:nvPr/>
          </p:nvSpPr>
          <p:spPr>
            <a:xfrm rot="7401600">
              <a:off x="3212640" y="2497680"/>
              <a:ext cx="66960" cy="139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891"/>
            <p:cNvSpPr/>
            <p:nvPr/>
          </p:nvSpPr>
          <p:spPr>
            <a:xfrm rot="7401600">
              <a:off x="3224520" y="2513520"/>
              <a:ext cx="23400" cy="135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892"/>
            <p:cNvSpPr/>
            <p:nvPr/>
          </p:nvSpPr>
          <p:spPr>
            <a:xfrm rot="7401600">
              <a:off x="3209040" y="2532960"/>
              <a:ext cx="27000" cy="12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893"/>
            <p:cNvSpPr/>
            <p:nvPr/>
          </p:nvSpPr>
          <p:spPr>
            <a:xfrm rot="7401600">
              <a:off x="3168000" y="2549520"/>
              <a:ext cx="81000" cy="1152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894"/>
            <p:cNvSpPr/>
            <p:nvPr/>
          </p:nvSpPr>
          <p:spPr>
            <a:xfrm rot="7401600">
              <a:off x="3134160" y="2567520"/>
              <a:ext cx="126000" cy="9108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895"/>
            <p:cNvSpPr/>
            <p:nvPr/>
          </p:nvSpPr>
          <p:spPr>
            <a:xfrm rot="7401600">
              <a:off x="3114000" y="2591640"/>
              <a:ext cx="132120" cy="73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896"/>
            <p:cNvSpPr/>
            <p:nvPr/>
          </p:nvSpPr>
          <p:spPr>
            <a:xfrm rot="7401600">
              <a:off x="3094200" y="2602440"/>
              <a:ext cx="148320" cy="5796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897"/>
            <p:cNvSpPr/>
            <p:nvPr/>
          </p:nvSpPr>
          <p:spPr>
            <a:xfrm rot="7401600">
              <a:off x="3078360" y="2613960"/>
              <a:ext cx="160560" cy="478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898"/>
            <p:cNvSpPr/>
            <p:nvPr/>
          </p:nvSpPr>
          <p:spPr>
            <a:xfrm rot="7401600">
              <a:off x="3067920" y="2623320"/>
              <a:ext cx="164880" cy="349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899"/>
            <p:cNvSpPr/>
            <p:nvPr/>
          </p:nvSpPr>
          <p:spPr>
            <a:xfrm rot="7401600">
              <a:off x="3057840" y="2624760"/>
              <a:ext cx="175320" cy="259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900"/>
            <p:cNvSpPr/>
            <p:nvPr/>
          </p:nvSpPr>
          <p:spPr>
            <a:xfrm rot="7401600">
              <a:off x="3054240" y="2635920"/>
              <a:ext cx="165960" cy="16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901"/>
            <p:cNvSpPr/>
            <p:nvPr/>
          </p:nvSpPr>
          <p:spPr>
            <a:xfrm rot="7401600">
              <a:off x="3045960" y="2627280"/>
              <a:ext cx="186480" cy="288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902"/>
            <p:cNvSpPr/>
            <p:nvPr/>
          </p:nvSpPr>
          <p:spPr>
            <a:xfrm rot="7401600">
              <a:off x="3052440" y="2623680"/>
              <a:ext cx="167760" cy="28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903"/>
            <p:cNvSpPr/>
            <p:nvPr/>
          </p:nvSpPr>
          <p:spPr>
            <a:xfrm rot="7401600">
              <a:off x="3066480" y="2615400"/>
              <a:ext cx="142560" cy="7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Group 904"/>
          <p:cNvGrpSpPr/>
          <p:nvPr/>
        </p:nvGrpSpPr>
        <p:grpSpPr>
          <a:xfrm>
            <a:off x="2410920" y="1711800"/>
            <a:ext cx="265320" cy="231480"/>
            <a:chOff x="2410920" y="1711800"/>
            <a:chExt cx="265320" cy="231480"/>
          </a:xfrm>
        </p:grpSpPr>
        <p:sp>
          <p:nvSpPr>
            <p:cNvPr id="1086" name="Freeform 905"/>
            <p:cNvSpPr/>
            <p:nvPr/>
          </p:nvSpPr>
          <p:spPr>
            <a:xfrm rot="15478800">
              <a:off x="2517840" y="178020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906"/>
            <p:cNvSpPr/>
            <p:nvPr/>
          </p:nvSpPr>
          <p:spPr>
            <a:xfrm rot="15478800">
              <a:off x="2399760" y="178524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907"/>
            <p:cNvSpPr/>
            <p:nvPr/>
          </p:nvSpPr>
          <p:spPr>
            <a:xfrm rot="15478800">
              <a:off x="2427120" y="180864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908"/>
            <p:cNvSpPr/>
            <p:nvPr/>
          </p:nvSpPr>
          <p:spPr>
            <a:xfrm rot="15478800">
              <a:off x="2429280" y="182772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909"/>
            <p:cNvSpPr/>
            <p:nvPr/>
          </p:nvSpPr>
          <p:spPr>
            <a:xfrm rot="15478800">
              <a:off x="2419560" y="179784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910"/>
            <p:cNvSpPr/>
            <p:nvPr/>
          </p:nvSpPr>
          <p:spPr>
            <a:xfrm rot="15478800">
              <a:off x="2421000" y="183564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911"/>
            <p:cNvSpPr/>
            <p:nvPr/>
          </p:nvSpPr>
          <p:spPr>
            <a:xfrm rot="15478800">
              <a:off x="2450880" y="184140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912"/>
            <p:cNvSpPr/>
            <p:nvPr/>
          </p:nvSpPr>
          <p:spPr>
            <a:xfrm rot="15478800">
              <a:off x="2416680" y="184716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913"/>
            <p:cNvSpPr/>
            <p:nvPr/>
          </p:nvSpPr>
          <p:spPr>
            <a:xfrm rot="15478800">
              <a:off x="2420280" y="181872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914"/>
            <p:cNvSpPr/>
            <p:nvPr/>
          </p:nvSpPr>
          <p:spPr>
            <a:xfrm rot="15478800">
              <a:off x="2415240" y="182628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15"/>
            <p:cNvSpPr/>
            <p:nvPr/>
          </p:nvSpPr>
          <p:spPr>
            <a:xfrm rot="15478800">
              <a:off x="2408400" y="182556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916"/>
            <p:cNvSpPr/>
            <p:nvPr/>
          </p:nvSpPr>
          <p:spPr>
            <a:xfrm rot="15478800">
              <a:off x="2408040" y="183600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917"/>
            <p:cNvSpPr/>
            <p:nvPr/>
          </p:nvSpPr>
          <p:spPr>
            <a:xfrm rot="15478800">
              <a:off x="2405520" y="183744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918"/>
            <p:cNvSpPr/>
            <p:nvPr/>
          </p:nvSpPr>
          <p:spPr>
            <a:xfrm rot="15478800">
              <a:off x="2410200" y="184356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919"/>
            <p:cNvSpPr/>
            <p:nvPr/>
          </p:nvSpPr>
          <p:spPr>
            <a:xfrm rot="15478800">
              <a:off x="2412000" y="183852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920"/>
            <p:cNvSpPr/>
            <p:nvPr/>
          </p:nvSpPr>
          <p:spPr>
            <a:xfrm rot="15478800">
              <a:off x="2436840" y="180432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921"/>
            <p:cNvSpPr/>
            <p:nvPr/>
          </p:nvSpPr>
          <p:spPr>
            <a:xfrm rot="15478800">
              <a:off x="2448360" y="179496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922"/>
            <p:cNvSpPr/>
            <p:nvPr/>
          </p:nvSpPr>
          <p:spPr>
            <a:xfrm rot="15478800">
              <a:off x="2446920" y="178632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923"/>
            <p:cNvSpPr/>
            <p:nvPr/>
          </p:nvSpPr>
          <p:spPr>
            <a:xfrm rot="15478800">
              <a:off x="2430720" y="177732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924"/>
            <p:cNvSpPr/>
            <p:nvPr/>
          </p:nvSpPr>
          <p:spPr>
            <a:xfrm rot="15478800">
              <a:off x="2419200" y="177732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925"/>
            <p:cNvSpPr/>
            <p:nvPr/>
          </p:nvSpPr>
          <p:spPr>
            <a:xfrm rot="15478800">
              <a:off x="2418120" y="176796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926"/>
            <p:cNvSpPr/>
            <p:nvPr/>
          </p:nvSpPr>
          <p:spPr>
            <a:xfrm rot="15478800">
              <a:off x="2416680" y="176652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927"/>
            <p:cNvSpPr/>
            <p:nvPr/>
          </p:nvSpPr>
          <p:spPr>
            <a:xfrm rot="15478800">
              <a:off x="2413440" y="176256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928"/>
            <p:cNvSpPr/>
            <p:nvPr/>
          </p:nvSpPr>
          <p:spPr>
            <a:xfrm rot="15478800">
              <a:off x="2414520" y="176148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929"/>
            <p:cNvSpPr/>
            <p:nvPr/>
          </p:nvSpPr>
          <p:spPr>
            <a:xfrm rot="15478800">
              <a:off x="2414880" y="176328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930"/>
            <p:cNvSpPr/>
            <p:nvPr/>
          </p:nvSpPr>
          <p:spPr>
            <a:xfrm rot="15478800">
              <a:off x="2418480" y="175932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931"/>
            <p:cNvSpPr/>
            <p:nvPr/>
          </p:nvSpPr>
          <p:spPr>
            <a:xfrm rot="15478800">
              <a:off x="2418120" y="177120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932"/>
            <p:cNvSpPr/>
            <p:nvPr/>
          </p:nvSpPr>
          <p:spPr>
            <a:xfrm rot="15478800">
              <a:off x="2426400" y="177156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933"/>
            <p:cNvSpPr/>
            <p:nvPr/>
          </p:nvSpPr>
          <p:spPr>
            <a:xfrm rot="15478800">
              <a:off x="2436120" y="177300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Group 934"/>
          <p:cNvGrpSpPr/>
          <p:nvPr/>
        </p:nvGrpSpPr>
        <p:grpSpPr>
          <a:xfrm>
            <a:off x="2353320" y="1929960"/>
            <a:ext cx="293400" cy="234360"/>
            <a:chOff x="2353320" y="1929960"/>
            <a:chExt cx="293400" cy="234360"/>
          </a:xfrm>
        </p:grpSpPr>
        <p:sp>
          <p:nvSpPr>
            <p:cNvPr id="1116" name="Freeform 935"/>
            <p:cNvSpPr/>
            <p:nvPr/>
          </p:nvSpPr>
          <p:spPr>
            <a:xfrm rot="13760400">
              <a:off x="2478600" y="194832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936"/>
            <p:cNvSpPr/>
            <p:nvPr/>
          </p:nvSpPr>
          <p:spPr>
            <a:xfrm rot="13760400">
              <a:off x="2336400" y="201240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937"/>
            <p:cNvSpPr/>
            <p:nvPr/>
          </p:nvSpPr>
          <p:spPr>
            <a:xfrm rot="13760400">
              <a:off x="2396160" y="203724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938"/>
            <p:cNvSpPr/>
            <p:nvPr/>
          </p:nvSpPr>
          <p:spPr>
            <a:xfrm rot="13760400">
              <a:off x="2392200" y="204480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939"/>
            <p:cNvSpPr/>
            <p:nvPr/>
          </p:nvSpPr>
          <p:spPr>
            <a:xfrm rot="13760400">
              <a:off x="2364120" y="201960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940"/>
            <p:cNvSpPr/>
            <p:nvPr/>
          </p:nvSpPr>
          <p:spPr>
            <a:xfrm rot="13760400">
              <a:off x="2391120" y="205272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941"/>
            <p:cNvSpPr/>
            <p:nvPr/>
          </p:nvSpPr>
          <p:spPr>
            <a:xfrm rot="13760400">
              <a:off x="2416320" y="205668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942"/>
            <p:cNvSpPr/>
            <p:nvPr/>
          </p:nvSpPr>
          <p:spPr>
            <a:xfrm rot="13760400">
              <a:off x="2394000" y="206496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943"/>
            <p:cNvSpPr/>
            <p:nvPr/>
          </p:nvSpPr>
          <p:spPr>
            <a:xfrm rot="13760400">
              <a:off x="2393640" y="204624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944"/>
            <p:cNvSpPr/>
            <p:nvPr/>
          </p:nvSpPr>
          <p:spPr>
            <a:xfrm rot="13760400">
              <a:off x="2391840" y="205236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945"/>
            <p:cNvSpPr/>
            <p:nvPr/>
          </p:nvSpPr>
          <p:spPr>
            <a:xfrm rot="13760400">
              <a:off x="2385000" y="204948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946"/>
            <p:cNvSpPr/>
            <p:nvPr/>
          </p:nvSpPr>
          <p:spPr>
            <a:xfrm rot="13760400">
              <a:off x="2387160" y="205884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947"/>
            <p:cNvSpPr/>
            <p:nvPr/>
          </p:nvSpPr>
          <p:spPr>
            <a:xfrm rot="13760400">
              <a:off x="2384640" y="205884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948"/>
            <p:cNvSpPr/>
            <p:nvPr/>
          </p:nvSpPr>
          <p:spPr>
            <a:xfrm rot="13760400">
              <a:off x="2389680" y="206388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949"/>
            <p:cNvSpPr/>
            <p:nvPr/>
          </p:nvSpPr>
          <p:spPr>
            <a:xfrm rot="13760400">
              <a:off x="2388960" y="205668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950"/>
            <p:cNvSpPr/>
            <p:nvPr/>
          </p:nvSpPr>
          <p:spPr>
            <a:xfrm rot="13760400">
              <a:off x="2403360" y="203364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951"/>
            <p:cNvSpPr/>
            <p:nvPr/>
          </p:nvSpPr>
          <p:spPr>
            <a:xfrm rot="13760400">
              <a:off x="2410200" y="202680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952"/>
            <p:cNvSpPr/>
            <p:nvPr/>
          </p:nvSpPr>
          <p:spPr>
            <a:xfrm rot="13760400">
              <a:off x="2403360" y="201960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953"/>
            <p:cNvSpPr/>
            <p:nvPr/>
          </p:nvSpPr>
          <p:spPr>
            <a:xfrm rot="13760400">
              <a:off x="2381400" y="201204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954"/>
            <p:cNvSpPr/>
            <p:nvPr/>
          </p:nvSpPr>
          <p:spPr>
            <a:xfrm rot="13760400">
              <a:off x="2366280" y="201168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955"/>
            <p:cNvSpPr/>
            <p:nvPr/>
          </p:nvSpPr>
          <p:spPr>
            <a:xfrm rot="13760400">
              <a:off x="2358000" y="200340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956"/>
            <p:cNvSpPr/>
            <p:nvPr/>
          </p:nvSpPr>
          <p:spPr>
            <a:xfrm rot="13760400">
              <a:off x="2352960" y="200124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957"/>
            <p:cNvSpPr/>
            <p:nvPr/>
          </p:nvSpPr>
          <p:spPr>
            <a:xfrm rot="13760400">
              <a:off x="2346840" y="199764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958"/>
            <p:cNvSpPr/>
            <p:nvPr/>
          </p:nvSpPr>
          <p:spPr>
            <a:xfrm rot="13760400">
              <a:off x="2345040" y="199584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959"/>
            <p:cNvSpPr/>
            <p:nvPr/>
          </p:nvSpPr>
          <p:spPr>
            <a:xfrm rot="13760400">
              <a:off x="2344320" y="199656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960"/>
            <p:cNvSpPr/>
            <p:nvPr/>
          </p:nvSpPr>
          <p:spPr>
            <a:xfrm rot="13760400">
              <a:off x="2344320" y="199296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961"/>
            <p:cNvSpPr/>
            <p:nvPr/>
          </p:nvSpPr>
          <p:spPr>
            <a:xfrm rot="13760400">
              <a:off x="2347560" y="200088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962"/>
            <p:cNvSpPr/>
            <p:nvPr/>
          </p:nvSpPr>
          <p:spPr>
            <a:xfrm rot="13760400">
              <a:off x="2355840" y="199980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963"/>
            <p:cNvSpPr/>
            <p:nvPr/>
          </p:nvSpPr>
          <p:spPr>
            <a:xfrm rot="13760400">
              <a:off x="2366640" y="200052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Group 964"/>
          <p:cNvGrpSpPr/>
          <p:nvPr/>
        </p:nvGrpSpPr>
        <p:grpSpPr>
          <a:xfrm>
            <a:off x="2384280" y="2088360"/>
            <a:ext cx="292680" cy="257760"/>
            <a:chOff x="2384280" y="2088360"/>
            <a:chExt cx="292680" cy="257760"/>
          </a:xfrm>
        </p:grpSpPr>
        <p:sp>
          <p:nvSpPr>
            <p:cNvPr id="1146" name="Freeform 965"/>
            <p:cNvSpPr/>
            <p:nvPr/>
          </p:nvSpPr>
          <p:spPr>
            <a:xfrm rot="12605400">
              <a:off x="2517120" y="210852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966"/>
            <p:cNvSpPr/>
            <p:nvPr/>
          </p:nvSpPr>
          <p:spPr>
            <a:xfrm rot="12605400">
              <a:off x="2376360" y="221580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967"/>
            <p:cNvSpPr/>
            <p:nvPr/>
          </p:nvSpPr>
          <p:spPr>
            <a:xfrm rot="12605400">
              <a:off x="2456640" y="223200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968"/>
            <p:cNvSpPr/>
            <p:nvPr/>
          </p:nvSpPr>
          <p:spPr>
            <a:xfrm rot="12605400">
              <a:off x="2445120" y="223488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969"/>
            <p:cNvSpPr/>
            <p:nvPr/>
          </p:nvSpPr>
          <p:spPr>
            <a:xfrm rot="12605400">
              <a:off x="2407320" y="221724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970"/>
            <p:cNvSpPr/>
            <p:nvPr/>
          </p:nvSpPr>
          <p:spPr>
            <a:xfrm rot="12605400">
              <a:off x="2449080" y="224100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971"/>
            <p:cNvSpPr/>
            <p:nvPr/>
          </p:nvSpPr>
          <p:spPr>
            <a:xfrm rot="12605400">
              <a:off x="2471040" y="224460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972"/>
            <p:cNvSpPr/>
            <p:nvPr/>
          </p:nvSpPr>
          <p:spPr>
            <a:xfrm rot="12605400">
              <a:off x="2456640" y="225144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973"/>
            <p:cNvSpPr/>
            <p:nvPr/>
          </p:nvSpPr>
          <p:spPr>
            <a:xfrm rot="12605400">
              <a:off x="2455920" y="223956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974"/>
            <p:cNvSpPr/>
            <p:nvPr/>
          </p:nvSpPr>
          <p:spPr>
            <a:xfrm rot="12605400">
              <a:off x="2455560" y="224388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975"/>
            <p:cNvSpPr/>
            <p:nvPr/>
          </p:nvSpPr>
          <p:spPr>
            <a:xfrm rot="12605400">
              <a:off x="2448360" y="223992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976"/>
            <p:cNvSpPr/>
            <p:nvPr/>
          </p:nvSpPr>
          <p:spPr>
            <a:xfrm rot="12605400">
              <a:off x="2452320" y="224784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977"/>
            <p:cNvSpPr/>
            <p:nvPr/>
          </p:nvSpPr>
          <p:spPr>
            <a:xfrm rot="12605400">
              <a:off x="2448720" y="224748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978"/>
            <p:cNvSpPr/>
            <p:nvPr/>
          </p:nvSpPr>
          <p:spPr>
            <a:xfrm rot="12605400">
              <a:off x="2454120" y="225108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979"/>
            <p:cNvSpPr/>
            <p:nvPr/>
          </p:nvSpPr>
          <p:spPr>
            <a:xfrm rot="12605400">
              <a:off x="2451240" y="224388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980"/>
            <p:cNvSpPr/>
            <p:nvPr/>
          </p:nvSpPr>
          <p:spPr>
            <a:xfrm rot="12605400">
              <a:off x="2462760" y="223020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81"/>
            <p:cNvSpPr/>
            <p:nvPr/>
          </p:nvSpPr>
          <p:spPr>
            <a:xfrm rot="12605400">
              <a:off x="2467080" y="222588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982"/>
            <p:cNvSpPr/>
            <p:nvPr/>
          </p:nvSpPr>
          <p:spPr>
            <a:xfrm rot="12605400">
              <a:off x="2457000" y="222120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983"/>
            <p:cNvSpPr/>
            <p:nvPr/>
          </p:nvSpPr>
          <p:spPr>
            <a:xfrm rot="12605400">
              <a:off x="2431800" y="221580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984"/>
            <p:cNvSpPr/>
            <p:nvPr/>
          </p:nvSpPr>
          <p:spPr>
            <a:xfrm rot="12605400">
              <a:off x="2414160" y="221616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985"/>
            <p:cNvSpPr/>
            <p:nvPr/>
          </p:nvSpPr>
          <p:spPr>
            <a:xfrm rot="12605400">
              <a:off x="2402280" y="221148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986"/>
            <p:cNvSpPr/>
            <p:nvPr/>
          </p:nvSpPr>
          <p:spPr>
            <a:xfrm rot="12605400">
              <a:off x="2394720" y="220932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987"/>
            <p:cNvSpPr/>
            <p:nvPr/>
          </p:nvSpPr>
          <p:spPr>
            <a:xfrm rot="12605400">
              <a:off x="2386440" y="220680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988"/>
            <p:cNvSpPr/>
            <p:nvPr/>
          </p:nvSpPr>
          <p:spPr>
            <a:xfrm rot="12605400">
              <a:off x="2383200" y="220536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989"/>
            <p:cNvSpPr/>
            <p:nvPr/>
          </p:nvSpPr>
          <p:spPr>
            <a:xfrm rot="12605400">
              <a:off x="2381400" y="220536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990"/>
            <p:cNvSpPr/>
            <p:nvPr/>
          </p:nvSpPr>
          <p:spPr>
            <a:xfrm rot="12605400">
              <a:off x="2379600" y="220320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991"/>
            <p:cNvSpPr/>
            <p:nvPr/>
          </p:nvSpPr>
          <p:spPr>
            <a:xfrm rot="12605400">
              <a:off x="2383560" y="220788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992"/>
            <p:cNvSpPr/>
            <p:nvPr/>
          </p:nvSpPr>
          <p:spPr>
            <a:xfrm rot="12605400">
              <a:off x="2391120" y="220608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993"/>
            <p:cNvSpPr/>
            <p:nvPr/>
          </p:nvSpPr>
          <p:spPr>
            <a:xfrm rot="12605400">
              <a:off x="2402640" y="220536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Group 994"/>
          <p:cNvGrpSpPr/>
          <p:nvPr/>
        </p:nvGrpSpPr>
        <p:grpSpPr>
          <a:xfrm>
            <a:off x="2498400" y="2204640"/>
            <a:ext cx="252720" cy="249120"/>
            <a:chOff x="2498400" y="2204640"/>
            <a:chExt cx="252720" cy="249120"/>
          </a:xfrm>
        </p:grpSpPr>
        <p:sp>
          <p:nvSpPr>
            <p:cNvPr id="1176" name="Freeform 995"/>
            <p:cNvSpPr/>
            <p:nvPr/>
          </p:nvSpPr>
          <p:spPr>
            <a:xfrm rot="11149800">
              <a:off x="2616840" y="221040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996"/>
            <p:cNvSpPr/>
            <p:nvPr/>
          </p:nvSpPr>
          <p:spPr>
            <a:xfrm rot="11149800">
              <a:off x="2498040" y="236700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997"/>
            <p:cNvSpPr/>
            <p:nvPr/>
          </p:nvSpPr>
          <p:spPr>
            <a:xfrm rot="11149800">
              <a:off x="2598480" y="236412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998"/>
            <p:cNvSpPr/>
            <p:nvPr/>
          </p:nvSpPr>
          <p:spPr>
            <a:xfrm rot="11149800">
              <a:off x="2576520" y="236412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999"/>
            <p:cNvSpPr/>
            <p:nvPr/>
          </p:nvSpPr>
          <p:spPr>
            <a:xfrm rot="11149800">
              <a:off x="2530440" y="236016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000"/>
            <p:cNvSpPr/>
            <p:nvPr/>
          </p:nvSpPr>
          <p:spPr>
            <a:xfrm rot="11149800">
              <a:off x="2584440" y="236556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001"/>
            <p:cNvSpPr/>
            <p:nvPr/>
          </p:nvSpPr>
          <p:spPr>
            <a:xfrm rot="11149800">
              <a:off x="2602440" y="237168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002"/>
            <p:cNvSpPr/>
            <p:nvPr/>
          </p:nvSpPr>
          <p:spPr>
            <a:xfrm rot="11149800">
              <a:off x="2596680" y="237240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003"/>
            <p:cNvSpPr/>
            <p:nvPr/>
          </p:nvSpPr>
          <p:spPr>
            <a:xfrm rot="11149800">
              <a:off x="2599560" y="236844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004"/>
            <p:cNvSpPr/>
            <p:nvPr/>
          </p:nvSpPr>
          <p:spPr>
            <a:xfrm rot="11149800">
              <a:off x="2599920" y="237060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005"/>
            <p:cNvSpPr/>
            <p:nvPr/>
          </p:nvSpPr>
          <p:spPr>
            <a:xfrm rot="11149800">
              <a:off x="2591280" y="236520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006"/>
            <p:cNvSpPr/>
            <p:nvPr/>
          </p:nvSpPr>
          <p:spPr>
            <a:xfrm rot="11149800">
              <a:off x="2596680" y="237060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007"/>
            <p:cNvSpPr/>
            <p:nvPr/>
          </p:nvSpPr>
          <p:spPr>
            <a:xfrm rot="11149800">
              <a:off x="2592000" y="236988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008"/>
            <p:cNvSpPr/>
            <p:nvPr/>
          </p:nvSpPr>
          <p:spPr>
            <a:xfrm rot="11149800">
              <a:off x="2597400" y="237168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009"/>
            <p:cNvSpPr/>
            <p:nvPr/>
          </p:nvSpPr>
          <p:spPr>
            <a:xfrm rot="11149800">
              <a:off x="2590920" y="236484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010"/>
            <p:cNvSpPr/>
            <p:nvPr/>
          </p:nvSpPr>
          <p:spPr>
            <a:xfrm rot="11149800">
              <a:off x="2603520" y="236448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011"/>
            <p:cNvSpPr/>
            <p:nvPr/>
          </p:nvSpPr>
          <p:spPr>
            <a:xfrm rot="11149800">
              <a:off x="2606400" y="236448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012"/>
            <p:cNvSpPr/>
            <p:nvPr/>
          </p:nvSpPr>
          <p:spPr>
            <a:xfrm rot="11149800">
              <a:off x="2593800" y="236412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013"/>
            <p:cNvSpPr/>
            <p:nvPr/>
          </p:nvSpPr>
          <p:spPr>
            <a:xfrm rot="11149800">
              <a:off x="2566440" y="236304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014"/>
            <p:cNvSpPr/>
            <p:nvPr/>
          </p:nvSpPr>
          <p:spPr>
            <a:xfrm rot="11149800">
              <a:off x="2546640" y="236556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015"/>
            <p:cNvSpPr/>
            <p:nvPr/>
          </p:nvSpPr>
          <p:spPr>
            <a:xfrm rot="11149800">
              <a:off x="2530800" y="236556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016"/>
            <p:cNvSpPr/>
            <p:nvPr/>
          </p:nvSpPr>
          <p:spPr>
            <a:xfrm rot="11149800">
              <a:off x="2521080" y="236520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1017"/>
            <p:cNvSpPr/>
            <p:nvPr/>
          </p:nvSpPr>
          <p:spPr>
            <a:xfrm rot="11149800">
              <a:off x="2510640" y="236484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1018"/>
            <p:cNvSpPr/>
            <p:nvPr/>
          </p:nvSpPr>
          <p:spPr>
            <a:xfrm rot="11149800">
              <a:off x="2505600" y="236520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1019"/>
            <p:cNvSpPr/>
            <p:nvPr/>
          </p:nvSpPr>
          <p:spPr>
            <a:xfrm rot="11149800">
              <a:off x="2502360" y="236448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1020"/>
            <p:cNvSpPr/>
            <p:nvPr/>
          </p:nvSpPr>
          <p:spPr>
            <a:xfrm rot="11149800">
              <a:off x="2499480" y="236448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1021"/>
            <p:cNvSpPr/>
            <p:nvPr/>
          </p:nvSpPr>
          <p:spPr>
            <a:xfrm rot="11149800">
              <a:off x="2502720" y="236520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022"/>
            <p:cNvSpPr/>
            <p:nvPr/>
          </p:nvSpPr>
          <p:spPr>
            <a:xfrm rot="11149800">
              <a:off x="2509200" y="236268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1023"/>
            <p:cNvSpPr/>
            <p:nvPr/>
          </p:nvSpPr>
          <p:spPr>
            <a:xfrm rot="11149800">
              <a:off x="2520720" y="236052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5" name="Group 1024"/>
          <p:cNvGrpSpPr/>
          <p:nvPr/>
        </p:nvGrpSpPr>
        <p:grpSpPr>
          <a:xfrm>
            <a:off x="2646000" y="2257200"/>
            <a:ext cx="229320" cy="271800"/>
            <a:chOff x="2646000" y="2257200"/>
            <a:chExt cx="229320" cy="271800"/>
          </a:xfrm>
        </p:grpSpPr>
        <p:sp>
          <p:nvSpPr>
            <p:cNvPr id="1206" name="Freeform 1025"/>
            <p:cNvSpPr/>
            <p:nvPr/>
          </p:nvSpPr>
          <p:spPr>
            <a:xfrm rot="9754200">
              <a:off x="2723400" y="227232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026"/>
            <p:cNvSpPr/>
            <p:nvPr/>
          </p:nvSpPr>
          <p:spPr>
            <a:xfrm rot="9754200">
              <a:off x="2643120" y="246420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027"/>
            <p:cNvSpPr/>
            <p:nvPr/>
          </p:nvSpPr>
          <p:spPr>
            <a:xfrm rot="9754200">
              <a:off x="2753280" y="243648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028"/>
            <p:cNvSpPr/>
            <p:nvPr/>
          </p:nvSpPr>
          <p:spPr>
            <a:xfrm rot="9754200">
              <a:off x="2720880" y="243900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029"/>
            <p:cNvSpPr/>
            <p:nvPr/>
          </p:nvSpPr>
          <p:spPr>
            <a:xfrm rot="9754200">
              <a:off x="2673360" y="244980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030"/>
            <p:cNvSpPr/>
            <p:nvPr/>
          </p:nvSpPr>
          <p:spPr>
            <a:xfrm rot="9754200">
              <a:off x="2730600" y="243432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1031"/>
            <p:cNvSpPr/>
            <p:nvPr/>
          </p:nvSpPr>
          <p:spPr>
            <a:xfrm rot="9754200">
              <a:off x="2746440" y="244368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1032"/>
            <p:cNvSpPr/>
            <p:nvPr/>
          </p:nvSpPr>
          <p:spPr>
            <a:xfrm rot="9754200">
              <a:off x="2746080" y="243576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033"/>
            <p:cNvSpPr/>
            <p:nvPr/>
          </p:nvSpPr>
          <p:spPr>
            <a:xfrm rot="9754200">
              <a:off x="2755080" y="243792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1034"/>
            <p:cNvSpPr/>
            <p:nvPr/>
          </p:nvSpPr>
          <p:spPr>
            <a:xfrm rot="9754200">
              <a:off x="2754720" y="243684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1035"/>
            <p:cNvSpPr/>
            <p:nvPr/>
          </p:nvSpPr>
          <p:spPr>
            <a:xfrm rot="9754200">
              <a:off x="2744640" y="243108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1036"/>
            <p:cNvSpPr/>
            <p:nvPr/>
          </p:nvSpPr>
          <p:spPr>
            <a:xfrm rot="9754200">
              <a:off x="2750400" y="243360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037"/>
            <p:cNvSpPr/>
            <p:nvPr/>
          </p:nvSpPr>
          <p:spPr>
            <a:xfrm rot="9754200">
              <a:off x="2745000" y="243324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038"/>
            <p:cNvSpPr/>
            <p:nvPr/>
          </p:nvSpPr>
          <p:spPr>
            <a:xfrm rot="9754200">
              <a:off x="2748960" y="243396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1039"/>
            <p:cNvSpPr/>
            <p:nvPr/>
          </p:nvSpPr>
          <p:spPr>
            <a:xfrm rot="9754200">
              <a:off x="2740680" y="242928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040"/>
            <p:cNvSpPr/>
            <p:nvPr/>
          </p:nvSpPr>
          <p:spPr>
            <a:xfrm rot="9754200">
              <a:off x="2758680" y="243936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041"/>
            <p:cNvSpPr/>
            <p:nvPr/>
          </p:nvSpPr>
          <p:spPr>
            <a:xfrm rot="9754200">
              <a:off x="2761920" y="244404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1042"/>
            <p:cNvSpPr/>
            <p:nvPr/>
          </p:nvSpPr>
          <p:spPr>
            <a:xfrm rot="9754200">
              <a:off x="2748600" y="244800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043"/>
            <p:cNvSpPr/>
            <p:nvPr/>
          </p:nvSpPr>
          <p:spPr>
            <a:xfrm rot="9754200">
              <a:off x="2720520" y="245160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044"/>
            <p:cNvSpPr/>
            <p:nvPr/>
          </p:nvSpPr>
          <p:spPr>
            <a:xfrm rot="9754200">
              <a:off x="2699280" y="245700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045"/>
            <p:cNvSpPr/>
            <p:nvPr/>
          </p:nvSpPr>
          <p:spPr>
            <a:xfrm rot="9754200">
              <a:off x="2683080" y="246276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046"/>
            <p:cNvSpPr/>
            <p:nvPr/>
          </p:nvSpPr>
          <p:spPr>
            <a:xfrm rot="9754200">
              <a:off x="2671560" y="246456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047"/>
            <p:cNvSpPr/>
            <p:nvPr/>
          </p:nvSpPr>
          <p:spPr>
            <a:xfrm rot="9754200">
              <a:off x="2660400" y="246708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1048"/>
            <p:cNvSpPr/>
            <p:nvPr/>
          </p:nvSpPr>
          <p:spPr>
            <a:xfrm rot="9754200">
              <a:off x="2653920" y="246924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1049"/>
            <p:cNvSpPr/>
            <p:nvPr/>
          </p:nvSpPr>
          <p:spPr>
            <a:xfrm rot="9754200">
              <a:off x="2649600" y="246888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050"/>
            <p:cNvSpPr/>
            <p:nvPr/>
          </p:nvSpPr>
          <p:spPr>
            <a:xfrm rot="9754200">
              <a:off x="2646000" y="247140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051"/>
            <p:cNvSpPr/>
            <p:nvPr/>
          </p:nvSpPr>
          <p:spPr>
            <a:xfrm rot="9754200">
              <a:off x="2647080" y="246852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052"/>
            <p:cNvSpPr/>
            <p:nvPr/>
          </p:nvSpPr>
          <p:spPr>
            <a:xfrm rot="9754200">
              <a:off x="2652480" y="246600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053"/>
            <p:cNvSpPr/>
            <p:nvPr/>
          </p:nvSpPr>
          <p:spPr>
            <a:xfrm rot="9754200">
              <a:off x="2663280" y="246240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Group 1054"/>
          <p:cNvGrpSpPr/>
          <p:nvPr/>
        </p:nvGrpSpPr>
        <p:grpSpPr>
          <a:xfrm>
            <a:off x="2752560" y="2286360"/>
            <a:ext cx="230040" cy="290520"/>
            <a:chOff x="2752560" y="2286360"/>
            <a:chExt cx="230040" cy="290520"/>
          </a:xfrm>
        </p:grpSpPr>
        <p:sp>
          <p:nvSpPr>
            <p:cNvPr id="1236" name="Freeform 1055"/>
            <p:cNvSpPr/>
            <p:nvPr/>
          </p:nvSpPr>
          <p:spPr>
            <a:xfrm rot="8498400">
              <a:off x="2791080" y="230688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056"/>
            <p:cNvSpPr/>
            <p:nvPr/>
          </p:nvSpPr>
          <p:spPr>
            <a:xfrm rot="8498400">
              <a:off x="2754360" y="251532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057"/>
            <p:cNvSpPr/>
            <p:nvPr/>
          </p:nvSpPr>
          <p:spPr>
            <a:xfrm rot="8498400">
              <a:off x="2864880" y="246348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1058"/>
            <p:cNvSpPr/>
            <p:nvPr/>
          </p:nvSpPr>
          <p:spPr>
            <a:xfrm rot="8498400">
              <a:off x="2824200" y="247140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059"/>
            <p:cNvSpPr/>
            <p:nvPr/>
          </p:nvSpPr>
          <p:spPr>
            <a:xfrm rot="8498400">
              <a:off x="2780280" y="249516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060"/>
            <p:cNvSpPr/>
            <p:nvPr/>
          </p:nvSpPr>
          <p:spPr>
            <a:xfrm rot="8498400">
              <a:off x="2833920" y="246168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061"/>
            <p:cNvSpPr/>
            <p:nvPr/>
          </p:nvSpPr>
          <p:spPr>
            <a:xfrm rot="8498400">
              <a:off x="2848320" y="247392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062"/>
            <p:cNvSpPr/>
            <p:nvPr/>
          </p:nvSpPr>
          <p:spPr>
            <a:xfrm rot="8498400">
              <a:off x="2849760" y="245736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063"/>
            <p:cNvSpPr/>
            <p:nvPr/>
          </p:nvSpPr>
          <p:spPr>
            <a:xfrm rot="8498400">
              <a:off x="2865600" y="246204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064"/>
            <p:cNvSpPr/>
            <p:nvPr/>
          </p:nvSpPr>
          <p:spPr>
            <a:xfrm rot="8498400">
              <a:off x="2864520" y="245916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065"/>
            <p:cNvSpPr/>
            <p:nvPr/>
          </p:nvSpPr>
          <p:spPr>
            <a:xfrm rot="8498400">
              <a:off x="2853000" y="245304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066"/>
            <p:cNvSpPr/>
            <p:nvPr/>
          </p:nvSpPr>
          <p:spPr>
            <a:xfrm rot="8498400">
              <a:off x="2857320" y="245340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067"/>
            <p:cNvSpPr/>
            <p:nvPr/>
          </p:nvSpPr>
          <p:spPr>
            <a:xfrm rot="8498400">
              <a:off x="2851200" y="245340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068"/>
            <p:cNvSpPr/>
            <p:nvPr/>
          </p:nvSpPr>
          <p:spPr>
            <a:xfrm rot="8498400">
              <a:off x="2854440" y="245376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069"/>
            <p:cNvSpPr/>
            <p:nvPr/>
          </p:nvSpPr>
          <p:spPr>
            <a:xfrm rot="8498400">
              <a:off x="2844360" y="245088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070"/>
            <p:cNvSpPr/>
            <p:nvPr/>
          </p:nvSpPr>
          <p:spPr>
            <a:xfrm rot="8498400">
              <a:off x="2871000" y="246852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071"/>
            <p:cNvSpPr/>
            <p:nvPr/>
          </p:nvSpPr>
          <p:spPr>
            <a:xfrm rot="8498400">
              <a:off x="2876040" y="247644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072"/>
            <p:cNvSpPr/>
            <p:nvPr/>
          </p:nvSpPr>
          <p:spPr>
            <a:xfrm rot="8498400">
              <a:off x="2864160" y="248508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073"/>
            <p:cNvSpPr/>
            <p:nvPr/>
          </p:nvSpPr>
          <p:spPr>
            <a:xfrm rot="8498400">
              <a:off x="2837160" y="249228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1074"/>
            <p:cNvSpPr/>
            <p:nvPr/>
          </p:nvSpPr>
          <p:spPr>
            <a:xfrm rot="8498400">
              <a:off x="2815560" y="250056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075"/>
            <p:cNvSpPr/>
            <p:nvPr/>
          </p:nvSpPr>
          <p:spPr>
            <a:xfrm rot="8498400">
              <a:off x="2800440" y="251136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076"/>
            <p:cNvSpPr/>
            <p:nvPr/>
          </p:nvSpPr>
          <p:spPr>
            <a:xfrm rot="8498400">
              <a:off x="2788200" y="251604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077"/>
            <p:cNvSpPr/>
            <p:nvPr/>
          </p:nvSpPr>
          <p:spPr>
            <a:xfrm rot="8498400">
              <a:off x="2777760" y="252072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078"/>
            <p:cNvSpPr/>
            <p:nvPr/>
          </p:nvSpPr>
          <p:spPr>
            <a:xfrm rot="8498400">
              <a:off x="2770920" y="252468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079"/>
            <p:cNvSpPr/>
            <p:nvPr/>
          </p:nvSpPr>
          <p:spPr>
            <a:xfrm rot="8498400">
              <a:off x="2765520" y="252468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080"/>
            <p:cNvSpPr/>
            <p:nvPr/>
          </p:nvSpPr>
          <p:spPr>
            <a:xfrm rot="8498400">
              <a:off x="2762280" y="253008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081"/>
            <p:cNvSpPr/>
            <p:nvPr/>
          </p:nvSpPr>
          <p:spPr>
            <a:xfrm rot="8498400">
              <a:off x="2760120" y="252504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1082"/>
            <p:cNvSpPr/>
            <p:nvPr/>
          </p:nvSpPr>
          <p:spPr>
            <a:xfrm rot="8498400">
              <a:off x="2765160" y="252252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1083"/>
            <p:cNvSpPr/>
            <p:nvPr/>
          </p:nvSpPr>
          <p:spPr>
            <a:xfrm rot="8498400">
              <a:off x="2774880" y="251820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Group 1084"/>
          <p:cNvGrpSpPr/>
          <p:nvPr/>
        </p:nvGrpSpPr>
        <p:grpSpPr>
          <a:xfrm>
            <a:off x="2935440" y="2252160"/>
            <a:ext cx="223560" cy="288000"/>
            <a:chOff x="2935440" y="2252160"/>
            <a:chExt cx="223560" cy="288000"/>
          </a:xfrm>
        </p:grpSpPr>
        <p:sp>
          <p:nvSpPr>
            <p:cNvPr id="1266" name="Freeform 1085"/>
            <p:cNvSpPr/>
            <p:nvPr/>
          </p:nvSpPr>
          <p:spPr>
            <a:xfrm rot="8687400">
              <a:off x="2972160" y="227304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086"/>
            <p:cNvSpPr/>
            <p:nvPr/>
          </p:nvSpPr>
          <p:spPr>
            <a:xfrm rot="8687400">
              <a:off x="2928600" y="248040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087"/>
            <p:cNvSpPr/>
            <p:nvPr/>
          </p:nvSpPr>
          <p:spPr>
            <a:xfrm rot="8687400">
              <a:off x="3039840" y="243252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1088"/>
            <p:cNvSpPr/>
            <p:nvPr/>
          </p:nvSpPr>
          <p:spPr>
            <a:xfrm rot="8687400">
              <a:off x="3000240" y="243864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089"/>
            <p:cNvSpPr/>
            <p:nvPr/>
          </p:nvSpPr>
          <p:spPr>
            <a:xfrm rot="8687400">
              <a:off x="2955240" y="246096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1090"/>
            <p:cNvSpPr/>
            <p:nvPr/>
          </p:nvSpPr>
          <p:spPr>
            <a:xfrm rot="8687400">
              <a:off x="3010320" y="242964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091"/>
            <p:cNvSpPr/>
            <p:nvPr/>
          </p:nvSpPr>
          <p:spPr>
            <a:xfrm rot="8687400">
              <a:off x="3024720" y="244152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092"/>
            <p:cNvSpPr/>
            <p:nvPr/>
          </p:nvSpPr>
          <p:spPr>
            <a:xfrm rot="8687400">
              <a:off x="3026160" y="242604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1093"/>
            <p:cNvSpPr/>
            <p:nvPr/>
          </p:nvSpPr>
          <p:spPr>
            <a:xfrm rot="8687400">
              <a:off x="3040560" y="243072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1094"/>
            <p:cNvSpPr/>
            <p:nvPr/>
          </p:nvSpPr>
          <p:spPr>
            <a:xfrm rot="8687400">
              <a:off x="3039840" y="242820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095"/>
            <p:cNvSpPr/>
            <p:nvPr/>
          </p:nvSpPr>
          <p:spPr>
            <a:xfrm rot="8687400">
              <a:off x="3028680" y="242244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096"/>
            <p:cNvSpPr/>
            <p:nvPr/>
          </p:nvSpPr>
          <p:spPr>
            <a:xfrm rot="8687400">
              <a:off x="3033000" y="242316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097"/>
            <p:cNvSpPr/>
            <p:nvPr/>
          </p:nvSpPr>
          <p:spPr>
            <a:xfrm rot="8687400">
              <a:off x="3027240" y="242280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098"/>
            <p:cNvSpPr/>
            <p:nvPr/>
          </p:nvSpPr>
          <p:spPr>
            <a:xfrm rot="8687400">
              <a:off x="3030480" y="242316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099"/>
            <p:cNvSpPr/>
            <p:nvPr/>
          </p:nvSpPr>
          <p:spPr>
            <a:xfrm rot="8687400">
              <a:off x="3020760" y="241992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100"/>
            <p:cNvSpPr/>
            <p:nvPr/>
          </p:nvSpPr>
          <p:spPr>
            <a:xfrm rot="8687400">
              <a:off x="3045600" y="243684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101"/>
            <p:cNvSpPr/>
            <p:nvPr/>
          </p:nvSpPr>
          <p:spPr>
            <a:xfrm rot="8687400">
              <a:off x="3050280" y="244404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102"/>
            <p:cNvSpPr/>
            <p:nvPr/>
          </p:nvSpPr>
          <p:spPr>
            <a:xfrm rot="8687400">
              <a:off x="3038400" y="245196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103"/>
            <p:cNvSpPr/>
            <p:nvPr/>
          </p:nvSpPr>
          <p:spPr>
            <a:xfrm rot="8687400">
              <a:off x="3011040" y="245880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104"/>
            <p:cNvSpPr/>
            <p:nvPr/>
          </p:nvSpPr>
          <p:spPr>
            <a:xfrm rot="8687400">
              <a:off x="2989440" y="246636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105"/>
            <p:cNvSpPr/>
            <p:nvPr/>
          </p:nvSpPr>
          <p:spPr>
            <a:xfrm rot="8687400">
              <a:off x="2973960" y="247680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106"/>
            <p:cNvSpPr/>
            <p:nvPr/>
          </p:nvSpPr>
          <p:spPr>
            <a:xfrm rot="8687400">
              <a:off x="2961720" y="248076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1107"/>
            <p:cNvSpPr/>
            <p:nvPr/>
          </p:nvSpPr>
          <p:spPr>
            <a:xfrm rot="8687400">
              <a:off x="2951280" y="248544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1108"/>
            <p:cNvSpPr/>
            <p:nvPr/>
          </p:nvSpPr>
          <p:spPr>
            <a:xfrm rot="8687400">
              <a:off x="2944440" y="248904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109"/>
            <p:cNvSpPr/>
            <p:nvPr/>
          </p:nvSpPr>
          <p:spPr>
            <a:xfrm rot="8687400">
              <a:off x="2939040" y="248904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110"/>
            <p:cNvSpPr/>
            <p:nvPr/>
          </p:nvSpPr>
          <p:spPr>
            <a:xfrm rot="8687400">
              <a:off x="2935800" y="249408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111"/>
            <p:cNvSpPr/>
            <p:nvPr/>
          </p:nvSpPr>
          <p:spPr>
            <a:xfrm rot="8687400">
              <a:off x="2934360" y="248904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1112"/>
            <p:cNvSpPr/>
            <p:nvPr/>
          </p:nvSpPr>
          <p:spPr>
            <a:xfrm rot="8687400">
              <a:off x="2939040" y="248652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113"/>
            <p:cNvSpPr/>
            <p:nvPr/>
          </p:nvSpPr>
          <p:spPr>
            <a:xfrm rot="8687400">
              <a:off x="2948760" y="248220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Group 1114"/>
          <p:cNvGrpSpPr/>
          <p:nvPr/>
        </p:nvGrpSpPr>
        <p:grpSpPr>
          <a:xfrm>
            <a:off x="2530440" y="1545480"/>
            <a:ext cx="258480" cy="290520"/>
            <a:chOff x="2530440" y="1545480"/>
            <a:chExt cx="258480" cy="290520"/>
          </a:xfrm>
        </p:grpSpPr>
        <p:sp>
          <p:nvSpPr>
            <p:cNvPr id="1296" name="Freeform 1115"/>
            <p:cNvSpPr/>
            <p:nvPr/>
          </p:nvSpPr>
          <p:spPr>
            <a:xfrm rot="17822400">
              <a:off x="2622600" y="165780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116"/>
            <p:cNvSpPr/>
            <p:nvPr/>
          </p:nvSpPr>
          <p:spPr>
            <a:xfrm rot="17822400">
              <a:off x="2575800" y="161388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117"/>
            <p:cNvSpPr/>
            <p:nvPr/>
          </p:nvSpPr>
          <p:spPr>
            <a:xfrm rot="17822400">
              <a:off x="2567160" y="161208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118"/>
            <p:cNvSpPr/>
            <p:nvPr/>
          </p:nvSpPr>
          <p:spPr>
            <a:xfrm rot="17822400">
              <a:off x="2568960" y="164808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119"/>
            <p:cNvSpPr/>
            <p:nvPr/>
          </p:nvSpPr>
          <p:spPr>
            <a:xfrm rot="17822400">
              <a:off x="2582640" y="162720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120"/>
            <p:cNvSpPr/>
            <p:nvPr/>
          </p:nvSpPr>
          <p:spPr>
            <a:xfrm rot="17822400">
              <a:off x="2552400" y="165096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1121"/>
            <p:cNvSpPr/>
            <p:nvPr/>
          </p:nvSpPr>
          <p:spPr>
            <a:xfrm rot="17822400">
              <a:off x="2586240" y="166176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1122"/>
            <p:cNvSpPr/>
            <p:nvPr/>
          </p:nvSpPr>
          <p:spPr>
            <a:xfrm rot="17822400">
              <a:off x="2540160" y="165600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1123"/>
            <p:cNvSpPr/>
            <p:nvPr/>
          </p:nvSpPr>
          <p:spPr>
            <a:xfrm rot="17822400">
              <a:off x="2555280" y="1620720"/>
              <a:ext cx="76680" cy="806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1124"/>
            <p:cNvSpPr/>
            <p:nvPr/>
          </p:nvSpPr>
          <p:spPr>
            <a:xfrm rot="17822400">
              <a:off x="2546280" y="162720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1125"/>
            <p:cNvSpPr/>
            <p:nvPr/>
          </p:nvSpPr>
          <p:spPr>
            <a:xfrm rot="17822400">
              <a:off x="2538000" y="162864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1126"/>
            <p:cNvSpPr/>
            <p:nvPr/>
          </p:nvSpPr>
          <p:spPr>
            <a:xfrm rot="17822400">
              <a:off x="2532600" y="1638000"/>
              <a:ext cx="113040" cy="7452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1127"/>
            <p:cNvSpPr/>
            <p:nvPr/>
          </p:nvSpPr>
          <p:spPr>
            <a:xfrm rot="17822400">
              <a:off x="2530440" y="164088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128"/>
            <p:cNvSpPr/>
            <p:nvPr/>
          </p:nvSpPr>
          <p:spPr>
            <a:xfrm rot="17822400">
              <a:off x="2532600" y="164772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129"/>
            <p:cNvSpPr/>
            <p:nvPr/>
          </p:nvSpPr>
          <p:spPr>
            <a:xfrm rot="17822400">
              <a:off x="2536920" y="164736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130"/>
            <p:cNvSpPr/>
            <p:nvPr/>
          </p:nvSpPr>
          <p:spPr>
            <a:xfrm rot="17822400">
              <a:off x="2581200" y="160812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131"/>
            <p:cNvSpPr/>
            <p:nvPr/>
          </p:nvSpPr>
          <p:spPr>
            <a:xfrm rot="17822400">
              <a:off x="2599560" y="159984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132"/>
            <p:cNvSpPr/>
            <p:nvPr/>
          </p:nvSpPr>
          <p:spPr>
            <a:xfrm rot="17822400">
              <a:off x="2606040" y="159336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133"/>
            <p:cNvSpPr/>
            <p:nvPr/>
          </p:nvSpPr>
          <p:spPr>
            <a:xfrm rot="17822400">
              <a:off x="2597040" y="158760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134"/>
            <p:cNvSpPr/>
            <p:nvPr/>
          </p:nvSpPr>
          <p:spPr>
            <a:xfrm rot="17822400">
              <a:off x="2589480" y="159084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135"/>
            <p:cNvSpPr/>
            <p:nvPr/>
          </p:nvSpPr>
          <p:spPr>
            <a:xfrm rot="17822400">
              <a:off x="2596680" y="1585440"/>
              <a:ext cx="81720" cy="4320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136"/>
            <p:cNvSpPr/>
            <p:nvPr/>
          </p:nvSpPr>
          <p:spPr>
            <a:xfrm rot="17822400">
              <a:off x="2598840" y="158688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137"/>
            <p:cNvSpPr/>
            <p:nvPr/>
          </p:nvSpPr>
          <p:spPr>
            <a:xfrm rot="17822400">
              <a:off x="2599920" y="158508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138"/>
            <p:cNvSpPr/>
            <p:nvPr/>
          </p:nvSpPr>
          <p:spPr>
            <a:xfrm rot="17822400">
              <a:off x="2603880" y="158652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139"/>
            <p:cNvSpPr/>
            <p:nvPr/>
          </p:nvSpPr>
          <p:spPr>
            <a:xfrm rot="17822400">
              <a:off x="2603160" y="159084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140"/>
            <p:cNvSpPr/>
            <p:nvPr/>
          </p:nvSpPr>
          <p:spPr>
            <a:xfrm rot="17822400">
              <a:off x="2610720" y="158832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141"/>
            <p:cNvSpPr/>
            <p:nvPr/>
          </p:nvSpPr>
          <p:spPr>
            <a:xfrm rot="17822400">
              <a:off x="2603880" y="160272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142"/>
            <p:cNvSpPr/>
            <p:nvPr/>
          </p:nvSpPr>
          <p:spPr>
            <a:xfrm rot="17822400">
              <a:off x="2611800" y="160452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1143"/>
            <p:cNvSpPr/>
            <p:nvPr/>
          </p:nvSpPr>
          <p:spPr>
            <a:xfrm rot="17822400">
              <a:off x="2619000" y="160668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Group 1174"/>
          <p:cNvGrpSpPr/>
          <p:nvPr/>
        </p:nvGrpSpPr>
        <p:grpSpPr>
          <a:xfrm>
            <a:off x="2709000" y="1501920"/>
            <a:ext cx="219960" cy="286200"/>
            <a:chOff x="2709000" y="1501920"/>
            <a:chExt cx="219960" cy="286200"/>
          </a:xfrm>
        </p:grpSpPr>
        <p:sp>
          <p:nvSpPr>
            <p:cNvPr id="1326" name="Freeform 1175"/>
            <p:cNvSpPr/>
            <p:nvPr/>
          </p:nvSpPr>
          <p:spPr>
            <a:xfrm rot="19569600">
              <a:off x="2766960" y="159948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1176"/>
            <p:cNvSpPr/>
            <p:nvPr/>
          </p:nvSpPr>
          <p:spPr>
            <a:xfrm rot="19569600">
              <a:off x="2784600" y="155592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1177"/>
            <p:cNvSpPr/>
            <p:nvPr/>
          </p:nvSpPr>
          <p:spPr>
            <a:xfrm rot="19569600">
              <a:off x="2764800" y="152280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1178"/>
            <p:cNvSpPr/>
            <p:nvPr/>
          </p:nvSpPr>
          <p:spPr>
            <a:xfrm rot="19569600">
              <a:off x="2758680" y="156924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1179"/>
            <p:cNvSpPr/>
            <p:nvPr/>
          </p:nvSpPr>
          <p:spPr>
            <a:xfrm rot="19569600">
              <a:off x="2783520" y="156384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1180"/>
            <p:cNvSpPr/>
            <p:nvPr/>
          </p:nvSpPr>
          <p:spPr>
            <a:xfrm rot="19569600">
              <a:off x="2739240" y="156528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1181"/>
            <p:cNvSpPr/>
            <p:nvPr/>
          </p:nvSpPr>
          <p:spPr>
            <a:xfrm rot="19569600">
              <a:off x="2773080" y="158148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1182"/>
            <p:cNvSpPr/>
            <p:nvPr/>
          </p:nvSpPr>
          <p:spPr>
            <a:xfrm rot="19569600">
              <a:off x="2724840" y="156312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1183"/>
            <p:cNvSpPr/>
            <p:nvPr/>
          </p:nvSpPr>
          <p:spPr>
            <a:xfrm rot="19569600">
              <a:off x="2750400" y="152748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1184"/>
            <p:cNvSpPr/>
            <p:nvPr/>
          </p:nvSpPr>
          <p:spPr>
            <a:xfrm rot="19569600">
              <a:off x="2739240" y="153216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1185"/>
            <p:cNvSpPr/>
            <p:nvPr/>
          </p:nvSpPr>
          <p:spPr>
            <a:xfrm rot="19569600">
              <a:off x="2728440" y="153468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1186"/>
            <p:cNvSpPr/>
            <p:nvPr/>
          </p:nvSpPr>
          <p:spPr>
            <a:xfrm rot="19569600">
              <a:off x="2721600" y="154116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1187"/>
            <p:cNvSpPr/>
            <p:nvPr/>
          </p:nvSpPr>
          <p:spPr>
            <a:xfrm rot="19569600">
              <a:off x="2718360" y="154512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1188"/>
            <p:cNvSpPr/>
            <p:nvPr/>
          </p:nvSpPr>
          <p:spPr>
            <a:xfrm rot="19569600">
              <a:off x="2718360" y="155196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1189"/>
            <p:cNvSpPr/>
            <p:nvPr/>
          </p:nvSpPr>
          <p:spPr>
            <a:xfrm rot="19569600">
              <a:off x="2721960" y="155520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190"/>
            <p:cNvSpPr/>
            <p:nvPr/>
          </p:nvSpPr>
          <p:spPr>
            <a:xfrm rot="19569600">
              <a:off x="2781000" y="152064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191"/>
            <p:cNvSpPr/>
            <p:nvPr/>
          </p:nvSpPr>
          <p:spPr>
            <a:xfrm rot="19569600">
              <a:off x="2803320" y="151632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192"/>
            <p:cNvSpPr/>
            <p:nvPr/>
          </p:nvSpPr>
          <p:spPr>
            <a:xfrm rot="19569600">
              <a:off x="2813400" y="151452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193"/>
            <p:cNvSpPr/>
            <p:nvPr/>
          </p:nvSpPr>
          <p:spPr>
            <a:xfrm rot="19569600">
              <a:off x="2807280" y="151380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194"/>
            <p:cNvSpPr/>
            <p:nvPr/>
          </p:nvSpPr>
          <p:spPr>
            <a:xfrm rot="19569600">
              <a:off x="2801160" y="152028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195"/>
            <p:cNvSpPr/>
            <p:nvPr/>
          </p:nvSpPr>
          <p:spPr>
            <a:xfrm rot="19569600">
              <a:off x="2812680" y="152064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196"/>
            <p:cNvSpPr/>
            <p:nvPr/>
          </p:nvSpPr>
          <p:spPr>
            <a:xfrm rot="19569600">
              <a:off x="2814840" y="152604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1197"/>
            <p:cNvSpPr/>
            <p:nvPr/>
          </p:nvSpPr>
          <p:spPr>
            <a:xfrm rot="19569600">
              <a:off x="2817720" y="152748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198"/>
            <p:cNvSpPr/>
            <p:nvPr/>
          </p:nvSpPr>
          <p:spPr>
            <a:xfrm rot="19569600">
              <a:off x="2822040" y="153180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199"/>
            <p:cNvSpPr/>
            <p:nvPr/>
          </p:nvSpPr>
          <p:spPr>
            <a:xfrm rot="19569600">
              <a:off x="2820960" y="153720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200"/>
            <p:cNvSpPr/>
            <p:nvPr/>
          </p:nvSpPr>
          <p:spPr>
            <a:xfrm rot="19569600">
              <a:off x="2830320" y="153792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1201"/>
            <p:cNvSpPr/>
            <p:nvPr/>
          </p:nvSpPr>
          <p:spPr>
            <a:xfrm rot="19569600">
              <a:off x="2818800" y="155052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202"/>
            <p:cNvSpPr/>
            <p:nvPr/>
          </p:nvSpPr>
          <p:spPr>
            <a:xfrm rot="19569600">
              <a:off x="2824920" y="155304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203"/>
            <p:cNvSpPr/>
            <p:nvPr/>
          </p:nvSpPr>
          <p:spPr>
            <a:xfrm rot="19569600">
              <a:off x="2830680" y="155448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5" name="Group 1204"/>
          <p:cNvGrpSpPr/>
          <p:nvPr/>
        </p:nvGrpSpPr>
        <p:grpSpPr>
          <a:xfrm>
            <a:off x="2890080" y="1514160"/>
            <a:ext cx="228600" cy="274680"/>
            <a:chOff x="2890080" y="1514160"/>
            <a:chExt cx="228600" cy="274680"/>
          </a:xfrm>
        </p:grpSpPr>
        <p:sp>
          <p:nvSpPr>
            <p:cNvPr id="1356" name="Freeform 1205"/>
            <p:cNvSpPr/>
            <p:nvPr/>
          </p:nvSpPr>
          <p:spPr>
            <a:xfrm rot="20325600">
              <a:off x="2923920" y="160380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206"/>
            <p:cNvSpPr/>
            <p:nvPr/>
          </p:nvSpPr>
          <p:spPr>
            <a:xfrm rot="20325600">
              <a:off x="2968560" y="156996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1207"/>
            <p:cNvSpPr/>
            <p:nvPr/>
          </p:nvSpPr>
          <p:spPr>
            <a:xfrm rot="20325600">
              <a:off x="2948400" y="152280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208"/>
            <p:cNvSpPr/>
            <p:nvPr/>
          </p:nvSpPr>
          <p:spPr>
            <a:xfrm rot="20325600">
              <a:off x="2937240" y="157212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209"/>
            <p:cNvSpPr/>
            <p:nvPr/>
          </p:nvSpPr>
          <p:spPr>
            <a:xfrm rot="20325600">
              <a:off x="2964240" y="157464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210"/>
            <p:cNvSpPr/>
            <p:nvPr/>
          </p:nvSpPr>
          <p:spPr>
            <a:xfrm rot="20325600">
              <a:off x="2917800" y="156492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211"/>
            <p:cNvSpPr/>
            <p:nvPr/>
          </p:nvSpPr>
          <p:spPr>
            <a:xfrm rot="20325600">
              <a:off x="2950920" y="158292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1212"/>
            <p:cNvSpPr/>
            <p:nvPr/>
          </p:nvSpPr>
          <p:spPr>
            <a:xfrm rot="20325600">
              <a:off x="2904120" y="155916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1213"/>
            <p:cNvSpPr/>
            <p:nvPr/>
          </p:nvSpPr>
          <p:spPr>
            <a:xfrm rot="20325600">
              <a:off x="2933640" y="152568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214"/>
            <p:cNvSpPr/>
            <p:nvPr/>
          </p:nvSpPr>
          <p:spPr>
            <a:xfrm rot="20325600">
              <a:off x="2921400" y="152892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1215"/>
            <p:cNvSpPr/>
            <p:nvPr/>
          </p:nvSpPr>
          <p:spPr>
            <a:xfrm rot="20325600">
              <a:off x="2910600" y="153108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216"/>
            <p:cNvSpPr/>
            <p:nvPr/>
          </p:nvSpPr>
          <p:spPr>
            <a:xfrm rot="20325600">
              <a:off x="2902680" y="153684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217"/>
            <p:cNvSpPr/>
            <p:nvPr/>
          </p:nvSpPr>
          <p:spPr>
            <a:xfrm rot="20325600">
              <a:off x="2898720" y="154080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1218"/>
            <p:cNvSpPr/>
            <p:nvPr/>
          </p:nvSpPr>
          <p:spPr>
            <a:xfrm rot="20325600">
              <a:off x="2898720" y="154728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1219"/>
            <p:cNvSpPr/>
            <p:nvPr/>
          </p:nvSpPr>
          <p:spPr>
            <a:xfrm rot="20325600">
              <a:off x="2900880" y="155160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1220"/>
            <p:cNvSpPr/>
            <p:nvPr/>
          </p:nvSpPr>
          <p:spPr>
            <a:xfrm rot="20325600">
              <a:off x="2964960" y="152172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221"/>
            <p:cNvSpPr/>
            <p:nvPr/>
          </p:nvSpPr>
          <p:spPr>
            <a:xfrm rot="20325600">
              <a:off x="2988360" y="151920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1222"/>
            <p:cNvSpPr/>
            <p:nvPr/>
          </p:nvSpPr>
          <p:spPr>
            <a:xfrm rot="20325600">
              <a:off x="2999520" y="152028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1223"/>
            <p:cNvSpPr/>
            <p:nvPr/>
          </p:nvSpPr>
          <p:spPr>
            <a:xfrm rot="20325600">
              <a:off x="2993760" y="152172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1224"/>
            <p:cNvSpPr/>
            <p:nvPr/>
          </p:nvSpPr>
          <p:spPr>
            <a:xfrm rot="20325600">
              <a:off x="2987640" y="153000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1225"/>
            <p:cNvSpPr/>
            <p:nvPr/>
          </p:nvSpPr>
          <p:spPr>
            <a:xfrm rot="20325600">
              <a:off x="2999880" y="153324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1226"/>
            <p:cNvSpPr/>
            <p:nvPr/>
          </p:nvSpPr>
          <p:spPr>
            <a:xfrm rot="20325600">
              <a:off x="3001680" y="154044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1227"/>
            <p:cNvSpPr/>
            <p:nvPr/>
          </p:nvSpPr>
          <p:spPr>
            <a:xfrm rot="20325600">
              <a:off x="3004560" y="154332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1228"/>
            <p:cNvSpPr/>
            <p:nvPr/>
          </p:nvSpPr>
          <p:spPr>
            <a:xfrm rot="20325600">
              <a:off x="3008880" y="154872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1229"/>
            <p:cNvSpPr/>
            <p:nvPr/>
          </p:nvSpPr>
          <p:spPr>
            <a:xfrm rot="20325600">
              <a:off x="3007080" y="155484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1230"/>
            <p:cNvSpPr/>
            <p:nvPr/>
          </p:nvSpPr>
          <p:spPr>
            <a:xfrm rot="20325600">
              <a:off x="3016800" y="155700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1231"/>
            <p:cNvSpPr/>
            <p:nvPr/>
          </p:nvSpPr>
          <p:spPr>
            <a:xfrm rot="20325600">
              <a:off x="3003480" y="156816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1232"/>
            <p:cNvSpPr/>
            <p:nvPr/>
          </p:nvSpPr>
          <p:spPr>
            <a:xfrm rot="20325600">
              <a:off x="3009600" y="157068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233"/>
            <p:cNvSpPr/>
            <p:nvPr/>
          </p:nvSpPr>
          <p:spPr>
            <a:xfrm rot="20325600">
              <a:off x="3014280" y="157212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5" name="Group 1234"/>
          <p:cNvGrpSpPr/>
          <p:nvPr/>
        </p:nvGrpSpPr>
        <p:grpSpPr>
          <a:xfrm>
            <a:off x="3026880" y="1620720"/>
            <a:ext cx="282600" cy="258480"/>
            <a:chOff x="3026880" y="1620720"/>
            <a:chExt cx="282600" cy="258480"/>
          </a:xfrm>
        </p:grpSpPr>
        <p:sp>
          <p:nvSpPr>
            <p:cNvPr id="1386" name="Freeform 1235"/>
            <p:cNvSpPr/>
            <p:nvPr/>
          </p:nvSpPr>
          <p:spPr>
            <a:xfrm rot="1246800">
              <a:off x="3052080" y="169416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236"/>
            <p:cNvSpPr/>
            <p:nvPr/>
          </p:nvSpPr>
          <p:spPr>
            <a:xfrm rot="1246800">
              <a:off x="3158640" y="172980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237"/>
            <p:cNvSpPr/>
            <p:nvPr/>
          </p:nvSpPr>
          <p:spPr>
            <a:xfrm rot="1246800">
              <a:off x="3160440" y="164052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238"/>
            <p:cNvSpPr/>
            <p:nvPr/>
          </p:nvSpPr>
          <p:spPr>
            <a:xfrm rot="1246800">
              <a:off x="3131280" y="169200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239"/>
            <p:cNvSpPr/>
            <p:nvPr/>
          </p:nvSpPr>
          <p:spPr>
            <a:xfrm rot="1246800">
              <a:off x="3152160" y="172080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240"/>
            <p:cNvSpPr/>
            <p:nvPr/>
          </p:nvSpPr>
          <p:spPr>
            <a:xfrm rot="1246800">
              <a:off x="3115800" y="167508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241"/>
            <p:cNvSpPr/>
            <p:nvPr/>
          </p:nvSpPr>
          <p:spPr>
            <a:xfrm rot="1246800">
              <a:off x="3143880" y="169776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242"/>
            <p:cNvSpPr/>
            <p:nvPr/>
          </p:nvSpPr>
          <p:spPr>
            <a:xfrm rot="1246800">
              <a:off x="3107520" y="165996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243"/>
            <p:cNvSpPr/>
            <p:nvPr/>
          </p:nvSpPr>
          <p:spPr>
            <a:xfrm rot="1246800">
              <a:off x="3147120" y="1637640"/>
              <a:ext cx="76680" cy="806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244"/>
            <p:cNvSpPr/>
            <p:nvPr/>
          </p:nvSpPr>
          <p:spPr>
            <a:xfrm rot="1246800">
              <a:off x="3134880" y="163656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245"/>
            <p:cNvSpPr/>
            <p:nvPr/>
          </p:nvSpPr>
          <p:spPr>
            <a:xfrm rot="1246800">
              <a:off x="3121200" y="163764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246"/>
            <p:cNvSpPr/>
            <p:nvPr/>
          </p:nvSpPr>
          <p:spPr>
            <a:xfrm rot="1246800">
              <a:off x="3114000" y="1638000"/>
              <a:ext cx="113040" cy="7452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247"/>
            <p:cNvSpPr/>
            <p:nvPr/>
          </p:nvSpPr>
          <p:spPr>
            <a:xfrm rot="1246800">
              <a:off x="3108240" y="164196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248"/>
            <p:cNvSpPr/>
            <p:nvPr/>
          </p:nvSpPr>
          <p:spPr>
            <a:xfrm rot="1246800">
              <a:off x="3106800" y="164628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249"/>
            <p:cNvSpPr/>
            <p:nvPr/>
          </p:nvSpPr>
          <p:spPr>
            <a:xfrm rot="1246800">
              <a:off x="3104640" y="165348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1250"/>
            <p:cNvSpPr/>
            <p:nvPr/>
          </p:nvSpPr>
          <p:spPr>
            <a:xfrm rot="1246800">
              <a:off x="3177000" y="164376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1251"/>
            <p:cNvSpPr/>
            <p:nvPr/>
          </p:nvSpPr>
          <p:spPr>
            <a:xfrm rot="1246800">
              <a:off x="3200400" y="164880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1252"/>
            <p:cNvSpPr/>
            <p:nvPr/>
          </p:nvSpPr>
          <p:spPr>
            <a:xfrm rot="1246800">
              <a:off x="3209760" y="165888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1253"/>
            <p:cNvSpPr/>
            <p:nvPr/>
          </p:nvSpPr>
          <p:spPr>
            <a:xfrm rot="1246800">
              <a:off x="3202200" y="166788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1254"/>
            <p:cNvSpPr/>
            <p:nvPr/>
          </p:nvSpPr>
          <p:spPr>
            <a:xfrm rot="1246800">
              <a:off x="3193200" y="168120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1255"/>
            <p:cNvSpPr/>
            <p:nvPr/>
          </p:nvSpPr>
          <p:spPr>
            <a:xfrm rot="1246800">
              <a:off x="3202920" y="1694520"/>
              <a:ext cx="81720" cy="4320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1256"/>
            <p:cNvSpPr/>
            <p:nvPr/>
          </p:nvSpPr>
          <p:spPr>
            <a:xfrm rot="1246800">
              <a:off x="3201480" y="170532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1257"/>
            <p:cNvSpPr/>
            <p:nvPr/>
          </p:nvSpPr>
          <p:spPr>
            <a:xfrm rot="1246800">
              <a:off x="3202920" y="171324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1258"/>
            <p:cNvSpPr/>
            <p:nvPr/>
          </p:nvSpPr>
          <p:spPr>
            <a:xfrm rot="1246800">
              <a:off x="3204360" y="172152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1259"/>
            <p:cNvSpPr/>
            <p:nvPr/>
          </p:nvSpPr>
          <p:spPr>
            <a:xfrm rot="1246800">
              <a:off x="3200040" y="172728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1260"/>
            <p:cNvSpPr/>
            <p:nvPr/>
          </p:nvSpPr>
          <p:spPr>
            <a:xfrm rot="1246800">
              <a:off x="3208320" y="173412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1261"/>
            <p:cNvSpPr/>
            <p:nvPr/>
          </p:nvSpPr>
          <p:spPr>
            <a:xfrm rot="1246800">
              <a:off x="3192120" y="173880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1262"/>
            <p:cNvSpPr/>
            <p:nvPr/>
          </p:nvSpPr>
          <p:spPr>
            <a:xfrm rot="1246800">
              <a:off x="3196080" y="174060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1263"/>
            <p:cNvSpPr/>
            <p:nvPr/>
          </p:nvSpPr>
          <p:spPr>
            <a:xfrm rot="1246800">
              <a:off x="3200040" y="173988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Group 1264"/>
          <p:cNvGrpSpPr/>
          <p:nvPr/>
        </p:nvGrpSpPr>
        <p:grpSpPr>
          <a:xfrm>
            <a:off x="3112920" y="1744200"/>
            <a:ext cx="295560" cy="243720"/>
            <a:chOff x="3112920" y="1744200"/>
            <a:chExt cx="295560" cy="243720"/>
          </a:xfrm>
        </p:grpSpPr>
        <p:sp>
          <p:nvSpPr>
            <p:cNvPr id="1416" name="Freeform 1265"/>
            <p:cNvSpPr/>
            <p:nvPr/>
          </p:nvSpPr>
          <p:spPr>
            <a:xfrm rot="2614800">
              <a:off x="3153240" y="179964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1266"/>
            <p:cNvSpPr/>
            <p:nvPr/>
          </p:nvSpPr>
          <p:spPr>
            <a:xfrm rot="2614800">
              <a:off x="3267720" y="188532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1267"/>
            <p:cNvSpPr/>
            <p:nvPr/>
          </p:nvSpPr>
          <p:spPr>
            <a:xfrm rot="2614800">
              <a:off x="3292560" y="178344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268"/>
            <p:cNvSpPr/>
            <p:nvPr/>
          </p:nvSpPr>
          <p:spPr>
            <a:xfrm rot="2614800">
              <a:off x="3253680" y="182988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1269"/>
            <p:cNvSpPr/>
            <p:nvPr/>
          </p:nvSpPr>
          <p:spPr>
            <a:xfrm rot="2614800">
              <a:off x="3264480" y="186912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270"/>
            <p:cNvSpPr/>
            <p:nvPr/>
          </p:nvSpPr>
          <p:spPr>
            <a:xfrm rot="2614800">
              <a:off x="3243600" y="180972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271"/>
            <p:cNvSpPr/>
            <p:nvPr/>
          </p:nvSpPr>
          <p:spPr>
            <a:xfrm rot="2614800">
              <a:off x="3267360" y="183312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272"/>
            <p:cNvSpPr/>
            <p:nvPr/>
          </p:nvSpPr>
          <p:spPr>
            <a:xfrm rot="2614800">
              <a:off x="3240720" y="179244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1273"/>
            <p:cNvSpPr/>
            <p:nvPr/>
          </p:nvSpPr>
          <p:spPr>
            <a:xfrm rot="2614800">
              <a:off x="3281400" y="1778400"/>
              <a:ext cx="76680" cy="806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274"/>
            <p:cNvSpPr/>
            <p:nvPr/>
          </p:nvSpPr>
          <p:spPr>
            <a:xfrm rot="2614800">
              <a:off x="3270240" y="177516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275"/>
            <p:cNvSpPr/>
            <p:nvPr/>
          </p:nvSpPr>
          <p:spPr>
            <a:xfrm rot="2614800">
              <a:off x="3255840" y="177444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276"/>
            <p:cNvSpPr/>
            <p:nvPr/>
          </p:nvSpPr>
          <p:spPr>
            <a:xfrm rot="2614800">
              <a:off x="3250440" y="1773000"/>
              <a:ext cx="113040" cy="7452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277"/>
            <p:cNvSpPr/>
            <p:nvPr/>
          </p:nvSpPr>
          <p:spPr>
            <a:xfrm rot="2614800">
              <a:off x="3243600" y="177624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278"/>
            <p:cNvSpPr/>
            <p:nvPr/>
          </p:nvSpPr>
          <p:spPr>
            <a:xfrm rot="2614800">
              <a:off x="3242520" y="177912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1279"/>
            <p:cNvSpPr/>
            <p:nvPr/>
          </p:nvSpPr>
          <p:spPr>
            <a:xfrm rot="2614800">
              <a:off x="3237480" y="178596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280"/>
            <p:cNvSpPr/>
            <p:nvPr/>
          </p:nvSpPr>
          <p:spPr>
            <a:xfrm rot="2614800">
              <a:off x="3308040" y="178848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281"/>
            <p:cNvSpPr/>
            <p:nvPr/>
          </p:nvSpPr>
          <p:spPr>
            <a:xfrm rot="2614800">
              <a:off x="3328560" y="179712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282"/>
            <p:cNvSpPr/>
            <p:nvPr/>
          </p:nvSpPr>
          <p:spPr>
            <a:xfrm rot="2614800">
              <a:off x="3334680" y="181044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283"/>
            <p:cNvSpPr/>
            <p:nvPr/>
          </p:nvSpPr>
          <p:spPr>
            <a:xfrm rot="2614800">
              <a:off x="3323880" y="182268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284"/>
            <p:cNvSpPr/>
            <p:nvPr/>
          </p:nvSpPr>
          <p:spPr>
            <a:xfrm rot="2614800">
              <a:off x="3312000" y="183708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285"/>
            <p:cNvSpPr/>
            <p:nvPr/>
          </p:nvSpPr>
          <p:spPr>
            <a:xfrm rot="2614800">
              <a:off x="3318120" y="1854360"/>
              <a:ext cx="81720" cy="4320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286"/>
            <p:cNvSpPr/>
            <p:nvPr/>
          </p:nvSpPr>
          <p:spPr>
            <a:xfrm rot="2614800">
              <a:off x="3313800" y="186660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287"/>
            <p:cNvSpPr/>
            <p:nvPr/>
          </p:nvSpPr>
          <p:spPr>
            <a:xfrm rot="2614800">
              <a:off x="3312720" y="187560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288"/>
            <p:cNvSpPr/>
            <p:nvPr/>
          </p:nvSpPr>
          <p:spPr>
            <a:xfrm rot="2614800">
              <a:off x="3312720" y="188496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289"/>
            <p:cNvSpPr/>
            <p:nvPr/>
          </p:nvSpPr>
          <p:spPr>
            <a:xfrm rot="2614800">
              <a:off x="3307320" y="188964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290"/>
            <p:cNvSpPr/>
            <p:nvPr/>
          </p:nvSpPr>
          <p:spPr>
            <a:xfrm rot="2614800">
              <a:off x="3313440" y="189864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1291"/>
            <p:cNvSpPr/>
            <p:nvPr/>
          </p:nvSpPr>
          <p:spPr>
            <a:xfrm rot="2614800">
              <a:off x="3297600" y="189936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1292"/>
            <p:cNvSpPr/>
            <p:nvPr/>
          </p:nvSpPr>
          <p:spPr>
            <a:xfrm rot="2614800">
              <a:off x="3300840" y="190044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1293"/>
            <p:cNvSpPr/>
            <p:nvPr/>
          </p:nvSpPr>
          <p:spPr>
            <a:xfrm rot="2614800">
              <a:off x="3305520" y="189792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5" name="Group 1324"/>
          <p:cNvGrpSpPr/>
          <p:nvPr/>
        </p:nvGrpSpPr>
        <p:grpSpPr>
          <a:xfrm>
            <a:off x="3157560" y="1968120"/>
            <a:ext cx="275400" cy="227880"/>
            <a:chOff x="3157560" y="1968120"/>
            <a:chExt cx="275400" cy="227880"/>
          </a:xfrm>
        </p:grpSpPr>
        <p:sp>
          <p:nvSpPr>
            <p:cNvPr id="1446" name="Freeform 1325"/>
            <p:cNvSpPr/>
            <p:nvPr/>
          </p:nvSpPr>
          <p:spPr>
            <a:xfrm rot="4042800">
              <a:off x="3196080" y="198396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1326"/>
            <p:cNvSpPr/>
            <p:nvPr/>
          </p:nvSpPr>
          <p:spPr>
            <a:xfrm rot="4042800">
              <a:off x="3298320" y="212076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1327"/>
            <p:cNvSpPr/>
            <p:nvPr/>
          </p:nvSpPr>
          <p:spPr>
            <a:xfrm rot="4042800">
              <a:off x="3349800" y="201564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328"/>
            <p:cNvSpPr/>
            <p:nvPr/>
          </p:nvSpPr>
          <p:spPr>
            <a:xfrm rot="4042800">
              <a:off x="3304440" y="205416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329"/>
            <p:cNvSpPr/>
            <p:nvPr/>
          </p:nvSpPr>
          <p:spPr>
            <a:xfrm rot="4042800">
              <a:off x="3300480" y="209916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330"/>
            <p:cNvSpPr/>
            <p:nvPr/>
          </p:nvSpPr>
          <p:spPr>
            <a:xfrm rot="4042800">
              <a:off x="3299760" y="203292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331"/>
            <p:cNvSpPr/>
            <p:nvPr/>
          </p:nvSpPr>
          <p:spPr>
            <a:xfrm rot="4042800">
              <a:off x="3320280" y="205560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332"/>
            <p:cNvSpPr/>
            <p:nvPr/>
          </p:nvSpPr>
          <p:spPr>
            <a:xfrm rot="4042800">
              <a:off x="3303360" y="201528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333"/>
            <p:cNvSpPr/>
            <p:nvPr/>
          </p:nvSpPr>
          <p:spPr>
            <a:xfrm rot="4042800">
              <a:off x="3341520" y="200952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334"/>
            <p:cNvSpPr/>
            <p:nvPr/>
          </p:nvSpPr>
          <p:spPr>
            <a:xfrm rot="4042800">
              <a:off x="3332880" y="200448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335"/>
            <p:cNvSpPr/>
            <p:nvPr/>
          </p:nvSpPr>
          <p:spPr>
            <a:xfrm rot="4042800">
              <a:off x="3318120" y="200232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336"/>
            <p:cNvSpPr/>
            <p:nvPr/>
          </p:nvSpPr>
          <p:spPr>
            <a:xfrm rot="4042800">
              <a:off x="3315240" y="199944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337"/>
            <p:cNvSpPr/>
            <p:nvPr/>
          </p:nvSpPr>
          <p:spPr>
            <a:xfrm rot="4042800">
              <a:off x="3308400" y="200268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338"/>
            <p:cNvSpPr/>
            <p:nvPr/>
          </p:nvSpPr>
          <p:spPr>
            <a:xfrm rot="4042800">
              <a:off x="3307320" y="200412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339"/>
            <p:cNvSpPr/>
            <p:nvPr/>
          </p:nvSpPr>
          <p:spPr>
            <a:xfrm rot="4042800">
              <a:off x="3299760" y="200952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1340"/>
            <p:cNvSpPr/>
            <p:nvPr/>
          </p:nvSpPr>
          <p:spPr>
            <a:xfrm rot="4042800">
              <a:off x="3362760" y="202212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1341"/>
            <p:cNvSpPr/>
            <p:nvPr/>
          </p:nvSpPr>
          <p:spPr>
            <a:xfrm rot="4042800">
              <a:off x="3380760" y="203364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1342"/>
            <p:cNvSpPr/>
            <p:nvPr/>
          </p:nvSpPr>
          <p:spPr>
            <a:xfrm rot="4042800">
              <a:off x="3381480" y="204876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1343"/>
            <p:cNvSpPr/>
            <p:nvPr/>
          </p:nvSpPr>
          <p:spPr>
            <a:xfrm rot="4042800">
              <a:off x="3366720" y="206280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1344"/>
            <p:cNvSpPr/>
            <p:nvPr/>
          </p:nvSpPr>
          <p:spPr>
            <a:xfrm rot="4042800">
              <a:off x="3351600" y="207720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345"/>
            <p:cNvSpPr/>
            <p:nvPr/>
          </p:nvSpPr>
          <p:spPr>
            <a:xfrm rot="4042800">
              <a:off x="3351960" y="209664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1346"/>
            <p:cNvSpPr/>
            <p:nvPr/>
          </p:nvSpPr>
          <p:spPr>
            <a:xfrm rot="4042800">
              <a:off x="3344760" y="210816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1347"/>
            <p:cNvSpPr/>
            <p:nvPr/>
          </p:nvSpPr>
          <p:spPr>
            <a:xfrm rot="4042800">
              <a:off x="3340800" y="211824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1348"/>
            <p:cNvSpPr/>
            <p:nvPr/>
          </p:nvSpPr>
          <p:spPr>
            <a:xfrm rot="4042800">
              <a:off x="3338280" y="212760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1349"/>
            <p:cNvSpPr/>
            <p:nvPr/>
          </p:nvSpPr>
          <p:spPr>
            <a:xfrm rot="4042800">
              <a:off x="3332160" y="213120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1350"/>
            <p:cNvSpPr/>
            <p:nvPr/>
          </p:nvSpPr>
          <p:spPr>
            <a:xfrm rot="4042800">
              <a:off x="3335400" y="214092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1351"/>
            <p:cNvSpPr/>
            <p:nvPr/>
          </p:nvSpPr>
          <p:spPr>
            <a:xfrm rot="4042800">
              <a:off x="3321720" y="213804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1352"/>
            <p:cNvSpPr/>
            <p:nvPr/>
          </p:nvSpPr>
          <p:spPr>
            <a:xfrm rot="4042800">
              <a:off x="3324960" y="213840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1353"/>
            <p:cNvSpPr/>
            <p:nvPr/>
          </p:nvSpPr>
          <p:spPr>
            <a:xfrm rot="4042800">
              <a:off x="3330360" y="213444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Group 1354"/>
          <p:cNvGrpSpPr/>
          <p:nvPr/>
        </p:nvGrpSpPr>
        <p:grpSpPr>
          <a:xfrm>
            <a:off x="3025080" y="2210400"/>
            <a:ext cx="255600" cy="294120"/>
            <a:chOff x="3025080" y="2210400"/>
            <a:chExt cx="255600" cy="294120"/>
          </a:xfrm>
        </p:grpSpPr>
        <p:sp>
          <p:nvSpPr>
            <p:cNvPr id="1476" name="Freeform 1355"/>
            <p:cNvSpPr/>
            <p:nvPr/>
          </p:nvSpPr>
          <p:spPr>
            <a:xfrm rot="7376400">
              <a:off x="3066480" y="222480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1356"/>
            <p:cNvSpPr/>
            <p:nvPr/>
          </p:nvSpPr>
          <p:spPr>
            <a:xfrm rot="7376400">
              <a:off x="3071880" y="243360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1357"/>
            <p:cNvSpPr/>
            <p:nvPr/>
          </p:nvSpPr>
          <p:spPr>
            <a:xfrm rot="7376400">
              <a:off x="3174840" y="236196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358"/>
            <p:cNvSpPr/>
            <p:nvPr/>
          </p:nvSpPr>
          <p:spPr>
            <a:xfrm rot="7376400">
              <a:off x="3129480" y="237600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1359"/>
            <p:cNvSpPr/>
            <p:nvPr/>
          </p:nvSpPr>
          <p:spPr>
            <a:xfrm rot="7376400">
              <a:off x="3092400" y="241020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360"/>
            <p:cNvSpPr/>
            <p:nvPr/>
          </p:nvSpPr>
          <p:spPr>
            <a:xfrm rot="7376400">
              <a:off x="3137040" y="236160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1361"/>
            <p:cNvSpPr/>
            <p:nvPr/>
          </p:nvSpPr>
          <p:spPr>
            <a:xfrm rot="7376400">
              <a:off x="3151800" y="237708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1362"/>
            <p:cNvSpPr/>
            <p:nvPr/>
          </p:nvSpPr>
          <p:spPr>
            <a:xfrm rot="7376400">
              <a:off x="3151800" y="235296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1363"/>
            <p:cNvSpPr/>
            <p:nvPr/>
          </p:nvSpPr>
          <p:spPr>
            <a:xfrm rot="7376400">
              <a:off x="3174480" y="235800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364"/>
            <p:cNvSpPr/>
            <p:nvPr/>
          </p:nvSpPr>
          <p:spPr>
            <a:xfrm rot="7376400">
              <a:off x="3171600" y="235368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365"/>
            <p:cNvSpPr/>
            <p:nvPr/>
          </p:nvSpPr>
          <p:spPr>
            <a:xfrm rot="7376400">
              <a:off x="3158640" y="234828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366"/>
            <p:cNvSpPr/>
            <p:nvPr/>
          </p:nvSpPr>
          <p:spPr>
            <a:xfrm rot="7376400">
              <a:off x="3161880" y="234720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367"/>
            <p:cNvSpPr/>
            <p:nvPr/>
          </p:nvSpPr>
          <p:spPr>
            <a:xfrm rot="7376400">
              <a:off x="3155040" y="234720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368"/>
            <p:cNvSpPr/>
            <p:nvPr/>
          </p:nvSpPr>
          <p:spPr>
            <a:xfrm rot="7376400">
              <a:off x="3157200" y="234756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369"/>
            <p:cNvSpPr/>
            <p:nvPr/>
          </p:nvSpPr>
          <p:spPr>
            <a:xfrm rot="7376400">
              <a:off x="3146760" y="234684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370"/>
            <p:cNvSpPr/>
            <p:nvPr/>
          </p:nvSpPr>
          <p:spPr>
            <a:xfrm rot="7376400">
              <a:off x="3182760" y="236808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1371"/>
            <p:cNvSpPr/>
            <p:nvPr/>
          </p:nvSpPr>
          <p:spPr>
            <a:xfrm rot="7376400">
              <a:off x="3189960" y="237816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1372"/>
            <p:cNvSpPr/>
            <p:nvPr/>
          </p:nvSpPr>
          <p:spPr>
            <a:xfrm rot="7376400">
              <a:off x="3180600" y="238968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1373"/>
            <p:cNvSpPr/>
            <p:nvPr/>
          </p:nvSpPr>
          <p:spPr>
            <a:xfrm rot="7376400">
              <a:off x="3155760" y="240048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1374"/>
            <p:cNvSpPr/>
            <p:nvPr/>
          </p:nvSpPr>
          <p:spPr>
            <a:xfrm rot="7376400">
              <a:off x="3134880" y="241092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1375"/>
            <p:cNvSpPr/>
            <p:nvPr/>
          </p:nvSpPr>
          <p:spPr>
            <a:xfrm rot="7376400">
              <a:off x="3122640" y="242568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1376"/>
            <p:cNvSpPr/>
            <p:nvPr/>
          </p:nvSpPr>
          <p:spPr>
            <a:xfrm rot="7376400">
              <a:off x="3110760" y="243252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377"/>
            <p:cNvSpPr/>
            <p:nvPr/>
          </p:nvSpPr>
          <p:spPr>
            <a:xfrm rot="7376400">
              <a:off x="3100680" y="243936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378"/>
            <p:cNvSpPr/>
            <p:nvPr/>
          </p:nvSpPr>
          <p:spPr>
            <a:xfrm rot="7376400">
              <a:off x="3094560" y="244548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379"/>
            <p:cNvSpPr/>
            <p:nvPr/>
          </p:nvSpPr>
          <p:spPr>
            <a:xfrm rot="7376400">
              <a:off x="3088440" y="244620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380"/>
            <p:cNvSpPr/>
            <p:nvPr/>
          </p:nvSpPr>
          <p:spPr>
            <a:xfrm rot="7376400">
              <a:off x="3085920" y="245340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1381"/>
            <p:cNvSpPr/>
            <p:nvPr/>
          </p:nvSpPr>
          <p:spPr>
            <a:xfrm rot="7376400">
              <a:off x="3080880" y="244728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1382"/>
            <p:cNvSpPr/>
            <p:nvPr/>
          </p:nvSpPr>
          <p:spPr>
            <a:xfrm rot="7376400">
              <a:off x="3085200" y="244512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383"/>
            <p:cNvSpPr/>
            <p:nvPr/>
          </p:nvSpPr>
          <p:spPr>
            <a:xfrm rot="7376400">
              <a:off x="3093480" y="244044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Group 1384"/>
          <p:cNvGrpSpPr/>
          <p:nvPr/>
        </p:nvGrpSpPr>
        <p:grpSpPr>
          <a:xfrm>
            <a:off x="3132000" y="2116800"/>
            <a:ext cx="252000" cy="259920"/>
            <a:chOff x="3132000" y="2116800"/>
            <a:chExt cx="252000" cy="259920"/>
          </a:xfrm>
        </p:grpSpPr>
        <p:sp>
          <p:nvSpPr>
            <p:cNvPr id="1506" name="Freeform 1385"/>
            <p:cNvSpPr/>
            <p:nvPr/>
          </p:nvSpPr>
          <p:spPr>
            <a:xfrm rot="5929200">
              <a:off x="3161160" y="2107800"/>
              <a:ext cx="126000" cy="1677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31" h="543">
                  <a:moveTo>
                    <a:pt x="0" y="525"/>
                  </a:moveTo>
                  <a:cubicBezTo>
                    <a:pt x="6" y="532"/>
                    <a:pt x="1" y="534"/>
                    <a:pt x="16" y="543"/>
                  </a:cubicBezTo>
                  <a:cubicBezTo>
                    <a:pt x="42" y="514"/>
                    <a:pt x="106" y="430"/>
                    <a:pt x="153" y="343"/>
                  </a:cubicBezTo>
                  <a:cubicBezTo>
                    <a:pt x="200" y="256"/>
                    <a:pt x="331" y="0"/>
                    <a:pt x="327" y="1"/>
                  </a:cubicBezTo>
                  <a:cubicBezTo>
                    <a:pt x="323" y="2"/>
                    <a:pt x="175" y="271"/>
                    <a:pt x="126" y="352"/>
                  </a:cubicBezTo>
                  <a:cubicBezTo>
                    <a:pt x="77" y="433"/>
                    <a:pt x="57" y="456"/>
                    <a:pt x="0" y="525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1386"/>
            <p:cNvSpPr/>
            <p:nvPr/>
          </p:nvSpPr>
          <p:spPr>
            <a:xfrm rot="5929200">
              <a:off x="3217320" y="2297160"/>
              <a:ext cx="154440" cy="540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06" h="18">
                  <a:moveTo>
                    <a:pt x="0" y="8"/>
                  </a:moveTo>
                  <a:cubicBezTo>
                    <a:pt x="23" y="10"/>
                    <a:pt x="85" y="18"/>
                    <a:pt x="141" y="17"/>
                  </a:cubicBezTo>
                  <a:cubicBezTo>
                    <a:pt x="197" y="16"/>
                    <a:pt x="293" y="6"/>
                    <a:pt x="337" y="3"/>
                  </a:cubicBezTo>
                  <a:cubicBezTo>
                    <a:pt x="381" y="0"/>
                    <a:pt x="392" y="1"/>
                    <a:pt x="406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1387"/>
            <p:cNvSpPr/>
            <p:nvPr/>
          </p:nvSpPr>
          <p:spPr>
            <a:xfrm rot="5929200">
              <a:off x="3302280" y="2204640"/>
              <a:ext cx="63360" cy="84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167" h="274">
                  <a:moveTo>
                    <a:pt x="167" y="274"/>
                  </a:moveTo>
                  <a:cubicBezTo>
                    <a:pt x="147" y="241"/>
                    <a:pt x="127" y="209"/>
                    <a:pt x="102" y="170"/>
                  </a:cubicBezTo>
                  <a:cubicBezTo>
                    <a:pt x="77" y="131"/>
                    <a:pt x="35" y="70"/>
                    <a:pt x="18" y="42"/>
                  </a:cubicBezTo>
                  <a:cubicBezTo>
                    <a:pt x="1" y="14"/>
                    <a:pt x="4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1388"/>
            <p:cNvSpPr/>
            <p:nvPr/>
          </p:nvSpPr>
          <p:spPr>
            <a:xfrm rot="5929200">
              <a:off x="3253680" y="2229480"/>
              <a:ext cx="108360" cy="320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5" h="104">
                  <a:moveTo>
                    <a:pt x="0" y="0"/>
                  </a:moveTo>
                  <a:cubicBezTo>
                    <a:pt x="38" y="14"/>
                    <a:pt x="184" y="70"/>
                    <a:pt x="231" y="87"/>
                  </a:cubicBezTo>
                  <a:cubicBezTo>
                    <a:pt x="278" y="104"/>
                    <a:pt x="274" y="99"/>
                    <a:pt x="285" y="10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1389"/>
            <p:cNvSpPr/>
            <p:nvPr/>
          </p:nvSpPr>
          <p:spPr>
            <a:xfrm rot="5929200">
              <a:off x="3229560" y="2271960"/>
              <a:ext cx="128880" cy="162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9" h="53">
                  <a:moveTo>
                    <a:pt x="0" y="0"/>
                  </a:moveTo>
                  <a:lnTo>
                    <a:pt x="243" y="45"/>
                  </a:lnTo>
                  <a:cubicBezTo>
                    <a:pt x="300" y="53"/>
                    <a:pt x="319" y="50"/>
                    <a:pt x="339" y="5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1390"/>
            <p:cNvSpPr/>
            <p:nvPr/>
          </p:nvSpPr>
          <p:spPr>
            <a:xfrm rot="5929200">
              <a:off x="3256920" y="2210760"/>
              <a:ext cx="118080" cy="4464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11" h="145">
                  <a:moveTo>
                    <a:pt x="311" y="145"/>
                  </a:moveTo>
                  <a:cubicBezTo>
                    <a:pt x="273" y="128"/>
                    <a:pt x="136" y="66"/>
                    <a:pt x="84" y="42"/>
                  </a:cubicBezTo>
                  <a:cubicBezTo>
                    <a:pt x="32" y="18"/>
                    <a:pt x="17" y="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1391"/>
            <p:cNvSpPr/>
            <p:nvPr/>
          </p:nvSpPr>
          <p:spPr>
            <a:xfrm rot="5929200">
              <a:off x="3273120" y="2229840"/>
              <a:ext cx="69480" cy="17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3" h="56">
                  <a:moveTo>
                    <a:pt x="0" y="0"/>
                  </a:moveTo>
                  <a:cubicBezTo>
                    <a:pt x="14" y="5"/>
                    <a:pt x="56" y="17"/>
                    <a:pt x="86" y="26"/>
                  </a:cubicBezTo>
                  <a:cubicBezTo>
                    <a:pt x="116" y="35"/>
                    <a:pt x="149" y="46"/>
                    <a:pt x="183" y="5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1392"/>
            <p:cNvSpPr/>
            <p:nvPr/>
          </p:nvSpPr>
          <p:spPr>
            <a:xfrm rot="5929200">
              <a:off x="3268080" y="2196720"/>
              <a:ext cx="116280" cy="5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6" h="162">
                  <a:moveTo>
                    <a:pt x="0" y="0"/>
                  </a:moveTo>
                  <a:lnTo>
                    <a:pt x="147" y="86"/>
                  </a:lnTo>
                  <a:cubicBezTo>
                    <a:pt x="198" y="113"/>
                    <a:pt x="252" y="137"/>
                    <a:pt x="306" y="16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1393"/>
            <p:cNvSpPr/>
            <p:nvPr/>
          </p:nvSpPr>
          <p:spPr>
            <a:xfrm rot="5929200">
              <a:off x="3298680" y="2198880"/>
              <a:ext cx="76680" cy="81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02" h="262">
                  <a:moveTo>
                    <a:pt x="202" y="262"/>
                  </a:moveTo>
                  <a:cubicBezTo>
                    <a:pt x="185" y="241"/>
                    <a:pt x="134" y="182"/>
                    <a:pt x="100" y="138"/>
                  </a:cubicBezTo>
                  <a:cubicBezTo>
                    <a:pt x="66" y="94"/>
                    <a:pt x="21" y="29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1394"/>
            <p:cNvSpPr/>
            <p:nvPr/>
          </p:nvSpPr>
          <p:spPr>
            <a:xfrm rot="5929200">
              <a:off x="3293280" y="2193480"/>
              <a:ext cx="88920" cy="78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255">
                  <a:moveTo>
                    <a:pt x="234" y="255"/>
                  </a:moveTo>
                  <a:cubicBezTo>
                    <a:pt x="215" y="237"/>
                    <a:pt x="159" y="185"/>
                    <a:pt x="120" y="143"/>
                  </a:cubicBezTo>
                  <a:cubicBezTo>
                    <a:pt x="81" y="101"/>
                    <a:pt x="25" y="3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1395"/>
            <p:cNvSpPr/>
            <p:nvPr/>
          </p:nvSpPr>
          <p:spPr>
            <a:xfrm rot="5929200">
              <a:off x="3279240" y="218916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91" h="267">
                  <a:moveTo>
                    <a:pt x="291" y="267"/>
                  </a:moveTo>
                  <a:cubicBezTo>
                    <a:pt x="263" y="243"/>
                    <a:pt x="169" y="165"/>
                    <a:pt x="120" y="120"/>
                  </a:cubicBezTo>
                  <a:cubicBezTo>
                    <a:pt x="71" y="75"/>
                    <a:pt x="37" y="3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1396"/>
            <p:cNvSpPr/>
            <p:nvPr/>
          </p:nvSpPr>
          <p:spPr>
            <a:xfrm rot="5929200">
              <a:off x="3279960" y="2186640"/>
              <a:ext cx="113040" cy="74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7" h="242">
                  <a:moveTo>
                    <a:pt x="297" y="242"/>
                  </a:moveTo>
                  <a:cubicBezTo>
                    <a:pt x="272" y="223"/>
                    <a:pt x="198" y="169"/>
                    <a:pt x="148" y="129"/>
                  </a:cubicBezTo>
                  <a:cubicBezTo>
                    <a:pt x="98" y="89"/>
                    <a:pt x="31" y="27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1397"/>
            <p:cNvSpPr/>
            <p:nvPr/>
          </p:nvSpPr>
          <p:spPr>
            <a:xfrm rot="5929200">
              <a:off x="3272760" y="2188080"/>
              <a:ext cx="122400" cy="71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22" h="231">
                  <a:moveTo>
                    <a:pt x="322" y="231"/>
                  </a:moveTo>
                  <a:cubicBezTo>
                    <a:pt x="298" y="215"/>
                    <a:pt x="229" y="174"/>
                    <a:pt x="175" y="136"/>
                  </a:cubicBezTo>
                  <a:cubicBezTo>
                    <a:pt x="121" y="98"/>
                    <a:pt x="36" y="2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1398"/>
            <p:cNvSpPr/>
            <p:nvPr/>
          </p:nvSpPr>
          <p:spPr>
            <a:xfrm rot="5929200">
              <a:off x="3273480" y="2188080"/>
              <a:ext cx="118440" cy="64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12" h="208">
                  <a:moveTo>
                    <a:pt x="312" y="208"/>
                  </a:moveTo>
                  <a:cubicBezTo>
                    <a:pt x="285" y="190"/>
                    <a:pt x="190" y="130"/>
                    <a:pt x="148" y="102"/>
                  </a:cubicBezTo>
                  <a:cubicBezTo>
                    <a:pt x="106" y="74"/>
                    <a:pt x="85" y="56"/>
                    <a:pt x="60" y="39"/>
                  </a:cubicBezTo>
                  <a:cubicBezTo>
                    <a:pt x="35" y="22"/>
                    <a:pt x="12" y="8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1399"/>
            <p:cNvSpPr/>
            <p:nvPr/>
          </p:nvSpPr>
          <p:spPr>
            <a:xfrm rot="5929200">
              <a:off x="3263400" y="2190960"/>
              <a:ext cx="124920" cy="64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329" h="209">
                  <a:moveTo>
                    <a:pt x="329" y="209"/>
                  </a:moveTo>
                  <a:cubicBezTo>
                    <a:pt x="292" y="186"/>
                    <a:pt x="163" y="103"/>
                    <a:pt x="108" y="68"/>
                  </a:cubicBezTo>
                  <a:cubicBezTo>
                    <a:pt x="53" y="33"/>
                    <a:pt x="22" y="14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1400"/>
            <p:cNvSpPr/>
            <p:nvPr/>
          </p:nvSpPr>
          <p:spPr>
            <a:xfrm rot="5929200">
              <a:off x="3312360" y="2211480"/>
              <a:ext cx="41400" cy="82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9" h="267">
                  <a:moveTo>
                    <a:pt x="109" y="267"/>
                  </a:moveTo>
                  <a:cubicBezTo>
                    <a:pt x="98" y="240"/>
                    <a:pt x="70" y="145"/>
                    <a:pt x="45" y="102"/>
                  </a:cubicBezTo>
                  <a:cubicBezTo>
                    <a:pt x="20" y="59"/>
                    <a:pt x="9" y="21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401"/>
            <p:cNvSpPr/>
            <p:nvPr/>
          </p:nvSpPr>
          <p:spPr>
            <a:xfrm rot="5929200">
              <a:off x="3323880" y="2223360"/>
              <a:ext cx="14400" cy="79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920"/>
                <a:gd name="textAreaBottom" fmla="*/ 79920 h 79920"/>
              </a:gdLst>
              <a:ahLst/>
              <a:rect l="textAreaLeft" t="textAreaTop" r="textAreaRight" b="textAreaBottom"/>
              <a:pathLst>
                <a:path w="38" h="259">
                  <a:moveTo>
                    <a:pt x="0" y="0"/>
                  </a:moveTo>
                  <a:cubicBezTo>
                    <a:pt x="1" y="12"/>
                    <a:pt x="2" y="37"/>
                    <a:pt x="7" y="70"/>
                  </a:cubicBezTo>
                  <a:cubicBezTo>
                    <a:pt x="12" y="103"/>
                    <a:pt x="28" y="167"/>
                    <a:pt x="33" y="198"/>
                  </a:cubicBezTo>
                  <a:cubicBezTo>
                    <a:pt x="38" y="229"/>
                    <a:pt x="36" y="246"/>
                    <a:pt x="36" y="259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402"/>
            <p:cNvSpPr/>
            <p:nvPr/>
          </p:nvSpPr>
          <p:spPr>
            <a:xfrm rot="5929200">
              <a:off x="3318480" y="2238120"/>
              <a:ext cx="16560" cy="73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4" h="238">
                  <a:moveTo>
                    <a:pt x="44" y="0"/>
                  </a:moveTo>
                  <a:cubicBezTo>
                    <a:pt x="42" y="9"/>
                    <a:pt x="35" y="33"/>
                    <a:pt x="32" y="57"/>
                  </a:cubicBezTo>
                  <a:cubicBezTo>
                    <a:pt x="29" y="81"/>
                    <a:pt x="29" y="117"/>
                    <a:pt x="24" y="147"/>
                  </a:cubicBezTo>
                  <a:cubicBezTo>
                    <a:pt x="19" y="177"/>
                    <a:pt x="9" y="208"/>
                    <a:pt x="0" y="238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403"/>
            <p:cNvSpPr/>
            <p:nvPr/>
          </p:nvSpPr>
          <p:spPr>
            <a:xfrm rot="5929200">
              <a:off x="3297600" y="2251080"/>
              <a:ext cx="50040" cy="68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2" h="220">
                  <a:moveTo>
                    <a:pt x="132" y="0"/>
                  </a:moveTo>
                  <a:cubicBezTo>
                    <a:pt x="127" y="6"/>
                    <a:pt x="117" y="14"/>
                    <a:pt x="105" y="37"/>
                  </a:cubicBezTo>
                  <a:cubicBezTo>
                    <a:pt x="93" y="60"/>
                    <a:pt x="79" y="108"/>
                    <a:pt x="62" y="138"/>
                  </a:cubicBezTo>
                  <a:cubicBezTo>
                    <a:pt x="45" y="168"/>
                    <a:pt x="13" y="203"/>
                    <a:pt x="0" y="22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404"/>
            <p:cNvSpPr/>
            <p:nvPr/>
          </p:nvSpPr>
          <p:spPr>
            <a:xfrm rot="5929200">
              <a:off x="3278520" y="226404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5" h="174">
                  <a:moveTo>
                    <a:pt x="205" y="0"/>
                  </a:moveTo>
                  <a:cubicBezTo>
                    <a:pt x="199" y="6"/>
                    <a:pt x="184" y="16"/>
                    <a:pt x="168" y="34"/>
                  </a:cubicBezTo>
                  <a:cubicBezTo>
                    <a:pt x="152" y="52"/>
                    <a:pt x="127" y="91"/>
                    <a:pt x="108" y="111"/>
                  </a:cubicBezTo>
                  <a:cubicBezTo>
                    <a:pt x="89" y="131"/>
                    <a:pt x="70" y="143"/>
                    <a:pt x="52" y="154"/>
                  </a:cubicBezTo>
                  <a:cubicBezTo>
                    <a:pt x="34" y="165"/>
                    <a:pt x="11" y="170"/>
                    <a:pt x="0" y="174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405"/>
            <p:cNvSpPr/>
            <p:nvPr/>
          </p:nvSpPr>
          <p:spPr>
            <a:xfrm rot="5929200">
              <a:off x="3270960" y="2282400"/>
              <a:ext cx="81720" cy="4356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5" h="141">
                  <a:moveTo>
                    <a:pt x="215" y="0"/>
                  </a:moveTo>
                  <a:cubicBezTo>
                    <a:pt x="208" y="4"/>
                    <a:pt x="196" y="9"/>
                    <a:pt x="173" y="26"/>
                  </a:cubicBezTo>
                  <a:cubicBezTo>
                    <a:pt x="150" y="43"/>
                    <a:pt x="107" y="83"/>
                    <a:pt x="78" y="102"/>
                  </a:cubicBezTo>
                  <a:cubicBezTo>
                    <a:pt x="49" y="121"/>
                    <a:pt x="16" y="133"/>
                    <a:pt x="0" y="14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406"/>
            <p:cNvSpPr/>
            <p:nvPr/>
          </p:nvSpPr>
          <p:spPr>
            <a:xfrm rot="5929200">
              <a:off x="3260520" y="2291760"/>
              <a:ext cx="91440" cy="34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41" h="111">
                  <a:moveTo>
                    <a:pt x="241" y="0"/>
                  </a:moveTo>
                  <a:cubicBezTo>
                    <a:pt x="232" y="4"/>
                    <a:pt x="213" y="8"/>
                    <a:pt x="187" y="21"/>
                  </a:cubicBezTo>
                  <a:cubicBezTo>
                    <a:pt x="161" y="34"/>
                    <a:pt x="115" y="65"/>
                    <a:pt x="84" y="80"/>
                  </a:cubicBezTo>
                  <a:cubicBezTo>
                    <a:pt x="53" y="95"/>
                    <a:pt x="26" y="103"/>
                    <a:pt x="0" y="111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407"/>
            <p:cNvSpPr/>
            <p:nvPr/>
          </p:nvSpPr>
          <p:spPr>
            <a:xfrm rot="5929200">
              <a:off x="3252960" y="2300760"/>
              <a:ext cx="99360" cy="28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1" h="92">
                  <a:moveTo>
                    <a:pt x="261" y="0"/>
                  </a:moveTo>
                  <a:cubicBezTo>
                    <a:pt x="251" y="3"/>
                    <a:pt x="224" y="8"/>
                    <a:pt x="198" y="18"/>
                  </a:cubicBezTo>
                  <a:cubicBezTo>
                    <a:pt x="172" y="28"/>
                    <a:pt x="141" y="48"/>
                    <a:pt x="108" y="60"/>
                  </a:cubicBezTo>
                  <a:cubicBezTo>
                    <a:pt x="75" y="72"/>
                    <a:pt x="37" y="82"/>
                    <a:pt x="0" y="9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408"/>
            <p:cNvSpPr/>
            <p:nvPr/>
          </p:nvSpPr>
          <p:spPr>
            <a:xfrm rot="5929200">
              <a:off x="3247920" y="2308680"/>
              <a:ext cx="101880" cy="20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268" h="67">
                  <a:moveTo>
                    <a:pt x="268" y="0"/>
                  </a:moveTo>
                  <a:cubicBezTo>
                    <a:pt x="257" y="3"/>
                    <a:pt x="230" y="8"/>
                    <a:pt x="202" y="16"/>
                  </a:cubicBezTo>
                  <a:cubicBezTo>
                    <a:pt x="174" y="24"/>
                    <a:pt x="133" y="40"/>
                    <a:pt x="99" y="49"/>
                  </a:cubicBezTo>
                  <a:cubicBezTo>
                    <a:pt x="65" y="58"/>
                    <a:pt x="32" y="62"/>
                    <a:pt x="0" y="6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1409"/>
            <p:cNvSpPr/>
            <p:nvPr/>
          </p:nvSpPr>
          <p:spPr>
            <a:xfrm rot="5929200">
              <a:off x="3241440" y="2310840"/>
              <a:ext cx="108360" cy="15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5" h="50">
                  <a:moveTo>
                    <a:pt x="285" y="0"/>
                  </a:moveTo>
                  <a:cubicBezTo>
                    <a:pt x="275" y="2"/>
                    <a:pt x="250" y="6"/>
                    <a:pt x="222" y="11"/>
                  </a:cubicBezTo>
                  <a:cubicBezTo>
                    <a:pt x="194" y="16"/>
                    <a:pt x="156" y="26"/>
                    <a:pt x="119" y="32"/>
                  </a:cubicBezTo>
                  <a:cubicBezTo>
                    <a:pt x="82" y="38"/>
                    <a:pt x="25" y="46"/>
                    <a:pt x="0" y="5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1410"/>
            <p:cNvSpPr/>
            <p:nvPr/>
          </p:nvSpPr>
          <p:spPr>
            <a:xfrm rot="5929200">
              <a:off x="3241440" y="2319840"/>
              <a:ext cx="102600" cy="9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70" h="32">
                  <a:moveTo>
                    <a:pt x="270" y="0"/>
                  </a:moveTo>
                  <a:cubicBezTo>
                    <a:pt x="258" y="1"/>
                    <a:pt x="226" y="3"/>
                    <a:pt x="200" y="6"/>
                  </a:cubicBezTo>
                  <a:cubicBezTo>
                    <a:pt x="174" y="9"/>
                    <a:pt x="144" y="17"/>
                    <a:pt x="111" y="21"/>
                  </a:cubicBezTo>
                  <a:cubicBezTo>
                    <a:pt x="78" y="25"/>
                    <a:pt x="23" y="30"/>
                    <a:pt x="0" y="32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1411"/>
            <p:cNvSpPr/>
            <p:nvPr/>
          </p:nvSpPr>
          <p:spPr>
            <a:xfrm rot="5929200">
              <a:off x="3232080" y="2314080"/>
              <a:ext cx="115200" cy="1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3" h="6">
                  <a:moveTo>
                    <a:pt x="303" y="0"/>
                  </a:moveTo>
                  <a:cubicBezTo>
                    <a:pt x="285" y="0"/>
                    <a:pt x="245" y="1"/>
                    <a:pt x="195" y="2"/>
                  </a:cubicBezTo>
                  <a:cubicBezTo>
                    <a:pt x="145" y="3"/>
                    <a:pt x="41" y="5"/>
                    <a:pt x="0" y="6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1412"/>
            <p:cNvSpPr/>
            <p:nvPr/>
          </p:nvSpPr>
          <p:spPr>
            <a:xfrm rot="5929200">
              <a:off x="3235680" y="2313000"/>
              <a:ext cx="103680" cy="18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3" h="6">
                  <a:moveTo>
                    <a:pt x="273" y="6"/>
                  </a:moveTo>
                  <a:cubicBezTo>
                    <a:pt x="255" y="5"/>
                    <a:pt x="212" y="2"/>
                    <a:pt x="167" y="1"/>
                  </a:cubicBezTo>
                  <a:cubicBezTo>
                    <a:pt x="122" y="0"/>
                    <a:pt x="35" y="0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1413"/>
            <p:cNvSpPr/>
            <p:nvPr/>
          </p:nvSpPr>
          <p:spPr>
            <a:xfrm rot="5929200">
              <a:off x="3242520" y="2308320"/>
              <a:ext cx="88200" cy="43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32" h="15">
                  <a:moveTo>
                    <a:pt x="232" y="15"/>
                  </a:moveTo>
                  <a:cubicBezTo>
                    <a:pt x="219" y="14"/>
                    <a:pt x="193" y="12"/>
                    <a:pt x="154" y="10"/>
                  </a:cubicBezTo>
                  <a:cubicBezTo>
                    <a:pt x="115" y="8"/>
                    <a:pt x="32" y="2"/>
                    <a:pt x="0" y="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5" name="Group 2646"/>
          <p:cNvGrpSpPr/>
          <p:nvPr/>
        </p:nvGrpSpPr>
        <p:grpSpPr>
          <a:xfrm>
            <a:off x="3800520" y="2643480"/>
            <a:ext cx="893160" cy="890640"/>
            <a:chOff x="3800520" y="2643480"/>
            <a:chExt cx="893160" cy="890640"/>
          </a:xfrm>
        </p:grpSpPr>
        <p:grpSp>
          <p:nvGrpSpPr>
            <p:cNvPr id="1536" name="Group 1416"/>
            <p:cNvGrpSpPr/>
            <p:nvPr/>
          </p:nvGrpSpPr>
          <p:grpSpPr>
            <a:xfrm>
              <a:off x="4093560" y="2643480"/>
              <a:ext cx="249120" cy="347040"/>
              <a:chOff x="4093560" y="2643480"/>
              <a:chExt cx="249120" cy="347040"/>
            </a:xfrm>
          </p:grpSpPr>
          <p:sp>
            <p:nvSpPr>
              <p:cNvPr id="1537" name="Freeform 1417"/>
              <p:cNvSpPr/>
              <p:nvPr/>
            </p:nvSpPr>
            <p:spPr>
              <a:xfrm rot="19843200">
                <a:off x="4164120" y="275256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1418"/>
              <p:cNvSpPr/>
              <p:nvPr/>
            </p:nvSpPr>
            <p:spPr>
              <a:xfrm rot="19843200">
                <a:off x="4183560" y="271116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1419"/>
              <p:cNvSpPr/>
              <p:nvPr/>
            </p:nvSpPr>
            <p:spPr>
              <a:xfrm rot="19843200">
                <a:off x="4158360" y="265428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1420"/>
              <p:cNvSpPr/>
              <p:nvPr/>
            </p:nvSpPr>
            <p:spPr>
              <a:xfrm rot="19843200">
                <a:off x="4152600" y="2716560"/>
                <a:ext cx="115200" cy="417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1421"/>
              <p:cNvSpPr/>
              <p:nvPr/>
            </p:nvSpPr>
            <p:spPr>
              <a:xfrm rot="19843200">
                <a:off x="4181400" y="271764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1422"/>
              <p:cNvSpPr/>
              <p:nvPr/>
            </p:nvSpPr>
            <p:spPr>
              <a:xfrm rot="19843200">
                <a:off x="4131720" y="2708280"/>
                <a:ext cx="125640" cy="583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1423"/>
              <p:cNvSpPr/>
              <p:nvPr/>
            </p:nvSpPr>
            <p:spPr>
              <a:xfrm rot="19843200">
                <a:off x="4168080" y="273060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1424"/>
              <p:cNvSpPr/>
              <p:nvPr/>
            </p:nvSpPr>
            <p:spPr>
              <a:xfrm rot="19843200">
                <a:off x="4115520" y="270216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1425"/>
              <p:cNvSpPr/>
              <p:nvPr/>
            </p:nvSpPr>
            <p:spPr>
              <a:xfrm rot="19843200">
                <a:off x="4142160" y="265824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1426"/>
              <p:cNvSpPr/>
              <p:nvPr/>
            </p:nvSpPr>
            <p:spPr>
              <a:xfrm rot="19843200">
                <a:off x="4129920" y="266328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1427"/>
              <p:cNvSpPr/>
              <p:nvPr/>
            </p:nvSpPr>
            <p:spPr>
              <a:xfrm rot="19843200">
                <a:off x="4119120" y="266616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1428"/>
              <p:cNvSpPr/>
              <p:nvPr/>
            </p:nvSpPr>
            <p:spPr>
              <a:xfrm rot="19843200">
                <a:off x="4110480" y="267372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1429"/>
              <p:cNvSpPr/>
              <p:nvPr/>
            </p:nvSpPr>
            <p:spPr>
              <a:xfrm rot="19843200">
                <a:off x="4107960" y="267876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1430"/>
              <p:cNvSpPr/>
              <p:nvPr/>
            </p:nvSpPr>
            <p:spPr>
              <a:xfrm rot="19843200">
                <a:off x="4108320" y="268704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1431"/>
              <p:cNvSpPr/>
              <p:nvPr/>
            </p:nvSpPr>
            <p:spPr>
              <a:xfrm rot="19843200">
                <a:off x="4111920" y="2691720"/>
                <a:ext cx="132840" cy="842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1432"/>
              <p:cNvSpPr/>
              <p:nvPr/>
            </p:nvSpPr>
            <p:spPr>
              <a:xfrm rot="19843200">
                <a:off x="4175640" y="265212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1433"/>
              <p:cNvSpPr/>
              <p:nvPr/>
            </p:nvSpPr>
            <p:spPr>
              <a:xfrm rot="19843200">
                <a:off x="4199760" y="264888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1434"/>
              <p:cNvSpPr/>
              <p:nvPr/>
            </p:nvSpPr>
            <p:spPr>
              <a:xfrm rot="19843200">
                <a:off x="4211280" y="264924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1435"/>
              <p:cNvSpPr/>
              <p:nvPr/>
            </p:nvSpPr>
            <p:spPr>
              <a:xfrm rot="19843200">
                <a:off x="4205160" y="265068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1436"/>
              <p:cNvSpPr/>
              <p:nvPr/>
            </p:nvSpPr>
            <p:spPr>
              <a:xfrm rot="19843200">
                <a:off x="4199040" y="2660760"/>
                <a:ext cx="82800" cy="7020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1437"/>
              <p:cNvSpPr/>
              <p:nvPr/>
            </p:nvSpPr>
            <p:spPr>
              <a:xfrm rot="19843200">
                <a:off x="4212000" y="266436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1438"/>
              <p:cNvSpPr/>
              <p:nvPr/>
            </p:nvSpPr>
            <p:spPr>
              <a:xfrm rot="19843200">
                <a:off x="4215600" y="267300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1439"/>
              <p:cNvSpPr/>
              <p:nvPr/>
            </p:nvSpPr>
            <p:spPr>
              <a:xfrm rot="19843200">
                <a:off x="4218840" y="2676240"/>
                <a:ext cx="105480" cy="3708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1440"/>
              <p:cNvSpPr/>
              <p:nvPr/>
            </p:nvSpPr>
            <p:spPr>
              <a:xfrm rot="19843200">
                <a:off x="4223520" y="2683080"/>
                <a:ext cx="108360" cy="2700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1441"/>
              <p:cNvSpPr/>
              <p:nvPr/>
            </p:nvSpPr>
            <p:spPr>
              <a:xfrm rot="19843200">
                <a:off x="4222440" y="2689920"/>
                <a:ext cx="115200" cy="201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1442"/>
              <p:cNvSpPr/>
              <p:nvPr/>
            </p:nvSpPr>
            <p:spPr>
              <a:xfrm rot="19843200">
                <a:off x="4232520" y="2692440"/>
                <a:ext cx="109080" cy="126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1443"/>
              <p:cNvSpPr/>
              <p:nvPr/>
            </p:nvSpPr>
            <p:spPr>
              <a:xfrm rot="19843200">
                <a:off x="4220280" y="2707200"/>
                <a:ext cx="122400" cy="216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1444"/>
              <p:cNvSpPr/>
              <p:nvPr/>
            </p:nvSpPr>
            <p:spPr>
              <a:xfrm rot="19843200">
                <a:off x="4226760" y="271044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1445"/>
              <p:cNvSpPr/>
              <p:nvPr/>
            </p:nvSpPr>
            <p:spPr>
              <a:xfrm rot="19843200">
                <a:off x="4232880" y="271224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6" name="Group 1446"/>
            <p:cNvGrpSpPr/>
            <p:nvPr/>
          </p:nvGrpSpPr>
          <p:grpSpPr>
            <a:xfrm>
              <a:off x="3949560" y="2660760"/>
              <a:ext cx="321840" cy="334800"/>
              <a:chOff x="3949560" y="2660760"/>
              <a:chExt cx="321840" cy="334800"/>
            </a:xfrm>
          </p:grpSpPr>
          <p:sp>
            <p:nvSpPr>
              <p:cNvPr id="1567" name="Freeform 1447"/>
              <p:cNvSpPr/>
              <p:nvPr/>
            </p:nvSpPr>
            <p:spPr>
              <a:xfrm rot="18100200">
                <a:off x="4076280" y="277128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1448"/>
              <p:cNvSpPr/>
              <p:nvPr/>
            </p:nvSpPr>
            <p:spPr>
              <a:xfrm rot="18100200">
                <a:off x="4019760" y="273168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1449"/>
              <p:cNvSpPr/>
              <p:nvPr/>
            </p:nvSpPr>
            <p:spPr>
              <a:xfrm rot="18100200">
                <a:off x="4001040" y="271116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1450"/>
              <p:cNvSpPr/>
              <p:nvPr/>
            </p:nvSpPr>
            <p:spPr>
              <a:xfrm rot="18100200">
                <a:off x="4006800" y="2760840"/>
                <a:ext cx="114840" cy="417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1451"/>
              <p:cNvSpPr/>
              <p:nvPr/>
            </p:nvSpPr>
            <p:spPr>
              <a:xfrm rot="18100200">
                <a:off x="4025880" y="274428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1452"/>
              <p:cNvSpPr/>
              <p:nvPr/>
            </p:nvSpPr>
            <p:spPr>
              <a:xfrm rot="18100200">
                <a:off x="3987720" y="2760480"/>
                <a:ext cx="125280" cy="5832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453"/>
              <p:cNvSpPr/>
              <p:nvPr/>
            </p:nvSpPr>
            <p:spPr>
              <a:xfrm rot="18100200">
                <a:off x="4024800" y="277776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454"/>
              <p:cNvSpPr/>
              <p:nvPr/>
            </p:nvSpPr>
            <p:spPr>
              <a:xfrm rot="18100200">
                <a:off x="3972240" y="276300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455"/>
              <p:cNvSpPr/>
              <p:nvPr/>
            </p:nvSpPr>
            <p:spPr>
              <a:xfrm rot="18100200">
                <a:off x="3987000" y="271980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1456"/>
              <p:cNvSpPr/>
              <p:nvPr/>
            </p:nvSpPr>
            <p:spPr>
              <a:xfrm rot="18100200">
                <a:off x="3976920" y="272664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457"/>
              <p:cNvSpPr/>
              <p:nvPr/>
            </p:nvSpPr>
            <p:spPr>
              <a:xfrm rot="18100200">
                <a:off x="3968640" y="272844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1458"/>
              <p:cNvSpPr/>
              <p:nvPr/>
            </p:nvSpPr>
            <p:spPr>
              <a:xfrm rot="18100200">
                <a:off x="3962520" y="273888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1459"/>
              <p:cNvSpPr/>
              <p:nvPr/>
            </p:nvSpPr>
            <p:spPr>
              <a:xfrm rot="18100200">
                <a:off x="3960720" y="274284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460"/>
              <p:cNvSpPr/>
              <p:nvPr/>
            </p:nvSpPr>
            <p:spPr>
              <a:xfrm rot="18100200">
                <a:off x="3963240" y="275148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1461"/>
              <p:cNvSpPr/>
              <p:nvPr/>
            </p:nvSpPr>
            <p:spPr>
              <a:xfrm rot="18100200">
                <a:off x="3968640" y="2752200"/>
                <a:ext cx="132480" cy="8424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1462"/>
              <p:cNvSpPr/>
              <p:nvPr/>
            </p:nvSpPr>
            <p:spPr>
              <a:xfrm rot="18100200">
                <a:off x="4015800" y="270720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463"/>
              <p:cNvSpPr/>
              <p:nvPr/>
            </p:nvSpPr>
            <p:spPr>
              <a:xfrm rot="18100200">
                <a:off x="4036680" y="269928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464"/>
              <p:cNvSpPr/>
              <p:nvPr/>
            </p:nvSpPr>
            <p:spPr>
              <a:xfrm rot="18100200">
                <a:off x="4044240" y="269460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465"/>
              <p:cNvSpPr/>
              <p:nvPr/>
            </p:nvSpPr>
            <p:spPr>
              <a:xfrm rot="18100200">
                <a:off x="4035960" y="268992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466"/>
              <p:cNvSpPr/>
              <p:nvPr/>
            </p:nvSpPr>
            <p:spPr>
              <a:xfrm rot="18100200">
                <a:off x="4029120" y="2696040"/>
                <a:ext cx="82440" cy="70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1467"/>
              <p:cNvSpPr/>
              <p:nvPr/>
            </p:nvSpPr>
            <p:spPr>
              <a:xfrm rot="18100200">
                <a:off x="4039200" y="269244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468"/>
              <p:cNvSpPr/>
              <p:nvPr/>
            </p:nvSpPr>
            <p:spPr>
              <a:xfrm rot="18100200">
                <a:off x="4042080" y="269712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1469"/>
              <p:cNvSpPr/>
              <p:nvPr/>
            </p:nvSpPr>
            <p:spPr>
              <a:xfrm rot="18100200">
                <a:off x="4044600" y="2696760"/>
                <a:ext cx="105120" cy="3708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1470"/>
              <p:cNvSpPr/>
              <p:nvPr/>
            </p:nvSpPr>
            <p:spPr>
              <a:xfrm rot="18100200">
                <a:off x="4049280" y="2700000"/>
                <a:ext cx="108000" cy="270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471"/>
              <p:cNvSpPr/>
              <p:nvPr/>
            </p:nvSpPr>
            <p:spPr>
              <a:xfrm rot="18100200">
                <a:off x="4049640" y="2705400"/>
                <a:ext cx="114840" cy="20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1472"/>
              <p:cNvSpPr/>
              <p:nvPr/>
            </p:nvSpPr>
            <p:spPr>
              <a:xfrm rot="18100200">
                <a:off x="4058280" y="2705040"/>
                <a:ext cx="108720" cy="1260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1473"/>
              <p:cNvSpPr/>
              <p:nvPr/>
            </p:nvSpPr>
            <p:spPr>
              <a:xfrm rot="18100200">
                <a:off x="4051080" y="2721240"/>
                <a:ext cx="122040" cy="216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474"/>
              <p:cNvSpPr/>
              <p:nvPr/>
            </p:nvSpPr>
            <p:spPr>
              <a:xfrm rot="18100200">
                <a:off x="4059360" y="272340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475"/>
              <p:cNvSpPr/>
              <p:nvPr/>
            </p:nvSpPr>
            <p:spPr>
              <a:xfrm rot="18100200">
                <a:off x="4067280" y="272592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6" name="Group 1476"/>
            <p:cNvGrpSpPr/>
            <p:nvPr/>
          </p:nvGrpSpPr>
          <p:grpSpPr>
            <a:xfrm>
              <a:off x="3845160" y="2785680"/>
              <a:ext cx="325080" cy="250560"/>
              <a:chOff x="3845160" y="2785680"/>
              <a:chExt cx="325080" cy="250560"/>
            </a:xfrm>
          </p:grpSpPr>
          <p:sp>
            <p:nvSpPr>
              <p:cNvPr id="1597" name="Freeform 1477"/>
              <p:cNvSpPr/>
              <p:nvPr/>
            </p:nvSpPr>
            <p:spPr>
              <a:xfrm rot="16005000">
                <a:off x="3989880" y="285372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1478"/>
              <p:cNvSpPr/>
              <p:nvPr/>
            </p:nvSpPr>
            <p:spPr>
              <a:xfrm rot="16005000">
                <a:off x="3857400" y="286380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1479"/>
              <p:cNvSpPr/>
              <p:nvPr/>
            </p:nvSpPr>
            <p:spPr>
              <a:xfrm rot="16005000">
                <a:off x="3868920" y="287604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480"/>
              <p:cNvSpPr/>
              <p:nvPr/>
            </p:nvSpPr>
            <p:spPr>
              <a:xfrm rot="16005000">
                <a:off x="3878280" y="2906280"/>
                <a:ext cx="114840" cy="417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1481"/>
              <p:cNvSpPr/>
              <p:nvPr/>
            </p:nvSpPr>
            <p:spPr>
              <a:xfrm rot="16005000">
                <a:off x="3876120" y="287712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482"/>
              <p:cNvSpPr/>
              <p:nvPr/>
            </p:nvSpPr>
            <p:spPr>
              <a:xfrm rot="16005000">
                <a:off x="3866040" y="2912040"/>
                <a:ext cx="125280" cy="5832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483"/>
              <p:cNvSpPr/>
              <p:nvPr/>
            </p:nvSpPr>
            <p:spPr>
              <a:xfrm rot="16005000">
                <a:off x="3900600" y="292284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484"/>
              <p:cNvSpPr/>
              <p:nvPr/>
            </p:nvSpPr>
            <p:spPr>
              <a:xfrm rot="16005000">
                <a:off x="3857040" y="292320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1485"/>
              <p:cNvSpPr/>
              <p:nvPr/>
            </p:nvSpPr>
            <p:spPr>
              <a:xfrm rot="16005000">
                <a:off x="3859560" y="288720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486"/>
              <p:cNvSpPr/>
              <p:nvPr/>
            </p:nvSpPr>
            <p:spPr>
              <a:xfrm rot="16005000">
                <a:off x="3853440" y="289548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1487"/>
              <p:cNvSpPr/>
              <p:nvPr/>
            </p:nvSpPr>
            <p:spPr>
              <a:xfrm rot="16005000">
                <a:off x="3846960" y="289476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1488"/>
              <p:cNvSpPr/>
              <p:nvPr/>
            </p:nvSpPr>
            <p:spPr>
              <a:xfrm rot="16005000">
                <a:off x="3844800" y="290700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1489"/>
              <p:cNvSpPr/>
              <p:nvPr/>
            </p:nvSpPr>
            <p:spPr>
              <a:xfrm rot="16005000">
                <a:off x="3843360" y="290844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1490"/>
              <p:cNvSpPr/>
              <p:nvPr/>
            </p:nvSpPr>
            <p:spPr>
              <a:xfrm rot="16005000">
                <a:off x="3848040" y="291636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491"/>
              <p:cNvSpPr/>
              <p:nvPr/>
            </p:nvSpPr>
            <p:spPr>
              <a:xfrm rot="16005000">
                <a:off x="3852360" y="2912040"/>
                <a:ext cx="132480" cy="8424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492"/>
              <p:cNvSpPr/>
              <p:nvPr/>
            </p:nvSpPr>
            <p:spPr>
              <a:xfrm rot="16005000">
                <a:off x="3879720" y="287136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1493"/>
              <p:cNvSpPr/>
              <p:nvPr/>
            </p:nvSpPr>
            <p:spPr>
              <a:xfrm rot="16005000">
                <a:off x="3894120" y="286128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494"/>
              <p:cNvSpPr/>
              <p:nvPr/>
            </p:nvSpPr>
            <p:spPr>
              <a:xfrm rot="16005000">
                <a:off x="3895200" y="285300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495"/>
              <p:cNvSpPr/>
              <p:nvPr/>
            </p:nvSpPr>
            <p:spPr>
              <a:xfrm rot="16005000">
                <a:off x="3880440" y="284436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496"/>
              <p:cNvSpPr/>
              <p:nvPr/>
            </p:nvSpPr>
            <p:spPr>
              <a:xfrm rot="16005000">
                <a:off x="3870360" y="2846880"/>
                <a:ext cx="82440" cy="70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497"/>
              <p:cNvSpPr/>
              <p:nvPr/>
            </p:nvSpPr>
            <p:spPr>
              <a:xfrm rot="16005000">
                <a:off x="3872160" y="283860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498"/>
              <p:cNvSpPr/>
              <p:nvPr/>
            </p:nvSpPr>
            <p:spPr>
              <a:xfrm rot="16005000">
                <a:off x="3872880" y="283824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1499"/>
              <p:cNvSpPr/>
              <p:nvPr/>
            </p:nvSpPr>
            <p:spPr>
              <a:xfrm rot="16005000">
                <a:off x="3872160" y="2835000"/>
                <a:ext cx="105120" cy="3708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500"/>
              <p:cNvSpPr/>
              <p:nvPr/>
            </p:nvSpPr>
            <p:spPr>
              <a:xfrm rot="16005000">
                <a:off x="3874320" y="2835360"/>
                <a:ext cx="108000" cy="270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1501"/>
              <p:cNvSpPr/>
              <p:nvPr/>
            </p:nvSpPr>
            <p:spPr>
              <a:xfrm rot="16005000">
                <a:off x="3875040" y="2838240"/>
                <a:ext cx="114840" cy="20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1502"/>
              <p:cNvSpPr/>
              <p:nvPr/>
            </p:nvSpPr>
            <p:spPr>
              <a:xfrm rot="16005000">
                <a:off x="3880080" y="2835000"/>
                <a:ext cx="108720" cy="1260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1503"/>
              <p:cNvSpPr/>
              <p:nvPr/>
            </p:nvSpPr>
            <p:spPr>
              <a:xfrm rot="16005000">
                <a:off x="3879360" y="2849760"/>
                <a:ext cx="122040" cy="216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1504"/>
              <p:cNvSpPr/>
              <p:nvPr/>
            </p:nvSpPr>
            <p:spPr>
              <a:xfrm rot="16005000">
                <a:off x="3889080" y="285012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1505"/>
              <p:cNvSpPr/>
              <p:nvPr/>
            </p:nvSpPr>
            <p:spPr>
              <a:xfrm rot="16005000">
                <a:off x="3899160" y="285192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6" name="Group 1506"/>
            <p:cNvGrpSpPr/>
            <p:nvPr/>
          </p:nvGrpSpPr>
          <p:grpSpPr>
            <a:xfrm>
              <a:off x="4328640" y="2754000"/>
              <a:ext cx="330840" cy="324720"/>
              <a:chOff x="4328640" y="2754000"/>
              <a:chExt cx="330840" cy="324720"/>
            </a:xfrm>
          </p:grpSpPr>
          <p:sp>
            <p:nvSpPr>
              <p:cNvPr id="1627" name="Freeform 1507"/>
              <p:cNvSpPr/>
              <p:nvPr/>
            </p:nvSpPr>
            <p:spPr>
              <a:xfrm rot="1746600">
                <a:off x="4373280" y="284040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1508"/>
              <p:cNvSpPr/>
              <p:nvPr/>
            </p:nvSpPr>
            <p:spPr>
              <a:xfrm rot="1746600">
                <a:off x="4501800" y="289872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509"/>
              <p:cNvSpPr/>
              <p:nvPr/>
            </p:nvSpPr>
            <p:spPr>
              <a:xfrm rot="1746600">
                <a:off x="4515840" y="278208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1510"/>
              <p:cNvSpPr/>
              <p:nvPr/>
            </p:nvSpPr>
            <p:spPr>
              <a:xfrm rot="1746600">
                <a:off x="4477680" y="2846520"/>
                <a:ext cx="115200" cy="417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1511"/>
              <p:cNvSpPr/>
              <p:nvPr/>
            </p:nvSpPr>
            <p:spPr>
              <a:xfrm rot="1746600">
                <a:off x="4495320" y="288540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1512"/>
              <p:cNvSpPr/>
              <p:nvPr/>
            </p:nvSpPr>
            <p:spPr>
              <a:xfrm rot="1746600">
                <a:off x="4464360" y="2824200"/>
                <a:ext cx="125640" cy="583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1513"/>
              <p:cNvSpPr/>
              <p:nvPr/>
            </p:nvSpPr>
            <p:spPr>
              <a:xfrm rot="1746600">
                <a:off x="4491360" y="285372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1514"/>
              <p:cNvSpPr/>
              <p:nvPr/>
            </p:nvSpPr>
            <p:spPr>
              <a:xfrm rot="1746600">
                <a:off x="4458600" y="280512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1515"/>
              <p:cNvSpPr/>
              <p:nvPr/>
            </p:nvSpPr>
            <p:spPr>
              <a:xfrm rot="1746600">
                <a:off x="4502520" y="277740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1516"/>
              <p:cNvSpPr/>
              <p:nvPr/>
            </p:nvSpPr>
            <p:spPr>
              <a:xfrm rot="1746600">
                <a:off x="4489920" y="277560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1517"/>
              <p:cNvSpPr/>
              <p:nvPr/>
            </p:nvSpPr>
            <p:spPr>
              <a:xfrm rot="1746600">
                <a:off x="4474440" y="277668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1518"/>
              <p:cNvSpPr/>
              <p:nvPr/>
            </p:nvSpPr>
            <p:spPr>
              <a:xfrm rot="1746600">
                <a:off x="4467600" y="277668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519"/>
              <p:cNvSpPr/>
              <p:nvPr/>
            </p:nvSpPr>
            <p:spPr>
              <a:xfrm rot="1746600">
                <a:off x="4461120" y="278244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1520"/>
              <p:cNvSpPr/>
              <p:nvPr/>
            </p:nvSpPr>
            <p:spPr>
              <a:xfrm rot="1746600">
                <a:off x="4459320" y="278784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1521"/>
              <p:cNvSpPr/>
              <p:nvPr/>
            </p:nvSpPr>
            <p:spPr>
              <a:xfrm rot="1746600">
                <a:off x="4455360" y="2795760"/>
                <a:ext cx="132840" cy="842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1522"/>
              <p:cNvSpPr/>
              <p:nvPr/>
            </p:nvSpPr>
            <p:spPr>
              <a:xfrm rot="1746600">
                <a:off x="4533480" y="278604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1523"/>
              <p:cNvSpPr/>
              <p:nvPr/>
            </p:nvSpPr>
            <p:spPr>
              <a:xfrm rot="1746600">
                <a:off x="4557240" y="279324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1524"/>
              <p:cNvSpPr/>
              <p:nvPr/>
            </p:nvSpPr>
            <p:spPr>
              <a:xfrm rot="1746600">
                <a:off x="4565520" y="280656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1525"/>
              <p:cNvSpPr/>
              <p:nvPr/>
            </p:nvSpPr>
            <p:spPr>
              <a:xfrm rot="1746600">
                <a:off x="4556160" y="281880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1526"/>
              <p:cNvSpPr/>
              <p:nvPr/>
            </p:nvSpPr>
            <p:spPr>
              <a:xfrm rot="1746600">
                <a:off x="4545360" y="2836080"/>
                <a:ext cx="82800" cy="7020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1527"/>
              <p:cNvSpPr/>
              <p:nvPr/>
            </p:nvSpPr>
            <p:spPr>
              <a:xfrm rot="1746600">
                <a:off x="4553640" y="285408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528"/>
              <p:cNvSpPr/>
              <p:nvPr/>
            </p:nvSpPr>
            <p:spPr>
              <a:xfrm rot="1746600">
                <a:off x="4550760" y="286848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529"/>
              <p:cNvSpPr/>
              <p:nvPr/>
            </p:nvSpPr>
            <p:spPr>
              <a:xfrm rot="1746600">
                <a:off x="4551120" y="2878560"/>
                <a:ext cx="105480" cy="3708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530"/>
              <p:cNvSpPr/>
              <p:nvPr/>
            </p:nvSpPr>
            <p:spPr>
              <a:xfrm rot="1746600">
                <a:off x="4551120" y="2889720"/>
                <a:ext cx="108360" cy="2700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531"/>
              <p:cNvSpPr/>
              <p:nvPr/>
            </p:nvSpPr>
            <p:spPr>
              <a:xfrm rot="1746600">
                <a:off x="4546440" y="2896920"/>
                <a:ext cx="115200" cy="201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1532"/>
              <p:cNvSpPr/>
              <p:nvPr/>
            </p:nvSpPr>
            <p:spPr>
              <a:xfrm rot="1746600">
                <a:off x="4554000" y="2905920"/>
                <a:ext cx="109080" cy="126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533"/>
              <p:cNvSpPr/>
              <p:nvPr/>
            </p:nvSpPr>
            <p:spPr>
              <a:xfrm rot="1746600">
                <a:off x="4536360" y="2911680"/>
                <a:ext cx="122400" cy="216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534"/>
              <p:cNvSpPr/>
              <p:nvPr/>
            </p:nvSpPr>
            <p:spPr>
              <a:xfrm rot="1746600">
                <a:off x="4539960" y="291384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535"/>
              <p:cNvSpPr/>
              <p:nvPr/>
            </p:nvSpPr>
            <p:spPr>
              <a:xfrm rot="1746600">
                <a:off x="4543920" y="291168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6" name="Group 1536"/>
            <p:cNvGrpSpPr/>
            <p:nvPr/>
          </p:nvGrpSpPr>
          <p:grpSpPr>
            <a:xfrm>
              <a:off x="4295520" y="3144600"/>
              <a:ext cx="329400" cy="315360"/>
              <a:chOff x="4295520" y="3144600"/>
              <a:chExt cx="329400" cy="315360"/>
            </a:xfrm>
          </p:grpSpPr>
          <p:sp>
            <p:nvSpPr>
              <p:cNvPr id="1657" name="Freeform 1537"/>
              <p:cNvSpPr/>
              <p:nvPr/>
            </p:nvSpPr>
            <p:spPr>
              <a:xfrm rot="6650400">
                <a:off x="4354560" y="313632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538"/>
              <p:cNvSpPr/>
              <p:nvPr/>
            </p:nvSpPr>
            <p:spPr>
              <a:xfrm rot="6650400">
                <a:off x="4407840" y="337752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1539"/>
              <p:cNvSpPr/>
              <p:nvPr/>
            </p:nvSpPr>
            <p:spPr>
              <a:xfrm rot="6650400">
                <a:off x="4515480" y="328284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1540"/>
              <p:cNvSpPr/>
              <p:nvPr/>
            </p:nvSpPr>
            <p:spPr>
              <a:xfrm rot="6650400">
                <a:off x="4460040" y="3307320"/>
                <a:ext cx="114840" cy="417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1541"/>
              <p:cNvSpPr/>
              <p:nvPr/>
            </p:nvSpPr>
            <p:spPr>
              <a:xfrm rot="6650400">
                <a:off x="4424400" y="334980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1542"/>
              <p:cNvSpPr/>
              <p:nvPr/>
            </p:nvSpPr>
            <p:spPr>
              <a:xfrm rot="6650400">
                <a:off x="4467240" y="3288600"/>
                <a:ext cx="125280" cy="5832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1543"/>
              <p:cNvSpPr/>
              <p:nvPr/>
            </p:nvSpPr>
            <p:spPr>
              <a:xfrm rot="6650400">
                <a:off x="4482000" y="330948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1544"/>
              <p:cNvSpPr/>
              <p:nvPr/>
            </p:nvSpPr>
            <p:spPr>
              <a:xfrm rot="6650400">
                <a:off x="4482720" y="327672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1545"/>
              <p:cNvSpPr/>
              <p:nvPr/>
            </p:nvSpPr>
            <p:spPr>
              <a:xfrm rot="6650400">
                <a:off x="4514400" y="327780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546"/>
              <p:cNvSpPr/>
              <p:nvPr/>
            </p:nvSpPr>
            <p:spPr>
              <a:xfrm rot="6650400">
                <a:off x="4510080" y="327276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1547"/>
              <p:cNvSpPr/>
              <p:nvPr/>
            </p:nvSpPr>
            <p:spPr>
              <a:xfrm rot="6650400">
                <a:off x="4494960" y="326700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1548"/>
              <p:cNvSpPr/>
              <p:nvPr/>
            </p:nvSpPr>
            <p:spPr>
              <a:xfrm rot="6650400">
                <a:off x="4497480" y="326556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549"/>
              <p:cNvSpPr/>
              <p:nvPr/>
            </p:nvSpPr>
            <p:spPr>
              <a:xfrm rot="6650400">
                <a:off x="4489200" y="326700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550"/>
              <p:cNvSpPr/>
              <p:nvPr/>
            </p:nvSpPr>
            <p:spPr>
              <a:xfrm rot="6650400">
                <a:off x="4489560" y="326772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551"/>
              <p:cNvSpPr/>
              <p:nvPr/>
            </p:nvSpPr>
            <p:spPr>
              <a:xfrm rot="6650400">
                <a:off x="4478040" y="3268440"/>
                <a:ext cx="132480" cy="8424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552"/>
              <p:cNvSpPr/>
              <p:nvPr/>
            </p:nvSpPr>
            <p:spPr>
              <a:xfrm rot="6650400">
                <a:off x="4525200" y="329040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553"/>
              <p:cNvSpPr/>
              <p:nvPr/>
            </p:nvSpPr>
            <p:spPr>
              <a:xfrm rot="6650400">
                <a:off x="4535640" y="330228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554"/>
              <p:cNvSpPr/>
              <p:nvPr/>
            </p:nvSpPr>
            <p:spPr>
              <a:xfrm rot="6650400">
                <a:off x="4527000" y="331668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555"/>
              <p:cNvSpPr/>
              <p:nvPr/>
            </p:nvSpPr>
            <p:spPr>
              <a:xfrm rot="6650400">
                <a:off x="4501440" y="333036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556"/>
              <p:cNvSpPr/>
              <p:nvPr/>
            </p:nvSpPr>
            <p:spPr>
              <a:xfrm rot="6650400">
                <a:off x="4479480" y="3344040"/>
                <a:ext cx="82440" cy="70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557"/>
              <p:cNvSpPr/>
              <p:nvPr/>
            </p:nvSpPr>
            <p:spPr>
              <a:xfrm rot="6650400">
                <a:off x="4467600" y="336276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558"/>
              <p:cNvSpPr/>
              <p:nvPr/>
            </p:nvSpPr>
            <p:spPr>
              <a:xfrm rot="6650400">
                <a:off x="4455000" y="337248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559"/>
              <p:cNvSpPr/>
              <p:nvPr/>
            </p:nvSpPr>
            <p:spPr>
              <a:xfrm rot="6650400">
                <a:off x="4444920" y="3381120"/>
                <a:ext cx="105120" cy="3708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560"/>
              <p:cNvSpPr/>
              <p:nvPr/>
            </p:nvSpPr>
            <p:spPr>
              <a:xfrm rot="6650400">
                <a:off x="4437720" y="3389040"/>
                <a:ext cx="108000" cy="270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561"/>
              <p:cNvSpPr/>
              <p:nvPr/>
            </p:nvSpPr>
            <p:spPr>
              <a:xfrm rot="6650400">
                <a:off x="4430520" y="3391560"/>
                <a:ext cx="114840" cy="20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562"/>
              <p:cNvSpPr/>
              <p:nvPr/>
            </p:nvSpPr>
            <p:spPr>
              <a:xfrm rot="6650400">
                <a:off x="4429080" y="3400560"/>
                <a:ext cx="108720" cy="1260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563"/>
              <p:cNvSpPr/>
              <p:nvPr/>
            </p:nvSpPr>
            <p:spPr>
              <a:xfrm rot="6650400">
                <a:off x="4420800" y="3394800"/>
                <a:ext cx="122040" cy="216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564"/>
              <p:cNvSpPr/>
              <p:nvPr/>
            </p:nvSpPr>
            <p:spPr>
              <a:xfrm rot="6650400">
                <a:off x="4423680" y="339300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565"/>
              <p:cNvSpPr/>
              <p:nvPr/>
            </p:nvSpPr>
            <p:spPr>
              <a:xfrm rot="6650400">
                <a:off x="4431960" y="338688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6" name="Group 1566"/>
            <p:cNvGrpSpPr/>
            <p:nvPr/>
          </p:nvGrpSpPr>
          <p:grpSpPr>
            <a:xfrm>
              <a:off x="4352760" y="3070080"/>
              <a:ext cx="330120" cy="249840"/>
              <a:chOff x="4352760" y="3070080"/>
              <a:chExt cx="330120" cy="249840"/>
            </a:xfrm>
          </p:grpSpPr>
          <p:sp>
            <p:nvSpPr>
              <p:cNvPr id="1687" name="Freeform 1567"/>
              <p:cNvSpPr/>
              <p:nvPr/>
            </p:nvSpPr>
            <p:spPr>
              <a:xfrm rot="5043000">
                <a:off x="4401720" y="303804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568"/>
              <p:cNvSpPr/>
              <p:nvPr/>
            </p:nvSpPr>
            <p:spPr>
              <a:xfrm rot="5043000">
                <a:off x="4508640" y="323424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569"/>
              <p:cNvSpPr/>
              <p:nvPr/>
            </p:nvSpPr>
            <p:spPr>
              <a:xfrm rot="5043000">
                <a:off x="4590720" y="311724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570"/>
              <p:cNvSpPr/>
              <p:nvPr/>
            </p:nvSpPr>
            <p:spPr>
              <a:xfrm rot="5043000">
                <a:off x="4534200" y="3157200"/>
                <a:ext cx="114840" cy="417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571"/>
              <p:cNvSpPr/>
              <p:nvPr/>
            </p:nvSpPr>
            <p:spPr>
              <a:xfrm rot="5043000">
                <a:off x="4515840" y="320760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1572"/>
              <p:cNvSpPr/>
              <p:nvPr/>
            </p:nvSpPr>
            <p:spPr>
              <a:xfrm rot="5043000">
                <a:off x="4535280" y="3134520"/>
                <a:ext cx="125280" cy="5832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573"/>
              <p:cNvSpPr/>
              <p:nvPr/>
            </p:nvSpPr>
            <p:spPr>
              <a:xfrm rot="5043000">
                <a:off x="4552560" y="316008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574"/>
              <p:cNvSpPr/>
              <p:nvPr/>
            </p:nvSpPr>
            <p:spPr>
              <a:xfrm rot="5043000">
                <a:off x="4545360" y="311652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1575"/>
              <p:cNvSpPr/>
              <p:nvPr/>
            </p:nvSpPr>
            <p:spPr>
              <a:xfrm rot="5043000">
                <a:off x="4585320" y="311040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1576"/>
              <p:cNvSpPr/>
              <p:nvPr/>
            </p:nvSpPr>
            <p:spPr>
              <a:xfrm rot="5043000">
                <a:off x="4578120" y="310536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1577"/>
              <p:cNvSpPr/>
              <p:nvPr/>
            </p:nvSpPr>
            <p:spPr>
              <a:xfrm rot="5043000">
                <a:off x="4561920" y="310176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1578"/>
              <p:cNvSpPr/>
              <p:nvPr/>
            </p:nvSpPr>
            <p:spPr>
              <a:xfrm rot="5043000">
                <a:off x="4561200" y="309924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579"/>
              <p:cNvSpPr/>
              <p:nvPr/>
            </p:nvSpPr>
            <p:spPr>
              <a:xfrm rot="5043000">
                <a:off x="4552560" y="310212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580"/>
              <p:cNvSpPr/>
              <p:nvPr/>
            </p:nvSpPr>
            <p:spPr>
              <a:xfrm rot="5043000">
                <a:off x="4551840" y="310392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581"/>
              <p:cNvSpPr/>
              <p:nvPr/>
            </p:nvSpPr>
            <p:spPr>
              <a:xfrm rot="5043000">
                <a:off x="4541040" y="3108240"/>
                <a:ext cx="132480" cy="8424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582"/>
              <p:cNvSpPr/>
              <p:nvPr/>
            </p:nvSpPr>
            <p:spPr>
              <a:xfrm rot="5043000">
                <a:off x="4603320" y="312480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1583"/>
              <p:cNvSpPr/>
              <p:nvPr/>
            </p:nvSpPr>
            <p:spPr>
              <a:xfrm rot="5043000">
                <a:off x="4618080" y="313740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1584"/>
              <p:cNvSpPr/>
              <p:nvPr/>
            </p:nvSpPr>
            <p:spPr>
              <a:xfrm rot="5043000">
                <a:off x="4615560" y="315432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585"/>
              <p:cNvSpPr/>
              <p:nvPr/>
            </p:nvSpPr>
            <p:spPr>
              <a:xfrm rot="5043000">
                <a:off x="4595040" y="317016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586"/>
              <p:cNvSpPr/>
              <p:nvPr/>
            </p:nvSpPr>
            <p:spPr>
              <a:xfrm rot="5043000">
                <a:off x="4576320" y="3187080"/>
                <a:ext cx="82440" cy="70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587"/>
              <p:cNvSpPr/>
              <p:nvPr/>
            </p:nvSpPr>
            <p:spPr>
              <a:xfrm rot="5043000">
                <a:off x="4570920" y="320904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588"/>
              <p:cNvSpPr/>
              <p:nvPr/>
            </p:nvSpPr>
            <p:spPr>
              <a:xfrm rot="5043000">
                <a:off x="4560120" y="322128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1589"/>
              <p:cNvSpPr/>
              <p:nvPr/>
            </p:nvSpPr>
            <p:spPr>
              <a:xfrm rot="5043000">
                <a:off x="4553280" y="3232440"/>
                <a:ext cx="105120" cy="3708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1590"/>
              <p:cNvSpPr/>
              <p:nvPr/>
            </p:nvSpPr>
            <p:spPr>
              <a:xfrm rot="5043000">
                <a:off x="4548240" y="3242520"/>
                <a:ext cx="108000" cy="270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1591"/>
              <p:cNvSpPr/>
              <p:nvPr/>
            </p:nvSpPr>
            <p:spPr>
              <a:xfrm rot="5043000">
                <a:off x="4540680" y="3246480"/>
                <a:ext cx="114840" cy="20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1592"/>
              <p:cNvSpPr/>
              <p:nvPr/>
            </p:nvSpPr>
            <p:spPr>
              <a:xfrm rot="5043000">
                <a:off x="4542120" y="3257280"/>
                <a:ext cx="108720" cy="1260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1593"/>
              <p:cNvSpPr/>
              <p:nvPr/>
            </p:nvSpPr>
            <p:spPr>
              <a:xfrm rot="5043000">
                <a:off x="4529160" y="3253320"/>
                <a:ext cx="122040" cy="216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1594"/>
              <p:cNvSpPr/>
              <p:nvPr/>
            </p:nvSpPr>
            <p:spPr>
              <a:xfrm rot="5043000">
                <a:off x="4531320" y="325332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1595"/>
              <p:cNvSpPr/>
              <p:nvPr/>
            </p:nvSpPr>
            <p:spPr>
              <a:xfrm rot="5043000">
                <a:off x="4537800" y="324792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6" name="Group 1596"/>
            <p:cNvGrpSpPr/>
            <p:nvPr/>
          </p:nvGrpSpPr>
          <p:grpSpPr>
            <a:xfrm>
              <a:off x="4276440" y="2663640"/>
              <a:ext cx="250200" cy="326160"/>
              <a:chOff x="4276440" y="2663640"/>
              <a:chExt cx="250200" cy="326160"/>
            </a:xfrm>
          </p:grpSpPr>
          <p:sp>
            <p:nvSpPr>
              <p:cNvPr id="1717" name="Freeform 1597"/>
              <p:cNvSpPr/>
              <p:nvPr/>
            </p:nvSpPr>
            <p:spPr>
              <a:xfrm rot="21369000">
                <a:off x="4283640" y="276588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598"/>
              <p:cNvSpPr/>
              <p:nvPr/>
            </p:nvSpPr>
            <p:spPr>
              <a:xfrm rot="21369000">
                <a:off x="4362840" y="275364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599"/>
              <p:cNvSpPr/>
              <p:nvPr/>
            </p:nvSpPr>
            <p:spPr>
              <a:xfrm rot="21369000">
                <a:off x="4347000" y="266580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1600"/>
              <p:cNvSpPr/>
              <p:nvPr/>
            </p:nvSpPr>
            <p:spPr>
              <a:xfrm rot="21369000">
                <a:off x="4327560" y="2733120"/>
                <a:ext cx="115200" cy="417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1601"/>
              <p:cNvSpPr/>
              <p:nvPr/>
            </p:nvSpPr>
            <p:spPr>
              <a:xfrm rot="21369000">
                <a:off x="4356000" y="275220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602"/>
              <p:cNvSpPr/>
              <p:nvPr/>
            </p:nvSpPr>
            <p:spPr>
              <a:xfrm rot="21369000">
                <a:off x="4308120" y="2718000"/>
                <a:ext cx="125640" cy="583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603"/>
              <p:cNvSpPr/>
              <p:nvPr/>
            </p:nvSpPr>
            <p:spPr>
              <a:xfrm rot="21369000">
                <a:off x="4341240" y="274500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604"/>
              <p:cNvSpPr/>
              <p:nvPr/>
            </p:nvSpPr>
            <p:spPr>
              <a:xfrm rot="21369000">
                <a:off x="4294440" y="270468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1605"/>
              <p:cNvSpPr/>
              <p:nvPr/>
            </p:nvSpPr>
            <p:spPr>
              <a:xfrm rot="21369000">
                <a:off x="4330800" y="266616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606"/>
              <p:cNvSpPr/>
              <p:nvPr/>
            </p:nvSpPr>
            <p:spPr>
              <a:xfrm rot="21369000">
                <a:off x="4317480" y="266760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607"/>
              <p:cNvSpPr/>
              <p:nvPr/>
            </p:nvSpPr>
            <p:spPr>
              <a:xfrm rot="21369000">
                <a:off x="4304520" y="267048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1608"/>
              <p:cNvSpPr/>
              <p:nvPr/>
            </p:nvSpPr>
            <p:spPr>
              <a:xfrm rot="21369000">
                <a:off x="4295520" y="267444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1609"/>
              <p:cNvSpPr/>
              <p:nvPr/>
            </p:nvSpPr>
            <p:spPr>
              <a:xfrm rot="21369000">
                <a:off x="4291560" y="268020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1610"/>
              <p:cNvSpPr/>
              <p:nvPr/>
            </p:nvSpPr>
            <p:spPr>
              <a:xfrm rot="21369000">
                <a:off x="4290480" y="268740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611"/>
              <p:cNvSpPr/>
              <p:nvPr/>
            </p:nvSpPr>
            <p:spPr>
              <a:xfrm rot="21369000">
                <a:off x="4291200" y="2694960"/>
                <a:ext cx="132840" cy="842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612"/>
              <p:cNvSpPr/>
              <p:nvPr/>
            </p:nvSpPr>
            <p:spPr>
              <a:xfrm rot="21369000">
                <a:off x="4365000" y="266616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613"/>
              <p:cNvSpPr/>
              <p:nvPr/>
            </p:nvSpPr>
            <p:spPr>
              <a:xfrm rot="21369000">
                <a:off x="4390200" y="266796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614"/>
              <p:cNvSpPr/>
              <p:nvPr/>
            </p:nvSpPr>
            <p:spPr>
              <a:xfrm rot="21369000">
                <a:off x="4401720" y="267408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615"/>
              <p:cNvSpPr/>
              <p:nvPr/>
            </p:nvSpPr>
            <p:spPr>
              <a:xfrm rot="21369000">
                <a:off x="4396320" y="268020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1616"/>
              <p:cNvSpPr/>
              <p:nvPr/>
            </p:nvSpPr>
            <p:spPr>
              <a:xfrm rot="21369000">
                <a:off x="4388760" y="2694600"/>
                <a:ext cx="82800" cy="7020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617"/>
              <p:cNvSpPr/>
              <p:nvPr/>
            </p:nvSpPr>
            <p:spPr>
              <a:xfrm rot="21369000">
                <a:off x="4401720" y="270468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618"/>
              <p:cNvSpPr/>
              <p:nvPr/>
            </p:nvSpPr>
            <p:spPr>
              <a:xfrm rot="21369000">
                <a:off x="4402800" y="271656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619"/>
              <p:cNvSpPr/>
              <p:nvPr/>
            </p:nvSpPr>
            <p:spPr>
              <a:xfrm rot="21369000">
                <a:off x="4406040" y="2723760"/>
                <a:ext cx="105480" cy="3708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1620"/>
              <p:cNvSpPr/>
              <p:nvPr/>
            </p:nvSpPr>
            <p:spPr>
              <a:xfrm rot="21369000">
                <a:off x="4409280" y="2732400"/>
                <a:ext cx="108360" cy="2700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621"/>
              <p:cNvSpPr/>
              <p:nvPr/>
            </p:nvSpPr>
            <p:spPr>
              <a:xfrm rot="21369000">
                <a:off x="4406400" y="2739960"/>
                <a:ext cx="115200" cy="201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622"/>
              <p:cNvSpPr/>
              <p:nvPr/>
            </p:nvSpPr>
            <p:spPr>
              <a:xfrm rot="21369000">
                <a:off x="4416120" y="2745720"/>
                <a:ext cx="109080" cy="126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623"/>
              <p:cNvSpPr/>
              <p:nvPr/>
            </p:nvSpPr>
            <p:spPr>
              <a:xfrm rot="21369000">
                <a:off x="4400640" y="2757240"/>
                <a:ext cx="122400" cy="216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1624"/>
              <p:cNvSpPr/>
              <p:nvPr/>
            </p:nvSpPr>
            <p:spPr>
              <a:xfrm rot="21369000">
                <a:off x="4405680" y="276048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1625"/>
              <p:cNvSpPr/>
              <p:nvPr/>
            </p:nvSpPr>
            <p:spPr>
              <a:xfrm rot="21369000">
                <a:off x="4410360" y="276084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6" name="Group 1626"/>
            <p:cNvGrpSpPr/>
            <p:nvPr/>
          </p:nvGrpSpPr>
          <p:grpSpPr>
            <a:xfrm>
              <a:off x="4346640" y="2900880"/>
              <a:ext cx="347040" cy="261720"/>
              <a:chOff x="4346640" y="2900880"/>
              <a:chExt cx="347040" cy="261720"/>
            </a:xfrm>
          </p:grpSpPr>
          <p:sp>
            <p:nvSpPr>
              <p:cNvPr id="1747" name="Freeform 1627"/>
              <p:cNvSpPr/>
              <p:nvPr/>
            </p:nvSpPr>
            <p:spPr>
              <a:xfrm rot="3433800">
                <a:off x="4407840" y="293724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628"/>
              <p:cNvSpPr/>
              <p:nvPr/>
            </p:nvSpPr>
            <p:spPr>
              <a:xfrm rot="3433800">
                <a:off x="4542120" y="306864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1629"/>
              <p:cNvSpPr/>
              <p:nvPr/>
            </p:nvSpPr>
            <p:spPr>
              <a:xfrm rot="3433800">
                <a:off x="4591440" y="294372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630"/>
              <p:cNvSpPr/>
              <p:nvPr/>
            </p:nvSpPr>
            <p:spPr>
              <a:xfrm rot="3433800">
                <a:off x="4540680" y="2997720"/>
                <a:ext cx="114840" cy="417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631"/>
              <p:cNvSpPr/>
              <p:nvPr/>
            </p:nvSpPr>
            <p:spPr>
              <a:xfrm rot="3433800">
                <a:off x="4541400" y="304704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632"/>
              <p:cNvSpPr/>
              <p:nvPr/>
            </p:nvSpPr>
            <p:spPr>
              <a:xfrm rot="3433800">
                <a:off x="4534560" y="2973600"/>
                <a:ext cx="125280" cy="5832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1633"/>
              <p:cNvSpPr/>
              <p:nvPr/>
            </p:nvSpPr>
            <p:spPr>
              <a:xfrm rot="3433800">
                <a:off x="4555800" y="300204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1634"/>
              <p:cNvSpPr/>
              <p:nvPr/>
            </p:nvSpPr>
            <p:spPr>
              <a:xfrm rot="3433800">
                <a:off x="4537080" y="295272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1635"/>
              <p:cNvSpPr/>
              <p:nvPr/>
            </p:nvSpPr>
            <p:spPr>
              <a:xfrm rot="3433800">
                <a:off x="4581720" y="293688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636"/>
              <p:cNvSpPr/>
              <p:nvPr/>
            </p:nvSpPr>
            <p:spPr>
              <a:xfrm rot="3433800">
                <a:off x="4571280" y="293256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1637"/>
              <p:cNvSpPr/>
              <p:nvPr/>
            </p:nvSpPr>
            <p:spPr>
              <a:xfrm rot="3433800">
                <a:off x="4554720" y="293148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638"/>
              <p:cNvSpPr/>
              <p:nvPr/>
            </p:nvSpPr>
            <p:spPr>
              <a:xfrm rot="3433800">
                <a:off x="4550760" y="292932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1639"/>
              <p:cNvSpPr/>
              <p:nvPr/>
            </p:nvSpPr>
            <p:spPr>
              <a:xfrm rot="3433800">
                <a:off x="4542840" y="293400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640"/>
              <p:cNvSpPr/>
              <p:nvPr/>
            </p:nvSpPr>
            <p:spPr>
              <a:xfrm rot="3433800">
                <a:off x="4541040" y="293724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641"/>
              <p:cNvSpPr/>
              <p:nvPr/>
            </p:nvSpPr>
            <p:spPr>
              <a:xfrm rot="3433800">
                <a:off x="4533480" y="2944440"/>
                <a:ext cx="132480" cy="8424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1642"/>
              <p:cNvSpPr/>
              <p:nvPr/>
            </p:nvSpPr>
            <p:spPr>
              <a:xfrm rot="3433800">
                <a:off x="4606560" y="294984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643"/>
              <p:cNvSpPr/>
              <p:nvPr/>
            </p:nvSpPr>
            <p:spPr>
              <a:xfrm rot="3433800">
                <a:off x="4626360" y="296136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644"/>
              <p:cNvSpPr/>
              <p:nvPr/>
            </p:nvSpPr>
            <p:spPr>
              <a:xfrm rot="3433800">
                <a:off x="4629240" y="297756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645"/>
              <p:cNvSpPr/>
              <p:nvPr/>
            </p:nvSpPr>
            <p:spPr>
              <a:xfrm rot="3433800">
                <a:off x="4615200" y="299304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646"/>
              <p:cNvSpPr/>
              <p:nvPr/>
            </p:nvSpPr>
            <p:spPr>
              <a:xfrm rot="3433800">
                <a:off x="4599720" y="3011040"/>
                <a:ext cx="82440" cy="70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1647"/>
              <p:cNvSpPr/>
              <p:nvPr/>
            </p:nvSpPr>
            <p:spPr>
              <a:xfrm rot="3433800">
                <a:off x="4601520" y="303264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648"/>
              <p:cNvSpPr/>
              <p:nvPr/>
            </p:nvSpPr>
            <p:spPr>
              <a:xfrm rot="3433800">
                <a:off x="4594320" y="304704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649"/>
              <p:cNvSpPr/>
              <p:nvPr/>
            </p:nvSpPr>
            <p:spPr>
              <a:xfrm rot="3433800">
                <a:off x="4591080" y="3058560"/>
                <a:ext cx="105120" cy="3708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650"/>
              <p:cNvSpPr/>
              <p:nvPr/>
            </p:nvSpPr>
            <p:spPr>
              <a:xfrm rot="3433800">
                <a:off x="4588560" y="3069720"/>
                <a:ext cx="108000" cy="270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651"/>
              <p:cNvSpPr/>
              <p:nvPr/>
            </p:nvSpPr>
            <p:spPr>
              <a:xfrm rot="3433800">
                <a:off x="4582080" y="3075480"/>
                <a:ext cx="114840" cy="20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652"/>
              <p:cNvSpPr/>
              <p:nvPr/>
            </p:nvSpPr>
            <p:spPr>
              <a:xfrm rot="3433800">
                <a:off x="4586760" y="3085920"/>
                <a:ext cx="108720" cy="1260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653"/>
              <p:cNvSpPr/>
              <p:nvPr/>
            </p:nvSpPr>
            <p:spPr>
              <a:xfrm rot="3433800">
                <a:off x="4570200" y="3086640"/>
                <a:ext cx="122040" cy="216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Freeform 1654"/>
              <p:cNvSpPr/>
              <p:nvPr/>
            </p:nvSpPr>
            <p:spPr>
              <a:xfrm rot="3433800">
                <a:off x="4573080" y="308772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655"/>
              <p:cNvSpPr/>
              <p:nvPr/>
            </p:nvSpPr>
            <p:spPr>
              <a:xfrm rot="3433800">
                <a:off x="4577760" y="308340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6" name="Group 1656"/>
            <p:cNvGrpSpPr/>
            <p:nvPr/>
          </p:nvGrpSpPr>
          <p:grpSpPr>
            <a:xfrm>
              <a:off x="3800520" y="2953800"/>
              <a:ext cx="347040" cy="249120"/>
              <a:chOff x="3800520" y="2953800"/>
              <a:chExt cx="347040" cy="249120"/>
            </a:xfrm>
          </p:grpSpPr>
          <p:sp>
            <p:nvSpPr>
              <p:cNvPr id="1777" name="Freeform 1657"/>
              <p:cNvSpPr/>
              <p:nvPr/>
            </p:nvSpPr>
            <p:spPr>
              <a:xfrm rot="14445600">
                <a:off x="3952440" y="295560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658"/>
              <p:cNvSpPr/>
              <p:nvPr/>
            </p:nvSpPr>
            <p:spPr>
              <a:xfrm rot="14445600">
                <a:off x="3790080" y="302688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659"/>
              <p:cNvSpPr/>
              <p:nvPr/>
            </p:nvSpPr>
            <p:spPr>
              <a:xfrm rot="14445600">
                <a:off x="3832920" y="304884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660"/>
              <p:cNvSpPr/>
              <p:nvPr/>
            </p:nvSpPr>
            <p:spPr>
              <a:xfrm rot="14445600">
                <a:off x="3837240" y="3065040"/>
                <a:ext cx="114840" cy="417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661"/>
              <p:cNvSpPr/>
              <p:nvPr/>
            </p:nvSpPr>
            <p:spPr>
              <a:xfrm rot="14445600">
                <a:off x="3817080" y="303588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662"/>
              <p:cNvSpPr/>
              <p:nvPr/>
            </p:nvSpPr>
            <p:spPr>
              <a:xfrm rot="14445600">
                <a:off x="3831840" y="3072600"/>
                <a:ext cx="125280" cy="5832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663"/>
              <p:cNvSpPr/>
              <p:nvPr/>
            </p:nvSpPr>
            <p:spPr>
              <a:xfrm rot="14445600">
                <a:off x="3862440" y="308052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664"/>
              <p:cNvSpPr/>
              <p:nvPr/>
            </p:nvSpPr>
            <p:spPr>
              <a:xfrm rot="14445600">
                <a:off x="3830040" y="308628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665"/>
              <p:cNvSpPr/>
              <p:nvPr/>
            </p:nvSpPr>
            <p:spPr>
              <a:xfrm rot="14445600">
                <a:off x="3828240" y="306036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1666"/>
              <p:cNvSpPr/>
              <p:nvPr/>
            </p:nvSpPr>
            <p:spPr>
              <a:xfrm rot="14445600">
                <a:off x="3824640" y="306756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667"/>
              <p:cNvSpPr/>
              <p:nvPr/>
            </p:nvSpPr>
            <p:spPr>
              <a:xfrm rot="14445600">
                <a:off x="3818160" y="306468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668"/>
              <p:cNvSpPr/>
              <p:nvPr/>
            </p:nvSpPr>
            <p:spPr>
              <a:xfrm rot="14445600">
                <a:off x="3819600" y="307692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669"/>
              <p:cNvSpPr/>
              <p:nvPr/>
            </p:nvSpPr>
            <p:spPr>
              <a:xfrm rot="14445600">
                <a:off x="3817440" y="307656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670"/>
              <p:cNvSpPr/>
              <p:nvPr/>
            </p:nvSpPr>
            <p:spPr>
              <a:xfrm rot="14445600">
                <a:off x="3823200" y="308268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671"/>
              <p:cNvSpPr/>
              <p:nvPr/>
            </p:nvSpPr>
            <p:spPr>
              <a:xfrm rot="14445600">
                <a:off x="3825000" y="3075840"/>
                <a:ext cx="132480" cy="8424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1672"/>
              <p:cNvSpPr/>
              <p:nvPr/>
            </p:nvSpPr>
            <p:spPr>
              <a:xfrm rot="14445600">
                <a:off x="3841200" y="304524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673"/>
              <p:cNvSpPr/>
              <p:nvPr/>
            </p:nvSpPr>
            <p:spPr>
              <a:xfrm rot="14445600">
                <a:off x="3850920" y="303660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674"/>
              <p:cNvSpPr/>
              <p:nvPr/>
            </p:nvSpPr>
            <p:spPr>
              <a:xfrm rot="14445600">
                <a:off x="3846240" y="302832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675"/>
              <p:cNvSpPr/>
              <p:nvPr/>
            </p:nvSpPr>
            <p:spPr>
              <a:xfrm rot="14445600">
                <a:off x="3825360" y="301968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676"/>
              <p:cNvSpPr/>
              <p:nvPr/>
            </p:nvSpPr>
            <p:spPr>
              <a:xfrm rot="14445600">
                <a:off x="3812040" y="3020760"/>
                <a:ext cx="82440" cy="70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677"/>
              <p:cNvSpPr/>
              <p:nvPr/>
            </p:nvSpPr>
            <p:spPr>
              <a:xfrm rot="14445600">
                <a:off x="3807000" y="301248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Freeform 1678"/>
              <p:cNvSpPr/>
              <p:nvPr/>
            </p:nvSpPr>
            <p:spPr>
              <a:xfrm rot="14445600">
                <a:off x="3804120" y="300996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679"/>
              <p:cNvSpPr/>
              <p:nvPr/>
            </p:nvSpPr>
            <p:spPr>
              <a:xfrm rot="14445600">
                <a:off x="3799800" y="3006000"/>
                <a:ext cx="105120" cy="3708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680"/>
              <p:cNvSpPr/>
              <p:nvPr/>
            </p:nvSpPr>
            <p:spPr>
              <a:xfrm rot="14445600">
                <a:off x="3799800" y="3005280"/>
                <a:ext cx="108000" cy="270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1681"/>
              <p:cNvSpPr/>
              <p:nvPr/>
            </p:nvSpPr>
            <p:spPr>
              <a:xfrm rot="14445600">
                <a:off x="3800160" y="3006720"/>
                <a:ext cx="114840" cy="20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1682"/>
              <p:cNvSpPr/>
              <p:nvPr/>
            </p:nvSpPr>
            <p:spPr>
              <a:xfrm rot="14445600">
                <a:off x="3801960" y="3003480"/>
                <a:ext cx="108720" cy="1260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683"/>
              <p:cNvSpPr/>
              <p:nvPr/>
            </p:nvSpPr>
            <p:spPr>
              <a:xfrm rot="14445600">
                <a:off x="3804840" y="3013920"/>
                <a:ext cx="122040" cy="216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684"/>
              <p:cNvSpPr/>
              <p:nvPr/>
            </p:nvSpPr>
            <p:spPr>
              <a:xfrm rot="14445600">
                <a:off x="3813480" y="301320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685"/>
              <p:cNvSpPr/>
              <p:nvPr/>
            </p:nvSpPr>
            <p:spPr>
              <a:xfrm rot="14445600">
                <a:off x="3825360" y="301356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6" name="Group 1686"/>
            <p:cNvGrpSpPr/>
            <p:nvPr/>
          </p:nvGrpSpPr>
          <p:grpSpPr>
            <a:xfrm>
              <a:off x="3808440" y="3042360"/>
              <a:ext cx="342000" cy="315000"/>
              <a:chOff x="3808440" y="3042360"/>
              <a:chExt cx="342000" cy="315000"/>
            </a:xfrm>
          </p:grpSpPr>
          <p:sp>
            <p:nvSpPr>
              <p:cNvPr id="1807" name="Freeform 1687"/>
              <p:cNvSpPr/>
              <p:nvPr/>
            </p:nvSpPr>
            <p:spPr>
              <a:xfrm rot="12999600">
                <a:off x="3964320" y="306036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688"/>
              <p:cNvSpPr/>
              <p:nvPr/>
            </p:nvSpPr>
            <p:spPr>
              <a:xfrm rot="12999600">
                <a:off x="3800160" y="319500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689"/>
              <p:cNvSpPr/>
              <p:nvPr/>
            </p:nvSpPr>
            <p:spPr>
              <a:xfrm rot="12999600">
                <a:off x="3873960" y="321264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690"/>
              <p:cNvSpPr/>
              <p:nvPr/>
            </p:nvSpPr>
            <p:spPr>
              <a:xfrm rot="12999600">
                <a:off x="3867840" y="3218760"/>
                <a:ext cx="115200" cy="417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691"/>
              <p:cNvSpPr/>
              <p:nvPr/>
            </p:nvSpPr>
            <p:spPr>
              <a:xfrm rot="12999600">
                <a:off x="3832560" y="319680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692"/>
              <p:cNvSpPr/>
              <p:nvPr/>
            </p:nvSpPr>
            <p:spPr>
              <a:xfrm rot="12999600">
                <a:off x="3868920" y="3225240"/>
                <a:ext cx="125640" cy="583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693"/>
              <p:cNvSpPr/>
              <p:nvPr/>
            </p:nvSpPr>
            <p:spPr>
              <a:xfrm rot="12999600">
                <a:off x="3894840" y="323136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694"/>
              <p:cNvSpPr/>
              <p:nvPr/>
            </p:nvSpPr>
            <p:spPr>
              <a:xfrm rot="12999600">
                <a:off x="3874680" y="323856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695"/>
              <p:cNvSpPr/>
              <p:nvPr/>
            </p:nvSpPr>
            <p:spPr>
              <a:xfrm rot="12999600">
                <a:off x="3872520" y="322236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696"/>
              <p:cNvSpPr/>
              <p:nvPr/>
            </p:nvSpPr>
            <p:spPr>
              <a:xfrm rot="12999600">
                <a:off x="3871440" y="322812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697"/>
              <p:cNvSpPr/>
              <p:nvPr/>
            </p:nvSpPr>
            <p:spPr>
              <a:xfrm rot="12999600">
                <a:off x="3863880" y="322272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698"/>
              <p:cNvSpPr/>
              <p:nvPr/>
            </p:nvSpPr>
            <p:spPr>
              <a:xfrm rot="12999600">
                <a:off x="3867840" y="323352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699"/>
              <p:cNvSpPr/>
              <p:nvPr/>
            </p:nvSpPr>
            <p:spPr>
              <a:xfrm rot="12999600">
                <a:off x="3864960" y="323244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700"/>
              <p:cNvSpPr/>
              <p:nvPr/>
            </p:nvSpPr>
            <p:spPr>
              <a:xfrm rot="12999600">
                <a:off x="3870720" y="323676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701"/>
              <p:cNvSpPr/>
              <p:nvPr/>
            </p:nvSpPr>
            <p:spPr>
              <a:xfrm rot="12999600">
                <a:off x="3868920" y="3228120"/>
                <a:ext cx="132840" cy="842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702"/>
              <p:cNvSpPr/>
              <p:nvPr/>
            </p:nvSpPr>
            <p:spPr>
              <a:xfrm rot="12999600">
                <a:off x="3880080" y="321048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1703"/>
              <p:cNvSpPr/>
              <p:nvPr/>
            </p:nvSpPr>
            <p:spPr>
              <a:xfrm rot="12999600">
                <a:off x="3885840" y="320508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1704"/>
              <p:cNvSpPr/>
              <p:nvPr/>
            </p:nvSpPr>
            <p:spPr>
              <a:xfrm rot="12999600">
                <a:off x="3876120" y="319896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1705"/>
              <p:cNvSpPr/>
              <p:nvPr/>
            </p:nvSpPr>
            <p:spPr>
              <a:xfrm rot="12999600">
                <a:off x="3851280" y="319284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706"/>
              <p:cNvSpPr/>
              <p:nvPr/>
            </p:nvSpPr>
            <p:spPr>
              <a:xfrm rot="12999600">
                <a:off x="3833640" y="3193920"/>
                <a:ext cx="82800" cy="7020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707"/>
              <p:cNvSpPr/>
              <p:nvPr/>
            </p:nvSpPr>
            <p:spPr>
              <a:xfrm rot="12999600">
                <a:off x="3823560" y="318816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708"/>
              <p:cNvSpPr/>
              <p:nvPr/>
            </p:nvSpPr>
            <p:spPr>
              <a:xfrm rot="12999600">
                <a:off x="3816360" y="318564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1709"/>
              <p:cNvSpPr/>
              <p:nvPr/>
            </p:nvSpPr>
            <p:spPr>
              <a:xfrm rot="12999600">
                <a:off x="3808800" y="3182400"/>
                <a:ext cx="105480" cy="3708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710"/>
              <p:cNvSpPr/>
              <p:nvPr/>
            </p:nvSpPr>
            <p:spPr>
              <a:xfrm rot="12999600">
                <a:off x="3806640" y="3181320"/>
                <a:ext cx="108360" cy="2700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711"/>
              <p:cNvSpPr/>
              <p:nvPr/>
            </p:nvSpPr>
            <p:spPr>
              <a:xfrm rot="12999600">
                <a:off x="3805200" y="3181320"/>
                <a:ext cx="115200" cy="201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712"/>
              <p:cNvSpPr/>
              <p:nvPr/>
            </p:nvSpPr>
            <p:spPr>
              <a:xfrm rot="12999600">
                <a:off x="3804120" y="3179520"/>
                <a:ext cx="109080" cy="126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713"/>
              <p:cNvSpPr/>
              <p:nvPr/>
            </p:nvSpPr>
            <p:spPr>
              <a:xfrm rot="12999600">
                <a:off x="3808800" y="3185640"/>
                <a:ext cx="122400" cy="216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714"/>
              <p:cNvSpPr/>
              <p:nvPr/>
            </p:nvSpPr>
            <p:spPr>
              <a:xfrm rot="12999600">
                <a:off x="3817800" y="318384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715"/>
              <p:cNvSpPr/>
              <p:nvPr/>
            </p:nvSpPr>
            <p:spPr>
              <a:xfrm rot="12999600">
                <a:off x="3830040" y="318276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6" name="Group 1716"/>
            <p:cNvGrpSpPr/>
            <p:nvPr/>
          </p:nvGrpSpPr>
          <p:grpSpPr>
            <a:xfrm>
              <a:off x="3890880" y="3151080"/>
              <a:ext cx="277200" cy="325080"/>
              <a:chOff x="3890880" y="3151080"/>
              <a:chExt cx="277200" cy="325080"/>
            </a:xfrm>
          </p:grpSpPr>
          <p:sp>
            <p:nvSpPr>
              <p:cNvPr id="1837" name="Freeform 1717"/>
              <p:cNvSpPr/>
              <p:nvPr/>
            </p:nvSpPr>
            <p:spPr>
              <a:xfrm rot="11230800">
                <a:off x="4021200" y="315864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718"/>
              <p:cNvSpPr/>
              <p:nvPr/>
            </p:nvSpPr>
            <p:spPr>
              <a:xfrm rot="11230800">
                <a:off x="3890880" y="336276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719"/>
              <p:cNvSpPr/>
              <p:nvPr/>
            </p:nvSpPr>
            <p:spPr>
              <a:xfrm rot="11230800">
                <a:off x="3994920" y="335916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1720"/>
              <p:cNvSpPr/>
              <p:nvPr/>
            </p:nvSpPr>
            <p:spPr>
              <a:xfrm rot="11230800">
                <a:off x="3972960" y="3360240"/>
                <a:ext cx="115200" cy="417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721"/>
              <p:cNvSpPr/>
              <p:nvPr/>
            </p:nvSpPr>
            <p:spPr>
              <a:xfrm rot="11230800">
                <a:off x="3925080" y="335412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722"/>
              <p:cNvSpPr/>
              <p:nvPr/>
            </p:nvSpPr>
            <p:spPr>
              <a:xfrm rot="11230800">
                <a:off x="3980520" y="3361320"/>
                <a:ext cx="125640" cy="583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1723"/>
              <p:cNvSpPr/>
              <p:nvPr/>
            </p:nvSpPr>
            <p:spPr>
              <a:xfrm rot="11230800">
                <a:off x="4000680" y="336924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724"/>
              <p:cNvSpPr/>
              <p:nvPr/>
            </p:nvSpPr>
            <p:spPr>
              <a:xfrm rot="11230800">
                <a:off x="3993840" y="337032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1725"/>
              <p:cNvSpPr/>
              <p:nvPr/>
            </p:nvSpPr>
            <p:spPr>
              <a:xfrm rot="11230800">
                <a:off x="3996360" y="336528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726"/>
              <p:cNvSpPr/>
              <p:nvPr/>
            </p:nvSpPr>
            <p:spPr>
              <a:xfrm rot="11230800">
                <a:off x="3996720" y="336744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727"/>
              <p:cNvSpPr/>
              <p:nvPr/>
            </p:nvSpPr>
            <p:spPr>
              <a:xfrm rot="11230800">
                <a:off x="3987360" y="336024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1728"/>
              <p:cNvSpPr/>
              <p:nvPr/>
            </p:nvSpPr>
            <p:spPr>
              <a:xfrm rot="11230800">
                <a:off x="3993480" y="336780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729"/>
              <p:cNvSpPr/>
              <p:nvPr/>
            </p:nvSpPr>
            <p:spPr>
              <a:xfrm rot="11230800">
                <a:off x="3988440" y="336636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1730"/>
              <p:cNvSpPr/>
              <p:nvPr/>
            </p:nvSpPr>
            <p:spPr>
              <a:xfrm rot="11230800">
                <a:off x="3993840" y="336924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1731"/>
              <p:cNvSpPr/>
              <p:nvPr/>
            </p:nvSpPr>
            <p:spPr>
              <a:xfrm rot="11230800">
                <a:off x="3987720" y="3360600"/>
                <a:ext cx="132840" cy="842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732"/>
              <p:cNvSpPr/>
              <p:nvPr/>
            </p:nvSpPr>
            <p:spPr>
              <a:xfrm rot="11230800">
                <a:off x="4000320" y="335988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733"/>
              <p:cNvSpPr/>
              <p:nvPr/>
            </p:nvSpPr>
            <p:spPr>
              <a:xfrm rot="11230800">
                <a:off x="4003920" y="335952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734"/>
              <p:cNvSpPr/>
              <p:nvPr/>
            </p:nvSpPr>
            <p:spPr>
              <a:xfrm rot="11230800">
                <a:off x="3990240" y="335916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735"/>
              <p:cNvSpPr/>
              <p:nvPr/>
            </p:nvSpPr>
            <p:spPr>
              <a:xfrm rot="11230800">
                <a:off x="3961440" y="335772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736"/>
              <p:cNvSpPr/>
              <p:nvPr/>
            </p:nvSpPr>
            <p:spPr>
              <a:xfrm rot="11230800">
                <a:off x="3940200" y="3361320"/>
                <a:ext cx="82800" cy="7020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737"/>
              <p:cNvSpPr/>
              <p:nvPr/>
            </p:nvSpPr>
            <p:spPr>
              <a:xfrm rot="11230800">
                <a:off x="3924360" y="336132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738"/>
              <p:cNvSpPr/>
              <p:nvPr/>
            </p:nvSpPr>
            <p:spPr>
              <a:xfrm rot="11230800">
                <a:off x="3913560" y="336060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739"/>
              <p:cNvSpPr/>
              <p:nvPr/>
            </p:nvSpPr>
            <p:spPr>
              <a:xfrm rot="11230800">
                <a:off x="3903120" y="3360240"/>
                <a:ext cx="105480" cy="3708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740"/>
              <p:cNvSpPr/>
              <p:nvPr/>
            </p:nvSpPr>
            <p:spPr>
              <a:xfrm rot="11230800">
                <a:off x="3897720" y="3360240"/>
                <a:ext cx="108360" cy="2700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741"/>
              <p:cNvSpPr/>
              <p:nvPr/>
            </p:nvSpPr>
            <p:spPr>
              <a:xfrm rot="11230800">
                <a:off x="3894480" y="3359520"/>
                <a:ext cx="115200" cy="201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742"/>
              <p:cNvSpPr/>
              <p:nvPr/>
            </p:nvSpPr>
            <p:spPr>
              <a:xfrm rot="11230800">
                <a:off x="3891240" y="3360240"/>
                <a:ext cx="109080" cy="126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743"/>
              <p:cNvSpPr/>
              <p:nvPr/>
            </p:nvSpPr>
            <p:spPr>
              <a:xfrm rot="11230800">
                <a:off x="3894840" y="3360960"/>
                <a:ext cx="122400" cy="216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744"/>
              <p:cNvSpPr/>
              <p:nvPr/>
            </p:nvSpPr>
            <p:spPr>
              <a:xfrm rot="11230800">
                <a:off x="3902400" y="335772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1745"/>
              <p:cNvSpPr/>
              <p:nvPr/>
            </p:nvSpPr>
            <p:spPr>
              <a:xfrm rot="11230800">
                <a:off x="3915000" y="335484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6" name="Group 1746"/>
            <p:cNvGrpSpPr/>
            <p:nvPr/>
          </p:nvGrpSpPr>
          <p:grpSpPr>
            <a:xfrm>
              <a:off x="4045680" y="3186000"/>
              <a:ext cx="248040" cy="345600"/>
              <a:chOff x="4045680" y="3186000"/>
              <a:chExt cx="248040" cy="345600"/>
            </a:xfrm>
          </p:grpSpPr>
          <p:sp>
            <p:nvSpPr>
              <p:cNvPr id="1867" name="Freeform 1747"/>
              <p:cNvSpPr/>
              <p:nvPr/>
            </p:nvSpPr>
            <p:spPr>
              <a:xfrm rot="9697800">
                <a:off x="4119120" y="320112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748"/>
              <p:cNvSpPr/>
              <p:nvPr/>
            </p:nvSpPr>
            <p:spPr>
              <a:xfrm rot="9697800">
                <a:off x="4042440" y="344592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1749"/>
              <p:cNvSpPr/>
              <p:nvPr/>
            </p:nvSpPr>
            <p:spPr>
              <a:xfrm rot="9697800">
                <a:off x="4161600" y="341316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750"/>
              <p:cNvSpPr/>
              <p:nvPr/>
            </p:nvSpPr>
            <p:spPr>
              <a:xfrm rot="9697800">
                <a:off x="4124880" y="3416760"/>
                <a:ext cx="115200" cy="417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751"/>
              <p:cNvSpPr/>
              <p:nvPr/>
            </p:nvSpPr>
            <p:spPr>
              <a:xfrm rot="9697800">
                <a:off x="4073760" y="342864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752"/>
              <p:cNvSpPr/>
              <p:nvPr/>
            </p:nvSpPr>
            <p:spPr>
              <a:xfrm rot="9697800">
                <a:off x="4135680" y="3411720"/>
                <a:ext cx="125640" cy="583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753"/>
              <p:cNvSpPr/>
              <p:nvPr/>
            </p:nvSpPr>
            <p:spPr>
              <a:xfrm rot="9697800">
                <a:off x="4151880" y="342252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1754"/>
              <p:cNvSpPr/>
              <p:nvPr/>
            </p:nvSpPr>
            <p:spPr>
              <a:xfrm rot="9697800">
                <a:off x="4152960" y="341388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755"/>
              <p:cNvSpPr/>
              <p:nvPr/>
            </p:nvSpPr>
            <p:spPr>
              <a:xfrm rot="9697800">
                <a:off x="4163760" y="341532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Freeform 1756"/>
              <p:cNvSpPr/>
              <p:nvPr/>
            </p:nvSpPr>
            <p:spPr>
              <a:xfrm rot="9697800">
                <a:off x="4163760" y="341460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757"/>
              <p:cNvSpPr/>
              <p:nvPr/>
            </p:nvSpPr>
            <p:spPr>
              <a:xfrm rot="9697800">
                <a:off x="4152600" y="340704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1758"/>
              <p:cNvSpPr/>
              <p:nvPr/>
            </p:nvSpPr>
            <p:spPr>
              <a:xfrm rot="9697800">
                <a:off x="4158720" y="341100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759"/>
              <p:cNvSpPr/>
              <p:nvPr/>
            </p:nvSpPr>
            <p:spPr>
              <a:xfrm rot="9697800">
                <a:off x="4152240" y="340992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1760"/>
              <p:cNvSpPr/>
              <p:nvPr/>
            </p:nvSpPr>
            <p:spPr>
              <a:xfrm rot="9697800">
                <a:off x="4156560" y="341136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761"/>
              <p:cNvSpPr/>
              <p:nvPr/>
            </p:nvSpPr>
            <p:spPr>
              <a:xfrm rot="9697800">
                <a:off x="4146840" y="3405240"/>
                <a:ext cx="132840" cy="842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762"/>
              <p:cNvSpPr/>
              <p:nvPr/>
            </p:nvSpPr>
            <p:spPr>
              <a:xfrm rot="9697800">
                <a:off x="4167000" y="341676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763"/>
              <p:cNvSpPr/>
              <p:nvPr/>
            </p:nvSpPr>
            <p:spPr>
              <a:xfrm rot="9697800">
                <a:off x="4171320" y="342180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Freeform 1764"/>
              <p:cNvSpPr/>
              <p:nvPr/>
            </p:nvSpPr>
            <p:spPr>
              <a:xfrm rot="9697800">
                <a:off x="4156920" y="342684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765"/>
              <p:cNvSpPr/>
              <p:nvPr/>
            </p:nvSpPr>
            <p:spPr>
              <a:xfrm rot="9697800">
                <a:off x="4126680" y="343080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766"/>
              <p:cNvSpPr/>
              <p:nvPr/>
            </p:nvSpPr>
            <p:spPr>
              <a:xfrm rot="9697800">
                <a:off x="4103640" y="3437640"/>
                <a:ext cx="82800" cy="7020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767"/>
              <p:cNvSpPr/>
              <p:nvPr/>
            </p:nvSpPr>
            <p:spPr>
              <a:xfrm rot="9697800">
                <a:off x="4086720" y="344412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768"/>
              <p:cNvSpPr/>
              <p:nvPr/>
            </p:nvSpPr>
            <p:spPr>
              <a:xfrm rot="9697800">
                <a:off x="4073400" y="344628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1769"/>
              <p:cNvSpPr/>
              <p:nvPr/>
            </p:nvSpPr>
            <p:spPr>
              <a:xfrm rot="9697800">
                <a:off x="4061520" y="3449160"/>
                <a:ext cx="105480" cy="3708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770"/>
              <p:cNvSpPr/>
              <p:nvPr/>
            </p:nvSpPr>
            <p:spPr>
              <a:xfrm rot="9697800">
                <a:off x="4054680" y="3451320"/>
                <a:ext cx="108360" cy="2700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771"/>
              <p:cNvSpPr/>
              <p:nvPr/>
            </p:nvSpPr>
            <p:spPr>
              <a:xfrm rot="9697800">
                <a:off x="4049640" y="3450960"/>
                <a:ext cx="115200" cy="201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772"/>
              <p:cNvSpPr/>
              <p:nvPr/>
            </p:nvSpPr>
            <p:spPr>
              <a:xfrm rot="9697800">
                <a:off x="4045680" y="3454560"/>
                <a:ext cx="109080" cy="126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Freeform 1773"/>
              <p:cNvSpPr/>
              <p:nvPr/>
            </p:nvSpPr>
            <p:spPr>
              <a:xfrm rot="9697800">
                <a:off x="4046040" y="3451680"/>
                <a:ext cx="122400" cy="216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774"/>
              <p:cNvSpPr/>
              <p:nvPr/>
            </p:nvSpPr>
            <p:spPr>
              <a:xfrm rot="9697800">
                <a:off x="4052160" y="344844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775"/>
              <p:cNvSpPr/>
              <p:nvPr/>
            </p:nvSpPr>
            <p:spPr>
              <a:xfrm rot="9697800">
                <a:off x="4063680" y="344340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6" name="Group 1776"/>
            <p:cNvGrpSpPr/>
            <p:nvPr/>
          </p:nvGrpSpPr>
          <p:grpSpPr>
            <a:xfrm>
              <a:off x="4182480" y="3187080"/>
              <a:ext cx="281520" cy="347040"/>
              <a:chOff x="4182480" y="3187080"/>
              <a:chExt cx="281520" cy="347040"/>
            </a:xfrm>
          </p:grpSpPr>
          <p:sp>
            <p:nvSpPr>
              <p:cNvPr id="1897" name="Freeform 1777"/>
              <p:cNvSpPr/>
              <p:nvPr/>
            </p:nvSpPr>
            <p:spPr>
              <a:xfrm rot="8448600">
                <a:off x="4236480" y="3204360"/>
                <a:ext cx="133560" cy="21924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778"/>
              <p:cNvSpPr/>
              <p:nvPr/>
            </p:nvSpPr>
            <p:spPr>
              <a:xfrm rot="8448600">
                <a:off x="4212360" y="3461760"/>
                <a:ext cx="163800" cy="7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779"/>
              <p:cNvSpPr/>
              <p:nvPr/>
            </p:nvSpPr>
            <p:spPr>
              <a:xfrm rot="8448600">
                <a:off x="4334400" y="3402360"/>
                <a:ext cx="67320" cy="110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780"/>
              <p:cNvSpPr/>
              <p:nvPr/>
            </p:nvSpPr>
            <p:spPr>
              <a:xfrm rot="8448600">
                <a:off x="4287240" y="3412440"/>
                <a:ext cx="115200" cy="417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781"/>
              <p:cNvSpPr/>
              <p:nvPr/>
            </p:nvSpPr>
            <p:spPr>
              <a:xfrm rot="8448600">
                <a:off x="4239360" y="3438360"/>
                <a:ext cx="136800" cy="21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782"/>
              <p:cNvSpPr/>
              <p:nvPr/>
            </p:nvSpPr>
            <p:spPr>
              <a:xfrm rot="8448600">
                <a:off x="4298040" y="3401640"/>
                <a:ext cx="125640" cy="583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783"/>
              <p:cNvSpPr/>
              <p:nvPr/>
            </p:nvSpPr>
            <p:spPr>
              <a:xfrm rot="8448600">
                <a:off x="4312440" y="3416400"/>
                <a:ext cx="73800" cy="2232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784"/>
              <p:cNvSpPr/>
              <p:nvPr/>
            </p:nvSpPr>
            <p:spPr>
              <a:xfrm rot="8448600">
                <a:off x="4316400" y="3397680"/>
                <a:ext cx="123480" cy="65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785"/>
              <p:cNvSpPr/>
              <p:nvPr/>
            </p:nvSpPr>
            <p:spPr>
              <a:xfrm rot="8448600">
                <a:off x="4335480" y="3401280"/>
                <a:ext cx="81360" cy="1058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786"/>
              <p:cNvSpPr/>
              <p:nvPr/>
            </p:nvSpPr>
            <p:spPr>
              <a:xfrm rot="8448600">
                <a:off x="4334760" y="3398400"/>
                <a:ext cx="94320" cy="1029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787"/>
              <p:cNvSpPr/>
              <p:nvPr/>
            </p:nvSpPr>
            <p:spPr>
              <a:xfrm rot="8448600">
                <a:off x="4321440" y="339120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788"/>
              <p:cNvSpPr/>
              <p:nvPr/>
            </p:nvSpPr>
            <p:spPr>
              <a:xfrm rot="8448600">
                <a:off x="4326480" y="3392640"/>
                <a:ext cx="119880" cy="975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789"/>
              <p:cNvSpPr/>
              <p:nvPr/>
            </p:nvSpPr>
            <p:spPr>
              <a:xfrm rot="8448600">
                <a:off x="4318920" y="3392280"/>
                <a:ext cx="129960" cy="93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1790"/>
              <p:cNvSpPr/>
              <p:nvPr/>
            </p:nvSpPr>
            <p:spPr>
              <a:xfrm rot="8448600">
                <a:off x="4321800" y="3393000"/>
                <a:ext cx="126000" cy="838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791"/>
              <p:cNvSpPr/>
              <p:nvPr/>
            </p:nvSpPr>
            <p:spPr>
              <a:xfrm rot="8448600">
                <a:off x="4310640" y="3389040"/>
                <a:ext cx="132840" cy="842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792"/>
              <p:cNvSpPr/>
              <p:nvPr/>
            </p:nvSpPr>
            <p:spPr>
              <a:xfrm rot="8448600">
                <a:off x="4340880" y="3408480"/>
                <a:ext cx="43920" cy="10764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793"/>
              <p:cNvSpPr/>
              <p:nvPr/>
            </p:nvSpPr>
            <p:spPr>
              <a:xfrm rot="8448600">
                <a:off x="4346640" y="3416400"/>
                <a:ext cx="15120" cy="1044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794"/>
              <p:cNvSpPr/>
              <p:nvPr/>
            </p:nvSpPr>
            <p:spPr>
              <a:xfrm rot="8448600">
                <a:off x="4333680" y="3426120"/>
                <a:ext cx="17640" cy="96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1795"/>
              <p:cNvSpPr/>
              <p:nvPr/>
            </p:nvSpPr>
            <p:spPr>
              <a:xfrm rot="8448600">
                <a:off x="4304160" y="3434400"/>
                <a:ext cx="53280" cy="889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796"/>
              <p:cNvSpPr/>
              <p:nvPr/>
            </p:nvSpPr>
            <p:spPr>
              <a:xfrm rot="8448600">
                <a:off x="4280760" y="3444480"/>
                <a:ext cx="82800" cy="7020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797"/>
              <p:cNvSpPr/>
              <p:nvPr/>
            </p:nvSpPr>
            <p:spPr>
              <a:xfrm rot="8448600">
                <a:off x="4264920" y="3456000"/>
                <a:ext cx="86760" cy="568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798"/>
              <p:cNvSpPr/>
              <p:nvPr/>
            </p:nvSpPr>
            <p:spPr>
              <a:xfrm rot="8448600">
                <a:off x="4250880" y="3461760"/>
                <a:ext cx="97200" cy="446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1799"/>
              <p:cNvSpPr/>
              <p:nvPr/>
            </p:nvSpPr>
            <p:spPr>
              <a:xfrm rot="8448600">
                <a:off x="4239000" y="3467160"/>
                <a:ext cx="105480" cy="3708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37080"/>
                  <a:gd name="textAreaBottom" fmla="*/ 37080 h 3708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800"/>
              <p:cNvSpPr/>
              <p:nvPr/>
            </p:nvSpPr>
            <p:spPr>
              <a:xfrm rot="8448600">
                <a:off x="4231440" y="3471480"/>
                <a:ext cx="108360" cy="2700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801"/>
              <p:cNvSpPr/>
              <p:nvPr/>
            </p:nvSpPr>
            <p:spPr>
              <a:xfrm rot="8448600">
                <a:off x="4224960" y="3472200"/>
                <a:ext cx="115200" cy="201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802"/>
              <p:cNvSpPr/>
              <p:nvPr/>
            </p:nvSpPr>
            <p:spPr>
              <a:xfrm rot="8448600">
                <a:off x="4221720" y="3478320"/>
                <a:ext cx="109080" cy="126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803"/>
              <p:cNvSpPr/>
              <p:nvPr/>
            </p:nvSpPr>
            <p:spPr>
              <a:xfrm rot="8448600">
                <a:off x="4218840" y="3473280"/>
                <a:ext cx="122400" cy="216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804"/>
              <p:cNvSpPr/>
              <p:nvPr/>
            </p:nvSpPr>
            <p:spPr>
              <a:xfrm rot="8448600">
                <a:off x="4223520" y="3470040"/>
                <a:ext cx="110160" cy="2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805"/>
              <p:cNvSpPr/>
              <p:nvPr/>
            </p:nvSpPr>
            <p:spPr>
              <a:xfrm rot="8448600">
                <a:off x="4233960" y="3464280"/>
                <a:ext cx="93600" cy="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Group 1806"/>
            <p:cNvGrpSpPr/>
            <p:nvPr/>
          </p:nvGrpSpPr>
          <p:grpSpPr>
            <a:xfrm>
              <a:off x="4347000" y="3117960"/>
              <a:ext cx="181080" cy="174960"/>
              <a:chOff x="4347000" y="3117960"/>
              <a:chExt cx="181080" cy="174960"/>
            </a:xfrm>
          </p:grpSpPr>
          <p:sp>
            <p:nvSpPr>
              <p:cNvPr id="1927" name="Freeform 1807"/>
              <p:cNvSpPr/>
              <p:nvPr/>
            </p:nvSpPr>
            <p:spPr>
              <a:xfrm rot="5697600">
                <a:off x="4367880" y="3105360"/>
                <a:ext cx="87840" cy="1224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808"/>
              <p:cNvSpPr/>
              <p:nvPr/>
            </p:nvSpPr>
            <p:spPr>
              <a:xfrm rot="5697600">
                <a:off x="4414680" y="3236760"/>
                <a:ext cx="107640" cy="39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1809"/>
              <p:cNvSpPr/>
              <p:nvPr/>
            </p:nvSpPr>
            <p:spPr>
              <a:xfrm rot="5697600">
                <a:off x="4472280" y="3169800"/>
                <a:ext cx="44280" cy="615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1810"/>
              <p:cNvSpPr/>
              <p:nvPr/>
            </p:nvSpPr>
            <p:spPr>
              <a:xfrm rot="5697600">
                <a:off x="4437720" y="3188880"/>
                <a:ext cx="75600" cy="234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811"/>
              <p:cNvSpPr/>
              <p:nvPr/>
            </p:nvSpPr>
            <p:spPr>
              <a:xfrm rot="5697600">
                <a:off x="4422240" y="321948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812"/>
              <p:cNvSpPr/>
              <p:nvPr/>
            </p:nvSpPr>
            <p:spPr>
              <a:xfrm rot="5697600">
                <a:off x="4439520" y="3175560"/>
                <a:ext cx="82440" cy="32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813"/>
              <p:cNvSpPr/>
              <p:nvPr/>
            </p:nvSpPr>
            <p:spPr>
              <a:xfrm rot="5697600">
                <a:off x="4451040" y="318924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814"/>
              <p:cNvSpPr/>
              <p:nvPr/>
            </p:nvSpPr>
            <p:spPr>
              <a:xfrm rot="5697600">
                <a:off x="4446720" y="316512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815"/>
              <p:cNvSpPr/>
              <p:nvPr/>
            </p:nvSpPr>
            <p:spPr>
              <a:xfrm rot="5697600">
                <a:off x="4469400" y="3165840"/>
                <a:ext cx="53640" cy="59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816"/>
              <p:cNvSpPr/>
              <p:nvPr/>
            </p:nvSpPr>
            <p:spPr>
              <a:xfrm rot="5697600">
                <a:off x="4465800" y="316188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817"/>
              <p:cNvSpPr/>
              <p:nvPr/>
            </p:nvSpPr>
            <p:spPr>
              <a:xfrm rot="5697600">
                <a:off x="4455360" y="315864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1818"/>
              <p:cNvSpPr/>
              <p:nvPr/>
            </p:nvSpPr>
            <p:spPr>
              <a:xfrm rot="5697600">
                <a:off x="4455720" y="3157200"/>
                <a:ext cx="78840" cy="54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819"/>
              <p:cNvSpPr/>
              <p:nvPr/>
            </p:nvSpPr>
            <p:spPr>
              <a:xfrm rot="5697600">
                <a:off x="4450680" y="315828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820"/>
              <p:cNvSpPr/>
              <p:nvPr/>
            </p:nvSpPr>
            <p:spPr>
              <a:xfrm rot="5697600">
                <a:off x="4450680" y="3158280"/>
                <a:ext cx="82800" cy="4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821"/>
              <p:cNvSpPr/>
              <p:nvPr/>
            </p:nvSpPr>
            <p:spPr>
              <a:xfrm rot="5697600">
                <a:off x="4443840" y="316044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1822"/>
              <p:cNvSpPr/>
              <p:nvPr/>
            </p:nvSpPr>
            <p:spPr>
              <a:xfrm rot="5697600">
                <a:off x="4479480" y="317484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1823"/>
              <p:cNvSpPr/>
              <p:nvPr/>
            </p:nvSpPr>
            <p:spPr>
              <a:xfrm rot="5697600">
                <a:off x="4488120" y="318276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824"/>
              <p:cNvSpPr/>
              <p:nvPr/>
            </p:nvSpPr>
            <p:spPr>
              <a:xfrm rot="5697600">
                <a:off x="4485240" y="319320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Freeform 1825"/>
              <p:cNvSpPr/>
              <p:nvPr/>
            </p:nvSpPr>
            <p:spPr>
              <a:xfrm rot="5697600">
                <a:off x="4470480" y="320292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826"/>
              <p:cNvSpPr/>
              <p:nvPr/>
            </p:nvSpPr>
            <p:spPr>
              <a:xfrm rot="5697600">
                <a:off x="4457520" y="3212640"/>
                <a:ext cx="54360" cy="392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827"/>
              <p:cNvSpPr/>
              <p:nvPr/>
            </p:nvSpPr>
            <p:spPr>
              <a:xfrm rot="5697600">
                <a:off x="4452840" y="322524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828"/>
              <p:cNvSpPr/>
              <p:nvPr/>
            </p:nvSpPr>
            <p:spPr>
              <a:xfrm rot="5697600">
                <a:off x="4445640" y="323244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829"/>
              <p:cNvSpPr/>
              <p:nvPr/>
            </p:nvSpPr>
            <p:spPr>
              <a:xfrm rot="5697600">
                <a:off x="4440960" y="323892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830"/>
              <p:cNvSpPr/>
              <p:nvPr/>
            </p:nvSpPr>
            <p:spPr>
              <a:xfrm rot="5697600">
                <a:off x="4437360" y="324468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1831"/>
              <p:cNvSpPr/>
              <p:nvPr/>
            </p:nvSpPr>
            <p:spPr>
              <a:xfrm rot="5697600">
                <a:off x="4432680" y="3246480"/>
                <a:ext cx="75600" cy="11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832"/>
              <p:cNvSpPr/>
              <p:nvPr/>
            </p:nvSpPr>
            <p:spPr>
              <a:xfrm rot="5697600">
                <a:off x="4432320" y="3252960"/>
                <a:ext cx="71640" cy="7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833"/>
              <p:cNvSpPr/>
              <p:nvPr/>
            </p:nvSpPr>
            <p:spPr>
              <a:xfrm rot="5697600">
                <a:off x="4425840" y="3249000"/>
                <a:ext cx="80280" cy="1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834"/>
              <p:cNvSpPr/>
              <p:nvPr/>
            </p:nvSpPr>
            <p:spPr>
              <a:xfrm rot="5697600">
                <a:off x="4428000" y="3248640"/>
                <a:ext cx="72360" cy="1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835"/>
              <p:cNvSpPr/>
              <p:nvPr/>
            </p:nvSpPr>
            <p:spPr>
              <a:xfrm rot="5697600">
                <a:off x="4432320" y="3245040"/>
                <a:ext cx="61560" cy="3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6" name="Group 1836"/>
            <p:cNvGrpSpPr/>
            <p:nvPr/>
          </p:nvGrpSpPr>
          <p:grpSpPr>
            <a:xfrm>
              <a:off x="4350600" y="2990520"/>
              <a:ext cx="204120" cy="155160"/>
              <a:chOff x="4350600" y="2990520"/>
              <a:chExt cx="204120" cy="155160"/>
            </a:xfrm>
          </p:grpSpPr>
          <p:sp>
            <p:nvSpPr>
              <p:cNvPr id="1957" name="Freeform 1837"/>
              <p:cNvSpPr/>
              <p:nvPr/>
            </p:nvSpPr>
            <p:spPr>
              <a:xfrm rot="3458400">
                <a:off x="4381560" y="3014640"/>
                <a:ext cx="87840" cy="1224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838"/>
              <p:cNvSpPr/>
              <p:nvPr/>
            </p:nvSpPr>
            <p:spPr>
              <a:xfrm rot="3458400">
                <a:off x="4460400" y="3097080"/>
                <a:ext cx="107640" cy="39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839"/>
              <p:cNvSpPr/>
              <p:nvPr/>
            </p:nvSpPr>
            <p:spPr>
              <a:xfrm rot="3458400">
                <a:off x="4489560" y="3021840"/>
                <a:ext cx="44280" cy="615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840"/>
              <p:cNvSpPr/>
              <p:nvPr/>
            </p:nvSpPr>
            <p:spPr>
              <a:xfrm rot="3458400">
                <a:off x="4458600" y="3052080"/>
                <a:ext cx="75600" cy="234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841"/>
              <p:cNvSpPr/>
              <p:nvPr/>
            </p:nvSpPr>
            <p:spPr>
              <a:xfrm rot="3458400">
                <a:off x="4460040" y="308304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842"/>
              <p:cNvSpPr/>
              <p:nvPr/>
            </p:nvSpPr>
            <p:spPr>
              <a:xfrm rot="3458400">
                <a:off x="4454280" y="3037320"/>
                <a:ext cx="82440" cy="32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843"/>
              <p:cNvSpPr/>
              <p:nvPr/>
            </p:nvSpPr>
            <p:spPr>
              <a:xfrm rot="3458400">
                <a:off x="4469400" y="305424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1844"/>
              <p:cNvSpPr/>
              <p:nvPr/>
            </p:nvSpPr>
            <p:spPr>
              <a:xfrm rot="3458400">
                <a:off x="4455000" y="302508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845"/>
              <p:cNvSpPr/>
              <p:nvPr/>
            </p:nvSpPr>
            <p:spPr>
              <a:xfrm rot="3458400">
                <a:off x="4483080" y="3017520"/>
                <a:ext cx="53640" cy="59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846"/>
              <p:cNvSpPr/>
              <p:nvPr/>
            </p:nvSpPr>
            <p:spPr>
              <a:xfrm rot="3458400">
                <a:off x="4476240" y="301428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1847"/>
              <p:cNvSpPr/>
              <p:nvPr/>
            </p:nvSpPr>
            <p:spPr>
              <a:xfrm rot="3458400">
                <a:off x="4465800" y="301356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848"/>
              <p:cNvSpPr/>
              <p:nvPr/>
            </p:nvSpPr>
            <p:spPr>
              <a:xfrm rot="3458400">
                <a:off x="4463280" y="3011760"/>
                <a:ext cx="78840" cy="54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1849"/>
              <p:cNvSpPr/>
              <p:nvPr/>
            </p:nvSpPr>
            <p:spPr>
              <a:xfrm rot="3458400">
                <a:off x="4458600" y="301428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850"/>
              <p:cNvSpPr/>
              <p:nvPr/>
            </p:nvSpPr>
            <p:spPr>
              <a:xfrm rot="3458400">
                <a:off x="4457160" y="3015720"/>
                <a:ext cx="82800" cy="4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851"/>
              <p:cNvSpPr/>
              <p:nvPr/>
            </p:nvSpPr>
            <p:spPr>
              <a:xfrm rot="3458400">
                <a:off x="4452480" y="302004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852"/>
              <p:cNvSpPr/>
              <p:nvPr/>
            </p:nvSpPr>
            <p:spPr>
              <a:xfrm rot="3458400">
                <a:off x="4499280" y="302616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853"/>
              <p:cNvSpPr/>
              <p:nvPr/>
            </p:nvSpPr>
            <p:spPr>
              <a:xfrm rot="3458400">
                <a:off x="4512960" y="303336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854"/>
              <p:cNvSpPr/>
              <p:nvPr/>
            </p:nvSpPr>
            <p:spPr>
              <a:xfrm rot="3458400">
                <a:off x="4514760" y="304344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855"/>
              <p:cNvSpPr/>
              <p:nvPr/>
            </p:nvSpPr>
            <p:spPr>
              <a:xfrm rot="3458400">
                <a:off x="4505400" y="305316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856"/>
              <p:cNvSpPr/>
              <p:nvPr/>
            </p:nvSpPr>
            <p:spPr>
              <a:xfrm rot="3458400">
                <a:off x="4495680" y="3063960"/>
                <a:ext cx="54360" cy="392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857"/>
              <p:cNvSpPr/>
              <p:nvPr/>
            </p:nvSpPr>
            <p:spPr>
              <a:xfrm rot="3458400">
                <a:off x="4497480" y="307728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858"/>
              <p:cNvSpPr/>
              <p:nvPr/>
            </p:nvSpPr>
            <p:spPr>
              <a:xfrm rot="3458400">
                <a:off x="4493160" y="308556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Freeform 1859"/>
              <p:cNvSpPr/>
              <p:nvPr/>
            </p:nvSpPr>
            <p:spPr>
              <a:xfrm rot="3458400">
                <a:off x="4491360" y="309240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1860"/>
              <p:cNvSpPr/>
              <p:nvPr/>
            </p:nvSpPr>
            <p:spPr>
              <a:xfrm rot="3458400">
                <a:off x="4490280" y="309924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861"/>
              <p:cNvSpPr/>
              <p:nvPr/>
            </p:nvSpPr>
            <p:spPr>
              <a:xfrm rot="3458400">
                <a:off x="4485960" y="3102480"/>
                <a:ext cx="75600" cy="11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862"/>
              <p:cNvSpPr/>
              <p:nvPr/>
            </p:nvSpPr>
            <p:spPr>
              <a:xfrm rot="3458400">
                <a:off x="4489200" y="3109320"/>
                <a:ext cx="71640" cy="7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863"/>
              <p:cNvSpPr/>
              <p:nvPr/>
            </p:nvSpPr>
            <p:spPr>
              <a:xfrm rot="3458400">
                <a:off x="4478400" y="3108240"/>
                <a:ext cx="80280" cy="1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Freeform 1864"/>
              <p:cNvSpPr/>
              <p:nvPr/>
            </p:nvSpPr>
            <p:spPr>
              <a:xfrm rot="3458400">
                <a:off x="4480920" y="3109320"/>
                <a:ext cx="72360" cy="1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865"/>
              <p:cNvSpPr/>
              <p:nvPr/>
            </p:nvSpPr>
            <p:spPr>
              <a:xfrm rot="3458400">
                <a:off x="4484160" y="3106440"/>
                <a:ext cx="61560" cy="3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6" name="Group 1866"/>
            <p:cNvGrpSpPr/>
            <p:nvPr/>
          </p:nvGrpSpPr>
          <p:grpSpPr>
            <a:xfrm>
              <a:off x="4341600" y="2883600"/>
              <a:ext cx="203760" cy="187920"/>
              <a:chOff x="4341600" y="2883600"/>
              <a:chExt cx="203760" cy="187920"/>
            </a:xfrm>
          </p:grpSpPr>
          <p:sp>
            <p:nvSpPr>
              <p:cNvPr id="1987" name="Freeform 1867"/>
              <p:cNvSpPr/>
              <p:nvPr/>
            </p:nvSpPr>
            <p:spPr>
              <a:xfrm rot="1564200">
                <a:off x="4363560" y="2935800"/>
                <a:ext cx="87840" cy="1224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868"/>
              <p:cNvSpPr/>
              <p:nvPr/>
            </p:nvSpPr>
            <p:spPr>
              <a:xfrm rot="1564200">
                <a:off x="4441320" y="2968560"/>
                <a:ext cx="107640" cy="39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1869"/>
              <p:cNvSpPr/>
              <p:nvPr/>
            </p:nvSpPr>
            <p:spPr>
              <a:xfrm rot="1564200">
                <a:off x="4446720" y="2901240"/>
                <a:ext cx="44280" cy="615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870"/>
              <p:cNvSpPr/>
              <p:nvPr/>
            </p:nvSpPr>
            <p:spPr>
              <a:xfrm rot="1564200">
                <a:off x="4424400" y="2937600"/>
                <a:ext cx="75600" cy="234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871"/>
              <p:cNvSpPr/>
              <p:nvPr/>
            </p:nvSpPr>
            <p:spPr>
              <a:xfrm rot="1564200">
                <a:off x="4437000" y="296064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872"/>
              <p:cNvSpPr/>
              <p:nvPr/>
            </p:nvSpPr>
            <p:spPr>
              <a:xfrm rot="1564200">
                <a:off x="4414320" y="2925360"/>
                <a:ext cx="82440" cy="32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873"/>
              <p:cNvSpPr/>
              <p:nvPr/>
            </p:nvSpPr>
            <p:spPr>
              <a:xfrm rot="1564200">
                <a:off x="4433400" y="294192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874"/>
              <p:cNvSpPr/>
              <p:nvPr/>
            </p:nvSpPr>
            <p:spPr>
              <a:xfrm rot="1564200">
                <a:off x="4409640" y="291456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875"/>
              <p:cNvSpPr/>
              <p:nvPr/>
            </p:nvSpPr>
            <p:spPr>
              <a:xfrm rot="1564200">
                <a:off x="4437720" y="2899080"/>
                <a:ext cx="53640" cy="59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876"/>
              <p:cNvSpPr/>
              <p:nvPr/>
            </p:nvSpPr>
            <p:spPr>
              <a:xfrm rot="1564200">
                <a:off x="4429080" y="289764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877"/>
              <p:cNvSpPr/>
              <p:nvPr/>
            </p:nvSpPr>
            <p:spPr>
              <a:xfrm rot="1564200">
                <a:off x="4419360" y="289836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878"/>
              <p:cNvSpPr/>
              <p:nvPr/>
            </p:nvSpPr>
            <p:spPr>
              <a:xfrm rot="1564200">
                <a:off x="4414320" y="2898000"/>
                <a:ext cx="78840" cy="54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879"/>
              <p:cNvSpPr/>
              <p:nvPr/>
            </p:nvSpPr>
            <p:spPr>
              <a:xfrm rot="1564200">
                <a:off x="4410720" y="290124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880"/>
              <p:cNvSpPr/>
              <p:nvPr/>
            </p:nvSpPr>
            <p:spPr>
              <a:xfrm rot="1564200">
                <a:off x="4409280" y="2903760"/>
                <a:ext cx="82800" cy="4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1881"/>
              <p:cNvSpPr/>
              <p:nvPr/>
            </p:nvSpPr>
            <p:spPr>
              <a:xfrm rot="1564200">
                <a:off x="4407480" y="290916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882"/>
              <p:cNvSpPr/>
              <p:nvPr/>
            </p:nvSpPr>
            <p:spPr>
              <a:xfrm rot="1564200">
                <a:off x="4458240" y="290412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883"/>
              <p:cNvSpPr/>
              <p:nvPr/>
            </p:nvSpPr>
            <p:spPr>
              <a:xfrm rot="1564200">
                <a:off x="4473720" y="290808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884"/>
              <p:cNvSpPr/>
              <p:nvPr/>
            </p:nvSpPr>
            <p:spPr>
              <a:xfrm rot="1564200">
                <a:off x="4479840" y="291564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885"/>
              <p:cNvSpPr/>
              <p:nvPr/>
            </p:nvSpPr>
            <p:spPr>
              <a:xfrm rot="1564200">
                <a:off x="4474080" y="292320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1886"/>
              <p:cNvSpPr/>
              <p:nvPr/>
            </p:nvSpPr>
            <p:spPr>
              <a:xfrm rot="1564200">
                <a:off x="4467600" y="2932920"/>
                <a:ext cx="54360" cy="392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887"/>
              <p:cNvSpPr/>
              <p:nvPr/>
            </p:nvSpPr>
            <p:spPr>
              <a:xfrm rot="1564200">
                <a:off x="4473720" y="294336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888"/>
              <p:cNvSpPr/>
              <p:nvPr/>
            </p:nvSpPr>
            <p:spPr>
              <a:xfrm rot="1564200">
                <a:off x="4471920" y="295128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889"/>
              <p:cNvSpPr/>
              <p:nvPr/>
            </p:nvSpPr>
            <p:spPr>
              <a:xfrm rot="1564200">
                <a:off x="4472640" y="295704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890"/>
              <p:cNvSpPr/>
              <p:nvPr/>
            </p:nvSpPr>
            <p:spPr>
              <a:xfrm rot="1564200">
                <a:off x="4473360" y="296352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891"/>
              <p:cNvSpPr/>
              <p:nvPr/>
            </p:nvSpPr>
            <p:spPr>
              <a:xfrm rot="1564200">
                <a:off x="4470480" y="2967480"/>
                <a:ext cx="75600" cy="11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892"/>
              <p:cNvSpPr/>
              <p:nvPr/>
            </p:nvSpPr>
            <p:spPr>
              <a:xfrm rot="1564200">
                <a:off x="4475520" y="2972880"/>
                <a:ext cx="71640" cy="7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1893"/>
              <p:cNvSpPr/>
              <p:nvPr/>
            </p:nvSpPr>
            <p:spPr>
              <a:xfrm rot="1564200">
                <a:off x="4464000" y="2975760"/>
                <a:ext cx="80280" cy="1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894"/>
              <p:cNvSpPr/>
              <p:nvPr/>
            </p:nvSpPr>
            <p:spPr>
              <a:xfrm rot="1564200">
                <a:off x="4467240" y="2977560"/>
                <a:ext cx="72360" cy="1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1895"/>
              <p:cNvSpPr/>
              <p:nvPr/>
            </p:nvSpPr>
            <p:spPr>
              <a:xfrm rot="1564200">
                <a:off x="4469760" y="2976120"/>
                <a:ext cx="61560" cy="3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6" name="Group 1896"/>
            <p:cNvGrpSpPr/>
            <p:nvPr/>
          </p:nvGrpSpPr>
          <p:grpSpPr>
            <a:xfrm>
              <a:off x="4302000" y="2818440"/>
              <a:ext cx="164520" cy="183240"/>
              <a:chOff x="4302000" y="2818440"/>
              <a:chExt cx="164520" cy="183240"/>
            </a:xfrm>
          </p:grpSpPr>
          <p:sp>
            <p:nvSpPr>
              <p:cNvPr id="2017" name="Freeform 1897"/>
              <p:cNvSpPr/>
              <p:nvPr/>
            </p:nvSpPr>
            <p:spPr>
              <a:xfrm rot="21344400">
                <a:off x="4306320" y="2876040"/>
                <a:ext cx="87840" cy="1224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898"/>
              <p:cNvSpPr/>
              <p:nvPr/>
            </p:nvSpPr>
            <p:spPr>
              <a:xfrm rot="21344400">
                <a:off x="4358520" y="2867760"/>
                <a:ext cx="107640" cy="39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899"/>
              <p:cNvSpPr/>
              <p:nvPr/>
            </p:nvSpPr>
            <p:spPr>
              <a:xfrm rot="21344400">
                <a:off x="4348080" y="2819880"/>
                <a:ext cx="44280" cy="615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1900"/>
              <p:cNvSpPr/>
              <p:nvPr/>
            </p:nvSpPr>
            <p:spPr>
              <a:xfrm rot="21344400">
                <a:off x="4335480" y="2857320"/>
                <a:ext cx="75600" cy="234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901"/>
              <p:cNvSpPr/>
              <p:nvPr/>
            </p:nvSpPr>
            <p:spPr>
              <a:xfrm rot="21344400">
                <a:off x="4353840" y="286740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902"/>
              <p:cNvSpPr/>
              <p:nvPr/>
            </p:nvSpPr>
            <p:spPr>
              <a:xfrm rot="21344400">
                <a:off x="4322520" y="2849040"/>
                <a:ext cx="82440" cy="32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903"/>
              <p:cNvSpPr/>
              <p:nvPr/>
            </p:nvSpPr>
            <p:spPr>
              <a:xfrm rot="21344400">
                <a:off x="4344480" y="286344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904"/>
              <p:cNvSpPr/>
              <p:nvPr/>
            </p:nvSpPr>
            <p:spPr>
              <a:xfrm rot="21344400">
                <a:off x="4313880" y="284220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1905"/>
              <p:cNvSpPr/>
              <p:nvPr/>
            </p:nvSpPr>
            <p:spPr>
              <a:xfrm rot="21344400">
                <a:off x="4337640" y="2820240"/>
                <a:ext cx="53640" cy="59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906"/>
              <p:cNvSpPr/>
              <p:nvPr/>
            </p:nvSpPr>
            <p:spPr>
              <a:xfrm rot="21344400">
                <a:off x="4328640" y="282132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907"/>
              <p:cNvSpPr/>
              <p:nvPr/>
            </p:nvSpPr>
            <p:spPr>
              <a:xfrm rot="21344400">
                <a:off x="4320360" y="282240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908"/>
              <p:cNvSpPr/>
              <p:nvPr/>
            </p:nvSpPr>
            <p:spPr>
              <a:xfrm rot="21344400">
                <a:off x="4314600" y="2824920"/>
                <a:ext cx="78840" cy="54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909"/>
              <p:cNvSpPr/>
              <p:nvPr/>
            </p:nvSpPr>
            <p:spPr>
              <a:xfrm rot="21344400">
                <a:off x="4312080" y="282780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910"/>
              <p:cNvSpPr/>
              <p:nvPr/>
            </p:nvSpPr>
            <p:spPr>
              <a:xfrm rot="21344400">
                <a:off x="4311000" y="2832120"/>
                <a:ext cx="82800" cy="4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911"/>
              <p:cNvSpPr/>
              <p:nvPr/>
            </p:nvSpPr>
            <p:spPr>
              <a:xfrm rot="21344400">
                <a:off x="4311360" y="283608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912"/>
              <p:cNvSpPr/>
              <p:nvPr/>
            </p:nvSpPr>
            <p:spPr>
              <a:xfrm rot="21344400">
                <a:off x="4360320" y="281988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913"/>
              <p:cNvSpPr/>
              <p:nvPr/>
            </p:nvSpPr>
            <p:spPr>
              <a:xfrm rot="21344400">
                <a:off x="4376520" y="282060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914"/>
              <p:cNvSpPr/>
              <p:nvPr/>
            </p:nvSpPr>
            <p:spPr>
              <a:xfrm rot="21344400">
                <a:off x="4384440" y="282384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915"/>
              <p:cNvSpPr/>
              <p:nvPr/>
            </p:nvSpPr>
            <p:spPr>
              <a:xfrm rot="21344400">
                <a:off x="4380840" y="282780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916"/>
              <p:cNvSpPr/>
              <p:nvPr/>
            </p:nvSpPr>
            <p:spPr>
              <a:xfrm rot="21344400">
                <a:off x="4375440" y="2835360"/>
                <a:ext cx="54360" cy="392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917"/>
              <p:cNvSpPr/>
              <p:nvPr/>
            </p:nvSpPr>
            <p:spPr>
              <a:xfrm rot="21344400">
                <a:off x="4384440" y="284076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918"/>
              <p:cNvSpPr/>
              <p:nvPr/>
            </p:nvSpPr>
            <p:spPr>
              <a:xfrm rot="21344400">
                <a:off x="4384800" y="284760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919"/>
              <p:cNvSpPr/>
              <p:nvPr/>
            </p:nvSpPr>
            <p:spPr>
              <a:xfrm rot="21344400">
                <a:off x="4386600" y="285120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920"/>
              <p:cNvSpPr/>
              <p:nvPr/>
            </p:nvSpPr>
            <p:spPr>
              <a:xfrm rot="21344400">
                <a:off x="4389120" y="285588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921"/>
              <p:cNvSpPr/>
              <p:nvPr/>
            </p:nvSpPr>
            <p:spPr>
              <a:xfrm rot="21344400">
                <a:off x="4386960" y="2860560"/>
                <a:ext cx="75600" cy="11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922"/>
              <p:cNvSpPr/>
              <p:nvPr/>
            </p:nvSpPr>
            <p:spPr>
              <a:xfrm rot="21344400">
                <a:off x="4393800" y="2863440"/>
                <a:ext cx="71640" cy="7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923"/>
              <p:cNvSpPr/>
              <p:nvPr/>
            </p:nvSpPr>
            <p:spPr>
              <a:xfrm rot="21344400">
                <a:off x="4383000" y="2869920"/>
                <a:ext cx="80280" cy="1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924"/>
              <p:cNvSpPr/>
              <p:nvPr/>
            </p:nvSpPr>
            <p:spPr>
              <a:xfrm rot="21344400">
                <a:off x="4386600" y="2872080"/>
                <a:ext cx="72360" cy="1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925"/>
              <p:cNvSpPr/>
              <p:nvPr/>
            </p:nvSpPr>
            <p:spPr>
              <a:xfrm rot="21344400">
                <a:off x="4389840" y="2872080"/>
                <a:ext cx="61560" cy="3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6" name="Group 1926"/>
            <p:cNvGrpSpPr/>
            <p:nvPr/>
          </p:nvGrpSpPr>
          <p:grpSpPr>
            <a:xfrm>
              <a:off x="4187520" y="2782440"/>
              <a:ext cx="156240" cy="203400"/>
              <a:chOff x="4187520" y="2782440"/>
              <a:chExt cx="156240" cy="203400"/>
            </a:xfrm>
          </p:grpSpPr>
          <p:sp>
            <p:nvSpPr>
              <p:cNvPr id="2047" name="Freeform 1927"/>
              <p:cNvSpPr/>
              <p:nvPr/>
            </p:nvSpPr>
            <p:spPr>
              <a:xfrm rot="19729200">
                <a:off x="4227120" y="2849400"/>
                <a:ext cx="87840" cy="1224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928"/>
              <p:cNvSpPr/>
              <p:nvPr/>
            </p:nvSpPr>
            <p:spPr>
              <a:xfrm rot="19729200">
                <a:off x="4242600" y="2820240"/>
                <a:ext cx="107640" cy="39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Freeform 1929"/>
              <p:cNvSpPr/>
              <p:nvPr/>
            </p:nvSpPr>
            <p:spPr>
              <a:xfrm rot="19729200">
                <a:off x="4227480" y="2793240"/>
                <a:ext cx="44280" cy="615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930"/>
              <p:cNvSpPr/>
              <p:nvPr/>
            </p:nvSpPr>
            <p:spPr>
              <a:xfrm rot="19729200">
                <a:off x="4222800" y="2827440"/>
                <a:ext cx="75600" cy="234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931"/>
              <p:cNvSpPr/>
              <p:nvPr/>
            </p:nvSpPr>
            <p:spPr>
              <a:xfrm rot="19729200">
                <a:off x="4241160" y="282564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932"/>
              <p:cNvSpPr/>
              <p:nvPr/>
            </p:nvSpPr>
            <p:spPr>
              <a:xfrm rot="19729200">
                <a:off x="4209120" y="2823840"/>
                <a:ext cx="82440" cy="32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933"/>
              <p:cNvSpPr/>
              <p:nvPr/>
            </p:nvSpPr>
            <p:spPr>
              <a:xfrm rot="19729200">
                <a:off x="4233240" y="283572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934"/>
              <p:cNvSpPr/>
              <p:nvPr/>
            </p:nvSpPr>
            <p:spPr>
              <a:xfrm rot="19729200">
                <a:off x="4199400" y="282168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935"/>
              <p:cNvSpPr/>
              <p:nvPr/>
            </p:nvSpPr>
            <p:spPr>
              <a:xfrm rot="19729200">
                <a:off x="4217400" y="2796120"/>
                <a:ext cx="53640" cy="59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936"/>
              <p:cNvSpPr/>
              <p:nvPr/>
            </p:nvSpPr>
            <p:spPr>
              <a:xfrm rot="19729200">
                <a:off x="4209120" y="279936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937"/>
              <p:cNvSpPr/>
              <p:nvPr/>
            </p:nvSpPr>
            <p:spPr>
              <a:xfrm rot="19729200">
                <a:off x="4202280" y="280116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938"/>
              <p:cNvSpPr/>
              <p:nvPr/>
            </p:nvSpPr>
            <p:spPr>
              <a:xfrm rot="19729200">
                <a:off x="4196520" y="2805480"/>
                <a:ext cx="78840" cy="54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939"/>
              <p:cNvSpPr/>
              <p:nvPr/>
            </p:nvSpPr>
            <p:spPr>
              <a:xfrm rot="19729200">
                <a:off x="4194720" y="280836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940"/>
              <p:cNvSpPr/>
              <p:nvPr/>
            </p:nvSpPr>
            <p:spPr>
              <a:xfrm rot="19729200">
                <a:off x="4194720" y="2813400"/>
                <a:ext cx="82800" cy="4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941"/>
              <p:cNvSpPr/>
              <p:nvPr/>
            </p:nvSpPr>
            <p:spPr>
              <a:xfrm rot="19729200">
                <a:off x="4197240" y="281556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942"/>
              <p:cNvSpPr/>
              <p:nvPr/>
            </p:nvSpPr>
            <p:spPr>
              <a:xfrm rot="19729200">
                <a:off x="4239000" y="279180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943"/>
              <p:cNvSpPr/>
              <p:nvPr/>
            </p:nvSpPr>
            <p:spPr>
              <a:xfrm rot="19729200">
                <a:off x="4254480" y="278928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944"/>
              <p:cNvSpPr/>
              <p:nvPr/>
            </p:nvSpPr>
            <p:spPr>
              <a:xfrm rot="19729200">
                <a:off x="4262040" y="278820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945"/>
              <p:cNvSpPr/>
              <p:nvPr/>
            </p:nvSpPr>
            <p:spPr>
              <a:xfrm rot="19729200">
                <a:off x="4258080" y="278820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946"/>
              <p:cNvSpPr/>
              <p:nvPr/>
            </p:nvSpPr>
            <p:spPr>
              <a:xfrm rot="19729200">
                <a:off x="4253760" y="2793600"/>
                <a:ext cx="54360" cy="392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947"/>
              <p:cNvSpPr/>
              <p:nvPr/>
            </p:nvSpPr>
            <p:spPr>
              <a:xfrm rot="19729200">
                <a:off x="4262040" y="279468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948"/>
              <p:cNvSpPr/>
              <p:nvPr/>
            </p:nvSpPr>
            <p:spPr>
              <a:xfrm rot="19729200">
                <a:off x="4263840" y="279900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949"/>
              <p:cNvSpPr/>
              <p:nvPr/>
            </p:nvSpPr>
            <p:spPr>
              <a:xfrm rot="19729200">
                <a:off x="4265640" y="280044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1950"/>
              <p:cNvSpPr/>
              <p:nvPr/>
            </p:nvSpPr>
            <p:spPr>
              <a:xfrm rot="19729200">
                <a:off x="4268520" y="280368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951"/>
              <p:cNvSpPr/>
              <p:nvPr/>
            </p:nvSpPr>
            <p:spPr>
              <a:xfrm rot="19729200">
                <a:off x="4267440" y="2807280"/>
                <a:ext cx="75600" cy="11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952"/>
              <p:cNvSpPr/>
              <p:nvPr/>
            </p:nvSpPr>
            <p:spPr>
              <a:xfrm rot="19729200">
                <a:off x="4274280" y="2808720"/>
                <a:ext cx="71640" cy="7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953"/>
              <p:cNvSpPr/>
              <p:nvPr/>
            </p:nvSpPr>
            <p:spPr>
              <a:xfrm rot="19729200">
                <a:off x="4266000" y="2817720"/>
                <a:ext cx="80280" cy="1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954"/>
              <p:cNvSpPr/>
              <p:nvPr/>
            </p:nvSpPr>
            <p:spPr>
              <a:xfrm rot="19729200">
                <a:off x="4270680" y="2819160"/>
                <a:ext cx="72360" cy="1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955"/>
              <p:cNvSpPr/>
              <p:nvPr/>
            </p:nvSpPr>
            <p:spPr>
              <a:xfrm rot="19729200">
                <a:off x="4274280" y="2820600"/>
                <a:ext cx="61560" cy="3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6" name="Group 1956"/>
            <p:cNvGrpSpPr/>
            <p:nvPr/>
          </p:nvGrpSpPr>
          <p:grpSpPr>
            <a:xfrm>
              <a:off x="4087440" y="2778120"/>
              <a:ext cx="181440" cy="209520"/>
              <a:chOff x="4087440" y="2778120"/>
              <a:chExt cx="181440" cy="209520"/>
            </a:xfrm>
          </p:grpSpPr>
          <p:sp>
            <p:nvSpPr>
              <p:cNvPr id="2077" name="Freeform 1957"/>
              <p:cNvSpPr/>
              <p:nvPr/>
            </p:nvSpPr>
            <p:spPr>
              <a:xfrm rot="18477600">
                <a:off x="4149720" y="2854080"/>
                <a:ext cx="87480" cy="12240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1958"/>
              <p:cNvSpPr/>
              <p:nvPr/>
            </p:nvSpPr>
            <p:spPr>
              <a:xfrm rot="18477600">
                <a:off x="4131360" y="2822040"/>
                <a:ext cx="107280" cy="396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959"/>
              <p:cNvSpPr/>
              <p:nvPr/>
            </p:nvSpPr>
            <p:spPr>
              <a:xfrm rot="18477600">
                <a:off x="4120200" y="2811240"/>
                <a:ext cx="43920" cy="61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960"/>
              <p:cNvSpPr/>
              <p:nvPr/>
            </p:nvSpPr>
            <p:spPr>
              <a:xfrm rot="18477600">
                <a:off x="4120560" y="2840760"/>
                <a:ext cx="75240" cy="234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961"/>
              <p:cNvSpPr/>
              <p:nvPr/>
            </p:nvSpPr>
            <p:spPr>
              <a:xfrm rot="18477600">
                <a:off x="4134240" y="283032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962"/>
              <p:cNvSpPr/>
              <p:nvPr/>
            </p:nvSpPr>
            <p:spPr>
              <a:xfrm rot="18477600">
                <a:off x="4107960" y="2840400"/>
                <a:ext cx="82080" cy="3240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963"/>
              <p:cNvSpPr/>
              <p:nvPr/>
            </p:nvSpPr>
            <p:spPr>
              <a:xfrm rot="18477600">
                <a:off x="4132080" y="285012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964"/>
              <p:cNvSpPr/>
              <p:nvPr/>
            </p:nvSpPr>
            <p:spPr>
              <a:xfrm rot="18477600">
                <a:off x="4098600" y="284220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965"/>
              <p:cNvSpPr/>
              <p:nvPr/>
            </p:nvSpPr>
            <p:spPr>
              <a:xfrm rot="18477600">
                <a:off x="4111200" y="2816640"/>
                <a:ext cx="53280" cy="5904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966"/>
              <p:cNvSpPr/>
              <p:nvPr/>
            </p:nvSpPr>
            <p:spPr>
              <a:xfrm rot="18477600">
                <a:off x="4104000" y="282060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967"/>
              <p:cNvSpPr/>
              <p:nvPr/>
            </p:nvSpPr>
            <p:spPr>
              <a:xfrm rot="18477600">
                <a:off x="4098240" y="282168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968"/>
              <p:cNvSpPr/>
              <p:nvPr/>
            </p:nvSpPr>
            <p:spPr>
              <a:xfrm rot="18477600">
                <a:off x="4093560" y="2828160"/>
                <a:ext cx="78480" cy="54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969"/>
              <p:cNvSpPr/>
              <p:nvPr/>
            </p:nvSpPr>
            <p:spPr>
              <a:xfrm rot="18477600">
                <a:off x="4092120" y="282996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970"/>
              <p:cNvSpPr/>
              <p:nvPr/>
            </p:nvSpPr>
            <p:spPr>
              <a:xfrm rot="18477600">
                <a:off x="4093200" y="2835360"/>
                <a:ext cx="82440" cy="468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971"/>
              <p:cNvSpPr/>
              <p:nvPr/>
            </p:nvSpPr>
            <p:spPr>
              <a:xfrm rot="18477600">
                <a:off x="4095720" y="283572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972"/>
              <p:cNvSpPr/>
              <p:nvPr/>
            </p:nvSpPr>
            <p:spPr>
              <a:xfrm rot="18477600">
                <a:off x="4130640" y="280872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973"/>
              <p:cNvSpPr/>
              <p:nvPr/>
            </p:nvSpPr>
            <p:spPr>
              <a:xfrm rot="18477600">
                <a:off x="4144680" y="280368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974"/>
              <p:cNvSpPr/>
              <p:nvPr/>
            </p:nvSpPr>
            <p:spPr>
              <a:xfrm rot="18477600">
                <a:off x="4150080" y="280080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1975"/>
              <p:cNvSpPr/>
              <p:nvPr/>
            </p:nvSpPr>
            <p:spPr>
              <a:xfrm rot="18477600">
                <a:off x="4145040" y="279828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976"/>
              <p:cNvSpPr/>
              <p:nvPr/>
            </p:nvSpPr>
            <p:spPr>
              <a:xfrm rot="18477600">
                <a:off x="4140720" y="2801160"/>
                <a:ext cx="54000" cy="392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1977"/>
              <p:cNvSpPr/>
              <p:nvPr/>
            </p:nvSpPr>
            <p:spPr>
              <a:xfrm rot="18477600">
                <a:off x="4147200" y="279900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978"/>
              <p:cNvSpPr/>
              <p:nvPr/>
            </p:nvSpPr>
            <p:spPr>
              <a:xfrm rot="18477600">
                <a:off x="4149000" y="280116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979"/>
              <p:cNvSpPr/>
              <p:nvPr/>
            </p:nvSpPr>
            <p:spPr>
              <a:xfrm rot="18477600">
                <a:off x="4150440" y="280116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980"/>
              <p:cNvSpPr/>
              <p:nvPr/>
            </p:nvSpPr>
            <p:spPr>
              <a:xfrm rot="18477600">
                <a:off x="4153320" y="280296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981"/>
              <p:cNvSpPr/>
              <p:nvPr/>
            </p:nvSpPr>
            <p:spPr>
              <a:xfrm rot="18477600">
                <a:off x="4152960" y="2806200"/>
                <a:ext cx="75240" cy="1116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982"/>
              <p:cNvSpPr/>
              <p:nvPr/>
            </p:nvSpPr>
            <p:spPr>
              <a:xfrm rot="18477600">
                <a:off x="4158720" y="2806200"/>
                <a:ext cx="71280" cy="720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983"/>
              <p:cNvSpPr/>
              <p:nvPr/>
            </p:nvSpPr>
            <p:spPr>
              <a:xfrm rot="18477600">
                <a:off x="4152960" y="2815560"/>
                <a:ext cx="79920" cy="108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984"/>
              <p:cNvSpPr/>
              <p:nvPr/>
            </p:nvSpPr>
            <p:spPr>
              <a:xfrm rot="18477600">
                <a:off x="4158360" y="2817360"/>
                <a:ext cx="72000" cy="10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985"/>
              <p:cNvSpPr/>
              <p:nvPr/>
            </p:nvSpPr>
            <p:spPr>
              <a:xfrm rot="18477600">
                <a:off x="4162680" y="2818800"/>
                <a:ext cx="61200" cy="324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6" name="Group 1986"/>
            <p:cNvGrpSpPr/>
            <p:nvPr/>
          </p:nvGrpSpPr>
          <p:grpSpPr>
            <a:xfrm>
              <a:off x="3993120" y="2850120"/>
              <a:ext cx="185400" cy="163800"/>
              <a:chOff x="3993120" y="2850120"/>
              <a:chExt cx="185400" cy="163800"/>
            </a:xfrm>
          </p:grpSpPr>
          <p:sp>
            <p:nvSpPr>
              <p:cNvPr id="2107" name="Freeform 1987"/>
              <p:cNvSpPr/>
              <p:nvPr/>
            </p:nvSpPr>
            <p:spPr>
              <a:xfrm rot="15863400">
                <a:off x="4069440" y="2903040"/>
                <a:ext cx="87480" cy="12240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988"/>
              <p:cNvSpPr/>
              <p:nvPr/>
            </p:nvSpPr>
            <p:spPr>
              <a:xfrm rot="15863400">
                <a:off x="3990600" y="2901600"/>
                <a:ext cx="107280" cy="396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989"/>
              <p:cNvSpPr/>
              <p:nvPr/>
            </p:nvSpPr>
            <p:spPr>
              <a:xfrm rot="15863400">
                <a:off x="4003920" y="2915640"/>
                <a:ext cx="43920" cy="61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990"/>
              <p:cNvSpPr/>
              <p:nvPr/>
            </p:nvSpPr>
            <p:spPr>
              <a:xfrm rot="15863400">
                <a:off x="4006800" y="2931120"/>
                <a:ext cx="75240" cy="234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991"/>
              <p:cNvSpPr/>
              <p:nvPr/>
            </p:nvSpPr>
            <p:spPr>
              <a:xfrm rot="15863400">
                <a:off x="4003560" y="291060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992"/>
              <p:cNvSpPr/>
              <p:nvPr/>
            </p:nvSpPr>
            <p:spPr>
              <a:xfrm rot="15863400">
                <a:off x="3999600" y="2936160"/>
                <a:ext cx="82080" cy="3240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993"/>
              <p:cNvSpPr/>
              <p:nvPr/>
            </p:nvSpPr>
            <p:spPr>
              <a:xfrm rot="15863400">
                <a:off x="4021200" y="294120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994"/>
              <p:cNvSpPr/>
              <p:nvPr/>
            </p:nvSpPr>
            <p:spPr>
              <a:xfrm rot="15863400">
                <a:off x="3995640" y="294336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995"/>
              <p:cNvSpPr/>
              <p:nvPr/>
            </p:nvSpPr>
            <p:spPr>
              <a:xfrm rot="15863400">
                <a:off x="3998520" y="2922480"/>
                <a:ext cx="53280" cy="5904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996"/>
              <p:cNvSpPr/>
              <p:nvPr/>
            </p:nvSpPr>
            <p:spPr>
              <a:xfrm rot="15863400">
                <a:off x="3994560" y="292788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1997"/>
              <p:cNvSpPr/>
              <p:nvPr/>
            </p:nvSpPr>
            <p:spPr>
              <a:xfrm rot="15863400">
                <a:off x="3989880" y="292716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998"/>
              <p:cNvSpPr/>
              <p:nvPr/>
            </p:nvSpPr>
            <p:spPr>
              <a:xfrm rot="15863400">
                <a:off x="3988440" y="2935080"/>
                <a:ext cx="78480" cy="54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999"/>
              <p:cNvSpPr/>
              <p:nvPr/>
            </p:nvSpPr>
            <p:spPr>
              <a:xfrm rot="15863400">
                <a:off x="3987000" y="293580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2000"/>
              <p:cNvSpPr/>
              <p:nvPr/>
            </p:nvSpPr>
            <p:spPr>
              <a:xfrm rot="15863400">
                <a:off x="3989880" y="2940480"/>
                <a:ext cx="82440" cy="468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2001"/>
              <p:cNvSpPr/>
              <p:nvPr/>
            </p:nvSpPr>
            <p:spPr>
              <a:xfrm rot="15863400">
                <a:off x="3991680" y="293760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2002"/>
              <p:cNvSpPr/>
              <p:nvPr/>
            </p:nvSpPr>
            <p:spPr>
              <a:xfrm rot="15863400">
                <a:off x="4011120" y="291204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2003"/>
              <p:cNvSpPr/>
              <p:nvPr/>
            </p:nvSpPr>
            <p:spPr>
              <a:xfrm rot="15863400">
                <a:off x="4020120" y="290520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2004"/>
              <p:cNvSpPr/>
              <p:nvPr/>
            </p:nvSpPr>
            <p:spPr>
              <a:xfrm rot="15863400">
                <a:off x="4020120" y="289980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2005"/>
              <p:cNvSpPr/>
              <p:nvPr/>
            </p:nvSpPr>
            <p:spPr>
              <a:xfrm rot="15863400">
                <a:off x="4010040" y="289332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2006"/>
              <p:cNvSpPr/>
              <p:nvPr/>
            </p:nvSpPr>
            <p:spPr>
              <a:xfrm rot="15863400">
                <a:off x="4002480" y="2894040"/>
                <a:ext cx="54000" cy="392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2007"/>
              <p:cNvSpPr/>
              <p:nvPr/>
            </p:nvSpPr>
            <p:spPr>
              <a:xfrm rot="15863400">
                <a:off x="4002840" y="288792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2008"/>
              <p:cNvSpPr/>
              <p:nvPr/>
            </p:nvSpPr>
            <p:spPr>
              <a:xfrm rot="15863400">
                <a:off x="4002480" y="288720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2009"/>
              <p:cNvSpPr/>
              <p:nvPr/>
            </p:nvSpPr>
            <p:spPr>
              <a:xfrm rot="15863400">
                <a:off x="4001040" y="288468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Freeform 2010"/>
              <p:cNvSpPr/>
              <p:nvPr/>
            </p:nvSpPr>
            <p:spPr>
              <a:xfrm rot="15863400">
                <a:off x="4002120" y="288396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Freeform 2011"/>
              <p:cNvSpPr/>
              <p:nvPr/>
            </p:nvSpPr>
            <p:spPr>
              <a:xfrm rot="15863400">
                <a:off x="4002480" y="2885400"/>
                <a:ext cx="75240" cy="1116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2012"/>
              <p:cNvSpPr/>
              <p:nvPr/>
            </p:nvSpPr>
            <p:spPr>
              <a:xfrm rot="15863400">
                <a:off x="4005720" y="2883240"/>
                <a:ext cx="71280" cy="720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2013"/>
              <p:cNvSpPr/>
              <p:nvPr/>
            </p:nvSpPr>
            <p:spPr>
              <a:xfrm rot="15863400">
                <a:off x="4005000" y="2891880"/>
                <a:ext cx="79920" cy="108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2014"/>
              <p:cNvSpPr/>
              <p:nvPr/>
            </p:nvSpPr>
            <p:spPr>
              <a:xfrm rot="15863400">
                <a:off x="4010760" y="2892240"/>
                <a:ext cx="72000" cy="10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2015"/>
              <p:cNvSpPr/>
              <p:nvPr/>
            </p:nvSpPr>
            <p:spPr>
              <a:xfrm rot="15863400">
                <a:off x="4017600" y="2893680"/>
                <a:ext cx="61200" cy="324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6" name="Group 2016"/>
            <p:cNvGrpSpPr/>
            <p:nvPr/>
          </p:nvGrpSpPr>
          <p:grpSpPr>
            <a:xfrm>
              <a:off x="3943800" y="2954520"/>
              <a:ext cx="200160" cy="159120"/>
              <a:chOff x="3943800" y="2954520"/>
              <a:chExt cx="200160" cy="159120"/>
            </a:xfrm>
          </p:grpSpPr>
          <p:sp>
            <p:nvSpPr>
              <p:cNvPr id="2137" name="Freeform 2017"/>
              <p:cNvSpPr/>
              <p:nvPr/>
            </p:nvSpPr>
            <p:spPr>
              <a:xfrm rot="14708400">
                <a:off x="4025880" y="2977200"/>
                <a:ext cx="87840" cy="1224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2018"/>
              <p:cNvSpPr/>
              <p:nvPr/>
            </p:nvSpPr>
            <p:spPr>
              <a:xfrm rot="14708400">
                <a:off x="3931200" y="3002040"/>
                <a:ext cx="107640" cy="39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2019"/>
              <p:cNvSpPr/>
              <p:nvPr/>
            </p:nvSpPr>
            <p:spPr>
              <a:xfrm rot="14708400">
                <a:off x="3959640" y="3019680"/>
                <a:ext cx="44280" cy="615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2020"/>
              <p:cNvSpPr/>
              <p:nvPr/>
            </p:nvSpPr>
            <p:spPr>
              <a:xfrm rot="14708400">
                <a:off x="3960000" y="3029400"/>
                <a:ext cx="75600" cy="234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2021"/>
              <p:cNvSpPr/>
              <p:nvPr/>
            </p:nvSpPr>
            <p:spPr>
              <a:xfrm rot="14708400">
                <a:off x="3948480" y="300924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2022"/>
              <p:cNvSpPr/>
              <p:nvPr/>
            </p:nvSpPr>
            <p:spPr>
              <a:xfrm rot="14708400">
                <a:off x="3956400" y="3035160"/>
                <a:ext cx="82440" cy="32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2023"/>
              <p:cNvSpPr/>
              <p:nvPr/>
            </p:nvSpPr>
            <p:spPr>
              <a:xfrm rot="14708400">
                <a:off x="3976200" y="303876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2024"/>
              <p:cNvSpPr/>
              <p:nvPr/>
            </p:nvSpPr>
            <p:spPr>
              <a:xfrm rot="14708400">
                <a:off x="3956040" y="304380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2025"/>
              <p:cNvSpPr/>
              <p:nvPr/>
            </p:nvSpPr>
            <p:spPr>
              <a:xfrm rot="14708400">
                <a:off x="3956040" y="3026160"/>
                <a:ext cx="53640" cy="59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2026"/>
              <p:cNvSpPr/>
              <p:nvPr/>
            </p:nvSpPr>
            <p:spPr>
              <a:xfrm rot="14708400">
                <a:off x="3953520" y="303192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2027"/>
              <p:cNvSpPr/>
              <p:nvPr/>
            </p:nvSpPr>
            <p:spPr>
              <a:xfrm rot="14708400">
                <a:off x="3949200" y="303012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2028"/>
              <p:cNvSpPr/>
              <p:nvPr/>
            </p:nvSpPr>
            <p:spPr>
              <a:xfrm rot="14708400">
                <a:off x="3949200" y="3037680"/>
                <a:ext cx="78840" cy="54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2029"/>
              <p:cNvSpPr/>
              <p:nvPr/>
            </p:nvSpPr>
            <p:spPr>
              <a:xfrm rot="14708400">
                <a:off x="3947760" y="303804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2030"/>
              <p:cNvSpPr/>
              <p:nvPr/>
            </p:nvSpPr>
            <p:spPr>
              <a:xfrm rot="14708400">
                <a:off x="3951360" y="3042000"/>
                <a:ext cx="82800" cy="4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2031"/>
              <p:cNvSpPr/>
              <p:nvPr/>
            </p:nvSpPr>
            <p:spPr>
              <a:xfrm rot="14708400">
                <a:off x="3952080" y="303768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2032"/>
              <p:cNvSpPr/>
              <p:nvPr/>
            </p:nvSpPr>
            <p:spPr>
              <a:xfrm rot="14708400">
                <a:off x="3965040" y="301644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2033"/>
              <p:cNvSpPr/>
              <p:nvPr/>
            </p:nvSpPr>
            <p:spPr>
              <a:xfrm rot="14708400">
                <a:off x="3971880" y="301068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2034"/>
              <p:cNvSpPr/>
              <p:nvPr/>
            </p:nvSpPr>
            <p:spPr>
              <a:xfrm rot="14708400">
                <a:off x="3969000" y="300456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2035"/>
              <p:cNvSpPr/>
              <p:nvPr/>
            </p:nvSpPr>
            <p:spPr>
              <a:xfrm rot="14708400">
                <a:off x="3956040" y="299844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2036"/>
              <p:cNvSpPr/>
              <p:nvPr/>
            </p:nvSpPr>
            <p:spPr>
              <a:xfrm rot="14708400">
                <a:off x="3947040" y="2998800"/>
                <a:ext cx="54360" cy="392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2037"/>
              <p:cNvSpPr/>
              <p:nvPr/>
            </p:nvSpPr>
            <p:spPr>
              <a:xfrm rot="14708400">
                <a:off x="3944160" y="299232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2038"/>
              <p:cNvSpPr/>
              <p:nvPr/>
            </p:nvSpPr>
            <p:spPr>
              <a:xfrm rot="14708400">
                <a:off x="3942360" y="299088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2039"/>
              <p:cNvSpPr/>
              <p:nvPr/>
            </p:nvSpPr>
            <p:spPr>
              <a:xfrm rot="14708400">
                <a:off x="3939480" y="298836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2040"/>
              <p:cNvSpPr/>
              <p:nvPr/>
            </p:nvSpPr>
            <p:spPr>
              <a:xfrm rot="14708400">
                <a:off x="3939120" y="298764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2041"/>
              <p:cNvSpPr/>
              <p:nvPr/>
            </p:nvSpPr>
            <p:spPr>
              <a:xfrm rot="14708400">
                <a:off x="3938760" y="2988000"/>
                <a:ext cx="75600" cy="11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2042"/>
              <p:cNvSpPr/>
              <p:nvPr/>
            </p:nvSpPr>
            <p:spPr>
              <a:xfrm rot="14708400">
                <a:off x="3940560" y="2985480"/>
                <a:ext cx="71640" cy="7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2043"/>
              <p:cNvSpPr/>
              <p:nvPr/>
            </p:nvSpPr>
            <p:spPr>
              <a:xfrm rot="14708400">
                <a:off x="3941640" y="2993040"/>
                <a:ext cx="80280" cy="1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2044"/>
              <p:cNvSpPr/>
              <p:nvPr/>
            </p:nvSpPr>
            <p:spPr>
              <a:xfrm rot="14708400">
                <a:off x="3947400" y="2992680"/>
                <a:ext cx="72360" cy="1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2045"/>
              <p:cNvSpPr/>
              <p:nvPr/>
            </p:nvSpPr>
            <p:spPr>
              <a:xfrm rot="14708400">
                <a:off x="3954960" y="2993400"/>
                <a:ext cx="61560" cy="3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6" name="Group 2046"/>
            <p:cNvGrpSpPr/>
            <p:nvPr/>
          </p:nvGrpSpPr>
          <p:grpSpPr>
            <a:xfrm>
              <a:off x="3934440" y="3044520"/>
              <a:ext cx="209160" cy="183240"/>
              <a:chOff x="3934440" y="3044520"/>
              <a:chExt cx="209160" cy="183240"/>
            </a:xfrm>
          </p:grpSpPr>
          <p:sp>
            <p:nvSpPr>
              <p:cNvPr id="2167" name="Freeform 2047"/>
              <p:cNvSpPr/>
              <p:nvPr/>
            </p:nvSpPr>
            <p:spPr>
              <a:xfrm rot="12946800">
                <a:off x="4028040" y="3058200"/>
                <a:ext cx="87840" cy="1224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2048"/>
              <p:cNvSpPr/>
              <p:nvPr/>
            </p:nvSpPr>
            <p:spPr>
              <a:xfrm rot="12946800">
                <a:off x="3927240" y="3128760"/>
                <a:ext cx="107640" cy="39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2049"/>
              <p:cNvSpPr/>
              <p:nvPr/>
            </p:nvSpPr>
            <p:spPr>
              <a:xfrm rot="12946800">
                <a:off x="3978360" y="3142440"/>
                <a:ext cx="44280" cy="615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2050"/>
              <p:cNvSpPr/>
              <p:nvPr/>
            </p:nvSpPr>
            <p:spPr>
              <a:xfrm rot="12946800">
                <a:off x="3972240" y="3145320"/>
                <a:ext cx="75600" cy="234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2051"/>
              <p:cNvSpPr/>
              <p:nvPr/>
            </p:nvSpPr>
            <p:spPr>
              <a:xfrm rot="12946800">
                <a:off x="3948840" y="313092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2052"/>
              <p:cNvSpPr/>
              <p:nvPr/>
            </p:nvSpPr>
            <p:spPr>
              <a:xfrm rot="12946800">
                <a:off x="3973680" y="3149640"/>
                <a:ext cx="82440" cy="32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2053"/>
              <p:cNvSpPr/>
              <p:nvPr/>
            </p:nvSpPr>
            <p:spPr>
              <a:xfrm rot="12946800">
                <a:off x="3990240" y="315288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2054"/>
              <p:cNvSpPr/>
              <p:nvPr/>
            </p:nvSpPr>
            <p:spPr>
              <a:xfrm rot="12946800">
                <a:off x="3978360" y="315756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2055"/>
              <p:cNvSpPr/>
              <p:nvPr/>
            </p:nvSpPr>
            <p:spPr>
              <a:xfrm rot="12946800">
                <a:off x="3977640" y="3147480"/>
                <a:ext cx="53640" cy="59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2056"/>
              <p:cNvSpPr/>
              <p:nvPr/>
            </p:nvSpPr>
            <p:spPr>
              <a:xfrm rot="12946800">
                <a:off x="3976920" y="315144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2057"/>
              <p:cNvSpPr/>
              <p:nvPr/>
            </p:nvSpPr>
            <p:spPr>
              <a:xfrm rot="12946800">
                <a:off x="3972240" y="314856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2058"/>
              <p:cNvSpPr/>
              <p:nvPr/>
            </p:nvSpPr>
            <p:spPr>
              <a:xfrm rot="12946800">
                <a:off x="3974400" y="3155400"/>
                <a:ext cx="78840" cy="54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2059"/>
              <p:cNvSpPr/>
              <p:nvPr/>
            </p:nvSpPr>
            <p:spPr>
              <a:xfrm rot="12946800">
                <a:off x="3972240" y="315468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2060"/>
              <p:cNvSpPr/>
              <p:nvPr/>
            </p:nvSpPr>
            <p:spPr>
              <a:xfrm rot="12946800">
                <a:off x="3976200" y="3157560"/>
                <a:ext cx="82800" cy="4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2061"/>
              <p:cNvSpPr/>
              <p:nvPr/>
            </p:nvSpPr>
            <p:spPr>
              <a:xfrm rot="12946800">
                <a:off x="3974400" y="315216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2062"/>
              <p:cNvSpPr/>
              <p:nvPr/>
            </p:nvSpPr>
            <p:spPr>
              <a:xfrm rot="12946800">
                <a:off x="3982680" y="314064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2063"/>
              <p:cNvSpPr/>
              <p:nvPr/>
            </p:nvSpPr>
            <p:spPr>
              <a:xfrm rot="12946800">
                <a:off x="3986280" y="313704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2064"/>
              <p:cNvSpPr/>
              <p:nvPr/>
            </p:nvSpPr>
            <p:spPr>
              <a:xfrm rot="12946800">
                <a:off x="3979800" y="313308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2065"/>
              <p:cNvSpPr/>
              <p:nvPr/>
            </p:nvSpPr>
            <p:spPr>
              <a:xfrm rot="12946800">
                <a:off x="3963240" y="312876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2066"/>
              <p:cNvSpPr/>
              <p:nvPr/>
            </p:nvSpPr>
            <p:spPr>
              <a:xfrm rot="12946800">
                <a:off x="3951360" y="3129120"/>
                <a:ext cx="54360" cy="392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2067"/>
              <p:cNvSpPr/>
              <p:nvPr/>
            </p:nvSpPr>
            <p:spPr>
              <a:xfrm rot="12946800">
                <a:off x="3943800" y="312516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2068"/>
              <p:cNvSpPr/>
              <p:nvPr/>
            </p:nvSpPr>
            <p:spPr>
              <a:xfrm rot="12946800">
                <a:off x="3939120" y="312336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2069"/>
              <p:cNvSpPr/>
              <p:nvPr/>
            </p:nvSpPr>
            <p:spPr>
              <a:xfrm rot="12946800">
                <a:off x="3933720" y="312156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Freeform 2070"/>
              <p:cNvSpPr/>
              <p:nvPr/>
            </p:nvSpPr>
            <p:spPr>
              <a:xfrm rot="12946800">
                <a:off x="3931920" y="312084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2071"/>
              <p:cNvSpPr/>
              <p:nvPr/>
            </p:nvSpPr>
            <p:spPr>
              <a:xfrm rot="12946800">
                <a:off x="3930840" y="3120480"/>
                <a:ext cx="75600" cy="11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2072"/>
              <p:cNvSpPr/>
              <p:nvPr/>
            </p:nvSpPr>
            <p:spPr>
              <a:xfrm rot="12946800">
                <a:off x="3930120" y="3118320"/>
                <a:ext cx="71640" cy="7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2073"/>
              <p:cNvSpPr/>
              <p:nvPr/>
            </p:nvSpPr>
            <p:spPr>
              <a:xfrm rot="12946800">
                <a:off x="3932640" y="3123000"/>
                <a:ext cx="80280" cy="1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2074"/>
              <p:cNvSpPr/>
              <p:nvPr/>
            </p:nvSpPr>
            <p:spPr>
              <a:xfrm rot="12946800">
                <a:off x="3938040" y="3121560"/>
                <a:ext cx="72360" cy="1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2075"/>
              <p:cNvSpPr/>
              <p:nvPr/>
            </p:nvSpPr>
            <p:spPr>
              <a:xfrm rot="12946800">
                <a:off x="3945960" y="3121200"/>
                <a:ext cx="61560" cy="3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6" name="Group 2076"/>
            <p:cNvGrpSpPr/>
            <p:nvPr/>
          </p:nvGrpSpPr>
          <p:grpSpPr>
            <a:xfrm>
              <a:off x="3972960" y="3132000"/>
              <a:ext cx="185400" cy="184320"/>
              <a:chOff x="3972960" y="3132000"/>
              <a:chExt cx="185400" cy="184320"/>
            </a:xfrm>
          </p:grpSpPr>
          <p:sp>
            <p:nvSpPr>
              <p:cNvPr id="2197" name="Freeform 2077"/>
              <p:cNvSpPr/>
              <p:nvPr/>
            </p:nvSpPr>
            <p:spPr>
              <a:xfrm rot="11436600">
                <a:off x="4059720" y="3138840"/>
                <a:ext cx="87840" cy="1224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2078"/>
              <p:cNvSpPr/>
              <p:nvPr/>
            </p:nvSpPr>
            <p:spPr>
              <a:xfrm rot="11436600">
                <a:off x="3972240" y="3246840"/>
                <a:ext cx="107640" cy="39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2079"/>
              <p:cNvSpPr/>
              <p:nvPr/>
            </p:nvSpPr>
            <p:spPr>
              <a:xfrm rot="11436600">
                <a:off x="4039560" y="3247920"/>
                <a:ext cx="44280" cy="615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2080"/>
              <p:cNvSpPr/>
              <p:nvPr/>
            </p:nvSpPr>
            <p:spPr>
              <a:xfrm rot="11436600">
                <a:off x="4025880" y="3248280"/>
                <a:ext cx="75600" cy="234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2081"/>
              <p:cNvSpPr/>
              <p:nvPr/>
            </p:nvSpPr>
            <p:spPr>
              <a:xfrm rot="11436600">
                <a:off x="3995280" y="324288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2082"/>
              <p:cNvSpPr/>
              <p:nvPr/>
            </p:nvSpPr>
            <p:spPr>
              <a:xfrm rot="11436600">
                <a:off x="4030920" y="3249720"/>
                <a:ext cx="82440" cy="32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2083"/>
              <p:cNvSpPr/>
              <p:nvPr/>
            </p:nvSpPr>
            <p:spPr>
              <a:xfrm rot="11436600">
                <a:off x="4044240" y="325368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2084"/>
              <p:cNvSpPr/>
              <p:nvPr/>
            </p:nvSpPr>
            <p:spPr>
              <a:xfrm rot="11436600">
                <a:off x="4039200" y="325512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2085"/>
              <p:cNvSpPr/>
              <p:nvPr/>
            </p:nvSpPr>
            <p:spPr>
              <a:xfrm rot="11436600">
                <a:off x="4040280" y="3251160"/>
                <a:ext cx="53640" cy="59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2086"/>
              <p:cNvSpPr/>
              <p:nvPr/>
            </p:nvSpPr>
            <p:spPr>
              <a:xfrm rot="11436600">
                <a:off x="4041000" y="325332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2087"/>
              <p:cNvSpPr/>
              <p:nvPr/>
            </p:nvSpPr>
            <p:spPr>
              <a:xfrm rot="11436600">
                <a:off x="4034880" y="324936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2088"/>
              <p:cNvSpPr/>
              <p:nvPr/>
            </p:nvSpPr>
            <p:spPr>
              <a:xfrm rot="11436600">
                <a:off x="4038480" y="3254400"/>
                <a:ext cx="78840" cy="54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2089"/>
              <p:cNvSpPr/>
              <p:nvPr/>
            </p:nvSpPr>
            <p:spPr>
              <a:xfrm rot="11436600">
                <a:off x="4035240" y="325332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2090"/>
              <p:cNvSpPr/>
              <p:nvPr/>
            </p:nvSpPr>
            <p:spPr>
              <a:xfrm rot="11436600">
                <a:off x="4038840" y="3254760"/>
                <a:ext cx="82800" cy="4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2091"/>
              <p:cNvSpPr/>
              <p:nvPr/>
            </p:nvSpPr>
            <p:spPr>
              <a:xfrm rot="11436600">
                <a:off x="4035240" y="325008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2092"/>
              <p:cNvSpPr/>
              <p:nvPr/>
            </p:nvSpPr>
            <p:spPr>
              <a:xfrm rot="11436600">
                <a:off x="4043160" y="324792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2093"/>
              <p:cNvSpPr/>
              <p:nvPr/>
            </p:nvSpPr>
            <p:spPr>
              <a:xfrm rot="11436600">
                <a:off x="4045320" y="324720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2094"/>
              <p:cNvSpPr/>
              <p:nvPr/>
            </p:nvSpPr>
            <p:spPr>
              <a:xfrm rot="11436600">
                <a:off x="4036680" y="324648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2095"/>
              <p:cNvSpPr/>
              <p:nvPr/>
            </p:nvSpPr>
            <p:spPr>
              <a:xfrm rot="11436600">
                <a:off x="4017960" y="324468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2096"/>
              <p:cNvSpPr/>
              <p:nvPr/>
            </p:nvSpPr>
            <p:spPr>
              <a:xfrm rot="11436600">
                <a:off x="4004280" y="3246480"/>
                <a:ext cx="54360" cy="392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2097"/>
              <p:cNvSpPr/>
              <p:nvPr/>
            </p:nvSpPr>
            <p:spPr>
              <a:xfrm rot="11436600">
                <a:off x="3993840" y="324576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2098"/>
              <p:cNvSpPr/>
              <p:nvPr/>
            </p:nvSpPr>
            <p:spPr>
              <a:xfrm rot="11436600">
                <a:off x="3987360" y="324504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2099"/>
              <p:cNvSpPr/>
              <p:nvPr/>
            </p:nvSpPr>
            <p:spPr>
              <a:xfrm rot="11436600">
                <a:off x="3980520" y="324468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2100"/>
              <p:cNvSpPr/>
              <p:nvPr/>
            </p:nvSpPr>
            <p:spPr>
              <a:xfrm rot="11436600">
                <a:off x="3977280" y="324504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2101"/>
              <p:cNvSpPr/>
              <p:nvPr/>
            </p:nvSpPr>
            <p:spPr>
              <a:xfrm rot="11436600">
                <a:off x="3975120" y="3243960"/>
                <a:ext cx="75600" cy="11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2102"/>
              <p:cNvSpPr/>
              <p:nvPr/>
            </p:nvSpPr>
            <p:spPr>
              <a:xfrm rot="11436600">
                <a:off x="3972960" y="3243600"/>
                <a:ext cx="71640" cy="7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2103"/>
              <p:cNvSpPr/>
              <p:nvPr/>
            </p:nvSpPr>
            <p:spPr>
              <a:xfrm rot="11436600">
                <a:off x="3975480" y="3245040"/>
                <a:ext cx="80280" cy="1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2104"/>
              <p:cNvSpPr/>
              <p:nvPr/>
            </p:nvSpPr>
            <p:spPr>
              <a:xfrm rot="11436600">
                <a:off x="3980160" y="3243240"/>
                <a:ext cx="72360" cy="1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2105"/>
              <p:cNvSpPr/>
              <p:nvPr/>
            </p:nvSpPr>
            <p:spPr>
              <a:xfrm rot="11436600">
                <a:off x="3988440" y="3241800"/>
                <a:ext cx="61560" cy="3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6" name="Group 2106"/>
            <p:cNvGrpSpPr/>
            <p:nvPr/>
          </p:nvGrpSpPr>
          <p:grpSpPr>
            <a:xfrm>
              <a:off x="4039920" y="3192840"/>
              <a:ext cx="164880" cy="177120"/>
              <a:chOff x="4039920" y="3192840"/>
              <a:chExt cx="164880" cy="177120"/>
            </a:xfrm>
          </p:grpSpPr>
          <p:sp>
            <p:nvSpPr>
              <p:cNvPr id="2227" name="Freeform 2107"/>
              <p:cNvSpPr/>
              <p:nvPr/>
            </p:nvSpPr>
            <p:spPr>
              <a:xfrm rot="10800000">
                <a:off x="4116960" y="3192840"/>
                <a:ext cx="87840" cy="1224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2108"/>
              <p:cNvSpPr/>
              <p:nvPr/>
            </p:nvSpPr>
            <p:spPr>
              <a:xfrm rot="10800000">
                <a:off x="4039920" y="3314520"/>
                <a:ext cx="107640" cy="39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2109"/>
              <p:cNvSpPr/>
              <p:nvPr/>
            </p:nvSpPr>
            <p:spPr>
              <a:xfrm rot="10800000">
                <a:off x="4112280" y="3308400"/>
                <a:ext cx="44280" cy="615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2110"/>
              <p:cNvSpPr/>
              <p:nvPr/>
            </p:nvSpPr>
            <p:spPr>
              <a:xfrm rot="10800000">
                <a:off x="4095000" y="3308760"/>
                <a:ext cx="75600" cy="234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2111"/>
              <p:cNvSpPr/>
              <p:nvPr/>
            </p:nvSpPr>
            <p:spPr>
              <a:xfrm rot="10800000">
                <a:off x="4062600" y="330804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2112"/>
              <p:cNvSpPr/>
              <p:nvPr/>
            </p:nvSpPr>
            <p:spPr>
              <a:xfrm rot="10800000">
                <a:off x="4100760" y="3308760"/>
                <a:ext cx="82440" cy="32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2113"/>
              <p:cNvSpPr/>
              <p:nvPr/>
            </p:nvSpPr>
            <p:spPr>
              <a:xfrm rot="10800000">
                <a:off x="4113360" y="331344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2114"/>
              <p:cNvSpPr/>
              <p:nvPr/>
            </p:nvSpPr>
            <p:spPr>
              <a:xfrm rot="10800000">
                <a:off x="4110480" y="331236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2115"/>
              <p:cNvSpPr/>
              <p:nvPr/>
            </p:nvSpPr>
            <p:spPr>
              <a:xfrm rot="10800000">
                <a:off x="4113000" y="3310920"/>
                <a:ext cx="53640" cy="59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2116"/>
              <p:cNvSpPr/>
              <p:nvPr/>
            </p:nvSpPr>
            <p:spPr>
              <a:xfrm rot="10800000">
                <a:off x="4113720" y="331200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2117"/>
              <p:cNvSpPr/>
              <p:nvPr/>
            </p:nvSpPr>
            <p:spPr>
              <a:xfrm rot="10800000">
                <a:off x="4107240" y="330768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2118"/>
              <p:cNvSpPr/>
              <p:nvPr/>
            </p:nvSpPr>
            <p:spPr>
              <a:xfrm rot="10800000">
                <a:off x="4111200" y="3311640"/>
                <a:ext cx="78840" cy="54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2119"/>
              <p:cNvSpPr/>
              <p:nvPr/>
            </p:nvSpPr>
            <p:spPr>
              <a:xfrm rot="10800000">
                <a:off x="4107600" y="331092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2120"/>
              <p:cNvSpPr/>
              <p:nvPr/>
            </p:nvSpPr>
            <p:spPr>
              <a:xfrm rot="10800000">
                <a:off x="4111200" y="3312000"/>
                <a:ext cx="82800" cy="4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2121"/>
              <p:cNvSpPr/>
              <p:nvPr/>
            </p:nvSpPr>
            <p:spPr>
              <a:xfrm rot="10800000">
                <a:off x="4106520" y="330768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2122"/>
              <p:cNvSpPr/>
              <p:nvPr/>
            </p:nvSpPr>
            <p:spPr>
              <a:xfrm rot="10800000">
                <a:off x="4115520" y="330912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2123"/>
              <p:cNvSpPr/>
              <p:nvPr/>
            </p:nvSpPr>
            <p:spPr>
              <a:xfrm rot="10800000">
                <a:off x="4117680" y="330984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2124"/>
              <p:cNvSpPr/>
              <p:nvPr/>
            </p:nvSpPr>
            <p:spPr>
              <a:xfrm rot="10800000">
                <a:off x="4108680" y="331056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2125"/>
              <p:cNvSpPr/>
              <p:nvPr/>
            </p:nvSpPr>
            <p:spPr>
              <a:xfrm rot="10800000">
                <a:off x="4089240" y="331020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2126"/>
              <p:cNvSpPr/>
              <p:nvPr/>
            </p:nvSpPr>
            <p:spPr>
              <a:xfrm rot="10800000">
                <a:off x="4074840" y="3312720"/>
                <a:ext cx="54360" cy="392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2127"/>
              <p:cNvSpPr/>
              <p:nvPr/>
            </p:nvSpPr>
            <p:spPr>
              <a:xfrm rot="10800000">
                <a:off x="4064040" y="331380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2128"/>
              <p:cNvSpPr/>
              <p:nvPr/>
            </p:nvSpPr>
            <p:spPr>
              <a:xfrm rot="10800000">
                <a:off x="4056840" y="331380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2129"/>
              <p:cNvSpPr/>
              <p:nvPr/>
            </p:nvSpPr>
            <p:spPr>
              <a:xfrm rot="10800000">
                <a:off x="4049640" y="331416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2130"/>
              <p:cNvSpPr/>
              <p:nvPr/>
            </p:nvSpPr>
            <p:spPr>
              <a:xfrm rot="10800000">
                <a:off x="4045680" y="331488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Freeform 2131"/>
              <p:cNvSpPr/>
              <p:nvPr/>
            </p:nvSpPr>
            <p:spPr>
              <a:xfrm rot="10800000">
                <a:off x="4043160" y="3314160"/>
                <a:ext cx="75600" cy="11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2132"/>
              <p:cNvSpPr/>
              <p:nvPr/>
            </p:nvSpPr>
            <p:spPr>
              <a:xfrm rot="10800000">
                <a:off x="4040640" y="3314520"/>
                <a:ext cx="71640" cy="7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Freeform 2133"/>
              <p:cNvSpPr/>
              <p:nvPr/>
            </p:nvSpPr>
            <p:spPr>
              <a:xfrm rot="10800000">
                <a:off x="4042800" y="3314520"/>
                <a:ext cx="80280" cy="1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Freeform 2134"/>
              <p:cNvSpPr/>
              <p:nvPr/>
            </p:nvSpPr>
            <p:spPr>
              <a:xfrm rot="10800000">
                <a:off x="4047120" y="3312720"/>
                <a:ext cx="72360" cy="1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2135"/>
              <p:cNvSpPr/>
              <p:nvPr/>
            </p:nvSpPr>
            <p:spPr>
              <a:xfrm rot="10800000">
                <a:off x="4055040" y="3310560"/>
                <a:ext cx="61560" cy="3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6" name="Group 2136"/>
            <p:cNvGrpSpPr/>
            <p:nvPr/>
          </p:nvGrpSpPr>
          <p:grpSpPr>
            <a:xfrm>
              <a:off x="4179960" y="3193200"/>
              <a:ext cx="155880" cy="203400"/>
              <a:chOff x="4179960" y="3193200"/>
              <a:chExt cx="155880" cy="203400"/>
            </a:xfrm>
          </p:grpSpPr>
          <p:sp>
            <p:nvSpPr>
              <p:cNvPr id="2257" name="Freeform 2137"/>
              <p:cNvSpPr/>
              <p:nvPr/>
            </p:nvSpPr>
            <p:spPr>
              <a:xfrm rot="8915400">
                <a:off x="4207680" y="3206880"/>
                <a:ext cx="87840" cy="1224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2138"/>
              <p:cNvSpPr/>
              <p:nvPr/>
            </p:nvSpPr>
            <p:spPr>
              <a:xfrm rot="8915400">
                <a:off x="4173120" y="3354120"/>
                <a:ext cx="107640" cy="39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2139"/>
              <p:cNvSpPr/>
              <p:nvPr/>
            </p:nvSpPr>
            <p:spPr>
              <a:xfrm rot="8915400">
                <a:off x="4251240" y="3323520"/>
                <a:ext cx="44280" cy="615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2140"/>
              <p:cNvSpPr/>
              <p:nvPr/>
            </p:nvSpPr>
            <p:spPr>
              <a:xfrm rot="8915400">
                <a:off x="4224600" y="3327840"/>
                <a:ext cx="75600" cy="234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2141"/>
              <p:cNvSpPr/>
              <p:nvPr/>
            </p:nvSpPr>
            <p:spPr>
              <a:xfrm rot="8915400">
                <a:off x="4192560" y="334116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2142"/>
              <p:cNvSpPr/>
              <p:nvPr/>
            </p:nvSpPr>
            <p:spPr>
              <a:xfrm rot="8915400">
                <a:off x="4231440" y="3322440"/>
                <a:ext cx="82440" cy="32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2143"/>
              <p:cNvSpPr/>
              <p:nvPr/>
            </p:nvSpPr>
            <p:spPr>
              <a:xfrm rot="8915400">
                <a:off x="4241880" y="333000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2144"/>
              <p:cNvSpPr/>
              <p:nvPr/>
            </p:nvSpPr>
            <p:spPr>
              <a:xfrm rot="8915400">
                <a:off x="4242600" y="332064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2145"/>
              <p:cNvSpPr/>
              <p:nvPr/>
            </p:nvSpPr>
            <p:spPr>
              <a:xfrm rot="8915400">
                <a:off x="4251960" y="3323160"/>
                <a:ext cx="53640" cy="59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2146"/>
              <p:cNvSpPr/>
              <p:nvPr/>
            </p:nvSpPr>
            <p:spPr>
              <a:xfrm rot="8915400">
                <a:off x="4251960" y="332172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2147"/>
              <p:cNvSpPr/>
              <p:nvPr/>
            </p:nvSpPr>
            <p:spPr>
              <a:xfrm rot="8915400">
                <a:off x="4244040" y="331740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2148"/>
              <p:cNvSpPr/>
              <p:nvPr/>
            </p:nvSpPr>
            <p:spPr>
              <a:xfrm rot="8915400">
                <a:off x="4247640" y="3318840"/>
                <a:ext cx="78840" cy="54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2149"/>
              <p:cNvSpPr/>
              <p:nvPr/>
            </p:nvSpPr>
            <p:spPr>
              <a:xfrm rot="8915400">
                <a:off x="4242960" y="331848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2150"/>
              <p:cNvSpPr/>
              <p:nvPr/>
            </p:nvSpPr>
            <p:spPr>
              <a:xfrm rot="8915400">
                <a:off x="4245480" y="3318480"/>
                <a:ext cx="82800" cy="4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2151"/>
              <p:cNvSpPr/>
              <p:nvPr/>
            </p:nvSpPr>
            <p:spPr>
              <a:xfrm rot="8915400">
                <a:off x="4239000" y="331596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2152"/>
              <p:cNvSpPr/>
              <p:nvPr/>
            </p:nvSpPr>
            <p:spPr>
              <a:xfrm rot="8915400">
                <a:off x="4255200" y="332676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2153"/>
              <p:cNvSpPr/>
              <p:nvPr/>
            </p:nvSpPr>
            <p:spPr>
              <a:xfrm rot="8915400">
                <a:off x="4258080" y="333144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2154"/>
              <p:cNvSpPr/>
              <p:nvPr/>
            </p:nvSpPr>
            <p:spPr>
              <a:xfrm rot="8915400">
                <a:off x="4249800" y="333648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2155"/>
              <p:cNvSpPr/>
              <p:nvPr/>
            </p:nvSpPr>
            <p:spPr>
              <a:xfrm rot="8915400">
                <a:off x="4230360" y="334044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2156"/>
              <p:cNvSpPr/>
              <p:nvPr/>
            </p:nvSpPr>
            <p:spPr>
              <a:xfrm rot="8915400">
                <a:off x="4214880" y="3345840"/>
                <a:ext cx="54360" cy="392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2157"/>
              <p:cNvSpPr/>
              <p:nvPr/>
            </p:nvSpPr>
            <p:spPr>
              <a:xfrm rot="8915400">
                <a:off x="4204080" y="335232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2158"/>
              <p:cNvSpPr/>
              <p:nvPr/>
            </p:nvSpPr>
            <p:spPr>
              <a:xfrm rot="8915400">
                <a:off x="4195800" y="335484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2159"/>
              <p:cNvSpPr/>
              <p:nvPr/>
            </p:nvSpPr>
            <p:spPr>
              <a:xfrm rot="8915400">
                <a:off x="4188600" y="335808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2160"/>
              <p:cNvSpPr/>
              <p:nvPr/>
            </p:nvSpPr>
            <p:spPr>
              <a:xfrm rot="8915400">
                <a:off x="4183560" y="336060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2161"/>
              <p:cNvSpPr/>
              <p:nvPr/>
            </p:nvSpPr>
            <p:spPr>
              <a:xfrm rot="8915400">
                <a:off x="4179960" y="3359880"/>
                <a:ext cx="75600" cy="11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2162"/>
              <p:cNvSpPr/>
              <p:nvPr/>
            </p:nvSpPr>
            <p:spPr>
              <a:xfrm rot="8915400">
                <a:off x="4177080" y="3363120"/>
                <a:ext cx="71640" cy="7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2163"/>
              <p:cNvSpPr/>
              <p:nvPr/>
            </p:nvSpPr>
            <p:spPr>
              <a:xfrm rot="8915400">
                <a:off x="4176720" y="3360240"/>
                <a:ext cx="80280" cy="1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2164"/>
              <p:cNvSpPr/>
              <p:nvPr/>
            </p:nvSpPr>
            <p:spPr>
              <a:xfrm rot="8915400">
                <a:off x="4179960" y="3358440"/>
                <a:ext cx="72360" cy="1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2165"/>
              <p:cNvSpPr/>
              <p:nvPr/>
            </p:nvSpPr>
            <p:spPr>
              <a:xfrm rot="8915400">
                <a:off x="4187160" y="3355200"/>
                <a:ext cx="61560" cy="3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6" name="Group 2166"/>
            <p:cNvGrpSpPr/>
            <p:nvPr/>
          </p:nvGrpSpPr>
          <p:grpSpPr>
            <a:xfrm>
              <a:off x="4269960" y="3174840"/>
              <a:ext cx="185040" cy="208440"/>
              <a:chOff x="4269960" y="3174840"/>
              <a:chExt cx="185040" cy="208440"/>
            </a:xfrm>
          </p:grpSpPr>
          <p:sp>
            <p:nvSpPr>
              <p:cNvPr id="2287" name="Freeform 2167"/>
              <p:cNvSpPr/>
              <p:nvPr/>
            </p:nvSpPr>
            <p:spPr>
              <a:xfrm rot="7401600">
                <a:off x="4300920" y="3183840"/>
                <a:ext cx="87840" cy="1224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2168"/>
              <p:cNvSpPr/>
              <p:nvPr/>
            </p:nvSpPr>
            <p:spPr>
              <a:xfrm rot="7401600">
                <a:off x="4306680" y="3333600"/>
                <a:ext cx="107640" cy="39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2169"/>
              <p:cNvSpPr/>
              <p:nvPr/>
            </p:nvSpPr>
            <p:spPr>
              <a:xfrm rot="7401600">
                <a:off x="4379760" y="3283200"/>
                <a:ext cx="44280" cy="615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2170"/>
              <p:cNvSpPr/>
              <p:nvPr/>
            </p:nvSpPr>
            <p:spPr>
              <a:xfrm rot="7401600">
                <a:off x="4347360" y="3293640"/>
                <a:ext cx="75600" cy="234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2171"/>
              <p:cNvSpPr/>
              <p:nvPr/>
            </p:nvSpPr>
            <p:spPr>
              <a:xfrm rot="7401600">
                <a:off x="4321080" y="3317040"/>
                <a:ext cx="89640" cy="118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2172"/>
              <p:cNvSpPr/>
              <p:nvPr/>
            </p:nvSpPr>
            <p:spPr>
              <a:xfrm rot="7401600">
                <a:off x="4352760" y="3283560"/>
                <a:ext cx="82440" cy="32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2173"/>
              <p:cNvSpPr/>
              <p:nvPr/>
            </p:nvSpPr>
            <p:spPr>
              <a:xfrm rot="7401600">
                <a:off x="4363200" y="3294360"/>
                <a:ext cx="48240" cy="12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2174"/>
              <p:cNvSpPr/>
              <p:nvPr/>
            </p:nvSpPr>
            <p:spPr>
              <a:xfrm rot="7401600">
                <a:off x="4363200" y="3277080"/>
                <a:ext cx="81000" cy="36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2175"/>
              <p:cNvSpPr/>
              <p:nvPr/>
            </p:nvSpPr>
            <p:spPr>
              <a:xfrm rot="7401600">
                <a:off x="4379040" y="3281040"/>
                <a:ext cx="53640" cy="590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2176"/>
              <p:cNvSpPr/>
              <p:nvPr/>
            </p:nvSpPr>
            <p:spPr>
              <a:xfrm rot="7401600">
                <a:off x="4377600" y="3277800"/>
                <a:ext cx="61920" cy="5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2177"/>
              <p:cNvSpPr/>
              <p:nvPr/>
            </p:nvSpPr>
            <p:spPr>
              <a:xfrm rot="7401600">
                <a:off x="4368240" y="3273480"/>
                <a:ext cx="77040" cy="601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2178"/>
              <p:cNvSpPr/>
              <p:nvPr/>
            </p:nvSpPr>
            <p:spPr>
              <a:xfrm rot="7401600">
                <a:off x="4371120" y="3273120"/>
                <a:ext cx="78840" cy="54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2179"/>
              <p:cNvSpPr/>
              <p:nvPr/>
            </p:nvSpPr>
            <p:spPr>
              <a:xfrm rot="7401600">
                <a:off x="4366080" y="3273840"/>
                <a:ext cx="85320" cy="5184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Freeform 2180"/>
              <p:cNvSpPr/>
              <p:nvPr/>
            </p:nvSpPr>
            <p:spPr>
              <a:xfrm rot="7401600">
                <a:off x="4367160" y="3273480"/>
                <a:ext cx="82800" cy="4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2181"/>
              <p:cNvSpPr/>
              <p:nvPr/>
            </p:nvSpPr>
            <p:spPr>
              <a:xfrm rot="7401600">
                <a:off x="4359960" y="3273120"/>
                <a:ext cx="87120" cy="468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2182"/>
              <p:cNvSpPr/>
              <p:nvPr/>
            </p:nvSpPr>
            <p:spPr>
              <a:xfrm rot="7401600">
                <a:off x="4384800" y="3287520"/>
                <a:ext cx="28800" cy="60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2183"/>
              <p:cNvSpPr/>
              <p:nvPr/>
            </p:nvSpPr>
            <p:spPr>
              <a:xfrm rot="7401600">
                <a:off x="4390200" y="3294720"/>
                <a:ext cx="10080" cy="583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2184"/>
              <p:cNvSpPr/>
              <p:nvPr/>
            </p:nvSpPr>
            <p:spPr>
              <a:xfrm rot="7401600">
                <a:off x="4383360" y="3302640"/>
                <a:ext cx="11520" cy="53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2185"/>
              <p:cNvSpPr/>
              <p:nvPr/>
            </p:nvSpPr>
            <p:spPr>
              <a:xfrm rot="7401600">
                <a:off x="4365720" y="3310200"/>
                <a:ext cx="34920" cy="49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Freeform 2186"/>
              <p:cNvSpPr/>
              <p:nvPr/>
            </p:nvSpPr>
            <p:spPr>
              <a:xfrm rot="7401600">
                <a:off x="4350960" y="3317760"/>
                <a:ext cx="54360" cy="392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Freeform 2187"/>
              <p:cNvSpPr/>
              <p:nvPr/>
            </p:nvSpPr>
            <p:spPr>
              <a:xfrm rot="7401600">
                <a:off x="4341960" y="3327840"/>
                <a:ext cx="56880" cy="31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Freeform 2188"/>
              <p:cNvSpPr/>
              <p:nvPr/>
            </p:nvSpPr>
            <p:spPr>
              <a:xfrm rot="7401600">
                <a:off x="4334040" y="3332880"/>
                <a:ext cx="63720" cy="248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2189"/>
              <p:cNvSpPr/>
              <p:nvPr/>
            </p:nvSpPr>
            <p:spPr>
              <a:xfrm rot="7401600">
                <a:off x="4327200" y="3337920"/>
                <a:ext cx="69120" cy="2052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2190"/>
              <p:cNvSpPr/>
              <p:nvPr/>
            </p:nvSpPr>
            <p:spPr>
              <a:xfrm rot="7401600">
                <a:off x="4322880" y="3341880"/>
                <a:ext cx="70920" cy="14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2191"/>
              <p:cNvSpPr/>
              <p:nvPr/>
            </p:nvSpPr>
            <p:spPr>
              <a:xfrm rot="7401600">
                <a:off x="4318200" y="3342240"/>
                <a:ext cx="75600" cy="111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2192"/>
              <p:cNvSpPr/>
              <p:nvPr/>
            </p:nvSpPr>
            <p:spPr>
              <a:xfrm rot="7401600">
                <a:off x="4316400" y="3347280"/>
                <a:ext cx="71640" cy="7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Freeform 2193"/>
              <p:cNvSpPr/>
              <p:nvPr/>
            </p:nvSpPr>
            <p:spPr>
              <a:xfrm rot="7401600">
                <a:off x="4312800" y="3343320"/>
                <a:ext cx="80280" cy="108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2194"/>
              <p:cNvSpPr/>
              <p:nvPr/>
            </p:nvSpPr>
            <p:spPr>
              <a:xfrm rot="7401600">
                <a:off x="4315680" y="3341880"/>
                <a:ext cx="72360" cy="1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2195"/>
              <p:cNvSpPr/>
              <p:nvPr/>
            </p:nvSpPr>
            <p:spPr>
              <a:xfrm rot="7401600">
                <a:off x="4321440" y="3338280"/>
                <a:ext cx="61560" cy="3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6" name="Group 2196"/>
            <p:cNvGrpSpPr/>
            <p:nvPr/>
          </p:nvGrpSpPr>
          <p:grpSpPr>
            <a:xfrm>
              <a:off x="4038840" y="2948760"/>
              <a:ext cx="114840" cy="99360"/>
              <a:chOff x="4038840" y="2948760"/>
              <a:chExt cx="114840" cy="99360"/>
            </a:xfrm>
          </p:grpSpPr>
          <p:sp>
            <p:nvSpPr>
              <p:cNvPr id="2317" name="Freeform 2197"/>
              <p:cNvSpPr/>
              <p:nvPr/>
            </p:nvSpPr>
            <p:spPr>
              <a:xfrm rot="15478800">
                <a:off x="4085280" y="2977560"/>
                <a:ext cx="54360" cy="72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2198"/>
              <p:cNvSpPr/>
              <p:nvPr/>
            </p:nvSpPr>
            <p:spPr>
              <a:xfrm rot="15478800">
                <a:off x="4034160" y="298008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2199"/>
              <p:cNvSpPr/>
              <p:nvPr/>
            </p:nvSpPr>
            <p:spPr>
              <a:xfrm rot="15478800">
                <a:off x="4045680" y="299016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2200"/>
              <p:cNvSpPr/>
              <p:nvPr/>
            </p:nvSpPr>
            <p:spPr>
              <a:xfrm rot="15478800">
                <a:off x="4046760" y="299808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2201"/>
              <p:cNvSpPr/>
              <p:nvPr/>
            </p:nvSpPr>
            <p:spPr>
              <a:xfrm rot="15478800">
                <a:off x="4042800" y="298584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2202"/>
              <p:cNvSpPr/>
              <p:nvPr/>
            </p:nvSpPr>
            <p:spPr>
              <a:xfrm rot="15478800">
                <a:off x="4043160" y="300204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2203"/>
              <p:cNvSpPr/>
              <p:nvPr/>
            </p:nvSpPr>
            <p:spPr>
              <a:xfrm rot="15478800">
                <a:off x="4056120" y="300456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2204"/>
              <p:cNvSpPr/>
              <p:nvPr/>
            </p:nvSpPr>
            <p:spPr>
              <a:xfrm rot="15478800">
                <a:off x="4041360" y="3006720"/>
                <a:ext cx="50040" cy="2160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2205"/>
              <p:cNvSpPr/>
              <p:nvPr/>
            </p:nvSpPr>
            <p:spPr>
              <a:xfrm rot="15478800">
                <a:off x="4042800" y="299484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2206"/>
              <p:cNvSpPr/>
              <p:nvPr/>
            </p:nvSpPr>
            <p:spPr>
              <a:xfrm rot="15478800">
                <a:off x="4040640" y="299808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2207"/>
              <p:cNvSpPr/>
              <p:nvPr/>
            </p:nvSpPr>
            <p:spPr>
              <a:xfrm rot="15478800">
                <a:off x="4037760" y="2997360"/>
                <a:ext cx="47520" cy="356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2208"/>
              <p:cNvSpPr/>
              <p:nvPr/>
            </p:nvSpPr>
            <p:spPr>
              <a:xfrm rot="15478800">
                <a:off x="4037400" y="300240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2209"/>
              <p:cNvSpPr/>
              <p:nvPr/>
            </p:nvSpPr>
            <p:spPr>
              <a:xfrm rot="15478800">
                <a:off x="4036680" y="300276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2210"/>
              <p:cNvSpPr/>
              <p:nvPr/>
            </p:nvSpPr>
            <p:spPr>
              <a:xfrm rot="15478800">
                <a:off x="4038120" y="3005280"/>
                <a:ext cx="51120" cy="2772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2211"/>
              <p:cNvSpPr/>
              <p:nvPr/>
            </p:nvSpPr>
            <p:spPr>
              <a:xfrm rot="15478800">
                <a:off x="4039560" y="300312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Freeform 2212"/>
              <p:cNvSpPr/>
              <p:nvPr/>
            </p:nvSpPr>
            <p:spPr>
              <a:xfrm rot="15478800">
                <a:off x="4050000" y="2988000"/>
                <a:ext cx="17640" cy="35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2213"/>
              <p:cNvSpPr/>
              <p:nvPr/>
            </p:nvSpPr>
            <p:spPr>
              <a:xfrm rot="15478800">
                <a:off x="4055040" y="2984040"/>
                <a:ext cx="6120" cy="345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Freeform 2214"/>
              <p:cNvSpPr/>
              <p:nvPr/>
            </p:nvSpPr>
            <p:spPr>
              <a:xfrm rot="15478800">
                <a:off x="4054320" y="298044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2215"/>
              <p:cNvSpPr/>
              <p:nvPr/>
            </p:nvSpPr>
            <p:spPr>
              <a:xfrm rot="15478800">
                <a:off x="4047120" y="297684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2216"/>
              <p:cNvSpPr/>
              <p:nvPr/>
            </p:nvSpPr>
            <p:spPr>
              <a:xfrm rot="15478800">
                <a:off x="4042800" y="297648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2217"/>
              <p:cNvSpPr/>
              <p:nvPr/>
            </p:nvSpPr>
            <p:spPr>
              <a:xfrm rot="15478800">
                <a:off x="4042080" y="297252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2218"/>
              <p:cNvSpPr/>
              <p:nvPr/>
            </p:nvSpPr>
            <p:spPr>
              <a:xfrm rot="15478800">
                <a:off x="4041000" y="297180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Freeform 2219"/>
              <p:cNvSpPr/>
              <p:nvPr/>
            </p:nvSpPr>
            <p:spPr>
              <a:xfrm rot="15478800">
                <a:off x="4039920" y="297000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Freeform 2220"/>
              <p:cNvSpPr/>
              <p:nvPr/>
            </p:nvSpPr>
            <p:spPr>
              <a:xfrm rot="15478800">
                <a:off x="4040640" y="297000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Freeform 2221"/>
              <p:cNvSpPr/>
              <p:nvPr/>
            </p:nvSpPr>
            <p:spPr>
              <a:xfrm rot="15478800">
                <a:off x="4040280" y="297036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Freeform 2222"/>
              <p:cNvSpPr/>
              <p:nvPr/>
            </p:nvSpPr>
            <p:spPr>
              <a:xfrm rot="15478800">
                <a:off x="4042080" y="296892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Freeform 2223"/>
              <p:cNvSpPr/>
              <p:nvPr/>
            </p:nvSpPr>
            <p:spPr>
              <a:xfrm rot="15478800">
                <a:off x="4041720" y="297396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Freeform 2224"/>
              <p:cNvSpPr/>
              <p:nvPr/>
            </p:nvSpPr>
            <p:spPr>
              <a:xfrm rot="15478800">
                <a:off x="4045680" y="297432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Freeform 2225"/>
              <p:cNvSpPr/>
              <p:nvPr/>
            </p:nvSpPr>
            <p:spPr>
              <a:xfrm rot="15478800">
                <a:off x="4050000" y="297504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6" name="Group 2226"/>
            <p:cNvGrpSpPr/>
            <p:nvPr/>
          </p:nvGrpSpPr>
          <p:grpSpPr>
            <a:xfrm>
              <a:off x="4013640" y="3042720"/>
              <a:ext cx="126000" cy="100800"/>
              <a:chOff x="4013640" y="3042720"/>
              <a:chExt cx="126000" cy="100800"/>
            </a:xfrm>
          </p:grpSpPr>
          <p:sp>
            <p:nvSpPr>
              <p:cNvPr id="2347" name="Freeform 2227"/>
              <p:cNvSpPr/>
              <p:nvPr/>
            </p:nvSpPr>
            <p:spPr>
              <a:xfrm rot="13760400">
                <a:off x="4067280" y="3050640"/>
                <a:ext cx="54360" cy="720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2228"/>
              <p:cNvSpPr/>
              <p:nvPr/>
            </p:nvSpPr>
            <p:spPr>
              <a:xfrm rot="13760400">
                <a:off x="4006440" y="307800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2229"/>
              <p:cNvSpPr/>
              <p:nvPr/>
            </p:nvSpPr>
            <p:spPr>
              <a:xfrm rot="13760400">
                <a:off x="4032360" y="308844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2230"/>
              <p:cNvSpPr/>
              <p:nvPr/>
            </p:nvSpPr>
            <p:spPr>
              <a:xfrm rot="13760400">
                <a:off x="4030200" y="309204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2231"/>
              <p:cNvSpPr/>
              <p:nvPr/>
            </p:nvSpPr>
            <p:spPr>
              <a:xfrm rot="13760400">
                <a:off x="4018680" y="308124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Freeform 2232"/>
              <p:cNvSpPr/>
              <p:nvPr/>
            </p:nvSpPr>
            <p:spPr>
              <a:xfrm rot="13760400">
                <a:off x="4029840" y="309564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Freeform 2233"/>
              <p:cNvSpPr/>
              <p:nvPr/>
            </p:nvSpPr>
            <p:spPr>
              <a:xfrm rot="13760400">
                <a:off x="4041000" y="309744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Freeform 2234"/>
              <p:cNvSpPr/>
              <p:nvPr/>
            </p:nvSpPr>
            <p:spPr>
              <a:xfrm rot="13760400">
                <a:off x="4031280" y="3101040"/>
                <a:ext cx="50040" cy="212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2235"/>
              <p:cNvSpPr/>
              <p:nvPr/>
            </p:nvSpPr>
            <p:spPr>
              <a:xfrm rot="13760400">
                <a:off x="4031280" y="3092760"/>
                <a:ext cx="33120" cy="34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Freeform 2236"/>
              <p:cNvSpPr/>
              <p:nvPr/>
            </p:nvSpPr>
            <p:spPr>
              <a:xfrm rot="13760400">
                <a:off x="4030560" y="309564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2237"/>
              <p:cNvSpPr/>
              <p:nvPr/>
            </p:nvSpPr>
            <p:spPr>
              <a:xfrm rot="13760400">
                <a:off x="4027320" y="3094560"/>
                <a:ext cx="47520" cy="35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Freeform 2238"/>
              <p:cNvSpPr/>
              <p:nvPr/>
            </p:nvSpPr>
            <p:spPr>
              <a:xfrm rot="13760400">
                <a:off x="4028760" y="309852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2239"/>
              <p:cNvSpPr/>
              <p:nvPr/>
            </p:nvSpPr>
            <p:spPr>
              <a:xfrm rot="13760400">
                <a:off x="4027320" y="309816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Freeform 2240"/>
              <p:cNvSpPr/>
              <p:nvPr/>
            </p:nvSpPr>
            <p:spPr>
              <a:xfrm rot="13760400">
                <a:off x="4029120" y="3100320"/>
                <a:ext cx="51120" cy="273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Freeform 2241"/>
              <p:cNvSpPr/>
              <p:nvPr/>
            </p:nvSpPr>
            <p:spPr>
              <a:xfrm rot="13760400">
                <a:off x="4028760" y="309744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2242"/>
              <p:cNvSpPr/>
              <p:nvPr/>
            </p:nvSpPr>
            <p:spPr>
              <a:xfrm rot="13760400">
                <a:off x="4035240" y="3087360"/>
                <a:ext cx="17640" cy="352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2243"/>
              <p:cNvSpPr/>
              <p:nvPr/>
            </p:nvSpPr>
            <p:spPr>
              <a:xfrm rot="13760400">
                <a:off x="4038120" y="3084480"/>
                <a:ext cx="6120" cy="34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2244"/>
              <p:cNvSpPr/>
              <p:nvPr/>
            </p:nvSpPr>
            <p:spPr>
              <a:xfrm rot="13760400">
                <a:off x="4034880" y="308124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2245"/>
              <p:cNvSpPr/>
              <p:nvPr/>
            </p:nvSpPr>
            <p:spPr>
              <a:xfrm rot="13760400">
                <a:off x="4025880" y="307800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2246"/>
              <p:cNvSpPr/>
              <p:nvPr/>
            </p:nvSpPr>
            <p:spPr>
              <a:xfrm rot="13760400">
                <a:off x="4019040" y="307764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2247"/>
              <p:cNvSpPr/>
              <p:nvPr/>
            </p:nvSpPr>
            <p:spPr>
              <a:xfrm rot="13760400">
                <a:off x="4015440" y="307404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2248"/>
              <p:cNvSpPr/>
              <p:nvPr/>
            </p:nvSpPr>
            <p:spPr>
              <a:xfrm rot="13760400">
                <a:off x="4013280" y="307296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2249"/>
              <p:cNvSpPr/>
              <p:nvPr/>
            </p:nvSpPr>
            <p:spPr>
              <a:xfrm rot="13760400">
                <a:off x="4010760" y="307116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2250"/>
              <p:cNvSpPr/>
              <p:nvPr/>
            </p:nvSpPr>
            <p:spPr>
              <a:xfrm rot="13760400">
                <a:off x="4010400" y="307116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Freeform 2251"/>
              <p:cNvSpPr/>
              <p:nvPr/>
            </p:nvSpPr>
            <p:spPr>
              <a:xfrm rot="13760400">
                <a:off x="4009680" y="307116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Freeform 2252"/>
              <p:cNvSpPr/>
              <p:nvPr/>
            </p:nvSpPr>
            <p:spPr>
              <a:xfrm rot="13760400">
                <a:off x="4009680" y="306972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Freeform 2253"/>
              <p:cNvSpPr/>
              <p:nvPr/>
            </p:nvSpPr>
            <p:spPr>
              <a:xfrm rot="13760400">
                <a:off x="4011120" y="307296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2254"/>
              <p:cNvSpPr/>
              <p:nvPr/>
            </p:nvSpPr>
            <p:spPr>
              <a:xfrm rot="13760400">
                <a:off x="4015080" y="307296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2255"/>
              <p:cNvSpPr/>
              <p:nvPr/>
            </p:nvSpPr>
            <p:spPr>
              <a:xfrm rot="13760400">
                <a:off x="4019760" y="307332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6" name="Group 2256"/>
            <p:cNvGrpSpPr/>
            <p:nvPr/>
          </p:nvGrpSpPr>
          <p:grpSpPr>
            <a:xfrm>
              <a:off x="4027680" y="3112200"/>
              <a:ext cx="125640" cy="110880"/>
              <a:chOff x="4027680" y="3112200"/>
              <a:chExt cx="125640" cy="110880"/>
            </a:xfrm>
          </p:grpSpPr>
          <p:sp>
            <p:nvSpPr>
              <p:cNvPr id="2377" name="Freeform 2257"/>
              <p:cNvSpPr/>
              <p:nvPr/>
            </p:nvSpPr>
            <p:spPr>
              <a:xfrm rot="12605400">
                <a:off x="4084560" y="3120840"/>
                <a:ext cx="54360" cy="720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2258"/>
              <p:cNvSpPr/>
              <p:nvPr/>
            </p:nvSpPr>
            <p:spPr>
              <a:xfrm rot="12605400">
                <a:off x="4024080" y="316692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2259"/>
              <p:cNvSpPr/>
              <p:nvPr/>
            </p:nvSpPr>
            <p:spPr>
              <a:xfrm rot="12605400">
                <a:off x="4059000" y="317376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2260"/>
              <p:cNvSpPr/>
              <p:nvPr/>
            </p:nvSpPr>
            <p:spPr>
              <a:xfrm rot="12605400">
                <a:off x="4053600" y="317484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2261"/>
              <p:cNvSpPr/>
              <p:nvPr/>
            </p:nvSpPr>
            <p:spPr>
              <a:xfrm rot="12605400">
                <a:off x="4038120" y="316728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2262"/>
              <p:cNvSpPr/>
              <p:nvPr/>
            </p:nvSpPr>
            <p:spPr>
              <a:xfrm rot="12605400">
                <a:off x="4055400" y="317772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2263"/>
              <p:cNvSpPr/>
              <p:nvPr/>
            </p:nvSpPr>
            <p:spPr>
              <a:xfrm rot="12605400">
                <a:off x="4064760" y="317952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2264"/>
              <p:cNvSpPr/>
              <p:nvPr/>
            </p:nvSpPr>
            <p:spPr>
              <a:xfrm rot="12605400">
                <a:off x="4058640" y="3182400"/>
                <a:ext cx="50040" cy="212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2265"/>
              <p:cNvSpPr/>
              <p:nvPr/>
            </p:nvSpPr>
            <p:spPr>
              <a:xfrm rot="12605400">
                <a:off x="4058640" y="3177360"/>
                <a:ext cx="33120" cy="34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2266"/>
              <p:cNvSpPr/>
              <p:nvPr/>
            </p:nvSpPr>
            <p:spPr>
              <a:xfrm rot="12605400">
                <a:off x="4058640" y="317880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2267"/>
              <p:cNvSpPr/>
              <p:nvPr/>
            </p:nvSpPr>
            <p:spPr>
              <a:xfrm rot="12605400">
                <a:off x="4055400" y="3177360"/>
                <a:ext cx="47520" cy="35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2268"/>
              <p:cNvSpPr/>
              <p:nvPr/>
            </p:nvSpPr>
            <p:spPr>
              <a:xfrm rot="12605400">
                <a:off x="4057200" y="318096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2269"/>
              <p:cNvSpPr/>
              <p:nvPr/>
            </p:nvSpPr>
            <p:spPr>
              <a:xfrm rot="12605400">
                <a:off x="4055760" y="318060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2270"/>
              <p:cNvSpPr/>
              <p:nvPr/>
            </p:nvSpPr>
            <p:spPr>
              <a:xfrm rot="12605400">
                <a:off x="4057560" y="3182040"/>
                <a:ext cx="51120" cy="273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Freeform 2271"/>
              <p:cNvSpPr/>
              <p:nvPr/>
            </p:nvSpPr>
            <p:spPr>
              <a:xfrm rot="12605400">
                <a:off x="4056120" y="317880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2272"/>
              <p:cNvSpPr/>
              <p:nvPr/>
            </p:nvSpPr>
            <p:spPr>
              <a:xfrm rot="12605400">
                <a:off x="4061160" y="3173040"/>
                <a:ext cx="17640" cy="352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2273"/>
              <p:cNvSpPr/>
              <p:nvPr/>
            </p:nvSpPr>
            <p:spPr>
              <a:xfrm rot="12605400">
                <a:off x="4063320" y="3171240"/>
                <a:ext cx="6120" cy="34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2274"/>
              <p:cNvSpPr/>
              <p:nvPr/>
            </p:nvSpPr>
            <p:spPr>
              <a:xfrm rot="12605400">
                <a:off x="4058640" y="316908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2275"/>
              <p:cNvSpPr/>
              <p:nvPr/>
            </p:nvSpPr>
            <p:spPr>
              <a:xfrm rot="12605400">
                <a:off x="4048200" y="316692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2276"/>
              <p:cNvSpPr/>
              <p:nvPr/>
            </p:nvSpPr>
            <p:spPr>
              <a:xfrm rot="12605400">
                <a:off x="4040280" y="316728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2277"/>
              <p:cNvSpPr/>
              <p:nvPr/>
            </p:nvSpPr>
            <p:spPr>
              <a:xfrm rot="12605400">
                <a:off x="4035240" y="316440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2278"/>
              <p:cNvSpPr/>
              <p:nvPr/>
            </p:nvSpPr>
            <p:spPr>
              <a:xfrm rot="12605400">
                <a:off x="4031640" y="316368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2279"/>
              <p:cNvSpPr/>
              <p:nvPr/>
            </p:nvSpPr>
            <p:spPr>
              <a:xfrm rot="12605400">
                <a:off x="4028400" y="316260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Freeform 2280"/>
              <p:cNvSpPr/>
              <p:nvPr/>
            </p:nvSpPr>
            <p:spPr>
              <a:xfrm rot="12605400">
                <a:off x="4027320" y="316260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Freeform 2281"/>
              <p:cNvSpPr/>
              <p:nvPr/>
            </p:nvSpPr>
            <p:spPr>
              <a:xfrm rot="12605400">
                <a:off x="4026240" y="316224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2282"/>
              <p:cNvSpPr/>
              <p:nvPr/>
            </p:nvSpPr>
            <p:spPr>
              <a:xfrm rot="12605400">
                <a:off x="4025520" y="316116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2283"/>
              <p:cNvSpPr/>
              <p:nvPr/>
            </p:nvSpPr>
            <p:spPr>
              <a:xfrm rot="12605400">
                <a:off x="4026960" y="316296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2284"/>
              <p:cNvSpPr/>
              <p:nvPr/>
            </p:nvSpPr>
            <p:spPr>
              <a:xfrm rot="12605400">
                <a:off x="4030560" y="316260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2285"/>
              <p:cNvSpPr/>
              <p:nvPr/>
            </p:nvSpPr>
            <p:spPr>
              <a:xfrm rot="12605400">
                <a:off x="4035960" y="316260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6" name="Group 2286"/>
            <p:cNvGrpSpPr/>
            <p:nvPr/>
          </p:nvGrpSpPr>
          <p:grpSpPr>
            <a:xfrm>
              <a:off x="4077360" y="3162600"/>
              <a:ext cx="108720" cy="106560"/>
              <a:chOff x="4077360" y="3162600"/>
              <a:chExt cx="108720" cy="106560"/>
            </a:xfrm>
          </p:grpSpPr>
          <p:sp>
            <p:nvSpPr>
              <p:cNvPr id="2407" name="Freeform 2287"/>
              <p:cNvSpPr/>
              <p:nvPr/>
            </p:nvSpPr>
            <p:spPr>
              <a:xfrm rot="11149800">
                <a:off x="4128120" y="3164760"/>
                <a:ext cx="54360" cy="720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Freeform 2288"/>
              <p:cNvSpPr/>
              <p:nvPr/>
            </p:nvSpPr>
            <p:spPr>
              <a:xfrm rot="11149800">
                <a:off x="4077000" y="323208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Freeform 2289"/>
              <p:cNvSpPr/>
              <p:nvPr/>
            </p:nvSpPr>
            <p:spPr>
              <a:xfrm rot="11149800">
                <a:off x="4120200" y="323064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2290"/>
              <p:cNvSpPr/>
              <p:nvPr/>
            </p:nvSpPr>
            <p:spPr>
              <a:xfrm rot="11149800">
                <a:off x="4110480" y="323100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2291"/>
              <p:cNvSpPr/>
              <p:nvPr/>
            </p:nvSpPr>
            <p:spPr>
              <a:xfrm rot="11149800">
                <a:off x="4091040" y="322920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2292"/>
              <p:cNvSpPr/>
              <p:nvPr/>
            </p:nvSpPr>
            <p:spPr>
              <a:xfrm rot="11149800">
                <a:off x="4114440" y="323136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2293"/>
              <p:cNvSpPr/>
              <p:nvPr/>
            </p:nvSpPr>
            <p:spPr>
              <a:xfrm rot="11149800">
                <a:off x="4122000" y="323388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2294"/>
              <p:cNvSpPr/>
              <p:nvPr/>
            </p:nvSpPr>
            <p:spPr>
              <a:xfrm rot="11149800">
                <a:off x="4119480" y="3234600"/>
                <a:ext cx="50040" cy="212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2295"/>
              <p:cNvSpPr/>
              <p:nvPr/>
            </p:nvSpPr>
            <p:spPr>
              <a:xfrm rot="11149800">
                <a:off x="4120920" y="3232800"/>
                <a:ext cx="33120" cy="34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2296"/>
              <p:cNvSpPr/>
              <p:nvPr/>
            </p:nvSpPr>
            <p:spPr>
              <a:xfrm rot="11149800">
                <a:off x="4121280" y="323316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2297"/>
              <p:cNvSpPr/>
              <p:nvPr/>
            </p:nvSpPr>
            <p:spPr>
              <a:xfrm rot="11149800">
                <a:off x="4117320" y="3231360"/>
                <a:ext cx="47520" cy="35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2298"/>
              <p:cNvSpPr/>
              <p:nvPr/>
            </p:nvSpPr>
            <p:spPr>
              <a:xfrm rot="11149800">
                <a:off x="4119480" y="323352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2299"/>
              <p:cNvSpPr/>
              <p:nvPr/>
            </p:nvSpPr>
            <p:spPr>
              <a:xfrm rot="11149800">
                <a:off x="4117680" y="323316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2300"/>
              <p:cNvSpPr/>
              <p:nvPr/>
            </p:nvSpPr>
            <p:spPr>
              <a:xfrm rot="11149800">
                <a:off x="4119480" y="3234240"/>
                <a:ext cx="51120" cy="273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2301"/>
              <p:cNvSpPr/>
              <p:nvPr/>
            </p:nvSpPr>
            <p:spPr>
              <a:xfrm rot="11149800">
                <a:off x="4116960" y="323136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Freeform 2302"/>
              <p:cNvSpPr/>
              <p:nvPr/>
            </p:nvSpPr>
            <p:spPr>
              <a:xfrm rot="11149800">
                <a:off x="4122360" y="3231000"/>
                <a:ext cx="17640" cy="352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2303"/>
              <p:cNvSpPr/>
              <p:nvPr/>
            </p:nvSpPr>
            <p:spPr>
              <a:xfrm rot="11149800">
                <a:off x="4123800" y="3231000"/>
                <a:ext cx="6120" cy="34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2304"/>
              <p:cNvSpPr/>
              <p:nvPr/>
            </p:nvSpPr>
            <p:spPr>
              <a:xfrm rot="11149800">
                <a:off x="4118040" y="323100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2305"/>
              <p:cNvSpPr/>
              <p:nvPr/>
            </p:nvSpPr>
            <p:spPr>
              <a:xfrm rot="11149800">
                <a:off x="4106520" y="323064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2306"/>
              <p:cNvSpPr/>
              <p:nvPr/>
            </p:nvSpPr>
            <p:spPr>
              <a:xfrm rot="11149800">
                <a:off x="4097520" y="323172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2307"/>
              <p:cNvSpPr/>
              <p:nvPr/>
            </p:nvSpPr>
            <p:spPr>
              <a:xfrm rot="11149800">
                <a:off x="4090680" y="323136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Freeform 2308"/>
              <p:cNvSpPr/>
              <p:nvPr/>
            </p:nvSpPr>
            <p:spPr>
              <a:xfrm rot="11149800">
                <a:off x="4086360" y="323100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2309"/>
              <p:cNvSpPr/>
              <p:nvPr/>
            </p:nvSpPr>
            <p:spPr>
              <a:xfrm rot="11149800">
                <a:off x="4082400" y="323100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Freeform 2310"/>
              <p:cNvSpPr/>
              <p:nvPr/>
            </p:nvSpPr>
            <p:spPr>
              <a:xfrm rot="11149800">
                <a:off x="4080240" y="323136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Freeform 2311"/>
              <p:cNvSpPr/>
              <p:nvPr/>
            </p:nvSpPr>
            <p:spPr>
              <a:xfrm rot="11149800">
                <a:off x="4078800" y="323100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Freeform 2312"/>
              <p:cNvSpPr/>
              <p:nvPr/>
            </p:nvSpPr>
            <p:spPr>
              <a:xfrm rot="11149800">
                <a:off x="4077000" y="323100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Freeform 2313"/>
              <p:cNvSpPr/>
              <p:nvPr/>
            </p:nvSpPr>
            <p:spPr>
              <a:xfrm rot="11149800">
                <a:off x="4078440" y="323100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2314"/>
              <p:cNvSpPr/>
              <p:nvPr/>
            </p:nvSpPr>
            <p:spPr>
              <a:xfrm rot="11149800">
                <a:off x="4082040" y="322992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2315"/>
              <p:cNvSpPr/>
              <p:nvPr/>
            </p:nvSpPr>
            <p:spPr>
              <a:xfrm rot="11149800">
                <a:off x="4087080" y="322920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6" name="Group 2316"/>
            <p:cNvGrpSpPr/>
            <p:nvPr/>
          </p:nvGrpSpPr>
          <p:grpSpPr>
            <a:xfrm>
              <a:off x="4140720" y="3185280"/>
              <a:ext cx="98640" cy="116640"/>
              <a:chOff x="4140720" y="3185280"/>
              <a:chExt cx="98640" cy="116640"/>
            </a:xfrm>
          </p:grpSpPr>
          <p:sp>
            <p:nvSpPr>
              <p:cNvPr id="2437" name="Freeform 2317"/>
              <p:cNvSpPr/>
              <p:nvPr/>
            </p:nvSpPr>
            <p:spPr>
              <a:xfrm rot="9754200">
                <a:off x="4173840" y="3191760"/>
                <a:ext cx="54360" cy="720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2318"/>
              <p:cNvSpPr/>
              <p:nvPr/>
            </p:nvSpPr>
            <p:spPr>
              <a:xfrm rot="9754200">
                <a:off x="4139280" y="327384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2319"/>
              <p:cNvSpPr/>
              <p:nvPr/>
            </p:nvSpPr>
            <p:spPr>
              <a:xfrm rot="9754200">
                <a:off x="4186800" y="326196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2320"/>
              <p:cNvSpPr/>
              <p:nvPr/>
            </p:nvSpPr>
            <p:spPr>
              <a:xfrm rot="9754200">
                <a:off x="4172760" y="326340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2321"/>
              <p:cNvSpPr/>
              <p:nvPr/>
            </p:nvSpPr>
            <p:spPr>
              <a:xfrm rot="9754200">
                <a:off x="4152600" y="326772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2322"/>
              <p:cNvSpPr/>
              <p:nvPr/>
            </p:nvSpPr>
            <p:spPr>
              <a:xfrm rot="9754200">
                <a:off x="4177440" y="326124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2323"/>
              <p:cNvSpPr/>
              <p:nvPr/>
            </p:nvSpPr>
            <p:spPr>
              <a:xfrm rot="9754200">
                <a:off x="4183920" y="326520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2324"/>
              <p:cNvSpPr/>
              <p:nvPr/>
            </p:nvSpPr>
            <p:spPr>
              <a:xfrm rot="9754200">
                <a:off x="4183920" y="3262320"/>
                <a:ext cx="50040" cy="212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2325"/>
              <p:cNvSpPr/>
              <p:nvPr/>
            </p:nvSpPr>
            <p:spPr>
              <a:xfrm rot="9754200">
                <a:off x="4187520" y="3262680"/>
                <a:ext cx="33120" cy="34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2326"/>
              <p:cNvSpPr/>
              <p:nvPr/>
            </p:nvSpPr>
            <p:spPr>
              <a:xfrm rot="9754200">
                <a:off x="4187880" y="326232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2327"/>
              <p:cNvSpPr/>
              <p:nvPr/>
            </p:nvSpPr>
            <p:spPr>
              <a:xfrm rot="9754200">
                <a:off x="4183560" y="3260160"/>
                <a:ext cx="47520" cy="35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2328"/>
              <p:cNvSpPr/>
              <p:nvPr/>
            </p:nvSpPr>
            <p:spPr>
              <a:xfrm rot="9754200">
                <a:off x="4185720" y="326088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2329"/>
              <p:cNvSpPr/>
              <p:nvPr/>
            </p:nvSpPr>
            <p:spPr>
              <a:xfrm rot="9754200">
                <a:off x="4183200" y="326052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2330"/>
              <p:cNvSpPr/>
              <p:nvPr/>
            </p:nvSpPr>
            <p:spPr>
              <a:xfrm rot="9754200">
                <a:off x="4184640" y="3261600"/>
                <a:ext cx="51120" cy="273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2331"/>
              <p:cNvSpPr/>
              <p:nvPr/>
            </p:nvSpPr>
            <p:spPr>
              <a:xfrm rot="9754200">
                <a:off x="4181040" y="325908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Freeform 2332"/>
              <p:cNvSpPr/>
              <p:nvPr/>
            </p:nvSpPr>
            <p:spPr>
              <a:xfrm rot="9754200">
                <a:off x="4188960" y="3263400"/>
                <a:ext cx="17640" cy="352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2333"/>
              <p:cNvSpPr/>
              <p:nvPr/>
            </p:nvSpPr>
            <p:spPr>
              <a:xfrm rot="9754200">
                <a:off x="4190760" y="3265200"/>
                <a:ext cx="6120" cy="34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2334"/>
              <p:cNvSpPr/>
              <p:nvPr/>
            </p:nvSpPr>
            <p:spPr>
              <a:xfrm rot="9754200">
                <a:off x="4185000" y="326736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2335"/>
              <p:cNvSpPr/>
              <p:nvPr/>
            </p:nvSpPr>
            <p:spPr>
              <a:xfrm rot="9754200">
                <a:off x="4173120" y="326844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2336"/>
              <p:cNvSpPr/>
              <p:nvPr/>
            </p:nvSpPr>
            <p:spPr>
              <a:xfrm rot="9754200">
                <a:off x="4163400" y="327096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2337"/>
              <p:cNvSpPr/>
              <p:nvPr/>
            </p:nvSpPr>
            <p:spPr>
              <a:xfrm rot="9754200">
                <a:off x="4156560" y="327312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2338"/>
              <p:cNvSpPr/>
              <p:nvPr/>
            </p:nvSpPr>
            <p:spPr>
              <a:xfrm rot="9754200">
                <a:off x="4151160" y="327420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2339"/>
              <p:cNvSpPr/>
              <p:nvPr/>
            </p:nvSpPr>
            <p:spPr>
              <a:xfrm rot="9754200">
                <a:off x="4146480" y="327492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2340"/>
              <p:cNvSpPr/>
              <p:nvPr/>
            </p:nvSpPr>
            <p:spPr>
              <a:xfrm rot="9754200">
                <a:off x="4144320" y="327600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2341"/>
              <p:cNvSpPr/>
              <p:nvPr/>
            </p:nvSpPr>
            <p:spPr>
              <a:xfrm rot="9754200">
                <a:off x="4142160" y="327600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2342"/>
              <p:cNvSpPr/>
              <p:nvPr/>
            </p:nvSpPr>
            <p:spPr>
              <a:xfrm rot="9754200">
                <a:off x="4140720" y="327708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2343"/>
              <p:cNvSpPr/>
              <p:nvPr/>
            </p:nvSpPr>
            <p:spPr>
              <a:xfrm rot="9754200">
                <a:off x="4140720" y="327564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2344"/>
              <p:cNvSpPr/>
              <p:nvPr/>
            </p:nvSpPr>
            <p:spPr>
              <a:xfrm rot="9754200">
                <a:off x="4143600" y="327456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Freeform 2345"/>
              <p:cNvSpPr/>
              <p:nvPr/>
            </p:nvSpPr>
            <p:spPr>
              <a:xfrm rot="9754200">
                <a:off x="4148280" y="327312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6" name="Group 2346"/>
            <p:cNvGrpSpPr/>
            <p:nvPr/>
          </p:nvGrpSpPr>
          <p:grpSpPr>
            <a:xfrm>
              <a:off x="4186800" y="3197520"/>
              <a:ext cx="99000" cy="125280"/>
              <a:chOff x="4186800" y="3197520"/>
              <a:chExt cx="99000" cy="125280"/>
            </a:xfrm>
          </p:grpSpPr>
          <p:sp>
            <p:nvSpPr>
              <p:cNvPr id="2467" name="Freeform 2347"/>
              <p:cNvSpPr/>
              <p:nvPr/>
            </p:nvSpPr>
            <p:spPr>
              <a:xfrm rot="8498400">
                <a:off x="4203360" y="3206520"/>
                <a:ext cx="54360" cy="720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2348"/>
              <p:cNvSpPr/>
              <p:nvPr/>
            </p:nvSpPr>
            <p:spPr>
              <a:xfrm rot="8498400">
                <a:off x="4187880" y="329616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2349"/>
              <p:cNvSpPr/>
              <p:nvPr/>
            </p:nvSpPr>
            <p:spPr>
              <a:xfrm rot="8498400">
                <a:off x="4234680" y="327384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2350"/>
              <p:cNvSpPr/>
              <p:nvPr/>
            </p:nvSpPr>
            <p:spPr>
              <a:xfrm rot="8498400">
                <a:off x="4217760" y="327708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2351"/>
              <p:cNvSpPr/>
              <p:nvPr/>
            </p:nvSpPr>
            <p:spPr>
              <a:xfrm rot="8498400">
                <a:off x="4198680" y="328716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Freeform 2352"/>
              <p:cNvSpPr/>
              <p:nvPr/>
            </p:nvSpPr>
            <p:spPr>
              <a:xfrm rot="8498400">
                <a:off x="4221720" y="327276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2353"/>
              <p:cNvSpPr/>
              <p:nvPr/>
            </p:nvSpPr>
            <p:spPr>
              <a:xfrm rot="8498400">
                <a:off x="4228200" y="327816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2354"/>
              <p:cNvSpPr/>
              <p:nvPr/>
            </p:nvSpPr>
            <p:spPr>
              <a:xfrm rot="8498400">
                <a:off x="4228560" y="3271320"/>
                <a:ext cx="50040" cy="212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2355"/>
              <p:cNvSpPr/>
              <p:nvPr/>
            </p:nvSpPr>
            <p:spPr>
              <a:xfrm rot="8498400">
                <a:off x="4235760" y="3273120"/>
                <a:ext cx="33120" cy="34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2356"/>
              <p:cNvSpPr/>
              <p:nvPr/>
            </p:nvSpPr>
            <p:spPr>
              <a:xfrm rot="8498400">
                <a:off x="4235400" y="327168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2357"/>
              <p:cNvSpPr/>
              <p:nvPr/>
            </p:nvSpPr>
            <p:spPr>
              <a:xfrm rot="8498400">
                <a:off x="4230000" y="3269520"/>
                <a:ext cx="47520" cy="35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2358"/>
              <p:cNvSpPr/>
              <p:nvPr/>
            </p:nvSpPr>
            <p:spPr>
              <a:xfrm rot="8498400">
                <a:off x="4232160" y="326916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2359"/>
              <p:cNvSpPr/>
              <p:nvPr/>
            </p:nvSpPr>
            <p:spPr>
              <a:xfrm rot="8498400">
                <a:off x="4229280" y="326916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2360"/>
              <p:cNvSpPr/>
              <p:nvPr/>
            </p:nvSpPr>
            <p:spPr>
              <a:xfrm rot="8498400">
                <a:off x="4230360" y="3269880"/>
                <a:ext cx="51120" cy="273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2361"/>
              <p:cNvSpPr/>
              <p:nvPr/>
            </p:nvSpPr>
            <p:spPr>
              <a:xfrm rot="8498400">
                <a:off x="4226400" y="326808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2362"/>
              <p:cNvSpPr/>
              <p:nvPr/>
            </p:nvSpPr>
            <p:spPr>
              <a:xfrm rot="8498400">
                <a:off x="4237560" y="3276000"/>
                <a:ext cx="17640" cy="352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2363"/>
              <p:cNvSpPr/>
              <p:nvPr/>
            </p:nvSpPr>
            <p:spPr>
              <a:xfrm rot="8498400">
                <a:off x="4240080" y="3279240"/>
                <a:ext cx="6120" cy="34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2364"/>
              <p:cNvSpPr/>
              <p:nvPr/>
            </p:nvSpPr>
            <p:spPr>
              <a:xfrm rot="8498400">
                <a:off x="4234680" y="328284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2365"/>
              <p:cNvSpPr/>
              <p:nvPr/>
            </p:nvSpPr>
            <p:spPr>
              <a:xfrm rot="8498400">
                <a:off x="4223160" y="328608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2366"/>
              <p:cNvSpPr/>
              <p:nvPr/>
            </p:nvSpPr>
            <p:spPr>
              <a:xfrm rot="8498400">
                <a:off x="4214160" y="328968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2367"/>
              <p:cNvSpPr/>
              <p:nvPr/>
            </p:nvSpPr>
            <p:spPr>
              <a:xfrm rot="8498400">
                <a:off x="4207320" y="329436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Freeform 2368"/>
              <p:cNvSpPr/>
              <p:nvPr/>
            </p:nvSpPr>
            <p:spPr>
              <a:xfrm rot="8498400">
                <a:off x="4201920" y="329616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2369"/>
              <p:cNvSpPr/>
              <p:nvPr/>
            </p:nvSpPr>
            <p:spPr>
              <a:xfrm rot="8498400">
                <a:off x="4197600" y="329832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2370"/>
              <p:cNvSpPr/>
              <p:nvPr/>
            </p:nvSpPr>
            <p:spPr>
              <a:xfrm rot="8498400">
                <a:off x="4194720" y="330012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2371"/>
              <p:cNvSpPr/>
              <p:nvPr/>
            </p:nvSpPr>
            <p:spPr>
              <a:xfrm rot="8498400">
                <a:off x="4192200" y="330048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2372"/>
              <p:cNvSpPr/>
              <p:nvPr/>
            </p:nvSpPr>
            <p:spPr>
              <a:xfrm rot="8498400">
                <a:off x="4190760" y="330264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2373"/>
              <p:cNvSpPr/>
              <p:nvPr/>
            </p:nvSpPr>
            <p:spPr>
              <a:xfrm rot="8498400">
                <a:off x="4190040" y="330048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2374"/>
              <p:cNvSpPr/>
              <p:nvPr/>
            </p:nvSpPr>
            <p:spPr>
              <a:xfrm rot="8498400">
                <a:off x="4192200" y="329904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2375"/>
              <p:cNvSpPr/>
              <p:nvPr/>
            </p:nvSpPr>
            <p:spPr>
              <a:xfrm rot="8498400">
                <a:off x="4196520" y="329724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6" name="Group 2376"/>
            <p:cNvGrpSpPr/>
            <p:nvPr/>
          </p:nvGrpSpPr>
          <p:grpSpPr>
            <a:xfrm>
              <a:off x="4265640" y="3183120"/>
              <a:ext cx="96480" cy="123840"/>
              <a:chOff x="4265640" y="3183120"/>
              <a:chExt cx="96480" cy="123840"/>
            </a:xfrm>
          </p:grpSpPr>
          <p:sp>
            <p:nvSpPr>
              <p:cNvPr id="2497" name="Freeform 2377"/>
              <p:cNvSpPr/>
              <p:nvPr/>
            </p:nvSpPr>
            <p:spPr>
              <a:xfrm rot="8687400">
                <a:off x="4281480" y="3191760"/>
                <a:ext cx="54360" cy="720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2378"/>
              <p:cNvSpPr/>
              <p:nvPr/>
            </p:nvSpPr>
            <p:spPr>
              <a:xfrm rot="8687400">
                <a:off x="4262760" y="328068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2379"/>
              <p:cNvSpPr/>
              <p:nvPr/>
            </p:nvSpPr>
            <p:spPr>
              <a:xfrm rot="8687400">
                <a:off x="4310280" y="326016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2380"/>
              <p:cNvSpPr/>
              <p:nvPr/>
            </p:nvSpPr>
            <p:spPr>
              <a:xfrm rot="8687400">
                <a:off x="4293360" y="326304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2381"/>
              <p:cNvSpPr/>
              <p:nvPr/>
            </p:nvSpPr>
            <p:spPr>
              <a:xfrm rot="8687400">
                <a:off x="4274280" y="327240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2382"/>
              <p:cNvSpPr/>
              <p:nvPr/>
            </p:nvSpPr>
            <p:spPr>
              <a:xfrm rot="8687400">
                <a:off x="4297680" y="325908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2383"/>
              <p:cNvSpPr/>
              <p:nvPr/>
            </p:nvSpPr>
            <p:spPr>
              <a:xfrm rot="8687400">
                <a:off x="4304160" y="326412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2384"/>
              <p:cNvSpPr/>
              <p:nvPr/>
            </p:nvSpPr>
            <p:spPr>
              <a:xfrm rot="8687400">
                <a:off x="4304520" y="3258000"/>
                <a:ext cx="50040" cy="212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2385"/>
              <p:cNvSpPr/>
              <p:nvPr/>
            </p:nvSpPr>
            <p:spPr>
              <a:xfrm rot="8687400">
                <a:off x="4311000" y="3259800"/>
                <a:ext cx="33120" cy="34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2386"/>
              <p:cNvSpPr/>
              <p:nvPr/>
            </p:nvSpPr>
            <p:spPr>
              <a:xfrm rot="8687400">
                <a:off x="4310640" y="325836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2387"/>
              <p:cNvSpPr/>
              <p:nvPr/>
            </p:nvSpPr>
            <p:spPr>
              <a:xfrm rot="8687400">
                <a:off x="4305600" y="3256200"/>
                <a:ext cx="47520" cy="35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2388"/>
              <p:cNvSpPr/>
              <p:nvPr/>
            </p:nvSpPr>
            <p:spPr>
              <a:xfrm rot="8687400">
                <a:off x="4307760" y="325620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Freeform 2389"/>
              <p:cNvSpPr/>
              <p:nvPr/>
            </p:nvSpPr>
            <p:spPr>
              <a:xfrm rot="8687400">
                <a:off x="4305240" y="325584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Freeform 2390"/>
              <p:cNvSpPr/>
              <p:nvPr/>
            </p:nvSpPr>
            <p:spPr>
              <a:xfrm rot="8687400">
                <a:off x="4306680" y="3256200"/>
                <a:ext cx="51120" cy="273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Freeform 2391"/>
              <p:cNvSpPr/>
              <p:nvPr/>
            </p:nvSpPr>
            <p:spPr>
              <a:xfrm rot="8687400">
                <a:off x="4302360" y="325512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Freeform 2392"/>
              <p:cNvSpPr/>
              <p:nvPr/>
            </p:nvSpPr>
            <p:spPr>
              <a:xfrm rot="8687400">
                <a:off x="4313160" y="3262320"/>
                <a:ext cx="17640" cy="352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2393"/>
              <p:cNvSpPr/>
              <p:nvPr/>
            </p:nvSpPr>
            <p:spPr>
              <a:xfrm rot="8687400">
                <a:off x="4315320" y="3265200"/>
                <a:ext cx="6120" cy="34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2394"/>
              <p:cNvSpPr/>
              <p:nvPr/>
            </p:nvSpPr>
            <p:spPr>
              <a:xfrm rot="8687400">
                <a:off x="4309920" y="326844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Freeform 2395"/>
              <p:cNvSpPr/>
              <p:nvPr/>
            </p:nvSpPr>
            <p:spPr>
              <a:xfrm rot="8687400">
                <a:off x="4298400" y="327168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2396"/>
              <p:cNvSpPr/>
              <p:nvPr/>
            </p:nvSpPr>
            <p:spPr>
              <a:xfrm rot="8687400">
                <a:off x="4289040" y="327492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Freeform 2397"/>
              <p:cNvSpPr/>
              <p:nvPr/>
            </p:nvSpPr>
            <p:spPr>
              <a:xfrm rot="8687400">
                <a:off x="4281840" y="327960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2398"/>
              <p:cNvSpPr/>
              <p:nvPr/>
            </p:nvSpPr>
            <p:spPr>
              <a:xfrm rot="8687400">
                <a:off x="4276800" y="328104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2399"/>
              <p:cNvSpPr/>
              <p:nvPr/>
            </p:nvSpPr>
            <p:spPr>
              <a:xfrm rot="8687400">
                <a:off x="4272120" y="328284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2400"/>
              <p:cNvSpPr/>
              <p:nvPr/>
            </p:nvSpPr>
            <p:spPr>
              <a:xfrm rot="8687400">
                <a:off x="4269600" y="328464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Freeform 2401"/>
              <p:cNvSpPr/>
              <p:nvPr/>
            </p:nvSpPr>
            <p:spPr>
              <a:xfrm rot="8687400">
                <a:off x="4267080" y="328500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Freeform 2402"/>
              <p:cNvSpPr/>
              <p:nvPr/>
            </p:nvSpPr>
            <p:spPr>
              <a:xfrm rot="8687400">
                <a:off x="4265640" y="328680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Freeform 2403"/>
              <p:cNvSpPr/>
              <p:nvPr/>
            </p:nvSpPr>
            <p:spPr>
              <a:xfrm rot="8687400">
                <a:off x="4264920" y="328464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Freeform 2404"/>
              <p:cNvSpPr/>
              <p:nvPr/>
            </p:nvSpPr>
            <p:spPr>
              <a:xfrm rot="8687400">
                <a:off x="4267080" y="328320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Freeform 2405"/>
              <p:cNvSpPr/>
              <p:nvPr/>
            </p:nvSpPr>
            <p:spPr>
              <a:xfrm rot="8687400">
                <a:off x="4271760" y="328140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6" name="Group 2406"/>
            <p:cNvGrpSpPr/>
            <p:nvPr/>
          </p:nvGrpSpPr>
          <p:grpSpPr>
            <a:xfrm>
              <a:off x="4090320" y="2876760"/>
              <a:ext cx="111960" cy="125280"/>
              <a:chOff x="4090320" y="2876760"/>
              <a:chExt cx="111960" cy="125280"/>
            </a:xfrm>
          </p:grpSpPr>
          <p:sp>
            <p:nvSpPr>
              <p:cNvPr id="2527" name="Freeform 2407"/>
              <p:cNvSpPr/>
              <p:nvPr/>
            </p:nvSpPr>
            <p:spPr>
              <a:xfrm rot="17822400">
                <a:off x="4130280" y="2925000"/>
                <a:ext cx="54360" cy="72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Freeform 2408"/>
              <p:cNvSpPr/>
              <p:nvPr/>
            </p:nvSpPr>
            <p:spPr>
              <a:xfrm rot="17822400">
                <a:off x="4110120" y="290628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Freeform 2409"/>
              <p:cNvSpPr/>
              <p:nvPr/>
            </p:nvSpPr>
            <p:spPr>
              <a:xfrm rot="17822400">
                <a:off x="4106160" y="290556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2410"/>
              <p:cNvSpPr/>
              <p:nvPr/>
            </p:nvSpPr>
            <p:spPr>
              <a:xfrm rot="17822400">
                <a:off x="4106880" y="292068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Freeform 2411"/>
              <p:cNvSpPr/>
              <p:nvPr/>
            </p:nvSpPr>
            <p:spPr>
              <a:xfrm rot="17822400">
                <a:off x="4113000" y="291240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Freeform 2412"/>
              <p:cNvSpPr/>
              <p:nvPr/>
            </p:nvSpPr>
            <p:spPr>
              <a:xfrm rot="17822400">
                <a:off x="4099680" y="292212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Freeform 2413"/>
              <p:cNvSpPr/>
              <p:nvPr/>
            </p:nvSpPr>
            <p:spPr>
              <a:xfrm rot="17822400">
                <a:off x="4114440" y="292680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Freeform 2414"/>
              <p:cNvSpPr/>
              <p:nvPr/>
            </p:nvSpPr>
            <p:spPr>
              <a:xfrm rot="17822400">
                <a:off x="4094280" y="2924280"/>
                <a:ext cx="50040" cy="2160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Freeform 2415"/>
              <p:cNvSpPr/>
              <p:nvPr/>
            </p:nvSpPr>
            <p:spPr>
              <a:xfrm rot="17822400">
                <a:off x="4101120" y="290916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Freeform 2416"/>
              <p:cNvSpPr/>
              <p:nvPr/>
            </p:nvSpPr>
            <p:spPr>
              <a:xfrm rot="17822400">
                <a:off x="4096800" y="291240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Freeform 2417"/>
              <p:cNvSpPr/>
              <p:nvPr/>
            </p:nvSpPr>
            <p:spPr>
              <a:xfrm rot="17822400">
                <a:off x="4093560" y="2912760"/>
                <a:ext cx="47520" cy="356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Freeform 2418"/>
              <p:cNvSpPr/>
              <p:nvPr/>
            </p:nvSpPr>
            <p:spPr>
              <a:xfrm rot="17822400">
                <a:off x="4091040" y="291708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Freeform 2419"/>
              <p:cNvSpPr/>
              <p:nvPr/>
            </p:nvSpPr>
            <p:spPr>
              <a:xfrm rot="17822400">
                <a:off x="4090680" y="291780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Freeform 2420"/>
              <p:cNvSpPr/>
              <p:nvPr/>
            </p:nvSpPr>
            <p:spPr>
              <a:xfrm rot="17822400">
                <a:off x="4091040" y="2920680"/>
                <a:ext cx="51120" cy="2772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2421"/>
              <p:cNvSpPr/>
              <p:nvPr/>
            </p:nvSpPr>
            <p:spPr>
              <a:xfrm rot="17822400">
                <a:off x="4093200" y="292104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2422"/>
              <p:cNvSpPr/>
              <p:nvPr/>
            </p:nvSpPr>
            <p:spPr>
              <a:xfrm rot="17822400">
                <a:off x="4112280" y="2903400"/>
                <a:ext cx="17640" cy="35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Freeform 2423"/>
              <p:cNvSpPr/>
              <p:nvPr/>
            </p:nvSpPr>
            <p:spPr>
              <a:xfrm rot="17822400">
                <a:off x="4120200" y="2900160"/>
                <a:ext cx="6120" cy="345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Freeform 2424"/>
              <p:cNvSpPr/>
              <p:nvPr/>
            </p:nvSpPr>
            <p:spPr>
              <a:xfrm rot="17822400">
                <a:off x="4123080" y="289764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Freeform 2425"/>
              <p:cNvSpPr/>
              <p:nvPr/>
            </p:nvSpPr>
            <p:spPr>
              <a:xfrm rot="17822400">
                <a:off x="4118760" y="289512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Freeform 2426"/>
              <p:cNvSpPr/>
              <p:nvPr/>
            </p:nvSpPr>
            <p:spPr>
              <a:xfrm rot="17822400">
                <a:off x="4116240" y="289656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Freeform 2427"/>
              <p:cNvSpPr/>
              <p:nvPr/>
            </p:nvSpPr>
            <p:spPr>
              <a:xfrm rot="17822400">
                <a:off x="4119120" y="289404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Freeform 2428"/>
              <p:cNvSpPr/>
              <p:nvPr/>
            </p:nvSpPr>
            <p:spPr>
              <a:xfrm rot="17822400">
                <a:off x="4119840" y="289440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Freeform 2429"/>
              <p:cNvSpPr/>
              <p:nvPr/>
            </p:nvSpPr>
            <p:spPr>
              <a:xfrm rot="17822400">
                <a:off x="4120560" y="289368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Freeform 2430"/>
              <p:cNvSpPr/>
              <p:nvPr/>
            </p:nvSpPr>
            <p:spPr>
              <a:xfrm rot="17822400">
                <a:off x="4121640" y="289476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Freeform 2431"/>
              <p:cNvSpPr/>
              <p:nvPr/>
            </p:nvSpPr>
            <p:spPr>
              <a:xfrm rot="17822400">
                <a:off x="4121640" y="289620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Freeform 2432"/>
              <p:cNvSpPr/>
              <p:nvPr/>
            </p:nvSpPr>
            <p:spPr>
              <a:xfrm rot="17822400">
                <a:off x="4124880" y="289548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Freeform 2433"/>
              <p:cNvSpPr/>
              <p:nvPr/>
            </p:nvSpPr>
            <p:spPr>
              <a:xfrm rot="17822400">
                <a:off x="4122360" y="290124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Freeform 2434"/>
              <p:cNvSpPr/>
              <p:nvPr/>
            </p:nvSpPr>
            <p:spPr>
              <a:xfrm rot="17822400">
                <a:off x="4125600" y="290232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Freeform 2435"/>
              <p:cNvSpPr/>
              <p:nvPr/>
            </p:nvSpPr>
            <p:spPr>
              <a:xfrm rot="17822400">
                <a:off x="4128480" y="290340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6" name="Group 2436"/>
            <p:cNvGrpSpPr/>
            <p:nvPr/>
          </p:nvGrpSpPr>
          <p:grpSpPr>
            <a:xfrm>
              <a:off x="4168080" y="2858760"/>
              <a:ext cx="95040" cy="123120"/>
              <a:chOff x="4168080" y="2858760"/>
              <a:chExt cx="95040" cy="123120"/>
            </a:xfrm>
          </p:grpSpPr>
          <p:sp>
            <p:nvSpPr>
              <p:cNvPr id="2557" name="Freeform 2437"/>
              <p:cNvSpPr/>
              <p:nvPr/>
            </p:nvSpPr>
            <p:spPr>
              <a:xfrm rot="19569600">
                <a:off x="4192920" y="2900880"/>
                <a:ext cx="54360" cy="720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Freeform 2438"/>
              <p:cNvSpPr/>
              <p:nvPr/>
            </p:nvSpPr>
            <p:spPr>
              <a:xfrm rot="19569600">
                <a:off x="4200840" y="288180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Freeform 2439"/>
              <p:cNvSpPr/>
              <p:nvPr/>
            </p:nvSpPr>
            <p:spPr>
              <a:xfrm rot="19569600">
                <a:off x="4192200" y="286812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Freeform 2440"/>
              <p:cNvSpPr/>
              <p:nvPr/>
            </p:nvSpPr>
            <p:spPr>
              <a:xfrm rot="19569600">
                <a:off x="4189680" y="288792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Freeform 2441"/>
              <p:cNvSpPr/>
              <p:nvPr/>
            </p:nvSpPr>
            <p:spPr>
              <a:xfrm rot="19569600">
                <a:off x="4200480" y="288576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Freeform 2442"/>
              <p:cNvSpPr/>
              <p:nvPr/>
            </p:nvSpPr>
            <p:spPr>
              <a:xfrm rot="19569600">
                <a:off x="4181040" y="288648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Freeform 2443"/>
              <p:cNvSpPr/>
              <p:nvPr/>
            </p:nvSpPr>
            <p:spPr>
              <a:xfrm rot="19569600">
                <a:off x="4195800" y="289332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Freeform 2444"/>
              <p:cNvSpPr/>
              <p:nvPr/>
            </p:nvSpPr>
            <p:spPr>
              <a:xfrm rot="19569600">
                <a:off x="4174920" y="2885400"/>
                <a:ext cx="50040" cy="212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Freeform 2445"/>
              <p:cNvSpPr/>
              <p:nvPr/>
            </p:nvSpPr>
            <p:spPr>
              <a:xfrm rot="19569600">
                <a:off x="4185720" y="2870280"/>
                <a:ext cx="33120" cy="34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Freeform 2446"/>
              <p:cNvSpPr/>
              <p:nvPr/>
            </p:nvSpPr>
            <p:spPr>
              <a:xfrm rot="19569600">
                <a:off x="4181040" y="287208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Freeform 2447"/>
              <p:cNvSpPr/>
              <p:nvPr/>
            </p:nvSpPr>
            <p:spPr>
              <a:xfrm rot="19569600">
                <a:off x="4176720" y="2872800"/>
                <a:ext cx="47520" cy="35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Freeform 2448"/>
              <p:cNvSpPr/>
              <p:nvPr/>
            </p:nvSpPr>
            <p:spPr>
              <a:xfrm rot="19569600">
                <a:off x="4173480" y="287604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Freeform 2449"/>
              <p:cNvSpPr/>
              <p:nvPr/>
            </p:nvSpPr>
            <p:spPr>
              <a:xfrm rot="19569600">
                <a:off x="4172040" y="287784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Freeform 2450"/>
              <p:cNvSpPr/>
              <p:nvPr/>
            </p:nvSpPr>
            <p:spPr>
              <a:xfrm rot="19569600">
                <a:off x="4172400" y="2880360"/>
                <a:ext cx="51120" cy="273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Freeform 2451"/>
              <p:cNvSpPr/>
              <p:nvPr/>
            </p:nvSpPr>
            <p:spPr>
              <a:xfrm rot="19569600">
                <a:off x="4173480" y="288144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Freeform 2452"/>
              <p:cNvSpPr/>
              <p:nvPr/>
            </p:nvSpPr>
            <p:spPr>
              <a:xfrm rot="19569600">
                <a:off x="4199400" y="2867040"/>
                <a:ext cx="17640" cy="352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Freeform 2453"/>
              <p:cNvSpPr/>
              <p:nvPr/>
            </p:nvSpPr>
            <p:spPr>
              <a:xfrm rot="19569600">
                <a:off x="4208760" y="2865240"/>
                <a:ext cx="6120" cy="34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Freeform 2454"/>
              <p:cNvSpPr/>
              <p:nvPr/>
            </p:nvSpPr>
            <p:spPr>
              <a:xfrm rot="19569600">
                <a:off x="4213080" y="286416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Freeform 2455"/>
              <p:cNvSpPr/>
              <p:nvPr/>
            </p:nvSpPr>
            <p:spPr>
              <a:xfrm rot="19569600">
                <a:off x="4210560" y="286416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Freeform 2456"/>
              <p:cNvSpPr/>
              <p:nvPr/>
            </p:nvSpPr>
            <p:spPr>
              <a:xfrm rot="19569600">
                <a:off x="4207680" y="286668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Freeform 2457"/>
              <p:cNvSpPr/>
              <p:nvPr/>
            </p:nvSpPr>
            <p:spPr>
              <a:xfrm rot="19569600">
                <a:off x="4213080" y="286704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Freeform 2458"/>
              <p:cNvSpPr/>
              <p:nvPr/>
            </p:nvSpPr>
            <p:spPr>
              <a:xfrm rot="19569600">
                <a:off x="4214160" y="286920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Freeform 2459"/>
              <p:cNvSpPr/>
              <p:nvPr/>
            </p:nvSpPr>
            <p:spPr>
              <a:xfrm rot="19569600">
                <a:off x="4215240" y="286992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Freeform 2460"/>
              <p:cNvSpPr/>
              <p:nvPr/>
            </p:nvSpPr>
            <p:spPr>
              <a:xfrm rot="19569600">
                <a:off x="4216680" y="287172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Freeform 2461"/>
              <p:cNvSpPr/>
              <p:nvPr/>
            </p:nvSpPr>
            <p:spPr>
              <a:xfrm rot="19569600">
                <a:off x="4216680" y="287388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Freeform 2462"/>
              <p:cNvSpPr/>
              <p:nvPr/>
            </p:nvSpPr>
            <p:spPr>
              <a:xfrm rot="19569600">
                <a:off x="4220280" y="287424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Freeform 2463"/>
              <p:cNvSpPr/>
              <p:nvPr/>
            </p:nvSpPr>
            <p:spPr>
              <a:xfrm rot="19569600">
                <a:off x="4215600" y="287964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Freeform 2464"/>
              <p:cNvSpPr/>
              <p:nvPr/>
            </p:nvSpPr>
            <p:spPr>
              <a:xfrm rot="19569600">
                <a:off x="4218480" y="288108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Freeform 2465"/>
              <p:cNvSpPr/>
              <p:nvPr/>
            </p:nvSpPr>
            <p:spPr>
              <a:xfrm rot="19569600">
                <a:off x="4220640" y="288180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6" name="Group 2466"/>
            <p:cNvGrpSpPr/>
            <p:nvPr/>
          </p:nvGrpSpPr>
          <p:grpSpPr>
            <a:xfrm>
              <a:off x="4246200" y="2864160"/>
              <a:ext cx="98640" cy="117720"/>
              <a:chOff x="4246200" y="2864160"/>
              <a:chExt cx="98640" cy="117720"/>
            </a:xfrm>
          </p:grpSpPr>
          <p:sp>
            <p:nvSpPr>
              <p:cNvPr id="2587" name="Freeform 2467"/>
              <p:cNvSpPr/>
              <p:nvPr/>
            </p:nvSpPr>
            <p:spPr>
              <a:xfrm rot="20325600">
                <a:off x="4260600" y="2902320"/>
                <a:ext cx="54360" cy="720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Freeform 2468"/>
              <p:cNvSpPr/>
              <p:nvPr/>
            </p:nvSpPr>
            <p:spPr>
              <a:xfrm rot="20325600">
                <a:off x="4279680" y="288828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Freeform 2469"/>
              <p:cNvSpPr/>
              <p:nvPr/>
            </p:nvSpPr>
            <p:spPr>
              <a:xfrm rot="20325600">
                <a:off x="4271040" y="286776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Freeform 2470"/>
              <p:cNvSpPr/>
              <p:nvPr/>
            </p:nvSpPr>
            <p:spPr>
              <a:xfrm rot="20325600">
                <a:off x="4266720" y="288900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Freeform 2471"/>
              <p:cNvSpPr/>
              <p:nvPr/>
            </p:nvSpPr>
            <p:spPr>
              <a:xfrm rot="20325600">
                <a:off x="4278240" y="289044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Freeform 2472"/>
              <p:cNvSpPr/>
              <p:nvPr/>
            </p:nvSpPr>
            <p:spPr>
              <a:xfrm rot="20325600">
                <a:off x="4258080" y="288576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Freeform 2473"/>
              <p:cNvSpPr/>
              <p:nvPr/>
            </p:nvSpPr>
            <p:spPr>
              <a:xfrm rot="20325600">
                <a:off x="4272120" y="289368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Freeform 2474"/>
              <p:cNvSpPr/>
              <p:nvPr/>
            </p:nvSpPr>
            <p:spPr>
              <a:xfrm rot="20325600">
                <a:off x="4251960" y="2883240"/>
                <a:ext cx="50040" cy="212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Freeform 2475"/>
              <p:cNvSpPr/>
              <p:nvPr/>
            </p:nvSpPr>
            <p:spPr>
              <a:xfrm rot="20325600">
                <a:off x="4264920" y="2869200"/>
                <a:ext cx="33120" cy="34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2476"/>
              <p:cNvSpPr/>
              <p:nvPr/>
            </p:nvSpPr>
            <p:spPr>
              <a:xfrm rot="20325600">
                <a:off x="4259520" y="287064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2477"/>
              <p:cNvSpPr/>
              <p:nvPr/>
            </p:nvSpPr>
            <p:spPr>
              <a:xfrm rot="20325600">
                <a:off x="4254840" y="2871360"/>
                <a:ext cx="47520" cy="35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2478"/>
              <p:cNvSpPr/>
              <p:nvPr/>
            </p:nvSpPr>
            <p:spPr>
              <a:xfrm rot="20325600">
                <a:off x="4251240" y="287388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479"/>
              <p:cNvSpPr/>
              <p:nvPr/>
            </p:nvSpPr>
            <p:spPr>
              <a:xfrm rot="20325600">
                <a:off x="4249800" y="287568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480"/>
              <p:cNvSpPr/>
              <p:nvPr/>
            </p:nvSpPr>
            <p:spPr>
              <a:xfrm rot="20325600">
                <a:off x="4249440" y="2878200"/>
                <a:ext cx="51120" cy="273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2481"/>
              <p:cNvSpPr/>
              <p:nvPr/>
            </p:nvSpPr>
            <p:spPr>
              <a:xfrm rot="20325600">
                <a:off x="4250520" y="288000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2482"/>
              <p:cNvSpPr/>
              <p:nvPr/>
            </p:nvSpPr>
            <p:spPr>
              <a:xfrm rot="20325600">
                <a:off x="4278600" y="2867040"/>
                <a:ext cx="17640" cy="352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483"/>
              <p:cNvSpPr/>
              <p:nvPr/>
            </p:nvSpPr>
            <p:spPr>
              <a:xfrm rot="20325600">
                <a:off x="4288320" y="2866320"/>
                <a:ext cx="6120" cy="34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2484"/>
              <p:cNvSpPr/>
              <p:nvPr/>
            </p:nvSpPr>
            <p:spPr>
              <a:xfrm rot="20325600">
                <a:off x="4293000" y="286668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485"/>
              <p:cNvSpPr/>
              <p:nvPr/>
            </p:nvSpPr>
            <p:spPr>
              <a:xfrm rot="20325600">
                <a:off x="4290480" y="286740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2486"/>
              <p:cNvSpPr/>
              <p:nvPr/>
            </p:nvSpPr>
            <p:spPr>
              <a:xfrm rot="20325600">
                <a:off x="4288320" y="287064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487"/>
              <p:cNvSpPr/>
              <p:nvPr/>
            </p:nvSpPr>
            <p:spPr>
              <a:xfrm rot="20325600">
                <a:off x="4293720" y="287244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488"/>
              <p:cNvSpPr/>
              <p:nvPr/>
            </p:nvSpPr>
            <p:spPr>
              <a:xfrm rot="20325600">
                <a:off x="4294440" y="287532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2489"/>
              <p:cNvSpPr/>
              <p:nvPr/>
            </p:nvSpPr>
            <p:spPr>
              <a:xfrm rot="20325600">
                <a:off x="4295880" y="287676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2490"/>
              <p:cNvSpPr/>
              <p:nvPr/>
            </p:nvSpPr>
            <p:spPr>
              <a:xfrm rot="20325600">
                <a:off x="4297320" y="287928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2491"/>
              <p:cNvSpPr/>
              <p:nvPr/>
            </p:nvSpPr>
            <p:spPr>
              <a:xfrm rot="20325600">
                <a:off x="4296240" y="288108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2492"/>
              <p:cNvSpPr/>
              <p:nvPr/>
            </p:nvSpPr>
            <p:spPr>
              <a:xfrm rot="20325600">
                <a:off x="4300560" y="288252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2493"/>
              <p:cNvSpPr/>
              <p:nvPr/>
            </p:nvSpPr>
            <p:spPr>
              <a:xfrm rot="20325600">
                <a:off x="4295160" y="288720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2494"/>
              <p:cNvSpPr/>
              <p:nvPr/>
            </p:nvSpPr>
            <p:spPr>
              <a:xfrm rot="20325600">
                <a:off x="4297320" y="288864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2495"/>
              <p:cNvSpPr/>
              <p:nvPr/>
            </p:nvSpPr>
            <p:spPr>
              <a:xfrm rot="20325600">
                <a:off x="4299480" y="288900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6" name="Group 2496"/>
            <p:cNvGrpSpPr/>
            <p:nvPr/>
          </p:nvGrpSpPr>
          <p:grpSpPr>
            <a:xfrm>
              <a:off x="4305600" y="2910240"/>
              <a:ext cx="121680" cy="111240"/>
              <a:chOff x="4305600" y="2910240"/>
              <a:chExt cx="121680" cy="111240"/>
            </a:xfrm>
          </p:grpSpPr>
          <p:sp>
            <p:nvSpPr>
              <p:cNvPr id="2617" name="Freeform 2497"/>
              <p:cNvSpPr/>
              <p:nvPr/>
            </p:nvSpPr>
            <p:spPr>
              <a:xfrm rot="1246800">
                <a:off x="4316400" y="2941920"/>
                <a:ext cx="54360" cy="720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2498"/>
              <p:cNvSpPr/>
              <p:nvPr/>
            </p:nvSpPr>
            <p:spPr>
              <a:xfrm rot="1246800">
                <a:off x="4361760" y="295704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2499"/>
              <p:cNvSpPr/>
              <p:nvPr/>
            </p:nvSpPr>
            <p:spPr>
              <a:xfrm rot="1246800">
                <a:off x="4362840" y="291888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2500"/>
              <p:cNvSpPr/>
              <p:nvPr/>
            </p:nvSpPr>
            <p:spPr>
              <a:xfrm rot="1246800">
                <a:off x="4350600" y="294048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2501"/>
              <p:cNvSpPr/>
              <p:nvPr/>
            </p:nvSpPr>
            <p:spPr>
              <a:xfrm rot="1246800">
                <a:off x="4359240" y="295308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Freeform 2502"/>
              <p:cNvSpPr/>
              <p:nvPr/>
            </p:nvSpPr>
            <p:spPr>
              <a:xfrm rot="1246800">
                <a:off x="4344120" y="293328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Freeform 2503"/>
              <p:cNvSpPr/>
              <p:nvPr/>
            </p:nvSpPr>
            <p:spPr>
              <a:xfrm rot="1246800">
                <a:off x="4355640" y="294336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Freeform 2504"/>
              <p:cNvSpPr/>
              <p:nvPr/>
            </p:nvSpPr>
            <p:spPr>
              <a:xfrm rot="1246800">
                <a:off x="4340520" y="2926800"/>
                <a:ext cx="50040" cy="212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Freeform 2505"/>
              <p:cNvSpPr/>
              <p:nvPr/>
            </p:nvSpPr>
            <p:spPr>
              <a:xfrm rot="1246800">
                <a:off x="4356720" y="2917440"/>
                <a:ext cx="33120" cy="34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Freeform 2506"/>
              <p:cNvSpPr/>
              <p:nvPr/>
            </p:nvSpPr>
            <p:spPr>
              <a:xfrm rot="1246800">
                <a:off x="4351680" y="291672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Freeform 2507"/>
              <p:cNvSpPr/>
              <p:nvPr/>
            </p:nvSpPr>
            <p:spPr>
              <a:xfrm rot="1246800">
                <a:off x="4345920" y="2917440"/>
                <a:ext cx="47520" cy="35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Freeform 2508"/>
              <p:cNvSpPr/>
              <p:nvPr/>
            </p:nvSpPr>
            <p:spPr>
              <a:xfrm rot="1246800">
                <a:off x="4342680" y="291780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Freeform 2509"/>
              <p:cNvSpPr/>
              <p:nvPr/>
            </p:nvSpPr>
            <p:spPr>
              <a:xfrm rot="1246800">
                <a:off x="4340520" y="291960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Freeform 2510"/>
              <p:cNvSpPr/>
              <p:nvPr/>
            </p:nvSpPr>
            <p:spPr>
              <a:xfrm rot="1246800">
                <a:off x="4339800" y="2921040"/>
                <a:ext cx="51120" cy="273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Freeform 2511"/>
              <p:cNvSpPr/>
              <p:nvPr/>
            </p:nvSpPr>
            <p:spPr>
              <a:xfrm rot="1246800">
                <a:off x="4339080" y="292428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Freeform 2512"/>
              <p:cNvSpPr/>
              <p:nvPr/>
            </p:nvSpPr>
            <p:spPr>
              <a:xfrm rot="1246800">
                <a:off x="4370400" y="2919960"/>
                <a:ext cx="17640" cy="352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Freeform 2513"/>
              <p:cNvSpPr/>
              <p:nvPr/>
            </p:nvSpPr>
            <p:spPr>
              <a:xfrm rot="1246800">
                <a:off x="4380120" y="2922120"/>
                <a:ext cx="6120" cy="34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Freeform 2514"/>
              <p:cNvSpPr/>
              <p:nvPr/>
            </p:nvSpPr>
            <p:spPr>
              <a:xfrm rot="1246800">
                <a:off x="4384080" y="292608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Freeform 2515"/>
              <p:cNvSpPr/>
              <p:nvPr/>
            </p:nvSpPr>
            <p:spPr>
              <a:xfrm rot="1246800">
                <a:off x="4380840" y="293040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Freeform 2516"/>
              <p:cNvSpPr/>
              <p:nvPr/>
            </p:nvSpPr>
            <p:spPr>
              <a:xfrm rot="1246800">
                <a:off x="4377240" y="293616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Freeform 2517"/>
              <p:cNvSpPr/>
              <p:nvPr/>
            </p:nvSpPr>
            <p:spPr>
              <a:xfrm rot="1246800">
                <a:off x="4381200" y="294192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Freeform 2518"/>
              <p:cNvSpPr/>
              <p:nvPr/>
            </p:nvSpPr>
            <p:spPr>
              <a:xfrm rot="1246800">
                <a:off x="4380840" y="294696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Freeform 2519"/>
              <p:cNvSpPr/>
              <p:nvPr/>
            </p:nvSpPr>
            <p:spPr>
              <a:xfrm rot="1246800">
                <a:off x="4381200" y="295020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2520"/>
              <p:cNvSpPr/>
              <p:nvPr/>
            </p:nvSpPr>
            <p:spPr>
              <a:xfrm rot="1246800">
                <a:off x="4381560" y="295344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2521"/>
              <p:cNvSpPr/>
              <p:nvPr/>
            </p:nvSpPr>
            <p:spPr>
              <a:xfrm rot="1246800">
                <a:off x="4380120" y="295596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Freeform 2522"/>
              <p:cNvSpPr/>
              <p:nvPr/>
            </p:nvSpPr>
            <p:spPr>
              <a:xfrm rot="1246800">
                <a:off x="4383720" y="295920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Freeform 2523"/>
              <p:cNvSpPr/>
              <p:nvPr/>
            </p:nvSpPr>
            <p:spPr>
              <a:xfrm rot="1246800">
                <a:off x="4376880" y="296136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Freeform 2524"/>
              <p:cNvSpPr/>
              <p:nvPr/>
            </p:nvSpPr>
            <p:spPr>
              <a:xfrm rot="1246800">
                <a:off x="4377960" y="296172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Freeform 2525"/>
              <p:cNvSpPr/>
              <p:nvPr/>
            </p:nvSpPr>
            <p:spPr>
              <a:xfrm rot="1246800">
                <a:off x="4379760" y="296136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6" name="Group 2526"/>
            <p:cNvGrpSpPr/>
            <p:nvPr/>
          </p:nvGrpSpPr>
          <p:grpSpPr>
            <a:xfrm>
              <a:off x="4342680" y="2963520"/>
              <a:ext cx="127080" cy="104760"/>
              <a:chOff x="4342680" y="2963520"/>
              <a:chExt cx="127080" cy="104760"/>
            </a:xfrm>
          </p:grpSpPr>
          <p:sp>
            <p:nvSpPr>
              <p:cNvPr id="2647" name="Freeform 2527"/>
              <p:cNvSpPr/>
              <p:nvPr/>
            </p:nvSpPr>
            <p:spPr>
              <a:xfrm rot="2614800">
                <a:off x="4359960" y="2987280"/>
                <a:ext cx="54360" cy="720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Freeform 2528"/>
              <p:cNvSpPr/>
              <p:nvPr/>
            </p:nvSpPr>
            <p:spPr>
              <a:xfrm rot="2614800">
                <a:off x="4409280" y="302400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Freeform 2529"/>
              <p:cNvSpPr/>
              <p:nvPr/>
            </p:nvSpPr>
            <p:spPr>
              <a:xfrm rot="2614800">
                <a:off x="4419720" y="298044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Freeform 2530"/>
              <p:cNvSpPr/>
              <p:nvPr/>
            </p:nvSpPr>
            <p:spPr>
              <a:xfrm rot="2614800">
                <a:off x="4403160" y="300024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Freeform 2531"/>
              <p:cNvSpPr/>
              <p:nvPr/>
            </p:nvSpPr>
            <p:spPr>
              <a:xfrm rot="2614800">
                <a:off x="4407480" y="301716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Freeform 2532"/>
              <p:cNvSpPr/>
              <p:nvPr/>
            </p:nvSpPr>
            <p:spPr>
              <a:xfrm rot="2614800">
                <a:off x="4398840" y="299160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Freeform 2533"/>
              <p:cNvSpPr/>
              <p:nvPr/>
            </p:nvSpPr>
            <p:spPr>
              <a:xfrm rot="2614800">
                <a:off x="4409280" y="300168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Freeform 2534"/>
              <p:cNvSpPr/>
              <p:nvPr/>
            </p:nvSpPr>
            <p:spPr>
              <a:xfrm rot="2614800">
                <a:off x="4397760" y="2984040"/>
                <a:ext cx="50040" cy="212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Freeform 2535"/>
              <p:cNvSpPr/>
              <p:nvPr/>
            </p:nvSpPr>
            <p:spPr>
              <a:xfrm rot="2614800">
                <a:off x="4415040" y="2978280"/>
                <a:ext cx="33120" cy="34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Freeform 2536"/>
              <p:cNvSpPr/>
              <p:nvPr/>
            </p:nvSpPr>
            <p:spPr>
              <a:xfrm rot="2614800">
                <a:off x="4410000" y="297648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Freeform 2537"/>
              <p:cNvSpPr/>
              <p:nvPr/>
            </p:nvSpPr>
            <p:spPr>
              <a:xfrm rot="2614800">
                <a:off x="4404240" y="2976120"/>
                <a:ext cx="47520" cy="35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Freeform 2538"/>
              <p:cNvSpPr/>
              <p:nvPr/>
            </p:nvSpPr>
            <p:spPr>
              <a:xfrm rot="2614800">
                <a:off x="4401360" y="297576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Freeform 2539"/>
              <p:cNvSpPr/>
              <p:nvPr/>
            </p:nvSpPr>
            <p:spPr>
              <a:xfrm rot="2614800">
                <a:off x="4398840" y="297720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Freeform 2540"/>
              <p:cNvSpPr/>
              <p:nvPr/>
            </p:nvSpPr>
            <p:spPr>
              <a:xfrm rot="2614800">
                <a:off x="4398480" y="2978640"/>
                <a:ext cx="51120" cy="273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Freeform 2541"/>
              <p:cNvSpPr/>
              <p:nvPr/>
            </p:nvSpPr>
            <p:spPr>
              <a:xfrm rot="2614800">
                <a:off x="4395960" y="298152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Freeform 2542"/>
              <p:cNvSpPr/>
              <p:nvPr/>
            </p:nvSpPr>
            <p:spPr>
              <a:xfrm rot="2614800">
                <a:off x="4426560" y="2982600"/>
                <a:ext cx="17640" cy="352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Freeform 2543"/>
              <p:cNvSpPr/>
              <p:nvPr/>
            </p:nvSpPr>
            <p:spPr>
              <a:xfrm rot="2614800">
                <a:off x="4435200" y="2986200"/>
                <a:ext cx="6120" cy="34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Freeform 2544"/>
              <p:cNvSpPr/>
              <p:nvPr/>
            </p:nvSpPr>
            <p:spPr>
              <a:xfrm rot="2614800">
                <a:off x="4438080" y="299160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Freeform 2545"/>
              <p:cNvSpPr/>
              <p:nvPr/>
            </p:nvSpPr>
            <p:spPr>
              <a:xfrm rot="2614800">
                <a:off x="4433400" y="299700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Freeform 2546"/>
              <p:cNvSpPr/>
              <p:nvPr/>
            </p:nvSpPr>
            <p:spPr>
              <a:xfrm rot="2614800">
                <a:off x="4428720" y="300348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Freeform 2547"/>
              <p:cNvSpPr/>
              <p:nvPr/>
            </p:nvSpPr>
            <p:spPr>
              <a:xfrm rot="2614800">
                <a:off x="4430880" y="301104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Freeform 2548"/>
              <p:cNvSpPr/>
              <p:nvPr/>
            </p:nvSpPr>
            <p:spPr>
              <a:xfrm rot="2614800">
                <a:off x="4429080" y="301644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Freeform 2549"/>
              <p:cNvSpPr/>
              <p:nvPr/>
            </p:nvSpPr>
            <p:spPr>
              <a:xfrm rot="2614800">
                <a:off x="4428360" y="302040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2550"/>
              <p:cNvSpPr/>
              <p:nvPr/>
            </p:nvSpPr>
            <p:spPr>
              <a:xfrm rot="2614800">
                <a:off x="4428360" y="302400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2551"/>
              <p:cNvSpPr/>
              <p:nvPr/>
            </p:nvSpPr>
            <p:spPr>
              <a:xfrm rot="2614800">
                <a:off x="4426200" y="302652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2552"/>
              <p:cNvSpPr/>
              <p:nvPr/>
            </p:nvSpPr>
            <p:spPr>
              <a:xfrm rot="2614800">
                <a:off x="4429080" y="303012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Freeform 2553"/>
              <p:cNvSpPr/>
              <p:nvPr/>
            </p:nvSpPr>
            <p:spPr>
              <a:xfrm rot="2614800">
                <a:off x="4422240" y="303048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2554"/>
              <p:cNvSpPr/>
              <p:nvPr/>
            </p:nvSpPr>
            <p:spPr>
              <a:xfrm rot="2614800">
                <a:off x="4423320" y="303084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2555"/>
              <p:cNvSpPr/>
              <p:nvPr/>
            </p:nvSpPr>
            <p:spPr>
              <a:xfrm rot="2614800">
                <a:off x="4425120" y="302940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6" name="Group 2556"/>
            <p:cNvGrpSpPr/>
            <p:nvPr/>
          </p:nvGrpSpPr>
          <p:grpSpPr>
            <a:xfrm>
              <a:off x="4361040" y="3059280"/>
              <a:ext cx="118800" cy="98280"/>
              <a:chOff x="4361040" y="3059280"/>
              <a:chExt cx="118800" cy="98280"/>
            </a:xfrm>
          </p:grpSpPr>
          <p:sp>
            <p:nvSpPr>
              <p:cNvPr id="2677" name="Freeform 2557"/>
              <p:cNvSpPr/>
              <p:nvPr/>
            </p:nvSpPr>
            <p:spPr>
              <a:xfrm rot="4042800">
                <a:off x="4377600" y="3066120"/>
                <a:ext cx="54360" cy="72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2558"/>
              <p:cNvSpPr/>
              <p:nvPr/>
            </p:nvSpPr>
            <p:spPr>
              <a:xfrm rot="4042800">
                <a:off x="4421520" y="312516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2559"/>
              <p:cNvSpPr/>
              <p:nvPr/>
            </p:nvSpPr>
            <p:spPr>
              <a:xfrm rot="4042800">
                <a:off x="4444200" y="308016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2560"/>
              <p:cNvSpPr/>
              <p:nvPr/>
            </p:nvSpPr>
            <p:spPr>
              <a:xfrm rot="4042800">
                <a:off x="4424400" y="309636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2561"/>
              <p:cNvSpPr/>
              <p:nvPr/>
            </p:nvSpPr>
            <p:spPr>
              <a:xfrm rot="4042800">
                <a:off x="4422600" y="311580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2562"/>
              <p:cNvSpPr/>
              <p:nvPr/>
            </p:nvSpPr>
            <p:spPr>
              <a:xfrm rot="4042800">
                <a:off x="4422600" y="308700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2563"/>
              <p:cNvSpPr/>
              <p:nvPr/>
            </p:nvSpPr>
            <p:spPr>
              <a:xfrm rot="4042800">
                <a:off x="4431600" y="309708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2564"/>
              <p:cNvSpPr/>
              <p:nvPr/>
            </p:nvSpPr>
            <p:spPr>
              <a:xfrm rot="4042800">
                <a:off x="4424040" y="3079440"/>
                <a:ext cx="50040" cy="2160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2565"/>
              <p:cNvSpPr/>
              <p:nvPr/>
            </p:nvSpPr>
            <p:spPr>
              <a:xfrm rot="4042800">
                <a:off x="4440240" y="307692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Freeform 2566"/>
              <p:cNvSpPr/>
              <p:nvPr/>
            </p:nvSpPr>
            <p:spPr>
              <a:xfrm rot="4042800">
                <a:off x="4437000" y="307512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2567"/>
              <p:cNvSpPr/>
              <p:nvPr/>
            </p:nvSpPr>
            <p:spPr>
              <a:xfrm rot="4042800">
                <a:off x="4430160" y="3074040"/>
                <a:ext cx="47520" cy="356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2568"/>
              <p:cNvSpPr/>
              <p:nvPr/>
            </p:nvSpPr>
            <p:spPr>
              <a:xfrm rot="4042800">
                <a:off x="4429080" y="307260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2569"/>
              <p:cNvSpPr/>
              <p:nvPr/>
            </p:nvSpPr>
            <p:spPr>
              <a:xfrm rot="4042800">
                <a:off x="4425840" y="307404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2570"/>
              <p:cNvSpPr/>
              <p:nvPr/>
            </p:nvSpPr>
            <p:spPr>
              <a:xfrm rot="4042800">
                <a:off x="4425480" y="3074760"/>
                <a:ext cx="51120" cy="2772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2571"/>
              <p:cNvSpPr/>
              <p:nvPr/>
            </p:nvSpPr>
            <p:spPr>
              <a:xfrm rot="4042800">
                <a:off x="4422240" y="307728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2572"/>
              <p:cNvSpPr/>
              <p:nvPr/>
            </p:nvSpPr>
            <p:spPr>
              <a:xfrm rot="4042800">
                <a:off x="4449960" y="3082680"/>
                <a:ext cx="17640" cy="35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2573"/>
              <p:cNvSpPr/>
              <p:nvPr/>
            </p:nvSpPr>
            <p:spPr>
              <a:xfrm rot="4042800">
                <a:off x="4457160" y="3087360"/>
                <a:ext cx="6120" cy="345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2574"/>
              <p:cNvSpPr/>
              <p:nvPr/>
            </p:nvSpPr>
            <p:spPr>
              <a:xfrm rot="4042800">
                <a:off x="4457520" y="309420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2575"/>
              <p:cNvSpPr/>
              <p:nvPr/>
            </p:nvSpPr>
            <p:spPr>
              <a:xfrm rot="4042800">
                <a:off x="4451400" y="309996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Freeform 2576"/>
              <p:cNvSpPr/>
              <p:nvPr/>
            </p:nvSpPr>
            <p:spPr>
              <a:xfrm rot="4042800">
                <a:off x="4444560" y="310680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2577"/>
              <p:cNvSpPr/>
              <p:nvPr/>
            </p:nvSpPr>
            <p:spPr>
              <a:xfrm rot="4042800">
                <a:off x="4444560" y="311472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2578"/>
              <p:cNvSpPr/>
              <p:nvPr/>
            </p:nvSpPr>
            <p:spPr>
              <a:xfrm rot="4042800">
                <a:off x="4441680" y="312012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2579"/>
              <p:cNvSpPr/>
              <p:nvPr/>
            </p:nvSpPr>
            <p:spPr>
              <a:xfrm rot="4042800">
                <a:off x="4439880" y="312408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2580"/>
              <p:cNvSpPr/>
              <p:nvPr/>
            </p:nvSpPr>
            <p:spPr>
              <a:xfrm rot="4042800">
                <a:off x="4439160" y="312768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2581"/>
              <p:cNvSpPr/>
              <p:nvPr/>
            </p:nvSpPr>
            <p:spPr>
              <a:xfrm rot="4042800">
                <a:off x="4436280" y="312984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2582"/>
              <p:cNvSpPr/>
              <p:nvPr/>
            </p:nvSpPr>
            <p:spPr>
              <a:xfrm rot="4042800">
                <a:off x="4438080" y="313380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2583"/>
              <p:cNvSpPr/>
              <p:nvPr/>
            </p:nvSpPr>
            <p:spPr>
              <a:xfrm rot="4042800">
                <a:off x="4431960" y="313272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2584"/>
              <p:cNvSpPr/>
              <p:nvPr/>
            </p:nvSpPr>
            <p:spPr>
              <a:xfrm rot="4042800">
                <a:off x="4433040" y="313236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2585"/>
              <p:cNvSpPr/>
              <p:nvPr/>
            </p:nvSpPr>
            <p:spPr>
              <a:xfrm rot="4042800">
                <a:off x="4435560" y="313056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6" name="Group 2586"/>
            <p:cNvGrpSpPr/>
            <p:nvPr/>
          </p:nvGrpSpPr>
          <p:grpSpPr>
            <a:xfrm>
              <a:off x="4304880" y="3165120"/>
              <a:ext cx="110520" cy="126360"/>
              <a:chOff x="4304880" y="3165120"/>
              <a:chExt cx="110520" cy="126360"/>
            </a:xfrm>
          </p:grpSpPr>
          <p:sp>
            <p:nvSpPr>
              <p:cNvPr id="2707" name="Freeform 2587"/>
              <p:cNvSpPr/>
              <p:nvPr/>
            </p:nvSpPr>
            <p:spPr>
              <a:xfrm rot="7376400">
                <a:off x="4322880" y="3171240"/>
                <a:ext cx="54360" cy="72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2588"/>
              <p:cNvSpPr/>
              <p:nvPr/>
            </p:nvSpPr>
            <p:spPr>
              <a:xfrm rot="7376400">
                <a:off x="4325040" y="326088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2589"/>
              <p:cNvSpPr/>
              <p:nvPr/>
            </p:nvSpPr>
            <p:spPr>
              <a:xfrm rot="7376400">
                <a:off x="4369320" y="322992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Freeform 2590"/>
              <p:cNvSpPr/>
              <p:nvPr/>
            </p:nvSpPr>
            <p:spPr>
              <a:xfrm rot="7376400">
                <a:off x="4349880" y="323640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Freeform 2591"/>
              <p:cNvSpPr/>
              <p:nvPr/>
            </p:nvSpPr>
            <p:spPr>
              <a:xfrm rot="7376400">
                <a:off x="4334400" y="325044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Freeform 2592"/>
              <p:cNvSpPr/>
              <p:nvPr/>
            </p:nvSpPr>
            <p:spPr>
              <a:xfrm rot="7376400">
                <a:off x="4353480" y="323028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2593"/>
              <p:cNvSpPr/>
              <p:nvPr/>
            </p:nvSpPr>
            <p:spPr>
              <a:xfrm rot="7376400">
                <a:off x="4359960" y="323676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2594"/>
              <p:cNvSpPr/>
              <p:nvPr/>
            </p:nvSpPr>
            <p:spPr>
              <a:xfrm rot="7376400">
                <a:off x="4359600" y="3226320"/>
                <a:ext cx="50040" cy="2160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2595"/>
              <p:cNvSpPr/>
              <p:nvPr/>
            </p:nvSpPr>
            <p:spPr>
              <a:xfrm rot="7376400">
                <a:off x="4369320" y="322812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2596"/>
              <p:cNvSpPr/>
              <p:nvPr/>
            </p:nvSpPr>
            <p:spPr>
              <a:xfrm rot="7376400">
                <a:off x="4368240" y="322632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2597"/>
              <p:cNvSpPr/>
              <p:nvPr/>
            </p:nvSpPr>
            <p:spPr>
              <a:xfrm rot="7376400">
                <a:off x="4362840" y="3223800"/>
                <a:ext cx="47520" cy="356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2598"/>
              <p:cNvSpPr/>
              <p:nvPr/>
            </p:nvSpPr>
            <p:spPr>
              <a:xfrm rot="7376400">
                <a:off x="4364280" y="322344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Freeform 2599"/>
              <p:cNvSpPr/>
              <p:nvPr/>
            </p:nvSpPr>
            <p:spPr>
              <a:xfrm rot="7376400">
                <a:off x="4361040" y="322380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Freeform 2600"/>
              <p:cNvSpPr/>
              <p:nvPr/>
            </p:nvSpPr>
            <p:spPr>
              <a:xfrm rot="7376400">
                <a:off x="4362120" y="3224160"/>
                <a:ext cx="51120" cy="2772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Freeform 2601"/>
              <p:cNvSpPr/>
              <p:nvPr/>
            </p:nvSpPr>
            <p:spPr>
              <a:xfrm rot="7376400">
                <a:off x="4357080" y="322344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Freeform 2602"/>
              <p:cNvSpPr/>
              <p:nvPr/>
            </p:nvSpPr>
            <p:spPr>
              <a:xfrm rot="7376400">
                <a:off x="4372920" y="3232800"/>
                <a:ext cx="17640" cy="35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Freeform 2603"/>
              <p:cNvSpPr/>
              <p:nvPr/>
            </p:nvSpPr>
            <p:spPr>
              <a:xfrm rot="7376400">
                <a:off x="4376160" y="3237120"/>
                <a:ext cx="6120" cy="345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Freeform 2604"/>
              <p:cNvSpPr/>
              <p:nvPr/>
            </p:nvSpPr>
            <p:spPr>
              <a:xfrm rot="7376400">
                <a:off x="4371840" y="324216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Freeform 2605"/>
              <p:cNvSpPr/>
              <p:nvPr/>
            </p:nvSpPr>
            <p:spPr>
              <a:xfrm rot="7376400">
                <a:off x="4361400" y="324684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Freeform 2606"/>
              <p:cNvSpPr/>
              <p:nvPr/>
            </p:nvSpPr>
            <p:spPr>
              <a:xfrm rot="7376400">
                <a:off x="4352040" y="325116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2607"/>
              <p:cNvSpPr/>
              <p:nvPr/>
            </p:nvSpPr>
            <p:spPr>
              <a:xfrm rot="7376400">
                <a:off x="4346640" y="325764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608"/>
              <p:cNvSpPr/>
              <p:nvPr/>
            </p:nvSpPr>
            <p:spPr>
              <a:xfrm rot="7376400">
                <a:off x="4341600" y="326052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Freeform 2609"/>
              <p:cNvSpPr/>
              <p:nvPr/>
            </p:nvSpPr>
            <p:spPr>
              <a:xfrm rot="7376400">
                <a:off x="4337280" y="326340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Freeform 2610"/>
              <p:cNvSpPr/>
              <p:nvPr/>
            </p:nvSpPr>
            <p:spPr>
              <a:xfrm rot="7376400">
                <a:off x="4335120" y="326592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611"/>
              <p:cNvSpPr/>
              <p:nvPr/>
            </p:nvSpPr>
            <p:spPr>
              <a:xfrm rot="7376400">
                <a:off x="4332600" y="326664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612"/>
              <p:cNvSpPr/>
              <p:nvPr/>
            </p:nvSpPr>
            <p:spPr>
              <a:xfrm rot="7376400">
                <a:off x="4331520" y="326988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Freeform 2613"/>
              <p:cNvSpPr/>
              <p:nvPr/>
            </p:nvSpPr>
            <p:spPr>
              <a:xfrm rot="7376400">
                <a:off x="4329000" y="326700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Freeform 2614"/>
              <p:cNvSpPr/>
              <p:nvPr/>
            </p:nvSpPr>
            <p:spPr>
              <a:xfrm rot="7376400">
                <a:off x="4331160" y="326592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615"/>
              <p:cNvSpPr/>
              <p:nvPr/>
            </p:nvSpPr>
            <p:spPr>
              <a:xfrm rot="7376400">
                <a:off x="4334760" y="326376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6" name="Group 2616"/>
            <p:cNvGrpSpPr/>
            <p:nvPr/>
          </p:nvGrpSpPr>
          <p:grpSpPr>
            <a:xfrm>
              <a:off x="4349880" y="3123000"/>
              <a:ext cx="109080" cy="112320"/>
              <a:chOff x="4349880" y="3123000"/>
              <a:chExt cx="109080" cy="112320"/>
            </a:xfrm>
          </p:grpSpPr>
          <p:sp>
            <p:nvSpPr>
              <p:cNvPr id="2737" name="Freeform 2617"/>
              <p:cNvSpPr/>
              <p:nvPr/>
            </p:nvSpPr>
            <p:spPr>
              <a:xfrm rot="5929200">
                <a:off x="4362480" y="3119040"/>
                <a:ext cx="54360" cy="72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31" h="543">
                    <a:moveTo>
                      <a:pt x="0" y="525"/>
                    </a:moveTo>
                    <a:cubicBezTo>
                      <a:pt x="6" y="532"/>
                      <a:pt x="1" y="534"/>
                      <a:pt x="16" y="543"/>
                    </a:cubicBezTo>
                    <a:cubicBezTo>
                      <a:pt x="42" y="514"/>
                      <a:pt x="106" y="430"/>
                      <a:pt x="153" y="343"/>
                    </a:cubicBezTo>
                    <a:cubicBezTo>
                      <a:pt x="200" y="256"/>
                      <a:pt x="331" y="0"/>
                      <a:pt x="327" y="1"/>
                    </a:cubicBezTo>
                    <a:cubicBezTo>
                      <a:pt x="323" y="2"/>
                      <a:pt x="175" y="271"/>
                      <a:pt x="126" y="352"/>
                    </a:cubicBezTo>
                    <a:cubicBezTo>
                      <a:pt x="77" y="433"/>
                      <a:pt x="57" y="456"/>
                      <a:pt x="0" y="5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Freeform 2618"/>
              <p:cNvSpPr/>
              <p:nvPr/>
            </p:nvSpPr>
            <p:spPr>
              <a:xfrm rot="5929200">
                <a:off x="4386600" y="3200760"/>
                <a:ext cx="66600" cy="2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06" h="18">
                    <a:moveTo>
                      <a:pt x="0" y="8"/>
                    </a:moveTo>
                    <a:cubicBezTo>
                      <a:pt x="23" y="10"/>
                      <a:pt x="85" y="18"/>
                      <a:pt x="141" y="17"/>
                    </a:cubicBezTo>
                    <a:cubicBezTo>
                      <a:pt x="197" y="16"/>
                      <a:pt x="293" y="6"/>
                      <a:pt x="337" y="3"/>
                    </a:cubicBezTo>
                    <a:cubicBezTo>
                      <a:pt x="381" y="0"/>
                      <a:pt x="392" y="1"/>
                      <a:pt x="406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2619"/>
              <p:cNvSpPr/>
              <p:nvPr/>
            </p:nvSpPr>
            <p:spPr>
              <a:xfrm rot="5929200">
                <a:off x="4423320" y="3161160"/>
                <a:ext cx="27360" cy="36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7" h="274">
                    <a:moveTo>
                      <a:pt x="167" y="274"/>
                    </a:moveTo>
                    <a:cubicBezTo>
                      <a:pt x="147" y="241"/>
                      <a:pt x="127" y="209"/>
                      <a:pt x="102" y="170"/>
                    </a:cubicBezTo>
                    <a:cubicBezTo>
                      <a:pt x="77" y="131"/>
                      <a:pt x="35" y="70"/>
                      <a:pt x="18" y="42"/>
                    </a:cubicBezTo>
                    <a:cubicBezTo>
                      <a:pt x="1" y="14"/>
                      <a:pt x="4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2620"/>
              <p:cNvSpPr/>
              <p:nvPr/>
            </p:nvSpPr>
            <p:spPr>
              <a:xfrm rot="5929200">
                <a:off x="4402800" y="3171960"/>
                <a:ext cx="46800" cy="13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85" h="104">
                    <a:moveTo>
                      <a:pt x="0" y="0"/>
                    </a:moveTo>
                    <a:cubicBezTo>
                      <a:pt x="38" y="14"/>
                      <a:pt x="184" y="70"/>
                      <a:pt x="231" y="87"/>
                    </a:cubicBezTo>
                    <a:cubicBezTo>
                      <a:pt x="278" y="104"/>
                      <a:pt x="274" y="99"/>
                      <a:pt x="285" y="10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Freeform 2621"/>
              <p:cNvSpPr/>
              <p:nvPr/>
            </p:nvSpPr>
            <p:spPr>
              <a:xfrm rot="5929200">
                <a:off x="4392000" y="3189960"/>
                <a:ext cx="55440" cy="6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9" h="53">
                    <a:moveTo>
                      <a:pt x="0" y="0"/>
                    </a:moveTo>
                    <a:lnTo>
                      <a:pt x="243" y="45"/>
                    </a:lnTo>
                    <a:cubicBezTo>
                      <a:pt x="300" y="53"/>
                      <a:pt x="319" y="50"/>
                      <a:pt x="339" y="5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Freeform 2622"/>
              <p:cNvSpPr/>
              <p:nvPr/>
            </p:nvSpPr>
            <p:spPr>
              <a:xfrm rot="5929200">
                <a:off x="4404240" y="3163680"/>
                <a:ext cx="50760" cy="19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1" h="145">
                    <a:moveTo>
                      <a:pt x="311" y="145"/>
                    </a:moveTo>
                    <a:cubicBezTo>
                      <a:pt x="273" y="128"/>
                      <a:pt x="136" y="66"/>
                      <a:pt x="84" y="42"/>
                    </a:cubicBezTo>
                    <a:cubicBezTo>
                      <a:pt x="32" y="18"/>
                      <a:pt x="17" y="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2623"/>
              <p:cNvSpPr/>
              <p:nvPr/>
            </p:nvSpPr>
            <p:spPr>
              <a:xfrm rot="5929200">
                <a:off x="4411080" y="3171960"/>
                <a:ext cx="29880" cy="72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83" h="56">
                    <a:moveTo>
                      <a:pt x="0" y="0"/>
                    </a:moveTo>
                    <a:cubicBezTo>
                      <a:pt x="14" y="5"/>
                      <a:pt x="56" y="17"/>
                      <a:pt x="86" y="26"/>
                    </a:cubicBezTo>
                    <a:cubicBezTo>
                      <a:pt x="116" y="35"/>
                      <a:pt x="149" y="46"/>
                      <a:pt x="183" y="5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2624"/>
              <p:cNvSpPr/>
              <p:nvPr/>
            </p:nvSpPr>
            <p:spPr>
              <a:xfrm rot="5929200">
                <a:off x="4408920" y="3157560"/>
                <a:ext cx="50040" cy="2160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06" h="162">
                    <a:moveTo>
                      <a:pt x="0" y="0"/>
                    </a:moveTo>
                    <a:lnTo>
                      <a:pt x="147" y="86"/>
                    </a:lnTo>
                    <a:cubicBezTo>
                      <a:pt x="198" y="113"/>
                      <a:pt x="252" y="137"/>
                      <a:pt x="306" y="16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Freeform 2625"/>
              <p:cNvSpPr/>
              <p:nvPr/>
            </p:nvSpPr>
            <p:spPr>
              <a:xfrm rot="5929200">
                <a:off x="4421880" y="3158280"/>
                <a:ext cx="33120" cy="34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2" h="262">
                    <a:moveTo>
                      <a:pt x="202" y="262"/>
                    </a:moveTo>
                    <a:cubicBezTo>
                      <a:pt x="185" y="241"/>
                      <a:pt x="134" y="182"/>
                      <a:pt x="100" y="138"/>
                    </a:cubicBezTo>
                    <a:cubicBezTo>
                      <a:pt x="66" y="94"/>
                      <a:pt x="21" y="29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Freeform 2626"/>
              <p:cNvSpPr/>
              <p:nvPr/>
            </p:nvSpPr>
            <p:spPr>
              <a:xfrm rot="5929200">
                <a:off x="4419720" y="3156120"/>
                <a:ext cx="38160" cy="338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4" h="255">
                    <a:moveTo>
                      <a:pt x="234" y="255"/>
                    </a:moveTo>
                    <a:cubicBezTo>
                      <a:pt x="215" y="237"/>
                      <a:pt x="159" y="185"/>
                      <a:pt x="120" y="143"/>
                    </a:cubicBezTo>
                    <a:cubicBezTo>
                      <a:pt x="81" y="101"/>
                      <a:pt x="25" y="3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Freeform 2627"/>
              <p:cNvSpPr/>
              <p:nvPr/>
            </p:nvSpPr>
            <p:spPr>
              <a:xfrm rot="5929200">
                <a:off x="4413600" y="3154320"/>
                <a:ext cx="47520" cy="356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291" h="267">
                    <a:moveTo>
                      <a:pt x="291" y="267"/>
                    </a:moveTo>
                    <a:cubicBezTo>
                      <a:pt x="263" y="243"/>
                      <a:pt x="169" y="165"/>
                      <a:pt x="120" y="120"/>
                    </a:cubicBezTo>
                    <a:cubicBezTo>
                      <a:pt x="71" y="75"/>
                      <a:pt x="37" y="3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Freeform 2628"/>
              <p:cNvSpPr/>
              <p:nvPr/>
            </p:nvSpPr>
            <p:spPr>
              <a:xfrm rot="5929200">
                <a:off x="4413960" y="3153240"/>
                <a:ext cx="48600" cy="32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97" h="242">
                    <a:moveTo>
                      <a:pt x="297" y="242"/>
                    </a:moveTo>
                    <a:cubicBezTo>
                      <a:pt x="272" y="223"/>
                      <a:pt x="198" y="169"/>
                      <a:pt x="148" y="129"/>
                    </a:cubicBezTo>
                    <a:cubicBezTo>
                      <a:pt x="98" y="89"/>
                      <a:pt x="31" y="27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Freeform 2629"/>
              <p:cNvSpPr/>
              <p:nvPr/>
            </p:nvSpPr>
            <p:spPr>
              <a:xfrm rot="5929200">
                <a:off x="4410720" y="3153960"/>
                <a:ext cx="52560" cy="306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22" h="231">
                    <a:moveTo>
                      <a:pt x="322" y="231"/>
                    </a:moveTo>
                    <a:cubicBezTo>
                      <a:pt x="298" y="215"/>
                      <a:pt x="229" y="174"/>
                      <a:pt x="175" y="136"/>
                    </a:cubicBezTo>
                    <a:cubicBezTo>
                      <a:pt x="121" y="98"/>
                      <a:pt x="36" y="2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Freeform 2630"/>
              <p:cNvSpPr/>
              <p:nvPr/>
            </p:nvSpPr>
            <p:spPr>
              <a:xfrm rot="5929200">
                <a:off x="4411080" y="3153960"/>
                <a:ext cx="51120" cy="2772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12" h="208">
                    <a:moveTo>
                      <a:pt x="312" y="208"/>
                    </a:moveTo>
                    <a:cubicBezTo>
                      <a:pt x="285" y="190"/>
                      <a:pt x="190" y="130"/>
                      <a:pt x="148" y="102"/>
                    </a:cubicBezTo>
                    <a:cubicBezTo>
                      <a:pt x="106" y="74"/>
                      <a:pt x="85" y="56"/>
                      <a:pt x="60" y="39"/>
                    </a:cubicBezTo>
                    <a:cubicBezTo>
                      <a:pt x="35" y="22"/>
                      <a:pt x="12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Freeform 2631"/>
              <p:cNvSpPr/>
              <p:nvPr/>
            </p:nvSpPr>
            <p:spPr>
              <a:xfrm rot="5929200">
                <a:off x="4406400" y="3155040"/>
                <a:ext cx="54000" cy="2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9" h="209">
                    <a:moveTo>
                      <a:pt x="329" y="209"/>
                    </a:moveTo>
                    <a:cubicBezTo>
                      <a:pt x="292" y="186"/>
                      <a:pt x="163" y="103"/>
                      <a:pt x="108" y="68"/>
                    </a:cubicBezTo>
                    <a:cubicBezTo>
                      <a:pt x="53" y="33"/>
                      <a:pt x="22" y="1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Freeform 2632"/>
              <p:cNvSpPr/>
              <p:nvPr/>
            </p:nvSpPr>
            <p:spPr>
              <a:xfrm rot="5929200">
                <a:off x="4427640" y="3164400"/>
                <a:ext cx="17640" cy="35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09" h="267">
                    <a:moveTo>
                      <a:pt x="109" y="267"/>
                    </a:moveTo>
                    <a:cubicBezTo>
                      <a:pt x="98" y="240"/>
                      <a:pt x="70" y="145"/>
                      <a:pt x="45" y="102"/>
                    </a:cubicBezTo>
                    <a:cubicBezTo>
                      <a:pt x="20" y="59"/>
                      <a:pt x="9" y="21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Freeform 2633"/>
              <p:cNvSpPr/>
              <p:nvPr/>
            </p:nvSpPr>
            <p:spPr>
              <a:xfrm rot="5929200">
                <a:off x="4432680" y="3169080"/>
                <a:ext cx="6120" cy="345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8" h="259">
                    <a:moveTo>
                      <a:pt x="0" y="0"/>
                    </a:moveTo>
                    <a:cubicBezTo>
                      <a:pt x="1" y="12"/>
                      <a:pt x="2" y="37"/>
                      <a:pt x="7" y="70"/>
                    </a:cubicBezTo>
                    <a:cubicBezTo>
                      <a:pt x="12" y="103"/>
                      <a:pt x="28" y="167"/>
                      <a:pt x="33" y="198"/>
                    </a:cubicBezTo>
                    <a:cubicBezTo>
                      <a:pt x="38" y="229"/>
                      <a:pt x="36" y="246"/>
                      <a:pt x="36" y="259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Freeform 2634"/>
              <p:cNvSpPr/>
              <p:nvPr/>
            </p:nvSpPr>
            <p:spPr>
              <a:xfrm rot="5929200">
                <a:off x="4430160" y="3175560"/>
                <a:ext cx="7200" cy="316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38">
                    <a:moveTo>
                      <a:pt x="44" y="0"/>
                    </a:moveTo>
                    <a:cubicBezTo>
                      <a:pt x="42" y="9"/>
                      <a:pt x="35" y="33"/>
                      <a:pt x="32" y="57"/>
                    </a:cubicBezTo>
                    <a:cubicBezTo>
                      <a:pt x="29" y="81"/>
                      <a:pt x="29" y="117"/>
                      <a:pt x="24" y="147"/>
                    </a:cubicBezTo>
                    <a:cubicBezTo>
                      <a:pt x="19" y="177"/>
                      <a:pt x="9" y="208"/>
                      <a:pt x="0" y="238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Freeform 2635"/>
              <p:cNvSpPr/>
              <p:nvPr/>
            </p:nvSpPr>
            <p:spPr>
              <a:xfrm rot="5929200">
                <a:off x="4421520" y="3180960"/>
                <a:ext cx="21600" cy="29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32" h="220">
                    <a:moveTo>
                      <a:pt x="132" y="0"/>
                    </a:moveTo>
                    <a:cubicBezTo>
                      <a:pt x="127" y="6"/>
                      <a:pt x="117" y="14"/>
                      <a:pt x="105" y="37"/>
                    </a:cubicBezTo>
                    <a:cubicBezTo>
                      <a:pt x="93" y="60"/>
                      <a:pt x="79" y="108"/>
                      <a:pt x="62" y="138"/>
                    </a:cubicBezTo>
                    <a:cubicBezTo>
                      <a:pt x="45" y="168"/>
                      <a:pt x="13" y="203"/>
                      <a:pt x="0" y="22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Freeform 2636"/>
              <p:cNvSpPr/>
              <p:nvPr/>
            </p:nvSpPr>
            <p:spPr>
              <a:xfrm rot="5929200">
                <a:off x="4412880" y="318708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05" h="174">
                    <a:moveTo>
                      <a:pt x="205" y="0"/>
                    </a:moveTo>
                    <a:cubicBezTo>
                      <a:pt x="199" y="6"/>
                      <a:pt x="184" y="16"/>
                      <a:pt x="168" y="34"/>
                    </a:cubicBezTo>
                    <a:cubicBezTo>
                      <a:pt x="152" y="52"/>
                      <a:pt x="127" y="91"/>
                      <a:pt x="108" y="111"/>
                    </a:cubicBezTo>
                    <a:cubicBezTo>
                      <a:pt x="89" y="131"/>
                      <a:pt x="70" y="143"/>
                      <a:pt x="52" y="154"/>
                    </a:cubicBezTo>
                    <a:cubicBezTo>
                      <a:pt x="34" y="165"/>
                      <a:pt x="11" y="170"/>
                      <a:pt x="0" y="174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Freeform 2637"/>
              <p:cNvSpPr/>
              <p:nvPr/>
            </p:nvSpPr>
            <p:spPr>
              <a:xfrm rot="5929200">
                <a:off x="4409640" y="3194640"/>
                <a:ext cx="35280" cy="18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5" h="141">
                    <a:moveTo>
                      <a:pt x="215" y="0"/>
                    </a:moveTo>
                    <a:cubicBezTo>
                      <a:pt x="208" y="4"/>
                      <a:pt x="196" y="9"/>
                      <a:pt x="173" y="26"/>
                    </a:cubicBezTo>
                    <a:cubicBezTo>
                      <a:pt x="150" y="43"/>
                      <a:pt x="107" y="83"/>
                      <a:pt x="78" y="102"/>
                    </a:cubicBezTo>
                    <a:cubicBezTo>
                      <a:pt x="49" y="121"/>
                      <a:pt x="16" y="133"/>
                      <a:pt x="0" y="14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Freeform 2638"/>
              <p:cNvSpPr/>
              <p:nvPr/>
            </p:nvSpPr>
            <p:spPr>
              <a:xfrm rot="5929200">
                <a:off x="4405320" y="3198600"/>
                <a:ext cx="39600" cy="14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1" h="111">
                    <a:moveTo>
                      <a:pt x="241" y="0"/>
                    </a:moveTo>
                    <a:cubicBezTo>
                      <a:pt x="232" y="4"/>
                      <a:pt x="213" y="8"/>
                      <a:pt x="187" y="21"/>
                    </a:cubicBezTo>
                    <a:cubicBezTo>
                      <a:pt x="161" y="34"/>
                      <a:pt x="115" y="65"/>
                      <a:pt x="84" y="80"/>
                    </a:cubicBezTo>
                    <a:cubicBezTo>
                      <a:pt x="53" y="95"/>
                      <a:pt x="26" y="103"/>
                      <a:pt x="0" y="111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2639"/>
              <p:cNvSpPr/>
              <p:nvPr/>
            </p:nvSpPr>
            <p:spPr>
              <a:xfrm rot="5929200">
                <a:off x="4402080" y="3202560"/>
                <a:ext cx="42840" cy="12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61" h="92">
                    <a:moveTo>
                      <a:pt x="261" y="0"/>
                    </a:moveTo>
                    <a:cubicBezTo>
                      <a:pt x="251" y="3"/>
                      <a:pt x="224" y="8"/>
                      <a:pt x="198" y="18"/>
                    </a:cubicBezTo>
                    <a:cubicBezTo>
                      <a:pt x="172" y="28"/>
                      <a:pt x="141" y="48"/>
                      <a:pt x="108" y="60"/>
                    </a:cubicBezTo>
                    <a:cubicBezTo>
                      <a:pt x="75" y="72"/>
                      <a:pt x="37" y="82"/>
                      <a:pt x="0" y="9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Freeform 2640"/>
              <p:cNvSpPr/>
              <p:nvPr/>
            </p:nvSpPr>
            <p:spPr>
              <a:xfrm rot="5929200">
                <a:off x="4400280" y="3205800"/>
                <a:ext cx="43920" cy="86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68" h="67">
                    <a:moveTo>
                      <a:pt x="268" y="0"/>
                    </a:moveTo>
                    <a:cubicBezTo>
                      <a:pt x="257" y="3"/>
                      <a:pt x="230" y="8"/>
                      <a:pt x="202" y="16"/>
                    </a:cubicBezTo>
                    <a:cubicBezTo>
                      <a:pt x="174" y="24"/>
                      <a:pt x="133" y="40"/>
                      <a:pt x="99" y="49"/>
                    </a:cubicBezTo>
                    <a:cubicBezTo>
                      <a:pt x="65" y="58"/>
                      <a:pt x="32" y="62"/>
                      <a:pt x="0" y="67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2641"/>
              <p:cNvSpPr/>
              <p:nvPr/>
            </p:nvSpPr>
            <p:spPr>
              <a:xfrm rot="5929200">
                <a:off x="4397400" y="3206880"/>
                <a:ext cx="46800" cy="64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85" h="50">
                    <a:moveTo>
                      <a:pt x="285" y="0"/>
                    </a:moveTo>
                    <a:cubicBezTo>
                      <a:pt x="275" y="2"/>
                      <a:pt x="250" y="6"/>
                      <a:pt x="222" y="11"/>
                    </a:cubicBezTo>
                    <a:cubicBezTo>
                      <a:pt x="194" y="16"/>
                      <a:pt x="156" y="26"/>
                      <a:pt x="119" y="32"/>
                    </a:cubicBezTo>
                    <a:cubicBezTo>
                      <a:pt x="82" y="38"/>
                      <a:pt x="25" y="46"/>
                      <a:pt x="0" y="5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2642"/>
              <p:cNvSpPr/>
              <p:nvPr/>
            </p:nvSpPr>
            <p:spPr>
              <a:xfrm rot="5929200">
                <a:off x="4397040" y="3210840"/>
                <a:ext cx="44280" cy="3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70" h="32">
                    <a:moveTo>
                      <a:pt x="270" y="0"/>
                    </a:moveTo>
                    <a:cubicBezTo>
                      <a:pt x="258" y="1"/>
                      <a:pt x="226" y="3"/>
                      <a:pt x="200" y="6"/>
                    </a:cubicBezTo>
                    <a:cubicBezTo>
                      <a:pt x="174" y="9"/>
                      <a:pt x="144" y="17"/>
                      <a:pt x="111" y="21"/>
                    </a:cubicBezTo>
                    <a:cubicBezTo>
                      <a:pt x="78" y="25"/>
                      <a:pt x="23" y="30"/>
                      <a:pt x="0" y="32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2643"/>
              <p:cNvSpPr/>
              <p:nvPr/>
            </p:nvSpPr>
            <p:spPr>
              <a:xfrm rot="5929200">
                <a:off x="4393080" y="3208680"/>
                <a:ext cx="49680" cy="7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303" h="6">
                    <a:moveTo>
                      <a:pt x="303" y="0"/>
                    </a:moveTo>
                    <a:cubicBezTo>
                      <a:pt x="285" y="0"/>
                      <a:pt x="245" y="1"/>
                      <a:pt x="195" y="2"/>
                    </a:cubicBezTo>
                    <a:cubicBezTo>
                      <a:pt x="145" y="3"/>
                      <a:pt x="41" y="5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Freeform 2644"/>
              <p:cNvSpPr/>
              <p:nvPr/>
            </p:nvSpPr>
            <p:spPr>
              <a:xfrm rot="5929200">
                <a:off x="4394880" y="3207600"/>
                <a:ext cx="44640" cy="7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273" h="6">
                    <a:moveTo>
                      <a:pt x="273" y="6"/>
                    </a:moveTo>
                    <a:cubicBezTo>
                      <a:pt x="255" y="5"/>
                      <a:pt x="212" y="2"/>
                      <a:pt x="167" y="1"/>
                    </a:cubicBezTo>
                    <a:cubicBezTo>
                      <a:pt x="122" y="0"/>
                      <a:pt x="35" y="0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Freeform 2645"/>
              <p:cNvSpPr/>
              <p:nvPr/>
            </p:nvSpPr>
            <p:spPr>
              <a:xfrm rot="5929200">
                <a:off x="4397760" y="3205080"/>
                <a:ext cx="37800" cy="1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32" h="15">
                    <a:moveTo>
                      <a:pt x="232" y="15"/>
                    </a:moveTo>
                    <a:cubicBezTo>
                      <a:pt x="219" y="14"/>
                      <a:pt x="193" y="12"/>
                      <a:pt x="154" y="10"/>
                    </a:cubicBezTo>
                    <a:cubicBezTo>
                      <a:pt x="115" y="8"/>
                      <a:pt x="32" y="2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6" name="Rectangle 2647"/>
          <p:cNvSpPr/>
          <p:nvPr/>
        </p:nvSpPr>
        <p:spPr>
          <a:xfrm>
            <a:off x="7270920" y="-531720"/>
            <a:ext cx="1873080" cy="4105080"/>
          </a:xfrm>
          <a:prstGeom prst="rect">
            <a:avLst/>
          </a:prstGeom>
          <a:gradFill rotWithShape="0">
            <a:gsLst>
              <a:gs pos="0">
                <a:srgbClr val="002060"/>
              </a:gs>
              <a:gs pos="100000">
                <a:srgbClr val="00b0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Line 2715"/>
          <p:cNvSpPr/>
          <p:nvPr/>
        </p:nvSpPr>
        <p:spPr>
          <a:xfrm flipV="1">
            <a:off x="6076800" y="5143680"/>
            <a:ext cx="3103560" cy="14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8" name="Group 2763"/>
          <p:cNvGrpSpPr/>
          <p:nvPr/>
        </p:nvGrpSpPr>
        <p:grpSpPr>
          <a:xfrm>
            <a:off x="8663040" y="3068640"/>
            <a:ext cx="515520" cy="144360"/>
            <a:chOff x="8663040" y="3068640"/>
            <a:chExt cx="515520" cy="144360"/>
          </a:xfrm>
        </p:grpSpPr>
        <p:sp>
          <p:nvSpPr>
            <p:cNvPr id="2769" name="Freeform 2760"/>
            <p:cNvSpPr/>
            <p:nvPr/>
          </p:nvSpPr>
          <p:spPr>
            <a:xfrm>
              <a:off x="8805240" y="3114720"/>
              <a:ext cx="373320" cy="8100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33" h="51">
                  <a:moveTo>
                    <a:pt x="332" y="30"/>
                  </a:moveTo>
                  <a:cubicBezTo>
                    <a:pt x="333" y="9"/>
                    <a:pt x="212" y="0"/>
                    <a:pt x="162" y="2"/>
                  </a:cubicBezTo>
                  <a:cubicBezTo>
                    <a:pt x="112" y="4"/>
                    <a:pt x="57" y="14"/>
                    <a:pt x="41" y="12"/>
                  </a:cubicBezTo>
                  <a:cubicBezTo>
                    <a:pt x="25" y="10"/>
                    <a:pt x="32" y="6"/>
                    <a:pt x="17" y="3"/>
                  </a:cubicBezTo>
                  <a:cubicBezTo>
                    <a:pt x="2" y="0"/>
                    <a:pt x="0" y="13"/>
                    <a:pt x="0" y="20"/>
                  </a:cubicBezTo>
                  <a:cubicBezTo>
                    <a:pt x="0" y="27"/>
                    <a:pt x="0" y="44"/>
                    <a:pt x="17" y="44"/>
                  </a:cubicBezTo>
                  <a:cubicBezTo>
                    <a:pt x="34" y="44"/>
                    <a:pt x="30" y="32"/>
                    <a:pt x="41" y="33"/>
                  </a:cubicBezTo>
                  <a:cubicBezTo>
                    <a:pt x="52" y="34"/>
                    <a:pt x="116" y="50"/>
                    <a:pt x="164" y="50"/>
                  </a:cubicBezTo>
                  <a:cubicBezTo>
                    <a:pt x="212" y="50"/>
                    <a:pt x="331" y="51"/>
                    <a:pt x="332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Freeform 2761"/>
            <p:cNvSpPr/>
            <p:nvPr/>
          </p:nvSpPr>
          <p:spPr>
            <a:xfrm>
              <a:off x="8667360" y="3068640"/>
              <a:ext cx="152280" cy="85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6" h="54">
                  <a:moveTo>
                    <a:pt x="136" y="54"/>
                  </a:moveTo>
                  <a:cubicBezTo>
                    <a:pt x="125" y="48"/>
                    <a:pt x="92" y="22"/>
                    <a:pt x="69" y="19"/>
                  </a:cubicBezTo>
                  <a:cubicBezTo>
                    <a:pt x="46" y="16"/>
                    <a:pt x="14" y="4"/>
                    <a:pt x="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Freeform 2762"/>
            <p:cNvSpPr/>
            <p:nvPr/>
          </p:nvSpPr>
          <p:spPr>
            <a:xfrm>
              <a:off x="8663040" y="3141720"/>
              <a:ext cx="154800" cy="7128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8" h="45">
                  <a:moveTo>
                    <a:pt x="138" y="0"/>
                  </a:moveTo>
                  <a:cubicBezTo>
                    <a:pt x="128" y="5"/>
                    <a:pt x="103" y="28"/>
                    <a:pt x="76" y="29"/>
                  </a:cubicBezTo>
                  <a:cubicBezTo>
                    <a:pt x="49" y="30"/>
                    <a:pt x="16" y="42"/>
                    <a:pt x="0" y="45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2" name="Freeform 2769"/>
          <p:cNvSpPr/>
          <p:nvPr/>
        </p:nvSpPr>
        <p:spPr>
          <a:xfrm>
            <a:off x="8415360" y="2597040"/>
            <a:ext cx="793800" cy="1144800"/>
          </a:xfrm>
          <a:custGeom>
            <a:avLst/>
            <a:gdLst>
              <a:gd name="textAreaLeft" fmla="*/ 0 w 793800"/>
              <a:gd name="textAreaRight" fmla="*/ 794160 w 793800"/>
              <a:gd name="textAreaTop" fmla="*/ 0 h 1144800"/>
              <a:gd name="textAreaBottom" fmla="*/ 1145160 h 1144800"/>
            </a:gdLst>
            <a:ahLst/>
            <a:rect l="textAreaLeft" t="textAreaTop" r="textAreaRight" b="textAreaBottom"/>
            <a:pathLst>
              <a:path w="500" h="721">
                <a:moveTo>
                  <a:pt x="488" y="238"/>
                </a:moveTo>
                <a:cubicBezTo>
                  <a:pt x="474" y="233"/>
                  <a:pt x="428" y="203"/>
                  <a:pt x="404" y="206"/>
                </a:cubicBezTo>
                <a:cubicBezTo>
                  <a:pt x="381" y="207"/>
                  <a:pt x="360" y="227"/>
                  <a:pt x="341" y="256"/>
                </a:cubicBezTo>
                <a:cubicBezTo>
                  <a:pt x="348" y="229"/>
                  <a:pt x="377" y="185"/>
                  <a:pt x="327" y="130"/>
                </a:cubicBezTo>
                <a:cubicBezTo>
                  <a:pt x="277" y="75"/>
                  <a:pt x="117" y="0"/>
                  <a:pt x="71" y="5"/>
                </a:cubicBezTo>
                <a:cubicBezTo>
                  <a:pt x="25" y="10"/>
                  <a:pt x="34" y="88"/>
                  <a:pt x="72" y="148"/>
                </a:cubicBezTo>
                <a:cubicBezTo>
                  <a:pt x="110" y="208"/>
                  <a:pt x="193" y="292"/>
                  <a:pt x="281" y="334"/>
                </a:cubicBezTo>
                <a:cubicBezTo>
                  <a:pt x="248" y="332"/>
                  <a:pt x="98" y="290"/>
                  <a:pt x="66" y="292"/>
                </a:cubicBezTo>
                <a:cubicBezTo>
                  <a:pt x="93" y="307"/>
                  <a:pt x="195" y="332"/>
                  <a:pt x="195" y="349"/>
                </a:cubicBezTo>
                <a:lnTo>
                  <a:pt x="65" y="392"/>
                </a:lnTo>
                <a:lnTo>
                  <a:pt x="281" y="367"/>
                </a:lnTo>
                <a:cubicBezTo>
                  <a:pt x="242" y="380"/>
                  <a:pt x="154" y="454"/>
                  <a:pt x="104" y="508"/>
                </a:cubicBezTo>
                <a:cubicBezTo>
                  <a:pt x="54" y="562"/>
                  <a:pt x="0" y="673"/>
                  <a:pt x="59" y="697"/>
                </a:cubicBezTo>
                <a:cubicBezTo>
                  <a:pt x="118" y="721"/>
                  <a:pt x="277" y="619"/>
                  <a:pt x="324" y="574"/>
                </a:cubicBezTo>
                <a:cubicBezTo>
                  <a:pt x="371" y="529"/>
                  <a:pt x="338" y="472"/>
                  <a:pt x="335" y="449"/>
                </a:cubicBezTo>
                <a:cubicBezTo>
                  <a:pt x="347" y="466"/>
                  <a:pt x="364" y="494"/>
                  <a:pt x="396" y="499"/>
                </a:cubicBezTo>
                <a:cubicBezTo>
                  <a:pt x="428" y="504"/>
                  <a:pt x="478" y="466"/>
                  <a:pt x="500" y="457"/>
                </a:cubicBezTo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3" name="Group 2766"/>
          <p:cNvGrpSpPr/>
          <p:nvPr/>
        </p:nvGrpSpPr>
        <p:grpSpPr>
          <a:xfrm>
            <a:off x="8459640" y="2565000"/>
            <a:ext cx="895320" cy="1151280"/>
            <a:chOff x="8459640" y="2565000"/>
            <a:chExt cx="895320" cy="1151280"/>
          </a:xfrm>
        </p:grpSpPr>
        <p:sp>
          <p:nvSpPr>
            <p:cNvPr id="2774" name="Freeform 2767"/>
            <p:cNvSpPr/>
            <p:nvPr/>
          </p:nvSpPr>
          <p:spPr>
            <a:xfrm>
              <a:off x="8459640" y="3140640"/>
              <a:ext cx="887400" cy="57564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575640"/>
                <a:gd name="textAreaBottom" fmla="*/ 576000 h 575640"/>
              </a:gdLst>
              <a:ahLst/>
              <a:rect l="textAreaLeft" t="textAreaTop" r="textAreaRight" b="textAreaBottom"/>
              <a:pathLst>
                <a:path w="559" h="452">
                  <a:moveTo>
                    <a:pt x="525" y="71"/>
                  </a:moveTo>
                  <a:lnTo>
                    <a:pt x="497" y="68"/>
                  </a:lnTo>
                  <a:cubicBezTo>
                    <a:pt x="492" y="64"/>
                    <a:pt x="514" y="65"/>
                    <a:pt x="497" y="50"/>
                  </a:cubicBezTo>
                  <a:cubicBezTo>
                    <a:pt x="480" y="35"/>
                    <a:pt x="399" y="0"/>
                    <a:pt x="348" y="6"/>
                  </a:cubicBezTo>
                  <a:cubicBezTo>
                    <a:pt x="297" y="12"/>
                    <a:pt x="237" y="30"/>
                    <a:pt x="182" y="87"/>
                  </a:cubicBezTo>
                  <a:cubicBezTo>
                    <a:pt x="126" y="144"/>
                    <a:pt x="57" y="229"/>
                    <a:pt x="30" y="288"/>
                  </a:cubicBezTo>
                  <a:cubicBezTo>
                    <a:pt x="3" y="347"/>
                    <a:pt x="0" y="411"/>
                    <a:pt x="17" y="429"/>
                  </a:cubicBezTo>
                  <a:cubicBezTo>
                    <a:pt x="29" y="452"/>
                    <a:pt x="81" y="445"/>
                    <a:pt x="131" y="417"/>
                  </a:cubicBezTo>
                  <a:cubicBezTo>
                    <a:pt x="181" y="389"/>
                    <a:pt x="273" y="324"/>
                    <a:pt x="303" y="278"/>
                  </a:cubicBezTo>
                  <a:cubicBezTo>
                    <a:pt x="333" y="232"/>
                    <a:pt x="320" y="176"/>
                    <a:pt x="306" y="135"/>
                  </a:cubicBezTo>
                  <a:cubicBezTo>
                    <a:pt x="323" y="155"/>
                    <a:pt x="337" y="195"/>
                    <a:pt x="378" y="192"/>
                  </a:cubicBezTo>
                  <a:cubicBezTo>
                    <a:pt x="419" y="189"/>
                    <a:pt x="475" y="131"/>
                    <a:pt x="500" y="119"/>
                  </a:cubicBezTo>
                  <a:cubicBezTo>
                    <a:pt x="527" y="110"/>
                    <a:pt x="538" y="133"/>
                    <a:pt x="540" y="135"/>
                  </a:cubicBezTo>
                  <a:cubicBezTo>
                    <a:pt x="542" y="137"/>
                    <a:pt x="511" y="132"/>
                    <a:pt x="513" y="132"/>
                  </a:cubicBezTo>
                  <a:cubicBezTo>
                    <a:pt x="514" y="133"/>
                    <a:pt x="539" y="156"/>
                    <a:pt x="549" y="141"/>
                  </a:cubicBezTo>
                  <a:cubicBezTo>
                    <a:pt x="559" y="126"/>
                    <a:pt x="525" y="90"/>
                    <a:pt x="507" y="83"/>
                  </a:cubicBezTo>
                  <a:cubicBezTo>
                    <a:pt x="523" y="71"/>
                    <a:pt x="525" y="71"/>
                    <a:pt x="525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Rectangle 2768"/>
            <p:cNvSpPr/>
            <p:nvPr/>
          </p:nvSpPr>
          <p:spPr>
            <a:xfrm flipV="1">
              <a:off x="8466120" y="2565000"/>
              <a:ext cx="88884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6" name="Group 2765"/>
          <p:cNvGrpSpPr/>
          <p:nvPr/>
        </p:nvGrpSpPr>
        <p:grpSpPr>
          <a:xfrm>
            <a:off x="8467560" y="2596680"/>
            <a:ext cx="895320" cy="1152720"/>
            <a:chOff x="8467560" y="2596680"/>
            <a:chExt cx="895320" cy="1152720"/>
          </a:xfrm>
        </p:grpSpPr>
        <p:sp>
          <p:nvSpPr>
            <p:cNvPr id="2777" name="Freeform 2759"/>
            <p:cNvSpPr/>
            <p:nvPr/>
          </p:nvSpPr>
          <p:spPr>
            <a:xfrm flipV="1">
              <a:off x="8467560" y="2596320"/>
              <a:ext cx="887400" cy="5763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-360 h 576360"/>
                <a:gd name="textAreaBottom" fmla="*/ 576360 h 576360"/>
              </a:gdLst>
              <a:ahLst/>
              <a:rect l="textAreaLeft" t="textAreaTop" r="textAreaRight" b="textAreaBottom"/>
              <a:pathLst>
                <a:path w="559" h="452">
                  <a:moveTo>
                    <a:pt x="525" y="71"/>
                  </a:moveTo>
                  <a:lnTo>
                    <a:pt x="497" y="68"/>
                  </a:lnTo>
                  <a:cubicBezTo>
                    <a:pt x="492" y="64"/>
                    <a:pt x="514" y="65"/>
                    <a:pt x="497" y="50"/>
                  </a:cubicBezTo>
                  <a:cubicBezTo>
                    <a:pt x="480" y="35"/>
                    <a:pt x="399" y="0"/>
                    <a:pt x="348" y="6"/>
                  </a:cubicBezTo>
                  <a:cubicBezTo>
                    <a:pt x="297" y="12"/>
                    <a:pt x="237" y="30"/>
                    <a:pt x="182" y="87"/>
                  </a:cubicBezTo>
                  <a:cubicBezTo>
                    <a:pt x="126" y="144"/>
                    <a:pt x="57" y="229"/>
                    <a:pt x="30" y="288"/>
                  </a:cubicBezTo>
                  <a:cubicBezTo>
                    <a:pt x="3" y="347"/>
                    <a:pt x="0" y="411"/>
                    <a:pt x="17" y="429"/>
                  </a:cubicBezTo>
                  <a:cubicBezTo>
                    <a:pt x="29" y="452"/>
                    <a:pt x="81" y="445"/>
                    <a:pt x="131" y="417"/>
                  </a:cubicBezTo>
                  <a:cubicBezTo>
                    <a:pt x="181" y="389"/>
                    <a:pt x="273" y="324"/>
                    <a:pt x="303" y="278"/>
                  </a:cubicBezTo>
                  <a:cubicBezTo>
                    <a:pt x="333" y="232"/>
                    <a:pt x="320" y="176"/>
                    <a:pt x="306" y="135"/>
                  </a:cubicBezTo>
                  <a:cubicBezTo>
                    <a:pt x="323" y="155"/>
                    <a:pt x="337" y="195"/>
                    <a:pt x="378" y="192"/>
                  </a:cubicBezTo>
                  <a:cubicBezTo>
                    <a:pt x="419" y="189"/>
                    <a:pt x="475" y="131"/>
                    <a:pt x="500" y="119"/>
                  </a:cubicBezTo>
                  <a:cubicBezTo>
                    <a:pt x="527" y="110"/>
                    <a:pt x="538" y="133"/>
                    <a:pt x="540" y="135"/>
                  </a:cubicBezTo>
                  <a:cubicBezTo>
                    <a:pt x="542" y="137"/>
                    <a:pt x="511" y="132"/>
                    <a:pt x="513" y="132"/>
                  </a:cubicBezTo>
                  <a:cubicBezTo>
                    <a:pt x="514" y="133"/>
                    <a:pt x="539" y="156"/>
                    <a:pt x="549" y="141"/>
                  </a:cubicBezTo>
                  <a:cubicBezTo>
                    <a:pt x="559" y="126"/>
                    <a:pt x="525" y="90"/>
                    <a:pt x="507" y="83"/>
                  </a:cubicBezTo>
                  <a:cubicBezTo>
                    <a:pt x="523" y="71"/>
                    <a:pt x="525" y="71"/>
                    <a:pt x="525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Rectangle 2764"/>
            <p:cNvSpPr/>
            <p:nvPr/>
          </p:nvSpPr>
          <p:spPr>
            <a:xfrm>
              <a:off x="8474040" y="3173400"/>
              <a:ext cx="8888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9" name="矩形 2548"/>
          <p:cNvSpPr/>
          <p:nvPr/>
        </p:nvSpPr>
        <p:spPr>
          <a:xfrm>
            <a:off x="395280" y="5516640"/>
            <a:ext cx="85456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喜欢旅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陌生的旅途中会遇到很多不同的人，谈笑风生中常常可以获得志同道合的朋友，我学会了享受这个过程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0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0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2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path" presetID="0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5.27778E-006 2.59259E-006 C 0.06893 -0.03588 0.13785 -0.07176 0.23629 -0.09444 C 0.33473 -0.11713 0.51181 -0.12269 0.59063 -0.13657 C 0.66945 -0.15046 0.68907 -0.16458 0.70886 -0.17847 E">
                                      <p:cBhvr>
                                        <p:cTn id="790" dur="5000" fill="hold"/>
                                        <p:tgtEl>
                                          <p:spTgt spid="1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1" autoRev="1" nodeType="withEffect" fill="hold" presetClass="emph" presetID="8" repeatCount="indefinite">
                                  <p:stCondLst>
                                    <p:cond delay="6700"/>
                                  </p:stCondLst>
                                  <p:childTnLst>
                                    <p:animRot by="1800000">
                                      <p:cBhvr>
                                        <p:cTn id="792" dur="2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3" nodeType="withEffect" fill="hold" presetClass="path" presetID="0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3.33333E-006 -0.00023 C 0.10157 -0.01688 0.2033 -0.03306 0.29132 -0.06289 C 0.37917 -0.09295 0.45052 -0.15005 0.52761 -0.17849 C 0.60469 -0.20693 0.70677 -0.22266 0.75382 -0.23422 E">
                                      <p:cBhvr>
                                        <p:cTn id="794" dur="50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5" autoRev="1" nodeType="withEffect" fill="hold" presetClass="emph" presetID="8" repeatCount="indefinite">
                                  <p:stCondLst>
                                    <p:cond delay="7100"/>
                                  </p:stCondLst>
                                  <p:childTnLst>
                                    <p:animRot by="1800000">
                                      <p:cBhvr>
                                        <p:cTn id="796" dur="2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7" nodeType="withEffect" fill="hold" presetClass="path" presetID="0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5.55556E-007 2.96296E-006 C 0.10226 -0.05509 0.20469 -0.11019 0.30712 -0.12593 C 0.40955 -0.14167 0.55 -0.09977 0.61423 -0.09444 C 0.67847 -0.08912 0.68576 -0.0919 0.69305 -0.09444 E">
                                      <p:cBhvr>
                                        <p:cTn id="798" dur="5000" fill="hold"/>
                                        <p:tgtEl>
                                          <p:spTgt spid="1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9" autoRev="1" nodeType="withEffect" fill="hold" presetClass="emph" presetID="8" repeatCount="indefinite">
                                  <p:stCondLst>
                                    <p:cond delay="7500"/>
                                  </p:stCondLst>
                                  <p:childTnLst>
                                    <p:animRot by="1800000">
                                      <p:cBhvr>
                                        <p:cTn id="800" dur="2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1" nodeType="withEffect" fill="hold" presetClass="path" presetID="0">
                                  <p:stCondLst>
                                    <p:cond delay="7900"/>
                                  </p:stCondLst>
                                  <p:childTnLst>
                                    <p:animMotion origin="layout" path="M 5.27778E-006 -4.81481E-006 C 0.06164 0.00787 0.12344 0.01574 0.20487 -4.81481E-006 C 0.28629 -0.01574 0.40938 -0.07338 0.4882 -0.09444 C 0.56702 -0.11551 0.62206 -0.12083 0.67726 -0.12593 E">
                                      <p:cBhvr>
                                        <p:cTn id="802" dur="50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3" autoRev="1" nodeType="withEffect" fill="hold" presetClass="emph" presetID="8" repeatCount="indefinite">
                                  <p:stCondLst>
                                    <p:cond delay="7900"/>
                                  </p:stCondLst>
                                  <p:childTnLst>
                                    <p:animRot by="1800000">
                                      <p:cBhvr>
                                        <p:cTn id="804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5" nodeType="withEffect" fill="hold" presetClass="path" presetID="0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-3.61111E-006 -0.00023 C 0.09046 -0.01757 0.14914 -0.02219 0.2599 -0.07352 C 0.37066 -0.12531 0.58004 -0.26081 0.66424 -0.31005 E">
                                      <p:cBhvr>
                                        <p:cTn id="806" dur="5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7" autoRev="1" nodeType="withEffect" fill="hold" presetClass="emph" presetID="8" repeatCount="indefinite">
                                  <p:stCondLst>
                                    <p:cond delay="8300"/>
                                  </p:stCondLst>
                                  <p:childTnLst>
                                    <p:animRot by="1800000">
                                      <p:cBhvr>
                                        <p:cTn id="808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9" nodeType="withEffect" fill="hold" presetClass="path" presetID="0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5.83333E-006 7.54106E-007 C 0.07813 -0.01851 0.15626 -0.03678 0.22848 -0.04211 C 0.3007 -0.04743 0.36094 -0.02614 0.43317 -0.03146 C 0.50539 -0.03678 0.58334 -0.05529 0.66147 -0.07356 E">
                                      <p:cBhvr>
                                        <p:cTn id="810" dur="5000" fill="hold"/>
                                        <p:tgtEl>
                                          <p:spTgt spid="1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1" autoRev="1" nodeType="withEffect" fill="hold" presetClass="emph" presetID="8" repeatCount="indefinite">
                                  <p:stCondLst>
                                    <p:cond delay="8700"/>
                                  </p:stCondLst>
                                  <p:childTnLst>
                                    <p:animRot by="1800000">
                                      <p:cBhvr>
                                        <p:cTn id="812" dur="2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3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3.05556E-006 -5.8501E-006 C 0.09046 -0.03332 0.18108 -0.06639 0.28351 -0.07333 C 0.38594 -0.08027 0.55382 -0.04719 0.61424 -0.04187 C 0.67466 -0.03655 0.66007 -0.03933 0.64566 -0.04187 E">
                                      <p:cBhvr>
                                        <p:cTn id="814" dur="5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5" autoRev="1" nodeType="withEffect" fill="hold" presetClass="emph" presetID="8" repeatCount="indefinite">
                                  <p:stCondLst>
                                    <p:cond delay="8000"/>
                                  </p:stCondLst>
                                  <p:childTnLst>
                                    <p:animRot by="1800000">
                                      <p:cBhvr>
                                        <p:cTn id="816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7" nodeType="withEffect" fill="hold" presetClass="path" presetID="0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0 1.04046E-006 C 0.03212 0.00231 0.11215 0.01826 0.19323 0.01433 C 0.27431 0.0104 0.39826 -0.01965 0.48681 -0.02382 C 0.57535 -0.02798 0.67535 -0.01364 0.72483 -0.0111 E">
                                      <p:cBhvr>
                                        <p:cTn id="818" dur="5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9" autoRev="1" nodeType="withEffect" fill="hold" presetClass="emph" presetID="8" repeatCount="indefinite">
                                  <p:stCondLst>
                                    <p:cond delay="8300"/>
                                  </p:stCondLst>
                                  <p:childTnLst>
                                    <p:animRot by="1800000">
                                      <p:cBhvr>
                                        <p:cTn id="820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1" nodeType="withEffect" fill="hold" presetClass="path" presetID="0">
                                  <p:stCondLst>
                                    <p:cond delay="8600"/>
                                  </p:stCondLst>
                                  <p:childTnLst>
                                    <p:animMotion origin="layout" path="M 5.55556E-007 1.48148E-006 C 0.06129 -0.01829 0.12257 -0.03635 0.20348 -0.03588 C 0.28438 -0.03542 0.40452 -0.00371 0.48577 0.00301 C 0.56702 0.00972 0.629 0.00694 0.69098 0.00439 E">
                                      <p:cBhvr>
                                        <p:cTn id="822" dur="5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3" autoRev="1" nodeType="withEffect" fill="hold" presetClass="emph" presetID="8" repeatCount="indefinite">
                                  <p:stCondLst>
                                    <p:cond delay="8600"/>
                                  </p:stCondLst>
                                  <p:childTnLst>
                                    <p:animRot by="-3600000">
                                      <p:cBhvr>
                                        <p:cTn id="824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0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2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1">
                                  <p:stCondLst>
                                    <p:cond delay="12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2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0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0">
                                  <p:stCondLst>
                                    <p:cond delay="13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2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0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2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1" dur="200" fill="hold"/>
                                        <p:tgtEl>
                                          <p:spTgt spid="2776"/>
                                        </p:tgtEl>
                                      </p:cBhvr>
                                      <p:to x="10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42" autoRev="1" nodeType="withEffect" fill="hold" presetClass="emph" presetID="6" repeatCount="indefinite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843" dur="200" fill="hold"/>
                                        <p:tgtEl>
                                          <p:spTgt spid="2773"/>
                                        </p:tgtEl>
                                      </p:cBhvr>
                                      <p:to x="10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44" nodeType="withEffect" fill="hold" presetClass="path" presetID="0">
                                  <p:stCondLst>
                                    <p:cond delay="13800"/>
                                  </p:stCondLst>
                                  <p:childTnLst>
                                    <p:animMotion origin="layout" path="M 0 0 C -0.05712 0.00949 -0.11424 0.01921 -0.17326 0.01042 C -0.23229 0.00162 -0.30208 -0.04028 -0.35451 -0.05254 C -0.40694 -0.06481 -0.44774 -0.06412 -0.48837 -0.06319 E">
                                      <p:cBhvr>
                                        <p:cTn id="845" dur="3000" fill="hold"/>
                                        <p:tgtEl>
                                          <p:spTgt spid="2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6" nodeType="withEffect" fill="hold" presetClass="path" presetID="0">
                                  <p:stCondLst>
                                    <p:cond delay="13800"/>
                                  </p:stCondLst>
                                  <p:childTnLst>
                                    <p:animMotion origin="layout" path="M 0 0 C -0.05712 0.00949 -0.11424 0.01921 -0.17326 0.01042 C -0.23229 0.00162 -0.30208 -0.04028 -0.35451 -0.05254 C -0.40694 -0.06481 -0.44774 -0.06412 -0.48837 -0.06319 E">
                                      <p:cBhvr>
                                        <p:cTn id="847" dur="3000" fill="hold"/>
                                        <p:tgtEl>
                                          <p:spTgt spid="2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8" nodeType="withEffect" fill="hold" presetClass="path" presetID="0">
                                  <p:stCondLst>
                                    <p:cond delay="13800"/>
                                  </p:stCondLst>
                                  <p:childTnLst>
                                    <p:animMotion origin="layout" path="M 0 0 C -0.05712 0.00949 -0.11424 0.01921 -0.17326 0.01042 C -0.23229 0.00162 -0.30208 -0.04028 -0.35451 -0.05254 C -0.40694 -0.06481 -0.44774 -0.06412 -0.48837 -0.06319 E">
                                      <p:cBhvr>
                                        <p:cTn id="849" dur="3000" fill="hold"/>
                                        <p:tgtEl>
                                          <p:spTgt spid="2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0" nodeType="withEffect" fill="hold" presetClass="emph" presetID="8">
                                  <p:stCondLst>
                                    <p:cond delay="14100"/>
                                  </p:stCondLst>
                                  <p:childTnLst>
                                    <p:animRot by="360000">
                                      <p:cBhvr>
                                        <p:cTn id="851" dur="1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2" nodeType="withEffect" fill="hold" presetClass="emph" presetID="8">
                                  <p:stCondLst>
                                    <p:cond delay="14100"/>
                                  </p:stCondLst>
                                  <p:childTnLst>
                                    <p:animRot by="360000">
                                      <p:cBhvr>
                                        <p:cTn id="853" dur="1000" fill="hold"/>
                                        <p:tgtEl>
                                          <p:spTgt spid="2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4" nodeType="withEffect" fill="hold" presetClass="emph" presetID="8">
                                  <p:stCondLst>
                                    <p:cond delay="14100"/>
                                  </p:stCondLst>
                                  <p:childTnLst>
                                    <p:animRot by="360000">
                                      <p:cBhvr>
                                        <p:cTn id="855" dur="1000" fill="hold"/>
                                        <p:tgtEl>
                                          <p:spTgt spid="2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8">
                                  <p:stCondLst>
                                    <p:cond delay="16600"/>
                                  </p:stCondLst>
                                  <p:childTnLst>
                                    <p:animRot by="-360000">
                                      <p:cBhvr>
                                        <p:cTn id="857" dur="1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8" nodeType="withEffect" fill="hold" presetClass="emph" presetID="8">
                                  <p:stCondLst>
                                    <p:cond delay="16600"/>
                                  </p:stCondLst>
                                  <p:childTnLst>
                                    <p:animRot by="-360000">
                                      <p:cBhvr>
                                        <p:cTn id="859" dur="1000" fill="hold"/>
                                        <p:tgtEl>
                                          <p:spTgt spid="2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0" nodeType="withEffect" fill="hold" presetClass="emph" presetID="8">
                                  <p:stCondLst>
                                    <p:cond delay="16600"/>
                                  </p:stCondLst>
                                  <p:childTnLst>
                                    <p:animRot by="-360000">
                                      <p:cBhvr>
                                        <p:cTn id="861" dur="1000" fill="hold"/>
                                        <p:tgtEl>
                                          <p:spTgt spid="2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22" presetSubtype="8">
                                  <p:stCondLst>
                                    <p:cond delay="168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42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2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Freeform 299"/>
          <p:cNvSpPr/>
          <p:nvPr/>
        </p:nvSpPr>
        <p:spPr>
          <a:xfrm rot="7299000">
            <a:off x="34560" y="-1033200"/>
            <a:ext cx="71640" cy="71280"/>
          </a:xfrm>
          <a:custGeom>
            <a:avLst/>
            <a:gdLst>
              <a:gd name="textAreaLeft" fmla="*/ 0 w 71640"/>
              <a:gd name="textAreaRight" fmla="*/ 72000 w 7164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Freeform 300"/>
          <p:cNvSpPr/>
          <p:nvPr/>
        </p:nvSpPr>
        <p:spPr>
          <a:xfrm rot="10530000">
            <a:off x="-178920" y="-67572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Freeform 337"/>
          <p:cNvSpPr/>
          <p:nvPr/>
        </p:nvSpPr>
        <p:spPr>
          <a:xfrm rot="7299000">
            <a:off x="178920" y="-1106280"/>
            <a:ext cx="71640" cy="71640"/>
          </a:xfrm>
          <a:custGeom>
            <a:avLst/>
            <a:gdLst>
              <a:gd name="textAreaLeft" fmla="*/ 0 w 71640"/>
              <a:gd name="textAreaRight" fmla="*/ 72000 w 7164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Freeform 342"/>
          <p:cNvSpPr/>
          <p:nvPr/>
        </p:nvSpPr>
        <p:spPr>
          <a:xfrm rot="663000">
            <a:off x="-899640" y="-81720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Freeform 349"/>
          <p:cNvSpPr/>
          <p:nvPr/>
        </p:nvSpPr>
        <p:spPr>
          <a:xfrm rot="10530000">
            <a:off x="108000" y="-67572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Freeform 372"/>
          <p:cNvSpPr/>
          <p:nvPr/>
        </p:nvSpPr>
        <p:spPr>
          <a:xfrm rot="12703200">
            <a:off x="-612720" y="-153936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Freeform 375"/>
          <p:cNvSpPr/>
          <p:nvPr/>
        </p:nvSpPr>
        <p:spPr>
          <a:xfrm rot="4679400">
            <a:off x="-34200" y="-1469160"/>
            <a:ext cx="214560" cy="218880"/>
          </a:xfrm>
          <a:custGeom>
            <a:avLst/>
            <a:gdLst>
              <a:gd name="textAreaLeft" fmla="*/ 0 w 214560"/>
              <a:gd name="textAreaRight" fmla="*/ 214920 w 21456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Freeform 381"/>
          <p:cNvSpPr/>
          <p:nvPr/>
        </p:nvSpPr>
        <p:spPr>
          <a:xfrm rot="7299000">
            <a:off x="-249840" y="-1034280"/>
            <a:ext cx="160560" cy="162000"/>
          </a:xfrm>
          <a:custGeom>
            <a:avLst/>
            <a:gdLst>
              <a:gd name="textAreaLeft" fmla="*/ 0 w 160560"/>
              <a:gd name="textAreaRight" fmla="*/ 160920 w 160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Freeform 79"/>
          <p:cNvSpPr/>
          <p:nvPr/>
        </p:nvSpPr>
        <p:spPr>
          <a:xfrm>
            <a:off x="2014560" y="3089160"/>
            <a:ext cx="131760" cy="435240"/>
          </a:xfrm>
          <a:custGeom>
            <a:avLst/>
            <a:gdLst>
              <a:gd name="textAreaLeft" fmla="*/ 0 w 131760"/>
              <a:gd name="textAreaRight" fmla="*/ 132120 w 13176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83" h="274">
                <a:moveTo>
                  <a:pt x="59" y="15"/>
                </a:moveTo>
                <a:lnTo>
                  <a:pt x="83" y="51"/>
                </a:lnTo>
                <a:lnTo>
                  <a:pt x="35" y="274"/>
                </a:lnTo>
                <a:lnTo>
                  <a:pt x="0" y="228"/>
                </a:lnTo>
                <a:lnTo>
                  <a:pt x="48" y="0"/>
                </a:lnTo>
                <a:lnTo>
                  <a:pt x="59" y="15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Freeform 66"/>
          <p:cNvSpPr/>
          <p:nvPr/>
        </p:nvSpPr>
        <p:spPr>
          <a:xfrm>
            <a:off x="789120" y="2166840"/>
            <a:ext cx="4268520" cy="4076640"/>
          </a:xfrm>
          <a:custGeom>
            <a:avLst/>
            <a:gdLst/>
            <a:ahLst/>
            <a:rect l="l" t="t" r="r" b="b"/>
            <a:pathLst>
              <a:path w="2689" h="2568">
                <a:moveTo>
                  <a:pt x="296" y="115"/>
                </a:moveTo>
                <a:lnTo>
                  <a:pt x="358" y="48"/>
                </a:lnTo>
                <a:lnTo>
                  <a:pt x="460" y="9"/>
                </a:lnTo>
                <a:lnTo>
                  <a:pt x="556" y="0"/>
                </a:lnTo>
                <a:lnTo>
                  <a:pt x="607" y="3"/>
                </a:lnTo>
                <a:lnTo>
                  <a:pt x="685" y="21"/>
                </a:lnTo>
                <a:lnTo>
                  <a:pt x="751" y="54"/>
                </a:lnTo>
                <a:lnTo>
                  <a:pt x="778" y="75"/>
                </a:lnTo>
                <a:lnTo>
                  <a:pt x="808" y="126"/>
                </a:lnTo>
                <a:lnTo>
                  <a:pt x="823" y="198"/>
                </a:lnTo>
                <a:lnTo>
                  <a:pt x="823" y="240"/>
                </a:lnTo>
                <a:lnTo>
                  <a:pt x="802" y="279"/>
                </a:lnTo>
                <a:lnTo>
                  <a:pt x="790" y="297"/>
                </a:lnTo>
                <a:lnTo>
                  <a:pt x="814" y="345"/>
                </a:lnTo>
                <a:lnTo>
                  <a:pt x="805" y="387"/>
                </a:lnTo>
                <a:lnTo>
                  <a:pt x="790" y="441"/>
                </a:lnTo>
                <a:lnTo>
                  <a:pt x="784" y="471"/>
                </a:lnTo>
                <a:lnTo>
                  <a:pt x="766" y="513"/>
                </a:lnTo>
                <a:lnTo>
                  <a:pt x="733" y="519"/>
                </a:lnTo>
                <a:lnTo>
                  <a:pt x="709" y="516"/>
                </a:lnTo>
                <a:lnTo>
                  <a:pt x="712" y="546"/>
                </a:lnTo>
                <a:lnTo>
                  <a:pt x="751" y="546"/>
                </a:lnTo>
                <a:lnTo>
                  <a:pt x="796" y="558"/>
                </a:lnTo>
                <a:lnTo>
                  <a:pt x="838" y="602"/>
                </a:lnTo>
                <a:lnTo>
                  <a:pt x="796" y="857"/>
                </a:lnTo>
                <a:lnTo>
                  <a:pt x="823" y="903"/>
                </a:lnTo>
                <a:lnTo>
                  <a:pt x="826" y="981"/>
                </a:lnTo>
                <a:lnTo>
                  <a:pt x="819" y="1011"/>
                </a:lnTo>
                <a:lnTo>
                  <a:pt x="832" y="1049"/>
                </a:lnTo>
                <a:lnTo>
                  <a:pt x="856" y="1209"/>
                </a:lnTo>
                <a:lnTo>
                  <a:pt x="817" y="1212"/>
                </a:lnTo>
                <a:lnTo>
                  <a:pt x="817" y="1260"/>
                </a:lnTo>
                <a:lnTo>
                  <a:pt x="856" y="1214"/>
                </a:lnTo>
                <a:lnTo>
                  <a:pt x="831" y="1041"/>
                </a:lnTo>
                <a:lnTo>
                  <a:pt x="1009" y="1053"/>
                </a:lnTo>
                <a:lnTo>
                  <a:pt x="1032" y="1050"/>
                </a:lnTo>
                <a:lnTo>
                  <a:pt x="951" y="993"/>
                </a:lnTo>
                <a:lnTo>
                  <a:pt x="874" y="930"/>
                </a:lnTo>
                <a:lnTo>
                  <a:pt x="822" y="878"/>
                </a:lnTo>
                <a:lnTo>
                  <a:pt x="798" y="849"/>
                </a:lnTo>
                <a:lnTo>
                  <a:pt x="837" y="614"/>
                </a:lnTo>
                <a:lnTo>
                  <a:pt x="994" y="825"/>
                </a:lnTo>
                <a:lnTo>
                  <a:pt x="1096" y="921"/>
                </a:lnTo>
                <a:lnTo>
                  <a:pt x="1135" y="948"/>
                </a:lnTo>
                <a:lnTo>
                  <a:pt x="1192" y="924"/>
                </a:lnTo>
                <a:lnTo>
                  <a:pt x="1237" y="906"/>
                </a:lnTo>
                <a:lnTo>
                  <a:pt x="1279" y="909"/>
                </a:lnTo>
                <a:lnTo>
                  <a:pt x="1327" y="927"/>
                </a:lnTo>
                <a:lnTo>
                  <a:pt x="1366" y="960"/>
                </a:lnTo>
                <a:lnTo>
                  <a:pt x="1438" y="963"/>
                </a:lnTo>
                <a:lnTo>
                  <a:pt x="1516" y="963"/>
                </a:lnTo>
                <a:lnTo>
                  <a:pt x="1585" y="951"/>
                </a:lnTo>
                <a:lnTo>
                  <a:pt x="1576" y="993"/>
                </a:lnTo>
                <a:lnTo>
                  <a:pt x="1600" y="993"/>
                </a:lnTo>
                <a:lnTo>
                  <a:pt x="1612" y="1011"/>
                </a:lnTo>
                <a:lnTo>
                  <a:pt x="1639" y="1011"/>
                </a:lnTo>
                <a:lnTo>
                  <a:pt x="1690" y="1041"/>
                </a:lnTo>
                <a:lnTo>
                  <a:pt x="1735" y="1092"/>
                </a:lnTo>
                <a:lnTo>
                  <a:pt x="1747" y="1107"/>
                </a:lnTo>
                <a:lnTo>
                  <a:pt x="1747" y="1128"/>
                </a:lnTo>
                <a:lnTo>
                  <a:pt x="1780" y="1158"/>
                </a:lnTo>
                <a:lnTo>
                  <a:pt x="1786" y="1212"/>
                </a:lnTo>
                <a:lnTo>
                  <a:pt x="1876" y="1281"/>
                </a:lnTo>
                <a:lnTo>
                  <a:pt x="2095" y="1431"/>
                </a:lnTo>
                <a:lnTo>
                  <a:pt x="2215" y="1503"/>
                </a:lnTo>
                <a:lnTo>
                  <a:pt x="2341" y="1575"/>
                </a:lnTo>
                <a:lnTo>
                  <a:pt x="2431" y="1626"/>
                </a:lnTo>
                <a:lnTo>
                  <a:pt x="2524" y="1674"/>
                </a:lnTo>
                <a:lnTo>
                  <a:pt x="2566" y="1680"/>
                </a:lnTo>
                <a:lnTo>
                  <a:pt x="2653" y="1665"/>
                </a:lnTo>
                <a:lnTo>
                  <a:pt x="2689" y="1671"/>
                </a:lnTo>
                <a:lnTo>
                  <a:pt x="2674" y="1707"/>
                </a:lnTo>
                <a:lnTo>
                  <a:pt x="2626" y="1737"/>
                </a:lnTo>
                <a:lnTo>
                  <a:pt x="2568" y="1764"/>
                </a:lnTo>
                <a:lnTo>
                  <a:pt x="2490" y="1763"/>
                </a:lnTo>
                <a:lnTo>
                  <a:pt x="2407" y="1739"/>
                </a:lnTo>
                <a:lnTo>
                  <a:pt x="2385" y="1796"/>
                </a:lnTo>
                <a:lnTo>
                  <a:pt x="2328" y="1826"/>
                </a:lnTo>
                <a:lnTo>
                  <a:pt x="2196" y="1833"/>
                </a:lnTo>
                <a:lnTo>
                  <a:pt x="2067" y="1802"/>
                </a:lnTo>
                <a:lnTo>
                  <a:pt x="1977" y="1802"/>
                </a:lnTo>
                <a:lnTo>
                  <a:pt x="1908" y="1806"/>
                </a:lnTo>
                <a:lnTo>
                  <a:pt x="1866" y="1788"/>
                </a:lnTo>
                <a:lnTo>
                  <a:pt x="1852" y="1754"/>
                </a:lnTo>
                <a:lnTo>
                  <a:pt x="1854" y="1682"/>
                </a:lnTo>
                <a:lnTo>
                  <a:pt x="1795" y="1608"/>
                </a:lnTo>
                <a:lnTo>
                  <a:pt x="1675" y="1551"/>
                </a:lnTo>
                <a:lnTo>
                  <a:pt x="1549" y="1497"/>
                </a:lnTo>
                <a:lnTo>
                  <a:pt x="1471" y="1446"/>
                </a:lnTo>
                <a:lnTo>
                  <a:pt x="1396" y="1389"/>
                </a:lnTo>
                <a:lnTo>
                  <a:pt x="1375" y="1365"/>
                </a:lnTo>
                <a:lnTo>
                  <a:pt x="1315" y="1446"/>
                </a:lnTo>
                <a:lnTo>
                  <a:pt x="1234" y="1530"/>
                </a:lnTo>
                <a:lnTo>
                  <a:pt x="1186" y="1595"/>
                </a:lnTo>
                <a:lnTo>
                  <a:pt x="1162" y="1643"/>
                </a:lnTo>
                <a:lnTo>
                  <a:pt x="1140" y="1686"/>
                </a:lnTo>
                <a:lnTo>
                  <a:pt x="1105" y="1787"/>
                </a:lnTo>
                <a:lnTo>
                  <a:pt x="1077" y="1898"/>
                </a:lnTo>
                <a:lnTo>
                  <a:pt x="1039" y="2027"/>
                </a:lnTo>
                <a:lnTo>
                  <a:pt x="975" y="2153"/>
                </a:lnTo>
                <a:lnTo>
                  <a:pt x="906" y="2259"/>
                </a:lnTo>
                <a:lnTo>
                  <a:pt x="799" y="2370"/>
                </a:lnTo>
                <a:lnTo>
                  <a:pt x="685" y="2438"/>
                </a:lnTo>
                <a:lnTo>
                  <a:pt x="561" y="2468"/>
                </a:lnTo>
                <a:lnTo>
                  <a:pt x="348" y="2501"/>
                </a:lnTo>
                <a:lnTo>
                  <a:pt x="177" y="2543"/>
                </a:lnTo>
                <a:lnTo>
                  <a:pt x="78" y="2568"/>
                </a:lnTo>
                <a:lnTo>
                  <a:pt x="19" y="2550"/>
                </a:lnTo>
                <a:lnTo>
                  <a:pt x="0" y="2492"/>
                </a:lnTo>
                <a:lnTo>
                  <a:pt x="22" y="2399"/>
                </a:lnTo>
                <a:lnTo>
                  <a:pt x="64" y="2309"/>
                </a:lnTo>
                <a:lnTo>
                  <a:pt x="133" y="2184"/>
                </a:lnTo>
                <a:lnTo>
                  <a:pt x="213" y="2049"/>
                </a:lnTo>
                <a:lnTo>
                  <a:pt x="282" y="1893"/>
                </a:lnTo>
                <a:lnTo>
                  <a:pt x="334" y="1748"/>
                </a:lnTo>
                <a:lnTo>
                  <a:pt x="355" y="1563"/>
                </a:lnTo>
                <a:lnTo>
                  <a:pt x="340" y="1422"/>
                </a:lnTo>
                <a:lnTo>
                  <a:pt x="330" y="1298"/>
                </a:lnTo>
                <a:lnTo>
                  <a:pt x="309" y="1190"/>
                </a:lnTo>
                <a:lnTo>
                  <a:pt x="276" y="1029"/>
                </a:lnTo>
                <a:lnTo>
                  <a:pt x="255" y="929"/>
                </a:lnTo>
                <a:lnTo>
                  <a:pt x="246" y="836"/>
                </a:lnTo>
                <a:lnTo>
                  <a:pt x="261" y="759"/>
                </a:lnTo>
                <a:lnTo>
                  <a:pt x="285" y="702"/>
                </a:lnTo>
                <a:lnTo>
                  <a:pt x="319" y="671"/>
                </a:lnTo>
                <a:lnTo>
                  <a:pt x="349" y="650"/>
                </a:lnTo>
                <a:lnTo>
                  <a:pt x="301" y="590"/>
                </a:lnTo>
                <a:lnTo>
                  <a:pt x="256" y="495"/>
                </a:lnTo>
                <a:lnTo>
                  <a:pt x="237" y="366"/>
                </a:lnTo>
                <a:lnTo>
                  <a:pt x="246" y="245"/>
                </a:lnTo>
                <a:lnTo>
                  <a:pt x="265" y="173"/>
                </a:lnTo>
                <a:lnTo>
                  <a:pt x="295" y="114"/>
                </a:lnTo>
                <a:lnTo>
                  <a:pt x="296" y="115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Line 4"/>
          <p:cNvSpPr/>
          <p:nvPr/>
        </p:nvSpPr>
        <p:spPr>
          <a:xfrm flipV="1">
            <a:off x="-22320" y="5116680"/>
            <a:ext cx="1273320" cy="288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Freeform 17"/>
          <p:cNvSpPr/>
          <p:nvPr/>
        </p:nvSpPr>
        <p:spPr>
          <a:xfrm>
            <a:off x="1139760" y="2179800"/>
            <a:ext cx="398520" cy="2957400"/>
          </a:xfrm>
          <a:custGeom>
            <a:avLst/>
            <a:gdLst>
              <a:gd name="textAreaLeft" fmla="*/ 0 w 398520"/>
              <a:gd name="textAreaRight" fmla="*/ 398880 w 398520"/>
              <a:gd name="textAreaTop" fmla="*/ 0 h 2957400"/>
              <a:gd name="textAreaBottom" fmla="*/ 2957760 h 2957400"/>
            </a:gdLst>
            <a:ahLst/>
            <a:rect l="textAreaLeft" t="textAreaTop" r="textAreaRight" b="textAreaBottom"/>
            <a:pathLst>
              <a:path w="251" h="1863">
                <a:moveTo>
                  <a:pt x="70" y="1863"/>
                </a:moveTo>
                <a:cubicBezTo>
                  <a:pt x="101" y="1788"/>
                  <a:pt x="117" y="1731"/>
                  <a:pt x="125" y="1659"/>
                </a:cubicBezTo>
                <a:cubicBezTo>
                  <a:pt x="133" y="1587"/>
                  <a:pt x="136" y="1588"/>
                  <a:pt x="122" y="1406"/>
                </a:cubicBezTo>
                <a:cubicBezTo>
                  <a:pt x="108" y="1224"/>
                  <a:pt x="21" y="938"/>
                  <a:pt x="28" y="811"/>
                </a:cubicBezTo>
                <a:cubicBezTo>
                  <a:pt x="35" y="684"/>
                  <a:pt x="112" y="648"/>
                  <a:pt x="127" y="642"/>
                </a:cubicBezTo>
                <a:cubicBezTo>
                  <a:pt x="56" y="570"/>
                  <a:pt x="0" y="453"/>
                  <a:pt x="16" y="265"/>
                </a:cubicBezTo>
                <a:cubicBezTo>
                  <a:pt x="32" y="77"/>
                  <a:pt x="185" y="0"/>
                  <a:pt x="251" y="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Freeform 18"/>
          <p:cNvSpPr/>
          <p:nvPr/>
        </p:nvSpPr>
        <p:spPr>
          <a:xfrm>
            <a:off x="1495440" y="2147760"/>
            <a:ext cx="596880" cy="303480"/>
          </a:xfrm>
          <a:custGeom>
            <a:avLst/>
            <a:gdLst>
              <a:gd name="textAreaLeft" fmla="*/ 0 w 596880"/>
              <a:gd name="textAreaRight" fmla="*/ 597240 w 596880"/>
              <a:gd name="textAreaTop" fmla="*/ 0 h 303480"/>
              <a:gd name="textAreaBottom" fmla="*/ 303840 h 303480"/>
            </a:gdLst>
            <a:ahLst/>
            <a:rect l="textAreaLeft" t="textAreaTop" r="textAreaRight" b="textAreaBottom"/>
            <a:pathLst>
              <a:path w="376" h="191">
                <a:moveTo>
                  <a:pt x="0" y="23"/>
                </a:moveTo>
                <a:cubicBezTo>
                  <a:pt x="46" y="15"/>
                  <a:pt x="118" y="0"/>
                  <a:pt x="216" y="26"/>
                </a:cubicBezTo>
                <a:cubicBezTo>
                  <a:pt x="314" y="52"/>
                  <a:pt x="372" y="125"/>
                  <a:pt x="376" y="191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Freeform 19"/>
          <p:cNvSpPr/>
          <p:nvPr/>
        </p:nvSpPr>
        <p:spPr>
          <a:xfrm>
            <a:off x="1905120" y="2409840"/>
            <a:ext cx="212760" cy="582480"/>
          </a:xfrm>
          <a:custGeom>
            <a:avLst/>
            <a:gdLst>
              <a:gd name="textAreaLeft" fmla="*/ 0 w 212760"/>
              <a:gd name="textAreaRight" fmla="*/ 213120 w 21276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134" h="367">
                <a:moveTo>
                  <a:pt x="114" y="0"/>
                </a:moveTo>
                <a:cubicBezTo>
                  <a:pt x="134" y="114"/>
                  <a:pt x="94" y="107"/>
                  <a:pt x="92" y="143"/>
                </a:cubicBezTo>
                <a:cubicBezTo>
                  <a:pt x="106" y="190"/>
                  <a:pt x="108" y="201"/>
                  <a:pt x="106" y="228"/>
                </a:cubicBezTo>
                <a:cubicBezTo>
                  <a:pt x="104" y="255"/>
                  <a:pt x="88" y="286"/>
                  <a:pt x="80" y="308"/>
                </a:cubicBezTo>
                <a:cubicBezTo>
                  <a:pt x="82" y="334"/>
                  <a:pt x="71" y="349"/>
                  <a:pt x="58" y="358"/>
                </a:cubicBezTo>
                <a:cubicBezTo>
                  <a:pt x="45" y="367"/>
                  <a:pt x="24" y="364"/>
                  <a:pt x="0" y="36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Freeform 20"/>
          <p:cNvSpPr/>
          <p:nvPr/>
        </p:nvSpPr>
        <p:spPr>
          <a:xfrm>
            <a:off x="1913040" y="2979720"/>
            <a:ext cx="704880" cy="692280"/>
          </a:xfrm>
          <a:custGeom>
            <a:avLst/>
            <a:gdLst>
              <a:gd name="textAreaLeft" fmla="*/ 0 w 704880"/>
              <a:gd name="textAreaRight" fmla="*/ 705240 w 70488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444" h="436">
                <a:moveTo>
                  <a:pt x="7" y="0"/>
                </a:moveTo>
                <a:cubicBezTo>
                  <a:pt x="7" y="6"/>
                  <a:pt x="0" y="18"/>
                  <a:pt x="5" y="37"/>
                </a:cubicBezTo>
                <a:cubicBezTo>
                  <a:pt x="45" y="33"/>
                  <a:pt x="82" y="25"/>
                  <a:pt x="129" y="97"/>
                </a:cubicBezTo>
                <a:cubicBezTo>
                  <a:pt x="176" y="169"/>
                  <a:pt x="278" y="306"/>
                  <a:pt x="318" y="348"/>
                </a:cubicBezTo>
                <a:cubicBezTo>
                  <a:pt x="358" y="390"/>
                  <a:pt x="403" y="423"/>
                  <a:pt x="427" y="436"/>
                </a:cubicBezTo>
                <a:lnTo>
                  <a:pt x="444" y="429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Freeform 21"/>
          <p:cNvSpPr/>
          <p:nvPr/>
        </p:nvSpPr>
        <p:spPr>
          <a:xfrm>
            <a:off x="2604960" y="3606840"/>
            <a:ext cx="2441880" cy="1235160"/>
          </a:xfrm>
          <a:custGeom>
            <a:avLst/>
            <a:gdLst/>
            <a:ahLst/>
            <a:rect l="l" t="t" r="r" b="b"/>
            <a:pathLst>
              <a:path w="1538" h="778">
                <a:moveTo>
                  <a:pt x="0" y="38"/>
                </a:moveTo>
                <a:cubicBezTo>
                  <a:pt x="21" y="29"/>
                  <a:pt x="65" y="0"/>
                  <a:pt x="117" y="1"/>
                </a:cubicBezTo>
                <a:cubicBezTo>
                  <a:pt x="169" y="2"/>
                  <a:pt x="191" y="25"/>
                  <a:pt x="227" y="55"/>
                </a:cubicBezTo>
                <a:cubicBezTo>
                  <a:pt x="282" y="64"/>
                  <a:pt x="407" y="51"/>
                  <a:pt x="437" y="47"/>
                </a:cubicBezTo>
                <a:cubicBezTo>
                  <a:pt x="467" y="43"/>
                  <a:pt x="427" y="77"/>
                  <a:pt x="429" y="83"/>
                </a:cubicBezTo>
                <a:cubicBezTo>
                  <a:pt x="441" y="83"/>
                  <a:pt x="443" y="83"/>
                  <a:pt x="455" y="89"/>
                </a:cubicBezTo>
                <a:cubicBezTo>
                  <a:pt x="467" y="95"/>
                  <a:pt x="463" y="104"/>
                  <a:pt x="471" y="106"/>
                </a:cubicBezTo>
                <a:cubicBezTo>
                  <a:pt x="481" y="110"/>
                  <a:pt x="492" y="96"/>
                  <a:pt x="513" y="112"/>
                </a:cubicBezTo>
                <a:cubicBezTo>
                  <a:pt x="530" y="121"/>
                  <a:pt x="603" y="181"/>
                  <a:pt x="599" y="202"/>
                </a:cubicBezTo>
                <a:cubicBezTo>
                  <a:pt x="595" y="223"/>
                  <a:pt x="614" y="230"/>
                  <a:pt x="639" y="251"/>
                </a:cubicBezTo>
                <a:cubicBezTo>
                  <a:pt x="638" y="304"/>
                  <a:pt x="624" y="298"/>
                  <a:pt x="710" y="358"/>
                </a:cubicBezTo>
                <a:cubicBezTo>
                  <a:pt x="787" y="419"/>
                  <a:pt x="984" y="563"/>
                  <a:pt x="1101" y="617"/>
                </a:cubicBezTo>
                <a:cubicBezTo>
                  <a:pt x="1218" y="671"/>
                  <a:pt x="1254" y="684"/>
                  <a:pt x="1323" y="727"/>
                </a:cubicBezTo>
                <a:cubicBezTo>
                  <a:pt x="1392" y="770"/>
                  <a:pt x="1441" y="774"/>
                  <a:pt x="1485" y="761"/>
                </a:cubicBezTo>
                <a:cubicBezTo>
                  <a:pt x="1529" y="748"/>
                  <a:pt x="1531" y="774"/>
                  <a:pt x="1538" y="778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Freeform 22"/>
          <p:cNvSpPr/>
          <p:nvPr/>
        </p:nvSpPr>
        <p:spPr>
          <a:xfrm>
            <a:off x="2048040" y="3500280"/>
            <a:ext cx="396720" cy="343080"/>
          </a:xfrm>
          <a:custGeom>
            <a:avLst/>
            <a:gdLst>
              <a:gd name="textAreaLeft" fmla="*/ 0 w 396720"/>
              <a:gd name="textAreaRight" fmla="*/ 397080 w 39672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50" h="216">
                <a:moveTo>
                  <a:pt x="0" y="0"/>
                </a:moveTo>
                <a:cubicBezTo>
                  <a:pt x="6" y="24"/>
                  <a:pt x="34" y="53"/>
                  <a:pt x="36" y="99"/>
                </a:cubicBezTo>
                <a:cubicBezTo>
                  <a:pt x="38" y="145"/>
                  <a:pt x="24" y="150"/>
                  <a:pt x="23" y="182"/>
                </a:cubicBezTo>
                <a:cubicBezTo>
                  <a:pt x="36" y="198"/>
                  <a:pt x="46" y="211"/>
                  <a:pt x="46" y="211"/>
                </a:cubicBezTo>
                <a:lnTo>
                  <a:pt x="125" y="210"/>
                </a:lnTo>
                <a:lnTo>
                  <a:pt x="214" y="215"/>
                </a:lnTo>
                <a:cubicBezTo>
                  <a:pt x="232" y="213"/>
                  <a:pt x="250" y="216"/>
                  <a:pt x="231" y="198"/>
                </a:cubicBezTo>
                <a:cubicBezTo>
                  <a:pt x="207" y="190"/>
                  <a:pt x="136" y="141"/>
                  <a:pt x="98" y="107"/>
                </a:cubicBezTo>
                <a:cubicBezTo>
                  <a:pt x="60" y="73"/>
                  <a:pt x="48" y="62"/>
                  <a:pt x="0" y="0"/>
                </a:cubicBezTo>
                <a:close/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Freeform 23"/>
          <p:cNvSpPr/>
          <p:nvPr/>
        </p:nvSpPr>
        <p:spPr>
          <a:xfrm>
            <a:off x="2081160" y="4089240"/>
            <a:ext cx="81000" cy="87480"/>
          </a:xfrm>
          <a:custGeom>
            <a:avLst/>
            <a:gdLst>
              <a:gd name="textAreaLeft" fmla="*/ 0 w 81000"/>
              <a:gd name="textAreaRight" fmla="*/ 81360 w 8100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1" h="55">
                <a:moveTo>
                  <a:pt x="6" y="0"/>
                </a:moveTo>
                <a:lnTo>
                  <a:pt x="0" y="55"/>
                </a:lnTo>
                <a:lnTo>
                  <a:pt x="51" y="0"/>
                </a:lnTo>
                <a:lnTo>
                  <a:pt x="6" y="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Freeform 24"/>
          <p:cNvSpPr/>
          <p:nvPr/>
        </p:nvSpPr>
        <p:spPr>
          <a:xfrm>
            <a:off x="3952800" y="4632480"/>
            <a:ext cx="236520" cy="168120"/>
          </a:xfrm>
          <a:custGeom>
            <a:avLst/>
            <a:gdLst>
              <a:gd name="textAreaLeft" fmla="*/ 0 w 236520"/>
              <a:gd name="textAreaRight" fmla="*/ 236880 w 23652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49" h="106">
                <a:moveTo>
                  <a:pt x="0" y="0"/>
                </a:moveTo>
                <a:lnTo>
                  <a:pt x="149" y="106"/>
                </a:lnTo>
                <a:lnTo>
                  <a:pt x="137" y="69"/>
                </a:lnTo>
                <a:lnTo>
                  <a:pt x="0" y="0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Freeform 25"/>
          <p:cNvSpPr/>
          <p:nvPr/>
        </p:nvSpPr>
        <p:spPr>
          <a:xfrm>
            <a:off x="4327560" y="4832280"/>
            <a:ext cx="733320" cy="247680"/>
          </a:xfrm>
          <a:custGeom>
            <a:avLst/>
            <a:gdLst>
              <a:gd name="textAreaLeft" fmla="*/ 0 w 733320"/>
              <a:gd name="textAreaRight" fmla="*/ 733680 w 7333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62" h="156">
                <a:moveTo>
                  <a:pt x="447" y="0"/>
                </a:moveTo>
                <a:cubicBezTo>
                  <a:pt x="462" y="12"/>
                  <a:pt x="429" y="46"/>
                  <a:pt x="408" y="58"/>
                </a:cubicBezTo>
                <a:cubicBezTo>
                  <a:pt x="385" y="74"/>
                  <a:pt x="363" y="81"/>
                  <a:pt x="321" y="84"/>
                </a:cubicBezTo>
                <a:cubicBezTo>
                  <a:pt x="279" y="87"/>
                  <a:pt x="235" y="81"/>
                  <a:pt x="175" y="58"/>
                </a:cubicBezTo>
                <a:cubicBezTo>
                  <a:pt x="171" y="99"/>
                  <a:pt x="157" y="124"/>
                  <a:pt x="124" y="138"/>
                </a:cubicBezTo>
                <a:cubicBezTo>
                  <a:pt x="91" y="152"/>
                  <a:pt x="28" y="155"/>
                  <a:pt x="0" y="156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Freeform 26"/>
          <p:cNvSpPr/>
          <p:nvPr/>
        </p:nvSpPr>
        <p:spPr>
          <a:xfrm>
            <a:off x="2933640" y="4336920"/>
            <a:ext cx="1413000" cy="743040"/>
          </a:xfrm>
          <a:custGeom>
            <a:avLst/>
            <a:gdLst>
              <a:gd name="textAreaLeft" fmla="*/ 0 w 1413000"/>
              <a:gd name="textAreaRight" fmla="*/ 1413000 w 141300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890" h="468">
                <a:moveTo>
                  <a:pt x="890" y="468"/>
                </a:moveTo>
                <a:cubicBezTo>
                  <a:pt x="818" y="466"/>
                  <a:pt x="774" y="442"/>
                  <a:pt x="712" y="434"/>
                </a:cubicBezTo>
                <a:cubicBezTo>
                  <a:pt x="650" y="426"/>
                  <a:pt x="544" y="458"/>
                  <a:pt x="514" y="418"/>
                </a:cubicBezTo>
                <a:cubicBezTo>
                  <a:pt x="484" y="378"/>
                  <a:pt x="529" y="328"/>
                  <a:pt x="480" y="280"/>
                </a:cubicBezTo>
                <a:cubicBezTo>
                  <a:pt x="428" y="220"/>
                  <a:pt x="312" y="184"/>
                  <a:pt x="226" y="142"/>
                </a:cubicBezTo>
                <a:cubicBezTo>
                  <a:pt x="140" y="100"/>
                  <a:pt x="82" y="50"/>
                  <a:pt x="24" y="0"/>
                </a:cubicBezTo>
                <a:cubicBezTo>
                  <a:pt x="14" y="12"/>
                  <a:pt x="12" y="16"/>
                  <a:pt x="0" y="31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Line 30"/>
          <p:cNvSpPr/>
          <p:nvPr/>
        </p:nvSpPr>
        <p:spPr>
          <a:xfrm flipV="1">
            <a:off x="4319640" y="5052600"/>
            <a:ext cx="2844720" cy="2556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Freeform 80"/>
          <p:cNvSpPr/>
          <p:nvPr/>
        </p:nvSpPr>
        <p:spPr>
          <a:xfrm>
            <a:off x="-71280" y="-90360"/>
            <a:ext cx="3944880" cy="5190840"/>
          </a:xfrm>
          <a:custGeom>
            <a:avLst/>
            <a:gdLst>
              <a:gd name="textAreaLeft" fmla="*/ 0 w 3944880"/>
              <a:gd name="textAreaRight" fmla="*/ 3945240 w 3944880"/>
              <a:gd name="textAreaTop" fmla="*/ 0 h 5190840"/>
              <a:gd name="textAreaBottom" fmla="*/ 5191200 h 5190840"/>
            </a:gdLst>
            <a:ahLst/>
            <a:rect l="textAreaLeft" t="textAreaTop" r="textAreaRight" b="textAreaBottom"/>
            <a:pathLst>
              <a:path w="2485" h="3270">
                <a:moveTo>
                  <a:pt x="816" y="3216"/>
                </a:moveTo>
                <a:cubicBezTo>
                  <a:pt x="789" y="3199"/>
                  <a:pt x="732" y="3198"/>
                  <a:pt x="684" y="3171"/>
                </a:cubicBezTo>
                <a:cubicBezTo>
                  <a:pt x="636" y="3144"/>
                  <a:pt x="574" y="3114"/>
                  <a:pt x="528" y="3057"/>
                </a:cubicBezTo>
                <a:cubicBezTo>
                  <a:pt x="482" y="3000"/>
                  <a:pt x="437" y="2924"/>
                  <a:pt x="405" y="2826"/>
                </a:cubicBezTo>
                <a:cubicBezTo>
                  <a:pt x="373" y="2728"/>
                  <a:pt x="343" y="2576"/>
                  <a:pt x="333" y="2469"/>
                </a:cubicBezTo>
                <a:cubicBezTo>
                  <a:pt x="323" y="2362"/>
                  <a:pt x="350" y="2273"/>
                  <a:pt x="345" y="2181"/>
                </a:cubicBezTo>
                <a:cubicBezTo>
                  <a:pt x="340" y="2089"/>
                  <a:pt x="302" y="1998"/>
                  <a:pt x="300" y="1917"/>
                </a:cubicBezTo>
                <a:cubicBezTo>
                  <a:pt x="298" y="1836"/>
                  <a:pt x="297" y="1803"/>
                  <a:pt x="333" y="1695"/>
                </a:cubicBezTo>
                <a:cubicBezTo>
                  <a:pt x="369" y="1587"/>
                  <a:pt x="452" y="1370"/>
                  <a:pt x="519" y="1269"/>
                </a:cubicBezTo>
                <a:cubicBezTo>
                  <a:pt x="586" y="1168"/>
                  <a:pt x="671" y="1129"/>
                  <a:pt x="735" y="1092"/>
                </a:cubicBezTo>
                <a:cubicBezTo>
                  <a:pt x="799" y="1055"/>
                  <a:pt x="852" y="1074"/>
                  <a:pt x="903" y="1050"/>
                </a:cubicBezTo>
                <a:lnTo>
                  <a:pt x="1044" y="948"/>
                </a:lnTo>
                <a:lnTo>
                  <a:pt x="903" y="1020"/>
                </a:lnTo>
                <a:lnTo>
                  <a:pt x="813" y="1041"/>
                </a:lnTo>
                <a:lnTo>
                  <a:pt x="840" y="963"/>
                </a:lnTo>
                <a:lnTo>
                  <a:pt x="969" y="885"/>
                </a:lnTo>
                <a:lnTo>
                  <a:pt x="1077" y="831"/>
                </a:lnTo>
                <a:lnTo>
                  <a:pt x="1182" y="804"/>
                </a:lnTo>
                <a:lnTo>
                  <a:pt x="1056" y="810"/>
                </a:lnTo>
                <a:lnTo>
                  <a:pt x="1179" y="731"/>
                </a:lnTo>
                <a:lnTo>
                  <a:pt x="1313" y="647"/>
                </a:lnTo>
                <a:lnTo>
                  <a:pt x="1523" y="545"/>
                </a:lnTo>
                <a:lnTo>
                  <a:pt x="1735" y="521"/>
                </a:lnTo>
                <a:lnTo>
                  <a:pt x="1625" y="501"/>
                </a:lnTo>
                <a:lnTo>
                  <a:pt x="1699" y="469"/>
                </a:lnTo>
                <a:lnTo>
                  <a:pt x="1885" y="403"/>
                </a:lnTo>
                <a:lnTo>
                  <a:pt x="2315" y="219"/>
                </a:lnTo>
                <a:lnTo>
                  <a:pt x="2485" y="169"/>
                </a:lnTo>
                <a:lnTo>
                  <a:pt x="2313" y="203"/>
                </a:lnTo>
                <a:lnTo>
                  <a:pt x="2027" y="315"/>
                </a:lnTo>
                <a:lnTo>
                  <a:pt x="1963" y="331"/>
                </a:lnTo>
                <a:lnTo>
                  <a:pt x="2023" y="239"/>
                </a:lnTo>
                <a:lnTo>
                  <a:pt x="2071" y="167"/>
                </a:lnTo>
                <a:lnTo>
                  <a:pt x="1889" y="367"/>
                </a:lnTo>
                <a:lnTo>
                  <a:pt x="1629" y="461"/>
                </a:lnTo>
                <a:lnTo>
                  <a:pt x="1275" y="643"/>
                </a:lnTo>
                <a:lnTo>
                  <a:pt x="1281" y="619"/>
                </a:lnTo>
                <a:lnTo>
                  <a:pt x="1221" y="667"/>
                </a:lnTo>
                <a:lnTo>
                  <a:pt x="1293" y="585"/>
                </a:lnTo>
                <a:lnTo>
                  <a:pt x="1351" y="529"/>
                </a:lnTo>
                <a:lnTo>
                  <a:pt x="1297" y="557"/>
                </a:lnTo>
                <a:lnTo>
                  <a:pt x="1201" y="665"/>
                </a:lnTo>
                <a:lnTo>
                  <a:pt x="1104" y="744"/>
                </a:lnTo>
                <a:lnTo>
                  <a:pt x="945" y="873"/>
                </a:lnTo>
                <a:lnTo>
                  <a:pt x="828" y="927"/>
                </a:lnTo>
                <a:lnTo>
                  <a:pt x="858" y="828"/>
                </a:lnTo>
                <a:lnTo>
                  <a:pt x="879" y="780"/>
                </a:lnTo>
                <a:lnTo>
                  <a:pt x="945" y="735"/>
                </a:lnTo>
                <a:lnTo>
                  <a:pt x="894" y="735"/>
                </a:lnTo>
                <a:lnTo>
                  <a:pt x="921" y="684"/>
                </a:lnTo>
                <a:lnTo>
                  <a:pt x="825" y="822"/>
                </a:lnTo>
                <a:lnTo>
                  <a:pt x="840" y="711"/>
                </a:lnTo>
                <a:lnTo>
                  <a:pt x="900" y="600"/>
                </a:lnTo>
                <a:cubicBezTo>
                  <a:pt x="903" y="587"/>
                  <a:pt x="873" y="614"/>
                  <a:pt x="858" y="633"/>
                </a:cubicBezTo>
                <a:cubicBezTo>
                  <a:pt x="843" y="652"/>
                  <a:pt x="820" y="675"/>
                  <a:pt x="810" y="714"/>
                </a:cubicBezTo>
                <a:lnTo>
                  <a:pt x="798" y="867"/>
                </a:lnTo>
                <a:cubicBezTo>
                  <a:pt x="793" y="908"/>
                  <a:pt x="799" y="935"/>
                  <a:pt x="780" y="963"/>
                </a:cubicBezTo>
                <a:cubicBezTo>
                  <a:pt x="761" y="991"/>
                  <a:pt x="713" y="1019"/>
                  <a:pt x="681" y="1038"/>
                </a:cubicBezTo>
                <a:cubicBezTo>
                  <a:pt x="649" y="1057"/>
                  <a:pt x="618" y="1059"/>
                  <a:pt x="588" y="1080"/>
                </a:cubicBezTo>
                <a:cubicBezTo>
                  <a:pt x="558" y="1101"/>
                  <a:pt x="518" y="1160"/>
                  <a:pt x="501" y="1164"/>
                </a:cubicBezTo>
                <a:cubicBezTo>
                  <a:pt x="484" y="1168"/>
                  <a:pt x="475" y="1138"/>
                  <a:pt x="486" y="1104"/>
                </a:cubicBezTo>
                <a:cubicBezTo>
                  <a:pt x="497" y="1070"/>
                  <a:pt x="542" y="994"/>
                  <a:pt x="567" y="960"/>
                </a:cubicBezTo>
                <a:cubicBezTo>
                  <a:pt x="592" y="926"/>
                  <a:pt x="617" y="924"/>
                  <a:pt x="636" y="897"/>
                </a:cubicBezTo>
                <a:cubicBezTo>
                  <a:pt x="655" y="870"/>
                  <a:pt x="666" y="824"/>
                  <a:pt x="681" y="795"/>
                </a:cubicBezTo>
                <a:lnTo>
                  <a:pt x="726" y="723"/>
                </a:lnTo>
                <a:lnTo>
                  <a:pt x="708" y="711"/>
                </a:lnTo>
                <a:cubicBezTo>
                  <a:pt x="708" y="711"/>
                  <a:pt x="663" y="757"/>
                  <a:pt x="648" y="783"/>
                </a:cubicBezTo>
                <a:cubicBezTo>
                  <a:pt x="633" y="809"/>
                  <a:pt x="635" y="844"/>
                  <a:pt x="618" y="870"/>
                </a:cubicBezTo>
                <a:cubicBezTo>
                  <a:pt x="601" y="896"/>
                  <a:pt x="557" y="946"/>
                  <a:pt x="543" y="942"/>
                </a:cubicBezTo>
                <a:cubicBezTo>
                  <a:pt x="529" y="938"/>
                  <a:pt x="527" y="879"/>
                  <a:pt x="534" y="849"/>
                </a:cubicBezTo>
                <a:cubicBezTo>
                  <a:pt x="541" y="819"/>
                  <a:pt x="571" y="782"/>
                  <a:pt x="588" y="762"/>
                </a:cubicBezTo>
                <a:lnTo>
                  <a:pt x="636" y="732"/>
                </a:lnTo>
                <a:lnTo>
                  <a:pt x="648" y="687"/>
                </a:lnTo>
                <a:lnTo>
                  <a:pt x="561" y="759"/>
                </a:lnTo>
                <a:lnTo>
                  <a:pt x="570" y="699"/>
                </a:lnTo>
                <a:lnTo>
                  <a:pt x="534" y="762"/>
                </a:lnTo>
                <a:cubicBezTo>
                  <a:pt x="523" y="786"/>
                  <a:pt x="508" y="811"/>
                  <a:pt x="504" y="846"/>
                </a:cubicBezTo>
                <a:cubicBezTo>
                  <a:pt x="500" y="881"/>
                  <a:pt x="513" y="933"/>
                  <a:pt x="507" y="975"/>
                </a:cubicBezTo>
                <a:cubicBezTo>
                  <a:pt x="500" y="1015"/>
                  <a:pt x="470" y="1050"/>
                  <a:pt x="459" y="1089"/>
                </a:cubicBezTo>
                <a:cubicBezTo>
                  <a:pt x="448" y="1128"/>
                  <a:pt x="469" y="1153"/>
                  <a:pt x="441" y="1209"/>
                </a:cubicBezTo>
                <a:cubicBezTo>
                  <a:pt x="413" y="1265"/>
                  <a:pt x="330" y="1377"/>
                  <a:pt x="291" y="1425"/>
                </a:cubicBezTo>
                <a:cubicBezTo>
                  <a:pt x="252" y="1473"/>
                  <a:pt x="231" y="1498"/>
                  <a:pt x="207" y="1497"/>
                </a:cubicBezTo>
                <a:cubicBezTo>
                  <a:pt x="183" y="1496"/>
                  <a:pt x="156" y="1451"/>
                  <a:pt x="147" y="1422"/>
                </a:cubicBezTo>
                <a:cubicBezTo>
                  <a:pt x="138" y="1393"/>
                  <a:pt x="136" y="1364"/>
                  <a:pt x="153" y="1323"/>
                </a:cubicBezTo>
                <a:cubicBezTo>
                  <a:pt x="170" y="1282"/>
                  <a:pt x="215" y="1214"/>
                  <a:pt x="249" y="1173"/>
                </a:cubicBezTo>
                <a:lnTo>
                  <a:pt x="360" y="1080"/>
                </a:lnTo>
                <a:lnTo>
                  <a:pt x="408" y="1062"/>
                </a:lnTo>
                <a:lnTo>
                  <a:pt x="453" y="999"/>
                </a:lnTo>
                <a:lnTo>
                  <a:pt x="417" y="1008"/>
                </a:lnTo>
                <a:lnTo>
                  <a:pt x="360" y="1050"/>
                </a:lnTo>
                <a:lnTo>
                  <a:pt x="414" y="933"/>
                </a:lnTo>
                <a:lnTo>
                  <a:pt x="393" y="924"/>
                </a:lnTo>
                <a:cubicBezTo>
                  <a:pt x="379" y="943"/>
                  <a:pt x="349" y="1014"/>
                  <a:pt x="327" y="1047"/>
                </a:cubicBezTo>
                <a:cubicBezTo>
                  <a:pt x="306" y="1082"/>
                  <a:pt x="270" y="1129"/>
                  <a:pt x="261" y="1125"/>
                </a:cubicBezTo>
                <a:lnTo>
                  <a:pt x="273" y="1026"/>
                </a:lnTo>
                <a:lnTo>
                  <a:pt x="261" y="993"/>
                </a:lnTo>
                <a:cubicBezTo>
                  <a:pt x="255" y="1010"/>
                  <a:pt x="248" y="1094"/>
                  <a:pt x="237" y="1128"/>
                </a:cubicBezTo>
                <a:cubicBezTo>
                  <a:pt x="228" y="1157"/>
                  <a:pt x="208" y="1185"/>
                  <a:pt x="192" y="1200"/>
                </a:cubicBezTo>
                <a:lnTo>
                  <a:pt x="138" y="1221"/>
                </a:lnTo>
                <a:cubicBezTo>
                  <a:pt x="125" y="1205"/>
                  <a:pt x="111" y="1154"/>
                  <a:pt x="111" y="1104"/>
                </a:cubicBezTo>
                <a:cubicBezTo>
                  <a:pt x="111" y="1054"/>
                  <a:pt x="119" y="978"/>
                  <a:pt x="141" y="921"/>
                </a:cubicBezTo>
                <a:cubicBezTo>
                  <a:pt x="141" y="921"/>
                  <a:pt x="208" y="806"/>
                  <a:pt x="246" y="759"/>
                </a:cubicBezTo>
                <a:cubicBezTo>
                  <a:pt x="283" y="716"/>
                  <a:pt x="322" y="679"/>
                  <a:pt x="369" y="636"/>
                </a:cubicBezTo>
                <a:cubicBezTo>
                  <a:pt x="416" y="593"/>
                  <a:pt x="496" y="532"/>
                  <a:pt x="528" y="501"/>
                </a:cubicBezTo>
                <a:lnTo>
                  <a:pt x="558" y="474"/>
                </a:lnTo>
                <a:cubicBezTo>
                  <a:pt x="587" y="458"/>
                  <a:pt x="667" y="426"/>
                  <a:pt x="705" y="405"/>
                </a:cubicBezTo>
                <a:cubicBezTo>
                  <a:pt x="743" y="387"/>
                  <a:pt x="761" y="364"/>
                  <a:pt x="786" y="345"/>
                </a:cubicBezTo>
                <a:lnTo>
                  <a:pt x="879" y="291"/>
                </a:lnTo>
                <a:lnTo>
                  <a:pt x="780" y="330"/>
                </a:lnTo>
                <a:cubicBezTo>
                  <a:pt x="753" y="344"/>
                  <a:pt x="755" y="358"/>
                  <a:pt x="720" y="372"/>
                </a:cubicBezTo>
                <a:cubicBezTo>
                  <a:pt x="685" y="386"/>
                  <a:pt x="575" y="436"/>
                  <a:pt x="570" y="417"/>
                </a:cubicBezTo>
                <a:lnTo>
                  <a:pt x="750" y="228"/>
                </a:lnTo>
                <a:lnTo>
                  <a:pt x="822" y="180"/>
                </a:lnTo>
                <a:lnTo>
                  <a:pt x="924" y="138"/>
                </a:lnTo>
                <a:lnTo>
                  <a:pt x="1365" y="0"/>
                </a:lnTo>
                <a:lnTo>
                  <a:pt x="1110" y="72"/>
                </a:lnTo>
                <a:lnTo>
                  <a:pt x="936" y="111"/>
                </a:lnTo>
                <a:cubicBezTo>
                  <a:pt x="878" y="131"/>
                  <a:pt x="821" y="152"/>
                  <a:pt x="765" y="189"/>
                </a:cubicBezTo>
                <a:cubicBezTo>
                  <a:pt x="723" y="205"/>
                  <a:pt x="625" y="332"/>
                  <a:pt x="597" y="333"/>
                </a:cubicBezTo>
                <a:cubicBezTo>
                  <a:pt x="569" y="334"/>
                  <a:pt x="602" y="185"/>
                  <a:pt x="594" y="195"/>
                </a:cubicBezTo>
                <a:cubicBezTo>
                  <a:pt x="584" y="191"/>
                  <a:pt x="571" y="341"/>
                  <a:pt x="546" y="393"/>
                </a:cubicBezTo>
                <a:cubicBezTo>
                  <a:pt x="524" y="445"/>
                  <a:pt x="490" y="478"/>
                  <a:pt x="459" y="510"/>
                </a:cubicBezTo>
                <a:lnTo>
                  <a:pt x="360" y="585"/>
                </a:lnTo>
                <a:lnTo>
                  <a:pt x="270" y="657"/>
                </a:lnTo>
                <a:lnTo>
                  <a:pt x="294" y="549"/>
                </a:lnTo>
                <a:lnTo>
                  <a:pt x="351" y="459"/>
                </a:lnTo>
                <a:lnTo>
                  <a:pt x="306" y="498"/>
                </a:lnTo>
                <a:cubicBezTo>
                  <a:pt x="292" y="516"/>
                  <a:pt x="281" y="535"/>
                  <a:pt x="270" y="567"/>
                </a:cubicBezTo>
                <a:cubicBezTo>
                  <a:pt x="254" y="607"/>
                  <a:pt x="255" y="650"/>
                  <a:pt x="240" y="687"/>
                </a:cubicBezTo>
                <a:lnTo>
                  <a:pt x="186" y="765"/>
                </a:lnTo>
                <a:lnTo>
                  <a:pt x="129" y="816"/>
                </a:lnTo>
                <a:lnTo>
                  <a:pt x="117" y="723"/>
                </a:lnTo>
                <a:cubicBezTo>
                  <a:pt x="112" y="690"/>
                  <a:pt x="97" y="648"/>
                  <a:pt x="96" y="615"/>
                </a:cubicBezTo>
                <a:cubicBezTo>
                  <a:pt x="99" y="582"/>
                  <a:pt x="100" y="549"/>
                  <a:pt x="111" y="522"/>
                </a:cubicBezTo>
                <a:cubicBezTo>
                  <a:pt x="122" y="495"/>
                  <a:pt x="163" y="457"/>
                  <a:pt x="162" y="450"/>
                </a:cubicBezTo>
                <a:lnTo>
                  <a:pt x="102" y="480"/>
                </a:lnTo>
                <a:lnTo>
                  <a:pt x="63" y="342"/>
                </a:lnTo>
                <a:cubicBezTo>
                  <a:pt x="52" y="307"/>
                  <a:pt x="33" y="247"/>
                  <a:pt x="33" y="267"/>
                </a:cubicBezTo>
                <a:cubicBezTo>
                  <a:pt x="33" y="287"/>
                  <a:pt x="60" y="415"/>
                  <a:pt x="66" y="465"/>
                </a:cubicBezTo>
                <a:cubicBezTo>
                  <a:pt x="72" y="515"/>
                  <a:pt x="71" y="538"/>
                  <a:pt x="69" y="567"/>
                </a:cubicBezTo>
                <a:cubicBezTo>
                  <a:pt x="63" y="600"/>
                  <a:pt x="65" y="619"/>
                  <a:pt x="54" y="642"/>
                </a:cubicBezTo>
                <a:lnTo>
                  <a:pt x="0" y="708"/>
                </a:lnTo>
                <a:lnTo>
                  <a:pt x="0" y="2502"/>
                </a:lnTo>
                <a:lnTo>
                  <a:pt x="30" y="2535"/>
                </a:lnTo>
                <a:cubicBezTo>
                  <a:pt x="37" y="2563"/>
                  <a:pt x="43" y="2627"/>
                  <a:pt x="42" y="2673"/>
                </a:cubicBezTo>
                <a:cubicBezTo>
                  <a:pt x="41" y="2719"/>
                  <a:pt x="30" y="2709"/>
                  <a:pt x="24" y="2811"/>
                </a:cubicBezTo>
                <a:lnTo>
                  <a:pt x="3" y="3270"/>
                </a:lnTo>
                <a:lnTo>
                  <a:pt x="843" y="3270"/>
                </a:lnTo>
                <a:lnTo>
                  <a:pt x="816" y="321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Freeform 81"/>
          <p:cNvSpPr/>
          <p:nvPr/>
        </p:nvSpPr>
        <p:spPr>
          <a:xfrm rot="18334800">
            <a:off x="541080" y="979200"/>
            <a:ext cx="231840" cy="235080"/>
          </a:xfrm>
          <a:custGeom>
            <a:avLst/>
            <a:gdLst>
              <a:gd name="textAreaLeft" fmla="*/ 0 w 231840"/>
              <a:gd name="textAreaRight" fmla="*/ 232200 w 2318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Freeform 82"/>
          <p:cNvSpPr/>
          <p:nvPr/>
        </p:nvSpPr>
        <p:spPr>
          <a:xfrm>
            <a:off x="-108000" y="-171360"/>
            <a:ext cx="304920" cy="307800"/>
          </a:xfrm>
          <a:custGeom>
            <a:avLst/>
            <a:gdLst>
              <a:gd name="textAreaLeft" fmla="*/ 0 w 304920"/>
              <a:gd name="textAreaRight" fmla="*/ 305280 w 3049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Freeform 83"/>
          <p:cNvSpPr/>
          <p:nvPr/>
        </p:nvSpPr>
        <p:spPr>
          <a:xfrm rot="1659600">
            <a:off x="34920" y="-17136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Freeform 84"/>
          <p:cNvSpPr/>
          <p:nvPr/>
        </p:nvSpPr>
        <p:spPr>
          <a:xfrm rot="7299000">
            <a:off x="900720" y="119592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Freeform 104"/>
          <p:cNvSpPr/>
          <p:nvPr/>
        </p:nvSpPr>
        <p:spPr>
          <a:xfrm rot="4679400">
            <a:off x="901080" y="4248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Freeform 105"/>
          <p:cNvSpPr/>
          <p:nvPr/>
        </p:nvSpPr>
        <p:spPr>
          <a:xfrm rot="9998400">
            <a:off x="1258560" y="11520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Freeform 106"/>
          <p:cNvSpPr/>
          <p:nvPr/>
        </p:nvSpPr>
        <p:spPr>
          <a:xfrm rot="1659600">
            <a:off x="34560" y="83628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Freeform 107"/>
          <p:cNvSpPr/>
          <p:nvPr/>
        </p:nvSpPr>
        <p:spPr>
          <a:xfrm rot="7299000">
            <a:off x="1043640" y="979920"/>
            <a:ext cx="160560" cy="162000"/>
          </a:xfrm>
          <a:custGeom>
            <a:avLst/>
            <a:gdLst>
              <a:gd name="textAreaLeft" fmla="*/ 0 w 160560"/>
              <a:gd name="textAreaRight" fmla="*/ 160920 w 160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Freeform 108"/>
          <p:cNvSpPr/>
          <p:nvPr/>
        </p:nvSpPr>
        <p:spPr>
          <a:xfrm rot="7299000">
            <a:off x="1043640" y="47520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Freeform 109"/>
          <p:cNvSpPr/>
          <p:nvPr/>
        </p:nvSpPr>
        <p:spPr>
          <a:xfrm rot="7299000">
            <a:off x="108720" y="69120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Freeform 110"/>
          <p:cNvSpPr/>
          <p:nvPr/>
        </p:nvSpPr>
        <p:spPr>
          <a:xfrm rot="4138800">
            <a:off x="-33840" y="18792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Freeform 111"/>
          <p:cNvSpPr/>
          <p:nvPr/>
        </p:nvSpPr>
        <p:spPr>
          <a:xfrm rot="18334800">
            <a:off x="3278160" y="187200"/>
            <a:ext cx="231840" cy="234720"/>
          </a:xfrm>
          <a:custGeom>
            <a:avLst/>
            <a:gdLst>
              <a:gd name="textAreaLeft" fmla="*/ 0 w 231840"/>
              <a:gd name="textAreaRight" fmla="*/ 232200 w 2318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Freeform 112"/>
          <p:cNvSpPr/>
          <p:nvPr/>
        </p:nvSpPr>
        <p:spPr>
          <a:xfrm>
            <a:off x="684360" y="4428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Freeform 113"/>
          <p:cNvSpPr/>
          <p:nvPr/>
        </p:nvSpPr>
        <p:spPr>
          <a:xfrm rot="2478000">
            <a:off x="1258560" y="-24264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Freeform 114"/>
          <p:cNvSpPr/>
          <p:nvPr/>
        </p:nvSpPr>
        <p:spPr>
          <a:xfrm rot="7299000">
            <a:off x="3948840" y="31320"/>
            <a:ext cx="360360" cy="306360"/>
          </a:xfrm>
          <a:custGeom>
            <a:avLst/>
            <a:gdLst>
              <a:gd name="textAreaLeft" fmla="*/ 0 w 360360"/>
              <a:gd name="textAreaRight" fmla="*/ 360720 w 360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Freeform 115"/>
          <p:cNvSpPr/>
          <p:nvPr/>
        </p:nvSpPr>
        <p:spPr>
          <a:xfrm>
            <a:off x="2843280" y="33336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Freeform 116"/>
          <p:cNvSpPr/>
          <p:nvPr/>
        </p:nvSpPr>
        <p:spPr>
          <a:xfrm rot="5231400">
            <a:off x="1118520" y="-10224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Freeform 117"/>
          <p:cNvSpPr/>
          <p:nvPr/>
        </p:nvSpPr>
        <p:spPr>
          <a:xfrm rot="839400">
            <a:off x="2556000" y="-9972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Freeform 118"/>
          <p:cNvSpPr/>
          <p:nvPr/>
        </p:nvSpPr>
        <p:spPr>
          <a:xfrm rot="7299000">
            <a:off x="4352040" y="-19440"/>
            <a:ext cx="168480" cy="131760"/>
          </a:xfrm>
          <a:custGeom>
            <a:avLst/>
            <a:gdLst>
              <a:gd name="textAreaLeft" fmla="*/ 0 w 168480"/>
              <a:gd name="textAreaRight" fmla="*/ 168840 w 16848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Freeform 119"/>
          <p:cNvSpPr/>
          <p:nvPr/>
        </p:nvSpPr>
        <p:spPr>
          <a:xfrm rot="8542200">
            <a:off x="3714120" y="50400"/>
            <a:ext cx="376200" cy="298440"/>
          </a:xfrm>
          <a:custGeom>
            <a:avLst/>
            <a:gdLst>
              <a:gd name="textAreaLeft" fmla="*/ 0 w 376200"/>
              <a:gd name="textAreaRight" fmla="*/ 376560 w 3762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Freeform 120"/>
          <p:cNvSpPr/>
          <p:nvPr/>
        </p:nvSpPr>
        <p:spPr>
          <a:xfrm rot="7299000">
            <a:off x="900720" y="18792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Freeform 121"/>
          <p:cNvSpPr/>
          <p:nvPr/>
        </p:nvSpPr>
        <p:spPr>
          <a:xfrm rot="7299000">
            <a:off x="827640" y="33228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Freeform 122"/>
          <p:cNvSpPr/>
          <p:nvPr/>
        </p:nvSpPr>
        <p:spPr>
          <a:xfrm rot="10530000">
            <a:off x="4419360" y="-11520"/>
            <a:ext cx="177840" cy="112680"/>
          </a:xfrm>
          <a:custGeom>
            <a:avLst/>
            <a:gdLst>
              <a:gd name="textAreaLeft" fmla="*/ 0 w 177840"/>
              <a:gd name="textAreaRight" fmla="*/ 178200 w 1778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Freeform 123"/>
          <p:cNvSpPr/>
          <p:nvPr/>
        </p:nvSpPr>
        <p:spPr>
          <a:xfrm rot="663000">
            <a:off x="4282560" y="-96840"/>
            <a:ext cx="162000" cy="139680"/>
          </a:xfrm>
          <a:custGeom>
            <a:avLst/>
            <a:gdLst>
              <a:gd name="textAreaLeft" fmla="*/ 0 w 162000"/>
              <a:gd name="textAreaRight" fmla="*/ 162360 w 16200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Freeform 124"/>
          <p:cNvSpPr/>
          <p:nvPr/>
        </p:nvSpPr>
        <p:spPr>
          <a:xfrm rot="3349800">
            <a:off x="3636000" y="43200"/>
            <a:ext cx="160560" cy="162000"/>
          </a:xfrm>
          <a:custGeom>
            <a:avLst/>
            <a:gdLst>
              <a:gd name="textAreaLeft" fmla="*/ 0 w 160560"/>
              <a:gd name="textAreaRight" fmla="*/ 160920 w 160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Freeform 125"/>
          <p:cNvSpPr/>
          <p:nvPr/>
        </p:nvSpPr>
        <p:spPr>
          <a:xfrm rot="3349800">
            <a:off x="2988360" y="-2772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Freeform 126"/>
          <p:cNvSpPr/>
          <p:nvPr/>
        </p:nvSpPr>
        <p:spPr>
          <a:xfrm rot="7299000">
            <a:off x="3708000" y="33300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Freeform 127"/>
          <p:cNvSpPr/>
          <p:nvPr/>
        </p:nvSpPr>
        <p:spPr>
          <a:xfrm rot="10530000">
            <a:off x="3779640" y="33336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Freeform 128"/>
          <p:cNvSpPr/>
          <p:nvPr/>
        </p:nvSpPr>
        <p:spPr>
          <a:xfrm rot="663000">
            <a:off x="3564000" y="33336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Freeform 129"/>
          <p:cNvSpPr/>
          <p:nvPr/>
        </p:nvSpPr>
        <p:spPr>
          <a:xfrm>
            <a:off x="1332000" y="54936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Freeform 130"/>
          <p:cNvSpPr/>
          <p:nvPr/>
        </p:nvSpPr>
        <p:spPr>
          <a:xfrm rot="7299000">
            <a:off x="3347640" y="47592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Freeform 131"/>
          <p:cNvSpPr/>
          <p:nvPr/>
        </p:nvSpPr>
        <p:spPr>
          <a:xfrm rot="10530000">
            <a:off x="1692000" y="134100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Freeform 132"/>
          <p:cNvSpPr/>
          <p:nvPr/>
        </p:nvSpPr>
        <p:spPr>
          <a:xfrm rot="663000">
            <a:off x="3203640" y="47628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Freeform 133"/>
          <p:cNvSpPr/>
          <p:nvPr/>
        </p:nvSpPr>
        <p:spPr>
          <a:xfrm rot="7299000">
            <a:off x="1546920" y="1341000"/>
            <a:ext cx="71640" cy="71640"/>
          </a:xfrm>
          <a:custGeom>
            <a:avLst/>
            <a:gdLst>
              <a:gd name="textAreaLeft" fmla="*/ 0 w 71640"/>
              <a:gd name="textAreaRight" fmla="*/ 72000 w 7164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Freeform 134"/>
          <p:cNvSpPr/>
          <p:nvPr/>
        </p:nvSpPr>
        <p:spPr>
          <a:xfrm rot="10530000">
            <a:off x="971280" y="170028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Freeform 135"/>
          <p:cNvSpPr/>
          <p:nvPr/>
        </p:nvSpPr>
        <p:spPr>
          <a:xfrm rot="663000">
            <a:off x="1403280" y="1413000"/>
            <a:ext cx="71640" cy="71280"/>
          </a:xfrm>
          <a:custGeom>
            <a:avLst/>
            <a:gdLst>
              <a:gd name="textAreaLeft" fmla="*/ 0 w 71640"/>
              <a:gd name="textAreaRight" fmla="*/ 72000 w 7164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Freeform 136"/>
          <p:cNvSpPr/>
          <p:nvPr/>
        </p:nvSpPr>
        <p:spPr>
          <a:xfrm rot="12703200">
            <a:off x="1618920" y="4392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Freeform 137"/>
          <p:cNvSpPr/>
          <p:nvPr/>
        </p:nvSpPr>
        <p:spPr>
          <a:xfrm rot="8034000">
            <a:off x="2269080" y="25920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Freeform 138"/>
          <p:cNvSpPr/>
          <p:nvPr/>
        </p:nvSpPr>
        <p:spPr>
          <a:xfrm rot="8874600">
            <a:off x="1980720" y="-172800"/>
            <a:ext cx="303480" cy="308160"/>
          </a:xfrm>
          <a:custGeom>
            <a:avLst/>
            <a:gdLst>
              <a:gd name="textAreaLeft" fmla="*/ 0 w 303480"/>
              <a:gd name="textAreaRight" fmla="*/ 303840 w 3034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Freeform 139"/>
          <p:cNvSpPr/>
          <p:nvPr/>
        </p:nvSpPr>
        <p:spPr>
          <a:xfrm rot="11401200">
            <a:off x="1258200" y="90756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Freeform 140"/>
          <p:cNvSpPr/>
          <p:nvPr/>
        </p:nvSpPr>
        <p:spPr>
          <a:xfrm rot="4679400">
            <a:off x="1765080" y="-172800"/>
            <a:ext cx="215640" cy="219240"/>
          </a:xfrm>
          <a:custGeom>
            <a:avLst/>
            <a:gdLst>
              <a:gd name="textAreaLeft" fmla="*/ 0 w 215640"/>
              <a:gd name="textAreaRight" fmla="*/ 216000 w 21564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Freeform 141"/>
          <p:cNvSpPr/>
          <p:nvPr/>
        </p:nvSpPr>
        <p:spPr>
          <a:xfrm rot="495600">
            <a:off x="1547640" y="-17136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Freeform 142"/>
          <p:cNvSpPr/>
          <p:nvPr/>
        </p:nvSpPr>
        <p:spPr>
          <a:xfrm rot="4679400">
            <a:off x="540720" y="547200"/>
            <a:ext cx="215640" cy="219240"/>
          </a:xfrm>
          <a:custGeom>
            <a:avLst/>
            <a:gdLst>
              <a:gd name="textAreaLeft" fmla="*/ 0 w 215640"/>
              <a:gd name="textAreaRight" fmla="*/ 216000 w 21564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Freeform 143"/>
          <p:cNvSpPr/>
          <p:nvPr/>
        </p:nvSpPr>
        <p:spPr>
          <a:xfrm rot="4679400">
            <a:off x="685800" y="40284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Freeform 144"/>
          <p:cNvSpPr/>
          <p:nvPr/>
        </p:nvSpPr>
        <p:spPr>
          <a:xfrm rot="1591200">
            <a:off x="394920" y="62028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Freeform 145"/>
          <p:cNvSpPr/>
          <p:nvPr/>
        </p:nvSpPr>
        <p:spPr>
          <a:xfrm rot="1591200">
            <a:off x="250560" y="764640"/>
            <a:ext cx="215640" cy="219240"/>
          </a:xfrm>
          <a:custGeom>
            <a:avLst/>
            <a:gdLst>
              <a:gd name="textAreaLeft" fmla="*/ 0 w 215640"/>
              <a:gd name="textAreaRight" fmla="*/ 216000 w 21564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Freeform 146"/>
          <p:cNvSpPr/>
          <p:nvPr/>
        </p:nvSpPr>
        <p:spPr>
          <a:xfrm rot="1591200">
            <a:off x="394920" y="119664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Freeform 147"/>
          <p:cNvSpPr/>
          <p:nvPr/>
        </p:nvSpPr>
        <p:spPr>
          <a:xfrm rot="1591200">
            <a:off x="-36360" y="475920"/>
            <a:ext cx="215640" cy="218880"/>
          </a:xfrm>
          <a:custGeom>
            <a:avLst/>
            <a:gdLst>
              <a:gd name="textAreaLeft" fmla="*/ 0 w 215640"/>
              <a:gd name="textAreaRight" fmla="*/ 216000 w 21564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Freeform 148"/>
          <p:cNvSpPr/>
          <p:nvPr/>
        </p:nvSpPr>
        <p:spPr>
          <a:xfrm rot="5231400">
            <a:off x="468720" y="1265760"/>
            <a:ext cx="303480" cy="308160"/>
          </a:xfrm>
          <a:custGeom>
            <a:avLst/>
            <a:gdLst>
              <a:gd name="textAreaLeft" fmla="*/ 0 w 303480"/>
              <a:gd name="textAreaRight" fmla="*/ 303840 w 3034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Freeform 149"/>
          <p:cNvSpPr/>
          <p:nvPr/>
        </p:nvSpPr>
        <p:spPr>
          <a:xfrm rot="5231400">
            <a:off x="181800" y="25776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Freeform 150"/>
          <p:cNvSpPr/>
          <p:nvPr/>
        </p:nvSpPr>
        <p:spPr>
          <a:xfrm rot="4679400">
            <a:off x="1051920" y="71568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Freeform 151"/>
          <p:cNvSpPr/>
          <p:nvPr/>
        </p:nvSpPr>
        <p:spPr>
          <a:xfrm rot="9998400">
            <a:off x="394920" y="11520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Freeform 152"/>
          <p:cNvSpPr/>
          <p:nvPr/>
        </p:nvSpPr>
        <p:spPr>
          <a:xfrm rot="7299000">
            <a:off x="35640" y="546480"/>
            <a:ext cx="160560" cy="162000"/>
          </a:xfrm>
          <a:custGeom>
            <a:avLst/>
            <a:gdLst>
              <a:gd name="textAreaLeft" fmla="*/ 0 w 160560"/>
              <a:gd name="textAreaRight" fmla="*/ 160920 w 160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Freeform 153"/>
          <p:cNvSpPr/>
          <p:nvPr/>
        </p:nvSpPr>
        <p:spPr>
          <a:xfrm>
            <a:off x="611280" y="76500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Freeform 154"/>
          <p:cNvSpPr/>
          <p:nvPr/>
        </p:nvSpPr>
        <p:spPr>
          <a:xfrm rot="2478000">
            <a:off x="468000" y="33336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Freeform 155"/>
          <p:cNvSpPr/>
          <p:nvPr/>
        </p:nvSpPr>
        <p:spPr>
          <a:xfrm rot="5231400">
            <a:off x="109800" y="-3060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Freeform 156"/>
          <p:cNvSpPr/>
          <p:nvPr/>
        </p:nvSpPr>
        <p:spPr>
          <a:xfrm rot="7299000">
            <a:off x="-106200" y="69084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Freeform 157"/>
          <p:cNvSpPr/>
          <p:nvPr/>
        </p:nvSpPr>
        <p:spPr>
          <a:xfrm rot="3199800">
            <a:off x="251280" y="619920"/>
            <a:ext cx="160560" cy="162000"/>
          </a:xfrm>
          <a:custGeom>
            <a:avLst/>
            <a:gdLst>
              <a:gd name="textAreaLeft" fmla="*/ 0 w 160560"/>
              <a:gd name="textAreaRight" fmla="*/ 160920 w 160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Freeform 158"/>
          <p:cNvSpPr/>
          <p:nvPr/>
        </p:nvSpPr>
        <p:spPr>
          <a:xfrm rot="6252000">
            <a:off x="37080" y="18648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Freeform 159"/>
          <p:cNvSpPr/>
          <p:nvPr/>
        </p:nvSpPr>
        <p:spPr>
          <a:xfrm rot="8874600">
            <a:off x="973080" y="-10188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Freeform 160"/>
          <p:cNvSpPr/>
          <p:nvPr/>
        </p:nvSpPr>
        <p:spPr>
          <a:xfrm rot="4679400">
            <a:off x="612720" y="-10152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Freeform 161"/>
          <p:cNvSpPr/>
          <p:nvPr/>
        </p:nvSpPr>
        <p:spPr>
          <a:xfrm rot="495600">
            <a:off x="395280" y="-10008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Freeform 162"/>
          <p:cNvSpPr/>
          <p:nvPr/>
        </p:nvSpPr>
        <p:spPr>
          <a:xfrm rot="4679400">
            <a:off x="180360" y="47448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Freeform 163"/>
          <p:cNvSpPr/>
          <p:nvPr/>
        </p:nvSpPr>
        <p:spPr>
          <a:xfrm rot="1560000">
            <a:off x="34560" y="33336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Freeform 164"/>
          <p:cNvSpPr/>
          <p:nvPr/>
        </p:nvSpPr>
        <p:spPr>
          <a:xfrm rot="5231400">
            <a:off x="-32760" y="42120"/>
            <a:ext cx="303480" cy="307800"/>
          </a:xfrm>
          <a:custGeom>
            <a:avLst/>
            <a:gdLst>
              <a:gd name="textAreaLeft" fmla="*/ 0 w 303480"/>
              <a:gd name="textAreaRight" fmla="*/ 303840 w 3034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Freeform 165"/>
          <p:cNvSpPr/>
          <p:nvPr/>
        </p:nvSpPr>
        <p:spPr>
          <a:xfrm rot="4679400">
            <a:off x="469800" y="4248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Freeform 166"/>
          <p:cNvSpPr/>
          <p:nvPr/>
        </p:nvSpPr>
        <p:spPr>
          <a:xfrm rot="495600">
            <a:off x="324000" y="115560"/>
            <a:ext cx="215640" cy="218880"/>
          </a:xfrm>
          <a:custGeom>
            <a:avLst/>
            <a:gdLst>
              <a:gd name="textAreaLeft" fmla="*/ 0 w 215640"/>
              <a:gd name="textAreaRight" fmla="*/ 216000 w 21564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Freeform 167"/>
          <p:cNvSpPr/>
          <p:nvPr/>
        </p:nvSpPr>
        <p:spPr>
          <a:xfrm rot="9998400">
            <a:off x="610920" y="69156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Freeform 168"/>
          <p:cNvSpPr/>
          <p:nvPr/>
        </p:nvSpPr>
        <p:spPr>
          <a:xfrm rot="7992000">
            <a:off x="757800" y="54648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Freeform 169"/>
          <p:cNvSpPr/>
          <p:nvPr/>
        </p:nvSpPr>
        <p:spPr>
          <a:xfrm rot="4679400">
            <a:off x="1044000" y="25848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Freeform 170"/>
          <p:cNvSpPr/>
          <p:nvPr/>
        </p:nvSpPr>
        <p:spPr>
          <a:xfrm rot="495600">
            <a:off x="900000" y="33300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Freeform 171"/>
          <p:cNvSpPr/>
          <p:nvPr/>
        </p:nvSpPr>
        <p:spPr>
          <a:xfrm rot="7299000">
            <a:off x="1260000" y="170316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Freeform 172"/>
          <p:cNvSpPr/>
          <p:nvPr/>
        </p:nvSpPr>
        <p:spPr>
          <a:xfrm rot="10530000">
            <a:off x="3058920" y="62028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Freeform 173"/>
          <p:cNvSpPr/>
          <p:nvPr/>
        </p:nvSpPr>
        <p:spPr>
          <a:xfrm rot="663000">
            <a:off x="1116000" y="162864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Freeform 174"/>
          <p:cNvSpPr/>
          <p:nvPr/>
        </p:nvSpPr>
        <p:spPr>
          <a:xfrm rot="7299000">
            <a:off x="826200" y="1844280"/>
            <a:ext cx="71640" cy="71640"/>
          </a:xfrm>
          <a:custGeom>
            <a:avLst/>
            <a:gdLst>
              <a:gd name="textAreaLeft" fmla="*/ 0 w 71640"/>
              <a:gd name="textAreaRight" fmla="*/ 72000 w 7164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Freeform 175"/>
          <p:cNvSpPr/>
          <p:nvPr/>
        </p:nvSpPr>
        <p:spPr>
          <a:xfrm rot="10530000">
            <a:off x="1331640" y="155736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Freeform 176"/>
          <p:cNvSpPr/>
          <p:nvPr/>
        </p:nvSpPr>
        <p:spPr>
          <a:xfrm rot="663000">
            <a:off x="900000" y="1773360"/>
            <a:ext cx="71640" cy="71280"/>
          </a:xfrm>
          <a:custGeom>
            <a:avLst/>
            <a:gdLst>
              <a:gd name="textAreaLeft" fmla="*/ 0 w 71640"/>
              <a:gd name="textAreaRight" fmla="*/ 72000 w 7164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Freeform 177"/>
          <p:cNvSpPr/>
          <p:nvPr/>
        </p:nvSpPr>
        <p:spPr>
          <a:xfrm rot="7299000">
            <a:off x="2123280" y="907560"/>
            <a:ext cx="71640" cy="71640"/>
          </a:xfrm>
          <a:custGeom>
            <a:avLst/>
            <a:gdLst>
              <a:gd name="textAreaLeft" fmla="*/ 0 w 71640"/>
              <a:gd name="textAreaRight" fmla="*/ 72000 w 7164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Freeform 178"/>
          <p:cNvSpPr/>
          <p:nvPr/>
        </p:nvSpPr>
        <p:spPr>
          <a:xfrm rot="10530000">
            <a:off x="1979280" y="98064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Freeform 179"/>
          <p:cNvSpPr/>
          <p:nvPr/>
        </p:nvSpPr>
        <p:spPr>
          <a:xfrm rot="663000">
            <a:off x="1835280" y="98100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Freeform 180"/>
          <p:cNvSpPr/>
          <p:nvPr/>
        </p:nvSpPr>
        <p:spPr>
          <a:xfrm rot="7299000">
            <a:off x="1618920" y="119700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Freeform 181"/>
          <p:cNvSpPr/>
          <p:nvPr/>
        </p:nvSpPr>
        <p:spPr>
          <a:xfrm rot="10530000">
            <a:off x="1762920" y="1125000"/>
            <a:ext cx="71640" cy="71640"/>
          </a:xfrm>
          <a:custGeom>
            <a:avLst/>
            <a:gdLst>
              <a:gd name="textAreaLeft" fmla="*/ 0 w 71640"/>
              <a:gd name="textAreaRight" fmla="*/ 72000 w 7164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Freeform 182"/>
          <p:cNvSpPr/>
          <p:nvPr/>
        </p:nvSpPr>
        <p:spPr>
          <a:xfrm rot="663000">
            <a:off x="1692360" y="105264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Freeform 183"/>
          <p:cNvSpPr/>
          <p:nvPr/>
        </p:nvSpPr>
        <p:spPr>
          <a:xfrm rot="10530000">
            <a:off x="1042200" y="1628280"/>
            <a:ext cx="71640" cy="71640"/>
          </a:xfrm>
          <a:custGeom>
            <a:avLst/>
            <a:gdLst>
              <a:gd name="textAreaLeft" fmla="*/ 0 w 71640"/>
              <a:gd name="textAreaRight" fmla="*/ 72000 w 7164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Freeform 184"/>
          <p:cNvSpPr/>
          <p:nvPr/>
        </p:nvSpPr>
        <p:spPr>
          <a:xfrm rot="3349800">
            <a:off x="1693080" y="119592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Freeform 185"/>
          <p:cNvSpPr/>
          <p:nvPr/>
        </p:nvSpPr>
        <p:spPr>
          <a:xfrm rot="3349800">
            <a:off x="324000" y="1988640"/>
            <a:ext cx="160560" cy="161640"/>
          </a:xfrm>
          <a:custGeom>
            <a:avLst/>
            <a:gdLst>
              <a:gd name="textAreaLeft" fmla="*/ 0 w 160560"/>
              <a:gd name="textAreaRight" fmla="*/ 160920 w 16056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Freeform 186"/>
          <p:cNvSpPr/>
          <p:nvPr/>
        </p:nvSpPr>
        <p:spPr>
          <a:xfrm rot="9998400">
            <a:off x="250920" y="126792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Freeform 187"/>
          <p:cNvSpPr/>
          <p:nvPr/>
        </p:nvSpPr>
        <p:spPr>
          <a:xfrm rot="7299000">
            <a:off x="35640" y="155628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Freeform 188"/>
          <p:cNvSpPr/>
          <p:nvPr/>
        </p:nvSpPr>
        <p:spPr>
          <a:xfrm rot="2478000">
            <a:off x="178920" y="1052280"/>
            <a:ext cx="303480" cy="307800"/>
          </a:xfrm>
          <a:custGeom>
            <a:avLst/>
            <a:gdLst>
              <a:gd name="textAreaLeft" fmla="*/ 0 w 303480"/>
              <a:gd name="textAreaRight" fmla="*/ 303840 w 3034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Freeform 189"/>
          <p:cNvSpPr/>
          <p:nvPr/>
        </p:nvSpPr>
        <p:spPr>
          <a:xfrm>
            <a:off x="755640" y="126828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Freeform 190"/>
          <p:cNvSpPr/>
          <p:nvPr/>
        </p:nvSpPr>
        <p:spPr>
          <a:xfrm rot="5231400">
            <a:off x="109800" y="133884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Freeform 191"/>
          <p:cNvSpPr/>
          <p:nvPr/>
        </p:nvSpPr>
        <p:spPr>
          <a:xfrm rot="839400">
            <a:off x="1476360" y="76500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Freeform 192"/>
          <p:cNvSpPr/>
          <p:nvPr/>
        </p:nvSpPr>
        <p:spPr>
          <a:xfrm rot="3349800">
            <a:off x="1043640" y="1340280"/>
            <a:ext cx="160560" cy="162000"/>
          </a:xfrm>
          <a:custGeom>
            <a:avLst/>
            <a:gdLst>
              <a:gd name="textAreaLeft" fmla="*/ 0 w 160560"/>
              <a:gd name="textAreaRight" fmla="*/ 160920 w 160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Freeform 193"/>
          <p:cNvSpPr/>
          <p:nvPr/>
        </p:nvSpPr>
        <p:spPr>
          <a:xfrm rot="12703200">
            <a:off x="1116000" y="47592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Freeform 194"/>
          <p:cNvSpPr/>
          <p:nvPr/>
        </p:nvSpPr>
        <p:spPr>
          <a:xfrm rot="8034000">
            <a:off x="1259640" y="105012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Freeform 195"/>
          <p:cNvSpPr/>
          <p:nvPr/>
        </p:nvSpPr>
        <p:spPr>
          <a:xfrm rot="8874600">
            <a:off x="1115640" y="26028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Freeform 196"/>
          <p:cNvSpPr/>
          <p:nvPr/>
        </p:nvSpPr>
        <p:spPr>
          <a:xfrm rot="4679400">
            <a:off x="685800" y="155556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Freeform 197"/>
          <p:cNvSpPr/>
          <p:nvPr/>
        </p:nvSpPr>
        <p:spPr>
          <a:xfrm rot="495600">
            <a:off x="395280" y="90756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Freeform 198"/>
          <p:cNvSpPr/>
          <p:nvPr/>
        </p:nvSpPr>
        <p:spPr>
          <a:xfrm rot="4679400">
            <a:off x="109440" y="162684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Freeform 199"/>
          <p:cNvSpPr/>
          <p:nvPr/>
        </p:nvSpPr>
        <p:spPr>
          <a:xfrm rot="9998400">
            <a:off x="394920" y="177264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Freeform 200"/>
          <p:cNvSpPr/>
          <p:nvPr/>
        </p:nvSpPr>
        <p:spPr>
          <a:xfrm rot="7299000">
            <a:off x="469080" y="169920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Freeform 201"/>
          <p:cNvSpPr/>
          <p:nvPr/>
        </p:nvSpPr>
        <p:spPr>
          <a:xfrm rot="2478000">
            <a:off x="107640" y="198900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Freeform 202"/>
          <p:cNvSpPr/>
          <p:nvPr/>
        </p:nvSpPr>
        <p:spPr>
          <a:xfrm>
            <a:off x="1835280" y="-2700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Freeform 203"/>
          <p:cNvSpPr/>
          <p:nvPr/>
        </p:nvSpPr>
        <p:spPr>
          <a:xfrm rot="5231400">
            <a:off x="109800" y="177084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Freeform 204"/>
          <p:cNvSpPr/>
          <p:nvPr/>
        </p:nvSpPr>
        <p:spPr>
          <a:xfrm rot="839400">
            <a:off x="1547640" y="44280"/>
            <a:ext cx="303480" cy="308160"/>
          </a:xfrm>
          <a:custGeom>
            <a:avLst/>
            <a:gdLst>
              <a:gd name="textAreaLeft" fmla="*/ 0 w 303480"/>
              <a:gd name="textAreaRight" fmla="*/ 303840 w 3034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Freeform 205"/>
          <p:cNvSpPr/>
          <p:nvPr/>
        </p:nvSpPr>
        <p:spPr>
          <a:xfrm rot="3349800">
            <a:off x="1835640" y="835920"/>
            <a:ext cx="160200" cy="161640"/>
          </a:xfrm>
          <a:custGeom>
            <a:avLst/>
            <a:gdLst>
              <a:gd name="textAreaLeft" fmla="*/ 0 w 160200"/>
              <a:gd name="textAreaRight" fmla="*/ 160560 w 1602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Freeform 206"/>
          <p:cNvSpPr/>
          <p:nvPr/>
        </p:nvSpPr>
        <p:spPr>
          <a:xfrm rot="12703200">
            <a:off x="610920" y="184428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Freeform 207"/>
          <p:cNvSpPr/>
          <p:nvPr/>
        </p:nvSpPr>
        <p:spPr>
          <a:xfrm rot="8034000">
            <a:off x="1405440" y="33048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Freeform 208"/>
          <p:cNvSpPr/>
          <p:nvPr/>
        </p:nvSpPr>
        <p:spPr>
          <a:xfrm rot="8874600">
            <a:off x="1618920" y="40464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Freeform 209"/>
          <p:cNvSpPr/>
          <p:nvPr/>
        </p:nvSpPr>
        <p:spPr>
          <a:xfrm rot="4679400">
            <a:off x="1044000" y="169848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Freeform 210"/>
          <p:cNvSpPr/>
          <p:nvPr/>
        </p:nvSpPr>
        <p:spPr>
          <a:xfrm rot="495600">
            <a:off x="826920" y="169992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Freeform 211"/>
          <p:cNvSpPr/>
          <p:nvPr/>
        </p:nvSpPr>
        <p:spPr>
          <a:xfrm rot="4679400">
            <a:off x="325440" y="169848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Freeform 212"/>
          <p:cNvSpPr/>
          <p:nvPr/>
        </p:nvSpPr>
        <p:spPr>
          <a:xfrm rot="1659600">
            <a:off x="1763640" y="-10008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Freeform 213"/>
          <p:cNvSpPr/>
          <p:nvPr/>
        </p:nvSpPr>
        <p:spPr>
          <a:xfrm rot="4679400">
            <a:off x="1046160" y="690480"/>
            <a:ext cx="215640" cy="218880"/>
          </a:xfrm>
          <a:custGeom>
            <a:avLst/>
            <a:gdLst>
              <a:gd name="textAreaLeft" fmla="*/ 0 w 215640"/>
              <a:gd name="textAreaRight" fmla="*/ 216000 w 21564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Freeform 214"/>
          <p:cNvSpPr/>
          <p:nvPr/>
        </p:nvSpPr>
        <p:spPr>
          <a:xfrm rot="9998400">
            <a:off x="2482920" y="4392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Freeform 215"/>
          <p:cNvSpPr/>
          <p:nvPr/>
        </p:nvSpPr>
        <p:spPr>
          <a:xfrm rot="7299000">
            <a:off x="1188000" y="112284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Freeform 216"/>
          <p:cNvSpPr/>
          <p:nvPr/>
        </p:nvSpPr>
        <p:spPr>
          <a:xfrm rot="7299000">
            <a:off x="1837440" y="76248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Freeform 217"/>
          <p:cNvSpPr/>
          <p:nvPr/>
        </p:nvSpPr>
        <p:spPr>
          <a:xfrm>
            <a:off x="828720" y="69228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Freeform 218"/>
          <p:cNvSpPr/>
          <p:nvPr/>
        </p:nvSpPr>
        <p:spPr>
          <a:xfrm rot="2478000">
            <a:off x="3201480" y="-96840"/>
            <a:ext cx="303480" cy="307800"/>
          </a:xfrm>
          <a:custGeom>
            <a:avLst/>
            <a:gdLst>
              <a:gd name="textAreaLeft" fmla="*/ 0 w 303480"/>
              <a:gd name="textAreaRight" fmla="*/ 303840 w 3034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Freeform 219"/>
          <p:cNvSpPr/>
          <p:nvPr/>
        </p:nvSpPr>
        <p:spPr>
          <a:xfrm rot="5231400">
            <a:off x="1262520" y="545040"/>
            <a:ext cx="303480" cy="308160"/>
          </a:xfrm>
          <a:custGeom>
            <a:avLst/>
            <a:gdLst>
              <a:gd name="textAreaLeft" fmla="*/ 0 w 303480"/>
              <a:gd name="textAreaRight" fmla="*/ 303840 w 3034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Freeform 220"/>
          <p:cNvSpPr/>
          <p:nvPr/>
        </p:nvSpPr>
        <p:spPr>
          <a:xfrm rot="7299000">
            <a:off x="1044720" y="835920"/>
            <a:ext cx="160200" cy="161640"/>
          </a:xfrm>
          <a:custGeom>
            <a:avLst/>
            <a:gdLst>
              <a:gd name="textAreaLeft" fmla="*/ 0 w 160200"/>
              <a:gd name="textAreaRight" fmla="*/ 160560 w 1602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Freeform 221"/>
          <p:cNvSpPr/>
          <p:nvPr/>
        </p:nvSpPr>
        <p:spPr>
          <a:xfrm rot="7299000">
            <a:off x="972360" y="979920"/>
            <a:ext cx="160560" cy="162000"/>
          </a:xfrm>
          <a:custGeom>
            <a:avLst/>
            <a:gdLst>
              <a:gd name="textAreaLeft" fmla="*/ 0 w 160560"/>
              <a:gd name="textAreaRight" fmla="*/ 160920 w 160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Freeform 222"/>
          <p:cNvSpPr/>
          <p:nvPr/>
        </p:nvSpPr>
        <p:spPr>
          <a:xfrm rot="10149600">
            <a:off x="2484360" y="47556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Freeform 223"/>
          <p:cNvSpPr/>
          <p:nvPr/>
        </p:nvSpPr>
        <p:spPr>
          <a:xfrm rot="12703200">
            <a:off x="2842920" y="-2700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Freeform 224"/>
          <p:cNvSpPr/>
          <p:nvPr/>
        </p:nvSpPr>
        <p:spPr>
          <a:xfrm rot="8034000">
            <a:off x="2197440" y="762480"/>
            <a:ext cx="303480" cy="307800"/>
          </a:xfrm>
          <a:custGeom>
            <a:avLst/>
            <a:gdLst>
              <a:gd name="textAreaLeft" fmla="*/ 0 w 303480"/>
              <a:gd name="textAreaRight" fmla="*/ 303840 w 3034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Freeform 225"/>
          <p:cNvSpPr/>
          <p:nvPr/>
        </p:nvSpPr>
        <p:spPr>
          <a:xfrm rot="8874600">
            <a:off x="3058920" y="188640"/>
            <a:ext cx="322200" cy="261720"/>
          </a:xfrm>
          <a:custGeom>
            <a:avLst/>
            <a:gdLst>
              <a:gd name="textAreaLeft" fmla="*/ 0 w 322200"/>
              <a:gd name="textAreaRight" fmla="*/ 322200 w 32220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Freeform 226"/>
          <p:cNvSpPr/>
          <p:nvPr/>
        </p:nvSpPr>
        <p:spPr>
          <a:xfrm rot="4679400">
            <a:off x="3708360" y="-2700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Freeform 227"/>
          <p:cNvSpPr/>
          <p:nvPr/>
        </p:nvSpPr>
        <p:spPr>
          <a:xfrm rot="1664400">
            <a:off x="3444840" y="-144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Freeform 228"/>
          <p:cNvSpPr/>
          <p:nvPr/>
        </p:nvSpPr>
        <p:spPr>
          <a:xfrm rot="4679400">
            <a:off x="2269440" y="61884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Freeform 229"/>
          <p:cNvSpPr/>
          <p:nvPr/>
        </p:nvSpPr>
        <p:spPr>
          <a:xfrm rot="4679400">
            <a:off x="2414520" y="47448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Freeform 230"/>
          <p:cNvSpPr/>
          <p:nvPr/>
        </p:nvSpPr>
        <p:spPr>
          <a:xfrm rot="1591200">
            <a:off x="2123640" y="69192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Freeform 231"/>
          <p:cNvSpPr/>
          <p:nvPr/>
        </p:nvSpPr>
        <p:spPr>
          <a:xfrm rot="5231400">
            <a:off x="1910520" y="32940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Freeform 232"/>
          <p:cNvSpPr/>
          <p:nvPr/>
        </p:nvSpPr>
        <p:spPr>
          <a:xfrm rot="4679400">
            <a:off x="1197000" y="136332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Freeform 233"/>
          <p:cNvSpPr/>
          <p:nvPr/>
        </p:nvSpPr>
        <p:spPr>
          <a:xfrm rot="9998400">
            <a:off x="2124000" y="18684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Freeform 234"/>
          <p:cNvSpPr/>
          <p:nvPr/>
        </p:nvSpPr>
        <p:spPr>
          <a:xfrm rot="7299000">
            <a:off x="1764360" y="61812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Freeform 235"/>
          <p:cNvSpPr/>
          <p:nvPr/>
        </p:nvSpPr>
        <p:spPr>
          <a:xfrm rot="2478000">
            <a:off x="2196720" y="40464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Freeform 236"/>
          <p:cNvSpPr/>
          <p:nvPr/>
        </p:nvSpPr>
        <p:spPr>
          <a:xfrm rot="5231400">
            <a:off x="1837080" y="4032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Freeform 237"/>
          <p:cNvSpPr/>
          <p:nvPr/>
        </p:nvSpPr>
        <p:spPr>
          <a:xfrm rot="3199800">
            <a:off x="1980360" y="69120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Freeform 238"/>
          <p:cNvSpPr/>
          <p:nvPr/>
        </p:nvSpPr>
        <p:spPr>
          <a:xfrm rot="6252000">
            <a:off x="1765800" y="25776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Freeform 239"/>
          <p:cNvSpPr/>
          <p:nvPr/>
        </p:nvSpPr>
        <p:spPr>
          <a:xfrm rot="8874600">
            <a:off x="1117080" y="545760"/>
            <a:ext cx="303480" cy="307800"/>
          </a:xfrm>
          <a:custGeom>
            <a:avLst/>
            <a:gdLst>
              <a:gd name="textAreaLeft" fmla="*/ 0 w 303480"/>
              <a:gd name="textAreaRight" fmla="*/ 303840 w 3034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Freeform 240"/>
          <p:cNvSpPr/>
          <p:nvPr/>
        </p:nvSpPr>
        <p:spPr>
          <a:xfrm rot="4679400">
            <a:off x="2341440" y="-29880"/>
            <a:ext cx="215640" cy="218880"/>
          </a:xfrm>
          <a:custGeom>
            <a:avLst/>
            <a:gdLst>
              <a:gd name="textAreaLeft" fmla="*/ 0 w 215640"/>
              <a:gd name="textAreaRight" fmla="*/ 216000 w 21564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Freeform 241"/>
          <p:cNvSpPr/>
          <p:nvPr/>
        </p:nvSpPr>
        <p:spPr>
          <a:xfrm rot="495600">
            <a:off x="2124000" y="-2844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Freeform 242"/>
          <p:cNvSpPr/>
          <p:nvPr/>
        </p:nvSpPr>
        <p:spPr>
          <a:xfrm rot="4679400">
            <a:off x="1909080" y="54576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Freeform 243"/>
          <p:cNvSpPr/>
          <p:nvPr/>
        </p:nvSpPr>
        <p:spPr>
          <a:xfrm rot="1560000">
            <a:off x="1763280" y="40464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Freeform 244"/>
          <p:cNvSpPr/>
          <p:nvPr/>
        </p:nvSpPr>
        <p:spPr>
          <a:xfrm rot="4679400">
            <a:off x="2198160" y="11412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Freeform 245"/>
          <p:cNvSpPr/>
          <p:nvPr/>
        </p:nvSpPr>
        <p:spPr>
          <a:xfrm rot="495600">
            <a:off x="2052720" y="186840"/>
            <a:ext cx="215640" cy="219240"/>
          </a:xfrm>
          <a:custGeom>
            <a:avLst/>
            <a:gdLst>
              <a:gd name="textAreaLeft" fmla="*/ 0 w 215640"/>
              <a:gd name="textAreaRight" fmla="*/ 216000 w 21564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Freeform 246"/>
          <p:cNvSpPr/>
          <p:nvPr/>
        </p:nvSpPr>
        <p:spPr>
          <a:xfrm rot="7992000">
            <a:off x="902160" y="119412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Freeform 247"/>
          <p:cNvSpPr/>
          <p:nvPr/>
        </p:nvSpPr>
        <p:spPr>
          <a:xfrm rot="4679400">
            <a:off x="1188360" y="90612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Freeform 248"/>
          <p:cNvSpPr/>
          <p:nvPr/>
        </p:nvSpPr>
        <p:spPr>
          <a:xfrm rot="495600">
            <a:off x="1044720" y="980640"/>
            <a:ext cx="215640" cy="219240"/>
          </a:xfrm>
          <a:custGeom>
            <a:avLst/>
            <a:gdLst>
              <a:gd name="textAreaLeft" fmla="*/ 0 w 215640"/>
              <a:gd name="textAreaRight" fmla="*/ 216000 w 21564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Freeform 249"/>
          <p:cNvSpPr/>
          <p:nvPr/>
        </p:nvSpPr>
        <p:spPr>
          <a:xfrm rot="7299000">
            <a:off x="3347640" y="83628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Freeform 250"/>
          <p:cNvSpPr/>
          <p:nvPr/>
        </p:nvSpPr>
        <p:spPr>
          <a:xfrm rot="12703200">
            <a:off x="1259640" y="1123560"/>
            <a:ext cx="303480" cy="308160"/>
          </a:xfrm>
          <a:custGeom>
            <a:avLst/>
            <a:gdLst>
              <a:gd name="textAreaLeft" fmla="*/ 0 w 303480"/>
              <a:gd name="textAreaRight" fmla="*/ 303840 w 3034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Freeform 251"/>
          <p:cNvSpPr/>
          <p:nvPr/>
        </p:nvSpPr>
        <p:spPr>
          <a:xfrm rot="8874600">
            <a:off x="1260000" y="907920"/>
            <a:ext cx="303480" cy="308160"/>
          </a:xfrm>
          <a:custGeom>
            <a:avLst/>
            <a:gdLst>
              <a:gd name="textAreaLeft" fmla="*/ 0 w 303480"/>
              <a:gd name="textAreaRight" fmla="*/ 303840 w 3034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Freeform 252"/>
          <p:cNvSpPr/>
          <p:nvPr/>
        </p:nvSpPr>
        <p:spPr>
          <a:xfrm>
            <a:off x="3059280" y="-9828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Freeform 253"/>
          <p:cNvSpPr/>
          <p:nvPr/>
        </p:nvSpPr>
        <p:spPr>
          <a:xfrm rot="839400">
            <a:off x="2771640" y="-26640"/>
            <a:ext cx="303480" cy="308160"/>
          </a:xfrm>
          <a:custGeom>
            <a:avLst/>
            <a:gdLst>
              <a:gd name="textAreaLeft" fmla="*/ 0 w 303480"/>
              <a:gd name="textAreaRight" fmla="*/ 303840 w 3034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Freeform 254"/>
          <p:cNvSpPr/>
          <p:nvPr/>
        </p:nvSpPr>
        <p:spPr>
          <a:xfrm rot="8034000">
            <a:off x="2628000" y="25956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Freeform 255"/>
          <p:cNvSpPr/>
          <p:nvPr/>
        </p:nvSpPr>
        <p:spPr>
          <a:xfrm rot="8874600">
            <a:off x="2842920" y="33336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Freeform 256"/>
          <p:cNvSpPr/>
          <p:nvPr/>
        </p:nvSpPr>
        <p:spPr>
          <a:xfrm rot="7299000">
            <a:off x="2989080" y="83664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Freeform 257"/>
          <p:cNvSpPr/>
          <p:nvPr/>
        </p:nvSpPr>
        <p:spPr>
          <a:xfrm rot="10530000">
            <a:off x="2483640" y="764640"/>
            <a:ext cx="71640" cy="71640"/>
          </a:xfrm>
          <a:custGeom>
            <a:avLst/>
            <a:gdLst>
              <a:gd name="textAreaLeft" fmla="*/ 0 w 71640"/>
              <a:gd name="textAreaRight" fmla="*/ 72000 w 7164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Freeform 258"/>
          <p:cNvSpPr/>
          <p:nvPr/>
        </p:nvSpPr>
        <p:spPr>
          <a:xfrm rot="663000">
            <a:off x="1692360" y="90792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Freeform 259"/>
          <p:cNvSpPr/>
          <p:nvPr/>
        </p:nvSpPr>
        <p:spPr>
          <a:xfrm rot="10530000">
            <a:off x="1689840" y="693720"/>
            <a:ext cx="71640" cy="71280"/>
          </a:xfrm>
          <a:custGeom>
            <a:avLst/>
            <a:gdLst>
              <a:gd name="textAreaLeft" fmla="*/ 0 w 71640"/>
              <a:gd name="textAreaRight" fmla="*/ 72000 w 7164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Freeform 260"/>
          <p:cNvSpPr/>
          <p:nvPr/>
        </p:nvSpPr>
        <p:spPr>
          <a:xfrm rot="663000">
            <a:off x="1619280" y="62064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Freeform 261"/>
          <p:cNvSpPr/>
          <p:nvPr/>
        </p:nvSpPr>
        <p:spPr>
          <a:xfrm rot="10988400">
            <a:off x="2484000" y="620640"/>
            <a:ext cx="160560" cy="162000"/>
          </a:xfrm>
          <a:custGeom>
            <a:avLst/>
            <a:gdLst>
              <a:gd name="textAreaLeft" fmla="*/ 0 w 160560"/>
              <a:gd name="textAreaRight" fmla="*/ 160920 w 160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Freeform 262"/>
          <p:cNvSpPr/>
          <p:nvPr/>
        </p:nvSpPr>
        <p:spPr>
          <a:xfrm rot="7299000">
            <a:off x="2702520" y="69120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Freeform 263"/>
          <p:cNvSpPr/>
          <p:nvPr/>
        </p:nvSpPr>
        <p:spPr>
          <a:xfrm rot="8429400">
            <a:off x="2843280" y="69228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Freeform 264"/>
          <p:cNvSpPr/>
          <p:nvPr/>
        </p:nvSpPr>
        <p:spPr>
          <a:xfrm rot="3199800">
            <a:off x="2845080" y="619920"/>
            <a:ext cx="160560" cy="162000"/>
          </a:xfrm>
          <a:custGeom>
            <a:avLst/>
            <a:gdLst>
              <a:gd name="textAreaLeft" fmla="*/ 0 w 160560"/>
              <a:gd name="textAreaRight" fmla="*/ 160920 w 160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Freeform 265"/>
          <p:cNvSpPr/>
          <p:nvPr/>
        </p:nvSpPr>
        <p:spPr>
          <a:xfrm rot="495600">
            <a:off x="3294000" y="6624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Freeform 269"/>
          <p:cNvSpPr/>
          <p:nvPr/>
        </p:nvSpPr>
        <p:spPr>
          <a:xfrm rot="7299000">
            <a:off x="3132720" y="-53244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Freeform 297"/>
          <p:cNvSpPr/>
          <p:nvPr/>
        </p:nvSpPr>
        <p:spPr>
          <a:xfrm rot="10530000">
            <a:off x="1906200" y="-385200"/>
            <a:ext cx="71640" cy="71640"/>
          </a:xfrm>
          <a:custGeom>
            <a:avLst/>
            <a:gdLst>
              <a:gd name="textAreaLeft" fmla="*/ 0 w 71640"/>
              <a:gd name="textAreaRight" fmla="*/ 72000 w 7164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Freeform 301"/>
          <p:cNvSpPr/>
          <p:nvPr/>
        </p:nvSpPr>
        <p:spPr>
          <a:xfrm rot="663000">
            <a:off x="2987640" y="-387000"/>
            <a:ext cx="71640" cy="71280"/>
          </a:xfrm>
          <a:custGeom>
            <a:avLst/>
            <a:gdLst>
              <a:gd name="textAreaLeft" fmla="*/ 0 w 71640"/>
              <a:gd name="textAreaRight" fmla="*/ 72000 w 7164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Freeform 312"/>
          <p:cNvSpPr/>
          <p:nvPr/>
        </p:nvSpPr>
        <p:spPr>
          <a:xfrm rot="1591200">
            <a:off x="2700360" y="-60336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Freeform 314"/>
          <p:cNvSpPr/>
          <p:nvPr/>
        </p:nvSpPr>
        <p:spPr>
          <a:xfrm rot="5231400">
            <a:off x="38880" y="-67680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Freeform 339"/>
          <p:cNvSpPr/>
          <p:nvPr/>
        </p:nvSpPr>
        <p:spPr>
          <a:xfrm rot="663000">
            <a:off x="612720" y="-531360"/>
            <a:ext cx="71640" cy="71280"/>
          </a:xfrm>
          <a:custGeom>
            <a:avLst/>
            <a:gdLst>
              <a:gd name="textAreaLeft" fmla="*/ 0 w 71640"/>
              <a:gd name="textAreaRight" fmla="*/ 72000 w 7164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Freeform 340"/>
          <p:cNvSpPr/>
          <p:nvPr/>
        </p:nvSpPr>
        <p:spPr>
          <a:xfrm rot="7299000">
            <a:off x="-1260360" y="-117756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Freeform 341"/>
          <p:cNvSpPr/>
          <p:nvPr/>
        </p:nvSpPr>
        <p:spPr>
          <a:xfrm rot="10530000">
            <a:off x="899280" y="-961560"/>
            <a:ext cx="71640" cy="71280"/>
          </a:xfrm>
          <a:custGeom>
            <a:avLst/>
            <a:gdLst>
              <a:gd name="textAreaLeft" fmla="*/ 0 w 71640"/>
              <a:gd name="textAreaRight" fmla="*/ 72000 w 7164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Freeform 346"/>
          <p:cNvSpPr/>
          <p:nvPr/>
        </p:nvSpPr>
        <p:spPr>
          <a:xfrm rot="7299000">
            <a:off x="2124000" y="-74736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Freeform 347"/>
          <p:cNvSpPr/>
          <p:nvPr/>
        </p:nvSpPr>
        <p:spPr>
          <a:xfrm rot="10530000">
            <a:off x="1692000" y="-96156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280 h 712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Freeform 348"/>
          <p:cNvSpPr/>
          <p:nvPr/>
        </p:nvSpPr>
        <p:spPr>
          <a:xfrm rot="663000">
            <a:off x="1187280" y="-1396800"/>
            <a:ext cx="71640" cy="71640"/>
          </a:xfrm>
          <a:custGeom>
            <a:avLst/>
            <a:gdLst>
              <a:gd name="textAreaLeft" fmla="*/ 0 w 71640"/>
              <a:gd name="textAreaRight" fmla="*/ 72000 w 71640"/>
              <a:gd name="textAreaTop" fmla="*/ 0 h 71640"/>
              <a:gd name="textAreaBottom" fmla="*/ 71640 h 7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Freeform 350"/>
          <p:cNvSpPr/>
          <p:nvPr/>
        </p:nvSpPr>
        <p:spPr>
          <a:xfrm rot="3349800">
            <a:off x="1837440" y="-1107360"/>
            <a:ext cx="160560" cy="162000"/>
          </a:xfrm>
          <a:custGeom>
            <a:avLst/>
            <a:gdLst>
              <a:gd name="textAreaLeft" fmla="*/ 0 w 160560"/>
              <a:gd name="textAreaRight" fmla="*/ 160920 w 160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Freeform 352"/>
          <p:cNvSpPr/>
          <p:nvPr/>
        </p:nvSpPr>
        <p:spPr>
          <a:xfrm rot="9998400">
            <a:off x="1547280" y="-603360"/>
            <a:ext cx="303480" cy="308160"/>
          </a:xfrm>
          <a:custGeom>
            <a:avLst/>
            <a:gdLst>
              <a:gd name="textAreaLeft" fmla="*/ 0 w 303480"/>
              <a:gd name="textAreaRight" fmla="*/ 303840 w 3034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Freeform 353"/>
          <p:cNvSpPr/>
          <p:nvPr/>
        </p:nvSpPr>
        <p:spPr>
          <a:xfrm rot="7299000">
            <a:off x="-1980360" y="-1176480"/>
            <a:ext cx="160560" cy="161640"/>
          </a:xfrm>
          <a:custGeom>
            <a:avLst/>
            <a:gdLst>
              <a:gd name="textAreaLeft" fmla="*/ 0 w 160560"/>
              <a:gd name="textAreaRight" fmla="*/ 160920 w 16056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Freeform 354"/>
          <p:cNvSpPr/>
          <p:nvPr/>
        </p:nvSpPr>
        <p:spPr>
          <a:xfrm rot="2478000">
            <a:off x="-1909800" y="-67284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Freeform 355"/>
          <p:cNvSpPr/>
          <p:nvPr/>
        </p:nvSpPr>
        <p:spPr>
          <a:xfrm>
            <a:off x="3924360" y="-60336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Freeform 356"/>
          <p:cNvSpPr/>
          <p:nvPr/>
        </p:nvSpPr>
        <p:spPr>
          <a:xfrm rot="19633800">
            <a:off x="-2125800" y="-1104480"/>
            <a:ext cx="303480" cy="307800"/>
          </a:xfrm>
          <a:custGeom>
            <a:avLst/>
            <a:gdLst>
              <a:gd name="textAreaLeft" fmla="*/ 0 w 303480"/>
              <a:gd name="textAreaRight" fmla="*/ 303840 w 3034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Freeform 358"/>
          <p:cNvSpPr/>
          <p:nvPr/>
        </p:nvSpPr>
        <p:spPr>
          <a:xfrm rot="3349800">
            <a:off x="3564720" y="-53244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Freeform 362"/>
          <p:cNvSpPr/>
          <p:nvPr/>
        </p:nvSpPr>
        <p:spPr>
          <a:xfrm rot="4679400">
            <a:off x="2125440" y="-60444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Freeform 364"/>
          <p:cNvSpPr/>
          <p:nvPr/>
        </p:nvSpPr>
        <p:spPr>
          <a:xfrm rot="4679400">
            <a:off x="-33480" y="-532440"/>
            <a:ext cx="214200" cy="218880"/>
          </a:xfrm>
          <a:custGeom>
            <a:avLst/>
            <a:gdLst>
              <a:gd name="textAreaLeft" fmla="*/ 0 w 214200"/>
              <a:gd name="textAreaRight" fmla="*/ 214560 w 2142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Freeform 365"/>
          <p:cNvSpPr/>
          <p:nvPr/>
        </p:nvSpPr>
        <p:spPr>
          <a:xfrm rot="9998400">
            <a:off x="826560" y="-1106640"/>
            <a:ext cx="303480" cy="308160"/>
          </a:xfrm>
          <a:custGeom>
            <a:avLst/>
            <a:gdLst>
              <a:gd name="textAreaLeft" fmla="*/ 0 w 303480"/>
              <a:gd name="textAreaRight" fmla="*/ 303840 w 3034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Freeform 366"/>
          <p:cNvSpPr/>
          <p:nvPr/>
        </p:nvSpPr>
        <p:spPr>
          <a:xfrm rot="7299000">
            <a:off x="2485080" y="-388080"/>
            <a:ext cx="160200" cy="162000"/>
          </a:xfrm>
          <a:custGeom>
            <a:avLst/>
            <a:gdLst>
              <a:gd name="textAreaLeft" fmla="*/ 0 w 160200"/>
              <a:gd name="textAreaRight" fmla="*/ 160560 w 160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Freeform 367"/>
          <p:cNvSpPr/>
          <p:nvPr/>
        </p:nvSpPr>
        <p:spPr>
          <a:xfrm rot="2478000">
            <a:off x="-1692360" y="-125064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Freeform 369"/>
          <p:cNvSpPr/>
          <p:nvPr/>
        </p:nvSpPr>
        <p:spPr>
          <a:xfrm rot="5231400">
            <a:off x="-1978560" y="-117972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Freeform 376"/>
          <p:cNvSpPr/>
          <p:nvPr/>
        </p:nvSpPr>
        <p:spPr>
          <a:xfrm rot="495600">
            <a:off x="-1404720" y="-1033560"/>
            <a:ext cx="216000" cy="2192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Freeform 377"/>
          <p:cNvSpPr/>
          <p:nvPr/>
        </p:nvSpPr>
        <p:spPr>
          <a:xfrm rot="8650800">
            <a:off x="-2413080" y="-961560"/>
            <a:ext cx="216000" cy="218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Freeform 398"/>
          <p:cNvSpPr/>
          <p:nvPr/>
        </p:nvSpPr>
        <p:spPr>
          <a:xfrm rot="7354200">
            <a:off x="2412720" y="-820440"/>
            <a:ext cx="215640" cy="219240"/>
          </a:xfrm>
          <a:custGeom>
            <a:avLst/>
            <a:gdLst>
              <a:gd name="textAreaLeft" fmla="*/ 0 w 215640"/>
              <a:gd name="textAreaRight" fmla="*/ 216000 w 21564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Freeform 412"/>
          <p:cNvSpPr/>
          <p:nvPr/>
        </p:nvSpPr>
        <p:spPr>
          <a:xfrm rot="15226800">
            <a:off x="469080" y="-103716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Freeform 416"/>
          <p:cNvSpPr/>
          <p:nvPr/>
        </p:nvSpPr>
        <p:spPr>
          <a:xfrm rot="6604200">
            <a:off x="395640" y="-1540080"/>
            <a:ext cx="303120" cy="307800"/>
          </a:xfrm>
          <a:custGeom>
            <a:avLst/>
            <a:gdLst>
              <a:gd name="textAreaLeft" fmla="*/ 0 w 303120"/>
              <a:gd name="textAreaRight" fmla="*/ 303480 w 3031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Rectangle 456"/>
          <p:cNvSpPr/>
          <p:nvPr/>
        </p:nvSpPr>
        <p:spPr>
          <a:xfrm>
            <a:off x="-541440" y="5157720"/>
            <a:ext cx="10657080" cy="1773360"/>
          </a:xfrm>
          <a:prstGeom prst="rect">
            <a:avLst/>
          </a:prstGeom>
          <a:gradFill rotWithShape="0">
            <a:gsLst>
              <a:gs pos="0">
                <a:srgbClr val="002060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Freeform 28"/>
          <p:cNvSpPr/>
          <p:nvPr/>
        </p:nvSpPr>
        <p:spPr>
          <a:xfrm>
            <a:off x="993600" y="4365720"/>
            <a:ext cx="1954440" cy="1861920"/>
          </a:xfrm>
          <a:custGeom>
            <a:avLst/>
            <a:gdLst>
              <a:gd name="textAreaLeft" fmla="*/ 0 w 1954440"/>
              <a:gd name="textAreaRight" fmla="*/ 1954800 w 1954440"/>
              <a:gd name="textAreaTop" fmla="*/ 0 h 1861920"/>
              <a:gd name="textAreaBottom" fmla="*/ 1862280 h 1861920"/>
            </a:gdLst>
            <a:ahLst/>
            <a:rect l="textAreaLeft" t="textAreaTop" r="textAreaRight" b="textAreaBottom"/>
            <a:pathLst>
              <a:path w="1231" h="1173">
                <a:moveTo>
                  <a:pt x="1231" y="0"/>
                </a:moveTo>
                <a:cubicBezTo>
                  <a:pt x="1213" y="34"/>
                  <a:pt x="1147" y="88"/>
                  <a:pt x="1086" y="170"/>
                </a:cubicBezTo>
                <a:cubicBezTo>
                  <a:pt x="1025" y="252"/>
                  <a:pt x="1000" y="325"/>
                  <a:pt x="964" y="445"/>
                </a:cubicBezTo>
                <a:cubicBezTo>
                  <a:pt x="928" y="565"/>
                  <a:pt x="922" y="646"/>
                  <a:pt x="847" y="763"/>
                </a:cubicBezTo>
                <a:cubicBezTo>
                  <a:pt x="772" y="880"/>
                  <a:pt x="745" y="910"/>
                  <a:pt x="688" y="964"/>
                </a:cubicBezTo>
                <a:cubicBezTo>
                  <a:pt x="631" y="1018"/>
                  <a:pt x="586" y="1057"/>
                  <a:pt x="387" y="1086"/>
                </a:cubicBezTo>
                <a:cubicBezTo>
                  <a:pt x="188" y="1115"/>
                  <a:pt x="84" y="1153"/>
                  <a:pt x="0" y="1173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Freeform 29"/>
          <p:cNvSpPr/>
          <p:nvPr/>
        </p:nvSpPr>
        <p:spPr>
          <a:xfrm>
            <a:off x="773280" y="5127480"/>
            <a:ext cx="480960" cy="1135080"/>
          </a:xfrm>
          <a:custGeom>
            <a:avLst/>
            <a:gdLst>
              <a:gd name="textAreaLeft" fmla="*/ 0 w 480960"/>
              <a:gd name="textAreaRight" fmla="*/ 481320 w 48096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w="303" h="715">
                <a:moveTo>
                  <a:pt x="140" y="693"/>
                </a:moveTo>
                <a:cubicBezTo>
                  <a:pt x="113" y="697"/>
                  <a:pt x="34" y="715"/>
                  <a:pt x="17" y="655"/>
                </a:cubicBezTo>
                <a:cubicBezTo>
                  <a:pt x="0" y="595"/>
                  <a:pt x="40" y="486"/>
                  <a:pt x="140" y="328"/>
                </a:cubicBezTo>
                <a:cubicBezTo>
                  <a:pt x="240" y="170"/>
                  <a:pt x="283" y="58"/>
                  <a:pt x="303" y="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Freeform 351"/>
          <p:cNvSpPr/>
          <p:nvPr/>
        </p:nvSpPr>
        <p:spPr>
          <a:xfrm rot="3349800">
            <a:off x="-970560" y="-1685160"/>
            <a:ext cx="160560" cy="162000"/>
          </a:xfrm>
          <a:custGeom>
            <a:avLst/>
            <a:gdLst>
              <a:gd name="textAreaLeft" fmla="*/ 0 w 160560"/>
              <a:gd name="textAreaRight" fmla="*/ 160920 w 160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Freeform 360"/>
          <p:cNvSpPr/>
          <p:nvPr/>
        </p:nvSpPr>
        <p:spPr>
          <a:xfrm rot="8034000">
            <a:off x="-969120" y="-1397880"/>
            <a:ext cx="303120" cy="308160"/>
          </a:xfrm>
          <a:custGeom>
            <a:avLst/>
            <a:gdLst>
              <a:gd name="textAreaLeft" fmla="*/ 0 w 303120"/>
              <a:gd name="textAreaRight" fmla="*/ 303480 w 303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91" h="194">
                <a:moveTo>
                  <a:pt x="182" y="179"/>
                </a:moveTo>
                <a:cubicBezTo>
                  <a:pt x="172" y="169"/>
                  <a:pt x="158" y="140"/>
                  <a:pt x="122" y="134"/>
                </a:cubicBezTo>
                <a:cubicBezTo>
                  <a:pt x="86" y="128"/>
                  <a:pt x="53" y="175"/>
                  <a:pt x="46" y="194"/>
                </a:cubicBezTo>
                <a:cubicBezTo>
                  <a:pt x="34" y="187"/>
                  <a:pt x="25" y="179"/>
                  <a:pt x="20" y="170"/>
                </a:cubicBezTo>
                <a:cubicBezTo>
                  <a:pt x="15" y="161"/>
                  <a:pt x="10" y="147"/>
                  <a:pt x="13" y="140"/>
                </a:cubicBezTo>
                <a:cubicBezTo>
                  <a:pt x="19" y="131"/>
                  <a:pt x="33" y="129"/>
                  <a:pt x="32" y="127"/>
                </a:cubicBezTo>
                <a:cubicBezTo>
                  <a:pt x="31" y="125"/>
                  <a:pt x="19" y="128"/>
                  <a:pt x="7" y="128"/>
                </a:cubicBezTo>
                <a:cubicBezTo>
                  <a:pt x="5" y="121"/>
                  <a:pt x="0" y="95"/>
                  <a:pt x="4" y="80"/>
                </a:cubicBezTo>
                <a:cubicBezTo>
                  <a:pt x="8" y="65"/>
                  <a:pt x="14" y="46"/>
                  <a:pt x="26" y="37"/>
                </a:cubicBezTo>
                <a:cubicBezTo>
                  <a:pt x="38" y="37"/>
                  <a:pt x="47" y="51"/>
                  <a:pt x="50" y="49"/>
                </a:cubicBezTo>
                <a:cubicBezTo>
                  <a:pt x="53" y="47"/>
                  <a:pt x="47" y="32"/>
                  <a:pt x="43" y="22"/>
                </a:cubicBezTo>
                <a:cubicBezTo>
                  <a:pt x="52" y="14"/>
                  <a:pt x="73" y="2"/>
                  <a:pt x="91" y="1"/>
                </a:cubicBezTo>
                <a:cubicBezTo>
                  <a:pt x="109" y="0"/>
                  <a:pt x="137" y="5"/>
                  <a:pt x="154" y="23"/>
                </a:cubicBezTo>
                <a:cubicBezTo>
                  <a:pt x="137" y="40"/>
                  <a:pt x="115" y="86"/>
                  <a:pt x="131" y="113"/>
                </a:cubicBezTo>
                <a:cubicBezTo>
                  <a:pt x="147" y="140"/>
                  <a:pt x="167" y="151"/>
                  <a:pt x="191" y="169"/>
                </a:cubicBezTo>
                <a:cubicBezTo>
                  <a:pt x="184" y="176"/>
                  <a:pt x="188" y="174"/>
                  <a:pt x="182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Text Box 457"/>
          <p:cNvSpPr/>
          <p:nvPr/>
        </p:nvSpPr>
        <p:spPr>
          <a:xfrm>
            <a:off x="3637080" y="968400"/>
            <a:ext cx="29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静若处子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Text Box 458"/>
          <p:cNvSpPr/>
          <p:nvPr/>
        </p:nvSpPr>
        <p:spPr>
          <a:xfrm>
            <a:off x="3635280" y="968400"/>
            <a:ext cx="28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静若处子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Text Box 459"/>
          <p:cNvSpPr/>
          <p:nvPr/>
        </p:nvSpPr>
        <p:spPr>
          <a:xfrm>
            <a:off x="3783240" y="1906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发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Text Box 460"/>
          <p:cNvSpPr/>
          <p:nvPr/>
        </p:nvSpPr>
        <p:spPr>
          <a:xfrm>
            <a:off x="4437000" y="3014640"/>
            <a:ext cx="265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阅读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|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音乐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Text Box 461"/>
          <p:cNvSpPr/>
          <p:nvPr/>
        </p:nvSpPr>
        <p:spPr>
          <a:xfrm>
            <a:off x="6943680" y="322272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和电影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Text Box 462"/>
          <p:cNvSpPr/>
          <p:nvPr/>
        </p:nvSpPr>
        <p:spPr>
          <a:xfrm>
            <a:off x="6829560" y="322416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和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Text Box 464"/>
          <p:cNvSpPr/>
          <p:nvPr/>
        </p:nvSpPr>
        <p:spPr>
          <a:xfrm>
            <a:off x="7107480" y="322416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电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Text Box 465"/>
          <p:cNvSpPr/>
          <p:nvPr/>
        </p:nvSpPr>
        <p:spPr>
          <a:xfrm>
            <a:off x="7386840" y="322416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影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Line 466"/>
          <p:cNvSpPr/>
          <p:nvPr/>
        </p:nvSpPr>
        <p:spPr>
          <a:xfrm flipV="1">
            <a:off x="7147080" y="5041800"/>
            <a:ext cx="2003400" cy="1296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0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2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3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2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2000"/>
                                        <p:tgtEl>
                                          <p:spTgt spid="2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3000"/>
                                        <p:tgtEl>
                                          <p:spTgt spid="2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30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3000"/>
                                        <p:tgtEl>
                                          <p:spTgt spid="2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3000"/>
                                        <p:tgtEl>
                                          <p:spTgt spid="2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30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3000"/>
                                        <p:tgtEl>
                                          <p:spTgt spid="2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3000"/>
                                        <p:tgtEl>
                                          <p:spTgt spid="2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3000"/>
                                        <p:tgtEl>
                                          <p:spTgt spid="2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3000"/>
                                        <p:tgtEl>
                                          <p:spTgt spid="2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3000"/>
                                        <p:tgtEl>
                                          <p:spTgt spid="2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3000"/>
                                        <p:tgtEl>
                                          <p:spTgt spid="2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3000"/>
                                        <p:tgtEl>
                                          <p:spTgt spid="2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3000"/>
                                        <p:tgtEl>
                                          <p:spTgt spid="2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3000"/>
                                        <p:tgtEl>
                                          <p:spTgt spid="2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3000"/>
                                        <p:tgtEl>
                                          <p:spTgt spid="2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3000"/>
                                        <p:tgtEl>
                                          <p:spTgt spid="2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3000"/>
                                        <p:tgtEl>
                                          <p:spTgt spid="2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3000"/>
                                        <p:tgtEl>
                                          <p:spTgt spid="2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3000"/>
                                        <p:tgtEl>
                                          <p:spTgt spid="2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3000"/>
                                        <p:tgtEl>
                                          <p:spTgt spid="2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3000"/>
                                        <p:tgtEl>
                                          <p:spTgt spid="2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3000"/>
                                        <p:tgtEl>
                                          <p:spTgt spid="2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3000"/>
                                        <p:tgtEl>
                                          <p:spTgt spid="2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3000"/>
                                        <p:tgtEl>
                                          <p:spTgt spid="2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3000"/>
                                        <p:tgtEl>
                                          <p:spTgt spid="2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3000"/>
                                        <p:tgtEl>
                                          <p:spTgt spid="2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3000"/>
                                        <p:tgtEl>
                                          <p:spTgt spid="2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3000"/>
                                        <p:tgtEl>
                                          <p:spTgt spid="2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3000"/>
                                        <p:tgtEl>
                                          <p:spTgt spid="2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3000"/>
                                        <p:tgtEl>
                                          <p:spTgt spid="2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3000"/>
                                        <p:tgtEl>
                                          <p:spTgt spid="2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3000"/>
                                        <p:tgtEl>
                                          <p:spTgt spid="2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3000"/>
                                        <p:tgtEl>
                                          <p:spTgt spid="2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3000"/>
                                        <p:tgtEl>
                                          <p:spTgt spid="2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3000"/>
                                        <p:tgtEl>
                                          <p:spTgt spid="2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30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3000"/>
                                        <p:tgtEl>
                                          <p:spTgt spid="2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30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30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3000"/>
                                        <p:tgtEl>
                                          <p:spTgt spid="2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30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30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30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3000"/>
                                        <p:tgtEl>
                                          <p:spTgt spid="2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3000"/>
                                        <p:tgtEl>
                                          <p:spTgt spid="2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30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3000"/>
                                        <p:tgtEl>
                                          <p:spTgt spid="2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3000"/>
                                        <p:tgtEl>
                                          <p:spTgt spid="2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3000"/>
                                        <p:tgtEl>
                                          <p:spTgt spid="2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30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7" dur="3000"/>
                                        <p:tgtEl>
                                          <p:spTgt spid="2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30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30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3000"/>
                                        <p:tgtEl>
                                          <p:spTgt spid="2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30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30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5" dur="30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30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1" dur="3000"/>
                                        <p:tgtEl>
                                          <p:spTgt spid="2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30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3000"/>
                                        <p:tgtEl>
                                          <p:spTgt spid="2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0" dur="3000"/>
                                        <p:tgtEl>
                                          <p:spTgt spid="2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30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3000"/>
                                        <p:tgtEl>
                                          <p:spTgt spid="2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30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3000"/>
                                        <p:tgtEl>
                                          <p:spTgt spid="2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3000"/>
                                        <p:tgtEl>
                                          <p:spTgt spid="2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30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1" dur="3000"/>
                                        <p:tgtEl>
                                          <p:spTgt spid="2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4" dur="3000"/>
                                        <p:tgtEl>
                                          <p:spTgt spid="2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30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3000"/>
                                        <p:tgtEl>
                                          <p:spTgt spid="2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3" dur="3000"/>
                                        <p:tgtEl>
                                          <p:spTgt spid="2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30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3000"/>
                                        <p:tgtEl>
                                          <p:spTgt spid="2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3000"/>
                                        <p:tgtEl>
                                          <p:spTgt spid="2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3000"/>
                                        <p:tgtEl>
                                          <p:spTgt spid="2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8" dur="3000"/>
                                        <p:tgtEl>
                                          <p:spTgt spid="2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1" dur="3000"/>
                                        <p:tgtEl>
                                          <p:spTgt spid="2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30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30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3000"/>
                                        <p:tgtEl>
                                          <p:spTgt spid="2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30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3000"/>
                                        <p:tgtEl>
                                          <p:spTgt spid="2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3000"/>
                                        <p:tgtEl>
                                          <p:spTgt spid="2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30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30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8" dur="30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1" dur="30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30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30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30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30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30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3000"/>
                                        <p:tgtEl>
                                          <p:spTgt spid="2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3000"/>
                                        <p:tgtEl>
                                          <p:spTgt spid="2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3000"/>
                                        <p:tgtEl>
                                          <p:spTgt spid="2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3000"/>
                                        <p:tgtEl>
                                          <p:spTgt spid="2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3000"/>
                                        <p:tgtEl>
                                          <p:spTgt spid="2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3000"/>
                                        <p:tgtEl>
                                          <p:spTgt spid="2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3000"/>
                                        <p:tgtEl>
                                          <p:spTgt spid="2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30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3000"/>
                                        <p:tgtEl>
                                          <p:spTgt spid="2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3000"/>
                                        <p:tgtEl>
                                          <p:spTgt spid="2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3000"/>
                                        <p:tgtEl>
                                          <p:spTgt spid="2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2" dur="3000"/>
                                        <p:tgtEl>
                                          <p:spTgt spid="2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5" dur="30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3000"/>
                                        <p:tgtEl>
                                          <p:spTgt spid="2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1" dur="3000"/>
                                        <p:tgtEl>
                                          <p:spTgt spid="2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30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3000"/>
                                        <p:tgtEl>
                                          <p:spTgt spid="2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0" dur="3000"/>
                                        <p:tgtEl>
                                          <p:spTgt spid="2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30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6" dur="30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3000"/>
                                        <p:tgtEl>
                                          <p:spTgt spid="2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30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5" dur="3000"/>
                                        <p:tgtEl>
                                          <p:spTgt spid="2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3000"/>
                                        <p:tgtEl>
                                          <p:spTgt spid="2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3000"/>
                                        <p:tgtEl>
                                          <p:spTgt spid="2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3000"/>
                                        <p:tgtEl>
                                          <p:spTgt spid="2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7" dur="3000"/>
                                        <p:tgtEl>
                                          <p:spTgt spid="2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0" dur="30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3" dur="3000"/>
                                        <p:tgtEl>
                                          <p:spTgt spid="2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6" dur="3000"/>
                                        <p:tgtEl>
                                          <p:spTgt spid="2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30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3000"/>
                                        <p:tgtEl>
                                          <p:spTgt spid="2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3000"/>
                                        <p:tgtEl>
                                          <p:spTgt spid="2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30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3000"/>
                                        <p:tgtEl>
                                          <p:spTgt spid="2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3000"/>
                                        <p:tgtEl>
                                          <p:spTgt spid="2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30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30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3" dur="3000"/>
                                        <p:tgtEl>
                                          <p:spTgt spid="2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30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9" dur="3000"/>
                                        <p:tgtEl>
                                          <p:spTgt spid="2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3000"/>
                                        <p:tgtEl>
                                          <p:spTgt spid="2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5" dur="3000"/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3000"/>
                                        <p:tgtEl>
                                          <p:spTgt spid="2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1" dur="3000"/>
                                        <p:tgtEl>
                                          <p:spTgt spid="2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30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3000"/>
                                        <p:tgtEl>
                                          <p:spTgt spid="2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3000"/>
                                        <p:tgtEl>
                                          <p:spTgt spid="2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3" dur="3000"/>
                                        <p:tgtEl>
                                          <p:spTgt spid="2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3000"/>
                                        <p:tgtEl>
                                          <p:spTgt spid="2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3000"/>
                                        <p:tgtEl>
                                          <p:spTgt spid="2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30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3000"/>
                                        <p:tgtEl>
                                          <p:spTgt spid="2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8" dur="3000"/>
                                        <p:tgtEl>
                                          <p:spTgt spid="2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1" dur="30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3000"/>
                                        <p:tgtEl>
                                          <p:spTgt spid="2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3000"/>
                                        <p:tgtEl>
                                          <p:spTgt spid="2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3000"/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3000"/>
                                        <p:tgtEl>
                                          <p:spTgt spid="2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6" dur="3000"/>
                                        <p:tgtEl>
                                          <p:spTgt spid="2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3000"/>
                                        <p:tgtEl>
                                          <p:spTgt spid="2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3000"/>
                                        <p:tgtEl>
                                          <p:spTgt spid="2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3000"/>
                                        <p:tgtEl>
                                          <p:spTgt spid="2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3000"/>
                                        <p:tgtEl>
                                          <p:spTgt spid="2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3000"/>
                                        <p:tgtEl>
                                          <p:spTgt spid="2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3000"/>
                                        <p:tgtEl>
                                          <p:spTgt spid="2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7" dur="30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0" dur="30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3000"/>
                                        <p:tgtEl>
                                          <p:spTgt spid="2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6" dur="3000"/>
                                        <p:tgtEl>
                                          <p:spTgt spid="2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3000"/>
                                        <p:tgtEl>
                                          <p:spTgt spid="2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2" dur="3000"/>
                                        <p:tgtEl>
                                          <p:spTgt spid="2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5.55556E-007 5.92593E-006 C 0.04461 0.10417 0.08923 0.20834 0.14166 0.28357 C 0.19409 0.3588 0.27291 0.43404 0.31493 0.45163 C 0.35694 0.46922 0.39496 0.40441 0.39375 0.38866 C 0.39253 0.37292 0.32552 0.35371 0.30711 0.35718 C 0.28871 0.36066 0.28211 0.38843 0.2835 0.4095 C 0.28489 0.43056 0.28871 0.45325 0.31493 0.48311 C 0.34114 0.51297 0.40555 0.56714 0.44097 0.5882 C 0.47638 0.60927 0.50191 0.60904 0.5276 0.60904 E">
                                      <p:cBhvr>
                                        <p:cTn id="1394" dur="5000" fill="hold"/>
                                        <p:tgtEl>
                                          <p:spTgt spid="29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5" autoRev="1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396" dur="3000" fill="hold"/>
                                        <p:tgtEl>
                                          <p:spTgt spid="29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2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2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2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2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5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2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2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path" presetID="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22" dur="5000" fill="hold"/>
                                        <p:tgtEl>
                                          <p:spTgt spid="29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24" dur="5000" fill="hold"/>
                                        <p:tgtEl>
                                          <p:spTgt spid="29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5" nodeType="withEffect" fill="hold" presetClass="path" presetID="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26" dur="5000" fill="hold"/>
                                        <p:tgtEl>
                                          <p:spTgt spid="2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7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28" dur="5000" fill="hold"/>
                                        <p:tgtEl>
                                          <p:spTgt spid="2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9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30" dur="5000" fill="hold"/>
                                        <p:tgtEl>
                                          <p:spTgt spid="29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1" nodeType="withEffect" fill="hold" presetClass="path" presetID="0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32" dur="5000" fill="hold"/>
                                        <p:tgtEl>
                                          <p:spTgt spid="29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3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34" dur="5000" fill="hold"/>
                                        <p:tgtEl>
                                          <p:spTgt spid="29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5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36" dur="5000" fill="hold"/>
                                        <p:tgtEl>
                                          <p:spTgt spid="2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7" nodeType="withEffect" fill="hold" presetClass="path" presetID="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38" dur="5000" fill="hold"/>
                                        <p:tgtEl>
                                          <p:spTgt spid="29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9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40" dur="5000" fill="hold"/>
                                        <p:tgtEl>
                                          <p:spTgt spid="29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1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42" dur="5000" fill="hold"/>
                                        <p:tgtEl>
                                          <p:spTgt spid="29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3" nodeType="withEffect" fill="hold" presetClass="path" presetID="0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44" dur="5000" fill="hold"/>
                                        <p:tgtEl>
                                          <p:spTgt spid="2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5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46" dur="5000" fill="hold"/>
                                        <p:tgtEl>
                                          <p:spTgt spid="29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7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48" dur="5000" fill="hold"/>
                                        <p:tgtEl>
                                          <p:spTgt spid="29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9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50" dur="5000" fill="hold"/>
                                        <p:tgtEl>
                                          <p:spTgt spid="29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1" nodeType="withEffect" fill="hold" presetClass="path" presetID="0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52" dur="5000" fill="hold"/>
                                        <p:tgtEl>
                                          <p:spTgt spid="27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3" nodeType="withEffect" fill="hold" presetClass="path" presetID="0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54" dur="5000" fill="hold"/>
                                        <p:tgtEl>
                                          <p:spTgt spid="29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5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56" dur="5000" fill="hold"/>
                                        <p:tgtEl>
                                          <p:spTgt spid="30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7" nodeType="withEffect" fill="hold" presetClass="path" presetID="0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58" dur="5000" fill="hold"/>
                                        <p:tgtEl>
                                          <p:spTgt spid="29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9" nodeType="withEffect" fill="hold" presetClass="path" presetID="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60" dur="5000" fill="hold"/>
                                        <p:tgtEl>
                                          <p:spTgt spid="29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1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62" dur="5000" fill="hold"/>
                                        <p:tgtEl>
                                          <p:spTgt spid="29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3" nodeType="withEffect" fill="hold" presetClass="path" presetID="0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64" dur="5000" fill="hold"/>
                                        <p:tgtEl>
                                          <p:spTgt spid="29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5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66" dur="5000" fill="hold"/>
                                        <p:tgtEl>
                                          <p:spTgt spid="2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7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68" dur="5000" fill="hold"/>
                                        <p:tgtEl>
                                          <p:spTgt spid="29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9" nodeType="withEffect" fill="hold" presetClass="path" presetID="0">
                                  <p:stCondLst>
                                    <p:cond delay="61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70" dur="5000" fill="hold"/>
                                        <p:tgtEl>
                                          <p:spTgt spid="30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1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72" dur="5000" fill="hold"/>
                                        <p:tgtEl>
                                          <p:spTgt spid="29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3" nodeType="withEffect" fill="hold" presetClass="path" presetID="0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74" dur="5000" fill="hold"/>
                                        <p:tgtEl>
                                          <p:spTgt spid="2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5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76" dur="5000" fill="hold"/>
                                        <p:tgtEl>
                                          <p:spTgt spid="29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7" nodeType="withEffect" fill="hold" presetClass="path" presetID="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78" dur="5000" fill="hold"/>
                                        <p:tgtEl>
                                          <p:spTgt spid="29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9" nodeType="withEffect" fill="hold" presetClass="path" presetID="0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80" dur="5000" fill="hold"/>
                                        <p:tgtEl>
                                          <p:spTgt spid="29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1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82" dur="5000" fill="hold"/>
                                        <p:tgtEl>
                                          <p:spTgt spid="29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3" nodeType="withEffect" fill="hold" presetClass="path" presetID="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84" dur="5000" fill="hold"/>
                                        <p:tgtEl>
                                          <p:spTgt spid="2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5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86" dur="5000" fill="hold"/>
                                        <p:tgtEl>
                                          <p:spTgt spid="27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7" nodeType="withEffect" fill="hold" presetClass="path" presetID="0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88" dur="5000" fill="hold"/>
                                        <p:tgtEl>
                                          <p:spTgt spid="29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9" nodeType="withEffect" fill="hold" presetClass="path" presetID="0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90" dur="5000" fill="hold"/>
                                        <p:tgtEl>
                                          <p:spTgt spid="29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1" nodeType="withEffect" fill="hold" presetClass="path" presetID="0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92" dur="5000" fill="hold"/>
                                        <p:tgtEl>
                                          <p:spTgt spid="2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3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94" dur="5000" fill="hold"/>
                                        <p:tgtEl>
                                          <p:spTgt spid="29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5" nodeType="withEffect" fill="hold" presetClass="path" presetID="0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96" dur="5000" fill="hold"/>
                                        <p:tgtEl>
                                          <p:spTgt spid="29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7" nodeType="withEffect" fill="hold" presetClass="path" presetID="0">
                                  <p:stCondLst>
                                    <p:cond delay="7400"/>
                                  </p:stCondLst>
                                  <p:childTnLst>
                                    <p:animMotion origin="layout" path="M 0 0 C 0.06563 0.24653 0.13125 0.49329 0.20469 0.61945 C 0.27813 0.74537 0.38976 0.74723 0.44098 0.75602 C 0.49219 0.76459 0.51441 0.70325 0.51181 0.672 C 0.5092 0.64051 0.4632 0.57223 0.42518 0.56713 C 0.38716 0.56158 0.29931 0.60556 0.28351 0.64051 C 0.26771 0.67524 0.29931 0.73681 0.33073 0.77709 C 0.36216 0.81737 0.42118 0.85718 0.4724 0.88172 C 0.52361 0.90625 0.58073 0.91505 0.63785 0.92385 E">
                                      <p:cBhvr>
                                        <p:cTn id="1498" dur="5000" fill="hold"/>
                                        <p:tgtEl>
                                          <p:spTgt spid="29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9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00" dur="3000" fill="hold"/>
                                        <p:tgtEl>
                                          <p:spTgt spid="29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1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02" dur="30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3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04" dur="3000" fill="hold"/>
                                        <p:tgtEl>
                                          <p:spTgt spid="2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5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06" dur="3000" fill="hold"/>
                                        <p:tgtEl>
                                          <p:spTgt spid="2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7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08" dur="3000" fill="hold"/>
                                        <p:tgtEl>
                                          <p:spTgt spid="29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9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10" dur="3000" fill="hold"/>
                                        <p:tgtEl>
                                          <p:spTgt spid="29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1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12" dur="3000" fill="hold"/>
                                        <p:tgtEl>
                                          <p:spTgt spid="29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3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14" dur="300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5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16" dur="3000" fill="hold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7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18" dur="3000" fill="hold"/>
                                        <p:tgtEl>
                                          <p:spTgt spid="2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9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20" dur="300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1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22" dur="3000" fill="hold"/>
                                        <p:tgtEl>
                                          <p:spTgt spid="2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3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24" dur="3000" fill="hold"/>
                                        <p:tgtEl>
                                          <p:spTgt spid="2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5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26" dur="3000" fill="hold"/>
                                        <p:tgtEl>
                                          <p:spTgt spid="29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7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28" dur="300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9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30" dur="3000" fill="hold"/>
                                        <p:tgtEl>
                                          <p:spTgt spid="2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1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32" dur="3000" fill="hold"/>
                                        <p:tgtEl>
                                          <p:spTgt spid="29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3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34" dur="3000" fill="hold"/>
                                        <p:tgtEl>
                                          <p:spTgt spid="30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5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36" dur="300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7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38" dur="300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9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40" dur="300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1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42" dur="3000" fill="hold"/>
                                        <p:tgtEl>
                                          <p:spTgt spid="2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3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44" dur="300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5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46" dur="300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7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48" dur="3000" fill="hold"/>
                                        <p:tgtEl>
                                          <p:spTgt spid="30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9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50" dur="3000" fill="hold"/>
                                        <p:tgtEl>
                                          <p:spTgt spid="29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1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52" dur="3000" fill="hold"/>
                                        <p:tgtEl>
                                          <p:spTgt spid="2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3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54" dur="3000" fill="hold"/>
                                        <p:tgtEl>
                                          <p:spTgt spid="2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5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56" dur="300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7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58" dur="3000" fill="hold"/>
                                        <p:tgtEl>
                                          <p:spTgt spid="2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9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60" dur="3000" fill="hold"/>
                                        <p:tgtEl>
                                          <p:spTgt spid="29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1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62" dur="3000" fill="hold"/>
                                        <p:tgtEl>
                                          <p:spTgt spid="2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3" autoRev="1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564" dur="2500" fill="hold"/>
                                        <p:tgtEl>
                                          <p:spTgt spid="2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5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66" dur="300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7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68" dur="3000" fill="hold"/>
                                        <p:tgtEl>
                                          <p:spTgt spid="29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9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70" dur="30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1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72" dur="300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3" autoRev="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574" dur="3000" fill="hold"/>
                                        <p:tgtEl>
                                          <p:spTgt spid="29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5" autoRev="1" nodeType="withEffect" fill="hold" presetClass="emph" presetID="8">
                                  <p:stCondLst>
                                    <p:cond delay="6400"/>
                                  </p:stCondLst>
                                  <p:childTnLst>
                                    <p:animRot by="21600000">
                                      <p:cBhvr>
                                        <p:cTn id="1576" dur="3000" fill="hold"/>
                                        <p:tgtEl>
                                          <p:spTgt spid="2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7" nodeType="withEffect" fill="hold" presetClass="emph" presetID="26" repeatCount="10000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8" dur="500"/>
                                        <p:tgtEl>
                                          <p:spTgt spid="29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9" dur="250" autoRev="1" fill="hold"/>
                                        <p:tgtEl>
                                          <p:spTgt spid="29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80" nodeType="withEffect" fill="hold" presetClass="emph" presetID="26" repeatCount="10000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1" dur="500"/>
                                        <p:tgtEl>
                                          <p:spTgt spid="29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2" dur="250" autoRev="1" fill="hold"/>
                                        <p:tgtEl>
                                          <p:spTgt spid="29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83" nodeType="withEffect" fill="hold" presetClass="emph" presetID="26" repeatCount="10000">
                                  <p:stCondLst>
                                    <p:cond delay="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4" dur="500"/>
                                        <p:tgtEl>
                                          <p:spTgt spid="27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5" dur="250" autoRev="1" fill="hold"/>
                                        <p:tgtEl>
                                          <p:spTgt spid="27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86" nodeType="withEffect" fill="hold" presetClass="emph" presetID="26" repeatCount="1000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7" dur="500"/>
                                        <p:tgtEl>
                                          <p:spTgt spid="27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8" dur="250" autoRev="1" fill="hold"/>
                                        <p:tgtEl>
                                          <p:spTgt spid="27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89" nodeType="withEffect" fill="hold" presetClass="emph" presetID="26" repeatCount="10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0" dur="500"/>
                                        <p:tgtEl>
                                          <p:spTgt spid="29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1" dur="250" autoRev="1" fill="hold"/>
                                        <p:tgtEl>
                                          <p:spTgt spid="29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92" nodeType="withEffect" fill="hold" presetClass="emph" presetID="26" repeatCount="1000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29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4" dur="250" autoRev="1" fill="hold"/>
                                        <p:tgtEl>
                                          <p:spTgt spid="29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95" nodeType="withEffect" fill="hold" presetClass="emph" presetID="26" repeatCount="10000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6" dur="500"/>
                                        <p:tgtEl>
                                          <p:spTgt spid="29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7" dur="250" autoRev="1" fill="hold"/>
                                        <p:tgtEl>
                                          <p:spTgt spid="29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26" repeatCount="1000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9" dur="500"/>
                                        <p:tgtEl>
                                          <p:spTgt spid="27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0" dur="250" autoRev="1" fill="hold"/>
                                        <p:tgtEl>
                                          <p:spTgt spid="27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01" nodeType="withEffect" fill="hold" presetClass="emph" presetID="26" repeatCount="1000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2" dur="500"/>
                                        <p:tgtEl>
                                          <p:spTgt spid="29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3" dur="250" autoRev="1" fill="hold"/>
                                        <p:tgtEl>
                                          <p:spTgt spid="29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04" nodeType="withEffect" fill="hold" presetClass="emph" presetID="26" repeatCount="10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5" dur="5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6" dur="250" autoRev="1" fill="hold"/>
                                        <p:tgtEl>
                                          <p:spTgt spid="29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07" nodeType="withEffect" fill="hold" presetClass="emph" presetID="26" repeatCount="10000">
                                  <p:stCondLst>
                                    <p:cond delay="3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8" dur="500"/>
                                        <p:tgtEl>
                                          <p:spTgt spid="29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9" dur="250" autoRev="1" fill="hold"/>
                                        <p:tgtEl>
                                          <p:spTgt spid="29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26" repeatCount="10000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1" dur="500"/>
                                        <p:tgtEl>
                                          <p:spTgt spid="27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2" dur="250" autoRev="1" fill="hold"/>
                                        <p:tgtEl>
                                          <p:spTgt spid="27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3" nodeType="withEffect" fill="hold" presetClass="emph" presetID="26" repeatCount="1000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4" dur="500"/>
                                        <p:tgtEl>
                                          <p:spTgt spid="29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5" dur="250" autoRev="1" fill="hold"/>
                                        <p:tgtEl>
                                          <p:spTgt spid="29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6" nodeType="withEffect" fill="hold" presetClass="emph" presetID="26" repeatCount="10000">
                                  <p:stCondLst>
                                    <p:cond delay="3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7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8" dur="250" autoRev="1" fill="hold"/>
                                        <p:tgtEl>
                                          <p:spTgt spid="29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9" nodeType="withEffect" fill="hold" presetClass="emph" presetID="26" repeatCount="1000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0" dur="500"/>
                                        <p:tgtEl>
                                          <p:spTgt spid="29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1" dur="250" autoRev="1" fill="hold"/>
                                        <p:tgtEl>
                                          <p:spTgt spid="29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22" nodeType="withEffect" fill="hold" presetClass="emph" presetID="26" repeatCount="10000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3" dur="500"/>
                                        <p:tgtEl>
                                          <p:spTgt spid="27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4" dur="250" autoRev="1" fill="hold"/>
                                        <p:tgtEl>
                                          <p:spTgt spid="27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25" nodeType="withEffect" fill="hold" presetClass="emph" presetID="26" repeatCount="1000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6" dur="500"/>
                                        <p:tgtEl>
                                          <p:spTgt spid="29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7" dur="250" autoRev="1" fill="hold"/>
                                        <p:tgtEl>
                                          <p:spTgt spid="29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28" nodeType="withEffect" fill="hold" presetClass="emph" presetID="26" repeatCount="10000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9" dur="500"/>
                                        <p:tgtEl>
                                          <p:spTgt spid="30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0" dur="250" autoRev="1" fill="hold"/>
                                        <p:tgtEl>
                                          <p:spTgt spid="30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31" nodeType="withEffect" fill="hold" presetClass="emph" presetID="26" repeatCount="10000">
                                  <p:stCondLst>
                                    <p:cond delay="3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2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3" dur="250" autoRev="1" fill="hold"/>
                                        <p:tgtEl>
                                          <p:spTgt spid="29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34" nodeType="withEffect" fill="hold" presetClass="emph" presetID="26" repeatCount="10000">
                                  <p:stCondLst>
                                    <p:cond delay="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29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6" dur="250" autoRev="1" fill="hold"/>
                                        <p:tgtEl>
                                          <p:spTgt spid="29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37" nodeType="withEffect" fill="hold" presetClass="emph" presetID="26" repeatCount="10000">
                                  <p:stCondLst>
                                    <p:cond delay="3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29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9" dur="250" autoRev="1" fill="hold"/>
                                        <p:tgtEl>
                                          <p:spTgt spid="29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40" nodeType="withEffect" fill="hold" presetClass="emph" presetID="26" repeatCount="10000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1" dur="500"/>
                                        <p:tgtEl>
                                          <p:spTgt spid="29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2" dur="250" autoRev="1" fill="hold"/>
                                        <p:tgtEl>
                                          <p:spTgt spid="29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26" repeatCount="1000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4" dur="500"/>
                                        <p:tgtEl>
                                          <p:spTgt spid="29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5" dur="250" autoRev="1" fill="hold"/>
                                        <p:tgtEl>
                                          <p:spTgt spid="29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46" nodeType="withEffect" fill="hold" presetClass="emph" presetID="26" repeatCount="10000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7" dur="425"/>
                                        <p:tgtEl>
                                          <p:spTgt spid="29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8" dur="212" autoRev="1" fill="hold"/>
                                        <p:tgtEl>
                                          <p:spTgt spid="29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49" nodeType="withEffect" fill="hold" presetClass="emph" presetID="26" repeatCount="10000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0" dur="500"/>
                                        <p:tgtEl>
                                          <p:spTgt spid="30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1" dur="250" autoRev="1" fill="hold"/>
                                        <p:tgtEl>
                                          <p:spTgt spid="30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52" nodeType="withEffect" fill="hold" presetClass="emph" presetID="26" repeatCount="1000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4" dur="250" autoRev="1" fill="hold"/>
                                        <p:tgtEl>
                                          <p:spTgt spid="29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55" nodeType="withEffect" fill="hold" presetClass="emph" presetID="26" repeatCount="1000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6" dur="500"/>
                                        <p:tgtEl>
                                          <p:spTgt spid="29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7" dur="250" autoRev="1" fill="hold"/>
                                        <p:tgtEl>
                                          <p:spTgt spid="29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58" nodeType="withEffect" fill="hold" presetClass="emph" presetID="26" repeatCount="1000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29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0" dur="250" autoRev="1" fill="hold"/>
                                        <p:tgtEl>
                                          <p:spTgt spid="29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61" nodeType="withEffect" fill="hold" presetClass="emph" presetID="26" repeatCount="10000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2" dur="425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3" dur="213" autoRev="1" fill="hold"/>
                                        <p:tgtEl>
                                          <p:spTgt spid="29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64" nodeType="withEffect" fill="hold" presetClass="emph" presetID="26" repeatCount="10000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29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6" dur="250" autoRev="1" fill="hold"/>
                                        <p:tgtEl>
                                          <p:spTgt spid="29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67" nodeType="withEffect" fill="hold" presetClass="emph" presetID="26" repeatCount="10000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8" dur="500"/>
                                        <p:tgtEl>
                                          <p:spTgt spid="29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9" dur="250" autoRev="1" fill="hold"/>
                                        <p:tgtEl>
                                          <p:spTgt spid="29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70" nodeType="withEffect" fill="hold" presetClass="emph" presetID="26" repeatCount="10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71" dur="500"/>
                                        <p:tgtEl>
                                          <p:spTgt spid="27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2" dur="250" autoRev="1" fill="hold"/>
                                        <p:tgtEl>
                                          <p:spTgt spid="27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73" nodeType="withEffect" fill="hold" presetClass="emph" presetID="26" repeatCount="10000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74" dur="5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5" dur="250" autoRev="1" fill="hold"/>
                                        <p:tgtEl>
                                          <p:spTgt spid="27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76" nodeType="withEffect" fill="hold" presetClass="emph" presetID="26" repeatCount="10000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29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8" dur="250" autoRev="1" fill="hold"/>
                                        <p:tgtEl>
                                          <p:spTgt spid="29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79" nodeType="withEffect" fill="hold" presetClass="emph" presetID="26" repeatCount="10000">
                                  <p:stCondLst>
                                    <p:cond delay="3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0" dur="500"/>
                                        <p:tgtEl>
                                          <p:spTgt spid="29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1" dur="250" autoRev="1" fill="hold"/>
                                        <p:tgtEl>
                                          <p:spTgt spid="29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82" nodeType="withEffect" fill="hold" presetClass="emph" presetID="26" repeatCount="1000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3" dur="5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4" dur="250" autoRev="1" fill="hold"/>
                                        <p:tgtEl>
                                          <p:spTgt spid="27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85" nodeType="withEffect" fill="hold" presetClass="emph" presetID="26" repeatCount="10000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6" dur="500"/>
                                        <p:tgtEl>
                                          <p:spTgt spid="29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7" dur="250" autoRev="1" fill="hold"/>
                                        <p:tgtEl>
                                          <p:spTgt spid="29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88" nodeType="withEffect" fill="hold" presetClass="emph" presetID="26" repeatCount="10000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9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0" dur="250" autoRev="1" fill="hold"/>
                                        <p:tgtEl>
                                          <p:spTgt spid="29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91" nodeType="withEffect" fill="hold" presetClass="emph" presetID="26" repeatCount="1000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2" dur="500"/>
                                        <p:tgtEl>
                                          <p:spTgt spid="29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3" dur="250" autoRev="1" fill="hold"/>
                                        <p:tgtEl>
                                          <p:spTgt spid="29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3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3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8" dur="500"/>
                                        <p:tgtEl>
                                          <p:spTgt spid="3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3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3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3" dur="1000"/>
                                        <p:tgtEl>
                                          <p:spTgt spid="3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705" dur="2000" fill="hold"/>
                                        <p:tgtEl>
                                          <p:spTgt spid="300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07" dur="2000"/>
                                        <p:tgtEl>
                                          <p:spTgt spid="3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path" presetID="35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1.11111E-006 -4.44444E-006 L -0.12604 -4.44444E-006 E">
                                      <p:cBhvr>
                                        <p:cTn id="1710" dur="2000" fill="hold"/>
                                        <p:tgtEl>
                                          <p:spTgt spid="30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5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2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2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5" dur="20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38">
                                  <p:stCondLst>
                                    <p:cond delay="8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40">
                                  <p:stCondLst>
                                    <p:cond delay="10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2000"/>
                                        <p:tgtEl>
                                          <p:spTgt spid="30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6" dur="2000" fill="hold"/>
                                        <p:tgtEl>
                                          <p:spTgt spid="3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2000" fill="hold"/>
                                        <p:tgtEl>
                                          <p:spTgt spid="3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0">
                                  <p:stCondLst>
                                    <p:cond delay="1180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0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0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3" dur="500"/>
                                        <p:tgtEl>
                                          <p:spTgt spid="3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10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6" dur="500"/>
                                        <p:tgtEl>
                                          <p:spTgt spid="3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22" presetSubtype="8">
                                  <p:stCondLst>
                                    <p:cond delay="158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9" dur="5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Line 4"/>
          <p:cNvSpPr/>
          <p:nvPr/>
        </p:nvSpPr>
        <p:spPr>
          <a:xfrm>
            <a:off x="0" y="5137200"/>
            <a:ext cx="1925640" cy="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Freeform 5"/>
          <p:cNvSpPr/>
          <p:nvPr/>
        </p:nvSpPr>
        <p:spPr>
          <a:xfrm flipH="1" rot="21318000">
            <a:off x="-1405440" y="692280"/>
            <a:ext cx="1854360" cy="617400"/>
          </a:xfrm>
          <a:custGeom>
            <a:avLst/>
            <a:gdLst>
              <a:gd name="textAreaLeft" fmla="*/ 360 w 1854360"/>
              <a:gd name="textAreaRight" fmla="*/ 1855080 w 18543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1127" h="389">
                <a:moveTo>
                  <a:pt x="5" y="259"/>
                </a:moveTo>
                <a:cubicBezTo>
                  <a:pt x="0" y="212"/>
                  <a:pt x="53" y="139"/>
                  <a:pt x="123" y="133"/>
                </a:cubicBezTo>
                <a:cubicBezTo>
                  <a:pt x="146" y="80"/>
                  <a:pt x="202" y="26"/>
                  <a:pt x="279" y="15"/>
                </a:cubicBezTo>
                <a:cubicBezTo>
                  <a:pt x="400" y="0"/>
                  <a:pt x="492" y="64"/>
                  <a:pt x="558" y="100"/>
                </a:cubicBezTo>
                <a:cubicBezTo>
                  <a:pt x="599" y="94"/>
                  <a:pt x="669" y="97"/>
                  <a:pt x="714" y="113"/>
                </a:cubicBezTo>
                <a:cubicBezTo>
                  <a:pt x="759" y="129"/>
                  <a:pt x="810" y="176"/>
                  <a:pt x="834" y="196"/>
                </a:cubicBezTo>
                <a:cubicBezTo>
                  <a:pt x="864" y="193"/>
                  <a:pt x="898" y="195"/>
                  <a:pt x="923" y="203"/>
                </a:cubicBezTo>
                <a:cubicBezTo>
                  <a:pt x="948" y="211"/>
                  <a:pt x="969" y="227"/>
                  <a:pt x="993" y="244"/>
                </a:cubicBezTo>
                <a:cubicBezTo>
                  <a:pt x="1017" y="244"/>
                  <a:pt x="1050" y="253"/>
                  <a:pt x="1127" y="275"/>
                </a:cubicBezTo>
                <a:cubicBezTo>
                  <a:pt x="1107" y="285"/>
                  <a:pt x="961" y="288"/>
                  <a:pt x="858" y="314"/>
                </a:cubicBezTo>
                <a:cubicBezTo>
                  <a:pt x="755" y="340"/>
                  <a:pt x="573" y="355"/>
                  <a:pt x="453" y="365"/>
                </a:cubicBezTo>
                <a:cubicBezTo>
                  <a:pt x="314" y="387"/>
                  <a:pt x="189" y="389"/>
                  <a:pt x="114" y="371"/>
                </a:cubicBezTo>
                <a:cubicBezTo>
                  <a:pt x="39" y="353"/>
                  <a:pt x="10" y="306"/>
                  <a:pt x="5" y="25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Freeform 7"/>
          <p:cNvSpPr/>
          <p:nvPr/>
        </p:nvSpPr>
        <p:spPr>
          <a:xfrm flipH="1" rot="21318000">
            <a:off x="-468360" y="1123920"/>
            <a:ext cx="1133640" cy="544680"/>
          </a:xfrm>
          <a:custGeom>
            <a:avLst/>
            <a:gdLst>
              <a:gd name="textAreaLeft" fmla="*/ -360 w 1133640"/>
              <a:gd name="textAreaRight" fmla="*/ 1133640 w 113364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1127" h="389">
                <a:moveTo>
                  <a:pt x="5" y="259"/>
                </a:moveTo>
                <a:cubicBezTo>
                  <a:pt x="0" y="212"/>
                  <a:pt x="53" y="139"/>
                  <a:pt x="123" y="133"/>
                </a:cubicBezTo>
                <a:cubicBezTo>
                  <a:pt x="146" y="80"/>
                  <a:pt x="202" y="26"/>
                  <a:pt x="279" y="15"/>
                </a:cubicBezTo>
                <a:cubicBezTo>
                  <a:pt x="400" y="0"/>
                  <a:pt x="492" y="64"/>
                  <a:pt x="558" y="100"/>
                </a:cubicBezTo>
                <a:cubicBezTo>
                  <a:pt x="599" y="94"/>
                  <a:pt x="669" y="97"/>
                  <a:pt x="714" y="113"/>
                </a:cubicBezTo>
                <a:cubicBezTo>
                  <a:pt x="759" y="129"/>
                  <a:pt x="810" y="176"/>
                  <a:pt x="834" y="196"/>
                </a:cubicBezTo>
                <a:cubicBezTo>
                  <a:pt x="864" y="193"/>
                  <a:pt x="898" y="195"/>
                  <a:pt x="923" y="203"/>
                </a:cubicBezTo>
                <a:cubicBezTo>
                  <a:pt x="948" y="211"/>
                  <a:pt x="969" y="227"/>
                  <a:pt x="993" y="244"/>
                </a:cubicBezTo>
                <a:cubicBezTo>
                  <a:pt x="1017" y="244"/>
                  <a:pt x="1050" y="253"/>
                  <a:pt x="1127" y="275"/>
                </a:cubicBezTo>
                <a:cubicBezTo>
                  <a:pt x="1107" y="285"/>
                  <a:pt x="961" y="288"/>
                  <a:pt x="858" y="314"/>
                </a:cubicBezTo>
                <a:cubicBezTo>
                  <a:pt x="755" y="340"/>
                  <a:pt x="573" y="355"/>
                  <a:pt x="453" y="365"/>
                </a:cubicBezTo>
                <a:cubicBezTo>
                  <a:pt x="314" y="387"/>
                  <a:pt x="189" y="389"/>
                  <a:pt x="114" y="371"/>
                </a:cubicBezTo>
                <a:cubicBezTo>
                  <a:pt x="39" y="353"/>
                  <a:pt x="10" y="306"/>
                  <a:pt x="5" y="25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Freeform 8"/>
          <p:cNvSpPr/>
          <p:nvPr/>
        </p:nvSpPr>
        <p:spPr>
          <a:xfrm>
            <a:off x="-828720" y="189000"/>
            <a:ext cx="2149560" cy="76680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1353" h="483">
                <a:moveTo>
                  <a:pt x="1351" y="286"/>
                </a:moveTo>
                <a:cubicBezTo>
                  <a:pt x="1353" y="225"/>
                  <a:pt x="1272" y="138"/>
                  <a:pt x="1177" y="138"/>
                </a:cubicBezTo>
                <a:cubicBezTo>
                  <a:pt x="1140" y="73"/>
                  <a:pt x="1058" y="11"/>
                  <a:pt x="951" y="5"/>
                </a:cubicBezTo>
                <a:cubicBezTo>
                  <a:pt x="785" y="0"/>
                  <a:pt x="666" y="92"/>
                  <a:pt x="581" y="145"/>
                </a:cubicBezTo>
                <a:cubicBezTo>
                  <a:pt x="523" y="142"/>
                  <a:pt x="429" y="154"/>
                  <a:pt x="369" y="179"/>
                </a:cubicBezTo>
                <a:cubicBezTo>
                  <a:pt x="310" y="205"/>
                  <a:pt x="245" y="270"/>
                  <a:pt x="214" y="298"/>
                </a:cubicBezTo>
                <a:cubicBezTo>
                  <a:pt x="173" y="298"/>
                  <a:pt x="126" y="304"/>
                  <a:pt x="93" y="317"/>
                </a:cubicBezTo>
                <a:cubicBezTo>
                  <a:pt x="60" y="331"/>
                  <a:pt x="0" y="351"/>
                  <a:pt x="2" y="378"/>
                </a:cubicBezTo>
                <a:cubicBezTo>
                  <a:pt x="4" y="405"/>
                  <a:pt x="68" y="436"/>
                  <a:pt x="193" y="451"/>
                </a:cubicBezTo>
                <a:cubicBezTo>
                  <a:pt x="318" y="466"/>
                  <a:pt x="586" y="472"/>
                  <a:pt x="751" y="470"/>
                </a:cubicBezTo>
                <a:cubicBezTo>
                  <a:pt x="942" y="483"/>
                  <a:pt x="1113" y="472"/>
                  <a:pt x="1214" y="440"/>
                </a:cubicBezTo>
                <a:cubicBezTo>
                  <a:pt x="1315" y="409"/>
                  <a:pt x="1349" y="346"/>
                  <a:pt x="1351" y="28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Freeform 11"/>
          <p:cNvSpPr/>
          <p:nvPr/>
        </p:nvSpPr>
        <p:spPr>
          <a:xfrm>
            <a:off x="1254240" y="4956120"/>
            <a:ext cx="668160" cy="179280"/>
          </a:xfrm>
          <a:custGeom>
            <a:avLst/>
            <a:gdLst>
              <a:gd name="textAreaLeft" fmla="*/ 0 w 668160"/>
              <a:gd name="textAreaRight" fmla="*/ 668520 w 6681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421" h="113">
                <a:moveTo>
                  <a:pt x="421" y="113"/>
                </a:moveTo>
                <a:lnTo>
                  <a:pt x="2" y="28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Freeform 14"/>
          <p:cNvSpPr/>
          <p:nvPr/>
        </p:nvSpPr>
        <p:spPr>
          <a:xfrm>
            <a:off x="1254240" y="4276800"/>
            <a:ext cx="374400" cy="695160"/>
          </a:xfrm>
          <a:custGeom>
            <a:avLst/>
            <a:gdLst>
              <a:gd name="textAreaLeft" fmla="*/ 0 w 374400"/>
              <a:gd name="textAreaRight" fmla="*/ 374760 w 374400"/>
              <a:gd name="textAreaTop" fmla="*/ 0 h 695160"/>
              <a:gd name="textAreaBottom" fmla="*/ 695520 h 695160"/>
            </a:gdLst>
            <a:ahLst/>
            <a:rect l="textAreaLeft" t="textAreaTop" r="textAreaRight" b="textAreaBottom"/>
            <a:pathLst>
              <a:path w="236" h="438">
                <a:moveTo>
                  <a:pt x="1" y="438"/>
                </a:moveTo>
                <a:lnTo>
                  <a:pt x="0" y="400"/>
                </a:lnTo>
                <a:lnTo>
                  <a:pt x="44" y="390"/>
                </a:lnTo>
                <a:lnTo>
                  <a:pt x="44" y="310"/>
                </a:lnTo>
                <a:lnTo>
                  <a:pt x="22" y="306"/>
                </a:lnTo>
                <a:cubicBezTo>
                  <a:pt x="18" y="295"/>
                  <a:pt x="20" y="274"/>
                  <a:pt x="22" y="246"/>
                </a:cubicBezTo>
                <a:cubicBezTo>
                  <a:pt x="54" y="242"/>
                  <a:pt x="152" y="219"/>
                  <a:pt x="188" y="184"/>
                </a:cubicBezTo>
                <a:cubicBezTo>
                  <a:pt x="224" y="149"/>
                  <a:pt x="231" y="61"/>
                  <a:pt x="236" y="36"/>
                </a:cubicBezTo>
                <a:lnTo>
                  <a:pt x="218" y="34"/>
                </a:lnTo>
                <a:lnTo>
                  <a:pt x="218" y="0"/>
                </a:lnTo>
              </a:path>
            </a:pathLst>
          </a:custGeom>
          <a:noFill/>
          <a:ln w="331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Freeform 15"/>
          <p:cNvSpPr/>
          <p:nvPr/>
        </p:nvSpPr>
        <p:spPr>
          <a:xfrm>
            <a:off x="1596960" y="2435400"/>
            <a:ext cx="2908440" cy="1857240"/>
          </a:xfrm>
          <a:custGeom>
            <a:avLst/>
            <a:gdLst>
              <a:gd name="textAreaLeft" fmla="*/ 0 w 2908440"/>
              <a:gd name="textAreaRight" fmla="*/ 2908800 w 290844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1832" h="1170">
                <a:moveTo>
                  <a:pt x="0" y="1170"/>
                </a:moveTo>
                <a:lnTo>
                  <a:pt x="169" y="1116"/>
                </a:lnTo>
                <a:lnTo>
                  <a:pt x="229" y="1125"/>
                </a:lnTo>
                <a:lnTo>
                  <a:pt x="1777" y="0"/>
                </a:lnTo>
                <a:lnTo>
                  <a:pt x="1832" y="6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Freeform 16"/>
          <p:cNvSpPr/>
          <p:nvPr/>
        </p:nvSpPr>
        <p:spPr>
          <a:xfrm>
            <a:off x="4476600" y="2441520"/>
            <a:ext cx="711360" cy="149400"/>
          </a:xfrm>
          <a:custGeom>
            <a:avLst/>
            <a:gdLst>
              <a:gd name="textAreaLeft" fmla="*/ 0 w 711360"/>
              <a:gd name="textAreaRight" fmla="*/ 711720 w 71136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448" h="94">
                <a:moveTo>
                  <a:pt x="0" y="0"/>
                </a:moveTo>
                <a:lnTo>
                  <a:pt x="438" y="62"/>
                </a:lnTo>
                <a:lnTo>
                  <a:pt x="448" y="94"/>
                </a:ln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Freeform 17"/>
          <p:cNvSpPr/>
          <p:nvPr/>
        </p:nvSpPr>
        <p:spPr>
          <a:xfrm>
            <a:off x="4483080" y="2575080"/>
            <a:ext cx="728640" cy="1350720"/>
          </a:xfrm>
          <a:custGeom>
            <a:avLst/>
            <a:gdLst>
              <a:gd name="textAreaLeft" fmla="*/ 0 w 728640"/>
              <a:gd name="textAreaRight" fmla="*/ 729000 w 728640"/>
              <a:gd name="textAreaTop" fmla="*/ 0 h 1350720"/>
              <a:gd name="textAreaBottom" fmla="*/ 1351080 h 1350720"/>
            </a:gdLst>
            <a:ahLst/>
            <a:rect l="textAreaLeft" t="textAreaTop" r="textAreaRight" b="textAreaBottom"/>
            <a:pathLst>
              <a:path w="459" h="851">
                <a:moveTo>
                  <a:pt x="448" y="0"/>
                </a:moveTo>
                <a:cubicBezTo>
                  <a:pt x="425" y="12"/>
                  <a:pt x="357" y="34"/>
                  <a:pt x="307" y="73"/>
                </a:cubicBezTo>
                <a:cubicBezTo>
                  <a:pt x="257" y="112"/>
                  <a:pt x="225" y="180"/>
                  <a:pt x="253" y="245"/>
                </a:cubicBezTo>
                <a:cubicBezTo>
                  <a:pt x="281" y="310"/>
                  <a:pt x="459" y="320"/>
                  <a:pt x="433" y="494"/>
                </a:cubicBezTo>
                <a:cubicBezTo>
                  <a:pt x="407" y="668"/>
                  <a:pt x="90" y="777"/>
                  <a:pt x="0" y="851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Freeform 18"/>
          <p:cNvSpPr/>
          <p:nvPr/>
        </p:nvSpPr>
        <p:spPr>
          <a:xfrm>
            <a:off x="4489560" y="3919680"/>
            <a:ext cx="690480" cy="172800"/>
          </a:xfrm>
          <a:custGeom>
            <a:avLst/>
            <a:gdLst>
              <a:gd name="textAreaLeft" fmla="*/ 0 w 690480"/>
              <a:gd name="textAreaRight" fmla="*/ 690840 w 690480"/>
              <a:gd name="textAreaTop" fmla="*/ 0 h 172800"/>
              <a:gd name="textAreaBottom" fmla="*/ 173160 h 172800"/>
            </a:gdLst>
            <a:ahLst/>
            <a:rect l="textAreaLeft" t="textAreaTop" r="textAreaRight" b="textAreaBottom"/>
            <a:pathLst>
              <a:path w="435" h="109">
                <a:moveTo>
                  <a:pt x="0" y="0"/>
                </a:moveTo>
                <a:cubicBezTo>
                  <a:pt x="52" y="3"/>
                  <a:pt x="245" y="5"/>
                  <a:pt x="315" y="16"/>
                </a:cubicBezTo>
                <a:cubicBezTo>
                  <a:pt x="384" y="28"/>
                  <a:pt x="405" y="46"/>
                  <a:pt x="420" y="64"/>
                </a:cubicBezTo>
                <a:cubicBezTo>
                  <a:pt x="435" y="82"/>
                  <a:pt x="432" y="100"/>
                  <a:pt x="435" y="109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Freeform 19"/>
          <p:cNvSpPr/>
          <p:nvPr/>
        </p:nvSpPr>
        <p:spPr>
          <a:xfrm>
            <a:off x="4422600" y="4076640"/>
            <a:ext cx="757440" cy="319320"/>
          </a:xfrm>
          <a:custGeom>
            <a:avLst/>
            <a:gdLst>
              <a:gd name="textAreaLeft" fmla="*/ 0 w 757440"/>
              <a:gd name="textAreaRight" fmla="*/ 757800 w 7574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477" h="201">
                <a:moveTo>
                  <a:pt x="477" y="0"/>
                </a:moveTo>
                <a:cubicBezTo>
                  <a:pt x="474" y="10"/>
                  <a:pt x="477" y="43"/>
                  <a:pt x="461" y="60"/>
                </a:cubicBezTo>
                <a:cubicBezTo>
                  <a:pt x="443" y="81"/>
                  <a:pt x="419" y="91"/>
                  <a:pt x="381" y="100"/>
                </a:cubicBezTo>
                <a:cubicBezTo>
                  <a:pt x="343" y="109"/>
                  <a:pt x="286" y="112"/>
                  <a:pt x="221" y="109"/>
                </a:cubicBezTo>
                <a:cubicBezTo>
                  <a:pt x="156" y="106"/>
                  <a:pt x="60" y="118"/>
                  <a:pt x="30" y="145"/>
                </a:cubicBezTo>
                <a:cubicBezTo>
                  <a:pt x="0" y="172"/>
                  <a:pt x="11" y="189"/>
                  <a:pt x="6" y="201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Freeform 20"/>
          <p:cNvSpPr/>
          <p:nvPr/>
        </p:nvSpPr>
        <p:spPr>
          <a:xfrm>
            <a:off x="4425840" y="4368960"/>
            <a:ext cx="301680" cy="122040"/>
          </a:xfrm>
          <a:custGeom>
            <a:avLst/>
            <a:gdLst>
              <a:gd name="textAreaLeft" fmla="*/ 0 w 301680"/>
              <a:gd name="textAreaRight" fmla="*/ 302040 w 30168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90" h="77">
                <a:moveTo>
                  <a:pt x="6" y="0"/>
                </a:moveTo>
                <a:cubicBezTo>
                  <a:pt x="9" y="5"/>
                  <a:pt x="0" y="17"/>
                  <a:pt x="27" y="33"/>
                </a:cubicBezTo>
                <a:cubicBezTo>
                  <a:pt x="54" y="49"/>
                  <a:pt x="183" y="39"/>
                  <a:pt x="190" y="53"/>
                </a:cubicBezTo>
                <a:cubicBezTo>
                  <a:pt x="175" y="63"/>
                  <a:pt x="144" y="72"/>
                  <a:pt x="132" y="77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Line 21"/>
          <p:cNvSpPr/>
          <p:nvPr/>
        </p:nvSpPr>
        <p:spPr>
          <a:xfrm flipH="1">
            <a:off x="4252680" y="4484520"/>
            <a:ext cx="401400" cy="1382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Freeform 22"/>
          <p:cNvSpPr/>
          <p:nvPr/>
        </p:nvSpPr>
        <p:spPr>
          <a:xfrm>
            <a:off x="3903840" y="4611600"/>
            <a:ext cx="360360" cy="804960"/>
          </a:xfrm>
          <a:custGeom>
            <a:avLst/>
            <a:gdLst>
              <a:gd name="textAreaLeft" fmla="*/ 0 w 360360"/>
              <a:gd name="textAreaRight" fmla="*/ 360720 w 3603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227" h="507">
                <a:moveTo>
                  <a:pt x="227" y="0"/>
                </a:moveTo>
                <a:lnTo>
                  <a:pt x="227" y="53"/>
                </a:lnTo>
                <a:lnTo>
                  <a:pt x="198" y="56"/>
                </a:lnTo>
                <a:cubicBezTo>
                  <a:pt x="198" y="56"/>
                  <a:pt x="204" y="192"/>
                  <a:pt x="195" y="243"/>
                </a:cubicBezTo>
                <a:cubicBezTo>
                  <a:pt x="186" y="294"/>
                  <a:pt x="150" y="309"/>
                  <a:pt x="122" y="329"/>
                </a:cubicBezTo>
                <a:cubicBezTo>
                  <a:pt x="91" y="349"/>
                  <a:pt x="51" y="360"/>
                  <a:pt x="29" y="365"/>
                </a:cubicBezTo>
                <a:cubicBezTo>
                  <a:pt x="29" y="402"/>
                  <a:pt x="30" y="468"/>
                  <a:pt x="30" y="495"/>
                </a:cubicBezTo>
                <a:cubicBezTo>
                  <a:pt x="15" y="503"/>
                  <a:pt x="6" y="505"/>
                  <a:pt x="0" y="507"/>
                </a:cubicBezTo>
              </a:path>
            </a:pathLst>
          </a:custGeom>
          <a:noFill/>
          <a:ln w="324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Freeform 23"/>
          <p:cNvSpPr/>
          <p:nvPr/>
        </p:nvSpPr>
        <p:spPr>
          <a:xfrm>
            <a:off x="3917880" y="4086360"/>
            <a:ext cx="1260720" cy="1406520"/>
          </a:xfrm>
          <a:custGeom>
            <a:avLst/>
            <a:gdLst/>
            <a:ahLst/>
            <a:rect l="l" t="t" r="r" b="b"/>
            <a:pathLst>
              <a:path w="794" h="886">
                <a:moveTo>
                  <a:pt x="0" y="835"/>
                </a:moveTo>
                <a:lnTo>
                  <a:pt x="0" y="886"/>
                </a:lnTo>
                <a:lnTo>
                  <a:pt x="579" y="670"/>
                </a:lnTo>
                <a:cubicBezTo>
                  <a:pt x="579" y="670"/>
                  <a:pt x="578" y="516"/>
                  <a:pt x="581" y="468"/>
                </a:cubicBezTo>
                <a:cubicBezTo>
                  <a:pt x="615" y="469"/>
                  <a:pt x="774" y="469"/>
                  <a:pt x="783" y="397"/>
                </a:cubicBezTo>
                <a:cubicBezTo>
                  <a:pt x="792" y="325"/>
                  <a:pt x="792" y="83"/>
                  <a:pt x="794" y="0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Freeform 24"/>
          <p:cNvSpPr/>
          <p:nvPr/>
        </p:nvSpPr>
        <p:spPr>
          <a:xfrm>
            <a:off x="2305080" y="3914640"/>
            <a:ext cx="2282760" cy="21600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438" h="136">
                <a:moveTo>
                  <a:pt x="1438" y="0"/>
                </a:moveTo>
                <a:cubicBezTo>
                  <a:pt x="1314" y="7"/>
                  <a:pt x="940" y="16"/>
                  <a:pt x="694" y="40"/>
                </a:cubicBezTo>
                <a:cubicBezTo>
                  <a:pt x="448" y="64"/>
                  <a:pt x="145" y="116"/>
                  <a:pt x="0" y="136"/>
                </a:cubicBezTo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Line 25"/>
          <p:cNvSpPr/>
          <p:nvPr/>
        </p:nvSpPr>
        <p:spPr>
          <a:xfrm>
            <a:off x="1973160" y="4218120"/>
            <a:ext cx="2513160" cy="3189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Freeform 26"/>
          <p:cNvSpPr/>
          <p:nvPr/>
        </p:nvSpPr>
        <p:spPr>
          <a:xfrm>
            <a:off x="1646280" y="4275000"/>
            <a:ext cx="2609640" cy="336600"/>
          </a:xfrm>
          <a:custGeom>
            <a:avLst/>
            <a:gdLst>
              <a:gd name="textAreaLeft" fmla="*/ 0 w 2609640"/>
              <a:gd name="textAreaRight" fmla="*/ 2610000 w 2609640"/>
              <a:gd name="textAreaTop" fmla="*/ 0 h 336600"/>
              <a:gd name="textAreaBottom" fmla="*/ 336600 h 336600"/>
            </a:gdLst>
            <a:ahLst/>
            <a:rect l="textAreaLeft" t="textAreaTop" r="textAreaRight" b="textAreaBottom"/>
            <a:pathLst>
              <a:path w="1617" h="216">
                <a:moveTo>
                  <a:pt x="0" y="0"/>
                </a:moveTo>
                <a:lnTo>
                  <a:pt x="1617" y="216"/>
                </a:lnTo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Freeform 27"/>
          <p:cNvSpPr/>
          <p:nvPr/>
        </p:nvSpPr>
        <p:spPr>
          <a:xfrm>
            <a:off x="1631880" y="4343400"/>
            <a:ext cx="2584440" cy="349200"/>
          </a:xfrm>
          <a:custGeom>
            <a:avLst/>
            <a:gdLst>
              <a:gd name="textAreaLeft" fmla="*/ 0 w 2584440"/>
              <a:gd name="textAreaRight" fmla="*/ 2584440 w 25844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628" h="217">
                <a:moveTo>
                  <a:pt x="0" y="0"/>
                </a:moveTo>
                <a:lnTo>
                  <a:pt x="1628" y="217"/>
                </a:lnTo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Line 28"/>
          <p:cNvSpPr/>
          <p:nvPr/>
        </p:nvSpPr>
        <p:spPr>
          <a:xfrm>
            <a:off x="1312920" y="4900680"/>
            <a:ext cx="2627280" cy="4824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Line 29"/>
          <p:cNvSpPr/>
          <p:nvPr/>
        </p:nvSpPr>
        <p:spPr>
          <a:xfrm>
            <a:off x="1268280" y="4919760"/>
            <a:ext cx="2646360" cy="4903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Line 30"/>
          <p:cNvSpPr/>
          <p:nvPr/>
        </p:nvSpPr>
        <p:spPr>
          <a:xfrm>
            <a:off x="4834080" y="4346640"/>
            <a:ext cx="1440" cy="503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Freeform 31"/>
          <p:cNvSpPr/>
          <p:nvPr/>
        </p:nvSpPr>
        <p:spPr>
          <a:xfrm>
            <a:off x="1393920" y="4348080"/>
            <a:ext cx="304560" cy="534960"/>
          </a:xfrm>
          <a:custGeom>
            <a:avLst/>
            <a:gdLst>
              <a:gd name="textAreaLeft" fmla="*/ 0 w 304560"/>
              <a:gd name="textAreaRight" fmla="*/ 304920 w 30456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92" h="337">
                <a:moveTo>
                  <a:pt x="192" y="0"/>
                </a:moveTo>
                <a:cubicBezTo>
                  <a:pt x="181" y="26"/>
                  <a:pt x="176" y="120"/>
                  <a:pt x="125" y="157"/>
                </a:cubicBezTo>
                <a:cubicBezTo>
                  <a:pt x="74" y="194"/>
                  <a:pt x="30" y="205"/>
                  <a:pt x="2" y="216"/>
                </a:cubicBezTo>
                <a:cubicBezTo>
                  <a:pt x="0" y="249"/>
                  <a:pt x="2" y="312"/>
                  <a:pt x="2" y="337"/>
                </a:cubicBezTo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Line 32"/>
          <p:cNvSpPr/>
          <p:nvPr/>
        </p:nvSpPr>
        <p:spPr>
          <a:xfrm>
            <a:off x="1393920" y="4879800"/>
            <a:ext cx="2454120" cy="4590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Freeform 33"/>
          <p:cNvSpPr/>
          <p:nvPr/>
        </p:nvSpPr>
        <p:spPr>
          <a:xfrm>
            <a:off x="3844800" y="4676760"/>
            <a:ext cx="320760" cy="663480"/>
          </a:xfrm>
          <a:custGeom>
            <a:avLst/>
            <a:gdLst>
              <a:gd name="textAreaLeft" fmla="*/ 0 w 320760"/>
              <a:gd name="textAreaRight" fmla="*/ 321120 w 32076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202" h="418">
                <a:moveTo>
                  <a:pt x="2" y="418"/>
                </a:moveTo>
                <a:cubicBezTo>
                  <a:pt x="2" y="418"/>
                  <a:pt x="1" y="348"/>
                  <a:pt x="0" y="308"/>
                </a:cubicBezTo>
                <a:cubicBezTo>
                  <a:pt x="43" y="289"/>
                  <a:pt x="138" y="251"/>
                  <a:pt x="170" y="200"/>
                </a:cubicBezTo>
                <a:cubicBezTo>
                  <a:pt x="202" y="149"/>
                  <a:pt x="186" y="42"/>
                  <a:pt x="190" y="0"/>
                </a:cubicBezTo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Line 34"/>
          <p:cNvSpPr/>
          <p:nvPr/>
        </p:nvSpPr>
        <p:spPr>
          <a:xfrm>
            <a:off x="1741320" y="4352760"/>
            <a:ext cx="3240" cy="3733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Freeform 35"/>
          <p:cNvSpPr/>
          <p:nvPr/>
        </p:nvSpPr>
        <p:spPr>
          <a:xfrm>
            <a:off x="1465200" y="4721400"/>
            <a:ext cx="279360" cy="166680"/>
          </a:xfrm>
          <a:custGeom>
            <a:avLst/>
            <a:gdLst>
              <a:gd name="textAreaLeft" fmla="*/ 0 w 279360"/>
              <a:gd name="textAreaRight" fmla="*/ 279720 w 2793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76" h="105">
                <a:moveTo>
                  <a:pt x="176" y="0"/>
                </a:moveTo>
                <a:lnTo>
                  <a:pt x="0" y="42"/>
                </a:lnTo>
                <a:lnTo>
                  <a:pt x="0" y="105"/>
                </a:lnTo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Line 36"/>
          <p:cNvSpPr/>
          <p:nvPr/>
        </p:nvSpPr>
        <p:spPr>
          <a:xfrm>
            <a:off x="1743120" y="4718160"/>
            <a:ext cx="2236680" cy="379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Line 40"/>
          <p:cNvSpPr/>
          <p:nvPr/>
        </p:nvSpPr>
        <p:spPr>
          <a:xfrm flipH="1" flipV="1">
            <a:off x="1908000" y="5132160"/>
            <a:ext cx="2013120" cy="36036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1" name="Group 50"/>
          <p:cNvGrpSpPr/>
          <p:nvPr/>
        </p:nvGrpSpPr>
        <p:grpSpPr>
          <a:xfrm>
            <a:off x="3846600" y="3006720"/>
            <a:ext cx="523800" cy="1514520"/>
            <a:chOff x="3846600" y="3006720"/>
            <a:chExt cx="523800" cy="1514520"/>
          </a:xfrm>
        </p:grpSpPr>
        <p:sp>
          <p:nvSpPr>
            <p:cNvPr id="3042" name="Freeform 47"/>
            <p:cNvSpPr/>
            <p:nvPr/>
          </p:nvSpPr>
          <p:spPr>
            <a:xfrm>
              <a:off x="3846600" y="3006720"/>
              <a:ext cx="523800" cy="15145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1514520"/>
                <a:gd name="textAreaBottom" fmla="*/ 1514880 h 1514520"/>
              </a:gdLst>
              <a:ahLst/>
              <a:rect l="textAreaLeft" t="textAreaTop" r="textAreaRight" b="textAreaBottom"/>
              <a:pathLst>
                <a:path w="330" h="954">
                  <a:moveTo>
                    <a:pt x="243" y="945"/>
                  </a:moveTo>
                  <a:lnTo>
                    <a:pt x="0" y="6"/>
                  </a:lnTo>
                  <a:lnTo>
                    <a:pt x="42" y="0"/>
                  </a:lnTo>
                  <a:lnTo>
                    <a:pt x="330" y="954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Freeform 48"/>
            <p:cNvSpPr/>
            <p:nvPr/>
          </p:nvSpPr>
          <p:spPr>
            <a:xfrm>
              <a:off x="3889440" y="3040200"/>
              <a:ext cx="457200" cy="14763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476360"/>
                <a:gd name="textAreaBottom" fmla="*/ 1476720 h 1476360"/>
              </a:gdLst>
              <a:ahLst/>
              <a:rect l="textAreaLeft" t="textAreaTop" r="textAreaRight" b="textAreaBottom"/>
              <a:pathLst>
                <a:path w="288" h="930">
                  <a:moveTo>
                    <a:pt x="252" y="927"/>
                  </a:moveTo>
                  <a:lnTo>
                    <a:pt x="0" y="0"/>
                  </a:lnTo>
                  <a:lnTo>
                    <a:pt x="288" y="930"/>
                  </a:lnTo>
                  <a:lnTo>
                    <a:pt x="252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Line 49"/>
          <p:cNvSpPr/>
          <p:nvPr/>
        </p:nvSpPr>
        <p:spPr>
          <a:xfrm>
            <a:off x="4835520" y="5148360"/>
            <a:ext cx="1925640" cy="14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Group 52"/>
          <p:cNvGrpSpPr/>
          <p:nvPr/>
        </p:nvGrpSpPr>
        <p:grpSpPr>
          <a:xfrm>
            <a:off x="1496880" y="4762440"/>
            <a:ext cx="2411280" cy="571680"/>
            <a:chOff x="1496880" y="4762440"/>
            <a:chExt cx="2411280" cy="571680"/>
          </a:xfrm>
        </p:grpSpPr>
        <p:sp>
          <p:nvSpPr>
            <p:cNvPr id="3046" name="Freeform 38"/>
            <p:cNvSpPr/>
            <p:nvPr/>
          </p:nvSpPr>
          <p:spPr>
            <a:xfrm>
              <a:off x="1496880" y="4762440"/>
              <a:ext cx="2411280" cy="571680"/>
            </a:xfrm>
            <a:custGeom>
              <a:avLst/>
              <a:gdLst>
                <a:gd name="textAreaLeft" fmla="*/ 0 w 2411280"/>
                <a:gd name="textAreaRight" fmla="*/ 2411640 w 241128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1519" h="360">
                  <a:moveTo>
                    <a:pt x="0" y="85"/>
                  </a:moveTo>
                  <a:lnTo>
                    <a:pt x="1" y="36"/>
                  </a:lnTo>
                  <a:lnTo>
                    <a:pt x="143" y="0"/>
                  </a:lnTo>
                  <a:lnTo>
                    <a:pt x="1519" y="234"/>
                  </a:lnTo>
                  <a:lnTo>
                    <a:pt x="1479" y="252"/>
                  </a:lnTo>
                  <a:lnTo>
                    <a:pt x="1479" y="36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Line 51"/>
            <p:cNvSpPr/>
            <p:nvPr/>
          </p:nvSpPr>
          <p:spPr>
            <a:xfrm>
              <a:off x="1498320" y="4822920"/>
              <a:ext cx="2355840" cy="425160"/>
            </a:xfrm>
            <a:prstGeom prst="line">
              <a:avLst/>
            </a:prstGeom>
            <a:ln w="936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Freeform 55"/>
          <p:cNvSpPr/>
          <p:nvPr/>
        </p:nvSpPr>
        <p:spPr>
          <a:xfrm>
            <a:off x="1778040" y="4794120"/>
            <a:ext cx="301680" cy="192240"/>
          </a:xfrm>
          <a:custGeom>
            <a:avLst/>
            <a:gdLst>
              <a:gd name="textAreaLeft" fmla="*/ 0 w 301680"/>
              <a:gd name="textAreaRight" fmla="*/ 302040 w 3016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90" h="121">
                <a:moveTo>
                  <a:pt x="0" y="112"/>
                </a:moveTo>
                <a:lnTo>
                  <a:pt x="1" y="52"/>
                </a:lnTo>
                <a:lnTo>
                  <a:pt x="139" y="0"/>
                </a:lnTo>
                <a:lnTo>
                  <a:pt x="190" y="12"/>
                </a:lnTo>
                <a:lnTo>
                  <a:pt x="52" y="63"/>
                </a:lnTo>
                <a:lnTo>
                  <a:pt x="49" y="121"/>
                </a:lnTo>
                <a:lnTo>
                  <a:pt x="0" y="11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Freeform 56"/>
          <p:cNvSpPr/>
          <p:nvPr/>
        </p:nvSpPr>
        <p:spPr>
          <a:xfrm>
            <a:off x="2127240" y="4853160"/>
            <a:ext cx="301680" cy="191880"/>
          </a:xfrm>
          <a:custGeom>
            <a:avLst/>
            <a:gdLst>
              <a:gd name="textAreaLeft" fmla="*/ 0 w 301680"/>
              <a:gd name="textAreaRight" fmla="*/ 302040 w 3016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0" h="121">
                <a:moveTo>
                  <a:pt x="0" y="112"/>
                </a:moveTo>
                <a:lnTo>
                  <a:pt x="1" y="52"/>
                </a:lnTo>
                <a:lnTo>
                  <a:pt x="139" y="0"/>
                </a:lnTo>
                <a:lnTo>
                  <a:pt x="190" y="12"/>
                </a:lnTo>
                <a:lnTo>
                  <a:pt x="52" y="63"/>
                </a:lnTo>
                <a:lnTo>
                  <a:pt x="49" y="121"/>
                </a:lnTo>
                <a:lnTo>
                  <a:pt x="0" y="11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Freeform 57"/>
          <p:cNvSpPr/>
          <p:nvPr/>
        </p:nvSpPr>
        <p:spPr>
          <a:xfrm>
            <a:off x="2411280" y="4903920"/>
            <a:ext cx="301680" cy="191880"/>
          </a:xfrm>
          <a:custGeom>
            <a:avLst/>
            <a:gdLst>
              <a:gd name="textAreaLeft" fmla="*/ 0 w 301680"/>
              <a:gd name="textAreaRight" fmla="*/ 302040 w 3016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0" h="121">
                <a:moveTo>
                  <a:pt x="0" y="112"/>
                </a:moveTo>
                <a:lnTo>
                  <a:pt x="1" y="52"/>
                </a:lnTo>
                <a:lnTo>
                  <a:pt x="139" y="0"/>
                </a:lnTo>
                <a:lnTo>
                  <a:pt x="190" y="12"/>
                </a:lnTo>
                <a:lnTo>
                  <a:pt x="52" y="63"/>
                </a:lnTo>
                <a:lnTo>
                  <a:pt x="49" y="121"/>
                </a:lnTo>
                <a:lnTo>
                  <a:pt x="0" y="11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Freeform 59"/>
          <p:cNvSpPr/>
          <p:nvPr/>
        </p:nvSpPr>
        <p:spPr>
          <a:xfrm>
            <a:off x="3206880" y="5043600"/>
            <a:ext cx="301320" cy="191880"/>
          </a:xfrm>
          <a:custGeom>
            <a:avLst/>
            <a:gdLst>
              <a:gd name="textAreaLeft" fmla="*/ 0 w 301320"/>
              <a:gd name="textAreaRight" fmla="*/ 301680 w 3013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0" h="121">
                <a:moveTo>
                  <a:pt x="0" y="112"/>
                </a:moveTo>
                <a:lnTo>
                  <a:pt x="1" y="52"/>
                </a:lnTo>
                <a:lnTo>
                  <a:pt x="139" y="0"/>
                </a:lnTo>
                <a:lnTo>
                  <a:pt x="190" y="12"/>
                </a:lnTo>
                <a:lnTo>
                  <a:pt x="52" y="63"/>
                </a:lnTo>
                <a:lnTo>
                  <a:pt x="49" y="121"/>
                </a:lnTo>
                <a:lnTo>
                  <a:pt x="0" y="11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Freeform 60"/>
          <p:cNvSpPr/>
          <p:nvPr/>
        </p:nvSpPr>
        <p:spPr>
          <a:xfrm>
            <a:off x="-36360" y="177840"/>
            <a:ext cx="1384200" cy="151776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1517760"/>
              <a:gd name="textAreaBottom" fmla="*/ 1518120 h 1517760"/>
            </a:gdLst>
            <a:ahLst/>
            <a:rect l="textAreaLeft" t="textAreaTop" r="textAreaRight" b="textAreaBottom"/>
            <a:pathLst>
              <a:path w="872" h="956">
                <a:moveTo>
                  <a:pt x="0" y="142"/>
                </a:moveTo>
                <a:lnTo>
                  <a:pt x="85" y="151"/>
                </a:lnTo>
                <a:cubicBezTo>
                  <a:pt x="152" y="129"/>
                  <a:pt x="239" y="20"/>
                  <a:pt x="401" y="10"/>
                </a:cubicBezTo>
                <a:cubicBezTo>
                  <a:pt x="563" y="0"/>
                  <a:pt x="659" y="73"/>
                  <a:pt x="671" y="142"/>
                </a:cubicBezTo>
                <a:cubicBezTo>
                  <a:pt x="746" y="163"/>
                  <a:pt x="872" y="203"/>
                  <a:pt x="842" y="353"/>
                </a:cubicBezTo>
                <a:cubicBezTo>
                  <a:pt x="812" y="503"/>
                  <a:pt x="374" y="482"/>
                  <a:pt x="292" y="477"/>
                </a:cubicBezTo>
                <a:cubicBezTo>
                  <a:pt x="314" y="542"/>
                  <a:pt x="292" y="597"/>
                  <a:pt x="292" y="597"/>
                </a:cubicBezTo>
                <a:cubicBezTo>
                  <a:pt x="292" y="597"/>
                  <a:pt x="359" y="677"/>
                  <a:pt x="359" y="677"/>
                </a:cubicBezTo>
                <a:cubicBezTo>
                  <a:pt x="404" y="698"/>
                  <a:pt x="485" y="770"/>
                  <a:pt x="434" y="863"/>
                </a:cubicBezTo>
                <a:cubicBezTo>
                  <a:pt x="383" y="956"/>
                  <a:pt x="94" y="900"/>
                  <a:pt x="4" y="909"/>
                </a:cubicBezTo>
              </a:path>
            </a:pathLst>
          </a:custGeom>
          <a:noFill/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Rectangle 61"/>
          <p:cNvSpPr/>
          <p:nvPr/>
        </p:nvSpPr>
        <p:spPr>
          <a:xfrm>
            <a:off x="4728600" y="11358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天涯若比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Rectangle 62"/>
          <p:cNvSpPr/>
          <p:nvPr/>
        </p:nvSpPr>
        <p:spPr>
          <a:xfrm>
            <a:off x="5945040" y="3564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今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Rectangle 65"/>
          <p:cNvSpPr/>
          <p:nvPr/>
        </p:nvSpPr>
        <p:spPr>
          <a:xfrm>
            <a:off x="6244200" y="4435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我们相    在这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Text Box 66"/>
          <p:cNvSpPr/>
          <p:nvPr/>
        </p:nvSpPr>
        <p:spPr>
          <a:xfrm>
            <a:off x="7027920" y="4276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Rectangle 67"/>
          <p:cNvSpPr/>
          <p:nvPr/>
        </p:nvSpPr>
        <p:spPr>
          <a:xfrm>
            <a:off x="5571000" y="5760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这次培训也是一次旅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Line 68"/>
          <p:cNvSpPr/>
          <p:nvPr/>
        </p:nvSpPr>
        <p:spPr>
          <a:xfrm>
            <a:off x="6759720" y="5148360"/>
            <a:ext cx="2384280" cy="144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Freeform 73"/>
          <p:cNvSpPr/>
          <p:nvPr/>
        </p:nvSpPr>
        <p:spPr>
          <a:xfrm>
            <a:off x="1778040" y="4791240"/>
            <a:ext cx="301680" cy="191880"/>
          </a:xfrm>
          <a:custGeom>
            <a:avLst/>
            <a:gdLst>
              <a:gd name="textAreaLeft" fmla="*/ 0 w 301680"/>
              <a:gd name="textAreaRight" fmla="*/ 302040 w 3016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0" h="121">
                <a:moveTo>
                  <a:pt x="0" y="112"/>
                </a:moveTo>
                <a:lnTo>
                  <a:pt x="1" y="52"/>
                </a:lnTo>
                <a:lnTo>
                  <a:pt x="139" y="0"/>
                </a:lnTo>
                <a:lnTo>
                  <a:pt x="190" y="12"/>
                </a:lnTo>
                <a:lnTo>
                  <a:pt x="52" y="63"/>
                </a:lnTo>
                <a:lnTo>
                  <a:pt x="49" y="121"/>
                </a:lnTo>
                <a:lnTo>
                  <a:pt x="0" y="112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Freeform 74"/>
          <p:cNvSpPr/>
          <p:nvPr/>
        </p:nvSpPr>
        <p:spPr>
          <a:xfrm>
            <a:off x="2127240" y="4849920"/>
            <a:ext cx="301680" cy="191880"/>
          </a:xfrm>
          <a:custGeom>
            <a:avLst/>
            <a:gdLst>
              <a:gd name="textAreaLeft" fmla="*/ 0 w 301680"/>
              <a:gd name="textAreaRight" fmla="*/ 302040 w 3016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0" h="121">
                <a:moveTo>
                  <a:pt x="0" y="112"/>
                </a:moveTo>
                <a:lnTo>
                  <a:pt x="1" y="52"/>
                </a:lnTo>
                <a:lnTo>
                  <a:pt x="139" y="0"/>
                </a:lnTo>
                <a:lnTo>
                  <a:pt x="190" y="12"/>
                </a:lnTo>
                <a:lnTo>
                  <a:pt x="52" y="63"/>
                </a:lnTo>
                <a:lnTo>
                  <a:pt x="49" y="121"/>
                </a:lnTo>
                <a:lnTo>
                  <a:pt x="0" y="112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Freeform 75"/>
          <p:cNvSpPr/>
          <p:nvPr/>
        </p:nvSpPr>
        <p:spPr>
          <a:xfrm>
            <a:off x="2411280" y="4898880"/>
            <a:ext cx="301680" cy="192240"/>
          </a:xfrm>
          <a:custGeom>
            <a:avLst/>
            <a:gdLst>
              <a:gd name="textAreaLeft" fmla="*/ 0 w 301680"/>
              <a:gd name="textAreaRight" fmla="*/ 302040 w 3016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90" h="121">
                <a:moveTo>
                  <a:pt x="0" y="112"/>
                </a:moveTo>
                <a:lnTo>
                  <a:pt x="1" y="52"/>
                </a:lnTo>
                <a:lnTo>
                  <a:pt x="139" y="0"/>
                </a:lnTo>
                <a:lnTo>
                  <a:pt x="190" y="12"/>
                </a:lnTo>
                <a:lnTo>
                  <a:pt x="52" y="63"/>
                </a:lnTo>
                <a:lnTo>
                  <a:pt x="49" y="121"/>
                </a:lnTo>
                <a:lnTo>
                  <a:pt x="0" y="112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Freeform 76"/>
          <p:cNvSpPr/>
          <p:nvPr/>
        </p:nvSpPr>
        <p:spPr>
          <a:xfrm>
            <a:off x="3206880" y="5045040"/>
            <a:ext cx="301320" cy="192240"/>
          </a:xfrm>
          <a:custGeom>
            <a:avLst/>
            <a:gdLst>
              <a:gd name="textAreaLeft" fmla="*/ 0 w 301320"/>
              <a:gd name="textAreaRight" fmla="*/ 301680 w 301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90" h="121">
                <a:moveTo>
                  <a:pt x="0" y="112"/>
                </a:moveTo>
                <a:lnTo>
                  <a:pt x="1" y="52"/>
                </a:lnTo>
                <a:lnTo>
                  <a:pt x="139" y="0"/>
                </a:lnTo>
                <a:lnTo>
                  <a:pt x="190" y="12"/>
                </a:lnTo>
                <a:lnTo>
                  <a:pt x="52" y="63"/>
                </a:lnTo>
                <a:lnTo>
                  <a:pt x="49" y="121"/>
                </a:lnTo>
                <a:lnTo>
                  <a:pt x="0" y="112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nodeType="clickEffect" fill="hold">
                      <p:stCondLst>
                        <p:cond delay="0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6" dur="500"/>
                                        <p:tgtEl>
                                          <p:spTgt spid="3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9" dur="500"/>
                                        <p:tgtEl>
                                          <p:spTgt spid="3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2" dur="500"/>
                                        <p:tgtEl>
                                          <p:spTgt spid="3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500"/>
                                        <p:tgtEl>
                                          <p:spTgt spid="3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8" dur="500"/>
                                        <p:tgtEl>
                                          <p:spTgt spid="3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500"/>
                                        <p:tgtEl>
                                          <p:spTgt spid="3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4" dur="500"/>
                                        <p:tgtEl>
                                          <p:spTgt spid="3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7" dur="500"/>
                                        <p:tgtEl>
                                          <p:spTgt spid="3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0" dur="500"/>
                                        <p:tgtEl>
                                          <p:spTgt spid="3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3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6" dur="500"/>
                                        <p:tgtEl>
                                          <p:spTgt spid="3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9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2" dur="500"/>
                                        <p:tgtEl>
                                          <p:spTgt spid="3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5" dur="500"/>
                                        <p:tgtEl>
                                          <p:spTgt spid="3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8" dur="5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22" presetSubtype="2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3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4" dur="5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2" presetSubtype="4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7" dur="500"/>
                                        <p:tgtEl>
                                          <p:spTgt spid="3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0" dur="500"/>
                                        <p:tgtEl>
                                          <p:spTgt spid="3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2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3" dur="500"/>
                                        <p:tgtEl>
                                          <p:spTgt spid="3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6" dur="5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22" presetSubtype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500"/>
                                        <p:tgtEl>
                                          <p:spTgt spid="3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2" presetSubtype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3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22" presetSubtype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3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8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2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500"/>
                                        <p:tgtEl>
                                          <p:spTgt spid="3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6" presetSubtype="37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500"/>
                                        <p:tgtEl>
                                          <p:spTgt spid="3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7" dur="5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10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300"/>
                                        <p:tgtEl>
                                          <p:spTgt spid="3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2" dur="300"/>
                                        <p:tgtEl>
                                          <p:spTgt spid="3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6" dur="300"/>
                                        <p:tgtEl>
                                          <p:spTgt spid="3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0">
                                  <p:stCondLst>
                                    <p:cond delay="9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8" dur="300"/>
                                        <p:tgtEl>
                                          <p:spTgt spid="3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10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2" dur="3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3" nodeType="withEffect" fill="hold" presetClass="exit" presetID="10">
                                  <p:stCondLst>
                                    <p:cond delay="10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44" dur="3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1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8" dur="500"/>
                                        <p:tgtEl>
                                          <p:spTgt spid="3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10">
                                  <p:stCondLst>
                                    <p:cond delay="9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50" dur="400"/>
                                        <p:tgtEl>
                                          <p:spTgt spid="3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22" presetSubtype="1">
                                  <p:stCondLst>
                                    <p:cond delay="99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4" dur="500"/>
                                        <p:tgtEl>
                                          <p:spTgt spid="3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10">
                                  <p:stCondLst>
                                    <p:cond delay="104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7" dur="1000"/>
                                        <p:tgtEl>
                                          <p:spTgt spid="3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10">
                                  <p:stCondLst>
                                    <p:cond delay="104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0" dur="1000"/>
                                        <p:tgtEl>
                                          <p:spTgt spid="3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104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10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xit" presetID="10">
                                  <p:stCondLst>
                                    <p:cond delay="10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65" dur="1000"/>
                                        <p:tgtEl>
                                          <p:spTgt spid="3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path" presetID="63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-3.05556E-006 -2.13046E-006 L 0.22153 -0.00277 E">
                                      <p:cBhvr>
                                        <p:cTn id="1868" dur="3000" fill="hold"/>
                                        <p:tgtEl>
                                          <p:spTgt spid="3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9" nodeType="withEffect" fill="hold" presetClass="path" presetID="63">
                                  <p:stCondLst>
                                    <p:cond delay="10900"/>
                                  </p:stCondLst>
                                  <p:childTnLst>
                                    <p:animMotion origin="layout" path="M -3.88889E-006 -1.02012E-006 L 0.31598 -1.02012E-006 E">
                                      <p:cBhvr>
                                        <p:cTn id="1870" dur="3000" fill="hold"/>
                                        <p:tgtEl>
                                          <p:spTgt spid="30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1" nodeType="withEffect" fill="hold" presetClass="path" presetID="63">
                                  <p:stCondLst>
                                    <p:cond delay="11200"/>
                                  </p:stCondLst>
                                  <p:childTnLst>
                                    <p:animMotion origin="layout" path="M 3.88889E-006 4.49688E-006 L 0.48906 -0.00324 E">
                                      <p:cBhvr>
                                        <p:cTn id="1872" dur="3000" fill="hold"/>
                                        <p:tgtEl>
                                          <p:spTgt spid="30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40">
                                  <p:stCondLst>
                                    <p:cond delay="112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5" dur="10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3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3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47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0" dur="1000"/>
                                        <p:tgtEl>
                                          <p:spTgt spid="3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3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0" fill="hold"/>
                                        <p:tgtEl>
                                          <p:spTgt spid="3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1000"/>
                                        <p:tgtEl>
                                          <p:spTgt spid="3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26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22" presetSubtype="8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4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42">
                                  <p:stCondLst>
                                    <p:cond delay="1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7" dur="3000"/>
                                        <p:tgtEl>
                                          <p:spTgt spid="3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8" dur="3000" fill="hold"/>
                                        <p:tgtEl>
                                          <p:spTgt spid="3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3000" fill="hold"/>
                                        <p:tgtEl>
                                          <p:spTgt spid="3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0" nodeType="withEffect" fill="hold" presetClass="emph" presetID="34">
                                  <p:stCondLst>
                                    <p:cond delay="15000"/>
                                  </p:stCondLst>
                                  <p:iterate type="lt">
                                    <p:tmAbs val="90.9000015258789"/>
                                  </p:iterate>
                                  <p:childTnLst>
                                    <p:animMotion origin="layout" path="M -3.88889E-006 4.07407E-006 L -3.88889E-006 -0.05903 E">
                                      <p:cBhvr>
                                        <p:cTn id="191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1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1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22" presetSubtype="8">
                                  <p:stCondLst>
                                    <p:cond delay="1750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8" dur="500"/>
                                        <p:tgtEl>
                                          <p:spTgt spid="3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10">
                                  <p:stCondLst>
                                    <p:cond delay="1230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1" dur="3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xit" presetID="10">
                                  <p:stCondLst>
                                    <p:cond delay="1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23" dur="3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7" dur="300"/>
                                        <p:tgtEl>
                                          <p:spTgt spid="3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xit" presetID="10">
                                  <p:stCondLst>
                                    <p:cond delay="1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29" dur="300"/>
                                        <p:tgtEl>
                                          <p:spTgt spid="3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10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3" dur="300"/>
                                        <p:tgtEl>
                                          <p:spTgt spid="3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xit" presetID="10">
                                  <p:stCondLst>
                                    <p:cond delay="1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35" dur="300"/>
                                        <p:tgtEl>
                                          <p:spTgt spid="3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0">
                                  <p:stCondLst>
                                    <p:cond delay="1230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9" dur="5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xit" presetID="10">
                                  <p:stCondLst>
                                    <p:cond delay="1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1" dur="4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3" name="Group 386"/>
          <p:cNvGrpSpPr/>
          <p:nvPr/>
        </p:nvGrpSpPr>
        <p:grpSpPr>
          <a:xfrm>
            <a:off x="7466040" y="176040"/>
            <a:ext cx="944640" cy="4943520"/>
            <a:chOff x="7466040" y="176040"/>
            <a:chExt cx="944640" cy="4943520"/>
          </a:xfrm>
        </p:grpSpPr>
        <p:sp>
          <p:nvSpPr>
            <p:cNvPr id="3064" name="Freeform 370"/>
            <p:cNvSpPr/>
            <p:nvPr/>
          </p:nvSpPr>
          <p:spPr>
            <a:xfrm>
              <a:off x="7466040" y="176040"/>
              <a:ext cx="790560" cy="494352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4943520"/>
                <a:gd name="textAreaBottom" fmla="*/ 4943880 h 4943520"/>
              </a:gdLst>
              <a:ahLst/>
              <a:rect l="textAreaLeft" t="textAreaTop" r="textAreaRight" b="textAreaBottom"/>
              <a:pathLst>
                <a:path w="498" h="3114">
                  <a:moveTo>
                    <a:pt x="240" y="0"/>
                  </a:moveTo>
                  <a:lnTo>
                    <a:pt x="0" y="336"/>
                  </a:lnTo>
                  <a:lnTo>
                    <a:pt x="0" y="3114"/>
                  </a:lnTo>
                  <a:lnTo>
                    <a:pt x="498" y="3114"/>
                  </a:lnTo>
                  <a:lnTo>
                    <a:pt x="496" y="321"/>
                  </a:lnTo>
                  <a:lnTo>
                    <a:pt x="240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Rectangle 383"/>
            <p:cNvSpPr/>
            <p:nvPr/>
          </p:nvSpPr>
          <p:spPr>
            <a:xfrm>
              <a:off x="8266320" y="1172880"/>
              <a:ext cx="14436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Rectangle 384"/>
            <p:cNvSpPr/>
            <p:nvPr/>
          </p:nvSpPr>
          <p:spPr>
            <a:xfrm>
              <a:off x="8266320" y="4197240"/>
              <a:ext cx="14436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7" name="Group 385"/>
          <p:cNvGrpSpPr/>
          <p:nvPr/>
        </p:nvGrpSpPr>
        <p:grpSpPr>
          <a:xfrm>
            <a:off x="6524640" y="176040"/>
            <a:ext cx="936720" cy="4943520"/>
            <a:chOff x="6524640" y="176040"/>
            <a:chExt cx="936720" cy="4943520"/>
          </a:xfrm>
        </p:grpSpPr>
        <p:sp>
          <p:nvSpPr>
            <p:cNvPr id="3068" name="Freeform 369"/>
            <p:cNvSpPr/>
            <p:nvPr/>
          </p:nvSpPr>
          <p:spPr>
            <a:xfrm>
              <a:off x="6524640" y="176040"/>
              <a:ext cx="790560" cy="494352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4943520"/>
                <a:gd name="textAreaBottom" fmla="*/ 4943880 h 4943520"/>
              </a:gdLst>
              <a:ahLst/>
              <a:rect l="textAreaLeft" t="textAreaTop" r="textAreaRight" b="textAreaBottom"/>
              <a:pathLst>
                <a:path w="498" h="3114">
                  <a:moveTo>
                    <a:pt x="240" y="0"/>
                  </a:moveTo>
                  <a:lnTo>
                    <a:pt x="0" y="336"/>
                  </a:lnTo>
                  <a:lnTo>
                    <a:pt x="0" y="3114"/>
                  </a:lnTo>
                  <a:lnTo>
                    <a:pt x="498" y="3114"/>
                  </a:lnTo>
                  <a:lnTo>
                    <a:pt x="496" y="321"/>
                  </a:lnTo>
                  <a:lnTo>
                    <a:pt x="240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Rectangle 372"/>
            <p:cNvSpPr/>
            <p:nvPr/>
          </p:nvSpPr>
          <p:spPr>
            <a:xfrm>
              <a:off x="7316640" y="1185840"/>
              <a:ext cx="144720" cy="14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Rectangle 374"/>
            <p:cNvSpPr/>
            <p:nvPr/>
          </p:nvSpPr>
          <p:spPr>
            <a:xfrm>
              <a:off x="7316640" y="4209840"/>
              <a:ext cx="14472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1" name="Group 382"/>
          <p:cNvGrpSpPr/>
          <p:nvPr/>
        </p:nvGrpSpPr>
        <p:grpSpPr>
          <a:xfrm>
            <a:off x="5594400" y="184320"/>
            <a:ext cx="930240" cy="4943160"/>
            <a:chOff x="5594400" y="184320"/>
            <a:chExt cx="930240" cy="4943160"/>
          </a:xfrm>
        </p:grpSpPr>
        <p:sp>
          <p:nvSpPr>
            <p:cNvPr id="3072" name="Freeform 359"/>
            <p:cNvSpPr/>
            <p:nvPr/>
          </p:nvSpPr>
          <p:spPr>
            <a:xfrm>
              <a:off x="5594400" y="184320"/>
              <a:ext cx="790560" cy="49431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4943160"/>
                <a:gd name="textAreaBottom" fmla="*/ 4943520 h 4943160"/>
              </a:gdLst>
              <a:ahLst/>
              <a:rect l="textAreaLeft" t="textAreaTop" r="textAreaRight" b="textAreaBottom"/>
              <a:pathLst>
                <a:path w="498" h="3114">
                  <a:moveTo>
                    <a:pt x="240" y="0"/>
                  </a:moveTo>
                  <a:lnTo>
                    <a:pt x="0" y="336"/>
                  </a:lnTo>
                  <a:lnTo>
                    <a:pt x="0" y="3114"/>
                  </a:lnTo>
                  <a:lnTo>
                    <a:pt x="498" y="3114"/>
                  </a:lnTo>
                  <a:lnTo>
                    <a:pt x="496" y="321"/>
                  </a:lnTo>
                  <a:lnTo>
                    <a:pt x="240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Rectangle 371"/>
            <p:cNvSpPr/>
            <p:nvPr/>
          </p:nvSpPr>
          <p:spPr>
            <a:xfrm>
              <a:off x="6380280" y="1185840"/>
              <a:ext cx="144360" cy="14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Rectangle 373"/>
            <p:cNvSpPr/>
            <p:nvPr/>
          </p:nvSpPr>
          <p:spPr>
            <a:xfrm>
              <a:off x="6380280" y="4209840"/>
              <a:ext cx="144360" cy="14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5" name="Group 381"/>
          <p:cNvGrpSpPr/>
          <p:nvPr/>
        </p:nvGrpSpPr>
        <p:grpSpPr>
          <a:xfrm>
            <a:off x="4653000" y="184320"/>
            <a:ext cx="936720" cy="4943160"/>
            <a:chOff x="4653000" y="184320"/>
            <a:chExt cx="936720" cy="4943160"/>
          </a:xfrm>
        </p:grpSpPr>
        <p:sp>
          <p:nvSpPr>
            <p:cNvPr id="3076" name="Freeform 358"/>
            <p:cNvSpPr/>
            <p:nvPr/>
          </p:nvSpPr>
          <p:spPr>
            <a:xfrm>
              <a:off x="4653000" y="184320"/>
              <a:ext cx="790560" cy="49431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4943160"/>
                <a:gd name="textAreaBottom" fmla="*/ 4943520 h 4943160"/>
              </a:gdLst>
              <a:ahLst/>
              <a:rect l="textAreaLeft" t="textAreaTop" r="textAreaRight" b="textAreaBottom"/>
              <a:pathLst>
                <a:path w="498" h="3114">
                  <a:moveTo>
                    <a:pt x="240" y="0"/>
                  </a:moveTo>
                  <a:lnTo>
                    <a:pt x="0" y="336"/>
                  </a:lnTo>
                  <a:lnTo>
                    <a:pt x="0" y="3114"/>
                  </a:lnTo>
                  <a:lnTo>
                    <a:pt x="498" y="3114"/>
                  </a:lnTo>
                  <a:lnTo>
                    <a:pt x="496" y="321"/>
                  </a:lnTo>
                  <a:lnTo>
                    <a:pt x="240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Rectangle 362"/>
            <p:cNvSpPr/>
            <p:nvPr/>
          </p:nvSpPr>
          <p:spPr>
            <a:xfrm>
              <a:off x="5445000" y="1193760"/>
              <a:ext cx="144720" cy="14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Rectangle 368"/>
            <p:cNvSpPr/>
            <p:nvPr/>
          </p:nvSpPr>
          <p:spPr>
            <a:xfrm>
              <a:off x="5445000" y="4217760"/>
              <a:ext cx="144720" cy="14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9" name="Group 380"/>
          <p:cNvGrpSpPr/>
          <p:nvPr/>
        </p:nvGrpSpPr>
        <p:grpSpPr>
          <a:xfrm>
            <a:off x="3716280" y="184320"/>
            <a:ext cx="936720" cy="4943160"/>
            <a:chOff x="3716280" y="184320"/>
            <a:chExt cx="936720" cy="4943160"/>
          </a:xfrm>
        </p:grpSpPr>
        <p:sp>
          <p:nvSpPr>
            <p:cNvPr id="3080" name="Freeform 357"/>
            <p:cNvSpPr/>
            <p:nvPr/>
          </p:nvSpPr>
          <p:spPr>
            <a:xfrm>
              <a:off x="3716280" y="184320"/>
              <a:ext cx="790560" cy="49431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4943160"/>
                <a:gd name="textAreaBottom" fmla="*/ 4943520 h 4943160"/>
              </a:gdLst>
              <a:ahLst/>
              <a:rect l="textAreaLeft" t="textAreaTop" r="textAreaRight" b="textAreaBottom"/>
              <a:pathLst>
                <a:path w="498" h="3114">
                  <a:moveTo>
                    <a:pt x="240" y="0"/>
                  </a:moveTo>
                  <a:lnTo>
                    <a:pt x="0" y="336"/>
                  </a:lnTo>
                  <a:lnTo>
                    <a:pt x="0" y="3114"/>
                  </a:lnTo>
                  <a:lnTo>
                    <a:pt x="498" y="3114"/>
                  </a:lnTo>
                  <a:lnTo>
                    <a:pt x="496" y="321"/>
                  </a:lnTo>
                  <a:lnTo>
                    <a:pt x="240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Rectangle 361"/>
            <p:cNvSpPr/>
            <p:nvPr/>
          </p:nvSpPr>
          <p:spPr>
            <a:xfrm>
              <a:off x="4508280" y="1193760"/>
              <a:ext cx="144720" cy="14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Rectangle 367"/>
            <p:cNvSpPr/>
            <p:nvPr/>
          </p:nvSpPr>
          <p:spPr>
            <a:xfrm>
              <a:off x="4508280" y="4217760"/>
              <a:ext cx="144720" cy="14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3" name="Group 379"/>
          <p:cNvGrpSpPr/>
          <p:nvPr/>
        </p:nvGrpSpPr>
        <p:grpSpPr>
          <a:xfrm>
            <a:off x="2773440" y="179280"/>
            <a:ext cx="942840" cy="4943520"/>
            <a:chOff x="2773440" y="179280"/>
            <a:chExt cx="942840" cy="4943520"/>
          </a:xfrm>
        </p:grpSpPr>
        <p:sp>
          <p:nvSpPr>
            <p:cNvPr id="3084" name="Freeform 350"/>
            <p:cNvSpPr/>
            <p:nvPr/>
          </p:nvSpPr>
          <p:spPr>
            <a:xfrm>
              <a:off x="2773440" y="179280"/>
              <a:ext cx="790560" cy="494352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4943520"/>
                <a:gd name="textAreaBottom" fmla="*/ 4943880 h 4943520"/>
              </a:gdLst>
              <a:ahLst/>
              <a:rect l="textAreaLeft" t="textAreaTop" r="textAreaRight" b="textAreaBottom"/>
              <a:pathLst>
                <a:path w="498" h="3114">
                  <a:moveTo>
                    <a:pt x="240" y="0"/>
                  </a:moveTo>
                  <a:lnTo>
                    <a:pt x="0" y="336"/>
                  </a:lnTo>
                  <a:lnTo>
                    <a:pt x="0" y="3114"/>
                  </a:lnTo>
                  <a:lnTo>
                    <a:pt x="498" y="3114"/>
                  </a:lnTo>
                  <a:lnTo>
                    <a:pt x="496" y="321"/>
                  </a:lnTo>
                  <a:lnTo>
                    <a:pt x="240" y="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Rectangle 360"/>
            <p:cNvSpPr/>
            <p:nvPr/>
          </p:nvSpPr>
          <p:spPr>
            <a:xfrm>
              <a:off x="3571920" y="1193760"/>
              <a:ext cx="14436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Rectangle 366"/>
            <p:cNvSpPr/>
            <p:nvPr/>
          </p:nvSpPr>
          <p:spPr>
            <a:xfrm>
              <a:off x="3571920" y="4217760"/>
              <a:ext cx="14436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7" name="Group 378"/>
          <p:cNvGrpSpPr/>
          <p:nvPr/>
        </p:nvGrpSpPr>
        <p:grpSpPr>
          <a:xfrm>
            <a:off x="1832040" y="179280"/>
            <a:ext cx="936720" cy="4943520"/>
            <a:chOff x="1832040" y="179280"/>
            <a:chExt cx="936720" cy="4943520"/>
          </a:xfrm>
        </p:grpSpPr>
        <p:sp>
          <p:nvSpPr>
            <p:cNvPr id="3088" name="Freeform 349"/>
            <p:cNvSpPr/>
            <p:nvPr/>
          </p:nvSpPr>
          <p:spPr>
            <a:xfrm>
              <a:off x="1832040" y="179280"/>
              <a:ext cx="790560" cy="494352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4943520"/>
                <a:gd name="textAreaBottom" fmla="*/ 4943880 h 4943520"/>
              </a:gdLst>
              <a:ahLst/>
              <a:rect l="textAreaLeft" t="textAreaTop" r="textAreaRight" b="textAreaBottom"/>
              <a:pathLst>
                <a:path w="498" h="3114">
                  <a:moveTo>
                    <a:pt x="240" y="0"/>
                  </a:moveTo>
                  <a:lnTo>
                    <a:pt x="0" y="336"/>
                  </a:lnTo>
                  <a:lnTo>
                    <a:pt x="0" y="3114"/>
                  </a:lnTo>
                  <a:lnTo>
                    <a:pt x="498" y="3114"/>
                  </a:lnTo>
                  <a:lnTo>
                    <a:pt x="496" y="321"/>
                  </a:lnTo>
                  <a:lnTo>
                    <a:pt x="240" y="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Rectangle 353"/>
            <p:cNvSpPr/>
            <p:nvPr/>
          </p:nvSpPr>
          <p:spPr>
            <a:xfrm>
              <a:off x="2624040" y="1189080"/>
              <a:ext cx="144720" cy="14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Rectangle 365"/>
            <p:cNvSpPr/>
            <p:nvPr/>
          </p:nvSpPr>
          <p:spPr>
            <a:xfrm>
              <a:off x="2624040" y="4213080"/>
              <a:ext cx="14472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1" name="Group 377"/>
          <p:cNvGrpSpPr/>
          <p:nvPr/>
        </p:nvGrpSpPr>
        <p:grpSpPr>
          <a:xfrm>
            <a:off x="895320" y="179280"/>
            <a:ext cx="936720" cy="4943520"/>
            <a:chOff x="895320" y="179280"/>
            <a:chExt cx="936720" cy="4943520"/>
          </a:xfrm>
        </p:grpSpPr>
        <p:sp>
          <p:nvSpPr>
            <p:cNvPr id="3092" name="Freeform 348"/>
            <p:cNvSpPr/>
            <p:nvPr/>
          </p:nvSpPr>
          <p:spPr>
            <a:xfrm>
              <a:off x="895320" y="179280"/>
              <a:ext cx="790560" cy="494352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4943520"/>
                <a:gd name="textAreaBottom" fmla="*/ 4943880 h 4943520"/>
              </a:gdLst>
              <a:ahLst/>
              <a:rect l="textAreaLeft" t="textAreaTop" r="textAreaRight" b="textAreaBottom"/>
              <a:pathLst>
                <a:path w="498" h="3114">
                  <a:moveTo>
                    <a:pt x="240" y="0"/>
                  </a:moveTo>
                  <a:lnTo>
                    <a:pt x="0" y="336"/>
                  </a:lnTo>
                  <a:lnTo>
                    <a:pt x="0" y="3114"/>
                  </a:lnTo>
                  <a:lnTo>
                    <a:pt x="498" y="3114"/>
                  </a:lnTo>
                  <a:lnTo>
                    <a:pt x="496" y="321"/>
                  </a:lnTo>
                  <a:lnTo>
                    <a:pt x="240" y="0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Rectangle 352"/>
            <p:cNvSpPr/>
            <p:nvPr/>
          </p:nvSpPr>
          <p:spPr>
            <a:xfrm>
              <a:off x="1687320" y="1189080"/>
              <a:ext cx="144720" cy="14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Rectangle 364"/>
            <p:cNvSpPr/>
            <p:nvPr/>
          </p:nvSpPr>
          <p:spPr>
            <a:xfrm>
              <a:off x="1687320" y="4213080"/>
              <a:ext cx="14472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5" name="Line 4"/>
          <p:cNvSpPr/>
          <p:nvPr/>
        </p:nvSpPr>
        <p:spPr>
          <a:xfrm flipV="1">
            <a:off x="-7920" y="5118120"/>
            <a:ext cx="900000" cy="792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6" name="Group 26"/>
          <p:cNvGrpSpPr/>
          <p:nvPr/>
        </p:nvGrpSpPr>
        <p:grpSpPr>
          <a:xfrm>
            <a:off x="1666800" y="1190520"/>
            <a:ext cx="541440" cy="351000"/>
            <a:chOff x="1666800" y="1190520"/>
            <a:chExt cx="541440" cy="351000"/>
          </a:xfrm>
        </p:grpSpPr>
        <p:sp>
          <p:nvSpPr>
            <p:cNvPr id="3097" name="Freeform 27"/>
            <p:cNvSpPr/>
            <p:nvPr/>
          </p:nvSpPr>
          <p:spPr>
            <a:xfrm>
              <a:off x="1719360" y="1218960"/>
              <a:ext cx="488880" cy="32256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308" h="203">
                  <a:moveTo>
                    <a:pt x="0" y="0"/>
                  </a:moveTo>
                  <a:cubicBezTo>
                    <a:pt x="25" y="77"/>
                    <a:pt x="51" y="155"/>
                    <a:pt x="80" y="179"/>
                  </a:cubicBezTo>
                  <a:cubicBezTo>
                    <a:pt x="109" y="203"/>
                    <a:pt x="138" y="159"/>
                    <a:pt x="176" y="143"/>
                  </a:cubicBezTo>
                  <a:cubicBezTo>
                    <a:pt x="214" y="127"/>
                    <a:pt x="261" y="105"/>
                    <a:pt x="308" y="8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Freeform 28"/>
            <p:cNvSpPr/>
            <p:nvPr/>
          </p:nvSpPr>
          <p:spPr>
            <a:xfrm>
              <a:off x="1666800" y="1190520"/>
              <a:ext cx="297000" cy="320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7" h="202">
                  <a:moveTo>
                    <a:pt x="0" y="14"/>
                  </a:moveTo>
                  <a:lnTo>
                    <a:pt x="55" y="0"/>
                  </a:lnTo>
                  <a:lnTo>
                    <a:pt x="83" y="40"/>
                  </a:lnTo>
                  <a:lnTo>
                    <a:pt x="130" y="196"/>
                  </a:lnTo>
                  <a:lnTo>
                    <a:pt x="149" y="196"/>
                  </a:lnTo>
                  <a:lnTo>
                    <a:pt x="187" y="177"/>
                  </a:lnTo>
                  <a:lnTo>
                    <a:pt x="160" y="199"/>
                  </a:lnTo>
                  <a:lnTo>
                    <a:pt x="140" y="202"/>
                  </a:lnTo>
                  <a:lnTo>
                    <a:pt x="124" y="202"/>
                  </a:lnTo>
                  <a:lnTo>
                    <a:pt x="98" y="18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9" name="Group 29"/>
          <p:cNvGrpSpPr/>
          <p:nvPr/>
        </p:nvGrpSpPr>
        <p:grpSpPr>
          <a:xfrm>
            <a:off x="2133720" y="1523880"/>
            <a:ext cx="489960" cy="311040"/>
            <a:chOff x="2133720" y="1523880"/>
            <a:chExt cx="489960" cy="311040"/>
          </a:xfrm>
        </p:grpSpPr>
        <p:sp>
          <p:nvSpPr>
            <p:cNvPr id="3100" name="Freeform 30"/>
            <p:cNvSpPr/>
            <p:nvPr/>
          </p:nvSpPr>
          <p:spPr>
            <a:xfrm>
              <a:off x="2133720" y="1523880"/>
              <a:ext cx="487080" cy="31104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07" h="196">
                  <a:moveTo>
                    <a:pt x="95" y="169"/>
                  </a:moveTo>
                  <a:cubicBezTo>
                    <a:pt x="111" y="182"/>
                    <a:pt x="118" y="190"/>
                    <a:pt x="145" y="193"/>
                  </a:cubicBezTo>
                  <a:cubicBezTo>
                    <a:pt x="172" y="196"/>
                    <a:pt x="173" y="186"/>
                    <a:pt x="200" y="174"/>
                  </a:cubicBezTo>
                  <a:cubicBezTo>
                    <a:pt x="227" y="162"/>
                    <a:pt x="299" y="143"/>
                    <a:pt x="307" y="118"/>
                  </a:cubicBezTo>
                  <a:cubicBezTo>
                    <a:pt x="281" y="103"/>
                    <a:pt x="279" y="44"/>
                    <a:pt x="247" y="22"/>
                  </a:cubicBezTo>
                  <a:cubicBezTo>
                    <a:pt x="215" y="0"/>
                    <a:pt x="195" y="5"/>
                    <a:pt x="168" y="10"/>
                  </a:cubicBezTo>
                  <a:cubicBezTo>
                    <a:pt x="136" y="30"/>
                    <a:pt x="82" y="54"/>
                    <a:pt x="82" y="54"/>
                  </a:cubicBezTo>
                  <a:lnTo>
                    <a:pt x="11" y="87"/>
                  </a:lnTo>
                  <a:cubicBezTo>
                    <a:pt x="0" y="99"/>
                    <a:pt x="5" y="120"/>
                    <a:pt x="16" y="126"/>
                  </a:cubicBezTo>
                  <a:cubicBezTo>
                    <a:pt x="30" y="135"/>
                    <a:pt x="58" y="133"/>
                    <a:pt x="75" y="125"/>
                  </a:cubicBezTo>
                  <a:cubicBezTo>
                    <a:pt x="76" y="145"/>
                    <a:pt x="79" y="156"/>
                    <a:pt x="95" y="1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Freeform 31"/>
            <p:cNvSpPr/>
            <p:nvPr/>
          </p:nvSpPr>
          <p:spPr>
            <a:xfrm>
              <a:off x="2250720" y="1697040"/>
              <a:ext cx="372960" cy="1908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35" h="12">
                  <a:moveTo>
                    <a:pt x="0" y="12"/>
                  </a:moveTo>
                  <a:cubicBezTo>
                    <a:pt x="18" y="10"/>
                    <a:pt x="70" y="0"/>
                    <a:pt x="109" y="0"/>
                  </a:cubicBezTo>
                  <a:cubicBezTo>
                    <a:pt x="148" y="0"/>
                    <a:pt x="209" y="8"/>
                    <a:pt x="235" y="1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Freeform 32"/>
            <p:cNvSpPr/>
            <p:nvPr/>
          </p:nvSpPr>
          <p:spPr>
            <a:xfrm>
              <a:off x="2145960" y="1674720"/>
              <a:ext cx="109440" cy="33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9" h="21">
                  <a:moveTo>
                    <a:pt x="0" y="0"/>
                  </a:moveTo>
                  <a:cubicBezTo>
                    <a:pt x="7" y="1"/>
                    <a:pt x="31" y="3"/>
                    <a:pt x="42" y="6"/>
                  </a:cubicBezTo>
                  <a:cubicBezTo>
                    <a:pt x="53" y="9"/>
                    <a:pt x="64" y="18"/>
                    <a:pt x="69" y="2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Freeform 33"/>
            <p:cNvSpPr/>
            <p:nvPr/>
          </p:nvSpPr>
          <p:spPr>
            <a:xfrm>
              <a:off x="2266560" y="1720800"/>
              <a:ext cx="123480" cy="106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78" h="67">
                  <a:moveTo>
                    <a:pt x="0" y="0"/>
                  </a:moveTo>
                  <a:cubicBezTo>
                    <a:pt x="8" y="4"/>
                    <a:pt x="34" y="14"/>
                    <a:pt x="47" y="25"/>
                  </a:cubicBezTo>
                  <a:cubicBezTo>
                    <a:pt x="60" y="36"/>
                    <a:pt x="72" y="58"/>
                    <a:pt x="78" y="6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Freeform 34"/>
            <p:cNvSpPr/>
            <p:nvPr/>
          </p:nvSpPr>
          <p:spPr>
            <a:xfrm>
              <a:off x="2360520" y="1711080"/>
              <a:ext cx="123480" cy="730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8" h="46">
                  <a:moveTo>
                    <a:pt x="0" y="0"/>
                  </a:moveTo>
                  <a:cubicBezTo>
                    <a:pt x="5" y="5"/>
                    <a:pt x="20" y="22"/>
                    <a:pt x="33" y="30"/>
                  </a:cubicBezTo>
                  <a:cubicBezTo>
                    <a:pt x="46" y="38"/>
                    <a:pt x="69" y="43"/>
                    <a:pt x="78" y="4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Freeform 35"/>
            <p:cNvSpPr/>
            <p:nvPr/>
          </p:nvSpPr>
          <p:spPr>
            <a:xfrm>
              <a:off x="2460240" y="1716120"/>
              <a:ext cx="109440" cy="34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9" h="22">
                  <a:moveTo>
                    <a:pt x="0" y="0"/>
                  </a:moveTo>
                  <a:cubicBezTo>
                    <a:pt x="6" y="3"/>
                    <a:pt x="26" y="12"/>
                    <a:pt x="37" y="16"/>
                  </a:cubicBezTo>
                  <a:cubicBezTo>
                    <a:pt x="48" y="20"/>
                    <a:pt x="62" y="21"/>
                    <a:pt x="69" y="22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Freeform 36"/>
            <p:cNvSpPr/>
            <p:nvPr/>
          </p:nvSpPr>
          <p:spPr>
            <a:xfrm>
              <a:off x="2261880" y="1536480"/>
              <a:ext cx="141120" cy="1796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9" h="113">
                  <a:moveTo>
                    <a:pt x="0" y="113"/>
                  </a:moveTo>
                  <a:cubicBezTo>
                    <a:pt x="7" y="102"/>
                    <a:pt x="30" y="64"/>
                    <a:pt x="45" y="45"/>
                  </a:cubicBezTo>
                  <a:cubicBezTo>
                    <a:pt x="60" y="26"/>
                    <a:pt x="80" y="9"/>
                    <a:pt x="89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Freeform 37"/>
            <p:cNvSpPr/>
            <p:nvPr/>
          </p:nvSpPr>
          <p:spPr>
            <a:xfrm>
              <a:off x="2242800" y="1622160"/>
              <a:ext cx="15480" cy="90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0" h="57">
                  <a:moveTo>
                    <a:pt x="8" y="57"/>
                  </a:moveTo>
                  <a:cubicBezTo>
                    <a:pt x="8" y="51"/>
                    <a:pt x="10" y="30"/>
                    <a:pt x="9" y="21"/>
                  </a:cubicBezTo>
                  <a:cubicBezTo>
                    <a:pt x="8" y="12"/>
                    <a:pt x="2" y="4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Freeform 38"/>
            <p:cNvSpPr/>
            <p:nvPr/>
          </p:nvSpPr>
          <p:spPr>
            <a:xfrm>
              <a:off x="2338200" y="1560240"/>
              <a:ext cx="188640" cy="14292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19" h="90">
                  <a:moveTo>
                    <a:pt x="0" y="90"/>
                  </a:moveTo>
                  <a:cubicBezTo>
                    <a:pt x="8" y="82"/>
                    <a:pt x="28" y="59"/>
                    <a:pt x="48" y="44"/>
                  </a:cubicBezTo>
                  <a:cubicBezTo>
                    <a:pt x="68" y="29"/>
                    <a:pt x="104" y="9"/>
                    <a:pt x="119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39"/>
            <p:cNvSpPr/>
            <p:nvPr/>
          </p:nvSpPr>
          <p:spPr>
            <a:xfrm>
              <a:off x="2442960" y="1646280"/>
              <a:ext cx="128160" cy="475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1" h="30">
                  <a:moveTo>
                    <a:pt x="0" y="30"/>
                  </a:moveTo>
                  <a:cubicBezTo>
                    <a:pt x="7" y="27"/>
                    <a:pt x="28" y="14"/>
                    <a:pt x="41" y="9"/>
                  </a:cubicBezTo>
                  <a:cubicBezTo>
                    <a:pt x="54" y="4"/>
                    <a:pt x="73" y="2"/>
                    <a:pt x="81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0" name="Group 40"/>
          <p:cNvGrpSpPr/>
          <p:nvPr/>
        </p:nvGrpSpPr>
        <p:grpSpPr>
          <a:xfrm>
            <a:off x="2038320" y="1119240"/>
            <a:ext cx="728640" cy="631800"/>
            <a:chOff x="2038320" y="1119240"/>
            <a:chExt cx="728640" cy="631800"/>
          </a:xfrm>
        </p:grpSpPr>
        <p:sp>
          <p:nvSpPr>
            <p:cNvPr id="3111" name="Freeform 41"/>
            <p:cNvSpPr/>
            <p:nvPr/>
          </p:nvSpPr>
          <p:spPr>
            <a:xfrm>
              <a:off x="2038320" y="1119240"/>
              <a:ext cx="728640" cy="61920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459" h="390">
                  <a:moveTo>
                    <a:pt x="93" y="130"/>
                  </a:moveTo>
                  <a:cubicBezTo>
                    <a:pt x="85" y="125"/>
                    <a:pt x="60" y="125"/>
                    <a:pt x="52" y="118"/>
                  </a:cubicBezTo>
                  <a:cubicBezTo>
                    <a:pt x="44" y="111"/>
                    <a:pt x="32" y="101"/>
                    <a:pt x="43" y="87"/>
                  </a:cubicBezTo>
                  <a:cubicBezTo>
                    <a:pt x="54" y="73"/>
                    <a:pt x="78" y="49"/>
                    <a:pt x="117" y="31"/>
                  </a:cubicBezTo>
                  <a:cubicBezTo>
                    <a:pt x="156" y="13"/>
                    <a:pt x="227" y="2"/>
                    <a:pt x="249" y="0"/>
                  </a:cubicBezTo>
                  <a:lnTo>
                    <a:pt x="258" y="24"/>
                  </a:lnTo>
                  <a:lnTo>
                    <a:pt x="358" y="34"/>
                  </a:lnTo>
                  <a:cubicBezTo>
                    <a:pt x="391" y="41"/>
                    <a:pt x="451" y="51"/>
                    <a:pt x="459" y="65"/>
                  </a:cubicBezTo>
                  <a:cubicBezTo>
                    <a:pt x="435" y="87"/>
                    <a:pt x="425" y="102"/>
                    <a:pt x="403" y="116"/>
                  </a:cubicBezTo>
                  <a:cubicBezTo>
                    <a:pt x="381" y="130"/>
                    <a:pt x="350" y="134"/>
                    <a:pt x="330" y="149"/>
                  </a:cubicBezTo>
                  <a:cubicBezTo>
                    <a:pt x="310" y="164"/>
                    <a:pt x="299" y="191"/>
                    <a:pt x="283" y="206"/>
                  </a:cubicBezTo>
                  <a:cubicBezTo>
                    <a:pt x="268" y="222"/>
                    <a:pt x="247" y="222"/>
                    <a:pt x="231" y="242"/>
                  </a:cubicBezTo>
                  <a:cubicBezTo>
                    <a:pt x="215" y="262"/>
                    <a:pt x="191" y="301"/>
                    <a:pt x="184" y="326"/>
                  </a:cubicBezTo>
                  <a:cubicBezTo>
                    <a:pt x="190" y="356"/>
                    <a:pt x="186" y="358"/>
                    <a:pt x="190" y="390"/>
                  </a:cubicBezTo>
                  <a:cubicBezTo>
                    <a:pt x="165" y="386"/>
                    <a:pt x="125" y="371"/>
                    <a:pt x="106" y="347"/>
                  </a:cubicBezTo>
                  <a:cubicBezTo>
                    <a:pt x="87" y="323"/>
                    <a:pt x="79" y="294"/>
                    <a:pt x="69" y="279"/>
                  </a:cubicBezTo>
                  <a:lnTo>
                    <a:pt x="42" y="257"/>
                  </a:lnTo>
                  <a:lnTo>
                    <a:pt x="12" y="276"/>
                  </a:lnTo>
                  <a:cubicBezTo>
                    <a:pt x="6" y="271"/>
                    <a:pt x="0" y="241"/>
                    <a:pt x="3" y="224"/>
                  </a:cubicBezTo>
                  <a:cubicBezTo>
                    <a:pt x="6" y="207"/>
                    <a:pt x="15" y="186"/>
                    <a:pt x="31" y="172"/>
                  </a:cubicBezTo>
                  <a:cubicBezTo>
                    <a:pt x="46" y="158"/>
                    <a:pt x="89" y="151"/>
                    <a:pt x="99" y="146"/>
                  </a:cubicBezTo>
                  <a:lnTo>
                    <a:pt x="93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42"/>
            <p:cNvSpPr/>
            <p:nvPr/>
          </p:nvSpPr>
          <p:spPr>
            <a:xfrm>
              <a:off x="2197080" y="1222560"/>
              <a:ext cx="565200" cy="12672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356" h="80">
                  <a:moveTo>
                    <a:pt x="0" y="80"/>
                  </a:moveTo>
                  <a:cubicBezTo>
                    <a:pt x="26" y="72"/>
                    <a:pt x="100" y="43"/>
                    <a:pt x="159" y="30"/>
                  </a:cubicBezTo>
                  <a:cubicBezTo>
                    <a:pt x="218" y="17"/>
                    <a:pt x="288" y="9"/>
                    <a:pt x="356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43"/>
            <p:cNvSpPr/>
            <p:nvPr/>
          </p:nvSpPr>
          <p:spPr>
            <a:xfrm>
              <a:off x="2197080" y="1351080"/>
              <a:ext cx="136440" cy="39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86" h="252">
                  <a:moveTo>
                    <a:pt x="0" y="0"/>
                  </a:moveTo>
                  <a:cubicBezTo>
                    <a:pt x="4" y="22"/>
                    <a:pt x="9" y="92"/>
                    <a:pt x="23" y="134"/>
                  </a:cubicBezTo>
                  <a:cubicBezTo>
                    <a:pt x="37" y="176"/>
                    <a:pt x="62" y="215"/>
                    <a:pt x="86" y="252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44"/>
            <p:cNvSpPr/>
            <p:nvPr/>
          </p:nvSpPr>
          <p:spPr>
            <a:xfrm>
              <a:off x="2057400" y="1349280"/>
              <a:ext cx="138240" cy="209520"/>
            </a:xfrm>
            <a:custGeom>
              <a:avLst/>
              <a:gdLst>
                <a:gd name="textAreaLeft" fmla="*/ 0 w 138240"/>
                <a:gd name="textAreaRight" fmla="*/ 138240 w 138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87" h="132">
                  <a:moveTo>
                    <a:pt x="87" y="0"/>
                  </a:moveTo>
                  <a:cubicBezTo>
                    <a:pt x="78" y="10"/>
                    <a:pt x="45" y="39"/>
                    <a:pt x="31" y="61"/>
                  </a:cubicBezTo>
                  <a:cubicBezTo>
                    <a:pt x="17" y="83"/>
                    <a:pt x="6" y="117"/>
                    <a:pt x="0" y="132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45"/>
            <p:cNvSpPr/>
            <p:nvPr/>
          </p:nvSpPr>
          <p:spPr>
            <a:xfrm>
              <a:off x="2185920" y="1463760"/>
              <a:ext cx="28440" cy="201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18" h="127">
                  <a:moveTo>
                    <a:pt x="18" y="0"/>
                  </a:moveTo>
                  <a:cubicBezTo>
                    <a:pt x="15" y="11"/>
                    <a:pt x="2" y="43"/>
                    <a:pt x="1" y="64"/>
                  </a:cubicBezTo>
                  <a:cubicBezTo>
                    <a:pt x="0" y="85"/>
                    <a:pt x="7" y="114"/>
                    <a:pt x="9" y="12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Freeform 46"/>
            <p:cNvSpPr/>
            <p:nvPr/>
          </p:nvSpPr>
          <p:spPr>
            <a:xfrm>
              <a:off x="2195640" y="1122480"/>
              <a:ext cx="233280" cy="22392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47" h="141">
                  <a:moveTo>
                    <a:pt x="147" y="0"/>
                  </a:moveTo>
                  <a:cubicBezTo>
                    <a:pt x="130" y="10"/>
                    <a:pt x="69" y="36"/>
                    <a:pt x="45" y="59"/>
                  </a:cubicBezTo>
                  <a:cubicBezTo>
                    <a:pt x="21" y="82"/>
                    <a:pt x="10" y="124"/>
                    <a:pt x="0" y="14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Freeform 47"/>
            <p:cNvSpPr/>
            <p:nvPr/>
          </p:nvSpPr>
          <p:spPr>
            <a:xfrm>
              <a:off x="2324160" y="1173240"/>
              <a:ext cx="263520" cy="12852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66" h="81">
                  <a:moveTo>
                    <a:pt x="166" y="0"/>
                  </a:moveTo>
                  <a:cubicBezTo>
                    <a:pt x="152" y="5"/>
                    <a:pt x="110" y="17"/>
                    <a:pt x="82" y="30"/>
                  </a:cubicBezTo>
                  <a:cubicBezTo>
                    <a:pt x="54" y="43"/>
                    <a:pt x="17" y="71"/>
                    <a:pt x="0" y="8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Freeform 48"/>
            <p:cNvSpPr/>
            <p:nvPr/>
          </p:nvSpPr>
          <p:spPr>
            <a:xfrm>
              <a:off x="2197080" y="1349280"/>
              <a:ext cx="209520" cy="147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132" h="93">
                  <a:moveTo>
                    <a:pt x="0" y="0"/>
                  </a:moveTo>
                  <a:cubicBezTo>
                    <a:pt x="13" y="7"/>
                    <a:pt x="56" y="24"/>
                    <a:pt x="78" y="40"/>
                  </a:cubicBezTo>
                  <a:cubicBezTo>
                    <a:pt x="100" y="56"/>
                    <a:pt x="121" y="82"/>
                    <a:pt x="132" y="9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Freeform 49"/>
            <p:cNvSpPr/>
            <p:nvPr/>
          </p:nvSpPr>
          <p:spPr>
            <a:xfrm>
              <a:off x="2324160" y="1308240"/>
              <a:ext cx="214200" cy="745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5" h="47">
                  <a:moveTo>
                    <a:pt x="0" y="0"/>
                  </a:moveTo>
                  <a:cubicBezTo>
                    <a:pt x="13" y="3"/>
                    <a:pt x="57" y="9"/>
                    <a:pt x="79" y="17"/>
                  </a:cubicBezTo>
                  <a:cubicBezTo>
                    <a:pt x="101" y="25"/>
                    <a:pt x="123" y="41"/>
                    <a:pt x="135" y="4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Freeform 50"/>
            <p:cNvSpPr/>
            <p:nvPr/>
          </p:nvSpPr>
          <p:spPr>
            <a:xfrm>
              <a:off x="2467080" y="1266840"/>
              <a:ext cx="215640" cy="316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36" h="20">
                  <a:moveTo>
                    <a:pt x="0" y="0"/>
                  </a:moveTo>
                  <a:cubicBezTo>
                    <a:pt x="12" y="1"/>
                    <a:pt x="53" y="2"/>
                    <a:pt x="76" y="5"/>
                  </a:cubicBezTo>
                  <a:cubicBezTo>
                    <a:pt x="99" y="8"/>
                    <a:pt x="124" y="17"/>
                    <a:pt x="136" y="2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Freeform 51"/>
            <p:cNvSpPr/>
            <p:nvPr/>
          </p:nvSpPr>
          <p:spPr>
            <a:xfrm>
              <a:off x="2216160" y="1473120"/>
              <a:ext cx="136440" cy="1112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6" h="70">
                  <a:moveTo>
                    <a:pt x="0" y="0"/>
                  </a:moveTo>
                  <a:cubicBezTo>
                    <a:pt x="8" y="5"/>
                    <a:pt x="33" y="15"/>
                    <a:pt x="47" y="27"/>
                  </a:cubicBezTo>
                  <a:cubicBezTo>
                    <a:pt x="61" y="39"/>
                    <a:pt x="78" y="61"/>
                    <a:pt x="86" y="7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2" name="Group 52"/>
          <p:cNvGrpSpPr/>
          <p:nvPr/>
        </p:nvGrpSpPr>
        <p:grpSpPr>
          <a:xfrm>
            <a:off x="1542960" y="1344600"/>
            <a:ext cx="314280" cy="422280"/>
            <a:chOff x="1542960" y="1344600"/>
            <a:chExt cx="314280" cy="422280"/>
          </a:xfrm>
        </p:grpSpPr>
        <p:sp>
          <p:nvSpPr>
            <p:cNvPr id="3123" name="Freeform 53"/>
            <p:cNvSpPr/>
            <p:nvPr/>
          </p:nvSpPr>
          <p:spPr>
            <a:xfrm>
              <a:off x="1711080" y="1344600"/>
              <a:ext cx="146160" cy="34920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92" h="220">
                  <a:moveTo>
                    <a:pt x="42" y="31"/>
                  </a:moveTo>
                  <a:lnTo>
                    <a:pt x="62" y="97"/>
                  </a:lnTo>
                  <a:cubicBezTo>
                    <a:pt x="65" y="118"/>
                    <a:pt x="68" y="137"/>
                    <a:pt x="58" y="157"/>
                  </a:cubicBezTo>
                  <a:cubicBezTo>
                    <a:pt x="48" y="177"/>
                    <a:pt x="1" y="217"/>
                    <a:pt x="0" y="220"/>
                  </a:cubicBezTo>
                  <a:lnTo>
                    <a:pt x="58" y="173"/>
                  </a:lnTo>
                  <a:cubicBezTo>
                    <a:pt x="71" y="159"/>
                    <a:pt x="73" y="155"/>
                    <a:pt x="78" y="137"/>
                  </a:cubicBezTo>
                  <a:cubicBezTo>
                    <a:pt x="83" y="119"/>
                    <a:pt x="92" y="89"/>
                    <a:pt x="86" y="66"/>
                  </a:cubicBezTo>
                  <a:lnTo>
                    <a:pt x="45" y="0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54"/>
            <p:cNvSpPr/>
            <p:nvPr/>
          </p:nvSpPr>
          <p:spPr>
            <a:xfrm>
              <a:off x="1542960" y="1601640"/>
              <a:ext cx="264960" cy="1652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67" h="104">
                  <a:moveTo>
                    <a:pt x="167" y="0"/>
                  </a:moveTo>
                  <a:cubicBezTo>
                    <a:pt x="157" y="9"/>
                    <a:pt x="137" y="36"/>
                    <a:pt x="109" y="53"/>
                  </a:cubicBezTo>
                  <a:cubicBezTo>
                    <a:pt x="81" y="70"/>
                    <a:pt x="23" y="94"/>
                    <a:pt x="0" y="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5" name="Group 55"/>
          <p:cNvGrpSpPr/>
          <p:nvPr/>
        </p:nvGrpSpPr>
        <p:grpSpPr>
          <a:xfrm>
            <a:off x="1090440" y="1695600"/>
            <a:ext cx="722160" cy="466560"/>
            <a:chOff x="1090440" y="1695600"/>
            <a:chExt cx="722160" cy="466560"/>
          </a:xfrm>
        </p:grpSpPr>
        <p:sp>
          <p:nvSpPr>
            <p:cNvPr id="3126" name="Freeform 56"/>
            <p:cNvSpPr/>
            <p:nvPr/>
          </p:nvSpPr>
          <p:spPr>
            <a:xfrm>
              <a:off x="1090440" y="1695600"/>
              <a:ext cx="722160" cy="46656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455" h="294">
                  <a:moveTo>
                    <a:pt x="281" y="49"/>
                  </a:moveTo>
                  <a:lnTo>
                    <a:pt x="298" y="13"/>
                  </a:lnTo>
                  <a:cubicBezTo>
                    <a:pt x="292" y="6"/>
                    <a:pt x="265" y="7"/>
                    <a:pt x="242" y="5"/>
                  </a:cubicBezTo>
                  <a:cubicBezTo>
                    <a:pt x="218" y="4"/>
                    <a:pt x="184" y="2"/>
                    <a:pt x="161" y="1"/>
                  </a:cubicBezTo>
                  <a:cubicBezTo>
                    <a:pt x="138" y="0"/>
                    <a:pt x="107" y="1"/>
                    <a:pt x="93" y="3"/>
                  </a:cubicBezTo>
                  <a:lnTo>
                    <a:pt x="76" y="16"/>
                  </a:lnTo>
                  <a:lnTo>
                    <a:pt x="81" y="36"/>
                  </a:lnTo>
                  <a:lnTo>
                    <a:pt x="63" y="100"/>
                  </a:lnTo>
                  <a:cubicBezTo>
                    <a:pt x="55" y="120"/>
                    <a:pt x="39" y="136"/>
                    <a:pt x="32" y="157"/>
                  </a:cubicBezTo>
                  <a:cubicBezTo>
                    <a:pt x="25" y="178"/>
                    <a:pt x="27" y="206"/>
                    <a:pt x="22" y="229"/>
                  </a:cubicBezTo>
                  <a:cubicBezTo>
                    <a:pt x="17" y="252"/>
                    <a:pt x="8" y="265"/>
                    <a:pt x="0" y="294"/>
                  </a:cubicBezTo>
                  <a:cubicBezTo>
                    <a:pt x="31" y="287"/>
                    <a:pt x="39" y="285"/>
                    <a:pt x="67" y="278"/>
                  </a:cubicBezTo>
                  <a:cubicBezTo>
                    <a:pt x="95" y="271"/>
                    <a:pt x="133" y="271"/>
                    <a:pt x="169" y="260"/>
                  </a:cubicBezTo>
                  <a:cubicBezTo>
                    <a:pt x="205" y="249"/>
                    <a:pt x="232" y="217"/>
                    <a:pt x="275" y="211"/>
                  </a:cubicBezTo>
                  <a:cubicBezTo>
                    <a:pt x="305" y="206"/>
                    <a:pt x="321" y="224"/>
                    <a:pt x="347" y="230"/>
                  </a:cubicBezTo>
                  <a:cubicBezTo>
                    <a:pt x="373" y="232"/>
                    <a:pt x="408" y="241"/>
                    <a:pt x="428" y="245"/>
                  </a:cubicBezTo>
                  <a:cubicBezTo>
                    <a:pt x="434" y="221"/>
                    <a:pt x="449" y="198"/>
                    <a:pt x="452" y="173"/>
                  </a:cubicBezTo>
                  <a:cubicBezTo>
                    <a:pt x="455" y="148"/>
                    <a:pt x="444" y="110"/>
                    <a:pt x="444" y="92"/>
                  </a:cubicBezTo>
                  <a:lnTo>
                    <a:pt x="444" y="58"/>
                  </a:lnTo>
                  <a:cubicBezTo>
                    <a:pt x="429" y="47"/>
                    <a:pt x="397" y="20"/>
                    <a:pt x="353" y="23"/>
                  </a:cubicBezTo>
                  <a:cubicBezTo>
                    <a:pt x="309" y="26"/>
                    <a:pt x="297" y="47"/>
                    <a:pt x="28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57"/>
            <p:cNvSpPr/>
            <p:nvPr/>
          </p:nvSpPr>
          <p:spPr>
            <a:xfrm>
              <a:off x="1090440" y="1770120"/>
              <a:ext cx="446040" cy="38916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281" h="245">
                  <a:moveTo>
                    <a:pt x="281" y="0"/>
                  </a:moveTo>
                  <a:cubicBezTo>
                    <a:pt x="259" y="13"/>
                    <a:pt x="197" y="40"/>
                    <a:pt x="150" y="81"/>
                  </a:cubicBezTo>
                  <a:cubicBezTo>
                    <a:pt x="103" y="122"/>
                    <a:pt x="31" y="211"/>
                    <a:pt x="0" y="24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58"/>
            <p:cNvSpPr/>
            <p:nvPr/>
          </p:nvSpPr>
          <p:spPr>
            <a:xfrm>
              <a:off x="1346040" y="1698840"/>
              <a:ext cx="177840" cy="6804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2" h="43">
                  <a:moveTo>
                    <a:pt x="112" y="43"/>
                  </a:moveTo>
                  <a:cubicBezTo>
                    <a:pt x="92" y="38"/>
                    <a:pt x="73" y="33"/>
                    <a:pt x="54" y="26"/>
                  </a:cubicBezTo>
                  <a:cubicBezTo>
                    <a:pt x="35" y="19"/>
                    <a:pt x="9" y="4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59"/>
            <p:cNvSpPr/>
            <p:nvPr/>
          </p:nvSpPr>
          <p:spPr>
            <a:xfrm>
              <a:off x="1176120" y="1838520"/>
              <a:ext cx="274680" cy="460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73" h="29">
                  <a:moveTo>
                    <a:pt x="173" y="0"/>
                  </a:moveTo>
                  <a:cubicBezTo>
                    <a:pt x="158" y="1"/>
                    <a:pt x="112" y="2"/>
                    <a:pt x="83" y="7"/>
                  </a:cubicBezTo>
                  <a:cubicBezTo>
                    <a:pt x="54" y="12"/>
                    <a:pt x="17" y="25"/>
                    <a:pt x="0" y="29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60"/>
            <p:cNvSpPr/>
            <p:nvPr/>
          </p:nvSpPr>
          <p:spPr>
            <a:xfrm>
              <a:off x="1209600" y="1716120"/>
              <a:ext cx="166680" cy="128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05" h="81">
                  <a:moveTo>
                    <a:pt x="105" y="81"/>
                  </a:moveTo>
                  <a:cubicBezTo>
                    <a:pt x="96" y="76"/>
                    <a:pt x="67" y="61"/>
                    <a:pt x="50" y="48"/>
                  </a:cubicBezTo>
                  <a:cubicBezTo>
                    <a:pt x="33" y="35"/>
                    <a:pt x="11" y="10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Freeform 61"/>
            <p:cNvSpPr/>
            <p:nvPr/>
          </p:nvSpPr>
          <p:spPr>
            <a:xfrm>
              <a:off x="1131840" y="1920960"/>
              <a:ext cx="185760" cy="1159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117" h="73">
                  <a:moveTo>
                    <a:pt x="117" y="0"/>
                  </a:moveTo>
                  <a:cubicBezTo>
                    <a:pt x="105" y="6"/>
                    <a:pt x="62" y="25"/>
                    <a:pt x="43" y="37"/>
                  </a:cubicBezTo>
                  <a:cubicBezTo>
                    <a:pt x="24" y="49"/>
                    <a:pt x="9" y="66"/>
                    <a:pt x="0" y="7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Freeform 62"/>
            <p:cNvSpPr/>
            <p:nvPr/>
          </p:nvSpPr>
          <p:spPr>
            <a:xfrm>
              <a:off x="1271520" y="1944720"/>
              <a:ext cx="60120" cy="182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38" h="115">
                  <a:moveTo>
                    <a:pt x="0" y="115"/>
                  </a:moveTo>
                  <a:cubicBezTo>
                    <a:pt x="4" y="107"/>
                    <a:pt x="20" y="88"/>
                    <a:pt x="26" y="69"/>
                  </a:cubicBezTo>
                  <a:cubicBezTo>
                    <a:pt x="32" y="50"/>
                    <a:pt x="36" y="14"/>
                    <a:pt x="38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Freeform 63"/>
            <p:cNvSpPr/>
            <p:nvPr/>
          </p:nvSpPr>
          <p:spPr>
            <a:xfrm>
              <a:off x="1395360" y="1855800"/>
              <a:ext cx="73080" cy="241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6" h="152">
                  <a:moveTo>
                    <a:pt x="0" y="152"/>
                  </a:moveTo>
                  <a:cubicBezTo>
                    <a:pt x="6" y="140"/>
                    <a:pt x="32" y="100"/>
                    <a:pt x="39" y="75"/>
                  </a:cubicBezTo>
                  <a:cubicBezTo>
                    <a:pt x="46" y="50"/>
                    <a:pt x="41" y="16"/>
                    <a:pt x="41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Freeform 64"/>
            <p:cNvSpPr/>
            <p:nvPr/>
          </p:nvSpPr>
          <p:spPr>
            <a:xfrm>
              <a:off x="1531800" y="1773360"/>
              <a:ext cx="237960" cy="3142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50" h="198">
                  <a:moveTo>
                    <a:pt x="150" y="198"/>
                  </a:moveTo>
                  <a:cubicBezTo>
                    <a:pt x="139" y="180"/>
                    <a:pt x="107" y="124"/>
                    <a:pt x="82" y="91"/>
                  </a:cubicBezTo>
                  <a:cubicBezTo>
                    <a:pt x="57" y="58"/>
                    <a:pt x="17" y="19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Freeform 65"/>
            <p:cNvSpPr/>
            <p:nvPr/>
          </p:nvSpPr>
          <p:spPr>
            <a:xfrm>
              <a:off x="1554120" y="1830600"/>
              <a:ext cx="46080" cy="2206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9" h="139">
                  <a:moveTo>
                    <a:pt x="29" y="139"/>
                  </a:moveTo>
                  <a:cubicBezTo>
                    <a:pt x="25" y="126"/>
                    <a:pt x="8" y="84"/>
                    <a:pt x="4" y="61"/>
                  </a:cubicBezTo>
                  <a:cubicBezTo>
                    <a:pt x="0" y="38"/>
                    <a:pt x="5" y="13"/>
                    <a:pt x="5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Freeform 66"/>
            <p:cNvSpPr/>
            <p:nvPr/>
          </p:nvSpPr>
          <p:spPr>
            <a:xfrm>
              <a:off x="1569960" y="1779840"/>
              <a:ext cx="225360" cy="331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2" h="21">
                  <a:moveTo>
                    <a:pt x="142" y="2"/>
                  </a:moveTo>
                  <a:cubicBezTo>
                    <a:pt x="130" y="2"/>
                    <a:pt x="94" y="0"/>
                    <a:pt x="70" y="3"/>
                  </a:cubicBezTo>
                  <a:cubicBezTo>
                    <a:pt x="46" y="6"/>
                    <a:pt x="15" y="17"/>
                    <a:pt x="0" y="2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Freeform 67"/>
            <p:cNvSpPr/>
            <p:nvPr/>
          </p:nvSpPr>
          <p:spPr>
            <a:xfrm>
              <a:off x="1638000" y="1892520"/>
              <a:ext cx="166680" cy="284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05" h="18">
                  <a:moveTo>
                    <a:pt x="105" y="18"/>
                  </a:moveTo>
                  <a:cubicBezTo>
                    <a:pt x="97" y="15"/>
                    <a:pt x="76" y="6"/>
                    <a:pt x="59" y="3"/>
                  </a:cubicBezTo>
                  <a:cubicBezTo>
                    <a:pt x="42" y="0"/>
                    <a:pt x="12" y="1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Freeform 68"/>
            <p:cNvSpPr/>
            <p:nvPr/>
          </p:nvSpPr>
          <p:spPr>
            <a:xfrm>
              <a:off x="1665000" y="1944720"/>
              <a:ext cx="33480" cy="1288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21" h="81">
                  <a:moveTo>
                    <a:pt x="0" y="0"/>
                  </a:moveTo>
                  <a:cubicBezTo>
                    <a:pt x="1" y="7"/>
                    <a:pt x="3" y="32"/>
                    <a:pt x="6" y="45"/>
                  </a:cubicBezTo>
                  <a:cubicBezTo>
                    <a:pt x="9" y="58"/>
                    <a:pt x="18" y="74"/>
                    <a:pt x="21" y="8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9" name="Group 69"/>
          <p:cNvGrpSpPr/>
          <p:nvPr/>
        </p:nvGrpSpPr>
        <p:grpSpPr>
          <a:xfrm>
            <a:off x="1811160" y="1477800"/>
            <a:ext cx="739800" cy="1050840"/>
            <a:chOff x="1811160" y="1477800"/>
            <a:chExt cx="739800" cy="1050840"/>
          </a:xfrm>
        </p:grpSpPr>
        <p:sp>
          <p:nvSpPr>
            <p:cNvPr id="3140" name="Freeform 70"/>
            <p:cNvSpPr/>
            <p:nvPr/>
          </p:nvSpPr>
          <p:spPr>
            <a:xfrm>
              <a:off x="1836720" y="1477800"/>
              <a:ext cx="714240" cy="105084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450" h="662">
                  <a:moveTo>
                    <a:pt x="0" y="0"/>
                  </a:moveTo>
                  <a:cubicBezTo>
                    <a:pt x="2" y="21"/>
                    <a:pt x="3" y="91"/>
                    <a:pt x="14" y="128"/>
                  </a:cubicBezTo>
                  <a:cubicBezTo>
                    <a:pt x="22" y="161"/>
                    <a:pt x="50" y="183"/>
                    <a:pt x="64" y="226"/>
                  </a:cubicBezTo>
                  <a:lnTo>
                    <a:pt x="110" y="356"/>
                  </a:lnTo>
                  <a:cubicBezTo>
                    <a:pt x="134" y="397"/>
                    <a:pt x="178" y="425"/>
                    <a:pt x="208" y="470"/>
                  </a:cubicBezTo>
                  <a:cubicBezTo>
                    <a:pt x="248" y="528"/>
                    <a:pt x="254" y="583"/>
                    <a:pt x="287" y="626"/>
                  </a:cubicBezTo>
                  <a:lnTo>
                    <a:pt x="404" y="662"/>
                  </a:lnTo>
                  <a:lnTo>
                    <a:pt x="450" y="658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Freeform 71"/>
            <p:cNvSpPr/>
            <p:nvPr/>
          </p:nvSpPr>
          <p:spPr>
            <a:xfrm>
              <a:off x="1998360" y="2004840"/>
              <a:ext cx="103320" cy="1411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5" h="89">
                  <a:moveTo>
                    <a:pt x="0" y="0"/>
                  </a:moveTo>
                  <a:cubicBezTo>
                    <a:pt x="2" y="5"/>
                    <a:pt x="7" y="21"/>
                    <a:pt x="12" y="30"/>
                  </a:cubicBezTo>
                  <a:cubicBezTo>
                    <a:pt x="17" y="39"/>
                    <a:pt x="23" y="43"/>
                    <a:pt x="32" y="53"/>
                  </a:cubicBezTo>
                  <a:cubicBezTo>
                    <a:pt x="41" y="63"/>
                    <a:pt x="58" y="82"/>
                    <a:pt x="65" y="8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Freeform 72"/>
            <p:cNvSpPr/>
            <p:nvPr/>
          </p:nvSpPr>
          <p:spPr>
            <a:xfrm>
              <a:off x="1811160" y="1479240"/>
              <a:ext cx="88920" cy="2844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56" h="179">
                  <a:moveTo>
                    <a:pt x="0" y="0"/>
                  </a:moveTo>
                  <a:lnTo>
                    <a:pt x="28" y="17"/>
                  </a:lnTo>
                  <a:lnTo>
                    <a:pt x="38" y="147"/>
                  </a:lnTo>
                  <a:lnTo>
                    <a:pt x="56" y="179"/>
                  </a:lnTo>
                  <a:lnTo>
                    <a:pt x="30" y="133"/>
                  </a:lnTo>
                  <a:lnTo>
                    <a:pt x="16" y="51"/>
                  </a:lnTo>
                  <a:lnTo>
                    <a:pt x="16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73"/>
            <p:cNvSpPr/>
            <p:nvPr/>
          </p:nvSpPr>
          <p:spPr>
            <a:xfrm>
              <a:off x="1915920" y="1792080"/>
              <a:ext cx="42840" cy="889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7" h="56">
                  <a:moveTo>
                    <a:pt x="2" y="0"/>
                  </a:moveTo>
                  <a:cubicBezTo>
                    <a:pt x="0" y="2"/>
                    <a:pt x="5" y="25"/>
                    <a:pt x="9" y="34"/>
                  </a:cubicBezTo>
                  <a:cubicBezTo>
                    <a:pt x="13" y="43"/>
                    <a:pt x="22" y="56"/>
                    <a:pt x="24" y="54"/>
                  </a:cubicBezTo>
                  <a:cubicBezTo>
                    <a:pt x="26" y="52"/>
                    <a:pt x="27" y="31"/>
                    <a:pt x="23" y="22"/>
                  </a:cubicBezTo>
                  <a:cubicBezTo>
                    <a:pt x="19" y="13"/>
                    <a:pt x="7" y="3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4" name="Group 74"/>
          <p:cNvGrpSpPr/>
          <p:nvPr/>
        </p:nvGrpSpPr>
        <p:grpSpPr>
          <a:xfrm>
            <a:off x="1963800" y="1665360"/>
            <a:ext cx="298440" cy="282600"/>
            <a:chOff x="1963800" y="1665360"/>
            <a:chExt cx="298440" cy="282600"/>
          </a:xfrm>
        </p:grpSpPr>
        <p:sp>
          <p:nvSpPr>
            <p:cNvPr id="3145" name="Freeform 75"/>
            <p:cNvSpPr/>
            <p:nvPr/>
          </p:nvSpPr>
          <p:spPr>
            <a:xfrm>
              <a:off x="1963800" y="1665360"/>
              <a:ext cx="298440" cy="28260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88" h="178">
                  <a:moveTo>
                    <a:pt x="0" y="158"/>
                  </a:moveTo>
                  <a:cubicBezTo>
                    <a:pt x="47" y="168"/>
                    <a:pt x="94" y="178"/>
                    <a:pt x="124" y="168"/>
                  </a:cubicBezTo>
                  <a:cubicBezTo>
                    <a:pt x="154" y="158"/>
                    <a:pt x="172" y="124"/>
                    <a:pt x="180" y="96"/>
                  </a:cubicBezTo>
                  <a:cubicBezTo>
                    <a:pt x="188" y="68"/>
                    <a:pt x="180" y="34"/>
                    <a:pt x="17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76"/>
            <p:cNvSpPr/>
            <p:nvPr/>
          </p:nvSpPr>
          <p:spPr>
            <a:xfrm>
              <a:off x="1963800" y="1881360"/>
              <a:ext cx="85680" cy="507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4" h="32">
                  <a:moveTo>
                    <a:pt x="0" y="0"/>
                  </a:moveTo>
                  <a:lnTo>
                    <a:pt x="22" y="19"/>
                  </a:lnTo>
                  <a:lnTo>
                    <a:pt x="54" y="32"/>
                  </a:lnTo>
                  <a:lnTo>
                    <a:pt x="31" y="31"/>
                  </a:lnTo>
                  <a:lnTo>
                    <a:pt x="1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7" name="Freeform 77"/>
          <p:cNvSpPr/>
          <p:nvPr/>
        </p:nvSpPr>
        <p:spPr>
          <a:xfrm>
            <a:off x="2003400" y="1824120"/>
            <a:ext cx="192240" cy="82440"/>
          </a:xfrm>
          <a:custGeom>
            <a:avLst/>
            <a:gdLst>
              <a:gd name="textAreaLeft" fmla="*/ 0 w 192240"/>
              <a:gd name="textAreaRight" fmla="*/ 192600 w 1922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21" h="52">
                <a:moveTo>
                  <a:pt x="121" y="52"/>
                </a:moveTo>
                <a:cubicBezTo>
                  <a:pt x="119" y="32"/>
                  <a:pt x="117" y="12"/>
                  <a:pt x="97" y="6"/>
                </a:cubicBezTo>
                <a:cubicBezTo>
                  <a:pt x="77" y="0"/>
                  <a:pt x="38" y="9"/>
                  <a:pt x="0" y="18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Freeform 78"/>
          <p:cNvSpPr/>
          <p:nvPr/>
        </p:nvSpPr>
        <p:spPr>
          <a:xfrm>
            <a:off x="2179800" y="1860480"/>
            <a:ext cx="266400" cy="88920"/>
          </a:xfrm>
          <a:custGeom>
            <a:avLst/>
            <a:gdLst>
              <a:gd name="textAreaLeft" fmla="*/ 0 w 266400"/>
              <a:gd name="textAreaRight" fmla="*/ 266760 w 2664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68" h="56">
                <a:moveTo>
                  <a:pt x="0" y="40"/>
                </a:moveTo>
                <a:cubicBezTo>
                  <a:pt x="23" y="20"/>
                  <a:pt x="46" y="0"/>
                  <a:pt x="74" y="3"/>
                </a:cubicBezTo>
                <a:cubicBezTo>
                  <a:pt x="102" y="6"/>
                  <a:pt x="135" y="31"/>
                  <a:pt x="168" y="56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Freeform 79"/>
          <p:cNvSpPr/>
          <p:nvPr/>
        </p:nvSpPr>
        <p:spPr>
          <a:xfrm>
            <a:off x="1897200" y="1824120"/>
            <a:ext cx="88920" cy="142920"/>
          </a:xfrm>
          <a:custGeom>
            <a:avLst/>
            <a:gdLst>
              <a:gd name="textAreaLeft" fmla="*/ 0 w 88920"/>
              <a:gd name="textAreaRight" fmla="*/ 89280 w 889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6" h="90">
                <a:moveTo>
                  <a:pt x="56" y="83"/>
                </a:moveTo>
                <a:cubicBezTo>
                  <a:pt x="45" y="86"/>
                  <a:pt x="35" y="90"/>
                  <a:pt x="27" y="86"/>
                </a:cubicBezTo>
                <a:cubicBezTo>
                  <a:pt x="19" y="82"/>
                  <a:pt x="9" y="74"/>
                  <a:pt x="5" y="60"/>
                </a:cubicBezTo>
                <a:cubicBezTo>
                  <a:pt x="1" y="46"/>
                  <a:pt x="0" y="23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0" name="Group 80"/>
          <p:cNvGrpSpPr/>
          <p:nvPr/>
        </p:nvGrpSpPr>
        <p:grpSpPr>
          <a:xfrm>
            <a:off x="1812960" y="1762200"/>
            <a:ext cx="241200" cy="166680"/>
            <a:chOff x="1812960" y="1762200"/>
            <a:chExt cx="241200" cy="166680"/>
          </a:xfrm>
        </p:grpSpPr>
        <p:sp>
          <p:nvSpPr>
            <p:cNvPr id="3151" name="Freeform 81"/>
            <p:cNvSpPr/>
            <p:nvPr/>
          </p:nvSpPr>
          <p:spPr>
            <a:xfrm>
              <a:off x="1812960" y="1762200"/>
              <a:ext cx="241200" cy="1666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52" h="105">
                  <a:moveTo>
                    <a:pt x="135" y="59"/>
                  </a:moveTo>
                  <a:cubicBezTo>
                    <a:pt x="136" y="49"/>
                    <a:pt x="152" y="37"/>
                    <a:pt x="148" y="27"/>
                  </a:cubicBezTo>
                  <a:cubicBezTo>
                    <a:pt x="141" y="6"/>
                    <a:pt x="122" y="3"/>
                    <a:pt x="109" y="0"/>
                  </a:cubicBezTo>
                  <a:cubicBezTo>
                    <a:pt x="93" y="1"/>
                    <a:pt x="85" y="0"/>
                    <a:pt x="70" y="7"/>
                  </a:cubicBezTo>
                  <a:cubicBezTo>
                    <a:pt x="55" y="14"/>
                    <a:pt x="33" y="27"/>
                    <a:pt x="21" y="40"/>
                  </a:cubicBezTo>
                  <a:cubicBezTo>
                    <a:pt x="7" y="51"/>
                    <a:pt x="1" y="70"/>
                    <a:pt x="0" y="88"/>
                  </a:cubicBezTo>
                  <a:cubicBezTo>
                    <a:pt x="15" y="91"/>
                    <a:pt x="36" y="102"/>
                    <a:pt x="52" y="103"/>
                  </a:cubicBezTo>
                  <a:cubicBezTo>
                    <a:pt x="68" y="104"/>
                    <a:pt x="87" y="105"/>
                    <a:pt x="104" y="101"/>
                  </a:cubicBezTo>
                  <a:cubicBezTo>
                    <a:pt x="119" y="99"/>
                    <a:pt x="135" y="97"/>
                    <a:pt x="140" y="90"/>
                  </a:cubicBezTo>
                  <a:cubicBezTo>
                    <a:pt x="149" y="77"/>
                    <a:pt x="134" y="69"/>
                    <a:pt x="135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Freeform 82"/>
            <p:cNvSpPr/>
            <p:nvPr/>
          </p:nvSpPr>
          <p:spPr>
            <a:xfrm>
              <a:off x="1822320" y="1847880"/>
              <a:ext cx="208080" cy="475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31" h="30">
                  <a:moveTo>
                    <a:pt x="131" y="0"/>
                  </a:moveTo>
                  <a:cubicBezTo>
                    <a:pt x="120" y="2"/>
                    <a:pt x="84" y="5"/>
                    <a:pt x="62" y="10"/>
                  </a:cubicBezTo>
                  <a:cubicBezTo>
                    <a:pt x="40" y="15"/>
                    <a:pt x="13" y="26"/>
                    <a:pt x="0" y="3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Freeform 83"/>
            <p:cNvSpPr/>
            <p:nvPr/>
          </p:nvSpPr>
          <p:spPr>
            <a:xfrm>
              <a:off x="1954080" y="1774800"/>
              <a:ext cx="61920" cy="730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9" h="46">
                  <a:moveTo>
                    <a:pt x="39" y="46"/>
                  </a:moveTo>
                  <a:cubicBezTo>
                    <a:pt x="36" y="41"/>
                    <a:pt x="30" y="24"/>
                    <a:pt x="23" y="16"/>
                  </a:cubicBezTo>
                  <a:cubicBezTo>
                    <a:pt x="16" y="8"/>
                    <a:pt x="5" y="3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Freeform 84"/>
            <p:cNvSpPr/>
            <p:nvPr/>
          </p:nvSpPr>
          <p:spPr>
            <a:xfrm>
              <a:off x="1901880" y="1790640"/>
              <a:ext cx="85680" cy="604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54" h="38">
                  <a:moveTo>
                    <a:pt x="54" y="38"/>
                  </a:moveTo>
                  <a:cubicBezTo>
                    <a:pt x="51" y="35"/>
                    <a:pt x="42" y="23"/>
                    <a:pt x="33" y="17"/>
                  </a:cubicBezTo>
                  <a:cubicBezTo>
                    <a:pt x="24" y="11"/>
                    <a:pt x="7" y="4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Freeform 85"/>
            <p:cNvSpPr/>
            <p:nvPr/>
          </p:nvSpPr>
          <p:spPr>
            <a:xfrm>
              <a:off x="1859040" y="1819440"/>
              <a:ext cx="95040" cy="41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60" h="26">
                  <a:moveTo>
                    <a:pt x="60" y="26"/>
                  </a:moveTo>
                  <a:cubicBezTo>
                    <a:pt x="57" y="23"/>
                    <a:pt x="49" y="13"/>
                    <a:pt x="39" y="9"/>
                  </a:cubicBezTo>
                  <a:cubicBezTo>
                    <a:pt x="29" y="5"/>
                    <a:pt x="8" y="2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Freeform 86"/>
            <p:cNvSpPr/>
            <p:nvPr/>
          </p:nvSpPr>
          <p:spPr>
            <a:xfrm>
              <a:off x="1820880" y="1859040"/>
              <a:ext cx="79560" cy="11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0" h="7">
                  <a:moveTo>
                    <a:pt x="50" y="7"/>
                  </a:moveTo>
                  <a:cubicBezTo>
                    <a:pt x="46" y="6"/>
                    <a:pt x="32" y="2"/>
                    <a:pt x="24" y="1"/>
                  </a:cubicBezTo>
                  <a:cubicBezTo>
                    <a:pt x="16" y="0"/>
                    <a:pt x="5" y="1"/>
                    <a:pt x="0" y="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87"/>
            <p:cNvSpPr/>
            <p:nvPr/>
          </p:nvSpPr>
          <p:spPr>
            <a:xfrm>
              <a:off x="1986120" y="1846440"/>
              <a:ext cx="19080" cy="71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2" h="45">
                  <a:moveTo>
                    <a:pt x="12" y="0"/>
                  </a:moveTo>
                  <a:cubicBezTo>
                    <a:pt x="10" y="4"/>
                    <a:pt x="2" y="20"/>
                    <a:pt x="1" y="27"/>
                  </a:cubicBezTo>
                  <a:cubicBezTo>
                    <a:pt x="0" y="34"/>
                    <a:pt x="3" y="41"/>
                    <a:pt x="3" y="4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Freeform 88"/>
            <p:cNvSpPr/>
            <p:nvPr/>
          </p:nvSpPr>
          <p:spPr>
            <a:xfrm>
              <a:off x="1933560" y="1862280"/>
              <a:ext cx="20520" cy="651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3" h="41">
                  <a:moveTo>
                    <a:pt x="13" y="0"/>
                  </a:moveTo>
                  <a:cubicBezTo>
                    <a:pt x="11" y="3"/>
                    <a:pt x="2" y="13"/>
                    <a:pt x="1" y="20"/>
                  </a:cubicBezTo>
                  <a:cubicBezTo>
                    <a:pt x="0" y="27"/>
                    <a:pt x="3" y="37"/>
                    <a:pt x="4" y="4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Freeform 89"/>
            <p:cNvSpPr/>
            <p:nvPr/>
          </p:nvSpPr>
          <p:spPr>
            <a:xfrm>
              <a:off x="1871640" y="1879560"/>
              <a:ext cx="15840" cy="42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0" h="27">
                  <a:moveTo>
                    <a:pt x="10" y="0"/>
                  </a:moveTo>
                  <a:cubicBezTo>
                    <a:pt x="9" y="2"/>
                    <a:pt x="2" y="9"/>
                    <a:pt x="1" y="13"/>
                  </a:cubicBezTo>
                  <a:cubicBezTo>
                    <a:pt x="0" y="17"/>
                    <a:pt x="1" y="24"/>
                    <a:pt x="1" y="2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0" name="Group 90"/>
          <p:cNvGrpSpPr/>
          <p:nvPr/>
        </p:nvGrpSpPr>
        <p:grpSpPr>
          <a:xfrm>
            <a:off x="2370240" y="1913040"/>
            <a:ext cx="201600" cy="221040"/>
            <a:chOff x="2370240" y="1913040"/>
            <a:chExt cx="201600" cy="221040"/>
          </a:xfrm>
        </p:grpSpPr>
        <p:sp>
          <p:nvSpPr>
            <p:cNvPr id="3161" name="Freeform 91"/>
            <p:cNvSpPr/>
            <p:nvPr/>
          </p:nvSpPr>
          <p:spPr>
            <a:xfrm>
              <a:off x="2370240" y="1913040"/>
              <a:ext cx="201600" cy="22068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27" h="139">
                  <a:moveTo>
                    <a:pt x="48" y="17"/>
                  </a:moveTo>
                  <a:cubicBezTo>
                    <a:pt x="37" y="21"/>
                    <a:pt x="24" y="15"/>
                    <a:pt x="12" y="24"/>
                  </a:cubicBezTo>
                  <a:cubicBezTo>
                    <a:pt x="0" y="33"/>
                    <a:pt x="1" y="49"/>
                    <a:pt x="2" y="62"/>
                  </a:cubicBezTo>
                  <a:cubicBezTo>
                    <a:pt x="9" y="77"/>
                    <a:pt x="11" y="81"/>
                    <a:pt x="22" y="90"/>
                  </a:cubicBezTo>
                  <a:cubicBezTo>
                    <a:pt x="34" y="98"/>
                    <a:pt x="59" y="103"/>
                    <a:pt x="76" y="111"/>
                  </a:cubicBezTo>
                  <a:cubicBezTo>
                    <a:pt x="91" y="120"/>
                    <a:pt x="105" y="130"/>
                    <a:pt x="123" y="139"/>
                  </a:cubicBezTo>
                  <a:cubicBezTo>
                    <a:pt x="120" y="124"/>
                    <a:pt x="127" y="103"/>
                    <a:pt x="124" y="76"/>
                  </a:cubicBezTo>
                  <a:cubicBezTo>
                    <a:pt x="121" y="49"/>
                    <a:pt x="115" y="31"/>
                    <a:pt x="106" y="18"/>
                  </a:cubicBezTo>
                  <a:cubicBezTo>
                    <a:pt x="97" y="5"/>
                    <a:pt x="82" y="0"/>
                    <a:pt x="72" y="0"/>
                  </a:cubicBezTo>
                  <a:cubicBezTo>
                    <a:pt x="59" y="1"/>
                    <a:pt x="53" y="14"/>
                    <a:pt x="48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Freeform 92"/>
            <p:cNvSpPr/>
            <p:nvPr/>
          </p:nvSpPr>
          <p:spPr>
            <a:xfrm rot="14970000">
              <a:off x="2391480" y="2004120"/>
              <a:ext cx="208080" cy="478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31" h="30">
                  <a:moveTo>
                    <a:pt x="131" y="0"/>
                  </a:moveTo>
                  <a:cubicBezTo>
                    <a:pt x="120" y="2"/>
                    <a:pt x="84" y="5"/>
                    <a:pt x="62" y="10"/>
                  </a:cubicBezTo>
                  <a:cubicBezTo>
                    <a:pt x="40" y="15"/>
                    <a:pt x="13" y="26"/>
                    <a:pt x="0" y="3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Freeform 93"/>
            <p:cNvSpPr/>
            <p:nvPr/>
          </p:nvSpPr>
          <p:spPr>
            <a:xfrm rot="14970000">
              <a:off x="2386800" y="1956600"/>
              <a:ext cx="61920" cy="730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9" h="46">
                  <a:moveTo>
                    <a:pt x="39" y="46"/>
                  </a:moveTo>
                  <a:cubicBezTo>
                    <a:pt x="36" y="41"/>
                    <a:pt x="30" y="24"/>
                    <a:pt x="23" y="16"/>
                  </a:cubicBezTo>
                  <a:cubicBezTo>
                    <a:pt x="16" y="8"/>
                    <a:pt x="5" y="3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Freeform 94"/>
            <p:cNvSpPr/>
            <p:nvPr/>
          </p:nvSpPr>
          <p:spPr>
            <a:xfrm>
              <a:off x="2463840" y="2006640"/>
              <a:ext cx="12600" cy="68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8" h="43">
                  <a:moveTo>
                    <a:pt x="8" y="0"/>
                  </a:moveTo>
                  <a:cubicBezTo>
                    <a:pt x="7" y="3"/>
                    <a:pt x="2" y="13"/>
                    <a:pt x="1" y="20"/>
                  </a:cubicBezTo>
                  <a:cubicBezTo>
                    <a:pt x="0" y="27"/>
                    <a:pt x="2" y="38"/>
                    <a:pt x="2" y="4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Freeform 95"/>
            <p:cNvSpPr/>
            <p:nvPr/>
          </p:nvSpPr>
          <p:spPr>
            <a:xfrm rot="14970000">
              <a:off x="2473920" y="2085120"/>
              <a:ext cx="79200" cy="111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0" h="7">
                  <a:moveTo>
                    <a:pt x="50" y="7"/>
                  </a:moveTo>
                  <a:cubicBezTo>
                    <a:pt x="46" y="6"/>
                    <a:pt x="32" y="2"/>
                    <a:pt x="24" y="1"/>
                  </a:cubicBezTo>
                  <a:cubicBezTo>
                    <a:pt x="16" y="0"/>
                    <a:pt x="5" y="1"/>
                    <a:pt x="0" y="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Freeform 96"/>
            <p:cNvSpPr/>
            <p:nvPr/>
          </p:nvSpPr>
          <p:spPr>
            <a:xfrm>
              <a:off x="2452680" y="1946520"/>
              <a:ext cx="81000" cy="126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1" h="8">
                  <a:moveTo>
                    <a:pt x="0" y="7"/>
                  </a:moveTo>
                  <a:cubicBezTo>
                    <a:pt x="5" y="7"/>
                    <a:pt x="21" y="8"/>
                    <a:pt x="29" y="7"/>
                  </a:cubicBezTo>
                  <a:cubicBezTo>
                    <a:pt x="37" y="6"/>
                    <a:pt x="47" y="1"/>
                    <a:pt x="51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Freeform 97"/>
            <p:cNvSpPr/>
            <p:nvPr/>
          </p:nvSpPr>
          <p:spPr>
            <a:xfrm>
              <a:off x="2478240" y="1994040"/>
              <a:ext cx="84240" cy="1908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3" h="12">
                  <a:moveTo>
                    <a:pt x="0" y="7"/>
                  </a:moveTo>
                  <a:cubicBezTo>
                    <a:pt x="3" y="8"/>
                    <a:pt x="14" y="12"/>
                    <a:pt x="23" y="11"/>
                  </a:cubicBezTo>
                  <a:cubicBezTo>
                    <a:pt x="32" y="10"/>
                    <a:pt x="47" y="2"/>
                    <a:pt x="53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Freeform 98"/>
            <p:cNvSpPr/>
            <p:nvPr/>
          </p:nvSpPr>
          <p:spPr>
            <a:xfrm rot="14970000">
              <a:off x="2532960" y="2039040"/>
              <a:ext cx="15840" cy="42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0" h="27">
                  <a:moveTo>
                    <a:pt x="10" y="0"/>
                  </a:moveTo>
                  <a:cubicBezTo>
                    <a:pt x="9" y="2"/>
                    <a:pt x="2" y="9"/>
                    <a:pt x="1" y="13"/>
                  </a:cubicBezTo>
                  <a:cubicBezTo>
                    <a:pt x="0" y="17"/>
                    <a:pt x="1" y="24"/>
                    <a:pt x="1" y="2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9" name="Freeform 99"/>
          <p:cNvSpPr/>
          <p:nvPr/>
        </p:nvSpPr>
        <p:spPr>
          <a:xfrm>
            <a:off x="2104920" y="2332080"/>
            <a:ext cx="147600" cy="82440"/>
          </a:xfrm>
          <a:custGeom>
            <a:avLst/>
            <a:gdLst>
              <a:gd name="textAreaLeft" fmla="*/ 0 w 147600"/>
              <a:gd name="textAreaRight" fmla="*/ 147600 w 14760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93" h="52">
                <a:moveTo>
                  <a:pt x="93" y="52"/>
                </a:moveTo>
                <a:cubicBezTo>
                  <a:pt x="83" y="33"/>
                  <a:pt x="74" y="14"/>
                  <a:pt x="59" y="7"/>
                </a:cubicBezTo>
                <a:cubicBezTo>
                  <a:pt x="44" y="0"/>
                  <a:pt x="22" y="3"/>
                  <a:pt x="0" y="7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Freeform 100"/>
          <p:cNvSpPr/>
          <p:nvPr/>
        </p:nvSpPr>
        <p:spPr>
          <a:xfrm>
            <a:off x="2158920" y="2211480"/>
            <a:ext cx="270000" cy="102960"/>
          </a:xfrm>
          <a:custGeom>
            <a:avLst/>
            <a:gdLst>
              <a:gd name="textAreaLeft" fmla="*/ 0 w 270000"/>
              <a:gd name="textAreaRight" fmla="*/ 270360 w 27000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170" h="65">
                <a:moveTo>
                  <a:pt x="0" y="0"/>
                </a:moveTo>
                <a:cubicBezTo>
                  <a:pt x="22" y="27"/>
                  <a:pt x="44" y="55"/>
                  <a:pt x="72" y="60"/>
                </a:cubicBezTo>
                <a:cubicBezTo>
                  <a:pt x="100" y="65"/>
                  <a:pt x="135" y="47"/>
                  <a:pt x="170" y="30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1" name="Group 101"/>
          <p:cNvGrpSpPr/>
          <p:nvPr/>
        </p:nvGrpSpPr>
        <p:grpSpPr>
          <a:xfrm>
            <a:off x="1919160" y="2297160"/>
            <a:ext cx="260280" cy="237960"/>
            <a:chOff x="1919160" y="2297160"/>
            <a:chExt cx="260280" cy="237960"/>
          </a:xfrm>
        </p:grpSpPr>
        <p:sp>
          <p:nvSpPr>
            <p:cNvPr id="3172" name="Freeform 102"/>
            <p:cNvSpPr/>
            <p:nvPr/>
          </p:nvSpPr>
          <p:spPr>
            <a:xfrm>
              <a:off x="1919160" y="2297160"/>
              <a:ext cx="260280" cy="2379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64" h="150">
                  <a:moveTo>
                    <a:pt x="117" y="30"/>
                  </a:moveTo>
                  <a:cubicBezTo>
                    <a:pt x="108" y="25"/>
                    <a:pt x="111" y="4"/>
                    <a:pt x="81" y="2"/>
                  </a:cubicBezTo>
                  <a:cubicBezTo>
                    <a:pt x="51" y="0"/>
                    <a:pt x="44" y="15"/>
                    <a:pt x="32" y="25"/>
                  </a:cubicBezTo>
                  <a:cubicBezTo>
                    <a:pt x="20" y="35"/>
                    <a:pt x="16" y="48"/>
                    <a:pt x="12" y="60"/>
                  </a:cubicBezTo>
                  <a:cubicBezTo>
                    <a:pt x="7" y="72"/>
                    <a:pt x="0" y="90"/>
                    <a:pt x="7" y="100"/>
                  </a:cubicBezTo>
                  <a:cubicBezTo>
                    <a:pt x="8" y="110"/>
                    <a:pt x="14" y="118"/>
                    <a:pt x="21" y="122"/>
                  </a:cubicBezTo>
                  <a:cubicBezTo>
                    <a:pt x="29" y="125"/>
                    <a:pt x="38" y="122"/>
                    <a:pt x="48" y="126"/>
                  </a:cubicBezTo>
                  <a:cubicBezTo>
                    <a:pt x="59" y="130"/>
                    <a:pt x="57" y="150"/>
                    <a:pt x="87" y="149"/>
                  </a:cubicBezTo>
                  <a:cubicBezTo>
                    <a:pt x="117" y="148"/>
                    <a:pt x="123" y="107"/>
                    <a:pt x="134" y="96"/>
                  </a:cubicBezTo>
                  <a:cubicBezTo>
                    <a:pt x="145" y="85"/>
                    <a:pt x="153" y="90"/>
                    <a:pt x="156" y="81"/>
                  </a:cubicBezTo>
                  <a:cubicBezTo>
                    <a:pt x="157" y="71"/>
                    <a:pt x="164" y="57"/>
                    <a:pt x="152" y="41"/>
                  </a:cubicBezTo>
                  <a:cubicBezTo>
                    <a:pt x="140" y="25"/>
                    <a:pt x="124" y="32"/>
                    <a:pt x="117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Freeform 103"/>
            <p:cNvSpPr/>
            <p:nvPr/>
          </p:nvSpPr>
          <p:spPr>
            <a:xfrm>
              <a:off x="2052360" y="2343240"/>
              <a:ext cx="46080" cy="1872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9" h="118">
                  <a:moveTo>
                    <a:pt x="29" y="0"/>
                  </a:moveTo>
                  <a:cubicBezTo>
                    <a:pt x="26" y="8"/>
                    <a:pt x="11" y="31"/>
                    <a:pt x="6" y="51"/>
                  </a:cubicBezTo>
                  <a:cubicBezTo>
                    <a:pt x="1" y="71"/>
                    <a:pt x="1" y="104"/>
                    <a:pt x="0" y="118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Freeform 104"/>
            <p:cNvSpPr/>
            <p:nvPr/>
          </p:nvSpPr>
          <p:spPr>
            <a:xfrm>
              <a:off x="1952640" y="2333520"/>
              <a:ext cx="137880" cy="428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87" h="27">
                  <a:moveTo>
                    <a:pt x="87" y="7"/>
                  </a:moveTo>
                  <a:cubicBezTo>
                    <a:pt x="81" y="6"/>
                    <a:pt x="62" y="0"/>
                    <a:pt x="48" y="3"/>
                  </a:cubicBezTo>
                  <a:cubicBezTo>
                    <a:pt x="34" y="6"/>
                    <a:pt x="10" y="22"/>
                    <a:pt x="0" y="2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Freeform 105"/>
            <p:cNvSpPr/>
            <p:nvPr/>
          </p:nvSpPr>
          <p:spPr>
            <a:xfrm>
              <a:off x="1933560" y="2381400"/>
              <a:ext cx="137880" cy="730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7" h="46">
                  <a:moveTo>
                    <a:pt x="87" y="0"/>
                  </a:moveTo>
                  <a:cubicBezTo>
                    <a:pt x="78" y="2"/>
                    <a:pt x="47" y="4"/>
                    <a:pt x="33" y="12"/>
                  </a:cubicBezTo>
                  <a:cubicBezTo>
                    <a:pt x="19" y="20"/>
                    <a:pt x="7" y="39"/>
                    <a:pt x="0" y="4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106"/>
            <p:cNvSpPr/>
            <p:nvPr/>
          </p:nvSpPr>
          <p:spPr>
            <a:xfrm>
              <a:off x="1985760" y="2428920"/>
              <a:ext cx="81000" cy="586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1" h="37">
                  <a:moveTo>
                    <a:pt x="51" y="0"/>
                  </a:moveTo>
                  <a:cubicBezTo>
                    <a:pt x="46" y="2"/>
                    <a:pt x="28" y="9"/>
                    <a:pt x="20" y="15"/>
                  </a:cubicBezTo>
                  <a:cubicBezTo>
                    <a:pt x="12" y="21"/>
                    <a:pt x="4" y="33"/>
                    <a:pt x="0" y="3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107"/>
            <p:cNvSpPr/>
            <p:nvPr/>
          </p:nvSpPr>
          <p:spPr>
            <a:xfrm>
              <a:off x="2095200" y="2373480"/>
              <a:ext cx="60480" cy="56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8" h="36">
                  <a:moveTo>
                    <a:pt x="0" y="0"/>
                  </a:moveTo>
                  <a:cubicBezTo>
                    <a:pt x="4" y="2"/>
                    <a:pt x="20" y="5"/>
                    <a:pt x="26" y="11"/>
                  </a:cubicBezTo>
                  <a:cubicBezTo>
                    <a:pt x="32" y="17"/>
                    <a:pt x="36" y="31"/>
                    <a:pt x="38" y="3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Freeform 108"/>
            <p:cNvSpPr/>
            <p:nvPr/>
          </p:nvSpPr>
          <p:spPr>
            <a:xfrm>
              <a:off x="2074680" y="2443320"/>
              <a:ext cx="25560" cy="68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6" h="43">
                  <a:moveTo>
                    <a:pt x="0" y="0"/>
                  </a:moveTo>
                  <a:cubicBezTo>
                    <a:pt x="2" y="3"/>
                    <a:pt x="9" y="8"/>
                    <a:pt x="12" y="15"/>
                  </a:cubicBezTo>
                  <a:cubicBezTo>
                    <a:pt x="15" y="22"/>
                    <a:pt x="15" y="37"/>
                    <a:pt x="16" y="4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9" name="Group 109"/>
          <p:cNvGrpSpPr/>
          <p:nvPr/>
        </p:nvGrpSpPr>
        <p:grpSpPr>
          <a:xfrm>
            <a:off x="2171880" y="2143080"/>
            <a:ext cx="361800" cy="347760"/>
            <a:chOff x="2171880" y="2143080"/>
            <a:chExt cx="361800" cy="347760"/>
          </a:xfrm>
        </p:grpSpPr>
        <p:sp>
          <p:nvSpPr>
            <p:cNvPr id="3180" name="Freeform 110"/>
            <p:cNvSpPr/>
            <p:nvPr/>
          </p:nvSpPr>
          <p:spPr>
            <a:xfrm>
              <a:off x="2171880" y="2143080"/>
              <a:ext cx="361800" cy="34776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228" h="219">
                  <a:moveTo>
                    <a:pt x="157" y="48"/>
                  </a:moveTo>
                  <a:cubicBezTo>
                    <a:pt x="137" y="40"/>
                    <a:pt x="124" y="0"/>
                    <a:pt x="85" y="3"/>
                  </a:cubicBezTo>
                  <a:cubicBezTo>
                    <a:pt x="46" y="6"/>
                    <a:pt x="0" y="87"/>
                    <a:pt x="14" y="91"/>
                  </a:cubicBezTo>
                  <a:cubicBezTo>
                    <a:pt x="33" y="95"/>
                    <a:pt x="62" y="99"/>
                    <a:pt x="71" y="96"/>
                  </a:cubicBezTo>
                  <a:cubicBezTo>
                    <a:pt x="74" y="118"/>
                    <a:pt x="77" y="141"/>
                    <a:pt x="85" y="163"/>
                  </a:cubicBezTo>
                  <a:cubicBezTo>
                    <a:pt x="93" y="185"/>
                    <a:pt x="115" y="195"/>
                    <a:pt x="119" y="219"/>
                  </a:cubicBezTo>
                  <a:cubicBezTo>
                    <a:pt x="138" y="217"/>
                    <a:pt x="167" y="178"/>
                    <a:pt x="179" y="162"/>
                  </a:cubicBezTo>
                  <a:cubicBezTo>
                    <a:pt x="191" y="147"/>
                    <a:pt x="191" y="133"/>
                    <a:pt x="199" y="106"/>
                  </a:cubicBezTo>
                  <a:cubicBezTo>
                    <a:pt x="217" y="106"/>
                    <a:pt x="219" y="103"/>
                    <a:pt x="228" y="102"/>
                  </a:cubicBezTo>
                  <a:cubicBezTo>
                    <a:pt x="225" y="83"/>
                    <a:pt x="221" y="62"/>
                    <a:pt x="208" y="51"/>
                  </a:cubicBezTo>
                  <a:cubicBezTo>
                    <a:pt x="191" y="44"/>
                    <a:pt x="168" y="49"/>
                    <a:pt x="157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Freeform 111"/>
            <p:cNvSpPr/>
            <p:nvPr/>
          </p:nvSpPr>
          <p:spPr>
            <a:xfrm>
              <a:off x="2362320" y="2216160"/>
              <a:ext cx="44640" cy="274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8" h="173">
                  <a:moveTo>
                    <a:pt x="28" y="0"/>
                  </a:moveTo>
                  <a:cubicBezTo>
                    <a:pt x="26" y="10"/>
                    <a:pt x="16" y="34"/>
                    <a:pt x="13" y="59"/>
                  </a:cubicBezTo>
                  <a:cubicBezTo>
                    <a:pt x="10" y="84"/>
                    <a:pt x="9" y="130"/>
                    <a:pt x="7" y="149"/>
                  </a:cubicBezTo>
                  <a:cubicBezTo>
                    <a:pt x="5" y="168"/>
                    <a:pt x="3" y="170"/>
                    <a:pt x="0" y="17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Freeform 112"/>
            <p:cNvSpPr/>
            <p:nvPr/>
          </p:nvSpPr>
          <p:spPr>
            <a:xfrm>
              <a:off x="2195640" y="2214360"/>
              <a:ext cx="192240" cy="6372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21" h="40">
                  <a:moveTo>
                    <a:pt x="121" y="0"/>
                  </a:moveTo>
                  <a:cubicBezTo>
                    <a:pt x="112" y="2"/>
                    <a:pt x="89" y="3"/>
                    <a:pt x="69" y="10"/>
                  </a:cubicBezTo>
                  <a:cubicBezTo>
                    <a:pt x="49" y="17"/>
                    <a:pt x="14" y="34"/>
                    <a:pt x="0" y="4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Freeform 113"/>
            <p:cNvSpPr/>
            <p:nvPr/>
          </p:nvSpPr>
          <p:spPr>
            <a:xfrm>
              <a:off x="2421000" y="2220840"/>
              <a:ext cx="108000" cy="81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8" h="51">
                  <a:moveTo>
                    <a:pt x="0" y="0"/>
                  </a:moveTo>
                  <a:cubicBezTo>
                    <a:pt x="7" y="4"/>
                    <a:pt x="31" y="16"/>
                    <a:pt x="42" y="24"/>
                  </a:cubicBezTo>
                  <a:cubicBezTo>
                    <a:pt x="53" y="32"/>
                    <a:pt x="63" y="46"/>
                    <a:pt x="68" y="5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Freeform 114"/>
            <p:cNvSpPr/>
            <p:nvPr/>
          </p:nvSpPr>
          <p:spPr>
            <a:xfrm>
              <a:off x="2401920" y="2273400"/>
              <a:ext cx="65160" cy="118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1" h="75">
                  <a:moveTo>
                    <a:pt x="0" y="0"/>
                  </a:moveTo>
                  <a:cubicBezTo>
                    <a:pt x="4" y="6"/>
                    <a:pt x="20" y="23"/>
                    <a:pt x="27" y="36"/>
                  </a:cubicBezTo>
                  <a:cubicBezTo>
                    <a:pt x="34" y="49"/>
                    <a:pt x="38" y="67"/>
                    <a:pt x="41" y="7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Freeform 115"/>
            <p:cNvSpPr/>
            <p:nvPr/>
          </p:nvSpPr>
          <p:spPr>
            <a:xfrm>
              <a:off x="2295720" y="2276280"/>
              <a:ext cx="95400" cy="730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60" h="46">
                  <a:moveTo>
                    <a:pt x="0" y="46"/>
                  </a:moveTo>
                  <a:cubicBezTo>
                    <a:pt x="4" y="42"/>
                    <a:pt x="12" y="27"/>
                    <a:pt x="22" y="19"/>
                  </a:cubicBezTo>
                  <a:cubicBezTo>
                    <a:pt x="32" y="11"/>
                    <a:pt x="52" y="4"/>
                    <a:pt x="6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Freeform 116"/>
            <p:cNvSpPr/>
            <p:nvPr/>
          </p:nvSpPr>
          <p:spPr>
            <a:xfrm>
              <a:off x="2268720" y="2163600"/>
              <a:ext cx="95400" cy="460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0" h="29">
                  <a:moveTo>
                    <a:pt x="0" y="0"/>
                  </a:moveTo>
                  <a:cubicBezTo>
                    <a:pt x="6" y="2"/>
                    <a:pt x="26" y="7"/>
                    <a:pt x="36" y="12"/>
                  </a:cubicBezTo>
                  <a:cubicBezTo>
                    <a:pt x="46" y="17"/>
                    <a:pt x="55" y="26"/>
                    <a:pt x="60" y="29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Freeform 117"/>
            <p:cNvSpPr/>
            <p:nvPr/>
          </p:nvSpPr>
          <p:spPr>
            <a:xfrm>
              <a:off x="2233800" y="2206440"/>
              <a:ext cx="82440" cy="19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2" h="12">
                  <a:moveTo>
                    <a:pt x="0" y="0"/>
                  </a:moveTo>
                  <a:cubicBezTo>
                    <a:pt x="4" y="1"/>
                    <a:pt x="15" y="0"/>
                    <a:pt x="24" y="2"/>
                  </a:cubicBezTo>
                  <a:cubicBezTo>
                    <a:pt x="33" y="4"/>
                    <a:pt x="46" y="10"/>
                    <a:pt x="52" y="12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Freeform 118"/>
            <p:cNvSpPr/>
            <p:nvPr/>
          </p:nvSpPr>
          <p:spPr>
            <a:xfrm>
              <a:off x="2205360" y="2243160"/>
              <a:ext cx="44280" cy="9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6">
                  <a:moveTo>
                    <a:pt x="0" y="3"/>
                  </a:moveTo>
                  <a:cubicBezTo>
                    <a:pt x="2" y="3"/>
                    <a:pt x="8" y="0"/>
                    <a:pt x="13" y="0"/>
                  </a:cubicBezTo>
                  <a:cubicBezTo>
                    <a:pt x="18" y="0"/>
                    <a:pt x="25" y="5"/>
                    <a:pt x="28" y="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119"/>
            <p:cNvSpPr/>
            <p:nvPr/>
          </p:nvSpPr>
          <p:spPr>
            <a:xfrm>
              <a:off x="2278080" y="2239920"/>
              <a:ext cx="38160" cy="554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4" h="35">
                  <a:moveTo>
                    <a:pt x="24" y="0"/>
                  </a:moveTo>
                  <a:cubicBezTo>
                    <a:pt x="23" y="3"/>
                    <a:pt x="21" y="14"/>
                    <a:pt x="17" y="20"/>
                  </a:cubicBezTo>
                  <a:cubicBezTo>
                    <a:pt x="13" y="26"/>
                    <a:pt x="4" y="32"/>
                    <a:pt x="0" y="3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120"/>
            <p:cNvSpPr/>
            <p:nvPr/>
          </p:nvSpPr>
          <p:spPr>
            <a:xfrm>
              <a:off x="2316240" y="2352600"/>
              <a:ext cx="60480" cy="795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8" h="50">
                  <a:moveTo>
                    <a:pt x="0" y="50"/>
                  </a:moveTo>
                  <a:cubicBezTo>
                    <a:pt x="3" y="45"/>
                    <a:pt x="11" y="27"/>
                    <a:pt x="17" y="19"/>
                  </a:cubicBezTo>
                  <a:cubicBezTo>
                    <a:pt x="23" y="11"/>
                    <a:pt x="34" y="4"/>
                    <a:pt x="38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Freeform 121"/>
            <p:cNvSpPr/>
            <p:nvPr/>
          </p:nvSpPr>
          <p:spPr>
            <a:xfrm>
              <a:off x="2387880" y="2363760"/>
              <a:ext cx="28440" cy="81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8" h="51">
                  <a:moveTo>
                    <a:pt x="18" y="51"/>
                  </a:moveTo>
                  <a:cubicBezTo>
                    <a:pt x="17" y="47"/>
                    <a:pt x="17" y="32"/>
                    <a:pt x="14" y="24"/>
                  </a:cubicBezTo>
                  <a:cubicBezTo>
                    <a:pt x="11" y="16"/>
                    <a:pt x="3" y="5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2" name="Freeform 122"/>
          <p:cNvSpPr/>
          <p:nvPr/>
        </p:nvSpPr>
        <p:spPr>
          <a:xfrm>
            <a:off x="2433600" y="2487600"/>
            <a:ext cx="144360" cy="144360"/>
          </a:xfrm>
          <a:custGeom>
            <a:avLst/>
            <a:gdLst>
              <a:gd name="textAreaLeft" fmla="*/ 0 w 144360"/>
              <a:gd name="textAreaRight" fmla="*/ 144720 w 1443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1" h="91">
                <a:moveTo>
                  <a:pt x="91" y="0"/>
                </a:moveTo>
                <a:lnTo>
                  <a:pt x="45" y="91"/>
                </a:lnTo>
                <a:lnTo>
                  <a:pt x="0" y="91"/>
                </a:ln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3" name="Group 123"/>
          <p:cNvGrpSpPr/>
          <p:nvPr/>
        </p:nvGrpSpPr>
        <p:grpSpPr>
          <a:xfrm>
            <a:off x="2127600" y="2305800"/>
            <a:ext cx="329040" cy="343080"/>
            <a:chOff x="2127600" y="2305800"/>
            <a:chExt cx="329040" cy="343080"/>
          </a:xfrm>
        </p:grpSpPr>
        <p:sp>
          <p:nvSpPr>
            <p:cNvPr id="3194" name="Freeform 124"/>
            <p:cNvSpPr/>
            <p:nvPr/>
          </p:nvSpPr>
          <p:spPr>
            <a:xfrm rot="579000">
              <a:off x="2150640" y="2327040"/>
              <a:ext cx="282600" cy="29988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78" h="189">
                  <a:moveTo>
                    <a:pt x="64" y="60"/>
                  </a:moveTo>
                  <a:cubicBezTo>
                    <a:pt x="40" y="68"/>
                    <a:pt x="14" y="67"/>
                    <a:pt x="7" y="81"/>
                  </a:cubicBezTo>
                  <a:cubicBezTo>
                    <a:pt x="0" y="95"/>
                    <a:pt x="4" y="130"/>
                    <a:pt x="23" y="143"/>
                  </a:cubicBezTo>
                  <a:cubicBezTo>
                    <a:pt x="42" y="156"/>
                    <a:pt x="97" y="153"/>
                    <a:pt x="122" y="161"/>
                  </a:cubicBezTo>
                  <a:cubicBezTo>
                    <a:pt x="147" y="169"/>
                    <a:pt x="159" y="180"/>
                    <a:pt x="172" y="189"/>
                  </a:cubicBezTo>
                  <a:cubicBezTo>
                    <a:pt x="171" y="178"/>
                    <a:pt x="167" y="169"/>
                    <a:pt x="167" y="159"/>
                  </a:cubicBezTo>
                  <a:cubicBezTo>
                    <a:pt x="167" y="149"/>
                    <a:pt x="171" y="142"/>
                    <a:pt x="172" y="126"/>
                  </a:cubicBezTo>
                  <a:cubicBezTo>
                    <a:pt x="173" y="110"/>
                    <a:pt x="178" y="80"/>
                    <a:pt x="173" y="60"/>
                  </a:cubicBezTo>
                  <a:cubicBezTo>
                    <a:pt x="168" y="40"/>
                    <a:pt x="154" y="16"/>
                    <a:pt x="140" y="8"/>
                  </a:cubicBezTo>
                  <a:cubicBezTo>
                    <a:pt x="126" y="0"/>
                    <a:pt x="101" y="3"/>
                    <a:pt x="88" y="12"/>
                  </a:cubicBezTo>
                  <a:cubicBezTo>
                    <a:pt x="75" y="21"/>
                    <a:pt x="69" y="50"/>
                    <a:pt x="64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Freeform 125"/>
            <p:cNvSpPr/>
            <p:nvPr/>
          </p:nvSpPr>
          <p:spPr>
            <a:xfrm rot="579000">
              <a:off x="2248560" y="2430000"/>
              <a:ext cx="166680" cy="2030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05" h="128">
                  <a:moveTo>
                    <a:pt x="0" y="0"/>
                  </a:moveTo>
                  <a:cubicBezTo>
                    <a:pt x="9" y="10"/>
                    <a:pt x="38" y="35"/>
                    <a:pt x="55" y="56"/>
                  </a:cubicBezTo>
                  <a:cubicBezTo>
                    <a:pt x="72" y="77"/>
                    <a:pt x="95" y="113"/>
                    <a:pt x="105" y="128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Freeform 126"/>
            <p:cNvSpPr/>
            <p:nvPr/>
          </p:nvSpPr>
          <p:spPr>
            <a:xfrm rot="579000">
              <a:off x="2279520" y="2382840"/>
              <a:ext cx="133200" cy="478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4" h="30">
                  <a:moveTo>
                    <a:pt x="0" y="30"/>
                  </a:moveTo>
                  <a:cubicBezTo>
                    <a:pt x="7" y="26"/>
                    <a:pt x="26" y="14"/>
                    <a:pt x="40" y="9"/>
                  </a:cubicBezTo>
                  <a:cubicBezTo>
                    <a:pt x="54" y="4"/>
                    <a:pt x="75" y="2"/>
                    <a:pt x="84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Freeform 127"/>
            <p:cNvSpPr/>
            <p:nvPr/>
          </p:nvSpPr>
          <p:spPr>
            <a:xfrm rot="579000">
              <a:off x="2300400" y="2469600"/>
              <a:ext cx="125280" cy="252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9" h="16">
                  <a:moveTo>
                    <a:pt x="0" y="1"/>
                  </a:moveTo>
                  <a:cubicBezTo>
                    <a:pt x="7" y="1"/>
                    <a:pt x="30" y="0"/>
                    <a:pt x="43" y="2"/>
                  </a:cubicBezTo>
                  <a:cubicBezTo>
                    <a:pt x="56" y="4"/>
                    <a:pt x="72" y="13"/>
                    <a:pt x="79" y="1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Freeform 128"/>
            <p:cNvSpPr/>
            <p:nvPr/>
          </p:nvSpPr>
          <p:spPr>
            <a:xfrm rot="579000">
              <a:off x="2181240" y="242460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48" h="68">
                  <a:moveTo>
                    <a:pt x="48" y="0"/>
                  </a:moveTo>
                  <a:cubicBezTo>
                    <a:pt x="43" y="5"/>
                    <a:pt x="26" y="19"/>
                    <a:pt x="18" y="30"/>
                  </a:cubicBezTo>
                  <a:cubicBezTo>
                    <a:pt x="10" y="41"/>
                    <a:pt x="4" y="60"/>
                    <a:pt x="0" y="68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Freeform 129"/>
            <p:cNvSpPr/>
            <p:nvPr/>
          </p:nvSpPr>
          <p:spPr>
            <a:xfrm rot="579000">
              <a:off x="2249640" y="2471400"/>
              <a:ext cx="34920" cy="954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2" h="60">
                  <a:moveTo>
                    <a:pt x="22" y="0"/>
                  </a:moveTo>
                  <a:cubicBezTo>
                    <a:pt x="19" y="4"/>
                    <a:pt x="10" y="16"/>
                    <a:pt x="6" y="26"/>
                  </a:cubicBezTo>
                  <a:cubicBezTo>
                    <a:pt x="2" y="36"/>
                    <a:pt x="1" y="53"/>
                    <a:pt x="0" y="6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Freeform 130"/>
            <p:cNvSpPr/>
            <p:nvPr/>
          </p:nvSpPr>
          <p:spPr>
            <a:xfrm rot="579000">
              <a:off x="2319840" y="2532240"/>
              <a:ext cx="9720" cy="57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" h="36">
                  <a:moveTo>
                    <a:pt x="4" y="0"/>
                  </a:moveTo>
                  <a:cubicBezTo>
                    <a:pt x="3" y="3"/>
                    <a:pt x="0" y="12"/>
                    <a:pt x="0" y="18"/>
                  </a:cubicBezTo>
                  <a:cubicBezTo>
                    <a:pt x="0" y="24"/>
                    <a:pt x="5" y="32"/>
                    <a:pt x="6" y="3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Freeform 131"/>
            <p:cNvSpPr/>
            <p:nvPr/>
          </p:nvSpPr>
          <p:spPr>
            <a:xfrm rot="579000">
              <a:off x="2332800" y="252288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9" h="27">
                  <a:moveTo>
                    <a:pt x="0" y="0"/>
                  </a:moveTo>
                  <a:cubicBezTo>
                    <a:pt x="4" y="1"/>
                    <a:pt x="19" y="5"/>
                    <a:pt x="27" y="9"/>
                  </a:cubicBezTo>
                  <a:cubicBezTo>
                    <a:pt x="35" y="13"/>
                    <a:pt x="45" y="23"/>
                    <a:pt x="49" y="2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2" name="Group 132"/>
          <p:cNvGrpSpPr/>
          <p:nvPr/>
        </p:nvGrpSpPr>
        <p:grpSpPr>
          <a:xfrm>
            <a:off x="2455200" y="2311560"/>
            <a:ext cx="259920" cy="308160"/>
            <a:chOff x="2455200" y="2311560"/>
            <a:chExt cx="259920" cy="308160"/>
          </a:xfrm>
        </p:grpSpPr>
        <p:sp>
          <p:nvSpPr>
            <p:cNvPr id="3203" name="Freeform 133"/>
            <p:cNvSpPr/>
            <p:nvPr/>
          </p:nvSpPr>
          <p:spPr>
            <a:xfrm rot="4980000">
              <a:off x="2443680" y="2351880"/>
              <a:ext cx="282600" cy="22716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178" h="143">
                  <a:moveTo>
                    <a:pt x="135" y="98"/>
                  </a:moveTo>
                  <a:lnTo>
                    <a:pt x="148" y="136"/>
                  </a:lnTo>
                  <a:cubicBezTo>
                    <a:pt x="140" y="143"/>
                    <a:pt x="103" y="143"/>
                    <a:pt x="84" y="142"/>
                  </a:cubicBezTo>
                  <a:cubicBezTo>
                    <a:pt x="65" y="141"/>
                    <a:pt x="41" y="137"/>
                    <a:pt x="33" y="132"/>
                  </a:cubicBezTo>
                  <a:cubicBezTo>
                    <a:pt x="25" y="127"/>
                    <a:pt x="32" y="118"/>
                    <a:pt x="34" y="112"/>
                  </a:cubicBezTo>
                  <a:cubicBezTo>
                    <a:pt x="36" y="106"/>
                    <a:pt x="49" y="99"/>
                    <a:pt x="48" y="94"/>
                  </a:cubicBezTo>
                  <a:cubicBezTo>
                    <a:pt x="46" y="90"/>
                    <a:pt x="31" y="91"/>
                    <a:pt x="23" y="86"/>
                  </a:cubicBezTo>
                  <a:cubicBezTo>
                    <a:pt x="16" y="81"/>
                    <a:pt x="11" y="76"/>
                    <a:pt x="0" y="66"/>
                  </a:cubicBezTo>
                  <a:cubicBezTo>
                    <a:pt x="9" y="58"/>
                    <a:pt x="17" y="50"/>
                    <a:pt x="24" y="42"/>
                  </a:cubicBezTo>
                  <a:cubicBezTo>
                    <a:pt x="31" y="34"/>
                    <a:pt x="38" y="29"/>
                    <a:pt x="42" y="18"/>
                  </a:cubicBezTo>
                  <a:cubicBezTo>
                    <a:pt x="59" y="21"/>
                    <a:pt x="68" y="16"/>
                    <a:pt x="81" y="14"/>
                  </a:cubicBezTo>
                  <a:cubicBezTo>
                    <a:pt x="94" y="12"/>
                    <a:pt x="109" y="5"/>
                    <a:pt x="119" y="0"/>
                  </a:cubicBezTo>
                  <a:cubicBezTo>
                    <a:pt x="128" y="11"/>
                    <a:pt x="140" y="18"/>
                    <a:pt x="149" y="24"/>
                  </a:cubicBezTo>
                  <a:cubicBezTo>
                    <a:pt x="158" y="30"/>
                    <a:pt x="170" y="36"/>
                    <a:pt x="174" y="43"/>
                  </a:cubicBezTo>
                  <a:cubicBezTo>
                    <a:pt x="178" y="50"/>
                    <a:pt x="172" y="57"/>
                    <a:pt x="171" y="66"/>
                  </a:cubicBezTo>
                  <a:cubicBezTo>
                    <a:pt x="171" y="74"/>
                    <a:pt x="175" y="91"/>
                    <a:pt x="169" y="96"/>
                  </a:cubicBezTo>
                  <a:lnTo>
                    <a:pt x="135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Freeform 134"/>
            <p:cNvSpPr/>
            <p:nvPr/>
          </p:nvSpPr>
          <p:spPr>
            <a:xfrm rot="4980000">
              <a:off x="2463120" y="2411640"/>
              <a:ext cx="212760" cy="507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4" h="32">
                  <a:moveTo>
                    <a:pt x="134" y="32"/>
                  </a:moveTo>
                  <a:cubicBezTo>
                    <a:pt x="125" y="29"/>
                    <a:pt x="100" y="17"/>
                    <a:pt x="78" y="12"/>
                  </a:cubicBezTo>
                  <a:cubicBezTo>
                    <a:pt x="56" y="7"/>
                    <a:pt x="16" y="2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Freeform 135"/>
            <p:cNvSpPr/>
            <p:nvPr/>
          </p:nvSpPr>
          <p:spPr>
            <a:xfrm rot="4980000">
              <a:off x="2545200" y="2400120"/>
              <a:ext cx="133200" cy="114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4" h="72">
                  <a:moveTo>
                    <a:pt x="84" y="72"/>
                  </a:moveTo>
                  <a:cubicBezTo>
                    <a:pt x="76" y="66"/>
                    <a:pt x="48" y="50"/>
                    <a:pt x="34" y="38"/>
                  </a:cubicBezTo>
                  <a:cubicBezTo>
                    <a:pt x="20" y="26"/>
                    <a:pt x="7" y="8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Freeform 136"/>
            <p:cNvSpPr/>
            <p:nvPr/>
          </p:nvSpPr>
          <p:spPr>
            <a:xfrm rot="4980000">
              <a:off x="2439720" y="2436480"/>
              <a:ext cx="162000" cy="475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" h="30">
                  <a:moveTo>
                    <a:pt x="102" y="0"/>
                  </a:moveTo>
                  <a:cubicBezTo>
                    <a:pt x="94" y="2"/>
                    <a:pt x="68" y="4"/>
                    <a:pt x="51" y="9"/>
                  </a:cubicBezTo>
                  <a:cubicBezTo>
                    <a:pt x="34" y="14"/>
                    <a:pt x="11" y="26"/>
                    <a:pt x="0" y="3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Freeform 137"/>
            <p:cNvSpPr/>
            <p:nvPr/>
          </p:nvSpPr>
          <p:spPr>
            <a:xfrm rot="4980000">
              <a:off x="2476440" y="2473560"/>
              <a:ext cx="73080" cy="65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6" h="41">
                  <a:moveTo>
                    <a:pt x="46" y="0"/>
                  </a:moveTo>
                  <a:cubicBezTo>
                    <a:pt x="41" y="3"/>
                    <a:pt x="24" y="11"/>
                    <a:pt x="16" y="18"/>
                  </a:cubicBezTo>
                  <a:cubicBezTo>
                    <a:pt x="8" y="25"/>
                    <a:pt x="3" y="36"/>
                    <a:pt x="0" y="4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Freeform 138"/>
            <p:cNvSpPr/>
            <p:nvPr/>
          </p:nvSpPr>
          <p:spPr>
            <a:xfrm rot="4980000">
              <a:off x="2615040" y="2437200"/>
              <a:ext cx="25200" cy="1573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7320"/>
                <a:gd name="textAreaBottom" fmla="*/ 157320 h 157320"/>
              </a:gdLst>
              <a:ahLst/>
              <a:rect l="textAreaLeft" t="textAreaTop" r="textAreaRight" b="textAreaBottom"/>
              <a:pathLst>
                <a:path w="16" h="99">
                  <a:moveTo>
                    <a:pt x="16" y="99"/>
                  </a:moveTo>
                  <a:cubicBezTo>
                    <a:pt x="14" y="91"/>
                    <a:pt x="6" y="67"/>
                    <a:pt x="3" y="51"/>
                  </a:cubicBezTo>
                  <a:cubicBezTo>
                    <a:pt x="0" y="35"/>
                    <a:pt x="1" y="11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Freeform 139"/>
            <p:cNvSpPr/>
            <p:nvPr/>
          </p:nvSpPr>
          <p:spPr>
            <a:xfrm rot="4980000">
              <a:off x="2566440" y="2527560"/>
              <a:ext cx="66600" cy="828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42" h="52">
                  <a:moveTo>
                    <a:pt x="0" y="52"/>
                  </a:moveTo>
                  <a:cubicBezTo>
                    <a:pt x="3" y="47"/>
                    <a:pt x="11" y="30"/>
                    <a:pt x="18" y="21"/>
                  </a:cubicBezTo>
                  <a:cubicBezTo>
                    <a:pt x="25" y="12"/>
                    <a:pt x="37" y="4"/>
                    <a:pt x="42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0" name="Group 140"/>
          <p:cNvGrpSpPr/>
          <p:nvPr/>
        </p:nvGrpSpPr>
        <p:grpSpPr>
          <a:xfrm>
            <a:off x="2187720" y="2530080"/>
            <a:ext cx="421920" cy="449640"/>
            <a:chOff x="2187720" y="2530080"/>
            <a:chExt cx="421920" cy="449640"/>
          </a:xfrm>
        </p:grpSpPr>
        <p:sp>
          <p:nvSpPr>
            <p:cNvPr id="3211" name="Freeform 141"/>
            <p:cNvSpPr/>
            <p:nvPr/>
          </p:nvSpPr>
          <p:spPr>
            <a:xfrm rot="20991000">
              <a:off x="2219400" y="2558520"/>
              <a:ext cx="358560" cy="3924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603" h="608">
                  <a:moveTo>
                    <a:pt x="436" y="106"/>
                  </a:moveTo>
                  <a:lnTo>
                    <a:pt x="402" y="26"/>
                  </a:lnTo>
                  <a:cubicBezTo>
                    <a:pt x="371" y="9"/>
                    <a:pt x="292" y="0"/>
                    <a:pt x="252" y="6"/>
                  </a:cubicBezTo>
                  <a:cubicBezTo>
                    <a:pt x="209" y="15"/>
                    <a:pt x="181" y="39"/>
                    <a:pt x="161" y="60"/>
                  </a:cubicBezTo>
                  <a:lnTo>
                    <a:pt x="132" y="132"/>
                  </a:lnTo>
                  <a:cubicBezTo>
                    <a:pt x="119" y="151"/>
                    <a:pt x="94" y="150"/>
                    <a:pt x="80" y="172"/>
                  </a:cubicBezTo>
                  <a:cubicBezTo>
                    <a:pt x="63" y="192"/>
                    <a:pt x="59" y="238"/>
                    <a:pt x="48" y="264"/>
                  </a:cubicBezTo>
                  <a:cubicBezTo>
                    <a:pt x="37" y="290"/>
                    <a:pt x="17" y="301"/>
                    <a:pt x="12" y="328"/>
                  </a:cubicBezTo>
                  <a:cubicBezTo>
                    <a:pt x="0" y="376"/>
                    <a:pt x="17" y="394"/>
                    <a:pt x="16" y="424"/>
                  </a:cubicBezTo>
                  <a:cubicBezTo>
                    <a:pt x="15" y="454"/>
                    <a:pt x="0" y="477"/>
                    <a:pt x="3" y="507"/>
                  </a:cubicBezTo>
                  <a:cubicBezTo>
                    <a:pt x="3" y="539"/>
                    <a:pt x="25" y="597"/>
                    <a:pt x="36" y="602"/>
                  </a:cubicBezTo>
                  <a:cubicBezTo>
                    <a:pt x="52" y="608"/>
                    <a:pt x="64" y="557"/>
                    <a:pt x="100" y="542"/>
                  </a:cubicBezTo>
                  <a:cubicBezTo>
                    <a:pt x="135" y="529"/>
                    <a:pt x="204" y="530"/>
                    <a:pt x="252" y="514"/>
                  </a:cubicBezTo>
                  <a:cubicBezTo>
                    <a:pt x="300" y="498"/>
                    <a:pt x="320" y="472"/>
                    <a:pt x="356" y="454"/>
                  </a:cubicBezTo>
                  <a:cubicBezTo>
                    <a:pt x="392" y="436"/>
                    <a:pt x="439" y="423"/>
                    <a:pt x="468" y="406"/>
                  </a:cubicBezTo>
                  <a:cubicBezTo>
                    <a:pt x="488" y="393"/>
                    <a:pt x="508" y="370"/>
                    <a:pt x="528" y="354"/>
                  </a:cubicBezTo>
                  <a:cubicBezTo>
                    <a:pt x="548" y="338"/>
                    <a:pt x="576" y="331"/>
                    <a:pt x="588" y="310"/>
                  </a:cubicBezTo>
                  <a:cubicBezTo>
                    <a:pt x="600" y="289"/>
                    <a:pt x="603" y="252"/>
                    <a:pt x="603" y="227"/>
                  </a:cubicBezTo>
                  <a:cubicBezTo>
                    <a:pt x="603" y="202"/>
                    <a:pt x="601" y="181"/>
                    <a:pt x="588" y="162"/>
                  </a:cubicBezTo>
                  <a:cubicBezTo>
                    <a:pt x="574" y="142"/>
                    <a:pt x="549" y="123"/>
                    <a:pt x="524" y="114"/>
                  </a:cubicBezTo>
                  <a:lnTo>
                    <a:pt x="436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142"/>
            <p:cNvSpPr/>
            <p:nvPr/>
          </p:nvSpPr>
          <p:spPr>
            <a:xfrm rot="20991000">
              <a:off x="2245680" y="2638080"/>
              <a:ext cx="230400" cy="32004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388" h="496">
                  <a:moveTo>
                    <a:pt x="388" y="0"/>
                  </a:moveTo>
                  <a:cubicBezTo>
                    <a:pt x="356" y="31"/>
                    <a:pt x="261" y="105"/>
                    <a:pt x="196" y="188"/>
                  </a:cubicBezTo>
                  <a:cubicBezTo>
                    <a:pt x="131" y="271"/>
                    <a:pt x="41" y="432"/>
                    <a:pt x="0" y="49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Freeform 143"/>
            <p:cNvSpPr/>
            <p:nvPr/>
          </p:nvSpPr>
          <p:spPr>
            <a:xfrm rot="20991000">
              <a:off x="2280600" y="2623320"/>
              <a:ext cx="161640" cy="17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72" h="27">
                  <a:moveTo>
                    <a:pt x="272" y="11"/>
                  </a:moveTo>
                  <a:cubicBezTo>
                    <a:pt x="253" y="10"/>
                    <a:pt x="205" y="0"/>
                    <a:pt x="160" y="3"/>
                  </a:cubicBezTo>
                  <a:cubicBezTo>
                    <a:pt x="115" y="6"/>
                    <a:pt x="33" y="22"/>
                    <a:pt x="0" y="2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Freeform 144"/>
            <p:cNvSpPr/>
            <p:nvPr/>
          </p:nvSpPr>
          <p:spPr>
            <a:xfrm rot="20991000">
              <a:off x="2244240" y="2680920"/>
              <a:ext cx="173520" cy="5688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2" h="88">
                  <a:moveTo>
                    <a:pt x="292" y="0"/>
                  </a:moveTo>
                  <a:cubicBezTo>
                    <a:pt x="266" y="5"/>
                    <a:pt x="185" y="13"/>
                    <a:pt x="136" y="28"/>
                  </a:cubicBezTo>
                  <a:cubicBezTo>
                    <a:pt x="87" y="43"/>
                    <a:pt x="28" y="76"/>
                    <a:pt x="0" y="88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Freeform 145"/>
            <p:cNvSpPr/>
            <p:nvPr/>
          </p:nvSpPr>
          <p:spPr>
            <a:xfrm rot="20991000">
              <a:off x="2235600" y="2742120"/>
              <a:ext cx="151920" cy="874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56" h="136">
                  <a:moveTo>
                    <a:pt x="256" y="0"/>
                  </a:moveTo>
                  <a:cubicBezTo>
                    <a:pt x="233" y="9"/>
                    <a:pt x="163" y="33"/>
                    <a:pt x="120" y="56"/>
                  </a:cubicBezTo>
                  <a:cubicBezTo>
                    <a:pt x="77" y="79"/>
                    <a:pt x="25" y="119"/>
                    <a:pt x="0" y="13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Freeform 146"/>
            <p:cNvSpPr/>
            <p:nvPr/>
          </p:nvSpPr>
          <p:spPr>
            <a:xfrm rot="20991000">
              <a:off x="2241720" y="2826720"/>
              <a:ext cx="104400" cy="954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76" h="148">
                  <a:moveTo>
                    <a:pt x="176" y="0"/>
                  </a:moveTo>
                  <a:cubicBezTo>
                    <a:pt x="159" y="11"/>
                    <a:pt x="101" y="43"/>
                    <a:pt x="72" y="68"/>
                  </a:cubicBezTo>
                  <a:cubicBezTo>
                    <a:pt x="43" y="93"/>
                    <a:pt x="15" y="131"/>
                    <a:pt x="0" y="148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Freeform 147"/>
            <p:cNvSpPr/>
            <p:nvPr/>
          </p:nvSpPr>
          <p:spPr>
            <a:xfrm rot="20991000">
              <a:off x="2462400" y="2621160"/>
              <a:ext cx="87840" cy="1137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148" h="176">
                  <a:moveTo>
                    <a:pt x="148" y="176"/>
                  </a:moveTo>
                  <a:cubicBezTo>
                    <a:pt x="137" y="159"/>
                    <a:pt x="109" y="101"/>
                    <a:pt x="84" y="72"/>
                  </a:cubicBezTo>
                  <a:cubicBezTo>
                    <a:pt x="59" y="43"/>
                    <a:pt x="18" y="15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Freeform 148"/>
            <p:cNvSpPr/>
            <p:nvPr/>
          </p:nvSpPr>
          <p:spPr>
            <a:xfrm rot="20991000">
              <a:off x="2448000" y="2663640"/>
              <a:ext cx="50040" cy="1393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84" h="216">
                  <a:moveTo>
                    <a:pt x="84" y="216"/>
                  </a:moveTo>
                  <a:cubicBezTo>
                    <a:pt x="79" y="196"/>
                    <a:pt x="70" y="132"/>
                    <a:pt x="56" y="96"/>
                  </a:cubicBezTo>
                  <a:cubicBezTo>
                    <a:pt x="42" y="60"/>
                    <a:pt x="12" y="20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Freeform 149"/>
            <p:cNvSpPr/>
            <p:nvPr/>
          </p:nvSpPr>
          <p:spPr>
            <a:xfrm rot="20991000">
              <a:off x="2410920" y="2717280"/>
              <a:ext cx="23760" cy="134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40" h="208">
                  <a:moveTo>
                    <a:pt x="40" y="208"/>
                  </a:moveTo>
                  <a:cubicBezTo>
                    <a:pt x="39" y="189"/>
                    <a:pt x="39" y="127"/>
                    <a:pt x="32" y="92"/>
                  </a:cubicBezTo>
                  <a:cubicBezTo>
                    <a:pt x="25" y="57"/>
                    <a:pt x="7" y="19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Freeform 150"/>
            <p:cNvSpPr/>
            <p:nvPr/>
          </p:nvSpPr>
          <p:spPr>
            <a:xfrm rot="20991000">
              <a:off x="2367360" y="2780640"/>
              <a:ext cx="15840" cy="115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27" h="180">
                  <a:moveTo>
                    <a:pt x="0" y="180"/>
                  </a:moveTo>
                  <a:cubicBezTo>
                    <a:pt x="4" y="167"/>
                    <a:pt x="21" y="134"/>
                    <a:pt x="24" y="104"/>
                  </a:cubicBezTo>
                  <a:cubicBezTo>
                    <a:pt x="27" y="74"/>
                    <a:pt x="21" y="22"/>
                    <a:pt x="2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1" name="Group 151"/>
          <p:cNvGrpSpPr/>
          <p:nvPr/>
        </p:nvGrpSpPr>
        <p:grpSpPr>
          <a:xfrm>
            <a:off x="2459160" y="2774880"/>
            <a:ext cx="722160" cy="544680"/>
            <a:chOff x="2459160" y="2774880"/>
            <a:chExt cx="722160" cy="544680"/>
          </a:xfrm>
        </p:grpSpPr>
        <p:sp>
          <p:nvSpPr>
            <p:cNvPr id="3222" name="Freeform 152"/>
            <p:cNvSpPr/>
            <p:nvPr/>
          </p:nvSpPr>
          <p:spPr>
            <a:xfrm>
              <a:off x="2459160" y="2774880"/>
              <a:ext cx="722160" cy="54144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541440"/>
                <a:gd name="textAreaBottom" fmla="*/ 541440 h 541440"/>
              </a:gdLst>
              <a:ahLst/>
              <a:rect l="textAreaLeft" t="textAreaTop" r="textAreaRight" b="textAreaBottom"/>
              <a:pathLst>
                <a:path w="455" h="341">
                  <a:moveTo>
                    <a:pt x="0" y="0"/>
                  </a:moveTo>
                  <a:lnTo>
                    <a:pt x="79" y="113"/>
                  </a:lnTo>
                  <a:lnTo>
                    <a:pt x="99" y="129"/>
                  </a:lnTo>
                  <a:lnTo>
                    <a:pt x="127" y="141"/>
                  </a:lnTo>
                  <a:lnTo>
                    <a:pt x="179" y="197"/>
                  </a:lnTo>
                  <a:lnTo>
                    <a:pt x="271" y="277"/>
                  </a:lnTo>
                  <a:lnTo>
                    <a:pt x="455" y="341"/>
                  </a:lnTo>
                </a:path>
              </a:pathLst>
            </a:custGeom>
            <a:noFill/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153"/>
            <p:cNvSpPr/>
            <p:nvPr/>
          </p:nvSpPr>
          <p:spPr>
            <a:xfrm flipV="1" rot="19541400">
              <a:off x="2651400" y="2982600"/>
              <a:ext cx="69840" cy="698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360 h 69840"/>
                <a:gd name="textAreaBottom" fmla="*/ 70560 h 69840"/>
              </a:gdLst>
              <a:ahLst/>
              <a:rect l="textAreaLeft" t="textAreaTop" r="textAreaRight" b="textAreaBottom"/>
              <a:pathLst>
                <a:path w="37" h="39">
                  <a:moveTo>
                    <a:pt x="0" y="24"/>
                  </a:moveTo>
                  <a:lnTo>
                    <a:pt x="37" y="0"/>
                  </a:lnTo>
                  <a:lnTo>
                    <a:pt x="19" y="3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Freeform 154"/>
            <p:cNvSpPr/>
            <p:nvPr/>
          </p:nvSpPr>
          <p:spPr>
            <a:xfrm>
              <a:off x="2606760" y="2984400"/>
              <a:ext cx="90360" cy="666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7" h="42">
                  <a:moveTo>
                    <a:pt x="0" y="0"/>
                  </a:moveTo>
                  <a:cubicBezTo>
                    <a:pt x="11" y="4"/>
                    <a:pt x="22" y="8"/>
                    <a:pt x="31" y="15"/>
                  </a:cubicBezTo>
                  <a:cubicBezTo>
                    <a:pt x="40" y="22"/>
                    <a:pt x="48" y="32"/>
                    <a:pt x="57" y="4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Freeform 155"/>
            <p:cNvSpPr/>
            <p:nvPr/>
          </p:nvSpPr>
          <p:spPr>
            <a:xfrm>
              <a:off x="2594160" y="2965320"/>
              <a:ext cx="149040" cy="1238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94" h="78">
                  <a:moveTo>
                    <a:pt x="0" y="0"/>
                  </a:moveTo>
                  <a:cubicBezTo>
                    <a:pt x="6" y="7"/>
                    <a:pt x="24" y="29"/>
                    <a:pt x="40" y="42"/>
                  </a:cubicBezTo>
                  <a:cubicBezTo>
                    <a:pt x="56" y="55"/>
                    <a:pt x="83" y="71"/>
                    <a:pt x="94" y="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Freeform 156"/>
            <p:cNvSpPr/>
            <p:nvPr/>
          </p:nvSpPr>
          <p:spPr>
            <a:xfrm>
              <a:off x="2819520" y="3135240"/>
              <a:ext cx="22320" cy="34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4" h="22">
                  <a:moveTo>
                    <a:pt x="0" y="0"/>
                  </a:moveTo>
                  <a:cubicBezTo>
                    <a:pt x="4" y="2"/>
                    <a:pt x="9" y="4"/>
                    <a:pt x="11" y="8"/>
                  </a:cubicBezTo>
                  <a:cubicBezTo>
                    <a:pt x="13" y="12"/>
                    <a:pt x="13" y="17"/>
                    <a:pt x="14" y="2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Freeform 157"/>
            <p:cNvSpPr/>
            <p:nvPr/>
          </p:nvSpPr>
          <p:spPr>
            <a:xfrm>
              <a:off x="2837160" y="315432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4" h="22">
                  <a:moveTo>
                    <a:pt x="0" y="0"/>
                  </a:moveTo>
                  <a:cubicBezTo>
                    <a:pt x="4" y="2"/>
                    <a:pt x="9" y="4"/>
                    <a:pt x="11" y="8"/>
                  </a:cubicBezTo>
                  <a:cubicBezTo>
                    <a:pt x="13" y="12"/>
                    <a:pt x="13" y="17"/>
                    <a:pt x="14" y="2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Freeform 158"/>
            <p:cNvSpPr/>
            <p:nvPr/>
          </p:nvSpPr>
          <p:spPr>
            <a:xfrm>
              <a:off x="2859120" y="3173400"/>
              <a:ext cx="22320" cy="34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4" h="22">
                  <a:moveTo>
                    <a:pt x="0" y="0"/>
                  </a:moveTo>
                  <a:cubicBezTo>
                    <a:pt x="4" y="2"/>
                    <a:pt x="9" y="4"/>
                    <a:pt x="11" y="8"/>
                  </a:cubicBezTo>
                  <a:cubicBezTo>
                    <a:pt x="13" y="12"/>
                    <a:pt x="13" y="17"/>
                    <a:pt x="14" y="2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Freeform 159"/>
            <p:cNvSpPr/>
            <p:nvPr/>
          </p:nvSpPr>
          <p:spPr>
            <a:xfrm>
              <a:off x="2800440" y="3128760"/>
              <a:ext cx="22320" cy="34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4" h="22">
                  <a:moveTo>
                    <a:pt x="0" y="0"/>
                  </a:moveTo>
                  <a:cubicBezTo>
                    <a:pt x="4" y="2"/>
                    <a:pt x="9" y="4"/>
                    <a:pt x="11" y="8"/>
                  </a:cubicBezTo>
                  <a:cubicBezTo>
                    <a:pt x="13" y="12"/>
                    <a:pt x="13" y="17"/>
                    <a:pt x="14" y="2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Freeform 160"/>
            <p:cNvSpPr/>
            <p:nvPr/>
          </p:nvSpPr>
          <p:spPr>
            <a:xfrm>
              <a:off x="2705400" y="3012840"/>
              <a:ext cx="450720" cy="30672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284" h="193">
                  <a:moveTo>
                    <a:pt x="0" y="1"/>
                  </a:moveTo>
                  <a:cubicBezTo>
                    <a:pt x="3" y="3"/>
                    <a:pt x="13" y="0"/>
                    <a:pt x="23" y="16"/>
                  </a:cubicBezTo>
                  <a:cubicBezTo>
                    <a:pt x="33" y="32"/>
                    <a:pt x="46" y="76"/>
                    <a:pt x="62" y="96"/>
                  </a:cubicBezTo>
                  <a:cubicBezTo>
                    <a:pt x="78" y="116"/>
                    <a:pt x="94" y="129"/>
                    <a:pt x="122" y="138"/>
                  </a:cubicBezTo>
                  <a:cubicBezTo>
                    <a:pt x="150" y="147"/>
                    <a:pt x="203" y="142"/>
                    <a:pt x="230" y="151"/>
                  </a:cubicBezTo>
                  <a:cubicBezTo>
                    <a:pt x="257" y="160"/>
                    <a:pt x="273" y="184"/>
                    <a:pt x="284" y="1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1" name="Freeform 161"/>
          <p:cNvSpPr/>
          <p:nvPr/>
        </p:nvSpPr>
        <p:spPr>
          <a:xfrm>
            <a:off x="2811600" y="2957400"/>
            <a:ext cx="41040" cy="177840"/>
          </a:xfrm>
          <a:custGeom>
            <a:avLst/>
            <a:gdLst>
              <a:gd name="textAreaLeft" fmla="*/ 0 w 41040"/>
              <a:gd name="textAreaRight" fmla="*/ 41400 w 4104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26" h="112">
                <a:moveTo>
                  <a:pt x="5" y="112"/>
                </a:moveTo>
                <a:cubicBezTo>
                  <a:pt x="2" y="102"/>
                  <a:pt x="0" y="93"/>
                  <a:pt x="2" y="81"/>
                </a:cubicBezTo>
                <a:cubicBezTo>
                  <a:pt x="4" y="69"/>
                  <a:pt x="16" y="51"/>
                  <a:pt x="20" y="38"/>
                </a:cubicBezTo>
                <a:cubicBezTo>
                  <a:pt x="24" y="25"/>
                  <a:pt x="25" y="12"/>
                  <a:pt x="26" y="0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Freeform 162"/>
          <p:cNvSpPr/>
          <p:nvPr/>
        </p:nvSpPr>
        <p:spPr>
          <a:xfrm>
            <a:off x="2835360" y="2871720"/>
            <a:ext cx="131760" cy="295200"/>
          </a:xfrm>
          <a:custGeom>
            <a:avLst/>
            <a:gdLst>
              <a:gd name="textAreaLeft" fmla="*/ 0 w 131760"/>
              <a:gd name="textAreaRight" fmla="*/ 132120 w 1317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83" h="186">
                <a:moveTo>
                  <a:pt x="7" y="186"/>
                </a:moveTo>
                <a:cubicBezTo>
                  <a:pt x="4" y="175"/>
                  <a:pt x="0" y="169"/>
                  <a:pt x="9" y="152"/>
                </a:cubicBezTo>
                <a:cubicBezTo>
                  <a:pt x="18" y="135"/>
                  <a:pt x="47" y="111"/>
                  <a:pt x="59" y="86"/>
                </a:cubicBezTo>
                <a:cubicBezTo>
                  <a:pt x="71" y="61"/>
                  <a:pt x="78" y="18"/>
                  <a:pt x="83" y="0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Freeform 163"/>
          <p:cNvSpPr/>
          <p:nvPr/>
        </p:nvSpPr>
        <p:spPr>
          <a:xfrm>
            <a:off x="2862360" y="3156120"/>
            <a:ext cx="79200" cy="25200"/>
          </a:xfrm>
          <a:custGeom>
            <a:avLst/>
            <a:gdLst>
              <a:gd name="textAreaLeft" fmla="*/ 0 w 79200"/>
              <a:gd name="textAreaRight" fmla="*/ 79560 w 792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50" h="16">
                <a:moveTo>
                  <a:pt x="0" y="16"/>
                </a:moveTo>
                <a:cubicBezTo>
                  <a:pt x="6" y="10"/>
                  <a:pt x="12" y="4"/>
                  <a:pt x="20" y="2"/>
                </a:cubicBezTo>
                <a:cubicBezTo>
                  <a:pt x="28" y="0"/>
                  <a:pt x="39" y="1"/>
                  <a:pt x="50" y="2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4" name="Group 164"/>
          <p:cNvGrpSpPr/>
          <p:nvPr/>
        </p:nvGrpSpPr>
        <p:grpSpPr>
          <a:xfrm>
            <a:off x="2625120" y="2831040"/>
            <a:ext cx="322200" cy="322200"/>
            <a:chOff x="2625120" y="2831040"/>
            <a:chExt cx="322200" cy="322200"/>
          </a:xfrm>
        </p:grpSpPr>
        <p:sp>
          <p:nvSpPr>
            <p:cNvPr id="3235" name="Freeform 165"/>
            <p:cNvSpPr/>
            <p:nvPr/>
          </p:nvSpPr>
          <p:spPr>
            <a:xfrm rot="2067000">
              <a:off x="2670120" y="2876040"/>
              <a:ext cx="231840" cy="231840"/>
            </a:xfrm>
            <a:custGeom>
              <a:avLst/>
              <a:gdLst>
                <a:gd name="textAreaLeft" fmla="*/ 0 w 231840"/>
                <a:gd name="textAreaRight" fmla="*/ 231840 w 2318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603" h="608">
                  <a:moveTo>
                    <a:pt x="436" y="106"/>
                  </a:moveTo>
                  <a:lnTo>
                    <a:pt x="402" y="26"/>
                  </a:lnTo>
                  <a:cubicBezTo>
                    <a:pt x="371" y="9"/>
                    <a:pt x="292" y="0"/>
                    <a:pt x="252" y="6"/>
                  </a:cubicBezTo>
                  <a:cubicBezTo>
                    <a:pt x="209" y="15"/>
                    <a:pt x="181" y="39"/>
                    <a:pt x="161" y="60"/>
                  </a:cubicBezTo>
                  <a:lnTo>
                    <a:pt x="132" y="132"/>
                  </a:lnTo>
                  <a:cubicBezTo>
                    <a:pt x="119" y="151"/>
                    <a:pt x="94" y="150"/>
                    <a:pt x="80" y="172"/>
                  </a:cubicBezTo>
                  <a:cubicBezTo>
                    <a:pt x="63" y="192"/>
                    <a:pt x="59" y="238"/>
                    <a:pt x="48" y="264"/>
                  </a:cubicBezTo>
                  <a:cubicBezTo>
                    <a:pt x="37" y="290"/>
                    <a:pt x="17" y="301"/>
                    <a:pt x="12" y="328"/>
                  </a:cubicBezTo>
                  <a:cubicBezTo>
                    <a:pt x="0" y="376"/>
                    <a:pt x="17" y="394"/>
                    <a:pt x="16" y="424"/>
                  </a:cubicBezTo>
                  <a:cubicBezTo>
                    <a:pt x="15" y="454"/>
                    <a:pt x="0" y="477"/>
                    <a:pt x="3" y="507"/>
                  </a:cubicBezTo>
                  <a:cubicBezTo>
                    <a:pt x="3" y="539"/>
                    <a:pt x="25" y="597"/>
                    <a:pt x="36" y="602"/>
                  </a:cubicBezTo>
                  <a:cubicBezTo>
                    <a:pt x="52" y="608"/>
                    <a:pt x="64" y="557"/>
                    <a:pt x="100" y="542"/>
                  </a:cubicBezTo>
                  <a:cubicBezTo>
                    <a:pt x="135" y="529"/>
                    <a:pt x="204" y="530"/>
                    <a:pt x="252" y="514"/>
                  </a:cubicBezTo>
                  <a:cubicBezTo>
                    <a:pt x="300" y="498"/>
                    <a:pt x="320" y="472"/>
                    <a:pt x="356" y="454"/>
                  </a:cubicBezTo>
                  <a:cubicBezTo>
                    <a:pt x="392" y="436"/>
                    <a:pt x="439" y="423"/>
                    <a:pt x="468" y="406"/>
                  </a:cubicBezTo>
                  <a:cubicBezTo>
                    <a:pt x="488" y="393"/>
                    <a:pt x="508" y="370"/>
                    <a:pt x="528" y="354"/>
                  </a:cubicBezTo>
                  <a:cubicBezTo>
                    <a:pt x="548" y="338"/>
                    <a:pt x="576" y="331"/>
                    <a:pt x="588" y="310"/>
                  </a:cubicBezTo>
                  <a:cubicBezTo>
                    <a:pt x="600" y="289"/>
                    <a:pt x="603" y="252"/>
                    <a:pt x="603" y="227"/>
                  </a:cubicBezTo>
                  <a:cubicBezTo>
                    <a:pt x="603" y="202"/>
                    <a:pt x="601" y="181"/>
                    <a:pt x="588" y="162"/>
                  </a:cubicBezTo>
                  <a:cubicBezTo>
                    <a:pt x="574" y="142"/>
                    <a:pt x="549" y="123"/>
                    <a:pt x="524" y="114"/>
                  </a:cubicBezTo>
                  <a:lnTo>
                    <a:pt x="436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Freeform 166"/>
            <p:cNvSpPr/>
            <p:nvPr/>
          </p:nvSpPr>
          <p:spPr>
            <a:xfrm rot="2067000">
              <a:off x="2675880" y="2898720"/>
              <a:ext cx="149040" cy="1890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388" h="496">
                  <a:moveTo>
                    <a:pt x="388" y="0"/>
                  </a:moveTo>
                  <a:cubicBezTo>
                    <a:pt x="356" y="31"/>
                    <a:pt x="261" y="105"/>
                    <a:pt x="196" y="188"/>
                  </a:cubicBezTo>
                  <a:cubicBezTo>
                    <a:pt x="131" y="271"/>
                    <a:pt x="41" y="432"/>
                    <a:pt x="0" y="49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Freeform 167"/>
            <p:cNvSpPr/>
            <p:nvPr/>
          </p:nvSpPr>
          <p:spPr>
            <a:xfrm rot="2067000">
              <a:off x="2768400" y="2919240"/>
              <a:ext cx="104400" cy="100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72" h="27">
                  <a:moveTo>
                    <a:pt x="272" y="11"/>
                  </a:moveTo>
                  <a:cubicBezTo>
                    <a:pt x="253" y="10"/>
                    <a:pt x="205" y="0"/>
                    <a:pt x="160" y="3"/>
                  </a:cubicBezTo>
                  <a:cubicBezTo>
                    <a:pt x="115" y="6"/>
                    <a:pt x="33" y="22"/>
                    <a:pt x="0" y="2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Freeform 168"/>
            <p:cNvSpPr/>
            <p:nvPr/>
          </p:nvSpPr>
          <p:spPr>
            <a:xfrm rot="2067000">
              <a:off x="2717280" y="2926080"/>
              <a:ext cx="112320" cy="334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92" h="88">
                  <a:moveTo>
                    <a:pt x="292" y="0"/>
                  </a:moveTo>
                  <a:cubicBezTo>
                    <a:pt x="266" y="5"/>
                    <a:pt x="185" y="13"/>
                    <a:pt x="136" y="28"/>
                  </a:cubicBezTo>
                  <a:cubicBezTo>
                    <a:pt x="87" y="43"/>
                    <a:pt x="28" y="76"/>
                    <a:pt x="0" y="88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Freeform 169"/>
            <p:cNvSpPr/>
            <p:nvPr/>
          </p:nvSpPr>
          <p:spPr>
            <a:xfrm rot="2067000">
              <a:off x="2683080" y="2940480"/>
              <a:ext cx="98280" cy="518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6" h="136">
                  <a:moveTo>
                    <a:pt x="256" y="0"/>
                  </a:moveTo>
                  <a:cubicBezTo>
                    <a:pt x="233" y="9"/>
                    <a:pt x="163" y="33"/>
                    <a:pt x="120" y="56"/>
                  </a:cubicBezTo>
                  <a:cubicBezTo>
                    <a:pt x="77" y="79"/>
                    <a:pt x="25" y="119"/>
                    <a:pt x="0" y="13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Freeform 170"/>
            <p:cNvSpPr/>
            <p:nvPr/>
          </p:nvSpPr>
          <p:spPr>
            <a:xfrm rot="2067000">
              <a:off x="2652840" y="2967120"/>
              <a:ext cx="67680" cy="565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76" h="148">
                  <a:moveTo>
                    <a:pt x="176" y="0"/>
                  </a:moveTo>
                  <a:cubicBezTo>
                    <a:pt x="159" y="11"/>
                    <a:pt x="101" y="43"/>
                    <a:pt x="72" y="68"/>
                  </a:cubicBezTo>
                  <a:cubicBezTo>
                    <a:pt x="43" y="93"/>
                    <a:pt x="15" y="131"/>
                    <a:pt x="0" y="148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Freeform 171"/>
            <p:cNvSpPr/>
            <p:nvPr/>
          </p:nvSpPr>
          <p:spPr>
            <a:xfrm rot="2067000">
              <a:off x="2840400" y="2974680"/>
              <a:ext cx="56880" cy="66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48" h="176">
                  <a:moveTo>
                    <a:pt x="148" y="176"/>
                  </a:moveTo>
                  <a:cubicBezTo>
                    <a:pt x="137" y="159"/>
                    <a:pt x="109" y="101"/>
                    <a:pt x="84" y="72"/>
                  </a:cubicBezTo>
                  <a:cubicBezTo>
                    <a:pt x="59" y="43"/>
                    <a:pt x="18" y="15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172"/>
            <p:cNvSpPr/>
            <p:nvPr/>
          </p:nvSpPr>
          <p:spPr>
            <a:xfrm rot="2067000">
              <a:off x="2813400" y="2975400"/>
              <a:ext cx="32040" cy="824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216">
                  <a:moveTo>
                    <a:pt x="84" y="216"/>
                  </a:moveTo>
                  <a:cubicBezTo>
                    <a:pt x="79" y="196"/>
                    <a:pt x="70" y="132"/>
                    <a:pt x="56" y="96"/>
                  </a:cubicBezTo>
                  <a:cubicBezTo>
                    <a:pt x="42" y="60"/>
                    <a:pt x="12" y="20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173"/>
            <p:cNvSpPr/>
            <p:nvPr/>
          </p:nvSpPr>
          <p:spPr>
            <a:xfrm rot="2067000">
              <a:off x="2777040" y="2975400"/>
              <a:ext cx="15120" cy="792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0" h="208">
                  <a:moveTo>
                    <a:pt x="40" y="208"/>
                  </a:moveTo>
                  <a:cubicBezTo>
                    <a:pt x="39" y="189"/>
                    <a:pt x="39" y="127"/>
                    <a:pt x="32" y="92"/>
                  </a:cubicBezTo>
                  <a:cubicBezTo>
                    <a:pt x="25" y="57"/>
                    <a:pt x="7" y="19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Freeform 174"/>
            <p:cNvSpPr/>
            <p:nvPr/>
          </p:nvSpPr>
          <p:spPr>
            <a:xfrm rot="2067000">
              <a:off x="2734200" y="2982600"/>
              <a:ext cx="10080" cy="68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7" h="180">
                  <a:moveTo>
                    <a:pt x="0" y="180"/>
                  </a:moveTo>
                  <a:cubicBezTo>
                    <a:pt x="4" y="167"/>
                    <a:pt x="21" y="134"/>
                    <a:pt x="24" y="104"/>
                  </a:cubicBezTo>
                  <a:cubicBezTo>
                    <a:pt x="27" y="74"/>
                    <a:pt x="21" y="22"/>
                    <a:pt x="2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5" name="Group 175"/>
          <p:cNvGrpSpPr/>
          <p:nvPr/>
        </p:nvGrpSpPr>
        <p:grpSpPr>
          <a:xfrm>
            <a:off x="2712600" y="2593800"/>
            <a:ext cx="402480" cy="402840"/>
            <a:chOff x="2712600" y="2593800"/>
            <a:chExt cx="402480" cy="402840"/>
          </a:xfrm>
        </p:grpSpPr>
        <p:sp>
          <p:nvSpPr>
            <p:cNvPr id="3246" name="Freeform 176"/>
            <p:cNvSpPr/>
            <p:nvPr/>
          </p:nvSpPr>
          <p:spPr>
            <a:xfrm rot="3210600">
              <a:off x="2769480" y="2651400"/>
              <a:ext cx="288720" cy="2869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152" h="105">
                  <a:moveTo>
                    <a:pt x="135" y="59"/>
                  </a:moveTo>
                  <a:cubicBezTo>
                    <a:pt x="136" y="49"/>
                    <a:pt x="152" y="37"/>
                    <a:pt x="148" y="27"/>
                  </a:cubicBezTo>
                  <a:cubicBezTo>
                    <a:pt x="141" y="6"/>
                    <a:pt x="122" y="3"/>
                    <a:pt x="109" y="0"/>
                  </a:cubicBezTo>
                  <a:cubicBezTo>
                    <a:pt x="93" y="1"/>
                    <a:pt x="85" y="0"/>
                    <a:pt x="70" y="7"/>
                  </a:cubicBezTo>
                  <a:cubicBezTo>
                    <a:pt x="55" y="14"/>
                    <a:pt x="33" y="27"/>
                    <a:pt x="21" y="40"/>
                  </a:cubicBezTo>
                  <a:cubicBezTo>
                    <a:pt x="7" y="51"/>
                    <a:pt x="1" y="70"/>
                    <a:pt x="0" y="88"/>
                  </a:cubicBezTo>
                  <a:cubicBezTo>
                    <a:pt x="15" y="91"/>
                    <a:pt x="36" y="102"/>
                    <a:pt x="52" y="103"/>
                  </a:cubicBezTo>
                  <a:cubicBezTo>
                    <a:pt x="68" y="104"/>
                    <a:pt x="87" y="105"/>
                    <a:pt x="104" y="101"/>
                  </a:cubicBezTo>
                  <a:cubicBezTo>
                    <a:pt x="119" y="99"/>
                    <a:pt x="135" y="97"/>
                    <a:pt x="140" y="90"/>
                  </a:cubicBezTo>
                  <a:cubicBezTo>
                    <a:pt x="149" y="77"/>
                    <a:pt x="134" y="69"/>
                    <a:pt x="135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Freeform 177"/>
            <p:cNvSpPr/>
            <p:nvPr/>
          </p:nvSpPr>
          <p:spPr>
            <a:xfrm rot="3210600">
              <a:off x="2748240" y="2773800"/>
              <a:ext cx="249120" cy="817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131" h="30">
                  <a:moveTo>
                    <a:pt x="131" y="0"/>
                  </a:moveTo>
                  <a:cubicBezTo>
                    <a:pt x="120" y="2"/>
                    <a:pt x="84" y="5"/>
                    <a:pt x="62" y="10"/>
                  </a:cubicBezTo>
                  <a:cubicBezTo>
                    <a:pt x="40" y="15"/>
                    <a:pt x="13" y="26"/>
                    <a:pt x="0" y="3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Freeform 178"/>
            <p:cNvSpPr/>
            <p:nvPr/>
          </p:nvSpPr>
          <p:spPr>
            <a:xfrm rot="3210600">
              <a:off x="2960640" y="274680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39" h="46">
                  <a:moveTo>
                    <a:pt x="39" y="46"/>
                  </a:moveTo>
                  <a:cubicBezTo>
                    <a:pt x="36" y="41"/>
                    <a:pt x="30" y="24"/>
                    <a:pt x="23" y="16"/>
                  </a:cubicBezTo>
                  <a:cubicBezTo>
                    <a:pt x="16" y="8"/>
                    <a:pt x="5" y="3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Freeform 179"/>
            <p:cNvSpPr/>
            <p:nvPr/>
          </p:nvSpPr>
          <p:spPr>
            <a:xfrm rot="3210600">
              <a:off x="2904480" y="2728080"/>
              <a:ext cx="102600" cy="1040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54" h="38">
                  <a:moveTo>
                    <a:pt x="54" y="38"/>
                  </a:moveTo>
                  <a:cubicBezTo>
                    <a:pt x="51" y="35"/>
                    <a:pt x="42" y="23"/>
                    <a:pt x="33" y="17"/>
                  </a:cubicBezTo>
                  <a:cubicBezTo>
                    <a:pt x="24" y="11"/>
                    <a:pt x="7" y="4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Freeform 180"/>
            <p:cNvSpPr/>
            <p:nvPr/>
          </p:nvSpPr>
          <p:spPr>
            <a:xfrm rot="3210600">
              <a:off x="2845800" y="2728080"/>
              <a:ext cx="113760" cy="705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60" h="26">
                  <a:moveTo>
                    <a:pt x="60" y="26"/>
                  </a:moveTo>
                  <a:cubicBezTo>
                    <a:pt x="57" y="23"/>
                    <a:pt x="49" y="13"/>
                    <a:pt x="39" y="9"/>
                  </a:cubicBezTo>
                  <a:cubicBezTo>
                    <a:pt x="29" y="5"/>
                    <a:pt x="8" y="2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Freeform 181"/>
            <p:cNvSpPr/>
            <p:nvPr/>
          </p:nvSpPr>
          <p:spPr>
            <a:xfrm rot="3210600">
              <a:off x="2788200" y="2734920"/>
              <a:ext cx="95040" cy="190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0" h="7">
                  <a:moveTo>
                    <a:pt x="50" y="7"/>
                  </a:moveTo>
                  <a:cubicBezTo>
                    <a:pt x="46" y="6"/>
                    <a:pt x="32" y="2"/>
                    <a:pt x="24" y="1"/>
                  </a:cubicBezTo>
                  <a:cubicBezTo>
                    <a:pt x="16" y="0"/>
                    <a:pt x="5" y="1"/>
                    <a:pt x="0" y="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Freeform 182"/>
            <p:cNvSpPr/>
            <p:nvPr/>
          </p:nvSpPr>
          <p:spPr>
            <a:xfrm rot="3210600">
              <a:off x="2896560" y="2830680"/>
              <a:ext cx="22680" cy="122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2" h="45">
                  <a:moveTo>
                    <a:pt x="12" y="0"/>
                  </a:moveTo>
                  <a:cubicBezTo>
                    <a:pt x="10" y="4"/>
                    <a:pt x="2" y="20"/>
                    <a:pt x="1" y="27"/>
                  </a:cubicBezTo>
                  <a:cubicBezTo>
                    <a:pt x="0" y="34"/>
                    <a:pt x="3" y="41"/>
                    <a:pt x="3" y="4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Freeform 183"/>
            <p:cNvSpPr/>
            <p:nvPr/>
          </p:nvSpPr>
          <p:spPr>
            <a:xfrm rot="3210600">
              <a:off x="2840760" y="2799360"/>
              <a:ext cx="24480" cy="1119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13" h="41">
                  <a:moveTo>
                    <a:pt x="13" y="0"/>
                  </a:moveTo>
                  <a:cubicBezTo>
                    <a:pt x="11" y="3"/>
                    <a:pt x="2" y="13"/>
                    <a:pt x="1" y="20"/>
                  </a:cubicBezTo>
                  <a:cubicBezTo>
                    <a:pt x="0" y="27"/>
                    <a:pt x="3" y="37"/>
                    <a:pt x="4" y="4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Freeform 184"/>
            <p:cNvSpPr/>
            <p:nvPr/>
          </p:nvSpPr>
          <p:spPr>
            <a:xfrm rot="3210600">
              <a:off x="2789280" y="2763000"/>
              <a:ext cx="18720" cy="73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0" h="27">
                  <a:moveTo>
                    <a:pt x="10" y="0"/>
                  </a:moveTo>
                  <a:cubicBezTo>
                    <a:pt x="9" y="2"/>
                    <a:pt x="2" y="9"/>
                    <a:pt x="1" y="13"/>
                  </a:cubicBezTo>
                  <a:cubicBezTo>
                    <a:pt x="0" y="17"/>
                    <a:pt x="1" y="24"/>
                    <a:pt x="1" y="2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5" name="Group 185"/>
          <p:cNvGrpSpPr/>
          <p:nvPr/>
        </p:nvGrpSpPr>
        <p:grpSpPr>
          <a:xfrm>
            <a:off x="2849400" y="2944440"/>
            <a:ext cx="474840" cy="453240"/>
            <a:chOff x="2849400" y="2944440"/>
            <a:chExt cx="474840" cy="453240"/>
          </a:xfrm>
        </p:grpSpPr>
        <p:sp>
          <p:nvSpPr>
            <p:cNvPr id="3256" name="Freeform 186"/>
            <p:cNvSpPr/>
            <p:nvPr/>
          </p:nvSpPr>
          <p:spPr>
            <a:xfrm rot="20656800">
              <a:off x="2890800" y="2990520"/>
              <a:ext cx="392040" cy="36036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92" h="301">
                  <a:moveTo>
                    <a:pt x="165" y="1"/>
                  </a:moveTo>
                  <a:cubicBezTo>
                    <a:pt x="189" y="0"/>
                    <a:pt x="203" y="10"/>
                    <a:pt x="213" y="22"/>
                  </a:cubicBezTo>
                  <a:cubicBezTo>
                    <a:pt x="223" y="34"/>
                    <a:pt x="228" y="50"/>
                    <a:pt x="237" y="70"/>
                  </a:cubicBezTo>
                  <a:cubicBezTo>
                    <a:pt x="246" y="90"/>
                    <a:pt x="260" y="108"/>
                    <a:pt x="267" y="140"/>
                  </a:cubicBezTo>
                  <a:cubicBezTo>
                    <a:pt x="275" y="170"/>
                    <a:pt x="278" y="236"/>
                    <a:pt x="282" y="263"/>
                  </a:cubicBezTo>
                  <a:lnTo>
                    <a:pt x="292" y="301"/>
                  </a:lnTo>
                  <a:cubicBezTo>
                    <a:pt x="268" y="298"/>
                    <a:pt x="180" y="269"/>
                    <a:pt x="136" y="245"/>
                  </a:cubicBezTo>
                  <a:cubicBezTo>
                    <a:pt x="92" y="221"/>
                    <a:pt x="49" y="186"/>
                    <a:pt x="28" y="158"/>
                  </a:cubicBezTo>
                  <a:cubicBezTo>
                    <a:pt x="7" y="130"/>
                    <a:pt x="1" y="96"/>
                    <a:pt x="1" y="74"/>
                  </a:cubicBezTo>
                  <a:cubicBezTo>
                    <a:pt x="0" y="53"/>
                    <a:pt x="10" y="41"/>
                    <a:pt x="22" y="29"/>
                  </a:cubicBezTo>
                  <a:cubicBezTo>
                    <a:pt x="34" y="17"/>
                    <a:pt x="59" y="0"/>
                    <a:pt x="76" y="1"/>
                  </a:cubicBezTo>
                  <a:lnTo>
                    <a:pt x="117" y="26"/>
                  </a:lnTo>
                  <a:cubicBezTo>
                    <a:pt x="132" y="26"/>
                    <a:pt x="141" y="2"/>
                    <a:pt x="16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Freeform 187"/>
            <p:cNvSpPr/>
            <p:nvPr/>
          </p:nvSpPr>
          <p:spPr>
            <a:xfrm rot="20656800">
              <a:off x="3042360" y="3011760"/>
              <a:ext cx="233640" cy="31968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74" h="267">
                  <a:moveTo>
                    <a:pt x="0" y="0"/>
                  </a:moveTo>
                  <a:cubicBezTo>
                    <a:pt x="12" y="24"/>
                    <a:pt x="46" y="99"/>
                    <a:pt x="75" y="144"/>
                  </a:cubicBezTo>
                  <a:cubicBezTo>
                    <a:pt x="104" y="189"/>
                    <a:pt x="154" y="242"/>
                    <a:pt x="174" y="26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Freeform 188"/>
            <p:cNvSpPr/>
            <p:nvPr/>
          </p:nvSpPr>
          <p:spPr>
            <a:xfrm rot="20656800">
              <a:off x="3039480" y="3042000"/>
              <a:ext cx="153000" cy="4176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14" h="35">
                  <a:moveTo>
                    <a:pt x="0" y="5"/>
                  </a:moveTo>
                  <a:cubicBezTo>
                    <a:pt x="10" y="5"/>
                    <a:pt x="44" y="0"/>
                    <a:pt x="63" y="5"/>
                  </a:cubicBezTo>
                  <a:cubicBezTo>
                    <a:pt x="82" y="10"/>
                    <a:pt x="104" y="29"/>
                    <a:pt x="114" y="3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Freeform 189"/>
            <p:cNvSpPr/>
            <p:nvPr/>
          </p:nvSpPr>
          <p:spPr>
            <a:xfrm rot="20656800">
              <a:off x="3107520" y="3098880"/>
              <a:ext cx="136800" cy="572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02" h="48">
                  <a:moveTo>
                    <a:pt x="0" y="0"/>
                  </a:moveTo>
                  <a:cubicBezTo>
                    <a:pt x="9" y="3"/>
                    <a:pt x="40" y="10"/>
                    <a:pt x="57" y="18"/>
                  </a:cubicBezTo>
                  <a:cubicBezTo>
                    <a:pt x="74" y="26"/>
                    <a:pt x="93" y="42"/>
                    <a:pt x="102" y="48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Freeform 190"/>
            <p:cNvSpPr/>
            <p:nvPr/>
          </p:nvSpPr>
          <p:spPr>
            <a:xfrm rot="20656800">
              <a:off x="3188520" y="3175920"/>
              <a:ext cx="92520" cy="680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69" h="57">
                  <a:moveTo>
                    <a:pt x="0" y="0"/>
                  </a:moveTo>
                  <a:cubicBezTo>
                    <a:pt x="7" y="3"/>
                    <a:pt x="33" y="8"/>
                    <a:pt x="45" y="18"/>
                  </a:cubicBezTo>
                  <a:cubicBezTo>
                    <a:pt x="57" y="28"/>
                    <a:pt x="64" y="49"/>
                    <a:pt x="69" y="5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Freeform 191"/>
            <p:cNvSpPr/>
            <p:nvPr/>
          </p:nvSpPr>
          <p:spPr>
            <a:xfrm rot="20656800">
              <a:off x="2892240" y="3078360"/>
              <a:ext cx="132840" cy="8604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99" h="72">
                  <a:moveTo>
                    <a:pt x="99" y="0"/>
                  </a:moveTo>
                  <a:cubicBezTo>
                    <a:pt x="88" y="5"/>
                    <a:pt x="50" y="15"/>
                    <a:pt x="33" y="27"/>
                  </a:cubicBezTo>
                  <a:cubicBezTo>
                    <a:pt x="16" y="39"/>
                    <a:pt x="7" y="63"/>
                    <a:pt x="0" y="72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Freeform 192"/>
            <p:cNvSpPr/>
            <p:nvPr/>
          </p:nvSpPr>
          <p:spPr>
            <a:xfrm rot="20656800">
              <a:off x="3000960" y="3119760"/>
              <a:ext cx="76680" cy="1292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57" h="108">
                  <a:moveTo>
                    <a:pt x="57" y="0"/>
                  </a:moveTo>
                  <a:cubicBezTo>
                    <a:pt x="51" y="6"/>
                    <a:pt x="27" y="21"/>
                    <a:pt x="18" y="39"/>
                  </a:cubicBezTo>
                  <a:cubicBezTo>
                    <a:pt x="9" y="57"/>
                    <a:pt x="4" y="94"/>
                    <a:pt x="0" y="108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Freeform 193"/>
            <p:cNvSpPr/>
            <p:nvPr/>
          </p:nvSpPr>
          <p:spPr>
            <a:xfrm rot="20656800">
              <a:off x="3124800" y="3166560"/>
              <a:ext cx="30600" cy="1364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3" h="114">
                  <a:moveTo>
                    <a:pt x="8" y="0"/>
                  </a:moveTo>
                  <a:cubicBezTo>
                    <a:pt x="7" y="9"/>
                    <a:pt x="0" y="38"/>
                    <a:pt x="2" y="57"/>
                  </a:cubicBezTo>
                  <a:cubicBezTo>
                    <a:pt x="4" y="76"/>
                    <a:pt x="19" y="102"/>
                    <a:pt x="23" y="114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4" name="Group 194"/>
          <p:cNvGrpSpPr/>
          <p:nvPr/>
        </p:nvGrpSpPr>
        <p:grpSpPr>
          <a:xfrm>
            <a:off x="2721600" y="3154680"/>
            <a:ext cx="167400" cy="208080"/>
            <a:chOff x="2721600" y="3154680"/>
            <a:chExt cx="167400" cy="208080"/>
          </a:xfrm>
        </p:grpSpPr>
        <p:sp>
          <p:nvSpPr>
            <p:cNvPr id="3265" name="Freeform 195"/>
            <p:cNvSpPr/>
            <p:nvPr/>
          </p:nvSpPr>
          <p:spPr>
            <a:xfrm rot="17508000">
              <a:off x="2714760" y="3204720"/>
              <a:ext cx="181080" cy="1080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52" h="105">
                  <a:moveTo>
                    <a:pt x="135" y="59"/>
                  </a:moveTo>
                  <a:cubicBezTo>
                    <a:pt x="136" y="49"/>
                    <a:pt x="152" y="37"/>
                    <a:pt x="148" y="27"/>
                  </a:cubicBezTo>
                  <a:cubicBezTo>
                    <a:pt x="141" y="6"/>
                    <a:pt x="122" y="3"/>
                    <a:pt x="109" y="0"/>
                  </a:cubicBezTo>
                  <a:cubicBezTo>
                    <a:pt x="93" y="1"/>
                    <a:pt x="85" y="0"/>
                    <a:pt x="70" y="7"/>
                  </a:cubicBezTo>
                  <a:cubicBezTo>
                    <a:pt x="55" y="14"/>
                    <a:pt x="33" y="27"/>
                    <a:pt x="21" y="40"/>
                  </a:cubicBezTo>
                  <a:cubicBezTo>
                    <a:pt x="7" y="51"/>
                    <a:pt x="1" y="70"/>
                    <a:pt x="0" y="88"/>
                  </a:cubicBezTo>
                  <a:cubicBezTo>
                    <a:pt x="15" y="91"/>
                    <a:pt x="36" y="102"/>
                    <a:pt x="52" y="103"/>
                  </a:cubicBezTo>
                  <a:cubicBezTo>
                    <a:pt x="68" y="104"/>
                    <a:pt x="87" y="105"/>
                    <a:pt x="104" y="101"/>
                  </a:cubicBezTo>
                  <a:cubicBezTo>
                    <a:pt x="119" y="99"/>
                    <a:pt x="135" y="97"/>
                    <a:pt x="140" y="90"/>
                  </a:cubicBezTo>
                  <a:cubicBezTo>
                    <a:pt x="149" y="77"/>
                    <a:pt x="134" y="69"/>
                    <a:pt x="135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Freeform 196"/>
            <p:cNvSpPr/>
            <p:nvPr/>
          </p:nvSpPr>
          <p:spPr>
            <a:xfrm rot="17508000">
              <a:off x="2740680" y="3254760"/>
              <a:ext cx="156240" cy="3060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31" h="30">
                  <a:moveTo>
                    <a:pt x="131" y="0"/>
                  </a:moveTo>
                  <a:cubicBezTo>
                    <a:pt x="120" y="2"/>
                    <a:pt x="84" y="5"/>
                    <a:pt x="62" y="10"/>
                  </a:cubicBezTo>
                  <a:cubicBezTo>
                    <a:pt x="40" y="15"/>
                    <a:pt x="13" y="26"/>
                    <a:pt x="0" y="3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Freeform 197"/>
            <p:cNvSpPr/>
            <p:nvPr/>
          </p:nvSpPr>
          <p:spPr>
            <a:xfrm rot="17508000">
              <a:off x="2775240" y="3191040"/>
              <a:ext cx="46440" cy="471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9" h="46">
                  <a:moveTo>
                    <a:pt x="39" y="46"/>
                  </a:moveTo>
                  <a:cubicBezTo>
                    <a:pt x="36" y="41"/>
                    <a:pt x="30" y="24"/>
                    <a:pt x="23" y="16"/>
                  </a:cubicBezTo>
                  <a:cubicBezTo>
                    <a:pt x="16" y="8"/>
                    <a:pt x="5" y="3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Freeform 198"/>
            <p:cNvSpPr/>
            <p:nvPr/>
          </p:nvSpPr>
          <p:spPr>
            <a:xfrm rot="17508000">
              <a:off x="2761200" y="3225960"/>
              <a:ext cx="64080" cy="388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54" h="38">
                  <a:moveTo>
                    <a:pt x="54" y="38"/>
                  </a:moveTo>
                  <a:cubicBezTo>
                    <a:pt x="51" y="35"/>
                    <a:pt x="42" y="23"/>
                    <a:pt x="33" y="17"/>
                  </a:cubicBezTo>
                  <a:cubicBezTo>
                    <a:pt x="24" y="11"/>
                    <a:pt x="7" y="4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Freeform 199"/>
            <p:cNvSpPr/>
            <p:nvPr/>
          </p:nvSpPr>
          <p:spPr>
            <a:xfrm rot="17508000">
              <a:off x="2758320" y="3263040"/>
              <a:ext cx="71280" cy="262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0" h="26">
                  <a:moveTo>
                    <a:pt x="60" y="26"/>
                  </a:moveTo>
                  <a:cubicBezTo>
                    <a:pt x="57" y="23"/>
                    <a:pt x="49" y="13"/>
                    <a:pt x="39" y="9"/>
                  </a:cubicBezTo>
                  <a:cubicBezTo>
                    <a:pt x="29" y="5"/>
                    <a:pt x="8" y="2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Freeform 200"/>
            <p:cNvSpPr/>
            <p:nvPr/>
          </p:nvSpPr>
          <p:spPr>
            <a:xfrm rot="17508000">
              <a:off x="2766240" y="3310920"/>
              <a:ext cx="59400" cy="72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50" h="7">
                  <a:moveTo>
                    <a:pt x="50" y="7"/>
                  </a:moveTo>
                  <a:cubicBezTo>
                    <a:pt x="46" y="6"/>
                    <a:pt x="32" y="2"/>
                    <a:pt x="24" y="1"/>
                  </a:cubicBezTo>
                  <a:cubicBezTo>
                    <a:pt x="16" y="0"/>
                    <a:pt x="5" y="1"/>
                    <a:pt x="0" y="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Freeform 201"/>
            <p:cNvSpPr/>
            <p:nvPr/>
          </p:nvSpPr>
          <p:spPr>
            <a:xfrm rot="17508000">
              <a:off x="2837160" y="3201120"/>
              <a:ext cx="14040" cy="460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2" h="45">
                  <a:moveTo>
                    <a:pt x="12" y="0"/>
                  </a:moveTo>
                  <a:cubicBezTo>
                    <a:pt x="10" y="4"/>
                    <a:pt x="2" y="20"/>
                    <a:pt x="1" y="27"/>
                  </a:cubicBezTo>
                  <a:cubicBezTo>
                    <a:pt x="0" y="34"/>
                    <a:pt x="3" y="41"/>
                    <a:pt x="3" y="4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Freeform 202"/>
            <p:cNvSpPr/>
            <p:nvPr/>
          </p:nvSpPr>
          <p:spPr>
            <a:xfrm rot="17508000">
              <a:off x="2829960" y="3242520"/>
              <a:ext cx="15120" cy="421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41">
                  <a:moveTo>
                    <a:pt x="13" y="0"/>
                  </a:moveTo>
                  <a:cubicBezTo>
                    <a:pt x="11" y="3"/>
                    <a:pt x="2" y="13"/>
                    <a:pt x="1" y="20"/>
                  </a:cubicBezTo>
                  <a:cubicBezTo>
                    <a:pt x="0" y="27"/>
                    <a:pt x="3" y="37"/>
                    <a:pt x="4" y="4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Freeform 203"/>
            <p:cNvSpPr/>
            <p:nvPr/>
          </p:nvSpPr>
          <p:spPr>
            <a:xfrm rot="17508000">
              <a:off x="2817360" y="3295800"/>
              <a:ext cx="11880" cy="2772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0" h="27">
                  <a:moveTo>
                    <a:pt x="10" y="0"/>
                  </a:moveTo>
                  <a:cubicBezTo>
                    <a:pt x="9" y="2"/>
                    <a:pt x="2" y="9"/>
                    <a:pt x="1" y="13"/>
                  </a:cubicBezTo>
                  <a:cubicBezTo>
                    <a:pt x="0" y="17"/>
                    <a:pt x="1" y="24"/>
                    <a:pt x="1" y="2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4" name="Group 204"/>
          <p:cNvGrpSpPr/>
          <p:nvPr/>
        </p:nvGrpSpPr>
        <p:grpSpPr>
          <a:xfrm>
            <a:off x="3146400" y="3306600"/>
            <a:ext cx="1479600" cy="289080"/>
            <a:chOff x="3146400" y="3306600"/>
            <a:chExt cx="1479600" cy="289080"/>
          </a:xfrm>
        </p:grpSpPr>
        <p:sp>
          <p:nvSpPr>
            <p:cNvPr id="3275" name="Freeform 205"/>
            <p:cNvSpPr/>
            <p:nvPr/>
          </p:nvSpPr>
          <p:spPr>
            <a:xfrm>
              <a:off x="3173400" y="3314520"/>
              <a:ext cx="1433520" cy="28116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903" h="177">
                  <a:moveTo>
                    <a:pt x="0" y="0"/>
                  </a:moveTo>
                  <a:lnTo>
                    <a:pt x="183" y="49"/>
                  </a:lnTo>
                  <a:lnTo>
                    <a:pt x="267" y="53"/>
                  </a:lnTo>
                  <a:lnTo>
                    <a:pt x="341" y="67"/>
                  </a:lnTo>
                  <a:cubicBezTo>
                    <a:pt x="369" y="69"/>
                    <a:pt x="398" y="61"/>
                    <a:pt x="433" y="65"/>
                  </a:cubicBezTo>
                  <a:cubicBezTo>
                    <a:pt x="475" y="65"/>
                    <a:pt x="508" y="86"/>
                    <a:pt x="551" y="89"/>
                  </a:cubicBezTo>
                  <a:lnTo>
                    <a:pt x="691" y="81"/>
                  </a:lnTo>
                  <a:lnTo>
                    <a:pt x="845" y="173"/>
                  </a:lnTo>
                  <a:lnTo>
                    <a:pt x="903" y="177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Freeform 206"/>
            <p:cNvSpPr/>
            <p:nvPr/>
          </p:nvSpPr>
          <p:spPr>
            <a:xfrm>
              <a:off x="3146400" y="3306600"/>
              <a:ext cx="1479600" cy="289080"/>
            </a:xfrm>
            <a:custGeom>
              <a:avLst/>
              <a:gdLst>
                <a:gd name="textAreaLeft" fmla="*/ 0 w 1479600"/>
                <a:gd name="textAreaRight" fmla="*/ 1479960 w 14796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932" h="182">
                  <a:moveTo>
                    <a:pt x="0" y="0"/>
                  </a:moveTo>
                  <a:cubicBezTo>
                    <a:pt x="6" y="4"/>
                    <a:pt x="14" y="18"/>
                    <a:pt x="36" y="24"/>
                  </a:cubicBezTo>
                  <a:cubicBezTo>
                    <a:pt x="58" y="30"/>
                    <a:pt x="94" y="35"/>
                    <a:pt x="130" y="38"/>
                  </a:cubicBezTo>
                  <a:cubicBezTo>
                    <a:pt x="166" y="41"/>
                    <a:pt x="214" y="36"/>
                    <a:pt x="252" y="44"/>
                  </a:cubicBezTo>
                  <a:cubicBezTo>
                    <a:pt x="290" y="52"/>
                    <a:pt x="328" y="87"/>
                    <a:pt x="356" y="88"/>
                  </a:cubicBezTo>
                  <a:cubicBezTo>
                    <a:pt x="384" y="89"/>
                    <a:pt x="403" y="50"/>
                    <a:pt x="418" y="50"/>
                  </a:cubicBezTo>
                  <a:cubicBezTo>
                    <a:pt x="433" y="50"/>
                    <a:pt x="436" y="86"/>
                    <a:pt x="446" y="88"/>
                  </a:cubicBezTo>
                  <a:cubicBezTo>
                    <a:pt x="456" y="90"/>
                    <a:pt x="470" y="59"/>
                    <a:pt x="480" y="60"/>
                  </a:cubicBezTo>
                  <a:cubicBezTo>
                    <a:pt x="490" y="61"/>
                    <a:pt x="494" y="92"/>
                    <a:pt x="504" y="94"/>
                  </a:cubicBezTo>
                  <a:cubicBezTo>
                    <a:pt x="514" y="96"/>
                    <a:pt x="527" y="72"/>
                    <a:pt x="538" y="74"/>
                  </a:cubicBezTo>
                  <a:cubicBezTo>
                    <a:pt x="549" y="76"/>
                    <a:pt x="541" y="106"/>
                    <a:pt x="572" y="108"/>
                  </a:cubicBezTo>
                  <a:cubicBezTo>
                    <a:pt x="603" y="110"/>
                    <a:pt x="684" y="76"/>
                    <a:pt x="722" y="84"/>
                  </a:cubicBezTo>
                  <a:cubicBezTo>
                    <a:pt x="760" y="92"/>
                    <a:pt x="773" y="143"/>
                    <a:pt x="800" y="156"/>
                  </a:cubicBezTo>
                  <a:cubicBezTo>
                    <a:pt x="827" y="169"/>
                    <a:pt x="864" y="158"/>
                    <a:pt x="886" y="162"/>
                  </a:cubicBezTo>
                  <a:cubicBezTo>
                    <a:pt x="908" y="166"/>
                    <a:pt x="920" y="174"/>
                    <a:pt x="932" y="18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7" name="Group 207"/>
          <p:cNvGrpSpPr/>
          <p:nvPr/>
        </p:nvGrpSpPr>
        <p:grpSpPr>
          <a:xfrm>
            <a:off x="3435480" y="3325320"/>
            <a:ext cx="372960" cy="415800"/>
            <a:chOff x="3435480" y="3325320"/>
            <a:chExt cx="372960" cy="415800"/>
          </a:xfrm>
        </p:grpSpPr>
        <p:sp>
          <p:nvSpPr>
            <p:cNvPr id="3278" name="Freeform 208"/>
            <p:cNvSpPr/>
            <p:nvPr/>
          </p:nvSpPr>
          <p:spPr>
            <a:xfrm rot="655800">
              <a:off x="3467160" y="3351240"/>
              <a:ext cx="309600" cy="3636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95" h="229">
                  <a:moveTo>
                    <a:pt x="117" y="26"/>
                  </a:moveTo>
                  <a:cubicBezTo>
                    <a:pt x="96" y="23"/>
                    <a:pt x="65" y="0"/>
                    <a:pt x="46" y="10"/>
                  </a:cubicBezTo>
                  <a:cubicBezTo>
                    <a:pt x="10" y="13"/>
                    <a:pt x="3" y="68"/>
                    <a:pt x="0" y="84"/>
                  </a:cubicBezTo>
                  <a:lnTo>
                    <a:pt x="23" y="110"/>
                  </a:lnTo>
                  <a:cubicBezTo>
                    <a:pt x="28" y="123"/>
                    <a:pt x="19" y="144"/>
                    <a:pt x="29" y="164"/>
                  </a:cubicBezTo>
                  <a:cubicBezTo>
                    <a:pt x="36" y="183"/>
                    <a:pt x="55" y="217"/>
                    <a:pt x="85" y="229"/>
                  </a:cubicBezTo>
                  <a:cubicBezTo>
                    <a:pt x="94" y="205"/>
                    <a:pt x="121" y="180"/>
                    <a:pt x="133" y="160"/>
                  </a:cubicBezTo>
                  <a:cubicBezTo>
                    <a:pt x="145" y="145"/>
                    <a:pt x="148" y="117"/>
                    <a:pt x="158" y="110"/>
                  </a:cubicBezTo>
                  <a:lnTo>
                    <a:pt x="192" y="119"/>
                  </a:lnTo>
                  <a:cubicBezTo>
                    <a:pt x="195" y="105"/>
                    <a:pt x="188" y="43"/>
                    <a:pt x="175" y="28"/>
                  </a:cubicBezTo>
                  <a:cubicBezTo>
                    <a:pt x="162" y="13"/>
                    <a:pt x="129" y="26"/>
                    <a:pt x="117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Freeform 209"/>
            <p:cNvSpPr/>
            <p:nvPr/>
          </p:nvSpPr>
          <p:spPr>
            <a:xfrm rot="655800">
              <a:off x="3584160" y="3394440"/>
              <a:ext cx="44640" cy="3096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28" h="195">
                  <a:moveTo>
                    <a:pt x="28" y="0"/>
                  </a:moveTo>
                  <a:cubicBezTo>
                    <a:pt x="24" y="16"/>
                    <a:pt x="8" y="64"/>
                    <a:pt x="4" y="96"/>
                  </a:cubicBezTo>
                  <a:cubicBezTo>
                    <a:pt x="0" y="128"/>
                    <a:pt x="4" y="175"/>
                    <a:pt x="4" y="19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Freeform 210"/>
            <p:cNvSpPr/>
            <p:nvPr/>
          </p:nvSpPr>
          <p:spPr>
            <a:xfrm rot="655800">
              <a:off x="3656520" y="3419280"/>
              <a:ext cx="123840" cy="1382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78" h="87">
                  <a:moveTo>
                    <a:pt x="0" y="0"/>
                  </a:moveTo>
                  <a:cubicBezTo>
                    <a:pt x="8" y="6"/>
                    <a:pt x="35" y="25"/>
                    <a:pt x="48" y="39"/>
                  </a:cubicBezTo>
                  <a:cubicBezTo>
                    <a:pt x="61" y="53"/>
                    <a:pt x="72" y="77"/>
                    <a:pt x="78" y="8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211"/>
            <p:cNvSpPr/>
            <p:nvPr/>
          </p:nvSpPr>
          <p:spPr>
            <a:xfrm rot="655800">
              <a:off x="3498480" y="3379680"/>
              <a:ext cx="133560" cy="950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4" h="60">
                  <a:moveTo>
                    <a:pt x="84" y="0"/>
                  </a:moveTo>
                  <a:cubicBezTo>
                    <a:pt x="76" y="3"/>
                    <a:pt x="50" y="11"/>
                    <a:pt x="36" y="21"/>
                  </a:cubicBezTo>
                  <a:cubicBezTo>
                    <a:pt x="22" y="31"/>
                    <a:pt x="7" y="52"/>
                    <a:pt x="0" y="6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212"/>
            <p:cNvSpPr/>
            <p:nvPr/>
          </p:nvSpPr>
          <p:spPr>
            <a:xfrm rot="655800">
              <a:off x="3515400" y="3481560"/>
              <a:ext cx="100080" cy="1191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63" h="75">
                  <a:moveTo>
                    <a:pt x="63" y="0"/>
                  </a:moveTo>
                  <a:cubicBezTo>
                    <a:pt x="56" y="5"/>
                    <a:pt x="32" y="20"/>
                    <a:pt x="21" y="33"/>
                  </a:cubicBezTo>
                  <a:cubicBezTo>
                    <a:pt x="10" y="46"/>
                    <a:pt x="4" y="66"/>
                    <a:pt x="0" y="7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Freeform 213"/>
            <p:cNvSpPr/>
            <p:nvPr/>
          </p:nvSpPr>
          <p:spPr>
            <a:xfrm rot="655800">
              <a:off x="3532680" y="3586320"/>
              <a:ext cx="42840" cy="759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7" h="48">
                  <a:moveTo>
                    <a:pt x="27" y="0"/>
                  </a:moveTo>
                  <a:cubicBezTo>
                    <a:pt x="24" y="4"/>
                    <a:pt x="10" y="16"/>
                    <a:pt x="6" y="24"/>
                  </a:cubicBezTo>
                  <a:cubicBezTo>
                    <a:pt x="2" y="32"/>
                    <a:pt x="1" y="43"/>
                    <a:pt x="0" y="48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Freeform 214"/>
            <p:cNvSpPr/>
            <p:nvPr/>
          </p:nvSpPr>
          <p:spPr>
            <a:xfrm rot="655800">
              <a:off x="3625560" y="3493440"/>
              <a:ext cx="52560" cy="1047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3" h="66">
                  <a:moveTo>
                    <a:pt x="0" y="0"/>
                  </a:moveTo>
                  <a:cubicBezTo>
                    <a:pt x="4" y="5"/>
                    <a:pt x="22" y="16"/>
                    <a:pt x="27" y="27"/>
                  </a:cubicBezTo>
                  <a:cubicBezTo>
                    <a:pt x="32" y="38"/>
                    <a:pt x="32" y="58"/>
                    <a:pt x="33" y="6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Freeform 215"/>
            <p:cNvSpPr/>
            <p:nvPr/>
          </p:nvSpPr>
          <p:spPr>
            <a:xfrm rot="655800">
              <a:off x="3600720" y="3582360"/>
              <a:ext cx="22320" cy="810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4" h="51">
                  <a:moveTo>
                    <a:pt x="12" y="51"/>
                  </a:moveTo>
                  <a:cubicBezTo>
                    <a:pt x="11" y="47"/>
                    <a:pt x="14" y="35"/>
                    <a:pt x="12" y="27"/>
                  </a:cubicBezTo>
                  <a:cubicBezTo>
                    <a:pt x="10" y="19"/>
                    <a:pt x="2" y="6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6" name="Group 216"/>
          <p:cNvGrpSpPr/>
          <p:nvPr/>
        </p:nvGrpSpPr>
        <p:grpSpPr>
          <a:xfrm>
            <a:off x="3851640" y="3168000"/>
            <a:ext cx="295920" cy="298440"/>
            <a:chOff x="3851640" y="3168000"/>
            <a:chExt cx="295920" cy="298440"/>
          </a:xfrm>
        </p:grpSpPr>
        <p:sp>
          <p:nvSpPr>
            <p:cNvPr id="3287" name="Freeform 217"/>
            <p:cNvSpPr/>
            <p:nvPr/>
          </p:nvSpPr>
          <p:spPr>
            <a:xfrm rot="19223400">
              <a:off x="3898800" y="3206880"/>
              <a:ext cx="201600" cy="22068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27" h="139">
                  <a:moveTo>
                    <a:pt x="48" y="17"/>
                  </a:moveTo>
                  <a:cubicBezTo>
                    <a:pt x="37" y="21"/>
                    <a:pt x="24" y="15"/>
                    <a:pt x="12" y="24"/>
                  </a:cubicBezTo>
                  <a:cubicBezTo>
                    <a:pt x="0" y="33"/>
                    <a:pt x="1" y="49"/>
                    <a:pt x="2" y="62"/>
                  </a:cubicBezTo>
                  <a:cubicBezTo>
                    <a:pt x="9" y="77"/>
                    <a:pt x="11" y="81"/>
                    <a:pt x="22" y="90"/>
                  </a:cubicBezTo>
                  <a:cubicBezTo>
                    <a:pt x="34" y="98"/>
                    <a:pt x="59" y="103"/>
                    <a:pt x="76" y="111"/>
                  </a:cubicBezTo>
                  <a:cubicBezTo>
                    <a:pt x="91" y="120"/>
                    <a:pt x="105" y="130"/>
                    <a:pt x="123" y="139"/>
                  </a:cubicBezTo>
                  <a:cubicBezTo>
                    <a:pt x="120" y="124"/>
                    <a:pt x="127" y="103"/>
                    <a:pt x="124" y="76"/>
                  </a:cubicBezTo>
                  <a:cubicBezTo>
                    <a:pt x="121" y="49"/>
                    <a:pt x="115" y="31"/>
                    <a:pt x="106" y="18"/>
                  </a:cubicBezTo>
                  <a:cubicBezTo>
                    <a:pt x="97" y="5"/>
                    <a:pt x="82" y="0"/>
                    <a:pt x="72" y="0"/>
                  </a:cubicBezTo>
                  <a:cubicBezTo>
                    <a:pt x="59" y="1"/>
                    <a:pt x="53" y="14"/>
                    <a:pt x="48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Freeform 218"/>
            <p:cNvSpPr/>
            <p:nvPr/>
          </p:nvSpPr>
          <p:spPr>
            <a:xfrm rot="12593400">
              <a:off x="3917520" y="3281040"/>
              <a:ext cx="208080" cy="478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31" h="30">
                  <a:moveTo>
                    <a:pt x="131" y="0"/>
                  </a:moveTo>
                  <a:cubicBezTo>
                    <a:pt x="120" y="2"/>
                    <a:pt x="84" y="5"/>
                    <a:pt x="62" y="10"/>
                  </a:cubicBezTo>
                  <a:cubicBezTo>
                    <a:pt x="40" y="15"/>
                    <a:pt x="13" y="26"/>
                    <a:pt x="0" y="3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Freeform 219"/>
            <p:cNvSpPr/>
            <p:nvPr/>
          </p:nvSpPr>
          <p:spPr>
            <a:xfrm rot="12593400">
              <a:off x="3908880" y="3291120"/>
              <a:ext cx="61920" cy="730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9" h="46">
                  <a:moveTo>
                    <a:pt x="39" y="46"/>
                  </a:moveTo>
                  <a:cubicBezTo>
                    <a:pt x="36" y="41"/>
                    <a:pt x="30" y="24"/>
                    <a:pt x="23" y="16"/>
                  </a:cubicBezTo>
                  <a:cubicBezTo>
                    <a:pt x="16" y="8"/>
                    <a:pt x="5" y="3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Freeform 220"/>
            <p:cNvSpPr/>
            <p:nvPr/>
          </p:nvSpPr>
          <p:spPr>
            <a:xfrm rot="19223400">
              <a:off x="4003560" y="3296880"/>
              <a:ext cx="12600" cy="68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8" h="43">
                  <a:moveTo>
                    <a:pt x="8" y="0"/>
                  </a:moveTo>
                  <a:cubicBezTo>
                    <a:pt x="7" y="3"/>
                    <a:pt x="2" y="13"/>
                    <a:pt x="1" y="20"/>
                  </a:cubicBezTo>
                  <a:cubicBezTo>
                    <a:pt x="0" y="27"/>
                    <a:pt x="2" y="38"/>
                    <a:pt x="2" y="4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221"/>
            <p:cNvSpPr/>
            <p:nvPr/>
          </p:nvSpPr>
          <p:spPr>
            <a:xfrm rot="12593400">
              <a:off x="4035960" y="3336120"/>
              <a:ext cx="79200" cy="111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0" h="7">
                  <a:moveTo>
                    <a:pt x="50" y="7"/>
                  </a:moveTo>
                  <a:cubicBezTo>
                    <a:pt x="46" y="6"/>
                    <a:pt x="32" y="2"/>
                    <a:pt x="24" y="1"/>
                  </a:cubicBezTo>
                  <a:cubicBezTo>
                    <a:pt x="16" y="0"/>
                    <a:pt x="5" y="1"/>
                    <a:pt x="0" y="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Freeform 222"/>
            <p:cNvSpPr/>
            <p:nvPr/>
          </p:nvSpPr>
          <p:spPr>
            <a:xfrm rot="19223400">
              <a:off x="3931200" y="3242160"/>
              <a:ext cx="81000" cy="126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1" h="8">
                  <a:moveTo>
                    <a:pt x="0" y="7"/>
                  </a:moveTo>
                  <a:cubicBezTo>
                    <a:pt x="5" y="7"/>
                    <a:pt x="21" y="8"/>
                    <a:pt x="29" y="7"/>
                  </a:cubicBezTo>
                  <a:cubicBezTo>
                    <a:pt x="37" y="6"/>
                    <a:pt x="47" y="1"/>
                    <a:pt x="51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Freeform 223"/>
            <p:cNvSpPr/>
            <p:nvPr/>
          </p:nvSpPr>
          <p:spPr>
            <a:xfrm rot="19223400">
              <a:off x="3983040" y="3260880"/>
              <a:ext cx="84240" cy="1908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3" h="12">
                  <a:moveTo>
                    <a:pt x="0" y="7"/>
                  </a:moveTo>
                  <a:cubicBezTo>
                    <a:pt x="3" y="8"/>
                    <a:pt x="14" y="12"/>
                    <a:pt x="23" y="11"/>
                  </a:cubicBezTo>
                  <a:cubicBezTo>
                    <a:pt x="32" y="10"/>
                    <a:pt x="47" y="2"/>
                    <a:pt x="53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Freeform 224"/>
            <p:cNvSpPr/>
            <p:nvPr/>
          </p:nvSpPr>
          <p:spPr>
            <a:xfrm rot="12593400">
              <a:off x="4069080" y="3279600"/>
              <a:ext cx="15840" cy="42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0" h="27">
                  <a:moveTo>
                    <a:pt x="10" y="0"/>
                  </a:moveTo>
                  <a:cubicBezTo>
                    <a:pt x="9" y="2"/>
                    <a:pt x="2" y="9"/>
                    <a:pt x="1" y="13"/>
                  </a:cubicBezTo>
                  <a:cubicBezTo>
                    <a:pt x="0" y="17"/>
                    <a:pt x="1" y="24"/>
                    <a:pt x="1" y="2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5" name="Freeform 225"/>
          <p:cNvSpPr/>
          <p:nvPr/>
        </p:nvSpPr>
        <p:spPr>
          <a:xfrm>
            <a:off x="3827520" y="3279600"/>
            <a:ext cx="87120" cy="147960"/>
          </a:xfrm>
          <a:custGeom>
            <a:avLst/>
            <a:gdLst>
              <a:gd name="textAreaLeft" fmla="*/ 0 w 87120"/>
              <a:gd name="textAreaRight" fmla="*/ 87480 w 87120"/>
              <a:gd name="textAreaTop" fmla="*/ 0 h 147960"/>
              <a:gd name="textAreaBottom" fmla="*/ 147960 h 147960"/>
            </a:gdLst>
            <a:ahLst/>
            <a:rect l="textAreaLeft" t="textAreaTop" r="textAreaRight" b="textAreaBottom"/>
            <a:pathLst>
              <a:path w="55" h="93">
                <a:moveTo>
                  <a:pt x="0" y="93"/>
                </a:moveTo>
                <a:cubicBezTo>
                  <a:pt x="0" y="71"/>
                  <a:pt x="1" y="49"/>
                  <a:pt x="10" y="33"/>
                </a:cubicBezTo>
                <a:cubicBezTo>
                  <a:pt x="19" y="17"/>
                  <a:pt x="37" y="8"/>
                  <a:pt x="55" y="0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6" name="Group 226"/>
          <p:cNvGrpSpPr/>
          <p:nvPr/>
        </p:nvGrpSpPr>
        <p:grpSpPr>
          <a:xfrm>
            <a:off x="3751560" y="3215880"/>
            <a:ext cx="247320" cy="243360"/>
            <a:chOff x="3751560" y="3215880"/>
            <a:chExt cx="247320" cy="243360"/>
          </a:xfrm>
        </p:grpSpPr>
        <p:sp>
          <p:nvSpPr>
            <p:cNvPr id="3297" name="Freeform 227"/>
            <p:cNvSpPr/>
            <p:nvPr/>
          </p:nvSpPr>
          <p:spPr>
            <a:xfrm rot="2863800">
              <a:off x="3802680" y="3236040"/>
              <a:ext cx="144360" cy="20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27" h="139">
                  <a:moveTo>
                    <a:pt x="48" y="17"/>
                  </a:moveTo>
                  <a:cubicBezTo>
                    <a:pt x="37" y="21"/>
                    <a:pt x="24" y="15"/>
                    <a:pt x="12" y="24"/>
                  </a:cubicBezTo>
                  <a:cubicBezTo>
                    <a:pt x="0" y="33"/>
                    <a:pt x="1" y="49"/>
                    <a:pt x="2" y="62"/>
                  </a:cubicBezTo>
                  <a:cubicBezTo>
                    <a:pt x="9" y="77"/>
                    <a:pt x="11" y="81"/>
                    <a:pt x="22" y="90"/>
                  </a:cubicBezTo>
                  <a:cubicBezTo>
                    <a:pt x="34" y="98"/>
                    <a:pt x="59" y="103"/>
                    <a:pt x="76" y="111"/>
                  </a:cubicBezTo>
                  <a:cubicBezTo>
                    <a:pt x="91" y="120"/>
                    <a:pt x="105" y="130"/>
                    <a:pt x="123" y="139"/>
                  </a:cubicBezTo>
                  <a:cubicBezTo>
                    <a:pt x="120" y="124"/>
                    <a:pt x="127" y="103"/>
                    <a:pt x="124" y="76"/>
                  </a:cubicBezTo>
                  <a:cubicBezTo>
                    <a:pt x="121" y="49"/>
                    <a:pt x="115" y="31"/>
                    <a:pt x="106" y="18"/>
                  </a:cubicBezTo>
                  <a:cubicBezTo>
                    <a:pt x="97" y="5"/>
                    <a:pt x="82" y="0"/>
                    <a:pt x="72" y="0"/>
                  </a:cubicBezTo>
                  <a:cubicBezTo>
                    <a:pt x="59" y="1"/>
                    <a:pt x="53" y="14"/>
                    <a:pt x="48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Freeform 228"/>
            <p:cNvSpPr/>
            <p:nvPr/>
          </p:nvSpPr>
          <p:spPr>
            <a:xfrm rot="17834400">
              <a:off x="3788640" y="3336120"/>
              <a:ext cx="191160" cy="342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31" h="30">
                  <a:moveTo>
                    <a:pt x="131" y="0"/>
                  </a:moveTo>
                  <a:cubicBezTo>
                    <a:pt x="120" y="2"/>
                    <a:pt x="84" y="5"/>
                    <a:pt x="62" y="10"/>
                  </a:cubicBezTo>
                  <a:cubicBezTo>
                    <a:pt x="40" y="15"/>
                    <a:pt x="13" y="26"/>
                    <a:pt x="0" y="3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Freeform 229"/>
            <p:cNvSpPr/>
            <p:nvPr/>
          </p:nvSpPr>
          <p:spPr>
            <a:xfrm rot="17834400">
              <a:off x="3841560" y="3264480"/>
              <a:ext cx="56880" cy="52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9" h="46">
                  <a:moveTo>
                    <a:pt x="39" y="46"/>
                  </a:moveTo>
                  <a:cubicBezTo>
                    <a:pt x="36" y="41"/>
                    <a:pt x="30" y="24"/>
                    <a:pt x="23" y="16"/>
                  </a:cubicBezTo>
                  <a:cubicBezTo>
                    <a:pt x="16" y="8"/>
                    <a:pt x="5" y="3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Freeform 230"/>
            <p:cNvSpPr/>
            <p:nvPr/>
          </p:nvSpPr>
          <p:spPr>
            <a:xfrm rot="2863800">
              <a:off x="3858120" y="3316320"/>
              <a:ext cx="9000" cy="626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8" h="43">
                  <a:moveTo>
                    <a:pt x="8" y="0"/>
                  </a:moveTo>
                  <a:cubicBezTo>
                    <a:pt x="7" y="3"/>
                    <a:pt x="2" y="13"/>
                    <a:pt x="1" y="20"/>
                  </a:cubicBezTo>
                  <a:cubicBezTo>
                    <a:pt x="0" y="27"/>
                    <a:pt x="2" y="38"/>
                    <a:pt x="2" y="4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231"/>
            <p:cNvSpPr/>
            <p:nvPr/>
          </p:nvSpPr>
          <p:spPr>
            <a:xfrm rot="17834400">
              <a:off x="3813480" y="3398040"/>
              <a:ext cx="72720" cy="79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50" h="7">
                  <a:moveTo>
                    <a:pt x="50" y="7"/>
                  </a:moveTo>
                  <a:cubicBezTo>
                    <a:pt x="46" y="6"/>
                    <a:pt x="32" y="2"/>
                    <a:pt x="24" y="1"/>
                  </a:cubicBezTo>
                  <a:cubicBezTo>
                    <a:pt x="16" y="0"/>
                    <a:pt x="5" y="1"/>
                    <a:pt x="0" y="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232"/>
            <p:cNvSpPr/>
            <p:nvPr/>
          </p:nvSpPr>
          <p:spPr>
            <a:xfrm rot="2863800">
              <a:off x="3904920" y="3299760"/>
              <a:ext cx="57960" cy="115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51" h="8">
                  <a:moveTo>
                    <a:pt x="0" y="7"/>
                  </a:moveTo>
                  <a:cubicBezTo>
                    <a:pt x="5" y="7"/>
                    <a:pt x="21" y="8"/>
                    <a:pt x="29" y="7"/>
                  </a:cubicBezTo>
                  <a:cubicBezTo>
                    <a:pt x="37" y="6"/>
                    <a:pt x="47" y="1"/>
                    <a:pt x="51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Freeform 233"/>
            <p:cNvSpPr/>
            <p:nvPr/>
          </p:nvSpPr>
          <p:spPr>
            <a:xfrm rot="2863800">
              <a:off x="3881880" y="3342240"/>
              <a:ext cx="60120" cy="17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3" h="12">
                  <a:moveTo>
                    <a:pt x="0" y="7"/>
                  </a:moveTo>
                  <a:cubicBezTo>
                    <a:pt x="3" y="8"/>
                    <a:pt x="14" y="12"/>
                    <a:pt x="23" y="11"/>
                  </a:cubicBezTo>
                  <a:cubicBezTo>
                    <a:pt x="32" y="10"/>
                    <a:pt x="47" y="2"/>
                    <a:pt x="53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234"/>
            <p:cNvSpPr/>
            <p:nvPr/>
          </p:nvSpPr>
          <p:spPr>
            <a:xfrm rot="17834400">
              <a:off x="3876120" y="3382200"/>
              <a:ext cx="14400" cy="30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0" h="27">
                  <a:moveTo>
                    <a:pt x="10" y="0"/>
                  </a:moveTo>
                  <a:cubicBezTo>
                    <a:pt x="9" y="2"/>
                    <a:pt x="2" y="9"/>
                    <a:pt x="1" y="13"/>
                  </a:cubicBezTo>
                  <a:cubicBezTo>
                    <a:pt x="0" y="17"/>
                    <a:pt x="1" y="24"/>
                    <a:pt x="1" y="2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5" name="Group 235"/>
          <p:cNvGrpSpPr/>
          <p:nvPr/>
        </p:nvGrpSpPr>
        <p:grpSpPr>
          <a:xfrm>
            <a:off x="4187880" y="3424320"/>
            <a:ext cx="123840" cy="215640"/>
            <a:chOff x="4187880" y="3424320"/>
            <a:chExt cx="123840" cy="215640"/>
          </a:xfrm>
        </p:grpSpPr>
        <p:sp>
          <p:nvSpPr>
            <p:cNvPr id="3306" name="Freeform 236"/>
            <p:cNvSpPr/>
            <p:nvPr/>
          </p:nvSpPr>
          <p:spPr>
            <a:xfrm>
              <a:off x="4187880" y="3424320"/>
              <a:ext cx="123840" cy="2156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65" h="168">
                  <a:moveTo>
                    <a:pt x="81" y="23"/>
                  </a:moveTo>
                  <a:cubicBezTo>
                    <a:pt x="42" y="5"/>
                    <a:pt x="12" y="8"/>
                    <a:pt x="6" y="56"/>
                  </a:cubicBezTo>
                  <a:cubicBezTo>
                    <a:pt x="0" y="104"/>
                    <a:pt x="44" y="150"/>
                    <a:pt x="93" y="168"/>
                  </a:cubicBezTo>
                  <a:cubicBezTo>
                    <a:pt x="104" y="129"/>
                    <a:pt x="165" y="114"/>
                    <a:pt x="156" y="57"/>
                  </a:cubicBezTo>
                  <a:cubicBezTo>
                    <a:pt x="147" y="0"/>
                    <a:pt x="111" y="8"/>
                    <a:pt x="81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237"/>
            <p:cNvSpPr/>
            <p:nvPr/>
          </p:nvSpPr>
          <p:spPr>
            <a:xfrm>
              <a:off x="4246920" y="3452400"/>
              <a:ext cx="9720" cy="1846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13" h="144">
                  <a:moveTo>
                    <a:pt x="4" y="0"/>
                  </a:moveTo>
                  <a:cubicBezTo>
                    <a:pt x="4" y="10"/>
                    <a:pt x="0" y="37"/>
                    <a:pt x="1" y="61"/>
                  </a:cubicBezTo>
                  <a:cubicBezTo>
                    <a:pt x="2" y="85"/>
                    <a:pt x="11" y="127"/>
                    <a:pt x="13" y="144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238"/>
            <p:cNvSpPr/>
            <p:nvPr/>
          </p:nvSpPr>
          <p:spPr>
            <a:xfrm>
              <a:off x="4254480" y="3457440"/>
              <a:ext cx="50400" cy="421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7" h="33">
                  <a:moveTo>
                    <a:pt x="0" y="0"/>
                  </a:moveTo>
                  <a:cubicBezTo>
                    <a:pt x="7" y="1"/>
                    <a:pt x="29" y="6"/>
                    <a:pt x="40" y="11"/>
                  </a:cubicBezTo>
                  <a:cubicBezTo>
                    <a:pt x="51" y="16"/>
                    <a:pt x="62" y="29"/>
                    <a:pt x="67" y="3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239"/>
            <p:cNvSpPr/>
            <p:nvPr/>
          </p:nvSpPr>
          <p:spPr>
            <a:xfrm>
              <a:off x="4253040" y="3498840"/>
              <a:ext cx="35640" cy="702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48" h="55">
                  <a:moveTo>
                    <a:pt x="0" y="0"/>
                  </a:moveTo>
                  <a:cubicBezTo>
                    <a:pt x="5" y="3"/>
                    <a:pt x="24" y="12"/>
                    <a:pt x="32" y="21"/>
                  </a:cubicBezTo>
                  <a:cubicBezTo>
                    <a:pt x="40" y="30"/>
                    <a:pt x="45" y="48"/>
                    <a:pt x="48" y="5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240"/>
            <p:cNvSpPr/>
            <p:nvPr/>
          </p:nvSpPr>
          <p:spPr>
            <a:xfrm>
              <a:off x="4253040" y="3552480"/>
              <a:ext cx="16920" cy="550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23" h="43">
                  <a:moveTo>
                    <a:pt x="0" y="0"/>
                  </a:moveTo>
                  <a:cubicBezTo>
                    <a:pt x="2" y="3"/>
                    <a:pt x="11" y="9"/>
                    <a:pt x="15" y="16"/>
                  </a:cubicBezTo>
                  <a:cubicBezTo>
                    <a:pt x="19" y="23"/>
                    <a:pt x="21" y="38"/>
                    <a:pt x="23" y="4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241"/>
            <p:cNvSpPr/>
            <p:nvPr/>
          </p:nvSpPr>
          <p:spPr>
            <a:xfrm>
              <a:off x="4192200" y="3457440"/>
              <a:ext cx="53280" cy="500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71" h="39">
                  <a:moveTo>
                    <a:pt x="71" y="0"/>
                  </a:moveTo>
                  <a:cubicBezTo>
                    <a:pt x="65" y="2"/>
                    <a:pt x="47" y="5"/>
                    <a:pt x="35" y="11"/>
                  </a:cubicBezTo>
                  <a:cubicBezTo>
                    <a:pt x="23" y="17"/>
                    <a:pt x="7" y="33"/>
                    <a:pt x="0" y="39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242"/>
            <p:cNvSpPr/>
            <p:nvPr/>
          </p:nvSpPr>
          <p:spPr>
            <a:xfrm>
              <a:off x="4204800" y="3490920"/>
              <a:ext cx="42840" cy="78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57" h="61">
                  <a:moveTo>
                    <a:pt x="57" y="0"/>
                  </a:moveTo>
                  <a:cubicBezTo>
                    <a:pt x="51" y="4"/>
                    <a:pt x="32" y="14"/>
                    <a:pt x="22" y="24"/>
                  </a:cubicBezTo>
                  <a:cubicBezTo>
                    <a:pt x="12" y="34"/>
                    <a:pt x="5" y="53"/>
                    <a:pt x="0" y="6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Freeform 243"/>
            <p:cNvSpPr/>
            <p:nvPr/>
          </p:nvSpPr>
          <p:spPr>
            <a:xfrm>
              <a:off x="4232880" y="3533400"/>
              <a:ext cx="15480" cy="846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1" h="66">
                  <a:moveTo>
                    <a:pt x="21" y="0"/>
                  </a:moveTo>
                  <a:cubicBezTo>
                    <a:pt x="18" y="6"/>
                    <a:pt x="8" y="23"/>
                    <a:pt x="5" y="34"/>
                  </a:cubicBezTo>
                  <a:cubicBezTo>
                    <a:pt x="2" y="45"/>
                    <a:pt x="1" y="59"/>
                    <a:pt x="0" y="6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4" name="Group 244"/>
          <p:cNvGrpSpPr/>
          <p:nvPr/>
        </p:nvGrpSpPr>
        <p:grpSpPr>
          <a:xfrm>
            <a:off x="4020840" y="3380760"/>
            <a:ext cx="248760" cy="210960"/>
            <a:chOff x="4020840" y="3380760"/>
            <a:chExt cx="248760" cy="210960"/>
          </a:xfrm>
        </p:grpSpPr>
        <p:sp>
          <p:nvSpPr>
            <p:cNvPr id="3315" name="Freeform 245"/>
            <p:cNvSpPr/>
            <p:nvPr/>
          </p:nvSpPr>
          <p:spPr>
            <a:xfrm rot="3715200">
              <a:off x="4083120" y="3377880"/>
              <a:ext cx="123840" cy="216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65" h="168">
                  <a:moveTo>
                    <a:pt x="81" y="23"/>
                  </a:moveTo>
                  <a:cubicBezTo>
                    <a:pt x="42" y="5"/>
                    <a:pt x="12" y="8"/>
                    <a:pt x="6" y="56"/>
                  </a:cubicBezTo>
                  <a:cubicBezTo>
                    <a:pt x="0" y="104"/>
                    <a:pt x="44" y="150"/>
                    <a:pt x="93" y="168"/>
                  </a:cubicBezTo>
                  <a:cubicBezTo>
                    <a:pt x="104" y="129"/>
                    <a:pt x="165" y="114"/>
                    <a:pt x="156" y="57"/>
                  </a:cubicBezTo>
                  <a:cubicBezTo>
                    <a:pt x="147" y="0"/>
                    <a:pt x="111" y="8"/>
                    <a:pt x="81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Freeform 246"/>
            <p:cNvSpPr/>
            <p:nvPr/>
          </p:nvSpPr>
          <p:spPr>
            <a:xfrm rot="3715200">
              <a:off x="4129920" y="3400920"/>
              <a:ext cx="9720" cy="185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13" h="144">
                  <a:moveTo>
                    <a:pt x="4" y="0"/>
                  </a:moveTo>
                  <a:cubicBezTo>
                    <a:pt x="4" y="10"/>
                    <a:pt x="0" y="37"/>
                    <a:pt x="1" y="61"/>
                  </a:cubicBezTo>
                  <a:cubicBezTo>
                    <a:pt x="2" y="85"/>
                    <a:pt x="11" y="127"/>
                    <a:pt x="13" y="144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Freeform 247"/>
            <p:cNvSpPr/>
            <p:nvPr/>
          </p:nvSpPr>
          <p:spPr>
            <a:xfrm rot="3715200">
              <a:off x="4181040" y="3466080"/>
              <a:ext cx="50400" cy="421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7" h="33">
                  <a:moveTo>
                    <a:pt x="0" y="0"/>
                  </a:moveTo>
                  <a:cubicBezTo>
                    <a:pt x="7" y="1"/>
                    <a:pt x="29" y="6"/>
                    <a:pt x="40" y="11"/>
                  </a:cubicBezTo>
                  <a:cubicBezTo>
                    <a:pt x="51" y="16"/>
                    <a:pt x="62" y="29"/>
                    <a:pt x="67" y="3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Freeform 248"/>
            <p:cNvSpPr/>
            <p:nvPr/>
          </p:nvSpPr>
          <p:spPr>
            <a:xfrm rot="3715200">
              <a:off x="4135320" y="3470040"/>
              <a:ext cx="35640" cy="705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48" h="55">
                  <a:moveTo>
                    <a:pt x="0" y="0"/>
                  </a:moveTo>
                  <a:cubicBezTo>
                    <a:pt x="5" y="3"/>
                    <a:pt x="24" y="12"/>
                    <a:pt x="32" y="21"/>
                  </a:cubicBezTo>
                  <a:cubicBezTo>
                    <a:pt x="40" y="30"/>
                    <a:pt x="45" y="48"/>
                    <a:pt x="48" y="5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Freeform 249"/>
            <p:cNvSpPr/>
            <p:nvPr/>
          </p:nvSpPr>
          <p:spPr>
            <a:xfrm rot="3715200">
              <a:off x="4099680" y="3491640"/>
              <a:ext cx="16920" cy="550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23" h="43">
                  <a:moveTo>
                    <a:pt x="0" y="0"/>
                  </a:moveTo>
                  <a:cubicBezTo>
                    <a:pt x="2" y="3"/>
                    <a:pt x="11" y="9"/>
                    <a:pt x="15" y="16"/>
                  </a:cubicBezTo>
                  <a:cubicBezTo>
                    <a:pt x="19" y="23"/>
                    <a:pt x="21" y="38"/>
                    <a:pt x="23" y="4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Freeform 250"/>
            <p:cNvSpPr/>
            <p:nvPr/>
          </p:nvSpPr>
          <p:spPr>
            <a:xfrm rot="3715200">
              <a:off x="4147200" y="3410280"/>
              <a:ext cx="53280" cy="500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71" h="39">
                  <a:moveTo>
                    <a:pt x="71" y="0"/>
                  </a:moveTo>
                  <a:cubicBezTo>
                    <a:pt x="65" y="2"/>
                    <a:pt x="47" y="5"/>
                    <a:pt x="35" y="11"/>
                  </a:cubicBezTo>
                  <a:cubicBezTo>
                    <a:pt x="23" y="17"/>
                    <a:pt x="7" y="33"/>
                    <a:pt x="0" y="39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Freeform 251"/>
            <p:cNvSpPr/>
            <p:nvPr/>
          </p:nvSpPr>
          <p:spPr>
            <a:xfrm rot="3715200">
              <a:off x="4114440" y="3425400"/>
              <a:ext cx="42840" cy="78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57" h="61">
                  <a:moveTo>
                    <a:pt x="57" y="0"/>
                  </a:moveTo>
                  <a:cubicBezTo>
                    <a:pt x="51" y="4"/>
                    <a:pt x="32" y="14"/>
                    <a:pt x="22" y="24"/>
                  </a:cubicBezTo>
                  <a:cubicBezTo>
                    <a:pt x="12" y="34"/>
                    <a:pt x="5" y="53"/>
                    <a:pt x="0" y="6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Freeform 252"/>
            <p:cNvSpPr/>
            <p:nvPr/>
          </p:nvSpPr>
          <p:spPr>
            <a:xfrm rot="3715200">
              <a:off x="4094280" y="3456000"/>
              <a:ext cx="15480" cy="846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1" h="66">
                  <a:moveTo>
                    <a:pt x="21" y="0"/>
                  </a:moveTo>
                  <a:cubicBezTo>
                    <a:pt x="18" y="6"/>
                    <a:pt x="8" y="23"/>
                    <a:pt x="5" y="34"/>
                  </a:cubicBezTo>
                  <a:cubicBezTo>
                    <a:pt x="2" y="45"/>
                    <a:pt x="1" y="59"/>
                    <a:pt x="0" y="6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3" name="Group 253"/>
          <p:cNvGrpSpPr/>
          <p:nvPr/>
        </p:nvGrpSpPr>
        <p:grpSpPr>
          <a:xfrm>
            <a:off x="4185000" y="3299400"/>
            <a:ext cx="179640" cy="186840"/>
            <a:chOff x="4185000" y="3299400"/>
            <a:chExt cx="179640" cy="186840"/>
          </a:xfrm>
        </p:grpSpPr>
        <p:sp>
          <p:nvSpPr>
            <p:cNvPr id="3324" name="Freeform 254"/>
            <p:cNvSpPr/>
            <p:nvPr/>
          </p:nvSpPr>
          <p:spPr>
            <a:xfrm rot="12607800">
              <a:off x="4212720" y="3320280"/>
              <a:ext cx="123840" cy="1443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5" h="168">
                  <a:moveTo>
                    <a:pt x="81" y="23"/>
                  </a:moveTo>
                  <a:cubicBezTo>
                    <a:pt x="42" y="5"/>
                    <a:pt x="12" y="8"/>
                    <a:pt x="6" y="56"/>
                  </a:cubicBezTo>
                  <a:cubicBezTo>
                    <a:pt x="0" y="104"/>
                    <a:pt x="44" y="150"/>
                    <a:pt x="93" y="168"/>
                  </a:cubicBezTo>
                  <a:cubicBezTo>
                    <a:pt x="104" y="129"/>
                    <a:pt x="165" y="114"/>
                    <a:pt x="156" y="57"/>
                  </a:cubicBezTo>
                  <a:cubicBezTo>
                    <a:pt x="147" y="0"/>
                    <a:pt x="111" y="8"/>
                    <a:pt x="81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Freeform 255"/>
            <p:cNvSpPr/>
            <p:nvPr/>
          </p:nvSpPr>
          <p:spPr>
            <a:xfrm rot="12607800">
              <a:off x="4272840" y="3322440"/>
              <a:ext cx="9720" cy="1238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3" h="144">
                  <a:moveTo>
                    <a:pt x="4" y="0"/>
                  </a:moveTo>
                  <a:cubicBezTo>
                    <a:pt x="4" y="10"/>
                    <a:pt x="0" y="37"/>
                    <a:pt x="1" y="61"/>
                  </a:cubicBezTo>
                  <a:cubicBezTo>
                    <a:pt x="2" y="85"/>
                    <a:pt x="11" y="127"/>
                    <a:pt x="13" y="144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Freeform 256"/>
            <p:cNvSpPr/>
            <p:nvPr/>
          </p:nvSpPr>
          <p:spPr>
            <a:xfrm rot="12607800">
              <a:off x="4205880" y="3394800"/>
              <a:ext cx="50400" cy="28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67" h="33">
                  <a:moveTo>
                    <a:pt x="0" y="0"/>
                  </a:moveTo>
                  <a:cubicBezTo>
                    <a:pt x="7" y="1"/>
                    <a:pt x="29" y="6"/>
                    <a:pt x="40" y="11"/>
                  </a:cubicBezTo>
                  <a:cubicBezTo>
                    <a:pt x="51" y="16"/>
                    <a:pt x="62" y="29"/>
                    <a:pt x="67" y="3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Freeform 257"/>
            <p:cNvSpPr/>
            <p:nvPr/>
          </p:nvSpPr>
          <p:spPr>
            <a:xfrm rot="12607800">
              <a:off x="4239360" y="3357720"/>
              <a:ext cx="35640" cy="47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48" h="55">
                  <a:moveTo>
                    <a:pt x="0" y="0"/>
                  </a:moveTo>
                  <a:cubicBezTo>
                    <a:pt x="5" y="3"/>
                    <a:pt x="24" y="12"/>
                    <a:pt x="32" y="21"/>
                  </a:cubicBezTo>
                  <a:cubicBezTo>
                    <a:pt x="40" y="30"/>
                    <a:pt x="45" y="48"/>
                    <a:pt x="48" y="5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Freeform 258"/>
            <p:cNvSpPr/>
            <p:nvPr/>
          </p:nvSpPr>
          <p:spPr>
            <a:xfrm rot="12607800">
              <a:off x="4272120" y="3341160"/>
              <a:ext cx="16920" cy="367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6720"/>
                <a:gd name="textAreaBottom" fmla="*/ 36720 h 36720"/>
              </a:gdLst>
              <a:ahLst/>
              <a:rect l="textAreaLeft" t="textAreaTop" r="textAreaRight" b="textAreaBottom"/>
              <a:pathLst>
                <a:path w="23" h="43">
                  <a:moveTo>
                    <a:pt x="0" y="0"/>
                  </a:moveTo>
                  <a:cubicBezTo>
                    <a:pt x="2" y="3"/>
                    <a:pt x="11" y="9"/>
                    <a:pt x="15" y="16"/>
                  </a:cubicBezTo>
                  <a:cubicBezTo>
                    <a:pt x="19" y="23"/>
                    <a:pt x="21" y="38"/>
                    <a:pt x="23" y="4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Freeform 259"/>
            <p:cNvSpPr/>
            <p:nvPr/>
          </p:nvSpPr>
          <p:spPr>
            <a:xfrm rot="12607800">
              <a:off x="4258440" y="3420360"/>
              <a:ext cx="53280" cy="334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71" h="39">
                  <a:moveTo>
                    <a:pt x="71" y="0"/>
                  </a:moveTo>
                  <a:cubicBezTo>
                    <a:pt x="65" y="2"/>
                    <a:pt x="47" y="5"/>
                    <a:pt x="35" y="11"/>
                  </a:cubicBezTo>
                  <a:cubicBezTo>
                    <a:pt x="23" y="17"/>
                    <a:pt x="7" y="33"/>
                    <a:pt x="0" y="39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Freeform 260"/>
            <p:cNvSpPr/>
            <p:nvPr/>
          </p:nvSpPr>
          <p:spPr>
            <a:xfrm rot="12607800">
              <a:off x="4273200" y="3379320"/>
              <a:ext cx="42840" cy="522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7" h="61">
                  <a:moveTo>
                    <a:pt x="57" y="0"/>
                  </a:moveTo>
                  <a:cubicBezTo>
                    <a:pt x="51" y="4"/>
                    <a:pt x="32" y="14"/>
                    <a:pt x="22" y="24"/>
                  </a:cubicBezTo>
                  <a:cubicBezTo>
                    <a:pt x="12" y="34"/>
                    <a:pt x="5" y="53"/>
                    <a:pt x="0" y="6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Freeform 261"/>
            <p:cNvSpPr/>
            <p:nvPr/>
          </p:nvSpPr>
          <p:spPr>
            <a:xfrm rot="12607800">
              <a:off x="4289760" y="3343680"/>
              <a:ext cx="15480" cy="565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21" h="66">
                  <a:moveTo>
                    <a:pt x="21" y="0"/>
                  </a:moveTo>
                  <a:cubicBezTo>
                    <a:pt x="18" y="6"/>
                    <a:pt x="8" y="23"/>
                    <a:pt x="5" y="34"/>
                  </a:cubicBezTo>
                  <a:cubicBezTo>
                    <a:pt x="2" y="45"/>
                    <a:pt x="1" y="59"/>
                    <a:pt x="0" y="6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2" name="Group 262"/>
          <p:cNvGrpSpPr/>
          <p:nvPr/>
        </p:nvGrpSpPr>
        <p:grpSpPr>
          <a:xfrm>
            <a:off x="4603680" y="3595680"/>
            <a:ext cx="1994040" cy="692280"/>
            <a:chOff x="4603680" y="3595680"/>
            <a:chExt cx="1994040" cy="692280"/>
          </a:xfrm>
        </p:grpSpPr>
        <p:sp>
          <p:nvSpPr>
            <p:cNvPr id="3333" name="Freeform 263"/>
            <p:cNvSpPr/>
            <p:nvPr/>
          </p:nvSpPr>
          <p:spPr>
            <a:xfrm>
              <a:off x="4603680" y="3595680"/>
              <a:ext cx="1994040" cy="650880"/>
            </a:xfrm>
            <a:custGeom>
              <a:avLst/>
              <a:gdLst>
                <a:gd name="textAreaLeft" fmla="*/ 0 w 1994040"/>
                <a:gd name="textAreaRight" fmla="*/ 1994040 w 19940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256" h="410">
                  <a:moveTo>
                    <a:pt x="0" y="0"/>
                  </a:moveTo>
                  <a:lnTo>
                    <a:pt x="161" y="35"/>
                  </a:lnTo>
                  <a:lnTo>
                    <a:pt x="212" y="89"/>
                  </a:lnTo>
                  <a:lnTo>
                    <a:pt x="534" y="171"/>
                  </a:lnTo>
                  <a:cubicBezTo>
                    <a:pt x="625" y="201"/>
                    <a:pt x="686" y="242"/>
                    <a:pt x="759" y="272"/>
                  </a:cubicBezTo>
                  <a:cubicBezTo>
                    <a:pt x="832" y="302"/>
                    <a:pt x="892" y="327"/>
                    <a:pt x="975" y="350"/>
                  </a:cubicBezTo>
                  <a:lnTo>
                    <a:pt x="1256" y="41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Line 264"/>
            <p:cNvSpPr/>
            <p:nvPr/>
          </p:nvSpPr>
          <p:spPr>
            <a:xfrm>
              <a:off x="5411880" y="3855960"/>
              <a:ext cx="45720" cy="3816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Line 265"/>
            <p:cNvSpPr/>
            <p:nvPr/>
          </p:nvSpPr>
          <p:spPr>
            <a:xfrm>
              <a:off x="6130800" y="4143240"/>
              <a:ext cx="73080" cy="1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Line 266"/>
            <p:cNvSpPr/>
            <p:nvPr/>
          </p:nvSpPr>
          <p:spPr>
            <a:xfrm>
              <a:off x="4925880" y="3730680"/>
              <a:ext cx="46080" cy="3816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Line 267"/>
            <p:cNvSpPr/>
            <p:nvPr/>
          </p:nvSpPr>
          <p:spPr>
            <a:xfrm flipH="1" flipV="1">
              <a:off x="4906440" y="3662280"/>
              <a:ext cx="1800" cy="36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Line 268"/>
            <p:cNvSpPr/>
            <p:nvPr/>
          </p:nvSpPr>
          <p:spPr>
            <a:xfrm flipH="1" flipV="1">
              <a:off x="4944600" y="3708360"/>
              <a:ext cx="1800" cy="36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Line 269"/>
            <p:cNvSpPr/>
            <p:nvPr/>
          </p:nvSpPr>
          <p:spPr>
            <a:xfrm flipH="1" flipV="1">
              <a:off x="4932360" y="3692160"/>
              <a:ext cx="1440" cy="3636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Line 270"/>
            <p:cNvSpPr/>
            <p:nvPr/>
          </p:nvSpPr>
          <p:spPr>
            <a:xfrm>
              <a:off x="4881600" y="3659040"/>
              <a:ext cx="68040" cy="63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Line 271"/>
            <p:cNvSpPr/>
            <p:nvPr/>
          </p:nvSpPr>
          <p:spPr>
            <a:xfrm>
              <a:off x="6491160" y="4214880"/>
              <a:ext cx="73080" cy="730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2" name="Group 272"/>
          <p:cNvGrpSpPr/>
          <p:nvPr/>
        </p:nvGrpSpPr>
        <p:grpSpPr>
          <a:xfrm>
            <a:off x="5178600" y="3424320"/>
            <a:ext cx="231480" cy="407520"/>
            <a:chOff x="5178600" y="3424320"/>
            <a:chExt cx="231480" cy="407520"/>
          </a:xfrm>
        </p:grpSpPr>
        <p:sp>
          <p:nvSpPr>
            <p:cNvPr id="3343" name="Freeform 273"/>
            <p:cNvSpPr/>
            <p:nvPr/>
          </p:nvSpPr>
          <p:spPr>
            <a:xfrm>
              <a:off x="5240880" y="3424320"/>
              <a:ext cx="169200" cy="37440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52" h="349">
                  <a:moveTo>
                    <a:pt x="0" y="349"/>
                  </a:moveTo>
                  <a:cubicBezTo>
                    <a:pt x="29" y="319"/>
                    <a:pt x="58" y="289"/>
                    <a:pt x="83" y="231"/>
                  </a:cubicBezTo>
                  <a:cubicBezTo>
                    <a:pt x="108" y="173"/>
                    <a:pt x="130" y="86"/>
                    <a:pt x="15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Freeform 274"/>
            <p:cNvSpPr/>
            <p:nvPr/>
          </p:nvSpPr>
          <p:spPr>
            <a:xfrm>
              <a:off x="5178600" y="3741840"/>
              <a:ext cx="114480" cy="900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03" h="84">
                  <a:moveTo>
                    <a:pt x="3" y="67"/>
                  </a:moveTo>
                  <a:cubicBezTo>
                    <a:pt x="0" y="61"/>
                    <a:pt x="33" y="59"/>
                    <a:pt x="49" y="48"/>
                  </a:cubicBezTo>
                  <a:cubicBezTo>
                    <a:pt x="65" y="37"/>
                    <a:pt x="97" y="0"/>
                    <a:pt x="100" y="1"/>
                  </a:cubicBezTo>
                  <a:cubicBezTo>
                    <a:pt x="103" y="2"/>
                    <a:pt x="75" y="40"/>
                    <a:pt x="70" y="54"/>
                  </a:cubicBezTo>
                  <a:cubicBezTo>
                    <a:pt x="65" y="68"/>
                    <a:pt x="81" y="82"/>
                    <a:pt x="70" y="84"/>
                  </a:cubicBezTo>
                  <a:lnTo>
                    <a:pt x="3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5" name="Group 275"/>
          <p:cNvGrpSpPr/>
          <p:nvPr/>
        </p:nvGrpSpPr>
        <p:grpSpPr>
          <a:xfrm>
            <a:off x="4921200" y="3059280"/>
            <a:ext cx="763560" cy="650880"/>
            <a:chOff x="4921200" y="3059280"/>
            <a:chExt cx="763560" cy="650880"/>
          </a:xfrm>
        </p:grpSpPr>
        <p:sp>
          <p:nvSpPr>
            <p:cNvPr id="3346" name="Freeform 276"/>
            <p:cNvSpPr/>
            <p:nvPr/>
          </p:nvSpPr>
          <p:spPr>
            <a:xfrm>
              <a:off x="4921200" y="3059280"/>
              <a:ext cx="750960" cy="650880"/>
            </a:xfrm>
            <a:custGeom>
              <a:avLst/>
              <a:gdLst>
                <a:gd name="textAreaLeft" fmla="*/ 0 w 750960"/>
                <a:gd name="textAreaRight" fmla="*/ 751320 w 75096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473" h="410">
                  <a:moveTo>
                    <a:pt x="324" y="104"/>
                  </a:moveTo>
                  <a:cubicBezTo>
                    <a:pt x="299" y="87"/>
                    <a:pt x="327" y="11"/>
                    <a:pt x="281" y="7"/>
                  </a:cubicBezTo>
                  <a:cubicBezTo>
                    <a:pt x="236" y="0"/>
                    <a:pt x="90" y="54"/>
                    <a:pt x="47" y="80"/>
                  </a:cubicBezTo>
                  <a:cubicBezTo>
                    <a:pt x="4" y="106"/>
                    <a:pt x="0" y="143"/>
                    <a:pt x="6" y="158"/>
                  </a:cubicBezTo>
                  <a:lnTo>
                    <a:pt x="83" y="170"/>
                  </a:lnTo>
                  <a:cubicBezTo>
                    <a:pt x="87" y="186"/>
                    <a:pt x="36" y="214"/>
                    <a:pt x="29" y="254"/>
                  </a:cubicBezTo>
                  <a:cubicBezTo>
                    <a:pt x="17" y="290"/>
                    <a:pt x="23" y="374"/>
                    <a:pt x="41" y="410"/>
                  </a:cubicBezTo>
                  <a:cubicBezTo>
                    <a:pt x="119" y="374"/>
                    <a:pt x="148" y="366"/>
                    <a:pt x="185" y="344"/>
                  </a:cubicBezTo>
                  <a:cubicBezTo>
                    <a:pt x="222" y="322"/>
                    <a:pt x="240" y="290"/>
                    <a:pt x="271" y="261"/>
                  </a:cubicBezTo>
                  <a:cubicBezTo>
                    <a:pt x="288" y="284"/>
                    <a:pt x="296" y="313"/>
                    <a:pt x="323" y="332"/>
                  </a:cubicBezTo>
                  <a:cubicBezTo>
                    <a:pt x="350" y="351"/>
                    <a:pt x="417" y="399"/>
                    <a:pt x="433" y="375"/>
                  </a:cubicBezTo>
                  <a:cubicBezTo>
                    <a:pt x="452" y="366"/>
                    <a:pt x="435" y="306"/>
                    <a:pt x="437" y="278"/>
                  </a:cubicBezTo>
                  <a:cubicBezTo>
                    <a:pt x="435" y="247"/>
                    <a:pt x="437" y="224"/>
                    <a:pt x="443" y="206"/>
                  </a:cubicBezTo>
                  <a:lnTo>
                    <a:pt x="473" y="170"/>
                  </a:lnTo>
                  <a:cubicBezTo>
                    <a:pt x="467" y="155"/>
                    <a:pt x="433" y="127"/>
                    <a:pt x="408" y="116"/>
                  </a:cubicBezTo>
                  <a:cubicBezTo>
                    <a:pt x="391" y="128"/>
                    <a:pt x="341" y="106"/>
                    <a:pt x="324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277"/>
            <p:cNvSpPr/>
            <p:nvPr/>
          </p:nvSpPr>
          <p:spPr>
            <a:xfrm>
              <a:off x="4970520" y="3203640"/>
              <a:ext cx="453960" cy="503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86" h="317">
                  <a:moveTo>
                    <a:pt x="286" y="0"/>
                  </a:moveTo>
                  <a:cubicBezTo>
                    <a:pt x="260" y="22"/>
                    <a:pt x="180" y="78"/>
                    <a:pt x="132" y="131"/>
                  </a:cubicBezTo>
                  <a:cubicBezTo>
                    <a:pt x="84" y="184"/>
                    <a:pt x="28" y="278"/>
                    <a:pt x="0" y="31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278"/>
            <p:cNvSpPr/>
            <p:nvPr/>
          </p:nvSpPr>
          <p:spPr>
            <a:xfrm>
              <a:off x="4932360" y="3189600"/>
              <a:ext cx="485640" cy="889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06" h="56">
                  <a:moveTo>
                    <a:pt x="306" y="8"/>
                  </a:moveTo>
                  <a:cubicBezTo>
                    <a:pt x="284" y="8"/>
                    <a:pt x="225" y="0"/>
                    <a:pt x="174" y="8"/>
                  </a:cubicBezTo>
                  <a:cubicBezTo>
                    <a:pt x="123" y="16"/>
                    <a:pt x="36" y="46"/>
                    <a:pt x="0" y="5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Freeform 279"/>
            <p:cNvSpPr/>
            <p:nvPr/>
          </p:nvSpPr>
          <p:spPr>
            <a:xfrm>
              <a:off x="5456160" y="3240360"/>
              <a:ext cx="142920" cy="4190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90" h="264">
                  <a:moveTo>
                    <a:pt x="0" y="0"/>
                  </a:moveTo>
                  <a:cubicBezTo>
                    <a:pt x="12" y="22"/>
                    <a:pt x="57" y="88"/>
                    <a:pt x="72" y="132"/>
                  </a:cubicBezTo>
                  <a:cubicBezTo>
                    <a:pt x="87" y="176"/>
                    <a:pt x="86" y="237"/>
                    <a:pt x="90" y="264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Freeform 280"/>
            <p:cNvSpPr/>
            <p:nvPr/>
          </p:nvSpPr>
          <p:spPr>
            <a:xfrm>
              <a:off x="5494320" y="3249720"/>
              <a:ext cx="190440" cy="1144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20" h="72">
                  <a:moveTo>
                    <a:pt x="120" y="72"/>
                  </a:moveTo>
                  <a:cubicBezTo>
                    <a:pt x="111" y="64"/>
                    <a:pt x="86" y="36"/>
                    <a:pt x="66" y="24"/>
                  </a:cubicBezTo>
                  <a:cubicBezTo>
                    <a:pt x="46" y="12"/>
                    <a:pt x="14" y="5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Freeform 281"/>
            <p:cNvSpPr/>
            <p:nvPr/>
          </p:nvSpPr>
          <p:spPr>
            <a:xfrm>
              <a:off x="4979880" y="3306960"/>
              <a:ext cx="295200" cy="13320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86" h="84">
                  <a:moveTo>
                    <a:pt x="186" y="0"/>
                  </a:moveTo>
                  <a:cubicBezTo>
                    <a:pt x="170" y="4"/>
                    <a:pt x="121" y="10"/>
                    <a:pt x="90" y="24"/>
                  </a:cubicBezTo>
                  <a:cubicBezTo>
                    <a:pt x="59" y="38"/>
                    <a:pt x="19" y="72"/>
                    <a:pt x="0" y="84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Freeform 282"/>
            <p:cNvSpPr/>
            <p:nvPr/>
          </p:nvSpPr>
          <p:spPr>
            <a:xfrm>
              <a:off x="4960800" y="3421080"/>
              <a:ext cx="238320" cy="1526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50" h="96">
                  <a:moveTo>
                    <a:pt x="150" y="0"/>
                  </a:moveTo>
                  <a:cubicBezTo>
                    <a:pt x="135" y="6"/>
                    <a:pt x="85" y="20"/>
                    <a:pt x="60" y="36"/>
                  </a:cubicBezTo>
                  <a:cubicBezTo>
                    <a:pt x="35" y="52"/>
                    <a:pt x="12" y="84"/>
                    <a:pt x="0" y="9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Freeform 283"/>
            <p:cNvSpPr/>
            <p:nvPr/>
          </p:nvSpPr>
          <p:spPr>
            <a:xfrm>
              <a:off x="5275080" y="3287880"/>
              <a:ext cx="85680" cy="257040"/>
            </a:xfrm>
            <a:custGeom>
              <a:avLst/>
              <a:gdLst/>
              <a:ahLst/>
              <a:rect l="l" t="t" r="r" b="b"/>
              <a:pathLst>
                <a:path w="54" h="162">
                  <a:moveTo>
                    <a:pt x="54" y="0"/>
                  </a:moveTo>
                  <a:cubicBezTo>
                    <a:pt x="51" y="13"/>
                    <a:pt x="45" y="51"/>
                    <a:pt x="36" y="78"/>
                  </a:cubicBezTo>
                  <a:cubicBezTo>
                    <a:pt x="27" y="105"/>
                    <a:pt x="8" y="144"/>
                    <a:pt x="0" y="162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Freeform 284"/>
            <p:cNvSpPr/>
            <p:nvPr/>
          </p:nvSpPr>
          <p:spPr>
            <a:xfrm>
              <a:off x="5151240" y="3430800"/>
              <a:ext cx="100080" cy="1904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3" h="120">
                  <a:moveTo>
                    <a:pt x="54" y="0"/>
                  </a:moveTo>
                  <a:cubicBezTo>
                    <a:pt x="54" y="10"/>
                    <a:pt x="63" y="40"/>
                    <a:pt x="54" y="60"/>
                  </a:cubicBezTo>
                  <a:cubicBezTo>
                    <a:pt x="45" y="80"/>
                    <a:pt x="11" y="108"/>
                    <a:pt x="0" y="12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285"/>
            <p:cNvSpPr/>
            <p:nvPr/>
          </p:nvSpPr>
          <p:spPr>
            <a:xfrm>
              <a:off x="5141880" y="3116520"/>
              <a:ext cx="237960" cy="85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50" h="54">
                  <a:moveTo>
                    <a:pt x="0" y="0"/>
                  </a:moveTo>
                  <a:cubicBezTo>
                    <a:pt x="12" y="2"/>
                    <a:pt x="47" y="3"/>
                    <a:pt x="72" y="12"/>
                  </a:cubicBezTo>
                  <a:cubicBezTo>
                    <a:pt x="97" y="21"/>
                    <a:pt x="134" y="45"/>
                    <a:pt x="150" y="54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286"/>
            <p:cNvSpPr/>
            <p:nvPr/>
          </p:nvSpPr>
          <p:spPr>
            <a:xfrm>
              <a:off x="5141880" y="3116520"/>
              <a:ext cx="237960" cy="85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50" h="54">
                  <a:moveTo>
                    <a:pt x="0" y="0"/>
                  </a:moveTo>
                  <a:cubicBezTo>
                    <a:pt x="12" y="2"/>
                    <a:pt x="47" y="3"/>
                    <a:pt x="72" y="12"/>
                  </a:cubicBezTo>
                  <a:cubicBezTo>
                    <a:pt x="97" y="21"/>
                    <a:pt x="134" y="45"/>
                    <a:pt x="150" y="54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287"/>
            <p:cNvSpPr/>
            <p:nvPr/>
          </p:nvSpPr>
          <p:spPr>
            <a:xfrm>
              <a:off x="5421240" y="3335400"/>
              <a:ext cx="54000" cy="2286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4" h="144">
                  <a:moveTo>
                    <a:pt x="34" y="0"/>
                  </a:moveTo>
                  <a:cubicBezTo>
                    <a:pt x="28" y="9"/>
                    <a:pt x="8" y="30"/>
                    <a:pt x="4" y="54"/>
                  </a:cubicBezTo>
                  <a:cubicBezTo>
                    <a:pt x="0" y="78"/>
                    <a:pt x="9" y="125"/>
                    <a:pt x="10" y="144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288"/>
            <p:cNvSpPr/>
            <p:nvPr/>
          </p:nvSpPr>
          <p:spPr>
            <a:xfrm>
              <a:off x="5513400" y="3430800"/>
              <a:ext cx="9360" cy="2001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6" h="126">
                  <a:moveTo>
                    <a:pt x="6" y="0"/>
                  </a:moveTo>
                  <a:cubicBezTo>
                    <a:pt x="5" y="11"/>
                    <a:pt x="0" y="51"/>
                    <a:pt x="0" y="72"/>
                  </a:cubicBezTo>
                  <a:cubicBezTo>
                    <a:pt x="0" y="93"/>
                    <a:pt x="5" y="115"/>
                    <a:pt x="6" y="12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9" name="Freeform 289"/>
          <p:cNvSpPr/>
          <p:nvPr/>
        </p:nvSpPr>
        <p:spPr>
          <a:xfrm>
            <a:off x="5796000" y="3855960"/>
            <a:ext cx="193680" cy="249480"/>
          </a:xfrm>
          <a:custGeom>
            <a:avLst/>
            <a:gdLst>
              <a:gd name="textAreaLeft" fmla="*/ 0 w 193680"/>
              <a:gd name="textAreaRight" fmla="*/ 194040 w 19368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122" h="157">
                <a:moveTo>
                  <a:pt x="75" y="136"/>
                </a:moveTo>
                <a:cubicBezTo>
                  <a:pt x="64" y="145"/>
                  <a:pt x="53" y="155"/>
                  <a:pt x="43" y="156"/>
                </a:cubicBezTo>
                <a:cubicBezTo>
                  <a:pt x="33" y="157"/>
                  <a:pt x="21" y="152"/>
                  <a:pt x="16" y="141"/>
                </a:cubicBezTo>
                <a:cubicBezTo>
                  <a:pt x="11" y="130"/>
                  <a:pt x="0" y="104"/>
                  <a:pt x="11" y="88"/>
                </a:cubicBezTo>
                <a:cubicBezTo>
                  <a:pt x="22" y="72"/>
                  <a:pt x="61" y="58"/>
                  <a:pt x="79" y="43"/>
                </a:cubicBezTo>
                <a:cubicBezTo>
                  <a:pt x="97" y="28"/>
                  <a:pt x="109" y="14"/>
                  <a:pt x="122" y="0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Freeform 290"/>
          <p:cNvSpPr/>
          <p:nvPr/>
        </p:nvSpPr>
        <p:spPr>
          <a:xfrm>
            <a:off x="5915160" y="3691080"/>
            <a:ext cx="79200" cy="380880"/>
          </a:xfrm>
          <a:custGeom>
            <a:avLst/>
            <a:gdLst>
              <a:gd name="textAreaLeft" fmla="*/ 0 w 79200"/>
              <a:gd name="textAreaRight" fmla="*/ 79560 w 792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50" h="240">
                <a:moveTo>
                  <a:pt x="0" y="240"/>
                </a:moveTo>
                <a:cubicBezTo>
                  <a:pt x="18" y="227"/>
                  <a:pt x="36" y="214"/>
                  <a:pt x="43" y="174"/>
                </a:cubicBezTo>
                <a:cubicBezTo>
                  <a:pt x="50" y="134"/>
                  <a:pt x="45" y="67"/>
                  <a:pt x="41" y="0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1" name="Group 291"/>
          <p:cNvGrpSpPr/>
          <p:nvPr/>
        </p:nvGrpSpPr>
        <p:grpSpPr>
          <a:xfrm>
            <a:off x="5619600" y="3594960"/>
            <a:ext cx="617760" cy="561960"/>
            <a:chOff x="5619600" y="3594960"/>
            <a:chExt cx="617760" cy="561960"/>
          </a:xfrm>
        </p:grpSpPr>
        <p:sp>
          <p:nvSpPr>
            <p:cNvPr id="3362" name="Freeform 292"/>
            <p:cNvSpPr/>
            <p:nvPr/>
          </p:nvSpPr>
          <p:spPr>
            <a:xfrm rot="19841400">
              <a:off x="5675400" y="3695400"/>
              <a:ext cx="506160" cy="36036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455" h="294">
                  <a:moveTo>
                    <a:pt x="281" y="49"/>
                  </a:moveTo>
                  <a:lnTo>
                    <a:pt x="298" y="13"/>
                  </a:lnTo>
                  <a:cubicBezTo>
                    <a:pt x="292" y="6"/>
                    <a:pt x="265" y="7"/>
                    <a:pt x="242" y="5"/>
                  </a:cubicBezTo>
                  <a:cubicBezTo>
                    <a:pt x="218" y="4"/>
                    <a:pt x="184" y="2"/>
                    <a:pt x="161" y="1"/>
                  </a:cubicBezTo>
                  <a:cubicBezTo>
                    <a:pt x="138" y="0"/>
                    <a:pt x="107" y="1"/>
                    <a:pt x="93" y="3"/>
                  </a:cubicBezTo>
                  <a:lnTo>
                    <a:pt x="76" y="16"/>
                  </a:lnTo>
                  <a:lnTo>
                    <a:pt x="81" y="36"/>
                  </a:lnTo>
                  <a:lnTo>
                    <a:pt x="63" y="100"/>
                  </a:lnTo>
                  <a:cubicBezTo>
                    <a:pt x="55" y="120"/>
                    <a:pt x="39" y="136"/>
                    <a:pt x="32" y="157"/>
                  </a:cubicBezTo>
                  <a:cubicBezTo>
                    <a:pt x="25" y="178"/>
                    <a:pt x="27" y="206"/>
                    <a:pt x="22" y="229"/>
                  </a:cubicBezTo>
                  <a:cubicBezTo>
                    <a:pt x="17" y="252"/>
                    <a:pt x="8" y="265"/>
                    <a:pt x="0" y="294"/>
                  </a:cubicBezTo>
                  <a:cubicBezTo>
                    <a:pt x="31" y="287"/>
                    <a:pt x="39" y="285"/>
                    <a:pt x="67" y="278"/>
                  </a:cubicBezTo>
                  <a:cubicBezTo>
                    <a:pt x="95" y="271"/>
                    <a:pt x="133" y="271"/>
                    <a:pt x="169" y="260"/>
                  </a:cubicBezTo>
                  <a:cubicBezTo>
                    <a:pt x="205" y="249"/>
                    <a:pt x="232" y="217"/>
                    <a:pt x="275" y="211"/>
                  </a:cubicBezTo>
                  <a:cubicBezTo>
                    <a:pt x="305" y="206"/>
                    <a:pt x="321" y="224"/>
                    <a:pt x="347" y="230"/>
                  </a:cubicBezTo>
                  <a:cubicBezTo>
                    <a:pt x="373" y="232"/>
                    <a:pt x="408" y="241"/>
                    <a:pt x="428" y="245"/>
                  </a:cubicBezTo>
                  <a:cubicBezTo>
                    <a:pt x="434" y="221"/>
                    <a:pt x="449" y="198"/>
                    <a:pt x="452" y="173"/>
                  </a:cubicBezTo>
                  <a:cubicBezTo>
                    <a:pt x="455" y="148"/>
                    <a:pt x="444" y="110"/>
                    <a:pt x="444" y="92"/>
                  </a:cubicBezTo>
                  <a:lnTo>
                    <a:pt x="444" y="58"/>
                  </a:lnTo>
                  <a:cubicBezTo>
                    <a:pt x="429" y="47"/>
                    <a:pt x="397" y="20"/>
                    <a:pt x="353" y="23"/>
                  </a:cubicBezTo>
                  <a:cubicBezTo>
                    <a:pt x="309" y="26"/>
                    <a:pt x="297" y="47"/>
                    <a:pt x="28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293"/>
            <p:cNvSpPr/>
            <p:nvPr/>
          </p:nvSpPr>
          <p:spPr>
            <a:xfrm rot="19841400">
              <a:off x="5700960" y="3796920"/>
              <a:ext cx="312480" cy="30060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281" h="245">
                  <a:moveTo>
                    <a:pt x="281" y="0"/>
                  </a:moveTo>
                  <a:cubicBezTo>
                    <a:pt x="259" y="13"/>
                    <a:pt x="197" y="40"/>
                    <a:pt x="150" y="81"/>
                  </a:cubicBezTo>
                  <a:cubicBezTo>
                    <a:pt x="103" y="122"/>
                    <a:pt x="31" y="211"/>
                    <a:pt x="0" y="24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294"/>
            <p:cNvSpPr/>
            <p:nvPr/>
          </p:nvSpPr>
          <p:spPr>
            <a:xfrm rot="19841400">
              <a:off x="5781600" y="3722760"/>
              <a:ext cx="124560" cy="5256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12" h="43">
                  <a:moveTo>
                    <a:pt x="112" y="43"/>
                  </a:moveTo>
                  <a:cubicBezTo>
                    <a:pt x="92" y="38"/>
                    <a:pt x="73" y="33"/>
                    <a:pt x="54" y="26"/>
                  </a:cubicBezTo>
                  <a:cubicBezTo>
                    <a:pt x="35" y="19"/>
                    <a:pt x="9" y="4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295"/>
            <p:cNvSpPr/>
            <p:nvPr/>
          </p:nvSpPr>
          <p:spPr>
            <a:xfrm rot="19841400">
              <a:off x="5721840" y="3860280"/>
              <a:ext cx="192240" cy="352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73" h="29">
                  <a:moveTo>
                    <a:pt x="173" y="0"/>
                  </a:moveTo>
                  <a:cubicBezTo>
                    <a:pt x="158" y="1"/>
                    <a:pt x="112" y="2"/>
                    <a:pt x="83" y="7"/>
                  </a:cubicBezTo>
                  <a:cubicBezTo>
                    <a:pt x="54" y="12"/>
                    <a:pt x="17" y="25"/>
                    <a:pt x="0" y="29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96"/>
            <p:cNvSpPr/>
            <p:nvPr/>
          </p:nvSpPr>
          <p:spPr>
            <a:xfrm rot="19841400">
              <a:off x="5716800" y="3780720"/>
              <a:ext cx="116640" cy="9936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105" h="81">
                  <a:moveTo>
                    <a:pt x="105" y="81"/>
                  </a:moveTo>
                  <a:cubicBezTo>
                    <a:pt x="96" y="76"/>
                    <a:pt x="67" y="61"/>
                    <a:pt x="50" y="48"/>
                  </a:cubicBezTo>
                  <a:cubicBezTo>
                    <a:pt x="33" y="35"/>
                    <a:pt x="11" y="10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97"/>
            <p:cNvSpPr/>
            <p:nvPr/>
          </p:nvSpPr>
          <p:spPr>
            <a:xfrm rot="19841400">
              <a:off x="5743080" y="3942360"/>
              <a:ext cx="129960" cy="89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17" h="73">
                  <a:moveTo>
                    <a:pt x="117" y="0"/>
                  </a:moveTo>
                  <a:cubicBezTo>
                    <a:pt x="105" y="6"/>
                    <a:pt x="62" y="25"/>
                    <a:pt x="43" y="37"/>
                  </a:cubicBezTo>
                  <a:cubicBezTo>
                    <a:pt x="24" y="49"/>
                    <a:pt x="9" y="66"/>
                    <a:pt x="0" y="73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98"/>
            <p:cNvSpPr/>
            <p:nvPr/>
          </p:nvSpPr>
          <p:spPr>
            <a:xfrm rot="19841400">
              <a:off x="5856120" y="3928680"/>
              <a:ext cx="42120" cy="140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38" h="115">
                  <a:moveTo>
                    <a:pt x="0" y="115"/>
                  </a:moveTo>
                  <a:cubicBezTo>
                    <a:pt x="4" y="107"/>
                    <a:pt x="20" y="88"/>
                    <a:pt x="26" y="69"/>
                  </a:cubicBezTo>
                  <a:cubicBezTo>
                    <a:pt x="32" y="50"/>
                    <a:pt x="36" y="14"/>
                    <a:pt x="38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99"/>
            <p:cNvSpPr/>
            <p:nvPr/>
          </p:nvSpPr>
          <p:spPr>
            <a:xfrm rot="19841400">
              <a:off x="5908320" y="3821400"/>
              <a:ext cx="51120" cy="1864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46" h="152">
                  <a:moveTo>
                    <a:pt x="0" y="152"/>
                  </a:moveTo>
                  <a:cubicBezTo>
                    <a:pt x="6" y="140"/>
                    <a:pt x="32" y="100"/>
                    <a:pt x="39" y="75"/>
                  </a:cubicBezTo>
                  <a:cubicBezTo>
                    <a:pt x="46" y="50"/>
                    <a:pt x="41" y="16"/>
                    <a:pt x="41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300"/>
            <p:cNvSpPr/>
            <p:nvPr/>
          </p:nvSpPr>
          <p:spPr>
            <a:xfrm rot="19841400">
              <a:off x="5967360" y="3686760"/>
              <a:ext cx="166680" cy="2426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50" h="198">
                  <a:moveTo>
                    <a:pt x="150" y="198"/>
                  </a:moveTo>
                  <a:cubicBezTo>
                    <a:pt x="139" y="180"/>
                    <a:pt x="107" y="124"/>
                    <a:pt x="82" y="91"/>
                  </a:cubicBezTo>
                  <a:cubicBezTo>
                    <a:pt x="57" y="58"/>
                    <a:pt x="17" y="19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301"/>
            <p:cNvSpPr/>
            <p:nvPr/>
          </p:nvSpPr>
          <p:spPr>
            <a:xfrm rot="19841400">
              <a:off x="5993280" y="3755520"/>
              <a:ext cx="32040" cy="1702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29" h="139">
                  <a:moveTo>
                    <a:pt x="29" y="139"/>
                  </a:moveTo>
                  <a:cubicBezTo>
                    <a:pt x="25" y="126"/>
                    <a:pt x="8" y="84"/>
                    <a:pt x="4" y="61"/>
                  </a:cubicBezTo>
                  <a:cubicBezTo>
                    <a:pt x="0" y="38"/>
                    <a:pt x="5" y="13"/>
                    <a:pt x="5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302"/>
            <p:cNvSpPr/>
            <p:nvPr/>
          </p:nvSpPr>
          <p:spPr>
            <a:xfrm rot="19841400">
              <a:off x="5940360" y="3694320"/>
              <a:ext cx="157680" cy="2556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2" h="21">
                  <a:moveTo>
                    <a:pt x="142" y="2"/>
                  </a:moveTo>
                  <a:cubicBezTo>
                    <a:pt x="130" y="2"/>
                    <a:pt x="94" y="0"/>
                    <a:pt x="70" y="3"/>
                  </a:cubicBezTo>
                  <a:cubicBezTo>
                    <a:pt x="46" y="6"/>
                    <a:pt x="15" y="17"/>
                    <a:pt x="0" y="2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303"/>
            <p:cNvSpPr/>
            <p:nvPr/>
          </p:nvSpPr>
          <p:spPr>
            <a:xfrm rot="19841400">
              <a:off x="6026400" y="3756960"/>
              <a:ext cx="116640" cy="2196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5" h="18">
                  <a:moveTo>
                    <a:pt x="105" y="18"/>
                  </a:moveTo>
                  <a:cubicBezTo>
                    <a:pt x="97" y="15"/>
                    <a:pt x="76" y="6"/>
                    <a:pt x="59" y="3"/>
                  </a:cubicBezTo>
                  <a:cubicBezTo>
                    <a:pt x="42" y="0"/>
                    <a:pt x="12" y="1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304"/>
            <p:cNvSpPr/>
            <p:nvPr/>
          </p:nvSpPr>
          <p:spPr>
            <a:xfrm rot="19841400">
              <a:off x="6087600" y="3800880"/>
              <a:ext cx="23400" cy="99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1" h="81">
                  <a:moveTo>
                    <a:pt x="0" y="0"/>
                  </a:moveTo>
                  <a:cubicBezTo>
                    <a:pt x="1" y="7"/>
                    <a:pt x="3" y="32"/>
                    <a:pt x="6" y="45"/>
                  </a:cubicBezTo>
                  <a:cubicBezTo>
                    <a:pt x="9" y="58"/>
                    <a:pt x="18" y="74"/>
                    <a:pt x="21" y="8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5" name="Group 305"/>
          <p:cNvGrpSpPr/>
          <p:nvPr/>
        </p:nvGrpSpPr>
        <p:grpSpPr>
          <a:xfrm>
            <a:off x="6203880" y="3641760"/>
            <a:ext cx="214200" cy="542880"/>
            <a:chOff x="6203880" y="3641760"/>
            <a:chExt cx="214200" cy="542880"/>
          </a:xfrm>
        </p:grpSpPr>
        <p:sp>
          <p:nvSpPr>
            <p:cNvPr id="3376" name="Freeform 306"/>
            <p:cNvSpPr/>
            <p:nvPr/>
          </p:nvSpPr>
          <p:spPr>
            <a:xfrm>
              <a:off x="6275160" y="3641760"/>
              <a:ext cx="142920" cy="5014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90" h="316">
                  <a:moveTo>
                    <a:pt x="0" y="316"/>
                  </a:moveTo>
                  <a:cubicBezTo>
                    <a:pt x="31" y="266"/>
                    <a:pt x="62" y="216"/>
                    <a:pt x="76" y="169"/>
                  </a:cubicBezTo>
                  <a:cubicBezTo>
                    <a:pt x="90" y="122"/>
                    <a:pt x="88" y="63"/>
                    <a:pt x="85" y="35"/>
                  </a:cubicBezTo>
                  <a:cubicBezTo>
                    <a:pt x="82" y="7"/>
                    <a:pt x="64" y="7"/>
                    <a:pt x="59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07"/>
            <p:cNvSpPr/>
            <p:nvPr/>
          </p:nvSpPr>
          <p:spPr>
            <a:xfrm>
              <a:off x="6203880" y="409752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66" h="55">
                  <a:moveTo>
                    <a:pt x="3" y="43"/>
                  </a:moveTo>
                  <a:cubicBezTo>
                    <a:pt x="0" y="39"/>
                    <a:pt x="22" y="36"/>
                    <a:pt x="32" y="29"/>
                  </a:cubicBezTo>
                  <a:cubicBezTo>
                    <a:pt x="42" y="22"/>
                    <a:pt x="60" y="0"/>
                    <a:pt x="63" y="0"/>
                  </a:cubicBezTo>
                  <a:cubicBezTo>
                    <a:pt x="66" y="0"/>
                    <a:pt x="50" y="23"/>
                    <a:pt x="48" y="32"/>
                  </a:cubicBezTo>
                  <a:cubicBezTo>
                    <a:pt x="46" y="41"/>
                    <a:pt x="57" y="53"/>
                    <a:pt x="50" y="55"/>
                  </a:cubicBez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8" name="Group 308"/>
          <p:cNvGrpSpPr/>
          <p:nvPr/>
        </p:nvGrpSpPr>
        <p:grpSpPr>
          <a:xfrm>
            <a:off x="5916600" y="3258720"/>
            <a:ext cx="661680" cy="626760"/>
            <a:chOff x="5916600" y="3258720"/>
            <a:chExt cx="661680" cy="626760"/>
          </a:xfrm>
        </p:grpSpPr>
        <p:sp>
          <p:nvSpPr>
            <p:cNvPr id="3379" name="Freeform 309"/>
            <p:cNvSpPr/>
            <p:nvPr/>
          </p:nvSpPr>
          <p:spPr>
            <a:xfrm rot="20008200">
              <a:off x="5987520" y="3351240"/>
              <a:ext cx="519120" cy="44136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319" h="301">
                  <a:moveTo>
                    <a:pt x="202" y="250"/>
                  </a:moveTo>
                  <a:cubicBezTo>
                    <a:pt x="222" y="239"/>
                    <a:pt x="264" y="246"/>
                    <a:pt x="282" y="228"/>
                  </a:cubicBezTo>
                  <a:cubicBezTo>
                    <a:pt x="302" y="211"/>
                    <a:pt x="319" y="172"/>
                    <a:pt x="312" y="142"/>
                  </a:cubicBezTo>
                  <a:cubicBezTo>
                    <a:pt x="303" y="109"/>
                    <a:pt x="302" y="64"/>
                    <a:pt x="226" y="32"/>
                  </a:cubicBezTo>
                  <a:cubicBezTo>
                    <a:pt x="150" y="0"/>
                    <a:pt x="30" y="24"/>
                    <a:pt x="0" y="36"/>
                  </a:cubicBezTo>
                  <a:lnTo>
                    <a:pt x="20" y="54"/>
                  </a:lnTo>
                  <a:cubicBezTo>
                    <a:pt x="27" y="80"/>
                    <a:pt x="29" y="156"/>
                    <a:pt x="40" y="194"/>
                  </a:cubicBezTo>
                  <a:cubicBezTo>
                    <a:pt x="47" y="225"/>
                    <a:pt x="65" y="267"/>
                    <a:pt x="88" y="284"/>
                  </a:cubicBezTo>
                  <a:cubicBezTo>
                    <a:pt x="108" y="301"/>
                    <a:pt x="141" y="300"/>
                    <a:pt x="160" y="294"/>
                  </a:cubicBezTo>
                  <a:cubicBezTo>
                    <a:pt x="179" y="288"/>
                    <a:pt x="197" y="260"/>
                    <a:pt x="202" y="2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10"/>
            <p:cNvSpPr/>
            <p:nvPr/>
          </p:nvSpPr>
          <p:spPr>
            <a:xfrm>
              <a:off x="5986440" y="3532320"/>
              <a:ext cx="399960" cy="11412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52" h="72">
                  <a:moveTo>
                    <a:pt x="0" y="0"/>
                  </a:moveTo>
                  <a:cubicBezTo>
                    <a:pt x="23" y="4"/>
                    <a:pt x="92" y="12"/>
                    <a:pt x="134" y="24"/>
                  </a:cubicBezTo>
                  <a:cubicBezTo>
                    <a:pt x="176" y="36"/>
                    <a:pt x="228" y="62"/>
                    <a:pt x="252" y="72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11"/>
            <p:cNvSpPr/>
            <p:nvPr/>
          </p:nvSpPr>
          <p:spPr>
            <a:xfrm>
              <a:off x="6151680" y="3656160"/>
              <a:ext cx="218880" cy="82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8" h="52">
                  <a:moveTo>
                    <a:pt x="0" y="52"/>
                  </a:moveTo>
                  <a:cubicBezTo>
                    <a:pt x="11" y="49"/>
                    <a:pt x="43" y="45"/>
                    <a:pt x="66" y="36"/>
                  </a:cubicBezTo>
                  <a:cubicBezTo>
                    <a:pt x="89" y="27"/>
                    <a:pt x="123" y="7"/>
                    <a:pt x="138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12"/>
            <p:cNvSpPr/>
            <p:nvPr/>
          </p:nvSpPr>
          <p:spPr>
            <a:xfrm>
              <a:off x="6049800" y="3608280"/>
              <a:ext cx="235080" cy="3204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48" h="20">
                  <a:moveTo>
                    <a:pt x="0" y="20"/>
                  </a:moveTo>
                  <a:cubicBezTo>
                    <a:pt x="12" y="19"/>
                    <a:pt x="47" y="19"/>
                    <a:pt x="72" y="16"/>
                  </a:cubicBezTo>
                  <a:cubicBezTo>
                    <a:pt x="97" y="13"/>
                    <a:pt x="132" y="3"/>
                    <a:pt x="148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13"/>
            <p:cNvSpPr/>
            <p:nvPr/>
          </p:nvSpPr>
          <p:spPr>
            <a:xfrm>
              <a:off x="6078600" y="3436920"/>
              <a:ext cx="177840" cy="15228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12" h="96">
                  <a:moveTo>
                    <a:pt x="0" y="0"/>
                  </a:moveTo>
                  <a:cubicBezTo>
                    <a:pt x="10" y="6"/>
                    <a:pt x="39" y="18"/>
                    <a:pt x="58" y="34"/>
                  </a:cubicBezTo>
                  <a:cubicBezTo>
                    <a:pt x="77" y="50"/>
                    <a:pt x="101" y="83"/>
                    <a:pt x="112" y="9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14"/>
            <p:cNvSpPr/>
            <p:nvPr/>
          </p:nvSpPr>
          <p:spPr>
            <a:xfrm>
              <a:off x="6240600" y="3370320"/>
              <a:ext cx="91800" cy="2509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58" h="158">
                  <a:moveTo>
                    <a:pt x="58" y="158"/>
                  </a:moveTo>
                  <a:cubicBezTo>
                    <a:pt x="54" y="144"/>
                    <a:pt x="46" y="98"/>
                    <a:pt x="36" y="72"/>
                  </a:cubicBezTo>
                  <a:cubicBezTo>
                    <a:pt x="26" y="46"/>
                    <a:pt x="7" y="15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15"/>
            <p:cNvSpPr/>
            <p:nvPr/>
          </p:nvSpPr>
          <p:spPr>
            <a:xfrm>
              <a:off x="6367320" y="3379680"/>
              <a:ext cx="27000" cy="257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17" h="162">
                  <a:moveTo>
                    <a:pt x="16" y="162"/>
                  </a:moveTo>
                  <a:cubicBezTo>
                    <a:pt x="16" y="149"/>
                    <a:pt x="17" y="111"/>
                    <a:pt x="14" y="84"/>
                  </a:cubicBezTo>
                  <a:cubicBezTo>
                    <a:pt x="11" y="57"/>
                    <a:pt x="3" y="17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Group 316"/>
          <p:cNvGrpSpPr/>
          <p:nvPr/>
        </p:nvGrpSpPr>
        <p:grpSpPr>
          <a:xfrm>
            <a:off x="6364440" y="4200480"/>
            <a:ext cx="2462040" cy="1679400"/>
            <a:chOff x="6364440" y="4200480"/>
            <a:chExt cx="2462040" cy="1679400"/>
          </a:xfrm>
        </p:grpSpPr>
        <p:sp>
          <p:nvSpPr>
            <p:cNvPr id="3387" name="Freeform 317"/>
            <p:cNvSpPr/>
            <p:nvPr/>
          </p:nvSpPr>
          <p:spPr>
            <a:xfrm>
              <a:off x="6581880" y="4243320"/>
              <a:ext cx="1874880" cy="1363680"/>
            </a:xfrm>
            <a:custGeom>
              <a:avLst/>
              <a:gdLst>
                <a:gd name="textAreaLeft" fmla="*/ 0 w 1874880"/>
                <a:gd name="textAreaRight" fmla="*/ 1875240 w 1874880"/>
                <a:gd name="textAreaTop" fmla="*/ 0 h 1363680"/>
                <a:gd name="textAreaBottom" fmla="*/ 1364040 h 1363680"/>
              </a:gdLst>
              <a:ahLst/>
              <a:rect l="textAreaLeft" t="textAreaTop" r="textAreaRight" b="textAreaBottom"/>
              <a:pathLst>
                <a:path w="1181" h="859">
                  <a:moveTo>
                    <a:pt x="0" y="0"/>
                  </a:moveTo>
                  <a:cubicBezTo>
                    <a:pt x="171" y="31"/>
                    <a:pt x="343" y="63"/>
                    <a:pt x="471" y="125"/>
                  </a:cubicBezTo>
                  <a:cubicBezTo>
                    <a:pt x="599" y="187"/>
                    <a:pt x="687" y="283"/>
                    <a:pt x="768" y="370"/>
                  </a:cubicBezTo>
                  <a:cubicBezTo>
                    <a:pt x="849" y="457"/>
                    <a:pt x="886" y="566"/>
                    <a:pt x="955" y="648"/>
                  </a:cubicBezTo>
                  <a:cubicBezTo>
                    <a:pt x="1024" y="730"/>
                    <a:pt x="1102" y="794"/>
                    <a:pt x="1181" y="859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318"/>
            <p:cNvSpPr/>
            <p:nvPr/>
          </p:nvSpPr>
          <p:spPr>
            <a:xfrm>
              <a:off x="6364440" y="4200480"/>
              <a:ext cx="2238480" cy="1554120"/>
            </a:xfrm>
            <a:custGeom>
              <a:avLst/>
              <a:gdLst>
                <a:gd name="textAreaLeft" fmla="*/ 0 w 2238480"/>
                <a:gd name="textAreaRight" fmla="*/ 2238840 w 2238480"/>
                <a:gd name="textAreaTop" fmla="*/ 0 h 1554120"/>
                <a:gd name="textAreaBottom" fmla="*/ 1554480 h 1554120"/>
              </a:gdLst>
              <a:ahLst/>
              <a:rect l="textAreaLeft" t="textAreaTop" r="textAreaRight" b="textAreaBottom"/>
              <a:pathLst>
                <a:path w="1410" h="979">
                  <a:moveTo>
                    <a:pt x="0" y="0"/>
                  </a:moveTo>
                  <a:cubicBezTo>
                    <a:pt x="55" y="7"/>
                    <a:pt x="243" y="17"/>
                    <a:pt x="334" y="43"/>
                  </a:cubicBezTo>
                  <a:cubicBezTo>
                    <a:pt x="425" y="69"/>
                    <a:pt x="474" y="129"/>
                    <a:pt x="546" y="159"/>
                  </a:cubicBezTo>
                  <a:cubicBezTo>
                    <a:pt x="618" y="189"/>
                    <a:pt x="719" y="190"/>
                    <a:pt x="766" y="223"/>
                  </a:cubicBezTo>
                  <a:cubicBezTo>
                    <a:pt x="813" y="256"/>
                    <a:pt x="790" y="316"/>
                    <a:pt x="826" y="355"/>
                  </a:cubicBezTo>
                  <a:cubicBezTo>
                    <a:pt x="862" y="394"/>
                    <a:pt x="944" y="403"/>
                    <a:pt x="982" y="455"/>
                  </a:cubicBezTo>
                  <a:cubicBezTo>
                    <a:pt x="1020" y="507"/>
                    <a:pt x="1000" y="600"/>
                    <a:pt x="1054" y="667"/>
                  </a:cubicBezTo>
                  <a:cubicBezTo>
                    <a:pt x="1108" y="734"/>
                    <a:pt x="1247" y="807"/>
                    <a:pt x="1306" y="859"/>
                  </a:cubicBezTo>
                  <a:cubicBezTo>
                    <a:pt x="1365" y="911"/>
                    <a:pt x="1387" y="945"/>
                    <a:pt x="1410" y="979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319"/>
            <p:cNvSpPr/>
            <p:nvPr/>
          </p:nvSpPr>
          <p:spPr>
            <a:xfrm>
              <a:off x="8398080" y="5559480"/>
              <a:ext cx="382680" cy="3096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241" h="195">
                  <a:moveTo>
                    <a:pt x="0" y="13"/>
                  </a:moveTo>
                  <a:lnTo>
                    <a:pt x="241" y="195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320"/>
            <p:cNvSpPr/>
            <p:nvPr/>
          </p:nvSpPr>
          <p:spPr>
            <a:xfrm>
              <a:off x="8342640" y="5502240"/>
              <a:ext cx="483840" cy="377640"/>
            </a:xfrm>
            <a:custGeom>
              <a:avLst/>
              <a:gdLst>
                <a:gd name="textAreaLeft" fmla="*/ 0 w 483840"/>
                <a:gd name="textAreaRight" fmla="*/ 484200 w 4838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305" h="238">
                  <a:moveTo>
                    <a:pt x="0" y="0"/>
                  </a:moveTo>
                  <a:cubicBezTo>
                    <a:pt x="7" y="10"/>
                    <a:pt x="31" y="48"/>
                    <a:pt x="44" y="61"/>
                  </a:cubicBezTo>
                  <a:cubicBezTo>
                    <a:pt x="57" y="74"/>
                    <a:pt x="62" y="67"/>
                    <a:pt x="80" y="76"/>
                  </a:cubicBezTo>
                  <a:cubicBezTo>
                    <a:pt x="98" y="85"/>
                    <a:pt x="134" y="99"/>
                    <a:pt x="155" y="118"/>
                  </a:cubicBezTo>
                  <a:cubicBezTo>
                    <a:pt x="176" y="137"/>
                    <a:pt x="182" y="169"/>
                    <a:pt x="207" y="189"/>
                  </a:cubicBezTo>
                  <a:cubicBezTo>
                    <a:pt x="232" y="209"/>
                    <a:pt x="268" y="223"/>
                    <a:pt x="305" y="23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321"/>
            <p:cNvSpPr/>
            <p:nvPr/>
          </p:nvSpPr>
          <p:spPr>
            <a:xfrm>
              <a:off x="7086600" y="4348080"/>
              <a:ext cx="284400" cy="6336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79" h="40">
                  <a:moveTo>
                    <a:pt x="0" y="9"/>
                  </a:moveTo>
                  <a:lnTo>
                    <a:pt x="179" y="40"/>
                  </a:lnTo>
                  <a:lnTo>
                    <a:pt x="25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Line 322"/>
            <p:cNvSpPr/>
            <p:nvPr/>
          </p:nvSpPr>
          <p:spPr>
            <a:xfrm>
              <a:off x="7969320" y="5083200"/>
              <a:ext cx="82800" cy="396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Line 323"/>
            <p:cNvSpPr/>
            <p:nvPr/>
          </p:nvSpPr>
          <p:spPr>
            <a:xfrm>
              <a:off x="7525080" y="4572000"/>
              <a:ext cx="44280" cy="666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Line 324"/>
            <p:cNvSpPr/>
            <p:nvPr/>
          </p:nvSpPr>
          <p:spPr>
            <a:xfrm>
              <a:off x="8278920" y="5462640"/>
              <a:ext cx="57240" cy="918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5" name="Freeform 325"/>
          <p:cNvSpPr/>
          <p:nvPr/>
        </p:nvSpPr>
        <p:spPr>
          <a:xfrm>
            <a:off x="7796160" y="4791240"/>
            <a:ext cx="206280" cy="55440"/>
          </a:xfrm>
          <a:custGeom>
            <a:avLst/>
            <a:gdLst>
              <a:gd name="textAreaLeft" fmla="*/ 0 w 206280"/>
              <a:gd name="textAreaRight" fmla="*/ 206640 w 20628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30" h="35">
                <a:moveTo>
                  <a:pt x="0" y="32"/>
                </a:moveTo>
                <a:cubicBezTo>
                  <a:pt x="13" y="32"/>
                  <a:pt x="58" y="35"/>
                  <a:pt x="80" y="30"/>
                </a:cubicBezTo>
                <a:cubicBezTo>
                  <a:pt x="102" y="25"/>
                  <a:pt x="120" y="6"/>
                  <a:pt x="130" y="0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6" name="Group 326"/>
          <p:cNvGrpSpPr/>
          <p:nvPr/>
        </p:nvGrpSpPr>
        <p:grpSpPr>
          <a:xfrm>
            <a:off x="7834320" y="4613400"/>
            <a:ext cx="227160" cy="250560"/>
            <a:chOff x="7834320" y="4613400"/>
            <a:chExt cx="227160" cy="250560"/>
          </a:xfrm>
        </p:grpSpPr>
        <p:sp>
          <p:nvSpPr>
            <p:cNvPr id="3397" name="Freeform 327"/>
            <p:cNvSpPr/>
            <p:nvPr/>
          </p:nvSpPr>
          <p:spPr>
            <a:xfrm>
              <a:off x="7834320" y="4613400"/>
              <a:ext cx="227160" cy="25056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43" h="158">
                  <a:moveTo>
                    <a:pt x="101" y="76"/>
                  </a:moveTo>
                  <a:cubicBezTo>
                    <a:pt x="98" y="62"/>
                    <a:pt x="110" y="35"/>
                    <a:pt x="101" y="25"/>
                  </a:cubicBezTo>
                  <a:cubicBezTo>
                    <a:pt x="88" y="15"/>
                    <a:pt x="65" y="0"/>
                    <a:pt x="48" y="15"/>
                  </a:cubicBezTo>
                  <a:cubicBezTo>
                    <a:pt x="35" y="22"/>
                    <a:pt x="31" y="53"/>
                    <a:pt x="23" y="70"/>
                  </a:cubicBezTo>
                  <a:cubicBezTo>
                    <a:pt x="15" y="87"/>
                    <a:pt x="14" y="91"/>
                    <a:pt x="0" y="117"/>
                  </a:cubicBezTo>
                  <a:cubicBezTo>
                    <a:pt x="29" y="124"/>
                    <a:pt x="33" y="133"/>
                    <a:pt x="53" y="139"/>
                  </a:cubicBezTo>
                  <a:cubicBezTo>
                    <a:pt x="76" y="144"/>
                    <a:pt x="105" y="158"/>
                    <a:pt x="119" y="151"/>
                  </a:cubicBezTo>
                  <a:cubicBezTo>
                    <a:pt x="133" y="144"/>
                    <a:pt x="143" y="106"/>
                    <a:pt x="140" y="94"/>
                  </a:cubicBezTo>
                  <a:cubicBezTo>
                    <a:pt x="134" y="82"/>
                    <a:pt x="109" y="80"/>
                    <a:pt x="101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Freeform 328"/>
            <p:cNvSpPr/>
            <p:nvPr/>
          </p:nvSpPr>
          <p:spPr>
            <a:xfrm>
              <a:off x="7846920" y="4733640"/>
              <a:ext cx="142920" cy="568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0" h="36">
                  <a:moveTo>
                    <a:pt x="90" y="0"/>
                  </a:moveTo>
                  <a:cubicBezTo>
                    <a:pt x="82" y="2"/>
                    <a:pt x="59" y="8"/>
                    <a:pt x="44" y="14"/>
                  </a:cubicBezTo>
                  <a:cubicBezTo>
                    <a:pt x="29" y="20"/>
                    <a:pt x="9" y="31"/>
                    <a:pt x="0" y="3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Freeform 329"/>
            <p:cNvSpPr/>
            <p:nvPr/>
          </p:nvSpPr>
          <p:spPr>
            <a:xfrm>
              <a:off x="7989840" y="4733640"/>
              <a:ext cx="27000" cy="1141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" h="72">
                  <a:moveTo>
                    <a:pt x="0" y="0"/>
                  </a:moveTo>
                  <a:cubicBezTo>
                    <a:pt x="0" y="6"/>
                    <a:pt x="0" y="27"/>
                    <a:pt x="3" y="39"/>
                  </a:cubicBezTo>
                  <a:cubicBezTo>
                    <a:pt x="6" y="51"/>
                    <a:pt x="14" y="65"/>
                    <a:pt x="17" y="72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330"/>
            <p:cNvSpPr/>
            <p:nvPr/>
          </p:nvSpPr>
          <p:spPr>
            <a:xfrm>
              <a:off x="7899480" y="464328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6" h="51">
                  <a:moveTo>
                    <a:pt x="56" y="51"/>
                  </a:moveTo>
                  <a:cubicBezTo>
                    <a:pt x="52" y="46"/>
                    <a:pt x="41" y="29"/>
                    <a:pt x="32" y="21"/>
                  </a:cubicBezTo>
                  <a:cubicBezTo>
                    <a:pt x="23" y="13"/>
                    <a:pt x="7" y="4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331"/>
            <p:cNvSpPr/>
            <p:nvPr/>
          </p:nvSpPr>
          <p:spPr>
            <a:xfrm>
              <a:off x="7875720" y="4724280"/>
              <a:ext cx="90360" cy="187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7" h="12">
                  <a:moveTo>
                    <a:pt x="57" y="12"/>
                  </a:moveTo>
                  <a:cubicBezTo>
                    <a:pt x="53" y="10"/>
                    <a:pt x="39" y="4"/>
                    <a:pt x="30" y="2"/>
                  </a:cubicBezTo>
                  <a:cubicBezTo>
                    <a:pt x="21" y="0"/>
                    <a:pt x="6" y="1"/>
                    <a:pt x="0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Freeform 332"/>
            <p:cNvSpPr/>
            <p:nvPr/>
          </p:nvSpPr>
          <p:spPr>
            <a:xfrm>
              <a:off x="7918560" y="4752720"/>
              <a:ext cx="38160" cy="83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4" h="53">
                  <a:moveTo>
                    <a:pt x="0" y="53"/>
                  </a:moveTo>
                  <a:cubicBezTo>
                    <a:pt x="1" y="49"/>
                    <a:pt x="2" y="35"/>
                    <a:pt x="6" y="26"/>
                  </a:cubicBezTo>
                  <a:cubicBezTo>
                    <a:pt x="10" y="17"/>
                    <a:pt x="20" y="5"/>
                    <a:pt x="24" y="0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3" name="Group 333"/>
          <p:cNvGrpSpPr/>
          <p:nvPr/>
        </p:nvGrpSpPr>
        <p:grpSpPr>
          <a:xfrm>
            <a:off x="5232240" y="3811680"/>
            <a:ext cx="322560" cy="358560"/>
            <a:chOff x="5232240" y="3811680"/>
            <a:chExt cx="322560" cy="358560"/>
          </a:xfrm>
        </p:grpSpPr>
        <p:sp>
          <p:nvSpPr>
            <p:cNvPr id="3404" name="Freeform 334"/>
            <p:cNvSpPr/>
            <p:nvPr/>
          </p:nvSpPr>
          <p:spPr>
            <a:xfrm>
              <a:off x="5244120" y="3811680"/>
              <a:ext cx="310680" cy="3585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60" h="301">
                  <a:moveTo>
                    <a:pt x="0" y="0"/>
                  </a:moveTo>
                  <a:cubicBezTo>
                    <a:pt x="57" y="35"/>
                    <a:pt x="115" y="71"/>
                    <a:pt x="158" y="121"/>
                  </a:cubicBezTo>
                  <a:cubicBezTo>
                    <a:pt x="201" y="171"/>
                    <a:pt x="230" y="236"/>
                    <a:pt x="260" y="301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Freeform 335"/>
            <p:cNvSpPr/>
            <p:nvPr/>
          </p:nvSpPr>
          <p:spPr>
            <a:xfrm>
              <a:off x="5232240" y="3818520"/>
              <a:ext cx="182520" cy="1180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53" h="99">
                  <a:moveTo>
                    <a:pt x="62" y="6"/>
                  </a:moveTo>
                  <a:lnTo>
                    <a:pt x="153" y="99"/>
                  </a:lnTo>
                  <a:lnTo>
                    <a:pt x="77" y="40"/>
                  </a:lnTo>
                  <a:lnTo>
                    <a:pt x="0" y="0"/>
                  </a:lnTo>
                  <a:lnTo>
                    <a:pt x="42" y="3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6" name="Group 336"/>
          <p:cNvGrpSpPr/>
          <p:nvPr/>
        </p:nvGrpSpPr>
        <p:grpSpPr>
          <a:xfrm>
            <a:off x="5367240" y="4079880"/>
            <a:ext cx="438120" cy="495360"/>
            <a:chOff x="5367240" y="4079880"/>
            <a:chExt cx="438120" cy="495360"/>
          </a:xfrm>
        </p:grpSpPr>
        <p:sp>
          <p:nvSpPr>
            <p:cNvPr id="3407" name="Freeform 337"/>
            <p:cNvSpPr/>
            <p:nvPr/>
          </p:nvSpPr>
          <p:spPr>
            <a:xfrm>
              <a:off x="5367240" y="4079880"/>
              <a:ext cx="438120" cy="49536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348" h="393">
                  <a:moveTo>
                    <a:pt x="152" y="66"/>
                  </a:moveTo>
                  <a:lnTo>
                    <a:pt x="68" y="69"/>
                  </a:lnTo>
                  <a:cubicBezTo>
                    <a:pt x="44" y="80"/>
                    <a:pt x="12" y="103"/>
                    <a:pt x="8" y="132"/>
                  </a:cubicBezTo>
                  <a:cubicBezTo>
                    <a:pt x="2" y="156"/>
                    <a:pt x="0" y="198"/>
                    <a:pt x="43" y="243"/>
                  </a:cubicBezTo>
                  <a:cubicBezTo>
                    <a:pt x="86" y="288"/>
                    <a:pt x="227" y="346"/>
                    <a:pt x="242" y="393"/>
                  </a:cubicBezTo>
                  <a:cubicBezTo>
                    <a:pt x="286" y="343"/>
                    <a:pt x="330" y="244"/>
                    <a:pt x="338" y="183"/>
                  </a:cubicBezTo>
                  <a:cubicBezTo>
                    <a:pt x="348" y="124"/>
                    <a:pt x="324" y="66"/>
                    <a:pt x="302" y="39"/>
                  </a:cubicBezTo>
                  <a:cubicBezTo>
                    <a:pt x="260" y="0"/>
                    <a:pt x="230" y="17"/>
                    <a:pt x="205" y="22"/>
                  </a:cubicBezTo>
                  <a:lnTo>
                    <a:pt x="152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Freeform 338"/>
            <p:cNvSpPr/>
            <p:nvPr/>
          </p:nvSpPr>
          <p:spPr>
            <a:xfrm>
              <a:off x="5560920" y="4160160"/>
              <a:ext cx="114120" cy="397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91" h="315">
                  <a:moveTo>
                    <a:pt x="0" y="0"/>
                  </a:moveTo>
                  <a:cubicBezTo>
                    <a:pt x="8" y="21"/>
                    <a:pt x="34" y="77"/>
                    <a:pt x="49" y="129"/>
                  </a:cubicBezTo>
                  <a:cubicBezTo>
                    <a:pt x="64" y="181"/>
                    <a:pt x="82" y="276"/>
                    <a:pt x="91" y="31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Freeform 339"/>
            <p:cNvSpPr/>
            <p:nvPr/>
          </p:nvSpPr>
          <p:spPr>
            <a:xfrm>
              <a:off x="5569920" y="4186800"/>
              <a:ext cx="221400" cy="1054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6" h="84">
                  <a:moveTo>
                    <a:pt x="0" y="0"/>
                  </a:moveTo>
                  <a:cubicBezTo>
                    <a:pt x="16" y="4"/>
                    <a:pt x="67" y="13"/>
                    <a:pt x="96" y="27"/>
                  </a:cubicBezTo>
                  <a:cubicBezTo>
                    <a:pt x="125" y="41"/>
                    <a:pt x="159" y="72"/>
                    <a:pt x="176" y="84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Freeform 340"/>
            <p:cNvSpPr/>
            <p:nvPr/>
          </p:nvSpPr>
          <p:spPr>
            <a:xfrm>
              <a:off x="5617800" y="4307760"/>
              <a:ext cx="146880" cy="1195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117" h="95">
                  <a:moveTo>
                    <a:pt x="0" y="0"/>
                  </a:moveTo>
                  <a:cubicBezTo>
                    <a:pt x="11" y="8"/>
                    <a:pt x="50" y="32"/>
                    <a:pt x="69" y="48"/>
                  </a:cubicBezTo>
                  <a:cubicBezTo>
                    <a:pt x="88" y="64"/>
                    <a:pt x="107" y="85"/>
                    <a:pt x="117" y="9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Freeform 341"/>
            <p:cNvSpPr/>
            <p:nvPr/>
          </p:nvSpPr>
          <p:spPr>
            <a:xfrm>
              <a:off x="5645520" y="4417560"/>
              <a:ext cx="67680" cy="968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4" h="77">
                  <a:moveTo>
                    <a:pt x="0" y="0"/>
                  </a:moveTo>
                  <a:cubicBezTo>
                    <a:pt x="5" y="5"/>
                    <a:pt x="21" y="19"/>
                    <a:pt x="30" y="32"/>
                  </a:cubicBezTo>
                  <a:cubicBezTo>
                    <a:pt x="39" y="45"/>
                    <a:pt x="49" y="68"/>
                    <a:pt x="54" y="77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Freeform 342"/>
            <p:cNvSpPr/>
            <p:nvPr/>
          </p:nvSpPr>
          <p:spPr>
            <a:xfrm>
              <a:off x="5403600" y="4178160"/>
              <a:ext cx="156960" cy="1825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5" h="145">
                  <a:moveTo>
                    <a:pt x="125" y="0"/>
                  </a:moveTo>
                  <a:cubicBezTo>
                    <a:pt x="113" y="11"/>
                    <a:pt x="72" y="42"/>
                    <a:pt x="51" y="66"/>
                  </a:cubicBezTo>
                  <a:cubicBezTo>
                    <a:pt x="30" y="90"/>
                    <a:pt x="11" y="129"/>
                    <a:pt x="0" y="145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343"/>
            <p:cNvSpPr/>
            <p:nvPr/>
          </p:nvSpPr>
          <p:spPr>
            <a:xfrm>
              <a:off x="5535720" y="4242240"/>
              <a:ext cx="48960" cy="215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39" h="171">
                  <a:moveTo>
                    <a:pt x="39" y="0"/>
                  </a:moveTo>
                  <a:cubicBezTo>
                    <a:pt x="34" y="16"/>
                    <a:pt x="12" y="68"/>
                    <a:pt x="6" y="96"/>
                  </a:cubicBezTo>
                  <a:cubicBezTo>
                    <a:pt x="0" y="124"/>
                    <a:pt x="4" y="156"/>
                    <a:pt x="3" y="171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344"/>
            <p:cNvSpPr/>
            <p:nvPr/>
          </p:nvSpPr>
          <p:spPr>
            <a:xfrm>
              <a:off x="5610960" y="4382280"/>
              <a:ext cx="11160" cy="133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9" h="106">
                  <a:moveTo>
                    <a:pt x="9" y="0"/>
                  </a:moveTo>
                  <a:cubicBezTo>
                    <a:pt x="8" y="10"/>
                    <a:pt x="0" y="40"/>
                    <a:pt x="0" y="58"/>
                  </a:cubicBezTo>
                  <a:cubicBezTo>
                    <a:pt x="0" y="76"/>
                    <a:pt x="6" y="96"/>
                    <a:pt x="8" y="106"/>
                  </a:cubicBezTo>
                </a:path>
              </a:pathLst>
            </a:custGeom>
            <a:solidFill>
              <a:srgbClr val="00b4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5" name="Line 388"/>
          <p:cNvSpPr/>
          <p:nvPr/>
        </p:nvSpPr>
        <p:spPr>
          <a:xfrm flipV="1">
            <a:off x="8250120" y="5111640"/>
            <a:ext cx="900360" cy="7920"/>
          </a:xfrm>
          <a:prstGeom prst="line">
            <a:avLst/>
          </a:prstGeom>
          <a:ln w="316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Text Box 389"/>
          <p:cNvSpPr/>
          <p:nvPr/>
        </p:nvSpPr>
        <p:spPr>
          <a:xfrm>
            <a:off x="900000" y="56865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对本次培训的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期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3" dur="indefinite" restart="never" nodeType="tmRoot">
          <p:childTnLst>
            <p:seq>
              <p:cTn id="1944" dur="indefinite" nodeType="mainSeq">
                <p:childTnLst>
                  <p:par>
                    <p:cTn id="1945" nodeType="clickEffect" fill="hold">
                      <p:stCondLst>
                        <p:cond delay="0"/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9" dur="500"/>
                                        <p:tgtEl>
                                          <p:spTgt spid="3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2" dur="500"/>
                                        <p:tgtEl>
                                          <p:spTgt spid="3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5" dur="500"/>
                                        <p:tgtEl>
                                          <p:spTgt spid="3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8" dur="500"/>
                                        <p:tgtEl>
                                          <p:spTgt spid="3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3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1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4" dur="500"/>
                                        <p:tgtEl>
                                          <p:spTgt spid="3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1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7" dur="500"/>
                                        <p:tgtEl>
                                          <p:spTgt spid="3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0" dur="500"/>
                                        <p:tgtEl>
                                          <p:spTgt spid="3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1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3" dur="500"/>
                                        <p:tgtEl>
                                          <p:spTgt spid="3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6" dur="1000"/>
                                        <p:tgtEl>
                                          <p:spTgt spid="3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9" dur="500"/>
                                        <p:tgtEl>
                                          <p:spTgt spid="3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mph" presetID="32" repeatCount="indefinite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1981" dur="100" fill="hold"/>
                                        <p:tgtEl>
                                          <p:spTgt spid="3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82" dur="100" fill="hold"/>
                                        <p:tgtEl>
                                          <p:spTgt spid="3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83" dur="100" fill="hold"/>
                                        <p:tgtEl>
                                          <p:spTgt spid="3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1000"/>
                                        <p:tgtEl>
                                          <p:spTgt spid="3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500"/>
                                        <p:tgtEl>
                                          <p:spTgt spid="3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nodeType="withEffect" fill="hold" presetClass="emph" presetID="32" repeatCount="indefinite">
                                  <p:stCondLst>
                                    <p:cond delay="4000"/>
                                  </p:stCondLst>
                                  <p:childTnLst>
                                    <p:animClr clrSpc="rgb">
                                      <p:cBhvr>
                                        <p:cTn id="1996" dur="100" fill="hold"/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97" dur="100" fill="hold"/>
                                        <p:tgtEl>
                                          <p:spTgt spid="3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98" dur="100" fill="hold"/>
                                        <p:tgtEl>
                                          <p:spTgt spid="3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1000"/>
                                        <p:tgtEl>
                                          <p:spTgt spid="3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22" presetSubtype="8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9" dur="1000"/>
                                        <p:tgtEl>
                                          <p:spTgt spid="3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22" presetSubtype="4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2" dur="500"/>
                                        <p:tgtEl>
                                          <p:spTgt spid="3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mph" presetID="32" repeatCount="indefinite">
                                  <p:stCondLst>
                                    <p:cond delay="5700"/>
                                  </p:stCondLst>
                                  <p:childTnLst>
                                    <p:animClr clrSpc="rgb">
                                      <p:cBhvr>
                                        <p:cTn id="2014" dur="100" fill="hold"/>
                                        <p:tgtEl>
                                          <p:spTgt spid="30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5" dur="100" fill="hold"/>
                                        <p:tgtEl>
                                          <p:spTgt spid="30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16" dur="100" fill="hold"/>
                                        <p:tgtEl>
                                          <p:spTgt spid="30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22" presetSubtype="2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4" dur="500"/>
                                        <p:tgtEl>
                                          <p:spTgt spid="3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2" presetSubtype="8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3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22" presetSubtype="2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0" dur="500"/>
                                        <p:tgtEl>
                                          <p:spTgt spid="3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nodeType="withEffect" fill="hold" presetClass="emph" presetID="32" repeatCount="indefinite">
                                  <p:stCondLst>
                                    <p:cond delay="6700"/>
                                  </p:stCondLst>
                                  <p:childTnLst>
                                    <p:animClr clrSpc="rgb">
                                      <p:cBhvr>
                                        <p:cTn id="2032" dur="1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33" dur="1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34" dur="1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22" presetSubtype="1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2" dur="500"/>
                                        <p:tgtEl>
                                          <p:spTgt spid="3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3" nodeType="withEffect" fill="hold" presetClass="emph" presetID="32" repeatCount="indefinite">
                                  <p:stCondLst>
                                    <p:cond delay="6700"/>
                                  </p:stCondLst>
                                  <p:childTnLst>
                                    <p:animClr clrSpc="rgb">
                                      <p:cBhvr>
                                        <p:cTn id="2044" dur="1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45" dur="1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6" dur="1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22" presetSubtype="4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4" dur="500"/>
                                        <p:tgtEl>
                                          <p:spTgt spid="3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22" presetSubtype="2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7" dur="500"/>
                                        <p:tgtEl>
                                          <p:spTgt spid="3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22" presetSubtype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0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1" nodeType="withEffect" fill="hold" presetClass="emph" presetID="32" repeatCount="indefinite">
                                  <p:stCondLst>
                                    <p:cond delay="7200"/>
                                  </p:stCondLst>
                                  <p:childTnLst>
                                    <p:animClr clrSpc="rgb">
                                      <p:cBhvr>
                                        <p:cTn id="2062" dur="100" fill="hold"/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3" dur="100" fill="hold"/>
                                        <p:tgtEl>
                                          <p:spTgt spid="3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64" dur="100" fill="hold"/>
                                        <p:tgtEl>
                                          <p:spTgt spid="3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22" presetSubtype="8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2" dur="500"/>
                                        <p:tgtEl>
                                          <p:spTgt spid="3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22" presetSubtype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5" dur="500"/>
                                        <p:tgtEl>
                                          <p:spTgt spid="3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mph" presetID="32" repeatCount="indefinite">
                                  <p:stCondLst>
                                    <p:cond delay="7200"/>
                                  </p:stCondLst>
                                  <p:childTnLst>
                                    <p:animClr clrSpc="rgb">
                                      <p:cBhvr>
                                        <p:cTn id="2077" dur="100" fill="hold"/>
                                        <p:tgtEl>
                                          <p:spTgt spid="3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78" dur="100" fill="hold"/>
                                        <p:tgtEl>
                                          <p:spTgt spid="3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9" dur="100" fill="hold"/>
                                        <p:tgtEl>
                                          <p:spTgt spid="3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22" presetSubtype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7" dur="500"/>
                                        <p:tgtEl>
                                          <p:spTgt spid="3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8" nodeType="withEffect" fill="hold" presetClass="emph" presetID="32" repeatCount="indefinite">
                                  <p:stCondLst>
                                    <p:cond delay="7200"/>
                                  </p:stCondLst>
                                  <p:childTnLst>
                                    <p:animClr clrSpc="rgb">
                                      <p:cBhvr>
                                        <p:cTn id="2089" dur="100" fill="hold"/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90" dur="100" fill="hold"/>
                                        <p:tgtEl>
                                          <p:spTgt spid="3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91" dur="100" fill="hold"/>
                                        <p:tgtEl>
                                          <p:spTgt spid="3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22" presetSubtype="4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9" dur="500"/>
                                        <p:tgtEl>
                                          <p:spTgt spid="3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nodeType="withEffect" fill="hold" presetClass="emph" presetID="32" repeatCount="indefinite">
                                  <p:stCondLst>
                                    <p:cond delay="7200"/>
                                  </p:stCondLst>
                                  <p:childTnLst>
                                    <p:animClr clrSpc="rgb">
                                      <p:cBhvr>
                                        <p:cTn id="2101" dur="1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02" dur="1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3" dur="1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22" presetSubtype="2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1" dur="5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22" presetSubtype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4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mph" presetID="32" repeatCount="indefinite">
                                  <p:stCondLst>
                                    <p:cond delay="8100"/>
                                  </p:stCondLst>
                                  <p:childTnLst>
                                    <p:animClr clrSpc="rgb">
                                      <p:cBhvr>
                                        <p:cTn id="2116" dur="100" fill="hold"/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7" dur="100" fill="hold"/>
                                        <p:tgtEl>
                                          <p:spTgt spid="3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18" dur="100" fill="hold"/>
                                        <p:tgtEl>
                                          <p:spTgt spid="3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22" presetSubtype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6" dur="1000"/>
                                        <p:tgtEl>
                                          <p:spTgt spid="3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22" presetSubtype="4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9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22" presetSubtype="4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2" dur="500"/>
                                        <p:tgtEl>
                                          <p:spTgt spid="3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22" presetSubtype="8">
                                  <p:stCondLst>
                                    <p:cond delay="990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5" dur="500"/>
                                        <p:tgtEl>
                                          <p:spTgt spid="3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22" presetSubtype="2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8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9" nodeType="withEffect" fill="hold" presetClass="emph" presetID="32" repeatCount="indefinite">
                                  <p:stCondLst>
                                    <p:cond delay="9800"/>
                                  </p:stCondLst>
                                  <p:childTnLst>
                                    <p:animClr clrSpc="rgb">
                                      <p:cBhvr>
                                        <p:cTn id="2140" dur="100" fill="hold"/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41" dur="100" fill="hold"/>
                                        <p:tgtEl>
                                          <p:spTgt spid="3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42" dur="100" fill="hold"/>
                                        <p:tgtEl>
                                          <p:spTgt spid="3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22" presetSubtype="2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0" dur="500"/>
                                        <p:tgtEl>
                                          <p:spTgt spid="3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mph" presetID="32" repeatCount="indefinite">
                                  <p:stCondLst>
                                    <p:cond delay="10100"/>
                                  </p:stCondLst>
                                  <p:childTnLst>
                                    <p:animClr clrSpc="rgb">
                                      <p:cBhvr>
                                        <p:cTn id="2152" dur="100" fill="hold"/>
                                        <p:tgtEl>
                                          <p:spTgt spid="3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53" dur="100" fill="hold"/>
                                        <p:tgtEl>
                                          <p:spTgt spid="3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54" dur="100" fill="hold"/>
                                        <p:tgtEl>
                                          <p:spTgt spid="3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0" nodeType="withEffect" fill="hold" presetClass="entr" presetID="22" presetSubtype="1">
                                  <p:stCondLst>
                                    <p:cond delay="1040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2" dur="500"/>
                                        <p:tgtEl>
                                          <p:spTgt spid="3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3" nodeType="withEffect" fill="hold" presetClass="emph" presetID="32" repeatCount="indefinite">
                                  <p:stCondLst>
                                    <p:cond delay="10400"/>
                                  </p:stCondLst>
                                  <p:childTnLst>
                                    <p:animClr clrSpc="rgb">
                                      <p:cBhvr>
                                        <p:cTn id="2164" dur="100" fill="hold"/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65" dur="100" fill="hold"/>
                                        <p:tgtEl>
                                          <p:spTgt spid="3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66" dur="100" fill="hold"/>
                                        <p:tgtEl>
                                          <p:spTgt spid="3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22" presetSubtype="2">
                                  <p:stCondLst>
                                    <p:cond delay="1040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4" dur="500"/>
                                        <p:tgtEl>
                                          <p:spTgt spid="3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5" nodeType="withEffect" fill="hold" presetClass="emph" presetID="32" repeatCount="indefinite">
                                  <p:stCondLst>
                                    <p:cond delay="10400"/>
                                  </p:stCondLst>
                                  <p:childTnLst>
                                    <p:animClr clrSpc="rgb">
                                      <p:cBhvr>
                                        <p:cTn id="2176" dur="100" fill="hold"/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77" dur="100" fill="hold"/>
                                        <p:tgtEl>
                                          <p:spTgt spid="3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8" dur="100" fill="hold"/>
                                        <p:tgtEl>
                                          <p:spTgt spid="3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22" presetSubtype="8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6" dur="1000"/>
                                        <p:tgtEl>
                                          <p:spTgt spid="3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7" nodeType="withEffect" fill="hold" presetClass="entr" presetID="22" presetSubtype="1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9" dur="500"/>
                                        <p:tgtEl>
                                          <p:spTgt spid="3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0" nodeType="withEffect" fill="hold" presetClass="emph" presetID="32" repeatCount="indefinite">
                                  <p:stCondLst>
                                    <p:cond delay="11300"/>
                                  </p:stCondLst>
                                  <p:childTnLst>
                                    <p:animClr clrSpc="rgb">
                                      <p:cBhvr>
                                        <p:cTn id="2191" dur="100" fill="hold"/>
                                        <p:tgtEl>
                                          <p:spTgt spid="3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92" dur="100" fill="hold"/>
                                        <p:tgtEl>
                                          <p:spTgt spid="3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93" dur="100" fill="hold"/>
                                        <p:tgtEl>
                                          <p:spTgt spid="3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22" presetSubtype="4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1" dur="500"/>
                                        <p:tgtEl>
                                          <p:spTgt spid="3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22" presetSubtype="1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4" dur="500"/>
                                        <p:tgtEl>
                                          <p:spTgt spid="3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5" nodeType="withEffect" fill="hold" presetClass="emph" presetID="32" repeatCount="indefinite">
                                  <p:stCondLst>
                                    <p:cond delay="12100"/>
                                  </p:stCondLst>
                                  <p:childTnLst>
                                    <p:animClr clrSpc="rgb">
                                      <p:cBhvr>
                                        <p:cTn id="2206" dur="100" fill="hold"/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07" dur="100" fill="hold"/>
                                        <p:tgtEl>
                                          <p:spTgt spid="3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08" dur="100" fill="hold"/>
                                        <p:tgtEl>
                                          <p:spTgt spid="3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22" presetSubtype="1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6" dur="500"/>
                                        <p:tgtEl>
                                          <p:spTgt spid="3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7" nodeType="withEffect" fill="hold" presetClass="emph" presetID="32" repeatCount="indefinite">
                                  <p:stCondLst>
                                    <p:cond delay="12100"/>
                                  </p:stCondLst>
                                  <p:childTnLst>
                                    <p:animClr clrSpc="rgb">
                                      <p:cBhvr>
                                        <p:cTn id="2218" dur="100" fill="hold"/>
                                        <p:tgtEl>
                                          <p:spTgt spid="3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19" dur="100" fill="hold"/>
                                        <p:tgtEl>
                                          <p:spTgt spid="3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20" dur="100" fill="hold"/>
                                        <p:tgtEl>
                                          <p:spTgt spid="3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22" presetSubtype="1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8" dur="500"/>
                                        <p:tgtEl>
                                          <p:spTgt spid="3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emph" presetID="32" repeatCount="indefinite">
                                  <p:stCondLst>
                                    <p:cond delay="12600"/>
                                  </p:stCondLst>
                                  <p:childTnLst>
                                    <p:animClr clrSpc="rgb">
                                      <p:cBhvr>
                                        <p:cTn id="2230" dur="100" fill="hold"/>
                                        <p:tgtEl>
                                          <p:spTgt spid="3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31" dur="100" fill="hold"/>
                                        <p:tgtEl>
                                          <p:spTgt spid="3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32" dur="100" fill="hold"/>
                                        <p:tgtEl>
                                          <p:spTgt spid="3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22" presetSubtype="1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0" dur="500"/>
                                        <p:tgtEl>
                                          <p:spTgt spid="3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1" nodeType="withEffect" fill="hold" presetClass="emph" presetID="32" repeatCount="indefinite">
                                  <p:stCondLst>
                                    <p:cond delay="12600"/>
                                  </p:stCondLst>
                                  <p:childTnLst>
                                    <p:animClr clrSpc="rgb">
                                      <p:cBhvr>
                                        <p:cTn id="2242" dur="100" fill="hold"/>
                                        <p:tgtEl>
                                          <p:spTgt spid="3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43" dur="100" fill="hold"/>
                                        <p:tgtEl>
                                          <p:spTgt spid="3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44" dur="100" fill="hold"/>
                                        <p:tgtEl>
                                          <p:spTgt spid="3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22" presetSubtype="1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2" dur="500"/>
                                        <p:tgtEl>
                                          <p:spTgt spid="3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3" nodeType="withEffect" fill="hold" presetClass="emph" presetID="32" repeatCount="indefinite">
                                  <p:stCondLst>
                                    <p:cond delay="12600"/>
                                  </p:stCondLst>
                                  <p:childTnLst>
                                    <p:animClr clrSpc="rgb">
                                      <p:cBhvr>
                                        <p:cTn id="2254" dur="100" fill="hold"/>
                                        <p:tgtEl>
                                          <p:spTgt spid="3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55" dur="100" fill="hold"/>
                                        <p:tgtEl>
                                          <p:spTgt spid="3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56" dur="100" fill="hold"/>
                                        <p:tgtEl>
                                          <p:spTgt spid="3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22" presetSubtype="8">
                                  <p:stCondLst>
                                    <p:cond delay="1310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4" dur="1000"/>
                                        <p:tgtEl>
                                          <p:spTgt spid="3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22" presetSubtype="4">
                                  <p:stCondLst>
                                    <p:cond delay="1390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7" dur="500"/>
                                        <p:tgtEl>
                                          <p:spTgt spid="3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22" presetSubtype="1">
                                  <p:stCondLst>
                                    <p:cond delay="1440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0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nodeType="withEffect" fill="hold" presetClass="emph" presetID="32" repeatCount="indefinite">
                                  <p:stCondLst>
                                    <p:cond delay="14400"/>
                                  </p:stCondLst>
                                  <p:childTnLst>
                                    <p:animClr clrSpc="rgb">
                                      <p:cBhvr>
                                        <p:cTn id="2272" dur="100" fill="hold"/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73" dur="100" fill="hold"/>
                                        <p:tgtEl>
                                          <p:spTgt spid="3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74" dur="100" fill="hold"/>
                                        <p:tgtEl>
                                          <p:spTgt spid="3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22" presetSubtype="4">
                                  <p:stCondLst>
                                    <p:cond delay="1440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500"/>
                                        <p:tgtEl>
                                          <p:spTgt spid="3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22" presetSubtype="1">
                                  <p:stCondLst>
                                    <p:cond delay="1440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5" dur="500"/>
                                        <p:tgtEl>
                                          <p:spTgt spid="3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22" presetSubtype="1">
                                  <p:stCondLst>
                                    <p:cond delay="1490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8" dur="500"/>
                                        <p:tgtEl>
                                          <p:spTgt spid="3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9" nodeType="withEffect" fill="hold" presetClass="emph" presetID="32" repeatCount="indefinite">
                                  <p:stCondLst>
                                    <p:cond delay="14900"/>
                                  </p:stCondLst>
                                  <p:childTnLst>
                                    <p:animClr clrSpc="rgb">
                                      <p:cBhvr>
                                        <p:cTn id="2290" dur="100" fill="hold"/>
                                        <p:tgtEl>
                                          <p:spTgt spid="3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91" dur="100" fill="hold"/>
                                        <p:tgtEl>
                                          <p:spTgt spid="3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92" dur="100" fill="hold"/>
                                        <p:tgtEl>
                                          <p:spTgt spid="3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8" nodeType="withEffect" fill="hold" presetClass="entr" presetID="22" presetSubtype="4">
                                  <p:stCondLst>
                                    <p:cond delay="1440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0" dur="500"/>
                                        <p:tgtEl>
                                          <p:spTgt spid="3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22" presetSubtype="1">
                                  <p:stCondLst>
                                    <p:cond delay="1490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3" dur="500"/>
                                        <p:tgtEl>
                                          <p:spTgt spid="3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4" nodeType="withEffect" fill="hold" presetClass="emph" presetID="32" repeatCount="indefinite">
                                  <p:stCondLst>
                                    <p:cond delay="14900"/>
                                  </p:stCondLst>
                                  <p:childTnLst>
                                    <p:animClr clrSpc="rgb">
                                      <p:cBhvr>
                                        <p:cTn id="2305" dur="100" fill="hold"/>
                                        <p:tgtEl>
                                          <p:spTgt spid="3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06" dur="100" fill="hold"/>
                                        <p:tgtEl>
                                          <p:spTgt spid="3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07" dur="100" fill="hold"/>
                                        <p:tgtEl>
                                          <p:spTgt spid="3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22" presetSubtype="4">
                                  <p:stCondLst>
                                    <p:cond delay="1540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5" dur="500"/>
                                        <p:tgtEl>
                                          <p:spTgt spid="3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6" nodeType="withEffect" fill="hold" presetClass="entr" presetID="22" presetSubtype="2">
                                  <p:stCondLst>
                                    <p:cond delay="1590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8" dur="500"/>
                                        <p:tgtEl>
                                          <p:spTgt spid="3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22" presetSubtype="8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1" dur="1000"/>
                                        <p:tgtEl>
                                          <p:spTgt spid="3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2" nodeType="withEffect" fill="hold" presetClass="emph" presetID="32" repeatCount="indefinite">
                                  <p:stCondLst>
                                    <p:cond delay="15900"/>
                                  </p:stCondLst>
                                  <p:childTnLst>
                                    <p:animClr clrSpc="rgb">
                                      <p:cBhvr>
                                        <p:cTn id="2323" dur="100" fill="hold"/>
                                        <p:tgtEl>
                                          <p:spTgt spid="3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24" dur="100" fill="hold"/>
                                        <p:tgtEl>
                                          <p:spTgt spid="3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25" dur="100" fill="hold"/>
                                        <p:tgtEl>
                                          <p:spTgt spid="3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22" presetSubtype="8">
                                  <p:stCondLst>
                                    <p:cond delay="1690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3" dur="500"/>
                                        <p:tgtEl>
                                          <p:spTgt spid="3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22" presetSubtype="2">
                                  <p:stCondLst>
                                    <p:cond delay="1740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6" dur="500"/>
                                        <p:tgtEl>
                                          <p:spTgt spid="3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7" nodeType="withEffect" fill="hold" presetClass="emph" presetID="32" repeatCount="indefinite">
                                  <p:stCondLst>
                                    <p:cond delay="17400"/>
                                  </p:stCondLst>
                                  <p:childTnLst>
                                    <p:animClr clrSpc="rgb">
                                      <p:cBhvr>
                                        <p:cTn id="2338" dur="100" fill="hold"/>
                                        <p:tgtEl>
                                          <p:spTgt spid="3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39" dur="100" fill="hold"/>
                                        <p:tgtEl>
                                          <p:spTgt spid="3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0" dur="100" fill="hold"/>
                                        <p:tgtEl>
                                          <p:spTgt spid="3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22" presetSubtype="8">
                                  <p:stCondLst>
                                    <p:cond delay="1830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8" dur="500"/>
                                        <p:tgtEl>
                                          <p:spTgt spid="3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1" dur="2000" fill="hold"/>
                                        <p:tgtEl>
                                          <p:spTgt spid="3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2000" fill="hold"/>
                                        <p:tgtEl>
                                          <p:spTgt spid="3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2000" fill="hold"/>
                                        <p:tgtEl>
                                          <p:spTgt spid="3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2000" fill="hold"/>
                                        <p:tgtEl>
                                          <p:spTgt spid="3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55" dur="2000"/>
                                        <p:tgtEl>
                                          <p:spTgt spid="3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2E95-82D2-41DC-A51C-E5F8702829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矩形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矩形 40"/>
          <p:cNvSpPr/>
          <p:nvPr/>
        </p:nvSpPr>
        <p:spPr>
          <a:xfrm>
            <a:off x="0" y="6215040"/>
            <a:ext cx="91440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矩形 43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Freeform 27"/>
          <p:cNvSpPr/>
          <p:nvPr/>
        </p:nvSpPr>
        <p:spPr>
          <a:xfrm>
            <a:off x="5500800" y="1785960"/>
            <a:ext cx="1500120" cy="1469880"/>
          </a:xfrm>
          <a:custGeom>
            <a:avLst/>
            <a:gdLst>
              <a:gd name="textAreaLeft" fmla="*/ 0 w 1500120"/>
              <a:gd name="textAreaRight" fmla="*/ 1500480 w 1500120"/>
              <a:gd name="textAreaTop" fmla="*/ 0 h 1469880"/>
              <a:gd name="textAreaBottom" fmla="*/ 1470240 h 1469880"/>
            </a:gdLst>
            <a:ahLst/>
            <a:rect l="textAreaLeft" t="textAreaTop" r="textAreaRight" b="textAreaBottom"/>
            <a:pathLst>
              <a:path w="990" h="970">
                <a:moveTo>
                  <a:pt x="379" y="918"/>
                </a:moveTo>
                <a:cubicBezTo>
                  <a:pt x="379" y="915"/>
                  <a:pt x="376" y="914"/>
                  <a:pt x="377" y="910"/>
                </a:cubicBezTo>
                <a:cubicBezTo>
                  <a:pt x="367" y="909"/>
                  <a:pt x="367" y="924"/>
                  <a:pt x="359" y="925"/>
                </a:cubicBezTo>
                <a:cubicBezTo>
                  <a:pt x="359" y="922"/>
                  <a:pt x="359" y="922"/>
                  <a:pt x="359" y="922"/>
                </a:cubicBezTo>
                <a:cubicBezTo>
                  <a:pt x="356" y="921"/>
                  <a:pt x="356" y="921"/>
                  <a:pt x="356" y="921"/>
                </a:cubicBezTo>
                <a:cubicBezTo>
                  <a:pt x="348" y="918"/>
                  <a:pt x="343" y="918"/>
                  <a:pt x="336" y="921"/>
                </a:cubicBezTo>
                <a:cubicBezTo>
                  <a:pt x="335" y="921"/>
                  <a:pt x="332" y="923"/>
                  <a:pt x="332" y="923"/>
                </a:cubicBezTo>
                <a:cubicBezTo>
                  <a:pt x="325" y="925"/>
                  <a:pt x="317" y="926"/>
                  <a:pt x="311" y="930"/>
                </a:cubicBezTo>
                <a:cubicBezTo>
                  <a:pt x="303" y="927"/>
                  <a:pt x="297" y="923"/>
                  <a:pt x="291" y="918"/>
                </a:cubicBezTo>
                <a:cubicBezTo>
                  <a:pt x="275" y="919"/>
                  <a:pt x="253" y="929"/>
                  <a:pt x="240" y="919"/>
                </a:cubicBezTo>
                <a:cubicBezTo>
                  <a:pt x="245" y="897"/>
                  <a:pt x="262" y="894"/>
                  <a:pt x="281" y="893"/>
                </a:cubicBezTo>
                <a:cubicBezTo>
                  <a:pt x="281" y="897"/>
                  <a:pt x="288" y="897"/>
                  <a:pt x="287" y="902"/>
                </a:cubicBezTo>
                <a:cubicBezTo>
                  <a:pt x="290" y="904"/>
                  <a:pt x="287" y="910"/>
                  <a:pt x="292" y="911"/>
                </a:cubicBezTo>
                <a:cubicBezTo>
                  <a:pt x="297" y="914"/>
                  <a:pt x="298" y="909"/>
                  <a:pt x="300" y="909"/>
                </a:cubicBezTo>
                <a:cubicBezTo>
                  <a:pt x="302" y="909"/>
                  <a:pt x="307" y="911"/>
                  <a:pt x="308" y="910"/>
                </a:cubicBezTo>
                <a:cubicBezTo>
                  <a:pt x="311" y="908"/>
                  <a:pt x="308" y="903"/>
                  <a:pt x="313" y="904"/>
                </a:cubicBezTo>
                <a:cubicBezTo>
                  <a:pt x="316" y="904"/>
                  <a:pt x="321" y="901"/>
                  <a:pt x="322" y="898"/>
                </a:cubicBezTo>
                <a:cubicBezTo>
                  <a:pt x="330" y="901"/>
                  <a:pt x="338" y="901"/>
                  <a:pt x="345" y="899"/>
                </a:cubicBezTo>
                <a:cubicBezTo>
                  <a:pt x="347" y="899"/>
                  <a:pt x="351" y="898"/>
                  <a:pt x="353" y="897"/>
                </a:cubicBezTo>
                <a:cubicBezTo>
                  <a:pt x="354" y="897"/>
                  <a:pt x="353" y="894"/>
                  <a:pt x="354" y="893"/>
                </a:cubicBezTo>
                <a:cubicBezTo>
                  <a:pt x="358" y="892"/>
                  <a:pt x="362" y="894"/>
                  <a:pt x="366" y="892"/>
                </a:cubicBezTo>
                <a:cubicBezTo>
                  <a:pt x="372" y="888"/>
                  <a:pt x="376" y="881"/>
                  <a:pt x="381" y="876"/>
                </a:cubicBezTo>
                <a:cubicBezTo>
                  <a:pt x="386" y="867"/>
                  <a:pt x="375" y="867"/>
                  <a:pt x="377" y="860"/>
                </a:cubicBezTo>
                <a:cubicBezTo>
                  <a:pt x="384" y="829"/>
                  <a:pt x="360" y="818"/>
                  <a:pt x="347" y="799"/>
                </a:cubicBezTo>
                <a:cubicBezTo>
                  <a:pt x="348" y="791"/>
                  <a:pt x="359" y="798"/>
                  <a:pt x="361" y="791"/>
                </a:cubicBezTo>
                <a:cubicBezTo>
                  <a:pt x="362" y="785"/>
                  <a:pt x="362" y="776"/>
                  <a:pt x="367" y="777"/>
                </a:cubicBezTo>
                <a:cubicBezTo>
                  <a:pt x="367" y="772"/>
                  <a:pt x="363" y="770"/>
                  <a:pt x="362" y="764"/>
                </a:cubicBezTo>
                <a:cubicBezTo>
                  <a:pt x="361" y="753"/>
                  <a:pt x="369" y="738"/>
                  <a:pt x="358" y="732"/>
                </a:cubicBezTo>
                <a:cubicBezTo>
                  <a:pt x="352" y="731"/>
                  <a:pt x="345" y="734"/>
                  <a:pt x="341" y="737"/>
                </a:cubicBezTo>
                <a:cubicBezTo>
                  <a:pt x="340" y="737"/>
                  <a:pt x="341" y="743"/>
                  <a:pt x="340" y="744"/>
                </a:cubicBezTo>
                <a:cubicBezTo>
                  <a:pt x="338" y="745"/>
                  <a:pt x="334" y="746"/>
                  <a:pt x="332" y="746"/>
                </a:cubicBezTo>
                <a:cubicBezTo>
                  <a:pt x="327" y="745"/>
                  <a:pt x="330" y="751"/>
                  <a:pt x="326" y="753"/>
                </a:cubicBezTo>
                <a:cubicBezTo>
                  <a:pt x="321" y="755"/>
                  <a:pt x="316" y="756"/>
                  <a:pt x="309" y="760"/>
                </a:cubicBezTo>
                <a:cubicBezTo>
                  <a:pt x="308" y="761"/>
                  <a:pt x="306" y="766"/>
                  <a:pt x="304" y="767"/>
                </a:cubicBezTo>
                <a:cubicBezTo>
                  <a:pt x="303" y="768"/>
                  <a:pt x="298" y="765"/>
                  <a:pt x="297" y="765"/>
                </a:cubicBezTo>
                <a:cubicBezTo>
                  <a:pt x="292" y="769"/>
                  <a:pt x="287" y="774"/>
                  <a:pt x="273" y="768"/>
                </a:cubicBezTo>
                <a:cubicBezTo>
                  <a:pt x="275" y="764"/>
                  <a:pt x="274" y="761"/>
                  <a:pt x="271" y="760"/>
                </a:cubicBezTo>
                <a:cubicBezTo>
                  <a:pt x="270" y="747"/>
                  <a:pt x="284" y="745"/>
                  <a:pt x="290" y="741"/>
                </a:cubicBezTo>
                <a:cubicBezTo>
                  <a:pt x="294" y="739"/>
                  <a:pt x="297" y="733"/>
                  <a:pt x="300" y="732"/>
                </a:cubicBezTo>
                <a:cubicBezTo>
                  <a:pt x="301" y="731"/>
                  <a:pt x="305" y="729"/>
                  <a:pt x="305" y="729"/>
                </a:cubicBezTo>
                <a:cubicBezTo>
                  <a:pt x="306" y="728"/>
                  <a:pt x="310" y="731"/>
                  <a:pt x="312" y="730"/>
                </a:cubicBezTo>
                <a:cubicBezTo>
                  <a:pt x="313" y="730"/>
                  <a:pt x="312" y="727"/>
                  <a:pt x="313" y="727"/>
                </a:cubicBezTo>
                <a:cubicBezTo>
                  <a:pt x="314" y="726"/>
                  <a:pt x="316" y="728"/>
                  <a:pt x="316" y="727"/>
                </a:cubicBezTo>
                <a:cubicBezTo>
                  <a:pt x="317" y="727"/>
                  <a:pt x="317" y="724"/>
                  <a:pt x="317" y="724"/>
                </a:cubicBezTo>
                <a:cubicBezTo>
                  <a:pt x="318" y="723"/>
                  <a:pt x="325" y="722"/>
                  <a:pt x="325" y="722"/>
                </a:cubicBezTo>
                <a:cubicBezTo>
                  <a:pt x="326" y="720"/>
                  <a:pt x="326" y="715"/>
                  <a:pt x="327" y="714"/>
                </a:cubicBezTo>
                <a:cubicBezTo>
                  <a:pt x="328" y="713"/>
                  <a:pt x="333" y="717"/>
                  <a:pt x="334" y="716"/>
                </a:cubicBezTo>
                <a:cubicBezTo>
                  <a:pt x="335" y="715"/>
                  <a:pt x="334" y="713"/>
                  <a:pt x="335" y="712"/>
                </a:cubicBezTo>
                <a:cubicBezTo>
                  <a:pt x="336" y="712"/>
                  <a:pt x="338" y="713"/>
                  <a:pt x="339" y="713"/>
                </a:cubicBezTo>
                <a:cubicBezTo>
                  <a:pt x="343" y="710"/>
                  <a:pt x="344" y="705"/>
                  <a:pt x="351" y="708"/>
                </a:cubicBezTo>
                <a:cubicBezTo>
                  <a:pt x="356" y="699"/>
                  <a:pt x="365" y="696"/>
                  <a:pt x="371" y="689"/>
                </a:cubicBezTo>
                <a:cubicBezTo>
                  <a:pt x="380" y="691"/>
                  <a:pt x="389" y="693"/>
                  <a:pt x="394" y="690"/>
                </a:cubicBezTo>
                <a:cubicBezTo>
                  <a:pt x="398" y="690"/>
                  <a:pt x="398" y="684"/>
                  <a:pt x="400" y="680"/>
                </a:cubicBezTo>
                <a:cubicBezTo>
                  <a:pt x="401" y="677"/>
                  <a:pt x="404" y="677"/>
                  <a:pt x="405" y="673"/>
                </a:cubicBezTo>
                <a:cubicBezTo>
                  <a:pt x="411" y="678"/>
                  <a:pt x="408" y="688"/>
                  <a:pt x="417" y="691"/>
                </a:cubicBezTo>
                <a:cubicBezTo>
                  <a:pt x="422" y="691"/>
                  <a:pt x="424" y="685"/>
                  <a:pt x="429" y="686"/>
                </a:cubicBezTo>
                <a:cubicBezTo>
                  <a:pt x="430" y="686"/>
                  <a:pt x="432" y="687"/>
                  <a:pt x="433" y="687"/>
                </a:cubicBezTo>
                <a:cubicBezTo>
                  <a:pt x="438" y="685"/>
                  <a:pt x="443" y="679"/>
                  <a:pt x="447" y="675"/>
                </a:cubicBezTo>
                <a:cubicBezTo>
                  <a:pt x="452" y="676"/>
                  <a:pt x="457" y="677"/>
                  <a:pt x="462" y="678"/>
                </a:cubicBezTo>
                <a:cubicBezTo>
                  <a:pt x="465" y="667"/>
                  <a:pt x="453" y="665"/>
                  <a:pt x="446" y="663"/>
                </a:cubicBezTo>
                <a:cubicBezTo>
                  <a:pt x="438" y="660"/>
                  <a:pt x="434" y="668"/>
                  <a:pt x="428" y="659"/>
                </a:cubicBezTo>
                <a:cubicBezTo>
                  <a:pt x="424" y="661"/>
                  <a:pt x="421" y="664"/>
                  <a:pt x="418" y="668"/>
                </a:cubicBezTo>
                <a:cubicBezTo>
                  <a:pt x="414" y="667"/>
                  <a:pt x="416" y="661"/>
                  <a:pt x="417" y="656"/>
                </a:cubicBezTo>
                <a:cubicBezTo>
                  <a:pt x="395" y="647"/>
                  <a:pt x="381" y="659"/>
                  <a:pt x="368" y="650"/>
                </a:cubicBezTo>
                <a:cubicBezTo>
                  <a:pt x="363" y="633"/>
                  <a:pt x="380" y="629"/>
                  <a:pt x="384" y="611"/>
                </a:cubicBezTo>
                <a:cubicBezTo>
                  <a:pt x="388" y="598"/>
                  <a:pt x="377" y="590"/>
                  <a:pt x="371" y="581"/>
                </a:cubicBezTo>
                <a:cubicBezTo>
                  <a:pt x="371" y="580"/>
                  <a:pt x="372" y="578"/>
                  <a:pt x="372" y="577"/>
                </a:cubicBezTo>
                <a:cubicBezTo>
                  <a:pt x="371" y="577"/>
                  <a:pt x="369" y="577"/>
                  <a:pt x="368" y="577"/>
                </a:cubicBezTo>
                <a:cubicBezTo>
                  <a:pt x="368" y="576"/>
                  <a:pt x="369" y="574"/>
                  <a:pt x="369" y="573"/>
                </a:cubicBezTo>
                <a:cubicBezTo>
                  <a:pt x="369" y="572"/>
                  <a:pt x="366" y="573"/>
                  <a:pt x="365" y="572"/>
                </a:cubicBezTo>
                <a:cubicBezTo>
                  <a:pt x="365" y="572"/>
                  <a:pt x="367" y="569"/>
                  <a:pt x="366" y="568"/>
                </a:cubicBezTo>
                <a:cubicBezTo>
                  <a:pt x="365" y="567"/>
                  <a:pt x="360" y="568"/>
                  <a:pt x="359" y="567"/>
                </a:cubicBezTo>
                <a:cubicBezTo>
                  <a:pt x="355" y="565"/>
                  <a:pt x="358" y="564"/>
                  <a:pt x="356" y="562"/>
                </a:cubicBezTo>
                <a:cubicBezTo>
                  <a:pt x="355" y="562"/>
                  <a:pt x="349" y="562"/>
                  <a:pt x="348" y="561"/>
                </a:cubicBezTo>
                <a:cubicBezTo>
                  <a:pt x="348" y="560"/>
                  <a:pt x="350" y="557"/>
                  <a:pt x="349" y="557"/>
                </a:cubicBezTo>
                <a:cubicBezTo>
                  <a:pt x="348" y="556"/>
                  <a:pt x="343" y="557"/>
                  <a:pt x="342" y="556"/>
                </a:cubicBezTo>
                <a:cubicBezTo>
                  <a:pt x="342" y="555"/>
                  <a:pt x="343" y="552"/>
                  <a:pt x="343" y="552"/>
                </a:cubicBezTo>
                <a:cubicBezTo>
                  <a:pt x="342" y="551"/>
                  <a:pt x="336" y="552"/>
                  <a:pt x="335" y="550"/>
                </a:cubicBezTo>
                <a:cubicBezTo>
                  <a:pt x="335" y="550"/>
                  <a:pt x="336" y="547"/>
                  <a:pt x="336" y="547"/>
                </a:cubicBezTo>
                <a:cubicBezTo>
                  <a:pt x="329" y="542"/>
                  <a:pt x="318" y="541"/>
                  <a:pt x="311" y="537"/>
                </a:cubicBezTo>
                <a:cubicBezTo>
                  <a:pt x="311" y="528"/>
                  <a:pt x="301" y="525"/>
                  <a:pt x="300" y="516"/>
                </a:cubicBezTo>
                <a:cubicBezTo>
                  <a:pt x="289" y="511"/>
                  <a:pt x="290" y="525"/>
                  <a:pt x="277" y="518"/>
                </a:cubicBezTo>
                <a:cubicBezTo>
                  <a:pt x="279" y="507"/>
                  <a:pt x="285" y="502"/>
                  <a:pt x="290" y="494"/>
                </a:cubicBezTo>
                <a:cubicBezTo>
                  <a:pt x="291" y="496"/>
                  <a:pt x="291" y="496"/>
                  <a:pt x="291" y="496"/>
                </a:cubicBezTo>
                <a:cubicBezTo>
                  <a:pt x="293" y="495"/>
                  <a:pt x="293" y="495"/>
                  <a:pt x="293" y="495"/>
                </a:cubicBezTo>
                <a:cubicBezTo>
                  <a:pt x="304" y="497"/>
                  <a:pt x="315" y="500"/>
                  <a:pt x="326" y="502"/>
                </a:cubicBezTo>
                <a:cubicBezTo>
                  <a:pt x="337" y="502"/>
                  <a:pt x="332" y="511"/>
                  <a:pt x="340" y="513"/>
                </a:cubicBezTo>
                <a:cubicBezTo>
                  <a:pt x="341" y="508"/>
                  <a:pt x="347" y="511"/>
                  <a:pt x="351" y="511"/>
                </a:cubicBezTo>
                <a:cubicBezTo>
                  <a:pt x="353" y="507"/>
                  <a:pt x="358" y="508"/>
                  <a:pt x="360" y="506"/>
                </a:cubicBezTo>
                <a:cubicBezTo>
                  <a:pt x="368" y="500"/>
                  <a:pt x="371" y="494"/>
                  <a:pt x="376" y="486"/>
                </a:cubicBezTo>
                <a:cubicBezTo>
                  <a:pt x="365" y="474"/>
                  <a:pt x="347" y="467"/>
                  <a:pt x="346" y="448"/>
                </a:cubicBezTo>
                <a:cubicBezTo>
                  <a:pt x="331" y="445"/>
                  <a:pt x="325" y="434"/>
                  <a:pt x="313" y="438"/>
                </a:cubicBezTo>
                <a:cubicBezTo>
                  <a:pt x="311" y="438"/>
                  <a:pt x="310" y="443"/>
                  <a:pt x="308" y="444"/>
                </a:cubicBezTo>
                <a:cubicBezTo>
                  <a:pt x="307" y="445"/>
                  <a:pt x="303" y="443"/>
                  <a:pt x="304" y="447"/>
                </a:cubicBezTo>
                <a:cubicBezTo>
                  <a:pt x="300" y="446"/>
                  <a:pt x="300" y="446"/>
                  <a:pt x="300" y="446"/>
                </a:cubicBezTo>
                <a:cubicBezTo>
                  <a:pt x="299" y="450"/>
                  <a:pt x="299" y="450"/>
                  <a:pt x="299" y="450"/>
                </a:cubicBezTo>
                <a:cubicBezTo>
                  <a:pt x="296" y="449"/>
                  <a:pt x="297" y="445"/>
                  <a:pt x="297" y="442"/>
                </a:cubicBezTo>
                <a:cubicBezTo>
                  <a:pt x="297" y="439"/>
                  <a:pt x="294" y="437"/>
                  <a:pt x="295" y="434"/>
                </a:cubicBezTo>
                <a:cubicBezTo>
                  <a:pt x="287" y="431"/>
                  <a:pt x="281" y="431"/>
                  <a:pt x="276" y="433"/>
                </a:cubicBezTo>
                <a:cubicBezTo>
                  <a:pt x="268" y="450"/>
                  <a:pt x="288" y="449"/>
                  <a:pt x="280" y="465"/>
                </a:cubicBezTo>
                <a:cubicBezTo>
                  <a:pt x="269" y="471"/>
                  <a:pt x="266" y="454"/>
                  <a:pt x="253" y="452"/>
                </a:cubicBezTo>
                <a:cubicBezTo>
                  <a:pt x="247" y="452"/>
                  <a:pt x="245" y="457"/>
                  <a:pt x="240" y="457"/>
                </a:cubicBezTo>
                <a:cubicBezTo>
                  <a:pt x="238" y="472"/>
                  <a:pt x="251" y="477"/>
                  <a:pt x="261" y="484"/>
                </a:cubicBezTo>
                <a:cubicBezTo>
                  <a:pt x="258" y="501"/>
                  <a:pt x="265" y="511"/>
                  <a:pt x="259" y="530"/>
                </a:cubicBezTo>
                <a:cubicBezTo>
                  <a:pt x="250" y="532"/>
                  <a:pt x="255" y="523"/>
                  <a:pt x="253" y="521"/>
                </a:cubicBezTo>
                <a:cubicBezTo>
                  <a:pt x="251" y="519"/>
                  <a:pt x="244" y="521"/>
                  <a:pt x="242" y="519"/>
                </a:cubicBezTo>
                <a:cubicBezTo>
                  <a:pt x="241" y="518"/>
                  <a:pt x="243" y="516"/>
                  <a:pt x="243" y="515"/>
                </a:cubicBezTo>
                <a:cubicBezTo>
                  <a:pt x="242" y="514"/>
                  <a:pt x="240" y="515"/>
                  <a:pt x="239" y="514"/>
                </a:cubicBezTo>
                <a:cubicBezTo>
                  <a:pt x="239" y="513"/>
                  <a:pt x="240" y="511"/>
                  <a:pt x="240" y="510"/>
                </a:cubicBezTo>
                <a:cubicBezTo>
                  <a:pt x="239" y="510"/>
                  <a:pt x="237" y="510"/>
                  <a:pt x="236" y="510"/>
                </a:cubicBezTo>
                <a:cubicBezTo>
                  <a:pt x="236" y="509"/>
                  <a:pt x="237" y="507"/>
                  <a:pt x="237" y="506"/>
                </a:cubicBezTo>
                <a:cubicBezTo>
                  <a:pt x="237" y="505"/>
                  <a:pt x="234" y="506"/>
                  <a:pt x="233" y="505"/>
                </a:cubicBezTo>
                <a:cubicBezTo>
                  <a:pt x="233" y="504"/>
                  <a:pt x="235" y="502"/>
                  <a:pt x="234" y="501"/>
                </a:cubicBezTo>
                <a:cubicBezTo>
                  <a:pt x="233" y="499"/>
                  <a:pt x="224" y="488"/>
                  <a:pt x="223" y="480"/>
                </a:cubicBezTo>
                <a:cubicBezTo>
                  <a:pt x="217" y="478"/>
                  <a:pt x="210" y="483"/>
                  <a:pt x="203" y="483"/>
                </a:cubicBezTo>
                <a:cubicBezTo>
                  <a:pt x="195" y="484"/>
                  <a:pt x="184" y="477"/>
                  <a:pt x="180" y="486"/>
                </a:cubicBezTo>
                <a:cubicBezTo>
                  <a:pt x="173" y="483"/>
                  <a:pt x="172" y="476"/>
                  <a:pt x="163" y="475"/>
                </a:cubicBezTo>
                <a:cubicBezTo>
                  <a:pt x="160" y="475"/>
                  <a:pt x="158" y="477"/>
                  <a:pt x="155" y="477"/>
                </a:cubicBezTo>
                <a:cubicBezTo>
                  <a:pt x="146" y="474"/>
                  <a:pt x="148" y="486"/>
                  <a:pt x="141" y="485"/>
                </a:cubicBezTo>
                <a:cubicBezTo>
                  <a:pt x="135" y="505"/>
                  <a:pt x="144" y="524"/>
                  <a:pt x="124" y="528"/>
                </a:cubicBezTo>
                <a:cubicBezTo>
                  <a:pt x="97" y="517"/>
                  <a:pt x="130" y="498"/>
                  <a:pt x="129" y="471"/>
                </a:cubicBezTo>
                <a:cubicBezTo>
                  <a:pt x="128" y="465"/>
                  <a:pt x="125" y="461"/>
                  <a:pt x="120" y="458"/>
                </a:cubicBezTo>
                <a:cubicBezTo>
                  <a:pt x="104" y="456"/>
                  <a:pt x="97" y="468"/>
                  <a:pt x="77" y="460"/>
                </a:cubicBezTo>
                <a:cubicBezTo>
                  <a:pt x="76" y="454"/>
                  <a:pt x="71" y="450"/>
                  <a:pt x="69" y="443"/>
                </a:cubicBezTo>
                <a:cubicBezTo>
                  <a:pt x="69" y="441"/>
                  <a:pt x="71" y="438"/>
                  <a:pt x="71" y="436"/>
                </a:cubicBezTo>
                <a:cubicBezTo>
                  <a:pt x="71" y="430"/>
                  <a:pt x="66" y="428"/>
                  <a:pt x="66" y="423"/>
                </a:cubicBezTo>
                <a:cubicBezTo>
                  <a:pt x="46" y="417"/>
                  <a:pt x="32" y="424"/>
                  <a:pt x="23" y="410"/>
                </a:cubicBezTo>
                <a:cubicBezTo>
                  <a:pt x="22" y="396"/>
                  <a:pt x="31" y="397"/>
                  <a:pt x="32" y="385"/>
                </a:cubicBezTo>
                <a:cubicBezTo>
                  <a:pt x="35" y="374"/>
                  <a:pt x="26" y="370"/>
                  <a:pt x="21" y="363"/>
                </a:cubicBezTo>
                <a:cubicBezTo>
                  <a:pt x="19" y="361"/>
                  <a:pt x="23" y="360"/>
                  <a:pt x="18" y="359"/>
                </a:cubicBezTo>
                <a:cubicBezTo>
                  <a:pt x="13" y="357"/>
                  <a:pt x="12" y="349"/>
                  <a:pt x="10" y="345"/>
                </a:cubicBezTo>
                <a:cubicBezTo>
                  <a:pt x="9" y="345"/>
                  <a:pt x="6" y="345"/>
                  <a:pt x="6" y="344"/>
                </a:cubicBezTo>
                <a:cubicBezTo>
                  <a:pt x="5" y="343"/>
                  <a:pt x="9" y="338"/>
                  <a:pt x="8" y="337"/>
                </a:cubicBezTo>
                <a:cubicBezTo>
                  <a:pt x="7" y="337"/>
                  <a:pt x="4" y="337"/>
                  <a:pt x="4" y="336"/>
                </a:cubicBezTo>
                <a:cubicBezTo>
                  <a:pt x="3" y="330"/>
                  <a:pt x="6" y="325"/>
                  <a:pt x="0" y="320"/>
                </a:cubicBezTo>
                <a:cubicBezTo>
                  <a:pt x="12" y="306"/>
                  <a:pt x="31" y="303"/>
                  <a:pt x="42" y="287"/>
                </a:cubicBezTo>
                <a:cubicBezTo>
                  <a:pt x="45" y="269"/>
                  <a:pt x="28" y="264"/>
                  <a:pt x="31" y="246"/>
                </a:cubicBezTo>
                <a:cubicBezTo>
                  <a:pt x="35" y="247"/>
                  <a:pt x="34" y="241"/>
                  <a:pt x="36" y="239"/>
                </a:cubicBezTo>
                <a:cubicBezTo>
                  <a:pt x="38" y="237"/>
                  <a:pt x="42" y="239"/>
                  <a:pt x="44" y="237"/>
                </a:cubicBezTo>
                <a:cubicBezTo>
                  <a:pt x="48" y="235"/>
                  <a:pt x="52" y="227"/>
                  <a:pt x="58" y="228"/>
                </a:cubicBezTo>
                <a:cubicBezTo>
                  <a:pt x="61" y="229"/>
                  <a:pt x="67" y="224"/>
                  <a:pt x="77" y="229"/>
                </a:cubicBezTo>
                <a:cubicBezTo>
                  <a:pt x="82" y="227"/>
                  <a:pt x="87" y="226"/>
                  <a:pt x="91" y="220"/>
                </a:cubicBezTo>
                <a:cubicBezTo>
                  <a:pt x="92" y="217"/>
                  <a:pt x="95" y="208"/>
                  <a:pt x="97" y="206"/>
                </a:cubicBezTo>
                <a:cubicBezTo>
                  <a:pt x="98" y="206"/>
                  <a:pt x="101" y="207"/>
                  <a:pt x="101" y="207"/>
                </a:cubicBezTo>
                <a:cubicBezTo>
                  <a:pt x="102" y="206"/>
                  <a:pt x="101" y="200"/>
                  <a:pt x="103" y="200"/>
                </a:cubicBezTo>
                <a:cubicBezTo>
                  <a:pt x="103" y="199"/>
                  <a:pt x="106" y="201"/>
                  <a:pt x="106" y="200"/>
                </a:cubicBezTo>
                <a:cubicBezTo>
                  <a:pt x="109" y="195"/>
                  <a:pt x="108" y="187"/>
                  <a:pt x="110" y="182"/>
                </a:cubicBezTo>
                <a:cubicBezTo>
                  <a:pt x="114" y="172"/>
                  <a:pt x="125" y="164"/>
                  <a:pt x="124" y="154"/>
                </a:cubicBezTo>
                <a:cubicBezTo>
                  <a:pt x="127" y="149"/>
                  <a:pt x="122" y="148"/>
                  <a:pt x="122" y="146"/>
                </a:cubicBezTo>
                <a:cubicBezTo>
                  <a:pt x="122" y="144"/>
                  <a:pt x="124" y="140"/>
                  <a:pt x="124" y="139"/>
                </a:cubicBezTo>
                <a:cubicBezTo>
                  <a:pt x="123" y="138"/>
                  <a:pt x="120" y="138"/>
                  <a:pt x="120" y="138"/>
                </a:cubicBezTo>
                <a:cubicBezTo>
                  <a:pt x="118" y="132"/>
                  <a:pt x="125" y="125"/>
                  <a:pt x="115" y="125"/>
                </a:cubicBezTo>
                <a:cubicBezTo>
                  <a:pt x="114" y="114"/>
                  <a:pt x="124" y="119"/>
                  <a:pt x="125" y="112"/>
                </a:cubicBezTo>
                <a:cubicBezTo>
                  <a:pt x="127" y="103"/>
                  <a:pt x="129" y="95"/>
                  <a:pt x="131" y="86"/>
                </a:cubicBezTo>
                <a:cubicBezTo>
                  <a:pt x="139" y="89"/>
                  <a:pt x="136" y="97"/>
                  <a:pt x="139" y="103"/>
                </a:cubicBezTo>
                <a:cubicBezTo>
                  <a:pt x="141" y="107"/>
                  <a:pt x="142" y="109"/>
                  <a:pt x="145" y="112"/>
                </a:cubicBezTo>
                <a:cubicBezTo>
                  <a:pt x="146" y="115"/>
                  <a:pt x="148" y="112"/>
                  <a:pt x="147" y="117"/>
                </a:cubicBezTo>
                <a:cubicBezTo>
                  <a:pt x="147" y="122"/>
                  <a:pt x="156" y="129"/>
                  <a:pt x="155" y="137"/>
                </a:cubicBezTo>
                <a:cubicBezTo>
                  <a:pt x="161" y="133"/>
                  <a:pt x="175" y="130"/>
                  <a:pt x="181" y="139"/>
                </a:cubicBezTo>
                <a:cubicBezTo>
                  <a:pt x="191" y="143"/>
                  <a:pt x="188" y="126"/>
                  <a:pt x="195" y="127"/>
                </a:cubicBezTo>
                <a:cubicBezTo>
                  <a:pt x="198" y="122"/>
                  <a:pt x="203" y="119"/>
                  <a:pt x="206" y="114"/>
                </a:cubicBezTo>
                <a:cubicBezTo>
                  <a:pt x="208" y="103"/>
                  <a:pt x="200" y="98"/>
                  <a:pt x="195" y="92"/>
                </a:cubicBezTo>
                <a:cubicBezTo>
                  <a:pt x="197" y="75"/>
                  <a:pt x="186" y="66"/>
                  <a:pt x="194" y="46"/>
                </a:cubicBezTo>
                <a:cubicBezTo>
                  <a:pt x="211" y="47"/>
                  <a:pt x="208" y="62"/>
                  <a:pt x="215" y="70"/>
                </a:cubicBezTo>
                <a:cubicBezTo>
                  <a:pt x="215" y="74"/>
                  <a:pt x="222" y="74"/>
                  <a:pt x="221" y="79"/>
                </a:cubicBezTo>
                <a:cubicBezTo>
                  <a:pt x="240" y="75"/>
                  <a:pt x="223" y="51"/>
                  <a:pt x="222" y="40"/>
                </a:cubicBezTo>
                <a:cubicBezTo>
                  <a:pt x="220" y="36"/>
                  <a:pt x="220" y="31"/>
                  <a:pt x="221" y="25"/>
                </a:cubicBezTo>
                <a:cubicBezTo>
                  <a:pt x="231" y="30"/>
                  <a:pt x="229" y="29"/>
                  <a:pt x="236" y="28"/>
                </a:cubicBezTo>
                <a:cubicBezTo>
                  <a:pt x="238" y="27"/>
                  <a:pt x="244" y="17"/>
                  <a:pt x="252" y="24"/>
                </a:cubicBezTo>
                <a:cubicBezTo>
                  <a:pt x="254" y="32"/>
                  <a:pt x="257" y="40"/>
                  <a:pt x="259" y="48"/>
                </a:cubicBezTo>
                <a:cubicBezTo>
                  <a:pt x="255" y="47"/>
                  <a:pt x="255" y="47"/>
                  <a:pt x="255" y="47"/>
                </a:cubicBezTo>
                <a:cubicBezTo>
                  <a:pt x="254" y="51"/>
                  <a:pt x="254" y="51"/>
                  <a:pt x="254" y="51"/>
                </a:cubicBezTo>
                <a:cubicBezTo>
                  <a:pt x="240" y="42"/>
                  <a:pt x="245" y="78"/>
                  <a:pt x="247" y="84"/>
                </a:cubicBezTo>
                <a:cubicBezTo>
                  <a:pt x="258" y="87"/>
                  <a:pt x="263" y="80"/>
                  <a:pt x="271" y="78"/>
                </a:cubicBezTo>
                <a:cubicBezTo>
                  <a:pt x="276" y="67"/>
                  <a:pt x="264" y="66"/>
                  <a:pt x="264" y="57"/>
                </a:cubicBezTo>
                <a:cubicBezTo>
                  <a:pt x="268" y="58"/>
                  <a:pt x="268" y="58"/>
                  <a:pt x="268" y="58"/>
                </a:cubicBezTo>
                <a:cubicBezTo>
                  <a:pt x="269" y="54"/>
                  <a:pt x="269" y="54"/>
                  <a:pt x="269" y="54"/>
                </a:cubicBezTo>
                <a:cubicBezTo>
                  <a:pt x="274" y="54"/>
                  <a:pt x="277" y="51"/>
                  <a:pt x="279" y="45"/>
                </a:cubicBezTo>
                <a:cubicBezTo>
                  <a:pt x="285" y="51"/>
                  <a:pt x="280" y="65"/>
                  <a:pt x="284" y="73"/>
                </a:cubicBezTo>
                <a:cubicBezTo>
                  <a:pt x="287" y="73"/>
                  <a:pt x="289" y="70"/>
                  <a:pt x="292" y="71"/>
                </a:cubicBezTo>
                <a:cubicBezTo>
                  <a:pt x="295" y="71"/>
                  <a:pt x="295" y="76"/>
                  <a:pt x="299" y="76"/>
                </a:cubicBezTo>
                <a:cubicBezTo>
                  <a:pt x="310" y="77"/>
                  <a:pt x="321" y="69"/>
                  <a:pt x="337" y="77"/>
                </a:cubicBezTo>
                <a:cubicBezTo>
                  <a:pt x="345" y="77"/>
                  <a:pt x="348" y="69"/>
                  <a:pt x="351" y="64"/>
                </a:cubicBezTo>
                <a:cubicBezTo>
                  <a:pt x="353" y="63"/>
                  <a:pt x="355" y="66"/>
                  <a:pt x="356" y="61"/>
                </a:cubicBezTo>
                <a:cubicBezTo>
                  <a:pt x="357" y="58"/>
                  <a:pt x="362" y="57"/>
                  <a:pt x="362" y="51"/>
                </a:cubicBezTo>
                <a:cubicBezTo>
                  <a:pt x="372" y="57"/>
                  <a:pt x="373" y="57"/>
                  <a:pt x="384" y="56"/>
                </a:cubicBezTo>
                <a:cubicBezTo>
                  <a:pt x="386" y="47"/>
                  <a:pt x="388" y="39"/>
                  <a:pt x="390" y="30"/>
                </a:cubicBezTo>
                <a:cubicBezTo>
                  <a:pt x="401" y="23"/>
                  <a:pt x="400" y="42"/>
                  <a:pt x="409" y="46"/>
                </a:cubicBezTo>
                <a:cubicBezTo>
                  <a:pt x="416" y="47"/>
                  <a:pt x="422" y="49"/>
                  <a:pt x="428" y="50"/>
                </a:cubicBezTo>
                <a:cubicBezTo>
                  <a:pt x="427" y="58"/>
                  <a:pt x="441" y="56"/>
                  <a:pt x="440" y="64"/>
                </a:cubicBezTo>
                <a:cubicBezTo>
                  <a:pt x="447" y="65"/>
                  <a:pt x="450" y="60"/>
                  <a:pt x="451" y="51"/>
                </a:cubicBezTo>
                <a:cubicBezTo>
                  <a:pt x="452" y="53"/>
                  <a:pt x="452" y="53"/>
                  <a:pt x="452" y="53"/>
                </a:cubicBezTo>
                <a:cubicBezTo>
                  <a:pt x="454" y="52"/>
                  <a:pt x="454" y="52"/>
                  <a:pt x="454" y="52"/>
                </a:cubicBezTo>
                <a:cubicBezTo>
                  <a:pt x="456" y="52"/>
                  <a:pt x="457" y="52"/>
                  <a:pt x="458" y="53"/>
                </a:cubicBezTo>
                <a:cubicBezTo>
                  <a:pt x="471" y="48"/>
                  <a:pt x="465" y="35"/>
                  <a:pt x="468" y="24"/>
                </a:cubicBezTo>
                <a:cubicBezTo>
                  <a:pt x="470" y="16"/>
                  <a:pt x="475" y="11"/>
                  <a:pt x="477" y="3"/>
                </a:cubicBezTo>
                <a:cubicBezTo>
                  <a:pt x="480" y="3"/>
                  <a:pt x="480" y="3"/>
                  <a:pt x="480" y="3"/>
                </a:cubicBezTo>
                <a:cubicBezTo>
                  <a:pt x="481" y="0"/>
                  <a:pt x="481" y="0"/>
                  <a:pt x="481" y="0"/>
                </a:cubicBezTo>
                <a:cubicBezTo>
                  <a:pt x="485" y="1"/>
                  <a:pt x="483" y="7"/>
                  <a:pt x="482" y="12"/>
                </a:cubicBezTo>
                <a:cubicBezTo>
                  <a:pt x="480" y="23"/>
                  <a:pt x="500" y="19"/>
                  <a:pt x="498" y="30"/>
                </a:cubicBezTo>
                <a:cubicBezTo>
                  <a:pt x="509" y="31"/>
                  <a:pt x="505" y="42"/>
                  <a:pt x="514" y="45"/>
                </a:cubicBezTo>
                <a:cubicBezTo>
                  <a:pt x="526" y="47"/>
                  <a:pt x="543" y="55"/>
                  <a:pt x="551" y="50"/>
                </a:cubicBezTo>
                <a:cubicBezTo>
                  <a:pt x="552" y="46"/>
                  <a:pt x="553" y="42"/>
                  <a:pt x="554" y="39"/>
                </a:cubicBezTo>
                <a:cubicBezTo>
                  <a:pt x="555" y="41"/>
                  <a:pt x="555" y="41"/>
                  <a:pt x="555" y="41"/>
                </a:cubicBezTo>
                <a:cubicBezTo>
                  <a:pt x="557" y="39"/>
                  <a:pt x="557" y="39"/>
                  <a:pt x="557" y="39"/>
                </a:cubicBezTo>
                <a:cubicBezTo>
                  <a:pt x="567" y="33"/>
                  <a:pt x="569" y="42"/>
                  <a:pt x="575" y="47"/>
                </a:cubicBezTo>
                <a:cubicBezTo>
                  <a:pt x="586" y="48"/>
                  <a:pt x="587" y="33"/>
                  <a:pt x="597" y="33"/>
                </a:cubicBezTo>
                <a:cubicBezTo>
                  <a:pt x="602" y="22"/>
                  <a:pt x="593" y="20"/>
                  <a:pt x="598" y="10"/>
                </a:cubicBezTo>
                <a:cubicBezTo>
                  <a:pt x="608" y="17"/>
                  <a:pt x="613" y="28"/>
                  <a:pt x="606" y="46"/>
                </a:cubicBezTo>
                <a:cubicBezTo>
                  <a:pt x="613" y="48"/>
                  <a:pt x="621" y="49"/>
                  <a:pt x="628" y="51"/>
                </a:cubicBezTo>
                <a:cubicBezTo>
                  <a:pt x="629" y="54"/>
                  <a:pt x="630" y="58"/>
                  <a:pt x="634" y="60"/>
                </a:cubicBezTo>
                <a:cubicBezTo>
                  <a:pt x="632" y="64"/>
                  <a:pt x="633" y="66"/>
                  <a:pt x="636" y="68"/>
                </a:cubicBezTo>
                <a:cubicBezTo>
                  <a:pt x="633" y="77"/>
                  <a:pt x="632" y="85"/>
                  <a:pt x="635" y="91"/>
                </a:cubicBezTo>
                <a:cubicBezTo>
                  <a:pt x="649" y="95"/>
                  <a:pt x="649" y="77"/>
                  <a:pt x="664" y="82"/>
                </a:cubicBezTo>
                <a:cubicBezTo>
                  <a:pt x="667" y="91"/>
                  <a:pt x="667" y="92"/>
                  <a:pt x="664" y="101"/>
                </a:cubicBezTo>
                <a:cubicBezTo>
                  <a:pt x="662" y="105"/>
                  <a:pt x="660" y="109"/>
                  <a:pt x="657" y="111"/>
                </a:cubicBezTo>
                <a:cubicBezTo>
                  <a:pt x="657" y="111"/>
                  <a:pt x="654" y="110"/>
                  <a:pt x="654" y="110"/>
                </a:cubicBezTo>
                <a:cubicBezTo>
                  <a:pt x="653" y="113"/>
                  <a:pt x="656" y="115"/>
                  <a:pt x="656" y="118"/>
                </a:cubicBezTo>
                <a:cubicBezTo>
                  <a:pt x="656" y="123"/>
                  <a:pt x="651" y="132"/>
                  <a:pt x="656" y="138"/>
                </a:cubicBezTo>
                <a:cubicBezTo>
                  <a:pt x="676" y="145"/>
                  <a:pt x="681" y="129"/>
                  <a:pt x="702" y="136"/>
                </a:cubicBezTo>
                <a:cubicBezTo>
                  <a:pt x="705" y="149"/>
                  <a:pt x="700" y="149"/>
                  <a:pt x="697" y="162"/>
                </a:cubicBezTo>
                <a:cubicBezTo>
                  <a:pt x="688" y="161"/>
                  <a:pt x="686" y="171"/>
                  <a:pt x="679" y="173"/>
                </a:cubicBezTo>
                <a:cubicBezTo>
                  <a:pt x="680" y="188"/>
                  <a:pt x="701" y="191"/>
                  <a:pt x="703" y="206"/>
                </a:cubicBezTo>
                <a:cubicBezTo>
                  <a:pt x="703" y="215"/>
                  <a:pt x="695" y="218"/>
                  <a:pt x="691" y="222"/>
                </a:cubicBezTo>
                <a:cubicBezTo>
                  <a:pt x="690" y="224"/>
                  <a:pt x="691" y="229"/>
                  <a:pt x="690" y="230"/>
                </a:cubicBezTo>
                <a:cubicBezTo>
                  <a:pt x="686" y="231"/>
                  <a:pt x="682" y="231"/>
                  <a:pt x="681" y="235"/>
                </a:cubicBezTo>
                <a:cubicBezTo>
                  <a:pt x="682" y="247"/>
                  <a:pt x="697" y="238"/>
                  <a:pt x="703" y="240"/>
                </a:cubicBezTo>
                <a:cubicBezTo>
                  <a:pt x="703" y="255"/>
                  <a:pt x="684" y="241"/>
                  <a:pt x="684" y="256"/>
                </a:cubicBezTo>
                <a:cubicBezTo>
                  <a:pt x="683" y="259"/>
                  <a:pt x="688" y="259"/>
                  <a:pt x="691" y="261"/>
                </a:cubicBezTo>
                <a:cubicBezTo>
                  <a:pt x="688" y="262"/>
                  <a:pt x="688" y="262"/>
                  <a:pt x="688" y="262"/>
                </a:cubicBezTo>
                <a:cubicBezTo>
                  <a:pt x="690" y="264"/>
                  <a:pt x="690" y="264"/>
                  <a:pt x="690" y="264"/>
                </a:cubicBezTo>
                <a:cubicBezTo>
                  <a:pt x="690" y="266"/>
                  <a:pt x="689" y="267"/>
                  <a:pt x="689" y="268"/>
                </a:cubicBezTo>
                <a:cubicBezTo>
                  <a:pt x="691" y="271"/>
                  <a:pt x="698" y="276"/>
                  <a:pt x="700" y="271"/>
                </a:cubicBezTo>
                <a:cubicBezTo>
                  <a:pt x="697" y="271"/>
                  <a:pt x="697" y="268"/>
                  <a:pt x="697" y="266"/>
                </a:cubicBezTo>
                <a:cubicBezTo>
                  <a:pt x="698" y="262"/>
                  <a:pt x="698" y="262"/>
                  <a:pt x="698" y="262"/>
                </a:cubicBezTo>
                <a:cubicBezTo>
                  <a:pt x="694" y="262"/>
                  <a:pt x="694" y="262"/>
                  <a:pt x="694" y="262"/>
                </a:cubicBezTo>
                <a:cubicBezTo>
                  <a:pt x="694" y="253"/>
                  <a:pt x="705" y="258"/>
                  <a:pt x="711" y="257"/>
                </a:cubicBezTo>
                <a:cubicBezTo>
                  <a:pt x="712" y="257"/>
                  <a:pt x="711" y="254"/>
                  <a:pt x="715" y="254"/>
                </a:cubicBezTo>
                <a:cubicBezTo>
                  <a:pt x="723" y="256"/>
                  <a:pt x="741" y="250"/>
                  <a:pt x="752" y="262"/>
                </a:cubicBezTo>
                <a:cubicBezTo>
                  <a:pt x="746" y="281"/>
                  <a:pt x="725" y="277"/>
                  <a:pt x="704" y="271"/>
                </a:cubicBezTo>
                <a:cubicBezTo>
                  <a:pt x="705" y="282"/>
                  <a:pt x="721" y="284"/>
                  <a:pt x="731" y="289"/>
                </a:cubicBezTo>
                <a:cubicBezTo>
                  <a:pt x="735" y="290"/>
                  <a:pt x="734" y="284"/>
                  <a:pt x="736" y="282"/>
                </a:cubicBezTo>
                <a:cubicBezTo>
                  <a:pt x="738" y="280"/>
                  <a:pt x="742" y="282"/>
                  <a:pt x="744" y="280"/>
                </a:cubicBezTo>
                <a:cubicBezTo>
                  <a:pt x="747" y="278"/>
                  <a:pt x="745" y="276"/>
                  <a:pt x="749" y="277"/>
                </a:cubicBezTo>
                <a:cubicBezTo>
                  <a:pt x="753" y="278"/>
                  <a:pt x="753" y="271"/>
                  <a:pt x="755" y="267"/>
                </a:cubicBezTo>
                <a:cubicBezTo>
                  <a:pt x="763" y="267"/>
                  <a:pt x="762" y="274"/>
                  <a:pt x="764" y="277"/>
                </a:cubicBezTo>
                <a:cubicBezTo>
                  <a:pt x="767" y="280"/>
                  <a:pt x="773" y="281"/>
                  <a:pt x="774" y="286"/>
                </a:cubicBezTo>
                <a:cubicBezTo>
                  <a:pt x="781" y="282"/>
                  <a:pt x="790" y="285"/>
                  <a:pt x="797" y="284"/>
                </a:cubicBezTo>
                <a:cubicBezTo>
                  <a:pt x="806" y="283"/>
                  <a:pt x="813" y="281"/>
                  <a:pt x="821" y="281"/>
                </a:cubicBezTo>
                <a:cubicBezTo>
                  <a:pt x="826" y="290"/>
                  <a:pt x="825" y="302"/>
                  <a:pt x="830" y="310"/>
                </a:cubicBezTo>
                <a:cubicBezTo>
                  <a:pt x="845" y="311"/>
                  <a:pt x="843" y="323"/>
                  <a:pt x="858" y="324"/>
                </a:cubicBezTo>
                <a:cubicBezTo>
                  <a:pt x="852" y="345"/>
                  <a:pt x="860" y="357"/>
                  <a:pt x="868" y="368"/>
                </a:cubicBezTo>
                <a:cubicBezTo>
                  <a:pt x="862" y="391"/>
                  <a:pt x="873" y="403"/>
                  <a:pt x="871" y="423"/>
                </a:cubicBezTo>
                <a:cubicBezTo>
                  <a:pt x="869" y="436"/>
                  <a:pt x="856" y="433"/>
                  <a:pt x="852" y="442"/>
                </a:cubicBezTo>
                <a:cubicBezTo>
                  <a:pt x="855" y="456"/>
                  <a:pt x="881" y="455"/>
                  <a:pt x="876" y="474"/>
                </a:cubicBezTo>
                <a:cubicBezTo>
                  <a:pt x="870" y="476"/>
                  <a:pt x="868" y="479"/>
                  <a:pt x="860" y="478"/>
                </a:cubicBezTo>
                <a:cubicBezTo>
                  <a:pt x="853" y="478"/>
                  <a:pt x="847" y="475"/>
                  <a:pt x="841" y="474"/>
                </a:cubicBezTo>
                <a:cubicBezTo>
                  <a:pt x="836" y="487"/>
                  <a:pt x="853" y="483"/>
                  <a:pt x="858" y="486"/>
                </a:cubicBezTo>
                <a:cubicBezTo>
                  <a:pt x="859" y="487"/>
                  <a:pt x="857" y="489"/>
                  <a:pt x="861" y="490"/>
                </a:cubicBezTo>
                <a:cubicBezTo>
                  <a:pt x="867" y="492"/>
                  <a:pt x="864" y="502"/>
                  <a:pt x="878" y="501"/>
                </a:cubicBezTo>
                <a:cubicBezTo>
                  <a:pt x="876" y="509"/>
                  <a:pt x="887" y="508"/>
                  <a:pt x="882" y="518"/>
                </a:cubicBezTo>
                <a:cubicBezTo>
                  <a:pt x="890" y="517"/>
                  <a:pt x="889" y="525"/>
                  <a:pt x="891" y="528"/>
                </a:cubicBezTo>
                <a:cubicBezTo>
                  <a:pt x="898" y="533"/>
                  <a:pt x="911" y="533"/>
                  <a:pt x="911" y="543"/>
                </a:cubicBezTo>
                <a:cubicBezTo>
                  <a:pt x="917" y="545"/>
                  <a:pt x="918" y="542"/>
                  <a:pt x="923" y="542"/>
                </a:cubicBezTo>
                <a:cubicBezTo>
                  <a:pt x="927" y="543"/>
                  <a:pt x="924" y="546"/>
                  <a:pt x="926" y="547"/>
                </a:cubicBezTo>
                <a:cubicBezTo>
                  <a:pt x="930" y="548"/>
                  <a:pt x="929" y="544"/>
                  <a:pt x="930" y="544"/>
                </a:cubicBezTo>
                <a:cubicBezTo>
                  <a:pt x="937" y="544"/>
                  <a:pt x="952" y="552"/>
                  <a:pt x="957" y="546"/>
                </a:cubicBezTo>
                <a:cubicBezTo>
                  <a:pt x="968" y="554"/>
                  <a:pt x="948" y="555"/>
                  <a:pt x="946" y="562"/>
                </a:cubicBezTo>
                <a:cubicBezTo>
                  <a:pt x="945" y="565"/>
                  <a:pt x="939" y="567"/>
                  <a:pt x="939" y="573"/>
                </a:cubicBezTo>
                <a:cubicBezTo>
                  <a:pt x="939" y="584"/>
                  <a:pt x="944" y="591"/>
                  <a:pt x="954" y="595"/>
                </a:cubicBezTo>
                <a:cubicBezTo>
                  <a:pt x="952" y="596"/>
                  <a:pt x="952" y="596"/>
                  <a:pt x="952" y="596"/>
                </a:cubicBezTo>
                <a:cubicBezTo>
                  <a:pt x="953" y="599"/>
                  <a:pt x="953" y="599"/>
                  <a:pt x="953" y="599"/>
                </a:cubicBezTo>
                <a:cubicBezTo>
                  <a:pt x="955" y="601"/>
                  <a:pt x="949" y="602"/>
                  <a:pt x="949" y="602"/>
                </a:cubicBezTo>
                <a:cubicBezTo>
                  <a:pt x="952" y="613"/>
                  <a:pt x="969" y="624"/>
                  <a:pt x="981" y="632"/>
                </a:cubicBezTo>
                <a:cubicBezTo>
                  <a:pt x="983" y="635"/>
                  <a:pt x="990" y="636"/>
                  <a:pt x="990" y="641"/>
                </a:cubicBezTo>
                <a:cubicBezTo>
                  <a:pt x="989" y="644"/>
                  <a:pt x="990" y="647"/>
                  <a:pt x="989" y="649"/>
                </a:cubicBezTo>
                <a:cubicBezTo>
                  <a:pt x="987" y="653"/>
                  <a:pt x="983" y="653"/>
                  <a:pt x="980" y="654"/>
                </a:cubicBezTo>
                <a:cubicBezTo>
                  <a:pt x="974" y="657"/>
                  <a:pt x="972" y="654"/>
                  <a:pt x="960" y="654"/>
                </a:cubicBezTo>
                <a:cubicBezTo>
                  <a:pt x="957" y="654"/>
                  <a:pt x="956" y="657"/>
                  <a:pt x="952" y="656"/>
                </a:cubicBezTo>
                <a:cubicBezTo>
                  <a:pt x="947" y="656"/>
                  <a:pt x="942" y="653"/>
                  <a:pt x="938" y="653"/>
                </a:cubicBezTo>
                <a:cubicBezTo>
                  <a:pt x="933" y="653"/>
                  <a:pt x="935" y="656"/>
                  <a:pt x="933" y="656"/>
                </a:cubicBezTo>
                <a:cubicBezTo>
                  <a:pt x="931" y="656"/>
                  <a:pt x="928" y="654"/>
                  <a:pt x="926" y="654"/>
                </a:cubicBezTo>
                <a:cubicBezTo>
                  <a:pt x="921" y="656"/>
                  <a:pt x="920" y="658"/>
                  <a:pt x="917" y="660"/>
                </a:cubicBezTo>
                <a:cubicBezTo>
                  <a:pt x="914" y="662"/>
                  <a:pt x="909" y="661"/>
                  <a:pt x="908" y="666"/>
                </a:cubicBezTo>
                <a:cubicBezTo>
                  <a:pt x="907" y="670"/>
                  <a:pt x="904" y="667"/>
                  <a:pt x="903" y="669"/>
                </a:cubicBezTo>
                <a:cubicBezTo>
                  <a:pt x="899" y="676"/>
                  <a:pt x="904" y="687"/>
                  <a:pt x="893" y="698"/>
                </a:cubicBezTo>
                <a:cubicBezTo>
                  <a:pt x="894" y="706"/>
                  <a:pt x="898" y="714"/>
                  <a:pt x="895" y="725"/>
                </a:cubicBezTo>
                <a:cubicBezTo>
                  <a:pt x="888" y="729"/>
                  <a:pt x="888" y="728"/>
                  <a:pt x="875" y="728"/>
                </a:cubicBezTo>
                <a:cubicBezTo>
                  <a:pt x="867" y="728"/>
                  <a:pt x="861" y="724"/>
                  <a:pt x="856" y="728"/>
                </a:cubicBezTo>
                <a:cubicBezTo>
                  <a:pt x="858" y="742"/>
                  <a:pt x="881" y="743"/>
                  <a:pt x="880" y="760"/>
                </a:cubicBezTo>
                <a:cubicBezTo>
                  <a:pt x="878" y="770"/>
                  <a:pt x="868" y="772"/>
                  <a:pt x="861" y="775"/>
                </a:cubicBezTo>
                <a:cubicBezTo>
                  <a:pt x="857" y="777"/>
                  <a:pt x="853" y="775"/>
                  <a:pt x="849" y="777"/>
                </a:cubicBezTo>
                <a:cubicBezTo>
                  <a:pt x="846" y="778"/>
                  <a:pt x="845" y="784"/>
                  <a:pt x="840" y="782"/>
                </a:cubicBezTo>
                <a:cubicBezTo>
                  <a:pt x="839" y="789"/>
                  <a:pt x="838" y="795"/>
                  <a:pt x="836" y="801"/>
                </a:cubicBezTo>
                <a:cubicBezTo>
                  <a:pt x="825" y="797"/>
                  <a:pt x="824" y="808"/>
                  <a:pt x="818" y="812"/>
                </a:cubicBezTo>
                <a:cubicBezTo>
                  <a:pt x="821" y="817"/>
                  <a:pt x="819" y="823"/>
                  <a:pt x="823" y="829"/>
                </a:cubicBezTo>
                <a:cubicBezTo>
                  <a:pt x="825" y="833"/>
                  <a:pt x="834" y="832"/>
                  <a:pt x="832" y="838"/>
                </a:cubicBezTo>
                <a:cubicBezTo>
                  <a:pt x="841" y="840"/>
                  <a:pt x="849" y="842"/>
                  <a:pt x="858" y="844"/>
                </a:cubicBezTo>
                <a:cubicBezTo>
                  <a:pt x="857" y="853"/>
                  <a:pt x="869" y="854"/>
                  <a:pt x="865" y="865"/>
                </a:cubicBezTo>
                <a:cubicBezTo>
                  <a:pt x="845" y="861"/>
                  <a:pt x="838" y="844"/>
                  <a:pt x="821" y="855"/>
                </a:cubicBezTo>
                <a:cubicBezTo>
                  <a:pt x="820" y="858"/>
                  <a:pt x="820" y="860"/>
                  <a:pt x="819" y="863"/>
                </a:cubicBezTo>
                <a:cubicBezTo>
                  <a:pt x="815" y="862"/>
                  <a:pt x="815" y="862"/>
                  <a:pt x="815" y="862"/>
                </a:cubicBezTo>
                <a:cubicBezTo>
                  <a:pt x="815" y="866"/>
                  <a:pt x="815" y="866"/>
                  <a:pt x="815" y="866"/>
                </a:cubicBezTo>
                <a:cubicBezTo>
                  <a:pt x="811" y="866"/>
                  <a:pt x="813" y="863"/>
                  <a:pt x="812" y="861"/>
                </a:cubicBezTo>
                <a:cubicBezTo>
                  <a:pt x="810" y="856"/>
                  <a:pt x="806" y="844"/>
                  <a:pt x="788" y="844"/>
                </a:cubicBezTo>
                <a:cubicBezTo>
                  <a:pt x="787" y="845"/>
                  <a:pt x="787" y="848"/>
                  <a:pt x="784" y="847"/>
                </a:cubicBezTo>
                <a:cubicBezTo>
                  <a:pt x="771" y="845"/>
                  <a:pt x="753" y="864"/>
                  <a:pt x="750" y="879"/>
                </a:cubicBezTo>
                <a:cubicBezTo>
                  <a:pt x="746" y="877"/>
                  <a:pt x="743" y="878"/>
                  <a:pt x="742" y="881"/>
                </a:cubicBezTo>
                <a:cubicBezTo>
                  <a:pt x="737" y="885"/>
                  <a:pt x="731" y="877"/>
                  <a:pt x="724" y="877"/>
                </a:cubicBezTo>
                <a:cubicBezTo>
                  <a:pt x="720" y="877"/>
                  <a:pt x="717" y="881"/>
                  <a:pt x="712" y="878"/>
                </a:cubicBezTo>
                <a:cubicBezTo>
                  <a:pt x="701" y="883"/>
                  <a:pt x="697" y="897"/>
                  <a:pt x="684" y="899"/>
                </a:cubicBezTo>
                <a:cubicBezTo>
                  <a:pt x="684" y="904"/>
                  <a:pt x="682" y="905"/>
                  <a:pt x="679" y="906"/>
                </a:cubicBezTo>
                <a:cubicBezTo>
                  <a:pt x="677" y="912"/>
                  <a:pt x="676" y="918"/>
                  <a:pt x="675" y="924"/>
                </a:cubicBezTo>
                <a:cubicBezTo>
                  <a:pt x="660" y="915"/>
                  <a:pt x="652" y="918"/>
                  <a:pt x="637" y="920"/>
                </a:cubicBezTo>
                <a:cubicBezTo>
                  <a:pt x="635" y="914"/>
                  <a:pt x="629" y="910"/>
                  <a:pt x="625" y="906"/>
                </a:cubicBezTo>
                <a:cubicBezTo>
                  <a:pt x="614" y="903"/>
                  <a:pt x="603" y="901"/>
                  <a:pt x="592" y="898"/>
                </a:cubicBezTo>
                <a:cubicBezTo>
                  <a:pt x="587" y="890"/>
                  <a:pt x="592" y="875"/>
                  <a:pt x="578" y="872"/>
                </a:cubicBezTo>
                <a:cubicBezTo>
                  <a:pt x="569" y="868"/>
                  <a:pt x="569" y="878"/>
                  <a:pt x="565" y="881"/>
                </a:cubicBezTo>
                <a:cubicBezTo>
                  <a:pt x="560" y="883"/>
                  <a:pt x="552" y="883"/>
                  <a:pt x="548" y="885"/>
                </a:cubicBezTo>
                <a:cubicBezTo>
                  <a:pt x="547" y="886"/>
                  <a:pt x="548" y="892"/>
                  <a:pt x="547" y="893"/>
                </a:cubicBezTo>
                <a:cubicBezTo>
                  <a:pt x="546" y="893"/>
                  <a:pt x="544" y="891"/>
                  <a:pt x="543" y="892"/>
                </a:cubicBezTo>
                <a:cubicBezTo>
                  <a:pt x="542" y="892"/>
                  <a:pt x="543" y="895"/>
                  <a:pt x="542" y="896"/>
                </a:cubicBezTo>
                <a:cubicBezTo>
                  <a:pt x="542" y="896"/>
                  <a:pt x="539" y="894"/>
                  <a:pt x="539" y="895"/>
                </a:cubicBezTo>
                <a:cubicBezTo>
                  <a:pt x="533" y="900"/>
                  <a:pt x="538" y="908"/>
                  <a:pt x="531" y="912"/>
                </a:cubicBezTo>
                <a:cubicBezTo>
                  <a:pt x="528" y="914"/>
                  <a:pt x="529" y="913"/>
                  <a:pt x="526" y="915"/>
                </a:cubicBezTo>
                <a:cubicBezTo>
                  <a:pt x="524" y="917"/>
                  <a:pt x="523" y="919"/>
                  <a:pt x="521" y="922"/>
                </a:cubicBezTo>
                <a:cubicBezTo>
                  <a:pt x="519" y="937"/>
                  <a:pt x="529" y="957"/>
                  <a:pt x="515" y="970"/>
                </a:cubicBezTo>
                <a:cubicBezTo>
                  <a:pt x="503" y="962"/>
                  <a:pt x="507" y="943"/>
                  <a:pt x="504" y="930"/>
                </a:cubicBezTo>
                <a:cubicBezTo>
                  <a:pt x="501" y="927"/>
                  <a:pt x="487" y="929"/>
                  <a:pt x="486" y="926"/>
                </a:cubicBezTo>
                <a:cubicBezTo>
                  <a:pt x="486" y="925"/>
                  <a:pt x="487" y="922"/>
                  <a:pt x="486" y="922"/>
                </a:cubicBezTo>
                <a:cubicBezTo>
                  <a:pt x="478" y="921"/>
                  <a:pt x="469" y="933"/>
                  <a:pt x="464" y="921"/>
                </a:cubicBezTo>
                <a:cubicBezTo>
                  <a:pt x="458" y="921"/>
                  <a:pt x="456" y="926"/>
                  <a:pt x="451" y="926"/>
                </a:cubicBezTo>
                <a:cubicBezTo>
                  <a:pt x="444" y="933"/>
                  <a:pt x="441" y="930"/>
                  <a:pt x="432" y="926"/>
                </a:cubicBezTo>
                <a:cubicBezTo>
                  <a:pt x="420" y="921"/>
                  <a:pt x="426" y="944"/>
                  <a:pt x="414" y="937"/>
                </a:cubicBezTo>
                <a:cubicBezTo>
                  <a:pt x="411" y="928"/>
                  <a:pt x="412" y="915"/>
                  <a:pt x="409" y="905"/>
                </a:cubicBezTo>
                <a:cubicBezTo>
                  <a:pt x="396" y="903"/>
                  <a:pt x="389" y="910"/>
                  <a:pt x="383" y="919"/>
                </a:cubicBezTo>
                <a:cubicBezTo>
                  <a:pt x="382" y="917"/>
                  <a:pt x="382" y="917"/>
                  <a:pt x="382" y="917"/>
                </a:cubicBezTo>
                <a:lnTo>
                  <a:pt x="379" y="91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TextBox 17"/>
          <p:cNvSpPr/>
          <p:nvPr/>
        </p:nvSpPr>
        <p:spPr>
          <a:xfrm>
            <a:off x="896040" y="3382920"/>
            <a:ext cx="398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造字工房悦黑体验版常规体"/>
                <a:ea typeface="造字工房悦黑体验版常规体"/>
              </a:rPr>
              <a:t>THANK YOU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3" name="Picture 2" descr="PPECLOGO-eff-0-1"/>
          <p:cNvPicPr/>
          <p:nvPr/>
        </p:nvPicPr>
        <p:blipFill>
          <a:blip r:embed="rId1"/>
          <a:stretch/>
        </p:blipFill>
        <p:spPr>
          <a:xfrm>
            <a:off x="2287440" y="2730600"/>
            <a:ext cx="1060560" cy="958680"/>
          </a:xfrm>
          <a:prstGeom prst="rect">
            <a:avLst/>
          </a:prstGeom>
          <a:ln w="0">
            <a:noFill/>
          </a:ln>
        </p:spPr>
      </p:pic>
      <p:pic>
        <p:nvPicPr>
          <p:cNvPr id="3424" name="Picture 3" descr="PPECLOGO-eff-0-2"/>
          <p:cNvPicPr/>
          <p:nvPr/>
        </p:nvPicPr>
        <p:blipFill>
          <a:blip r:embed="rId2"/>
          <a:stretch/>
        </p:blipFill>
        <p:spPr>
          <a:xfrm>
            <a:off x="6686640" y="2681280"/>
            <a:ext cx="981000" cy="901800"/>
          </a:xfrm>
          <a:prstGeom prst="rect">
            <a:avLst/>
          </a:prstGeom>
          <a:ln w="0">
            <a:noFill/>
          </a:ln>
        </p:spPr>
      </p:pic>
      <p:pic>
        <p:nvPicPr>
          <p:cNvPr id="3425" name="Picture 5" descr="PPECLOGO-eff-0-1"/>
          <p:cNvPicPr/>
          <p:nvPr/>
        </p:nvPicPr>
        <p:blipFill>
          <a:blip r:embed="rId3"/>
          <a:stretch/>
        </p:blipFill>
        <p:spPr>
          <a:xfrm>
            <a:off x="2608200" y="3790800"/>
            <a:ext cx="523800" cy="476280"/>
          </a:xfrm>
          <a:prstGeom prst="rect">
            <a:avLst/>
          </a:prstGeom>
          <a:ln w="0">
            <a:noFill/>
          </a:ln>
        </p:spPr>
      </p:pic>
      <p:pic>
        <p:nvPicPr>
          <p:cNvPr id="3426" name="Picture 6" descr="PPECLOGO-eff-0-1"/>
          <p:cNvPicPr/>
          <p:nvPr/>
        </p:nvPicPr>
        <p:blipFill>
          <a:blip r:embed="rId4"/>
          <a:stretch/>
        </p:blipFill>
        <p:spPr>
          <a:xfrm>
            <a:off x="5518080" y="2751120"/>
            <a:ext cx="399960" cy="361800"/>
          </a:xfrm>
          <a:prstGeom prst="rect">
            <a:avLst/>
          </a:prstGeom>
          <a:ln w="0">
            <a:noFill/>
          </a:ln>
        </p:spPr>
      </p:pic>
      <p:pic>
        <p:nvPicPr>
          <p:cNvPr id="3427" name="Picture 7" descr="PPECLOGO-eff-0-1"/>
          <p:cNvPicPr/>
          <p:nvPr/>
        </p:nvPicPr>
        <p:blipFill>
          <a:blip r:embed="rId5"/>
          <a:stretch/>
        </p:blipFill>
        <p:spPr>
          <a:xfrm>
            <a:off x="3780000" y="3871800"/>
            <a:ext cx="196560" cy="177840"/>
          </a:xfrm>
          <a:prstGeom prst="rect">
            <a:avLst/>
          </a:prstGeom>
          <a:ln w="0">
            <a:noFill/>
          </a:ln>
        </p:spPr>
      </p:pic>
      <p:pic>
        <p:nvPicPr>
          <p:cNvPr id="3428" name="Picture 8" descr="PPECLOGO-eff-0-2"/>
          <p:cNvPicPr/>
          <p:nvPr/>
        </p:nvPicPr>
        <p:blipFill>
          <a:blip r:embed="rId6"/>
          <a:stretch/>
        </p:blipFill>
        <p:spPr>
          <a:xfrm>
            <a:off x="3419640" y="2355840"/>
            <a:ext cx="981000" cy="901800"/>
          </a:xfrm>
          <a:prstGeom prst="rect">
            <a:avLst/>
          </a:prstGeom>
          <a:ln w="0">
            <a:noFill/>
          </a:ln>
        </p:spPr>
      </p:pic>
      <p:pic>
        <p:nvPicPr>
          <p:cNvPr id="3429" name="Picture 9" descr="PPECLOGO-eff-5-4"/>
          <p:cNvPicPr/>
          <p:nvPr/>
        </p:nvPicPr>
        <p:blipFill>
          <a:blip r:embed="rId7"/>
          <a:stretch/>
        </p:blipFill>
        <p:spPr>
          <a:xfrm>
            <a:off x="1403280" y="3112920"/>
            <a:ext cx="1478160" cy="1351080"/>
          </a:xfrm>
          <a:prstGeom prst="rect">
            <a:avLst/>
          </a:prstGeom>
          <a:ln w="0">
            <a:noFill/>
          </a:ln>
        </p:spPr>
      </p:pic>
      <p:pic>
        <p:nvPicPr>
          <p:cNvPr id="3430" name="Picture 10" descr="PPECLOGO-eff-5-2"/>
          <p:cNvPicPr/>
          <p:nvPr/>
        </p:nvPicPr>
        <p:blipFill>
          <a:blip r:embed="rId8"/>
          <a:stretch/>
        </p:blipFill>
        <p:spPr>
          <a:xfrm>
            <a:off x="3494160" y="3402000"/>
            <a:ext cx="1833480" cy="1722600"/>
          </a:xfrm>
          <a:prstGeom prst="rect">
            <a:avLst/>
          </a:prstGeom>
          <a:ln w="0">
            <a:noFill/>
          </a:ln>
        </p:spPr>
      </p:pic>
      <p:pic>
        <p:nvPicPr>
          <p:cNvPr id="3431" name="Picture 11" descr="PPECLOGO-eff-5-4"/>
          <p:cNvPicPr/>
          <p:nvPr/>
        </p:nvPicPr>
        <p:blipFill>
          <a:blip r:embed="rId9"/>
          <a:stretch/>
        </p:blipFill>
        <p:spPr>
          <a:xfrm>
            <a:off x="8028000" y="2538360"/>
            <a:ext cx="1116000" cy="1019160"/>
          </a:xfrm>
          <a:prstGeom prst="rect">
            <a:avLst/>
          </a:prstGeom>
          <a:ln w="0">
            <a:noFill/>
          </a:ln>
        </p:spPr>
      </p:pic>
      <p:pic>
        <p:nvPicPr>
          <p:cNvPr id="3432" name="Picture 12" descr="PPECLOGO-eff-0-1"/>
          <p:cNvPicPr/>
          <p:nvPr/>
        </p:nvPicPr>
        <p:blipFill>
          <a:blip r:embed="rId10"/>
          <a:stretch/>
        </p:blipFill>
        <p:spPr>
          <a:xfrm>
            <a:off x="6083280" y="3618000"/>
            <a:ext cx="522360" cy="469800"/>
          </a:xfrm>
          <a:prstGeom prst="rect">
            <a:avLst/>
          </a:prstGeom>
          <a:ln w="0">
            <a:noFill/>
          </a:ln>
        </p:spPr>
      </p:pic>
      <p:pic>
        <p:nvPicPr>
          <p:cNvPr id="3433" name="Picture 13" descr="PPECLOGO-eff-0-1"/>
          <p:cNvPicPr/>
          <p:nvPr/>
        </p:nvPicPr>
        <p:blipFill>
          <a:blip r:embed="rId11"/>
          <a:stretch/>
        </p:blipFill>
        <p:spPr>
          <a:xfrm>
            <a:off x="9396360" y="2103480"/>
            <a:ext cx="522360" cy="473040"/>
          </a:xfrm>
          <a:prstGeom prst="rect">
            <a:avLst/>
          </a:prstGeom>
          <a:ln w="0">
            <a:noFill/>
          </a:ln>
        </p:spPr>
      </p:pic>
      <p:pic>
        <p:nvPicPr>
          <p:cNvPr id="3434" name="Picture 14" descr="PPECLOGO-eff2-1-2"/>
          <p:cNvPicPr/>
          <p:nvPr/>
        </p:nvPicPr>
        <p:blipFill>
          <a:blip r:embed="rId12"/>
          <a:stretch/>
        </p:blipFill>
        <p:spPr>
          <a:xfrm>
            <a:off x="195120" y="2622600"/>
            <a:ext cx="1697040" cy="1714320"/>
          </a:xfrm>
          <a:prstGeom prst="rect">
            <a:avLst/>
          </a:prstGeom>
          <a:ln w="0">
            <a:noFill/>
          </a:ln>
        </p:spPr>
      </p:pic>
      <p:pic>
        <p:nvPicPr>
          <p:cNvPr id="3435" name="Picture 15" descr="PPECLOGO-eff2-1-3"/>
          <p:cNvPicPr/>
          <p:nvPr/>
        </p:nvPicPr>
        <p:blipFill>
          <a:blip r:embed="rId13"/>
          <a:stretch/>
        </p:blipFill>
        <p:spPr>
          <a:xfrm>
            <a:off x="2124000" y="261000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3436" name="Picture 16" descr="PPECLOGO-eff2-1-4"/>
          <p:cNvPicPr/>
          <p:nvPr/>
        </p:nvPicPr>
        <p:blipFill>
          <a:blip r:embed="rId14"/>
          <a:stretch/>
        </p:blipFill>
        <p:spPr>
          <a:xfrm>
            <a:off x="6661080" y="3257640"/>
            <a:ext cx="703440" cy="703080"/>
          </a:xfrm>
          <a:prstGeom prst="rect">
            <a:avLst/>
          </a:prstGeom>
          <a:ln w="0">
            <a:noFill/>
          </a:ln>
        </p:spPr>
      </p:pic>
      <p:pic>
        <p:nvPicPr>
          <p:cNvPr id="3437" name="Picture 17" descr="PPECLOGO-eff2-1-3"/>
          <p:cNvPicPr/>
          <p:nvPr/>
        </p:nvPicPr>
        <p:blipFill>
          <a:blip r:embed="rId15"/>
          <a:stretch/>
        </p:blipFill>
        <p:spPr>
          <a:xfrm>
            <a:off x="7380360" y="2757600"/>
            <a:ext cx="360360" cy="361800"/>
          </a:xfrm>
          <a:prstGeom prst="rect">
            <a:avLst/>
          </a:prstGeom>
          <a:ln w="0">
            <a:noFill/>
          </a:ln>
        </p:spPr>
      </p:pic>
      <p:pic>
        <p:nvPicPr>
          <p:cNvPr id="3438" name="Picture 18" descr="PPECLOGO-eff2-1-3"/>
          <p:cNvPicPr/>
          <p:nvPr/>
        </p:nvPicPr>
        <p:blipFill>
          <a:blip r:embed="rId16"/>
          <a:stretch/>
        </p:blipFill>
        <p:spPr>
          <a:xfrm>
            <a:off x="7886880" y="3402000"/>
            <a:ext cx="280800" cy="282600"/>
          </a:xfrm>
          <a:prstGeom prst="rect">
            <a:avLst/>
          </a:prstGeom>
          <a:ln w="0">
            <a:noFill/>
          </a:ln>
        </p:spPr>
      </p:pic>
      <p:sp>
        <p:nvSpPr>
          <p:cNvPr id="3439" name="TextBox 36"/>
          <p:cNvSpPr/>
          <p:nvPr/>
        </p:nvSpPr>
        <p:spPr>
          <a:xfrm>
            <a:off x="2827440" y="2909880"/>
            <a:ext cx="334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THANK YOU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6" dur="indefinite" restart="never" nodeType="tmRoot">
          <p:childTnLst>
            <p:seq>
              <p:cTn id="2357" dur="indefinite" nodeType="mainSeq">
                <p:childTnLst>
                  <p:par>
                    <p:cTn id="2358" nodeType="clickEffect" fill="hold">
                      <p:stCondLst>
                        <p:cond delay="0"/>
                      </p:stCondLst>
                      <p:childTnLst>
                        <p:par>
                          <p:cTn id="2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2" dur="5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5" dur="55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55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7" nodeType="withEffect" fill="hold" presetClass="exit" presetID="10">
                                  <p:stCondLst>
                                    <p:cond delay="4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8" dur="8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2" dur="500"/>
                                        <p:tgtEl>
                                          <p:spTgt spid="3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5" dur="500"/>
                                        <p:tgtEl>
                                          <p:spTgt spid="3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8" dur="500"/>
                                        <p:tgtEl>
                                          <p:spTgt spid="3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1" dur="500"/>
                                        <p:tgtEl>
                                          <p:spTgt spid="3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4" dur="500"/>
                                        <p:tgtEl>
                                          <p:spTgt spid="3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7" dur="500"/>
                                        <p:tgtEl>
                                          <p:spTgt spid="3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0" dur="500"/>
                                        <p:tgtEl>
                                          <p:spTgt spid="3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3" dur="500"/>
                                        <p:tgtEl>
                                          <p:spTgt spid="3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6" dur="500"/>
                                        <p:tgtEl>
                                          <p:spTgt spid="3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9" dur="500"/>
                                        <p:tgtEl>
                                          <p:spTgt spid="3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2" dur="500"/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404" dur="6000" fill="hold"/>
                                        <p:tgtEl>
                                          <p:spTgt spid="3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-0.31632 3.33333E-006 E">
                                      <p:cBhvr>
                                        <p:cTn id="2406" dur="6000" fill="hold"/>
                                        <p:tgtEl>
                                          <p:spTgt spid="3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-1.85185E-006 L -0.46684 -1.85185E-006 E">
                                      <p:cBhvr>
                                        <p:cTn id="2408" dur="6000" fill="hold"/>
                                        <p:tgtEl>
                                          <p:spTgt spid="3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-0.19531 1.11111E-006 E">
                                      <p:cBhvr>
                                        <p:cTn id="2410" dur="6000" fill="hold"/>
                                        <p:tgtEl>
                                          <p:spTgt spid="3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-0.43594 2.59259E-006 E">
                                      <p:cBhvr>
                                        <p:cTn id="2412" dur="6000" fill="hold"/>
                                        <p:tgtEl>
                                          <p:spTgt spid="3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L -0.61719 2.59259E-006 E">
                                      <p:cBhvr>
                                        <p:cTn id="2414" dur="6000" fill="hold"/>
                                        <p:tgtEl>
                                          <p:spTgt spid="3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-0.33577 -1.85185E-006 E">
                                      <p:cBhvr>
                                        <p:cTn id="2416" dur="6000" fill="hold"/>
                                        <p:tgtEl>
                                          <p:spTgt spid="3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57188 -1.85185E-006 E">
                                      <p:cBhvr>
                                        <p:cTn id="2418" dur="6000" fill="hold"/>
                                        <p:tgtEl>
                                          <p:spTgt spid="3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57188 -1.85185E-006 E">
                                      <p:cBhvr>
                                        <p:cTn id="2420" dur="6000" fill="hold"/>
                                        <p:tgtEl>
                                          <p:spTgt spid="3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0.43906 2.59259E-006 E">
                                      <p:cBhvr>
                                        <p:cTn id="2422" dur="6000" fill="hold"/>
                                        <p:tgtEl>
                                          <p:spTgt spid="3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0.62813 2.96296E-006 E">
                                      <p:cBhvr>
                                        <p:cTn id="2424" dur="6000" fill="hold"/>
                                        <p:tgtEl>
                                          <p:spTgt spid="3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5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26" dur="1000"/>
                                        <p:tgtEl>
                                          <p:spTgt spid="3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8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29" dur="1000"/>
                                        <p:tgtEl>
                                          <p:spTgt spid="3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1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2" dur="1000"/>
                                        <p:tgtEl>
                                          <p:spTgt spid="3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5" dur="1000"/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7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8" dur="1000"/>
                                        <p:tgtEl>
                                          <p:spTgt spid="3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41" dur="1000"/>
                                        <p:tgtEl>
                                          <p:spTgt spid="3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3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44" dur="1000"/>
                                        <p:tgtEl>
                                          <p:spTgt spid="3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6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47" dur="1000"/>
                                        <p:tgtEl>
                                          <p:spTgt spid="3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9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50" dur="1000"/>
                                        <p:tgtEl>
                                          <p:spTgt spid="3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2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53" dur="1000"/>
                                        <p:tgtEl>
                                          <p:spTgt spid="3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5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56" dur="1000"/>
                                        <p:tgtEl>
                                          <p:spTgt spid="3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0" dur="100"/>
                                        <p:tgtEl>
                                          <p:spTgt spid="3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3" dur="1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6" dur="100"/>
                                        <p:tgtEl>
                                          <p:spTgt spid="3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7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9" dur="100"/>
                                        <p:tgtEl>
                                          <p:spTgt spid="3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2" dur="100"/>
                                        <p:tgtEl>
                                          <p:spTgt spid="3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3" nodeType="withEffect" fill="hold" presetClass="exit" presetID="5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4" dur="1000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1000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76" dur="1000"/>
                                        <p:tgtEl>
                                          <p:spTgt spid="3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8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9" dur="500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500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81" dur="5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3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4" dur="500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500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86" dur="500"/>
                                        <p:tgtEl>
                                          <p:spTgt spid="3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9" dur="500"/>
                                        <p:tgtEl>
                                          <p:spTgt spid="3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500"/>
                                        <p:tgtEl>
                                          <p:spTgt spid="3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91" dur="500"/>
                                        <p:tgtEl>
                                          <p:spTgt spid="3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3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4" dur="500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500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96" dur="500"/>
                                        <p:tgtEl>
                                          <p:spTgt spid="3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0" dur="500"/>
                                        <p:tgtEl>
                                          <p:spTgt spid="3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3" dur="5500" fill="hold"/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5500" fill="hold"/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7" dur="2000"/>
                                        <p:tgtEl>
                                          <p:spTgt spid="3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3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3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2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4" dur="500" fill="hold"/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5" dur="500" fill="hold"/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9T04:37:18Z</dcterms:modified>
  <cp:revision>1</cp:revision>
  <dc:subject/>
  <dc:title>PowerPoint 演示文稿</dc:title>
</cp:coreProperties>
</file>