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E07-7D8D-40FC-992C-B261D5FE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CBA-B72B-4831-9602-24094CD7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AE0-B25D-432D-93F0-2861B205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260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9764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756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260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9764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967-BF62-4D17-8315-E94F3F5D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A626-3735-4183-A093-6B277673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30E8-6BEE-4DC2-8FB5-0ECBF709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C987-D763-4FC9-9096-6BD102F0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5B8E-1954-4A84-9264-975C0D5A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5982-3E0D-4295-83EE-3E511E73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E8E6-A48E-4AF3-B2AF-51969170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A615-5D8E-423E-9863-083B3554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245-5C08-4021-8D4F-077A2ED9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04F5-2365-4AEA-AB27-91AEB2B0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438A-4B55-466F-BE33-61EDD21F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C9CB-9ADA-4CDA-B29E-9C29A833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9564-56D4-4EF6-9A47-53136572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7260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764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56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7260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764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B078-7D93-4E7B-B002-9ACB9E52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D6F-4C54-41A0-B5F3-140CEE51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B69-D67B-4124-B5E9-A856181B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CAD-127C-4FB4-8341-5D5C0B0A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F42-6444-4BE7-88E9-D0E1EF6B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D38-5085-4410-9E89-5BC727A8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931-02A1-46E1-8B1A-640CCF3E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33E6-5A14-445C-9332-FC65252D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3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7057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www.51pptmoba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22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5053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FDEB-EA7D-4F5E-ADAF-BBE2D4478B15}" type="slidenum">
              <a:rPr b="0" lang="ko-KR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0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936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8" name="Rectangle 34"/>
          <p:cNvSpPr/>
          <p:nvPr/>
        </p:nvSpPr>
        <p:spPr>
          <a:xfrm>
            <a:off x="0" y="0"/>
            <a:ext cx="1295280" cy="533520"/>
          </a:xfrm>
          <a:prstGeom prst="rect">
            <a:avLst/>
          </a:prstGeom>
          <a:solidFill>
            <a:srgbClr val="419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9"/>
          <p:cNvSpPr/>
          <p:nvPr/>
        </p:nvSpPr>
        <p:spPr>
          <a:xfrm>
            <a:off x="7458120" y="5943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  <a:ea typeface="굴림"/>
              </a:rPr>
              <a:t>LOGO</a:t>
            </a:r>
            <a:endParaRPr b="0" lang="en-US" sz="2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F2F7-89CB-4D37-8B21-9C187B62E18F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绿色陪衬娇美的鲜花通用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굴림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ffffff"/>
              </a:solidFill>
              <a:latin typeface="Verdana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2635200" y="313380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5432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65" name="Freeform 4"/>
          <p:cNvSpPr/>
          <p:nvPr/>
        </p:nvSpPr>
        <p:spPr>
          <a:xfrm rot="7200000">
            <a:off x="4326480" y="205344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419366"/>
              </a:gs>
              <a:gs pos="100000">
                <a:srgbClr val="1e442f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2663280" y="1796400"/>
            <a:ext cx="2483280" cy="2630520"/>
            <a:chOff x="2663280" y="1796400"/>
            <a:chExt cx="2483280" cy="2630520"/>
          </a:xfrm>
        </p:grpSpPr>
        <p:sp>
          <p:nvSpPr>
            <p:cNvPr id="267" name="AutoShape 6"/>
            <p:cNvSpPr/>
            <p:nvPr/>
          </p:nvSpPr>
          <p:spPr>
            <a:xfrm rot="12600000">
              <a:off x="2717640" y="350352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7200000">
              <a:off x="3112920" y="270792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 rot="7200000">
              <a:off x="4186080" y="178092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270" name="Freeform 9"/>
          <p:cNvSpPr/>
          <p:nvPr/>
        </p:nvSpPr>
        <p:spPr>
          <a:xfrm rot="14400000">
            <a:off x="4440600" y="390708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213a4c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271" name="Group 10"/>
          <p:cNvGrpSpPr/>
          <p:nvPr/>
        </p:nvGrpSpPr>
        <p:grpSpPr>
          <a:xfrm>
            <a:off x="4476240" y="2684160"/>
            <a:ext cx="2172960" cy="2759760"/>
            <a:chOff x="4476240" y="2684160"/>
            <a:chExt cx="2172960" cy="2759760"/>
          </a:xfrm>
        </p:grpSpPr>
        <p:sp>
          <p:nvSpPr>
            <p:cNvPr id="272" name="AutoShape 11"/>
            <p:cNvSpPr/>
            <p:nvPr/>
          </p:nvSpPr>
          <p:spPr>
            <a:xfrm rot="19800000">
              <a:off x="4530600" y="300312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 rot="14400000">
              <a:off x="4923360" y="359892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 rot="14400000">
              <a:off x="5743440" y="435096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2627280" y="4338720"/>
            <a:ext cx="2493720" cy="1395000"/>
            <a:chOff x="2627280" y="4338720"/>
            <a:chExt cx="2493720" cy="1395000"/>
          </a:xfrm>
        </p:grpSpPr>
        <p:sp>
          <p:nvSpPr>
            <p:cNvPr id="276" name="Freeform 15"/>
            <p:cNvSpPr/>
            <p:nvPr/>
          </p:nvSpPr>
          <p:spPr>
            <a:xfrm>
              <a:off x="2627280" y="433872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77" name="AutoShape 16"/>
            <p:cNvSpPr/>
            <p:nvPr/>
          </p:nvSpPr>
          <p:spPr>
            <a:xfrm rot="5400000">
              <a:off x="4109040" y="472176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3151080" y="466092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279" name="Text Box 18"/>
          <p:cNvSpPr/>
          <p:nvPr/>
        </p:nvSpPr>
        <p:spPr>
          <a:xfrm>
            <a:off x="755640" y="4848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굴림"/>
              </a:rPr>
              <a:t>Your Text here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6300720" y="48481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굴림"/>
              </a:rPr>
              <a:t>Your Text here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3564000" y="15350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굴림"/>
              </a:rPr>
              <a:t>Your Text here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83" name="Freeform 2"/>
          <p:cNvSpPr/>
          <p:nvPr/>
        </p:nvSpPr>
        <p:spPr>
          <a:xfrm flipH="1">
            <a:off x="4788000" y="259560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7ccdb"/>
              </a:gs>
              <a:gs pos="100000">
                <a:srgbClr val="487d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1228680" y="1730160"/>
            <a:ext cx="4062240" cy="3858840"/>
            <a:chOff x="1228680" y="1730160"/>
            <a:chExt cx="4062240" cy="3858840"/>
          </a:xfrm>
        </p:grpSpPr>
        <p:sp>
          <p:nvSpPr>
            <p:cNvPr id="286" name="AutoShape 5"/>
            <p:cNvSpPr/>
            <p:nvPr/>
          </p:nvSpPr>
          <p:spPr>
            <a:xfrm rot="16200000">
              <a:off x="3835440" y="2997000"/>
              <a:ext cx="1558440" cy="1352520"/>
            </a:xfrm>
            <a:prstGeom prst="hexagon">
              <a:avLst>
                <a:gd name="adj" fmla="val 28806"/>
                <a:gd name="vf" fmla="val 115470"/>
              </a:avLst>
            </a:prstGeom>
            <a:gradFill rotWithShape="0">
              <a:gsLst>
                <a:gs pos="0">
                  <a:srgbClr val="419366"/>
                </a:gs>
                <a:gs pos="100000">
                  <a:srgbClr val="1e44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87" name="AutoShape 6"/>
            <p:cNvSpPr/>
            <p:nvPr/>
          </p:nvSpPr>
          <p:spPr>
            <a:xfrm rot="16200000">
              <a:off x="3152160" y="18313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543221"/>
                </a:gs>
                <a:gs pos="50000">
                  <a:srgbClr val="b66d48"/>
                </a:gs>
                <a:gs pos="100000">
                  <a:srgbClr val="54322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88" name="AutoShape 7"/>
            <p:cNvSpPr/>
            <p:nvPr/>
          </p:nvSpPr>
          <p:spPr>
            <a:xfrm rot="16200000">
              <a:off x="3197160" y="4134600"/>
              <a:ext cx="1556280" cy="1352520"/>
            </a:xfrm>
            <a:prstGeom prst="hexagon">
              <a:avLst>
                <a:gd name="adj" fmla="val 28766"/>
                <a:gd name="vf" fmla="val 115470"/>
              </a:avLst>
            </a:prstGeom>
            <a:gradFill rotWithShape="0">
              <a:gsLst>
                <a:gs pos="0">
                  <a:srgbClr val="543221"/>
                </a:gs>
                <a:gs pos="50000">
                  <a:srgbClr val="b66d48"/>
                </a:gs>
                <a:gs pos="100000">
                  <a:srgbClr val="54322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89" name="AutoShape 8"/>
            <p:cNvSpPr/>
            <p:nvPr/>
          </p:nvSpPr>
          <p:spPr>
            <a:xfrm rot="16200000">
              <a:off x="2479680" y="300096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60691d"/>
                </a:gs>
                <a:gs pos="50000">
                  <a:srgbClr val="cfe33f"/>
                </a:gs>
                <a:gs pos="100000">
                  <a:srgbClr val="60691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4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90" name="AutoShape 9"/>
            <p:cNvSpPr/>
            <p:nvPr/>
          </p:nvSpPr>
          <p:spPr>
            <a:xfrm rot="16200000">
              <a:off x="1798920" y="183204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419366"/>
                </a:gs>
                <a:gs pos="100000">
                  <a:srgbClr val="1e44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91" name="AutoShape 10"/>
            <p:cNvSpPr/>
            <p:nvPr/>
          </p:nvSpPr>
          <p:spPr>
            <a:xfrm rot="16200000">
              <a:off x="1797480" y="4134600"/>
              <a:ext cx="1556280" cy="1352520"/>
            </a:xfrm>
            <a:prstGeom prst="hexagon">
              <a:avLst>
                <a:gd name="adj" fmla="val 28766"/>
                <a:gd name="vf" fmla="val 115470"/>
              </a:avLst>
            </a:prstGeom>
            <a:gradFill rotWithShape="0">
              <a:gsLst>
                <a:gs pos="0">
                  <a:srgbClr val="419366"/>
                </a:gs>
                <a:gs pos="100000">
                  <a:srgbClr val="1e44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92" name="AutoShape 11"/>
            <p:cNvSpPr/>
            <p:nvPr/>
          </p:nvSpPr>
          <p:spPr>
            <a:xfrm rot="16200000">
              <a:off x="1125360" y="299700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543221"/>
                </a:gs>
                <a:gs pos="50000">
                  <a:srgbClr val="b66d48"/>
                </a:gs>
                <a:gs pos="100000">
                  <a:srgbClr val="54322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ext</a:t>
              </a:r>
              <a:endParaRPr b="0" lang="en-US" sz="20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293" name="Text Box 12"/>
          <p:cNvSpPr/>
          <p:nvPr/>
        </p:nvSpPr>
        <p:spPr>
          <a:xfrm rot="16200000">
            <a:off x="6042600" y="764280"/>
            <a:ext cx="729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e4f56"/>
                </a:solidFill>
                <a:latin typeface="Arial"/>
                <a:ea typeface="굴림"/>
              </a:rPr>
              <a:t>Add title text</a:t>
            </a:r>
            <a:endParaRPr b="0" lang="en-US" sz="3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95" name="AutoShape 2"/>
          <p:cNvSpPr/>
          <p:nvPr/>
        </p:nvSpPr>
        <p:spPr>
          <a:xfrm flipH="1" rot="16200000">
            <a:off x="2257200" y="3101760"/>
            <a:ext cx="64764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487da4"/>
              </a:gs>
              <a:gs pos="100000">
                <a:srgbClr val="b7ccdb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96" name="AutoShape 3"/>
          <p:cNvSpPr/>
          <p:nvPr/>
        </p:nvSpPr>
        <p:spPr>
          <a:xfrm flipH="1" rot="5400000">
            <a:off x="6047640" y="30301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487da4"/>
              </a:gs>
              <a:gs pos="100000">
                <a:srgbClr val="b7cc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97" name="AutoShape 4"/>
          <p:cNvSpPr/>
          <p:nvPr/>
        </p:nvSpPr>
        <p:spPr>
          <a:xfrm flipH="1" rot="10800000">
            <a:off x="4151880" y="501300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487da4"/>
              </a:gs>
              <a:gs pos="100000">
                <a:srgbClr val="b7ccd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Oval 6"/>
          <p:cNvSpPr/>
          <p:nvPr/>
        </p:nvSpPr>
        <p:spPr>
          <a:xfrm>
            <a:off x="2797200" y="162720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3087720" y="1916280"/>
            <a:ext cx="2803320" cy="2803320"/>
          </a:xfrm>
          <a:prstGeom prst="ellipse">
            <a:avLst/>
          </a:prstGeom>
          <a:gradFill rotWithShape="0">
            <a:gsLst>
              <a:gs pos="0">
                <a:srgbClr val="a2a2a2"/>
              </a:gs>
              <a:gs pos="50000">
                <a:srgbClr val="ffffff"/>
              </a:gs>
              <a:gs pos="100000">
                <a:srgbClr val="a2a2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301" name="Group 8"/>
          <p:cNvGrpSpPr/>
          <p:nvPr/>
        </p:nvGrpSpPr>
        <p:grpSpPr>
          <a:xfrm>
            <a:off x="3516480" y="2346480"/>
            <a:ext cx="1946160" cy="1949400"/>
            <a:chOff x="3516480" y="2346480"/>
            <a:chExt cx="1946160" cy="1949400"/>
          </a:xfrm>
        </p:grpSpPr>
        <p:sp>
          <p:nvSpPr>
            <p:cNvPr id="302" name="Oval 9"/>
            <p:cNvSpPr/>
            <p:nvPr/>
          </p:nvSpPr>
          <p:spPr>
            <a:xfrm>
              <a:off x="3516480" y="234648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66d4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303" name="Oval 10"/>
            <p:cNvSpPr/>
            <p:nvPr/>
          </p:nvSpPr>
          <p:spPr>
            <a:xfrm>
              <a:off x="3516480" y="234648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6d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304" name="Oval 11"/>
            <p:cNvSpPr/>
            <p:nvPr/>
          </p:nvSpPr>
          <p:spPr>
            <a:xfrm>
              <a:off x="3643920" y="247392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623b27"/>
                </a:gs>
                <a:gs pos="50000">
                  <a:srgbClr val="b66d48"/>
                </a:gs>
                <a:gs pos="100000">
                  <a:srgbClr val="623b2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305" name="Oval 12"/>
            <p:cNvSpPr/>
            <p:nvPr/>
          </p:nvSpPr>
          <p:spPr>
            <a:xfrm>
              <a:off x="3643920" y="2473920"/>
              <a:ext cx="1690920" cy="169380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5935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>
              <a:off x="3728520" y="255888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54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307" name="AutoShape 14"/>
          <p:cNvSpPr/>
          <p:nvPr/>
        </p:nvSpPr>
        <p:spPr>
          <a:xfrm>
            <a:off x="611280" y="357192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94930"/>
              </a:gs>
              <a:gs pos="50000">
                <a:srgbClr val="b66d48"/>
              </a:gs>
              <a:gs pos="100000">
                <a:srgbClr val="7949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611280" y="292248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94930"/>
              </a:gs>
              <a:gs pos="50000">
                <a:srgbClr val="b66d48"/>
              </a:gs>
              <a:gs pos="100000">
                <a:srgbClr val="7949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09" name="AutoShape 16"/>
          <p:cNvSpPr/>
          <p:nvPr/>
        </p:nvSpPr>
        <p:spPr>
          <a:xfrm>
            <a:off x="611280" y="22748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94930"/>
              </a:gs>
              <a:gs pos="50000">
                <a:srgbClr val="b66d48"/>
              </a:gs>
              <a:gs pos="100000">
                <a:srgbClr val="7949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3849120" y="3067200"/>
            <a:ext cx="12200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1" name="AutoShape 18"/>
          <p:cNvSpPr/>
          <p:nvPr/>
        </p:nvSpPr>
        <p:spPr>
          <a:xfrm>
            <a:off x="6732720" y="357984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a972a"/>
              </a:gs>
              <a:gs pos="50000">
                <a:srgbClr val="cfe33f"/>
              </a:gs>
              <a:gs pos="100000">
                <a:srgbClr val="8a97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6732720" y="29304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a972a"/>
              </a:gs>
              <a:gs pos="50000">
                <a:srgbClr val="cfe33f"/>
              </a:gs>
              <a:gs pos="100000">
                <a:srgbClr val="8a97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3" name="AutoShape 20"/>
          <p:cNvSpPr/>
          <p:nvPr/>
        </p:nvSpPr>
        <p:spPr>
          <a:xfrm>
            <a:off x="6732720" y="228276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a972a"/>
              </a:gs>
              <a:gs pos="50000">
                <a:srgbClr val="cfe33f"/>
              </a:gs>
              <a:gs pos="100000">
                <a:srgbClr val="8a97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4" name="AutoShape 21"/>
          <p:cNvSpPr/>
          <p:nvPr/>
        </p:nvSpPr>
        <p:spPr>
          <a:xfrm>
            <a:off x="2268360" y="5589720"/>
            <a:ext cx="4537080" cy="431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3673440" y="410544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94930"/>
              </a:gs>
              <a:gs pos="50000">
                <a:srgbClr val="b66d48"/>
              </a:gs>
              <a:gs pos="100000">
                <a:srgbClr val="7949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3673440" y="3456000"/>
            <a:ext cx="180036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94930"/>
              </a:gs>
              <a:gs pos="50000">
                <a:srgbClr val="b66d48"/>
              </a:gs>
              <a:gs pos="100000">
                <a:srgbClr val="7949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3673440" y="280836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94930"/>
              </a:gs>
              <a:gs pos="50000">
                <a:srgbClr val="b66d48"/>
              </a:gs>
              <a:gs pos="100000">
                <a:srgbClr val="7949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3144960" y="1486080"/>
            <a:ext cx="280800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b6244"/>
              </a:gs>
              <a:gs pos="50000">
                <a:srgbClr val="419366"/>
              </a:gs>
              <a:gs pos="100000">
                <a:srgbClr val="2b62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3132000" y="5446800"/>
            <a:ext cx="2808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d5a9e"/>
              </a:gs>
              <a:gs pos="50000">
                <a:srgbClr val="8c87ed"/>
              </a:gs>
              <a:gs pos="100000">
                <a:srgbClr val="5d5a9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Your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2" name="AutoShape 8"/>
          <p:cNvSpPr/>
          <p:nvPr/>
        </p:nvSpPr>
        <p:spPr>
          <a:xfrm rot="16200000">
            <a:off x="2087640" y="3322800"/>
            <a:ext cx="1944720" cy="1008000"/>
          </a:xfrm>
          <a:prstGeom prst="upArrow">
            <a:avLst>
              <a:gd name="adj1" fmla="val 43843"/>
              <a:gd name="adj2" fmla="val 63148"/>
            </a:avLst>
          </a:prstGeom>
          <a:gradFill rotWithShape="0">
            <a:gsLst>
              <a:gs pos="0">
                <a:srgbClr val="b2b2b2"/>
              </a:gs>
              <a:gs pos="100000">
                <a:srgbClr val="b8b8b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3" name="AutoShape 9"/>
          <p:cNvSpPr/>
          <p:nvPr/>
        </p:nvSpPr>
        <p:spPr>
          <a:xfrm flipH="1" rot="5400000">
            <a:off x="5002920" y="3359160"/>
            <a:ext cx="1944720" cy="934920"/>
          </a:xfrm>
          <a:prstGeom prst="upArrow">
            <a:avLst>
              <a:gd name="adj1" fmla="val 46778"/>
              <a:gd name="adj2" fmla="val 63495"/>
            </a:avLst>
          </a:prstGeom>
          <a:gradFill rotWithShape="0">
            <a:gsLst>
              <a:gs pos="0">
                <a:srgbClr val="b2b2b2"/>
              </a:gs>
              <a:gs pos="100000">
                <a:srgbClr val="b8b8b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4" name="AutoShape 10"/>
          <p:cNvSpPr/>
          <p:nvPr/>
        </p:nvSpPr>
        <p:spPr>
          <a:xfrm rot="10800000">
            <a:off x="4284360" y="4799160"/>
            <a:ext cx="647640" cy="57600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8b8b8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5" name="AutoShape 11"/>
          <p:cNvSpPr/>
          <p:nvPr/>
        </p:nvSpPr>
        <p:spPr>
          <a:xfrm>
            <a:off x="4309920" y="2244600"/>
            <a:ext cx="648000" cy="50508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8b8b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6" name="AutoShape 12"/>
          <p:cNvSpPr/>
          <p:nvPr/>
        </p:nvSpPr>
        <p:spPr>
          <a:xfrm>
            <a:off x="684360" y="2422440"/>
            <a:ext cx="1800000" cy="324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77">
                <a:moveTo>
                  <a:pt x="3600" y="0"/>
                </a:moveTo>
                <a:arcTo wR="3600" hR="3600" stAng="16200000" swAng="-5400000"/>
                <a:lnTo>
                  <a:pt x="0" y="35277"/>
                </a:lnTo>
                <a:arcTo wR="3600" hR="3600" stAng="10800000" swAng="-5400000"/>
                <a:lnTo>
                  <a:pt x="18000" y="38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776160" y="2711520"/>
            <a:ext cx="158436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9366"/>
                </a:solidFill>
                <a:latin typeface="Verdana"/>
                <a:ea typeface="굴림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1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2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3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4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5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8" name="AutoShape 14"/>
          <p:cNvSpPr/>
          <p:nvPr/>
        </p:nvSpPr>
        <p:spPr>
          <a:xfrm>
            <a:off x="6588000" y="2351160"/>
            <a:ext cx="1800360" cy="324000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69">
                <a:moveTo>
                  <a:pt x="3600" y="0"/>
                </a:moveTo>
                <a:arcTo wR="3600" hR="3600" stAng="16200000" swAng="-5400000"/>
                <a:lnTo>
                  <a:pt x="0" y="35269"/>
                </a:lnTo>
                <a:arcTo wR="3600" hR="3600" stAng="10800000" swAng="-5400000"/>
                <a:lnTo>
                  <a:pt x="18000" y="38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6680160" y="2639880"/>
            <a:ext cx="158436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e33f"/>
                </a:solidFill>
                <a:latin typeface="Verdana"/>
                <a:ea typeface="굴림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1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2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3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4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굴림"/>
              </a:rPr>
              <a:t>Add text 5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1" name="Oval 2"/>
          <p:cNvSpPr/>
          <p:nvPr/>
        </p:nvSpPr>
        <p:spPr>
          <a:xfrm rot="20239200">
            <a:off x="1115640" y="2363400"/>
            <a:ext cx="6519960" cy="30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202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2" name="Oval 3"/>
          <p:cNvSpPr/>
          <p:nvPr/>
        </p:nvSpPr>
        <p:spPr>
          <a:xfrm rot="20240400">
            <a:off x="1255320" y="2572920"/>
            <a:ext cx="592632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Oval 5"/>
          <p:cNvSpPr/>
          <p:nvPr/>
        </p:nvSpPr>
        <p:spPr>
          <a:xfrm>
            <a:off x="1293840" y="28972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5" name="Oval 6"/>
          <p:cNvSpPr/>
          <p:nvPr/>
        </p:nvSpPr>
        <p:spPr>
          <a:xfrm>
            <a:off x="3554280" y="1525680"/>
            <a:ext cx="1295640" cy="1218960"/>
          </a:xfrm>
          <a:prstGeom prst="ellipse">
            <a:avLst/>
          </a:prstGeom>
          <a:gradFill rotWithShape="0">
            <a:gsLst>
              <a:gs pos="0">
                <a:srgbClr val="487da4"/>
              </a:gs>
              <a:gs pos="100000">
                <a:srgbClr val="192b3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6399360" y="19828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66d48"/>
              </a:gs>
              <a:gs pos="100000">
                <a:srgbClr val="3f26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7" name="Oval 8"/>
          <p:cNvSpPr/>
          <p:nvPr/>
        </p:nvSpPr>
        <p:spPr>
          <a:xfrm>
            <a:off x="1725480" y="480204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4722840" y="43448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17342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3503520" y="34304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4f56"/>
                </a:solidFill>
                <a:latin typeface="Arial"/>
                <a:ea typeface="굴림"/>
              </a:rPr>
              <a:t>Add Title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411120" y="652320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6d48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577880" y="1763640"/>
          <a:ext cx="7002720" cy="3706920"/>
        </p:xfrm>
        <a:graphic>
          <a:graphicData uri="http://schemas.openxmlformats.org/drawingml/2006/table">
            <a:tbl>
              <a:tblPr/>
              <a:tblGrid>
                <a:gridCol w="1575000"/>
                <a:gridCol w="1103040"/>
                <a:gridCol w="1067040"/>
                <a:gridCol w="1087200"/>
                <a:gridCol w="1089360"/>
                <a:gridCol w="1081080"/>
              </a:tblGrid>
              <a:tr h="449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ext 1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3221"/>
                        </a:gs>
                        <a:gs pos="50000">
                          <a:srgbClr val="b66d48"/>
                        </a:gs>
                        <a:gs pos="100000">
                          <a:srgbClr val="54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ext 2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3221"/>
                        </a:gs>
                        <a:gs pos="50000">
                          <a:srgbClr val="b66d48"/>
                        </a:gs>
                        <a:gs pos="100000">
                          <a:srgbClr val="54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ext 3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3221"/>
                        </a:gs>
                        <a:gs pos="50000">
                          <a:srgbClr val="b66d48"/>
                        </a:gs>
                        <a:gs pos="100000">
                          <a:srgbClr val="54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ext 4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3221"/>
                        </a:gs>
                        <a:gs pos="50000">
                          <a:srgbClr val="b66d48"/>
                        </a:gs>
                        <a:gs pos="100000">
                          <a:srgbClr val="54322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ext 5</a:t>
                      </a: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3221"/>
                        </a:gs>
                        <a:gs pos="50000">
                          <a:srgbClr val="b66d48"/>
                        </a:gs>
                        <a:gs pos="100000">
                          <a:srgbClr val="543221"/>
                        </a:gs>
                      </a:gsLst>
                      <a:lin ang="5400000"/>
                    </a:gradFill>
                  </a:tcPr>
                </a:tc>
              </a:tr>
              <a:tr h="79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dd text 1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e442f"/>
                        </a:gs>
                        <a:gs pos="50000">
                          <a:srgbClr val="419366"/>
                        </a:gs>
                        <a:gs pos="100000">
                          <a:srgbClr val="1e44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83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dd text 2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e442f"/>
                        </a:gs>
                        <a:gs pos="50000">
                          <a:srgbClr val="419366"/>
                        </a:gs>
                        <a:gs pos="100000">
                          <a:srgbClr val="1e44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824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dd text 3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e442f"/>
                        </a:gs>
                        <a:gs pos="50000">
                          <a:srgbClr val="419366"/>
                        </a:gs>
                        <a:gs pos="100000">
                          <a:srgbClr val="1e44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80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dd text 4</a:t>
                      </a:r>
                      <a:endParaRPr b="0" lang="en-US" sz="20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e442f"/>
                        </a:gs>
                        <a:gs pos="50000">
                          <a:srgbClr val="419366"/>
                        </a:gs>
                        <a:gs pos="100000">
                          <a:srgbClr val="1e44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e4f5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1752480" y="175212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7da4"/>
              </a:gs>
              <a:gs pos="100000">
                <a:srgbClr val="213a4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886200" y="175212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e33f"/>
              </a:gs>
              <a:gs pos="100000">
                <a:srgbClr val="58601b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6095880" y="175212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9366"/>
              </a:gs>
              <a:gs pos="100000">
                <a:srgbClr val="1c3e2b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6095880" y="250020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419366"/>
              </a:gs>
              <a:gs pos="100000">
                <a:srgbClr val="2f6b4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3733920" y="250020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cfe33f"/>
              </a:gs>
              <a:gs pos="100000">
                <a:srgbClr val="97a62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51" name="AutoShape 8"/>
          <p:cNvSpPr/>
          <p:nvPr/>
        </p:nvSpPr>
        <p:spPr>
          <a:xfrm>
            <a:off x="1371600" y="250020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e4f68"/>
              </a:gs>
              <a:gs pos="100000">
                <a:srgbClr val="487da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2297160" y="1063800"/>
          <a:ext cx="556272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063800"/>
                    <a:ext cx="556272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67816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50292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2893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1523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362" name="Group 7"/>
          <p:cNvGrpSpPr/>
          <p:nvPr/>
        </p:nvGrpSpPr>
        <p:grpSpPr>
          <a:xfrm>
            <a:off x="1581480" y="1553760"/>
            <a:ext cx="6437520" cy="1387800"/>
            <a:chOff x="1581480" y="1553760"/>
            <a:chExt cx="6437520" cy="1387800"/>
          </a:xfrm>
        </p:grpSpPr>
        <p:sp>
          <p:nvSpPr>
            <p:cNvPr id="363" name="Rectangle 8"/>
            <p:cNvSpPr/>
            <p:nvPr/>
          </p:nvSpPr>
          <p:spPr>
            <a:xfrm rot="3418800">
              <a:off x="1791720" y="1778760"/>
              <a:ext cx="924480" cy="1003680"/>
            </a:xfrm>
            <a:prstGeom prst="rect">
              <a:avLst/>
            </a:prstGeom>
            <a:solidFill>
              <a:srgbClr val="487d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grpSp>
          <p:nvGrpSpPr>
            <p:cNvPr id="364" name="Group 9"/>
            <p:cNvGrpSpPr/>
            <p:nvPr/>
          </p:nvGrpSpPr>
          <p:grpSpPr>
            <a:xfrm>
              <a:off x="2756160" y="1950480"/>
              <a:ext cx="931680" cy="131760"/>
              <a:chOff x="2756160" y="1950480"/>
              <a:chExt cx="931680" cy="131760"/>
            </a:xfrm>
          </p:grpSpPr>
          <p:sp>
            <p:nvSpPr>
              <p:cNvPr id="365" name="Oval 10"/>
              <p:cNvSpPr/>
              <p:nvPr/>
            </p:nvSpPr>
            <p:spPr>
              <a:xfrm>
                <a:off x="27561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66" name="Rectangle 11"/>
              <p:cNvSpPr/>
              <p:nvPr/>
            </p:nvSpPr>
            <p:spPr>
              <a:xfrm>
                <a:off x="28454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>
                <a:off x="354672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68" name="Oval 13"/>
              <p:cNvSpPr/>
              <p:nvPr/>
            </p:nvSpPr>
            <p:spPr>
              <a:xfrm>
                <a:off x="3622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</p:grpSp>
        <p:sp>
          <p:nvSpPr>
            <p:cNvPr id="369" name="Rectangle 14"/>
            <p:cNvSpPr/>
            <p:nvPr/>
          </p:nvSpPr>
          <p:spPr>
            <a:xfrm rot="3418800">
              <a:off x="3512880" y="1712880"/>
              <a:ext cx="924480" cy="1003680"/>
            </a:xfrm>
            <a:prstGeom prst="rect">
              <a:avLst/>
            </a:prstGeom>
            <a:solidFill>
              <a:srgbClr val="419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grpSp>
          <p:nvGrpSpPr>
            <p:cNvPr id="370" name="Group 15"/>
            <p:cNvGrpSpPr/>
            <p:nvPr/>
          </p:nvGrpSpPr>
          <p:grpSpPr>
            <a:xfrm>
              <a:off x="4477680" y="1950480"/>
              <a:ext cx="931680" cy="131760"/>
              <a:chOff x="4477680" y="1950480"/>
              <a:chExt cx="931680" cy="131760"/>
            </a:xfrm>
          </p:grpSpPr>
          <p:sp>
            <p:nvSpPr>
              <p:cNvPr id="371" name="Oval 16"/>
              <p:cNvSpPr/>
              <p:nvPr/>
            </p:nvSpPr>
            <p:spPr>
              <a:xfrm>
                <a:off x="44776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72" name="Rectangle 17"/>
              <p:cNvSpPr/>
              <p:nvPr/>
            </p:nvSpPr>
            <p:spPr>
              <a:xfrm>
                <a:off x="45669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73" name="Oval 18"/>
              <p:cNvSpPr/>
              <p:nvPr/>
            </p:nvSpPr>
            <p:spPr>
              <a:xfrm>
                <a:off x="52682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74" name="Oval 19"/>
              <p:cNvSpPr/>
              <p:nvPr/>
            </p:nvSpPr>
            <p:spPr>
              <a:xfrm>
                <a:off x="534420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</p:grpSp>
        <p:sp>
          <p:nvSpPr>
            <p:cNvPr id="375" name="Rectangle 20"/>
            <p:cNvSpPr/>
            <p:nvPr/>
          </p:nvSpPr>
          <p:spPr>
            <a:xfrm rot="3418800">
              <a:off x="5162400" y="1712880"/>
              <a:ext cx="924480" cy="1003680"/>
            </a:xfrm>
            <a:prstGeom prst="rect">
              <a:avLst/>
            </a:prstGeom>
            <a:solidFill>
              <a:srgbClr val="487d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grpSp>
          <p:nvGrpSpPr>
            <p:cNvPr id="376" name="Group 21"/>
            <p:cNvGrpSpPr/>
            <p:nvPr/>
          </p:nvGrpSpPr>
          <p:grpSpPr>
            <a:xfrm>
              <a:off x="6199200" y="1950480"/>
              <a:ext cx="1218240" cy="131760"/>
              <a:chOff x="6199200" y="1950480"/>
              <a:chExt cx="1218240" cy="131760"/>
            </a:xfrm>
          </p:grpSpPr>
          <p:sp>
            <p:nvSpPr>
              <p:cNvPr id="377" name="Oval 22"/>
              <p:cNvSpPr/>
              <p:nvPr/>
            </p:nvSpPr>
            <p:spPr>
              <a:xfrm>
                <a:off x="619920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78" name="Rectangle 23"/>
              <p:cNvSpPr/>
              <p:nvPr/>
            </p:nvSpPr>
            <p:spPr>
              <a:xfrm>
                <a:off x="631584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79" name="Oval 24"/>
              <p:cNvSpPr/>
              <p:nvPr/>
            </p:nvSpPr>
            <p:spPr>
              <a:xfrm>
                <a:off x="723276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380" name="Oval 25"/>
              <p:cNvSpPr/>
              <p:nvPr/>
            </p:nvSpPr>
            <p:spPr>
              <a:xfrm>
                <a:off x="733212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</p:grpSp>
        <p:sp>
          <p:nvSpPr>
            <p:cNvPr id="381" name="Rectangle 26"/>
            <p:cNvSpPr/>
            <p:nvPr/>
          </p:nvSpPr>
          <p:spPr>
            <a:xfrm rot="3418800">
              <a:off x="6883920" y="1712880"/>
              <a:ext cx="924480" cy="1003680"/>
            </a:xfrm>
            <a:prstGeom prst="rect">
              <a:avLst/>
            </a:prstGeom>
            <a:solidFill>
              <a:srgbClr val="419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382" name="AutoShape 27"/>
          <p:cNvSpPr/>
          <p:nvPr/>
        </p:nvSpPr>
        <p:spPr>
          <a:xfrm>
            <a:off x="1677960" y="20368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83" name="AutoShape 28"/>
          <p:cNvSpPr/>
          <p:nvPr/>
        </p:nvSpPr>
        <p:spPr>
          <a:xfrm>
            <a:off x="3429000" y="19620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84" name="AutoShape 29"/>
          <p:cNvSpPr/>
          <p:nvPr/>
        </p:nvSpPr>
        <p:spPr>
          <a:xfrm>
            <a:off x="4952880" y="1962000"/>
            <a:ext cx="12956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85" name="AutoShape 30"/>
          <p:cNvSpPr/>
          <p:nvPr/>
        </p:nvSpPr>
        <p:spPr>
          <a:xfrm>
            <a:off x="6781680" y="1962000"/>
            <a:ext cx="129564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Oval 3"/>
          <p:cNvSpPr/>
          <p:nvPr/>
        </p:nvSpPr>
        <p:spPr>
          <a:xfrm>
            <a:off x="2362320" y="4137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89" name="Oval 4"/>
          <p:cNvSpPr/>
          <p:nvPr/>
        </p:nvSpPr>
        <p:spPr>
          <a:xfrm rot="20601600">
            <a:off x="1636560" y="2023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e4f56"/>
              </a:gs>
              <a:gs pos="50000">
                <a:srgbClr val="ccd4d6"/>
              </a:gs>
              <a:gs pos="100000">
                <a:srgbClr val="2e4f5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0" name="Oval 5"/>
          <p:cNvSpPr/>
          <p:nvPr/>
        </p:nvSpPr>
        <p:spPr>
          <a:xfrm rot="20601600">
            <a:off x="1699920" y="1870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1" name="Arc 6"/>
          <p:cNvSpPr/>
          <p:nvPr/>
        </p:nvSpPr>
        <p:spPr>
          <a:xfrm rot="20601600">
            <a:off x="4565520" y="293364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2" name="Arc 7"/>
          <p:cNvSpPr/>
          <p:nvPr/>
        </p:nvSpPr>
        <p:spPr>
          <a:xfrm rot="20601600">
            <a:off x="4341960" y="194004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gradFill rotWithShape="0">
            <a:gsLst>
              <a:gs pos="0">
                <a:srgbClr val="2e4f56"/>
              </a:gs>
              <a:gs pos="100000">
                <a:srgbClr val="0a1213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3" name="Arc 8"/>
          <p:cNvSpPr/>
          <p:nvPr/>
        </p:nvSpPr>
        <p:spPr>
          <a:xfrm flipH="1" rot="20602200">
            <a:off x="1754640" y="3250800"/>
            <a:ext cx="286704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213a4c"/>
              </a:gs>
            </a:gsLst>
            <a:lin ang="44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4" name="Arc 9"/>
          <p:cNvSpPr/>
          <p:nvPr/>
        </p:nvSpPr>
        <p:spPr>
          <a:xfrm rot="20601600">
            <a:off x="3600360" y="167652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543221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5" name="Arc 10"/>
          <p:cNvSpPr/>
          <p:nvPr/>
        </p:nvSpPr>
        <p:spPr>
          <a:xfrm flipH="1" rot="20602200">
            <a:off x="1549080" y="2322000"/>
            <a:ext cx="2774880" cy="138132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33c1ad"/>
              </a:gs>
              <a:gs pos="100000">
                <a:srgbClr val="185950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6" name="Freeform 11"/>
          <p:cNvSpPr/>
          <p:nvPr/>
        </p:nvSpPr>
        <p:spPr>
          <a:xfrm rot="20601600">
            <a:off x="4681440" y="3182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7" name="Freeform 12"/>
          <p:cNvSpPr/>
          <p:nvPr/>
        </p:nvSpPr>
        <p:spPr>
          <a:xfrm rot="20601600">
            <a:off x="4574880" y="2930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2e4f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8" name="Arc 13"/>
          <p:cNvSpPr/>
          <p:nvPr/>
        </p:nvSpPr>
        <p:spPr>
          <a:xfrm rot="20712600">
            <a:off x="4276800" y="2962080"/>
            <a:ext cx="2949480" cy="1271520"/>
          </a:xfrm>
          <a:custGeom>
            <a:avLst/>
            <a:gdLst/>
            <a:ahLst/>
            <a:rect l="l" t="t" r="r" b="b"/>
            <a:pathLst>
              <a:path fill="none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</a:path>
              <a:path stroke="0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  <a:lnTo>
                  <a:pt x="0" y="0"/>
                </a:lnTo>
                <a:lnTo>
                  <a:pt x="19866" y="8479"/>
                </a:lnTo>
                <a:close/>
              </a:path>
            </a:pathLst>
          </a:custGeom>
          <a:gradFill rotWithShape="0">
            <a:gsLst>
              <a:gs pos="0">
                <a:srgbClr val="2e4f56"/>
              </a:gs>
              <a:gs pos="100000">
                <a:srgbClr val="1321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399" name="Freeform 14"/>
          <p:cNvSpPr/>
          <p:nvPr/>
        </p:nvSpPr>
        <p:spPr>
          <a:xfrm rot="20712600">
            <a:off x="4361040" y="3150720"/>
            <a:ext cx="1377720" cy="153684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8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400" name="Group 15"/>
          <p:cNvGrpSpPr/>
          <p:nvPr/>
        </p:nvGrpSpPr>
        <p:grpSpPr>
          <a:xfrm>
            <a:off x="4656960" y="2433240"/>
            <a:ext cx="3270960" cy="2455200"/>
            <a:chOff x="4656960" y="2433240"/>
            <a:chExt cx="3270960" cy="2455200"/>
          </a:xfrm>
        </p:grpSpPr>
        <p:sp>
          <p:nvSpPr>
            <p:cNvPr id="401" name="Freeform 16"/>
            <p:cNvSpPr/>
            <p:nvPr/>
          </p:nvSpPr>
          <p:spPr>
            <a:xfrm rot="20712600">
              <a:off x="5737320" y="3318840"/>
              <a:ext cx="157968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402" name="Freeform 17"/>
            <p:cNvSpPr/>
            <p:nvPr/>
          </p:nvSpPr>
          <p:spPr>
            <a:xfrm rot="20601600">
              <a:off x="6248160" y="32220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a9ceb9"/>
                </a:gs>
                <a:gs pos="100000">
                  <a:srgbClr val="419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403" name="Arc 18"/>
            <p:cNvSpPr/>
            <p:nvPr/>
          </p:nvSpPr>
          <p:spPr>
            <a:xfrm rot="20539200">
              <a:off x="4800240" y="2841120"/>
              <a:ext cx="2905200" cy="139680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gradFill rotWithShape="0">
              <a:gsLst>
                <a:gs pos="0">
                  <a:srgbClr val="419366"/>
                </a:gs>
                <a:gs pos="100000">
                  <a:srgbClr val="1e442f"/>
                </a:gs>
              </a:gsLst>
              <a:lin ang="64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404" name="Freeform 19"/>
            <p:cNvSpPr/>
            <p:nvPr/>
          </p:nvSpPr>
          <p:spPr>
            <a:xfrm rot="20601600">
              <a:off x="4933800" y="3133080"/>
              <a:ext cx="1358640" cy="15937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419366"/>
                </a:gs>
                <a:gs pos="100000">
                  <a:srgbClr val="295d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405" name="Oval 20"/>
          <p:cNvSpPr/>
          <p:nvPr/>
        </p:nvSpPr>
        <p:spPr>
          <a:xfrm rot="20601600">
            <a:off x="3154320" y="2576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06" name="Oval 21"/>
          <p:cNvSpPr/>
          <p:nvPr/>
        </p:nvSpPr>
        <p:spPr>
          <a:xfrm rot="20601600">
            <a:off x="3254400" y="2828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07" name="AutoShape 22"/>
          <p:cNvSpPr/>
          <p:nvPr/>
        </p:nvSpPr>
        <p:spPr>
          <a:xfrm>
            <a:off x="2362320" y="2670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08" name="AutoShape 23"/>
          <p:cNvSpPr/>
          <p:nvPr/>
        </p:nvSpPr>
        <p:spPr>
          <a:xfrm>
            <a:off x="4114800" y="1832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09" name="AutoShape 24"/>
          <p:cNvSpPr/>
          <p:nvPr/>
        </p:nvSpPr>
        <p:spPr>
          <a:xfrm>
            <a:off x="5715000" y="2289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10" name="AutoShape 25"/>
          <p:cNvSpPr/>
          <p:nvPr/>
        </p:nvSpPr>
        <p:spPr>
          <a:xfrm>
            <a:off x="5715000" y="3279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11" name="AutoShape 26"/>
          <p:cNvSpPr/>
          <p:nvPr/>
        </p:nvSpPr>
        <p:spPr>
          <a:xfrm>
            <a:off x="2209680" y="3889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6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12" name="AutoShape 27"/>
          <p:cNvSpPr/>
          <p:nvPr/>
        </p:nvSpPr>
        <p:spPr>
          <a:xfrm>
            <a:off x="3886200" y="4118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5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Master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  <a:ea typeface="굴림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On the </a:t>
            </a:r>
            <a:r>
              <a:rPr b="0" lang="en-US" sz="2400" spc="-1" strike="noStrike">
                <a:solidFill>
                  <a:srgbClr val="419366"/>
                </a:solidFill>
                <a:latin typeface="Verdana"/>
                <a:ea typeface="굴림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menu, point to </a:t>
            </a:r>
            <a:r>
              <a:rPr b="0" lang="en-US" sz="2400" spc="-1" strike="noStrike">
                <a:solidFill>
                  <a:srgbClr val="419366"/>
                </a:solidFill>
                <a:latin typeface="Verdana"/>
                <a:ea typeface="굴림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and then click </a:t>
            </a:r>
            <a:r>
              <a:rPr b="0" lang="en-US" sz="2400" spc="-1" strike="noStrike">
                <a:solidFill>
                  <a:srgbClr val="419366"/>
                </a:solidFill>
                <a:latin typeface="Verdana"/>
                <a:ea typeface="굴림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3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4f56"/>
                    </a:gs>
                    <a:gs pos="100000">
                      <a:srgbClr val="b66d4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4f56"/>
                  </a:gs>
                  <a:gs pos="100000">
                    <a:srgbClr val="b66d4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2192400" y="1932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43221"/>
              </a:gs>
              <a:gs pos="100000">
                <a:srgbClr val="b66d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2206800" y="278928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2192400" y="3639960"/>
            <a:ext cx="5473800" cy="3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0691d"/>
              </a:gs>
              <a:gs pos="100000">
                <a:srgbClr val="cfe3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192400" y="45180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13a4c"/>
              </a:gs>
              <a:gs pos="100000">
                <a:srgbClr val="487d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503440" y="187164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ntroduction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2523960" y="272268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trategy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2514600" y="35812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hallenges Forward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2590920" y="445284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nclusion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1752480" y="1731960"/>
            <a:ext cx="685800" cy="685800"/>
          </a:xfrm>
          <a:prstGeom prst="diamond">
            <a:avLst/>
          </a:prstGeom>
          <a:solidFill>
            <a:srgbClr val="b66d48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752480" y="2570040"/>
            <a:ext cx="685800" cy="685800"/>
          </a:xfrm>
          <a:prstGeom prst="diamond">
            <a:avLst/>
          </a:prstGeom>
          <a:solidFill>
            <a:srgbClr val="419366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752480" y="3484440"/>
            <a:ext cx="685800" cy="685800"/>
          </a:xfrm>
          <a:prstGeom prst="diamond">
            <a:avLst/>
          </a:prstGeom>
          <a:solidFill>
            <a:srgbClr val="cfe33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752480" y="4322880"/>
            <a:ext cx="685800" cy="685800"/>
          </a:xfrm>
          <a:prstGeom prst="diamond">
            <a:avLst/>
          </a:prstGeom>
          <a:solidFill>
            <a:srgbClr val="487da4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6122880" y="257976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4f56"/>
                </a:solidFill>
                <a:latin typeface="Verdana"/>
                <a:ea typeface="굴림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371600" y="250668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4f56"/>
                </a:solidFill>
                <a:latin typeface="Verdana"/>
                <a:ea typeface="굴림"/>
              </a:rPr>
              <a:t>Click to add text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3532320" y="1212840"/>
            <a:ext cx="3057120" cy="1487520"/>
            <a:chOff x="3532320" y="1212840"/>
            <a:chExt cx="3057120" cy="1487520"/>
          </a:xfrm>
        </p:grpSpPr>
        <p:sp>
          <p:nvSpPr>
            <p:cNvPr id="111" name="Oval 6"/>
            <p:cNvSpPr/>
            <p:nvPr/>
          </p:nvSpPr>
          <p:spPr>
            <a:xfrm>
              <a:off x="3565440" y="1260360"/>
              <a:ext cx="3024000" cy="1440000"/>
            </a:xfrm>
            <a:prstGeom prst="ellipse">
              <a:avLst/>
            </a:prstGeom>
            <a:gradFill rotWithShape="0">
              <a:gsLst>
                <a:gs pos="0">
                  <a:srgbClr val="295d41"/>
                </a:gs>
                <a:gs pos="100000">
                  <a:srgbClr val="419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12" name="Oval 7"/>
            <p:cNvSpPr/>
            <p:nvPr/>
          </p:nvSpPr>
          <p:spPr>
            <a:xfrm>
              <a:off x="3532320" y="1212840"/>
              <a:ext cx="3024000" cy="1439640"/>
            </a:xfrm>
            <a:prstGeom prst="ellipse">
              <a:avLst/>
            </a:prstGeom>
            <a:gradFill rotWithShape="0">
              <a:gsLst>
                <a:gs pos="0">
                  <a:srgbClr val="abcfbb"/>
                </a:gs>
                <a:gs pos="100000">
                  <a:srgbClr val="419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13" name="AutoShape 8"/>
          <p:cNvSpPr/>
          <p:nvPr/>
        </p:nvSpPr>
        <p:spPr>
          <a:xfrm>
            <a:off x="3819600" y="2722680"/>
            <a:ext cx="92700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14" name="Freeform 9"/>
          <p:cNvSpPr/>
          <p:nvPr/>
        </p:nvSpPr>
        <p:spPr>
          <a:xfrm>
            <a:off x="3819600" y="2725560"/>
            <a:ext cx="92052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9366"/>
              </a:gs>
              <a:gs pos="100000">
                <a:srgbClr val="c3dd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15" name="AutoShape 10"/>
          <p:cNvSpPr/>
          <p:nvPr/>
        </p:nvSpPr>
        <p:spPr>
          <a:xfrm flipH="1">
            <a:off x="5341320" y="2722680"/>
            <a:ext cx="92700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16" name="Freeform 11"/>
          <p:cNvSpPr/>
          <p:nvPr/>
        </p:nvSpPr>
        <p:spPr>
          <a:xfrm flipH="1">
            <a:off x="5348160" y="2725560"/>
            <a:ext cx="92088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e8d1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117" name="Group 12"/>
          <p:cNvGrpSpPr/>
          <p:nvPr/>
        </p:nvGrpSpPr>
        <p:grpSpPr>
          <a:xfrm>
            <a:off x="3676680" y="1066680"/>
            <a:ext cx="2736360" cy="1368720"/>
            <a:chOff x="3676680" y="1066680"/>
            <a:chExt cx="2736360" cy="1368720"/>
          </a:xfrm>
        </p:grpSpPr>
        <p:sp>
          <p:nvSpPr>
            <p:cNvPr id="118" name="Oval 13"/>
            <p:cNvSpPr/>
            <p:nvPr/>
          </p:nvSpPr>
          <p:spPr>
            <a:xfrm>
              <a:off x="3676680" y="1066680"/>
              <a:ext cx="2736360" cy="1368720"/>
            </a:xfrm>
            <a:prstGeom prst="ellipse">
              <a:avLst/>
            </a:prstGeom>
            <a:gradFill rotWithShape="0">
              <a:gsLst>
                <a:gs pos="0">
                  <a:srgbClr val="543221"/>
                </a:gs>
                <a:gs pos="100000">
                  <a:srgbClr val="b66d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19" name="Oval 14"/>
            <p:cNvSpPr/>
            <p:nvPr/>
          </p:nvSpPr>
          <p:spPr>
            <a:xfrm>
              <a:off x="3711240" y="1074240"/>
              <a:ext cx="2670840" cy="1334520"/>
            </a:xfrm>
            <a:prstGeom prst="ellipse">
              <a:avLst/>
            </a:prstGeom>
            <a:gradFill rotWithShape="0">
              <a:gsLst>
                <a:gs pos="0">
                  <a:srgbClr val="b66d48">
                    <a:alpha val="0"/>
                  </a:srgbClr>
                </a:gs>
                <a:gs pos="100000">
                  <a:srgbClr val="e6cc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20" name="Oval 15"/>
            <p:cNvSpPr/>
            <p:nvPr/>
          </p:nvSpPr>
          <p:spPr>
            <a:xfrm>
              <a:off x="3740040" y="1087200"/>
              <a:ext cx="2539800" cy="1247040"/>
            </a:xfrm>
            <a:prstGeom prst="ellipse">
              <a:avLst/>
            </a:prstGeom>
            <a:gradFill rotWithShape="0">
              <a:gsLst>
                <a:gs pos="0">
                  <a:srgbClr val="905639"/>
                </a:gs>
                <a:gs pos="100000">
                  <a:srgbClr val="b66d4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21" name="Oval 16"/>
            <p:cNvSpPr/>
            <p:nvPr/>
          </p:nvSpPr>
          <p:spPr>
            <a:xfrm>
              <a:off x="3888720" y="1122120"/>
              <a:ext cx="2257560" cy="101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66d4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4f56"/>
                  </a:solidFill>
                  <a:latin typeface="Verdana"/>
                  <a:ea typeface="굴림"/>
                </a:rPr>
                <a:t>2Part Concept</a:t>
              </a:r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347040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66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4046400" y="2133720"/>
            <a:ext cx="2089440" cy="2087280"/>
            <a:chOff x="4046400" y="2133720"/>
            <a:chExt cx="2089440" cy="2087280"/>
          </a:xfrm>
        </p:grpSpPr>
        <p:sp>
          <p:nvSpPr>
            <p:cNvPr id="126" name="Oval 5"/>
            <p:cNvSpPr/>
            <p:nvPr/>
          </p:nvSpPr>
          <p:spPr>
            <a:xfrm>
              <a:off x="404640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66d4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27" name="Oval 6"/>
            <p:cNvSpPr/>
            <p:nvPr/>
          </p:nvSpPr>
          <p:spPr>
            <a:xfrm>
              <a:off x="404640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6d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28" name="Oval 7"/>
            <p:cNvSpPr/>
            <p:nvPr/>
          </p:nvSpPr>
          <p:spPr>
            <a:xfrm>
              <a:off x="418320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623b27"/>
                </a:gs>
                <a:gs pos="50000">
                  <a:srgbClr val="b66d48"/>
                </a:gs>
                <a:gs pos="100000">
                  <a:srgbClr val="623b2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29" name="Oval 8"/>
            <p:cNvSpPr/>
            <p:nvPr/>
          </p:nvSpPr>
          <p:spPr>
            <a:xfrm>
              <a:off x="418320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5935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30" name="Oval 9"/>
            <p:cNvSpPr/>
            <p:nvPr/>
          </p:nvSpPr>
          <p:spPr>
            <a:xfrm>
              <a:off x="4273920" y="2360880"/>
              <a:ext cx="1634040" cy="1632240"/>
            </a:xfrm>
            <a:prstGeom prst="ellipse">
              <a:avLst/>
            </a:prstGeom>
            <a:gradFill rotWithShape="0">
              <a:gsLst>
                <a:gs pos="0">
                  <a:srgbClr val="54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31" name="Text Box 10"/>
          <p:cNvSpPr/>
          <p:nvPr/>
        </p:nvSpPr>
        <p:spPr>
          <a:xfrm>
            <a:off x="4264560" y="2997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Your Text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1309680" y="2133720"/>
            <a:ext cx="2089080" cy="2087280"/>
            <a:chOff x="1309680" y="2133720"/>
            <a:chExt cx="2089080" cy="2087280"/>
          </a:xfrm>
        </p:grpSpPr>
        <p:sp>
          <p:nvSpPr>
            <p:cNvPr id="133" name="Oval 12"/>
            <p:cNvSpPr/>
            <p:nvPr/>
          </p:nvSpPr>
          <p:spPr>
            <a:xfrm>
              <a:off x="1309680" y="2133720"/>
              <a:ext cx="2089080" cy="208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fe33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34" name="Oval 13"/>
            <p:cNvSpPr/>
            <p:nvPr/>
          </p:nvSpPr>
          <p:spPr>
            <a:xfrm>
              <a:off x="1309680" y="2133720"/>
              <a:ext cx="2089080" cy="2087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fe3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35" name="Oval 14"/>
            <p:cNvSpPr/>
            <p:nvPr/>
          </p:nvSpPr>
          <p:spPr>
            <a:xfrm>
              <a:off x="1446480" y="2270160"/>
              <a:ext cx="1815120" cy="1813680"/>
            </a:xfrm>
            <a:prstGeom prst="ellipse">
              <a:avLst/>
            </a:prstGeom>
            <a:gradFill rotWithShape="0">
              <a:gsLst>
                <a:gs pos="0">
                  <a:srgbClr val="707b22"/>
                </a:gs>
                <a:gs pos="50000">
                  <a:srgbClr val="cfe33f"/>
                </a:gs>
                <a:gs pos="100000">
                  <a:srgbClr val="707b2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1446480" y="2270160"/>
              <a:ext cx="1815120" cy="1813680"/>
            </a:xfrm>
            <a:prstGeom prst="ellipse">
              <a:avLst/>
            </a:prstGeom>
            <a:gradFill rotWithShape="0">
              <a:gsLst>
                <a:gs pos="0">
                  <a:srgbClr val="cfe33f"/>
                </a:gs>
                <a:gs pos="100000">
                  <a:srgbClr val="656e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1537200" y="2360880"/>
              <a:ext cx="1634040" cy="1632240"/>
            </a:xfrm>
            <a:prstGeom prst="ellipse">
              <a:avLst/>
            </a:prstGeom>
            <a:gradFill rotWithShape="0">
              <a:gsLst>
                <a:gs pos="0">
                  <a:srgbClr val="60691d"/>
                </a:gs>
                <a:gs pos="100000">
                  <a:srgbClr val="cfe3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599120" y="29988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Your Text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139" name="Group 18"/>
          <p:cNvGrpSpPr/>
          <p:nvPr/>
        </p:nvGrpSpPr>
        <p:grpSpPr>
          <a:xfrm>
            <a:off x="6781680" y="2133720"/>
            <a:ext cx="2089440" cy="2087280"/>
            <a:chOff x="6781680" y="2133720"/>
            <a:chExt cx="2089440" cy="2087280"/>
          </a:xfrm>
        </p:grpSpPr>
        <p:sp>
          <p:nvSpPr>
            <p:cNvPr id="140" name="Oval 19"/>
            <p:cNvSpPr/>
            <p:nvPr/>
          </p:nvSpPr>
          <p:spPr>
            <a:xfrm>
              <a:off x="678168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193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41" name="Oval 20"/>
            <p:cNvSpPr/>
            <p:nvPr/>
          </p:nvSpPr>
          <p:spPr>
            <a:xfrm>
              <a:off x="6781680" y="2133720"/>
              <a:ext cx="2089440" cy="2087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19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42" name="Oval 21"/>
            <p:cNvSpPr/>
            <p:nvPr/>
          </p:nvSpPr>
          <p:spPr>
            <a:xfrm>
              <a:off x="691848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235037"/>
                </a:gs>
                <a:gs pos="50000">
                  <a:srgbClr val="419366"/>
                </a:gs>
                <a:gs pos="100000">
                  <a:srgbClr val="2350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43" name="Oval 22"/>
            <p:cNvSpPr/>
            <p:nvPr/>
          </p:nvSpPr>
          <p:spPr>
            <a:xfrm>
              <a:off x="6918480" y="2270160"/>
              <a:ext cx="1815480" cy="1813680"/>
            </a:xfrm>
            <a:prstGeom prst="ellipse">
              <a:avLst/>
            </a:prstGeom>
            <a:gradFill rotWithShape="0">
              <a:gsLst>
                <a:gs pos="0">
                  <a:srgbClr val="419366"/>
                </a:gs>
                <a:gs pos="100000">
                  <a:srgbClr val="2047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44" name="Oval 23"/>
            <p:cNvSpPr/>
            <p:nvPr/>
          </p:nvSpPr>
          <p:spPr>
            <a:xfrm>
              <a:off x="7009200" y="2360880"/>
              <a:ext cx="1634040" cy="1632240"/>
            </a:xfrm>
            <a:prstGeom prst="ellipse">
              <a:avLst/>
            </a:prstGeom>
            <a:gradFill rotWithShape="0">
              <a:gsLst>
                <a:gs pos="0">
                  <a:srgbClr val="1e442f"/>
                </a:gs>
                <a:gs pos="100000">
                  <a:srgbClr val="419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45" name="Text Box 24"/>
          <p:cNvSpPr/>
          <p:nvPr/>
        </p:nvSpPr>
        <p:spPr>
          <a:xfrm>
            <a:off x="6999840" y="29988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Your Text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46" name="AutoShape 25"/>
          <p:cNvSpPr/>
          <p:nvPr/>
        </p:nvSpPr>
        <p:spPr>
          <a:xfrm>
            <a:off x="620568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9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47" name="AutoShape 26"/>
          <p:cNvSpPr/>
          <p:nvPr/>
        </p:nvSpPr>
        <p:spPr>
          <a:xfrm>
            <a:off x="1380960" y="4797360"/>
            <a:ext cx="2016360" cy="43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48" name="AutoShape 27"/>
          <p:cNvSpPr/>
          <p:nvPr/>
        </p:nvSpPr>
        <p:spPr>
          <a:xfrm>
            <a:off x="4118040" y="4797360"/>
            <a:ext cx="2016000" cy="43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49" name="AutoShape 28"/>
          <p:cNvSpPr/>
          <p:nvPr/>
        </p:nvSpPr>
        <p:spPr>
          <a:xfrm>
            <a:off x="6854760" y="4797360"/>
            <a:ext cx="2016360" cy="43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52280" y="66117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6d48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52" name="Freeform 2"/>
          <p:cNvSpPr/>
          <p:nvPr/>
        </p:nvSpPr>
        <p:spPr>
          <a:xfrm>
            <a:off x="974880" y="1419120"/>
            <a:ext cx="6408720" cy="46227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41936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3203640" y="3435480"/>
            <a:ext cx="2181240" cy="2376000"/>
            <a:chOff x="3203640" y="3435480"/>
            <a:chExt cx="2181240" cy="2376000"/>
          </a:xfrm>
        </p:grpSpPr>
        <p:sp>
          <p:nvSpPr>
            <p:cNvPr id="155" name="Oval 5"/>
            <p:cNvSpPr/>
            <p:nvPr/>
          </p:nvSpPr>
          <p:spPr>
            <a:xfrm>
              <a:off x="3203640" y="4889160"/>
              <a:ext cx="2181240" cy="92232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56" name="Oval 6"/>
            <p:cNvSpPr/>
            <p:nvPr/>
          </p:nvSpPr>
          <p:spPr>
            <a:xfrm>
              <a:off x="3300480" y="3435480"/>
              <a:ext cx="1986840" cy="198720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57" name="Oval 7"/>
            <p:cNvSpPr/>
            <p:nvPr/>
          </p:nvSpPr>
          <p:spPr>
            <a:xfrm>
              <a:off x="3326400" y="3445920"/>
              <a:ext cx="1938600" cy="19393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3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58" name="Oval 8"/>
            <p:cNvSpPr/>
            <p:nvPr/>
          </p:nvSpPr>
          <p:spPr>
            <a:xfrm>
              <a:off x="3346560" y="3465000"/>
              <a:ext cx="1844640" cy="181224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59" name="Oval 9"/>
            <p:cNvSpPr/>
            <p:nvPr/>
          </p:nvSpPr>
          <p:spPr>
            <a:xfrm>
              <a:off x="3453480" y="3516480"/>
              <a:ext cx="1640160" cy="146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60" name="Text Box 10"/>
          <p:cNvSpPr/>
          <p:nvPr/>
        </p:nvSpPr>
        <p:spPr>
          <a:xfrm rot="16200000">
            <a:off x="3934080" y="3993120"/>
            <a:ext cx="6678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4f56"/>
                </a:solidFill>
                <a:latin typeface="Arial"/>
                <a:ea typeface="굴림"/>
              </a:rPr>
              <a:t>Text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387440" y="2859120"/>
            <a:ext cx="1744560" cy="1900080"/>
            <a:chOff x="1387440" y="2859120"/>
            <a:chExt cx="1744560" cy="1900080"/>
          </a:xfrm>
        </p:grpSpPr>
        <p:sp>
          <p:nvSpPr>
            <p:cNvPr id="162" name="Oval 12"/>
            <p:cNvSpPr/>
            <p:nvPr/>
          </p:nvSpPr>
          <p:spPr>
            <a:xfrm>
              <a:off x="1387440" y="4021560"/>
              <a:ext cx="1744560" cy="73764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63" name="Oval 13"/>
            <p:cNvSpPr/>
            <p:nvPr/>
          </p:nvSpPr>
          <p:spPr>
            <a:xfrm>
              <a:off x="1464840" y="2859120"/>
              <a:ext cx="1589040" cy="15890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64" name="Oval 14"/>
            <p:cNvSpPr/>
            <p:nvPr/>
          </p:nvSpPr>
          <p:spPr>
            <a:xfrm>
              <a:off x="1485720" y="2867400"/>
              <a:ext cx="1550520" cy="15505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3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65" name="Oval 15"/>
            <p:cNvSpPr/>
            <p:nvPr/>
          </p:nvSpPr>
          <p:spPr>
            <a:xfrm>
              <a:off x="1501920" y="2882880"/>
              <a:ext cx="1475280" cy="144900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66" name="Oval 16"/>
            <p:cNvSpPr/>
            <p:nvPr/>
          </p:nvSpPr>
          <p:spPr>
            <a:xfrm>
              <a:off x="1587240" y="2923920"/>
              <a:ext cx="1311840" cy="117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1390680" y="1419120"/>
            <a:ext cx="1309680" cy="1425600"/>
            <a:chOff x="1390680" y="1419120"/>
            <a:chExt cx="1309680" cy="1425600"/>
          </a:xfrm>
        </p:grpSpPr>
        <p:sp>
          <p:nvSpPr>
            <p:cNvPr id="168" name="Oval 18"/>
            <p:cNvSpPr/>
            <p:nvPr/>
          </p:nvSpPr>
          <p:spPr>
            <a:xfrm>
              <a:off x="1390680" y="2291400"/>
              <a:ext cx="1309680" cy="55332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69" name="Oval 19"/>
            <p:cNvSpPr/>
            <p:nvPr/>
          </p:nvSpPr>
          <p:spPr>
            <a:xfrm>
              <a:off x="1449000" y="1419120"/>
              <a:ext cx="1193040" cy="119232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0" name="Oval 20"/>
            <p:cNvSpPr/>
            <p:nvPr/>
          </p:nvSpPr>
          <p:spPr>
            <a:xfrm>
              <a:off x="1464120" y="1425240"/>
              <a:ext cx="1163880" cy="11635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3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1" name="Oval 21"/>
            <p:cNvSpPr/>
            <p:nvPr/>
          </p:nvSpPr>
          <p:spPr>
            <a:xfrm>
              <a:off x="1476360" y="1436760"/>
              <a:ext cx="1107720" cy="108720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2" name="Oval 22"/>
            <p:cNvSpPr/>
            <p:nvPr/>
          </p:nvSpPr>
          <p:spPr>
            <a:xfrm>
              <a:off x="1540800" y="1467720"/>
              <a:ext cx="984960" cy="88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grpSp>
        <p:nvGrpSpPr>
          <p:cNvPr id="173" name="Group 23"/>
          <p:cNvGrpSpPr/>
          <p:nvPr/>
        </p:nvGrpSpPr>
        <p:grpSpPr>
          <a:xfrm>
            <a:off x="2701800" y="914400"/>
            <a:ext cx="871560" cy="948960"/>
            <a:chOff x="2701800" y="914400"/>
            <a:chExt cx="871560" cy="948960"/>
          </a:xfrm>
        </p:grpSpPr>
        <p:sp>
          <p:nvSpPr>
            <p:cNvPr id="174" name="Oval 24"/>
            <p:cNvSpPr/>
            <p:nvPr/>
          </p:nvSpPr>
          <p:spPr>
            <a:xfrm>
              <a:off x="2701800" y="1495080"/>
              <a:ext cx="871560" cy="368280"/>
            </a:xfrm>
            <a:prstGeom prst="ellipse">
              <a:avLst/>
            </a:prstGeom>
            <a:gradFill rotWithShape="0">
              <a:gsLst>
                <a:gs pos="0">
                  <a:srgbClr val="2e4f56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5" name="Oval 25"/>
            <p:cNvSpPr/>
            <p:nvPr/>
          </p:nvSpPr>
          <p:spPr>
            <a:xfrm>
              <a:off x="2740320" y="914400"/>
              <a:ext cx="793800" cy="79380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6" name="Oval 26"/>
            <p:cNvSpPr/>
            <p:nvPr/>
          </p:nvSpPr>
          <p:spPr>
            <a:xfrm>
              <a:off x="2750760" y="918360"/>
              <a:ext cx="774720" cy="77472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0"/>
                  </a:srgbClr>
                </a:gs>
                <a:gs pos="100000">
                  <a:srgbClr val="f3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2759040" y="926280"/>
              <a:ext cx="736920" cy="723960"/>
            </a:xfrm>
            <a:prstGeom prst="ellipse">
              <a:avLst/>
            </a:prstGeom>
            <a:gradFill rotWithShape="0">
              <a:gsLst>
                <a:gs pos="0">
                  <a:srgbClr val="afafaf"/>
                </a:gs>
                <a:gs pos="100000">
                  <a:srgbClr val="dddddd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2801520" y="946800"/>
              <a:ext cx="655560" cy="58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79" name="Text Box 29"/>
          <p:cNvSpPr/>
          <p:nvPr/>
        </p:nvSpPr>
        <p:spPr>
          <a:xfrm rot="16200000">
            <a:off x="1933560" y="3241800"/>
            <a:ext cx="60696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4f56"/>
                </a:solidFill>
                <a:latin typeface="Arial"/>
                <a:ea typeface="굴림"/>
              </a:rPr>
              <a:t>Text</a:t>
            </a:r>
            <a:endParaRPr b="0" lang="en-US" sz="2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0" name="Text Box 30"/>
          <p:cNvSpPr/>
          <p:nvPr/>
        </p:nvSpPr>
        <p:spPr>
          <a:xfrm rot="16200000">
            <a:off x="1787040" y="1706760"/>
            <a:ext cx="485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4f56"/>
                </a:solidFill>
                <a:latin typeface="Arial"/>
                <a:ea typeface="굴림"/>
              </a:rPr>
              <a:t>Text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1" name="Text Box 31"/>
          <p:cNvSpPr/>
          <p:nvPr/>
        </p:nvSpPr>
        <p:spPr>
          <a:xfrm rot="16200000">
            <a:off x="2934360" y="1098000"/>
            <a:ext cx="393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Arial"/>
                <a:ea typeface="굴림"/>
              </a:rPr>
              <a:t>Text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 rot="16200000">
            <a:off x="6853320" y="1946160"/>
            <a:ext cx="5461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4" name="AutoShape 2"/>
          <p:cNvSpPr/>
          <p:nvPr/>
        </p:nvSpPr>
        <p:spPr>
          <a:xfrm rot="19254000">
            <a:off x="4932000" y="2549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2e4f56"/>
              </a:gs>
            </a:gsLst>
            <a:lin ang="23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 rot="2851200">
            <a:off x="4932720" y="4420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2e4f56"/>
              </a:gs>
            </a:gsLst>
            <a:lin ang="187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 rot="13646400">
            <a:off x="3456360" y="25844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2e4f56"/>
              </a:gs>
            </a:gsLst>
            <a:lin ang="79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 rot="7687200">
            <a:off x="3528360" y="45280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ffffff"/>
              </a:gs>
              <a:gs pos="100000">
                <a:srgbClr val="2e4f56"/>
              </a:gs>
            </a:gsLst>
            <a:lin ang="139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364000" y="34844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2e4f5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89" name="AutoShape 7"/>
          <p:cNvSpPr/>
          <p:nvPr/>
        </p:nvSpPr>
        <p:spPr>
          <a:xfrm rot="10800000">
            <a:off x="2987280" y="35190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ffffff"/>
              </a:gs>
              <a:gs pos="100000">
                <a:srgbClr val="2e4f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2700360" y="1757520"/>
            <a:ext cx="3743280" cy="3744720"/>
          </a:xfrm>
          <a:prstGeom prst="ellipse">
            <a:avLst/>
          </a:prstGeom>
          <a:noFill/>
          <a:ln w="3816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3592440" y="2684520"/>
            <a:ext cx="1946520" cy="1949400"/>
            <a:chOff x="3592440" y="2684520"/>
            <a:chExt cx="1946520" cy="1949400"/>
          </a:xfrm>
        </p:grpSpPr>
        <p:sp>
          <p:nvSpPr>
            <p:cNvPr id="193" name="Oval 11"/>
            <p:cNvSpPr/>
            <p:nvPr/>
          </p:nvSpPr>
          <p:spPr>
            <a:xfrm>
              <a:off x="3592440" y="268452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66d4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592440" y="268452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6d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95" name="Oval 13"/>
            <p:cNvSpPr/>
            <p:nvPr/>
          </p:nvSpPr>
          <p:spPr>
            <a:xfrm>
              <a:off x="3719880" y="281196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623b27"/>
                </a:gs>
                <a:gs pos="50000">
                  <a:srgbClr val="b66d48"/>
                </a:gs>
                <a:gs pos="100000">
                  <a:srgbClr val="623b2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96" name="Oval 14"/>
            <p:cNvSpPr/>
            <p:nvPr/>
          </p:nvSpPr>
          <p:spPr>
            <a:xfrm>
              <a:off x="3719880" y="281196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5935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3804480" y="2896920"/>
              <a:ext cx="1522440" cy="1524240"/>
            </a:xfrm>
            <a:prstGeom prst="ellipse">
              <a:avLst/>
            </a:prstGeom>
            <a:gradFill rotWithShape="0">
              <a:gsLst>
                <a:gs pos="0">
                  <a:srgbClr val="54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198" name="Text Box 16"/>
          <p:cNvSpPr/>
          <p:nvPr/>
        </p:nvSpPr>
        <p:spPr>
          <a:xfrm>
            <a:off x="914040" y="34844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1779120" y="5284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954400" y="521352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6819480" y="34686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1850760" y="1612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738400" y="16844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e4f56"/>
                </a:solidFill>
                <a:latin typeface="Verdana"/>
                <a:ea typeface="굴림"/>
              </a:rPr>
              <a:t>Your Text here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068000" y="3413160"/>
            <a:ext cx="1015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tle</a:t>
            </a:r>
            <a:endParaRPr b="0" lang="en-US" sz="32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2556000" y="3494160"/>
            <a:ext cx="35856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50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3132000" y="197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50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5651640" y="2044800"/>
            <a:ext cx="35856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50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6300720" y="341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50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09" name="Oval 27"/>
          <p:cNvSpPr/>
          <p:nvPr/>
        </p:nvSpPr>
        <p:spPr>
          <a:xfrm>
            <a:off x="5580000" y="485316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50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48000" y="4997520"/>
            <a:ext cx="358920" cy="360360"/>
          </a:xfrm>
          <a:prstGeom prst="ellipse">
            <a:avLst/>
          </a:prstGeom>
          <a:gradFill rotWithShape="0">
            <a:gsLst>
              <a:gs pos="0">
                <a:srgbClr val="419366"/>
              </a:gs>
              <a:gs pos="100000">
                <a:srgbClr val="2350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1692360" y="234936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dddddd"/>
              </a:gs>
              <a:gs pos="100000">
                <a:srgbClr val="fafa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979640" y="1701720"/>
            <a:ext cx="504036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66d48"/>
              </a:gs>
              <a:gs pos="50000">
                <a:srgbClr val="ffffff"/>
              </a:gs>
              <a:gs pos="100000">
                <a:srgbClr val="b66d48"/>
              </a:gs>
            </a:gsLst>
            <a:lin ang="0"/>
          </a:gradFill>
          <a:ln w="2844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4f56"/>
                </a:solidFill>
                <a:latin typeface="Arial"/>
                <a:ea typeface="굴림"/>
              </a:rPr>
              <a:t>Add Your Text here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4714920" y="4222800"/>
            <a:ext cx="1512720" cy="1511280"/>
            <a:chOff x="4714920" y="4222800"/>
            <a:chExt cx="1512720" cy="1511280"/>
          </a:xfrm>
        </p:grpSpPr>
        <p:sp>
          <p:nvSpPr>
            <p:cNvPr id="216" name="Oval 6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66d4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17" name="Oval 7"/>
            <p:cNvSpPr/>
            <p:nvPr/>
          </p:nvSpPr>
          <p:spPr>
            <a:xfrm>
              <a:off x="471492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66d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18" name="Oval 8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23b27"/>
                </a:gs>
                <a:gs pos="50000">
                  <a:srgbClr val="b66d48"/>
                </a:gs>
                <a:gs pos="100000">
                  <a:srgbClr val="623b2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19" name="Oval 9"/>
            <p:cNvSpPr/>
            <p:nvPr/>
          </p:nvSpPr>
          <p:spPr>
            <a:xfrm>
              <a:off x="481392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b66d48"/>
                </a:gs>
                <a:gs pos="100000">
                  <a:srgbClr val="5935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20" name="Oval 10"/>
            <p:cNvSpPr/>
            <p:nvPr/>
          </p:nvSpPr>
          <p:spPr>
            <a:xfrm>
              <a:off x="487980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543221"/>
                </a:gs>
                <a:gs pos="100000">
                  <a:srgbClr val="b66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grpSp>
        <p:nvGrpSpPr>
          <p:cNvPr id="221" name="Group 11"/>
          <p:cNvGrpSpPr/>
          <p:nvPr/>
        </p:nvGrpSpPr>
        <p:grpSpPr>
          <a:xfrm>
            <a:off x="1116000" y="4222800"/>
            <a:ext cx="1513080" cy="1511280"/>
            <a:chOff x="1116000" y="4222800"/>
            <a:chExt cx="1513080" cy="1511280"/>
          </a:xfrm>
        </p:grpSpPr>
        <p:sp>
          <p:nvSpPr>
            <p:cNvPr id="222" name="Oval 12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fe33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23" name="Oval 13"/>
            <p:cNvSpPr/>
            <p:nvPr/>
          </p:nvSpPr>
          <p:spPr>
            <a:xfrm>
              <a:off x="1116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fe3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24" name="Oval 14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707b22"/>
                </a:gs>
                <a:gs pos="50000">
                  <a:srgbClr val="cfe33f"/>
                </a:gs>
                <a:gs pos="100000">
                  <a:srgbClr val="707b2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25" name="Oval 15"/>
            <p:cNvSpPr/>
            <p:nvPr/>
          </p:nvSpPr>
          <p:spPr>
            <a:xfrm>
              <a:off x="1215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cfe33f"/>
                </a:gs>
                <a:gs pos="100000">
                  <a:srgbClr val="656e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26" name="Oval 16"/>
            <p:cNvSpPr/>
            <p:nvPr/>
          </p:nvSpPr>
          <p:spPr>
            <a:xfrm>
              <a:off x="1280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60691d"/>
                </a:gs>
                <a:gs pos="100000">
                  <a:srgbClr val="cfe3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grpSp>
        <p:nvGrpSpPr>
          <p:cNvPr id="227" name="Group 17"/>
          <p:cNvGrpSpPr/>
          <p:nvPr/>
        </p:nvGrpSpPr>
        <p:grpSpPr>
          <a:xfrm>
            <a:off x="6588000" y="4222800"/>
            <a:ext cx="1513080" cy="1511280"/>
            <a:chOff x="6588000" y="4222800"/>
            <a:chExt cx="1513080" cy="1511280"/>
          </a:xfrm>
        </p:grpSpPr>
        <p:sp>
          <p:nvSpPr>
            <p:cNvPr id="228" name="Oval 18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193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29" name="Oval 19"/>
            <p:cNvSpPr/>
            <p:nvPr/>
          </p:nvSpPr>
          <p:spPr>
            <a:xfrm>
              <a:off x="6588000" y="422280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19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0" name="Oval 20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235037"/>
                </a:gs>
                <a:gs pos="50000">
                  <a:srgbClr val="419366"/>
                </a:gs>
                <a:gs pos="100000">
                  <a:srgbClr val="2350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1" name="Oval 21"/>
            <p:cNvSpPr/>
            <p:nvPr/>
          </p:nvSpPr>
          <p:spPr>
            <a:xfrm>
              <a:off x="6687000" y="432144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19366"/>
                </a:gs>
                <a:gs pos="100000">
                  <a:srgbClr val="2047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2" name="Oval 22"/>
            <p:cNvSpPr/>
            <p:nvPr/>
          </p:nvSpPr>
          <p:spPr>
            <a:xfrm>
              <a:off x="6752880" y="438732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1e442f"/>
                </a:gs>
                <a:gs pos="100000">
                  <a:srgbClr val="419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grpSp>
        <p:nvGrpSpPr>
          <p:cNvPr id="233" name="Group 23"/>
          <p:cNvGrpSpPr/>
          <p:nvPr/>
        </p:nvGrpSpPr>
        <p:grpSpPr>
          <a:xfrm>
            <a:off x="2916360" y="4222800"/>
            <a:ext cx="1512720" cy="1511280"/>
            <a:chOff x="2916360" y="4222800"/>
            <a:chExt cx="1512720" cy="1511280"/>
          </a:xfrm>
        </p:grpSpPr>
        <p:sp>
          <p:nvSpPr>
            <p:cNvPr id="234" name="Oval 24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ab82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5" name="Oval 25"/>
            <p:cNvSpPr/>
            <p:nvPr/>
          </p:nvSpPr>
          <p:spPr>
            <a:xfrm>
              <a:off x="2916360" y="422280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ab8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6" name="Oval 26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26411"/>
                </a:gs>
                <a:gs pos="50000">
                  <a:srgbClr val="7ab820"/>
                </a:gs>
                <a:gs pos="100000">
                  <a:srgbClr val="4264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7" name="Oval 27"/>
            <p:cNvSpPr/>
            <p:nvPr/>
          </p:nvSpPr>
          <p:spPr>
            <a:xfrm>
              <a:off x="3015360" y="432144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ab820"/>
                </a:gs>
                <a:gs pos="100000">
                  <a:srgbClr val="3b59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38" name="Oval 28"/>
            <p:cNvSpPr/>
            <p:nvPr/>
          </p:nvSpPr>
          <p:spPr>
            <a:xfrm>
              <a:off x="3081240" y="438732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8550f"/>
                </a:gs>
                <a:gs pos="100000">
                  <a:srgbClr val="7ab8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239" name="Text Box 29"/>
          <p:cNvSpPr/>
          <p:nvPr/>
        </p:nvSpPr>
        <p:spPr>
          <a:xfrm>
            <a:off x="147780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0" name="Text Box 30"/>
          <p:cNvSpPr/>
          <p:nvPr/>
        </p:nvSpPr>
        <p:spPr>
          <a:xfrm>
            <a:off x="327816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1" name="Text Box 31"/>
          <p:cNvSpPr/>
          <p:nvPr/>
        </p:nvSpPr>
        <p:spPr>
          <a:xfrm>
            <a:off x="504972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2" name="Text Box 32"/>
          <p:cNvSpPr/>
          <p:nvPr/>
        </p:nvSpPr>
        <p:spPr>
          <a:xfrm>
            <a:off x="6949800" y="4799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411120" y="652320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6d48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e4f5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굴림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5943600" y="2311560"/>
            <a:ext cx="2160720" cy="502920"/>
          </a:xfrm>
          <a:prstGeom prst="roundRect">
            <a:avLst>
              <a:gd name="adj" fmla="val 50000"/>
            </a:avLst>
          </a:prstGeom>
          <a:solidFill>
            <a:srgbClr val="419366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755640" y="2349360"/>
            <a:ext cx="2160720" cy="503280"/>
          </a:xfrm>
          <a:prstGeom prst="roundRect">
            <a:avLst>
              <a:gd name="adj" fmla="val 50000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1e442f"/>
              </a:gs>
              <a:gs pos="100000">
                <a:srgbClr val="41936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8" name="Group 5"/>
          <p:cNvGrpSpPr/>
          <p:nvPr/>
        </p:nvGrpSpPr>
        <p:grpSpPr>
          <a:xfrm>
            <a:off x="2437920" y="1628280"/>
            <a:ext cx="3979080" cy="3653640"/>
            <a:chOff x="2437920" y="1628280"/>
            <a:chExt cx="3979080" cy="3653640"/>
          </a:xfrm>
        </p:grpSpPr>
        <p:sp>
          <p:nvSpPr>
            <p:cNvPr id="249" name="AutoShape 6"/>
            <p:cNvSpPr/>
            <p:nvPr/>
          </p:nvSpPr>
          <p:spPr>
            <a:xfrm>
              <a:off x="2999520" y="1929240"/>
              <a:ext cx="2918880" cy="2880000"/>
            </a:xfrm>
            <a:custGeom>
              <a:avLst/>
              <a:gdLst>
                <a:gd name="textAreaLeft" fmla="*/ 426600 w 2918880"/>
                <a:gd name="textAreaRight" fmla="*/ 2492280 w 2918880"/>
                <a:gd name="textAreaTop" fmla="*/ 421200 h 2880000"/>
                <a:gd name="textAreaBottom" fmla="*/ 2458800 h 288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2e4f56"/>
                </a:gs>
                <a:gs pos="50000">
                  <a:srgbClr val="ebeeef"/>
                </a:gs>
                <a:gs pos="100000">
                  <a:srgbClr val="2e4f5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50" name="Freeform 7"/>
            <p:cNvSpPr/>
            <p:nvPr/>
          </p:nvSpPr>
          <p:spPr>
            <a:xfrm rot="5400000">
              <a:off x="4438440" y="1856520"/>
              <a:ext cx="1436400" cy="14601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fe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 rot="7200000">
              <a:off x="4707360" y="2315160"/>
              <a:ext cx="1436400" cy="145980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60691d"/>
                </a:gs>
                <a:gs pos="100000">
                  <a:srgbClr val="cfe33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sp>
          <p:nvSpPr>
            <p:cNvPr id="252" name="AutoShape 9"/>
            <p:cNvSpPr/>
            <p:nvPr/>
          </p:nvSpPr>
          <p:spPr>
            <a:xfrm rot="1800000">
              <a:off x="4764960" y="3394080"/>
              <a:ext cx="1232280" cy="781920"/>
            </a:xfrm>
            <a:prstGeom prst="triangle">
              <a:avLst>
                <a:gd name="adj" fmla="val 50000"/>
              </a:avLst>
            </a:pr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grpSp>
          <p:nvGrpSpPr>
            <p:cNvPr id="253" name="Group 10"/>
            <p:cNvGrpSpPr/>
            <p:nvPr/>
          </p:nvGrpSpPr>
          <p:grpSpPr>
            <a:xfrm>
              <a:off x="3164040" y="3305520"/>
              <a:ext cx="2515320" cy="1976400"/>
              <a:chOff x="3164040" y="3305520"/>
              <a:chExt cx="2515320" cy="1976400"/>
            </a:xfrm>
          </p:grpSpPr>
          <p:sp>
            <p:nvSpPr>
              <p:cNvPr id="254" name="Freeform 11"/>
              <p:cNvSpPr/>
              <p:nvPr/>
            </p:nvSpPr>
            <p:spPr>
              <a:xfrm rot="12600000">
                <a:off x="3960000" y="3573000"/>
                <a:ext cx="1456560" cy="14396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b66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 rot="14400000">
                <a:off x="3436920" y="3564720"/>
                <a:ext cx="1436400" cy="146016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3221"/>
                  </a:gs>
                  <a:gs pos="100000">
                    <a:srgbClr val="b66d48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</p:grpSp>
        <p:sp>
          <p:nvSpPr>
            <p:cNvPr id="256" name="AutoShape 13"/>
            <p:cNvSpPr/>
            <p:nvPr/>
          </p:nvSpPr>
          <p:spPr>
            <a:xfrm rot="9000000">
              <a:off x="2928600" y="3573000"/>
              <a:ext cx="1232280" cy="700920"/>
            </a:xfrm>
            <a:prstGeom prst="triangle">
              <a:avLst>
                <a:gd name="adj" fmla="val 50000"/>
              </a:avLst>
            </a:prstGeom>
            <a:solidFill>
              <a:srgbClr val="908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  <p:grpSp>
          <p:nvGrpSpPr>
            <p:cNvPr id="257" name="Group 14"/>
            <p:cNvGrpSpPr/>
            <p:nvPr/>
          </p:nvGrpSpPr>
          <p:grpSpPr>
            <a:xfrm>
              <a:off x="2437920" y="1866240"/>
              <a:ext cx="1985400" cy="2165760"/>
              <a:chOff x="2437920" y="1866240"/>
              <a:chExt cx="1985400" cy="2165760"/>
            </a:xfrm>
          </p:grpSpPr>
          <p:sp>
            <p:nvSpPr>
              <p:cNvPr id="258" name="Freeform 15"/>
              <p:cNvSpPr/>
              <p:nvPr/>
            </p:nvSpPr>
            <p:spPr>
              <a:xfrm rot="19800000">
                <a:off x="2700360" y="2323440"/>
                <a:ext cx="1456560" cy="144072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08b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  <p:sp>
            <p:nvSpPr>
              <p:cNvPr id="259" name="Freeform 16"/>
              <p:cNvSpPr/>
              <p:nvPr/>
            </p:nvSpPr>
            <p:spPr>
              <a:xfrm>
                <a:off x="2966760" y="1866240"/>
                <a:ext cx="1456560" cy="144072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06f"/>
                  </a:gs>
                  <a:gs pos="100000">
                    <a:srgbClr val="908b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e4f5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AutoShape 17"/>
            <p:cNvSpPr/>
            <p:nvPr/>
          </p:nvSpPr>
          <p:spPr>
            <a:xfrm rot="16200000">
              <a:off x="3641400" y="1838880"/>
              <a:ext cx="1215720" cy="794160"/>
            </a:xfrm>
            <a:prstGeom prst="triangle">
              <a:avLst>
                <a:gd name="adj" fmla="val 50000"/>
              </a:avLst>
            </a:prstGeom>
            <a:solidFill>
              <a:srgbClr val="cfe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e4f56"/>
                </a:solidFill>
                <a:latin typeface="Times New Roman"/>
              </a:endParaRPr>
            </a:p>
          </p:txBody>
        </p:sp>
      </p:grpSp>
      <p:sp>
        <p:nvSpPr>
          <p:cNvPr id="261" name="AutoShape 18"/>
          <p:cNvSpPr/>
          <p:nvPr/>
        </p:nvSpPr>
        <p:spPr>
          <a:xfrm>
            <a:off x="3346560" y="5157720"/>
            <a:ext cx="2160360" cy="503280"/>
          </a:xfrm>
          <a:prstGeom prst="roundRect">
            <a:avLst>
              <a:gd name="adj" fmla="val 50000"/>
            </a:avLst>
          </a:prstGeom>
          <a:solidFill>
            <a:srgbClr val="2e4f56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in here</a:t>
            </a: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5:17:48Z</dcterms:created>
  <dc:creator>keke</dc:creator>
  <dc:description/>
  <dc:language>en-US</dc:language>
  <cp:lastModifiedBy>王玉清</cp:lastModifiedBy>
  <dcterms:modified xsi:type="dcterms:W3CDTF">2016-02-24T04:02:19Z</dcterms:modified>
  <cp:revision>3</cp:revision>
  <dc:subject/>
  <dc:title>PowerPoint Template</dc:title>
</cp:coreProperties>
</file>