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E25-50D5-4114-A409-C8CA748B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B07-BEF7-401C-A65A-C0F2300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466-4FA5-45B0-86D8-E496C973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C6F-1087-493A-85B1-5E563EA2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DE558-A881-4237-94E8-CA2E3287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65001-2D6D-4A39-94A1-615A703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25166-300F-4311-B2FB-DE5FE2AD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F5CBF-40CB-48F9-B957-E9E7C60E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F0F1-E4D3-4166-BAA3-03B815ED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35F5C-B36C-4F6B-BE37-48E1754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72FE-FCCD-4F11-89A2-26EDED0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9C1-6807-44D5-B986-5C313FB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E1AA0-E188-4A28-A990-CB641FB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D972-6A60-4B25-97E0-5666EC0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F561A-8271-4E5D-AAE8-3043C42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B94D-7C68-4F23-83E4-4E929114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64CA-757A-489B-BBF7-4E17F5C2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B9A-2737-4DC9-BF3B-E753E45D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127-C8B5-4213-9696-86C70C0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FA0-D035-40B1-A088-4309406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992-2F7E-4E46-8FC1-5011C8B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119-CD9C-4B8D-82D4-8C4F341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201-AD9E-4F1A-9A17-C2A832A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3ED-18B6-4324-B158-5D2FF1E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B5E7-111F-4B9A-9898-5EB2489D98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8185-F213-46BC-BE4D-9EC3851FC0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436120" y="117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历史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5181480" y="0"/>
            <a:ext cx="396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100" spc="-1" strike="noStrike">
                <a:solidFill>
                  <a:srgbClr val="ff6600"/>
                </a:solidFill>
                <a:latin typeface="宋体"/>
              </a:rPr>
              <a:t>中国的古代一直采取浇铸工艺，方孔圆钱的形制则一直沿用到清末民国初年，到民国三年才最后退出历史舞台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。受西方货币文化的影响，清光绪二十六年，在广东首先制造了新式的机制铜元，一时间，各地纷纷仿效，大量发行。新式铜元开始是作为机制银元的一种辅币出现的，但在流通过程中，实际上很大程度上取代了方孔圆钱。机制铜元只有短短三十几年历史舞台，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1935</a:t>
            </a: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年实行法币政策以后，也逐步退出历史舞台，但铜元的种类却极其繁杂。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" y="4876920"/>
            <a:ext cx="8915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33c29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66ccff"/>
                </a:solidFill>
                <a:latin typeface="宋体"/>
              </a:rPr>
              <a:t>纵观中国货币的历史，在漫长的古代社会，它走过了一条独立发展的道路，创造了一种极具个性特色的货币文化，还影响到东亚、东南亚等地区和国家。它和西方的货币文化相映生辉，成为东方货币文化的代表。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coin024"/>
          <p:cNvPicPr/>
          <p:nvPr/>
        </p:nvPicPr>
        <p:blipFill>
          <a:blip r:embed="rId2"/>
          <a:stretch/>
        </p:blipFill>
        <p:spPr>
          <a:xfrm>
            <a:off x="0" y="762120"/>
            <a:ext cx="5181480" cy="2666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3581280"/>
            <a:ext cx="52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宋体"/>
              </a:rPr>
              <a:t>庆历重宝铁范铜钱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uZl0_v6iqM73MjE=_7pKl7AaHMapU"/>
          <p:cNvPicPr/>
          <p:nvPr/>
        </p:nvPicPr>
        <p:blipFill>
          <a:blip r:embed="rId2"/>
          <a:stretch/>
        </p:blipFill>
        <p:spPr>
          <a:xfrm rot="793200">
            <a:off x="7216920" y="5164200"/>
            <a:ext cx="1549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5"/>
          <p:cNvSpPr/>
          <p:nvPr/>
        </p:nvSpPr>
        <p:spPr>
          <a:xfrm>
            <a:off x="826920" y="1268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WordArt 17" descr=""/>
          <p:cNvPicPr/>
          <p:nvPr/>
        </p:nvPicPr>
        <p:blipFill>
          <a:blip r:embed="rId3"/>
          <a:stretch/>
        </p:blipFill>
        <p:spPr>
          <a:xfrm>
            <a:off x="-249120" y="1122480"/>
            <a:ext cx="830736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巴布亚新几内亚 基那"/>
          <p:cNvPicPr/>
          <p:nvPr/>
        </p:nvPicPr>
        <p:blipFill>
          <a:blip r:embed="rId2"/>
          <a:stretch/>
        </p:blipFill>
        <p:spPr>
          <a:xfrm>
            <a:off x="228600" y="152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645920" y="249228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巴布亚新几内亚 基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越南 盾"/>
          <p:cNvPicPr/>
          <p:nvPr/>
        </p:nvPicPr>
        <p:blipFill>
          <a:blip r:embed="rId3"/>
          <a:stretch/>
        </p:blipFill>
        <p:spPr>
          <a:xfrm>
            <a:off x="4724280" y="228600"/>
            <a:ext cx="419112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553080" y="25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越南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英镑"/>
          <p:cNvPicPr/>
          <p:nvPr/>
        </p:nvPicPr>
        <p:blipFill>
          <a:blip r:embed="rId4"/>
          <a:stretch/>
        </p:blipFill>
        <p:spPr>
          <a:xfrm>
            <a:off x="228600" y="350532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600200" y="6019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英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秘鲁 索尔"/>
          <p:cNvPicPr/>
          <p:nvPr/>
        </p:nvPicPr>
        <p:blipFill>
          <a:blip r:embed="rId5"/>
          <a:stretch/>
        </p:blipFill>
        <p:spPr>
          <a:xfrm>
            <a:off x="4724280" y="3581280"/>
            <a:ext cx="4191120" cy="1913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420960" y="56167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秘鲁 索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巴西 雷亚尔"/>
          <p:cNvPicPr/>
          <p:nvPr/>
        </p:nvPicPr>
        <p:blipFill>
          <a:blip r:embed="rId2"/>
          <a:stretch/>
        </p:blipFill>
        <p:spPr>
          <a:xfrm>
            <a:off x="228600" y="22860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701720" y="25686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巴西 雷亚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印度尼西亚 卢比(盾)"/>
          <p:cNvPicPr/>
          <p:nvPr/>
        </p:nvPicPr>
        <p:blipFill>
          <a:blip r:embed="rId3"/>
          <a:stretch/>
        </p:blipFill>
        <p:spPr>
          <a:xfrm>
            <a:off x="4648320" y="228600"/>
            <a:ext cx="4190760" cy="2209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5685120" y="2568600"/>
            <a:ext cx="27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印度尼西亚 卢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印度 卢比"/>
          <p:cNvPicPr/>
          <p:nvPr/>
        </p:nvPicPr>
        <p:blipFill>
          <a:blip r:embed="rId4"/>
          <a:stretch/>
        </p:blipFill>
        <p:spPr>
          <a:xfrm>
            <a:off x="228600" y="358128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3825360" y="8381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印度 卢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696680" y="5921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印度 卢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1" descr="伊朗 里亚尔"/>
          <p:cNvPicPr/>
          <p:nvPr/>
        </p:nvPicPr>
        <p:blipFill>
          <a:blip r:embed="rId5"/>
          <a:stretch/>
        </p:blipFill>
        <p:spPr>
          <a:xfrm>
            <a:off x="4724280" y="3505320"/>
            <a:ext cx="4114800" cy="23619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6502320" y="59212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伊朗 里亚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波兰 兹罗提"/>
          <p:cNvPicPr/>
          <p:nvPr/>
        </p:nvPicPr>
        <p:blipFill>
          <a:blip r:embed="rId2"/>
          <a:stretch/>
        </p:blipFill>
        <p:spPr>
          <a:xfrm>
            <a:off x="380880" y="304920"/>
            <a:ext cx="4038840" cy="2209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854000" y="264492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波兰 兹罗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西班牙 比塞塔"/>
          <p:cNvPicPr/>
          <p:nvPr/>
        </p:nvPicPr>
        <p:blipFill>
          <a:blip r:embed="rId3"/>
          <a:stretch/>
        </p:blipFill>
        <p:spPr>
          <a:xfrm>
            <a:off x="4724280" y="30492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6202440" y="24922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西班牙 比塞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泰国铢"/>
          <p:cNvPicPr/>
          <p:nvPr/>
        </p:nvPicPr>
        <p:blipFill>
          <a:blip r:embed="rId4"/>
          <a:stretch/>
        </p:blipFill>
        <p:spPr>
          <a:xfrm>
            <a:off x="457200" y="3429000"/>
            <a:ext cx="3962520" cy="2133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2074320" y="553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泰国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8" descr="塔吉克斯坦 索莫尼"/>
          <p:cNvPicPr/>
          <p:nvPr/>
        </p:nvPicPr>
        <p:blipFill>
          <a:blip r:embed="rId5"/>
          <a:stretch/>
        </p:blipFill>
        <p:spPr>
          <a:xfrm>
            <a:off x="4724280" y="34290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5984280" y="561672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塔吉克斯坦 索莫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854000" y="24922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俄罗斯 卢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俄罗斯 卢布"/>
          <p:cNvPicPr/>
          <p:nvPr/>
        </p:nvPicPr>
        <p:blipFill>
          <a:blip r:embed="rId2"/>
          <a:stretch/>
        </p:blipFill>
        <p:spPr>
          <a:xfrm>
            <a:off x="304920" y="228600"/>
            <a:ext cx="41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斯里兰卡 卢比"/>
          <p:cNvPicPr/>
          <p:nvPr/>
        </p:nvPicPr>
        <p:blipFill>
          <a:blip r:embed="rId3"/>
          <a:stretch/>
        </p:blipFill>
        <p:spPr>
          <a:xfrm>
            <a:off x="4724280" y="228600"/>
            <a:ext cx="426744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202440" y="249228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斯里兰卡 卢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日  本  元"/>
          <p:cNvPicPr/>
          <p:nvPr/>
        </p:nvPicPr>
        <p:blipFill>
          <a:blip r:embed="rId4"/>
          <a:stretch/>
        </p:blipFill>
        <p:spPr>
          <a:xfrm>
            <a:off x="320760" y="3124080"/>
            <a:ext cx="41148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1914840" y="59212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  本 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挪威 克郎"/>
          <p:cNvPicPr/>
          <p:nvPr/>
        </p:nvPicPr>
        <p:blipFill>
          <a:blip r:embed="rId5"/>
          <a:stretch/>
        </p:blipFill>
        <p:spPr>
          <a:xfrm>
            <a:off x="4648320" y="3200400"/>
            <a:ext cx="434340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6420960" y="5540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挪威 克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哥伦比亚 比索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630440" y="256860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哥伦比亚 比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南非 兰特"/>
          <p:cNvPicPr/>
          <p:nvPr/>
        </p:nvPicPr>
        <p:blipFill>
          <a:blip r:embed="rId3"/>
          <a:stretch/>
        </p:blipFill>
        <p:spPr>
          <a:xfrm>
            <a:off x="4724280" y="304920"/>
            <a:ext cx="411480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6497280" y="25686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非 兰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墨西哥 比索"/>
          <p:cNvPicPr/>
          <p:nvPr/>
        </p:nvPicPr>
        <p:blipFill>
          <a:blip r:embed="rId4"/>
          <a:stretch/>
        </p:blipFill>
        <p:spPr>
          <a:xfrm>
            <a:off x="380880" y="3276720"/>
            <a:ext cx="4038840" cy="2133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1854000" y="54640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墨西哥 比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缅甸 元"/>
          <p:cNvPicPr/>
          <p:nvPr/>
        </p:nvPicPr>
        <p:blipFill>
          <a:blip r:embed="rId5"/>
          <a:stretch/>
        </p:blipFill>
        <p:spPr>
          <a:xfrm>
            <a:off x="4670280" y="3276720"/>
            <a:ext cx="4191120" cy="2209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6568200" y="5540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缅甸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圭亚那 元"/>
          <p:cNvPicPr/>
          <p:nvPr/>
        </p:nvPicPr>
        <p:blipFill>
          <a:blip r:embed="rId2"/>
          <a:stretch/>
        </p:blipFill>
        <p:spPr>
          <a:xfrm>
            <a:off x="152280" y="3808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1996560" y="3200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圭亚那 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秘鲁 索尔"/>
          <p:cNvPicPr/>
          <p:nvPr/>
        </p:nvPicPr>
        <p:blipFill>
          <a:blip r:embed="rId3"/>
          <a:stretch/>
        </p:blipFill>
        <p:spPr>
          <a:xfrm>
            <a:off x="4648320" y="38088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339960" y="3200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秘鲁 索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蒙古 图格里克"/>
          <p:cNvPicPr/>
          <p:nvPr/>
        </p:nvPicPr>
        <p:blipFill>
          <a:blip r:embed="rId4"/>
          <a:stretch/>
        </p:blipFill>
        <p:spPr>
          <a:xfrm>
            <a:off x="228600" y="3733920"/>
            <a:ext cx="4343400" cy="2135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737360" y="60199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蒙古 图格里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美国 元"/>
          <p:cNvPicPr/>
          <p:nvPr/>
        </p:nvPicPr>
        <p:blipFill>
          <a:blip r:embed="rId5"/>
          <a:stretch/>
        </p:blipFill>
        <p:spPr>
          <a:xfrm>
            <a:off x="4724280" y="3733920"/>
            <a:ext cx="4267440" cy="2209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6583680" y="60199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美国 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韩元"/>
          <p:cNvPicPr/>
          <p:nvPr/>
        </p:nvPicPr>
        <p:blipFill>
          <a:blip r:embed="rId2"/>
          <a:stretch/>
        </p:blipFill>
        <p:spPr>
          <a:xfrm>
            <a:off x="380880" y="457200"/>
            <a:ext cx="381024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2221560" y="5838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韩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马尔代夫 卢非亚"/>
          <p:cNvPicPr/>
          <p:nvPr/>
        </p:nvPicPr>
        <p:blipFill>
          <a:blip r:embed="rId3"/>
          <a:stretch/>
        </p:blipFill>
        <p:spPr>
          <a:xfrm>
            <a:off x="4419720" y="380880"/>
            <a:ext cx="4572000" cy="2362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6283800" y="27208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马尔代夫 卢非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加拿大 元"/>
          <p:cNvPicPr/>
          <p:nvPr/>
        </p:nvPicPr>
        <p:blipFill>
          <a:blip r:embed="rId4"/>
          <a:stretch/>
        </p:blipFill>
        <p:spPr>
          <a:xfrm>
            <a:off x="4419720" y="3352680"/>
            <a:ext cx="4572000" cy="2316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6420960" y="56926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加拿大 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哈萨克斯坦  腾格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209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1633680" y="234000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哈萨克斯坦  腾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8" descr="欧元"/>
          <p:cNvPicPr/>
          <p:nvPr/>
        </p:nvPicPr>
        <p:blipFill>
          <a:blip r:embed="rId3"/>
          <a:stretch/>
        </p:blipFill>
        <p:spPr>
          <a:xfrm>
            <a:off x="4816440" y="263520"/>
            <a:ext cx="3886200" cy="2141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6641280" y="240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欧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0" descr="欧元1"/>
          <p:cNvPicPr/>
          <p:nvPr/>
        </p:nvPicPr>
        <p:blipFill>
          <a:blip r:embed="rId4"/>
          <a:stretch/>
        </p:blipFill>
        <p:spPr>
          <a:xfrm>
            <a:off x="4800600" y="3500280"/>
            <a:ext cx="3886200" cy="1989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6641280" y="566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欧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2" descr="人民币"/>
          <p:cNvPicPr/>
          <p:nvPr/>
        </p:nvPicPr>
        <p:blipFill>
          <a:blip r:embed="rId5"/>
          <a:stretch/>
        </p:blipFill>
        <p:spPr>
          <a:xfrm>
            <a:off x="380880" y="3505320"/>
            <a:ext cx="3962520" cy="2114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922040" y="5686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题目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钱币的历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br>
              <a:rPr sz="44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目的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从历史的角度对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钱币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有一个较为全面的了解，增长知识，扩大视野。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树立正确的钱财观。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培养小组合作精神。</a:t>
            </a:r>
            <a:br>
              <a:rPr sz="36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活动方式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：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小组合作，分配任务，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 汇总资料，集体交流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642080" y="1413000"/>
            <a:ext cx="45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8"/>
          <p:cNvSpPr txBox="1"/>
          <p:nvPr/>
        </p:nvSpPr>
        <p:spPr>
          <a:xfrm rot="5400000">
            <a:off x="5954760" y="3414600"/>
            <a:ext cx="367344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活动计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DSCF0990"/>
          <p:cNvPicPr/>
          <p:nvPr/>
        </p:nvPicPr>
        <p:blipFill>
          <a:blip r:embed="rId2"/>
          <a:stretch/>
        </p:blipFill>
        <p:spPr>
          <a:xfrm>
            <a:off x="152280" y="3049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DSCF0992"/>
          <p:cNvPicPr/>
          <p:nvPr/>
        </p:nvPicPr>
        <p:blipFill>
          <a:blip r:embed="rId3"/>
          <a:stretch/>
        </p:blipFill>
        <p:spPr>
          <a:xfrm>
            <a:off x="4724280" y="3808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"/>
          <p:cNvPicPr/>
          <p:nvPr/>
        </p:nvPicPr>
        <p:blipFill>
          <a:blip r:embed="rId4"/>
          <a:stretch/>
        </p:blipFill>
        <p:spPr>
          <a:xfrm>
            <a:off x="228600" y="34290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n"/>
          <p:cNvPicPr/>
          <p:nvPr/>
        </p:nvPicPr>
        <p:blipFill>
          <a:blip r:embed="rId5"/>
          <a:stretch/>
        </p:blipFill>
        <p:spPr>
          <a:xfrm>
            <a:off x="4648320" y="3429000"/>
            <a:ext cx="43113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YfTb_2004615143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2"/>
          <p:cNvSpPr/>
          <p:nvPr/>
        </p:nvSpPr>
        <p:spPr>
          <a:xfrm rot="337800">
            <a:off x="8496360" y="6237360"/>
            <a:ext cx="647640" cy="620640"/>
          </a:xfrm>
          <a:prstGeom prst="smileyFace">
            <a:avLst>
              <a:gd name="adj" fmla="val 4653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3941 0.00046 C -0.8467 0.02292 -0.65399 0.04537 -0.63819 -0.03056 C -0.62239 -0.10648 -0.96423 -0.33958 -0.94444 -0.45532 C -0.92465 -0.57107 -0.61961 -0.77176 -0.51961 -0.72523 C -0.41961 -0.6787 -0.41545 -0.29861 -0.34444 -0.17546 C -0.27343 -0.05278 -0.1375 -0.00903 -0.09375 0.01389 C -0.05 0.03657 -0.12482 0.02222 -0.08142 -0.03935 C -0.03802 -0.10023 0.17448 -0.35278 0.16667 -0.35324 C 0.15886 -0.3537 0.01528 -0.19815 -0.1283 -0.04213 E">
                                      <p:cBhvr>
                                        <p:cTn id="15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ahoma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92000" y="112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越来越多的城市中，孩子们穿名牌服装、拿手机、花上千元庆贺生日等现象严重，你是如何看待这一中小学生高消费现象的？你认为我们应该如何抵预外界物质的诱惑，树立怎样的金钱观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63640" y="4076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随着生活水平的提高，中学生拥有的零花钱越来越多，有些同学的压岁钱甚至超过千元、万元，我们该如何支配这一部分金钱呢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YfTb_2004615143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1547640" y="170028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990720" y="1371600"/>
            <a:ext cx="4190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DB7-EB7F-40B3-88F4-F9A43007FD67}" type="slidenum">
              <a:t>24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4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活动步骤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：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同学共同讨论活动计划，选出代表来记录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共同平均分配活动项目，分别进行活动，收集资料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全组汇总资料，选出代表做成幻灯片或方文本资料，组员轮流修改，达成最佳方案。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选出最佳代表展示、汇报本组活动成果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10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活动内容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钱币的历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人民币知识知多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其他国家的货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有关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金钱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话题的讨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13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1962000" cy="1663560"/>
          </a:xfrm>
          <a:prstGeom prst="rect">
            <a:avLst/>
          </a:prstGeom>
          <a:ln w="0">
            <a:noFill/>
          </a:ln>
        </p:spPr>
      </p:pic>
      <p:pic>
        <p:nvPicPr>
          <p:cNvPr id="92" name="Object 14" descr=""/>
          <p:cNvPicPr/>
          <p:nvPr/>
        </p:nvPicPr>
        <p:blipFill>
          <a:blip r:embed="rId3"/>
          <a:stretch/>
        </p:blipFill>
        <p:spPr>
          <a:xfrm>
            <a:off x="7467480" y="327672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我国古代钱币的发展大致可分为四个阶段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2135160" y="29718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钱币萌芽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3461040" y="3809880"/>
            <a:ext cx="1872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纪地钱币时期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802400" y="4648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铢两钱币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6097680" y="54864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年号钱币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228600" y="3808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中国古代钱币</a:t>
            </a:r>
            <a:r>
              <a:rPr b="1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352680" y="-523800"/>
            <a:ext cx="57913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Times New Roman"/>
              </a:rPr>
              <a:t> </a:t>
            </a:r>
            <a:r>
              <a:rPr b="1" lang="zh-CN" sz="1700" spc="-1" strike="noStrike">
                <a:solidFill>
                  <a:srgbClr val="ffffff"/>
                </a:solidFill>
                <a:latin typeface="宋体"/>
              </a:rPr>
              <a:t>　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中国古代钱币萌芽于夏代，起源于殷商，发展于东周，统一于赢秦，历经了四千多年的漫长历史，创造了七十多项世界之最。不仅如此，中国钱币系统之完整，门类之丰富，脉络之清闲，内涵之博大，是任何一个国家都无法比拟的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 　世界上最早的钱币 　远在公元前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世纪的夏朝，天然海贝已从装饰用品演变为货币。楚庄王时期，成为财富的象征，当时的贝币以朋为计量单位，五枚贝用绳索串起为一系，二系相连为一朋。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贝币的出现，是人类历史最旱的货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春秋战国时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各国钱币形制不同，大小不一，重量不等，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主要有贝币、刀币、布币和圜钱流通于世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被后人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先秦四大货币体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qb01"/>
          <p:cNvPicPr/>
          <p:nvPr/>
        </p:nvPicPr>
        <p:blipFill>
          <a:blip r:embed="rId2"/>
          <a:stretch/>
        </p:blipFill>
        <p:spPr>
          <a:xfrm>
            <a:off x="609480" y="457200"/>
            <a:ext cx="251460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295280" y="5410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空首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581280" y="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在中国货币史上，最早取得支付手段的是一些自然物，众所周知，海贝便是其中之一，海贝在中国的新石器时代晚期已经取得了实物货币的地位，这个约是四五千年以前的事情。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657600" y="2193840"/>
            <a:ext cx="548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春秋战国时代（公元前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770-221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年），由于诸候割据，中国的货币文化呈现出自由奔放的势头，就青铜铸币而言，逐步形成了区域性的货币。不同地区的铸币，它们的器形、重量、文字标志、货币单位、合金成分都不一样。中原地区的货币形制起源于工具刀削，称之为刀币；南部地区的货币形制起源于青铜贝。称之为蚁鼻钱；中西部地区的货币形制起源于纺轮（或是玉壁），称之为圜钱；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大约在战国中期以后出现了方孔圆钱。</a:t>
            </a:r>
            <a:r>
              <a:rPr b="1" lang="zh-CN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gqb02b"/>
          <p:cNvPicPr/>
          <p:nvPr/>
        </p:nvPicPr>
        <p:blipFill>
          <a:blip r:embed="rId2"/>
          <a:stretch/>
        </p:blipFill>
        <p:spPr>
          <a:xfrm>
            <a:off x="152280" y="304920"/>
            <a:ext cx="335304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3000" y="53341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布连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战国   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95480" y="228600"/>
            <a:ext cx="6248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战国中期以后，秦国的主要货币是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半两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方孔圆钱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。公元前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221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年，秦统一中国，秦始皇把他的货币制度推广到全国，于是货币也得到了统一。统一秦的金币形制犹如晒干了柿子饼，称之为柿子金，和战国时一样，也可以切割使用。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因为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钱重难行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zh-CN" sz="2500" spc="-1" strike="noStrike">
                <a:solidFill>
                  <a:srgbClr val="ffffff"/>
                </a:solidFill>
                <a:latin typeface="宋体"/>
              </a:rPr>
              <a:t>，西汉早期，铜钱也曾几度减重，到西汉武帝的时候，最终确立了法定铜钱重五铢的制度，并且第一次推行中央集权的政策，由上林三官负责铸钱。王莽篡位以后，打出复古旗号，实际是推行大钱制度，收敛钱财，于是在中国货币史上第一次出现了当千、当五千的大钱，并且恢复了布币、刀币等钱制。但它只是昙花一现，</a:t>
            </a:r>
            <a:r>
              <a:rPr b="1" lang="zh-CN" sz="2500" spc="-1" strike="noStrike">
                <a:solidFill>
                  <a:srgbClr val="ff6600"/>
                </a:solidFill>
                <a:latin typeface="宋体"/>
              </a:rPr>
              <a:t>汉光武帝重建东汉政权以后，很快便恢复了五铢钱制。从此，五铢钱一直沿用到隋末唐初。</a:t>
            </a:r>
            <a:r>
              <a:rPr b="1" lang="zh-CN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gqb01b"/>
          <p:cNvPicPr/>
          <p:nvPr/>
        </p:nvPicPr>
        <p:blipFill>
          <a:blip r:embed="rId2"/>
          <a:stretch/>
        </p:blipFill>
        <p:spPr>
          <a:xfrm>
            <a:off x="228600" y="685800"/>
            <a:ext cx="266688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380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空首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276720" y="762120"/>
            <a:ext cx="56386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733c2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元朝以后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，中国铜铸币的制作趋向简单，钱文的书法一般都采用真书体，而且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钱币的名称也多以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"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通宝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"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铭名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1" lang="zh-CN" sz="2900" spc="-1" strike="noStrike">
                <a:solidFill>
                  <a:srgbClr val="ff6600"/>
                </a:solidFill>
                <a:latin typeface="宋体"/>
              </a:rPr>
              <a:t>明朝中期以后，大约从嘉靖年间起，铜钱逐渐改为黄铜铸币，从此结束了青铜铸币的历史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。由于纸币和白银货币的使用，也在铜钱上有所反映，元朝惠宗至正年间曾有过权钞钱，而明末清初又出现了权银钱。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gqb05%20"/>
          <p:cNvPicPr/>
          <p:nvPr/>
        </p:nvPicPr>
        <p:blipFill>
          <a:blip r:embed="rId2"/>
          <a:stretch/>
        </p:blipFill>
        <p:spPr>
          <a:xfrm>
            <a:off x="228600" y="838080"/>
            <a:ext cx="3048120" cy="441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094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刀平五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8:04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6:0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