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42"/>
          <p:cNvGrpSpPr/>
          <p:nvPr/>
        </p:nvGrpSpPr>
        <p:grpSpPr>
          <a:xfrm>
            <a:off x="-30240" y="-23760"/>
            <a:ext cx="9174240" cy="749160"/>
            <a:chOff x="-30240" y="-23760"/>
            <a:chExt cx="9174240" cy="749160"/>
          </a:xfrm>
        </p:grpSpPr>
        <p:pic>
          <p:nvPicPr>
            <p:cNvPr id="1" name="矩形 42" descr=""/>
            <p:cNvPicPr/>
            <p:nvPr/>
          </p:nvPicPr>
          <p:blipFill>
            <a:blip r:embed="rId2"/>
            <a:stretch/>
          </p:blipFill>
          <p:spPr>
            <a:xfrm>
              <a:off x="-30240" y="-23760"/>
              <a:ext cx="9174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17640" y="-7920"/>
              <a:ext cx="914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矩形 43"/>
          <p:cNvGrpSpPr/>
          <p:nvPr/>
        </p:nvGrpSpPr>
        <p:grpSpPr>
          <a:xfrm>
            <a:off x="-30240" y="689040"/>
            <a:ext cx="9174240" cy="66600"/>
            <a:chOff x="-30240" y="689040"/>
            <a:chExt cx="9174240" cy="66600"/>
          </a:xfrm>
        </p:grpSpPr>
        <p:pic>
          <p:nvPicPr>
            <p:cNvPr id="4" name="矩形 43" descr=""/>
            <p:cNvPicPr/>
            <p:nvPr/>
          </p:nvPicPr>
          <p:blipFill>
            <a:blip r:embed="rId3"/>
            <a:stretch/>
          </p:blipFill>
          <p:spPr>
            <a:xfrm>
              <a:off x="-30240" y="689040"/>
              <a:ext cx="91742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-17640" y="706320"/>
              <a:ext cx="914400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组合 128"/>
          <p:cNvGrpSpPr/>
          <p:nvPr/>
        </p:nvGrpSpPr>
        <p:grpSpPr>
          <a:xfrm>
            <a:off x="-17640" y="-7920"/>
            <a:ext cx="1440000" cy="1440000"/>
            <a:chOff x="-17640" y="-7920"/>
            <a:chExt cx="1440000" cy="1440000"/>
          </a:xfrm>
        </p:grpSpPr>
        <p:sp>
          <p:nvSpPr>
            <p:cNvPr id="7" name="饼形 120"/>
            <p:cNvSpPr/>
            <p:nvPr/>
          </p:nvSpPr>
          <p:spPr>
            <a:xfrm>
              <a:off x="-17640" y="-7920"/>
              <a:ext cx="1440000" cy="1440000"/>
            </a:xfrm>
            <a:custGeom>
              <a:avLst/>
              <a:gdLst/>
              <a:ahLst/>
              <a:rect l="l" t="t" r="r" b="b"/>
              <a:pathLst>
                <a:path w="1440000" h="1440000">
                  <a:moveTo>
                    <a:pt x="1440000" y="720000"/>
                  </a:moveTo>
                  <a:cubicBezTo>
                    <a:pt x="1440000" y="977348"/>
                    <a:pt x="1302645" y="1215129"/>
                    <a:pt x="1079716" y="1343702"/>
                  </a:cubicBezTo>
                  <a:cubicBezTo>
                    <a:pt x="856787" y="1472275"/>
                    <a:pt x="582185" y="1472087"/>
                    <a:pt x="359433" y="1343210"/>
                  </a:cubicBezTo>
                  <a:cubicBezTo>
                    <a:pt x="136680" y="1214333"/>
                    <a:pt x="-350" y="976365"/>
                    <a:pt x="1" y="719017"/>
                  </a:cubicBezTo>
                  <a:lnTo>
                    <a:pt x="720000" y="720000"/>
                  </a:lnTo>
                  <a:lnTo>
                    <a:pt x="1440000" y="720000"/>
                  </a:lnTo>
                  <a:close/>
                </a:path>
              </a:pathLst>
            </a:cu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饼形 126"/>
            <p:cNvSpPr/>
            <p:nvPr/>
          </p:nvSpPr>
          <p:spPr>
            <a:xfrm rot="10800000">
              <a:off x="-17280" y="-7920"/>
              <a:ext cx="1440000" cy="1440000"/>
            </a:xfrm>
            <a:custGeom>
              <a:avLst/>
              <a:gdLst>
                <a:gd name="textAreaLeft" fmla="*/ 210600 w 1440000"/>
                <a:gd name="textAreaRight" fmla="*/ 1229400 w 1440000"/>
                <a:gd name="textAreaTop" fmla="*/ 210600 h 1440000"/>
                <a:gd name="textAreaBottom" fmla="*/ 1229400 h 1440000"/>
              </a:gdLst>
              <a:ahLst/>
              <a:rect l="textAreaLeft" t="textAreaTop" r="textAreaRight" b="textAreaBottom"/>
              <a:pathLst>
                <a:path w="1440000" h="1440000">
                  <a:moveTo>
                    <a:pt x="1440000" y="720000"/>
                  </a:moveTo>
                  <a:lnTo>
                    <a:pt x="1440000" y="720000"/>
                  </a:lnTo>
                  <a:cubicBezTo>
                    <a:pt x="1440000" y="1117645"/>
                    <a:pt x="1117645" y="1440000"/>
                    <a:pt x="720000" y="1440000"/>
                  </a:cubicBezTo>
                  <a:cubicBezTo>
                    <a:pt x="322354" y="1440000"/>
                    <a:pt x="0" y="1117645"/>
                    <a:pt x="0" y="720000"/>
                  </a:cubicBezTo>
                  <a:cubicBezTo>
                    <a:pt x="-1" y="719672"/>
                    <a:pt x="0" y="719344"/>
                    <a:pt x="0" y="719016"/>
                  </a:cubicBezTo>
                  <a:lnTo>
                    <a:pt x="720000" y="720000"/>
                  </a:lnTo>
                  <a:lnTo>
                    <a:pt x="1440000" y="720000"/>
                  </a:lnTo>
                  <a:close/>
                </a:path>
              </a:pathLst>
            </a:custGeom>
            <a:solidFill>
              <a:srgbClr val="00b0f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组合 127"/>
          <p:cNvGrpSpPr/>
          <p:nvPr/>
        </p:nvGrpSpPr>
        <p:grpSpPr>
          <a:xfrm>
            <a:off x="125280" y="88560"/>
            <a:ext cx="1260720" cy="1260720"/>
            <a:chOff x="125280" y="88560"/>
            <a:chExt cx="1260720" cy="1260720"/>
          </a:xfrm>
        </p:grpSpPr>
        <p:sp>
          <p:nvSpPr>
            <p:cNvPr id="10" name="饼形 124"/>
            <p:cNvSpPr/>
            <p:nvPr/>
          </p:nvSpPr>
          <p:spPr>
            <a:xfrm>
              <a:off x="125280" y="88920"/>
              <a:ext cx="1260720" cy="1260360"/>
            </a:xfrm>
            <a:custGeom>
              <a:avLst/>
              <a:gdLst/>
              <a:ahLst/>
              <a:rect l="l" t="t" r="r" b="b"/>
              <a:pathLst>
                <a:path w="1260000" h="1260000">
                  <a:moveTo>
                    <a:pt x="1260000" y="630000"/>
                  </a:moveTo>
                  <a:cubicBezTo>
                    <a:pt x="1260000" y="976328"/>
                    <a:pt x="980449" y="1257717"/>
                    <a:pt x="634128" y="1259986"/>
                  </a:cubicBezTo>
                  <a:cubicBezTo>
                    <a:pt x="287807" y="1262255"/>
                    <a:pt x="4593" y="984554"/>
                    <a:pt x="54" y="638256"/>
                  </a:cubicBezTo>
                  <a:lnTo>
                    <a:pt x="630000" y="630000"/>
                  </a:lnTo>
                  <a:lnTo>
                    <a:pt x="1260000" y="630000"/>
                  </a:lnTo>
                  <a:close/>
                </a:path>
              </a:pathLst>
            </a:custGeom>
            <a:solidFill>
              <a:srgbClr val="ccff33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饼形 125"/>
            <p:cNvSpPr/>
            <p:nvPr/>
          </p:nvSpPr>
          <p:spPr>
            <a:xfrm rot="10800000">
              <a:off x="125280" y="88560"/>
              <a:ext cx="1260720" cy="1260360"/>
            </a:xfrm>
            <a:custGeom>
              <a:avLst/>
              <a:gdLst>
                <a:gd name="textAreaLeft" fmla="*/ 184680 w 1260720"/>
                <a:gd name="textAreaRight" fmla="*/ 1076040 w 1260720"/>
                <a:gd name="textAreaTop" fmla="*/ 184320 h 1260360"/>
                <a:gd name="textAreaBottom" fmla="*/ 1076040 h 1260360"/>
              </a:gdLst>
              <a:ahLst/>
              <a:rect l="textAreaLeft" t="textAreaTop" r="textAreaRight" b="textAreaBottom"/>
              <a:pathLst>
                <a:path w="1260000" h="1260000">
                  <a:moveTo>
                    <a:pt x="1260000" y="630000"/>
                  </a:moveTo>
                  <a:lnTo>
                    <a:pt x="1260000" y="630000"/>
                  </a:lnTo>
                  <a:cubicBezTo>
                    <a:pt x="1260000" y="977939"/>
                    <a:pt x="977939" y="1260000"/>
                    <a:pt x="630000" y="1260000"/>
                  </a:cubicBezTo>
                  <a:cubicBezTo>
                    <a:pt x="285280" y="1260000"/>
                    <a:pt x="4571" y="982945"/>
                    <a:pt x="54" y="638255"/>
                  </a:cubicBezTo>
                  <a:lnTo>
                    <a:pt x="630000" y="630000"/>
                  </a:lnTo>
                  <a:lnTo>
                    <a:pt x="1260000" y="630000"/>
                  </a:lnTo>
                  <a:close/>
                </a:path>
              </a:pathLst>
            </a:custGeom>
            <a:solidFill>
              <a:srgbClr val="00b0f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8"/>
          <p:cNvSpPr/>
          <p:nvPr/>
        </p:nvSpPr>
        <p:spPr>
          <a:xfrm>
            <a:off x="331920" y="198360"/>
            <a:ext cx="107928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矩形 8"/>
          <p:cNvGrpSpPr/>
          <p:nvPr/>
        </p:nvGrpSpPr>
        <p:grpSpPr>
          <a:xfrm>
            <a:off x="19080" y="0"/>
            <a:ext cx="9174240" cy="6888240"/>
            <a:chOff x="19080" y="0"/>
            <a:chExt cx="9174240" cy="6888240"/>
          </a:xfrm>
        </p:grpSpPr>
        <p:pic>
          <p:nvPicPr>
            <p:cNvPr id="50" name="矩形 8" descr=""/>
            <p:cNvPicPr/>
            <p:nvPr/>
          </p:nvPicPr>
          <p:blipFill>
            <a:blip r:embed="rId2"/>
            <a:stretch/>
          </p:blipFill>
          <p:spPr>
            <a:xfrm>
              <a:off x="19080" y="0"/>
              <a:ext cx="917424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0" y="144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椭圆 11"/>
          <p:cNvSpPr/>
          <p:nvPr/>
        </p:nvSpPr>
        <p:spPr>
          <a:xfrm>
            <a:off x="2035080" y="3871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2"/>
          <p:cNvSpPr/>
          <p:nvPr/>
        </p:nvSpPr>
        <p:spPr>
          <a:xfrm>
            <a:off x="5678640" y="4800600"/>
            <a:ext cx="14256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25560" y="3728880"/>
            <a:ext cx="9153360" cy="3143520"/>
          </a:xfrm>
          <a:custGeom>
            <a:avLst/>
            <a:gdLst/>
            <a:ahLst/>
            <a:rect l="l" t="t" r="r" b="b"/>
            <a:pathLst>
              <a:path w="9152878" h="3045041">
                <a:moveTo>
                  <a:pt x="0" y="781235"/>
                </a:moveTo>
                <a:cubicBezTo>
                  <a:pt x="347709" y="315157"/>
                  <a:pt x="1128944" y="162757"/>
                  <a:pt x="2086253" y="221941"/>
                </a:cubicBezTo>
                <a:cubicBezTo>
                  <a:pt x="3043562" y="281125"/>
                  <a:pt x="4567562" y="1173331"/>
                  <a:pt x="5743853" y="1136341"/>
                </a:cubicBezTo>
                <a:cubicBezTo>
                  <a:pt x="6920144" y="1099351"/>
                  <a:pt x="8392699" y="327317"/>
                  <a:pt x="9144000" y="0"/>
                </a:cubicBezTo>
                <a:cubicBezTo>
                  <a:pt x="9146959" y="1015014"/>
                  <a:pt x="9149919" y="2030027"/>
                  <a:pt x="9152878" y="3045041"/>
                </a:cubicBezTo>
                <a:lnTo>
                  <a:pt x="0" y="3018407"/>
                </a:lnTo>
                <a:lnTo>
                  <a:pt x="0" y="7812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任意多边形 9"/>
          <p:cNvGrpSpPr/>
          <p:nvPr/>
        </p:nvGrpSpPr>
        <p:grpSpPr>
          <a:xfrm>
            <a:off x="-171360" y="3608280"/>
            <a:ext cx="9497880" cy="1451160"/>
            <a:chOff x="-171360" y="3608280"/>
            <a:chExt cx="9497880" cy="1451160"/>
          </a:xfrm>
        </p:grpSpPr>
        <p:pic>
          <p:nvPicPr>
            <p:cNvPr id="56" name="任意多边形 9" descr=""/>
            <p:cNvPicPr/>
            <p:nvPr/>
          </p:nvPicPr>
          <p:blipFill>
            <a:blip r:embed="rId3"/>
            <a:stretch/>
          </p:blipFill>
          <p:spPr>
            <a:xfrm>
              <a:off x="-171360" y="3608280"/>
              <a:ext cx="94978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108000" y="3728880"/>
              <a:ext cx="9313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27"/>
          <p:cNvSpPr/>
          <p:nvPr/>
        </p:nvSpPr>
        <p:spPr>
          <a:xfrm>
            <a:off x="4084560" y="3206880"/>
            <a:ext cx="2879640" cy="2879640"/>
          </a:xfrm>
          <a:prstGeom prst="ellipse">
            <a:avLst/>
          </a:prstGeom>
          <a:solidFill>
            <a:srgbClr val="ccff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5"/>
          <p:cNvSpPr/>
          <p:nvPr/>
        </p:nvSpPr>
        <p:spPr>
          <a:xfrm>
            <a:off x="4392720" y="3403440"/>
            <a:ext cx="2519280" cy="2521080"/>
          </a:xfrm>
          <a:prstGeom prst="ellipse">
            <a:avLst/>
          </a:prstGeom>
          <a:solidFill>
            <a:srgbClr val="ccff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4660920" y="3635280"/>
            <a:ext cx="2160720" cy="2158920"/>
          </a:xfrm>
          <a:prstGeom prst="ellipse">
            <a:avLst/>
          </a:prstGeom>
          <a:solidFill>
            <a:srgbClr val="cc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4892760" y="3871800"/>
            <a:ext cx="1800000" cy="180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3463920" y="4432320"/>
            <a:ext cx="1440000" cy="144000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2"/>
          <p:cNvSpPr/>
          <p:nvPr/>
        </p:nvSpPr>
        <p:spPr>
          <a:xfrm>
            <a:off x="3643200" y="4540320"/>
            <a:ext cx="1260720" cy="126036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3813120" y="4649760"/>
            <a:ext cx="1079640" cy="107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4"/>
          <p:cNvSpPr/>
          <p:nvPr/>
        </p:nvSpPr>
        <p:spPr>
          <a:xfrm>
            <a:off x="6750000" y="3718080"/>
            <a:ext cx="1440000" cy="143964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5"/>
          <p:cNvSpPr/>
          <p:nvPr/>
        </p:nvSpPr>
        <p:spPr>
          <a:xfrm>
            <a:off x="6775560" y="3825720"/>
            <a:ext cx="1260360" cy="126072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6813720" y="3943440"/>
            <a:ext cx="1079280" cy="1079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E:\廖秋霞\学习\汇总\图片1.png"/>
          <p:cNvPicPr/>
          <p:nvPr/>
        </p:nvPicPr>
        <p:blipFill>
          <a:blip r:embed="rId7"/>
          <a:stretch/>
        </p:blipFill>
        <p:spPr>
          <a:xfrm>
            <a:off x="-181080" y="514440"/>
            <a:ext cx="3359160" cy="33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1"/>
          <p:cNvGrpSpPr/>
          <p:nvPr/>
        </p:nvGrpSpPr>
        <p:grpSpPr>
          <a:xfrm>
            <a:off x="0" y="2060640"/>
            <a:ext cx="3708000" cy="3708000"/>
            <a:chOff x="0" y="2060640"/>
            <a:chExt cx="3708000" cy="3708000"/>
          </a:xfrm>
        </p:grpSpPr>
        <p:sp>
          <p:nvSpPr>
            <p:cNvPr id="106" name="椭圆 20"/>
            <p:cNvSpPr/>
            <p:nvPr/>
          </p:nvSpPr>
          <p:spPr>
            <a:xfrm>
              <a:off x="0" y="2060640"/>
              <a:ext cx="3708000" cy="3708000"/>
            </a:xfrm>
            <a:prstGeom prst="ellipse">
              <a:avLst/>
            </a:prstGeom>
            <a:solidFill>
              <a:srgbClr val="ccff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1"/>
            <p:cNvSpPr/>
            <p:nvPr/>
          </p:nvSpPr>
          <p:spPr>
            <a:xfrm>
              <a:off x="44640" y="2313720"/>
              <a:ext cx="3243960" cy="3246480"/>
            </a:xfrm>
            <a:prstGeom prst="ellipse">
              <a:avLst/>
            </a:prstGeom>
            <a:solidFill>
              <a:srgbClr val="ccff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2"/>
            <p:cNvSpPr/>
            <p:nvPr/>
          </p:nvSpPr>
          <p:spPr>
            <a:xfrm>
              <a:off x="138960" y="2612160"/>
              <a:ext cx="2781720" cy="2782440"/>
            </a:xfrm>
            <a:prstGeom prst="ellipse">
              <a:avLst/>
            </a:prstGeom>
            <a:solidFill>
              <a:srgbClr val="cc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230760" y="2916720"/>
              <a:ext cx="2318400" cy="2318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611280" y="836640"/>
            <a:ext cx="1944720" cy="1944720"/>
            <a:chOff x="611280" y="836640"/>
            <a:chExt cx="1944720" cy="1944720"/>
          </a:xfrm>
        </p:grpSpPr>
        <p:sp>
          <p:nvSpPr>
            <p:cNvPr id="111" name="椭圆 24"/>
            <p:cNvSpPr/>
            <p:nvPr/>
          </p:nvSpPr>
          <p:spPr>
            <a:xfrm>
              <a:off x="611280" y="836640"/>
              <a:ext cx="1944720" cy="194472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5"/>
            <p:cNvSpPr/>
            <p:nvPr/>
          </p:nvSpPr>
          <p:spPr>
            <a:xfrm>
              <a:off x="611280" y="98280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11280" y="1130400"/>
              <a:ext cx="1458720" cy="1457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2195640" y="4940280"/>
            <a:ext cx="1944360" cy="1944360"/>
            <a:chOff x="2195640" y="4940280"/>
            <a:chExt cx="1944360" cy="1944360"/>
          </a:xfrm>
        </p:grpSpPr>
        <p:sp>
          <p:nvSpPr>
            <p:cNvPr id="115" name="椭圆 28"/>
            <p:cNvSpPr/>
            <p:nvPr/>
          </p:nvSpPr>
          <p:spPr>
            <a:xfrm>
              <a:off x="2195640" y="4940280"/>
              <a:ext cx="1944360" cy="194436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9"/>
            <p:cNvSpPr/>
            <p:nvPr/>
          </p:nvSpPr>
          <p:spPr>
            <a:xfrm>
              <a:off x="2229840" y="5085360"/>
              <a:ext cx="1701720" cy="17028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2281680" y="5244480"/>
              <a:ext cx="1457280" cy="145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8101080" y="6597720"/>
            <a:ext cx="10080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DD71-2971-4DF3-8D93-7AC299B76857}" type="slidenum"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矩形 42"/>
          <p:cNvGrpSpPr/>
          <p:nvPr/>
        </p:nvGrpSpPr>
        <p:grpSpPr>
          <a:xfrm>
            <a:off x="-30240" y="-23760"/>
            <a:ext cx="9174240" cy="749160"/>
            <a:chOff x="-30240" y="-23760"/>
            <a:chExt cx="9174240" cy="749160"/>
          </a:xfrm>
        </p:grpSpPr>
        <p:pic>
          <p:nvPicPr>
            <p:cNvPr id="120" name="矩形 42" descr=""/>
            <p:cNvPicPr/>
            <p:nvPr/>
          </p:nvPicPr>
          <p:blipFill>
            <a:blip r:embed="rId5"/>
            <a:stretch/>
          </p:blipFill>
          <p:spPr>
            <a:xfrm>
              <a:off x="-30240" y="-23760"/>
              <a:ext cx="9174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7640" y="-7920"/>
              <a:ext cx="914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矩形 43"/>
          <p:cNvGrpSpPr/>
          <p:nvPr/>
        </p:nvGrpSpPr>
        <p:grpSpPr>
          <a:xfrm>
            <a:off x="-30240" y="689040"/>
            <a:ext cx="9174240" cy="66600"/>
            <a:chOff x="-30240" y="689040"/>
            <a:chExt cx="9174240" cy="66600"/>
          </a:xfrm>
        </p:grpSpPr>
        <p:pic>
          <p:nvPicPr>
            <p:cNvPr id="123" name="矩形 43" descr=""/>
            <p:cNvPicPr/>
            <p:nvPr/>
          </p:nvPicPr>
          <p:blipFill>
            <a:blip r:embed="rId6"/>
            <a:stretch/>
          </p:blipFill>
          <p:spPr>
            <a:xfrm>
              <a:off x="-30240" y="689040"/>
              <a:ext cx="91742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-17640" y="706320"/>
              <a:ext cx="914400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3.png"/><Relationship Id="rId15" Type="http://schemas.openxmlformats.org/officeDocument/2006/relationships/image" Target="../media/image22.png"/><Relationship Id="rId16" Type="http://schemas.openxmlformats.org/officeDocument/2006/relationships/image" Target="../media/image17.png"/><Relationship Id="rId17" Type="http://schemas.openxmlformats.org/officeDocument/2006/relationships/image" Target="../media/image19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extBox 25" descr=""/>
          <p:cNvPicPr/>
          <p:nvPr/>
        </p:nvPicPr>
        <p:blipFill>
          <a:blip r:embed="rId1"/>
          <a:stretch/>
        </p:blipFill>
        <p:spPr>
          <a:xfrm>
            <a:off x="360360" y="835200"/>
            <a:ext cx="8783640" cy="7077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 25" descr=""/>
          <p:cNvPicPr/>
          <p:nvPr/>
        </p:nvPicPr>
        <p:blipFill>
          <a:blip r:embed="rId2"/>
          <a:stretch/>
        </p:blipFill>
        <p:spPr>
          <a:xfrm>
            <a:off x="5999040" y="5430960"/>
            <a:ext cx="3071880" cy="12016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开 篇 引 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071880" y="928800"/>
            <a:ext cx="5715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开篇引言，也可作项目背景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8" descr="E:\廖秋霞\学习\汇总\有用图片\Cartoon\katoo-plant-05.png"/>
          <p:cNvPicPr/>
          <p:nvPr/>
        </p:nvPicPr>
        <p:blipFill>
          <a:blip r:embed="rId1"/>
          <a:stretch/>
        </p:blipFill>
        <p:spPr>
          <a:xfrm>
            <a:off x="2928960" y="11430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extBox 78" descr=""/>
          <p:cNvPicPr/>
          <p:nvPr/>
        </p:nvPicPr>
        <p:blipFill>
          <a:blip r:embed="rId1"/>
          <a:stretch/>
        </p:blipFill>
        <p:spPr>
          <a:xfrm>
            <a:off x="3359160" y="150012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168" name="组合 24" descr=""/>
          <p:cNvPicPr/>
          <p:nvPr/>
        </p:nvPicPr>
        <p:blipFill>
          <a:blip r:embed="rId2"/>
          <a:stretch/>
        </p:blipFill>
        <p:spPr>
          <a:xfrm>
            <a:off x="2341440" y="1670040"/>
            <a:ext cx="487440" cy="512640"/>
          </a:xfrm>
          <a:prstGeom prst="rect">
            <a:avLst/>
          </a:prstGeom>
          <a:ln w="0">
            <a:noFill/>
          </a:ln>
        </p:spPr>
      </p:pic>
      <p:grpSp>
        <p:nvGrpSpPr>
          <p:cNvPr id="169" name="圆角矩形 72"/>
          <p:cNvGrpSpPr/>
          <p:nvPr/>
        </p:nvGrpSpPr>
        <p:grpSpPr>
          <a:xfrm>
            <a:off x="2951280" y="2127240"/>
            <a:ext cx="4986360" cy="103320"/>
            <a:chOff x="2951280" y="2127240"/>
            <a:chExt cx="4986360" cy="103320"/>
          </a:xfrm>
        </p:grpSpPr>
        <p:pic>
          <p:nvPicPr>
            <p:cNvPr id="170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2951280" y="2127240"/>
              <a:ext cx="49863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78280" y="2152800"/>
              <a:ext cx="4930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TextBox 83" descr=""/>
          <p:cNvPicPr/>
          <p:nvPr/>
        </p:nvPicPr>
        <p:blipFill>
          <a:blip r:embed="rId4"/>
          <a:stretch/>
        </p:blipFill>
        <p:spPr>
          <a:xfrm>
            <a:off x="3359160" y="150012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9" descr="E:\廖秋霞\学习\汇总\未标题-2 拷贝.jpg"/>
          <p:cNvPicPr/>
          <p:nvPr/>
        </p:nvPicPr>
        <p:blipFill>
          <a:blip r:embed="rId5"/>
          <a:stretch/>
        </p:blipFill>
        <p:spPr>
          <a:xfrm>
            <a:off x="7157880" y="1754280"/>
            <a:ext cx="777960" cy="42840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45" descr=""/>
          <p:cNvPicPr/>
          <p:nvPr/>
        </p:nvPicPr>
        <p:blipFill>
          <a:blip r:embed="rId6"/>
          <a:stretch/>
        </p:blipFill>
        <p:spPr>
          <a:xfrm>
            <a:off x="4065480" y="2646360"/>
            <a:ext cx="3810240" cy="646200"/>
          </a:xfrm>
          <a:prstGeom prst="rect">
            <a:avLst/>
          </a:prstGeom>
          <a:ln w="0">
            <a:noFill/>
          </a:ln>
        </p:spPr>
      </p:pic>
      <p:pic>
        <p:nvPicPr>
          <p:cNvPr id="175" name="组合 24" descr=""/>
          <p:cNvPicPr/>
          <p:nvPr/>
        </p:nvPicPr>
        <p:blipFill>
          <a:blip r:embed="rId7"/>
          <a:stretch/>
        </p:blipFill>
        <p:spPr>
          <a:xfrm>
            <a:off x="3048120" y="280980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76" name="圆角矩形 61"/>
          <p:cNvGrpSpPr/>
          <p:nvPr/>
        </p:nvGrpSpPr>
        <p:grpSpPr>
          <a:xfrm>
            <a:off x="3657600" y="3267000"/>
            <a:ext cx="4986360" cy="104760"/>
            <a:chOff x="3657600" y="3267000"/>
            <a:chExt cx="4986360" cy="104760"/>
          </a:xfrm>
        </p:grpSpPr>
        <p:pic>
          <p:nvPicPr>
            <p:cNvPr id="177" name="圆角矩形 61" descr=""/>
            <p:cNvPicPr/>
            <p:nvPr/>
          </p:nvPicPr>
          <p:blipFill>
            <a:blip r:embed="rId8"/>
            <a:stretch/>
          </p:blipFill>
          <p:spPr>
            <a:xfrm>
              <a:off x="3657600" y="3267000"/>
              <a:ext cx="49863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86040" y="329580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39" descr="E:\廖秋霞\学习\汇总\未标题-2 拷贝.jpg"/>
          <p:cNvPicPr/>
          <p:nvPr/>
        </p:nvPicPr>
        <p:blipFill>
          <a:blip r:embed="rId9"/>
          <a:stretch/>
        </p:blipFill>
        <p:spPr>
          <a:xfrm>
            <a:off x="7866000" y="2897280"/>
            <a:ext cx="77796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76" descr=""/>
          <p:cNvPicPr/>
          <p:nvPr/>
        </p:nvPicPr>
        <p:blipFill>
          <a:blip r:embed="rId10"/>
          <a:stretch/>
        </p:blipFill>
        <p:spPr>
          <a:xfrm>
            <a:off x="4065480" y="3786120"/>
            <a:ext cx="3810240" cy="646200"/>
          </a:xfrm>
          <a:prstGeom prst="rect">
            <a:avLst/>
          </a:prstGeom>
          <a:ln w="0">
            <a:noFill/>
          </a:ln>
        </p:spPr>
      </p:pic>
      <p:pic>
        <p:nvPicPr>
          <p:cNvPr id="181" name="组合 24" descr=""/>
          <p:cNvPicPr/>
          <p:nvPr/>
        </p:nvPicPr>
        <p:blipFill>
          <a:blip r:embed="rId11"/>
          <a:stretch/>
        </p:blipFill>
        <p:spPr>
          <a:xfrm>
            <a:off x="3048120" y="4029120"/>
            <a:ext cx="487080" cy="506520"/>
          </a:xfrm>
          <a:prstGeom prst="rect">
            <a:avLst/>
          </a:prstGeom>
          <a:ln w="0">
            <a:noFill/>
          </a:ln>
        </p:spPr>
      </p:pic>
      <p:grpSp>
        <p:nvGrpSpPr>
          <p:cNvPr id="182" name="圆角矩形 96"/>
          <p:cNvGrpSpPr/>
          <p:nvPr/>
        </p:nvGrpSpPr>
        <p:grpSpPr>
          <a:xfrm>
            <a:off x="3657600" y="4413240"/>
            <a:ext cx="4986360" cy="103320"/>
            <a:chOff x="3657600" y="4413240"/>
            <a:chExt cx="4986360" cy="103320"/>
          </a:xfrm>
        </p:grpSpPr>
        <p:pic>
          <p:nvPicPr>
            <p:cNvPr id="183" name="圆角矩形 96" descr=""/>
            <p:cNvPicPr/>
            <p:nvPr/>
          </p:nvPicPr>
          <p:blipFill>
            <a:blip r:embed="rId12"/>
            <a:stretch/>
          </p:blipFill>
          <p:spPr>
            <a:xfrm>
              <a:off x="3657600" y="4413240"/>
              <a:ext cx="49863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686040" y="443880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39" descr="E:\廖秋霞\学习\汇总\未标题-2 拷贝.jpg"/>
          <p:cNvPicPr/>
          <p:nvPr/>
        </p:nvPicPr>
        <p:blipFill>
          <a:blip r:embed="rId13"/>
          <a:stretch/>
        </p:blipFill>
        <p:spPr>
          <a:xfrm>
            <a:off x="7866000" y="4111560"/>
            <a:ext cx="777960" cy="42876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99" descr=""/>
          <p:cNvPicPr/>
          <p:nvPr/>
        </p:nvPicPr>
        <p:blipFill>
          <a:blip r:embed="rId14"/>
          <a:stretch/>
        </p:blipFill>
        <p:spPr>
          <a:xfrm>
            <a:off x="3359160" y="493236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187" name="组合 24" descr=""/>
          <p:cNvPicPr/>
          <p:nvPr/>
        </p:nvPicPr>
        <p:blipFill>
          <a:blip r:embed="rId15"/>
          <a:stretch/>
        </p:blipFill>
        <p:spPr>
          <a:xfrm>
            <a:off x="2341440" y="5151600"/>
            <a:ext cx="487440" cy="506160"/>
          </a:xfrm>
          <a:prstGeom prst="rect">
            <a:avLst/>
          </a:prstGeom>
          <a:ln w="0">
            <a:noFill/>
          </a:ln>
        </p:spPr>
      </p:pic>
      <p:grpSp>
        <p:nvGrpSpPr>
          <p:cNvPr id="188" name="圆角矩形 115"/>
          <p:cNvGrpSpPr/>
          <p:nvPr/>
        </p:nvGrpSpPr>
        <p:grpSpPr>
          <a:xfrm>
            <a:off x="2951280" y="5553000"/>
            <a:ext cx="4986360" cy="104760"/>
            <a:chOff x="2951280" y="5553000"/>
            <a:chExt cx="4986360" cy="104760"/>
          </a:xfrm>
        </p:grpSpPr>
        <p:pic>
          <p:nvPicPr>
            <p:cNvPr id="189" name="圆角矩形 115" descr=""/>
            <p:cNvPicPr/>
            <p:nvPr/>
          </p:nvPicPr>
          <p:blipFill>
            <a:blip r:embed="rId16"/>
            <a:stretch/>
          </p:blipFill>
          <p:spPr>
            <a:xfrm>
              <a:off x="2951280" y="5553000"/>
              <a:ext cx="49863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978280" y="5581800"/>
              <a:ext cx="4930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39" descr="E:\廖秋霞\学习\汇总\未标题-2 拷贝.jpg"/>
          <p:cNvPicPr/>
          <p:nvPr/>
        </p:nvPicPr>
        <p:blipFill>
          <a:blip r:embed="rId17"/>
          <a:stretch/>
        </p:blipFill>
        <p:spPr>
          <a:xfrm>
            <a:off x="7157880" y="5183280"/>
            <a:ext cx="777960" cy="4284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内 容 导 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C:\Documents and Settings\鱼不愚\桌面\001.png"/>
          <p:cNvPicPr/>
          <p:nvPr/>
        </p:nvPicPr>
        <p:blipFill>
          <a:blip r:embed="rId18"/>
          <a:stretch/>
        </p:blipFill>
        <p:spPr>
          <a:xfrm>
            <a:off x="-12600" y="2425680"/>
            <a:ext cx="29509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33:28Z</dcterms:created>
  <dc:creator>liaoqiuxia</dc:creator>
  <dc:description/>
  <dc:language>en-US</dc:language>
  <cp:lastModifiedBy>王玉清</cp:lastModifiedBy>
  <dcterms:modified xsi:type="dcterms:W3CDTF">2016-02-24T03:20:36Z</dcterms:modified>
  <cp:revision>9</cp:revision>
  <dc:subject/>
  <dc:title>幻灯片 1</dc:title>
</cp:coreProperties>
</file>