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85E2-16FF-435B-99F8-A9815F3A8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27D4-8428-4C98-A247-51859161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5C88-97AD-4587-B625-D189EDDF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E5C2-BB1F-4CCB-A1F4-AF928D4B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74F8-1BEB-4E34-AC9D-AB4AE24B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590F-6A6A-463F-A8B2-9B9E3214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4218-5894-4632-ABAD-CA057FA4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26BF-09DF-4263-9410-CB068264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F933-4FF5-4BB2-9867-345EA035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EDFD-7246-4C4D-98BB-19039F1F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2B8D-8D35-412C-AD78-7DE45AA6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E511-19A0-4085-96F3-71A24DDFA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图片 6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" name="图片 7" descr=""/>
          <p:cNvPicPr/>
          <p:nvPr/>
        </p:nvPicPr>
        <p:blipFill>
          <a:blip r:embed="rId4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42" name="图片 6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 cap="all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8b8b8b"/>
                </a:solidFill>
                <a:latin typeface="Calibri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71F07C-41CD-41FF-9527-33F7E9EEC05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"/>
          <p:cNvSpPr/>
          <p:nvPr/>
        </p:nvSpPr>
        <p:spPr>
          <a:xfrm>
            <a:off x="3060000" y="4182840"/>
            <a:ext cx="636948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00b050"/>
                </a:solidFill>
                <a:latin typeface="黑体"/>
                <a:ea typeface="黑体"/>
              </a:rPr>
              <a:t>绿色水滴通用</a:t>
            </a:r>
            <a:r>
              <a:rPr b="1" lang="en-US" sz="4000" spc="-1" strike="noStrike">
                <a:solidFill>
                  <a:srgbClr val="00b050"/>
                </a:solidFill>
                <a:latin typeface="黑体"/>
                <a:ea typeface="黑体"/>
              </a:rPr>
              <a:t>PPT</a:t>
            </a:r>
            <a:r>
              <a:rPr b="1" lang="zh-CN" sz="4000" spc="-1" strike="noStrike">
                <a:solidFill>
                  <a:srgbClr val="00b050"/>
                </a:solidFill>
                <a:latin typeface="黑体"/>
                <a:ea typeface="黑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3"/>
          <p:cNvSpPr/>
          <p:nvPr/>
        </p:nvSpPr>
        <p:spPr>
          <a:xfrm>
            <a:off x="8337240" y="0"/>
            <a:ext cx="79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0" y="116640"/>
            <a:ext cx="14997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9"/>
          <p:cNvSpPr/>
          <p:nvPr/>
        </p:nvSpPr>
        <p:spPr>
          <a:xfrm>
            <a:off x="323640" y="63093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  <Words>109</Words>
  <Paragraphs>1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2-21T03:39:24Z</dcterms:modified>
  <cp:revision>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