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21A8-9BE0-4BFB-A5A7-2AD049A7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2748-D496-4082-9AAA-A5EA809B6E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1D344-3944-4F1C-8DE1-5B112DB1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2D53B-0A38-4FBD-A0F8-7E4606B9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F7993-8739-400B-832A-891FBB6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74A7FA-6165-45CB-A407-4FEF02A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D6A11-9FDB-4EDE-A03E-A088DED9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1B6C35-FBB0-456C-9F79-9B77A1AF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FCD06-8505-4A03-81D7-0CFEEED0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17417-C370-452F-91D8-A2A520D5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5102A-0FBD-452D-B394-28B1A902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DB6D8-B722-4CEE-A95F-937609EA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3AA3-C341-4DDB-8CDA-F0757A8DC9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C6A37A-1154-4D01-BB81-B374DA35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C328A3-E90E-4E57-A435-25EF7F90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9E3AFB-725C-4711-B665-A1BBACC3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AB72EC-8891-4684-8EE3-377930EB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E26F5-3DDC-445D-89F4-8483DB2A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D9E865-C3C9-4A31-8C9B-81F786B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6BF7DA-C11C-476B-9F9B-B1703301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221A8-7177-45A0-B9F7-4713008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DC914-16D1-4501-B6A9-E517532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1473E-DC2C-4896-AA1A-A353894B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512C-2A10-446C-965B-920074C272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31427-557B-425E-B574-F1118CFA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EC563E-D8ED-4856-B0FD-D238B2E7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F19DA-19A0-4C06-955A-171983C5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405349-F1E5-433C-9B86-83C6EE72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C81F5-4D8C-445B-BDB6-30EC5BA0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B38780-FD0D-4122-8296-91EF3F72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4CE560-B734-434C-8246-5286583F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C8FCD0-5A40-475F-99E8-AE0984C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042B64-5DA7-4B6F-85FD-3377C88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61B057-8F1D-439E-8A76-8D7CE5D7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0FA3D-8BB9-48D5-8459-52B8084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09A4EA-4E52-462A-8EB5-180A5C76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90302-AA75-4548-A038-2196DD7F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23D204-8DCB-414A-A4FB-03A2F334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78665D-73D1-470A-955B-D7CF1453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A73728-1C4F-4922-AF28-7B42B99E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42D4D8-42DC-4512-9051-4381B4ED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D79243-2EEF-4F48-AD3D-B828243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ABC94B-855E-4FA7-990C-4ED256AB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56F4AF-3A2B-440E-8C77-19319A57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54428D-A97E-4B00-996F-6EF9AC7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E3D8F-9810-4438-BBD1-2AE54BCE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EE2135-4234-4CEC-A28D-DB67DCBA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44DCB3-91A9-4511-A527-C1FB46F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01CBE3-7064-43E0-945B-DD29257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DF094C-218B-451D-B96B-343D1649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5D0B16-375C-4FD6-B039-37D89DD8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554838-7798-4DF5-A839-0AECCC31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996990-181C-4714-8978-D71A7C13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BA686F-CE98-413C-BDB3-71318503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9C5116-A98A-4D08-B0C7-7BE205AC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3CA4C7-266D-448E-955B-1952667C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2819C-2B1C-4EE9-AB8C-43733DC1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621B71-DF16-4F4C-9F70-E7146135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8FA247-3E8A-420E-AC4B-D562C6FE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8E0238-AB5F-4F0B-884D-47FE1FE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E36CA1-534A-4F34-92AD-CC35159F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155D56-D40B-4827-B486-2A7C77E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89792F-24E4-4127-876A-E60066A5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9C1E73-5455-4BBE-88F4-A76CB166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8162EC-68C2-4E04-869C-D11A7B9D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6C2CB1-94D8-4DAA-A349-35131D9C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C80534-F7F1-4325-89A4-07D7861E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05E2-A43A-4A54-8C52-9E130C2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630D35-2992-4306-90FB-55FB9F4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7B86A7-ACFF-46FD-A1E1-009FE2F4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FC7DB4-9245-4105-8E2E-E4B8AB28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7ECD4-3C21-4464-B9C2-2B020257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A5B002-4521-4F7E-9612-A17E3351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28987E-E992-47B2-A242-2548253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F32C2B-21C2-4919-96E3-6C8ECD44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E77A71-760E-4F92-B1D1-9160E749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B0AD1C-1629-496D-A65B-8C1E0B2E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8995-BEE9-472D-86B3-7F34A206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55106-523A-494C-854B-B901EB87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AD5DE-BEC6-460F-ACA0-3CC7DBF3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E163-FDBE-4810-97F4-5EC43DCD9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2FF86-22CA-42E6-921B-B9F41BD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1E15D-79A0-4362-AB4C-6DD5FA74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67A3E-2EB8-43E5-8027-8B069792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60992-1199-47E4-AE3F-4660FDCF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658F6-7554-4261-A5E4-7F53F2E7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C6A14-E7E4-4C0D-8B4B-BA041022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FC12A-C5DC-4759-876E-B2DC8442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8A4F6-F7B3-4675-9C78-3AED29DE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700F4-A768-40A7-9459-D5B1BA71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1F7AF-EC0E-4744-82C3-90C8FB7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28F0-C1E9-45EC-933C-C3066E559D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72123-D2F0-42DF-ACFD-2DF33600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F7076-DB0B-455A-900A-6A77955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45173-837F-4682-BD94-894F2C0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A4F69-7563-43A5-9FB3-B7088FF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BE0DC-A0C9-4397-B2CD-8B1EF69A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1840B-CB38-4FDF-82E1-5D29F57A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B97AB-F8AF-421C-9DA8-65D74ACD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0253-8A14-4034-ACCE-F5692C57A6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BB2DE-35C3-40FE-AA85-1B55932E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C6DF-7D95-4791-9301-26E05F17BF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2BFB4-149F-40F7-B95A-C1FDBE40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4AE09-575A-4D66-9016-CC872F48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2B088-ACA3-4F3E-8F13-B61268E5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7F3EF-E1BF-4A2D-B611-E38DA9A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DE5DB-E609-4EDE-86EE-32FB917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31931-FE86-4D83-B789-A07660E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93BF2-62F9-455D-B169-7F7E3D8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C47D4-04D3-4E75-A612-0FE4985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A861B-C0EB-4785-97CC-20DE6903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FADE7-E44C-413D-9A69-7708D95E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AEF4-CD33-403E-AC86-332E656E6C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87DFA-7CFC-429B-9EDC-BF4EAB5D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2279C-760B-433B-AEFB-7B415B27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23E87-CCA0-47BE-90D5-19820B6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652AE-62D2-4AF1-AB2A-932F8EFA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3C9BE-B15B-4C81-87CA-345B4604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776C1-EDD0-4611-ADD3-A517809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46FC0-D054-41C8-9585-0B12754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43BBB-1EFC-4B0C-87F8-3B4E2E08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1ED42-5CAF-4CC6-9AD2-9703ABC5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C3A79-BDA8-407F-8226-11F7742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6F39-3E24-474A-8AAB-41F345D875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63EB6-3C02-4194-8864-F1BF5FF3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C48A0-E9FB-4D6B-8B13-7037E95D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9346B-AA1E-485B-9249-F09832E7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08BD2-9C1D-4751-A7AC-2AD49CB8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D32EC-BFC9-4C69-8BD2-C738198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77181-AADB-4287-B058-6F88FE15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64AD5-3EB9-4BF1-A8D8-FC371F3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A8E71-CC27-4165-97E3-9AE01497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5029A-CA4C-427E-AA3E-E9C3C4D2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25595-B0C8-4885-8062-D237BA2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8880-664E-483D-857A-D219DC04C8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73BE9-1C82-4ED2-AAAD-7D2D8AB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17390-9795-4D82-AC96-4EE02D3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D07F2-4A88-4EC4-ACED-B146D9D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43C60-DBEE-4F3C-8393-3D2B0097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2B149-57F9-4604-B0E2-AC117814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11189-E499-4391-B3F7-A0E74D3E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EB397-6C19-4D7B-9CE8-E7DEA7E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0846C-7AE2-41C2-B956-6F50AE80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33E8A-0AEF-4103-8CF2-1A6B38DD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FAE53-9CE2-4665-BADA-6FE13047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9D82-1CFA-4946-859F-3CEBFE3081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108F0-4A9F-4D18-AC27-A8A8D3D0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E5674-E9C0-4D58-8F1F-D0CACB6B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74A92-50B7-4825-8662-1788C9A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FF4D4-17A8-4520-97CF-83783F3C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1D7DF-7FA9-491F-86AC-0E045DB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778F0-0E9F-49E9-9589-C0B354C9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2AF16-8C16-4587-AA93-596D4B51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F4C15-BE81-4E6A-9F5A-58451A51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09A6F-2850-4105-957B-7C5E85C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DE8C6-8F03-41A6-B5F8-E95F18FF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c39e00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3900-B43D-479C-A782-FE19EE5D70AF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4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5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6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13D8-A971-4AA3-A99B-76D7947D78D0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75C-3841-4BFE-A4EC-9A26ABD1BFF2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0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1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2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8FBC-CA10-4889-94DE-EEA045B8F04E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3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4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5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4B3-A66F-4944-B092-06AEA22E47F8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dt" idx="37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8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6AF1-B46C-4F73-A7BA-0870DF389B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PMingLiU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c39e00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D43E-EC78-43A4-99F4-C50117C90A4A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BDEE-BCC5-4CD6-82FC-B428B55D3D82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0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1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A373-4054-4379-A1B5-130AF3353360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-533520" y="1371600"/>
            <a:ext cx="9906120" cy="1447920"/>
          </a:xfrm>
          <a:prstGeom prst="rect">
            <a:avLst/>
          </a:prstGeom>
          <a:solidFill>
            <a:srgbClr val="edffba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2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3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4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E857-B151-45D5-ADCB-380BB8525E21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5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6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7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EB3A-1E17-4464-A170-09AB75ABE12A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8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9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0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58F8-9686-4AAC-8B75-BA3BB5963EB8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1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2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3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2E49-FE7A-47E6-8AA4-C9EDD7688B09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字方塊 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8288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Calibri"/>
              </a:rPr>
              <a:t>绿叶蓝色通用</a:t>
            </a:r>
            <a:r>
              <a:rPr b="0" lang="en-US" sz="4000" spc="-1" strike="noStrike">
                <a:solidFill>
                  <a:srgbClr val="4d4d4d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228600" y="3733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7:24:06Z</dcterms:created>
  <dc:creator>Your User Name</dc:creator>
  <dc:description/>
  <dc:language>en-US</dc:language>
  <cp:lastModifiedBy>王玉清</cp:lastModifiedBy>
  <dcterms:modified xsi:type="dcterms:W3CDTF">2016-02-25T02:38:37Z</dcterms:modified>
  <cp:revision>5</cp:revision>
  <dc:subject/>
  <dc:title>投影片 1</dc:title>
</cp:coreProperties>
</file>