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A15-1AA6-4772-B4C9-DCBBC97B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223-556F-41B8-B5FB-F1E2E45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A70-E50F-40F2-80B8-70B3EEC8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A1A-7386-4EC9-92F1-A865B90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F172-2051-49A8-99E9-94DB243B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D1FB-D781-4AA8-8DC0-BCF1073D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28F-0EA1-47D8-8A0C-3AA5EB44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83E6-E8E0-4D87-A631-5D7EFD1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910-82EC-43F7-A47D-B013346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686-42F9-4D7C-A7B8-37FF23A2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1FC-44B0-4C63-B38D-257C49E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6D5-43AB-4E1B-A1F9-2BC5B78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F123-5E24-4789-8D89-AC336C5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1DD4-9749-4D5B-BE5E-2A73255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31F-EDEF-4553-AD70-5E76391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766-2EF4-4026-A7F6-FC403C7D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EB09-6626-4042-ACAE-852BAA92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572-B3D3-4AD9-9629-854FAA65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0BA-78BB-432E-AEFE-DA5C2F4C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C9D-E7F2-4CF8-A9CC-FA563039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A14-2C7F-458A-8DFB-7018B86B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953-CDC9-46E7-A43E-717BDFC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831-0262-4BC4-B86C-4E697EF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AFB-E2C2-4DAD-8A4A-D895680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DDB-5551-43E5-A5C4-267F7E765214}" type="slidenum">
              <a: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53112" t="15093" r="12967" b="45305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53101" t="15091" r="12955" b="45301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53101" t="15091" r="12955" b="45301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53129" t="15129" r="12996" b="45323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E4A6-FB55-4BC2-88F8-E45B550108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508464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旅游潜水通用</a:t>
            </a:r>
            <a:r>
              <a:rPr b="1" lang="en-US" sz="4000" spc="-1" strike="noStrike">
                <a:solidFill>
                  <a:srgbClr val="179cd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3"/>
          <p:cNvSpPr/>
          <p:nvPr/>
        </p:nvSpPr>
        <p:spPr>
          <a:xfrm>
            <a:off x="2673360" y="3051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749680" y="3813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673360" y="4498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2368440" y="2289240"/>
            <a:ext cx="990720" cy="380880"/>
            <a:chOff x="2368440" y="2289240"/>
            <a:chExt cx="990720" cy="380880"/>
          </a:xfrm>
        </p:grpSpPr>
        <p:sp>
          <p:nvSpPr>
            <p:cNvPr id="110" name="Line 7"/>
            <p:cNvSpPr/>
            <p:nvPr/>
          </p:nvSpPr>
          <p:spPr>
            <a:xfrm>
              <a:off x="2749680" y="22892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V="1">
              <a:off x="2368440" y="228924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9"/>
          <p:cNvGrpSpPr/>
          <p:nvPr/>
        </p:nvGrpSpPr>
        <p:grpSpPr>
          <a:xfrm>
            <a:off x="2292480" y="4956120"/>
            <a:ext cx="1066680" cy="304920"/>
            <a:chOff x="2292480" y="4956120"/>
            <a:chExt cx="1066680" cy="304920"/>
          </a:xfrm>
        </p:grpSpPr>
        <p:sp>
          <p:nvSpPr>
            <p:cNvPr id="113" name="Line 10"/>
            <p:cNvSpPr/>
            <p:nvPr/>
          </p:nvSpPr>
          <p:spPr>
            <a:xfrm>
              <a:off x="2749680" y="52610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2292480" y="49561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2"/>
          <p:cNvSpPr/>
          <p:nvPr/>
        </p:nvSpPr>
        <p:spPr>
          <a:xfrm>
            <a:off x="3352680" y="20606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758840" y="2136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3352680" y="2809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4758840" y="2886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3349800" y="35528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755600" y="362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3263760" y="2178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3276720" y="2943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276720" y="369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4b258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3352680" y="4284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4758840" y="43610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3263760" y="4422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3352680" y="5073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4758840" y="5149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6"/>
          <p:cNvSpPr/>
          <p:nvPr/>
        </p:nvSpPr>
        <p:spPr>
          <a:xfrm>
            <a:off x="3276720" y="5207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304920" y="2436840"/>
            <a:ext cx="2673360" cy="2671560"/>
            <a:chOff x="304920" y="2436840"/>
            <a:chExt cx="2673360" cy="2671560"/>
          </a:xfrm>
        </p:grpSpPr>
        <p:sp>
          <p:nvSpPr>
            <p:cNvPr id="131" name="Oval 28"/>
            <p:cNvSpPr/>
            <p:nvPr/>
          </p:nvSpPr>
          <p:spPr>
            <a:xfrm>
              <a:off x="304920" y="243684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480960" y="260964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e1c53"/>
                </a:gs>
                <a:gs pos="50000">
                  <a:srgbClr val="cc3399"/>
                </a:gs>
                <a:gs pos="100000">
                  <a:srgbClr val="6e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0"/>
            <p:cNvSpPr/>
            <p:nvPr/>
          </p:nvSpPr>
          <p:spPr>
            <a:xfrm>
              <a:off x="457200" y="263196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822061"/>
                </a:gs>
                <a:gs pos="100000">
                  <a:srgbClr val="cc33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1"/>
            <p:cNvSpPr/>
            <p:nvPr/>
          </p:nvSpPr>
          <p:spPr>
            <a:xfrm>
              <a:off x="595440" y="272700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2"/>
            <p:cNvSpPr/>
            <p:nvPr/>
          </p:nvSpPr>
          <p:spPr>
            <a:xfrm>
              <a:off x="628560" y="276048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3"/>
            <p:cNvSpPr/>
            <p:nvPr/>
          </p:nvSpPr>
          <p:spPr>
            <a:xfrm>
              <a:off x="654120" y="277164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4"/>
            <p:cNvSpPr/>
            <p:nvPr/>
          </p:nvSpPr>
          <p:spPr>
            <a:xfrm>
              <a:off x="676440" y="279072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5"/>
            <p:cNvSpPr/>
            <p:nvPr/>
          </p:nvSpPr>
          <p:spPr>
            <a:xfrm>
              <a:off x="762120" y="281916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609480" y="3276360"/>
              <a:ext cx="20574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/O/G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9cd7"/>
                </a:solidFill>
                <a:latin typeface="Verdana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78040" y="6507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39:11Z</dcterms:created>
  <dc:creator>keke</dc:creator>
  <dc:description/>
  <dc:language>en-US</dc:language>
  <cp:lastModifiedBy>王玉清</cp:lastModifiedBy>
  <dcterms:modified xsi:type="dcterms:W3CDTF">2016-02-21T04:59:36Z</dcterms:modified>
  <cp:revision>5</cp:revision>
  <dc:subject/>
  <dc:title>PowerTemplate</dc:title>
</cp:coreProperties>
</file>